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8721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056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596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40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056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1" marL="743040" indent="-285840">
              <a:buClr>
                <a:srgbClr val="5f5f5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2" marL="1143000" indent="-228600">
              <a:buClr>
                <a:srgbClr val="5f5f5f"/>
              </a:buClr>
              <a:buSzPct val="62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3" marL="1600200" indent="-228600"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4" marL="2057400" indent="-228600"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96720" y="304920"/>
            <a:ext cx="1459080" cy="102852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525600" y="1371600"/>
            <a:ext cx="8173800" cy="4876920"/>
            <a:chOff x="525600" y="1371600"/>
            <a:chExt cx="8173800" cy="4876920"/>
          </a:xfrm>
        </p:grpSpPr>
        <p:sp>
          <p:nvSpPr>
            <p:cNvPr id="3" name=""/>
            <p:cNvSpPr/>
            <p:nvPr/>
          </p:nvSpPr>
          <p:spPr>
            <a:xfrm>
              <a:off x="525600" y="1371600"/>
              <a:ext cx="8173800" cy="0"/>
            </a:xfrm>
            <a:prstGeom prst="line">
              <a:avLst/>
            </a:prstGeom>
            <a:ln w="507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600" y="6248520"/>
              <a:ext cx="8173800" cy="0"/>
            </a:xfrm>
            <a:prstGeom prst="line">
              <a:avLst/>
            </a:prstGeom>
            <a:ln w="507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828800" y="45720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rectorate-General for Energy and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0120" y="6172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n° </a:t>
            </a:r>
            <a:fld id="{AFBFBDFB-BB07-409D-9801-9E6B6F26A568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3520" y="6172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1/04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4120" y="985680"/>
            <a:ext cx="557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Directorate F - Air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5f5f5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Times New Roman"/>
              </a:rPr>
              <a:t>ICAO Colloquium</a:t>
            </a:r>
            <a:br>
              <a:rPr sz="4400"/>
            </a:br>
            <a:r>
              <a:rPr b="1" lang="fr-FR" sz="2800" spc="-1" strike="noStrike">
                <a:solidFill>
                  <a:srgbClr val="000099"/>
                </a:solidFill>
                <a:latin typeface="Times New Roman"/>
              </a:rPr>
              <a:t>9-11 April 2001</a:t>
            </a:r>
            <a:br>
              <a:rPr sz="2800"/>
            </a:br>
            <a:r>
              <a:rPr b="1" lang="fr-FR" sz="2800" spc="-1" strike="noStrike">
                <a:solidFill>
                  <a:srgbClr val="000099"/>
                </a:solidFill>
                <a:latin typeface="Times New Roman"/>
              </a:rPr>
              <a:t>Montreal,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3300"/>
                </a:solidFill>
                <a:latin typeface="Times New Roman"/>
              </a:rPr>
              <a:t>Mr Eckard Seebohm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imes New Roman"/>
              </a:rPr>
              <a:t>Directorate General for Energy and Transport</a:t>
            </a:r>
            <a:r>
              <a:rPr b="0" lang="fr-F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imes New Roman"/>
              </a:rPr>
              <a:t>Europe: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will play its part in ICAO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build international consensus, and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collaborate to reduce emissions consistent with Community obligation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Times New Roman"/>
              </a:rPr>
              <a:t>European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048120"/>
            <a:ext cx="67816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Times New Roman"/>
              </a:rPr>
              <a:t>Sustainable aviation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Times New Roman"/>
              </a:rPr>
              <a:t>European Climate Change Programme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066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Times New Roman"/>
              </a:rPr>
              <a:t>What is sustainable avi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imes New Roman"/>
              </a:rPr>
              <a:t>Sustainable aviation should contribute to social and economic welfare, without harming human health and the environment.</a:t>
            </a:r>
            <a:r>
              <a:rPr b="1" lang="fr-F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066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Times New Roman"/>
              </a:rPr>
              <a:t>Where we are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imes New Roman"/>
              </a:rPr>
              <a:t>ICAO - CAEP/5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Recognised need for action: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Emissions certification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 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Operational best practice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Market based measure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Incorporation of Rio Declaration Principle 16 - polluter pays commitment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Times New Roman"/>
              </a:rPr>
              <a:t>European commi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327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Amsterdam Treaty (1997)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Times New Roman"/>
              </a:rPr>
              <a:t>Article 2 defines sustainable development as a fundamental objective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Times New Roman"/>
              </a:rPr>
              <a:t>Article 6 requires integration of environment into all policy areas - including aviation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Cardiff Council (1998) - initiative on integration - shifts environmental responsibilities from environmental to other policy bodie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Helsinki Council (1999) - developed the process - long term strategy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3300"/>
                </a:solidFill>
                <a:latin typeface="Times New Roman"/>
              </a:rPr>
              <a:t>European Climate Change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ECCP - launched March 2000 to meet Community Kyoto target: 8% below 1990 levels by 2008-12.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Times New Roman"/>
              </a:rPr>
              <a:t>Twin track approach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:  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 Policies &amp; measure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 EU emissions trading from 2005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Times New Roman"/>
              </a:rPr>
              <a:t>Working Groups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 Energy supply and consumption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 Transport (with aviation subgroup)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 Industry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 Research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 Kyoto mechanism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3300"/>
                </a:solidFill>
                <a:latin typeface="Times New Roman"/>
              </a:rPr>
              <a:t>European Climate Change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Transport 28% of all CO</a:t>
            </a:r>
            <a:r>
              <a:rPr b="0" lang="fr-FR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 emissions, of which aviation is 3.5% of all CO</a:t>
            </a:r>
            <a:r>
              <a:rPr b="0" lang="fr-FR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fr-FR" sz="1600" spc="-1" strike="noStrike" baseline="-25000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63de8"/>
              </a:solidFill>
              <a:latin typeface="Times New Roman"/>
            </a:endParaRPr>
          </a:p>
          <a:p>
            <a:pPr marL="3394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Without action, transport emissions to grow to 32% by 2010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394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ECCP focussed on reducing emissions from road transport,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394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39480" indent="0" algn="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but……..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3300"/>
                </a:solidFill>
                <a:latin typeface="Times New Roman"/>
              </a:rPr>
              <a:t>European Climate Change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99"/>
                </a:solidFill>
                <a:latin typeface="Times New Roman"/>
              </a:rPr>
              <a:t>…</a:t>
            </a:r>
            <a:r>
              <a:rPr b="1" lang="fr-FR" sz="2400" spc="-1" strike="noStrike">
                <a:solidFill>
                  <a:srgbClr val="000099"/>
                </a:solidFill>
                <a:latin typeface="Times New Roman"/>
              </a:rPr>
              <a:t>..   aviation must also contribute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Times New Roman"/>
              </a:rPr>
              <a:t>For aviation, ECCP expected to propose: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technological goals - 50% cut in CO</a:t>
            </a:r>
            <a:r>
              <a:rPr b="0" lang="fr-FR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 and 80% reduction in NOx by 2020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savings of 5% from Single European Sky initiative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market based measures - to internalise environmental cost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modal shift - from aircraft to trains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Times New Roman"/>
              </a:rPr>
              <a:t>How to make progres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imes New Roman"/>
              </a:rPr>
              <a:t>Science and technical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Atmospheric and technological research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Higher certification standards - climb cruise and LTO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Best operating practice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imes New Roman"/>
              </a:rPr>
              <a:t>Market based measure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Open emissions trading for aviation 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Commission study on charges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Voluntary agreements must be more than business as usual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4:28:12Z</dcterms:created>
  <dc:creator>jungbmo</dc:creator>
  <dc:description/>
  <dc:language>en-US</dc:language>
  <cp:lastModifiedBy>Susan Joseph</cp:lastModifiedBy>
  <cp:lastPrinted>2001-04-11T12:35:53Z</cp:lastPrinted>
  <dcterms:modified xsi:type="dcterms:W3CDTF">2001-04-11T12:36:25Z</dcterms:modified>
  <cp:revision>14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6400.00000000</vt:lpwstr>
  </property>
  <property fmtid="{D5CDD505-2E9C-101B-9397-08002B2CF9AE}" pid="5" name="Year">
    <vt:lpwstr>2001</vt:lpwstr>
  </property>
</Properties>
</file>