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28.png" ContentType="image/png"/>
  <Override PartName="/ppt/media/image9.png" ContentType="image/png"/>
  <Override PartName="/ppt/media/image8.wmf" ContentType="image/x-wmf"/>
  <Override PartName="/ppt/media/image12.wmf" ContentType="image/x-wmf"/>
  <Override PartName="/ppt/media/image27.png" ContentType="image/png"/>
  <Override PartName="/ppt/media/image7.wmf" ContentType="image/x-wmf"/>
  <Override PartName="/ppt/media/image11.wmf" ContentType="image/x-wmf"/>
  <Override PartName="/ppt/media/image26.png" ContentType="image/png"/>
  <Override PartName="/ppt/media/image6.wmf" ContentType="image/x-wmf"/>
  <Override PartName="/ppt/media/image10.wmf" ContentType="image/x-wmf"/>
  <Override PartName="/ppt/media/image25.png" ContentType="image/png"/>
  <Override PartName="/ppt/media/image5.wmf" ContentType="image/x-wmf"/>
  <Override PartName="/ppt/media/image4.wmf" ContentType="image/x-wmf"/>
  <Override PartName="/ppt/media/image3.wmf" ContentType="image/x-wmf"/>
  <Override PartName="/ppt/media/image23.png" ContentType="image/png"/>
  <Override PartName="/ppt/media/image22.wmf" ContentType="image/x-wmf"/>
  <Override PartName="/ppt/media/image21.png" ContentType="image/png"/>
  <Override PartName="/ppt/media/image20.png" ContentType="image/png"/>
  <Override PartName="/ppt/media/image2.wmf" ContentType="image/x-wmf"/>
  <Override PartName="/ppt/media/image19.wmf" ContentType="image/x-wmf"/>
  <Override PartName="/ppt/media/image18.wmf" ContentType="image/x-wmf"/>
  <Override PartName="/ppt/media/image17.png" ContentType="image/png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2A92-8DD8-411F-9F1C-20BAD9EB3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F7A6-323F-47B6-95D2-B46C8F1E6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B15D-E48E-43C0-B23A-EB41B2286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677B-57BD-4D30-B812-102E07FF4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1274-F3D7-4E13-A67E-E45E2CDAC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8322-1A8B-4718-BA0A-457B719A2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7082-D588-4DAC-AF65-8AA9D1362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49CC-57CE-426A-9CAB-96319DEE0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5E0E-6DD8-414F-9433-C176D786C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864E-7B5F-4E35-A57A-FDD081EA9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0A61-671E-43BB-A4E0-DB2114F0A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FEBA-3295-4AA8-9E81-FB254BB96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B2402-E897-4B9A-8716-C0CB2DB054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914040"/>
            <a:ext cx="86104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PCC / Special Report on Aviation &amp; Global Atmosphere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       10 Apr 01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Joyce Penner</a:t>
            </a: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Professor of Atmospheric, </a:t>
            </a: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Oceanic and Space Sciences</a:t>
            </a:r>
            <a:br>
              <a:rPr sz="2000"/>
            </a:b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University of Michig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90360" y="4343400"/>
            <a:ext cx="70102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mary of recent assessment of climate change (IPCC Third Assessment Repor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aircraft affect climate and ozon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886200" y="1295280"/>
            <a:ext cx="4572000" cy="22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823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NO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x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emissions produce ozone, a greenhouse gas, but the predicted increase differs between mode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838080" y="1069920"/>
            <a:ext cx="6858000" cy="57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Nevertheless, there is a substantial increase in O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as emissions of NO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x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676520" y="1219320"/>
            <a:ext cx="6072120" cy="54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hanges in the concentration of O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cause increases in OH which decrease methane, a greenhouse g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143000" y="2209680"/>
            <a:ext cx="6910560" cy="43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Water vapor emissions cause contrails when emitted into a region that is nearly saturate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838080" y="2057400"/>
            <a:ext cx="7315200" cy="35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ontrail  occurrence is correlated with aviation fuel u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600200" y="1676520"/>
            <a:ext cx="5562720" cy="48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his correlation has been used to estimate contrail cover based on modeled temperature and humidity in the upper troposphe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282160" cy="49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267080" y="533520"/>
            <a:ext cx="4445280" cy="60958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228600" y="990720"/>
            <a:ext cx="396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irrus cloudiness seems to increase near areas where contrails for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Cirrus cloudiness increases as aviation fuel consumption increas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295280" y="1676520"/>
            <a:ext cx="6707160" cy="47638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4224240" y="3192480"/>
            <a:ext cx="698760" cy="46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We use radiative forcing to guage the effects of aviation on climate cha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diative forcing expresses the perturbation or change to the energy balance of the Earth-atmosphere system in watts per square meter (W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itive values of radiative forcing imply a net warming, while negative values imply cool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79250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Radiative Forcing from Aircraft in 1992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5029200" cy="493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243080" y="163440"/>
            <a:ext cx="6656400" cy="65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762120" y="838080"/>
            <a:ext cx="71625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Q:  Aviation NOx increases O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and reduces CH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, </a:t>
            </a:r>
            <a:br>
              <a:rPr sz="2400"/>
            </a:b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do these RF cance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962520" y="2514600"/>
            <a:ext cx="4876560" cy="40543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228600" y="2438280"/>
            <a:ext cx="38862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adiative imbalance fro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&amp; contrails is primarily i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NH; that from 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&amp; C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b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global mean RF, 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C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may cancel in terms of global mean surface temperature, but the latitudinal imbalance may  cause regional climate chang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Q:  How much will Aviation’s use of fossil fuel grow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vil Aviation has grown rapidly to date, in 1990s reaching about 2.5% of all fossil fue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2050, projections give Aviation an equal or greater share of a growing econom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substitute for jet fuel (fossil C) is obviou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4648320" y="1981080"/>
          <a:ext cx="380988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981080"/>
                    <a:ext cx="38098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4572000" y="1828800"/>
            <a:ext cx="43434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Q: How much is Aviation increasing CO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?</a:t>
            </a:r>
            <a:br>
              <a:rPr sz="2400"/>
            </a:b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Q: How big is this compared to other sectors or countri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projected to increase from fossil fuels &amp; deforestation by +150 ppm from 1990 to 2050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iation’s part of this increase is about +6 ppm (range: 4-12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of the Transportation sector would be about +50 pp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ifornia, ~10% of U.S., is comparable to Avia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Q: How much global warming could be due to Avi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99520" y="1219320"/>
            <a:ext cx="80629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ffect of Aviation on global warming (+0.05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from 1990 to 2050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superimposed on the overall anthropogenic greenhouse war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+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) plus natural variability.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has not been (nor is likely) poss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attribute specific climate ch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aircraft,  although Aviation is 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gnificant compon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914400" y="4114800"/>
            <a:ext cx="3200400" cy="2057400"/>
            <a:chOff x="914400" y="4114800"/>
            <a:chExt cx="3200400" cy="2057400"/>
          </a:xfrm>
        </p:grpSpPr>
        <p:pic>
          <p:nvPicPr>
            <p:cNvPr id="135" name="" descr=""/>
            <p:cNvPicPr/>
            <p:nvPr/>
          </p:nvPicPr>
          <p:blipFill>
            <a:blip r:embed="rId1"/>
            <a:stretch/>
          </p:blipFill>
          <p:spPr>
            <a:xfrm>
              <a:off x="914400" y="4114800"/>
              <a:ext cx="3200400" cy="20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 txBox="1"/>
            <p:nvPr/>
          </p:nvSpPr>
          <p:spPr>
            <a:xfrm>
              <a:off x="914400" y="4114800"/>
              <a:ext cx="3200400" cy="2057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4648320" y="2286000"/>
            <a:ext cx="43034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57200" y="45720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Q:  What are the mechanisms that cause radiative forcing in 2050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4190760" cy="41148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572000" y="1981080"/>
            <a:ext cx="4267080" cy="41148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685800" y="1143000"/>
            <a:ext cx="79246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 major RF components shift (e.g., 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ecomes more important than 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 but still remain the major contributors to climate chang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28600" y="609480"/>
            <a:ext cx="8381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Total radiative forcing in 20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38080" y="1447920"/>
            <a:ext cx="7772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CO</a:t>
            </a:r>
            <a:r>
              <a:rPr b="1" lang="en-US" sz="2000" spc="-1" strike="noStrike" baseline="-25000">
                <a:solidFill>
                  <a:srgbClr val="8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+.07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/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O</a:t>
            </a:r>
            <a:r>
              <a:rPr b="1" lang="en-US" sz="2000" spc="-1" strike="noStrike" baseline="-25000">
                <a:solidFill>
                  <a:srgbClr val="8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+.06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CH</a:t>
            </a:r>
            <a:r>
              <a:rPr b="1" lang="en-US" sz="2000" spc="-1" strike="noStrike" baseline="-25000">
                <a:solidFill>
                  <a:srgbClr val="800000"/>
                </a:solidFill>
                <a:latin typeface="Arial"/>
              </a:rPr>
              <a:t>4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  <a:ea typeface="Arial"/>
              </a:rPr>
              <a:t>–.0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4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contrails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+.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at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.0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lfu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–.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o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.00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re with overall RF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enhouse gas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5.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erosol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–1.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8620200" cy="624816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IPCC Special Report on Aviation &amp; Global Atmosphere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   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7925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iation’s share of ‘greenhouse gas warming’ will remain a significant fraction of the world total, when compared to other sub-sectors and to many nat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idence intervals in some of the “atmospheric effects” are not adequate to quantify climate co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et significant - Kyoto scale - reductions in Aviation’s climate impacts, could be achieved with any of several technologi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rther improve fuel efficiency per passenger–k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opt low-NOx engi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oid meteorological conditions favoring contrai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80880" y="-990720"/>
            <a:ext cx="8331480" cy="769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Special Report on Aviation and the Global Atmosp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58000"/>
          </a:bodyPr>
          <a:p>
            <a:pPr marL="198720" indent="-19872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8720" indent="-19872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8720" indent="-19872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8720" indent="-19872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8720" indent="-19872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8720" indent="-19872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8720" indent="-19872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8720" indent="-19872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roduced following a request from the International Civil Aviation Autho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8720" indent="-19872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8720" indent="-19872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8720" indent="-19872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8720" indent="-198720">
              <a:spcBef>
                <a:spcPts val="799"/>
              </a:spcBef>
              <a:buClr>
                <a:srgbClr val="00cc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Produced following a request from the International Civil Aviation Author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838080" y="1676520"/>
            <a:ext cx="7285320" cy="42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304920"/>
            <a:ext cx="8686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Overall effects considered in the IPCC repor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295280" y="1308240"/>
            <a:ext cx="2273400" cy="15746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05280" y="3048120"/>
            <a:ext cx="1879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tratosp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4114800"/>
            <a:ext cx="1742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ropopa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920" y="5181480"/>
            <a:ext cx="1861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roposp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2565360" y="4165200"/>
            <a:ext cx="1830600" cy="228600"/>
            <a:chOff x="2565360" y="4165200"/>
            <a:chExt cx="1830600" cy="228600"/>
          </a:xfrm>
        </p:grpSpPr>
        <p:sp>
          <p:nvSpPr>
            <p:cNvPr id="55" name=""/>
            <p:cNvSpPr/>
            <p:nvPr/>
          </p:nvSpPr>
          <p:spPr>
            <a:xfrm flipV="1">
              <a:off x="2565360" y="4165200"/>
              <a:ext cx="180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2793960" y="4165200"/>
              <a:ext cx="180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022560" y="4165200"/>
              <a:ext cx="180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3251160" y="4165200"/>
              <a:ext cx="180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V="1">
              <a:off x="3479760" y="4165200"/>
              <a:ext cx="180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3708360" y="4165200"/>
              <a:ext cx="180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3936960" y="4165200"/>
              <a:ext cx="180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4165560" y="4165200"/>
              <a:ext cx="180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V="1">
              <a:off x="4394160" y="4165200"/>
              <a:ext cx="180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2717640" y="3403440"/>
            <a:ext cx="1409400" cy="1168200"/>
            <a:chOff x="2717640" y="3403440"/>
            <a:chExt cx="1409400" cy="1168200"/>
          </a:xfrm>
        </p:grpSpPr>
        <p:sp>
          <p:nvSpPr>
            <p:cNvPr id="65" name=""/>
            <p:cNvSpPr/>
            <p:nvPr/>
          </p:nvSpPr>
          <p:spPr>
            <a:xfrm>
              <a:off x="2717640" y="3403440"/>
              <a:ext cx="1397160" cy="116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400000"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30960" y="3403440"/>
              <a:ext cx="1396080" cy="116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2730600" y="3860640"/>
            <a:ext cx="1396440" cy="1231920"/>
            <a:chOff x="2730600" y="3860640"/>
            <a:chExt cx="1396440" cy="1231920"/>
          </a:xfrm>
        </p:grpSpPr>
        <p:sp>
          <p:nvSpPr>
            <p:cNvPr id="68" name=""/>
            <p:cNvSpPr/>
            <p:nvPr/>
          </p:nvSpPr>
          <p:spPr>
            <a:xfrm>
              <a:off x="2730600" y="3860640"/>
              <a:ext cx="1396440" cy="116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" name=""/>
            <p:cNvGrpSpPr/>
            <p:nvPr/>
          </p:nvGrpSpPr>
          <p:grpSpPr>
            <a:xfrm>
              <a:off x="3276720" y="4940280"/>
              <a:ext cx="203040" cy="152280"/>
              <a:chOff x="3276720" y="4940280"/>
              <a:chExt cx="203040" cy="152280"/>
            </a:xfrm>
          </p:grpSpPr>
          <p:sp>
            <p:nvSpPr>
              <p:cNvPr id="70" name=""/>
              <p:cNvSpPr/>
              <p:nvPr/>
            </p:nvSpPr>
            <p:spPr>
              <a:xfrm>
                <a:off x="3289320" y="4940280"/>
                <a:ext cx="190440" cy="152280"/>
              </a:xfrm>
              <a:custGeom>
                <a:avLst/>
                <a:gdLst/>
                <a:ahLst/>
                <a:rect l="l" t="t" r="r" b="b"/>
                <a:pathLst>
                  <a:path w="120" h="96">
                    <a:moveTo>
                      <a:pt x="120" y="48"/>
                    </a:moveTo>
                    <a:lnTo>
                      <a:pt x="0" y="96"/>
                    </a:lnTo>
                    <a:lnTo>
                      <a:pt x="0" y="48"/>
                    </a:lnTo>
                    <a:lnTo>
                      <a:pt x="0" y="0"/>
                    </a:lnTo>
                    <a:lnTo>
                      <a:pt x="120" y="48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>
                <a:off x="3276720" y="5003640"/>
                <a:ext cx="25200" cy="1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3720960" y="2844720"/>
            <a:ext cx="1562400" cy="5461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3822840" y="4559400"/>
            <a:ext cx="1485720" cy="6728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2514240" y="5410080"/>
            <a:ext cx="16268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Arial"/>
              </a:rPr>
              <a:t>Emiss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740680" y="5867280"/>
            <a:ext cx="2992680" cy="78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Arial"/>
              </a:rPr>
              <a:t>CO</a:t>
            </a:r>
            <a:r>
              <a:rPr b="1" lang="en-US" sz="2400" spc="-1" strike="noStrike" baseline="-25000">
                <a:solidFill>
                  <a:srgbClr val="5f5f5f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5f5f5f"/>
                </a:solidFill>
                <a:latin typeface="Arial"/>
              </a:rPr>
              <a:t>, H</a:t>
            </a:r>
            <a:r>
              <a:rPr b="1" lang="en-US" sz="2400" spc="-1" strike="noStrike" baseline="-25000">
                <a:solidFill>
                  <a:srgbClr val="5f5f5f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5f5f5f"/>
                </a:solidFill>
                <a:latin typeface="Arial"/>
              </a:rPr>
              <a:t>O, NO</a:t>
            </a:r>
            <a:r>
              <a:rPr b="1" lang="en-US" sz="2400" spc="-1" strike="noStrike" baseline="-25000">
                <a:solidFill>
                  <a:srgbClr val="5f5f5f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5f5f5f"/>
                </a:solidFill>
                <a:latin typeface="Arial"/>
              </a:rPr>
              <a:t>, SO</a:t>
            </a:r>
            <a:r>
              <a:rPr b="1" lang="en-US" sz="2400" spc="-1" strike="noStrike" baseline="-25000">
                <a:solidFill>
                  <a:srgbClr val="5f5f5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Arial"/>
              </a:rPr>
              <a:t>Sulfur</a:t>
            </a: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5f5f5f"/>
                </a:solidFill>
                <a:latin typeface="Arial"/>
              </a:rPr>
              <a:t>soot partic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435760" y="6172200"/>
            <a:ext cx="576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791680" y="1523880"/>
            <a:ext cx="1306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ffec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861160" y="194940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712480" y="2057400"/>
            <a:ext cx="2478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Ozone deple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858640" y="2406600"/>
            <a:ext cx="576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464160" y="2552760"/>
            <a:ext cx="368280" cy="203040"/>
          </a:xfrm>
          <a:custGeom>
            <a:avLst/>
            <a:gdLst/>
            <a:ahLst/>
            <a:rect l="l" t="t" r="r" b="b"/>
            <a:pathLst>
              <a:path w="232" h="128">
                <a:moveTo>
                  <a:pt x="0" y="40"/>
                </a:moveTo>
                <a:lnTo>
                  <a:pt x="176" y="40"/>
                </a:lnTo>
                <a:lnTo>
                  <a:pt x="176" y="0"/>
                </a:lnTo>
                <a:lnTo>
                  <a:pt x="232" y="64"/>
                </a:lnTo>
                <a:lnTo>
                  <a:pt x="176" y="128"/>
                </a:lnTo>
                <a:lnTo>
                  <a:pt x="176" y="88"/>
                </a:lnTo>
                <a:lnTo>
                  <a:pt x="0" y="88"/>
                </a:lnTo>
                <a:lnTo>
                  <a:pt x="32" y="64"/>
                </a:lnTo>
                <a:lnTo>
                  <a:pt x="0" y="4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791320" y="2590920"/>
            <a:ext cx="368280" cy="203040"/>
          </a:xfrm>
          <a:custGeom>
            <a:avLst/>
            <a:gdLst/>
            <a:ahLst/>
            <a:rect l="l" t="t" r="r" b="b"/>
            <a:pathLst>
              <a:path w="232" h="128">
                <a:moveTo>
                  <a:pt x="0" y="40"/>
                </a:moveTo>
                <a:lnTo>
                  <a:pt x="176" y="40"/>
                </a:lnTo>
                <a:lnTo>
                  <a:pt x="176" y="0"/>
                </a:lnTo>
                <a:lnTo>
                  <a:pt x="232" y="64"/>
                </a:lnTo>
                <a:lnTo>
                  <a:pt x="176" y="128"/>
                </a:lnTo>
                <a:lnTo>
                  <a:pt x="176" y="88"/>
                </a:lnTo>
                <a:lnTo>
                  <a:pt x="0" y="88"/>
                </a:lnTo>
                <a:lnTo>
                  <a:pt x="32" y="64"/>
                </a:lnTo>
                <a:lnTo>
                  <a:pt x="0" y="4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401880" y="2514600"/>
            <a:ext cx="19468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rface UV-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d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788800" y="3886200"/>
            <a:ext cx="2751120" cy="15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000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Ozone 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H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de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ontrail 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loud form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458040" y="481968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248520" y="502920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515280" y="5715000"/>
            <a:ext cx="368280" cy="203040"/>
          </a:xfrm>
          <a:custGeom>
            <a:avLst/>
            <a:gdLst/>
            <a:ahLst/>
            <a:rect l="l" t="t" r="r" b="b"/>
            <a:pathLst>
              <a:path w="232" h="128">
                <a:moveTo>
                  <a:pt x="0" y="40"/>
                </a:moveTo>
                <a:lnTo>
                  <a:pt x="168" y="40"/>
                </a:lnTo>
                <a:lnTo>
                  <a:pt x="168" y="0"/>
                </a:lnTo>
                <a:lnTo>
                  <a:pt x="232" y="64"/>
                </a:lnTo>
                <a:lnTo>
                  <a:pt x="168" y="128"/>
                </a:lnTo>
                <a:lnTo>
                  <a:pt x="168" y="88"/>
                </a:lnTo>
                <a:lnTo>
                  <a:pt x="0" y="88"/>
                </a:lnTo>
                <a:lnTo>
                  <a:pt x="24" y="64"/>
                </a:lnTo>
                <a:lnTo>
                  <a:pt x="0" y="4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943600" y="5638680"/>
            <a:ext cx="368280" cy="266760"/>
          </a:xfrm>
          <a:custGeom>
            <a:avLst/>
            <a:gdLst/>
            <a:ahLst/>
            <a:rect l="l" t="t" r="r" b="b"/>
            <a:pathLst>
              <a:path w="232" h="128">
                <a:moveTo>
                  <a:pt x="0" y="40"/>
                </a:moveTo>
                <a:lnTo>
                  <a:pt x="168" y="40"/>
                </a:lnTo>
                <a:lnTo>
                  <a:pt x="168" y="0"/>
                </a:lnTo>
                <a:lnTo>
                  <a:pt x="232" y="64"/>
                </a:lnTo>
                <a:lnTo>
                  <a:pt x="168" y="128"/>
                </a:lnTo>
                <a:lnTo>
                  <a:pt x="168" y="88"/>
                </a:lnTo>
                <a:lnTo>
                  <a:pt x="0" y="88"/>
                </a:lnTo>
                <a:lnTo>
                  <a:pt x="24" y="64"/>
                </a:lnTo>
                <a:lnTo>
                  <a:pt x="0" y="4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553440" y="5562720"/>
            <a:ext cx="11804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m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ng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ubsonic aircraft fly near the tropopause -- where emissions may have a disproportionate impact compared to the same gases emitted at the surface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143000" y="1752480"/>
            <a:ext cx="6275520" cy="486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09480" y="762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Topics considered in IPCC Re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4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are the overall and individual effects of aircraft emissions:  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, N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soot, sulfu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ll future growth in aviation increase its effect on climate and ozon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n technology or changes in operations help reduce the impac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Emissions of CO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O, NO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, soot, and sulfur were estimated for current and future fle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828800" y="2209680"/>
            <a:ext cx="551484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CO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 is the primary greenhouse gas and aircraft CO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Arial"/>
              </a:rPr>
              <a:t>2 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emissions are an increasing proportion of total emis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143000" y="3886200"/>
            <a:ext cx="6553080" cy="25146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19320" y="1523880"/>
            <a:ext cx="6400800" cy="22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9T06:58:50Z</dcterms:created>
  <dc:creator>JPenner</dc:creator>
  <dc:description/>
  <dc:language>en-US</dc:language>
  <cp:lastModifiedBy>PC0314 ICAO</cp:lastModifiedBy>
  <cp:lastPrinted>2001-04-10T03:32:38Z</cp:lastPrinted>
  <dcterms:modified xsi:type="dcterms:W3CDTF">2001-04-09T16:47:52Z</dcterms:modified>
  <cp:revision>9</cp:revision>
  <dc:subject/>
  <dc:title>Colloquium on Environmental Aspects of Avi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ocument Categoly">
    <vt:lpwstr>Documentation</vt:lpwstr>
  </property>
  <property fmtid="{D5CDD505-2E9C-101B-9397-08002B2CF9AE}" pid="3" name="Language">
    <vt:lpwstr>en</vt:lpwstr>
  </property>
  <property fmtid="{D5CDD505-2E9C-101B-9397-08002B2CF9AE}" pid="4" name="Order">
    <vt:lpwstr>2494100.00000000</vt:lpwstr>
  </property>
  <property fmtid="{D5CDD505-2E9C-101B-9397-08002B2CF9AE}" pid="5" name="Year">
    <vt:lpwstr>2001</vt:lpwstr>
  </property>
</Properties>
</file>