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53C-E8A5-441D-A355-DEF6D291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883-B509-4377-8B5C-4180500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A1B-10BC-4D4E-99EE-FD89611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AFC-75D4-4533-86BA-27FB4895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B05-0831-435D-B863-A4C3C1E4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CDB-97AF-483C-8CEC-38FE682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7A8-1032-4F49-958D-0A2551A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B83-72E6-4805-8D22-0C4C0B8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6A1-8FBB-413C-8A85-A9B190E7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D69-EFB8-42BC-A821-34EFE208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5EE-0552-4194-9D71-87B24553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285-049B-4056-8BFD-6BAAED6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CC13-9567-4325-8C3F-D953834E3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PCC / Special Report on Aviation &amp; Global Atmospher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10 Apr 0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yce Penn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fessor of Atmospheric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ceanic and Space Scienc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iversity of Michi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recent assessment of climate change (IPCC Third Assessmen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aircraft affect climate and oz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572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23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duce ozone, a greenhouse gas, but the predicted increase differs between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069920"/>
            <a:ext cx="68580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vertheless, there is a substantial increase in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s emissions of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721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in the concentration of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cause increases in OH which decrease methane, a greenhouse 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10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er vapor emissions cause contrails when emitted into a region that is nearly satur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152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ail  occurrence is correlated with aviation fuel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627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s correlation has been used to estimate contrail cover based on modeled temperature and humidity in the upper trop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8216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445280" cy="609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990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rrus cloudiness seems to increase near areas where contrails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rrus cloudiness increases as aviation fuel consumption incr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7160" cy="476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24240" y="3192480"/>
            <a:ext cx="6987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use radiative forcing to guage the effects of aviation on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ve forcing expresses the perturbation or change to the energy balance of the Earth-atmosphere system in watts per square meter (W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values of radiative forcing imply a net warming, while negative values imply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ative Forcing from Aircraft in 199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02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43080" y="163440"/>
            <a:ext cx="66564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8380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 Aviation NOx increases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nd reduces C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these RF canc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876560" cy="40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243828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ative imbalance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contrails is primaril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H; that fro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mean RF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cancel in terms of global mean surface temperature, but the latitudinal imbalance may  cause regional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Q:  How much will Aviation’s use of fossil fuel g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 Aviation has grown rapidly to date, in 1990s reaching about 2.5% of all fossil f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, projections give Aviation an equal or greater share of a growing econom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bstitute for jet fuel (fossil C) is obvi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much is Aviation increasing 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big is this compared to other sectors or count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jected to increase from fossil fuels &amp; deforestation by +150 ppm from 1990 to 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ation’s part of this increase is about +6 ppm (range: 4-1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Transportation sector would be about +50 pp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, ~10% of U.S., is comparable to Av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much global warming could be due to Avi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520" y="1219320"/>
            <a:ext cx="806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Aviation on global warming (+0.0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from 1990 to 205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uperimposed on the overall anthropogenic greenhouse w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plus natural variability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not been (nor is likely)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ttribute specific clim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ircraft,  although Aviation i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4114800"/>
            <a:ext cx="3200400" cy="2057400"/>
            <a:chOff x="914400" y="4114800"/>
            <a:chExt cx="3200400" cy="20574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3200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914400" y="4114800"/>
              <a:ext cx="32004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303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 What are the mechanisms that cause radiative forcing in 20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5800" y="11430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major RF components shift (e.g.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more important than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but still remain the major contributors to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tal radiative forcing in 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07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–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trails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.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ith overall R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0200" cy="6248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PCC Special Report on Aviation &amp; Global Atmospher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ation’s share of ‘greenhouse gas warming’ will remain a significant fraction of the world total, when compared to other sub-sectors and to many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 in some of the “atmospheric effects” are not adequate to quantify climat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 significant - Kyoto scale - reductions in Aviation’s climate impacts, could be achieved with any of several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improve fuel efficiency per passenger–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 low-NOx eng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meteorological conditions favoring contr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-990720"/>
            <a:ext cx="8331480" cy="76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ial Report on Aviation and the Global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duced following a request from the International Civil Aviation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roduced following a request from the International Civil Aviation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5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verall effects considered in the IPCC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308240"/>
            <a:ext cx="2273400" cy="157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280" y="3048120"/>
            <a:ext cx="18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174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o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181480"/>
            <a:ext cx="186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65360" y="4165200"/>
            <a:ext cx="1830600" cy="228600"/>
            <a:chOff x="2565360" y="4165200"/>
            <a:chExt cx="1830600" cy="228600"/>
          </a:xfrm>
        </p:grpSpPr>
        <p:sp>
          <p:nvSpPr>
            <p:cNvPr id="55" name=""/>
            <p:cNvSpPr/>
            <p:nvPr/>
          </p:nvSpPr>
          <p:spPr>
            <a:xfrm flipV="1">
              <a:off x="25653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7939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0225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2511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4797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7083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9369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1655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3941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17640" y="3403440"/>
            <a:ext cx="1409400" cy="1168200"/>
            <a:chOff x="2717640" y="3403440"/>
            <a:chExt cx="1409400" cy="1168200"/>
          </a:xfrm>
        </p:grpSpPr>
        <p:sp>
          <p:nvSpPr>
            <p:cNvPr id="65" name=""/>
            <p:cNvSpPr/>
            <p:nvPr/>
          </p:nvSpPr>
          <p:spPr>
            <a:xfrm>
              <a:off x="2717640" y="3403440"/>
              <a:ext cx="1397160" cy="116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30960" y="3403440"/>
              <a:ext cx="1396080" cy="11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730600" y="3860640"/>
            <a:ext cx="1396440" cy="1231920"/>
            <a:chOff x="2730600" y="3860640"/>
            <a:chExt cx="1396440" cy="1231920"/>
          </a:xfrm>
        </p:grpSpPr>
        <p:sp>
          <p:nvSpPr>
            <p:cNvPr id="68" name=""/>
            <p:cNvSpPr/>
            <p:nvPr/>
          </p:nvSpPr>
          <p:spPr>
            <a:xfrm>
              <a:off x="2730600" y="3860640"/>
              <a:ext cx="1396440" cy="11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6720" y="4940280"/>
              <a:ext cx="203040" cy="152280"/>
              <a:chOff x="3276720" y="4940280"/>
              <a:chExt cx="203040" cy="152280"/>
            </a:xfrm>
          </p:grpSpPr>
          <p:sp>
            <p:nvSpPr>
              <p:cNvPr id="70" name=""/>
              <p:cNvSpPr/>
              <p:nvPr/>
            </p:nvSpPr>
            <p:spPr>
              <a:xfrm>
                <a:off x="3289320" y="4940280"/>
                <a:ext cx="190440" cy="15228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20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2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3276720" y="5003640"/>
                <a:ext cx="2520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20960" y="2844720"/>
            <a:ext cx="1562400" cy="54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22840" y="4559400"/>
            <a:ext cx="1485720" cy="67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240" y="5410080"/>
            <a:ext cx="16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E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0680" y="5867280"/>
            <a:ext cx="29926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, H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, S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ulfur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oot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5760" y="617220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680" y="1523880"/>
            <a:ext cx="130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1160" y="1949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2480" y="2057400"/>
            <a:ext cx="247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zone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8640" y="240660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4160" y="255276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76" y="40"/>
                </a:lnTo>
                <a:lnTo>
                  <a:pt x="176" y="0"/>
                </a:lnTo>
                <a:lnTo>
                  <a:pt x="232" y="64"/>
                </a:lnTo>
                <a:lnTo>
                  <a:pt x="176" y="128"/>
                </a:lnTo>
                <a:lnTo>
                  <a:pt x="176" y="88"/>
                </a:lnTo>
                <a:lnTo>
                  <a:pt x="0" y="88"/>
                </a:lnTo>
                <a:lnTo>
                  <a:pt x="32" y="64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59092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76" y="40"/>
                </a:lnTo>
                <a:lnTo>
                  <a:pt x="176" y="0"/>
                </a:lnTo>
                <a:lnTo>
                  <a:pt x="232" y="64"/>
                </a:lnTo>
                <a:lnTo>
                  <a:pt x="176" y="128"/>
                </a:lnTo>
                <a:lnTo>
                  <a:pt x="176" y="88"/>
                </a:lnTo>
                <a:lnTo>
                  <a:pt x="0" y="88"/>
                </a:lnTo>
                <a:lnTo>
                  <a:pt x="32" y="64"/>
                </a:lnTo>
                <a:lnTo>
                  <a:pt x="0" y="4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1880" y="2514600"/>
            <a:ext cx="1946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 UV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88800" y="3886200"/>
            <a:ext cx="27511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zon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ail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oud 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58040" y="4819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0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15280" y="571500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68" y="40"/>
                </a:lnTo>
                <a:lnTo>
                  <a:pt x="168" y="0"/>
                </a:lnTo>
                <a:lnTo>
                  <a:pt x="232" y="64"/>
                </a:lnTo>
                <a:lnTo>
                  <a:pt x="168" y="128"/>
                </a:lnTo>
                <a:lnTo>
                  <a:pt x="168" y="88"/>
                </a:lnTo>
                <a:lnTo>
                  <a:pt x="0" y="88"/>
                </a:lnTo>
                <a:lnTo>
                  <a:pt x="24" y="64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638680"/>
            <a:ext cx="368280" cy="26676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68" y="40"/>
                </a:lnTo>
                <a:lnTo>
                  <a:pt x="168" y="0"/>
                </a:lnTo>
                <a:lnTo>
                  <a:pt x="232" y="64"/>
                </a:lnTo>
                <a:lnTo>
                  <a:pt x="168" y="128"/>
                </a:lnTo>
                <a:lnTo>
                  <a:pt x="168" y="88"/>
                </a:lnTo>
                <a:lnTo>
                  <a:pt x="0" y="88"/>
                </a:lnTo>
                <a:lnTo>
                  <a:pt x="24" y="64"/>
                </a:lnTo>
                <a:lnTo>
                  <a:pt x="0" y="4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440" y="5562720"/>
            <a:ext cx="1180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sonic aircraft fly near the tropopause -- where emissions may have a disproportionate impact compared to the same gases emitted at the surfa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7552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opics considered in IPCC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overall and individual effects of aircraft emissions: 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oot, sulf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future growth in aviation increase its effect on climate and oz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technology or changes in operations help reduce the imp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issions of 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soot, and sulfur were estimated for current and future fl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148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is the primary greenhouse gas and aircraft 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missions are an increasing proportion of total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4008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6:58:50Z</dcterms:created>
  <dc:creator>JPenner</dc:creator>
  <dc:description/>
  <dc:language>en-US</dc:language>
  <cp:lastModifiedBy>PC0314 ICAO</cp:lastModifiedBy>
  <cp:lastPrinted>2001-04-10T03:32:38Z</cp:lastPrinted>
  <dcterms:modified xsi:type="dcterms:W3CDTF">2001-04-09T16:47:52Z</dcterms:modified>
  <cp:revision>9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100.00000000</vt:lpwstr>
  </property>
  <property fmtid="{D5CDD505-2E9C-101B-9397-08002B2CF9AE}" pid="5" name="Year">
    <vt:lpwstr>2001</vt:lpwstr>
  </property>
</Properties>
</file>