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4D7-85EA-46B9-A3F3-441C0388C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F62A-BF99-488D-84B3-AA307491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574-923A-4C5E-8759-0395A1A9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A4EB-6963-45B1-9B0E-2134857CC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F4794-060F-4EF6-B41F-0C4A86A8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7D42-45E4-486B-B105-9327F0B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B928-5888-4B0F-A9D3-FD59329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A15A-4A75-4C41-A247-0EFAD56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EDDA-72ED-4FF7-B23F-193EEA7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B047-19B9-4F79-BB3A-76587B1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86FE-97B0-4D53-9C9A-861C497A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4D06-D2E5-444E-BC6B-FD3E9CAD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5508-D2EF-4653-A865-1BE68CDE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A3E-AF18-4CA8-80C6-193095EB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1F0A-A2B3-4B8F-9651-329FF3A8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8A7B0-F9FB-4707-88B8-1AA2F38D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8108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0800"/>
            <a:ext cx="263340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A037-E6CB-4200-A682-7789EF56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15F4-58B2-4A80-AD04-6333711A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766-6ABC-4731-8B0D-DAEB880F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F308-29DA-4C2E-A420-C2884E5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40C-7B55-47DB-BF98-8D7A08C4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CC8-E126-40FD-9B20-347EF27E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080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736-46DB-415B-B4C9-49A1975A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981080"/>
            <a:ext cx="399096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0800"/>
            <a:ext cx="8178840" cy="18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734-6D20-42C1-BABA-20406DB6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74960" indent="-21924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27CB-9435-41F8-872B-AF7FC0BA3C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430E-BB2C-43D2-9D2B-604A5BE8D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26668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ssion 7 : Aircraft Engine Emissions - ICAO’s Existing Polici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4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. Les Mor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 of Activit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17884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tion of emissions at sour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conomic instru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4:03:17Z</dcterms:created>
  <dc:creator>Susan Joseph</dc:creator>
  <dc:description/>
  <dc:language>en-US</dc:language>
  <cp:lastModifiedBy>Susan Joseph</cp:lastModifiedBy>
  <cp:lastPrinted>2001-04-04T14:12:21Z</cp:lastPrinted>
  <dcterms:modified xsi:type="dcterms:W3CDTF">2001-04-04T14:12:23Z</dcterms:modified>
  <cp:revision>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3400.00000000</vt:lpwstr>
  </property>
  <property fmtid="{D5CDD505-2E9C-101B-9397-08002B2CF9AE}" pid="5" name="Year">
    <vt:lpwstr>2001</vt:lpwstr>
  </property>
</Properties>
</file>