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9C3-A735-4C6E-A131-5BDD4E15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455-5DA4-4A4A-97C3-B7E9D1B7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D6F-9A82-45E2-A330-3731EEEC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8D4-2680-40DA-BD69-B1691878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12E8-E052-4A7F-B6C2-150A0652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B593-47A8-4288-928E-56250C48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90F7-DB43-41C7-ADA3-FB716155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EF58-86C2-416D-A013-B7F7365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51EA-6441-4DE0-9D77-A53E8D55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DB50-7717-4B7A-A85D-A727E15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9DDF-181A-43A9-B2E2-E654C751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DAD-6E13-4C55-9093-1763DB62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0B2C-D5FD-4F4F-9A37-341A7D2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5D3C-A2FE-4FE6-95AA-3537F75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528F-8275-4F9E-986A-877D8C0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4CCD-5676-481E-8B2E-902FCDF9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7ABC-3530-4DEF-A1D2-96C07E0F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132-5077-4F25-B706-19B1F6AC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A9B-9C11-4C84-8DA4-4A80CD2F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19F-2436-45DA-BD88-2D26F2BF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8F1-2A29-405C-85CD-36336504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29E-4004-4A7D-BB53-706ECDFF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4CE-FFAF-4280-AEE5-07FD628F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C05-37F8-4AFC-A37E-4930271E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-21924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E9F7-8B5A-4C19-B483-D0C4EEC790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0AE1-22B5-4614-8BA7-A6959D8C27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7 : Aircraft Engine Emissions - ICAO’s Existing Polic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4724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Les Mor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 of Activ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tion of emissions at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ic instr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4:03:17Z</dcterms:created>
  <dc:creator>Susan Joseph</dc:creator>
  <dc:description/>
  <dc:language>en-US</dc:language>
  <cp:lastModifiedBy>Susan Joseph</cp:lastModifiedBy>
  <cp:lastPrinted>2001-04-04T14:12:21Z</cp:lastPrinted>
  <dcterms:modified xsi:type="dcterms:W3CDTF">2001-04-04T14:12:23Z</dcterms:modified>
  <cp:revision>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3400.00000000</vt:lpwstr>
  </property>
  <property fmtid="{D5CDD505-2E9C-101B-9397-08002B2CF9AE}" pid="5" name="Year">
    <vt:lpwstr>2001</vt:lpwstr>
  </property>
</Properties>
</file>