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C250-6B1E-46A2-BB20-7684A2361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24B2-6E07-46F2-939B-BC4658E4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E3E-9332-4A20-BF6E-A5FCD2A9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479-F60C-4655-BE7A-E11C123F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149D-0F67-4332-BFDF-AA789BD24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167B-73FA-4BA5-9B6D-3F6C2CDB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2B64-89A8-41CA-BD16-9C2E4A9A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BAF-97BD-4C1C-B0D4-A58AEEF8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1B2A-B231-4BDD-A3CA-D23B92C9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57E1-57EA-48B4-9F1F-505A0B051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29E9-9F2C-469F-9CC2-5D00F277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76F-ED0E-4681-996B-B0C9E2D8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73F4-7AA0-45AA-B89F-E66B2AB9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9099-6BA9-4245-8875-22ABB025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5C18-6D00-4811-B9B1-0428D71AB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550D-9ADF-40FD-84A0-C2523232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C874-F991-4BC5-978A-2A6F53E7B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03F-F15C-4091-8679-435E3086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010-7C95-403B-9C0A-B6EF702C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0425-9C45-4C97-8927-A21B674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5C5-8390-41F4-9998-E221F2043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5F4-5549-412A-BD81-98148952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08A-AAAA-4BA3-B6B6-F0644BFD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DDF-6C74-4150-B30C-7BBCBB15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0E56-DD95-4CFB-BD74-9641F653CC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120-8416-4D7D-9834-5B517394A8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2 : Aircraft Noise - ICAO’s Existing Poli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6400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Les Mor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 of Activ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tion of noise a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nd use 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restr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ctors involved in developing standar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ical fea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vironmental ne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reasonabl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03:17Z</dcterms:created>
  <dc:creator>Susan Joseph</dc:creator>
  <dc:description/>
  <dc:language>en-US</dc:language>
  <cp:lastModifiedBy>Susan Joseph</cp:lastModifiedBy>
  <cp:lastPrinted>2001-04-04T14:12:05Z</cp:lastPrinted>
  <dcterms:modified xsi:type="dcterms:W3CDTF">2001-04-04T14:12:08Z</dcterms:modified>
  <cp:revision>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3300.00000000</vt:lpwstr>
  </property>
  <property fmtid="{D5CDD505-2E9C-101B-9397-08002B2CF9AE}" pid="5" name="Year">
    <vt:lpwstr>2001</vt:lpwstr>
  </property>
</Properties>
</file>