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8399-12E0-48DA-8B89-47B7E906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080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711-A41F-4B14-B286-183F9C60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E5AB-BA25-45C3-AF6A-A5106485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261C-8F28-48F5-B42B-EFDD4BBC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A8EF-D812-49A7-9A8D-D46BF6F1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AF14-F747-42A4-942B-38A4DC19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97F7-97D0-4487-BBDC-9E1FAD1C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CF8A-F7EC-4CB0-BE91-97C78008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F218-93FA-4C9A-A39F-AB6AFA42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1BDD-56E6-4436-97C4-0B3926EC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DAD9-7494-44F9-AECF-457AE8E7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5748-32A7-4D65-AA42-ED128A3D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9F5C-CAFB-4725-B32F-E65D2F15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CBA0-B3AE-47B3-A6CC-E61515C6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080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88C3-5CCE-49BA-BF06-4C07F087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D275-1146-44FF-A552-2EB8D692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75AE-73FD-46BA-AAFB-CFE8AEA8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4107-E956-4246-ABC9-213B8D25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5E68-E930-4428-BFC1-CB5D0AB0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8AE6-6DD2-4C70-B0B6-4E4DA0D1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7CC9-207E-4D5A-8A03-3C0F3A24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B703-D12E-4B93-9915-6BBB822D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CC5E-467C-4721-94C2-921DE4FD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AF60-A4C9-4629-B851-7B3D9BBB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-21924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5537-4E5F-4B9C-909D-7AA7888F8B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7510-F118-429A-B429-F33F6BB725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216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2 : Aircraft Noise - ICAO’s Existing Polici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0" y="4724280"/>
            <a:ext cx="64008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Les Mort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 of Activ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tion of noise at sou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d use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restri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onomic instr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s involved in developing standar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ical fea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vironmental ne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onomic reasonabl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4:03:17Z</dcterms:created>
  <dc:creator>Susan Joseph</dc:creator>
  <dc:description/>
  <dc:language>en-US</dc:language>
  <cp:lastModifiedBy>Susan Joseph</cp:lastModifiedBy>
  <cp:lastPrinted>2001-04-04T14:12:05Z</cp:lastPrinted>
  <dcterms:modified xsi:type="dcterms:W3CDTF">2001-04-04T14:12:08Z</dcterms:modified>
  <cp:revision>3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3300.00000000</vt:lpwstr>
  </property>
  <property fmtid="{D5CDD505-2E9C-101B-9397-08002B2CF9AE}" pid="5" name="Year">
    <vt:lpwstr>2001</vt:lpwstr>
  </property>
</Properties>
</file>