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E6CB-E374-477A-BF1A-DDDDAFDD832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morning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ff Hamiel,  Executive Director MS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representing all ACI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P faces same problems as airpor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another reality...These airplanes are very nois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single event contours 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00 Chapter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99  Raisback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27-200 Hushkit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757-200 modern Chapter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727 80dB contour extends 8 to 12 miles from start of takeoff roll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57 contour... 2 miles long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e end of the U.S. Phase out of Chapter 2 aircraft, airplanes with a cumulative margin within 5dB of Chapter 3 limits accounted for 60% of the noise energy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of noise... 26% of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means that a large portion of the noise impact at a typical airport is produced by relatively few airpla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at, at the end of the Chapter 2 phase-out in the U.S., while these noisy Chapter 3 aircraft made 60% of the noise, they accounted for only 26% of the depar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rs show the amount of noise produced in increments of 5dB quieter than Chapter 3 requir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olid line shows the percentage of departures in each noise categ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what that means at my airpotr for the year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shading = actual fle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 line = modern airc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 are the population impacts at MSP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tripling the number of people affected at every nois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mainta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hat’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reason we can’t build new airport capacit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pite the illusion of progress we continue to disrupt far too many people’s liv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 believes ICAO is the proper forum to devise a solution for all these reasons...(read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we believe the “Balanced Approach” is the right way to treat the probl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EP/5 made progress, yet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till need to deal with the small number of very noisy aircraft that are at the heart of the problem at noise sensitive air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we do, it will continue to be very difficult to expand capac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what we sought at CAEP/5. (r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le disappointed that a more stringent new certification limit was not adopted, we recognize that new certification only affects the fleet in the long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onal phase out of -5dB should be reconside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alternative to a complete phase out of airplanes within 5dB, we support interim restrictions at individual noise sensitive airpor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EP/5 determined that phase-out at the stringencies evaluated was not fea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recognize the airlines’ view of the cost impacts of total or regional phase out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at the stringencies evaluated by CAEP/5 of 8, 11 or 14 d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are also very aware of the needs of the developing count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t, we must continue to work toward an ICAO-sanctioned solution to achieve these goals. (read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 MSP sit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proofing program (cost..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ho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frequency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track master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ICAO has the international charter to recommend a standardized operating restriction that can be adopted by individual airports, where necessary, as part of the “Balanced Approac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think the benefits are... (read sl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adoption must not be blocked by impossible “Part 161” procedures as in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we run the risk of many different rules being adopted by individual airports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thing that ACI feels would be highly detrimen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ease understand that exactly such an outcome is very likel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airports will act to respond to the continuing public and political outc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I is working on recommendations to our members to minimize proliferation that will accomplish these goal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believve this problem is one we can solv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e continue to work together within the ICAO foru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e historic growth in U.S. Traffi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traffic growth shows similar trends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wth of industry requires additional capacity, both in the ATC system and at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t shows the Number of delays longer  than 15 minutes at top 20 US air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 is 1998 - worst airport had  3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enta is 1999 - worst airport had 5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llow is 2000 - worst airport had 60,000 de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s plague all airports, particularly North America and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ing runway capacity is almost 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 to 20 years typical time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MSP planning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at SEA, ATL, BOS, STL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in Europe and Asia NRT, LHR, CD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eing chart showing increases in number of airport restrictions, world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arming rate of growth in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 of European Airlines cites restrictions at 14 of busiest 18 European air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nly get wors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continues to be main reason for opposition to airport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art shows the reduction in people exposed to DNL 65 in the U.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d from 7 Million in 1975 to 1/2 Million in 200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t, population declines and cumulative exposure metrics don’t tell the whole 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P Example: Annual complaint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’s what US airports thought would happen at the start of the Chapter 2 phaseout (read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We were wrong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airport neighbors think we lied to them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ports lost credibility and integ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re’s the reality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ring the critical years when airlines were making fleet investment decisions, real fuel prices (blue line) actually decl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carriers opted to recertify old aircraft to Chapter 3 standard, rather than invest in new Chapter 3 aircraf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4E78-3EB5-4957-A65D-5C6DB0B03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9206-7EAF-40AC-BD5B-309942DA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F49-7F0B-4F35-AB93-87A992F64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D2D-3B4F-4A6E-B487-2F537773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8F40-4016-48AC-B3BC-63F4D267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89F-3778-467C-9037-4E2C8F6D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0DC-7444-48DC-8033-B42D9FA7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225-01B3-4288-AA97-C81B1BCBA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49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958C-C018-4ED5-9293-F2E84A4E7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C21B-DD5A-48B2-A9D7-8637712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BCAC-6157-455D-B5BE-C3F9DEF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45E9-C3C5-427D-B412-04BCCFA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3A72-FD78-4ADC-9449-7C8C233B7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kybar2" descr=""/>
          <p:cNvPicPr/>
          <p:nvPr/>
        </p:nvPicPr>
        <p:blipFill>
          <a:blip r:embed="rId2"/>
          <a:stretch/>
        </p:blipFill>
        <p:spPr>
          <a:xfrm>
            <a:off x="0" y="0"/>
            <a:ext cx="12952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" name=""/>
          <p:cNvGraphicFramePr/>
          <p:nvPr/>
        </p:nvGraphicFramePr>
        <p:xfrm>
          <a:off x="0" y="0"/>
          <a:ext cx="1219320" cy="7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21932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ay Forward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irport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rey W. Ham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Di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neapolis/ St. Paul Metropolitan Airports Com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irman, ACI - North 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3808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ity in 2000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roximately 1100 relatively noisy aircraft remain in fl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981080" y="1828800"/>
          <a:ext cx="6416640" cy="480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416640" cy="48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295280" y="1905120"/>
            <a:ext cx="7848720" cy="4952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End of U.S. Phaseout Aircraft With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dB of Stage 3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ed for 60% o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hart%20E%20final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172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71600" y="144360"/>
          <a:ext cx="7772400" cy="62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44360"/>
                    <a:ext cx="7772400" cy="62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enefit of Replac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iest Stage 3 Aircraft at M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SP%20v2" descr=""/>
          <p:cNvPicPr/>
          <p:nvPr/>
        </p:nvPicPr>
        <p:blipFill>
          <a:blip r:embed="rId1"/>
          <a:stretch/>
        </p:blipFill>
        <p:spPr>
          <a:xfrm>
            <a:off x="1295280" y="1511280"/>
            <a:ext cx="7848720" cy="53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295280" y="465120"/>
          <a:ext cx="7613640" cy="59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65120"/>
                    <a:ext cx="7613640" cy="59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-NA Surve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62% of airport directo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noise a serious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-NA Survey - 77% of airports in favor of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retirement of noisiest airc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.S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Accounting Office report - 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airports say noise is biggest conc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CAO is the Proper Ve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EP historic role recommending new certification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ed new Chapter 4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commended the “Balanced Approa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urce Noise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ng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d Use Planning/Zo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not recommend phase-out of noisy Chapter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I Position at CAEP/5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 new Stage 4 standard 14 dB quieter than Chapter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out noisiest Chapter 3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within 5dB of Stage 3 in 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im support of operating restrictions at noise 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EP/5 Conclus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Phase Out Not Feasi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from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ed world wide or regionally is very expen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ed all aircraft within target levels (8, 11 or 14 d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not achieve consensus at CAEP/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ever, an International Solution Must be F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inforce the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vide targeted relief at noise 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solve problems of disparate local or regional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ermit airport capacity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ld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0 - MSP had 36,751,632 Pa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0 -  MSP had 523,146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very strong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SP =           4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=       1,0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=    2,500,0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e noise problems limit development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O Sanctioned Airport Operating Restri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s proliferation of different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applied to noise-sensitive air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fects only aircraft within 5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removal from reg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year phased reduction i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year or cycles-based life guaran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icitly recognize developing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with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liferation of Different Local Regulations is a Real Possi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742840"/>
            <a:ext cx="7162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ociation of European Airli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 of 18 large airports impose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e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increasing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CAO Can Help Provid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ationally defined restr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ed lo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“Balanced Approach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Chart%20D%20rev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899172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 Passenger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ays Getting Wo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447920"/>
          <a:ext cx="876312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7631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Controversy Limits Airpor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ve Master Plans, public inquiries and environmental reviews requ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ake decades to obtain approv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just in North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oughout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irport Restrictions are Incre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95280" y="1295280"/>
          <a:ext cx="784872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7848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ise is Still the Primary Problem Limiting Airport Development Despite Population Red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hart%20C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8534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.S.Airport expectations in 199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shkits would be used to comply with Chapter 3 - mainly by cargo c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fuel prices would drive replacement of older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9, 727 &amp; classic 737 would largely be replaced in passeng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ity in 200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Fuel Prices Declin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133720"/>
            <a:ext cx="71629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1752480"/>
          <a:ext cx="7848720" cy="51055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8487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2:59:37Z</dcterms:created>
  <dc:creator>RMarchi</dc:creator>
  <dc:description/>
  <dc:language>en-US</dc:language>
  <cp:lastModifiedBy>PC0314 ICAO</cp:lastModifiedBy>
  <cp:lastPrinted>2001-04-07T00:23:30Z</cp:lastPrinted>
  <dcterms:modified xsi:type="dcterms:W3CDTF">2001-04-10T12:29:50Z</dcterms:modified>
  <cp:revision>53</cp:revision>
  <dc:subject/>
  <dc:title>Colloquium on Environmental Aspects of Av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92300.00000000</vt:lpwstr>
  </property>
  <property fmtid="{D5CDD505-2E9C-101B-9397-08002B2CF9AE}" pid="5" name="Year">
    <vt:lpwstr>2001</vt:lpwstr>
  </property>
</Properties>
</file>