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5.png" ContentType="image/png"/>
  <Override PartName="/ppt/media/image2.png" ContentType="image/png"/>
  <Override PartName="/ppt/media/image3.wmf" ContentType="image/x-wmf"/>
  <Override PartName="/ppt/media/image6.wmf" ContentType="image/x-wmf"/>
  <Override PartName="/ppt/media/image7.wmf" ContentType="image/x-wmf"/>
  <Override PartName="/ppt/media/image11.jpeg" ContentType="image/jpeg"/>
  <Override PartName="/ppt/media/image12.wmf" ContentType="image/x-wmf"/>
  <Override PartName="/ppt/media/image8.wmf" ContentType="image/x-wmf"/>
  <Override PartName="/ppt/media/image9.wmf" ContentType="image/x-wmf"/>
  <Override PartName="/ppt/media/image10.wmf" ContentType="image/x-wmf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1.pptx" ContentType="application/vnd.openxmlformats-officedocument.presentationml.presentation"/>
  <Override PartName="/ppt/embeddings/oleObject1.docx" ContentType="application/vnd.openxmlformats-officedocument.wordprocessingml.documen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35182-7D60-4710-A3AB-E37017C0930C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od morning..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eff Hamiel,  Executive Director MS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re representing all ACI airp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SP faces same problems as airpor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re’s another reality...These airplanes are very noisy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re are single event contours for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727-200 Chapter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727-299  Raisback Chapter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727-200 Hushkit Chapter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757-200 modern Chapter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e that the727 80dB contour extends 8 to 12 miles from start of takeoff roll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57 contour... 2 miles long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the end of the U.S. Phase out of Chapter 2 aircraft, airplanes with a cumulative margin within 5dB of Chapter 3 limits accounted for 60% of the noise energy in the U.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0% of noise... 26% of op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t means that a large portion of the noise impact at a typical airport is produced by relatively few airpla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67320" cy="342612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s chart shows that, at the end of the Chapter 2 phase-out in the U.S., while these noisy Chapter 3 aircraft made 60% of the noise, they accounted for only 26% of the depar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ars show the amount of noise produced in increments of 5dB quieter than Chapter 3 require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solid line shows the percentage of departures in each noise categor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re’s what that means at my airpotr for the year 200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lue shading = actual fle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d line = modern aircraf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re are the population impacts at MSP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most tripling the number of people affected at every nois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 maintain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that’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he reason we can’t build new airport capacity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spite the illusion of progress we continue to disrupt far too many people’s lives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I believes ICAO is the proper forum to devise a solution for all these reasons...(read slid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we believe the “Balanced Approach” is the right way to treat the probl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EP/5 made progress, yet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 still need to deal with the small number of very noisy aircraft that are at the heart of the problem at noise sensitive airpor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til we do, it will continue to be very difficult to expand capacit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re’s what we sought at CAEP/5. (rea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ile disappointed that a more stringent new certification limit was not adopted, we recognize that new certification only affects the fleet in the long ter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onal phase out of -5dB should be reconsider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 an alternative to a complete phase out of airplanes within 5dB, we support interim restrictions at individual noise sensitive airpor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EP/5 determined that phase-out at the stringencies evaluated was not feasib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 recognize the airlines’ view of the cost impacts of total or regional phase out..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specially at the stringencies evaluated by CAEP/5 of 8, 11 or 14 d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 are also very aware of the needs of the developing countri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et, we must continue to work toward an ICAO-sanctioned solution to achieve these goals. (read slid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cribe MSP situ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ndproofing program (cost..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mber of hom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w frequency no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ual-track master pl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..o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ly ICAO has the international charter to recommend a standardized operating restriction that can be adopted by individual airports, where necessary, as part of the “Balanced Approach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 think the benefits are... (read slid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wever, adoption must not be blocked by impossible “Part 161” procedures as in the U.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therwise we run the risk of many different rules being adopted by individual airports..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mething that ACI feels would be highly detriment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lease understand that exactly such an outcome is very likely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airports will act to respond to the continuing public and political outcr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I is working on recommendations to our members to minimize proliferation that will accomplish these goals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 believve this problem is one we can solve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we continue to work together within the ICAO forum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ank you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s chart shows the historic growth in U.S. Traffic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orld traffic growth shows similar trends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owth of industry requires additional capacity, both in the ATC system and at airp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rt shows the Number of delays longer  than 15 minutes at top 20 US airp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lue is 1998 - worst airport had  30,000 delay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genta is 1999 - worst airport had 50,000 delay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ellow is 2000 - worst airport had 60,000 delay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lays plague all airports, particularly North America and Euro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ing runway capacity is almost impossi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 to 20 years typical time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scribe MSP planning pro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ame at SEA, ATL, BOS, STL,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ame in Europe and Asia NRT, LHR, CD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eing chart showing increases in number of airport restrictions, worldw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arming rate of growth in restri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ociation of European Airlines cites restrictions at 14 of busiest 18 European air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only get wors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ise continues to be main reason for opposition to airport expan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s chart shows the reduction in people exposed to DNL 65 in the U.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duced from 7 Million in 1975 to 1/2 Million in 200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et, population declines and cumulative exposure metrics don’t tell the whole s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SP Example: Annual complaint his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67320" cy="342612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e’s what US airports thought would happen at the start of the Chapter 2 phaseout (read slid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.. We were wrong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airport neighbors think we lied to them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ports lost credibility and integri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67320" cy="342612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re’s the reality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uring the critical years when airlines were making fleet investment decisions, real fuel prices (blue line) actually declin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me carriers opted to recertify old aircraft to Chapter 3 standard, rather than invest in new Chapter 3 aircraf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972D3-E5FD-487C-AF28-BC659F36B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949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294920" y="413064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73682-8546-436A-9D9D-EA40F2574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949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9492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96548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70494-3070-4DE2-9EC0-1B6F49A2A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949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664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3872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29492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664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3872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D1E09-5060-4AE9-BAE7-A6F050DC8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949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2949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013BC-46E5-4509-BD1D-98CF20F87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949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0195A-AF62-4FC5-9217-F612151F9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949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67818-8900-4815-8D19-F2DA34BB9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949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5CA92-AFC3-488E-A625-1CBC608DF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294920" y="609120"/>
            <a:ext cx="716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97286-6E9D-4206-AD0B-B33A20C25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949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29492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E0320-DD33-4871-AA3A-E1C479AC5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949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96548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AA44E-C135-4E96-B5C3-C77178DEB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949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294920" y="413064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5F891-B6D1-4E5D-B794-A35A5B902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949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949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5FAD5-4802-4FB6-BDAB-EBF3FC82A5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skybar2" descr=""/>
          <p:cNvPicPr/>
          <p:nvPr/>
        </p:nvPicPr>
        <p:blipFill>
          <a:blip r:embed="rId2"/>
          <a:stretch/>
        </p:blipFill>
        <p:spPr>
          <a:xfrm>
            <a:off x="0" y="0"/>
            <a:ext cx="129528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" name=""/>
          <p:cNvGraphicFramePr/>
          <p:nvPr/>
        </p:nvGraphicFramePr>
        <p:xfrm>
          <a:off x="0" y="0"/>
          <a:ext cx="1219320" cy="793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1219320" cy="79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Way Forward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Airport Vi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effrey W. Hami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ecutive Dir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inneapolis/ St. Paul Metropolitan Airports Commi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hairman, ACI - North Amer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95280" y="380880"/>
            <a:ext cx="78487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ality in 2000: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pproximately 1100 relatively noisy aircraft remain in fle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1981080" y="1828800"/>
          <a:ext cx="6416640" cy="4808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1828800"/>
                    <a:ext cx="6416640" cy="480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1295280" y="1905120"/>
            <a:ext cx="7848720" cy="4952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949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 End of U.S. Phaseout Aircraft With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dB of Stage 3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ounted for 60% of Noi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Chart%20E%20final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172200" cy="327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1371600" y="144360"/>
          <a:ext cx="7772400" cy="6253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44360"/>
                    <a:ext cx="7772400" cy="625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enefit of Replacing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Noisiest Stage 3 Aircraft at MS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MSP%20v2" descr=""/>
          <p:cNvPicPr/>
          <p:nvPr/>
        </p:nvPicPr>
        <p:blipFill>
          <a:blip r:embed="rId1"/>
          <a:stretch/>
        </p:blipFill>
        <p:spPr>
          <a:xfrm>
            <a:off x="1295280" y="1511280"/>
            <a:ext cx="7848720" cy="534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3" name=""/>
          <p:cNvGraphicFramePr/>
          <p:nvPr/>
        </p:nvGraphicFramePr>
        <p:xfrm>
          <a:off x="1295280" y="465120"/>
          <a:ext cx="7613640" cy="592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465120"/>
                    <a:ext cx="7613640" cy="59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949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71600" y="609480"/>
            <a:ext cx="77724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I-NA Surve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62% of airport director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 noise a serious probl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I-NA Survey - 77% of airports in favor of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rly retirement of noisiest aircraf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.S.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l Accounting Office report - 50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st airports say noise is biggest concer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949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CAO is the Proper Venu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294920" y="1600200"/>
            <a:ext cx="71629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AEP historic role recommending new certification standar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commended new Chapter 4 stand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commended the “Balanced Approach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ource Noise Redu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perating Proced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and Use Planning/Zo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perating Restri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id not recommend phase-out of noisy Chapter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949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I Position at CAEP/5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95280" y="24382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opt new Stage 4 standard 14 dB quieter than Chapter 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hase out noisiest Chapter 3 aircra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ose within 5dB of Stage 3 in 5 yea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im support of operating restrictions at noise sensitive airpo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949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AEP/5 Conclusion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Phase Out Not Feasib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val from regis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ed world wide or regionally is very expens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ffected all aircraft within target levels (8, 11 or 14 dB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d not achieve consensus at CAEP/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949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ever, an International Solution Must be Foun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reinforce the “Balanced Approach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provide targeted relief at noise sensitive airpo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resolve problems of disparate local or regional regul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permit airport capacity develop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949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orld Grow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2000 - MSP had 36,751,632 Passeng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2000 -  MSP had 523,146 Oper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ject very strong grow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20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SP =           40,0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.S. =       1,000,0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ld =    2,500,0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e noise problems limit development worldw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CAO Sanctioned Airport Operating Restric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voids proliferation of different ru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ly applied to noise-sensitive airpo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ffects only aircraft within 5d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removal from regis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 year phased reduction in ope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5 year or cycles-based life guarant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plicitly recognize developing n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with “Balanced Approach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949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liferation of Different Local Regulations is a Real Possi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94920" y="2742840"/>
            <a:ext cx="716292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ociation of European Airlin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4 of 18 large airports impose restri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e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trictions increasing worldw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949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CAO Can Help Provide Solu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nationally defined restri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opted local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t of “Balanced Approach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Chart%20D%20rev" descr=""/>
          <p:cNvPicPr/>
          <p:nvPr/>
        </p:nvPicPr>
        <p:blipFill>
          <a:blip r:embed="rId1"/>
          <a:stretch/>
        </p:blipFill>
        <p:spPr>
          <a:xfrm>
            <a:off x="1295280" y="1600200"/>
            <a:ext cx="8991720" cy="52578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.S. Passenger Grow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94920" y="609120"/>
            <a:ext cx="716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lays Getting Wor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380880" y="1447920"/>
          <a:ext cx="8763120" cy="5410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447920"/>
                    <a:ext cx="8763120" cy="54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949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ing Controversy Limits Airport Develop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236232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ve Master Plans, public inquiries and environmental reviews requir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ake decades to obtain approval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 just in North Amer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roughout the wor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94920" y="609120"/>
            <a:ext cx="716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irport Restrictions are Increas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1295280" y="1295280"/>
          <a:ext cx="7848720" cy="594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1295280"/>
                    <a:ext cx="7848720" cy="594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94920" y="0"/>
            <a:ext cx="71629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oise is Still the Primary Problem Limiting Airport Development Despite Population Reduc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Chart%20C" descr=""/>
          <p:cNvPicPr/>
          <p:nvPr/>
        </p:nvPicPr>
        <p:blipFill>
          <a:blip r:embed="rId1"/>
          <a:stretch/>
        </p:blipFill>
        <p:spPr>
          <a:xfrm>
            <a:off x="1295280" y="1981080"/>
            <a:ext cx="853452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949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.S.Airport expectations in 199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94920" y="1980720"/>
            <a:ext cx="71629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ushkits would be used to comply with Chapter 3 - mainly by cargo carri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r fuel prices would drive replacement of older aircra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C9, 727 &amp; classic 737 would largely be replaced in passenger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949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ality in 2000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al Fuel Prices Declin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2133720"/>
            <a:ext cx="7162920" cy="396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1295280" y="1752480"/>
          <a:ext cx="7848720" cy="51055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1752480"/>
                    <a:ext cx="7848720" cy="510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24T02:59:37Z</dcterms:created>
  <dc:creator>RMarchi</dc:creator>
  <dc:description/>
  <dc:language>en-US</dc:language>
  <cp:lastModifiedBy>PC0314 ICAO</cp:lastModifiedBy>
  <cp:lastPrinted>2001-04-07T00:23:30Z</cp:lastPrinted>
  <dcterms:modified xsi:type="dcterms:W3CDTF">2001-04-10T12:29:50Z</dcterms:modified>
  <cp:revision>53</cp:revision>
  <dc:subject/>
  <dc:title>Colloquium on Environmental Aspects of Avi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ocument Categoly">
    <vt:lpwstr>Documentation</vt:lpwstr>
  </property>
  <property fmtid="{D5CDD505-2E9C-101B-9397-08002B2CF9AE}" pid="3" name="Language">
    <vt:lpwstr>en</vt:lpwstr>
  </property>
  <property fmtid="{D5CDD505-2E9C-101B-9397-08002B2CF9AE}" pid="4" name="Order">
    <vt:lpwstr>2492300.00000000</vt:lpwstr>
  </property>
  <property fmtid="{D5CDD505-2E9C-101B-9397-08002B2CF9AE}" pid="5" name="Year">
    <vt:lpwstr>2001</vt:lpwstr>
  </property>
</Properties>
</file>