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Emblema_E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4800600" cy="311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Emblema_E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4800600" cy="311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67480" y="-586440"/>
            <a:ext cx="14479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-385920" y="0"/>
            <a:ext cx="9820440" cy="7156440"/>
            <a:chOff x="-385920" y="0"/>
            <a:chExt cx="9820440" cy="7156440"/>
          </a:xfrm>
        </p:grpSpPr>
        <p:graphicFrame>
          <p:nvGraphicFramePr>
            <p:cNvPr id="41" name=""/>
            <p:cNvGraphicFramePr/>
            <p:nvPr/>
          </p:nvGraphicFramePr>
          <p:xfrm>
            <a:off x="-385920" y="463680"/>
            <a:ext cx="9820440" cy="6692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85920" y="463680"/>
                      <a:ext cx="9820440" cy="66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" name="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AIRCRAFT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OPERATED</a:t>
              </a: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BY</a:t>
              </a: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 RUSSIAN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IVIL AVI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147600"/>
            <a:ext cx="9658440" cy="6560280"/>
            <a:chOff x="0" y="147600"/>
            <a:chExt cx="9658440" cy="6560280"/>
          </a:xfrm>
        </p:grpSpPr>
        <p:sp>
          <p:nvSpPr>
            <p:cNvPr id="45" name=""/>
            <p:cNvSpPr/>
            <p:nvPr/>
          </p:nvSpPr>
          <p:spPr>
            <a:xfrm>
              <a:off x="0" y="1476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99"/>
                  </a:solidFill>
                  <a:latin typeface="Times New Roman"/>
                </a:rPr>
                <a:t>STRUCTURE OF PASSENGER TRAFF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762120"/>
              <a:ext cx="456408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assenger-kilometres performed,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otal scheduled - 53,2 bl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8000"/>
                  </a:solidFill>
                  <a:latin typeface="Times New Roman"/>
                </a:rPr>
                <a:t>35 % of all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ransportations performed by “Charter 3” airpla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14,6 %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of fleet are airplanes of foreign produc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95680" y="762120"/>
              <a:ext cx="46483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assenger-kilometres performed,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nternational scheduled - 22,7 bl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8000"/>
                  </a:solidFill>
                  <a:latin typeface="Times New Roman"/>
                </a:rPr>
                <a:t>52 % of all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ransportations performed by “Charter 3” airpla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31,6 %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of fleet are airplanes of foreign produc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152280" y="2057400"/>
            <a:ext cx="4788000" cy="413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57400"/>
                      <a:ext cx="4788000" cy="413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4097160" y="1905120"/>
            <a:ext cx="5046840" cy="447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97160" y="1905120"/>
                      <a:ext cx="5046840" cy="44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2" name=""/>
            <p:cNvGrpSpPr/>
            <p:nvPr/>
          </p:nvGrpSpPr>
          <p:grpSpPr>
            <a:xfrm>
              <a:off x="914400" y="6400800"/>
              <a:ext cx="8744040" cy="307080"/>
              <a:chOff x="914400" y="6400800"/>
              <a:chExt cx="8744040" cy="30708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914400" y="6400800"/>
                <a:ext cx="4295880" cy="307080"/>
                <a:chOff x="914400" y="6400800"/>
                <a:chExt cx="4295880" cy="3070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914400" y="6477120"/>
                  <a:ext cx="609840" cy="2286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524240" y="6400800"/>
                  <a:ext cx="3686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</a:rPr>
                    <a:t>- “Chapter 2” airplan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5410080" y="6400800"/>
                <a:ext cx="4248360" cy="307080"/>
                <a:chOff x="5410080" y="6400800"/>
                <a:chExt cx="4248360" cy="3070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410080" y="6477120"/>
                  <a:ext cx="56196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972040" y="6400800"/>
                  <a:ext cx="3686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</a:rPr>
                    <a:t>- “Chapter 3” airplan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39600" y="147600"/>
            <a:ext cx="9773280" cy="6483960"/>
            <a:chOff x="-39600" y="147600"/>
            <a:chExt cx="9773280" cy="6483960"/>
          </a:xfrm>
        </p:grpSpPr>
        <p:grpSp>
          <p:nvGrpSpPr>
            <p:cNvPr id="60" name=""/>
            <p:cNvGrpSpPr/>
            <p:nvPr/>
          </p:nvGrpSpPr>
          <p:grpSpPr>
            <a:xfrm>
              <a:off x="990720" y="6324480"/>
              <a:ext cx="8742960" cy="307080"/>
              <a:chOff x="990720" y="6324480"/>
              <a:chExt cx="8742960" cy="30708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990720" y="6324480"/>
                <a:ext cx="4295160" cy="307080"/>
                <a:chOff x="990720" y="6324480"/>
                <a:chExt cx="4295160" cy="3070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990720" y="6400800"/>
                  <a:ext cx="609480" cy="2286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600200" y="6324480"/>
                  <a:ext cx="368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</a:rPr>
                    <a:t>- “Chapter 2” airplan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486040" y="6324480"/>
                <a:ext cx="4247640" cy="307080"/>
                <a:chOff x="5486040" y="6324480"/>
                <a:chExt cx="4247640" cy="3070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486040" y="6400800"/>
                  <a:ext cx="56160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47640" y="6324480"/>
                  <a:ext cx="3686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</a:rPr>
                    <a:t>- “Chapter 3” airplan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" name=""/>
            <p:cNvSpPr/>
            <p:nvPr/>
          </p:nvSpPr>
          <p:spPr>
            <a:xfrm>
              <a:off x="-39600" y="914400"/>
              <a:ext cx="4782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onne-kilometres performed,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otal scheduled– 1590,6 ml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8000"/>
                  </a:solidFill>
                  <a:latin typeface="Times New Roman"/>
                </a:rPr>
                <a:t>9,6% (153,2 mln. tkm)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transportations performed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y “Charter 3” airpla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95840" y="914400"/>
              <a:ext cx="449100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onne-kilometres performed,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nternational scheduled – 1324,4 ml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8000"/>
                  </a:solidFill>
                  <a:latin typeface="Times New Roman"/>
                </a:rPr>
                <a:t>11,0% (146,1 mln. tkm)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transportations performed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y “Charter 3” airpla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438120" y="2111400"/>
            <a:ext cx="4221360" cy="4067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120" y="2111400"/>
                      <a:ext cx="4221360" cy="406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4724280" y="2136600"/>
            <a:ext cx="4221360" cy="401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2136600"/>
                      <a:ext cx="4221360" cy="401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/>
            <p:nvPr/>
          </p:nvSpPr>
          <p:spPr>
            <a:xfrm>
              <a:off x="0" y="1476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99"/>
                  </a:solidFill>
                  <a:latin typeface="Times New Roman"/>
                </a:rPr>
                <a:t>STRUCTURE OF CARGO TRAFF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9144000" cy="6860520"/>
            <a:chOff x="0" y="0"/>
            <a:chExt cx="9144000" cy="6860520"/>
          </a:xfrm>
        </p:grpSpPr>
        <p:sp>
          <p:nvSpPr>
            <p:cNvPr id="75" name=""/>
            <p:cNvSpPr/>
            <p:nvPr/>
          </p:nvSpPr>
          <p:spPr>
            <a:xfrm>
              <a:off x="0" y="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Noise performance of passenger airplane global fleet</a:t>
              </a:r>
              <a:br>
                <a:rPr sz="2000"/>
              </a:b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(100 and more seats airplan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228600" y="684360"/>
            <a:ext cx="2924280" cy="27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684360"/>
                      <a:ext cx="2924280" cy="27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3124080" y="690480"/>
            <a:ext cx="2895840" cy="187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690480"/>
                      <a:ext cx="289584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019920" y="690480"/>
            <a:ext cx="2895480" cy="18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690480"/>
                      <a:ext cx="289548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228600" y="3432240"/>
            <a:ext cx="2924280" cy="2897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3432240"/>
                      <a:ext cx="2924280" cy="289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3137040" y="2556000"/>
            <a:ext cx="2895480" cy="1879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7040" y="2556000"/>
                      <a:ext cx="289548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033960" y="2557440"/>
            <a:ext cx="2895840" cy="1879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33960" y="2557440"/>
                      <a:ext cx="289584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3124080" y="4443480"/>
            <a:ext cx="2895840" cy="1879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24080" y="4443480"/>
                      <a:ext cx="289584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6019920" y="4443480"/>
            <a:ext cx="2895480" cy="1879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019920" y="4443480"/>
                      <a:ext cx="289548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52280" y="6481800"/>
              <a:ext cx="60984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2760" y="6405480"/>
              <a:ext cx="193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apter 3” airp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19520" y="6477120"/>
              <a:ext cx="609480" cy="228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280" y="634032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pter 2 airplanes resertificated to meet Chapter 3 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6481800"/>
              <a:ext cx="60948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14960" y="6405480"/>
              <a:ext cx="193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apter 2” airp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NOISE PERFORMANCES</a:t>
              </a:r>
              <a:br>
                <a:rPr sz="2400"/>
              </a:b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OF THE RUSSIAN TURBOJET AIRPLANE FL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457200" y="3505320"/>
            <a:ext cx="6095880" cy="33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505320"/>
                      <a:ext cx="60958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533520" y="722160"/>
            <a:ext cx="60958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722160"/>
                      <a:ext cx="60958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460080" y="60948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PN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-939960" y="4973760"/>
              <a:ext cx="27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imes New Roman"/>
                </a:rPr>
                <a:t>Passing Chapter 3 Min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-834120" y="2201040"/>
              <a:ext cx="25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a50021"/>
                  </a:solidFill>
                  <a:latin typeface="Times New Roman"/>
                </a:rPr>
                <a:t>Passing Chapter 3 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10280" y="52578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ew Chapter 4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quirements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400800" y="5181120"/>
              <a:ext cx="53352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476760" y="3048120"/>
              <a:ext cx="609480" cy="68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28195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hapter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quirements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6781680" y="1523880"/>
              <a:ext cx="2590920" cy="520200"/>
              <a:chOff x="6781680" y="1523880"/>
              <a:chExt cx="2590920" cy="520200"/>
            </a:xfrm>
          </p:grpSpPr>
          <p:sp>
            <p:nvSpPr>
              <p:cNvPr id="112" name=""/>
              <p:cNvSpPr/>
              <p:nvPr/>
            </p:nvSpPr>
            <p:spPr>
              <a:xfrm>
                <a:off x="6858000" y="1600200"/>
                <a:ext cx="533520" cy="22860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81680" y="1523880"/>
                <a:ext cx="25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Times New Roman"/>
                  </a:rPr>
                  <a:t>              </a:t>
                </a:r>
                <a:r>
                  <a:rPr b="1" lang="en-GB" sz="1400" spc="-1" strike="noStrike">
                    <a:solidFill>
                      <a:srgbClr val="3333cc"/>
                    </a:solidFill>
                    <a:latin typeface="Times New Roman"/>
                  </a:rPr>
                  <a:t>- New preproduction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3333cc"/>
                    </a:solidFill>
                    <a:latin typeface="Times New Roman"/>
                  </a:rPr>
                  <a:t>                airpla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066680" y="6019920"/>
              <a:ext cx="57657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0080"/>
                  </a:solidFill>
                  <a:latin typeface="Times New Roman"/>
                </a:rPr>
                <a:t>totally 448 aircraft apply Chapter 3</a:t>
              </a:r>
              <a:br>
                <a:rPr sz="1800"/>
              </a:br>
              <a:r>
                <a:rPr b="1" lang="en-GB" sz="1800" spc="-1" strike="noStrike">
                  <a:solidFill>
                    <a:srgbClr val="800080"/>
                  </a:solidFill>
                  <a:latin typeface="Times New Roman"/>
                </a:rPr>
                <a:t> (344 Yak-40 includ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NOISE PERFORMANCES</a:t>
              </a:r>
              <a:br>
                <a:rPr sz="2400"/>
              </a:b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OF THE RUSSIAN TURBOPROP AIRPLANE FL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633240"/>
              <a:ext cx="8831160" cy="6032520"/>
              <a:chOff x="0" y="633240"/>
              <a:chExt cx="8831160" cy="6032520"/>
            </a:xfrm>
          </p:grpSpPr>
          <p:sp>
            <p:nvSpPr>
              <p:cNvPr id="118" name=""/>
              <p:cNvSpPr/>
              <p:nvPr/>
            </p:nvSpPr>
            <p:spPr>
              <a:xfrm>
                <a:off x="612360" y="63324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PN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6200000">
                <a:off x="-488880" y="1248480"/>
                <a:ext cx="1681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50021"/>
                    </a:solidFill>
                    <a:latin typeface="Times New Roman"/>
                  </a:rPr>
                  <a:t> </a:t>
                </a:r>
                <a:r>
                  <a:rPr b="0" lang="en-GB" sz="2000" spc="-1" strike="noStrike">
                    <a:solidFill>
                      <a:srgbClr val="a50021"/>
                    </a:solidFill>
                    <a:latin typeface="Times New Roman"/>
                  </a:rPr>
                  <a:t>Passing</a:t>
                </a:r>
                <a:br>
                  <a:rPr sz="2000"/>
                </a:br>
                <a:r>
                  <a:rPr b="0" lang="en-GB" sz="2000" spc="-1" strike="noStrike">
                    <a:solidFill>
                      <a:srgbClr val="a50021"/>
                    </a:solidFill>
                    <a:latin typeface="Times New Roman"/>
                  </a:rPr>
                  <a:t>Chapter 3 Pl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0" name=""/>
              <p:cNvGraphicFramePr/>
              <p:nvPr/>
            </p:nvGraphicFramePr>
            <p:xfrm>
              <a:off x="533520" y="861840"/>
              <a:ext cx="6102360" cy="1849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861840"/>
                        <a:ext cx="6102360" cy="184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2" name=""/>
              <p:cNvGraphicFramePr/>
              <p:nvPr/>
            </p:nvGraphicFramePr>
            <p:xfrm>
              <a:off x="457200" y="2068560"/>
              <a:ext cx="6102360" cy="4597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" y="2068560"/>
                        <a:ext cx="6102360" cy="459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 rot="16200000">
                <a:off x="-939960" y="3983400"/>
                <a:ext cx="27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3333cc"/>
                    </a:solidFill>
                    <a:latin typeface="Times New Roman"/>
                  </a:rPr>
                  <a:t>Passing Chapter 3 Min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53080" y="3276720"/>
                <a:ext cx="227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ew Chapter 4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requirements lev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29400" y="2057400"/>
                <a:ext cx="198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hapter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equirements lev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553080" y="1219320"/>
              <a:ext cx="2590920" cy="520200"/>
              <a:chOff x="6553080" y="1219320"/>
              <a:chExt cx="2590920" cy="520200"/>
            </a:xfrm>
          </p:grpSpPr>
          <p:sp>
            <p:nvSpPr>
              <p:cNvPr id="128" name=""/>
              <p:cNvSpPr/>
              <p:nvPr/>
            </p:nvSpPr>
            <p:spPr>
              <a:xfrm>
                <a:off x="6629400" y="1295280"/>
                <a:ext cx="533520" cy="22824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553080" y="1219320"/>
                <a:ext cx="25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Times New Roman"/>
                  </a:rPr>
                  <a:t>              </a:t>
                </a:r>
                <a:r>
                  <a:rPr b="1" lang="en-GB" sz="1400" spc="-1" strike="noStrike">
                    <a:solidFill>
                      <a:srgbClr val="3333cc"/>
                    </a:solidFill>
                    <a:latin typeface="Times New Roman"/>
                  </a:rPr>
                  <a:t>- New preproduction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3333cc"/>
                    </a:solidFill>
                    <a:latin typeface="Times New Roman"/>
                  </a:rPr>
                  <a:t>                airpla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7600" cy="6896160"/>
            <a:chOff x="0" y="0"/>
            <a:chExt cx="9147600" cy="689616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MPARED NOISE 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FFICIENCY</a:t>
              </a:r>
              <a:br>
                <a:rPr sz="2400"/>
              </a:b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OF THE RUSSIAN AIRLINE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FL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255600" y="4226040"/>
            <a:ext cx="4319640" cy="267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" y="4226040"/>
                      <a:ext cx="4319640" cy="267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1143000" y="1143000"/>
            <a:ext cx="2571840" cy="26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1143000"/>
                      <a:ext cx="257184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4627440" y="4186080"/>
            <a:ext cx="3757680" cy="2668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27440" y="4186080"/>
                      <a:ext cx="3757680" cy="266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186080" y="1139760"/>
            <a:ext cx="3943440" cy="267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86080" y="1139760"/>
                      <a:ext cx="3943440" cy="267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3351240" y="76212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ssenger 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6520" y="37339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argo 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680" y="1066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us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9680" y="39625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us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9440" y="851040"/>
              <a:ext cx="161964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Wor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ee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lude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Russia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27960" y="3962520"/>
              <a:ext cx="161964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Wor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ee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lude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Russia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-304920" y="0"/>
            <a:ext cx="9753840" cy="6858000"/>
            <a:chOff x="-304920" y="0"/>
            <a:chExt cx="9753840" cy="6858000"/>
          </a:xfrm>
        </p:grpSpPr>
        <p:graphicFrame>
          <p:nvGraphicFramePr>
            <p:cNvPr id="147" name=""/>
            <p:cNvGraphicFramePr/>
            <p:nvPr/>
          </p:nvGraphicFramePr>
          <p:xfrm>
            <a:off x="-304920" y="739800"/>
            <a:ext cx="9753840" cy="6118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04920" y="739800"/>
                      <a:ext cx="9753840" cy="611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0" y="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Structure, amount and noise efficiency of Russian airplane fleet  </a:t>
              </a:r>
              <a:br>
                <a:rPr sz="2000"/>
              </a:b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(as of 20.03.200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16:27:31Z</dcterms:created>
  <dc:creator>Oleg</dc:creator>
  <dc:description/>
  <dc:language>en-US</dc:language>
  <cp:lastModifiedBy>Administrator</cp:lastModifiedBy>
  <dcterms:modified xsi:type="dcterms:W3CDTF">2001-04-09T19:06:23Z</dcterms:modified>
  <cp:revision>93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1800.00000000</vt:lpwstr>
  </property>
  <property fmtid="{D5CDD505-2E9C-101B-9397-08002B2CF9AE}" pid="5" name="Year">
    <vt:lpwstr>2001</vt:lpwstr>
  </property>
</Properties>
</file>