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792913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60F8-EEA2-4733-AA8B-8508220A3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752480" y="413064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5F3A-2FFD-41BD-8FA2-C48D2507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7524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056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4454-751C-4226-A6F5-C9AFC8CCC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09716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4184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75248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09716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4184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7486-35BC-4294-B680-141628939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38E0-3430-4010-8F66-4CA28731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EDB8-0B7F-46B6-A6C5-7D500E29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7986-31E2-4F97-9737-27EB64B3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21B4-FF86-4C62-9F6C-780ADC9B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752480" y="22824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2069-8D9B-4020-974C-6953D00A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524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1BCA-AB74-4FED-B674-04417F41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056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E095-B65B-49B9-952F-C5A3DDA9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413064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AD00-2D27-47DD-A61A-C24E653C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6765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7521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3333cc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 Narrow"/>
              </a:rPr>
              <a:t>ICAO Colloquium 9-11 April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DCF3-6EC8-4C0D-8D2E-73ECE0CC4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457200" y="6095880"/>
          <a:ext cx="762120" cy="533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6095880"/>
                    <a:ext cx="7621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" name=""/>
          <p:cNvGraphicFramePr/>
          <p:nvPr/>
        </p:nvGraphicFramePr>
        <p:xfrm>
          <a:off x="0" y="4106880"/>
          <a:ext cx="1676520" cy="13795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106880"/>
                    <a:ext cx="167652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" name=""/>
          <p:cNvGraphicFramePr/>
          <p:nvPr/>
        </p:nvGraphicFramePr>
        <p:xfrm>
          <a:off x="0" y="1371600"/>
          <a:ext cx="1676520" cy="13921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1371600"/>
                    <a:ext cx="167652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99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799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6120" indent="-219240">
              <a:spcBef>
                <a:spcPts val="7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74960" indent="-219240">
              <a:spcBef>
                <a:spcPts val="799"/>
              </a:spcBef>
              <a:buClr>
                <a:srgbClr val="ff66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CAOFLAG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7467480" cy="4684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828800" y="38052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CAO Colloqui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9-11 April 2001, Montre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ssion 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Verdana"/>
              </a:rPr>
              <a:t>Aircraft Engine Emission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Verdana"/>
              </a:rPr>
              <a:t>The way forwar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Verdana"/>
              </a:rPr>
              <a:t>CAEP/5 on Emissions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520" y="2209680"/>
            <a:ext cx="71625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ositive outcom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 emissions trad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luntary mechanis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ional measur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Verdana"/>
              </a:rPr>
              <a:t>The Way Forward -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Verdana"/>
              </a:rPr>
              <a:t>Emissions Trading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828440" y="2361960"/>
            <a:ext cx="7010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-effici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est long-term approac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ing stud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Verdana"/>
              </a:rPr>
              <a:t>The Way Forward - </a:t>
            </a:r>
            <a:br>
              <a:rPr sz="3600"/>
            </a:br>
            <a:r>
              <a:rPr b="1" lang="en-US" sz="3600" spc="-1" strike="noStrike">
                <a:solidFill>
                  <a:srgbClr val="3333cc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3333cc"/>
                </a:solidFill>
                <a:latin typeface="Verdana"/>
              </a:rPr>
              <a:t>    Voluntary Initiatives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828440" y="1828440"/>
            <a:ext cx="70102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ferred interim approac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low but steady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im long term, act short ter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vironmental repor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ood practi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dustry guid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ICAOFLAG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7467480" cy="46846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828800" y="38052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CAO Colloqui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9-11 April 2001, Montre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ssion 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Verdana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9T08:15:14Z</dcterms:created>
  <dc:creator>Andreas Hardeman</dc:creator>
  <dc:description/>
  <dc:language>en-US</dc:language>
  <cp:lastModifiedBy>PC0314 ICAO</cp:lastModifiedBy>
  <cp:lastPrinted>2001-03-29T12:57:15Z</cp:lastPrinted>
  <dcterms:modified xsi:type="dcterms:W3CDTF">2001-04-11T17:52:06Z</dcterms:modified>
  <cp:revision>36</cp:revision>
  <dc:subject/>
  <dc:title>Colloquium on Environmental Aspects of Avi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90700.00000000</vt:lpwstr>
  </property>
  <property fmtid="{D5CDD505-2E9C-101B-9397-08002B2CF9AE}" pid="5" name="Year">
    <vt:lpwstr>2001</vt:lpwstr>
  </property>
</Properties>
</file>