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364-640B-4C47-BF50-401F3C89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5F7-7FF0-4F6E-9CBA-F97D2F8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214-EF75-4A69-A6D0-9294B9A1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860-1B87-4D87-B2E5-78C3B071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061-9946-4B86-A6F7-F3AABDC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335-84A7-4002-ADCB-315B617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2D1-F98B-4317-BF86-7AE3A6B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E0E-C9FD-4741-8B5A-C049AD3A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EDD-40E3-40DF-9943-6D93B940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8DB-E62B-40EA-975A-600AF06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D6A-5175-4A84-A7E2-558CAD9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B6C-889E-4A39-80E1-814C082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ICAO Colloquium 9-11 Apri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A44-1599-4DF1-9741-EB5033601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57200" y="6095880"/>
          <a:ext cx="7621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588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4106880"/>
          <a:ext cx="1676520" cy="1379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0688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CAOFLAG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7467480" cy="4684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AO Colloqui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9-11 April 2001, Mont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Aircraft Engine Emissio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CAEP/5 on Emission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sitive outco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emissions trad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ntary mechanis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al measur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 -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Emissions Trading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-effici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st long-term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ing stud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 -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    Voluntary Initiativ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 interim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w but steady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m long term, act short te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vironmental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stry guid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CAOFLAG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7467480" cy="4684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AO Colloqui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9-11 April 2001, Mont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Andreas Hardeman</dc:creator>
  <dc:description/>
  <dc:language>en-US</dc:language>
  <cp:lastModifiedBy>PC0314 ICAO</cp:lastModifiedBy>
  <cp:lastPrinted>2001-03-29T12:57:15Z</cp:lastPrinted>
  <dcterms:modified xsi:type="dcterms:W3CDTF">2001-04-11T17:52:06Z</dcterms:modified>
  <cp:revision>36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0700.00000000</vt:lpwstr>
  </property>
  <property fmtid="{D5CDD505-2E9C-101B-9397-08002B2CF9AE}" pid="5" name="Year">
    <vt:lpwstr>2001</vt:lpwstr>
  </property>
</Properties>
</file>