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4.xml.rels" ContentType="application/vnd.openxmlformats-package.relationships+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109.wmf" ContentType="image/x-wmf"/>
  <Override PartName="/ppt/media/image54.png" ContentType="image/png"/>
  <Override PartName="/ppt/media/image108.wmf" ContentType="image/x-wmf"/>
  <Override PartName="/ppt/media/image53.png" ContentType="image/png"/>
  <Override PartName="/ppt/media/image107.wmf" ContentType="image/x-wmf"/>
  <Override PartName="/ppt/media/image52.png" ContentType="image/png"/>
  <Override PartName="/ppt/media/image51.png" ContentType="image/png"/>
  <Override PartName="/ppt/media/image105.wmf" ContentType="image/x-wmf"/>
  <Override PartName="/ppt/media/image50.png" ContentType="image/png"/>
  <Override PartName="/ppt/media/image104.wmf" ContentType="image/x-wmf"/>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13.png" ContentType="image/png"/>
  <Override PartName="/ppt/media/image1.png" ContentType="image/png"/>
  <Override PartName="/ppt/media/image38.png" ContentType="image/png"/>
  <Override PartName="/ppt/media/image8.png" ContentType="image/png"/>
  <Override PartName="/ppt/media/image102.jpeg" ContentType="image/jpe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70.wmf" ContentType="image/x-wmf"/>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34.png" ContentType="image/png"/>
  <Override PartName="/ppt/media/image66.png" ContentType="image/png"/>
  <Override PartName="/ppt/media/image69.png" ContentType="image/png"/>
  <Override PartName="/ppt/media/image32.png" ContentType="image/png"/>
  <Override PartName="/ppt/media/image71.png" ContentType="image/png"/>
  <Override PartName="/ppt/media/image88.jpeg" ContentType="image/jpeg"/>
  <Override PartName="/ppt/media/image2.png" ContentType="image/png"/>
  <Override PartName="/ppt/media/image14.png" ContentType="image/png"/>
  <Override PartName="/ppt/media/image78.png" ContentType="image/png"/>
  <Override PartName="/ppt/media/image79.png" ContentType="image/png"/>
  <Override PartName="/ppt/media/image85.wmf" ContentType="image/x-wmf"/>
  <Override PartName="/ppt/media/image68.png" ContentType="image/png"/>
  <Override PartName="/ppt/media/image31.png" ContentType="image/png"/>
  <Override PartName="/ppt/media/image110.wmf" ContentType="image/x-wmf"/>
  <Override PartName="/ppt/media/image63.png" ContentType="image/png"/>
  <Override PartName="/ppt/media/image76.png" ContentType="image/png"/>
  <Override PartName="/ppt/media/image96.wmf" ContentType="image/x-wmf"/>
  <Override PartName="/ppt/media/image99.png" ContentType="image/png"/>
  <Override PartName="/ppt/media/image62.png" ContentType="image/png"/>
  <Override PartName="/ppt/media/image73.png" ContentType="image/png"/>
  <Override PartName="/ppt/media/image98.png" ContentType="image/png"/>
  <Override PartName="/ppt/media/image61.png" ContentType="image/png"/>
  <Override PartName="/ppt/media/image77.png" ContentType="image/png"/>
  <Override PartName="/ppt/media/image97.wmf" ContentType="image/x-wmf"/>
  <Override PartName="/ppt/media/image20.png" ContentType="image/png"/>
  <Override PartName="/ppt/media/image57.png" ContentType="image/png"/>
  <Override PartName="/ppt/media/image103.png" ContentType="image/png"/>
  <Override PartName="/ppt/media/image72.png" ContentType="image/png"/>
  <Override PartName="/ppt/media/image86.jpeg" ContentType="image/jpeg"/>
  <Override PartName="/ppt/media/image106.jpeg" ContentType="image/jpeg"/>
  <Override PartName="/ppt/media/image64.png" ContentType="image/png"/>
  <Override PartName="/ppt/media/image101.jpeg" ContentType="image/jpeg"/>
  <Override PartName="/ppt/media/image75.png" ContentType="image/png"/>
  <Override PartName="/ppt/media/image95.wmf" ContentType="image/x-wmf"/>
  <Override PartName="/ppt/media/image74.png" ContentType="image/png"/>
  <Override PartName="/ppt/media/image94.wmf" ContentType="image/x-wmf"/>
  <Override PartName="/ppt/media/image67.png" ContentType="image/png"/>
  <Override PartName="/ppt/media/image91.jpeg" ContentType="image/jpeg"/>
  <Override PartName="/ppt/media/image93.wmf" ContentType="image/x-wmf"/>
  <Override PartName="/ppt/media/image87.jpeg" ContentType="image/jpeg"/>
  <Override PartName="/ppt/media/image65.png" ContentType="image/png"/>
  <Override PartName="/ppt/media/image90.jpeg" ContentType="image/jpeg"/>
  <Override PartName="/ppt/media/image60.png" ContentType="image/png"/>
  <Override PartName="/ppt/media/image23.png" ContentType="image/png"/>
  <Override PartName="/ppt/media/image22.png" ContentType="image/png"/>
  <Override PartName="/ppt/media/image59.png" ContentType="image/png"/>
  <Override PartName="/ppt/media/image89.jpeg" ContentType="image/jpeg"/>
  <Override PartName="/ppt/media/image21.png" ContentType="image/png"/>
  <Override PartName="/ppt/media/image58.png" ContentType="image/png"/>
  <Override PartName="/ppt/media/image24.png" ContentType="image/png"/>
  <Override PartName="/ppt/media/image25.png" ContentType="image/png"/>
  <Override PartName="/ppt/media/image26.png" ContentType="image/png"/>
  <Override PartName="/ppt/media/image92.jpeg" ContentType="image/jpeg"/>
  <Override PartName="/ppt/media/image80.png" ContentType="image/png"/>
  <Override PartName="/ppt/media/image15.png" ContentType="image/png"/>
  <Override PartName="/ppt/media/image3.png" ContentType="image/png"/>
  <Override PartName="/ppt/media/image33.png" ContentType="image/png"/>
  <Override PartName="/ppt/media/image27.png" ContentType="image/png"/>
  <Override PartName="/ppt/media/image4.png" ContentType="image/png"/>
  <Override PartName="/ppt/media/image81.png" ContentType="image/png"/>
  <Override PartName="/ppt/media/image1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1BDE8-32F5-44D2-A8C7-484EE2B54D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74593-4678-466F-8FDF-D6CBFDD391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9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2" name="PlaceHolder 1"/>
          <p:cNvSpPr>
            <a:spLocks noGrp="1"/>
          </p:cNvSpPr>
          <p:nvPr>
            <p:ph type="sldImg"/>
          </p:nvPr>
        </p:nvSpPr>
        <p:spPr>
          <a:xfrm>
            <a:off x="1150920" y="692280"/>
            <a:ext cx="4556160" cy="3416040"/>
          </a:xfrm>
          <a:prstGeom prst="rect">
            <a:avLst/>
          </a:prstGeom>
          <a:ln w="0">
            <a:noFill/>
          </a:ln>
        </p:spPr>
      </p:sp>
      <p:sp>
        <p:nvSpPr>
          <p:cNvPr id="1593" name="PlaceHolder 2"/>
          <p:cNvSpPr>
            <a:spLocks noGrp="1"/>
          </p:cNvSpPr>
          <p:nvPr>
            <p:ph type="body"/>
          </p:nvPr>
        </p:nvSpPr>
        <p:spPr>
          <a:xfrm>
            <a:off x="914400" y="4341960"/>
            <a:ext cx="5027760" cy="4125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49B01-6A26-4F1C-B904-BDFD8BA17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3BBEF-A2C4-4396-B01D-A6949FF81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184964-8992-421C-AA22-0F8891057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789DD-5B2A-41CF-B6D0-6FF8A696DA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82884-E9B6-41FD-9598-E83F6E675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42400-EE17-4E3C-9038-379705CA5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61EC6-3959-41CF-A490-E66AD4222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4351D-3C48-4FE8-8906-7E23EE36E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069F0-1803-4A7E-907D-55CE98FCD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8E33A-8AEA-4C09-AC55-BE1B2A608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FA49E-B1AD-4F9E-A84C-6710531D30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07BBE-394D-4FD8-B944-C81359C322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43A65-F1A2-4531-9352-D63D41C638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8.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image" Target="../media/image11.png"/><Relationship Id="rId20" Type="http://schemas.openxmlformats.org/officeDocument/2006/relationships/image" Target="../media/image3.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12.png"/><Relationship Id="rId24" Type="http://schemas.openxmlformats.org/officeDocument/2006/relationships/image" Target="../media/image13.png"/><Relationship Id="rId25" Type="http://schemas.openxmlformats.org/officeDocument/2006/relationships/image" Target="../media/image14.png"/><Relationship Id="rId26" Type="http://schemas.openxmlformats.org/officeDocument/2006/relationships/image" Target="../media/image15.png"/><Relationship Id="rId27" Type="http://schemas.openxmlformats.org/officeDocument/2006/relationships/image" Target="../media/image16.png"/><Relationship Id="rId28" Type="http://schemas.openxmlformats.org/officeDocument/2006/relationships/image" Target="../media/image17.png"/><Relationship Id="rId29" Type="http://schemas.openxmlformats.org/officeDocument/2006/relationships/image" Target="../media/image14.png"/><Relationship Id="rId30" Type="http://schemas.openxmlformats.org/officeDocument/2006/relationships/image" Target="../media/image14.png"/><Relationship Id="rId31" Type="http://schemas.openxmlformats.org/officeDocument/2006/relationships/image" Target="../media/image18.png"/><Relationship Id="rId32" Type="http://schemas.openxmlformats.org/officeDocument/2006/relationships/image" Target="../media/image19.png"/><Relationship Id="rId33" Type="http://schemas.openxmlformats.org/officeDocument/2006/relationships/image" Target="../media/image16.png"/><Relationship Id="rId34" Type="http://schemas.openxmlformats.org/officeDocument/2006/relationships/image" Target="../media/image20.png"/><Relationship Id="rId35" Type="http://schemas.openxmlformats.org/officeDocument/2006/relationships/image" Target="../media/image20.png"/><Relationship Id="rId36" Type="http://schemas.openxmlformats.org/officeDocument/2006/relationships/image" Target="../media/image21.png"/><Relationship Id="rId37" Type="http://schemas.openxmlformats.org/officeDocument/2006/relationships/image" Target="../media/image22.png"/><Relationship Id="rId38" Type="http://schemas.openxmlformats.org/officeDocument/2006/relationships/image" Target="../media/image23.png"/><Relationship Id="rId39" Type="http://schemas.openxmlformats.org/officeDocument/2006/relationships/image" Target="../media/image24.png"/><Relationship Id="rId40" Type="http://schemas.openxmlformats.org/officeDocument/2006/relationships/image" Target="../media/image25.png"/><Relationship Id="rId41" Type="http://schemas.openxmlformats.org/officeDocument/2006/relationships/image" Target="../media/image26.png"/><Relationship Id="rId42" Type="http://schemas.openxmlformats.org/officeDocument/2006/relationships/image" Target="../media/image25.png"/><Relationship Id="rId43" Type="http://schemas.openxmlformats.org/officeDocument/2006/relationships/image" Target="../media/image24.png"/><Relationship Id="rId44" Type="http://schemas.openxmlformats.org/officeDocument/2006/relationships/image" Target="../media/image27.png"/><Relationship Id="rId45" Type="http://schemas.openxmlformats.org/officeDocument/2006/relationships/image" Target="../media/image27.png"/><Relationship Id="rId46" Type="http://schemas.openxmlformats.org/officeDocument/2006/relationships/image" Target="../media/image28.png"/><Relationship Id="rId47" Type="http://schemas.openxmlformats.org/officeDocument/2006/relationships/image" Target="../media/image28.png"/><Relationship Id="rId48" Type="http://schemas.openxmlformats.org/officeDocument/2006/relationships/image" Target="../media/image29.png"/><Relationship Id="rId49" Type="http://schemas.openxmlformats.org/officeDocument/2006/relationships/image" Target="../media/image29.png"/><Relationship Id="rId50" Type="http://schemas.openxmlformats.org/officeDocument/2006/relationships/image" Target="../media/image30.png"/><Relationship Id="rId51" Type="http://schemas.openxmlformats.org/officeDocument/2006/relationships/image" Target="../media/image31.png"/><Relationship Id="rId52" Type="http://schemas.openxmlformats.org/officeDocument/2006/relationships/image" Target="../media/image32.png"/><Relationship Id="rId53" Type="http://schemas.openxmlformats.org/officeDocument/2006/relationships/image" Target="../media/image33.png"/><Relationship Id="rId54" Type="http://schemas.openxmlformats.org/officeDocument/2006/relationships/image" Target="../media/image34.png"/><Relationship Id="rId55" Type="http://schemas.openxmlformats.org/officeDocument/2006/relationships/image" Target="../media/image35.png"/><Relationship Id="rId56" Type="http://schemas.openxmlformats.org/officeDocument/2006/relationships/image" Target="../media/image36.png"/><Relationship Id="rId57" Type="http://schemas.openxmlformats.org/officeDocument/2006/relationships/image" Target="../media/image37.png"/><Relationship Id="rId58" Type="http://schemas.openxmlformats.org/officeDocument/2006/relationships/image" Target="../media/image30.png"/><Relationship Id="rId59" Type="http://schemas.openxmlformats.org/officeDocument/2006/relationships/image" Target="../media/image31.png"/><Relationship Id="rId60" Type="http://schemas.openxmlformats.org/officeDocument/2006/relationships/image" Target="../media/image32.png"/><Relationship Id="rId61" Type="http://schemas.openxmlformats.org/officeDocument/2006/relationships/image" Target="../media/image33.png"/><Relationship Id="rId62" Type="http://schemas.openxmlformats.org/officeDocument/2006/relationships/image" Target="../media/image34.png"/><Relationship Id="rId63" Type="http://schemas.openxmlformats.org/officeDocument/2006/relationships/image" Target="../media/image35.png"/><Relationship Id="rId64" Type="http://schemas.openxmlformats.org/officeDocument/2006/relationships/image" Target="../media/image36.png"/><Relationship Id="rId65" Type="http://schemas.openxmlformats.org/officeDocument/2006/relationships/image" Target="../media/image37.png"/><Relationship Id="rId66" Type="http://schemas.openxmlformats.org/officeDocument/2006/relationships/image" Target="../media/image38.png"/><Relationship Id="rId67" Type="http://schemas.openxmlformats.org/officeDocument/2006/relationships/image" Target="../media/image39.png"/><Relationship Id="rId68" Type="http://schemas.openxmlformats.org/officeDocument/2006/relationships/image" Target="../media/image40.png"/><Relationship Id="rId69" Type="http://schemas.openxmlformats.org/officeDocument/2006/relationships/image" Target="../media/image14.png"/><Relationship Id="rId70" Type="http://schemas.openxmlformats.org/officeDocument/2006/relationships/image" Target="../media/image41.png"/><Relationship Id="rId71" Type="http://schemas.openxmlformats.org/officeDocument/2006/relationships/image" Target="../media/image41.png"/><Relationship Id="rId72" Type="http://schemas.openxmlformats.org/officeDocument/2006/relationships/image" Target="../media/image42.png"/><Relationship Id="rId73" Type="http://schemas.openxmlformats.org/officeDocument/2006/relationships/image" Target="../media/image43.png"/><Relationship Id="rId74" Type="http://schemas.openxmlformats.org/officeDocument/2006/relationships/image" Target="../media/image44.png"/><Relationship Id="rId75" Type="http://schemas.openxmlformats.org/officeDocument/2006/relationships/image" Target="../media/image12.png"/><Relationship Id="rId76" Type="http://schemas.openxmlformats.org/officeDocument/2006/relationships/image" Target="../media/image12.png"/><Relationship Id="rId77" Type="http://schemas.openxmlformats.org/officeDocument/2006/relationships/image" Target="../media/image12.png"/><Relationship Id="rId78" Type="http://schemas.openxmlformats.org/officeDocument/2006/relationships/image" Target="../media/image12.png"/><Relationship Id="rId79" Type="http://schemas.openxmlformats.org/officeDocument/2006/relationships/image" Target="../media/image45.png"/><Relationship Id="rId80" Type="http://schemas.openxmlformats.org/officeDocument/2006/relationships/image" Target="../media/image46.png"/><Relationship Id="rId81" Type="http://schemas.openxmlformats.org/officeDocument/2006/relationships/image" Target="../media/image21.png"/><Relationship Id="rId82" Type="http://schemas.openxmlformats.org/officeDocument/2006/relationships/image" Target="../media/image21.png"/><Relationship Id="rId83" Type="http://schemas.openxmlformats.org/officeDocument/2006/relationships/image" Target="../media/image47.png"/><Relationship Id="rId84" Type="http://schemas.openxmlformats.org/officeDocument/2006/relationships/image" Target="../media/image21.png"/><Relationship Id="rId85" Type="http://schemas.openxmlformats.org/officeDocument/2006/relationships/image" Target="../media/image48.png"/><Relationship Id="rId86" Type="http://schemas.openxmlformats.org/officeDocument/2006/relationships/image" Target="../media/image49.png"/><Relationship Id="rId87" Type="http://schemas.openxmlformats.org/officeDocument/2006/relationships/image" Target="../media/image50.png"/><Relationship Id="rId88" Type="http://schemas.openxmlformats.org/officeDocument/2006/relationships/image" Target="../media/image51.png"/><Relationship Id="rId89" Type="http://schemas.openxmlformats.org/officeDocument/2006/relationships/image" Target="../media/image51.png"/><Relationship Id="rId90" Type="http://schemas.openxmlformats.org/officeDocument/2006/relationships/image" Target="../media/image49.png"/><Relationship Id="rId91" Type="http://schemas.openxmlformats.org/officeDocument/2006/relationships/image" Target="../media/image50.png"/><Relationship Id="rId92" Type="http://schemas.openxmlformats.org/officeDocument/2006/relationships/image" Target="../media/image5.png"/><Relationship Id="rId93" Type="http://schemas.openxmlformats.org/officeDocument/2006/relationships/image" Target="../media/image52.png"/><Relationship Id="rId94" Type="http://schemas.openxmlformats.org/officeDocument/2006/relationships/image" Target="../media/image53.png"/><Relationship Id="rId95" Type="http://schemas.openxmlformats.org/officeDocument/2006/relationships/image" Target="../media/image12.png"/><Relationship Id="rId96" Type="http://schemas.openxmlformats.org/officeDocument/2006/relationships/image" Target="../media/image54.png"/><Relationship Id="rId97" Type="http://schemas.openxmlformats.org/officeDocument/2006/relationships/image" Target="../media/image55.png"/><Relationship Id="rId98" Type="http://schemas.openxmlformats.org/officeDocument/2006/relationships/image" Target="../media/image56.png"/><Relationship Id="rId99" Type="http://schemas.openxmlformats.org/officeDocument/2006/relationships/image" Target="../media/image6.png"/><Relationship Id="rId100" Type="http://schemas.openxmlformats.org/officeDocument/2006/relationships/image" Target="../media/image57.png"/><Relationship Id="rId101" Type="http://schemas.openxmlformats.org/officeDocument/2006/relationships/image" Target="../media/image12.png"/><Relationship Id="rId102" Type="http://schemas.openxmlformats.org/officeDocument/2006/relationships/image" Target="../media/image58.png"/><Relationship Id="rId103" Type="http://schemas.openxmlformats.org/officeDocument/2006/relationships/image" Target="../media/image59.png"/><Relationship Id="rId104" Type="http://schemas.openxmlformats.org/officeDocument/2006/relationships/image" Target="../media/image5.png"/><Relationship Id="rId105" Type="http://schemas.openxmlformats.org/officeDocument/2006/relationships/image" Target="../media/image12.png"/><Relationship Id="rId106" Type="http://schemas.openxmlformats.org/officeDocument/2006/relationships/image" Target="../media/image12.png"/><Relationship Id="rId107" Type="http://schemas.openxmlformats.org/officeDocument/2006/relationships/image" Target="../media/image60.png"/><Relationship Id="rId108" Type="http://schemas.openxmlformats.org/officeDocument/2006/relationships/image" Target="../media/image61.png"/><Relationship Id="rId109" Type="http://schemas.openxmlformats.org/officeDocument/2006/relationships/image" Target="../media/image21.png"/><Relationship Id="rId110" Type="http://schemas.openxmlformats.org/officeDocument/2006/relationships/image" Target="../media/image62.png"/><Relationship Id="rId111" Type="http://schemas.openxmlformats.org/officeDocument/2006/relationships/image" Target="../media/image40.png"/><Relationship Id="rId112" Type="http://schemas.openxmlformats.org/officeDocument/2006/relationships/image" Target="../media/image19.png"/><Relationship Id="rId113" Type="http://schemas.openxmlformats.org/officeDocument/2006/relationships/image" Target="../media/image63.png"/><Relationship Id="rId114" Type="http://schemas.openxmlformats.org/officeDocument/2006/relationships/image" Target="../media/image64.png"/><Relationship Id="rId115" Type="http://schemas.openxmlformats.org/officeDocument/2006/relationships/image" Target="../media/image65.png"/><Relationship Id="rId116" Type="http://schemas.openxmlformats.org/officeDocument/2006/relationships/image" Target="../media/image65.png"/><Relationship Id="rId117" Type="http://schemas.openxmlformats.org/officeDocument/2006/relationships/image" Target="../media/image42.png"/><Relationship Id="rId118" Type="http://schemas.openxmlformats.org/officeDocument/2006/relationships/image" Target="../media/image66.png"/><Relationship Id="rId119" Type="http://schemas.openxmlformats.org/officeDocument/2006/relationships/image" Target="../media/image67.png"/><Relationship Id="rId120"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5.wmf"/><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image" Target="../media/image76.png"/><Relationship Id="rId6" Type="http://schemas.openxmlformats.org/officeDocument/2006/relationships/image" Target="../media/image76.png"/><Relationship Id="rId7" Type="http://schemas.openxmlformats.org/officeDocument/2006/relationships/image" Target="../media/image76.png"/><Relationship Id="rId8" Type="http://schemas.openxmlformats.org/officeDocument/2006/relationships/image" Target="../media/image86.jpeg"/><Relationship Id="rId9" Type="http://schemas.openxmlformats.org/officeDocument/2006/relationships/image" Target="../media/image87.jpeg"/><Relationship Id="rId10" Type="http://schemas.openxmlformats.org/officeDocument/2006/relationships/image" Target="../media/image88.jpeg"/><Relationship Id="rId11" Type="http://schemas.openxmlformats.org/officeDocument/2006/relationships/image" Target="../media/image89.jpeg"/><Relationship Id="rId12" Type="http://schemas.openxmlformats.org/officeDocument/2006/relationships/image" Target="../media/image90.jpeg"/><Relationship Id="rId13" Type="http://schemas.openxmlformats.org/officeDocument/2006/relationships/image" Target="../media/image91.jpeg"/><Relationship Id="rId1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8.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image" Target="../media/image11.png"/><Relationship Id="rId20" Type="http://schemas.openxmlformats.org/officeDocument/2006/relationships/image" Target="../media/image3.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12.png"/><Relationship Id="rId24" Type="http://schemas.openxmlformats.org/officeDocument/2006/relationships/image" Target="../media/image13.png"/><Relationship Id="rId25" Type="http://schemas.openxmlformats.org/officeDocument/2006/relationships/image" Target="../media/image14.png"/><Relationship Id="rId26" Type="http://schemas.openxmlformats.org/officeDocument/2006/relationships/image" Target="../media/image15.png"/><Relationship Id="rId27" Type="http://schemas.openxmlformats.org/officeDocument/2006/relationships/image" Target="../media/image16.png"/><Relationship Id="rId28" Type="http://schemas.openxmlformats.org/officeDocument/2006/relationships/image" Target="../media/image17.png"/><Relationship Id="rId29" Type="http://schemas.openxmlformats.org/officeDocument/2006/relationships/image" Target="../media/image14.png"/><Relationship Id="rId30" Type="http://schemas.openxmlformats.org/officeDocument/2006/relationships/image" Target="../media/image14.png"/><Relationship Id="rId31" Type="http://schemas.openxmlformats.org/officeDocument/2006/relationships/image" Target="../media/image18.png"/><Relationship Id="rId32" Type="http://schemas.openxmlformats.org/officeDocument/2006/relationships/image" Target="../media/image19.png"/><Relationship Id="rId33" Type="http://schemas.openxmlformats.org/officeDocument/2006/relationships/image" Target="../media/image16.png"/><Relationship Id="rId34" Type="http://schemas.openxmlformats.org/officeDocument/2006/relationships/image" Target="../media/image20.png"/><Relationship Id="rId35" Type="http://schemas.openxmlformats.org/officeDocument/2006/relationships/image" Target="../media/image20.png"/><Relationship Id="rId36" Type="http://schemas.openxmlformats.org/officeDocument/2006/relationships/image" Target="../media/image21.png"/><Relationship Id="rId37" Type="http://schemas.openxmlformats.org/officeDocument/2006/relationships/image" Target="../media/image22.png"/><Relationship Id="rId38" Type="http://schemas.openxmlformats.org/officeDocument/2006/relationships/image" Target="../media/image23.png"/><Relationship Id="rId39" Type="http://schemas.openxmlformats.org/officeDocument/2006/relationships/image" Target="../media/image24.png"/><Relationship Id="rId40" Type="http://schemas.openxmlformats.org/officeDocument/2006/relationships/image" Target="../media/image25.png"/><Relationship Id="rId41" Type="http://schemas.openxmlformats.org/officeDocument/2006/relationships/image" Target="../media/image26.png"/><Relationship Id="rId42" Type="http://schemas.openxmlformats.org/officeDocument/2006/relationships/image" Target="../media/image25.png"/><Relationship Id="rId43" Type="http://schemas.openxmlformats.org/officeDocument/2006/relationships/image" Target="../media/image24.png"/><Relationship Id="rId44" Type="http://schemas.openxmlformats.org/officeDocument/2006/relationships/image" Target="../media/image27.png"/><Relationship Id="rId45" Type="http://schemas.openxmlformats.org/officeDocument/2006/relationships/image" Target="../media/image27.png"/><Relationship Id="rId46" Type="http://schemas.openxmlformats.org/officeDocument/2006/relationships/image" Target="../media/image28.png"/><Relationship Id="rId47" Type="http://schemas.openxmlformats.org/officeDocument/2006/relationships/image" Target="../media/image28.png"/><Relationship Id="rId48" Type="http://schemas.openxmlformats.org/officeDocument/2006/relationships/image" Target="../media/image29.png"/><Relationship Id="rId49" Type="http://schemas.openxmlformats.org/officeDocument/2006/relationships/image" Target="../media/image29.png"/><Relationship Id="rId50" Type="http://schemas.openxmlformats.org/officeDocument/2006/relationships/image" Target="../media/image30.png"/><Relationship Id="rId51" Type="http://schemas.openxmlformats.org/officeDocument/2006/relationships/image" Target="../media/image31.png"/><Relationship Id="rId52" Type="http://schemas.openxmlformats.org/officeDocument/2006/relationships/image" Target="../media/image32.png"/><Relationship Id="rId53" Type="http://schemas.openxmlformats.org/officeDocument/2006/relationships/image" Target="../media/image33.png"/><Relationship Id="rId54" Type="http://schemas.openxmlformats.org/officeDocument/2006/relationships/image" Target="../media/image34.png"/><Relationship Id="rId55" Type="http://schemas.openxmlformats.org/officeDocument/2006/relationships/image" Target="../media/image35.png"/><Relationship Id="rId56" Type="http://schemas.openxmlformats.org/officeDocument/2006/relationships/image" Target="../media/image36.png"/><Relationship Id="rId57" Type="http://schemas.openxmlformats.org/officeDocument/2006/relationships/image" Target="../media/image37.png"/><Relationship Id="rId58" Type="http://schemas.openxmlformats.org/officeDocument/2006/relationships/image" Target="../media/image30.png"/><Relationship Id="rId59" Type="http://schemas.openxmlformats.org/officeDocument/2006/relationships/image" Target="../media/image31.png"/><Relationship Id="rId60" Type="http://schemas.openxmlformats.org/officeDocument/2006/relationships/image" Target="../media/image32.png"/><Relationship Id="rId61" Type="http://schemas.openxmlformats.org/officeDocument/2006/relationships/image" Target="../media/image33.png"/><Relationship Id="rId62" Type="http://schemas.openxmlformats.org/officeDocument/2006/relationships/image" Target="../media/image34.png"/><Relationship Id="rId63" Type="http://schemas.openxmlformats.org/officeDocument/2006/relationships/image" Target="../media/image35.png"/><Relationship Id="rId64" Type="http://schemas.openxmlformats.org/officeDocument/2006/relationships/image" Target="../media/image36.png"/><Relationship Id="rId65" Type="http://schemas.openxmlformats.org/officeDocument/2006/relationships/image" Target="../media/image37.png"/><Relationship Id="rId66" Type="http://schemas.openxmlformats.org/officeDocument/2006/relationships/image" Target="../media/image38.png"/><Relationship Id="rId67" Type="http://schemas.openxmlformats.org/officeDocument/2006/relationships/image" Target="../media/image39.png"/><Relationship Id="rId68" Type="http://schemas.openxmlformats.org/officeDocument/2006/relationships/image" Target="../media/image40.png"/><Relationship Id="rId69" Type="http://schemas.openxmlformats.org/officeDocument/2006/relationships/image" Target="../media/image14.png"/><Relationship Id="rId70" Type="http://schemas.openxmlformats.org/officeDocument/2006/relationships/image" Target="../media/image41.png"/><Relationship Id="rId71" Type="http://schemas.openxmlformats.org/officeDocument/2006/relationships/image" Target="../media/image41.png"/><Relationship Id="rId72" Type="http://schemas.openxmlformats.org/officeDocument/2006/relationships/image" Target="../media/image42.png"/><Relationship Id="rId73" Type="http://schemas.openxmlformats.org/officeDocument/2006/relationships/image" Target="../media/image43.png"/><Relationship Id="rId74" Type="http://schemas.openxmlformats.org/officeDocument/2006/relationships/image" Target="../media/image44.png"/><Relationship Id="rId75" Type="http://schemas.openxmlformats.org/officeDocument/2006/relationships/image" Target="../media/image12.png"/><Relationship Id="rId76" Type="http://schemas.openxmlformats.org/officeDocument/2006/relationships/image" Target="../media/image12.png"/><Relationship Id="rId77" Type="http://schemas.openxmlformats.org/officeDocument/2006/relationships/image" Target="../media/image12.png"/><Relationship Id="rId78" Type="http://schemas.openxmlformats.org/officeDocument/2006/relationships/image" Target="../media/image12.png"/><Relationship Id="rId79" Type="http://schemas.openxmlformats.org/officeDocument/2006/relationships/image" Target="../media/image45.png"/><Relationship Id="rId80" Type="http://schemas.openxmlformats.org/officeDocument/2006/relationships/image" Target="../media/image46.png"/><Relationship Id="rId81" Type="http://schemas.openxmlformats.org/officeDocument/2006/relationships/image" Target="../media/image21.png"/><Relationship Id="rId82" Type="http://schemas.openxmlformats.org/officeDocument/2006/relationships/image" Target="../media/image21.png"/><Relationship Id="rId83" Type="http://schemas.openxmlformats.org/officeDocument/2006/relationships/image" Target="../media/image47.png"/><Relationship Id="rId84" Type="http://schemas.openxmlformats.org/officeDocument/2006/relationships/image" Target="../media/image21.png"/><Relationship Id="rId85" Type="http://schemas.openxmlformats.org/officeDocument/2006/relationships/image" Target="../media/image48.png"/><Relationship Id="rId86" Type="http://schemas.openxmlformats.org/officeDocument/2006/relationships/image" Target="../media/image49.png"/><Relationship Id="rId87" Type="http://schemas.openxmlformats.org/officeDocument/2006/relationships/image" Target="../media/image50.png"/><Relationship Id="rId88" Type="http://schemas.openxmlformats.org/officeDocument/2006/relationships/image" Target="../media/image51.png"/><Relationship Id="rId89" Type="http://schemas.openxmlformats.org/officeDocument/2006/relationships/image" Target="../media/image51.png"/><Relationship Id="rId90" Type="http://schemas.openxmlformats.org/officeDocument/2006/relationships/image" Target="../media/image49.png"/><Relationship Id="rId91" Type="http://schemas.openxmlformats.org/officeDocument/2006/relationships/image" Target="../media/image50.png"/><Relationship Id="rId92" Type="http://schemas.openxmlformats.org/officeDocument/2006/relationships/image" Target="../media/image5.png"/><Relationship Id="rId93" Type="http://schemas.openxmlformats.org/officeDocument/2006/relationships/image" Target="../media/image52.png"/><Relationship Id="rId94" Type="http://schemas.openxmlformats.org/officeDocument/2006/relationships/image" Target="../media/image53.png"/><Relationship Id="rId95" Type="http://schemas.openxmlformats.org/officeDocument/2006/relationships/image" Target="../media/image12.png"/><Relationship Id="rId96" Type="http://schemas.openxmlformats.org/officeDocument/2006/relationships/image" Target="../media/image54.png"/><Relationship Id="rId97" Type="http://schemas.openxmlformats.org/officeDocument/2006/relationships/image" Target="../media/image55.png"/><Relationship Id="rId98" Type="http://schemas.openxmlformats.org/officeDocument/2006/relationships/image" Target="../media/image56.png"/><Relationship Id="rId99" Type="http://schemas.openxmlformats.org/officeDocument/2006/relationships/image" Target="../media/image6.png"/><Relationship Id="rId100" Type="http://schemas.openxmlformats.org/officeDocument/2006/relationships/image" Target="../media/image57.png"/><Relationship Id="rId101" Type="http://schemas.openxmlformats.org/officeDocument/2006/relationships/image" Target="../media/image12.png"/><Relationship Id="rId102" Type="http://schemas.openxmlformats.org/officeDocument/2006/relationships/image" Target="../media/image58.png"/><Relationship Id="rId103" Type="http://schemas.openxmlformats.org/officeDocument/2006/relationships/image" Target="../media/image59.png"/><Relationship Id="rId104" Type="http://schemas.openxmlformats.org/officeDocument/2006/relationships/image" Target="../media/image5.png"/><Relationship Id="rId105" Type="http://schemas.openxmlformats.org/officeDocument/2006/relationships/image" Target="../media/image12.png"/><Relationship Id="rId106" Type="http://schemas.openxmlformats.org/officeDocument/2006/relationships/image" Target="../media/image12.png"/><Relationship Id="rId107" Type="http://schemas.openxmlformats.org/officeDocument/2006/relationships/image" Target="../media/image60.png"/><Relationship Id="rId108" Type="http://schemas.openxmlformats.org/officeDocument/2006/relationships/image" Target="../media/image61.png"/><Relationship Id="rId109" Type="http://schemas.openxmlformats.org/officeDocument/2006/relationships/image" Target="../media/image21.png"/><Relationship Id="rId110" Type="http://schemas.openxmlformats.org/officeDocument/2006/relationships/image" Target="../media/image62.png"/><Relationship Id="rId111" Type="http://schemas.openxmlformats.org/officeDocument/2006/relationships/image" Target="../media/image40.png"/><Relationship Id="rId112" Type="http://schemas.openxmlformats.org/officeDocument/2006/relationships/image" Target="../media/image19.png"/><Relationship Id="rId113" Type="http://schemas.openxmlformats.org/officeDocument/2006/relationships/image" Target="../media/image63.png"/><Relationship Id="rId114" Type="http://schemas.openxmlformats.org/officeDocument/2006/relationships/image" Target="../media/image64.png"/><Relationship Id="rId115" Type="http://schemas.openxmlformats.org/officeDocument/2006/relationships/image" Target="../media/image65.png"/><Relationship Id="rId116" Type="http://schemas.openxmlformats.org/officeDocument/2006/relationships/image" Target="../media/image65.png"/><Relationship Id="rId117" Type="http://schemas.openxmlformats.org/officeDocument/2006/relationships/image" Target="../media/image42.png"/><Relationship Id="rId118" Type="http://schemas.openxmlformats.org/officeDocument/2006/relationships/image" Target="../media/image66.png"/><Relationship Id="rId119" Type="http://schemas.openxmlformats.org/officeDocument/2006/relationships/image" Target="../media/image67.png"/><Relationship Id="rId120" Type="http://schemas.openxmlformats.org/officeDocument/2006/relationships/image" Target="../media/image68.png"/><Relationship Id="rId12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3.wmf"/><Relationship Id="rId3" Type="http://schemas.openxmlformats.org/officeDocument/2006/relationships/image" Target="../media/image94.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6.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8.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image" Target="../media/image11.png"/><Relationship Id="rId20" Type="http://schemas.openxmlformats.org/officeDocument/2006/relationships/image" Target="../media/image3.png"/><Relationship Id="rId21" Type="http://schemas.openxmlformats.org/officeDocument/2006/relationships/image" Target="../media/image5.png"/><Relationship Id="rId22" Type="http://schemas.openxmlformats.org/officeDocument/2006/relationships/image" Target="../media/image5.png"/><Relationship Id="rId23" Type="http://schemas.openxmlformats.org/officeDocument/2006/relationships/image" Target="../media/image12.png"/><Relationship Id="rId24" Type="http://schemas.openxmlformats.org/officeDocument/2006/relationships/image" Target="../media/image13.png"/><Relationship Id="rId25" Type="http://schemas.openxmlformats.org/officeDocument/2006/relationships/image" Target="../media/image14.png"/><Relationship Id="rId26" Type="http://schemas.openxmlformats.org/officeDocument/2006/relationships/image" Target="../media/image15.png"/><Relationship Id="rId27" Type="http://schemas.openxmlformats.org/officeDocument/2006/relationships/image" Target="../media/image16.png"/><Relationship Id="rId28" Type="http://schemas.openxmlformats.org/officeDocument/2006/relationships/image" Target="../media/image17.png"/><Relationship Id="rId29" Type="http://schemas.openxmlformats.org/officeDocument/2006/relationships/image" Target="../media/image14.png"/><Relationship Id="rId30" Type="http://schemas.openxmlformats.org/officeDocument/2006/relationships/image" Target="../media/image14.png"/><Relationship Id="rId31" Type="http://schemas.openxmlformats.org/officeDocument/2006/relationships/image" Target="../media/image18.png"/><Relationship Id="rId32" Type="http://schemas.openxmlformats.org/officeDocument/2006/relationships/image" Target="../media/image19.png"/><Relationship Id="rId33" Type="http://schemas.openxmlformats.org/officeDocument/2006/relationships/image" Target="../media/image16.png"/><Relationship Id="rId34" Type="http://schemas.openxmlformats.org/officeDocument/2006/relationships/image" Target="../media/image20.png"/><Relationship Id="rId35" Type="http://schemas.openxmlformats.org/officeDocument/2006/relationships/image" Target="../media/image20.png"/><Relationship Id="rId36" Type="http://schemas.openxmlformats.org/officeDocument/2006/relationships/image" Target="../media/image21.png"/><Relationship Id="rId37" Type="http://schemas.openxmlformats.org/officeDocument/2006/relationships/image" Target="../media/image22.png"/><Relationship Id="rId38" Type="http://schemas.openxmlformats.org/officeDocument/2006/relationships/image" Target="../media/image23.png"/><Relationship Id="rId39" Type="http://schemas.openxmlformats.org/officeDocument/2006/relationships/image" Target="../media/image24.png"/><Relationship Id="rId40" Type="http://schemas.openxmlformats.org/officeDocument/2006/relationships/image" Target="../media/image25.png"/><Relationship Id="rId41" Type="http://schemas.openxmlformats.org/officeDocument/2006/relationships/image" Target="../media/image26.png"/><Relationship Id="rId42" Type="http://schemas.openxmlformats.org/officeDocument/2006/relationships/image" Target="../media/image25.png"/><Relationship Id="rId43" Type="http://schemas.openxmlformats.org/officeDocument/2006/relationships/image" Target="../media/image24.png"/><Relationship Id="rId44" Type="http://schemas.openxmlformats.org/officeDocument/2006/relationships/image" Target="../media/image27.png"/><Relationship Id="rId45" Type="http://schemas.openxmlformats.org/officeDocument/2006/relationships/image" Target="../media/image27.png"/><Relationship Id="rId46" Type="http://schemas.openxmlformats.org/officeDocument/2006/relationships/image" Target="../media/image28.png"/><Relationship Id="rId47" Type="http://schemas.openxmlformats.org/officeDocument/2006/relationships/image" Target="../media/image28.png"/><Relationship Id="rId48" Type="http://schemas.openxmlformats.org/officeDocument/2006/relationships/image" Target="../media/image29.png"/><Relationship Id="rId49" Type="http://schemas.openxmlformats.org/officeDocument/2006/relationships/image" Target="../media/image29.png"/><Relationship Id="rId50" Type="http://schemas.openxmlformats.org/officeDocument/2006/relationships/image" Target="../media/image30.png"/><Relationship Id="rId51" Type="http://schemas.openxmlformats.org/officeDocument/2006/relationships/image" Target="../media/image31.png"/><Relationship Id="rId52" Type="http://schemas.openxmlformats.org/officeDocument/2006/relationships/image" Target="../media/image32.png"/><Relationship Id="rId53" Type="http://schemas.openxmlformats.org/officeDocument/2006/relationships/image" Target="../media/image33.png"/><Relationship Id="rId54" Type="http://schemas.openxmlformats.org/officeDocument/2006/relationships/image" Target="../media/image34.png"/><Relationship Id="rId55" Type="http://schemas.openxmlformats.org/officeDocument/2006/relationships/image" Target="../media/image35.png"/><Relationship Id="rId56" Type="http://schemas.openxmlformats.org/officeDocument/2006/relationships/image" Target="../media/image36.png"/><Relationship Id="rId57" Type="http://schemas.openxmlformats.org/officeDocument/2006/relationships/image" Target="../media/image37.png"/><Relationship Id="rId58" Type="http://schemas.openxmlformats.org/officeDocument/2006/relationships/image" Target="../media/image30.png"/><Relationship Id="rId59" Type="http://schemas.openxmlformats.org/officeDocument/2006/relationships/image" Target="../media/image31.png"/><Relationship Id="rId60" Type="http://schemas.openxmlformats.org/officeDocument/2006/relationships/image" Target="../media/image32.png"/><Relationship Id="rId61" Type="http://schemas.openxmlformats.org/officeDocument/2006/relationships/image" Target="../media/image33.png"/><Relationship Id="rId62" Type="http://schemas.openxmlformats.org/officeDocument/2006/relationships/image" Target="../media/image34.png"/><Relationship Id="rId63" Type="http://schemas.openxmlformats.org/officeDocument/2006/relationships/image" Target="../media/image35.png"/><Relationship Id="rId64" Type="http://schemas.openxmlformats.org/officeDocument/2006/relationships/image" Target="../media/image36.png"/><Relationship Id="rId65" Type="http://schemas.openxmlformats.org/officeDocument/2006/relationships/image" Target="../media/image37.png"/><Relationship Id="rId66" Type="http://schemas.openxmlformats.org/officeDocument/2006/relationships/image" Target="../media/image38.png"/><Relationship Id="rId67" Type="http://schemas.openxmlformats.org/officeDocument/2006/relationships/image" Target="../media/image39.png"/><Relationship Id="rId68" Type="http://schemas.openxmlformats.org/officeDocument/2006/relationships/image" Target="../media/image40.png"/><Relationship Id="rId69" Type="http://schemas.openxmlformats.org/officeDocument/2006/relationships/image" Target="../media/image14.png"/><Relationship Id="rId70" Type="http://schemas.openxmlformats.org/officeDocument/2006/relationships/image" Target="../media/image41.png"/><Relationship Id="rId71" Type="http://schemas.openxmlformats.org/officeDocument/2006/relationships/image" Target="../media/image41.png"/><Relationship Id="rId72" Type="http://schemas.openxmlformats.org/officeDocument/2006/relationships/image" Target="../media/image42.png"/><Relationship Id="rId73" Type="http://schemas.openxmlformats.org/officeDocument/2006/relationships/image" Target="../media/image43.png"/><Relationship Id="rId74" Type="http://schemas.openxmlformats.org/officeDocument/2006/relationships/image" Target="../media/image44.png"/><Relationship Id="rId75" Type="http://schemas.openxmlformats.org/officeDocument/2006/relationships/image" Target="../media/image12.png"/><Relationship Id="rId76" Type="http://schemas.openxmlformats.org/officeDocument/2006/relationships/image" Target="../media/image12.png"/><Relationship Id="rId77" Type="http://schemas.openxmlformats.org/officeDocument/2006/relationships/image" Target="../media/image12.png"/><Relationship Id="rId78" Type="http://schemas.openxmlformats.org/officeDocument/2006/relationships/image" Target="../media/image12.png"/><Relationship Id="rId79" Type="http://schemas.openxmlformats.org/officeDocument/2006/relationships/image" Target="../media/image45.png"/><Relationship Id="rId80" Type="http://schemas.openxmlformats.org/officeDocument/2006/relationships/image" Target="../media/image46.png"/><Relationship Id="rId81" Type="http://schemas.openxmlformats.org/officeDocument/2006/relationships/image" Target="../media/image21.png"/><Relationship Id="rId82" Type="http://schemas.openxmlformats.org/officeDocument/2006/relationships/image" Target="../media/image21.png"/><Relationship Id="rId83" Type="http://schemas.openxmlformats.org/officeDocument/2006/relationships/image" Target="../media/image47.png"/><Relationship Id="rId84" Type="http://schemas.openxmlformats.org/officeDocument/2006/relationships/image" Target="../media/image21.png"/><Relationship Id="rId85" Type="http://schemas.openxmlformats.org/officeDocument/2006/relationships/image" Target="../media/image48.png"/><Relationship Id="rId86" Type="http://schemas.openxmlformats.org/officeDocument/2006/relationships/image" Target="../media/image49.png"/><Relationship Id="rId87" Type="http://schemas.openxmlformats.org/officeDocument/2006/relationships/image" Target="../media/image50.png"/><Relationship Id="rId88" Type="http://schemas.openxmlformats.org/officeDocument/2006/relationships/image" Target="../media/image51.png"/><Relationship Id="rId89" Type="http://schemas.openxmlformats.org/officeDocument/2006/relationships/image" Target="../media/image51.png"/><Relationship Id="rId90" Type="http://schemas.openxmlformats.org/officeDocument/2006/relationships/image" Target="../media/image49.png"/><Relationship Id="rId91" Type="http://schemas.openxmlformats.org/officeDocument/2006/relationships/image" Target="../media/image50.png"/><Relationship Id="rId92" Type="http://schemas.openxmlformats.org/officeDocument/2006/relationships/image" Target="../media/image5.png"/><Relationship Id="rId93" Type="http://schemas.openxmlformats.org/officeDocument/2006/relationships/image" Target="../media/image52.png"/><Relationship Id="rId94" Type="http://schemas.openxmlformats.org/officeDocument/2006/relationships/image" Target="../media/image53.png"/><Relationship Id="rId95" Type="http://schemas.openxmlformats.org/officeDocument/2006/relationships/image" Target="../media/image12.png"/><Relationship Id="rId96" Type="http://schemas.openxmlformats.org/officeDocument/2006/relationships/image" Target="../media/image54.png"/><Relationship Id="rId97" Type="http://schemas.openxmlformats.org/officeDocument/2006/relationships/image" Target="../media/image55.png"/><Relationship Id="rId98" Type="http://schemas.openxmlformats.org/officeDocument/2006/relationships/image" Target="../media/image56.png"/><Relationship Id="rId99" Type="http://schemas.openxmlformats.org/officeDocument/2006/relationships/image" Target="../media/image6.png"/><Relationship Id="rId100" Type="http://schemas.openxmlformats.org/officeDocument/2006/relationships/image" Target="../media/image57.png"/><Relationship Id="rId101" Type="http://schemas.openxmlformats.org/officeDocument/2006/relationships/image" Target="../media/image12.png"/><Relationship Id="rId102" Type="http://schemas.openxmlformats.org/officeDocument/2006/relationships/image" Target="../media/image58.png"/><Relationship Id="rId103" Type="http://schemas.openxmlformats.org/officeDocument/2006/relationships/image" Target="../media/image59.png"/><Relationship Id="rId104" Type="http://schemas.openxmlformats.org/officeDocument/2006/relationships/image" Target="../media/image5.png"/><Relationship Id="rId105" Type="http://schemas.openxmlformats.org/officeDocument/2006/relationships/image" Target="../media/image12.png"/><Relationship Id="rId106" Type="http://schemas.openxmlformats.org/officeDocument/2006/relationships/image" Target="../media/image12.png"/><Relationship Id="rId107" Type="http://schemas.openxmlformats.org/officeDocument/2006/relationships/image" Target="../media/image60.png"/><Relationship Id="rId108" Type="http://schemas.openxmlformats.org/officeDocument/2006/relationships/image" Target="../media/image61.png"/><Relationship Id="rId109" Type="http://schemas.openxmlformats.org/officeDocument/2006/relationships/image" Target="../media/image21.png"/><Relationship Id="rId110" Type="http://schemas.openxmlformats.org/officeDocument/2006/relationships/image" Target="../media/image62.png"/><Relationship Id="rId111" Type="http://schemas.openxmlformats.org/officeDocument/2006/relationships/image" Target="../media/image40.png"/><Relationship Id="rId112" Type="http://schemas.openxmlformats.org/officeDocument/2006/relationships/image" Target="../media/image19.png"/><Relationship Id="rId113" Type="http://schemas.openxmlformats.org/officeDocument/2006/relationships/image" Target="../media/image63.png"/><Relationship Id="rId114" Type="http://schemas.openxmlformats.org/officeDocument/2006/relationships/image" Target="../media/image64.png"/><Relationship Id="rId115" Type="http://schemas.openxmlformats.org/officeDocument/2006/relationships/image" Target="../media/image65.png"/><Relationship Id="rId116" Type="http://schemas.openxmlformats.org/officeDocument/2006/relationships/image" Target="../media/image65.png"/><Relationship Id="rId117" Type="http://schemas.openxmlformats.org/officeDocument/2006/relationships/image" Target="../media/image42.png"/><Relationship Id="rId118" Type="http://schemas.openxmlformats.org/officeDocument/2006/relationships/image" Target="../media/image66.png"/><Relationship Id="rId119" Type="http://schemas.openxmlformats.org/officeDocument/2006/relationships/image" Target="../media/image67.png"/><Relationship Id="rId120"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97.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02.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4.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05.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06.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0.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07.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08.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09.wmf"/><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10.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1.png"/><Relationship Id="rId3" Type="http://schemas.openxmlformats.org/officeDocument/2006/relationships/image" Target="../media/image7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1752480" y="4038120"/>
            <a:ext cx="6553440" cy="20574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CAO Environmental Colloquium</a:t>
            </a:r>
            <a:endParaRPr b="0" lang="en-US" sz="2800" spc="-1" strike="noStrike">
              <a:solidFill>
                <a:srgbClr val="ffffff"/>
              </a:solidFill>
              <a:latin typeface="Times New Roman"/>
            </a:endParaRPr>
          </a:p>
          <a:p>
            <a:pPr algn="ctr">
              <a:spcBef>
                <a:spcPts val="700"/>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pril 2001</a:t>
            </a:r>
            <a:endParaRPr b="0" lang="en-US" sz="2800" spc="-1" strike="noStrike">
              <a:solidFill>
                <a:srgbClr val="ffffff"/>
              </a:solidFill>
              <a:latin typeface="Times New Roman"/>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esented by Mr. T. Connor</a:t>
            </a:r>
            <a:endParaRPr b="0" lang="en-US" sz="1800" spc="-1" strike="noStrike">
              <a:solidFill>
                <a:srgbClr val="ffffff"/>
              </a:solidFill>
              <a:latin typeface="Times New Roman"/>
            </a:endParaRPr>
          </a:p>
        </p:txBody>
      </p:sp>
      <p:grpSp>
        <p:nvGrpSpPr>
          <p:cNvPr id="49" name=""/>
          <p:cNvGrpSpPr/>
          <p:nvPr/>
        </p:nvGrpSpPr>
        <p:grpSpPr>
          <a:xfrm>
            <a:off x="380880" y="380880"/>
            <a:ext cx="2362320" cy="1752840"/>
            <a:chOff x="380880" y="380880"/>
            <a:chExt cx="2362320" cy="1752840"/>
          </a:xfrm>
        </p:grpSpPr>
        <p:sp>
          <p:nvSpPr>
            <p:cNvPr id="50" name=""/>
            <p:cNvSpPr/>
            <p:nvPr/>
          </p:nvSpPr>
          <p:spPr>
            <a:xfrm>
              <a:off x="708840" y="844200"/>
              <a:ext cx="134280" cy="70200"/>
            </a:xfrm>
            <a:custGeom>
              <a:avLst/>
              <a:gdLst/>
              <a:ahLst/>
              <a:rect l="l" t="t" r="r" b="b"/>
              <a:pathLst>
                <a:path w="1051" h="604">
                  <a:moveTo>
                    <a:pt x="1051" y="460"/>
                  </a:moveTo>
                  <a:lnTo>
                    <a:pt x="67" y="0"/>
                  </a:lnTo>
                  <a:lnTo>
                    <a:pt x="0" y="144"/>
                  </a:lnTo>
                  <a:lnTo>
                    <a:pt x="985" y="604"/>
                  </a:lnTo>
                  <a:lnTo>
                    <a:pt x="1051" y="460"/>
                  </a:lnTo>
                  <a:close/>
                </a:path>
              </a:pathLst>
            </a:custGeom>
            <a:blipFill rotWithShape="0">
              <a:blip r:embed="rId1"/>
              <a:srcRect/>
              <a:stretch/>
            </a:blip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51" name=""/>
            <p:cNvSpPr/>
            <p:nvPr/>
          </p:nvSpPr>
          <p:spPr>
            <a:xfrm>
              <a:off x="764280" y="720360"/>
              <a:ext cx="143640" cy="130680"/>
            </a:xfrm>
            <a:custGeom>
              <a:avLst/>
              <a:gdLst/>
              <a:ahLst/>
              <a:rect l="l" t="t" r="r" b="b"/>
              <a:pathLst>
                <a:path w="1128" h="1123">
                  <a:moveTo>
                    <a:pt x="622" y="3"/>
                  </a:moveTo>
                  <a:lnTo>
                    <a:pt x="574" y="0"/>
                  </a:lnTo>
                  <a:lnTo>
                    <a:pt x="518" y="0"/>
                  </a:lnTo>
                  <a:lnTo>
                    <a:pt x="448" y="10"/>
                  </a:lnTo>
                  <a:lnTo>
                    <a:pt x="411" y="21"/>
                  </a:lnTo>
                  <a:lnTo>
                    <a:pt x="369" y="34"/>
                  </a:lnTo>
                  <a:lnTo>
                    <a:pt x="320" y="53"/>
                  </a:lnTo>
                  <a:lnTo>
                    <a:pt x="275" y="79"/>
                  </a:lnTo>
                  <a:lnTo>
                    <a:pt x="235" y="105"/>
                  </a:lnTo>
                  <a:lnTo>
                    <a:pt x="199" y="134"/>
                  </a:lnTo>
                  <a:lnTo>
                    <a:pt x="166" y="164"/>
                  </a:lnTo>
                  <a:lnTo>
                    <a:pt x="139" y="194"/>
                  </a:lnTo>
                  <a:lnTo>
                    <a:pt x="115" y="223"/>
                  </a:lnTo>
                  <a:lnTo>
                    <a:pt x="95" y="249"/>
                  </a:lnTo>
                  <a:lnTo>
                    <a:pt x="68" y="298"/>
                  </a:lnTo>
                  <a:lnTo>
                    <a:pt x="44" y="348"/>
                  </a:lnTo>
                  <a:lnTo>
                    <a:pt x="24" y="398"/>
                  </a:lnTo>
                  <a:lnTo>
                    <a:pt x="10" y="452"/>
                  </a:lnTo>
                  <a:lnTo>
                    <a:pt x="2" y="505"/>
                  </a:lnTo>
                  <a:lnTo>
                    <a:pt x="0" y="558"/>
                  </a:lnTo>
                  <a:lnTo>
                    <a:pt x="2" y="612"/>
                  </a:lnTo>
                  <a:lnTo>
                    <a:pt x="8" y="665"/>
                  </a:lnTo>
                  <a:lnTo>
                    <a:pt x="22" y="719"/>
                  </a:lnTo>
                  <a:lnTo>
                    <a:pt x="40" y="767"/>
                  </a:lnTo>
                  <a:lnTo>
                    <a:pt x="61" y="817"/>
                  </a:lnTo>
                  <a:lnTo>
                    <a:pt x="89" y="864"/>
                  </a:lnTo>
                  <a:lnTo>
                    <a:pt x="121" y="910"/>
                  </a:lnTo>
                  <a:lnTo>
                    <a:pt x="158" y="952"/>
                  </a:lnTo>
                  <a:lnTo>
                    <a:pt x="199" y="991"/>
                  </a:lnTo>
                  <a:lnTo>
                    <a:pt x="247" y="1026"/>
                  </a:lnTo>
                  <a:lnTo>
                    <a:pt x="296" y="1056"/>
                  </a:lnTo>
                  <a:lnTo>
                    <a:pt x="348" y="1080"/>
                  </a:lnTo>
                  <a:lnTo>
                    <a:pt x="398" y="1097"/>
                  </a:lnTo>
                  <a:lnTo>
                    <a:pt x="452" y="1112"/>
                  </a:lnTo>
                  <a:lnTo>
                    <a:pt x="508" y="1119"/>
                  </a:lnTo>
                  <a:lnTo>
                    <a:pt x="560" y="1123"/>
                  </a:lnTo>
                  <a:lnTo>
                    <a:pt x="616" y="1121"/>
                  </a:lnTo>
                  <a:lnTo>
                    <a:pt x="670" y="1113"/>
                  </a:lnTo>
                  <a:lnTo>
                    <a:pt x="722" y="1101"/>
                  </a:lnTo>
                  <a:lnTo>
                    <a:pt x="774" y="1083"/>
                  </a:lnTo>
                  <a:lnTo>
                    <a:pt x="823" y="1062"/>
                  </a:lnTo>
                  <a:lnTo>
                    <a:pt x="871" y="1036"/>
                  </a:lnTo>
                  <a:lnTo>
                    <a:pt x="916" y="1005"/>
                  </a:lnTo>
                  <a:lnTo>
                    <a:pt x="958" y="968"/>
                  </a:lnTo>
                  <a:lnTo>
                    <a:pt x="995" y="926"/>
                  </a:lnTo>
                  <a:lnTo>
                    <a:pt x="1031" y="880"/>
                  </a:lnTo>
                  <a:lnTo>
                    <a:pt x="1062" y="825"/>
                  </a:lnTo>
                  <a:lnTo>
                    <a:pt x="1091" y="764"/>
                  </a:lnTo>
                  <a:lnTo>
                    <a:pt x="1112" y="697"/>
                  </a:lnTo>
                  <a:lnTo>
                    <a:pt x="1120" y="662"/>
                  </a:lnTo>
                  <a:lnTo>
                    <a:pt x="1125" y="626"/>
                  </a:lnTo>
                  <a:lnTo>
                    <a:pt x="1128" y="589"/>
                  </a:lnTo>
                  <a:lnTo>
                    <a:pt x="1128" y="550"/>
                  </a:lnTo>
                  <a:lnTo>
                    <a:pt x="1125" y="511"/>
                  </a:lnTo>
                  <a:lnTo>
                    <a:pt x="1120" y="472"/>
                  </a:lnTo>
                  <a:lnTo>
                    <a:pt x="1112" y="432"/>
                  </a:lnTo>
                  <a:lnTo>
                    <a:pt x="1099" y="391"/>
                  </a:lnTo>
                  <a:lnTo>
                    <a:pt x="1084" y="351"/>
                  </a:lnTo>
                  <a:lnTo>
                    <a:pt x="1066" y="310"/>
                  </a:lnTo>
                  <a:lnTo>
                    <a:pt x="958" y="472"/>
                  </a:lnTo>
                  <a:lnTo>
                    <a:pt x="965" y="513"/>
                  </a:lnTo>
                  <a:lnTo>
                    <a:pt x="971" y="557"/>
                  </a:lnTo>
                  <a:lnTo>
                    <a:pt x="973" y="600"/>
                  </a:lnTo>
                  <a:lnTo>
                    <a:pt x="969" y="641"/>
                  </a:lnTo>
                  <a:lnTo>
                    <a:pt x="961" y="683"/>
                  </a:lnTo>
                  <a:lnTo>
                    <a:pt x="950" y="722"/>
                  </a:lnTo>
                  <a:lnTo>
                    <a:pt x="932" y="762"/>
                  </a:lnTo>
                  <a:lnTo>
                    <a:pt x="910" y="798"/>
                  </a:lnTo>
                  <a:lnTo>
                    <a:pt x="887" y="829"/>
                  </a:lnTo>
                  <a:lnTo>
                    <a:pt x="859" y="858"/>
                  </a:lnTo>
                  <a:lnTo>
                    <a:pt x="829" y="884"/>
                  </a:lnTo>
                  <a:lnTo>
                    <a:pt x="798" y="906"/>
                  </a:lnTo>
                  <a:lnTo>
                    <a:pt x="764" y="926"/>
                  </a:lnTo>
                  <a:lnTo>
                    <a:pt x="727" y="942"/>
                  </a:lnTo>
                  <a:lnTo>
                    <a:pt x="689" y="953"/>
                  </a:lnTo>
                  <a:lnTo>
                    <a:pt x="652" y="961"/>
                  </a:lnTo>
                  <a:lnTo>
                    <a:pt x="612" y="968"/>
                  </a:lnTo>
                  <a:lnTo>
                    <a:pt x="573" y="969"/>
                  </a:lnTo>
                  <a:lnTo>
                    <a:pt x="531" y="965"/>
                  </a:lnTo>
                  <a:lnTo>
                    <a:pt x="492" y="960"/>
                  </a:lnTo>
                  <a:lnTo>
                    <a:pt x="452" y="950"/>
                  </a:lnTo>
                  <a:lnTo>
                    <a:pt x="413" y="936"/>
                  </a:lnTo>
                  <a:lnTo>
                    <a:pt x="373" y="918"/>
                  </a:lnTo>
                  <a:lnTo>
                    <a:pt x="338" y="894"/>
                  </a:lnTo>
                  <a:lnTo>
                    <a:pt x="302" y="871"/>
                  </a:lnTo>
                  <a:lnTo>
                    <a:pt x="272" y="841"/>
                  </a:lnTo>
                  <a:lnTo>
                    <a:pt x="244" y="811"/>
                  </a:lnTo>
                  <a:lnTo>
                    <a:pt x="221" y="780"/>
                  </a:lnTo>
                  <a:lnTo>
                    <a:pt x="199" y="744"/>
                  </a:lnTo>
                  <a:lnTo>
                    <a:pt x="181" y="709"/>
                  </a:lnTo>
                  <a:lnTo>
                    <a:pt x="168" y="671"/>
                  </a:lnTo>
                  <a:lnTo>
                    <a:pt x="158" y="634"/>
                  </a:lnTo>
                  <a:lnTo>
                    <a:pt x="152" y="594"/>
                  </a:lnTo>
                  <a:lnTo>
                    <a:pt x="150" y="557"/>
                  </a:lnTo>
                  <a:lnTo>
                    <a:pt x="152" y="518"/>
                  </a:lnTo>
                  <a:lnTo>
                    <a:pt x="157" y="478"/>
                  </a:lnTo>
                  <a:lnTo>
                    <a:pt x="166" y="438"/>
                  </a:lnTo>
                  <a:lnTo>
                    <a:pt x="180" y="401"/>
                  </a:lnTo>
                  <a:lnTo>
                    <a:pt x="196" y="364"/>
                  </a:lnTo>
                  <a:lnTo>
                    <a:pt x="217" y="328"/>
                  </a:lnTo>
                  <a:lnTo>
                    <a:pt x="236" y="302"/>
                  </a:lnTo>
                  <a:lnTo>
                    <a:pt x="257" y="278"/>
                  </a:lnTo>
                  <a:lnTo>
                    <a:pt x="301" y="241"/>
                  </a:lnTo>
                  <a:lnTo>
                    <a:pt x="341" y="213"/>
                  </a:lnTo>
                  <a:lnTo>
                    <a:pt x="385" y="191"/>
                  </a:lnTo>
                  <a:lnTo>
                    <a:pt x="427" y="178"/>
                  </a:lnTo>
                  <a:lnTo>
                    <a:pt x="461" y="168"/>
                  </a:lnTo>
                  <a:lnTo>
                    <a:pt x="515" y="160"/>
                  </a:lnTo>
                  <a:lnTo>
                    <a:pt x="622" y="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
            <p:cNvSpPr/>
            <p:nvPr/>
          </p:nvSpPr>
          <p:spPr>
            <a:xfrm>
              <a:off x="921240" y="650160"/>
              <a:ext cx="98280" cy="119520"/>
            </a:xfrm>
            <a:custGeom>
              <a:avLst/>
              <a:gdLst/>
              <a:ahLst/>
              <a:rect l="l" t="t" r="r" b="b"/>
              <a:pathLst>
                <a:path w="769" h="1028">
                  <a:moveTo>
                    <a:pt x="0" y="453"/>
                  </a:moveTo>
                  <a:lnTo>
                    <a:pt x="0" y="844"/>
                  </a:lnTo>
                  <a:lnTo>
                    <a:pt x="86" y="1028"/>
                  </a:lnTo>
                  <a:lnTo>
                    <a:pt x="204" y="910"/>
                  </a:lnTo>
                  <a:lnTo>
                    <a:pt x="62" y="597"/>
                  </a:lnTo>
                  <a:lnTo>
                    <a:pt x="338" y="321"/>
                  </a:lnTo>
                  <a:lnTo>
                    <a:pt x="650" y="463"/>
                  </a:lnTo>
                  <a:lnTo>
                    <a:pt x="769" y="343"/>
                  </a:lnTo>
                  <a:lnTo>
                    <a:pt x="0" y="0"/>
                  </a:lnTo>
                  <a:lnTo>
                    <a:pt x="0" y="162"/>
                  </a:lnTo>
                  <a:lnTo>
                    <a:pt x="196" y="258"/>
                  </a:lnTo>
                  <a:lnTo>
                    <a:pt x="0" y="453"/>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870840" y="635040"/>
              <a:ext cx="50040" cy="113040"/>
            </a:xfrm>
            <a:custGeom>
              <a:avLst/>
              <a:gdLst/>
              <a:ahLst/>
              <a:rect l="l" t="t" r="r" b="b"/>
              <a:pathLst>
                <a:path w="392" h="977">
                  <a:moveTo>
                    <a:pt x="392" y="295"/>
                  </a:moveTo>
                  <a:lnTo>
                    <a:pt x="392" y="133"/>
                  </a:lnTo>
                  <a:lnTo>
                    <a:pt x="101" y="0"/>
                  </a:lnTo>
                  <a:lnTo>
                    <a:pt x="0" y="101"/>
                  </a:lnTo>
                  <a:lnTo>
                    <a:pt x="392" y="977"/>
                  </a:lnTo>
                  <a:lnTo>
                    <a:pt x="392" y="586"/>
                  </a:lnTo>
                  <a:lnTo>
                    <a:pt x="391" y="588"/>
                  </a:lnTo>
                  <a:lnTo>
                    <a:pt x="195" y="196"/>
                  </a:lnTo>
                  <a:lnTo>
                    <a:pt x="198" y="193"/>
                  </a:lnTo>
                  <a:lnTo>
                    <a:pt x="392" y="295"/>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1041120" y="529200"/>
              <a:ext cx="71640" cy="130680"/>
            </a:xfrm>
            <a:custGeom>
              <a:avLst/>
              <a:gdLst/>
              <a:ahLst/>
              <a:rect l="l" t="t" r="r" b="b"/>
              <a:pathLst>
                <a:path w="561" h="1129">
                  <a:moveTo>
                    <a:pt x="0" y="983"/>
                  </a:moveTo>
                  <a:lnTo>
                    <a:pt x="0" y="1129"/>
                  </a:lnTo>
                  <a:lnTo>
                    <a:pt x="20" y="1129"/>
                  </a:lnTo>
                  <a:lnTo>
                    <a:pt x="74" y="1125"/>
                  </a:lnTo>
                  <a:lnTo>
                    <a:pt x="129" y="1114"/>
                  </a:lnTo>
                  <a:lnTo>
                    <a:pt x="182" y="1098"/>
                  </a:lnTo>
                  <a:lnTo>
                    <a:pt x="236" y="1077"/>
                  </a:lnTo>
                  <a:lnTo>
                    <a:pt x="286" y="1048"/>
                  </a:lnTo>
                  <a:lnTo>
                    <a:pt x="336" y="1015"/>
                  </a:lnTo>
                  <a:lnTo>
                    <a:pt x="381" y="978"/>
                  </a:lnTo>
                  <a:lnTo>
                    <a:pt x="422" y="936"/>
                  </a:lnTo>
                  <a:lnTo>
                    <a:pt x="458" y="891"/>
                  </a:lnTo>
                  <a:lnTo>
                    <a:pt x="488" y="844"/>
                  </a:lnTo>
                  <a:lnTo>
                    <a:pt x="513" y="794"/>
                  </a:lnTo>
                  <a:lnTo>
                    <a:pt x="534" y="743"/>
                  </a:lnTo>
                  <a:lnTo>
                    <a:pt x="547" y="691"/>
                  </a:lnTo>
                  <a:lnTo>
                    <a:pt x="557" y="638"/>
                  </a:lnTo>
                  <a:lnTo>
                    <a:pt x="561" y="583"/>
                  </a:lnTo>
                  <a:lnTo>
                    <a:pt x="561" y="530"/>
                  </a:lnTo>
                  <a:lnTo>
                    <a:pt x="555" y="476"/>
                  </a:lnTo>
                  <a:lnTo>
                    <a:pt x="543" y="423"/>
                  </a:lnTo>
                  <a:lnTo>
                    <a:pt x="527" y="371"/>
                  </a:lnTo>
                  <a:lnTo>
                    <a:pt x="508" y="322"/>
                  </a:lnTo>
                  <a:lnTo>
                    <a:pt x="480" y="273"/>
                  </a:lnTo>
                  <a:lnTo>
                    <a:pt x="450" y="227"/>
                  </a:lnTo>
                  <a:lnTo>
                    <a:pt x="412" y="185"/>
                  </a:lnTo>
                  <a:lnTo>
                    <a:pt x="373" y="144"/>
                  </a:lnTo>
                  <a:lnTo>
                    <a:pt x="330" y="109"/>
                  </a:lnTo>
                  <a:lnTo>
                    <a:pt x="284" y="78"/>
                  </a:lnTo>
                  <a:lnTo>
                    <a:pt x="236" y="52"/>
                  </a:lnTo>
                  <a:lnTo>
                    <a:pt x="186" y="33"/>
                  </a:lnTo>
                  <a:lnTo>
                    <a:pt x="132" y="16"/>
                  </a:lnTo>
                  <a:lnTo>
                    <a:pt x="81" y="7"/>
                  </a:lnTo>
                  <a:lnTo>
                    <a:pt x="26" y="0"/>
                  </a:lnTo>
                  <a:lnTo>
                    <a:pt x="0" y="0"/>
                  </a:lnTo>
                  <a:lnTo>
                    <a:pt x="0" y="151"/>
                  </a:lnTo>
                  <a:lnTo>
                    <a:pt x="32" y="153"/>
                  </a:lnTo>
                  <a:lnTo>
                    <a:pt x="71" y="159"/>
                  </a:lnTo>
                  <a:lnTo>
                    <a:pt x="111" y="170"/>
                  </a:lnTo>
                  <a:lnTo>
                    <a:pt x="147" y="185"/>
                  </a:lnTo>
                  <a:lnTo>
                    <a:pt x="182" y="202"/>
                  </a:lnTo>
                  <a:lnTo>
                    <a:pt x="215" y="222"/>
                  </a:lnTo>
                  <a:lnTo>
                    <a:pt x="247" y="245"/>
                  </a:lnTo>
                  <a:lnTo>
                    <a:pt x="275" y="269"/>
                  </a:lnTo>
                  <a:lnTo>
                    <a:pt x="301" y="297"/>
                  </a:lnTo>
                  <a:lnTo>
                    <a:pt x="324" y="324"/>
                  </a:lnTo>
                  <a:lnTo>
                    <a:pt x="341" y="352"/>
                  </a:lnTo>
                  <a:lnTo>
                    <a:pt x="359" y="381"/>
                  </a:lnTo>
                  <a:lnTo>
                    <a:pt x="373" y="413"/>
                  </a:lnTo>
                  <a:lnTo>
                    <a:pt x="387" y="449"/>
                  </a:lnTo>
                  <a:lnTo>
                    <a:pt x="396" y="484"/>
                  </a:lnTo>
                  <a:lnTo>
                    <a:pt x="404" y="522"/>
                  </a:lnTo>
                  <a:lnTo>
                    <a:pt x="409" y="561"/>
                  </a:lnTo>
                  <a:lnTo>
                    <a:pt x="409" y="601"/>
                  </a:lnTo>
                  <a:lnTo>
                    <a:pt x="404" y="640"/>
                  </a:lnTo>
                  <a:lnTo>
                    <a:pt x="396" y="680"/>
                  </a:lnTo>
                  <a:lnTo>
                    <a:pt x="385" y="719"/>
                  </a:lnTo>
                  <a:lnTo>
                    <a:pt x="369" y="758"/>
                  </a:lnTo>
                  <a:lnTo>
                    <a:pt x="348" y="795"/>
                  </a:lnTo>
                  <a:lnTo>
                    <a:pt x="320" y="831"/>
                  </a:lnTo>
                  <a:lnTo>
                    <a:pt x="286" y="867"/>
                  </a:lnTo>
                  <a:lnTo>
                    <a:pt x="249" y="900"/>
                  </a:lnTo>
                  <a:lnTo>
                    <a:pt x="205" y="928"/>
                  </a:lnTo>
                  <a:lnTo>
                    <a:pt x="164" y="950"/>
                  </a:lnTo>
                  <a:lnTo>
                    <a:pt x="121" y="965"/>
                  </a:lnTo>
                  <a:lnTo>
                    <a:pt x="79" y="975"/>
                  </a:lnTo>
                  <a:lnTo>
                    <a:pt x="38" y="981"/>
                  </a:lnTo>
                  <a:lnTo>
                    <a:pt x="0" y="983"/>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968400" y="529200"/>
              <a:ext cx="72720" cy="130680"/>
            </a:xfrm>
            <a:custGeom>
              <a:avLst/>
              <a:gdLst/>
              <a:ahLst/>
              <a:rect l="l" t="t" r="r" b="b"/>
              <a:pathLst>
                <a:path w="568" h="1129">
                  <a:moveTo>
                    <a:pt x="568" y="151"/>
                  </a:moveTo>
                  <a:lnTo>
                    <a:pt x="568" y="0"/>
                  </a:lnTo>
                  <a:lnTo>
                    <a:pt x="540" y="0"/>
                  </a:lnTo>
                  <a:lnTo>
                    <a:pt x="485" y="5"/>
                  </a:lnTo>
                  <a:lnTo>
                    <a:pt x="432" y="16"/>
                  </a:lnTo>
                  <a:lnTo>
                    <a:pt x="378" y="33"/>
                  </a:lnTo>
                  <a:lnTo>
                    <a:pt x="325" y="54"/>
                  </a:lnTo>
                  <a:lnTo>
                    <a:pt x="274" y="81"/>
                  </a:lnTo>
                  <a:lnTo>
                    <a:pt x="225" y="115"/>
                  </a:lnTo>
                  <a:lnTo>
                    <a:pt x="178" y="154"/>
                  </a:lnTo>
                  <a:lnTo>
                    <a:pt x="138" y="196"/>
                  </a:lnTo>
                  <a:lnTo>
                    <a:pt x="100" y="241"/>
                  </a:lnTo>
                  <a:lnTo>
                    <a:pt x="71" y="290"/>
                  </a:lnTo>
                  <a:lnTo>
                    <a:pt x="45" y="340"/>
                  </a:lnTo>
                  <a:lnTo>
                    <a:pt x="27" y="392"/>
                  </a:lnTo>
                  <a:lnTo>
                    <a:pt x="12" y="442"/>
                  </a:lnTo>
                  <a:lnTo>
                    <a:pt x="4" y="496"/>
                  </a:lnTo>
                  <a:lnTo>
                    <a:pt x="0" y="551"/>
                  </a:lnTo>
                  <a:lnTo>
                    <a:pt x="0" y="604"/>
                  </a:lnTo>
                  <a:lnTo>
                    <a:pt x="8" y="658"/>
                  </a:lnTo>
                  <a:lnTo>
                    <a:pt x="17" y="711"/>
                  </a:lnTo>
                  <a:lnTo>
                    <a:pt x="35" y="763"/>
                  </a:lnTo>
                  <a:lnTo>
                    <a:pt x="58" y="811"/>
                  </a:lnTo>
                  <a:lnTo>
                    <a:pt x="82" y="861"/>
                  </a:lnTo>
                  <a:lnTo>
                    <a:pt x="113" y="907"/>
                  </a:lnTo>
                  <a:lnTo>
                    <a:pt x="148" y="947"/>
                  </a:lnTo>
                  <a:lnTo>
                    <a:pt x="187" y="988"/>
                  </a:lnTo>
                  <a:lnTo>
                    <a:pt x="231" y="1020"/>
                  </a:lnTo>
                  <a:lnTo>
                    <a:pt x="276" y="1051"/>
                  </a:lnTo>
                  <a:lnTo>
                    <a:pt x="323" y="1077"/>
                  </a:lnTo>
                  <a:lnTo>
                    <a:pt x="373" y="1096"/>
                  </a:lnTo>
                  <a:lnTo>
                    <a:pt x="427" y="1111"/>
                  </a:lnTo>
                  <a:lnTo>
                    <a:pt x="480" y="1124"/>
                  </a:lnTo>
                  <a:lnTo>
                    <a:pt x="532" y="1129"/>
                  </a:lnTo>
                  <a:lnTo>
                    <a:pt x="568" y="1129"/>
                  </a:lnTo>
                  <a:lnTo>
                    <a:pt x="568" y="983"/>
                  </a:lnTo>
                  <a:lnTo>
                    <a:pt x="564" y="983"/>
                  </a:lnTo>
                  <a:lnTo>
                    <a:pt x="525" y="980"/>
                  </a:lnTo>
                  <a:lnTo>
                    <a:pt x="485" y="972"/>
                  </a:lnTo>
                  <a:lnTo>
                    <a:pt x="446" y="960"/>
                  </a:lnTo>
                  <a:lnTo>
                    <a:pt x="411" y="946"/>
                  </a:lnTo>
                  <a:lnTo>
                    <a:pt x="377" y="928"/>
                  </a:lnTo>
                  <a:lnTo>
                    <a:pt x="343" y="908"/>
                  </a:lnTo>
                  <a:lnTo>
                    <a:pt x="314" y="884"/>
                  </a:lnTo>
                  <a:lnTo>
                    <a:pt x="286" y="861"/>
                  </a:lnTo>
                  <a:lnTo>
                    <a:pt x="262" y="837"/>
                  </a:lnTo>
                  <a:lnTo>
                    <a:pt x="241" y="810"/>
                  </a:lnTo>
                  <a:lnTo>
                    <a:pt x="221" y="782"/>
                  </a:lnTo>
                  <a:lnTo>
                    <a:pt x="203" y="753"/>
                  </a:lnTo>
                  <a:lnTo>
                    <a:pt x="189" y="719"/>
                  </a:lnTo>
                  <a:lnTo>
                    <a:pt x="176" y="685"/>
                  </a:lnTo>
                  <a:lnTo>
                    <a:pt x="166" y="648"/>
                  </a:lnTo>
                  <a:lnTo>
                    <a:pt x="158" y="610"/>
                  </a:lnTo>
                  <a:lnTo>
                    <a:pt x="153" y="570"/>
                  </a:lnTo>
                  <a:lnTo>
                    <a:pt x="153" y="531"/>
                  </a:lnTo>
                  <a:lnTo>
                    <a:pt x="156" y="492"/>
                  </a:lnTo>
                  <a:lnTo>
                    <a:pt x="163" y="452"/>
                  </a:lnTo>
                  <a:lnTo>
                    <a:pt x="176" y="413"/>
                  </a:lnTo>
                  <a:lnTo>
                    <a:pt x="192" y="374"/>
                  </a:lnTo>
                  <a:lnTo>
                    <a:pt x="213" y="336"/>
                  </a:lnTo>
                  <a:lnTo>
                    <a:pt x="241" y="298"/>
                  </a:lnTo>
                  <a:lnTo>
                    <a:pt x="274" y="266"/>
                  </a:lnTo>
                  <a:lnTo>
                    <a:pt x="314" y="232"/>
                  </a:lnTo>
                  <a:lnTo>
                    <a:pt x="354" y="204"/>
                  </a:lnTo>
                  <a:lnTo>
                    <a:pt x="394" y="182"/>
                  </a:lnTo>
                  <a:lnTo>
                    <a:pt x="436" y="167"/>
                  </a:lnTo>
                  <a:lnTo>
                    <a:pt x="477" y="157"/>
                  </a:lnTo>
                  <a:lnTo>
                    <a:pt x="519" y="151"/>
                  </a:lnTo>
                  <a:lnTo>
                    <a:pt x="561" y="149"/>
                  </a:lnTo>
                  <a:lnTo>
                    <a:pt x="568" y="151"/>
                  </a:lnTo>
                  <a:close/>
                </a:path>
              </a:pathLst>
            </a:custGeom>
            <a:blipFill rotWithShape="0">
              <a:blip r:embed="rId6"/>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1183680" y="499680"/>
              <a:ext cx="26280" cy="47880"/>
            </a:xfrm>
            <a:custGeom>
              <a:avLst/>
              <a:gdLst/>
              <a:ahLst/>
              <a:rect l="l" t="t" r="r" b="b"/>
              <a:pathLst>
                <a:path w="209" h="419">
                  <a:moveTo>
                    <a:pt x="0" y="330"/>
                  </a:moveTo>
                  <a:lnTo>
                    <a:pt x="0" y="419"/>
                  </a:lnTo>
                  <a:lnTo>
                    <a:pt x="10" y="419"/>
                  </a:lnTo>
                  <a:lnTo>
                    <a:pt x="52" y="413"/>
                  </a:lnTo>
                  <a:lnTo>
                    <a:pt x="91" y="396"/>
                  </a:lnTo>
                  <a:lnTo>
                    <a:pt x="128" y="375"/>
                  </a:lnTo>
                  <a:lnTo>
                    <a:pt x="159" y="346"/>
                  </a:lnTo>
                  <a:lnTo>
                    <a:pt x="182" y="314"/>
                  </a:lnTo>
                  <a:lnTo>
                    <a:pt x="198" y="276"/>
                  </a:lnTo>
                  <a:lnTo>
                    <a:pt x="207" y="237"/>
                  </a:lnTo>
                  <a:lnTo>
                    <a:pt x="209" y="197"/>
                  </a:lnTo>
                  <a:lnTo>
                    <a:pt x="204" y="156"/>
                  </a:lnTo>
                  <a:lnTo>
                    <a:pt x="188" y="116"/>
                  </a:lnTo>
                  <a:lnTo>
                    <a:pt x="167" y="79"/>
                  </a:lnTo>
                  <a:lnTo>
                    <a:pt x="136" y="50"/>
                  </a:lnTo>
                  <a:lnTo>
                    <a:pt x="105" y="26"/>
                  </a:lnTo>
                  <a:lnTo>
                    <a:pt x="68" y="8"/>
                  </a:lnTo>
                  <a:lnTo>
                    <a:pt x="28" y="0"/>
                  </a:lnTo>
                  <a:lnTo>
                    <a:pt x="0" y="0"/>
                  </a:lnTo>
                  <a:lnTo>
                    <a:pt x="0" y="87"/>
                  </a:lnTo>
                  <a:lnTo>
                    <a:pt x="15" y="87"/>
                  </a:lnTo>
                  <a:lnTo>
                    <a:pt x="38" y="93"/>
                  </a:lnTo>
                  <a:lnTo>
                    <a:pt x="58" y="103"/>
                  </a:lnTo>
                  <a:lnTo>
                    <a:pt x="78" y="116"/>
                  </a:lnTo>
                  <a:lnTo>
                    <a:pt x="94" y="134"/>
                  </a:lnTo>
                  <a:lnTo>
                    <a:pt x="105" y="154"/>
                  </a:lnTo>
                  <a:lnTo>
                    <a:pt x="115" y="178"/>
                  </a:lnTo>
                  <a:lnTo>
                    <a:pt x="117" y="202"/>
                  </a:lnTo>
                  <a:lnTo>
                    <a:pt x="117" y="225"/>
                  </a:lnTo>
                  <a:lnTo>
                    <a:pt x="113" y="249"/>
                  </a:lnTo>
                  <a:lnTo>
                    <a:pt x="103" y="270"/>
                  </a:lnTo>
                  <a:lnTo>
                    <a:pt x="91" y="291"/>
                  </a:lnTo>
                  <a:lnTo>
                    <a:pt x="73" y="306"/>
                  </a:lnTo>
                  <a:lnTo>
                    <a:pt x="54" y="320"/>
                  </a:lnTo>
                  <a:lnTo>
                    <a:pt x="31" y="328"/>
                  </a:lnTo>
                  <a:lnTo>
                    <a:pt x="7" y="330"/>
                  </a:lnTo>
                  <a:lnTo>
                    <a:pt x="0" y="330"/>
                  </a:lnTo>
                  <a:close/>
                </a:path>
              </a:pathLst>
            </a:custGeom>
            <a:blipFill rotWithShape="0">
              <a:blip r:embed="rId7"/>
              <a:srcRect/>
              <a:stretch/>
            </a:blip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7" name=""/>
            <p:cNvSpPr/>
            <p:nvPr/>
          </p:nvSpPr>
          <p:spPr>
            <a:xfrm>
              <a:off x="1155960" y="498600"/>
              <a:ext cx="27360" cy="48960"/>
            </a:xfrm>
            <a:custGeom>
              <a:avLst/>
              <a:gdLst/>
              <a:ahLst/>
              <a:rect l="l" t="t" r="r" b="b"/>
              <a:pathLst>
                <a:path w="210" h="421">
                  <a:moveTo>
                    <a:pt x="210" y="89"/>
                  </a:moveTo>
                  <a:lnTo>
                    <a:pt x="210" y="2"/>
                  </a:lnTo>
                  <a:lnTo>
                    <a:pt x="199" y="0"/>
                  </a:lnTo>
                  <a:lnTo>
                    <a:pt x="157" y="6"/>
                  </a:lnTo>
                  <a:lnTo>
                    <a:pt x="118" y="21"/>
                  </a:lnTo>
                  <a:lnTo>
                    <a:pt x="80" y="44"/>
                  </a:lnTo>
                  <a:lnTo>
                    <a:pt x="50" y="73"/>
                  </a:lnTo>
                  <a:lnTo>
                    <a:pt x="27" y="105"/>
                  </a:lnTo>
                  <a:lnTo>
                    <a:pt x="9" y="142"/>
                  </a:lnTo>
                  <a:lnTo>
                    <a:pt x="1" y="180"/>
                  </a:lnTo>
                  <a:lnTo>
                    <a:pt x="0" y="222"/>
                  </a:lnTo>
                  <a:lnTo>
                    <a:pt x="5" y="262"/>
                  </a:lnTo>
                  <a:lnTo>
                    <a:pt x="21" y="303"/>
                  </a:lnTo>
                  <a:lnTo>
                    <a:pt x="42" y="340"/>
                  </a:lnTo>
                  <a:lnTo>
                    <a:pt x="71" y="369"/>
                  </a:lnTo>
                  <a:lnTo>
                    <a:pt x="104" y="393"/>
                  </a:lnTo>
                  <a:lnTo>
                    <a:pt x="142" y="408"/>
                  </a:lnTo>
                  <a:lnTo>
                    <a:pt x="179" y="419"/>
                  </a:lnTo>
                  <a:lnTo>
                    <a:pt x="210" y="421"/>
                  </a:lnTo>
                  <a:lnTo>
                    <a:pt x="210" y="332"/>
                  </a:lnTo>
                  <a:lnTo>
                    <a:pt x="194" y="330"/>
                  </a:lnTo>
                  <a:lnTo>
                    <a:pt x="171" y="324"/>
                  </a:lnTo>
                  <a:lnTo>
                    <a:pt x="149" y="314"/>
                  </a:lnTo>
                  <a:lnTo>
                    <a:pt x="131" y="300"/>
                  </a:lnTo>
                  <a:lnTo>
                    <a:pt x="113" y="282"/>
                  </a:lnTo>
                  <a:lnTo>
                    <a:pt x="102" y="261"/>
                  </a:lnTo>
                  <a:lnTo>
                    <a:pt x="94" y="239"/>
                  </a:lnTo>
                  <a:lnTo>
                    <a:pt x="90" y="215"/>
                  </a:lnTo>
                  <a:lnTo>
                    <a:pt x="90" y="191"/>
                  </a:lnTo>
                  <a:lnTo>
                    <a:pt x="97" y="170"/>
                  </a:lnTo>
                  <a:lnTo>
                    <a:pt x="104" y="149"/>
                  </a:lnTo>
                  <a:lnTo>
                    <a:pt x="118" y="128"/>
                  </a:lnTo>
                  <a:lnTo>
                    <a:pt x="136" y="113"/>
                  </a:lnTo>
                  <a:lnTo>
                    <a:pt x="155" y="99"/>
                  </a:lnTo>
                  <a:lnTo>
                    <a:pt x="179" y="91"/>
                  </a:lnTo>
                  <a:lnTo>
                    <a:pt x="200" y="87"/>
                  </a:lnTo>
                  <a:lnTo>
                    <a:pt x="210" y="89"/>
                  </a:lnTo>
                  <a:close/>
                </a:path>
              </a:pathLst>
            </a:custGeom>
            <a:blipFill rotWithShape="0">
              <a:blip r:embed="rId8"/>
              <a:srcRect/>
              <a:stretch/>
            </a:blip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58" name=""/>
            <p:cNvSpPr/>
            <p:nvPr/>
          </p:nvSpPr>
          <p:spPr>
            <a:xfrm>
              <a:off x="1342440" y="402120"/>
              <a:ext cx="71640" cy="130680"/>
            </a:xfrm>
            <a:custGeom>
              <a:avLst/>
              <a:gdLst/>
              <a:ahLst/>
              <a:rect l="l" t="t" r="r" b="b"/>
              <a:pathLst>
                <a:path w="560" h="1130">
                  <a:moveTo>
                    <a:pt x="0" y="984"/>
                  </a:moveTo>
                  <a:lnTo>
                    <a:pt x="0" y="1130"/>
                  </a:lnTo>
                  <a:lnTo>
                    <a:pt x="26" y="1128"/>
                  </a:lnTo>
                  <a:lnTo>
                    <a:pt x="83" y="1121"/>
                  </a:lnTo>
                  <a:lnTo>
                    <a:pt x="142" y="1110"/>
                  </a:lnTo>
                  <a:lnTo>
                    <a:pt x="199" y="1092"/>
                  </a:lnTo>
                  <a:lnTo>
                    <a:pt x="252" y="1068"/>
                  </a:lnTo>
                  <a:lnTo>
                    <a:pt x="301" y="1039"/>
                  </a:lnTo>
                  <a:lnTo>
                    <a:pt x="348" y="1007"/>
                  </a:lnTo>
                  <a:lnTo>
                    <a:pt x="389" y="971"/>
                  </a:lnTo>
                  <a:lnTo>
                    <a:pt x="426" y="930"/>
                  </a:lnTo>
                  <a:lnTo>
                    <a:pt x="460" y="887"/>
                  </a:lnTo>
                  <a:lnTo>
                    <a:pt x="489" y="841"/>
                  </a:lnTo>
                  <a:lnTo>
                    <a:pt x="513" y="793"/>
                  </a:lnTo>
                  <a:lnTo>
                    <a:pt x="533" y="743"/>
                  </a:lnTo>
                  <a:lnTo>
                    <a:pt x="547" y="691"/>
                  </a:lnTo>
                  <a:lnTo>
                    <a:pt x="557" y="638"/>
                  </a:lnTo>
                  <a:lnTo>
                    <a:pt x="560" y="584"/>
                  </a:lnTo>
                  <a:lnTo>
                    <a:pt x="560" y="529"/>
                  </a:lnTo>
                  <a:lnTo>
                    <a:pt x="555" y="476"/>
                  </a:lnTo>
                  <a:lnTo>
                    <a:pt x="542" y="421"/>
                  </a:lnTo>
                  <a:lnTo>
                    <a:pt x="525" y="367"/>
                  </a:lnTo>
                  <a:lnTo>
                    <a:pt x="503" y="314"/>
                  </a:lnTo>
                  <a:lnTo>
                    <a:pt x="476" y="267"/>
                  </a:lnTo>
                  <a:lnTo>
                    <a:pt x="444" y="222"/>
                  </a:lnTo>
                  <a:lnTo>
                    <a:pt x="411" y="178"/>
                  </a:lnTo>
                  <a:lnTo>
                    <a:pt x="371" y="141"/>
                  </a:lnTo>
                  <a:lnTo>
                    <a:pt x="330" y="107"/>
                  </a:lnTo>
                  <a:lnTo>
                    <a:pt x="285" y="77"/>
                  </a:lnTo>
                  <a:lnTo>
                    <a:pt x="236" y="52"/>
                  </a:lnTo>
                  <a:lnTo>
                    <a:pt x="186" y="32"/>
                  </a:lnTo>
                  <a:lnTo>
                    <a:pt x="134" y="16"/>
                  </a:lnTo>
                  <a:lnTo>
                    <a:pt x="79" y="6"/>
                  </a:lnTo>
                  <a:lnTo>
                    <a:pt x="24" y="0"/>
                  </a:lnTo>
                  <a:lnTo>
                    <a:pt x="0" y="0"/>
                  </a:lnTo>
                  <a:lnTo>
                    <a:pt x="0" y="147"/>
                  </a:lnTo>
                  <a:lnTo>
                    <a:pt x="27" y="147"/>
                  </a:lnTo>
                  <a:lnTo>
                    <a:pt x="69" y="152"/>
                  </a:lnTo>
                  <a:lnTo>
                    <a:pt x="110" y="162"/>
                  </a:lnTo>
                  <a:lnTo>
                    <a:pt x="147" y="176"/>
                  </a:lnTo>
                  <a:lnTo>
                    <a:pt x="186" y="196"/>
                  </a:lnTo>
                  <a:lnTo>
                    <a:pt x="219" y="215"/>
                  </a:lnTo>
                  <a:lnTo>
                    <a:pt x="251" y="241"/>
                  </a:lnTo>
                  <a:lnTo>
                    <a:pt x="278" y="269"/>
                  </a:lnTo>
                  <a:lnTo>
                    <a:pt x="304" y="296"/>
                  </a:lnTo>
                  <a:lnTo>
                    <a:pt x="327" y="328"/>
                  </a:lnTo>
                  <a:lnTo>
                    <a:pt x="348" y="362"/>
                  </a:lnTo>
                  <a:lnTo>
                    <a:pt x="364" y="395"/>
                  </a:lnTo>
                  <a:lnTo>
                    <a:pt x="379" y="429"/>
                  </a:lnTo>
                  <a:lnTo>
                    <a:pt x="390" y="464"/>
                  </a:lnTo>
                  <a:lnTo>
                    <a:pt x="397" y="495"/>
                  </a:lnTo>
                  <a:lnTo>
                    <a:pt x="403" y="529"/>
                  </a:lnTo>
                  <a:lnTo>
                    <a:pt x="405" y="565"/>
                  </a:lnTo>
                  <a:lnTo>
                    <a:pt x="403" y="602"/>
                  </a:lnTo>
                  <a:lnTo>
                    <a:pt x="398" y="639"/>
                  </a:lnTo>
                  <a:lnTo>
                    <a:pt x="390" y="678"/>
                  </a:lnTo>
                  <a:lnTo>
                    <a:pt x="380" y="715"/>
                  </a:lnTo>
                  <a:lnTo>
                    <a:pt x="364" y="751"/>
                  </a:lnTo>
                  <a:lnTo>
                    <a:pt x="348" y="786"/>
                  </a:lnTo>
                  <a:lnTo>
                    <a:pt x="325" y="822"/>
                  </a:lnTo>
                  <a:lnTo>
                    <a:pt x="300" y="853"/>
                  </a:lnTo>
                  <a:lnTo>
                    <a:pt x="270" y="882"/>
                  </a:lnTo>
                  <a:lnTo>
                    <a:pt x="235" y="910"/>
                  </a:lnTo>
                  <a:lnTo>
                    <a:pt x="197" y="934"/>
                  </a:lnTo>
                  <a:lnTo>
                    <a:pt x="154" y="953"/>
                  </a:lnTo>
                  <a:lnTo>
                    <a:pt x="105" y="969"/>
                  </a:lnTo>
                  <a:lnTo>
                    <a:pt x="55" y="979"/>
                  </a:lnTo>
                  <a:lnTo>
                    <a:pt x="8" y="984"/>
                  </a:lnTo>
                  <a:lnTo>
                    <a:pt x="0" y="984"/>
                  </a:lnTo>
                  <a:close/>
                </a:path>
              </a:pathLst>
            </a:custGeom>
            <a:blipFill rotWithShape="0">
              <a:blip r:embed="rId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69720" y="402120"/>
              <a:ext cx="72720" cy="130680"/>
            </a:xfrm>
            <a:custGeom>
              <a:avLst/>
              <a:gdLst/>
              <a:ahLst/>
              <a:rect l="l" t="t" r="r" b="b"/>
              <a:pathLst>
                <a:path w="568" h="1130">
                  <a:moveTo>
                    <a:pt x="568" y="147"/>
                  </a:moveTo>
                  <a:lnTo>
                    <a:pt x="568" y="0"/>
                  </a:lnTo>
                  <a:lnTo>
                    <a:pt x="534" y="0"/>
                  </a:lnTo>
                  <a:lnTo>
                    <a:pt x="477" y="8"/>
                  </a:lnTo>
                  <a:lnTo>
                    <a:pt x="418" y="21"/>
                  </a:lnTo>
                  <a:lnTo>
                    <a:pt x="361" y="40"/>
                  </a:lnTo>
                  <a:lnTo>
                    <a:pt x="306" y="63"/>
                  </a:lnTo>
                  <a:lnTo>
                    <a:pt x="256" y="92"/>
                  </a:lnTo>
                  <a:lnTo>
                    <a:pt x="210" y="125"/>
                  </a:lnTo>
                  <a:lnTo>
                    <a:pt x="170" y="160"/>
                  </a:lnTo>
                  <a:lnTo>
                    <a:pt x="131" y="202"/>
                  </a:lnTo>
                  <a:lnTo>
                    <a:pt x="98" y="246"/>
                  </a:lnTo>
                  <a:lnTo>
                    <a:pt x="71" y="291"/>
                  </a:lnTo>
                  <a:lnTo>
                    <a:pt x="47" y="340"/>
                  </a:lnTo>
                  <a:lnTo>
                    <a:pt x="27" y="390"/>
                  </a:lnTo>
                  <a:lnTo>
                    <a:pt x="13" y="443"/>
                  </a:lnTo>
                  <a:lnTo>
                    <a:pt x="3" y="495"/>
                  </a:lnTo>
                  <a:lnTo>
                    <a:pt x="0" y="549"/>
                  </a:lnTo>
                  <a:lnTo>
                    <a:pt x="1" y="602"/>
                  </a:lnTo>
                  <a:lnTo>
                    <a:pt x="8" y="657"/>
                  </a:lnTo>
                  <a:lnTo>
                    <a:pt x="19" y="711"/>
                  </a:lnTo>
                  <a:lnTo>
                    <a:pt x="35" y="764"/>
                  </a:lnTo>
                  <a:lnTo>
                    <a:pt x="57" y="814"/>
                  </a:lnTo>
                  <a:lnTo>
                    <a:pt x="84" y="863"/>
                  </a:lnTo>
                  <a:lnTo>
                    <a:pt x="116" y="906"/>
                  </a:lnTo>
                  <a:lnTo>
                    <a:pt x="149" y="948"/>
                  </a:lnTo>
                  <a:lnTo>
                    <a:pt x="189" y="985"/>
                  </a:lnTo>
                  <a:lnTo>
                    <a:pt x="230" y="1021"/>
                  </a:lnTo>
                  <a:lnTo>
                    <a:pt x="275" y="1050"/>
                  </a:lnTo>
                  <a:lnTo>
                    <a:pt x="323" y="1076"/>
                  </a:lnTo>
                  <a:lnTo>
                    <a:pt x="374" y="1096"/>
                  </a:lnTo>
                  <a:lnTo>
                    <a:pt x="426" y="1112"/>
                  </a:lnTo>
                  <a:lnTo>
                    <a:pt x="481" y="1123"/>
                  </a:lnTo>
                  <a:lnTo>
                    <a:pt x="536" y="1130"/>
                  </a:lnTo>
                  <a:lnTo>
                    <a:pt x="568" y="1130"/>
                  </a:lnTo>
                  <a:lnTo>
                    <a:pt x="568" y="984"/>
                  </a:lnTo>
                  <a:lnTo>
                    <a:pt x="531" y="984"/>
                  </a:lnTo>
                  <a:lnTo>
                    <a:pt x="487" y="977"/>
                  </a:lnTo>
                  <a:lnTo>
                    <a:pt x="445" y="966"/>
                  </a:lnTo>
                  <a:lnTo>
                    <a:pt x="408" y="952"/>
                  </a:lnTo>
                  <a:lnTo>
                    <a:pt x="372" y="932"/>
                  </a:lnTo>
                  <a:lnTo>
                    <a:pt x="338" y="910"/>
                  </a:lnTo>
                  <a:lnTo>
                    <a:pt x="307" y="887"/>
                  </a:lnTo>
                  <a:lnTo>
                    <a:pt x="280" y="859"/>
                  </a:lnTo>
                  <a:lnTo>
                    <a:pt x="254" y="829"/>
                  </a:lnTo>
                  <a:lnTo>
                    <a:pt x="230" y="800"/>
                  </a:lnTo>
                  <a:lnTo>
                    <a:pt x="212" y="768"/>
                  </a:lnTo>
                  <a:lnTo>
                    <a:pt x="194" y="735"/>
                  </a:lnTo>
                  <a:lnTo>
                    <a:pt x="181" y="703"/>
                  </a:lnTo>
                  <a:lnTo>
                    <a:pt x="171" y="670"/>
                  </a:lnTo>
                  <a:lnTo>
                    <a:pt x="165" y="638"/>
                  </a:lnTo>
                  <a:lnTo>
                    <a:pt x="160" y="602"/>
                  </a:lnTo>
                  <a:lnTo>
                    <a:pt x="157" y="567"/>
                  </a:lnTo>
                  <a:lnTo>
                    <a:pt x="160" y="529"/>
                  </a:lnTo>
                  <a:lnTo>
                    <a:pt x="163" y="492"/>
                  </a:lnTo>
                  <a:lnTo>
                    <a:pt x="171" y="455"/>
                  </a:lnTo>
                  <a:lnTo>
                    <a:pt x="181" y="417"/>
                  </a:lnTo>
                  <a:lnTo>
                    <a:pt x="194" y="380"/>
                  </a:lnTo>
                  <a:lnTo>
                    <a:pt x="212" y="344"/>
                  </a:lnTo>
                  <a:lnTo>
                    <a:pt x="234" y="310"/>
                  </a:lnTo>
                  <a:lnTo>
                    <a:pt x="262" y="277"/>
                  </a:lnTo>
                  <a:lnTo>
                    <a:pt x="291" y="247"/>
                  </a:lnTo>
                  <a:lnTo>
                    <a:pt x="325" y="220"/>
                  </a:lnTo>
                  <a:lnTo>
                    <a:pt x="364" y="196"/>
                  </a:lnTo>
                  <a:lnTo>
                    <a:pt x="408" y="176"/>
                  </a:lnTo>
                  <a:lnTo>
                    <a:pt x="455" y="160"/>
                  </a:lnTo>
                  <a:lnTo>
                    <a:pt x="505" y="150"/>
                  </a:lnTo>
                  <a:lnTo>
                    <a:pt x="550" y="147"/>
                  </a:lnTo>
                  <a:lnTo>
                    <a:pt x="568" y="147"/>
                  </a:lnTo>
                  <a:close/>
                </a:path>
              </a:pathLst>
            </a:custGeom>
            <a:blipFill rotWithShape="0">
              <a:blip r:embed="rId1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a:off x="1497240" y="381600"/>
              <a:ext cx="66600" cy="123120"/>
            </a:xfrm>
            <a:custGeom>
              <a:avLst/>
              <a:gdLst/>
              <a:ahLst/>
              <a:rect l="l" t="t" r="r" b="b"/>
              <a:pathLst>
                <a:path w="515" h="1065">
                  <a:moveTo>
                    <a:pt x="0" y="623"/>
                  </a:moveTo>
                  <a:lnTo>
                    <a:pt x="0" y="769"/>
                  </a:lnTo>
                  <a:lnTo>
                    <a:pt x="203" y="756"/>
                  </a:lnTo>
                  <a:lnTo>
                    <a:pt x="345" y="1065"/>
                  </a:lnTo>
                  <a:lnTo>
                    <a:pt x="515" y="1054"/>
                  </a:lnTo>
                  <a:lnTo>
                    <a:pt x="28" y="0"/>
                  </a:lnTo>
                  <a:lnTo>
                    <a:pt x="0" y="2"/>
                  </a:lnTo>
                  <a:lnTo>
                    <a:pt x="0" y="282"/>
                  </a:lnTo>
                  <a:lnTo>
                    <a:pt x="138" y="614"/>
                  </a:lnTo>
                  <a:lnTo>
                    <a:pt x="0" y="623"/>
                  </a:lnTo>
                  <a:close/>
                </a:path>
              </a:pathLst>
            </a:custGeom>
            <a:blipFill rotWithShape="0">
              <a:blip r:embed="rId1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 name=""/>
            <p:cNvSpPr/>
            <p:nvPr/>
          </p:nvSpPr>
          <p:spPr>
            <a:xfrm>
              <a:off x="1440000" y="381600"/>
              <a:ext cx="57240" cy="129600"/>
            </a:xfrm>
            <a:custGeom>
              <a:avLst/>
              <a:gdLst/>
              <a:ahLst/>
              <a:rect l="l" t="t" r="r" b="b"/>
              <a:pathLst>
                <a:path w="450" h="1118">
                  <a:moveTo>
                    <a:pt x="450" y="280"/>
                  </a:moveTo>
                  <a:lnTo>
                    <a:pt x="450" y="0"/>
                  </a:lnTo>
                  <a:lnTo>
                    <a:pt x="335" y="8"/>
                  </a:lnTo>
                  <a:lnTo>
                    <a:pt x="0" y="1118"/>
                  </a:lnTo>
                  <a:lnTo>
                    <a:pt x="165" y="1107"/>
                  </a:lnTo>
                  <a:lnTo>
                    <a:pt x="264" y="780"/>
                  </a:lnTo>
                  <a:lnTo>
                    <a:pt x="450" y="767"/>
                  </a:lnTo>
                  <a:lnTo>
                    <a:pt x="450" y="621"/>
                  </a:lnTo>
                  <a:lnTo>
                    <a:pt x="309" y="631"/>
                  </a:lnTo>
                  <a:lnTo>
                    <a:pt x="420" y="207"/>
                  </a:lnTo>
                  <a:lnTo>
                    <a:pt x="422" y="207"/>
                  </a:lnTo>
                  <a:lnTo>
                    <a:pt x="450" y="280"/>
                  </a:lnTo>
                  <a:close/>
                </a:path>
              </a:pathLst>
            </a:custGeom>
            <a:blipFill rotWithShape="0">
              <a:blip r:embed="rId1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 name=""/>
            <p:cNvSpPr/>
            <p:nvPr/>
          </p:nvSpPr>
          <p:spPr>
            <a:xfrm>
              <a:off x="1579320" y="380880"/>
              <a:ext cx="138240" cy="130680"/>
            </a:xfrm>
            <a:custGeom>
              <a:avLst/>
              <a:gdLst/>
              <a:ahLst/>
              <a:rect l="l" t="t" r="r" b="b"/>
              <a:pathLst>
                <a:path w="1075" h="1127">
                  <a:moveTo>
                    <a:pt x="1075" y="333"/>
                  </a:moveTo>
                  <a:lnTo>
                    <a:pt x="1056" y="293"/>
                  </a:lnTo>
                  <a:lnTo>
                    <a:pt x="1025" y="243"/>
                  </a:lnTo>
                  <a:lnTo>
                    <a:pt x="1007" y="215"/>
                  </a:lnTo>
                  <a:lnTo>
                    <a:pt x="983" y="188"/>
                  </a:lnTo>
                  <a:lnTo>
                    <a:pt x="955" y="158"/>
                  </a:lnTo>
                  <a:lnTo>
                    <a:pt x="922" y="131"/>
                  </a:lnTo>
                  <a:lnTo>
                    <a:pt x="881" y="99"/>
                  </a:lnTo>
                  <a:lnTo>
                    <a:pt x="837" y="71"/>
                  </a:lnTo>
                  <a:lnTo>
                    <a:pt x="794" y="50"/>
                  </a:lnTo>
                  <a:lnTo>
                    <a:pt x="750" y="34"/>
                  </a:lnTo>
                  <a:lnTo>
                    <a:pt x="708" y="19"/>
                  </a:lnTo>
                  <a:lnTo>
                    <a:pt x="669" y="11"/>
                  </a:lnTo>
                  <a:lnTo>
                    <a:pt x="600" y="2"/>
                  </a:lnTo>
                  <a:lnTo>
                    <a:pt x="543" y="0"/>
                  </a:lnTo>
                  <a:lnTo>
                    <a:pt x="488" y="3"/>
                  </a:lnTo>
                  <a:lnTo>
                    <a:pt x="434" y="14"/>
                  </a:lnTo>
                  <a:lnTo>
                    <a:pt x="381" y="29"/>
                  </a:lnTo>
                  <a:lnTo>
                    <a:pt x="332" y="50"/>
                  </a:lnTo>
                  <a:lnTo>
                    <a:pt x="282" y="73"/>
                  </a:lnTo>
                  <a:lnTo>
                    <a:pt x="237" y="100"/>
                  </a:lnTo>
                  <a:lnTo>
                    <a:pt x="195" y="134"/>
                  </a:lnTo>
                  <a:lnTo>
                    <a:pt x="156" y="172"/>
                  </a:lnTo>
                  <a:lnTo>
                    <a:pt x="120" y="212"/>
                  </a:lnTo>
                  <a:lnTo>
                    <a:pt x="89" y="257"/>
                  </a:lnTo>
                  <a:lnTo>
                    <a:pt x="62" y="302"/>
                  </a:lnTo>
                  <a:lnTo>
                    <a:pt x="40" y="353"/>
                  </a:lnTo>
                  <a:lnTo>
                    <a:pt x="22" y="406"/>
                  </a:lnTo>
                  <a:lnTo>
                    <a:pt x="10" y="461"/>
                  </a:lnTo>
                  <a:lnTo>
                    <a:pt x="2" y="521"/>
                  </a:lnTo>
                  <a:lnTo>
                    <a:pt x="0" y="578"/>
                  </a:lnTo>
                  <a:lnTo>
                    <a:pt x="6" y="633"/>
                  </a:lnTo>
                  <a:lnTo>
                    <a:pt x="15" y="689"/>
                  </a:lnTo>
                  <a:lnTo>
                    <a:pt x="30" y="743"/>
                  </a:lnTo>
                  <a:lnTo>
                    <a:pt x="51" y="793"/>
                  </a:lnTo>
                  <a:lnTo>
                    <a:pt x="75" y="840"/>
                  </a:lnTo>
                  <a:lnTo>
                    <a:pt x="104" y="888"/>
                  </a:lnTo>
                  <a:lnTo>
                    <a:pt x="136" y="929"/>
                  </a:lnTo>
                  <a:lnTo>
                    <a:pt x="174" y="971"/>
                  </a:lnTo>
                  <a:lnTo>
                    <a:pt x="216" y="1007"/>
                  </a:lnTo>
                  <a:lnTo>
                    <a:pt x="258" y="1038"/>
                  </a:lnTo>
                  <a:lnTo>
                    <a:pt x="306" y="1065"/>
                  </a:lnTo>
                  <a:lnTo>
                    <a:pt x="355" y="1089"/>
                  </a:lnTo>
                  <a:lnTo>
                    <a:pt x="407" y="1107"/>
                  </a:lnTo>
                  <a:lnTo>
                    <a:pt x="462" y="1119"/>
                  </a:lnTo>
                  <a:lnTo>
                    <a:pt x="519" y="1127"/>
                  </a:lnTo>
                  <a:lnTo>
                    <a:pt x="585" y="1127"/>
                  </a:lnTo>
                  <a:lnTo>
                    <a:pt x="651" y="1120"/>
                  </a:lnTo>
                  <a:lnTo>
                    <a:pt x="719" y="1105"/>
                  </a:lnTo>
                  <a:lnTo>
                    <a:pt x="787" y="1080"/>
                  </a:lnTo>
                  <a:lnTo>
                    <a:pt x="855" y="1046"/>
                  </a:lnTo>
                  <a:lnTo>
                    <a:pt x="886" y="1024"/>
                  </a:lnTo>
                  <a:lnTo>
                    <a:pt x="918" y="999"/>
                  </a:lnTo>
                  <a:lnTo>
                    <a:pt x="947" y="973"/>
                  </a:lnTo>
                  <a:lnTo>
                    <a:pt x="977" y="942"/>
                  </a:lnTo>
                  <a:lnTo>
                    <a:pt x="1004" y="908"/>
                  </a:lnTo>
                  <a:lnTo>
                    <a:pt x="1030" y="872"/>
                  </a:lnTo>
                  <a:lnTo>
                    <a:pt x="837" y="858"/>
                  </a:lnTo>
                  <a:lnTo>
                    <a:pt x="805" y="888"/>
                  </a:lnTo>
                  <a:lnTo>
                    <a:pt x="770" y="913"/>
                  </a:lnTo>
                  <a:lnTo>
                    <a:pt x="734" y="935"/>
                  </a:lnTo>
                  <a:lnTo>
                    <a:pt x="697" y="953"/>
                  </a:lnTo>
                  <a:lnTo>
                    <a:pt x="656" y="967"/>
                  </a:lnTo>
                  <a:lnTo>
                    <a:pt x="616" y="976"/>
                  </a:lnTo>
                  <a:lnTo>
                    <a:pt x="572" y="981"/>
                  </a:lnTo>
                  <a:lnTo>
                    <a:pt x="531" y="981"/>
                  </a:lnTo>
                  <a:lnTo>
                    <a:pt x="491" y="976"/>
                  </a:lnTo>
                  <a:lnTo>
                    <a:pt x="452" y="967"/>
                  </a:lnTo>
                  <a:lnTo>
                    <a:pt x="417" y="955"/>
                  </a:lnTo>
                  <a:lnTo>
                    <a:pt x="381" y="937"/>
                  </a:lnTo>
                  <a:lnTo>
                    <a:pt x="347" y="918"/>
                  </a:lnTo>
                  <a:lnTo>
                    <a:pt x="316" y="894"/>
                  </a:lnTo>
                  <a:lnTo>
                    <a:pt x="287" y="868"/>
                  </a:lnTo>
                  <a:lnTo>
                    <a:pt x="261" y="838"/>
                  </a:lnTo>
                  <a:lnTo>
                    <a:pt x="235" y="807"/>
                  </a:lnTo>
                  <a:lnTo>
                    <a:pt x="213" y="774"/>
                  </a:lnTo>
                  <a:lnTo>
                    <a:pt x="195" y="736"/>
                  </a:lnTo>
                  <a:lnTo>
                    <a:pt x="182" y="699"/>
                  </a:lnTo>
                  <a:lnTo>
                    <a:pt x="170" y="659"/>
                  </a:lnTo>
                  <a:lnTo>
                    <a:pt x="162" y="618"/>
                  </a:lnTo>
                  <a:lnTo>
                    <a:pt x="161" y="576"/>
                  </a:lnTo>
                  <a:lnTo>
                    <a:pt x="161" y="533"/>
                  </a:lnTo>
                  <a:lnTo>
                    <a:pt x="166" y="492"/>
                  </a:lnTo>
                  <a:lnTo>
                    <a:pt x="174" y="450"/>
                  </a:lnTo>
                  <a:lnTo>
                    <a:pt x="185" y="411"/>
                  </a:lnTo>
                  <a:lnTo>
                    <a:pt x="203" y="372"/>
                  </a:lnTo>
                  <a:lnTo>
                    <a:pt x="221" y="340"/>
                  </a:lnTo>
                  <a:lnTo>
                    <a:pt x="245" y="306"/>
                  </a:lnTo>
                  <a:lnTo>
                    <a:pt x="271" y="277"/>
                  </a:lnTo>
                  <a:lnTo>
                    <a:pt x="298" y="249"/>
                  </a:lnTo>
                  <a:lnTo>
                    <a:pt x="328" y="223"/>
                  </a:lnTo>
                  <a:lnTo>
                    <a:pt x="361" y="201"/>
                  </a:lnTo>
                  <a:lnTo>
                    <a:pt x="395" y="183"/>
                  </a:lnTo>
                  <a:lnTo>
                    <a:pt x="433" y="168"/>
                  </a:lnTo>
                  <a:lnTo>
                    <a:pt x="470" y="156"/>
                  </a:lnTo>
                  <a:lnTo>
                    <a:pt x="509" y="150"/>
                  </a:lnTo>
                  <a:lnTo>
                    <a:pt x="551" y="146"/>
                  </a:lnTo>
                  <a:lnTo>
                    <a:pt x="593" y="146"/>
                  </a:lnTo>
                  <a:lnTo>
                    <a:pt x="624" y="150"/>
                  </a:lnTo>
                  <a:lnTo>
                    <a:pt x="653" y="156"/>
                  </a:lnTo>
                  <a:lnTo>
                    <a:pt x="708" y="173"/>
                  </a:lnTo>
                  <a:lnTo>
                    <a:pt x="755" y="197"/>
                  </a:lnTo>
                  <a:lnTo>
                    <a:pt x="794" y="223"/>
                  </a:lnTo>
                  <a:lnTo>
                    <a:pt x="827" y="251"/>
                  </a:lnTo>
                  <a:lnTo>
                    <a:pt x="852" y="278"/>
                  </a:lnTo>
                  <a:lnTo>
                    <a:pt x="886" y="320"/>
                  </a:lnTo>
                  <a:lnTo>
                    <a:pt x="1075" y="333"/>
                  </a:lnTo>
                  <a:close/>
                </a:path>
              </a:pathLst>
            </a:custGeom>
            <a:blipFill rotWithShape="0">
              <a:blip r:embed="rId1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1733040" y="399240"/>
              <a:ext cx="51120" cy="126000"/>
            </a:xfrm>
            <a:custGeom>
              <a:avLst/>
              <a:gdLst/>
              <a:ahLst/>
              <a:rect l="l" t="t" r="r" b="b"/>
              <a:pathLst>
                <a:path w="398" h="1093">
                  <a:moveTo>
                    <a:pt x="154" y="1093"/>
                  </a:moveTo>
                  <a:lnTo>
                    <a:pt x="398" y="36"/>
                  </a:lnTo>
                  <a:lnTo>
                    <a:pt x="245" y="0"/>
                  </a:lnTo>
                  <a:lnTo>
                    <a:pt x="0" y="1058"/>
                  </a:lnTo>
                  <a:lnTo>
                    <a:pt x="154" y="1093"/>
                  </a:lnTo>
                  <a:close/>
                </a:path>
              </a:pathLst>
            </a:custGeom>
            <a:blipFill rotWithShape="0">
              <a:blip r:embed="rId14"/>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864440" y="470880"/>
              <a:ext cx="27360" cy="47880"/>
            </a:xfrm>
            <a:custGeom>
              <a:avLst/>
              <a:gdLst/>
              <a:ahLst/>
              <a:rect l="l" t="t" r="r" b="b"/>
              <a:pathLst>
                <a:path w="209" h="417">
                  <a:moveTo>
                    <a:pt x="0" y="330"/>
                  </a:moveTo>
                  <a:lnTo>
                    <a:pt x="0" y="417"/>
                  </a:lnTo>
                  <a:lnTo>
                    <a:pt x="6" y="417"/>
                  </a:lnTo>
                  <a:lnTo>
                    <a:pt x="46" y="412"/>
                  </a:lnTo>
                  <a:lnTo>
                    <a:pt x="83" y="400"/>
                  </a:lnTo>
                  <a:lnTo>
                    <a:pt x="118" y="380"/>
                  </a:lnTo>
                  <a:lnTo>
                    <a:pt x="151" y="353"/>
                  </a:lnTo>
                  <a:lnTo>
                    <a:pt x="176" y="322"/>
                  </a:lnTo>
                  <a:lnTo>
                    <a:pt x="194" y="281"/>
                  </a:lnTo>
                  <a:lnTo>
                    <a:pt x="206" y="241"/>
                  </a:lnTo>
                  <a:lnTo>
                    <a:pt x="209" y="199"/>
                  </a:lnTo>
                  <a:lnTo>
                    <a:pt x="204" y="160"/>
                  </a:lnTo>
                  <a:lnTo>
                    <a:pt x="191" y="121"/>
                  </a:lnTo>
                  <a:lnTo>
                    <a:pt x="170" y="87"/>
                  </a:lnTo>
                  <a:lnTo>
                    <a:pt x="144" y="55"/>
                  </a:lnTo>
                  <a:lnTo>
                    <a:pt x="113" y="31"/>
                  </a:lnTo>
                  <a:lnTo>
                    <a:pt x="73" y="11"/>
                  </a:lnTo>
                  <a:lnTo>
                    <a:pt x="32" y="0"/>
                  </a:lnTo>
                  <a:lnTo>
                    <a:pt x="0" y="0"/>
                  </a:lnTo>
                  <a:lnTo>
                    <a:pt x="0" y="87"/>
                  </a:lnTo>
                  <a:lnTo>
                    <a:pt x="20" y="87"/>
                  </a:lnTo>
                  <a:lnTo>
                    <a:pt x="42" y="92"/>
                  </a:lnTo>
                  <a:lnTo>
                    <a:pt x="63" y="102"/>
                  </a:lnTo>
                  <a:lnTo>
                    <a:pt x="83" y="118"/>
                  </a:lnTo>
                  <a:lnTo>
                    <a:pt x="97" y="136"/>
                  </a:lnTo>
                  <a:lnTo>
                    <a:pt x="109" y="155"/>
                  </a:lnTo>
                  <a:lnTo>
                    <a:pt x="115" y="179"/>
                  </a:lnTo>
                  <a:lnTo>
                    <a:pt x="117" y="201"/>
                  </a:lnTo>
                  <a:lnTo>
                    <a:pt x="117" y="225"/>
                  </a:lnTo>
                  <a:lnTo>
                    <a:pt x="109" y="249"/>
                  </a:lnTo>
                  <a:lnTo>
                    <a:pt x="99" y="270"/>
                  </a:lnTo>
                  <a:lnTo>
                    <a:pt x="83" y="289"/>
                  </a:lnTo>
                  <a:lnTo>
                    <a:pt x="65" y="306"/>
                  </a:lnTo>
                  <a:lnTo>
                    <a:pt x="46" y="317"/>
                  </a:lnTo>
                  <a:lnTo>
                    <a:pt x="24" y="325"/>
                  </a:lnTo>
                  <a:lnTo>
                    <a:pt x="0" y="330"/>
                  </a:lnTo>
                  <a:close/>
                </a:path>
              </a:pathLst>
            </a:custGeom>
            <a:blipFill rotWithShape="0">
              <a:blip r:embed="rId15"/>
              <a:srcRect/>
              <a:stretch/>
            </a:blip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5" name=""/>
            <p:cNvSpPr/>
            <p:nvPr/>
          </p:nvSpPr>
          <p:spPr>
            <a:xfrm>
              <a:off x="1837800" y="470880"/>
              <a:ext cx="26640" cy="47880"/>
            </a:xfrm>
            <a:custGeom>
              <a:avLst/>
              <a:gdLst/>
              <a:ahLst/>
              <a:rect l="l" t="t" r="r" b="b"/>
              <a:pathLst>
                <a:path w="212" h="419">
                  <a:moveTo>
                    <a:pt x="212" y="89"/>
                  </a:moveTo>
                  <a:lnTo>
                    <a:pt x="212" y="2"/>
                  </a:lnTo>
                  <a:lnTo>
                    <a:pt x="202" y="0"/>
                  </a:lnTo>
                  <a:lnTo>
                    <a:pt x="163" y="3"/>
                  </a:lnTo>
                  <a:lnTo>
                    <a:pt x="126" y="18"/>
                  </a:lnTo>
                  <a:lnTo>
                    <a:pt x="90" y="37"/>
                  </a:lnTo>
                  <a:lnTo>
                    <a:pt x="58" y="63"/>
                  </a:lnTo>
                  <a:lnTo>
                    <a:pt x="33" y="94"/>
                  </a:lnTo>
                  <a:lnTo>
                    <a:pt x="15" y="134"/>
                  </a:lnTo>
                  <a:lnTo>
                    <a:pt x="3" y="175"/>
                  </a:lnTo>
                  <a:lnTo>
                    <a:pt x="0" y="217"/>
                  </a:lnTo>
                  <a:lnTo>
                    <a:pt x="5" y="256"/>
                  </a:lnTo>
                  <a:lnTo>
                    <a:pt x="18" y="293"/>
                  </a:lnTo>
                  <a:lnTo>
                    <a:pt x="37" y="329"/>
                  </a:lnTo>
                  <a:lnTo>
                    <a:pt x="65" y="361"/>
                  </a:lnTo>
                  <a:lnTo>
                    <a:pt x="96" y="387"/>
                  </a:lnTo>
                  <a:lnTo>
                    <a:pt x="136" y="404"/>
                  </a:lnTo>
                  <a:lnTo>
                    <a:pt x="177" y="416"/>
                  </a:lnTo>
                  <a:lnTo>
                    <a:pt x="212" y="419"/>
                  </a:lnTo>
                  <a:lnTo>
                    <a:pt x="212" y="332"/>
                  </a:lnTo>
                  <a:lnTo>
                    <a:pt x="212" y="332"/>
                  </a:lnTo>
                  <a:lnTo>
                    <a:pt x="189" y="332"/>
                  </a:lnTo>
                  <a:lnTo>
                    <a:pt x="167" y="324"/>
                  </a:lnTo>
                  <a:lnTo>
                    <a:pt x="146" y="314"/>
                  </a:lnTo>
                  <a:lnTo>
                    <a:pt x="126" y="298"/>
                  </a:lnTo>
                  <a:lnTo>
                    <a:pt x="112" y="280"/>
                  </a:lnTo>
                  <a:lnTo>
                    <a:pt x="102" y="258"/>
                  </a:lnTo>
                  <a:lnTo>
                    <a:pt x="94" y="236"/>
                  </a:lnTo>
                  <a:lnTo>
                    <a:pt x="92" y="212"/>
                  </a:lnTo>
                  <a:lnTo>
                    <a:pt x="94" y="189"/>
                  </a:lnTo>
                  <a:lnTo>
                    <a:pt x="100" y="165"/>
                  </a:lnTo>
                  <a:lnTo>
                    <a:pt x="110" y="144"/>
                  </a:lnTo>
                  <a:lnTo>
                    <a:pt x="126" y="126"/>
                  </a:lnTo>
                  <a:lnTo>
                    <a:pt x="144" y="110"/>
                  </a:lnTo>
                  <a:lnTo>
                    <a:pt x="163" y="99"/>
                  </a:lnTo>
                  <a:lnTo>
                    <a:pt x="185" y="91"/>
                  </a:lnTo>
                  <a:lnTo>
                    <a:pt x="209" y="86"/>
                  </a:lnTo>
                  <a:lnTo>
                    <a:pt x="212" y="89"/>
                  </a:lnTo>
                  <a:close/>
                </a:path>
              </a:pathLst>
            </a:custGeom>
            <a:blipFill rotWithShape="0">
              <a:blip r:embed="rId16"/>
              <a:srcRect/>
              <a:stretch/>
            </a:blip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66" name=""/>
            <p:cNvSpPr/>
            <p:nvPr/>
          </p:nvSpPr>
          <p:spPr>
            <a:xfrm>
              <a:off x="1929960" y="473400"/>
              <a:ext cx="165960" cy="159480"/>
            </a:xfrm>
            <a:custGeom>
              <a:avLst/>
              <a:gdLst/>
              <a:ahLst/>
              <a:rect l="l" t="t" r="r" b="b"/>
              <a:pathLst>
                <a:path w="1298" h="1375">
                  <a:moveTo>
                    <a:pt x="0" y="930"/>
                  </a:moveTo>
                  <a:lnTo>
                    <a:pt x="559" y="0"/>
                  </a:lnTo>
                  <a:lnTo>
                    <a:pt x="695" y="81"/>
                  </a:lnTo>
                  <a:lnTo>
                    <a:pt x="270" y="789"/>
                  </a:lnTo>
                  <a:lnTo>
                    <a:pt x="272" y="792"/>
                  </a:lnTo>
                  <a:lnTo>
                    <a:pt x="1151" y="355"/>
                  </a:lnTo>
                  <a:lnTo>
                    <a:pt x="1298" y="444"/>
                  </a:lnTo>
                  <a:lnTo>
                    <a:pt x="740" y="1375"/>
                  </a:lnTo>
                  <a:lnTo>
                    <a:pt x="604" y="1292"/>
                  </a:lnTo>
                  <a:lnTo>
                    <a:pt x="1036" y="575"/>
                  </a:lnTo>
                  <a:lnTo>
                    <a:pt x="1034" y="572"/>
                  </a:lnTo>
                  <a:lnTo>
                    <a:pt x="140" y="1014"/>
                  </a:lnTo>
                  <a:lnTo>
                    <a:pt x="0" y="930"/>
                  </a:lnTo>
                  <a:close/>
                </a:path>
              </a:pathLst>
            </a:custGeom>
            <a:blipFill rotWithShape="0">
              <a:blip r:embed="rId17"/>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2055240" y="557280"/>
              <a:ext cx="164880" cy="153000"/>
            </a:xfrm>
            <a:custGeom>
              <a:avLst/>
              <a:gdLst/>
              <a:ahLst/>
              <a:rect l="l" t="t" r="r" b="b"/>
              <a:pathLst>
                <a:path w="1287" h="1326">
                  <a:moveTo>
                    <a:pt x="589" y="1326"/>
                  </a:moveTo>
                  <a:lnTo>
                    <a:pt x="617" y="634"/>
                  </a:lnTo>
                  <a:lnTo>
                    <a:pt x="1287" y="494"/>
                  </a:lnTo>
                  <a:lnTo>
                    <a:pt x="1138" y="367"/>
                  </a:lnTo>
                  <a:lnTo>
                    <a:pt x="476" y="515"/>
                  </a:lnTo>
                  <a:lnTo>
                    <a:pt x="474" y="513"/>
                  </a:lnTo>
                  <a:lnTo>
                    <a:pt x="819" y="101"/>
                  </a:lnTo>
                  <a:lnTo>
                    <a:pt x="699" y="0"/>
                  </a:lnTo>
                  <a:lnTo>
                    <a:pt x="0" y="831"/>
                  </a:lnTo>
                  <a:lnTo>
                    <a:pt x="121" y="934"/>
                  </a:lnTo>
                  <a:lnTo>
                    <a:pt x="474" y="513"/>
                  </a:lnTo>
                  <a:lnTo>
                    <a:pt x="476" y="515"/>
                  </a:lnTo>
                  <a:lnTo>
                    <a:pt x="441" y="1200"/>
                  </a:lnTo>
                  <a:lnTo>
                    <a:pt x="589" y="1326"/>
                  </a:lnTo>
                  <a:close/>
                </a:path>
              </a:pathLst>
            </a:custGeom>
            <a:blipFill rotWithShape="0">
              <a:blip r:embed="rId18"/>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2234520" y="666720"/>
              <a:ext cx="51120" cy="101880"/>
            </a:xfrm>
            <a:custGeom>
              <a:avLst/>
              <a:gdLst/>
              <a:ahLst/>
              <a:rect l="l" t="t" r="r" b="b"/>
              <a:pathLst>
                <a:path w="403" h="882">
                  <a:moveTo>
                    <a:pt x="0" y="545"/>
                  </a:moveTo>
                  <a:lnTo>
                    <a:pt x="0" y="882"/>
                  </a:lnTo>
                  <a:lnTo>
                    <a:pt x="403" y="105"/>
                  </a:lnTo>
                  <a:lnTo>
                    <a:pt x="306" y="0"/>
                  </a:lnTo>
                  <a:lnTo>
                    <a:pt x="0" y="118"/>
                  </a:lnTo>
                  <a:lnTo>
                    <a:pt x="0" y="277"/>
                  </a:lnTo>
                  <a:lnTo>
                    <a:pt x="201" y="190"/>
                  </a:lnTo>
                  <a:lnTo>
                    <a:pt x="204" y="192"/>
                  </a:lnTo>
                  <a:lnTo>
                    <a:pt x="0" y="545"/>
                  </a:lnTo>
                  <a:close/>
                </a:path>
              </a:pathLst>
            </a:custGeom>
            <a:blipFill rotWithShape="0">
              <a:blip r:embed="rId1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2135160" y="680760"/>
              <a:ext cx="99360" cy="117720"/>
            </a:xfrm>
            <a:custGeom>
              <a:avLst/>
              <a:gdLst/>
              <a:ahLst/>
              <a:rect l="l" t="t" r="r" b="b"/>
              <a:pathLst>
                <a:path w="777" h="1021">
                  <a:moveTo>
                    <a:pt x="777" y="159"/>
                  </a:moveTo>
                  <a:lnTo>
                    <a:pt x="777" y="0"/>
                  </a:lnTo>
                  <a:lnTo>
                    <a:pt x="0" y="303"/>
                  </a:lnTo>
                  <a:lnTo>
                    <a:pt x="112" y="427"/>
                  </a:lnTo>
                  <a:lnTo>
                    <a:pt x="429" y="303"/>
                  </a:lnTo>
                  <a:lnTo>
                    <a:pt x="693" y="593"/>
                  </a:lnTo>
                  <a:lnTo>
                    <a:pt x="534" y="897"/>
                  </a:lnTo>
                  <a:lnTo>
                    <a:pt x="646" y="1021"/>
                  </a:lnTo>
                  <a:lnTo>
                    <a:pt x="777" y="764"/>
                  </a:lnTo>
                  <a:lnTo>
                    <a:pt x="777" y="427"/>
                  </a:lnTo>
                  <a:lnTo>
                    <a:pt x="764" y="455"/>
                  </a:lnTo>
                  <a:lnTo>
                    <a:pt x="576" y="246"/>
                  </a:lnTo>
                  <a:lnTo>
                    <a:pt x="777" y="159"/>
                  </a:lnTo>
                  <a:close/>
                </a:path>
              </a:pathLst>
            </a:custGeom>
            <a:blipFill rotWithShape="0">
              <a:blip r:embed="rId2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2318400" y="763200"/>
              <a:ext cx="71640" cy="130680"/>
            </a:xfrm>
            <a:custGeom>
              <a:avLst/>
              <a:gdLst/>
              <a:ahLst/>
              <a:rect l="l" t="t" r="r" b="b"/>
              <a:pathLst>
                <a:path w="566" h="1128">
                  <a:moveTo>
                    <a:pt x="0" y="974"/>
                  </a:moveTo>
                  <a:lnTo>
                    <a:pt x="0" y="1128"/>
                  </a:lnTo>
                  <a:lnTo>
                    <a:pt x="32" y="1128"/>
                  </a:lnTo>
                  <a:lnTo>
                    <a:pt x="85" y="1122"/>
                  </a:lnTo>
                  <a:lnTo>
                    <a:pt x="139" y="1112"/>
                  </a:lnTo>
                  <a:lnTo>
                    <a:pt x="192" y="1097"/>
                  </a:lnTo>
                  <a:lnTo>
                    <a:pt x="241" y="1075"/>
                  </a:lnTo>
                  <a:lnTo>
                    <a:pt x="291" y="1049"/>
                  </a:lnTo>
                  <a:lnTo>
                    <a:pt x="338" y="1018"/>
                  </a:lnTo>
                  <a:lnTo>
                    <a:pt x="381" y="982"/>
                  </a:lnTo>
                  <a:lnTo>
                    <a:pt x="421" y="942"/>
                  </a:lnTo>
                  <a:lnTo>
                    <a:pt x="456" y="899"/>
                  </a:lnTo>
                  <a:lnTo>
                    <a:pt x="485" y="854"/>
                  </a:lnTo>
                  <a:lnTo>
                    <a:pt x="511" y="806"/>
                  </a:lnTo>
                  <a:lnTo>
                    <a:pt x="533" y="757"/>
                  </a:lnTo>
                  <a:lnTo>
                    <a:pt x="549" y="706"/>
                  </a:lnTo>
                  <a:lnTo>
                    <a:pt x="561" y="652"/>
                  </a:lnTo>
                  <a:lnTo>
                    <a:pt x="566" y="599"/>
                  </a:lnTo>
                  <a:lnTo>
                    <a:pt x="566" y="544"/>
                  </a:lnTo>
                  <a:lnTo>
                    <a:pt x="563" y="489"/>
                  </a:lnTo>
                  <a:lnTo>
                    <a:pt x="551" y="433"/>
                  </a:lnTo>
                  <a:lnTo>
                    <a:pt x="535" y="380"/>
                  </a:lnTo>
                  <a:lnTo>
                    <a:pt x="513" y="327"/>
                  </a:lnTo>
                  <a:lnTo>
                    <a:pt x="484" y="273"/>
                  </a:lnTo>
                  <a:lnTo>
                    <a:pt x="450" y="223"/>
                  </a:lnTo>
                  <a:lnTo>
                    <a:pt x="412" y="176"/>
                  </a:lnTo>
                  <a:lnTo>
                    <a:pt x="372" y="137"/>
                  </a:lnTo>
                  <a:lnTo>
                    <a:pt x="328" y="102"/>
                  </a:lnTo>
                  <a:lnTo>
                    <a:pt x="281" y="72"/>
                  </a:lnTo>
                  <a:lnTo>
                    <a:pt x="231" y="47"/>
                  </a:lnTo>
                  <a:lnTo>
                    <a:pt x="179" y="27"/>
                  </a:lnTo>
                  <a:lnTo>
                    <a:pt x="129" y="13"/>
                  </a:lnTo>
                  <a:lnTo>
                    <a:pt x="76" y="3"/>
                  </a:lnTo>
                  <a:lnTo>
                    <a:pt x="22" y="0"/>
                  </a:lnTo>
                  <a:lnTo>
                    <a:pt x="0" y="0"/>
                  </a:lnTo>
                  <a:lnTo>
                    <a:pt x="0" y="155"/>
                  </a:lnTo>
                  <a:lnTo>
                    <a:pt x="38" y="155"/>
                  </a:lnTo>
                  <a:lnTo>
                    <a:pt x="77" y="157"/>
                  </a:lnTo>
                  <a:lnTo>
                    <a:pt x="116" y="165"/>
                  </a:lnTo>
                  <a:lnTo>
                    <a:pt x="156" y="176"/>
                  </a:lnTo>
                  <a:lnTo>
                    <a:pt x="194" y="192"/>
                  </a:lnTo>
                  <a:lnTo>
                    <a:pt x="231" y="215"/>
                  </a:lnTo>
                  <a:lnTo>
                    <a:pt x="267" y="238"/>
                  </a:lnTo>
                  <a:lnTo>
                    <a:pt x="300" y="270"/>
                  </a:lnTo>
                  <a:lnTo>
                    <a:pt x="332" y="305"/>
                  </a:lnTo>
                  <a:lnTo>
                    <a:pt x="359" y="349"/>
                  </a:lnTo>
                  <a:lnTo>
                    <a:pt x="383" y="392"/>
                  </a:lnTo>
                  <a:lnTo>
                    <a:pt x="401" y="435"/>
                  </a:lnTo>
                  <a:lnTo>
                    <a:pt x="412" y="479"/>
                  </a:lnTo>
                  <a:lnTo>
                    <a:pt x="419" y="521"/>
                  </a:lnTo>
                  <a:lnTo>
                    <a:pt x="419" y="561"/>
                  </a:lnTo>
                  <a:lnTo>
                    <a:pt x="417" y="603"/>
                  </a:lnTo>
                  <a:lnTo>
                    <a:pt x="409" y="642"/>
                  </a:lnTo>
                  <a:lnTo>
                    <a:pt x="396" y="680"/>
                  </a:lnTo>
                  <a:lnTo>
                    <a:pt x="383" y="717"/>
                  </a:lnTo>
                  <a:lnTo>
                    <a:pt x="365" y="753"/>
                  </a:lnTo>
                  <a:lnTo>
                    <a:pt x="344" y="786"/>
                  </a:lnTo>
                  <a:lnTo>
                    <a:pt x="320" y="816"/>
                  </a:lnTo>
                  <a:lnTo>
                    <a:pt x="294" y="846"/>
                  </a:lnTo>
                  <a:lnTo>
                    <a:pt x="267" y="872"/>
                  </a:lnTo>
                  <a:lnTo>
                    <a:pt x="237" y="895"/>
                  </a:lnTo>
                  <a:lnTo>
                    <a:pt x="207" y="915"/>
                  </a:lnTo>
                  <a:lnTo>
                    <a:pt x="178" y="931"/>
                  </a:lnTo>
                  <a:lnTo>
                    <a:pt x="147" y="945"/>
                  </a:lnTo>
                  <a:lnTo>
                    <a:pt x="113" y="955"/>
                  </a:lnTo>
                  <a:lnTo>
                    <a:pt x="77" y="964"/>
                  </a:lnTo>
                  <a:lnTo>
                    <a:pt x="40" y="971"/>
                  </a:lnTo>
                  <a:lnTo>
                    <a:pt x="3" y="974"/>
                  </a:lnTo>
                  <a:lnTo>
                    <a:pt x="0" y="974"/>
                  </a:lnTo>
                  <a:close/>
                </a:path>
              </a:pathLst>
            </a:custGeom>
            <a:blipFill rotWithShape="0">
              <a:blip r:embed="rId2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2245680" y="763200"/>
              <a:ext cx="72720" cy="130680"/>
            </a:xfrm>
            <a:custGeom>
              <a:avLst/>
              <a:gdLst/>
              <a:ahLst/>
              <a:rect l="l" t="t" r="r" b="b"/>
              <a:pathLst>
                <a:path w="565" h="1128">
                  <a:moveTo>
                    <a:pt x="562" y="155"/>
                  </a:moveTo>
                  <a:lnTo>
                    <a:pt x="562" y="0"/>
                  </a:lnTo>
                  <a:lnTo>
                    <a:pt x="529" y="0"/>
                  </a:lnTo>
                  <a:lnTo>
                    <a:pt x="476" y="5"/>
                  </a:lnTo>
                  <a:lnTo>
                    <a:pt x="422" y="17"/>
                  </a:lnTo>
                  <a:lnTo>
                    <a:pt x="371" y="32"/>
                  </a:lnTo>
                  <a:lnTo>
                    <a:pt x="322" y="53"/>
                  </a:lnTo>
                  <a:lnTo>
                    <a:pt x="272" y="80"/>
                  </a:lnTo>
                  <a:lnTo>
                    <a:pt x="227" y="110"/>
                  </a:lnTo>
                  <a:lnTo>
                    <a:pt x="183" y="145"/>
                  </a:lnTo>
                  <a:lnTo>
                    <a:pt x="146" y="184"/>
                  </a:lnTo>
                  <a:lnTo>
                    <a:pt x="110" y="226"/>
                  </a:lnTo>
                  <a:lnTo>
                    <a:pt x="81" y="272"/>
                  </a:lnTo>
                  <a:lnTo>
                    <a:pt x="55" y="319"/>
                  </a:lnTo>
                  <a:lnTo>
                    <a:pt x="34" y="369"/>
                  </a:lnTo>
                  <a:lnTo>
                    <a:pt x="18" y="419"/>
                  </a:lnTo>
                  <a:lnTo>
                    <a:pt x="6" y="473"/>
                  </a:lnTo>
                  <a:lnTo>
                    <a:pt x="0" y="526"/>
                  </a:lnTo>
                  <a:lnTo>
                    <a:pt x="0" y="581"/>
                  </a:lnTo>
                  <a:lnTo>
                    <a:pt x="3" y="636"/>
                  </a:lnTo>
                  <a:lnTo>
                    <a:pt x="13" y="692"/>
                  </a:lnTo>
                  <a:lnTo>
                    <a:pt x="29" y="747"/>
                  </a:lnTo>
                  <a:lnTo>
                    <a:pt x="51" y="801"/>
                  </a:lnTo>
                  <a:lnTo>
                    <a:pt x="81" y="854"/>
                  </a:lnTo>
                  <a:lnTo>
                    <a:pt x="115" y="903"/>
                  </a:lnTo>
                  <a:lnTo>
                    <a:pt x="150" y="948"/>
                  </a:lnTo>
                  <a:lnTo>
                    <a:pt x="191" y="987"/>
                  </a:lnTo>
                  <a:lnTo>
                    <a:pt x="235" y="1023"/>
                  </a:lnTo>
                  <a:lnTo>
                    <a:pt x="282" y="1053"/>
                  </a:lnTo>
                  <a:lnTo>
                    <a:pt x="332" y="1079"/>
                  </a:lnTo>
                  <a:lnTo>
                    <a:pt x="380" y="1099"/>
                  </a:lnTo>
                  <a:lnTo>
                    <a:pt x="434" y="1112"/>
                  </a:lnTo>
                  <a:lnTo>
                    <a:pt x="487" y="1122"/>
                  </a:lnTo>
                  <a:lnTo>
                    <a:pt x="541" y="1128"/>
                  </a:lnTo>
                  <a:lnTo>
                    <a:pt x="562" y="1128"/>
                  </a:lnTo>
                  <a:lnTo>
                    <a:pt x="565" y="974"/>
                  </a:lnTo>
                  <a:lnTo>
                    <a:pt x="525" y="974"/>
                  </a:lnTo>
                  <a:lnTo>
                    <a:pt x="487" y="971"/>
                  </a:lnTo>
                  <a:lnTo>
                    <a:pt x="448" y="963"/>
                  </a:lnTo>
                  <a:lnTo>
                    <a:pt x="408" y="950"/>
                  </a:lnTo>
                  <a:lnTo>
                    <a:pt x="371" y="935"/>
                  </a:lnTo>
                  <a:lnTo>
                    <a:pt x="333" y="915"/>
                  </a:lnTo>
                  <a:lnTo>
                    <a:pt x="298" y="890"/>
                  </a:lnTo>
                  <a:lnTo>
                    <a:pt x="264" y="858"/>
                  </a:lnTo>
                  <a:lnTo>
                    <a:pt x="233" y="822"/>
                  </a:lnTo>
                  <a:lnTo>
                    <a:pt x="205" y="778"/>
                  </a:lnTo>
                  <a:lnTo>
                    <a:pt x="181" y="735"/>
                  </a:lnTo>
                  <a:lnTo>
                    <a:pt x="163" y="690"/>
                  </a:lnTo>
                  <a:lnTo>
                    <a:pt x="152" y="647"/>
                  </a:lnTo>
                  <a:lnTo>
                    <a:pt x="146" y="603"/>
                  </a:lnTo>
                  <a:lnTo>
                    <a:pt x="146" y="561"/>
                  </a:lnTo>
                  <a:lnTo>
                    <a:pt x="147" y="521"/>
                  </a:lnTo>
                  <a:lnTo>
                    <a:pt x="155" y="481"/>
                  </a:lnTo>
                  <a:lnTo>
                    <a:pt x="168" y="441"/>
                  </a:lnTo>
                  <a:lnTo>
                    <a:pt x="183" y="406"/>
                  </a:lnTo>
                  <a:lnTo>
                    <a:pt x="201" y="370"/>
                  </a:lnTo>
                  <a:lnTo>
                    <a:pt x="223" y="338"/>
                  </a:lnTo>
                  <a:lnTo>
                    <a:pt x="246" y="309"/>
                  </a:lnTo>
                  <a:lnTo>
                    <a:pt x="272" y="281"/>
                  </a:lnTo>
                  <a:lnTo>
                    <a:pt x="298" y="256"/>
                  </a:lnTo>
                  <a:lnTo>
                    <a:pt x="325" y="234"/>
                  </a:lnTo>
                  <a:lnTo>
                    <a:pt x="353" y="215"/>
                  </a:lnTo>
                  <a:lnTo>
                    <a:pt x="382" y="199"/>
                  </a:lnTo>
                  <a:lnTo>
                    <a:pt x="414" y="184"/>
                  </a:lnTo>
                  <a:lnTo>
                    <a:pt x="450" y="173"/>
                  </a:lnTo>
                  <a:lnTo>
                    <a:pt x="485" y="165"/>
                  </a:lnTo>
                  <a:lnTo>
                    <a:pt x="523" y="157"/>
                  </a:lnTo>
                  <a:lnTo>
                    <a:pt x="560" y="155"/>
                  </a:lnTo>
                  <a:lnTo>
                    <a:pt x="562" y="155"/>
                  </a:lnTo>
                  <a:close/>
                </a:path>
              </a:pathLst>
            </a:custGeom>
            <a:blipFill rotWithShape="0">
              <a:blip r:embed="rId2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956880" y="1810440"/>
              <a:ext cx="15120" cy="18360"/>
            </a:xfrm>
            <a:custGeom>
              <a:avLst/>
              <a:gdLst/>
              <a:ahLst/>
              <a:rect l="l" t="t" r="r" b="b"/>
              <a:pathLst>
                <a:path w="120" h="165">
                  <a:moveTo>
                    <a:pt x="0" y="0"/>
                  </a:moveTo>
                  <a:lnTo>
                    <a:pt x="0" y="160"/>
                  </a:lnTo>
                  <a:lnTo>
                    <a:pt x="3" y="160"/>
                  </a:lnTo>
                  <a:lnTo>
                    <a:pt x="39" y="165"/>
                  </a:lnTo>
                  <a:lnTo>
                    <a:pt x="69" y="165"/>
                  </a:lnTo>
                  <a:lnTo>
                    <a:pt x="92" y="162"/>
                  </a:lnTo>
                  <a:lnTo>
                    <a:pt x="107" y="152"/>
                  </a:lnTo>
                  <a:lnTo>
                    <a:pt x="115" y="134"/>
                  </a:lnTo>
                  <a:lnTo>
                    <a:pt x="120" y="110"/>
                  </a:lnTo>
                  <a:lnTo>
                    <a:pt x="118" y="97"/>
                  </a:lnTo>
                  <a:lnTo>
                    <a:pt x="115" y="84"/>
                  </a:lnTo>
                  <a:lnTo>
                    <a:pt x="107" y="73"/>
                  </a:lnTo>
                  <a:lnTo>
                    <a:pt x="95" y="63"/>
                  </a:lnTo>
                  <a:lnTo>
                    <a:pt x="34" y="26"/>
                  </a:lnTo>
                  <a:lnTo>
                    <a:pt x="8" y="5"/>
                  </a:lnTo>
                  <a:lnTo>
                    <a:pt x="0" y="0"/>
                  </a:lnTo>
                  <a:close/>
                </a:path>
              </a:pathLst>
            </a:custGeom>
            <a:blipFill rotWithShape="0">
              <a:blip r:embed="rId23"/>
              <a:srcRect/>
              <a:stretch/>
            </a:blip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73" name=""/>
            <p:cNvSpPr/>
            <p:nvPr/>
          </p:nvSpPr>
          <p:spPr>
            <a:xfrm>
              <a:off x="956880" y="1732680"/>
              <a:ext cx="51120" cy="74160"/>
            </a:xfrm>
            <a:custGeom>
              <a:avLst/>
              <a:gdLst/>
              <a:ahLst/>
              <a:rect l="l" t="t" r="r" b="b"/>
              <a:pathLst>
                <a:path w="398" h="639">
                  <a:moveTo>
                    <a:pt x="0" y="334"/>
                  </a:moveTo>
                  <a:lnTo>
                    <a:pt x="0" y="481"/>
                  </a:lnTo>
                  <a:lnTo>
                    <a:pt x="180" y="639"/>
                  </a:lnTo>
                  <a:lnTo>
                    <a:pt x="398" y="397"/>
                  </a:lnTo>
                  <a:lnTo>
                    <a:pt x="383" y="377"/>
                  </a:lnTo>
                  <a:lnTo>
                    <a:pt x="293" y="270"/>
                  </a:lnTo>
                  <a:lnTo>
                    <a:pt x="241" y="217"/>
                  </a:lnTo>
                  <a:lnTo>
                    <a:pt x="172" y="149"/>
                  </a:lnTo>
                  <a:lnTo>
                    <a:pt x="6" y="2"/>
                  </a:lnTo>
                  <a:lnTo>
                    <a:pt x="0" y="0"/>
                  </a:lnTo>
                  <a:lnTo>
                    <a:pt x="0" y="142"/>
                  </a:lnTo>
                  <a:lnTo>
                    <a:pt x="243" y="363"/>
                  </a:lnTo>
                  <a:lnTo>
                    <a:pt x="146" y="470"/>
                  </a:lnTo>
                  <a:lnTo>
                    <a:pt x="0" y="334"/>
                  </a:lnTo>
                  <a:close/>
                </a:path>
              </a:pathLst>
            </a:custGeom>
            <a:blipFill rotWithShape="0">
              <a:blip r:embed="rId24"/>
              <a:srcRect/>
              <a:stretch/>
            </a:blip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74" name=""/>
            <p:cNvSpPr/>
            <p:nvPr/>
          </p:nvSpPr>
          <p:spPr>
            <a:xfrm>
              <a:off x="930240" y="1712160"/>
              <a:ext cx="26280" cy="36720"/>
            </a:xfrm>
            <a:custGeom>
              <a:avLst/>
              <a:gdLst/>
              <a:ahLst/>
              <a:rect l="l" t="t" r="r" b="b"/>
              <a:pathLst>
                <a:path w="209" h="322">
                  <a:moveTo>
                    <a:pt x="209" y="322"/>
                  </a:moveTo>
                  <a:lnTo>
                    <a:pt x="209" y="180"/>
                  </a:lnTo>
                  <a:lnTo>
                    <a:pt x="5" y="0"/>
                  </a:lnTo>
                  <a:lnTo>
                    <a:pt x="0" y="7"/>
                  </a:lnTo>
                  <a:lnTo>
                    <a:pt x="0" y="239"/>
                  </a:lnTo>
                  <a:lnTo>
                    <a:pt x="59" y="182"/>
                  </a:lnTo>
                  <a:lnTo>
                    <a:pt x="209" y="322"/>
                  </a:lnTo>
                  <a:close/>
                </a:path>
              </a:pathLst>
            </a:custGeom>
            <a:blipFill rotWithShape="0">
              <a:blip r:embed="rId25"/>
              <a:srcRect/>
              <a:stretch/>
            </a:blip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75" name=""/>
            <p:cNvSpPr/>
            <p:nvPr/>
          </p:nvSpPr>
          <p:spPr>
            <a:xfrm>
              <a:off x="930240" y="1748520"/>
              <a:ext cx="26280" cy="80280"/>
            </a:xfrm>
            <a:custGeom>
              <a:avLst/>
              <a:gdLst/>
              <a:ahLst/>
              <a:rect l="l" t="t" r="r" b="b"/>
              <a:pathLst>
                <a:path w="209" h="693">
                  <a:moveTo>
                    <a:pt x="209" y="347"/>
                  </a:moveTo>
                  <a:lnTo>
                    <a:pt x="209" y="200"/>
                  </a:lnTo>
                  <a:lnTo>
                    <a:pt x="0" y="0"/>
                  </a:lnTo>
                  <a:lnTo>
                    <a:pt x="0" y="158"/>
                  </a:lnTo>
                  <a:lnTo>
                    <a:pt x="36" y="188"/>
                  </a:lnTo>
                  <a:lnTo>
                    <a:pt x="0" y="239"/>
                  </a:lnTo>
                  <a:lnTo>
                    <a:pt x="0" y="478"/>
                  </a:lnTo>
                  <a:lnTo>
                    <a:pt x="144" y="608"/>
                  </a:lnTo>
                  <a:lnTo>
                    <a:pt x="154" y="617"/>
                  </a:lnTo>
                  <a:lnTo>
                    <a:pt x="160" y="632"/>
                  </a:lnTo>
                  <a:lnTo>
                    <a:pt x="172" y="655"/>
                  </a:lnTo>
                  <a:lnTo>
                    <a:pt x="178" y="667"/>
                  </a:lnTo>
                  <a:lnTo>
                    <a:pt x="185" y="677"/>
                  </a:lnTo>
                  <a:lnTo>
                    <a:pt x="197" y="687"/>
                  </a:lnTo>
                  <a:lnTo>
                    <a:pt x="209" y="693"/>
                  </a:lnTo>
                  <a:lnTo>
                    <a:pt x="209" y="533"/>
                  </a:lnTo>
                  <a:lnTo>
                    <a:pt x="193" y="513"/>
                  </a:lnTo>
                  <a:lnTo>
                    <a:pt x="146" y="465"/>
                  </a:lnTo>
                  <a:lnTo>
                    <a:pt x="52" y="376"/>
                  </a:lnTo>
                  <a:lnTo>
                    <a:pt x="89" y="329"/>
                  </a:lnTo>
                  <a:lnTo>
                    <a:pt x="134" y="276"/>
                  </a:lnTo>
                  <a:lnTo>
                    <a:pt x="209" y="347"/>
                  </a:lnTo>
                  <a:close/>
                </a:path>
              </a:pathLst>
            </a:custGeom>
            <a:blipFill rotWithShape="0">
              <a:blip r:embed="rId26"/>
              <a:srcRect/>
              <a:stretch/>
            </a:blipFill>
            <a:ln w="0">
              <a:no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Times New Roman"/>
              </a:endParaRPr>
            </a:p>
          </p:txBody>
        </p:sp>
        <p:sp>
          <p:nvSpPr>
            <p:cNvPr id="76" name=""/>
            <p:cNvSpPr/>
            <p:nvPr/>
          </p:nvSpPr>
          <p:spPr>
            <a:xfrm>
              <a:off x="930240" y="1843920"/>
              <a:ext cx="18360" cy="23040"/>
            </a:xfrm>
            <a:custGeom>
              <a:avLst/>
              <a:gdLst/>
              <a:ahLst/>
              <a:rect l="l" t="t" r="r" b="b"/>
              <a:pathLst>
                <a:path w="140" h="196">
                  <a:moveTo>
                    <a:pt x="0" y="36"/>
                  </a:moveTo>
                  <a:lnTo>
                    <a:pt x="0" y="196"/>
                  </a:lnTo>
                  <a:lnTo>
                    <a:pt x="28" y="193"/>
                  </a:lnTo>
                  <a:lnTo>
                    <a:pt x="65" y="183"/>
                  </a:lnTo>
                  <a:lnTo>
                    <a:pt x="92" y="167"/>
                  </a:lnTo>
                  <a:lnTo>
                    <a:pt x="112" y="151"/>
                  </a:lnTo>
                  <a:lnTo>
                    <a:pt x="126" y="135"/>
                  </a:lnTo>
                  <a:lnTo>
                    <a:pt x="134" y="120"/>
                  </a:lnTo>
                  <a:lnTo>
                    <a:pt x="140" y="105"/>
                  </a:lnTo>
                  <a:lnTo>
                    <a:pt x="92" y="0"/>
                  </a:lnTo>
                  <a:lnTo>
                    <a:pt x="71" y="15"/>
                  </a:lnTo>
                  <a:lnTo>
                    <a:pt x="52" y="24"/>
                  </a:lnTo>
                  <a:lnTo>
                    <a:pt x="28" y="34"/>
                  </a:lnTo>
                  <a:lnTo>
                    <a:pt x="2" y="36"/>
                  </a:lnTo>
                  <a:lnTo>
                    <a:pt x="0" y="36"/>
                  </a:lnTo>
                  <a:close/>
                </a:path>
              </a:pathLst>
            </a:custGeom>
            <a:blipFill rotWithShape="0">
              <a:blip r:embed="rId27"/>
              <a:srcRect/>
              <a:stretch/>
            </a:blip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77" name=""/>
            <p:cNvSpPr/>
            <p:nvPr/>
          </p:nvSpPr>
          <p:spPr>
            <a:xfrm>
              <a:off x="840240" y="1712880"/>
              <a:ext cx="90000" cy="154080"/>
            </a:xfrm>
            <a:custGeom>
              <a:avLst/>
              <a:gdLst/>
              <a:ahLst/>
              <a:rect l="l" t="t" r="r" b="b"/>
              <a:pathLst>
                <a:path w="707" h="1329">
                  <a:moveTo>
                    <a:pt x="705" y="232"/>
                  </a:moveTo>
                  <a:lnTo>
                    <a:pt x="705" y="0"/>
                  </a:lnTo>
                  <a:lnTo>
                    <a:pt x="114" y="635"/>
                  </a:lnTo>
                  <a:lnTo>
                    <a:pt x="38" y="654"/>
                  </a:lnTo>
                  <a:lnTo>
                    <a:pt x="0" y="785"/>
                  </a:lnTo>
                  <a:lnTo>
                    <a:pt x="391" y="869"/>
                  </a:lnTo>
                  <a:lnTo>
                    <a:pt x="438" y="759"/>
                  </a:lnTo>
                  <a:lnTo>
                    <a:pt x="252" y="707"/>
                  </a:lnTo>
                  <a:lnTo>
                    <a:pt x="414" y="526"/>
                  </a:lnTo>
                  <a:lnTo>
                    <a:pt x="608" y="698"/>
                  </a:lnTo>
                  <a:lnTo>
                    <a:pt x="587" y="735"/>
                  </a:lnTo>
                  <a:lnTo>
                    <a:pt x="566" y="780"/>
                  </a:lnTo>
                  <a:lnTo>
                    <a:pt x="551" y="832"/>
                  </a:lnTo>
                  <a:lnTo>
                    <a:pt x="541" y="889"/>
                  </a:lnTo>
                  <a:lnTo>
                    <a:pt x="537" y="944"/>
                  </a:lnTo>
                  <a:lnTo>
                    <a:pt x="539" y="1010"/>
                  </a:lnTo>
                  <a:lnTo>
                    <a:pt x="545" y="1083"/>
                  </a:lnTo>
                  <a:lnTo>
                    <a:pt x="556" y="1156"/>
                  </a:lnTo>
                  <a:lnTo>
                    <a:pt x="566" y="1189"/>
                  </a:lnTo>
                  <a:lnTo>
                    <a:pt x="577" y="1222"/>
                  </a:lnTo>
                  <a:lnTo>
                    <a:pt x="588" y="1250"/>
                  </a:lnTo>
                  <a:lnTo>
                    <a:pt x="605" y="1277"/>
                  </a:lnTo>
                  <a:lnTo>
                    <a:pt x="620" y="1298"/>
                  </a:lnTo>
                  <a:lnTo>
                    <a:pt x="640" y="1316"/>
                  </a:lnTo>
                  <a:lnTo>
                    <a:pt x="661" y="1326"/>
                  </a:lnTo>
                  <a:lnTo>
                    <a:pt x="687" y="1329"/>
                  </a:lnTo>
                  <a:lnTo>
                    <a:pt x="705" y="1329"/>
                  </a:lnTo>
                  <a:lnTo>
                    <a:pt x="707" y="1169"/>
                  </a:lnTo>
                  <a:lnTo>
                    <a:pt x="697" y="1165"/>
                  </a:lnTo>
                  <a:lnTo>
                    <a:pt x="687" y="1159"/>
                  </a:lnTo>
                  <a:lnTo>
                    <a:pt x="679" y="1149"/>
                  </a:lnTo>
                  <a:lnTo>
                    <a:pt x="671" y="1136"/>
                  </a:lnTo>
                  <a:lnTo>
                    <a:pt x="668" y="1117"/>
                  </a:lnTo>
                  <a:lnTo>
                    <a:pt x="668" y="1093"/>
                  </a:lnTo>
                  <a:lnTo>
                    <a:pt x="663" y="1021"/>
                  </a:lnTo>
                  <a:lnTo>
                    <a:pt x="660" y="948"/>
                  </a:lnTo>
                  <a:lnTo>
                    <a:pt x="661" y="911"/>
                  </a:lnTo>
                  <a:lnTo>
                    <a:pt x="669" y="869"/>
                  </a:lnTo>
                  <a:lnTo>
                    <a:pt x="681" y="826"/>
                  </a:lnTo>
                  <a:lnTo>
                    <a:pt x="700" y="779"/>
                  </a:lnTo>
                  <a:lnTo>
                    <a:pt x="705" y="785"/>
                  </a:lnTo>
                  <a:lnTo>
                    <a:pt x="705" y="546"/>
                  </a:lnTo>
                  <a:lnTo>
                    <a:pt x="668" y="603"/>
                  </a:lnTo>
                  <a:lnTo>
                    <a:pt x="490" y="439"/>
                  </a:lnTo>
                  <a:lnTo>
                    <a:pt x="572" y="345"/>
                  </a:lnTo>
                  <a:lnTo>
                    <a:pt x="705" y="465"/>
                  </a:lnTo>
                  <a:lnTo>
                    <a:pt x="705" y="307"/>
                  </a:lnTo>
                  <a:lnTo>
                    <a:pt x="668" y="270"/>
                  </a:lnTo>
                  <a:lnTo>
                    <a:pt x="705" y="232"/>
                  </a:lnTo>
                  <a:close/>
                </a:path>
              </a:pathLst>
            </a:custGeom>
            <a:blipFill rotWithShape="0">
              <a:blip r:embed="rId28"/>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560960" y="2025000"/>
              <a:ext cx="21240" cy="37800"/>
            </a:xfrm>
            <a:custGeom>
              <a:avLst/>
              <a:gdLst/>
              <a:ahLst/>
              <a:rect l="l" t="t" r="r" b="b"/>
              <a:pathLst>
                <a:path w="164" h="330">
                  <a:moveTo>
                    <a:pt x="0" y="271"/>
                  </a:moveTo>
                  <a:lnTo>
                    <a:pt x="0" y="330"/>
                  </a:lnTo>
                  <a:lnTo>
                    <a:pt x="31" y="329"/>
                  </a:lnTo>
                  <a:lnTo>
                    <a:pt x="63" y="318"/>
                  </a:lnTo>
                  <a:lnTo>
                    <a:pt x="91" y="303"/>
                  </a:lnTo>
                  <a:lnTo>
                    <a:pt x="115" y="282"/>
                  </a:lnTo>
                  <a:lnTo>
                    <a:pt x="136" y="258"/>
                  </a:lnTo>
                  <a:lnTo>
                    <a:pt x="152" y="230"/>
                  </a:lnTo>
                  <a:lnTo>
                    <a:pt x="160" y="198"/>
                  </a:lnTo>
                  <a:lnTo>
                    <a:pt x="164" y="164"/>
                  </a:lnTo>
                  <a:lnTo>
                    <a:pt x="160" y="131"/>
                  </a:lnTo>
                  <a:lnTo>
                    <a:pt x="152" y="101"/>
                  </a:lnTo>
                  <a:lnTo>
                    <a:pt x="136" y="72"/>
                  </a:lnTo>
                  <a:lnTo>
                    <a:pt x="115" y="49"/>
                  </a:lnTo>
                  <a:lnTo>
                    <a:pt x="91" y="28"/>
                  </a:lnTo>
                  <a:lnTo>
                    <a:pt x="63" y="13"/>
                  </a:lnTo>
                  <a:lnTo>
                    <a:pt x="31" y="2"/>
                  </a:lnTo>
                  <a:lnTo>
                    <a:pt x="0" y="0"/>
                  </a:lnTo>
                  <a:lnTo>
                    <a:pt x="0" y="62"/>
                  </a:lnTo>
                  <a:lnTo>
                    <a:pt x="20" y="62"/>
                  </a:lnTo>
                  <a:lnTo>
                    <a:pt x="39" y="68"/>
                  </a:lnTo>
                  <a:lnTo>
                    <a:pt x="57" y="78"/>
                  </a:lnTo>
                  <a:lnTo>
                    <a:pt x="73" y="91"/>
                  </a:lnTo>
                  <a:lnTo>
                    <a:pt x="85" y="107"/>
                  </a:lnTo>
                  <a:lnTo>
                    <a:pt x="94" y="125"/>
                  </a:lnTo>
                  <a:lnTo>
                    <a:pt x="101" y="145"/>
                  </a:lnTo>
                  <a:lnTo>
                    <a:pt x="102" y="164"/>
                  </a:lnTo>
                  <a:lnTo>
                    <a:pt x="101" y="186"/>
                  </a:lnTo>
                  <a:lnTo>
                    <a:pt x="94" y="206"/>
                  </a:lnTo>
                  <a:lnTo>
                    <a:pt x="85" y="224"/>
                  </a:lnTo>
                  <a:lnTo>
                    <a:pt x="73" y="240"/>
                  </a:lnTo>
                  <a:lnTo>
                    <a:pt x="57" y="253"/>
                  </a:lnTo>
                  <a:lnTo>
                    <a:pt x="39" y="261"/>
                  </a:lnTo>
                  <a:lnTo>
                    <a:pt x="20" y="269"/>
                  </a:lnTo>
                  <a:lnTo>
                    <a:pt x="0" y="271"/>
                  </a:lnTo>
                  <a:close/>
                </a:path>
              </a:pathLst>
            </a:custGeom>
            <a:blipFill rotWithShape="0">
              <a:blip r:embed="rId29"/>
              <a:srcRect/>
              <a:stretch/>
            </a:blip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79" name=""/>
            <p:cNvSpPr/>
            <p:nvPr/>
          </p:nvSpPr>
          <p:spPr>
            <a:xfrm>
              <a:off x="1539360" y="2025000"/>
              <a:ext cx="21600" cy="37800"/>
            </a:xfrm>
            <a:custGeom>
              <a:avLst/>
              <a:gdLst/>
              <a:ahLst/>
              <a:rect l="l" t="t" r="r" b="b"/>
              <a:pathLst>
                <a:path w="168" h="331">
                  <a:moveTo>
                    <a:pt x="168" y="63"/>
                  </a:moveTo>
                  <a:lnTo>
                    <a:pt x="168" y="1"/>
                  </a:lnTo>
                  <a:lnTo>
                    <a:pt x="166" y="0"/>
                  </a:lnTo>
                  <a:lnTo>
                    <a:pt x="133" y="3"/>
                  </a:lnTo>
                  <a:lnTo>
                    <a:pt x="100" y="14"/>
                  </a:lnTo>
                  <a:lnTo>
                    <a:pt x="73" y="29"/>
                  </a:lnTo>
                  <a:lnTo>
                    <a:pt x="50" y="50"/>
                  </a:lnTo>
                  <a:lnTo>
                    <a:pt x="28" y="73"/>
                  </a:lnTo>
                  <a:lnTo>
                    <a:pt x="14" y="102"/>
                  </a:lnTo>
                  <a:lnTo>
                    <a:pt x="5" y="132"/>
                  </a:lnTo>
                  <a:lnTo>
                    <a:pt x="0" y="165"/>
                  </a:lnTo>
                  <a:lnTo>
                    <a:pt x="5" y="199"/>
                  </a:lnTo>
                  <a:lnTo>
                    <a:pt x="14" y="231"/>
                  </a:lnTo>
                  <a:lnTo>
                    <a:pt x="28" y="259"/>
                  </a:lnTo>
                  <a:lnTo>
                    <a:pt x="50" y="283"/>
                  </a:lnTo>
                  <a:lnTo>
                    <a:pt x="73" y="304"/>
                  </a:lnTo>
                  <a:lnTo>
                    <a:pt x="100" y="319"/>
                  </a:lnTo>
                  <a:lnTo>
                    <a:pt x="133" y="330"/>
                  </a:lnTo>
                  <a:lnTo>
                    <a:pt x="166" y="331"/>
                  </a:lnTo>
                  <a:lnTo>
                    <a:pt x="168" y="331"/>
                  </a:lnTo>
                  <a:lnTo>
                    <a:pt x="168" y="272"/>
                  </a:lnTo>
                  <a:lnTo>
                    <a:pt x="166" y="272"/>
                  </a:lnTo>
                  <a:lnTo>
                    <a:pt x="144" y="270"/>
                  </a:lnTo>
                  <a:lnTo>
                    <a:pt x="125" y="262"/>
                  </a:lnTo>
                  <a:lnTo>
                    <a:pt x="107" y="254"/>
                  </a:lnTo>
                  <a:lnTo>
                    <a:pt x="91" y="241"/>
                  </a:lnTo>
                  <a:lnTo>
                    <a:pt x="79" y="225"/>
                  </a:lnTo>
                  <a:lnTo>
                    <a:pt x="69" y="207"/>
                  </a:lnTo>
                  <a:lnTo>
                    <a:pt x="63" y="187"/>
                  </a:lnTo>
                  <a:lnTo>
                    <a:pt x="61" y="165"/>
                  </a:lnTo>
                  <a:lnTo>
                    <a:pt x="63" y="146"/>
                  </a:lnTo>
                  <a:lnTo>
                    <a:pt x="69" y="126"/>
                  </a:lnTo>
                  <a:lnTo>
                    <a:pt x="79" y="108"/>
                  </a:lnTo>
                  <a:lnTo>
                    <a:pt x="91" y="92"/>
                  </a:lnTo>
                  <a:lnTo>
                    <a:pt x="107" y="79"/>
                  </a:lnTo>
                  <a:lnTo>
                    <a:pt x="125" y="69"/>
                  </a:lnTo>
                  <a:lnTo>
                    <a:pt x="144" y="63"/>
                  </a:lnTo>
                  <a:lnTo>
                    <a:pt x="166" y="61"/>
                  </a:lnTo>
                  <a:lnTo>
                    <a:pt x="168" y="63"/>
                  </a:lnTo>
                  <a:close/>
                </a:path>
              </a:pathLst>
            </a:custGeom>
            <a:blipFill rotWithShape="0">
              <a:blip r:embed="rId30"/>
              <a:srcRect/>
              <a:stretch/>
            </a:blip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0" name=""/>
            <p:cNvSpPr/>
            <p:nvPr/>
          </p:nvSpPr>
          <p:spPr>
            <a:xfrm>
              <a:off x="1724760" y="2027880"/>
              <a:ext cx="45000" cy="105840"/>
            </a:xfrm>
            <a:custGeom>
              <a:avLst/>
              <a:gdLst/>
              <a:ahLst/>
              <a:rect l="l" t="t" r="r" b="b"/>
              <a:pathLst>
                <a:path w="351" h="911">
                  <a:moveTo>
                    <a:pt x="0" y="814"/>
                  </a:moveTo>
                  <a:lnTo>
                    <a:pt x="0" y="911"/>
                  </a:lnTo>
                  <a:lnTo>
                    <a:pt x="6" y="911"/>
                  </a:lnTo>
                  <a:lnTo>
                    <a:pt x="42" y="905"/>
                  </a:lnTo>
                  <a:lnTo>
                    <a:pt x="89" y="890"/>
                  </a:lnTo>
                  <a:lnTo>
                    <a:pt x="146" y="864"/>
                  </a:lnTo>
                  <a:lnTo>
                    <a:pt x="176" y="846"/>
                  </a:lnTo>
                  <a:lnTo>
                    <a:pt x="205" y="827"/>
                  </a:lnTo>
                  <a:lnTo>
                    <a:pt x="233" y="803"/>
                  </a:lnTo>
                  <a:lnTo>
                    <a:pt x="260" y="777"/>
                  </a:lnTo>
                  <a:lnTo>
                    <a:pt x="286" y="747"/>
                  </a:lnTo>
                  <a:lnTo>
                    <a:pt x="308" y="714"/>
                  </a:lnTo>
                  <a:lnTo>
                    <a:pt x="325" y="680"/>
                  </a:lnTo>
                  <a:lnTo>
                    <a:pt x="340" y="641"/>
                  </a:lnTo>
                  <a:lnTo>
                    <a:pt x="348" y="599"/>
                  </a:lnTo>
                  <a:lnTo>
                    <a:pt x="351" y="553"/>
                  </a:lnTo>
                  <a:lnTo>
                    <a:pt x="349" y="506"/>
                  </a:lnTo>
                  <a:lnTo>
                    <a:pt x="343" y="459"/>
                  </a:lnTo>
                  <a:lnTo>
                    <a:pt x="333" y="412"/>
                  </a:lnTo>
                  <a:lnTo>
                    <a:pt x="320" y="362"/>
                  </a:lnTo>
                  <a:lnTo>
                    <a:pt x="304" y="315"/>
                  </a:lnTo>
                  <a:lnTo>
                    <a:pt x="284" y="270"/>
                  </a:lnTo>
                  <a:lnTo>
                    <a:pt x="262" y="225"/>
                  </a:lnTo>
                  <a:lnTo>
                    <a:pt x="239" y="183"/>
                  </a:lnTo>
                  <a:lnTo>
                    <a:pt x="212" y="144"/>
                  </a:lnTo>
                  <a:lnTo>
                    <a:pt x="184" y="108"/>
                  </a:lnTo>
                  <a:lnTo>
                    <a:pt x="154" y="76"/>
                  </a:lnTo>
                  <a:lnTo>
                    <a:pt x="123" y="51"/>
                  </a:lnTo>
                  <a:lnTo>
                    <a:pt x="89" y="27"/>
                  </a:lnTo>
                  <a:lnTo>
                    <a:pt x="55" y="11"/>
                  </a:lnTo>
                  <a:lnTo>
                    <a:pt x="19" y="1"/>
                  </a:lnTo>
                  <a:lnTo>
                    <a:pt x="0" y="0"/>
                  </a:lnTo>
                  <a:lnTo>
                    <a:pt x="0" y="202"/>
                  </a:lnTo>
                  <a:lnTo>
                    <a:pt x="14" y="205"/>
                  </a:lnTo>
                  <a:lnTo>
                    <a:pt x="34" y="215"/>
                  </a:lnTo>
                  <a:lnTo>
                    <a:pt x="53" y="228"/>
                  </a:lnTo>
                  <a:lnTo>
                    <a:pt x="73" y="248"/>
                  </a:lnTo>
                  <a:lnTo>
                    <a:pt x="92" y="275"/>
                  </a:lnTo>
                  <a:lnTo>
                    <a:pt x="113" y="311"/>
                  </a:lnTo>
                  <a:lnTo>
                    <a:pt x="132" y="354"/>
                  </a:lnTo>
                  <a:lnTo>
                    <a:pt x="110" y="370"/>
                  </a:lnTo>
                  <a:lnTo>
                    <a:pt x="87" y="385"/>
                  </a:lnTo>
                  <a:lnTo>
                    <a:pt x="42" y="401"/>
                  </a:lnTo>
                  <a:lnTo>
                    <a:pt x="0" y="412"/>
                  </a:lnTo>
                  <a:lnTo>
                    <a:pt x="0" y="526"/>
                  </a:lnTo>
                  <a:lnTo>
                    <a:pt x="34" y="518"/>
                  </a:lnTo>
                  <a:lnTo>
                    <a:pt x="91" y="503"/>
                  </a:lnTo>
                  <a:lnTo>
                    <a:pt x="134" y="487"/>
                  </a:lnTo>
                  <a:lnTo>
                    <a:pt x="171" y="473"/>
                  </a:lnTo>
                  <a:lnTo>
                    <a:pt x="186" y="516"/>
                  </a:lnTo>
                  <a:lnTo>
                    <a:pt x="194" y="560"/>
                  </a:lnTo>
                  <a:lnTo>
                    <a:pt x="197" y="607"/>
                  </a:lnTo>
                  <a:lnTo>
                    <a:pt x="196" y="631"/>
                  </a:lnTo>
                  <a:lnTo>
                    <a:pt x="191" y="652"/>
                  </a:lnTo>
                  <a:lnTo>
                    <a:pt x="184" y="676"/>
                  </a:lnTo>
                  <a:lnTo>
                    <a:pt x="171" y="700"/>
                  </a:lnTo>
                  <a:lnTo>
                    <a:pt x="158" y="722"/>
                  </a:lnTo>
                  <a:lnTo>
                    <a:pt x="139" y="743"/>
                  </a:lnTo>
                  <a:lnTo>
                    <a:pt x="116" y="761"/>
                  </a:lnTo>
                  <a:lnTo>
                    <a:pt x="91" y="777"/>
                  </a:lnTo>
                  <a:lnTo>
                    <a:pt x="29" y="804"/>
                  </a:lnTo>
                  <a:lnTo>
                    <a:pt x="0" y="814"/>
                  </a:lnTo>
                  <a:close/>
                </a:path>
              </a:pathLst>
            </a:custGeom>
            <a:blipFill rotWithShape="0">
              <a:blip r:embed="rId3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1693080" y="2027880"/>
              <a:ext cx="31680" cy="63720"/>
            </a:xfrm>
            <a:custGeom>
              <a:avLst/>
              <a:gdLst/>
              <a:ahLst/>
              <a:rect l="l" t="t" r="r" b="b"/>
              <a:pathLst>
                <a:path w="253" h="550">
                  <a:moveTo>
                    <a:pt x="253" y="204"/>
                  </a:moveTo>
                  <a:lnTo>
                    <a:pt x="253" y="2"/>
                  </a:lnTo>
                  <a:lnTo>
                    <a:pt x="240" y="0"/>
                  </a:lnTo>
                  <a:lnTo>
                    <a:pt x="206" y="3"/>
                  </a:lnTo>
                  <a:lnTo>
                    <a:pt x="174" y="15"/>
                  </a:lnTo>
                  <a:lnTo>
                    <a:pt x="144" y="31"/>
                  </a:lnTo>
                  <a:lnTo>
                    <a:pt x="117" y="55"/>
                  </a:lnTo>
                  <a:lnTo>
                    <a:pt x="93" y="84"/>
                  </a:lnTo>
                  <a:lnTo>
                    <a:pt x="71" y="116"/>
                  </a:lnTo>
                  <a:lnTo>
                    <a:pt x="54" y="154"/>
                  </a:lnTo>
                  <a:lnTo>
                    <a:pt x="36" y="193"/>
                  </a:lnTo>
                  <a:lnTo>
                    <a:pt x="24" y="235"/>
                  </a:lnTo>
                  <a:lnTo>
                    <a:pt x="15" y="280"/>
                  </a:lnTo>
                  <a:lnTo>
                    <a:pt x="7" y="325"/>
                  </a:lnTo>
                  <a:lnTo>
                    <a:pt x="2" y="371"/>
                  </a:lnTo>
                  <a:lnTo>
                    <a:pt x="0" y="416"/>
                  </a:lnTo>
                  <a:lnTo>
                    <a:pt x="2" y="461"/>
                  </a:lnTo>
                  <a:lnTo>
                    <a:pt x="7" y="502"/>
                  </a:lnTo>
                  <a:lnTo>
                    <a:pt x="16" y="544"/>
                  </a:lnTo>
                  <a:lnTo>
                    <a:pt x="50" y="547"/>
                  </a:lnTo>
                  <a:lnTo>
                    <a:pt x="86" y="550"/>
                  </a:lnTo>
                  <a:lnTo>
                    <a:pt x="154" y="546"/>
                  </a:lnTo>
                  <a:lnTo>
                    <a:pt x="224" y="534"/>
                  </a:lnTo>
                  <a:lnTo>
                    <a:pt x="253" y="528"/>
                  </a:lnTo>
                  <a:lnTo>
                    <a:pt x="253" y="414"/>
                  </a:lnTo>
                  <a:lnTo>
                    <a:pt x="251" y="414"/>
                  </a:lnTo>
                  <a:lnTo>
                    <a:pt x="208" y="418"/>
                  </a:lnTo>
                  <a:lnTo>
                    <a:pt x="172" y="418"/>
                  </a:lnTo>
                  <a:lnTo>
                    <a:pt x="143" y="414"/>
                  </a:lnTo>
                  <a:lnTo>
                    <a:pt x="117" y="410"/>
                  </a:lnTo>
                  <a:lnTo>
                    <a:pt x="119" y="376"/>
                  </a:lnTo>
                  <a:lnTo>
                    <a:pt x="123" y="340"/>
                  </a:lnTo>
                  <a:lnTo>
                    <a:pt x="128" y="301"/>
                  </a:lnTo>
                  <a:lnTo>
                    <a:pt x="143" y="262"/>
                  </a:lnTo>
                  <a:lnTo>
                    <a:pt x="151" y="244"/>
                  </a:lnTo>
                  <a:lnTo>
                    <a:pt x="162" y="228"/>
                  </a:lnTo>
                  <a:lnTo>
                    <a:pt x="174" y="214"/>
                  </a:lnTo>
                  <a:lnTo>
                    <a:pt x="190" y="204"/>
                  </a:lnTo>
                  <a:lnTo>
                    <a:pt x="206" y="201"/>
                  </a:lnTo>
                  <a:lnTo>
                    <a:pt x="227" y="199"/>
                  </a:lnTo>
                  <a:lnTo>
                    <a:pt x="248" y="201"/>
                  </a:lnTo>
                  <a:lnTo>
                    <a:pt x="253" y="204"/>
                  </a:lnTo>
                  <a:close/>
                </a:path>
              </a:pathLst>
            </a:custGeom>
            <a:blipFill rotWithShape="0">
              <a:blip r:embed="rId32"/>
              <a:srcRect/>
              <a:stretch/>
            </a:blip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82" name=""/>
            <p:cNvSpPr/>
            <p:nvPr/>
          </p:nvSpPr>
          <p:spPr>
            <a:xfrm>
              <a:off x="1698120" y="2122560"/>
              <a:ext cx="26640" cy="10800"/>
            </a:xfrm>
            <a:custGeom>
              <a:avLst/>
              <a:gdLst/>
              <a:ahLst/>
              <a:rect l="l" t="t" r="r" b="b"/>
              <a:pathLst>
                <a:path w="211" h="97">
                  <a:moveTo>
                    <a:pt x="211" y="97"/>
                  </a:moveTo>
                  <a:lnTo>
                    <a:pt x="211" y="0"/>
                  </a:lnTo>
                  <a:lnTo>
                    <a:pt x="174" y="13"/>
                  </a:lnTo>
                  <a:lnTo>
                    <a:pt x="109" y="22"/>
                  </a:lnTo>
                  <a:lnTo>
                    <a:pt x="78" y="22"/>
                  </a:lnTo>
                  <a:lnTo>
                    <a:pt x="55" y="21"/>
                  </a:lnTo>
                  <a:lnTo>
                    <a:pt x="36" y="18"/>
                  </a:lnTo>
                  <a:lnTo>
                    <a:pt x="20" y="18"/>
                  </a:lnTo>
                  <a:lnTo>
                    <a:pt x="10" y="21"/>
                  </a:lnTo>
                  <a:lnTo>
                    <a:pt x="4" y="24"/>
                  </a:lnTo>
                  <a:lnTo>
                    <a:pt x="0" y="28"/>
                  </a:lnTo>
                  <a:lnTo>
                    <a:pt x="2" y="34"/>
                  </a:lnTo>
                  <a:lnTo>
                    <a:pt x="8" y="40"/>
                  </a:lnTo>
                  <a:lnTo>
                    <a:pt x="20" y="44"/>
                  </a:lnTo>
                  <a:lnTo>
                    <a:pt x="104" y="76"/>
                  </a:lnTo>
                  <a:lnTo>
                    <a:pt x="162" y="91"/>
                  </a:lnTo>
                  <a:lnTo>
                    <a:pt x="190" y="95"/>
                  </a:lnTo>
                  <a:lnTo>
                    <a:pt x="211" y="97"/>
                  </a:lnTo>
                  <a:close/>
                </a:path>
              </a:pathLst>
            </a:custGeom>
            <a:blipFill rotWithShape="0">
              <a:blip r:embed="rId33"/>
              <a:srcRect/>
              <a:stretch/>
            </a:blip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83" name=""/>
            <p:cNvSpPr/>
            <p:nvPr/>
          </p:nvSpPr>
          <p:spPr>
            <a:xfrm>
              <a:off x="2337120" y="1747440"/>
              <a:ext cx="31320" cy="27720"/>
            </a:xfrm>
            <a:custGeom>
              <a:avLst/>
              <a:gdLst/>
              <a:ahLst/>
              <a:rect l="l" t="t" r="r" b="b"/>
              <a:pathLst>
                <a:path w="243" h="242">
                  <a:moveTo>
                    <a:pt x="0" y="121"/>
                  </a:moveTo>
                  <a:lnTo>
                    <a:pt x="2" y="96"/>
                  </a:lnTo>
                  <a:lnTo>
                    <a:pt x="8" y="74"/>
                  </a:lnTo>
                  <a:lnTo>
                    <a:pt x="20" y="53"/>
                  </a:lnTo>
                  <a:lnTo>
                    <a:pt x="36" y="35"/>
                  </a:lnTo>
                  <a:lnTo>
                    <a:pt x="54" y="21"/>
                  </a:lnTo>
                  <a:lnTo>
                    <a:pt x="73" y="9"/>
                  </a:lnTo>
                  <a:lnTo>
                    <a:pt x="97" y="3"/>
                  </a:lnTo>
                  <a:lnTo>
                    <a:pt x="120" y="0"/>
                  </a:lnTo>
                  <a:lnTo>
                    <a:pt x="144" y="3"/>
                  </a:lnTo>
                  <a:lnTo>
                    <a:pt x="168" y="9"/>
                  </a:lnTo>
                  <a:lnTo>
                    <a:pt x="188" y="21"/>
                  </a:lnTo>
                  <a:lnTo>
                    <a:pt x="207" y="35"/>
                  </a:lnTo>
                  <a:lnTo>
                    <a:pt x="222" y="53"/>
                  </a:lnTo>
                  <a:lnTo>
                    <a:pt x="233" y="74"/>
                  </a:lnTo>
                  <a:lnTo>
                    <a:pt x="239" y="96"/>
                  </a:lnTo>
                  <a:lnTo>
                    <a:pt x="243" y="121"/>
                  </a:lnTo>
                  <a:lnTo>
                    <a:pt x="239" y="145"/>
                  </a:lnTo>
                  <a:lnTo>
                    <a:pt x="233" y="168"/>
                  </a:lnTo>
                  <a:lnTo>
                    <a:pt x="222" y="189"/>
                  </a:lnTo>
                  <a:lnTo>
                    <a:pt x="207" y="207"/>
                  </a:lnTo>
                  <a:lnTo>
                    <a:pt x="188" y="222"/>
                  </a:lnTo>
                  <a:lnTo>
                    <a:pt x="168" y="233"/>
                  </a:lnTo>
                  <a:lnTo>
                    <a:pt x="144" y="240"/>
                  </a:lnTo>
                  <a:lnTo>
                    <a:pt x="120" y="242"/>
                  </a:lnTo>
                  <a:lnTo>
                    <a:pt x="97" y="240"/>
                  </a:lnTo>
                  <a:lnTo>
                    <a:pt x="73" y="233"/>
                  </a:lnTo>
                  <a:lnTo>
                    <a:pt x="54" y="222"/>
                  </a:lnTo>
                  <a:lnTo>
                    <a:pt x="36" y="207"/>
                  </a:lnTo>
                  <a:lnTo>
                    <a:pt x="20" y="189"/>
                  </a:lnTo>
                  <a:lnTo>
                    <a:pt x="8" y="168"/>
                  </a:lnTo>
                  <a:lnTo>
                    <a:pt x="2" y="145"/>
                  </a:lnTo>
                  <a:lnTo>
                    <a:pt x="0" y="121"/>
                  </a:lnTo>
                  <a:close/>
                </a:path>
              </a:pathLst>
            </a:custGeom>
            <a:blipFill rotWithShape="0">
              <a:blip r:embed="rId34"/>
              <a:srcRect/>
              <a:stretch/>
            </a:blip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84" name=""/>
            <p:cNvSpPr/>
            <p:nvPr/>
          </p:nvSpPr>
          <p:spPr>
            <a:xfrm>
              <a:off x="2365920" y="1713960"/>
              <a:ext cx="30600" cy="28440"/>
            </a:xfrm>
            <a:custGeom>
              <a:avLst/>
              <a:gdLst/>
              <a:ahLst/>
              <a:rect l="l" t="t" r="r" b="b"/>
              <a:pathLst>
                <a:path w="243" h="243">
                  <a:moveTo>
                    <a:pt x="0" y="123"/>
                  </a:moveTo>
                  <a:lnTo>
                    <a:pt x="2" y="97"/>
                  </a:lnTo>
                  <a:lnTo>
                    <a:pt x="10" y="75"/>
                  </a:lnTo>
                  <a:lnTo>
                    <a:pt x="20" y="53"/>
                  </a:lnTo>
                  <a:lnTo>
                    <a:pt x="36" y="36"/>
                  </a:lnTo>
                  <a:lnTo>
                    <a:pt x="54" y="21"/>
                  </a:lnTo>
                  <a:lnTo>
                    <a:pt x="73" y="10"/>
                  </a:lnTo>
                  <a:lnTo>
                    <a:pt x="97" y="3"/>
                  </a:lnTo>
                  <a:lnTo>
                    <a:pt x="120" y="0"/>
                  </a:lnTo>
                  <a:lnTo>
                    <a:pt x="146" y="3"/>
                  </a:lnTo>
                  <a:lnTo>
                    <a:pt x="169" y="10"/>
                  </a:lnTo>
                  <a:lnTo>
                    <a:pt x="190" y="21"/>
                  </a:lnTo>
                  <a:lnTo>
                    <a:pt x="208" y="36"/>
                  </a:lnTo>
                  <a:lnTo>
                    <a:pt x="221" y="53"/>
                  </a:lnTo>
                  <a:lnTo>
                    <a:pt x="233" y="75"/>
                  </a:lnTo>
                  <a:lnTo>
                    <a:pt x="239" y="97"/>
                  </a:lnTo>
                  <a:lnTo>
                    <a:pt x="243" y="123"/>
                  </a:lnTo>
                  <a:lnTo>
                    <a:pt x="239" y="146"/>
                  </a:lnTo>
                  <a:lnTo>
                    <a:pt x="233" y="170"/>
                  </a:lnTo>
                  <a:lnTo>
                    <a:pt x="221" y="189"/>
                  </a:lnTo>
                  <a:lnTo>
                    <a:pt x="208" y="207"/>
                  </a:lnTo>
                  <a:lnTo>
                    <a:pt x="190" y="223"/>
                  </a:lnTo>
                  <a:lnTo>
                    <a:pt x="169" y="235"/>
                  </a:lnTo>
                  <a:lnTo>
                    <a:pt x="146" y="241"/>
                  </a:lnTo>
                  <a:lnTo>
                    <a:pt x="120" y="243"/>
                  </a:lnTo>
                  <a:lnTo>
                    <a:pt x="97" y="241"/>
                  </a:lnTo>
                  <a:lnTo>
                    <a:pt x="73" y="235"/>
                  </a:lnTo>
                  <a:lnTo>
                    <a:pt x="54" y="223"/>
                  </a:lnTo>
                  <a:lnTo>
                    <a:pt x="36" y="207"/>
                  </a:lnTo>
                  <a:lnTo>
                    <a:pt x="20" y="189"/>
                  </a:lnTo>
                  <a:lnTo>
                    <a:pt x="10" y="170"/>
                  </a:lnTo>
                  <a:lnTo>
                    <a:pt x="2" y="146"/>
                  </a:lnTo>
                  <a:lnTo>
                    <a:pt x="0" y="123"/>
                  </a:lnTo>
                  <a:close/>
                </a:path>
              </a:pathLst>
            </a:custGeom>
            <a:blipFill rotWithShape="0">
              <a:blip r:embed="rId35"/>
              <a:srcRect/>
              <a:stretch/>
            </a:blip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5" name=""/>
            <p:cNvSpPr/>
            <p:nvPr/>
          </p:nvSpPr>
          <p:spPr>
            <a:xfrm>
              <a:off x="2393280" y="1642320"/>
              <a:ext cx="1080" cy="720"/>
            </a:xfrm>
            <a:custGeom>
              <a:avLst/>
              <a:gdLst/>
              <a:ahLst/>
              <a:rect l="l" t="t" r="r" b="b"/>
              <a:pathLst>
                <a:path w="3" h="0">
                  <a:moveTo>
                    <a:pt x="0" y="0"/>
                  </a:moveTo>
                  <a:lnTo>
                    <a:pt x="2" y="0"/>
                  </a:lnTo>
                  <a:lnTo>
                    <a:pt x="3" y="0"/>
                  </a:lnTo>
                  <a:lnTo>
                    <a:pt x="2" y="0"/>
                  </a:lnTo>
                  <a:lnTo>
                    <a:pt x="0" y="0"/>
                  </a:lnTo>
                  <a:close/>
                </a:path>
              </a:pathLst>
            </a:custGeom>
            <a:blipFill rotWithShape="0">
              <a:blip r:embed="rId36"/>
              <a:srcRect/>
              <a:tile tx="0" ty="0" sx="100000" sy="100000" algn="ctr"/>
            </a:blip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86" name=""/>
            <p:cNvSpPr/>
            <p:nvPr/>
          </p:nvSpPr>
          <p:spPr>
            <a:xfrm>
              <a:off x="2287800" y="1528200"/>
              <a:ext cx="117720" cy="113760"/>
            </a:xfrm>
            <a:custGeom>
              <a:avLst/>
              <a:gdLst/>
              <a:ahLst/>
              <a:rect l="l" t="t" r="r" b="b"/>
              <a:pathLst>
                <a:path w="921" h="982">
                  <a:moveTo>
                    <a:pt x="0" y="244"/>
                  </a:moveTo>
                  <a:lnTo>
                    <a:pt x="48" y="144"/>
                  </a:lnTo>
                  <a:lnTo>
                    <a:pt x="86" y="61"/>
                  </a:lnTo>
                  <a:lnTo>
                    <a:pt x="111" y="0"/>
                  </a:lnTo>
                  <a:lnTo>
                    <a:pt x="298" y="186"/>
                  </a:lnTo>
                  <a:lnTo>
                    <a:pt x="571" y="459"/>
                  </a:lnTo>
                  <a:lnTo>
                    <a:pt x="921" y="817"/>
                  </a:lnTo>
                  <a:lnTo>
                    <a:pt x="822" y="982"/>
                  </a:lnTo>
                  <a:lnTo>
                    <a:pt x="147" y="268"/>
                  </a:lnTo>
                  <a:lnTo>
                    <a:pt x="76" y="330"/>
                  </a:lnTo>
                  <a:lnTo>
                    <a:pt x="0" y="244"/>
                  </a:lnTo>
                  <a:close/>
                </a:path>
              </a:pathLst>
            </a:custGeom>
            <a:blipFill rotWithShape="0">
              <a:blip r:embed="rId37"/>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1554840" y="1272240"/>
              <a:ext cx="14400" cy="348840"/>
            </a:xfrm>
            <a:custGeom>
              <a:avLst/>
              <a:gdLst/>
              <a:ahLst/>
              <a:rect l="l" t="t" r="r" b="b"/>
              <a:pathLst>
                <a:path w="108" h="3004">
                  <a:moveTo>
                    <a:pt x="108" y="0"/>
                  </a:moveTo>
                  <a:lnTo>
                    <a:pt x="108" y="3004"/>
                  </a:lnTo>
                  <a:lnTo>
                    <a:pt x="0" y="3004"/>
                  </a:lnTo>
                  <a:lnTo>
                    <a:pt x="0" y="0"/>
                  </a:lnTo>
                  <a:lnTo>
                    <a:pt x="53" y="3"/>
                  </a:lnTo>
                  <a:lnTo>
                    <a:pt x="108" y="0"/>
                  </a:lnTo>
                  <a:close/>
                </a:path>
              </a:pathLst>
            </a:custGeom>
            <a:blipFill rotWithShape="0">
              <a:blip r:embed="rId38"/>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1624320" y="1241280"/>
              <a:ext cx="278640" cy="253440"/>
            </a:xfrm>
            <a:custGeom>
              <a:avLst/>
              <a:gdLst/>
              <a:ahLst/>
              <a:rect l="l" t="t" r="r" b="b"/>
              <a:pathLst>
                <a:path w="2180" h="2181">
                  <a:moveTo>
                    <a:pt x="76" y="0"/>
                  </a:moveTo>
                  <a:lnTo>
                    <a:pt x="2180" y="2101"/>
                  </a:lnTo>
                  <a:lnTo>
                    <a:pt x="2103" y="2181"/>
                  </a:lnTo>
                  <a:lnTo>
                    <a:pt x="0" y="79"/>
                  </a:lnTo>
                  <a:lnTo>
                    <a:pt x="39" y="42"/>
                  </a:lnTo>
                  <a:lnTo>
                    <a:pt x="76" y="0"/>
                  </a:lnTo>
                  <a:close/>
                </a:path>
              </a:pathLst>
            </a:custGeom>
            <a:blipFill rotWithShape="0">
              <a:blip r:embed="rId3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1622520" y="862560"/>
              <a:ext cx="297360" cy="269280"/>
            </a:xfrm>
            <a:custGeom>
              <a:avLst/>
              <a:gdLst/>
              <a:ahLst/>
              <a:rect l="l" t="t" r="r" b="b"/>
              <a:pathLst>
                <a:path w="2321" h="2318">
                  <a:moveTo>
                    <a:pt x="0" y="2242"/>
                  </a:moveTo>
                  <a:lnTo>
                    <a:pt x="2244" y="0"/>
                  </a:lnTo>
                  <a:lnTo>
                    <a:pt x="2321" y="76"/>
                  </a:lnTo>
                  <a:lnTo>
                    <a:pt x="78" y="2318"/>
                  </a:lnTo>
                  <a:lnTo>
                    <a:pt x="41" y="2279"/>
                  </a:lnTo>
                  <a:lnTo>
                    <a:pt x="0" y="2242"/>
                  </a:lnTo>
                  <a:close/>
                </a:path>
              </a:pathLst>
            </a:custGeom>
            <a:blipFill rotWithShape="0">
              <a:blip r:embed="rId4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1554840" y="726120"/>
              <a:ext cx="14400" cy="376560"/>
            </a:xfrm>
            <a:custGeom>
              <a:avLst/>
              <a:gdLst/>
              <a:ahLst/>
              <a:rect l="l" t="t" r="r" b="b"/>
              <a:pathLst>
                <a:path w="108" h="3252">
                  <a:moveTo>
                    <a:pt x="0" y="3252"/>
                  </a:moveTo>
                  <a:lnTo>
                    <a:pt x="0" y="0"/>
                  </a:lnTo>
                  <a:lnTo>
                    <a:pt x="108" y="0"/>
                  </a:lnTo>
                  <a:lnTo>
                    <a:pt x="108" y="3252"/>
                  </a:lnTo>
                  <a:lnTo>
                    <a:pt x="53" y="3247"/>
                  </a:lnTo>
                  <a:lnTo>
                    <a:pt x="0" y="3252"/>
                  </a:lnTo>
                  <a:close/>
                </a:path>
              </a:pathLst>
            </a:custGeom>
            <a:blipFill rotWithShape="0">
              <a:blip r:embed="rId4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1204920" y="862560"/>
              <a:ext cx="297360" cy="269280"/>
            </a:xfrm>
            <a:custGeom>
              <a:avLst/>
              <a:gdLst/>
              <a:ahLst/>
              <a:rect l="l" t="t" r="r" b="b"/>
              <a:pathLst>
                <a:path w="2322" h="2321">
                  <a:moveTo>
                    <a:pt x="2243" y="2321"/>
                  </a:moveTo>
                  <a:lnTo>
                    <a:pt x="0" y="78"/>
                  </a:lnTo>
                  <a:lnTo>
                    <a:pt x="78" y="0"/>
                  </a:lnTo>
                  <a:lnTo>
                    <a:pt x="2322" y="2244"/>
                  </a:lnTo>
                  <a:lnTo>
                    <a:pt x="2282" y="2281"/>
                  </a:lnTo>
                  <a:lnTo>
                    <a:pt x="2243" y="2321"/>
                  </a:lnTo>
                  <a:close/>
                </a:path>
              </a:pathLst>
            </a:custGeom>
            <a:blipFill rotWithShape="0">
              <a:blip r:embed="rId4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1221480" y="1242360"/>
              <a:ext cx="278640" cy="252360"/>
            </a:xfrm>
            <a:custGeom>
              <a:avLst/>
              <a:gdLst/>
              <a:ahLst/>
              <a:rect l="l" t="t" r="r" b="b"/>
              <a:pathLst>
                <a:path w="2177" h="2177">
                  <a:moveTo>
                    <a:pt x="0" y="2099"/>
                  </a:moveTo>
                  <a:lnTo>
                    <a:pt x="2102" y="0"/>
                  </a:lnTo>
                  <a:lnTo>
                    <a:pt x="2136" y="42"/>
                  </a:lnTo>
                  <a:lnTo>
                    <a:pt x="2177" y="79"/>
                  </a:lnTo>
                  <a:lnTo>
                    <a:pt x="76" y="2177"/>
                  </a:lnTo>
                  <a:lnTo>
                    <a:pt x="0" y="2099"/>
                  </a:lnTo>
                  <a:close/>
                </a:path>
              </a:pathLst>
            </a:custGeom>
            <a:blipFill rotWithShape="0">
              <a:blip r:embed="rId4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468800" y="1103040"/>
              <a:ext cx="186480" cy="169560"/>
            </a:xfrm>
            <a:custGeom>
              <a:avLst/>
              <a:gdLst/>
              <a:ahLst/>
              <a:rect l="l" t="t" r="r" b="b"/>
              <a:pathLst>
                <a:path w="1457" h="1463">
                  <a:moveTo>
                    <a:pt x="728" y="0"/>
                  </a:moveTo>
                  <a:lnTo>
                    <a:pt x="876" y="14"/>
                  </a:lnTo>
                  <a:lnTo>
                    <a:pt x="945" y="32"/>
                  </a:lnTo>
                  <a:lnTo>
                    <a:pt x="1012" y="58"/>
                  </a:lnTo>
                  <a:lnTo>
                    <a:pt x="1077" y="87"/>
                  </a:lnTo>
                  <a:lnTo>
                    <a:pt x="1137" y="125"/>
                  </a:lnTo>
                  <a:lnTo>
                    <a:pt x="1243" y="215"/>
                  </a:lnTo>
                  <a:lnTo>
                    <a:pt x="1334" y="322"/>
                  </a:lnTo>
                  <a:lnTo>
                    <a:pt x="1399" y="447"/>
                  </a:lnTo>
                  <a:lnTo>
                    <a:pt x="1425" y="513"/>
                  </a:lnTo>
                  <a:lnTo>
                    <a:pt x="1442" y="583"/>
                  </a:lnTo>
                  <a:lnTo>
                    <a:pt x="1452" y="656"/>
                  </a:lnTo>
                  <a:lnTo>
                    <a:pt x="1457" y="730"/>
                  </a:lnTo>
                  <a:lnTo>
                    <a:pt x="1442" y="879"/>
                  </a:lnTo>
                  <a:lnTo>
                    <a:pt x="1399" y="1015"/>
                  </a:lnTo>
                  <a:lnTo>
                    <a:pt x="1334" y="1139"/>
                  </a:lnTo>
                  <a:lnTo>
                    <a:pt x="1243" y="1248"/>
                  </a:lnTo>
                  <a:lnTo>
                    <a:pt x="1137" y="1337"/>
                  </a:lnTo>
                  <a:lnTo>
                    <a:pt x="1012" y="1405"/>
                  </a:lnTo>
                  <a:lnTo>
                    <a:pt x="876" y="1447"/>
                  </a:lnTo>
                  <a:lnTo>
                    <a:pt x="728" y="1463"/>
                  </a:lnTo>
                  <a:lnTo>
                    <a:pt x="582" y="1447"/>
                  </a:lnTo>
                  <a:lnTo>
                    <a:pt x="444" y="1405"/>
                  </a:lnTo>
                  <a:lnTo>
                    <a:pt x="321" y="1337"/>
                  </a:lnTo>
                  <a:lnTo>
                    <a:pt x="213" y="1248"/>
                  </a:lnTo>
                  <a:lnTo>
                    <a:pt x="125" y="1139"/>
                  </a:lnTo>
                  <a:lnTo>
                    <a:pt x="57" y="1015"/>
                  </a:lnTo>
                  <a:lnTo>
                    <a:pt x="13" y="879"/>
                  </a:lnTo>
                  <a:lnTo>
                    <a:pt x="0" y="730"/>
                  </a:lnTo>
                  <a:lnTo>
                    <a:pt x="4" y="656"/>
                  </a:lnTo>
                  <a:lnTo>
                    <a:pt x="13" y="583"/>
                  </a:lnTo>
                  <a:lnTo>
                    <a:pt x="33" y="513"/>
                  </a:lnTo>
                  <a:lnTo>
                    <a:pt x="57" y="447"/>
                  </a:lnTo>
                  <a:lnTo>
                    <a:pt x="125" y="322"/>
                  </a:lnTo>
                  <a:lnTo>
                    <a:pt x="213" y="215"/>
                  </a:lnTo>
                  <a:lnTo>
                    <a:pt x="321" y="125"/>
                  </a:lnTo>
                  <a:lnTo>
                    <a:pt x="381" y="87"/>
                  </a:lnTo>
                  <a:lnTo>
                    <a:pt x="444" y="58"/>
                  </a:lnTo>
                  <a:lnTo>
                    <a:pt x="513" y="32"/>
                  </a:lnTo>
                  <a:lnTo>
                    <a:pt x="582" y="14"/>
                  </a:lnTo>
                  <a:lnTo>
                    <a:pt x="654" y="5"/>
                  </a:lnTo>
                  <a:lnTo>
                    <a:pt x="728" y="0"/>
                  </a:lnTo>
                  <a:close/>
                </a:path>
              </a:pathLst>
            </a:custGeom>
            <a:blipFill rotWithShape="0">
              <a:blip r:embed="rId44"/>
              <a:srcRect/>
              <a:stretch/>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1468800" y="1103040"/>
              <a:ext cx="186480" cy="169560"/>
            </a:xfrm>
            <a:custGeom>
              <a:avLst/>
              <a:gdLst/>
              <a:ahLst/>
              <a:rect l="l" t="t" r="r" b="b"/>
              <a:pathLst>
                <a:path w="1457" h="1463">
                  <a:moveTo>
                    <a:pt x="728" y="0"/>
                  </a:moveTo>
                  <a:lnTo>
                    <a:pt x="876" y="14"/>
                  </a:lnTo>
                  <a:lnTo>
                    <a:pt x="945" y="32"/>
                  </a:lnTo>
                  <a:lnTo>
                    <a:pt x="1012" y="58"/>
                  </a:lnTo>
                  <a:lnTo>
                    <a:pt x="1077" y="87"/>
                  </a:lnTo>
                  <a:lnTo>
                    <a:pt x="1137" y="125"/>
                  </a:lnTo>
                  <a:lnTo>
                    <a:pt x="1243" y="215"/>
                  </a:lnTo>
                  <a:lnTo>
                    <a:pt x="1334" y="322"/>
                  </a:lnTo>
                  <a:lnTo>
                    <a:pt x="1399" y="447"/>
                  </a:lnTo>
                  <a:lnTo>
                    <a:pt x="1425" y="513"/>
                  </a:lnTo>
                  <a:lnTo>
                    <a:pt x="1442" y="583"/>
                  </a:lnTo>
                  <a:lnTo>
                    <a:pt x="1452" y="656"/>
                  </a:lnTo>
                  <a:lnTo>
                    <a:pt x="1457" y="730"/>
                  </a:lnTo>
                  <a:lnTo>
                    <a:pt x="1442" y="879"/>
                  </a:lnTo>
                  <a:lnTo>
                    <a:pt x="1399" y="1015"/>
                  </a:lnTo>
                  <a:lnTo>
                    <a:pt x="1334" y="1139"/>
                  </a:lnTo>
                  <a:lnTo>
                    <a:pt x="1243" y="1248"/>
                  </a:lnTo>
                  <a:lnTo>
                    <a:pt x="1137" y="1337"/>
                  </a:lnTo>
                  <a:lnTo>
                    <a:pt x="1012" y="1405"/>
                  </a:lnTo>
                  <a:lnTo>
                    <a:pt x="876" y="1447"/>
                  </a:lnTo>
                  <a:lnTo>
                    <a:pt x="728" y="1463"/>
                  </a:lnTo>
                  <a:lnTo>
                    <a:pt x="582" y="1447"/>
                  </a:lnTo>
                  <a:lnTo>
                    <a:pt x="444" y="1405"/>
                  </a:lnTo>
                  <a:lnTo>
                    <a:pt x="321" y="1337"/>
                  </a:lnTo>
                  <a:lnTo>
                    <a:pt x="213" y="1248"/>
                  </a:lnTo>
                  <a:lnTo>
                    <a:pt x="125" y="1139"/>
                  </a:lnTo>
                  <a:lnTo>
                    <a:pt x="57" y="1015"/>
                  </a:lnTo>
                  <a:lnTo>
                    <a:pt x="13" y="879"/>
                  </a:lnTo>
                  <a:lnTo>
                    <a:pt x="0" y="730"/>
                  </a:lnTo>
                  <a:lnTo>
                    <a:pt x="4" y="656"/>
                  </a:lnTo>
                  <a:lnTo>
                    <a:pt x="13" y="583"/>
                  </a:lnTo>
                  <a:lnTo>
                    <a:pt x="33" y="513"/>
                  </a:lnTo>
                  <a:lnTo>
                    <a:pt x="57" y="447"/>
                  </a:lnTo>
                  <a:lnTo>
                    <a:pt x="125" y="322"/>
                  </a:lnTo>
                  <a:lnTo>
                    <a:pt x="213" y="215"/>
                  </a:lnTo>
                  <a:lnTo>
                    <a:pt x="321" y="125"/>
                  </a:lnTo>
                  <a:lnTo>
                    <a:pt x="381" y="87"/>
                  </a:lnTo>
                  <a:lnTo>
                    <a:pt x="444" y="58"/>
                  </a:lnTo>
                  <a:lnTo>
                    <a:pt x="513" y="32"/>
                  </a:lnTo>
                  <a:lnTo>
                    <a:pt x="582" y="14"/>
                  </a:lnTo>
                  <a:lnTo>
                    <a:pt x="654" y="5"/>
                  </a:lnTo>
                  <a:lnTo>
                    <a:pt x="728" y="0"/>
                  </a:lnTo>
                </a:path>
              </a:pathLst>
            </a:custGeom>
            <a:blipFill rotWithShape="0">
              <a:blip r:embed="rId45"/>
              <a:srcRect/>
              <a:stretch/>
            </a:blip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1562040" y="1001880"/>
              <a:ext cx="205920" cy="372240"/>
            </a:xfrm>
            <a:custGeom>
              <a:avLst/>
              <a:gdLst/>
              <a:ahLst/>
              <a:rect l="l" t="t" r="r" b="b"/>
              <a:pathLst>
                <a:path w="1609" h="3213">
                  <a:moveTo>
                    <a:pt x="0" y="3103"/>
                  </a:moveTo>
                  <a:lnTo>
                    <a:pt x="0" y="3213"/>
                  </a:lnTo>
                  <a:lnTo>
                    <a:pt x="81" y="3211"/>
                  </a:lnTo>
                  <a:lnTo>
                    <a:pt x="164" y="3205"/>
                  </a:lnTo>
                  <a:lnTo>
                    <a:pt x="245" y="3195"/>
                  </a:lnTo>
                  <a:lnTo>
                    <a:pt x="324" y="3179"/>
                  </a:lnTo>
                  <a:lnTo>
                    <a:pt x="400" y="3161"/>
                  </a:lnTo>
                  <a:lnTo>
                    <a:pt x="478" y="3140"/>
                  </a:lnTo>
                  <a:lnTo>
                    <a:pt x="552" y="3116"/>
                  </a:lnTo>
                  <a:lnTo>
                    <a:pt x="625" y="3087"/>
                  </a:lnTo>
                  <a:lnTo>
                    <a:pt x="696" y="3055"/>
                  </a:lnTo>
                  <a:lnTo>
                    <a:pt x="766" y="3019"/>
                  </a:lnTo>
                  <a:lnTo>
                    <a:pt x="832" y="2980"/>
                  </a:lnTo>
                  <a:lnTo>
                    <a:pt x="898" y="2939"/>
                  </a:lnTo>
                  <a:lnTo>
                    <a:pt x="961" y="2894"/>
                  </a:lnTo>
                  <a:lnTo>
                    <a:pt x="1023" y="2846"/>
                  </a:lnTo>
                  <a:lnTo>
                    <a:pt x="1081" y="2795"/>
                  </a:lnTo>
                  <a:lnTo>
                    <a:pt x="1137" y="2742"/>
                  </a:lnTo>
                  <a:lnTo>
                    <a:pt x="1190" y="2685"/>
                  </a:lnTo>
                  <a:lnTo>
                    <a:pt x="1242" y="2627"/>
                  </a:lnTo>
                  <a:lnTo>
                    <a:pt x="1289" y="2567"/>
                  </a:lnTo>
                  <a:lnTo>
                    <a:pt x="1332" y="2504"/>
                  </a:lnTo>
                  <a:lnTo>
                    <a:pt x="1376" y="2439"/>
                  </a:lnTo>
                  <a:lnTo>
                    <a:pt x="1413" y="2370"/>
                  </a:lnTo>
                  <a:lnTo>
                    <a:pt x="1449" y="2301"/>
                  </a:lnTo>
                  <a:lnTo>
                    <a:pt x="1483" y="2230"/>
                  </a:lnTo>
                  <a:lnTo>
                    <a:pt x="1510" y="2157"/>
                  </a:lnTo>
                  <a:lnTo>
                    <a:pt x="1536" y="2083"/>
                  </a:lnTo>
                  <a:lnTo>
                    <a:pt x="1557" y="2007"/>
                  </a:lnTo>
                  <a:lnTo>
                    <a:pt x="1575" y="1928"/>
                  </a:lnTo>
                  <a:lnTo>
                    <a:pt x="1588" y="1850"/>
                  </a:lnTo>
                  <a:lnTo>
                    <a:pt x="1599" y="1769"/>
                  </a:lnTo>
                  <a:lnTo>
                    <a:pt x="1606" y="1688"/>
                  </a:lnTo>
                  <a:lnTo>
                    <a:pt x="1609" y="1604"/>
                  </a:lnTo>
                  <a:lnTo>
                    <a:pt x="1606" y="1521"/>
                  </a:lnTo>
                  <a:lnTo>
                    <a:pt x="1599" y="1441"/>
                  </a:lnTo>
                  <a:lnTo>
                    <a:pt x="1588" y="1360"/>
                  </a:lnTo>
                  <a:lnTo>
                    <a:pt x="1575" y="1281"/>
                  </a:lnTo>
                  <a:lnTo>
                    <a:pt x="1557" y="1202"/>
                  </a:lnTo>
                  <a:lnTo>
                    <a:pt x="1536" y="1128"/>
                  </a:lnTo>
                  <a:lnTo>
                    <a:pt x="1510" y="1052"/>
                  </a:lnTo>
                  <a:lnTo>
                    <a:pt x="1483" y="979"/>
                  </a:lnTo>
                  <a:lnTo>
                    <a:pt x="1449" y="908"/>
                  </a:lnTo>
                  <a:lnTo>
                    <a:pt x="1413" y="840"/>
                  </a:lnTo>
                  <a:lnTo>
                    <a:pt x="1376" y="772"/>
                  </a:lnTo>
                  <a:lnTo>
                    <a:pt x="1332" y="707"/>
                  </a:lnTo>
                  <a:lnTo>
                    <a:pt x="1289" y="644"/>
                  </a:lnTo>
                  <a:lnTo>
                    <a:pt x="1242" y="582"/>
                  </a:lnTo>
                  <a:lnTo>
                    <a:pt x="1190" y="526"/>
                  </a:lnTo>
                  <a:lnTo>
                    <a:pt x="1137" y="470"/>
                  </a:lnTo>
                  <a:lnTo>
                    <a:pt x="1081" y="417"/>
                  </a:lnTo>
                  <a:lnTo>
                    <a:pt x="1023" y="365"/>
                  </a:lnTo>
                  <a:lnTo>
                    <a:pt x="961" y="318"/>
                  </a:lnTo>
                  <a:lnTo>
                    <a:pt x="898" y="273"/>
                  </a:lnTo>
                  <a:lnTo>
                    <a:pt x="832" y="231"/>
                  </a:lnTo>
                  <a:lnTo>
                    <a:pt x="766" y="192"/>
                  </a:lnTo>
                  <a:lnTo>
                    <a:pt x="696" y="158"/>
                  </a:lnTo>
                  <a:lnTo>
                    <a:pt x="625" y="124"/>
                  </a:lnTo>
                  <a:lnTo>
                    <a:pt x="552" y="97"/>
                  </a:lnTo>
                  <a:lnTo>
                    <a:pt x="478" y="71"/>
                  </a:lnTo>
                  <a:lnTo>
                    <a:pt x="400" y="50"/>
                  </a:lnTo>
                  <a:lnTo>
                    <a:pt x="324" y="32"/>
                  </a:lnTo>
                  <a:lnTo>
                    <a:pt x="245" y="18"/>
                  </a:lnTo>
                  <a:lnTo>
                    <a:pt x="164" y="6"/>
                  </a:lnTo>
                  <a:lnTo>
                    <a:pt x="81" y="0"/>
                  </a:lnTo>
                  <a:lnTo>
                    <a:pt x="0" y="0"/>
                  </a:lnTo>
                  <a:lnTo>
                    <a:pt x="0" y="111"/>
                  </a:lnTo>
                  <a:lnTo>
                    <a:pt x="75" y="111"/>
                  </a:lnTo>
                  <a:lnTo>
                    <a:pt x="152" y="116"/>
                  </a:lnTo>
                  <a:lnTo>
                    <a:pt x="227" y="126"/>
                  </a:lnTo>
                  <a:lnTo>
                    <a:pt x="302" y="139"/>
                  </a:lnTo>
                  <a:lnTo>
                    <a:pt x="373" y="157"/>
                  </a:lnTo>
                  <a:lnTo>
                    <a:pt x="444" y="176"/>
                  </a:lnTo>
                  <a:lnTo>
                    <a:pt x="515" y="200"/>
                  </a:lnTo>
                  <a:lnTo>
                    <a:pt x="583" y="225"/>
                  </a:lnTo>
                  <a:lnTo>
                    <a:pt x="649" y="257"/>
                  </a:lnTo>
                  <a:lnTo>
                    <a:pt x="714" y="288"/>
                  </a:lnTo>
                  <a:lnTo>
                    <a:pt x="776" y="326"/>
                  </a:lnTo>
                  <a:lnTo>
                    <a:pt x="837" y="364"/>
                  </a:lnTo>
                  <a:lnTo>
                    <a:pt x="896" y="405"/>
                  </a:lnTo>
                  <a:lnTo>
                    <a:pt x="953" y="450"/>
                  </a:lnTo>
                  <a:lnTo>
                    <a:pt x="1007" y="498"/>
                  </a:lnTo>
                  <a:lnTo>
                    <a:pt x="1060" y="547"/>
                  </a:lnTo>
                  <a:lnTo>
                    <a:pt x="1109" y="598"/>
                  </a:lnTo>
                  <a:lnTo>
                    <a:pt x="1156" y="654"/>
                  </a:lnTo>
                  <a:lnTo>
                    <a:pt x="1200" y="709"/>
                  </a:lnTo>
                  <a:lnTo>
                    <a:pt x="1242" y="768"/>
                  </a:lnTo>
                  <a:lnTo>
                    <a:pt x="1281" y="829"/>
                  </a:lnTo>
                  <a:lnTo>
                    <a:pt x="1316" y="892"/>
                  </a:lnTo>
                  <a:lnTo>
                    <a:pt x="1350" y="955"/>
                  </a:lnTo>
                  <a:lnTo>
                    <a:pt x="1379" y="1023"/>
                  </a:lnTo>
                  <a:lnTo>
                    <a:pt x="1407" y="1089"/>
                  </a:lnTo>
                  <a:lnTo>
                    <a:pt x="1431" y="1159"/>
                  </a:lnTo>
                  <a:lnTo>
                    <a:pt x="1451" y="1230"/>
                  </a:lnTo>
                  <a:lnTo>
                    <a:pt x="1468" y="1303"/>
                  </a:lnTo>
                  <a:lnTo>
                    <a:pt x="1480" y="1376"/>
                  </a:lnTo>
                  <a:lnTo>
                    <a:pt x="1491" y="1450"/>
                  </a:lnTo>
                  <a:lnTo>
                    <a:pt x="1496" y="1528"/>
                  </a:lnTo>
                  <a:lnTo>
                    <a:pt x="1498" y="1604"/>
                  </a:lnTo>
                  <a:lnTo>
                    <a:pt x="1496" y="1682"/>
                  </a:lnTo>
                  <a:lnTo>
                    <a:pt x="1491" y="1756"/>
                  </a:lnTo>
                  <a:lnTo>
                    <a:pt x="1480" y="1832"/>
                  </a:lnTo>
                  <a:lnTo>
                    <a:pt x="1468" y="1907"/>
                  </a:lnTo>
                  <a:lnTo>
                    <a:pt x="1451" y="1979"/>
                  </a:lnTo>
                  <a:lnTo>
                    <a:pt x="1431" y="2051"/>
                  </a:lnTo>
                  <a:lnTo>
                    <a:pt x="1407" y="2120"/>
                  </a:lnTo>
                  <a:lnTo>
                    <a:pt x="1379" y="2188"/>
                  </a:lnTo>
                  <a:lnTo>
                    <a:pt x="1350" y="2253"/>
                  </a:lnTo>
                  <a:lnTo>
                    <a:pt x="1316" y="2319"/>
                  </a:lnTo>
                  <a:lnTo>
                    <a:pt x="1281" y="2382"/>
                  </a:lnTo>
                  <a:lnTo>
                    <a:pt x="1242" y="2444"/>
                  </a:lnTo>
                  <a:lnTo>
                    <a:pt x="1200" y="2501"/>
                  </a:lnTo>
                  <a:lnTo>
                    <a:pt x="1156" y="2557"/>
                  </a:lnTo>
                  <a:lnTo>
                    <a:pt x="1109" y="2613"/>
                  </a:lnTo>
                  <a:lnTo>
                    <a:pt x="1060" y="2664"/>
                  </a:lnTo>
                  <a:lnTo>
                    <a:pt x="1007" y="2714"/>
                  </a:lnTo>
                  <a:lnTo>
                    <a:pt x="953" y="2761"/>
                  </a:lnTo>
                  <a:lnTo>
                    <a:pt x="896" y="2807"/>
                  </a:lnTo>
                  <a:lnTo>
                    <a:pt x="837" y="2847"/>
                  </a:lnTo>
                  <a:lnTo>
                    <a:pt x="776" y="2887"/>
                  </a:lnTo>
                  <a:lnTo>
                    <a:pt x="714" y="2923"/>
                  </a:lnTo>
                  <a:lnTo>
                    <a:pt x="649" y="2957"/>
                  </a:lnTo>
                  <a:lnTo>
                    <a:pt x="583" y="2986"/>
                  </a:lnTo>
                  <a:lnTo>
                    <a:pt x="515" y="3012"/>
                  </a:lnTo>
                  <a:lnTo>
                    <a:pt x="444" y="3035"/>
                  </a:lnTo>
                  <a:lnTo>
                    <a:pt x="373" y="3057"/>
                  </a:lnTo>
                  <a:lnTo>
                    <a:pt x="302" y="3072"/>
                  </a:lnTo>
                  <a:lnTo>
                    <a:pt x="227" y="3087"/>
                  </a:lnTo>
                  <a:lnTo>
                    <a:pt x="152" y="3095"/>
                  </a:lnTo>
                  <a:lnTo>
                    <a:pt x="75" y="3100"/>
                  </a:lnTo>
                  <a:lnTo>
                    <a:pt x="0" y="3103"/>
                  </a:lnTo>
                  <a:close/>
                </a:path>
              </a:pathLst>
            </a:custGeom>
            <a:blipFill rotWithShape="0">
              <a:blip r:embed="rId46"/>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1355760" y="1000800"/>
              <a:ext cx="205920" cy="372960"/>
            </a:xfrm>
            <a:custGeom>
              <a:avLst/>
              <a:gdLst/>
              <a:ahLst/>
              <a:rect l="l" t="t" r="r" b="b"/>
              <a:pathLst>
                <a:path w="1610" h="3215">
                  <a:moveTo>
                    <a:pt x="1610" y="113"/>
                  </a:moveTo>
                  <a:lnTo>
                    <a:pt x="1610" y="2"/>
                  </a:lnTo>
                  <a:lnTo>
                    <a:pt x="1608" y="0"/>
                  </a:lnTo>
                  <a:lnTo>
                    <a:pt x="1525" y="2"/>
                  </a:lnTo>
                  <a:lnTo>
                    <a:pt x="1444" y="8"/>
                  </a:lnTo>
                  <a:lnTo>
                    <a:pt x="1363" y="20"/>
                  </a:lnTo>
                  <a:lnTo>
                    <a:pt x="1285" y="34"/>
                  </a:lnTo>
                  <a:lnTo>
                    <a:pt x="1206" y="52"/>
                  </a:lnTo>
                  <a:lnTo>
                    <a:pt x="1131" y="73"/>
                  </a:lnTo>
                  <a:lnTo>
                    <a:pt x="1055" y="99"/>
                  </a:lnTo>
                  <a:lnTo>
                    <a:pt x="982" y="126"/>
                  </a:lnTo>
                  <a:lnTo>
                    <a:pt x="911" y="160"/>
                  </a:lnTo>
                  <a:lnTo>
                    <a:pt x="840" y="194"/>
                  </a:lnTo>
                  <a:lnTo>
                    <a:pt x="773" y="233"/>
                  </a:lnTo>
                  <a:lnTo>
                    <a:pt x="708" y="275"/>
                  </a:lnTo>
                  <a:lnTo>
                    <a:pt x="645" y="320"/>
                  </a:lnTo>
                  <a:lnTo>
                    <a:pt x="586" y="367"/>
                  </a:lnTo>
                  <a:lnTo>
                    <a:pt x="526" y="419"/>
                  </a:lnTo>
                  <a:lnTo>
                    <a:pt x="471" y="472"/>
                  </a:lnTo>
                  <a:lnTo>
                    <a:pt x="418" y="528"/>
                  </a:lnTo>
                  <a:lnTo>
                    <a:pt x="367" y="584"/>
                  </a:lnTo>
                  <a:lnTo>
                    <a:pt x="319" y="646"/>
                  </a:lnTo>
                  <a:lnTo>
                    <a:pt x="273" y="709"/>
                  </a:lnTo>
                  <a:lnTo>
                    <a:pt x="233" y="774"/>
                  </a:lnTo>
                  <a:lnTo>
                    <a:pt x="193" y="842"/>
                  </a:lnTo>
                  <a:lnTo>
                    <a:pt x="157" y="910"/>
                  </a:lnTo>
                  <a:lnTo>
                    <a:pt x="126" y="981"/>
                  </a:lnTo>
                  <a:lnTo>
                    <a:pt x="97" y="1054"/>
                  </a:lnTo>
                  <a:lnTo>
                    <a:pt x="73" y="1130"/>
                  </a:lnTo>
                  <a:lnTo>
                    <a:pt x="50" y="1204"/>
                  </a:lnTo>
                  <a:lnTo>
                    <a:pt x="32" y="1283"/>
                  </a:lnTo>
                  <a:lnTo>
                    <a:pt x="17" y="1362"/>
                  </a:lnTo>
                  <a:lnTo>
                    <a:pt x="8" y="1443"/>
                  </a:lnTo>
                  <a:lnTo>
                    <a:pt x="1" y="1523"/>
                  </a:lnTo>
                  <a:lnTo>
                    <a:pt x="0" y="1606"/>
                  </a:lnTo>
                  <a:lnTo>
                    <a:pt x="1" y="1690"/>
                  </a:lnTo>
                  <a:lnTo>
                    <a:pt x="8" y="1771"/>
                  </a:lnTo>
                  <a:lnTo>
                    <a:pt x="17" y="1852"/>
                  </a:lnTo>
                  <a:lnTo>
                    <a:pt x="32" y="1930"/>
                  </a:lnTo>
                  <a:lnTo>
                    <a:pt x="50" y="2009"/>
                  </a:lnTo>
                  <a:lnTo>
                    <a:pt x="73" y="2085"/>
                  </a:lnTo>
                  <a:lnTo>
                    <a:pt x="97" y="2159"/>
                  </a:lnTo>
                  <a:lnTo>
                    <a:pt x="126" y="2232"/>
                  </a:lnTo>
                  <a:lnTo>
                    <a:pt x="157" y="2303"/>
                  </a:lnTo>
                  <a:lnTo>
                    <a:pt x="193" y="2372"/>
                  </a:lnTo>
                  <a:lnTo>
                    <a:pt x="233" y="2441"/>
                  </a:lnTo>
                  <a:lnTo>
                    <a:pt x="273" y="2506"/>
                  </a:lnTo>
                  <a:lnTo>
                    <a:pt x="319" y="2569"/>
                  </a:lnTo>
                  <a:lnTo>
                    <a:pt x="367" y="2629"/>
                  </a:lnTo>
                  <a:lnTo>
                    <a:pt x="418" y="2687"/>
                  </a:lnTo>
                  <a:lnTo>
                    <a:pt x="471" y="2744"/>
                  </a:lnTo>
                  <a:lnTo>
                    <a:pt x="526" y="2797"/>
                  </a:lnTo>
                  <a:lnTo>
                    <a:pt x="584" y="2848"/>
                  </a:lnTo>
                  <a:lnTo>
                    <a:pt x="645" y="2896"/>
                  </a:lnTo>
                  <a:lnTo>
                    <a:pt x="708" y="2941"/>
                  </a:lnTo>
                  <a:lnTo>
                    <a:pt x="773" y="2982"/>
                  </a:lnTo>
                  <a:lnTo>
                    <a:pt x="840" y="3021"/>
                  </a:lnTo>
                  <a:lnTo>
                    <a:pt x="911" y="3057"/>
                  </a:lnTo>
                  <a:lnTo>
                    <a:pt x="982" y="3089"/>
                  </a:lnTo>
                  <a:lnTo>
                    <a:pt x="1055" y="3118"/>
                  </a:lnTo>
                  <a:lnTo>
                    <a:pt x="1131" y="3142"/>
                  </a:lnTo>
                  <a:lnTo>
                    <a:pt x="1206" y="3163"/>
                  </a:lnTo>
                  <a:lnTo>
                    <a:pt x="1285" y="3181"/>
                  </a:lnTo>
                  <a:lnTo>
                    <a:pt x="1363" y="3197"/>
                  </a:lnTo>
                  <a:lnTo>
                    <a:pt x="1444" y="3207"/>
                  </a:lnTo>
                  <a:lnTo>
                    <a:pt x="1525" y="3213"/>
                  </a:lnTo>
                  <a:lnTo>
                    <a:pt x="1608" y="3215"/>
                  </a:lnTo>
                  <a:lnTo>
                    <a:pt x="1610" y="3215"/>
                  </a:lnTo>
                  <a:lnTo>
                    <a:pt x="1610" y="3105"/>
                  </a:lnTo>
                  <a:lnTo>
                    <a:pt x="1608" y="3105"/>
                  </a:lnTo>
                  <a:lnTo>
                    <a:pt x="1531" y="3102"/>
                  </a:lnTo>
                  <a:lnTo>
                    <a:pt x="1456" y="3097"/>
                  </a:lnTo>
                  <a:lnTo>
                    <a:pt x="1379" y="3089"/>
                  </a:lnTo>
                  <a:lnTo>
                    <a:pt x="1306" y="3074"/>
                  </a:lnTo>
                  <a:lnTo>
                    <a:pt x="1233" y="3059"/>
                  </a:lnTo>
                  <a:lnTo>
                    <a:pt x="1162" y="3037"/>
                  </a:lnTo>
                  <a:lnTo>
                    <a:pt x="1093" y="3014"/>
                  </a:lnTo>
                  <a:lnTo>
                    <a:pt x="1024" y="2988"/>
                  </a:lnTo>
                  <a:lnTo>
                    <a:pt x="958" y="2959"/>
                  </a:lnTo>
                  <a:lnTo>
                    <a:pt x="893" y="2925"/>
                  </a:lnTo>
                  <a:lnTo>
                    <a:pt x="830" y="2889"/>
                  </a:lnTo>
                  <a:lnTo>
                    <a:pt x="769" y="2849"/>
                  </a:lnTo>
                  <a:lnTo>
                    <a:pt x="712" y="2809"/>
                  </a:lnTo>
                  <a:lnTo>
                    <a:pt x="655" y="2763"/>
                  </a:lnTo>
                  <a:lnTo>
                    <a:pt x="600" y="2716"/>
                  </a:lnTo>
                  <a:lnTo>
                    <a:pt x="548" y="2666"/>
                  </a:lnTo>
                  <a:lnTo>
                    <a:pt x="498" y="2615"/>
                  </a:lnTo>
                  <a:lnTo>
                    <a:pt x="451" y="2559"/>
                  </a:lnTo>
                  <a:lnTo>
                    <a:pt x="406" y="2503"/>
                  </a:lnTo>
                  <a:lnTo>
                    <a:pt x="364" y="2446"/>
                  </a:lnTo>
                  <a:lnTo>
                    <a:pt x="325" y="2384"/>
                  </a:lnTo>
                  <a:lnTo>
                    <a:pt x="290" y="2321"/>
                  </a:lnTo>
                  <a:lnTo>
                    <a:pt x="256" y="2255"/>
                  </a:lnTo>
                  <a:lnTo>
                    <a:pt x="226" y="2190"/>
                  </a:lnTo>
                  <a:lnTo>
                    <a:pt x="201" y="2122"/>
                  </a:lnTo>
                  <a:lnTo>
                    <a:pt x="178" y="2053"/>
                  </a:lnTo>
                  <a:lnTo>
                    <a:pt x="155" y="1981"/>
                  </a:lnTo>
                  <a:lnTo>
                    <a:pt x="139" y="1909"/>
                  </a:lnTo>
                  <a:lnTo>
                    <a:pt x="126" y="1834"/>
                  </a:lnTo>
                  <a:lnTo>
                    <a:pt x="116" y="1758"/>
                  </a:lnTo>
                  <a:lnTo>
                    <a:pt x="112" y="1684"/>
                  </a:lnTo>
                  <a:lnTo>
                    <a:pt x="110" y="1606"/>
                  </a:lnTo>
                  <a:lnTo>
                    <a:pt x="112" y="1530"/>
                  </a:lnTo>
                  <a:lnTo>
                    <a:pt x="116" y="1452"/>
                  </a:lnTo>
                  <a:lnTo>
                    <a:pt x="126" y="1378"/>
                  </a:lnTo>
                  <a:lnTo>
                    <a:pt x="139" y="1305"/>
                  </a:lnTo>
                  <a:lnTo>
                    <a:pt x="155" y="1232"/>
                  </a:lnTo>
                  <a:lnTo>
                    <a:pt x="178" y="1161"/>
                  </a:lnTo>
                  <a:lnTo>
                    <a:pt x="201" y="1091"/>
                  </a:lnTo>
                  <a:lnTo>
                    <a:pt x="226" y="1025"/>
                  </a:lnTo>
                  <a:lnTo>
                    <a:pt x="256" y="957"/>
                  </a:lnTo>
                  <a:lnTo>
                    <a:pt x="290" y="894"/>
                  </a:lnTo>
                  <a:lnTo>
                    <a:pt x="325" y="831"/>
                  </a:lnTo>
                  <a:lnTo>
                    <a:pt x="364" y="770"/>
                  </a:lnTo>
                  <a:lnTo>
                    <a:pt x="406" y="711"/>
                  </a:lnTo>
                  <a:lnTo>
                    <a:pt x="451" y="656"/>
                  </a:lnTo>
                  <a:lnTo>
                    <a:pt x="498" y="600"/>
                  </a:lnTo>
                  <a:lnTo>
                    <a:pt x="548" y="549"/>
                  </a:lnTo>
                  <a:lnTo>
                    <a:pt x="600" y="500"/>
                  </a:lnTo>
                  <a:lnTo>
                    <a:pt x="655" y="452"/>
                  </a:lnTo>
                  <a:lnTo>
                    <a:pt x="712" y="407"/>
                  </a:lnTo>
                  <a:lnTo>
                    <a:pt x="769" y="366"/>
                  </a:lnTo>
                  <a:lnTo>
                    <a:pt x="830" y="328"/>
                  </a:lnTo>
                  <a:lnTo>
                    <a:pt x="893" y="290"/>
                  </a:lnTo>
                  <a:lnTo>
                    <a:pt x="958" y="259"/>
                  </a:lnTo>
                  <a:lnTo>
                    <a:pt x="1024" y="227"/>
                  </a:lnTo>
                  <a:lnTo>
                    <a:pt x="1093" y="202"/>
                  </a:lnTo>
                  <a:lnTo>
                    <a:pt x="1162" y="178"/>
                  </a:lnTo>
                  <a:lnTo>
                    <a:pt x="1233" y="159"/>
                  </a:lnTo>
                  <a:lnTo>
                    <a:pt x="1306" y="141"/>
                  </a:lnTo>
                  <a:lnTo>
                    <a:pt x="1379" y="128"/>
                  </a:lnTo>
                  <a:lnTo>
                    <a:pt x="1456" y="118"/>
                  </a:lnTo>
                  <a:lnTo>
                    <a:pt x="1531" y="113"/>
                  </a:lnTo>
                  <a:lnTo>
                    <a:pt x="1608" y="110"/>
                  </a:lnTo>
                  <a:lnTo>
                    <a:pt x="1610" y="113"/>
                  </a:lnTo>
                  <a:close/>
                </a:path>
              </a:pathLst>
            </a:custGeom>
            <a:blipFill rotWithShape="0">
              <a:blip r:embed="rId47"/>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1562040" y="912600"/>
              <a:ext cx="303120" cy="550440"/>
            </a:xfrm>
            <a:custGeom>
              <a:avLst/>
              <a:gdLst/>
              <a:ahLst/>
              <a:rect l="l" t="t" r="r" b="b"/>
              <a:pathLst>
                <a:path w="2366" h="4738">
                  <a:moveTo>
                    <a:pt x="0" y="4627"/>
                  </a:moveTo>
                  <a:lnTo>
                    <a:pt x="0" y="4738"/>
                  </a:lnTo>
                  <a:lnTo>
                    <a:pt x="120" y="4733"/>
                  </a:lnTo>
                  <a:lnTo>
                    <a:pt x="241" y="4724"/>
                  </a:lnTo>
                  <a:lnTo>
                    <a:pt x="359" y="4710"/>
                  </a:lnTo>
                  <a:lnTo>
                    <a:pt x="476" y="4688"/>
                  </a:lnTo>
                  <a:lnTo>
                    <a:pt x="590" y="4662"/>
                  </a:lnTo>
                  <a:lnTo>
                    <a:pt x="703" y="4631"/>
                  </a:lnTo>
                  <a:lnTo>
                    <a:pt x="813" y="4594"/>
                  </a:lnTo>
                  <a:lnTo>
                    <a:pt x="921" y="4550"/>
                  </a:lnTo>
                  <a:lnTo>
                    <a:pt x="1026" y="4503"/>
                  </a:lnTo>
                  <a:lnTo>
                    <a:pt x="1127" y="4450"/>
                  </a:lnTo>
                  <a:lnTo>
                    <a:pt x="1227" y="4392"/>
                  </a:lnTo>
                  <a:lnTo>
                    <a:pt x="1322" y="4331"/>
                  </a:lnTo>
                  <a:lnTo>
                    <a:pt x="1415" y="4266"/>
                  </a:lnTo>
                  <a:lnTo>
                    <a:pt x="1506" y="4194"/>
                  </a:lnTo>
                  <a:lnTo>
                    <a:pt x="1591" y="4120"/>
                  </a:lnTo>
                  <a:lnTo>
                    <a:pt x="1674" y="4041"/>
                  </a:lnTo>
                  <a:lnTo>
                    <a:pt x="1753" y="3958"/>
                  </a:lnTo>
                  <a:lnTo>
                    <a:pt x="1826" y="3873"/>
                  </a:lnTo>
                  <a:lnTo>
                    <a:pt x="1897" y="3783"/>
                  </a:lnTo>
                  <a:lnTo>
                    <a:pt x="1964" y="3689"/>
                  </a:lnTo>
                  <a:lnTo>
                    <a:pt x="2025" y="3595"/>
                  </a:lnTo>
                  <a:lnTo>
                    <a:pt x="2082" y="3495"/>
                  </a:lnTo>
                  <a:lnTo>
                    <a:pt x="2133" y="3391"/>
                  </a:lnTo>
                  <a:lnTo>
                    <a:pt x="2181" y="3287"/>
                  </a:lnTo>
                  <a:lnTo>
                    <a:pt x="2224" y="3181"/>
                  </a:lnTo>
                  <a:lnTo>
                    <a:pt x="2262" y="3070"/>
                  </a:lnTo>
                  <a:lnTo>
                    <a:pt x="2294" y="2957"/>
                  </a:lnTo>
                  <a:lnTo>
                    <a:pt x="2319" y="2844"/>
                  </a:lnTo>
                  <a:lnTo>
                    <a:pt x="2341" y="2724"/>
                  </a:lnTo>
                  <a:lnTo>
                    <a:pt x="2355" y="2606"/>
                  </a:lnTo>
                  <a:lnTo>
                    <a:pt x="2365" y="2486"/>
                  </a:lnTo>
                  <a:lnTo>
                    <a:pt x="2366" y="2365"/>
                  </a:lnTo>
                  <a:lnTo>
                    <a:pt x="2365" y="2243"/>
                  </a:lnTo>
                  <a:lnTo>
                    <a:pt x="2355" y="2123"/>
                  </a:lnTo>
                  <a:lnTo>
                    <a:pt x="2341" y="2004"/>
                  </a:lnTo>
                  <a:lnTo>
                    <a:pt x="2319" y="1889"/>
                  </a:lnTo>
                  <a:lnTo>
                    <a:pt x="2294" y="1774"/>
                  </a:lnTo>
                  <a:lnTo>
                    <a:pt x="2262" y="1661"/>
                  </a:lnTo>
                  <a:lnTo>
                    <a:pt x="2224" y="1551"/>
                  </a:lnTo>
                  <a:lnTo>
                    <a:pt x="2181" y="1442"/>
                  </a:lnTo>
                  <a:lnTo>
                    <a:pt x="2133" y="1337"/>
                  </a:lnTo>
                  <a:lnTo>
                    <a:pt x="2082" y="1237"/>
                  </a:lnTo>
                  <a:lnTo>
                    <a:pt x="2025" y="1136"/>
                  </a:lnTo>
                  <a:lnTo>
                    <a:pt x="1964" y="1042"/>
                  </a:lnTo>
                  <a:lnTo>
                    <a:pt x="1897" y="949"/>
                  </a:lnTo>
                  <a:lnTo>
                    <a:pt x="1826" y="858"/>
                  </a:lnTo>
                  <a:lnTo>
                    <a:pt x="1753" y="773"/>
                  </a:lnTo>
                  <a:lnTo>
                    <a:pt x="1674" y="691"/>
                  </a:lnTo>
                  <a:lnTo>
                    <a:pt x="1591" y="612"/>
                  </a:lnTo>
                  <a:lnTo>
                    <a:pt x="1506" y="539"/>
                  </a:lnTo>
                  <a:lnTo>
                    <a:pt x="1415" y="468"/>
                  </a:lnTo>
                  <a:lnTo>
                    <a:pt x="1322" y="400"/>
                  </a:lnTo>
                  <a:lnTo>
                    <a:pt x="1227" y="340"/>
                  </a:lnTo>
                  <a:lnTo>
                    <a:pt x="1127" y="282"/>
                  </a:lnTo>
                  <a:lnTo>
                    <a:pt x="1026" y="231"/>
                  </a:lnTo>
                  <a:lnTo>
                    <a:pt x="921" y="183"/>
                  </a:lnTo>
                  <a:lnTo>
                    <a:pt x="813" y="139"/>
                  </a:lnTo>
                  <a:lnTo>
                    <a:pt x="703" y="102"/>
                  </a:lnTo>
                  <a:lnTo>
                    <a:pt x="590" y="71"/>
                  </a:lnTo>
                  <a:lnTo>
                    <a:pt x="476" y="45"/>
                  </a:lnTo>
                  <a:lnTo>
                    <a:pt x="359" y="24"/>
                  </a:lnTo>
                  <a:lnTo>
                    <a:pt x="241" y="10"/>
                  </a:lnTo>
                  <a:lnTo>
                    <a:pt x="120" y="0"/>
                  </a:lnTo>
                  <a:lnTo>
                    <a:pt x="0" y="0"/>
                  </a:lnTo>
                  <a:lnTo>
                    <a:pt x="0" y="108"/>
                  </a:lnTo>
                  <a:lnTo>
                    <a:pt x="115" y="110"/>
                  </a:lnTo>
                  <a:lnTo>
                    <a:pt x="229" y="118"/>
                  </a:lnTo>
                  <a:lnTo>
                    <a:pt x="343" y="132"/>
                  </a:lnTo>
                  <a:lnTo>
                    <a:pt x="454" y="152"/>
                  </a:lnTo>
                  <a:lnTo>
                    <a:pt x="562" y="178"/>
                  </a:lnTo>
                  <a:lnTo>
                    <a:pt x="671" y="209"/>
                  </a:lnTo>
                  <a:lnTo>
                    <a:pt x="776" y="244"/>
                  </a:lnTo>
                  <a:lnTo>
                    <a:pt x="878" y="283"/>
                  </a:lnTo>
                  <a:lnTo>
                    <a:pt x="979" y="330"/>
                  </a:lnTo>
                  <a:lnTo>
                    <a:pt x="1075" y="379"/>
                  </a:lnTo>
                  <a:lnTo>
                    <a:pt x="1170" y="434"/>
                  </a:lnTo>
                  <a:lnTo>
                    <a:pt x="1261" y="493"/>
                  </a:lnTo>
                  <a:lnTo>
                    <a:pt x="1350" y="555"/>
                  </a:lnTo>
                  <a:lnTo>
                    <a:pt x="1434" y="621"/>
                  </a:lnTo>
                  <a:lnTo>
                    <a:pt x="1518" y="693"/>
                  </a:lnTo>
                  <a:lnTo>
                    <a:pt x="1596" y="767"/>
                  </a:lnTo>
                  <a:lnTo>
                    <a:pt x="1672" y="846"/>
                  </a:lnTo>
                  <a:lnTo>
                    <a:pt x="1743" y="929"/>
                  </a:lnTo>
                  <a:lnTo>
                    <a:pt x="1810" y="1015"/>
                  </a:lnTo>
                  <a:lnTo>
                    <a:pt x="1871" y="1102"/>
                  </a:lnTo>
                  <a:lnTo>
                    <a:pt x="1930" y="1193"/>
                  </a:lnTo>
                  <a:lnTo>
                    <a:pt x="1986" y="1288"/>
                  </a:lnTo>
                  <a:lnTo>
                    <a:pt x="2035" y="1385"/>
                  </a:lnTo>
                  <a:lnTo>
                    <a:pt x="2080" y="1486"/>
                  </a:lnTo>
                  <a:lnTo>
                    <a:pt x="2119" y="1588"/>
                  </a:lnTo>
                  <a:lnTo>
                    <a:pt x="2155" y="1693"/>
                  </a:lnTo>
                  <a:lnTo>
                    <a:pt x="2187" y="1801"/>
                  </a:lnTo>
                  <a:lnTo>
                    <a:pt x="2213" y="1910"/>
                  </a:lnTo>
                  <a:lnTo>
                    <a:pt x="2232" y="2020"/>
                  </a:lnTo>
                  <a:lnTo>
                    <a:pt x="2245" y="2135"/>
                  </a:lnTo>
                  <a:lnTo>
                    <a:pt x="2253" y="2250"/>
                  </a:lnTo>
                  <a:lnTo>
                    <a:pt x="2258" y="2365"/>
                  </a:lnTo>
                  <a:lnTo>
                    <a:pt x="2253" y="2482"/>
                  </a:lnTo>
                  <a:lnTo>
                    <a:pt x="2245" y="2596"/>
                  </a:lnTo>
                  <a:lnTo>
                    <a:pt x="2232" y="2709"/>
                  </a:lnTo>
                  <a:lnTo>
                    <a:pt x="2213" y="2820"/>
                  </a:lnTo>
                  <a:lnTo>
                    <a:pt x="2187" y="2930"/>
                  </a:lnTo>
                  <a:lnTo>
                    <a:pt x="2155" y="3037"/>
                  </a:lnTo>
                  <a:lnTo>
                    <a:pt x="2119" y="3143"/>
                  </a:lnTo>
                  <a:lnTo>
                    <a:pt x="2080" y="3246"/>
                  </a:lnTo>
                  <a:lnTo>
                    <a:pt x="2035" y="3344"/>
                  </a:lnTo>
                  <a:lnTo>
                    <a:pt x="1986" y="3443"/>
                  </a:lnTo>
                  <a:lnTo>
                    <a:pt x="1930" y="3538"/>
                  </a:lnTo>
                  <a:lnTo>
                    <a:pt x="1871" y="3629"/>
                  </a:lnTo>
                  <a:lnTo>
                    <a:pt x="1810" y="3718"/>
                  </a:lnTo>
                  <a:lnTo>
                    <a:pt x="1743" y="3804"/>
                  </a:lnTo>
                  <a:lnTo>
                    <a:pt x="1672" y="3885"/>
                  </a:lnTo>
                  <a:lnTo>
                    <a:pt x="1596" y="3964"/>
                  </a:lnTo>
                  <a:lnTo>
                    <a:pt x="1518" y="4039"/>
                  </a:lnTo>
                  <a:lnTo>
                    <a:pt x="1434" y="4110"/>
                  </a:lnTo>
                  <a:lnTo>
                    <a:pt x="1350" y="4178"/>
                  </a:lnTo>
                  <a:lnTo>
                    <a:pt x="1261" y="4241"/>
                  </a:lnTo>
                  <a:lnTo>
                    <a:pt x="1170" y="4299"/>
                  </a:lnTo>
                  <a:lnTo>
                    <a:pt x="1075" y="4354"/>
                  </a:lnTo>
                  <a:lnTo>
                    <a:pt x="979" y="4404"/>
                  </a:lnTo>
                  <a:lnTo>
                    <a:pt x="878" y="4450"/>
                  </a:lnTo>
                  <a:lnTo>
                    <a:pt x="776" y="4489"/>
                  </a:lnTo>
                  <a:lnTo>
                    <a:pt x="671" y="4526"/>
                  </a:lnTo>
                  <a:lnTo>
                    <a:pt x="562" y="4555"/>
                  </a:lnTo>
                  <a:lnTo>
                    <a:pt x="454" y="4581"/>
                  </a:lnTo>
                  <a:lnTo>
                    <a:pt x="343" y="4602"/>
                  </a:lnTo>
                  <a:lnTo>
                    <a:pt x="229" y="4615"/>
                  </a:lnTo>
                  <a:lnTo>
                    <a:pt x="115" y="4625"/>
                  </a:lnTo>
                  <a:lnTo>
                    <a:pt x="0" y="4627"/>
                  </a:lnTo>
                  <a:close/>
                </a:path>
              </a:pathLst>
            </a:custGeom>
            <a:blipFill rotWithShape="0">
              <a:blip r:embed="rId48"/>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1258560" y="912600"/>
              <a:ext cx="303120" cy="550440"/>
            </a:xfrm>
            <a:custGeom>
              <a:avLst/>
              <a:gdLst/>
              <a:ahLst/>
              <a:rect l="l" t="t" r="r" b="b"/>
              <a:pathLst>
                <a:path w="2371" h="4740">
                  <a:moveTo>
                    <a:pt x="2371" y="110"/>
                  </a:moveTo>
                  <a:lnTo>
                    <a:pt x="2371" y="2"/>
                  </a:lnTo>
                  <a:lnTo>
                    <a:pt x="2369" y="0"/>
                  </a:lnTo>
                  <a:lnTo>
                    <a:pt x="2248" y="2"/>
                  </a:lnTo>
                  <a:lnTo>
                    <a:pt x="2128" y="12"/>
                  </a:lnTo>
                  <a:lnTo>
                    <a:pt x="2010" y="26"/>
                  </a:lnTo>
                  <a:lnTo>
                    <a:pt x="1892" y="47"/>
                  </a:lnTo>
                  <a:lnTo>
                    <a:pt x="1777" y="73"/>
                  </a:lnTo>
                  <a:lnTo>
                    <a:pt x="1664" y="104"/>
                  </a:lnTo>
                  <a:lnTo>
                    <a:pt x="1556" y="141"/>
                  </a:lnTo>
                  <a:lnTo>
                    <a:pt x="1447" y="185"/>
                  </a:lnTo>
                  <a:lnTo>
                    <a:pt x="1342" y="233"/>
                  </a:lnTo>
                  <a:lnTo>
                    <a:pt x="1240" y="284"/>
                  </a:lnTo>
                  <a:lnTo>
                    <a:pt x="1141" y="342"/>
                  </a:lnTo>
                  <a:lnTo>
                    <a:pt x="1044" y="402"/>
                  </a:lnTo>
                  <a:lnTo>
                    <a:pt x="952" y="470"/>
                  </a:lnTo>
                  <a:lnTo>
                    <a:pt x="863" y="541"/>
                  </a:lnTo>
                  <a:lnTo>
                    <a:pt x="777" y="614"/>
                  </a:lnTo>
                  <a:lnTo>
                    <a:pt x="696" y="693"/>
                  </a:lnTo>
                  <a:lnTo>
                    <a:pt x="617" y="775"/>
                  </a:lnTo>
                  <a:lnTo>
                    <a:pt x="541" y="860"/>
                  </a:lnTo>
                  <a:lnTo>
                    <a:pt x="473" y="951"/>
                  </a:lnTo>
                  <a:lnTo>
                    <a:pt x="405" y="1044"/>
                  </a:lnTo>
                  <a:lnTo>
                    <a:pt x="345" y="1138"/>
                  </a:lnTo>
                  <a:lnTo>
                    <a:pt x="287" y="1239"/>
                  </a:lnTo>
                  <a:lnTo>
                    <a:pt x="233" y="1339"/>
                  </a:lnTo>
                  <a:lnTo>
                    <a:pt x="186" y="1444"/>
                  </a:lnTo>
                  <a:lnTo>
                    <a:pt x="144" y="1553"/>
                  </a:lnTo>
                  <a:lnTo>
                    <a:pt x="107" y="1663"/>
                  </a:lnTo>
                  <a:lnTo>
                    <a:pt x="76" y="1776"/>
                  </a:lnTo>
                  <a:lnTo>
                    <a:pt x="50" y="1891"/>
                  </a:lnTo>
                  <a:lnTo>
                    <a:pt x="28" y="2006"/>
                  </a:lnTo>
                  <a:lnTo>
                    <a:pt x="13" y="2125"/>
                  </a:lnTo>
                  <a:lnTo>
                    <a:pt x="5" y="2245"/>
                  </a:lnTo>
                  <a:lnTo>
                    <a:pt x="0" y="2367"/>
                  </a:lnTo>
                  <a:lnTo>
                    <a:pt x="5" y="2488"/>
                  </a:lnTo>
                  <a:lnTo>
                    <a:pt x="13" y="2608"/>
                  </a:lnTo>
                  <a:lnTo>
                    <a:pt x="28" y="2729"/>
                  </a:lnTo>
                  <a:lnTo>
                    <a:pt x="50" y="2846"/>
                  </a:lnTo>
                  <a:lnTo>
                    <a:pt x="76" y="2959"/>
                  </a:lnTo>
                  <a:lnTo>
                    <a:pt x="107" y="3072"/>
                  </a:lnTo>
                  <a:lnTo>
                    <a:pt x="144" y="3183"/>
                  </a:lnTo>
                  <a:lnTo>
                    <a:pt x="186" y="3289"/>
                  </a:lnTo>
                  <a:lnTo>
                    <a:pt x="233" y="3393"/>
                  </a:lnTo>
                  <a:lnTo>
                    <a:pt x="287" y="3497"/>
                  </a:lnTo>
                  <a:lnTo>
                    <a:pt x="345" y="3597"/>
                  </a:lnTo>
                  <a:lnTo>
                    <a:pt x="405" y="3691"/>
                  </a:lnTo>
                  <a:lnTo>
                    <a:pt x="473" y="3785"/>
                  </a:lnTo>
                  <a:lnTo>
                    <a:pt x="541" y="3875"/>
                  </a:lnTo>
                  <a:lnTo>
                    <a:pt x="617" y="3960"/>
                  </a:lnTo>
                  <a:lnTo>
                    <a:pt x="696" y="4043"/>
                  </a:lnTo>
                  <a:lnTo>
                    <a:pt x="777" y="4122"/>
                  </a:lnTo>
                  <a:lnTo>
                    <a:pt x="863" y="4196"/>
                  </a:lnTo>
                  <a:lnTo>
                    <a:pt x="952" y="4268"/>
                  </a:lnTo>
                  <a:lnTo>
                    <a:pt x="1044" y="4333"/>
                  </a:lnTo>
                  <a:lnTo>
                    <a:pt x="1141" y="4394"/>
                  </a:lnTo>
                  <a:lnTo>
                    <a:pt x="1240" y="4452"/>
                  </a:lnTo>
                  <a:lnTo>
                    <a:pt x="1342" y="4505"/>
                  </a:lnTo>
                  <a:lnTo>
                    <a:pt x="1447" y="4552"/>
                  </a:lnTo>
                  <a:lnTo>
                    <a:pt x="1556" y="4596"/>
                  </a:lnTo>
                  <a:lnTo>
                    <a:pt x="1664" y="4633"/>
                  </a:lnTo>
                  <a:lnTo>
                    <a:pt x="1777" y="4664"/>
                  </a:lnTo>
                  <a:lnTo>
                    <a:pt x="1892" y="4690"/>
                  </a:lnTo>
                  <a:lnTo>
                    <a:pt x="2007" y="4712"/>
                  </a:lnTo>
                  <a:lnTo>
                    <a:pt x="2128" y="4726"/>
                  </a:lnTo>
                  <a:lnTo>
                    <a:pt x="2248" y="4735"/>
                  </a:lnTo>
                  <a:lnTo>
                    <a:pt x="2369" y="4740"/>
                  </a:lnTo>
                  <a:lnTo>
                    <a:pt x="2371" y="4740"/>
                  </a:lnTo>
                  <a:lnTo>
                    <a:pt x="2371" y="4629"/>
                  </a:lnTo>
                  <a:lnTo>
                    <a:pt x="2369" y="4629"/>
                  </a:lnTo>
                  <a:lnTo>
                    <a:pt x="2253" y="4627"/>
                  </a:lnTo>
                  <a:lnTo>
                    <a:pt x="2138" y="4617"/>
                  </a:lnTo>
                  <a:lnTo>
                    <a:pt x="2025" y="4604"/>
                  </a:lnTo>
                  <a:lnTo>
                    <a:pt x="1915" y="4583"/>
                  </a:lnTo>
                  <a:lnTo>
                    <a:pt x="1805" y="4557"/>
                  </a:lnTo>
                  <a:lnTo>
                    <a:pt x="1698" y="4528"/>
                  </a:lnTo>
                  <a:lnTo>
                    <a:pt x="1593" y="4491"/>
                  </a:lnTo>
                  <a:lnTo>
                    <a:pt x="1491" y="4452"/>
                  </a:lnTo>
                  <a:lnTo>
                    <a:pt x="1390" y="4406"/>
                  </a:lnTo>
                  <a:lnTo>
                    <a:pt x="1293" y="4356"/>
                  </a:lnTo>
                  <a:lnTo>
                    <a:pt x="1198" y="4301"/>
                  </a:lnTo>
                  <a:lnTo>
                    <a:pt x="1106" y="4243"/>
                  </a:lnTo>
                  <a:lnTo>
                    <a:pt x="1017" y="4180"/>
                  </a:lnTo>
                  <a:lnTo>
                    <a:pt x="932" y="4112"/>
                  </a:lnTo>
                  <a:lnTo>
                    <a:pt x="851" y="4041"/>
                  </a:lnTo>
                  <a:lnTo>
                    <a:pt x="772" y="3966"/>
                  </a:lnTo>
                  <a:lnTo>
                    <a:pt x="698" y="3887"/>
                  </a:lnTo>
                  <a:lnTo>
                    <a:pt x="626" y="3806"/>
                  </a:lnTo>
                  <a:lnTo>
                    <a:pt x="559" y="3720"/>
                  </a:lnTo>
                  <a:lnTo>
                    <a:pt x="496" y="3631"/>
                  </a:lnTo>
                  <a:lnTo>
                    <a:pt x="437" y="3540"/>
                  </a:lnTo>
                  <a:lnTo>
                    <a:pt x="384" y="3445"/>
                  </a:lnTo>
                  <a:lnTo>
                    <a:pt x="334" y="3346"/>
                  </a:lnTo>
                  <a:lnTo>
                    <a:pt x="288" y="3248"/>
                  </a:lnTo>
                  <a:lnTo>
                    <a:pt x="248" y="3145"/>
                  </a:lnTo>
                  <a:lnTo>
                    <a:pt x="212" y="3039"/>
                  </a:lnTo>
                  <a:lnTo>
                    <a:pt x="183" y="2932"/>
                  </a:lnTo>
                  <a:lnTo>
                    <a:pt x="157" y="2822"/>
                  </a:lnTo>
                  <a:lnTo>
                    <a:pt x="136" y="2711"/>
                  </a:lnTo>
                  <a:lnTo>
                    <a:pt x="123" y="2598"/>
                  </a:lnTo>
                  <a:lnTo>
                    <a:pt x="113" y="2484"/>
                  </a:lnTo>
                  <a:lnTo>
                    <a:pt x="112" y="2367"/>
                  </a:lnTo>
                  <a:lnTo>
                    <a:pt x="113" y="2252"/>
                  </a:lnTo>
                  <a:lnTo>
                    <a:pt x="123" y="2137"/>
                  </a:lnTo>
                  <a:lnTo>
                    <a:pt x="136" y="2022"/>
                  </a:lnTo>
                  <a:lnTo>
                    <a:pt x="157" y="1912"/>
                  </a:lnTo>
                  <a:lnTo>
                    <a:pt x="183" y="1803"/>
                  </a:lnTo>
                  <a:lnTo>
                    <a:pt x="212" y="1695"/>
                  </a:lnTo>
                  <a:lnTo>
                    <a:pt x="248" y="1590"/>
                  </a:lnTo>
                  <a:lnTo>
                    <a:pt x="288" y="1488"/>
                  </a:lnTo>
                  <a:lnTo>
                    <a:pt x="334" y="1387"/>
                  </a:lnTo>
                  <a:lnTo>
                    <a:pt x="384" y="1290"/>
                  </a:lnTo>
                  <a:lnTo>
                    <a:pt x="437" y="1195"/>
                  </a:lnTo>
                  <a:lnTo>
                    <a:pt x="496" y="1104"/>
                  </a:lnTo>
                  <a:lnTo>
                    <a:pt x="559" y="1017"/>
                  </a:lnTo>
                  <a:lnTo>
                    <a:pt x="626" y="931"/>
                  </a:lnTo>
                  <a:lnTo>
                    <a:pt x="698" y="848"/>
                  </a:lnTo>
                  <a:lnTo>
                    <a:pt x="772" y="769"/>
                  </a:lnTo>
                  <a:lnTo>
                    <a:pt x="851" y="695"/>
                  </a:lnTo>
                  <a:lnTo>
                    <a:pt x="932" y="623"/>
                  </a:lnTo>
                  <a:lnTo>
                    <a:pt x="1017" y="557"/>
                  </a:lnTo>
                  <a:lnTo>
                    <a:pt x="1106" y="495"/>
                  </a:lnTo>
                  <a:lnTo>
                    <a:pt x="1198" y="436"/>
                  </a:lnTo>
                  <a:lnTo>
                    <a:pt x="1293" y="381"/>
                  </a:lnTo>
                  <a:lnTo>
                    <a:pt x="1390" y="332"/>
                  </a:lnTo>
                  <a:lnTo>
                    <a:pt x="1491" y="285"/>
                  </a:lnTo>
                  <a:lnTo>
                    <a:pt x="1593" y="246"/>
                  </a:lnTo>
                  <a:lnTo>
                    <a:pt x="1698" y="211"/>
                  </a:lnTo>
                  <a:lnTo>
                    <a:pt x="1805" y="180"/>
                  </a:lnTo>
                  <a:lnTo>
                    <a:pt x="1915" y="154"/>
                  </a:lnTo>
                  <a:lnTo>
                    <a:pt x="2025" y="134"/>
                  </a:lnTo>
                  <a:lnTo>
                    <a:pt x="2138" y="120"/>
                  </a:lnTo>
                  <a:lnTo>
                    <a:pt x="2253" y="112"/>
                  </a:lnTo>
                  <a:lnTo>
                    <a:pt x="2369" y="109"/>
                  </a:lnTo>
                  <a:lnTo>
                    <a:pt x="2371" y="110"/>
                  </a:lnTo>
                  <a:close/>
                </a:path>
              </a:pathLst>
            </a:custGeom>
            <a:blipFill rotWithShape="0">
              <a:blip r:embed="rId4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1119960" y="1676880"/>
              <a:ext cx="620280" cy="140760"/>
            </a:xfrm>
            <a:custGeom>
              <a:avLst/>
              <a:gdLst/>
              <a:ahLst/>
              <a:rect l="l" t="t" r="r" b="b"/>
              <a:pathLst>
                <a:path w="4839" h="1209">
                  <a:moveTo>
                    <a:pt x="4839" y="1144"/>
                  </a:moveTo>
                  <a:lnTo>
                    <a:pt x="4810" y="1110"/>
                  </a:lnTo>
                  <a:lnTo>
                    <a:pt x="4721" y="1021"/>
                  </a:lnTo>
                  <a:lnTo>
                    <a:pt x="4660" y="960"/>
                  </a:lnTo>
                  <a:lnTo>
                    <a:pt x="4585" y="892"/>
                  </a:lnTo>
                  <a:lnTo>
                    <a:pt x="4500" y="816"/>
                  </a:lnTo>
                  <a:lnTo>
                    <a:pt x="4405" y="738"/>
                  </a:lnTo>
                  <a:lnTo>
                    <a:pt x="4302" y="654"/>
                  </a:lnTo>
                  <a:lnTo>
                    <a:pt x="4190" y="573"/>
                  </a:lnTo>
                  <a:lnTo>
                    <a:pt x="4072" y="492"/>
                  </a:lnTo>
                  <a:lnTo>
                    <a:pt x="3947" y="416"/>
                  </a:lnTo>
                  <a:lnTo>
                    <a:pt x="3817" y="343"/>
                  </a:lnTo>
                  <a:lnTo>
                    <a:pt x="3682" y="280"/>
                  </a:lnTo>
                  <a:lnTo>
                    <a:pt x="3614" y="250"/>
                  </a:lnTo>
                  <a:lnTo>
                    <a:pt x="3545" y="225"/>
                  </a:lnTo>
                  <a:lnTo>
                    <a:pt x="3473" y="201"/>
                  </a:lnTo>
                  <a:lnTo>
                    <a:pt x="3402" y="181"/>
                  </a:lnTo>
                  <a:lnTo>
                    <a:pt x="3162" y="118"/>
                  </a:lnTo>
                  <a:lnTo>
                    <a:pt x="2949" y="68"/>
                  </a:lnTo>
                  <a:lnTo>
                    <a:pt x="2850" y="49"/>
                  </a:lnTo>
                  <a:lnTo>
                    <a:pt x="2755" y="31"/>
                  </a:lnTo>
                  <a:lnTo>
                    <a:pt x="2664" y="18"/>
                  </a:lnTo>
                  <a:lnTo>
                    <a:pt x="2575" y="8"/>
                  </a:lnTo>
                  <a:lnTo>
                    <a:pt x="2487" y="2"/>
                  </a:lnTo>
                  <a:lnTo>
                    <a:pt x="2398" y="0"/>
                  </a:lnTo>
                  <a:lnTo>
                    <a:pt x="2308" y="0"/>
                  </a:lnTo>
                  <a:lnTo>
                    <a:pt x="2214" y="5"/>
                  </a:lnTo>
                  <a:lnTo>
                    <a:pt x="2117" y="15"/>
                  </a:lnTo>
                  <a:lnTo>
                    <a:pt x="2017" y="27"/>
                  </a:lnTo>
                  <a:lnTo>
                    <a:pt x="1910" y="45"/>
                  </a:lnTo>
                  <a:lnTo>
                    <a:pt x="1798" y="66"/>
                  </a:lnTo>
                  <a:lnTo>
                    <a:pt x="1567" y="120"/>
                  </a:lnTo>
                  <a:lnTo>
                    <a:pt x="1340" y="173"/>
                  </a:lnTo>
                  <a:lnTo>
                    <a:pt x="1117" y="222"/>
                  </a:lnTo>
                  <a:lnTo>
                    <a:pt x="1007" y="244"/>
                  </a:lnTo>
                  <a:lnTo>
                    <a:pt x="898" y="262"/>
                  </a:lnTo>
                  <a:lnTo>
                    <a:pt x="791" y="275"/>
                  </a:lnTo>
                  <a:lnTo>
                    <a:pt x="683" y="288"/>
                  </a:lnTo>
                  <a:lnTo>
                    <a:pt x="576" y="291"/>
                  </a:lnTo>
                  <a:lnTo>
                    <a:pt x="472" y="291"/>
                  </a:lnTo>
                  <a:lnTo>
                    <a:pt x="367" y="283"/>
                  </a:lnTo>
                  <a:lnTo>
                    <a:pt x="264" y="267"/>
                  </a:lnTo>
                  <a:lnTo>
                    <a:pt x="162" y="244"/>
                  </a:lnTo>
                  <a:lnTo>
                    <a:pt x="60" y="212"/>
                  </a:lnTo>
                  <a:lnTo>
                    <a:pt x="27" y="204"/>
                  </a:lnTo>
                  <a:lnTo>
                    <a:pt x="14" y="204"/>
                  </a:lnTo>
                  <a:lnTo>
                    <a:pt x="6" y="209"/>
                  </a:lnTo>
                  <a:lnTo>
                    <a:pt x="0" y="214"/>
                  </a:lnTo>
                  <a:lnTo>
                    <a:pt x="0" y="225"/>
                  </a:lnTo>
                  <a:lnTo>
                    <a:pt x="6" y="236"/>
                  </a:lnTo>
                  <a:lnTo>
                    <a:pt x="19" y="254"/>
                  </a:lnTo>
                  <a:lnTo>
                    <a:pt x="57" y="295"/>
                  </a:lnTo>
                  <a:lnTo>
                    <a:pt x="102" y="345"/>
                  </a:lnTo>
                  <a:lnTo>
                    <a:pt x="160" y="398"/>
                  </a:lnTo>
                  <a:lnTo>
                    <a:pt x="231" y="453"/>
                  </a:lnTo>
                  <a:lnTo>
                    <a:pt x="278" y="481"/>
                  </a:lnTo>
                  <a:lnTo>
                    <a:pt x="345" y="513"/>
                  </a:lnTo>
                  <a:lnTo>
                    <a:pt x="430" y="542"/>
                  </a:lnTo>
                  <a:lnTo>
                    <a:pt x="527" y="573"/>
                  </a:lnTo>
                  <a:lnTo>
                    <a:pt x="634" y="604"/>
                  </a:lnTo>
                  <a:lnTo>
                    <a:pt x="751" y="631"/>
                  </a:lnTo>
                  <a:lnTo>
                    <a:pt x="871" y="654"/>
                  </a:lnTo>
                  <a:lnTo>
                    <a:pt x="995" y="676"/>
                  </a:lnTo>
                  <a:lnTo>
                    <a:pt x="1113" y="693"/>
                  </a:lnTo>
                  <a:lnTo>
                    <a:pt x="1220" y="704"/>
                  </a:lnTo>
                  <a:lnTo>
                    <a:pt x="1324" y="708"/>
                  </a:lnTo>
                  <a:lnTo>
                    <a:pt x="1429" y="704"/>
                  </a:lnTo>
                  <a:lnTo>
                    <a:pt x="1541" y="690"/>
                  </a:lnTo>
                  <a:lnTo>
                    <a:pt x="1667" y="667"/>
                  </a:lnTo>
                  <a:lnTo>
                    <a:pt x="1811" y="628"/>
                  </a:lnTo>
                  <a:lnTo>
                    <a:pt x="1981" y="580"/>
                  </a:lnTo>
                  <a:lnTo>
                    <a:pt x="2151" y="523"/>
                  </a:lnTo>
                  <a:lnTo>
                    <a:pt x="2301" y="468"/>
                  </a:lnTo>
                  <a:lnTo>
                    <a:pt x="2437" y="416"/>
                  </a:lnTo>
                  <a:lnTo>
                    <a:pt x="2568" y="371"/>
                  </a:lnTo>
                  <a:lnTo>
                    <a:pt x="2633" y="351"/>
                  </a:lnTo>
                  <a:lnTo>
                    <a:pt x="2698" y="333"/>
                  </a:lnTo>
                  <a:lnTo>
                    <a:pt x="2766" y="317"/>
                  </a:lnTo>
                  <a:lnTo>
                    <a:pt x="2834" y="303"/>
                  </a:lnTo>
                  <a:lnTo>
                    <a:pt x="2905" y="293"/>
                  </a:lnTo>
                  <a:lnTo>
                    <a:pt x="2983" y="285"/>
                  </a:lnTo>
                  <a:lnTo>
                    <a:pt x="3064" y="280"/>
                  </a:lnTo>
                  <a:lnTo>
                    <a:pt x="3150" y="277"/>
                  </a:lnTo>
                  <a:lnTo>
                    <a:pt x="3240" y="280"/>
                  </a:lnTo>
                  <a:lnTo>
                    <a:pt x="3324" y="285"/>
                  </a:lnTo>
                  <a:lnTo>
                    <a:pt x="3399" y="295"/>
                  </a:lnTo>
                  <a:lnTo>
                    <a:pt x="3472" y="311"/>
                  </a:lnTo>
                  <a:lnTo>
                    <a:pt x="3538" y="333"/>
                  </a:lnTo>
                  <a:lnTo>
                    <a:pt x="3606" y="361"/>
                  </a:lnTo>
                  <a:lnTo>
                    <a:pt x="3675" y="396"/>
                  </a:lnTo>
                  <a:lnTo>
                    <a:pt x="3747" y="442"/>
                  </a:lnTo>
                  <a:lnTo>
                    <a:pt x="3821" y="497"/>
                  </a:lnTo>
                  <a:lnTo>
                    <a:pt x="3900" y="560"/>
                  </a:lnTo>
                  <a:lnTo>
                    <a:pt x="3988" y="636"/>
                  </a:lnTo>
                  <a:lnTo>
                    <a:pt x="4087" y="724"/>
                  </a:lnTo>
                  <a:lnTo>
                    <a:pt x="4318" y="937"/>
                  </a:lnTo>
                  <a:lnTo>
                    <a:pt x="4608" y="1209"/>
                  </a:lnTo>
                  <a:lnTo>
                    <a:pt x="4778" y="1162"/>
                  </a:lnTo>
                  <a:lnTo>
                    <a:pt x="4839" y="1144"/>
                  </a:lnTo>
                  <a:close/>
                </a:path>
              </a:pathLst>
            </a:custGeom>
            <a:blipFill rotWithShape="0">
              <a:blip r:embed="rId5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982800" y="1504080"/>
              <a:ext cx="330840" cy="189360"/>
            </a:xfrm>
            <a:custGeom>
              <a:avLst/>
              <a:gdLst/>
              <a:ahLst/>
              <a:rect l="l" t="t" r="r" b="b"/>
              <a:pathLst>
                <a:path w="2578" h="1626">
                  <a:moveTo>
                    <a:pt x="2414" y="1490"/>
                  </a:moveTo>
                  <a:lnTo>
                    <a:pt x="2335" y="1496"/>
                  </a:lnTo>
                  <a:lnTo>
                    <a:pt x="2225" y="1515"/>
                  </a:lnTo>
                  <a:lnTo>
                    <a:pt x="2092" y="1545"/>
                  </a:lnTo>
                  <a:lnTo>
                    <a:pt x="1955" y="1582"/>
                  </a:lnTo>
                  <a:lnTo>
                    <a:pt x="1885" y="1600"/>
                  </a:lnTo>
                  <a:lnTo>
                    <a:pt x="1819" y="1614"/>
                  </a:lnTo>
                  <a:lnTo>
                    <a:pt x="1749" y="1622"/>
                  </a:lnTo>
                  <a:lnTo>
                    <a:pt x="1678" y="1626"/>
                  </a:lnTo>
                  <a:lnTo>
                    <a:pt x="1607" y="1626"/>
                  </a:lnTo>
                  <a:lnTo>
                    <a:pt x="1529" y="1622"/>
                  </a:lnTo>
                  <a:lnTo>
                    <a:pt x="1362" y="1606"/>
                  </a:lnTo>
                  <a:lnTo>
                    <a:pt x="1173" y="1580"/>
                  </a:lnTo>
                  <a:lnTo>
                    <a:pt x="1071" y="1561"/>
                  </a:lnTo>
                  <a:lnTo>
                    <a:pt x="969" y="1535"/>
                  </a:lnTo>
                  <a:lnTo>
                    <a:pt x="920" y="1517"/>
                  </a:lnTo>
                  <a:lnTo>
                    <a:pt x="869" y="1498"/>
                  </a:lnTo>
                  <a:lnTo>
                    <a:pt x="817" y="1475"/>
                  </a:lnTo>
                  <a:lnTo>
                    <a:pt x="768" y="1448"/>
                  </a:lnTo>
                  <a:lnTo>
                    <a:pt x="717" y="1417"/>
                  </a:lnTo>
                  <a:lnTo>
                    <a:pt x="670" y="1383"/>
                  </a:lnTo>
                  <a:lnTo>
                    <a:pt x="620" y="1341"/>
                  </a:lnTo>
                  <a:lnTo>
                    <a:pt x="574" y="1298"/>
                  </a:lnTo>
                  <a:lnTo>
                    <a:pt x="480" y="1200"/>
                  </a:lnTo>
                  <a:lnTo>
                    <a:pt x="387" y="1095"/>
                  </a:lnTo>
                  <a:lnTo>
                    <a:pt x="299" y="992"/>
                  </a:lnTo>
                  <a:lnTo>
                    <a:pt x="218" y="894"/>
                  </a:lnTo>
                  <a:lnTo>
                    <a:pt x="85" y="730"/>
                  </a:lnTo>
                  <a:lnTo>
                    <a:pt x="18" y="638"/>
                  </a:lnTo>
                  <a:lnTo>
                    <a:pt x="8" y="622"/>
                  </a:lnTo>
                  <a:lnTo>
                    <a:pt x="3" y="606"/>
                  </a:lnTo>
                  <a:lnTo>
                    <a:pt x="0" y="593"/>
                  </a:lnTo>
                  <a:lnTo>
                    <a:pt x="4" y="588"/>
                  </a:lnTo>
                  <a:lnTo>
                    <a:pt x="12" y="588"/>
                  </a:lnTo>
                  <a:lnTo>
                    <a:pt x="24" y="591"/>
                  </a:lnTo>
                  <a:lnTo>
                    <a:pt x="40" y="601"/>
                  </a:lnTo>
                  <a:lnTo>
                    <a:pt x="60" y="619"/>
                  </a:lnTo>
                  <a:lnTo>
                    <a:pt x="87" y="645"/>
                  </a:lnTo>
                  <a:lnTo>
                    <a:pt x="129" y="679"/>
                  </a:lnTo>
                  <a:lnTo>
                    <a:pt x="184" y="719"/>
                  </a:lnTo>
                  <a:lnTo>
                    <a:pt x="255" y="763"/>
                  </a:lnTo>
                  <a:lnTo>
                    <a:pt x="344" y="808"/>
                  </a:lnTo>
                  <a:lnTo>
                    <a:pt x="395" y="832"/>
                  </a:lnTo>
                  <a:lnTo>
                    <a:pt x="450" y="854"/>
                  </a:lnTo>
                  <a:lnTo>
                    <a:pt x="509" y="874"/>
                  </a:lnTo>
                  <a:lnTo>
                    <a:pt x="574" y="894"/>
                  </a:lnTo>
                  <a:lnTo>
                    <a:pt x="646" y="912"/>
                  </a:lnTo>
                  <a:lnTo>
                    <a:pt x="720" y="927"/>
                  </a:lnTo>
                  <a:lnTo>
                    <a:pt x="869" y="957"/>
                  </a:lnTo>
                  <a:lnTo>
                    <a:pt x="1001" y="986"/>
                  </a:lnTo>
                  <a:lnTo>
                    <a:pt x="1123" y="1017"/>
                  </a:lnTo>
                  <a:lnTo>
                    <a:pt x="1238" y="1056"/>
                  </a:lnTo>
                  <a:lnTo>
                    <a:pt x="1348" y="1095"/>
                  </a:lnTo>
                  <a:lnTo>
                    <a:pt x="1463" y="1145"/>
                  </a:lnTo>
                  <a:lnTo>
                    <a:pt x="1581" y="1200"/>
                  </a:lnTo>
                  <a:lnTo>
                    <a:pt x="1707" y="1266"/>
                  </a:lnTo>
                  <a:lnTo>
                    <a:pt x="1772" y="1300"/>
                  </a:lnTo>
                  <a:lnTo>
                    <a:pt x="1842" y="1329"/>
                  </a:lnTo>
                  <a:lnTo>
                    <a:pt x="1913" y="1357"/>
                  </a:lnTo>
                  <a:lnTo>
                    <a:pt x="1987" y="1379"/>
                  </a:lnTo>
                  <a:lnTo>
                    <a:pt x="2067" y="1397"/>
                  </a:lnTo>
                  <a:lnTo>
                    <a:pt x="2146" y="1407"/>
                  </a:lnTo>
                  <a:lnTo>
                    <a:pt x="2228" y="1409"/>
                  </a:lnTo>
                  <a:lnTo>
                    <a:pt x="2311" y="1402"/>
                  </a:lnTo>
                  <a:lnTo>
                    <a:pt x="2236" y="1361"/>
                  </a:lnTo>
                  <a:lnTo>
                    <a:pt x="2175" y="1331"/>
                  </a:lnTo>
                  <a:lnTo>
                    <a:pt x="2078" y="1289"/>
                  </a:lnTo>
                  <a:lnTo>
                    <a:pt x="1994" y="1250"/>
                  </a:lnTo>
                  <a:lnTo>
                    <a:pt x="1948" y="1224"/>
                  </a:lnTo>
                  <a:lnTo>
                    <a:pt x="1897" y="1193"/>
                  </a:lnTo>
                  <a:lnTo>
                    <a:pt x="1840" y="1158"/>
                  </a:lnTo>
                  <a:lnTo>
                    <a:pt x="1786" y="1116"/>
                  </a:lnTo>
                  <a:lnTo>
                    <a:pt x="1733" y="1073"/>
                  </a:lnTo>
                  <a:lnTo>
                    <a:pt x="1682" y="1025"/>
                  </a:lnTo>
                  <a:lnTo>
                    <a:pt x="1631" y="975"/>
                  </a:lnTo>
                  <a:lnTo>
                    <a:pt x="1583" y="917"/>
                  </a:lnTo>
                  <a:lnTo>
                    <a:pt x="1536" y="856"/>
                  </a:lnTo>
                  <a:lnTo>
                    <a:pt x="1492" y="787"/>
                  </a:lnTo>
                  <a:lnTo>
                    <a:pt x="1451" y="714"/>
                  </a:lnTo>
                  <a:lnTo>
                    <a:pt x="1416" y="638"/>
                  </a:lnTo>
                  <a:lnTo>
                    <a:pt x="1385" y="566"/>
                  </a:lnTo>
                  <a:lnTo>
                    <a:pt x="1362" y="493"/>
                  </a:lnTo>
                  <a:lnTo>
                    <a:pt x="1343" y="426"/>
                  </a:lnTo>
                  <a:lnTo>
                    <a:pt x="1327" y="365"/>
                  </a:lnTo>
                  <a:lnTo>
                    <a:pt x="1317" y="311"/>
                  </a:lnTo>
                  <a:lnTo>
                    <a:pt x="1311" y="269"/>
                  </a:lnTo>
                  <a:lnTo>
                    <a:pt x="1307" y="201"/>
                  </a:lnTo>
                  <a:lnTo>
                    <a:pt x="1307" y="146"/>
                  </a:lnTo>
                  <a:lnTo>
                    <a:pt x="1307" y="101"/>
                  </a:lnTo>
                  <a:lnTo>
                    <a:pt x="1303" y="78"/>
                  </a:lnTo>
                  <a:lnTo>
                    <a:pt x="1296" y="60"/>
                  </a:lnTo>
                  <a:lnTo>
                    <a:pt x="1287" y="28"/>
                  </a:lnTo>
                  <a:lnTo>
                    <a:pt x="1287" y="13"/>
                  </a:lnTo>
                  <a:lnTo>
                    <a:pt x="1289" y="5"/>
                  </a:lnTo>
                  <a:lnTo>
                    <a:pt x="1295" y="0"/>
                  </a:lnTo>
                  <a:lnTo>
                    <a:pt x="1304" y="2"/>
                  </a:lnTo>
                  <a:lnTo>
                    <a:pt x="1317" y="10"/>
                  </a:lnTo>
                  <a:lnTo>
                    <a:pt x="1330" y="25"/>
                  </a:lnTo>
                  <a:lnTo>
                    <a:pt x="1377" y="83"/>
                  </a:lnTo>
                  <a:lnTo>
                    <a:pt x="1451" y="159"/>
                  </a:lnTo>
                  <a:lnTo>
                    <a:pt x="1542" y="250"/>
                  </a:lnTo>
                  <a:lnTo>
                    <a:pt x="1594" y="295"/>
                  </a:lnTo>
                  <a:lnTo>
                    <a:pt x="1646" y="341"/>
                  </a:lnTo>
                  <a:lnTo>
                    <a:pt x="1754" y="431"/>
                  </a:lnTo>
                  <a:lnTo>
                    <a:pt x="1808" y="481"/>
                  </a:lnTo>
                  <a:lnTo>
                    <a:pt x="1859" y="534"/>
                  </a:lnTo>
                  <a:lnTo>
                    <a:pt x="1911" y="591"/>
                  </a:lnTo>
                  <a:lnTo>
                    <a:pt x="1958" y="656"/>
                  </a:lnTo>
                  <a:lnTo>
                    <a:pt x="2005" y="727"/>
                  </a:lnTo>
                  <a:lnTo>
                    <a:pt x="2051" y="811"/>
                  </a:lnTo>
                  <a:lnTo>
                    <a:pt x="2123" y="965"/>
                  </a:lnTo>
                  <a:lnTo>
                    <a:pt x="2154" y="1030"/>
                  </a:lnTo>
                  <a:lnTo>
                    <a:pt x="2185" y="1088"/>
                  </a:lnTo>
                  <a:lnTo>
                    <a:pt x="2219" y="1145"/>
                  </a:lnTo>
                  <a:lnTo>
                    <a:pt x="2262" y="1200"/>
                  </a:lnTo>
                  <a:lnTo>
                    <a:pt x="2316" y="1255"/>
                  </a:lnTo>
                  <a:lnTo>
                    <a:pt x="2382" y="1312"/>
                  </a:lnTo>
                  <a:lnTo>
                    <a:pt x="2505" y="1404"/>
                  </a:lnTo>
                  <a:lnTo>
                    <a:pt x="2542" y="1436"/>
                  </a:lnTo>
                  <a:lnTo>
                    <a:pt x="2568" y="1460"/>
                  </a:lnTo>
                  <a:lnTo>
                    <a:pt x="2578" y="1473"/>
                  </a:lnTo>
                  <a:lnTo>
                    <a:pt x="2578" y="1480"/>
                  </a:lnTo>
                  <a:lnTo>
                    <a:pt x="2573" y="1483"/>
                  </a:lnTo>
                  <a:lnTo>
                    <a:pt x="2554" y="1488"/>
                  </a:lnTo>
                  <a:lnTo>
                    <a:pt x="2523" y="1490"/>
                  </a:lnTo>
                  <a:lnTo>
                    <a:pt x="2414" y="1490"/>
                  </a:lnTo>
                  <a:close/>
                </a:path>
              </a:pathLst>
            </a:custGeom>
            <a:blipFill rotWithShape="0">
              <a:blip r:embed="rId5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901440" y="1399320"/>
              <a:ext cx="251280" cy="215280"/>
            </a:xfrm>
            <a:custGeom>
              <a:avLst/>
              <a:gdLst/>
              <a:ahLst/>
              <a:rect l="l" t="t" r="r" b="b"/>
              <a:pathLst>
                <a:path w="1957" h="1859">
                  <a:moveTo>
                    <a:pt x="1883" y="1835"/>
                  </a:moveTo>
                  <a:lnTo>
                    <a:pt x="1547" y="1727"/>
                  </a:lnTo>
                  <a:lnTo>
                    <a:pt x="1298" y="1644"/>
                  </a:lnTo>
                  <a:lnTo>
                    <a:pt x="1091" y="1568"/>
                  </a:lnTo>
                  <a:lnTo>
                    <a:pt x="1002" y="1534"/>
                  </a:lnTo>
                  <a:lnTo>
                    <a:pt x="903" y="1486"/>
                  </a:lnTo>
                  <a:lnTo>
                    <a:pt x="799" y="1429"/>
                  </a:lnTo>
                  <a:lnTo>
                    <a:pt x="746" y="1395"/>
                  </a:lnTo>
                  <a:lnTo>
                    <a:pt x="695" y="1358"/>
                  </a:lnTo>
                  <a:lnTo>
                    <a:pt x="641" y="1318"/>
                  </a:lnTo>
                  <a:lnTo>
                    <a:pt x="590" y="1273"/>
                  </a:lnTo>
                  <a:lnTo>
                    <a:pt x="539" y="1225"/>
                  </a:lnTo>
                  <a:lnTo>
                    <a:pt x="491" y="1172"/>
                  </a:lnTo>
                  <a:lnTo>
                    <a:pt x="445" y="1115"/>
                  </a:lnTo>
                  <a:lnTo>
                    <a:pt x="405" y="1053"/>
                  </a:lnTo>
                  <a:lnTo>
                    <a:pt x="365" y="987"/>
                  </a:lnTo>
                  <a:lnTo>
                    <a:pt x="332" y="916"/>
                  </a:lnTo>
                  <a:lnTo>
                    <a:pt x="211" y="642"/>
                  </a:lnTo>
                  <a:lnTo>
                    <a:pt x="110" y="420"/>
                  </a:lnTo>
                  <a:lnTo>
                    <a:pt x="71" y="328"/>
                  </a:lnTo>
                  <a:lnTo>
                    <a:pt x="39" y="250"/>
                  </a:lnTo>
                  <a:lnTo>
                    <a:pt x="18" y="187"/>
                  </a:lnTo>
                  <a:lnTo>
                    <a:pt x="8" y="140"/>
                  </a:lnTo>
                  <a:lnTo>
                    <a:pt x="0" y="77"/>
                  </a:lnTo>
                  <a:lnTo>
                    <a:pt x="0" y="43"/>
                  </a:lnTo>
                  <a:lnTo>
                    <a:pt x="4" y="25"/>
                  </a:lnTo>
                  <a:lnTo>
                    <a:pt x="8" y="14"/>
                  </a:lnTo>
                  <a:lnTo>
                    <a:pt x="13" y="6"/>
                  </a:lnTo>
                  <a:lnTo>
                    <a:pt x="20" y="0"/>
                  </a:lnTo>
                  <a:lnTo>
                    <a:pt x="28" y="2"/>
                  </a:lnTo>
                  <a:lnTo>
                    <a:pt x="37" y="12"/>
                  </a:lnTo>
                  <a:lnTo>
                    <a:pt x="91" y="90"/>
                  </a:lnTo>
                  <a:lnTo>
                    <a:pt x="209" y="258"/>
                  </a:lnTo>
                  <a:lnTo>
                    <a:pt x="284" y="357"/>
                  </a:lnTo>
                  <a:lnTo>
                    <a:pt x="363" y="454"/>
                  </a:lnTo>
                  <a:lnTo>
                    <a:pt x="442" y="543"/>
                  </a:lnTo>
                  <a:lnTo>
                    <a:pt x="481" y="582"/>
                  </a:lnTo>
                  <a:lnTo>
                    <a:pt x="521" y="616"/>
                  </a:lnTo>
                  <a:lnTo>
                    <a:pt x="598" y="679"/>
                  </a:lnTo>
                  <a:lnTo>
                    <a:pt x="677" y="738"/>
                  </a:lnTo>
                  <a:lnTo>
                    <a:pt x="840" y="852"/>
                  </a:lnTo>
                  <a:lnTo>
                    <a:pt x="992" y="959"/>
                  </a:lnTo>
                  <a:lnTo>
                    <a:pt x="1057" y="1011"/>
                  </a:lnTo>
                  <a:lnTo>
                    <a:pt x="1117" y="1058"/>
                  </a:lnTo>
                  <a:lnTo>
                    <a:pt x="1222" y="1157"/>
                  </a:lnTo>
                  <a:lnTo>
                    <a:pt x="1324" y="1259"/>
                  </a:lnTo>
                  <a:lnTo>
                    <a:pt x="1517" y="1458"/>
                  </a:lnTo>
                  <a:lnTo>
                    <a:pt x="1561" y="1502"/>
                  </a:lnTo>
                  <a:lnTo>
                    <a:pt x="1601" y="1539"/>
                  </a:lnTo>
                  <a:lnTo>
                    <a:pt x="1638" y="1568"/>
                  </a:lnTo>
                  <a:lnTo>
                    <a:pt x="1667" y="1591"/>
                  </a:lnTo>
                  <a:lnTo>
                    <a:pt x="1713" y="1618"/>
                  </a:lnTo>
                  <a:lnTo>
                    <a:pt x="1729" y="1626"/>
                  </a:lnTo>
                  <a:lnTo>
                    <a:pt x="1624" y="1462"/>
                  </a:lnTo>
                  <a:lnTo>
                    <a:pt x="1444" y="1192"/>
                  </a:lnTo>
                  <a:lnTo>
                    <a:pt x="1376" y="1087"/>
                  </a:lnTo>
                  <a:lnTo>
                    <a:pt x="1342" y="1034"/>
                  </a:lnTo>
                  <a:lnTo>
                    <a:pt x="1313" y="979"/>
                  </a:lnTo>
                  <a:lnTo>
                    <a:pt x="1289" y="919"/>
                  </a:lnTo>
                  <a:lnTo>
                    <a:pt x="1269" y="856"/>
                  </a:lnTo>
                  <a:lnTo>
                    <a:pt x="1256" y="789"/>
                  </a:lnTo>
                  <a:lnTo>
                    <a:pt x="1255" y="754"/>
                  </a:lnTo>
                  <a:lnTo>
                    <a:pt x="1253" y="716"/>
                  </a:lnTo>
                  <a:lnTo>
                    <a:pt x="1259" y="361"/>
                  </a:lnTo>
                  <a:lnTo>
                    <a:pt x="1267" y="126"/>
                  </a:lnTo>
                  <a:lnTo>
                    <a:pt x="1271" y="98"/>
                  </a:lnTo>
                  <a:lnTo>
                    <a:pt x="1273" y="89"/>
                  </a:lnTo>
                  <a:lnTo>
                    <a:pt x="1277" y="85"/>
                  </a:lnTo>
                  <a:lnTo>
                    <a:pt x="1282" y="85"/>
                  </a:lnTo>
                  <a:lnTo>
                    <a:pt x="1290" y="89"/>
                  </a:lnTo>
                  <a:lnTo>
                    <a:pt x="1313" y="113"/>
                  </a:lnTo>
                  <a:lnTo>
                    <a:pt x="1358" y="171"/>
                  </a:lnTo>
                  <a:lnTo>
                    <a:pt x="1436" y="274"/>
                  </a:lnTo>
                  <a:lnTo>
                    <a:pt x="1481" y="338"/>
                  </a:lnTo>
                  <a:lnTo>
                    <a:pt x="1528" y="404"/>
                  </a:lnTo>
                  <a:lnTo>
                    <a:pt x="1573" y="477"/>
                  </a:lnTo>
                  <a:lnTo>
                    <a:pt x="1612" y="550"/>
                  </a:lnTo>
                  <a:lnTo>
                    <a:pt x="1650" y="626"/>
                  </a:lnTo>
                  <a:lnTo>
                    <a:pt x="1682" y="702"/>
                  </a:lnTo>
                  <a:lnTo>
                    <a:pt x="1709" y="775"/>
                  </a:lnTo>
                  <a:lnTo>
                    <a:pt x="1732" y="846"/>
                  </a:lnTo>
                  <a:lnTo>
                    <a:pt x="1750" y="912"/>
                  </a:lnTo>
                  <a:lnTo>
                    <a:pt x="1764" y="969"/>
                  </a:lnTo>
                  <a:lnTo>
                    <a:pt x="1772" y="1018"/>
                  </a:lnTo>
                  <a:lnTo>
                    <a:pt x="1774" y="1055"/>
                  </a:lnTo>
                  <a:lnTo>
                    <a:pt x="1776" y="1207"/>
                  </a:lnTo>
                  <a:lnTo>
                    <a:pt x="1782" y="1293"/>
                  </a:lnTo>
                  <a:lnTo>
                    <a:pt x="1794" y="1369"/>
                  </a:lnTo>
                  <a:lnTo>
                    <a:pt x="1821" y="1466"/>
                  </a:lnTo>
                  <a:lnTo>
                    <a:pt x="1861" y="1594"/>
                  </a:lnTo>
                  <a:lnTo>
                    <a:pt x="1904" y="1719"/>
                  </a:lnTo>
                  <a:lnTo>
                    <a:pt x="1938" y="1806"/>
                  </a:lnTo>
                  <a:lnTo>
                    <a:pt x="1955" y="1845"/>
                  </a:lnTo>
                  <a:lnTo>
                    <a:pt x="1957" y="1855"/>
                  </a:lnTo>
                  <a:lnTo>
                    <a:pt x="1954" y="1859"/>
                  </a:lnTo>
                  <a:lnTo>
                    <a:pt x="1944" y="1859"/>
                  </a:lnTo>
                  <a:lnTo>
                    <a:pt x="1930" y="1855"/>
                  </a:lnTo>
                  <a:lnTo>
                    <a:pt x="1883" y="1835"/>
                  </a:lnTo>
                  <a:close/>
                </a:path>
              </a:pathLst>
            </a:custGeom>
            <a:blipFill rotWithShape="0">
              <a:blip r:embed="rId5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921240" y="1388880"/>
              <a:ext cx="114840" cy="93600"/>
            </a:xfrm>
            <a:custGeom>
              <a:avLst/>
              <a:gdLst/>
              <a:ahLst/>
              <a:rect l="l" t="t" r="r" b="b"/>
              <a:pathLst>
                <a:path w="899" h="803">
                  <a:moveTo>
                    <a:pt x="0" y="0"/>
                  </a:moveTo>
                  <a:lnTo>
                    <a:pt x="121" y="134"/>
                  </a:lnTo>
                  <a:lnTo>
                    <a:pt x="236" y="257"/>
                  </a:lnTo>
                  <a:lnTo>
                    <a:pt x="295" y="317"/>
                  </a:lnTo>
                  <a:lnTo>
                    <a:pt x="354" y="373"/>
                  </a:lnTo>
                  <a:lnTo>
                    <a:pt x="484" y="493"/>
                  </a:lnTo>
                  <a:lnTo>
                    <a:pt x="626" y="620"/>
                  </a:lnTo>
                  <a:lnTo>
                    <a:pt x="745" y="726"/>
                  </a:lnTo>
                  <a:lnTo>
                    <a:pt x="806" y="785"/>
                  </a:lnTo>
                  <a:lnTo>
                    <a:pt x="824" y="801"/>
                  </a:lnTo>
                  <a:lnTo>
                    <a:pt x="830" y="803"/>
                  </a:lnTo>
                  <a:lnTo>
                    <a:pt x="835" y="803"/>
                  </a:lnTo>
                  <a:lnTo>
                    <a:pt x="840" y="798"/>
                  </a:lnTo>
                  <a:lnTo>
                    <a:pt x="843" y="788"/>
                  </a:lnTo>
                  <a:lnTo>
                    <a:pt x="848" y="762"/>
                  </a:lnTo>
                  <a:lnTo>
                    <a:pt x="855" y="565"/>
                  </a:lnTo>
                  <a:lnTo>
                    <a:pt x="866" y="422"/>
                  </a:lnTo>
                  <a:lnTo>
                    <a:pt x="879" y="298"/>
                  </a:lnTo>
                  <a:lnTo>
                    <a:pt x="891" y="194"/>
                  </a:lnTo>
                  <a:lnTo>
                    <a:pt x="897" y="99"/>
                  </a:lnTo>
                  <a:lnTo>
                    <a:pt x="899" y="0"/>
                  </a:lnTo>
                  <a:lnTo>
                    <a:pt x="573" y="0"/>
                  </a:lnTo>
                  <a:lnTo>
                    <a:pt x="617" y="115"/>
                  </a:lnTo>
                  <a:lnTo>
                    <a:pt x="650" y="213"/>
                  </a:lnTo>
                  <a:lnTo>
                    <a:pt x="675" y="298"/>
                  </a:lnTo>
                  <a:lnTo>
                    <a:pt x="690" y="359"/>
                  </a:lnTo>
                  <a:lnTo>
                    <a:pt x="696" y="401"/>
                  </a:lnTo>
                  <a:lnTo>
                    <a:pt x="698" y="432"/>
                  </a:lnTo>
                  <a:lnTo>
                    <a:pt x="686" y="421"/>
                  </a:lnTo>
                  <a:lnTo>
                    <a:pt x="659" y="380"/>
                  </a:lnTo>
                  <a:lnTo>
                    <a:pt x="617" y="310"/>
                  </a:lnTo>
                  <a:lnTo>
                    <a:pt x="593" y="259"/>
                  </a:lnTo>
                  <a:lnTo>
                    <a:pt x="567" y="199"/>
                  </a:lnTo>
                  <a:lnTo>
                    <a:pt x="500" y="34"/>
                  </a:lnTo>
                  <a:lnTo>
                    <a:pt x="489" y="0"/>
                  </a:lnTo>
                  <a:lnTo>
                    <a:pt x="0" y="0"/>
                  </a:lnTo>
                  <a:close/>
                </a:path>
              </a:pathLst>
            </a:custGeom>
            <a:blipFill rotWithShape="0">
              <a:blip r:embed="rId5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895680" y="880200"/>
              <a:ext cx="73440" cy="174240"/>
            </a:xfrm>
            <a:custGeom>
              <a:avLst/>
              <a:gdLst/>
              <a:ahLst/>
              <a:rect l="l" t="t" r="r" b="b"/>
              <a:pathLst>
                <a:path w="581" h="1497">
                  <a:moveTo>
                    <a:pt x="0" y="1497"/>
                  </a:moveTo>
                  <a:lnTo>
                    <a:pt x="0" y="1446"/>
                  </a:lnTo>
                  <a:lnTo>
                    <a:pt x="5" y="1385"/>
                  </a:lnTo>
                  <a:lnTo>
                    <a:pt x="10" y="1304"/>
                  </a:lnTo>
                  <a:lnTo>
                    <a:pt x="22" y="1206"/>
                  </a:lnTo>
                  <a:lnTo>
                    <a:pt x="40" y="1093"/>
                  </a:lnTo>
                  <a:lnTo>
                    <a:pt x="68" y="968"/>
                  </a:lnTo>
                  <a:lnTo>
                    <a:pt x="103" y="837"/>
                  </a:lnTo>
                  <a:lnTo>
                    <a:pt x="147" y="706"/>
                  </a:lnTo>
                  <a:lnTo>
                    <a:pt x="192" y="587"/>
                  </a:lnTo>
                  <a:lnTo>
                    <a:pt x="239" y="477"/>
                  </a:lnTo>
                  <a:lnTo>
                    <a:pt x="291" y="374"/>
                  </a:lnTo>
                  <a:lnTo>
                    <a:pt x="343" y="280"/>
                  </a:lnTo>
                  <a:lnTo>
                    <a:pt x="403" y="191"/>
                  </a:lnTo>
                  <a:lnTo>
                    <a:pt x="466" y="105"/>
                  </a:lnTo>
                  <a:lnTo>
                    <a:pt x="536" y="21"/>
                  </a:lnTo>
                  <a:lnTo>
                    <a:pt x="555" y="6"/>
                  </a:lnTo>
                  <a:lnTo>
                    <a:pt x="563" y="1"/>
                  </a:lnTo>
                  <a:lnTo>
                    <a:pt x="571" y="0"/>
                  </a:lnTo>
                  <a:lnTo>
                    <a:pt x="576" y="1"/>
                  </a:lnTo>
                  <a:lnTo>
                    <a:pt x="581" y="9"/>
                  </a:lnTo>
                  <a:lnTo>
                    <a:pt x="581" y="19"/>
                  </a:lnTo>
                  <a:lnTo>
                    <a:pt x="575" y="37"/>
                  </a:lnTo>
                  <a:lnTo>
                    <a:pt x="547" y="108"/>
                  </a:lnTo>
                  <a:lnTo>
                    <a:pt x="528" y="170"/>
                  </a:lnTo>
                  <a:lnTo>
                    <a:pt x="505" y="252"/>
                  </a:lnTo>
                  <a:lnTo>
                    <a:pt x="484" y="353"/>
                  </a:lnTo>
                  <a:lnTo>
                    <a:pt x="466" y="477"/>
                  </a:lnTo>
                  <a:lnTo>
                    <a:pt x="460" y="547"/>
                  </a:lnTo>
                  <a:lnTo>
                    <a:pt x="455" y="623"/>
                  </a:lnTo>
                  <a:lnTo>
                    <a:pt x="450" y="704"/>
                  </a:lnTo>
                  <a:lnTo>
                    <a:pt x="450" y="793"/>
                  </a:lnTo>
                  <a:lnTo>
                    <a:pt x="453" y="1037"/>
                  </a:lnTo>
                  <a:lnTo>
                    <a:pt x="458" y="1140"/>
                  </a:lnTo>
                  <a:lnTo>
                    <a:pt x="464" y="1245"/>
                  </a:lnTo>
                  <a:lnTo>
                    <a:pt x="466" y="1343"/>
                  </a:lnTo>
                  <a:lnTo>
                    <a:pt x="468" y="1497"/>
                  </a:lnTo>
                  <a:lnTo>
                    <a:pt x="0" y="1497"/>
                  </a:lnTo>
                  <a:close/>
                </a:path>
              </a:pathLst>
            </a:custGeom>
            <a:blipFill rotWithShape="0">
              <a:blip r:embed="rId54"/>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974160" y="952920"/>
              <a:ext cx="110520" cy="101880"/>
            </a:xfrm>
            <a:custGeom>
              <a:avLst/>
              <a:gdLst/>
              <a:ahLst/>
              <a:rect l="l" t="t" r="r" b="b"/>
              <a:pathLst>
                <a:path w="866" h="876">
                  <a:moveTo>
                    <a:pt x="0" y="876"/>
                  </a:moveTo>
                  <a:lnTo>
                    <a:pt x="162" y="726"/>
                  </a:lnTo>
                  <a:lnTo>
                    <a:pt x="325" y="569"/>
                  </a:lnTo>
                  <a:lnTo>
                    <a:pt x="416" y="476"/>
                  </a:lnTo>
                  <a:lnTo>
                    <a:pt x="510" y="381"/>
                  </a:lnTo>
                  <a:lnTo>
                    <a:pt x="660" y="221"/>
                  </a:lnTo>
                  <a:lnTo>
                    <a:pt x="748" y="125"/>
                  </a:lnTo>
                  <a:lnTo>
                    <a:pt x="793" y="70"/>
                  </a:lnTo>
                  <a:lnTo>
                    <a:pt x="814" y="34"/>
                  </a:lnTo>
                  <a:lnTo>
                    <a:pt x="824" y="20"/>
                  </a:lnTo>
                  <a:lnTo>
                    <a:pt x="834" y="10"/>
                  </a:lnTo>
                  <a:lnTo>
                    <a:pt x="844" y="2"/>
                  </a:lnTo>
                  <a:lnTo>
                    <a:pt x="853" y="0"/>
                  </a:lnTo>
                  <a:lnTo>
                    <a:pt x="860" y="2"/>
                  </a:lnTo>
                  <a:lnTo>
                    <a:pt x="864" y="10"/>
                  </a:lnTo>
                  <a:lnTo>
                    <a:pt x="866" y="23"/>
                  </a:lnTo>
                  <a:lnTo>
                    <a:pt x="861" y="44"/>
                  </a:lnTo>
                  <a:lnTo>
                    <a:pt x="829" y="154"/>
                  </a:lnTo>
                  <a:lnTo>
                    <a:pt x="757" y="360"/>
                  </a:lnTo>
                  <a:lnTo>
                    <a:pt x="709" y="483"/>
                  </a:lnTo>
                  <a:lnTo>
                    <a:pt x="654" y="614"/>
                  </a:lnTo>
                  <a:lnTo>
                    <a:pt x="594" y="748"/>
                  </a:lnTo>
                  <a:lnTo>
                    <a:pt x="528" y="876"/>
                  </a:lnTo>
                  <a:lnTo>
                    <a:pt x="0" y="876"/>
                  </a:lnTo>
                  <a:close/>
                </a:path>
              </a:pathLst>
            </a:custGeom>
            <a:blipFill rotWithShape="0">
              <a:blip r:embed="rId55"/>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974160" y="786240"/>
              <a:ext cx="177120" cy="239400"/>
            </a:xfrm>
            <a:custGeom>
              <a:avLst/>
              <a:gdLst/>
              <a:ahLst/>
              <a:rect l="l" t="t" r="r" b="b"/>
              <a:pathLst>
                <a:path w="1386" h="2062">
                  <a:moveTo>
                    <a:pt x="0" y="1246"/>
                  </a:moveTo>
                  <a:lnTo>
                    <a:pt x="4" y="1125"/>
                  </a:lnTo>
                  <a:lnTo>
                    <a:pt x="18" y="998"/>
                  </a:lnTo>
                  <a:lnTo>
                    <a:pt x="28" y="932"/>
                  </a:lnTo>
                  <a:lnTo>
                    <a:pt x="42" y="866"/>
                  </a:lnTo>
                  <a:lnTo>
                    <a:pt x="57" y="801"/>
                  </a:lnTo>
                  <a:lnTo>
                    <a:pt x="78" y="736"/>
                  </a:lnTo>
                  <a:lnTo>
                    <a:pt x="101" y="670"/>
                  </a:lnTo>
                  <a:lnTo>
                    <a:pt x="128" y="605"/>
                  </a:lnTo>
                  <a:lnTo>
                    <a:pt x="160" y="542"/>
                  </a:lnTo>
                  <a:lnTo>
                    <a:pt x="196" y="481"/>
                  </a:lnTo>
                  <a:lnTo>
                    <a:pt x="237" y="422"/>
                  </a:lnTo>
                  <a:lnTo>
                    <a:pt x="282" y="364"/>
                  </a:lnTo>
                  <a:lnTo>
                    <a:pt x="332" y="309"/>
                  </a:lnTo>
                  <a:lnTo>
                    <a:pt x="387" y="256"/>
                  </a:lnTo>
                  <a:lnTo>
                    <a:pt x="531" y="128"/>
                  </a:lnTo>
                  <a:lnTo>
                    <a:pt x="624" y="37"/>
                  </a:lnTo>
                  <a:lnTo>
                    <a:pt x="657" y="8"/>
                  </a:lnTo>
                  <a:lnTo>
                    <a:pt x="669" y="1"/>
                  </a:lnTo>
                  <a:lnTo>
                    <a:pt x="679" y="0"/>
                  </a:lnTo>
                  <a:lnTo>
                    <a:pt x="685" y="3"/>
                  </a:lnTo>
                  <a:lnTo>
                    <a:pt x="685" y="13"/>
                  </a:lnTo>
                  <a:lnTo>
                    <a:pt x="679" y="31"/>
                  </a:lnTo>
                  <a:lnTo>
                    <a:pt x="667" y="55"/>
                  </a:lnTo>
                  <a:lnTo>
                    <a:pt x="628" y="132"/>
                  </a:lnTo>
                  <a:lnTo>
                    <a:pt x="601" y="186"/>
                  </a:lnTo>
                  <a:lnTo>
                    <a:pt x="570" y="252"/>
                  </a:lnTo>
                  <a:lnTo>
                    <a:pt x="541" y="331"/>
                  </a:lnTo>
                  <a:lnTo>
                    <a:pt x="510" y="424"/>
                  </a:lnTo>
                  <a:lnTo>
                    <a:pt x="478" y="531"/>
                  </a:lnTo>
                  <a:lnTo>
                    <a:pt x="448" y="655"/>
                  </a:lnTo>
                  <a:lnTo>
                    <a:pt x="393" y="905"/>
                  </a:lnTo>
                  <a:lnTo>
                    <a:pt x="337" y="1134"/>
                  </a:lnTo>
                  <a:lnTo>
                    <a:pt x="279" y="1343"/>
                  </a:lnTo>
                  <a:lnTo>
                    <a:pt x="215" y="1535"/>
                  </a:lnTo>
                  <a:lnTo>
                    <a:pt x="334" y="1318"/>
                  </a:lnTo>
                  <a:lnTo>
                    <a:pt x="384" y="1235"/>
                  </a:lnTo>
                  <a:lnTo>
                    <a:pt x="432" y="1164"/>
                  </a:lnTo>
                  <a:lnTo>
                    <a:pt x="460" y="1130"/>
                  </a:lnTo>
                  <a:lnTo>
                    <a:pt x="492" y="1099"/>
                  </a:lnTo>
                  <a:lnTo>
                    <a:pt x="525" y="1067"/>
                  </a:lnTo>
                  <a:lnTo>
                    <a:pt x="562" y="1036"/>
                  </a:lnTo>
                  <a:lnTo>
                    <a:pt x="654" y="968"/>
                  </a:lnTo>
                  <a:lnTo>
                    <a:pt x="772" y="893"/>
                  </a:lnTo>
                  <a:lnTo>
                    <a:pt x="894" y="814"/>
                  </a:lnTo>
                  <a:lnTo>
                    <a:pt x="1002" y="740"/>
                  </a:lnTo>
                  <a:lnTo>
                    <a:pt x="1093" y="667"/>
                  </a:lnTo>
                  <a:lnTo>
                    <a:pt x="1171" y="599"/>
                  </a:lnTo>
                  <a:lnTo>
                    <a:pt x="1232" y="540"/>
                  </a:lnTo>
                  <a:lnTo>
                    <a:pt x="1281" y="489"/>
                  </a:lnTo>
                  <a:lnTo>
                    <a:pt x="1315" y="445"/>
                  </a:lnTo>
                  <a:lnTo>
                    <a:pt x="1336" y="414"/>
                  </a:lnTo>
                  <a:lnTo>
                    <a:pt x="1350" y="392"/>
                  </a:lnTo>
                  <a:lnTo>
                    <a:pt x="1362" y="379"/>
                  </a:lnTo>
                  <a:lnTo>
                    <a:pt x="1371" y="371"/>
                  </a:lnTo>
                  <a:lnTo>
                    <a:pt x="1379" y="371"/>
                  </a:lnTo>
                  <a:lnTo>
                    <a:pt x="1384" y="377"/>
                  </a:lnTo>
                  <a:lnTo>
                    <a:pt x="1386" y="388"/>
                  </a:lnTo>
                  <a:lnTo>
                    <a:pt x="1384" y="406"/>
                  </a:lnTo>
                  <a:lnTo>
                    <a:pt x="1378" y="427"/>
                  </a:lnTo>
                  <a:lnTo>
                    <a:pt x="1363" y="467"/>
                  </a:lnTo>
                  <a:lnTo>
                    <a:pt x="1339" y="534"/>
                  </a:lnTo>
                  <a:lnTo>
                    <a:pt x="1300" y="623"/>
                  </a:lnTo>
                  <a:lnTo>
                    <a:pt x="1250" y="728"/>
                  </a:lnTo>
                  <a:lnTo>
                    <a:pt x="1185" y="845"/>
                  </a:lnTo>
                  <a:lnTo>
                    <a:pt x="1146" y="903"/>
                  </a:lnTo>
                  <a:lnTo>
                    <a:pt x="1104" y="965"/>
                  </a:lnTo>
                  <a:lnTo>
                    <a:pt x="1059" y="1026"/>
                  </a:lnTo>
                  <a:lnTo>
                    <a:pt x="1007" y="1086"/>
                  </a:lnTo>
                  <a:lnTo>
                    <a:pt x="954" y="1146"/>
                  </a:lnTo>
                  <a:lnTo>
                    <a:pt x="894" y="1203"/>
                  </a:lnTo>
                  <a:lnTo>
                    <a:pt x="772" y="1311"/>
                  </a:lnTo>
                  <a:lnTo>
                    <a:pt x="648" y="1418"/>
                  </a:lnTo>
                  <a:lnTo>
                    <a:pt x="529" y="1521"/>
                  </a:lnTo>
                  <a:lnTo>
                    <a:pt x="415" y="1622"/>
                  </a:lnTo>
                  <a:lnTo>
                    <a:pt x="310" y="1720"/>
                  </a:lnTo>
                  <a:lnTo>
                    <a:pt x="263" y="1769"/>
                  </a:lnTo>
                  <a:lnTo>
                    <a:pt x="217" y="1819"/>
                  </a:lnTo>
                  <a:lnTo>
                    <a:pt x="178" y="1866"/>
                  </a:lnTo>
                  <a:lnTo>
                    <a:pt x="141" y="1915"/>
                  </a:lnTo>
                  <a:lnTo>
                    <a:pt x="109" y="1965"/>
                  </a:lnTo>
                  <a:lnTo>
                    <a:pt x="83" y="2014"/>
                  </a:lnTo>
                  <a:lnTo>
                    <a:pt x="65" y="2046"/>
                  </a:lnTo>
                  <a:lnTo>
                    <a:pt x="55" y="2056"/>
                  </a:lnTo>
                  <a:lnTo>
                    <a:pt x="47" y="2062"/>
                  </a:lnTo>
                  <a:lnTo>
                    <a:pt x="39" y="2059"/>
                  </a:lnTo>
                  <a:lnTo>
                    <a:pt x="34" y="2052"/>
                  </a:lnTo>
                  <a:lnTo>
                    <a:pt x="30" y="2032"/>
                  </a:lnTo>
                  <a:lnTo>
                    <a:pt x="28" y="2001"/>
                  </a:lnTo>
                  <a:lnTo>
                    <a:pt x="12" y="1722"/>
                  </a:lnTo>
                  <a:lnTo>
                    <a:pt x="4" y="1503"/>
                  </a:lnTo>
                  <a:lnTo>
                    <a:pt x="0" y="1379"/>
                  </a:lnTo>
                  <a:lnTo>
                    <a:pt x="0" y="1246"/>
                  </a:lnTo>
                  <a:close/>
                </a:path>
              </a:pathLst>
            </a:custGeom>
            <a:blipFill rotWithShape="0">
              <a:blip r:embed="rId56"/>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1040040" y="738360"/>
              <a:ext cx="156600" cy="145440"/>
            </a:xfrm>
            <a:custGeom>
              <a:avLst/>
              <a:gdLst/>
              <a:ahLst/>
              <a:rect l="l" t="t" r="r" b="b"/>
              <a:pathLst>
                <a:path w="1222" h="1254">
                  <a:moveTo>
                    <a:pt x="8" y="1191"/>
                  </a:moveTo>
                  <a:lnTo>
                    <a:pt x="38" y="1081"/>
                  </a:lnTo>
                  <a:lnTo>
                    <a:pt x="67" y="992"/>
                  </a:lnTo>
                  <a:lnTo>
                    <a:pt x="109" y="891"/>
                  </a:lnTo>
                  <a:lnTo>
                    <a:pt x="162" y="780"/>
                  </a:lnTo>
                  <a:lnTo>
                    <a:pt x="193" y="723"/>
                  </a:lnTo>
                  <a:lnTo>
                    <a:pt x="229" y="667"/>
                  </a:lnTo>
                  <a:lnTo>
                    <a:pt x="269" y="611"/>
                  </a:lnTo>
                  <a:lnTo>
                    <a:pt x="313" y="558"/>
                  </a:lnTo>
                  <a:lnTo>
                    <a:pt x="360" y="506"/>
                  </a:lnTo>
                  <a:lnTo>
                    <a:pt x="413" y="458"/>
                  </a:lnTo>
                  <a:lnTo>
                    <a:pt x="468" y="411"/>
                  </a:lnTo>
                  <a:lnTo>
                    <a:pt x="523" y="369"/>
                  </a:lnTo>
                  <a:lnTo>
                    <a:pt x="640" y="288"/>
                  </a:lnTo>
                  <a:lnTo>
                    <a:pt x="753" y="218"/>
                  </a:lnTo>
                  <a:lnTo>
                    <a:pt x="861" y="159"/>
                  </a:lnTo>
                  <a:lnTo>
                    <a:pt x="960" y="108"/>
                  </a:lnTo>
                  <a:lnTo>
                    <a:pt x="1043" y="68"/>
                  </a:lnTo>
                  <a:lnTo>
                    <a:pt x="1153" y="19"/>
                  </a:lnTo>
                  <a:lnTo>
                    <a:pt x="1179" y="8"/>
                  </a:lnTo>
                  <a:lnTo>
                    <a:pt x="1200" y="1"/>
                  </a:lnTo>
                  <a:lnTo>
                    <a:pt x="1214" y="0"/>
                  </a:lnTo>
                  <a:lnTo>
                    <a:pt x="1222" y="3"/>
                  </a:lnTo>
                  <a:lnTo>
                    <a:pt x="1222" y="11"/>
                  </a:lnTo>
                  <a:lnTo>
                    <a:pt x="1218" y="21"/>
                  </a:lnTo>
                  <a:lnTo>
                    <a:pt x="1206" y="37"/>
                  </a:lnTo>
                  <a:lnTo>
                    <a:pt x="1190" y="53"/>
                  </a:lnTo>
                  <a:lnTo>
                    <a:pt x="1127" y="121"/>
                  </a:lnTo>
                  <a:lnTo>
                    <a:pt x="1027" y="244"/>
                  </a:lnTo>
                  <a:lnTo>
                    <a:pt x="967" y="321"/>
                  </a:lnTo>
                  <a:lnTo>
                    <a:pt x="907" y="404"/>
                  </a:lnTo>
                  <a:lnTo>
                    <a:pt x="845" y="492"/>
                  </a:lnTo>
                  <a:lnTo>
                    <a:pt x="786" y="584"/>
                  </a:lnTo>
                  <a:lnTo>
                    <a:pt x="730" y="670"/>
                  </a:lnTo>
                  <a:lnTo>
                    <a:pt x="677" y="745"/>
                  </a:lnTo>
                  <a:lnTo>
                    <a:pt x="625" y="808"/>
                  </a:lnTo>
                  <a:lnTo>
                    <a:pt x="577" y="864"/>
                  </a:lnTo>
                  <a:lnTo>
                    <a:pt x="528" y="909"/>
                  </a:lnTo>
                  <a:lnTo>
                    <a:pt x="474" y="950"/>
                  </a:lnTo>
                  <a:lnTo>
                    <a:pt x="421" y="984"/>
                  </a:lnTo>
                  <a:lnTo>
                    <a:pt x="361" y="1015"/>
                  </a:lnTo>
                  <a:lnTo>
                    <a:pt x="247" y="1075"/>
                  </a:lnTo>
                  <a:lnTo>
                    <a:pt x="154" y="1132"/>
                  </a:lnTo>
                  <a:lnTo>
                    <a:pt x="85" y="1183"/>
                  </a:lnTo>
                  <a:lnTo>
                    <a:pt x="62" y="1204"/>
                  </a:lnTo>
                  <a:lnTo>
                    <a:pt x="46" y="1225"/>
                  </a:lnTo>
                  <a:lnTo>
                    <a:pt x="34" y="1240"/>
                  </a:lnTo>
                  <a:lnTo>
                    <a:pt x="22" y="1251"/>
                  </a:lnTo>
                  <a:lnTo>
                    <a:pt x="12" y="1254"/>
                  </a:lnTo>
                  <a:lnTo>
                    <a:pt x="7" y="1253"/>
                  </a:lnTo>
                  <a:lnTo>
                    <a:pt x="2" y="1244"/>
                  </a:lnTo>
                  <a:lnTo>
                    <a:pt x="0" y="1233"/>
                  </a:lnTo>
                  <a:lnTo>
                    <a:pt x="2" y="1215"/>
                  </a:lnTo>
                  <a:lnTo>
                    <a:pt x="8" y="1191"/>
                  </a:lnTo>
                  <a:close/>
                </a:path>
              </a:pathLst>
            </a:custGeom>
            <a:blipFill rotWithShape="0">
              <a:blip r:embed="rId57"/>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1383480" y="1676880"/>
              <a:ext cx="621000" cy="140760"/>
            </a:xfrm>
            <a:custGeom>
              <a:avLst/>
              <a:gdLst/>
              <a:ahLst/>
              <a:rect l="l" t="t" r="r" b="b"/>
              <a:pathLst>
                <a:path w="4842" h="1209">
                  <a:moveTo>
                    <a:pt x="0" y="1144"/>
                  </a:moveTo>
                  <a:lnTo>
                    <a:pt x="32" y="1110"/>
                  </a:lnTo>
                  <a:lnTo>
                    <a:pt x="119" y="1021"/>
                  </a:lnTo>
                  <a:lnTo>
                    <a:pt x="182" y="960"/>
                  </a:lnTo>
                  <a:lnTo>
                    <a:pt x="255" y="892"/>
                  </a:lnTo>
                  <a:lnTo>
                    <a:pt x="340" y="816"/>
                  </a:lnTo>
                  <a:lnTo>
                    <a:pt x="434" y="738"/>
                  </a:lnTo>
                  <a:lnTo>
                    <a:pt x="539" y="654"/>
                  </a:lnTo>
                  <a:lnTo>
                    <a:pt x="650" y="573"/>
                  </a:lnTo>
                  <a:lnTo>
                    <a:pt x="769" y="492"/>
                  </a:lnTo>
                  <a:lnTo>
                    <a:pt x="895" y="416"/>
                  </a:lnTo>
                  <a:lnTo>
                    <a:pt x="1025" y="343"/>
                  </a:lnTo>
                  <a:lnTo>
                    <a:pt x="1159" y="280"/>
                  </a:lnTo>
                  <a:lnTo>
                    <a:pt x="1229" y="250"/>
                  </a:lnTo>
                  <a:lnTo>
                    <a:pt x="1297" y="225"/>
                  </a:lnTo>
                  <a:lnTo>
                    <a:pt x="1368" y="201"/>
                  </a:lnTo>
                  <a:lnTo>
                    <a:pt x="1439" y="181"/>
                  </a:lnTo>
                  <a:lnTo>
                    <a:pt x="1680" y="118"/>
                  </a:lnTo>
                  <a:lnTo>
                    <a:pt x="1894" y="68"/>
                  </a:lnTo>
                  <a:lnTo>
                    <a:pt x="1990" y="49"/>
                  </a:lnTo>
                  <a:lnTo>
                    <a:pt x="2085" y="31"/>
                  </a:lnTo>
                  <a:lnTo>
                    <a:pt x="2176" y="18"/>
                  </a:lnTo>
                  <a:lnTo>
                    <a:pt x="2266" y="8"/>
                  </a:lnTo>
                  <a:lnTo>
                    <a:pt x="2355" y="2"/>
                  </a:lnTo>
                  <a:lnTo>
                    <a:pt x="2444" y="0"/>
                  </a:lnTo>
                  <a:lnTo>
                    <a:pt x="2535" y="0"/>
                  </a:lnTo>
                  <a:lnTo>
                    <a:pt x="2627" y="5"/>
                  </a:lnTo>
                  <a:lnTo>
                    <a:pt x="2724" y="15"/>
                  </a:lnTo>
                  <a:lnTo>
                    <a:pt x="2825" y="27"/>
                  </a:lnTo>
                  <a:lnTo>
                    <a:pt x="2930" y="45"/>
                  </a:lnTo>
                  <a:lnTo>
                    <a:pt x="3043" y="66"/>
                  </a:lnTo>
                  <a:lnTo>
                    <a:pt x="3275" y="120"/>
                  </a:lnTo>
                  <a:lnTo>
                    <a:pt x="3501" y="173"/>
                  </a:lnTo>
                  <a:lnTo>
                    <a:pt x="3723" y="222"/>
                  </a:lnTo>
                  <a:lnTo>
                    <a:pt x="3833" y="244"/>
                  </a:lnTo>
                  <a:lnTo>
                    <a:pt x="3942" y="262"/>
                  </a:lnTo>
                  <a:lnTo>
                    <a:pt x="4050" y="275"/>
                  </a:lnTo>
                  <a:lnTo>
                    <a:pt x="4157" y="288"/>
                  </a:lnTo>
                  <a:lnTo>
                    <a:pt x="4264" y="291"/>
                  </a:lnTo>
                  <a:lnTo>
                    <a:pt x="4369" y="291"/>
                  </a:lnTo>
                  <a:lnTo>
                    <a:pt x="4473" y="283"/>
                  </a:lnTo>
                  <a:lnTo>
                    <a:pt x="4578" y="267"/>
                  </a:lnTo>
                  <a:lnTo>
                    <a:pt x="4680" y="244"/>
                  </a:lnTo>
                  <a:lnTo>
                    <a:pt x="4781" y="212"/>
                  </a:lnTo>
                  <a:lnTo>
                    <a:pt x="4814" y="204"/>
                  </a:lnTo>
                  <a:lnTo>
                    <a:pt x="4827" y="204"/>
                  </a:lnTo>
                  <a:lnTo>
                    <a:pt x="4836" y="209"/>
                  </a:lnTo>
                  <a:lnTo>
                    <a:pt x="4842" y="214"/>
                  </a:lnTo>
                  <a:lnTo>
                    <a:pt x="4840" y="225"/>
                  </a:lnTo>
                  <a:lnTo>
                    <a:pt x="4835" y="236"/>
                  </a:lnTo>
                  <a:lnTo>
                    <a:pt x="4822" y="254"/>
                  </a:lnTo>
                  <a:lnTo>
                    <a:pt x="4785" y="295"/>
                  </a:lnTo>
                  <a:lnTo>
                    <a:pt x="4738" y="345"/>
                  </a:lnTo>
                  <a:lnTo>
                    <a:pt x="4680" y="398"/>
                  </a:lnTo>
                  <a:lnTo>
                    <a:pt x="4611" y="453"/>
                  </a:lnTo>
                  <a:lnTo>
                    <a:pt x="4561" y="481"/>
                  </a:lnTo>
                  <a:lnTo>
                    <a:pt x="4495" y="513"/>
                  </a:lnTo>
                  <a:lnTo>
                    <a:pt x="4411" y="542"/>
                  </a:lnTo>
                  <a:lnTo>
                    <a:pt x="4315" y="573"/>
                  </a:lnTo>
                  <a:lnTo>
                    <a:pt x="4208" y="604"/>
                  </a:lnTo>
                  <a:lnTo>
                    <a:pt x="4092" y="631"/>
                  </a:lnTo>
                  <a:lnTo>
                    <a:pt x="3972" y="654"/>
                  </a:lnTo>
                  <a:lnTo>
                    <a:pt x="3847" y="676"/>
                  </a:lnTo>
                  <a:lnTo>
                    <a:pt x="3729" y="693"/>
                  </a:lnTo>
                  <a:lnTo>
                    <a:pt x="3621" y="704"/>
                  </a:lnTo>
                  <a:lnTo>
                    <a:pt x="3517" y="708"/>
                  </a:lnTo>
                  <a:lnTo>
                    <a:pt x="3411" y="704"/>
                  </a:lnTo>
                  <a:lnTo>
                    <a:pt x="3299" y="690"/>
                  </a:lnTo>
                  <a:lnTo>
                    <a:pt x="3174" y="667"/>
                  </a:lnTo>
                  <a:lnTo>
                    <a:pt x="3028" y="628"/>
                  </a:lnTo>
                  <a:lnTo>
                    <a:pt x="2860" y="580"/>
                  </a:lnTo>
                  <a:lnTo>
                    <a:pt x="2690" y="523"/>
                  </a:lnTo>
                  <a:lnTo>
                    <a:pt x="2538" y="468"/>
                  </a:lnTo>
                  <a:lnTo>
                    <a:pt x="2402" y="416"/>
                  </a:lnTo>
                  <a:lnTo>
                    <a:pt x="2273" y="371"/>
                  </a:lnTo>
                  <a:lnTo>
                    <a:pt x="2209" y="351"/>
                  </a:lnTo>
                  <a:lnTo>
                    <a:pt x="2144" y="333"/>
                  </a:lnTo>
                  <a:lnTo>
                    <a:pt x="2077" y="317"/>
                  </a:lnTo>
                  <a:lnTo>
                    <a:pt x="2007" y="303"/>
                  </a:lnTo>
                  <a:lnTo>
                    <a:pt x="1935" y="293"/>
                  </a:lnTo>
                  <a:lnTo>
                    <a:pt x="1860" y="285"/>
                  </a:lnTo>
                  <a:lnTo>
                    <a:pt x="1779" y="280"/>
                  </a:lnTo>
                  <a:lnTo>
                    <a:pt x="1692" y="277"/>
                  </a:lnTo>
                  <a:lnTo>
                    <a:pt x="1601" y="280"/>
                  </a:lnTo>
                  <a:lnTo>
                    <a:pt x="1518" y="285"/>
                  </a:lnTo>
                  <a:lnTo>
                    <a:pt x="1441" y="295"/>
                  </a:lnTo>
                  <a:lnTo>
                    <a:pt x="1370" y="311"/>
                  </a:lnTo>
                  <a:lnTo>
                    <a:pt x="1301" y="333"/>
                  </a:lnTo>
                  <a:lnTo>
                    <a:pt x="1234" y="361"/>
                  </a:lnTo>
                  <a:lnTo>
                    <a:pt x="1167" y="396"/>
                  </a:lnTo>
                  <a:lnTo>
                    <a:pt x="1096" y="442"/>
                  </a:lnTo>
                  <a:lnTo>
                    <a:pt x="1021" y="497"/>
                  </a:lnTo>
                  <a:lnTo>
                    <a:pt x="940" y="560"/>
                  </a:lnTo>
                  <a:lnTo>
                    <a:pt x="851" y="636"/>
                  </a:lnTo>
                  <a:lnTo>
                    <a:pt x="755" y="724"/>
                  </a:lnTo>
                  <a:lnTo>
                    <a:pt x="523" y="937"/>
                  </a:lnTo>
                  <a:lnTo>
                    <a:pt x="233" y="1209"/>
                  </a:lnTo>
                  <a:lnTo>
                    <a:pt x="64" y="1162"/>
                  </a:lnTo>
                  <a:lnTo>
                    <a:pt x="0" y="1144"/>
                  </a:lnTo>
                  <a:close/>
                </a:path>
              </a:pathLst>
            </a:custGeom>
            <a:blipFill rotWithShape="0">
              <a:blip r:embed="rId58"/>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1811160" y="1504080"/>
              <a:ext cx="329760" cy="189360"/>
            </a:xfrm>
            <a:custGeom>
              <a:avLst/>
              <a:gdLst/>
              <a:ahLst/>
              <a:rect l="l" t="t" r="r" b="b"/>
              <a:pathLst>
                <a:path w="2575" h="1626">
                  <a:moveTo>
                    <a:pt x="163" y="1490"/>
                  </a:moveTo>
                  <a:lnTo>
                    <a:pt x="241" y="1496"/>
                  </a:lnTo>
                  <a:lnTo>
                    <a:pt x="353" y="1515"/>
                  </a:lnTo>
                  <a:lnTo>
                    <a:pt x="482" y="1545"/>
                  </a:lnTo>
                  <a:lnTo>
                    <a:pt x="621" y="1582"/>
                  </a:lnTo>
                  <a:lnTo>
                    <a:pt x="690" y="1600"/>
                  </a:lnTo>
                  <a:lnTo>
                    <a:pt x="759" y="1614"/>
                  </a:lnTo>
                  <a:lnTo>
                    <a:pt x="828" y="1622"/>
                  </a:lnTo>
                  <a:lnTo>
                    <a:pt x="897" y="1626"/>
                  </a:lnTo>
                  <a:lnTo>
                    <a:pt x="970" y="1626"/>
                  </a:lnTo>
                  <a:lnTo>
                    <a:pt x="1047" y="1622"/>
                  </a:lnTo>
                  <a:lnTo>
                    <a:pt x="1215" y="1606"/>
                  </a:lnTo>
                  <a:lnTo>
                    <a:pt x="1405" y="1580"/>
                  </a:lnTo>
                  <a:lnTo>
                    <a:pt x="1505" y="1561"/>
                  </a:lnTo>
                  <a:lnTo>
                    <a:pt x="1606" y="1535"/>
                  </a:lnTo>
                  <a:lnTo>
                    <a:pt x="1657" y="1517"/>
                  </a:lnTo>
                  <a:lnTo>
                    <a:pt x="1709" y="1498"/>
                  </a:lnTo>
                  <a:lnTo>
                    <a:pt x="1759" y="1475"/>
                  </a:lnTo>
                  <a:lnTo>
                    <a:pt x="1809" y="1448"/>
                  </a:lnTo>
                  <a:lnTo>
                    <a:pt x="1858" y="1417"/>
                  </a:lnTo>
                  <a:lnTo>
                    <a:pt x="1908" y="1383"/>
                  </a:lnTo>
                  <a:lnTo>
                    <a:pt x="1955" y="1341"/>
                  </a:lnTo>
                  <a:lnTo>
                    <a:pt x="2002" y="1298"/>
                  </a:lnTo>
                  <a:lnTo>
                    <a:pt x="2096" y="1200"/>
                  </a:lnTo>
                  <a:lnTo>
                    <a:pt x="2188" y="1095"/>
                  </a:lnTo>
                  <a:lnTo>
                    <a:pt x="2277" y="992"/>
                  </a:lnTo>
                  <a:lnTo>
                    <a:pt x="2360" y="894"/>
                  </a:lnTo>
                  <a:lnTo>
                    <a:pt x="2492" y="730"/>
                  </a:lnTo>
                  <a:lnTo>
                    <a:pt x="2557" y="638"/>
                  </a:lnTo>
                  <a:lnTo>
                    <a:pt x="2569" y="622"/>
                  </a:lnTo>
                  <a:lnTo>
                    <a:pt x="2575" y="606"/>
                  </a:lnTo>
                  <a:lnTo>
                    <a:pt x="2575" y="593"/>
                  </a:lnTo>
                  <a:lnTo>
                    <a:pt x="2570" y="588"/>
                  </a:lnTo>
                  <a:lnTo>
                    <a:pt x="2565" y="588"/>
                  </a:lnTo>
                  <a:lnTo>
                    <a:pt x="2553" y="591"/>
                  </a:lnTo>
                  <a:lnTo>
                    <a:pt x="2538" y="601"/>
                  </a:lnTo>
                  <a:lnTo>
                    <a:pt x="2517" y="619"/>
                  </a:lnTo>
                  <a:lnTo>
                    <a:pt x="2488" y="645"/>
                  </a:lnTo>
                  <a:lnTo>
                    <a:pt x="2447" y="679"/>
                  </a:lnTo>
                  <a:lnTo>
                    <a:pt x="2391" y="719"/>
                  </a:lnTo>
                  <a:lnTo>
                    <a:pt x="2321" y="763"/>
                  </a:lnTo>
                  <a:lnTo>
                    <a:pt x="2233" y="808"/>
                  </a:lnTo>
                  <a:lnTo>
                    <a:pt x="2182" y="832"/>
                  </a:lnTo>
                  <a:lnTo>
                    <a:pt x="2127" y="854"/>
                  </a:lnTo>
                  <a:lnTo>
                    <a:pt x="2065" y="874"/>
                  </a:lnTo>
                  <a:lnTo>
                    <a:pt x="2000" y="894"/>
                  </a:lnTo>
                  <a:lnTo>
                    <a:pt x="1931" y="912"/>
                  </a:lnTo>
                  <a:lnTo>
                    <a:pt x="1855" y="927"/>
                  </a:lnTo>
                  <a:lnTo>
                    <a:pt x="1709" y="957"/>
                  </a:lnTo>
                  <a:lnTo>
                    <a:pt x="1574" y="986"/>
                  </a:lnTo>
                  <a:lnTo>
                    <a:pt x="1453" y="1017"/>
                  </a:lnTo>
                  <a:lnTo>
                    <a:pt x="1340" y="1056"/>
                  </a:lnTo>
                  <a:lnTo>
                    <a:pt x="1227" y="1095"/>
                  </a:lnTo>
                  <a:lnTo>
                    <a:pt x="1114" y="1145"/>
                  </a:lnTo>
                  <a:lnTo>
                    <a:pt x="995" y="1200"/>
                  </a:lnTo>
                  <a:lnTo>
                    <a:pt x="867" y="1266"/>
                  </a:lnTo>
                  <a:lnTo>
                    <a:pt x="804" y="1300"/>
                  </a:lnTo>
                  <a:lnTo>
                    <a:pt x="735" y="1329"/>
                  </a:lnTo>
                  <a:lnTo>
                    <a:pt x="662" y="1357"/>
                  </a:lnTo>
                  <a:lnTo>
                    <a:pt x="587" y="1379"/>
                  </a:lnTo>
                  <a:lnTo>
                    <a:pt x="510" y="1397"/>
                  </a:lnTo>
                  <a:lnTo>
                    <a:pt x="429" y="1407"/>
                  </a:lnTo>
                  <a:lnTo>
                    <a:pt x="348" y="1409"/>
                  </a:lnTo>
                  <a:lnTo>
                    <a:pt x="265" y="1402"/>
                  </a:lnTo>
                  <a:lnTo>
                    <a:pt x="340" y="1361"/>
                  </a:lnTo>
                  <a:lnTo>
                    <a:pt x="401" y="1331"/>
                  </a:lnTo>
                  <a:lnTo>
                    <a:pt x="498" y="1289"/>
                  </a:lnTo>
                  <a:lnTo>
                    <a:pt x="583" y="1250"/>
                  </a:lnTo>
                  <a:lnTo>
                    <a:pt x="628" y="1224"/>
                  </a:lnTo>
                  <a:lnTo>
                    <a:pt x="680" y="1193"/>
                  </a:lnTo>
                  <a:lnTo>
                    <a:pt x="735" y="1158"/>
                  </a:lnTo>
                  <a:lnTo>
                    <a:pt x="790" y="1116"/>
                  </a:lnTo>
                  <a:lnTo>
                    <a:pt x="843" y="1073"/>
                  </a:lnTo>
                  <a:lnTo>
                    <a:pt x="895" y="1025"/>
                  </a:lnTo>
                  <a:lnTo>
                    <a:pt x="945" y="975"/>
                  </a:lnTo>
                  <a:lnTo>
                    <a:pt x="994" y="917"/>
                  </a:lnTo>
                  <a:lnTo>
                    <a:pt x="1039" y="856"/>
                  </a:lnTo>
                  <a:lnTo>
                    <a:pt x="1084" y="787"/>
                  </a:lnTo>
                  <a:lnTo>
                    <a:pt x="1123" y="714"/>
                  </a:lnTo>
                  <a:lnTo>
                    <a:pt x="1160" y="638"/>
                  </a:lnTo>
                  <a:lnTo>
                    <a:pt x="1189" y="566"/>
                  </a:lnTo>
                  <a:lnTo>
                    <a:pt x="1215" y="493"/>
                  </a:lnTo>
                  <a:lnTo>
                    <a:pt x="1235" y="426"/>
                  </a:lnTo>
                  <a:lnTo>
                    <a:pt x="1251" y="365"/>
                  </a:lnTo>
                  <a:lnTo>
                    <a:pt x="1261" y="311"/>
                  </a:lnTo>
                  <a:lnTo>
                    <a:pt x="1266" y="269"/>
                  </a:lnTo>
                  <a:lnTo>
                    <a:pt x="1270" y="201"/>
                  </a:lnTo>
                  <a:lnTo>
                    <a:pt x="1269" y="146"/>
                  </a:lnTo>
                  <a:lnTo>
                    <a:pt x="1270" y="101"/>
                  </a:lnTo>
                  <a:lnTo>
                    <a:pt x="1274" y="78"/>
                  </a:lnTo>
                  <a:lnTo>
                    <a:pt x="1280" y="60"/>
                  </a:lnTo>
                  <a:lnTo>
                    <a:pt x="1290" y="28"/>
                  </a:lnTo>
                  <a:lnTo>
                    <a:pt x="1290" y="13"/>
                  </a:lnTo>
                  <a:lnTo>
                    <a:pt x="1286" y="5"/>
                  </a:lnTo>
                  <a:lnTo>
                    <a:pt x="1282" y="0"/>
                  </a:lnTo>
                  <a:lnTo>
                    <a:pt x="1272" y="2"/>
                  </a:lnTo>
                  <a:lnTo>
                    <a:pt x="1261" y="10"/>
                  </a:lnTo>
                  <a:lnTo>
                    <a:pt x="1245" y="25"/>
                  </a:lnTo>
                  <a:lnTo>
                    <a:pt x="1197" y="83"/>
                  </a:lnTo>
                  <a:lnTo>
                    <a:pt x="1126" y="159"/>
                  </a:lnTo>
                  <a:lnTo>
                    <a:pt x="1036" y="250"/>
                  </a:lnTo>
                  <a:lnTo>
                    <a:pt x="984" y="295"/>
                  </a:lnTo>
                  <a:lnTo>
                    <a:pt x="931" y="341"/>
                  </a:lnTo>
                  <a:lnTo>
                    <a:pt x="820" y="431"/>
                  </a:lnTo>
                  <a:lnTo>
                    <a:pt x="769" y="481"/>
                  </a:lnTo>
                  <a:lnTo>
                    <a:pt x="715" y="534"/>
                  </a:lnTo>
                  <a:lnTo>
                    <a:pt x="667" y="591"/>
                  </a:lnTo>
                  <a:lnTo>
                    <a:pt x="617" y="656"/>
                  </a:lnTo>
                  <a:lnTo>
                    <a:pt x="571" y="727"/>
                  </a:lnTo>
                  <a:lnTo>
                    <a:pt x="526" y="811"/>
                  </a:lnTo>
                  <a:lnTo>
                    <a:pt x="453" y="965"/>
                  </a:lnTo>
                  <a:lnTo>
                    <a:pt x="424" y="1030"/>
                  </a:lnTo>
                  <a:lnTo>
                    <a:pt x="392" y="1088"/>
                  </a:lnTo>
                  <a:lnTo>
                    <a:pt x="356" y="1145"/>
                  </a:lnTo>
                  <a:lnTo>
                    <a:pt x="315" y="1200"/>
                  </a:lnTo>
                  <a:lnTo>
                    <a:pt x="262" y="1255"/>
                  </a:lnTo>
                  <a:lnTo>
                    <a:pt x="192" y="1312"/>
                  </a:lnTo>
                  <a:lnTo>
                    <a:pt x="72" y="1404"/>
                  </a:lnTo>
                  <a:lnTo>
                    <a:pt x="32" y="1436"/>
                  </a:lnTo>
                  <a:lnTo>
                    <a:pt x="9" y="1460"/>
                  </a:lnTo>
                  <a:lnTo>
                    <a:pt x="0" y="1473"/>
                  </a:lnTo>
                  <a:lnTo>
                    <a:pt x="0" y="1480"/>
                  </a:lnTo>
                  <a:lnTo>
                    <a:pt x="3" y="1483"/>
                  </a:lnTo>
                  <a:lnTo>
                    <a:pt x="21" y="1488"/>
                  </a:lnTo>
                  <a:lnTo>
                    <a:pt x="52" y="1490"/>
                  </a:lnTo>
                  <a:lnTo>
                    <a:pt x="163" y="1490"/>
                  </a:lnTo>
                  <a:close/>
                </a:path>
              </a:pathLst>
            </a:custGeom>
            <a:blipFill rotWithShape="0">
              <a:blip r:embed="rId5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1972080" y="1399320"/>
              <a:ext cx="249840" cy="215280"/>
            </a:xfrm>
            <a:custGeom>
              <a:avLst/>
              <a:gdLst/>
              <a:ahLst/>
              <a:rect l="l" t="t" r="r" b="b"/>
              <a:pathLst>
                <a:path w="1958" h="1859">
                  <a:moveTo>
                    <a:pt x="75" y="1835"/>
                  </a:moveTo>
                  <a:lnTo>
                    <a:pt x="411" y="1727"/>
                  </a:lnTo>
                  <a:lnTo>
                    <a:pt x="657" y="1644"/>
                  </a:lnTo>
                  <a:lnTo>
                    <a:pt x="865" y="1568"/>
                  </a:lnTo>
                  <a:lnTo>
                    <a:pt x="954" y="1534"/>
                  </a:lnTo>
                  <a:lnTo>
                    <a:pt x="1052" y="1486"/>
                  </a:lnTo>
                  <a:lnTo>
                    <a:pt x="1157" y="1429"/>
                  </a:lnTo>
                  <a:lnTo>
                    <a:pt x="1211" y="1395"/>
                  </a:lnTo>
                  <a:lnTo>
                    <a:pt x="1263" y="1358"/>
                  </a:lnTo>
                  <a:lnTo>
                    <a:pt x="1316" y="1318"/>
                  </a:lnTo>
                  <a:lnTo>
                    <a:pt x="1368" y="1273"/>
                  </a:lnTo>
                  <a:lnTo>
                    <a:pt x="1418" y="1225"/>
                  </a:lnTo>
                  <a:lnTo>
                    <a:pt x="1465" y="1172"/>
                  </a:lnTo>
                  <a:lnTo>
                    <a:pt x="1510" y="1115"/>
                  </a:lnTo>
                  <a:lnTo>
                    <a:pt x="1554" y="1053"/>
                  </a:lnTo>
                  <a:lnTo>
                    <a:pt x="1591" y="987"/>
                  </a:lnTo>
                  <a:lnTo>
                    <a:pt x="1627" y="916"/>
                  </a:lnTo>
                  <a:lnTo>
                    <a:pt x="1747" y="642"/>
                  </a:lnTo>
                  <a:lnTo>
                    <a:pt x="1847" y="420"/>
                  </a:lnTo>
                  <a:lnTo>
                    <a:pt x="1886" y="328"/>
                  </a:lnTo>
                  <a:lnTo>
                    <a:pt x="1917" y="250"/>
                  </a:lnTo>
                  <a:lnTo>
                    <a:pt x="1939" y="187"/>
                  </a:lnTo>
                  <a:lnTo>
                    <a:pt x="1950" y="140"/>
                  </a:lnTo>
                  <a:lnTo>
                    <a:pt x="1958" y="77"/>
                  </a:lnTo>
                  <a:lnTo>
                    <a:pt x="1958" y="43"/>
                  </a:lnTo>
                  <a:lnTo>
                    <a:pt x="1954" y="25"/>
                  </a:lnTo>
                  <a:lnTo>
                    <a:pt x="1949" y="14"/>
                  </a:lnTo>
                  <a:lnTo>
                    <a:pt x="1942" y="6"/>
                  </a:lnTo>
                  <a:lnTo>
                    <a:pt x="1936" y="0"/>
                  </a:lnTo>
                  <a:lnTo>
                    <a:pt x="1928" y="2"/>
                  </a:lnTo>
                  <a:lnTo>
                    <a:pt x="1920" y="12"/>
                  </a:lnTo>
                  <a:lnTo>
                    <a:pt x="1868" y="90"/>
                  </a:lnTo>
                  <a:lnTo>
                    <a:pt x="1749" y="258"/>
                  </a:lnTo>
                  <a:lnTo>
                    <a:pt x="1674" y="357"/>
                  </a:lnTo>
                  <a:lnTo>
                    <a:pt x="1595" y="454"/>
                  </a:lnTo>
                  <a:lnTo>
                    <a:pt x="1514" y="543"/>
                  </a:lnTo>
                  <a:lnTo>
                    <a:pt x="1475" y="582"/>
                  </a:lnTo>
                  <a:lnTo>
                    <a:pt x="1437" y="616"/>
                  </a:lnTo>
                  <a:lnTo>
                    <a:pt x="1360" y="679"/>
                  </a:lnTo>
                  <a:lnTo>
                    <a:pt x="1279" y="738"/>
                  </a:lnTo>
                  <a:lnTo>
                    <a:pt x="1117" y="852"/>
                  </a:lnTo>
                  <a:lnTo>
                    <a:pt x="965" y="959"/>
                  </a:lnTo>
                  <a:lnTo>
                    <a:pt x="898" y="1011"/>
                  </a:lnTo>
                  <a:lnTo>
                    <a:pt x="842" y="1058"/>
                  </a:lnTo>
                  <a:lnTo>
                    <a:pt x="737" y="1157"/>
                  </a:lnTo>
                  <a:lnTo>
                    <a:pt x="632" y="1259"/>
                  </a:lnTo>
                  <a:lnTo>
                    <a:pt x="440" y="1458"/>
                  </a:lnTo>
                  <a:lnTo>
                    <a:pt x="397" y="1502"/>
                  </a:lnTo>
                  <a:lnTo>
                    <a:pt x="356" y="1539"/>
                  </a:lnTo>
                  <a:lnTo>
                    <a:pt x="320" y="1568"/>
                  </a:lnTo>
                  <a:lnTo>
                    <a:pt x="288" y="1591"/>
                  </a:lnTo>
                  <a:lnTo>
                    <a:pt x="243" y="1618"/>
                  </a:lnTo>
                  <a:lnTo>
                    <a:pt x="227" y="1626"/>
                  </a:lnTo>
                  <a:lnTo>
                    <a:pt x="334" y="1462"/>
                  </a:lnTo>
                  <a:lnTo>
                    <a:pt x="512" y="1192"/>
                  </a:lnTo>
                  <a:lnTo>
                    <a:pt x="583" y="1087"/>
                  </a:lnTo>
                  <a:lnTo>
                    <a:pt x="614" y="1034"/>
                  </a:lnTo>
                  <a:lnTo>
                    <a:pt x="644" y="979"/>
                  </a:lnTo>
                  <a:lnTo>
                    <a:pt x="669" y="919"/>
                  </a:lnTo>
                  <a:lnTo>
                    <a:pt x="687" y="856"/>
                  </a:lnTo>
                  <a:lnTo>
                    <a:pt x="699" y="789"/>
                  </a:lnTo>
                  <a:lnTo>
                    <a:pt x="703" y="754"/>
                  </a:lnTo>
                  <a:lnTo>
                    <a:pt x="705" y="716"/>
                  </a:lnTo>
                  <a:lnTo>
                    <a:pt x="699" y="361"/>
                  </a:lnTo>
                  <a:lnTo>
                    <a:pt x="691" y="126"/>
                  </a:lnTo>
                  <a:lnTo>
                    <a:pt x="687" y="98"/>
                  </a:lnTo>
                  <a:lnTo>
                    <a:pt x="683" y="89"/>
                  </a:lnTo>
                  <a:lnTo>
                    <a:pt x="680" y="85"/>
                  </a:lnTo>
                  <a:lnTo>
                    <a:pt x="673" y="85"/>
                  </a:lnTo>
                  <a:lnTo>
                    <a:pt x="667" y="89"/>
                  </a:lnTo>
                  <a:lnTo>
                    <a:pt x="646" y="113"/>
                  </a:lnTo>
                  <a:lnTo>
                    <a:pt x="599" y="171"/>
                  </a:lnTo>
                  <a:lnTo>
                    <a:pt x="521" y="274"/>
                  </a:lnTo>
                  <a:lnTo>
                    <a:pt x="476" y="338"/>
                  </a:lnTo>
                  <a:lnTo>
                    <a:pt x="431" y="404"/>
                  </a:lnTo>
                  <a:lnTo>
                    <a:pt x="385" y="477"/>
                  </a:lnTo>
                  <a:lnTo>
                    <a:pt x="344" y="550"/>
                  </a:lnTo>
                  <a:lnTo>
                    <a:pt x="308" y="626"/>
                  </a:lnTo>
                  <a:lnTo>
                    <a:pt x="275" y="702"/>
                  </a:lnTo>
                  <a:lnTo>
                    <a:pt x="249" y="775"/>
                  </a:lnTo>
                  <a:lnTo>
                    <a:pt x="225" y="846"/>
                  </a:lnTo>
                  <a:lnTo>
                    <a:pt x="207" y="912"/>
                  </a:lnTo>
                  <a:lnTo>
                    <a:pt x="194" y="969"/>
                  </a:lnTo>
                  <a:lnTo>
                    <a:pt x="186" y="1018"/>
                  </a:lnTo>
                  <a:lnTo>
                    <a:pt x="183" y="1055"/>
                  </a:lnTo>
                  <a:lnTo>
                    <a:pt x="180" y="1207"/>
                  </a:lnTo>
                  <a:lnTo>
                    <a:pt x="174" y="1293"/>
                  </a:lnTo>
                  <a:lnTo>
                    <a:pt x="162" y="1369"/>
                  </a:lnTo>
                  <a:lnTo>
                    <a:pt x="136" y="1466"/>
                  </a:lnTo>
                  <a:lnTo>
                    <a:pt x="95" y="1594"/>
                  </a:lnTo>
                  <a:lnTo>
                    <a:pt x="54" y="1719"/>
                  </a:lnTo>
                  <a:lnTo>
                    <a:pt x="18" y="1806"/>
                  </a:lnTo>
                  <a:lnTo>
                    <a:pt x="2" y="1845"/>
                  </a:lnTo>
                  <a:lnTo>
                    <a:pt x="0" y="1855"/>
                  </a:lnTo>
                  <a:lnTo>
                    <a:pt x="5" y="1859"/>
                  </a:lnTo>
                  <a:lnTo>
                    <a:pt x="12" y="1859"/>
                  </a:lnTo>
                  <a:lnTo>
                    <a:pt x="28" y="1855"/>
                  </a:lnTo>
                  <a:lnTo>
                    <a:pt x="75" y="1835"/>
                  </a:lnTo>
                  <a:close/>
                </a:path>
              </a:pathLst>
            </a:custGeom>
            <a:blipFill rotWithShape="0">
              <a:blip r:embed="rId6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2089080" y="1388880"/>
              <a:ext cx="114480" cy="93600"/>
            </a:xfrm>
            <a:custGeom>
              <a:avLst/>
              <a:gdLst/>
              <a:ahLst/>
              <a:rect l="l" t="t" r="r" b="b"/>
              <a:pathLst>
                <a:path w="898" h="803">
                  <a:moveTo>
                    <a:pt x="898" y="0"/>
                  </a:moveTo>
                  <a:lnTo>
                    <a:pt x="778" y="134"/>
                  </a:lnTo>
                  <a:lnTo>
                    <a:pt x="663" y="257"/>
                  </a:lnTo>
                  <a:lnTo>
                    <a:pt x="602" y="317"/>
                  </a:lnTo>
                  <a:lnTo>
                    <a:pt x="545" y="373"/>
                  </a:lnTo>
                  <a:lnTo>
                    <a:pt x="414" y="493"/>
                  </a:lnTo>
                  <a:lnTo>
                    <a:pt x="272" y="620"/>
                  </a:lnTo>
                  <a:lnTo>
                    <a:pt x="152" y="726"/>
                  </a:lnTo>
                  <a:lnTo>
                    <a:pt x="92" y="785"/>
                  </a:lnTo>
                  <a:lnTo>
                    <a:pt x="76" y="801"/>
                  </a:lnTo>
                  <a:lnTo>
                    <a:pt x="68" y="803"/>
                  </a:lnTo>
                  <a:lnTo>
                    <a:pt x="63" y="803"/>
                  </a:lnTo>
                  <a:lnTo>
                    <a:pt x="58" y="798"/>
                  </a:lnTo>
                  <a:lnTo>
                    <a:pt x="55" y="788"/>
                  </a:lnTo>
                  <a:lnTo>
                    <a:pt x="52" y="762"/>
                  </a:lnTo>
                  <a:lnTo>
                    <a:pt x="42" y="565"/>
                  </a:lnTo>
                  <a:lnTo>
                    <a:pt x="34" y="422"/>
                  </a:lnTo>
                  <a:lnTo>
                    <a:pt x="20" y="298"/>
                  </a:lnTo>
                  <a:lnTo>
                    <a:pt x="8" y="194"/>
                  </a:lnTo>
                  <a:lnTo>
                    <a:pt x="2" y="99"/>
                  </a:lnTo>
                  <a:lnTo>
                    <a:pt x="0" y="0"/>
                  </a:lnTo>
                  <a:lnTo>
                    <a:pt x="325" y="0"/>
                  </a:lnTo>
                  <a:lnTo>
                    <a:pt x="283" y="115"/>
                  </a:lnTo>
                  <a:lnTo>
                    <a:pt x="249" y="213"/>
                  </a:lnTo>
                  <a:lnTo>
                    <a:pt x="223" y="298"/>
                  </a:lnTo>
                  <a:lnTo>
                    <a:pt x="209" y="359"/>
                  </a:lnTo>
                  <a:lnTo>
                    <a:pt x="204" y="401"/>
                  </a:lnTo>
                  <a:lnTo>
                    <a:pt x="202" y="432"/>
                  </a:lnTo>
                  <a:lnTo>
                    <a:pt x="212" y="421"/>
                  </a:lnTo>
                  <a:lnTo>
                    <a:pt x="239" y="380"/>
                  </a:lnTo>
                  <a:lnTo>
                    <a:pt x="280" y="310"/>
                  </a:lnTo>
                  <a:lnTo>
                    <a:pt x="306" y="259"/>
                  </a:lnTo>
                  <a:lnTo>
                    <a:pt x="332" y="199"/>
                  </a:lnTo>
                  <a:lnTo>
                    <a:pt x="398" y="34"/>
                  </a:lnTo>
                  <a:lnTo>
                    <a:pt x="411" y="0"/>
                  </a:lnTo>
                  <a:lnTo>
                    <a:pt x="898" y="0"/>
                  </a:lnTo>
                  <a:close/>
                </a:path>
              </a:pathLst>
            </a:custGeom>
            <a:blipFill rotWithShape="0">
              <a:blip r:embed="rId6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2154600" y="880200"/>
              <a:ext cx="74520" cy="174240"/>
            </a:xfrm>
            <a:custGeom>
              <a:avLst/>
              <a:gdLst/>
              <a:ahLst/>
              <a:rect l="l" t="t" r="r" b="b"/>
              <a:pathLst>
                <a:path w="578" h="1497">
                  <a:moveTo>
                    <a:pt x="578" y="1497"/>
                  </a:moveTo>
                  <a:lnTo>
                    <a:pt x="578" y="1446"/>
                  </a:lnTo>
                  <a:lnTo>
                    <a:pt x="576" y="1385"/>
                  </a:lnTo>
                  <a:lnTo>
                    <a:pt x="570" y="1304"/>
                  </a:lnTo>
                  <a:lnTo>
                    <a:pt x="558" y="1206"/>
                  </a:lnTo>
                  <a:lnTo>
                    <a:pt x="539" y="1093"/>
                  </a:lnTo>
                  <a:lnTo>
                    <a:pt x="513" y="968"/>
                  </a:lnTo>
                  <a:lnTo>
                    <a:pt x="474" y="837"/>
                  </a:lnTo>
                  <a:lnTo>
                    <a:pt x="432" y="706"/>
                  </a:lnTo>
                  <a:lnTo>
                    <a:pt x="386" y="587"/>
                  </a:lnTo>
                  <a:lnTo>
                    <a:pt x="338" y="477"/>
                  </a:lnTo>
                  <a:lnTo>
                    <a:pt x="289" y="374"/>
                  </a:lnTo>
                  <a:lnTo>
                    <a:pt x="234" y="280"/>
                  </a:lnTo>
                  <a:lnTo>
                    <a:pt x="176" y="191"/>
                  </a:lnTo>
                  <a:lnTo>
                    <a:pt x="112" y="105"/>
                  </a:lnTo>
                  <a:lnTo>
                    <a:pt x="42" y="21"/>
                  </a:lnTo>
                  <a:lnTo>
                    <a:pt x="24" y="6"/>
                  </a:lnTo>
                  <a:lnTo>
                    <a:pt x="15" y="1"/>
                  </a:lnTo>
                  <a:lnTo>
                    <a:pt x="8" y="0"/>
                  </a:lnTo>
                  <a:lnTo>
                    <a:pt x="1" y="1"/>
                  </a:lnTo>
                  <a:lnTo>
                    <a:pt x="0" y="9"/>
                  </a:lnTo>
                  <a:lnTo>
                    <a:pt x="0" y="19"/>
                  </a:lnTo>
                  <a:lnTo>
                    <a:pt x="3" y="37"/>
                  </a:lnTo>
                  <a:lnTo>
                    <a:pt x="31" y="108"/>
                  </a:lnTo>
                  <a:lnTo>
                    <a:pt x="53" y="170"/>
                  </a:lnTo>
                  <a:lnTo>
                    <a:pt x="74" y="252"/>
                  </a:lnTo>
                  <a:lnTo>
                    <a:pt x="94" y="353"/>
                  </a:lnTo>
                  <a:lnTo>
                    <a:pt x="112" y="477"/>
                  </a:lnTo>
                  <a:lnTo>
                    <a:pt x="120" y="547"/>
                  </a:lnTo>
                  <a:lnTo>
                    <a:pt x="123" y="623"/>
                  </a:lnTo>
                  <a:lnTo>
                    <a:pt x="128" y="704"/>
                  </a:lnTo>
                  <a:lnTo>
                    <a:pt x="129" y="793"/>
                  </a:lnTo>
                  <a:lnTo>
                    <a:pt x="126" y="1037"/>
                  </a:lnTo>
                  <a:lnTo>
                    <a:pt x="120" y="1140"/>
                  </a:lnTo>
                  <a:lnTo>
                    <a:pt x="113" y="1245"/>
                  </a:lnTo>
                  <a:lnTo>
                    <a:pt x="112" y="1343"/>
                  </a:lnTo>
                  <a:lnTo>
                    <a:pt x="112" y="1497"/>
                  </a:lnTo>
                  <a:lnTo>
                    <a:pt x="578" y="1497"/>
                  </a:lnTo>
                  <a:close/>
                </a:path>
              </a:pathLst>
            </a:custGeom>
            <a:blipFill rotWithShape="0">
              <a:blip r:embed="rId6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2039760" y="952920"/>
              <a:ext cx="110520" cy="101880"/>
            </a:xfrm>
            <a:custGeom>
              <a:avLst/>
              <a:gdLst/>
              <a:ahLst/>
              <a:rect l="l" t="t" r="r" b="b"/>
              <a:pathLst>
                <a:path w="864" h="876">
                  <a:moveTo>
                    <a:pt x="864" y="876"/>
                  </a:moveTo>
                  <a:lnTo>
                    <a:pt x="704" y="726"/>
                  </a:lnTo>
                  <a:lnTo>
                    <a:pt x="540" y="569"/>
                  </a:lnTo>
                  <a:lnTo>
                    <a:pt x="447" y="476"/>
                  </a:lnTo>
                  <a:lnTo>
                    <a:pt x="354" y="381"/>
                  </a:lnTo>
                  <a:lnTo>
                    <a:pt x="204" y="221"/>
                  </a:lnTo>
                  <a:lnTo>
                    <a:pt x="118" y="125"/>
                  </a:lnTo>
                  <a:lnTo>
                    <a:pt x="73" y="70"/>
                  </a:lnTo>
                  <a:lnTo>
                    <a:pt x="49" y="34"/>
                  </a:lnTo>
                  <a:lnTo>
                    <a:pt x="39" y="20"/>
                  </a:lnTo>
                  <a:lnTo>
                    <a:pt x="29" y="10"/>
                  </a:lnTo>
                  <a:lnTo>
                    <a:pt x="19" y="2"/>
                  </a:lnTo>
                  <a:lnTo>
                    <a:pt x="11" y="0"/>
                  </a:lnTo>
                  <a:lnTo>
                    <a:pt x="3" y="2"/>
                  </a:lnTo>
                  <a:lnTo>
                    <a:pt x="0" y="10"/>
                  </a:lnTo>
                  <a:lnTo>
                    <a:pt x="0" y="23"/>
                  </a:lnTo>
                  <a:lnTo>
                    <a:pt x="3" y="44"/>
                  </a:lnTo>
                  <a:lnTo>
                    <a:pt x="37" y="154"/>
                  </a:lnTo>
                  <a:lnTo>
                    <a:pt x="108" y="360"/>
                  </a:lnTo>
                  <a:lnTo>
                    <a:pt x="155" y="483"/>
                  </a:lnTo>
                  <a:lnTo>
                    <a:pt x="209" y="614"/>
                  </a:lnTo>
                  <a:lnTo>
                    <a:pt x="270" y="748"/>
                  </a:lnTo>
                  <a:lnTo>
                    <a:pt x="337" y="876"/>
                  </a:lnTo>
                  <a:lnTo>
                    <a:pt x="864" y="876"/>
                  </a:lnTo>
                  <a:close/>
                </a:path>
              </a:pathLst>
            </a:custGeom>
            <a:blipFill rotWithShape="0">
              <a:blip r:embed="rId6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1972080" y="786240"/>
              <a:ext cx="177120" cy="239400"/>
            </a:xfrm>
            <a:custGeom>
              <a:avLst/>
              <a:gdLst/>
              <a:ahLst/>
              <a:rect l="l" t="t" r="r" b="b"/>
              <a:pathLst>
                <a:path w="1384" h="2062">
                  <a:moveTo>
                    <a:pt x="1384" y="1246"/>
                  </a:moveTo>
                  <a:lnTo>
                    <a:pt x="1381" y="1125"/>
                  </a:lnTo>
                  <a:lnTo>
                    <a:pt x="1366" y="998"/>
                  </a:lnTo>
                  <a:lnTo>
                    <a:pt x="1357" y="932"/>
                  </a:lnTo>
                  <a:lnTo>
                    <a:pt x="1343" y="866"/>
                  </a:lnTo>
                  <a:lnTo>
                    <a:pt x="1326" y="801"/>
                  </a:lnTo>
                  <a:lnTo>
                    <a:pt x="1306" y="736"/>
                  </a:lnTo>
                  <a:lnTo>
                    <a:pt x="1282" y="670"/>
                  </a:lnTo>
                  <a:lnTo>
                    <a:pt x="1254" y="605"/>
                  </a:lnTo>
                  <a:lnTo>
                    <a:pt x="1222" y="542"/>
                  </a:lnTo>
                  <a:lnTo>
                    <a:pt x="1188" y="481"/>
                  </a:lnTo>
                  <a:lnTo>
                    <a:pt x="1148" y="422"/>
                  </a:lnTo>
                  <a:lnTo>
                    <a:pt x="1102" y="364"/>
                  </a:lnTo>
                  <a:lnTo>
                    <a:pt x="1054" y="309"/>
                  </a:lnTo>
                  <a:lnTo>
                    <a:pt x="997" y="256"/>
                  </a:lnTo>
                  <a:lnTo>
                    <a:pt x="853" y="128"/>
                  </a:lnTo>
                  <a:lnTo>
                    <a:pt x="761" y="37"/>
                  </a:lnTo>
                  <a:lnTo>
                    <a:pt x="727" y="8"/>
                  </a:lnTo>
                  <a:lnTo>
                    <a:pt x="714" y="1"/>
                  </a:lnTo>
                  <a:lnTo>
                    <a:pt x="706" y="0"/>
                  </a:lnTo>
                  <a:lnTo>
                    <a:pt x="700" y="3"/>
                  </a:lnTo>
                  <a:lnTo>
                    <a:pt x="700" y="13"/>
                  </a:lnTo>
                  <a:lnTo>
                    <a:pt x="704" y="31"/>
                  </a:lnTo>
                  <a:lnTo>
                    <a:pt x="716" y="55"/>
                  </a:lnTo>
                  <a:lnTo>
                    <a:pt x="757" y="132"/>
                  </a:lnTo>
                  <a:lnTo>
                    <a:pt x="783" y="186"/>
                  </a:lnTo>
                  <a:lnTo>
                    <a:pt x="813" y="252"/>
                  </a:lnTo>
                  <a:lnTo>
                    <a:pt x="844" y="331"/>
                  </a:lnTo>
                  <a:lnTo>
                    <a:pt x="876" y="424"/>
                  </a:lnTo>
                  <a:lnTo>
                    <a:pt x="905" y="531"/>
                  </a:lnTo>
                  <a:lnTo>
                    <a:pt x="934" y="655"/>
                  </a:lnTo>
                  <a:lnTo>
                    <a:pt x="992" y="905"/>
                  </a:lnTo>
                  <a:lnTo>
                    <a:pt x="1047" y="1134"/>
                  </a:lnTo>
                  <a:lnTo>
                    <a:pt x="1104" y="1343"/>
                  </a:lnTo>
                  <a:lnTo>
                    <a:pt x="1167" y="1535"/>
                  </a:lnTo>
                  <a:lnTo>
                    <a:pt x="1051" y="1318"/>
                  </a:lnTo>
                  <a:lnTo>
                    <a:pt x="1002" y="1235"/>
                  </a:lnTo>
                  <a:lnTo>
                    <a:pt x="950" y="1164"/>
                  </a:lnTo>
                  <a:lnTo>
                    <a:pt x="923" y="1130"/>
                  </a:lnTo>
                  <a:lnTo>
                    <a:pt x="893" y="1099"/>
                  </a:lnTo>
                  <a:lnTo>
                    <a:pt x="860" y="1067"/>
                  </a:lnTo>
                  <a:lnTo>
                    <a:pt x="822" y="1036"/>
                  </a:lnTo>
                  <a:lnTo>
                    <a:pt x="732" y="968"/>
                  </a:lnTo>
                  <a:lnTo>
                    <a:pt x="613" y="893"/>
                  </a:lnTo>
                  <a:lnTo>
                    <a:pt x="489" y="814"/>
                  </a:lnTo>
                  <a:lnTo>
                    <a:pt x="382" y="740"/>
                  </a:lnTo>
                  <a:lnTo>
                    <a:pt x="290" y="667"/>
                  </a:lnTo>
                  <a:lnTo>
                    <a:pt x="214" y="599"/>
                  </a:lnTo>
                  <a:lnTo>
                    <a:pt x="151" y="540"/>
                  </a:lnTo>
                  <a:lnTo>
                    <a:pt x="104" y="489"/>
                  </a:lnTo>
                  <a:lnTo>
                    <a:pt x="70" y="445"/>
                  </a:lnTo>
                  <a:lnTo>
                    <a:pt x="49" y="414"/>
                  </a:lnTo>
                  <a:lnTo>
                    <a:pt x="33" y="392"/>
                  </a:lnTo>
                  <a:lnTo>
                    <a:pt x="21" y="379"/>
                  </a:lnTo>
                  <a:lnTo>
                    <a:pt x="11" y="371"/>
                  </a:lnTo>
                  <a:lnTo>
                    <a:pt x="5" y="371"/>
                  </a:lnTo>
                  <a:lnTo>
                    <a:pt x="0" y="377"/>
                  </a:lnTo>
                  <a:lnTo>
                    <a:pt x="0" y="388"/>
                  </a:lnTo>
                  <a:lnTo>
                    <a:pt x="2" y="406"/>
                  </a:lnTo>
                  <a:lnTo>
                    <a:pt x="7" y="427"/>
                  </a:lnTo>
                  <a:lnTo>
                    <a:pt x="21" y="467"/>
                  </a:lnTo>
                  <a:lnTo>
                    <a:pt x="45" y="534"/>
                  </a:lnTo>
                  <a:lnTo>
                    <a:pt x="82" y="623"/>
                  </a:lnTo>
                  <a:lnTo>
                    <a:pt x="133" y="728"/>
                  </a:lnTo>
                  <a:lnTo>
                    <a:pt x="199" y="845"/>
                  </a:lnTo>
                  <a:lnTo>
                    <a:pt x="238" y="903"/>
                  </a:lnTo>
                  <a:lnTo>
                    <a:pt x="280" y="965"/>
                  </a:lnTo>
                  <a:lnTo>
                    <a:pt x="327" y="1026"/>
                  </a:lnTo>
                  <a:lnTo>
                    <a:pt x="376" y="1086"/>
                  </a:lnTo>
                  <a:lnTo>
                    <a:pt x="432" y="1146"/>
                  </a:lnTo>
                  <a:lnTo>
                    <a:pt x="491" y="1203"/>
                  </a:lnTo>
                  <a:lnTo>
                    <a:pt x="613" y="1311"/>
                  </a:lnTo>
                  <a:lnTo>
                    <a:pt x="735" y="1418"/>
                  </a:lnTo>
                  <a:lnTo>
                    <a:pt x="856" y="1521"/>
                  </a:lnTo>
                  <a:lnTo>
                    <a:pt x="968" y="1622"/>
                  </a:lnTo>
                  <a:lnTo>
                    <a:pt x="1073" y="1720"/>
                  </a:lnTo>
                  <a:lnTo>
                    <a:pt x="1122" y="1769"/>
                  </a:lnTo>
                  <a:lnTo>
                    <a:pt x="1166" y="1819"/>
                  </a:lnTo>
                  <a:lnTo>
                    <a:pt x="1207" y="1866"/>
                  </a:lnTo>
                  <a:lnTo>
                    <a:pt x="1243" y="1915"/>
                  </a:lnTo>
                  <a:lnTo>
                    <a:pt x="1274" y="1965"/>
                  </a:lnTo>
                  <a:lnTo>
                    <a:pt x="1302" y="2014"/>
                  </a:lnTo>
                  <a:lnTo>
                    <a:pt x="1319" y="2046"/>
                  </a:lnTo>
                  <a:lnTo>
                    <a:pt x="1327" y="2056"/>
                  </a:lnTo>
                  <a:lnTo>
                    <a:pt x="1337" y="2062"/>
                  </a:lnTo>
                  <a:lnTo>
                    <a:pt x="1343" y="2059"/>
                  </a:lnTo>
                  <a:lnTo>
                    <a:pt x="1350" y="2052"/>
                  </a:lnTo>
                  <a:lnTo>
                    <a:pt x="1355" y="2032"/>
                  </a:lnTo>
                  <a:lnTo>
                    <a:pt x="1357" y="2001"/>
                  </a:lnTo>
                  <a:lnTo>
                    <a:pt x="1371" y="1722"/>
                  </a:lnTo>
                  <a:lnTo>
                    <a:pt x="1381" y="1503"/>
                  </a:lnTo>
                  <a:lnTo>
                    <a:pt x="1383" y="1379"/>
                  </a:lnTo>
                  <a:lnTo>
                    <a:pt x="1384" y="1246"/>
                  </a:lnTo>
                  <a:close/>
                </a:path>
              </a:pathLst>
            </a:custGeom>
            <a:blipFill rotWithShape="0">
              <a:blip r:embed="rId64"/>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1927080" y="738360"/>
              <a:ext cx="156600" cy="145440"/>
            </a:xfrm>
            <a:custGeom>
              <a:avLst/>
              <a:gdLst/>
              <a:ahLst/>
              <a:rect l="l" t="t" r="r" b="b"/>
              <a:pathLst>
                <a:path w="1223" h="1254">
                  <a:moveTo>
                    <a:pt x="1216" y="1191"/>
                  </a:moveTo>
                  <a:lnTo>
                    <a:pt x="1184" y="1081"/>
                  </a:lnTo>
                  <a:lnTo>
                    <a:pt x="1155" y="992"/>
                  </a:lnTo>
                  <a:lnTo>
                    <a:pt x="1115" y="891"/>
                  </a:lnTo>
                  <a:lnTo>
                    <a:pt x="1061" y="780"/>
                  </a:lnTo>
                  <a:lnTo>
                    <a:pt x="1030" y="723"/>
                  </a:lnTo>
                  <a:lnTo>
                    <a:pt x="995" y="667"/>
                  </a:lnTo>
                  <a:lnTo>
                    <a:pt x="956" y="611"/>
                  </a:lnTo>
                  <a:lnTo>
                    <a:pt x="912" y="558"/>
                  </a:lnTo>
                  <a:lnTo>
                    <a:pt x="862" y="506"/>
                  </a:lnTo>
                  <a:lnTo>
                    <a:pt x="812" y="458"/>
                  </a:lnTo>
                  <a:lnTo>
                    <a:pt x="755" y="411"/>
                  </a:lnTo>
                  <a:lnTo>
                    <a:pt x="699" y="369"/>
                  </a:lnTo>
                  <a:lnTo>
                    <a:pt x="584" y="288"/>
                  </a:lnTo>
                  <a:lnTo>
                    <a:pt x="470" y="218"/>
                  </a:lnTo>
                  <a:lnTo>
                    <a:pt x="363" y="159"/>
                  </a:lnTo>
                  <a:lnTo>
                    <a:pt x="265" y="108"/>
                  </a:lnTo>
                  <a:lnTo>
                    <a:pt x="179" y="68"/>
                  </a:lnTo>
                  <a:lnTo>
                    <a:pt x="71" y="19"/>
                  </a:lnTo>
                  <a:lnTo>
                    <a:pt x="43" y="8"/>
                  </a:lnTo>
                  <a:lnTo>
                    <a:pt x="24" y="1"/>
                  </a:lnTo>
                  <a:lnTo>
                    <a:pt x="9" y="0"/>
                  </a:lnTo>
                  <a:lnTo>
                    <a:pt x="2" y="3"/>
                  </a:lnTo>
                  <a:lnTo>
                    <a:pt x="0" y="11"/>
                  </a:lnTo>
                  <a:lnTo>
                    <a:pt x="6" y="21"/>
                  </a:lnTo>
                  <a:lnTo>
                    <a:pt x="17" y="37"/>
                  </a:lnTo>
                  <a:lnTo>
                    <a:pt x="33" y="53"/>
                  </a:lnTo>
                  <a:lnTo>
                    <a:pt x="96" y="121"/>
                  </a:lnTo>
                  <a:lnTo>
                    <a:pt x="197" y="244"/>
                  </a:lnTo>
                  <a:lnTo>
                    <a:pt x="255" y="321"/>
                  </a:lnTo>
                  <a:lnTo>
                    <a:pt x="316" y="404"/>
                  </a:lnTo>
                  <a:lnTo>
                    <a:pt x="379" y="492"/>
                  </a:lnTo>
                  <a:lnTo>
                    <a:pt x="438" y="584"/>
                  </a:lnTo>
                  <a:lnTo>
                    <a:pt x="493" y="670"/>
                  </a:lnTo>
                  <a:lnTo>
                    <a:pt x="546" y="745"/>
                  </a:lnTo>
                  <a:lnTo>
                    <a:pt x="596" y="808"/>
                  </a:lnTo>
                  <a:lnTo>
                    <a:pt x="645" y="864"/>
                  </a:lnTo>
                  <a:lnTo>
                    <a:pt x="697" y="909"/>
                  </a:lnTo>
                  <a:lnTo>
                    <a:pt x="748" y="950"/>
                  </a:lnTo>
                  <a:lnTo>
                    <a:pt x="804" y="984"/>
                  </a:lnTo>
                  <a:lnTo>
                    <a:pt x="862" y="1015"/>
                  </a:lnTo>
                  <a:lnTo>
                    <a:pt x="977" y="1075"/>
                  </a:lnTo>
                  <a:lnTo>
                    <a:pt x="1069" y="1132"/>
                  </a:lnTo>
                  <a:lnTo>
                    <a:pt x="1137" y="1183"/>
                  </a:lnTo>
                  <a:lnTo>
                    <a:pt x="1160" y="1204"/>
                  </a:lnTo>
                  <a:lnTo>
                    <a:pt x="1178" y="1225"/>
                  </a:lnTo>
                  <a:lnTo>
                    <a:pt x="1190" y="1240"/>
                  </a:lnTo>
                  <a:lnTo>
                    <a:pt x="1202" y="1251"/>
                  </a:lnTo>
                  <a:lnTo>
                    <a:pt x="1210" y="1254"/>
                  </a:lnTo>
                  <a:lnTo>
                    <a:pt x="1218" y="1253"/>
                  </a:lnTo>
                  <a:lnTo>
                    <a:pt x="1221" y="1244"/>
                  </a:lnTo>
                  <a:lnTo>
                    <a:pt x="1223" y="1233"/>
                  </a:lnTo>
                  <a:lnTo>
                    <a:pt x="1221" y="1215"/>
                  </a:lnTo>
                  <a:lnTo>
                    <a:pt x="1216" y="1191"/>
                  </a:lnTo>
                  <a:close/>
                </a:path>
              </a:pathLst>
            </a:custGeom>
            <a:blipFill rotWithShape="0">
              <a:blip r:embed="rId65"/>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1125000" y="1221120"/>
              <a:ext cx="264600" cy="214200"/>
            </a:xfrm>
            <a:custGeom>
              <a:avLst/>
              <a:gdLst/>
              <a:ahLst/>
              <a:rect l="l" t="t" r="r" b="b"/>
              <a:pathLst>
                <a:path w="2069" h="1847">
                  <a:moveTo>
                    <a:pt x="1173" y="0"/>
                  </a:moveTo>
                  <a:lnTo>
                    <a:pt x="1350" y="94"/>
                  </a:lnTo>
                  <a:lnTo>
                    <a:pt x="1345" y="101"/>
                  </a:lnTo>
                  <a:lnTo>
                    <a:pt x="1348" y="104"/>
                  </a:lnTo>
                  <a:lnTo>
                    <a:pt x="1376" y="112"/>
                  </a:lnTo>
                  <a:lnTo>
                    <a:pt x="1423" y="120"/>
                  </a:lnTo>
                  <a:lnTo>
                    <a:pt x="1434" y="122"/>
                  </a:lnTo>
                  <a:lnTo>
                    <a:pt x="1444" y="128"/>
                  </a:lnTo>
                  <a:lnTo>
                    <a:pt x="1459" y="146"/>
                  </a:lnTo>
                  <a:lnTo>
                    <a:pt x="1467" y="156"/>
                  </a:lnTo>
                  <a:lnTo>
                    <a:pt x="1476" y="162"/>
                  </a:lnTo>
                  <a:lnTo>
                    <a:pt x="1489" y="164"/>
                  </a:lnTo>
                  <a:lnTo>
                    <a:pt x="1504" y="162"/>
                  </a:lnTo>
                  <a:lnTo>
                    <a:pt x="1591" y="245"/>
                  </a:lnTo>
                  <a:lnTo>
                    <a:pt x="1591" y="296"/>
                  </a:lnTo>
                  <a:lnTo>
                    <a:pt x="1601" y="345"/>
                  </a:lnTo>
                  <a:lnTo>
                    <a:pt x="1621" y="392"/>
                  </a:lnTo>
                  <a:lnTo>
                    <a:pt x="1633" y="412"/>
                  </a:lnTo>
                  <a:lnTo>
                    <a:pt x="1648" y="432"/>
                  </a:lnTo>
                  <a:lnTo>
                    <a:pt x="1648" y="447"/>
                  </a:lnTo>
                  <a:lnTo>
                    <a:pt x="1653" y="462"/>
                  </a:lnTo>
                  <a:lnTo>
                    <a:pt x="1672" y="486"/>
                  </a:lnTo>
                  <a:lnTo>
                    <a:pt x="1684" y="588"/>
                  </a:lnTo>
                  <a:lnTo>
                    <a:pt x="1659" y="583"/>
                  </a:lnTo>
                  <a:lnTo>
                    <a:pt x="1629" y="580"/>
                  </a:lnTo>
                  <a:lnTo>
                    <a:pt x="1625" y="588"/>
                  </a:lnTo>
                  <a:lnTo>
                    <a:pt x="1625" y="598"/>
                  </a:lnTo>
                  <a:lnTo>
                    <a:pt x="1635" y="622"/>
                  </a:lnTo>
                  <a:lnTo>
                    <a:pt x="1646" y="649"/>
                  </a:lnTo>
                  <a:lnTo>
                    <a:pt x="1648" y="662"/>
                  </a:lnTo>
                  <a:lnTo>
                    <a:pt x="1648" y="675"/>
                  </a:lnTo>
                  <a:lnTo>
                    <a:pt x="1656" y="680"/>
                  </a:lnTo>
                  <a:lnTo>
                    <a:pt x="1677" y="700"/>
                  </a:lnTo>
                  <a:lnTo>
                    <a:pt x="1704" y="730"/>
                  </a:lnTo>
                  <a:lnTo>
                    <a:pt x="1706" y="748"/>
                  </a:lnTo>
                  <a:lnTo>
                    <a:pt x="1714" y="769"/>
                  </a:lnTo>
                  <a:lnTo>
                    <a:pt x="1722" y="795"/>
                  </a:lnTo>
                  <a:lnTo>
                    <a:pt x="1725" y="815"/>
                  </a:lnTo>
                  <a:lnTo>
                    <a:pt x="1727" y="824"/>
                  </a:lnTo>
                  <a:lnTo>
                    <a:pt x="1734" y="832"/>
                  </a:lnTo>
                  <a:lnTo>
                    <a:pt x="1742" y="839"/>
                  </a:lnTo>
                  <a:lnTo>
                    <a:pt x="1750" y="848"/>
                  </a:lnTo>
                  <a:lnTo>
                    <a:pt x="1750" y="1109"/>
                  </a:lnTo>
                  <a:lnTo>
                    <a:pt x="1729" y="1128"/>
                  </a:lnTo>
                  <a:lnTo>
                    <a:pt x="1714" y="1146"/>
                  </a:lnTo>
                  <a:lnTo>
                    <a:pt x="1708" y="1156"/>
                  </a:lnTo>
                  <a:lnTo>
                    <a:pt x="1706" y="1166"/>
                  </a:lnTo>
                  <a:lnTo>
                    <a:pt x="1706" y="1177"/>
                  </a:lnTo>
                  <a:lnTo>
                    <a:pt x="1709" y="1192"/>
                  </a:lnTo>
                  <a:lnTo>
                    <a:pt x="1787" y="1225"/>
                  </a:lnTo>
                  <a:lnTo>
                    <a:pt x="1798" y="1235"/>
                  </a:lnTo>
                  <a:lnTo>
                    <a:pt x="1830" y="1263"/>
                  </a:lnTo>
                  <a:lnTo>
                    <a:pt x="1844" y="1274"/>
                  </a:lnTo>
                  <a:lnTo>
                    <a:pt x="1850" y="1282"/>
                  </a:lnTo>
                  <a:lnTo>
                    <a:pt x="1852" y="1289"/>
                  </a:lnTo>
                  <a:lnTo>
                    <a:pt x="1863" y="1294"/>
                  </a:lnTo>
                  <a:lnTo>
                    <a:pt x="1921" y="1308"/>
                  </a:lnTo>
                  <a:lnTo>
                    <a:pt x="1921" y="1321"/>
                  </a:lnTo>
                  <a:lnTo>
                    <a:pt x="1926" y="1329"/>
                  </a:lnTo>
                  <a:lnTo>
                    <a:pt x="1947" y="1352"/>
                  </a:lnTo>
                  <a:lnTo>
                    <a:pt x="2007" y="1493"/>
                  </a:lnTo>
                  <a:lnTo>
                    <a:pt x="2069" y="1545"/>
                  </a:lnTo>
                  <a:lnTo>
                    <a:pt x="2049" y="1549"/>
                  </a:lnTo>
                  <a:lnTo>
                    <a:pt x="2038" y="1556"/>
                  </a:lnTo>
                  <a:lnTo>
                    <a:pt x="2033" y="1569"/>
                  </a:lnTo>
                  <a:lnTo>
                    <a:pt x="2031" y="1585"/>
                  </a:lnTo>
                  <a:lnTo>
                    <a:pt x="2039" y="1622"/>
                  </a:lnTo>
                  <a:lnTo>
                    <a:pt x="2047" y="1666"/>
                  </a:lnTo>
                  <a:lnTo>
                    <a:pt x="2059" y="1667"/>
                  </a:lnTo>
                  <a:lnTo>
                    <a:pt x="2067" y="1671"/>
                  </a:lnTo>
                  <a:lnTo>
                    <a:pt x="2069" y="1677"/>
                  </a:lnTo>
                  <a:lnTo>
                    <a:pt x="2067" y="1685"/>
                  </a:lnTo>
                  <a:lnTo>
                    <a:pt x="2038" y="1734"/>
                  </a:lnTo>
                  <a:lnTo>
                    <a:pt x="2020" y="1748"/>
                  </a:lnTo>
                  <a:lnTo>
                    <a:pt x="2002" y="1760"/>
                  </a:lnTo>
                  <a:lnTo>
                    <a:pt x="1983" y="1766"/>
                  </a:lnTo>
                  <a:lnTo>
                    <a:pt x="1960" y="1771"/>
                  </a:lnTo>
                  <a:lnTo>
                    <a:pt x="1917" y="1776"/>
                  </a:lnTo>
                  <a:lnTo>
                    <a:pt x="1871" y="1776"/>
                  </a:lnTo>
                  <a:lnTo>
                    <a:pt x="1828" y="1778"/>
                  </a:lnTo>
                  <a:lnTo>
                    <a:pt x="1785" y="1786"/>
                  </a:lnTo>
                  <a:lnTo>
                    <a:pt x="1765" y="1792"/>
                  </a:lnTo>
                  <a:lnTo>
                    <a:pt x="1747" y="1803"/>
                  </a:lnTo>
                  <a:lnTo>
                    <a:pt x="1729" y="1817"/>
                  </a:lnTo>
                  <a:lnTo>
                    <a:pt x="1716" y="1835"/>
                  </a:lnTo>
                  <a:lnTo>
                    <a:pt x="1688" y="1843"/>
                  </a:lnTo>
                  <a:lnTo>
                    <a:pt x="1661" y="1847"/>
                  </a:lnTo>
                  <a:lnTo>
                    <a:pt x="1633" y="1847"/>
                  </a:lnTo>
                  <a:lnTo>
                    <a:pt x="1603" y="1843"/>
                  </a:lnTo>
                  <a:lnTo>
                    <a:pt x="1575" y="1836"/>
                  </a:lnTo>
                  <a:lnTo>
                    <a:pt x="1549" y="1829"/>
                  </a:lnTo>
                  <a:lnTo>
                    <a:pt x="1501" y="1805"/>
                  </a:lnTo>
                  <a:lnTo>
                    <a:pt x="1489" y="1799"/>
                  </a:lnTo>
                  <a:lnTo>
                    <a:pt x="1476" y="1787"/>
                  </a:lnTo>
                  <a:lnTo>
                    <a:pt x="1445" y="1754"/>
                  </a:lnTo>
                  <a:lnTo>
                    <a:pt x="1408" y="1705"/>
                  </a:lnTo>
                  <a:lnTo>
                    <a:pt x="1402" y="1705"/>
                  </a:lnTo>
                  <a:lnTo>
                    <a:pt x="1389" y="1698"/>
                  </a:lnTo>
                  <a:lnTo>
                    <a:pt x="1345" y="1675"/>
                  </a:lnTo>
                  <a:lnTo>
                    <a:pt x="1309" y="1651"/>
                  </a:lnTo>
                  <a:lnTo>
                    <a:pt x="1301" y="1643"/>
                  </a:lnTo>
                  <a:lnTo>
                    <a:pt x="1308" y="1643"/>
                  </a:lnTo>
                  <a:lnTo>
                    <a:pt x="1301" y="1645"/>
                  </a:lnTo>
                  <a:lnTo>
                    <a:pt x="1300" y="1650"/>
                  </a:lnTo>
                  <a:lnTo>
                    <a:pt x="1300" y="1658"/>
                  </a:lnTo>
                  <a:lnTo>
                    <a:pt x="1300" y="1667"/>
                  </a:lnTo>
                  <a:lnTo>
                    <a:pt x="1295" y="1677"/>
                  </a:lnTo>
                  <a:lnTo>
                    <a:pt x="1279" y="1667"/>
                  </a:lnTo>
                  <a:lnTo>
                    <a:pt x="1261" y="1659"/>
                  </a:lnTo>
                  <a:lnTo>
                    <a:pt x="1214" y="1643"/>
                  </a:lnTo>
                  <a:lnTo>
                    <a:pt x="1193" y="1655"/>
                  </a:lnTo>
                  <a:lnTo>
                    <a:pt x="1175" y="1667"/>
                  </a:lnTo>
                  <a:lnTo>
                    <a:pt x="1153" y="1679"/>
                  </a:lnTo>
                  <a:lnTo>
                    <a:pt x="1139" y="1681"/>
                  </a:lnTo>
                  <a:lnTo>
                    <a:pt x="1125" y="1682"/>
                  </a:lnTo>
                  <a:lnTo>
                    <a:pt x="1122" y="1687"/>
                  </a:lnTo>
                  <a:lnTo>
                    <a:pt x="1120" y="1690"/>
                  </a:lnTo>
                  <a:lnTo>
                    <a:pt x="1117" y="1703"/>
                  </a:lnTo>
                  <a:lnTo>
                    <a:pt x="1115" y="1705"/>
                  </a:lnTo>
                  <a:lnTo>
                    <a:pt x="1110" y="1703"/>
                  </a:lnTo>
                  <a:lnTo>
                    <a:pt x="1086" y="1671"/>
                  </a:lnTo>
                  <a:lnTo>
                    <a:pt x="1023" y="1594"/>
                  </a:lnTo>
                  <a:lnTo>
                    <a:pt x="910" y="1577"/>
                  </a:lnTo>
                  <a:lnTo>
                    <a:pt x="840" y="1493"/>
                  </a:lnTo>
                  <a:lnTo>
                    <a:pt x="840" y="1417"/>
                  </a:lnTo>
                  <a:lnTo>
                    <a:pt x="832" y="1402"/>
                  </a:lnTo>
                  <a:lnTo>
                    <a:pt x="826" y="1397"/>
                  </a:lnTo>
                  <a:lnTo>
                    <a:pt x="818" y="1391"/>
                  </a:lnTo>
                  <a:lnTo>
                    <a:pt x="706" y="1426"/>
                  </a:lnTo>
                  <a:lnTo>
                    <a:pt x="615" y="1308"/>
                  </a:lnTo>
                  <a:lnTo>
                    <a:pt x="609" y="1284"/>
                  </a:lnTo>
                  <a:lnTo>
                    <a:pt x="599" y="1265"/>
                  </a:lnTo>
                  <a:lnTo>
                    <a:pt x="585" y="1247"/>
                  </a:lnTo>
                  <a:lnTo>
                    <a:pt x="567" y="1232"/>
                  </a:lnTo>
                  <a:lnTo>
                    <a:pt x="529" y="1203"/>
                  </a:lnTo>
                  <a:lnTo>
                    <a:pt x="513" y="1187"/>
                  </a:lnTo>
                  <a:lnTo>
                    <a:pt x="498" y="1169"/>
                  </a:lnTo>
                  <a:lnTo>
                    <a:pt x="455" y="1166"/>
                  </a:lnTo>
                  <a:lnTo>
                    <a:pt x="432" y="1162"/>
                  </a:lnTo>
                  <a:lnTo>
                    <a:pt x="421" y="1158"/>
                  </a:lnTo>
                  <a:lnTo>
                    <a:pt x="405" y="1142"/>
                  </a:lnTo>
                  <a:lnTo>
                    <a:pt x="393" y="1095"/>
                  </a:lnTo>
                  <a:lnTo>
                    <a:pt x="379" y="1085"/>
                  </a:lnTo>
                  <a:lnTo>
                    <a:pt x="364" y="1075"/>
                  </a:lnTo>
                  <a:lnTo>
                    <a:pt x="334" y="1081"/>
                  </a:lnTo>
                  <a:lnTo>
                    <a:pt x="306" y="1083"/>
                  </a:lnTo>
                  <a:lnTo>
                    <a:pt x="279" y="1079"/>
                  </a:lnTo>
                  <a:lnTo>
                    <a:pt x="251" y="1069"/>
                  </a:lnTo>
                  <a:lnTo>
                    <a:pt x="220" y="1044"/>
                  </a:lnTo>
                  <a:lnTo>
                    <a:pt x="194" y="1014"/>
                  </a:lnTo>
                  <a:lnTo>
                    <a:pt x="109" y="984"/>
                  </a:lnTo>
                  <a:lnTo>
                    <a:pt x="97" y="978"/>
                  </a:lnTo>
                  <a:lnTo>
                    <a:pt x="94" y="973"/>
                  </a:lnTo>
                  <a:lnTo>
                    <a:pt x="94" y="959"/>
                  </a:lnTo>
                  <a:lnTo>
                    <a:pt x="94" y="952"/>
                  </a:lnTo>
                  <a:lnTo>
                    <a:pt x="87" y="947"/>
                  </a:lnTo>
                  <a:lnTo>
                    <a:pt x="76" y="945"/>
                  </a:lnTo>
                  <a:lnTo>
                    <a:pt x="54" y="943"/>
                  </a:lnTo>
                  <a:lnTo>
                    <a:pt x="38" y="933"/>
                  </a:lnTo>
                  <a:lnTo>
                    <a:pt x="23" y="920"/>
                  </a:lnTo>
                  <a:lnTo>
                    <a:pt x="8" y="903"/>
                  </a:lnTo>
                  <a:lnTo>
                    <a:pt x="0" y="884"/>
                  </a:lnTo>
                  <a:lnTo>
                    <a:pt x="0" y="718"/>
                  </a:lnTo>
                  <a:lnTo>
                    <a:pt x="5" y="704"/>
                  </a:lnTo>
                  <a:lnTo>
                    <a:pt x="15" y="690"/>
                  </a:lnTo>
                  <a:lnTo>
                    <a:pt x="26" y="680"/>
                  </a:lnTo>
                  <a:lnTo>
                    <a:pt x="42" y="675"/>
                  </a:lnTo>
                  <a:lnTo>
                    <a:pt x="107" y="649"/>
                  </a:lnTo>
                  <a:lnTo>
                    <a:pt x="175" y="623"/>
                  </a:lnTo>
                  <a:lnTo>
                    <a:pt x="178" y="619"/>
                  </a:lnTo>
                  <a:lnTo>
                    <a:pt x="184" y="619"/>
                  </a:lnTo>
                  <a:lnTo>
                    <a:pt x="196" y="627"/>
                  </a:lnTo>
                  <a:lnTo>
                    <a:pt x="209" y="639"/>
                  </a:lnTo>
                  <a:lnTo>
                    <a:pt x="215" y="643"/>
                  </a:lnTo>
                  <a:lnTo>
                    <a:pt x="225" y="645"/>
                  </a:lnTo>
                  <a:lnTo>
                    <a:pt x="271" y="623"/>
                  </a:lnTo>
                  <a:lnTo>
                    <a:pt x="316" y="572"/>
                  </a:lnTo>
                  <a:lnTo>
                    <a:pt x="453" y="572"/>
                  </a:lnTo>
                  <a:lnTo>
                    <a:pt x="460" y="578"/>
                  </a:lnTo>
                  <a:lnTo>
                    <a:pt x="463" y="588"/>
                  </a:lnTo>
                  <a:lnTo>
                    <a:pt x="465" y="598"/>
                  </a:lnTo>
                  <a:lnTo>
                    <a:pt x="468" y="609"/>
                  </a:lnTo>
                  <a:lnTo>
                    <a:pt x="484" y="614"/>
                  </a:lnTo>
                  <a:lnTo>
                    <a:pt x="523" y="617"/>
                  </a:lnTo>
                  <a:lnTo>
                    <a:pt x="577" y="623"/>
                  </a:lnTo>
                  <a:lnTo>
                    <a:pt x="581" y="619"/>
                  </a:lnTo>
                  <a:lnTo>
                    <a:pt x="583" y="612"/>
                  </a:lnTo>
                  <a:lnTo>
                    <a:pt x="585" y="601"/>
                  </a:lnTo>
                  <a:lnTo>
                    <a:pt x="589" y="598"/>
                  </a:lnTo>
                  <a:lnTo>
                    <a:pt x="594" y="596"/>
                  </a:lnTo>
                  <a:lnTo>
                    <a:pt x="607" y="598"/>
                  </a:lnTo>
                  <a:lnTo>
                    <a:pt x="622" y="596"/>
                  </a:lnTo>
                  <a:lnTo>
                    <a:pt x="640" y="594"/>
                  </a:lnTo>
                  <a:lnTo>
                    <a:pt x="656" y="594"/>
                  </a:lnTo>
                  <a:lnTo>
                    <a:pt x="683" y="588"/>
                  </a:lnTo>
                  <a:lnTo>
                    <a:pt x="714" y="583"/>
                  </a:lnTo>
                  <a:lnTo>
                    <a:pt x="766" y="578"/>
                  </a:lnTo>
                  <a:lnTo>
                    <a:pt x="792" y="574"/>
                  </a:lnTo>
                  <a:lnTo>
                    <a:pt x="814" y="564"/>
                  </a:lnTo>
                  <a:lnTo>
                    <a:pt x="835" y="552"/>
                  </a:lnTo>
                  <a:lnTo>
                    <a:pt x="858" y="531"/>
                  </a:lnTo>
                  <a:lnTo>
                    <a:pt x="853" y="381"/>
                  </a:lnTo>
                  <a:lnTo>
                    <a:pt x="859" y="373"/>
                  </a:lnTo>
                  <a:lnTo>
                    <a:pt x="869" y="357"/>
                  </a:lnTo>
                  <a:lnTo>
                    <a:pt x="885" y="331"/>
                  </a:lnTo>
                  <a:lnTo>
                    <a:pt x="900" y="222"/>
                  </a:lnTo>
                  <a:lnTo>
                    <a:pt x="1007" y="71"/>
                  </a:lnTo>
                  <a:lnTo>
                    <a:pt x="1049" y="37"/>
                  </a:lnTo>
                  <a:lnTo>
                    <a:pt x="1057" y="29"/>
                  </a:lnTo>
                  <a:lnTo>
                    <a:pt x="1054" y="39"/>
                  </a:lnTo>
                  <a:lnTo>
                    <a:pt x="1057" y="47"/>
                  </a:lnTo>
                  <a:lnTo>
                    <a:pt x="1065" y="57"/>
                  </a:lnTo>
                  <a:lnTo>
                    <a:pt x="1057" y="53"/>
                  </a:lnTo>
                  <a:lnTo>
                    <a:pt x="1054" y="49"/>
                  </a:lnTo>
                  <a:lnTo>
                    <a:pt x="1057" y="45"/>
                  </a:lnTo>
                  <a:lnTo>
                    <a:pt x="1060" y="41"/>
                  </a:lnTo>
                  <a:lnTo>
                    <a:pt x="1078" y="37"/>
                  </a:lnTo>
                  <a:lnTo>
                    <a:pt x="1104" y="33"/>
                  </a:lnTo>
                  <a:lnTo>
                    <a:pt x="1153" y="29"/>
                  </a:lnTo>
                  <a:lnTo>
                    <a:pt x="1167" y="31"/>
                  </a:lnTo>
                  <a:lnTo>
                    <a:pt x="1169" y="31"/>
                  </a:lnTo>
                  <a:lnTo>
                    <a:pt x="1169" y="33"/>
                  </a:lnTo>
                  <a:lnTo>
                    <a:pt x="1173" y="0"/>
                  </a:lnTo>
                  <a:close/>
                </a:path>
              </a:pathLst>
            </a:custGeom>
            <a:blipFill rotWithShape="0">
              <a:blip r:embed="rId66"/>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1490040" y="1176480"/>
              <a:ext cx="65520" cy="75240"/>
            </a:xfrm>
            <a:custGeom>
              <a:avLst/>
              <a:gdLst/>
              <a:ahLst/>
              <a:rect l="l" t="t" r="r" b="b"/>
              <a:pathLst>
                <a:path w="516" h="655">
                  <a:moveTo>
                    <a:pt x="288" y="12"/>
                  </a:moveTo>
                  <a:lnTo>
                    <a:pt x="322" y="67"/>
                  </a:lnTo>
                  <a:lnTo>
                    <a:pt x="342" y="93"/>
                  </a:lnTo>
                  <a:lnTo>
                    <a:pt x="364" y="116"/>
                  </a:lnTo>
                  <a:lnTo>
                    <a:pt x="387" y="136"/>
                  </a:lnTo>
                  <a:lnTo>
                    <a:pt x="413" y="150"/>
                  </a:lnTo>
                  <a:lnTo>
                    <a:pt x="440" y="160"/>
                  </a:lnTo>
                  <a:lnTo>
                    <a:pt x="472" y="163"/>
                  </a:lnTo>
                  <a:lnTo>
                    <a:pt x="494" y="192"/>
                  </a:lnTo>
                  <a:lnTo>
                    <a:pt x="508" y="221"/>
                  </a:lnTo>
                  <a:lnTo>
                    <a:pt x="516" y="250"/>
                  </a:lnTo>
                  <a:lnTo>
                    <a:pt x="516" y="283"/>
                  </a:lnTo>
                  <a:lnTo>
                    <a:pt x="512" y="314"/>
                  </a:lnTo>
                  <a:lnTo>
                    <a:pt x="504" y="347"/>
                  </a:lnTo>
                  <a:lnTo>
                    <a:pt x="490" y="377"/>
                  </a:lnTo>
                  <a:lnTo>
                    <a:pt x="472" y="409"/>
                  </a:lnTo>
                  <a:lnTo>
                    <a:pt x="450" y="436"/>
                  </a:lnTo>
                  <a:lnTo>
                    <a:pt x="427" y="464"/>
                  </a:lnTo>
                  <a:lnTo>
                    <a:pt x="401" y="487"/>
                  </a:lnTo>
                  <a:lnTo>
                    <a:pt x="372" y="508"/>
                  </a:lnTo>
                  <a:lnTo>
                    <a:pt x="343" y="525"/>
                  </a:lnTo>
                  <a:lnTo>
                    <a:pt x="314" y="539"/>
                  </a:lnTo>
                  <a:lnTo>
                    <a:pt x="285" y="547"/>
                  </a:lnTo>
                  <a:lnTo>
                    <a:pt x="257" y="548"/>
                  </a:lnTo>
                  <a:lnTo>
                    <a:pt x="217" y="582"/>
                  </a:lnTo>
                  <a:lnTo>
                    <a:pt x="170" y="613"/>
                  </a:lnTo>
                  <a:lnTo>
                    <a:pt x="118" y="642"/>
                  </a:lnTo>
                  <a:lnTo>
                    <a:pt x="97" y="649"/>
                  </a:lnTo>
                  <a:lnTo>
                    <a:pt x="76" y="655"/>
                  </a:lnTo>
                  <a:lnTo>
                    <a:pt x="54" y="655"/>
                  </a:lnTo>
                  <a:lnTo>
                    <a:pt x="42" y="652"/>
                  </a:lnTo>
                  <a:lnTo>
                    <a:pt x="32" y="644"/>
                  </a:lnTo>
                  <a:lnTo>
                    <a:pt x="22" y="631"/>
                  </a:lnTo>
                  <a:lnTo>
                    <a:pt x="14" y="616"/>
                  </a:lnTo>
                  <a:lnTo>
                    <a:pt x="5" y="582"/>
                  </a:lnTo>
                  <a:lnTo>
                    <a:pt x="0" y="558"/>
                  </a:lnTo>
                  <a:lnTo>
                    <a:pt x="30" y="519"/>
                  </a:lnTo>
                  <a:lnTo>
                    <a:pt x="60" y="472"/>
                  </a:lnTo>
                  <a:lnTo>
                    <a:pt x="87" y="422"/>
                  </a:lnTo>
                  <a:lnTo>
                    <a:pt x="107" y="377"/>
                  </a:lnTo>
                  <a:lnTo>
                    <a:pt x="126" y="341"/>
                  </a:lnTo>
                  <a:lnTo>
                    <a:pt x="150" y="310"/>
                  </a:lnTo>
                  <a:lnTo>
                    <a:pt x="204" y="255"/>
                  </a:lnTo>
                  <a:lnTo>
                    <a:pt x="228" y="226"/>
                  </a:lnTo>
                  <a:lnTo>
                    <a:pt x="238" y="211"/>
                  </a:lnTo>
                  <a:lnTo>
                    <a:pt x="243" y="195"/>
                  </a:lnTo>
                  <a:lnTo>
                    <a:pt x="249" y="176"/>
                  </a:lnTo>
                  <a:lnTo>
                    <a:pt x="251" y="156"/>
                  </a:lnTo>
                  <a:lnTo>
                    <a:pt x="251" y="134"/>
                  </a:lnTo>
                  <a:lnTo>
                    <a:pt x="247" y="108"/>
                  </a:lnTo>
                  <a:lnTo>
                    <a:pt x="247" y="67"/>
                  </a:lnTo>
                  <a:lnTo>
                    <a:pt x="231" y="50"/>
                  </a:lnTo>
                  <a:lnTo>
                    <a:pt x="228" y="37"/>
                  </a:lnTo>
                  <a:lnTo>
                    <a:pt x="225" y="24"/>
                  </a:lnTo>
                  <a:lnTo>
                    <a:pt x="233" y="22"/>
                  </a:lnTo>
                  <a:lnTo>
                    <a:pt x="241" y="17"/>
                  </a:lnTo>
                  <a:lnTo>
                    <a:pt x="249" y="14"/>
                  </a:lnTo>
                  <a:lnTo>
                    <a:pt x="257" y="12"/>
                  </a:lnTo>
                  <a:lnTo>
                    <a:pt x="259" y="6"/>
                  </a:lnTo>
                  <a:lnTo>
                    <a:pt x="269" y="0"/>
                  </a:lnTo>
                  <a:lnTo>
                    <a:pt x="279" y="1"/>
                  </a:lnTo>
                  <a:lnTo>
                    <a:pt x="288" y="12"/>
                  </a:lnTo>
                  <a:close/>
                </a:path>
              </a:pathLst>
            </a:custGeom>
            <a:blipFill rotWithShape="0">
              <a:blip r:embed="rId67"/>
              <a:srcRect/>
              <a:stretch/>
            </a:blip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17" name=""/>
            <p:cNvSpPr/>
            <p:nvPr/>
          </p:nvSpPr>
          <p:spPr>
            <a:xfrm>
              <a:off x="1795680" y="1372320"/>
              <a:ext cx="36000" cy="59040"/>
            </a:xfrm>
            <a:custGeom>
              <a:avLst/>
              <a:gdLst/>
              <a:ahLst/>
              <a:rect l="l" t="t" r="r" b="b"/>
              <a:pathLst>
                <a:path w="280" h="513">
                  <a:moveTo>
                    <a:pt x="76" y="0"/>
                  </a:moveTo>
                  <a:lnTo>
                    <a:pt x="90" y="2"/>
                  </a:lnTo>
                  <a:lnTo>
                    <a:pt x="107" y="8"/>
                  </a:lnTo>
                  <a:lnTo>
                    <a:pt x="134" y="22"/>
                  </a:lnTo>
                  <a:lnTo>
                    <a:pt x="162" y="38"/>
                  </a:lnTo>
                  <a:lnTo>
                    <a:pt x="178" y="41"/>
                  </a:lnTo>
                  <a:lnTo>
                    <a:pt x="193" y="44"/>
                  </a:lnTo>
                  <a:lnTo>
                    <a:pt x="207" y="69"/>
                  </a:lnTo>
                  <a:lnTo>
                    <a:pt x="231" y="96"/>
                  </a:lnTo>
                  <a:lnTo>
                    <a:pt x="252" y="125"/>
                  </a:lnTo>
                  <a:lnTo>
                    <a:pt x="268" y="148"/>
                  </a:lnTo>
                  <a:lnTo>
                    <a:pt x="274" y="167"/>
                  </a:lnTo>
                  <a:lnTo>
                    <a:pt x="278" y="190"/>
                  </a:lnTo>
                  <a:lnTo>
                    <a:pt x="280" y="231"/>
                  </a:lnTo>
                  <a:lnTo>
                    <a:pt x="276" y="272"/>
                  </a:lnTo>
                  <a:lnTo>
                    <a:pt x="268" y="314"/>
                  </a:lnTo>
                  <a:lnTo>
                    <a:pt x="246" y="399"/>
                  </a:lnTo>
                  <a:lnTo>
                    <a:pt x="238" y="441"/>
                  </a:lnTo>
                  <a:lnTo>
                    <a:pt x="236" y="480"/>
                  </a:lnTo>
                  <a:lnTo>
                    <a:pt x="205" y="513"/>
                  </a:lnTo>
                  <a:lnTo>
                    <a:pt x="178" y="512"/>
                  </a:lnTo>
                  <a:lnTo>
                    <a:pt x="152" y="505"/>
                  </a:lnTo>
                  <a:lnTo>
                    <a:pt x="130" y="496"/>
                  </a:lnTo>
                  <a:lnTo>
                    <a:pt x="108" y="483"/>
                  </a:lnTo>
                  <a:lnTo>
                    <a:pt x="90" y="468"/>
                  </a:lnTo>
                  <a:lnTo>
                    <a:pt x="73" y="450"/>
                  </a:lnTo>
                  <a:lnTo>
                    <a:pt x="58" y="431"/>
                  </a:lnTo>
                  <a:lnTo>
                    <a:pt x="45" y="408"/>
                  </a:lnTo>
                  <a:lnTo>
                    <a:pt x="26" y="361"/>
                  </a:lnTo>
                  <a:lnTo>
                    <a:pt x="10" y="310"/>
                  </a:lnTo>
                  <a:lnTo>
                    <a:pt x="2" y="261"/>
                  </a:lnTo>
                  <a:lnTo>
                    <a:pt x="0" y="213"/>
                  </a:lnTo>
                  <a:lnTo>
                    <a:pt x="97" y="119"/>
                  </a:lnTo>
                  <a:lnTo>
                    <a:pt x="92" y="87"/>
                  </a:lnTo>
                  <a:lnTo>
                    <a:pt x="87" y="55"/>
                  </a:lnTo>
                  <a:lnTo>
                    <a:pt x="79" y="28"/>
                  </a:lnTo>
                  <a:lnTo>
                    <a:pt x="76" y="0"/>
                  </a:lnTo>
                  <a:close/>
                </a:path>
              </a:pathLst>
            </a:custGeom>
            <a:blipFill rotWithShape="0">
              <a:blip r:embed="rId68"/>
              <a:srcRect/>
              <a:stretch/>
            </a:blip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18" name=""/>
            <p:cNvSpPr/>
            <p:nvPr/>
          </p:nvSpPr>
          <p:spPr>
            <a:xfrm>
              <a:off x="1345680" y="1236600"/>
              <a:ext cx="20160" cy="31320"/>
            </a:xfrm>
            <a:custGeom>
              <a:avLst/>
              <a:gdLst/>
              <a:ahLst/>
              <a:rect l="l" t="t" r="r" b="b"/>
              <a:pathLst>
                <a:path w="160" h="271">
                  <a:moveTo>
                    <a:pt x="29" y="0"/>
                  </a:moveTo>
                  <a:lnTo>
                    <a:pt x="53" y="4"/>
                  </a:lnTo>
                  <a:lnTo>
                    <a:pt x="76" y="14"/>
                  </a:lnTo>
                  <a:lnTo>
                    <a:pt x="98" y="28"/>
                  </a:lnTo>
                  <a:lnTo>
                    <a:pt x="116" y="43"/>
                  </a:lnTo>
                  <a:lnTo>
                    <a:pt x="118" y="67"/>
                  </a:lnTo>
                  <a:lnTo>
                    <a:pt x="124" y="93"/>
                  </a:lnTo>
                  <a:lnTo>
                    <a:pt x="142" y="154"/>
                  </a:lnTo>
                  <a:lnTo>
                    <a:pt x="155" y="215"/>
                  </a:lnTo>
                  <a:lnTo>
                    <a:pt x="160" y="239"/>
                  </a:lnTo>
                  <a:lnTo>
                    <a:pt x="160" y="258"/>
                  </a:lnTo>
                  <a:lnTo>
                    <a:pt x="147" y="268"/>
                  </a:lnTo>
                  <a:lnTo>
                    <a:pt x="138" y="271"/>
                  </a:lnTo>
                  <a:lnTo>
                    <a:pt x="130" y="266"/>
                  </a:lnTo>
                  <a:lnTo>
                    <a:pt x="108" y="253"/>
                  </a:lnTo>
                  <a:lnTo>
                    <a:pt x="86" y="235"/>
                  </a:lnTo>
                  <a:lnTo>
                    <a:pt x="74" y="229"/>
                  </a:lnTo>
                  <a:lnTo>
                    <a:pt x="63" y="227"/>
                  </a:lnTo>
                  <a:lnTo>
                    <a:pt x="29" y="174"/>
                  </a:lnTo>
                  <a:lnTo>
                    <a:pt x="16" y="148"/>
                  </a:lnTo>
                  <a:lnTo>
                    <a:pt x="5" y="122"/>
                  </a:lnTo>
                  <a:lnTo>
                    <a:pt x="0" y="95"/>
                  </a:lnTo>
                  <a:lnTo>
                    <a:pt x="1" y="65"/>
                  </a:lnTo>
                  <a:lnTo>
                    <a:pt x="10" y="36"/>
                  </a:lnTo>
                  <a:lnTo>
                    <a:pt x="29" y="0"/>
                  </a:lnTo>
                  <a:close/>
                </a:path>
              </a:pathLst>
            </a:custGeom>
            <a:blipFill rotWithShape="0">
              <a:blip r:embed="rId69"/>
              <a:srcRect/>
              <a:stretch/>
            </a:blip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19" name=""/>
            <p:cNvSpPr/>
            <p:nvPr/>
          </p:nvSpPr>
          <p:spPr>
            <a:xfrm>
              <a:off x="1335240" y="1200600"/>
              <a:ext cx="23400" cy="26640"/>
            </a:xfrm>
            <a:custGeom>
              <a:avLst/>
              <a:gdLst/>
              <a:ahLst/>
              <a:rect l="l" t="t" r="r" b="b"/>
              <a:pathLst>
                <a:path w="182" h="229">
                  <a:moveTo>
                    <a:pt x="86" y="225"/>
                  </a:moveTo>
                  <a:lnTo>
                    <a:pt x="113" y="221"/>
                  </a:lnTo>
                  <a:lnTo>
                    <a:pt x="136" y="211"/>
                  </a:lnTo>
                  <a:lnTo>
                    <a:pt x="159" y="195"/>
                  </a:lnTo>
                  <a:lnTo>
                    <a:pt x="182" y="174"/>
                  </a:lnTo>
                  <a:lnTo>
                    <a:pt x="167" y="119"/>
                  </a:lnTo>
                  <a:lnTo>
                    <a:pt x="162" y="87"/>
                  </a:lnTo>
                  <a:lnTo>
                    <a:pt x="160" y="56"/>
                  </a:lnTo>
                  <a:lnTo>
                    <a:pt x="141" y="28"/>
                  </a:lnTo>
                  <a:lnTo>
                    <a:pt x="131" y="12"/>
                  </a:lnTo>
                  <a:lnTo>
                    <a:pt x="128" y="0"/>
                  </a:lnTo>
                  <a:lnTo>
                    <a:pt x="86" y="0"/>
                  </a:lnTo>
                  <a:lnTo>
                    <a:pt x="54" y="33"/>
                  </a:lnTo>
                  <a:lnTo>
                    <a:pt x="54" y="119"/>
                  </a:lnTo>
                  <a:lnTo>
                    <a:pt x="38" y="140"/>
                  </a:lnTo>
                  <a:lnTo>
                    <a:pt x="23" y="168"/>
                  </a:lnTo>
                  <a:lnTo>
                    <a:pt x="0" y="216"/>
                  </a:lnTo>
                  <a:lnTo>
                    <a:pt x="10" y="219"/>
                  </a:lnTo>
                  <a:lnTo>
                    <a:pt x="26" y="225"/>
                  </a:lnTo>
                  <a:lnTo>
                    <a:pt x="50" y="229"/>
                  </a:lnTo>
                  <a:lnTo>
                    <a:pt x="86" y="225"/>
                  </a:lnTo>
                  <a:close/>
                </a:path>
              </a:pathLst>
            </a:custGeom>
            <a:blipFill rotWithShape="0">
              <a:blip r:embed="rId70"/>
              <a:srcRect/>
              <a:stretch/>
            </a:blip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120" name=""/>
            <p:cNvSpPr/>
            <p:nvPr/>
          </p:nvSpPr>
          <p:spPr>
            <a:xfrm>
              <a:off x="1536480" y="1270080"/>
              <a:ext cx="22320" cy="23760"/>
            </a:xfrm>
            <a:custGeom>
              <a:avLst/>
              <a:gdLst/>
              <a:ahLst/>
              <a:rect l="l" t="t" r="r" b="b"/>
              <a:pathLst>
                <a:path w="180" h="203">
                  <a:moveTo>
                    <a:pt x="20" y="203"/>
                  </a:moveTo>
                  <a:lnTo>
                    <a:pt x="8" y="182"/>
                  </a:lnTo>
                  <a:lnTo>
                    <a:pt x="2" y="159"/>
                  </a:lnTo>
                  <a:lnTo>
                    <a:pt x="0" y="136"/>
                  </a:lnTo>
                  <a:lnTo>
                    <a:pt x="0" y="107"/>
                  </a:lnTo>
                  <a:lnTo>
                    <a:pt x="16" y="93"/>
                  </a:lnTo>
                  <a:lnTo>
                    <a:pt x="26" y="89"/>
                  </a:lnTo>
                  <a:lnTo>
                    <a:pt x="42" y="86"/>
                  </a:lnTo>
                  <a:lnTo>
                    <a:pt x="60" y="63"/>
                  </a:lnTo>
                  <a:lnTo>
                    <a:pt x="80" y="39"/>
                  </a:lnTo>
                  <a:lnTo>
                    <a:pt x="117" y="0"/>
                  </a:lnTo>
                  <a:lnTo>
                    <a:pt x="133" y="5"/>
                  </a:lnTo>
                  <a:lnTo>
                    <a:pt x="151" y="10"/>
                  </a:lnTo>
                  <a:lnTo>
                    <a:pt x="153" y="23"/>
                  </a:lnTo>
                  <a:lnTo>
                    <a:pt x="157" y="36"/>
                  </a:lnTo>
                  <a:lnTo>
                    <a:pt x="162" y="46"/>
                  </a:lnTo>
                  <a:lnTo>
                    <a:pt x="172" y="54"/>
                  </a:lnTo>
                  <a:lnTo>
                    <a:pt x="177" y="102"/>
                  </a:lnTo>
                  <a:lnTo>
                    <a:pt x="180" y="150"/>
                  </a:lnTo>
                  <a:lnTo>
                    <a:pt x="170" y="159"/>
                  </a:lnTo>
                  <a:lnTo>
                    <a:pt x="159" y="172"/>
                  </a:lnTo>
                  <a:lnTo>
                    <a:pt x="145" y="180"/>
                  </a:lnTo>
                  <a:lnTo>
                    <a:pt x="128" y="183"/>
                  </a:lnTo>
                  <a:lnTo>
                    <a:pt x="127" y="152"/>
                  </a:lnTo>
                  <a:lnTo>
                    <a:pt x="123" y="136"/>
                  </a:lnTo>
                  <a:lnTo>
                    <a:pt x="121" y="130"/>
                  </a:lnTo>
                  <a:lnTo>
                    <a:pt x="117" y="128"/>
                  </a:lnTo>
                  <a:lnTo>
                    <a:pt x="96" y="128"/>
                  </a:lnTo>
                  <a:lnTo>
                    <a:pt x="91" y="132"/>
                  </a:lnTo>
                  <a:lnTo>
                    <a:pt x="86" y="138"/>
                  </a:lnTo>
                  <a:lnTo>
                    <a:pt x="76" y="162"/>
                  </a:lnTo>
                  <a:lnTo>
                    <a:pt x="64" y="203"/>
                  </a:lnTo>
                  <a:lnTo>
                    <a:pt x="38" y="199"/>
                  </a:lnTo>
                  <a:lnTo>
                    <a:pt x="28" y="199"/>
                  </a:lnTo>
                  <a:lnTo>
                    <a:pt x="20" y="203"/>
                  </a:lnTo>
                  <a:close/>
                </a:path>
              </a:pathLst>
            </a:custGeom>
            <a:blipFill rotWithShape="0">
              <a:blip r:embed="rId71"/>
              <a:srcRect/>
              <a:stretch/>
            </a:blip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21" name=""/>
            <p:cNvSpPr/>
            <p:nvPr/>
          </p:nvSpPr>
          <p:spPr>
            <a:xfrm>
              <a:off x="1749600" y="1035360"/>
              <a:ext cx="36720" cy="47160"/>
            </a:xfrm>
            <a:custGeom>
              <a:avLst/>
              <a:gdLst/>
              <a:ahLst/>
              <a:rect l="l" t="t" r="r" b="b"/>
              <a:pathLst>
                <a:path w="289" h="408">
                  <a:moveTo>
                    <a:pt x="33" y="394"/>
                  </a:moveTo>
                  <a:lnTo>
                    <a:pt x="132" y="335"/>
                  </a:lnTo>
                  <a:lnTo>
                    <a:pt x="183" y="299"/>
                  </a:lnTo>
                  <a:lnTo>
                    <a:pt x="225" y="265"/>
                  </a:lnTo>
                  <a:lnTo>
                    <a:pt x="221" y="249"/>
                  </a:lnTo>
                  <a:lnTo>
                    <a:pt x="215" y="231"/>
                  </a:lnTo>
                  <a:lnTo>
                    <a:pt x="205" y="202"/>
                  </a:lnTo>
                  <a:lnTo>
                    <a:pt x="268" y="202"/>
                  </a:lnTo>
                  <a:lnTo>
                    <a:pt x="289" y="181"/>
                  </a:lnTo>
                  <a:lnTo>
                    <a:pt x="286" y="152"/>
                  </a:lnTo>
                  <a:lnTo>
                    <a:pt x="273" y="124"/>
                  </a:lnTo>
                  <a:lnTo>
                    <a:pt x="258" y="98"/>
                  </a:lnTo>
                  <a:lnTo>
                    <a:pt x="236" y="74"/>
                  </a:lnTo>
                  <a:lnTo>
                    <a:pt x="231" y="37"/>
                  </a:lnTo>
                  <a:lnTo>
                    <a:pt x="225" y="0"/>
                  </a:lnTo>
                  <a:lnTo>
                    <a:pt x="205" y="1"/>
                  </a:lnTo>
                  <a:lnTo>
                    <a:pt x="189" y="3"/>
                  </a:lnTo>
                  <a:lnTo>
                    <a:pt x="177" y="9"/>
                  </a:lnTo>
                  <a:lnTo>
                    <a:pt x="165" y="17"/>
                  </a:lnTo>
                  <a:lnTo>
                    <a:pt x="147" y="37"/>
                  </a:lnTo>
                  <a:lnTo>
                    <a:pt x="137" y="58"/>
                  </a:lnTo>
                  <a:lnTo>
                    <a:pt x="124" y="112"/>
                  </a:lnTo>
                  <a:lnTo>
                    <a:pt x="118" y="137"/>
                  </a:lnTo>
                  <a:lnTo>
                    <a:pt x="108" y="160"/>
                  </a:lnTo>
                  <a:lnTo>
                    <a:pt x="96" y="169"/>
                  </a:lnTo>
                  <a:lnTo>
                    <a:pt x="84" y="177"/>
                  </a:lnTo>
                  <a:lnTo>
                    <a:pt x="69" y="187"/>
                  </a:lnTo>
                  <a:lnTo>
                    <a:pt x="53" y="195"/>
                  </a:lnTo>
                  <a:lnTo>
                    <a:pt x="43" y="202"/>
                  </a:lnTo>
                  <a:lnTo>
                    <a:pt x="47" y="262"/>
                  </a:lnTo>
                  <a:lnTo>
                    <a:pt x="53" y="322"/>
                  </a:lnTo>
                  <a:lnTo>
                    <a:pt x="27" y="335"/>
                  </a:lnTo>
                  <a:lnTo>
                    <a:pt x="9" y="351"/>
                  </a:lnTo>
                  <a:lnTo>
                    <a:pt x="1" y="372"/>
                  </a:lnTo>
                  <a:lnTo>
                    <a:pt x="0" y="406"/>
                  </a:lnTo>
                  <a:lnTo>
                    <a:pt x="43" y="408"/>
                  </a:lnTo>
                  <a:lnTo>
                    <a:pt x="53" y="408"/>
                  </a:lnTo>
                  <a:lnTo>
                    <a:pt x="55" y="406"/>
                  </a:lnTo>
                  <a:lnTo>
                    <a:pt x="48" y="401"/>
                  </a:lnTo>
                  <a:lnTo>
                    <a:pt x="33" y="394"/>
                  </a:lnTo>
                  <a:close/>
                </a:path>
              </a:pathLst>
            </a:custGeom>
            <a:blipFill rotWithShape="0">
              <a:blip r:embed="rId72"/>
              <a:srcRect/>
              <a:stretch/>
            </a:blip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122" name=""/>
            <p:cNvSpPr/>
            <p:nvPr/>
          </p:nvSpPr>
          <p:spPr>
            <a:xfrm>
              <a:off x="1604880" y="790920"/>
              <a:ext cx="57240" cy="19440"/>
            </a:xfrm>
            <a:custGeom>
              <a:avLst/>
              <a:gdLst/>
              <a:ahLst/>
              <a:rect l="l" t="t" r="r" b="b"/>
              <a:pathLst>
                <a:path w="443" h="168">
                  <a:moveTo>
                    <a:pt x="112" y="19"/>
                  </a:moveTo>
                  <a:lnTo>
                    <a:pt x="394" y="3"/>
                  </a:lnTo>
                  <a:lnTo>
                    <a:pt x="426" y="34"/>
                  </a:lnTo>
                  <a:lnTo>
                    <a:pt x="438" y="50"/>
                  </a:lnTo>
                  <a:lnTo>
                    <a:pt x="442" y="60"/>
                  </a:lnTo>
                  <a:lnTo>
                    <a:pt x="443" y="72"/>
                  </a:lnTo>
                  <a:lnTo>
                    <a:pt x="414" y="94"/>
                  </a:lnTo>
                  <a:lnTo>
                    <a:pt x="380" y="112"/>
                  </a:lnTo>
                  <a:lnTo>
                    <a:pt x="343" y="121"/>
                  </a:lnTo>
                  <a:lnTo>
                    <a:pt x="304" y="126"/>
                  </a:lnTo>
                  <a:lnTo>
                    <a:pt x="289" y="137"/>
                  </a:lnTo>
                  <a:lnTo>
                    <a:pt x="276" y="145"/>
                  </a:lnTo>
                  <a:lnTo>
                    <a:pt x="242" y="159"/>
                  </a:lnTo>
                  <a:lnTo>
                    <a:pt x="202" y="167"/>
                  </a:lnTo>
                  <a:lnTo>
                    <a:pt x="163" y="168"/>
                  </a:lnTo>
                  <a:lnTo>
                    <a:pt x="79" y="168"/>
                  </a:lnTo>
                  <a:lnTo>
                    <a:pt x="6" y="165"/>
                  </a:lnTo>
                  <a:lnTo>
                    <a:pt x="1" y="133"/>
                  </a:lnTo>
                  <a:lnTo>
                    <a:pt x="0" y="110"/>
                  </a:lnTo>
                  <a:lnTo>
                    <a:pt x="0" y="87"/>
                  </a:lnTo>
                  <a:lnTo>
                    <a:pt x="9" y="60"/>
                  </a:lnTo>
                  <a:lnTo>
                    <a:pt x="8" y="60"/>
                  </a:lnTo>
                  <a:lnTo>
                    <a:pt x="9" y="58"/>
                  </a:lnTo>
                  <a:lnTo>
                    <a:pt x="25" y="47"/>
                  </a:lnTo>
                  <a:lnTo>
                    <a:pt x="76" y="16"/>
                  </a:lnTo>
                  <a:lnTo>
                    <a:pt x="100" y="5"/>
                  </a:lnTo>
                  <a:lnTo>
                    <a:pt x="118" y="0"/>
                  </a:lnTo>
                  <a:lnTo>
                    <a:pt x="124" y="0"/>
                  </a:lnTo>
                  <a:lnTo>
                    <a:pt x="124" y="3"/>
                  </a:lnTo>
                  <a:lnTo>
                    <a:pt x="112" y="19"/>
                  </a:lnTo>
                  <a:close/>
                </a:path>
              </a:pathLst>
            </a:custGeom>
            <a:blipFill rotWithShape="0">
              <a:blip r:embed="rId73"/>
              <a:srcRect/>
              <a:stretch/>
            </a:blip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23" name=""/>
            <p:cNvSpPr/>
            <p:nvPr/>
          </p:nvSpPr>
          <p:spPr>
            <a:xfrm>
              <a:off x="1574280" y="798480"/>
              <a:ext cx="43920" cy="31320"/>
            </a:xfrm>
            <a:custGeom>
              <a:avLst/>
              <a:gdLst/>
              <a:ahLst/>
              <a:rect l="l" t="t" r="r" b="b"/>
              <a:pathLst>
                <a:path w="347" h="264">
                  <a:moveTo>
                    <a:pt x="145" y="16"/>
                  </a:moveTo>
                  <a:lnTo>
                    <a:pt x="108" y="24"/>
                  </a:lnTo>
                  <a:lnTo>
                    <a:pt x="67" y="30"/>
                  </a:lnTo>
                  <a:lnTo>
                    <a:pt x="29" y="39"/>
                  </a:lnTo>
                  <a:lnTo>
                    <a:pt x="14" y="49"/>
                  </a:lnTo>
                  <a:lnTo>
                    <a:pt x="0" y="60"/>
                  </a:lnTo>
                  <a:lnTo>
                    <a:pt x="24" y="151"/>
                  </a:lnTo>
                  <a:lnTo>
                    <a:pt x="32" y="172"/>
                  </a:lnTo>
                  <a:lnTo>
                    <a:pt x="47" y="185"/>
                  </a:lnTo>
                  <a:lnTo>
                    <a:pt x="67" y="198"/>
                  </a:lnTo>
                  <a:lnTo>
                    <a:pt x="92" y="206"/>
                  </a:lnTo>
                  <a:lnTo>
                    <a:pt x="150" y="214"/>
                  </a:lnTo>
                  <a:lnTo>
                    <a:pt x="209" y="221"/>
                  </a:lnTo>
                  <a:lnTo>
                    <a:pt x="211" y="223"/>
                  </a:lnTo>
                  <a:lnTo>
                    <a:pt x="211" y="229"/>
                  </a:lnTo>
                  <a:lnTo>
                    <a:pt x="211" y="245"/>
                  </a:lnTo>
                  <a:lnTo>
                    <a:pt x="213" y="254"/>
                  </a:lnTo>
                  <a:lnTo>
                    <a:pt x="215" y="261"/>
                  </a:lnTo>
                  <a:lnTo>
                    <a:pt x="223" y="264"/>
                  </a:lnTo>
                  <a:lnTo>
                    <a:pt x="234" y="263"/>
                  </a:lnTo>
                  <a:lnTo>
                    <a:pt x="347" y="237"/>
                  </a:lnTo>
                  <a:lnTo>
                    <a:pt x="315" y="214"/>
                  </a:lnTo>
                  <a:lnTo>
                    <a:pt x="280" y="185"/>
                  </a:lnTo>
                  <a:lnTo>
                    <a:pt x="265" y="170"/>
                  </a:lnTo>
                  <a:lnTo>
                    <a:pt x="250" y="152"/>
                  </a:lnTo>
                  <a:lnTo>
                    <a:pt x="242" y="134"/>
                  </a:lnTo>
                  <a:lnTo>
                    <a:pt x="241" y="112"/>
                  </a:lnTo>
                  <a:lnTo>
                    <a:pt x="249" y="0"/>
                  </a:lnTo>
                  <a:lnTo>
                    <a:pt x="221" y="2"/>
                  </a:lnTo>
                  <a:lnTo>
                    <a:pt x="191" y="8"/>
                  </a:lnTo>
                  <a:lnTo>
                    <a:pt x="145" y="16"/>
                  </a:lnTo>
                  <a:close/>
                </a:path>
              </a:pathLst>
            </a:custGeom>
            <a:blipFill rotWithShape="0">
              <a:blip r:embed="rId74"/>
              <a:srcRect/>
              <a:stretch/>
            </a:blip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24" name=""/>
            <p:cNvSpPr/>
            <p:nvPr/>
          </p:nvSpPr>
          <p:spPr>
            <a:xfrm>
              <a:off x="1647000" y="867240"/>
              <a:ext cx="18360" cy="14400"/>
            </a:xfrm>
            <a:custGeom>
              <a:avLst/>
              <a:gdLst/>
              <a:ahLst/>
              <a:rect l="l" t="t" r="r" b="b"/>
              <a:pathLst>
                <a:path w="143" h="128">
                  <a:moveTo>
                    <a:pt x="77" y="0"/>
                  </a:moveTo>
                  <a:lnTo>
                    <a:pt x="87" y="18"/>
                  </a:lnTo>
                  <a:lnTo>
                    <a:pt x="104" y="36"/>
                  </a:lnTo>
                  <a:lnTo>
                    <a:pt x="143" y="70"/>
                  </a:lnTo>
                  <a:lnTo>
                    <a:pt x="117" y="128"/>
                  </a:lnTo>
                  <a:lnTo>
                    <a:pt x="73" y="125"/>
                  </a:lnTo>
                  <a:lnTo>
                    <a:pt x="51" y="115"/>
                  </a:lnTo>
                  <a:lnTo>
                    <a:pt x="38" y="99"/>
                  </a:lnTo>
                  <a:lnTo>
                    <a:pt x="10" y="65"/>
                  </a:lnTo>
                  <a:lnTo>
                    <a:pt x="2" y="38"/>
                  </a:lnTo>
                  <a:lnTo>
                    <a:pt x="0" y="22"/>
                  </a:lnTo>
                  <a:lnTo>
                    <a:pt x="2" y="16"/>
                  </a:lnTo>
                  <a:lnTo>
                    <a:pt x="6" y="10"/>
                  </a:lnTo>
                  <a:lnTo>
                    <a:pt x="10" y="6"/>
                  </a:lnTo>
                  <a:lnTo>
                    <a:pt x="20" y="4"/>
                  </a:lnTo>
                  <a:lnTo>
                    <a:pt x="39" y="4"/>
                  </a:lnTo>
                  <a:lnTo>
                    <a:pt x="62" y="4"/>
                  </a:lnTo>
                  <a:lnTo>
                    <a:pt x="77" y="0"/>
                  </a:lnTo>
                  <a:close/>
                </a:path>
              </a:pathLst>
            </a:custGeom>
            <a:blipFill rotWithShape="0">
              <a:blip r:embed="rId75"/>
              <a:srcRect/>
              <a:stretch/>
            </a:blip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5" name=""/>
            <p:cNvSpPr/>
            <p:nvPr/>
          </p:nvSpPr>
          <p:spPr>
            <a:xfrm>
              <a:off x="1631520" y="883080"/>
              <a:ext cx="12240" cy="13680"/>
            </a:xfrm>
            <a:custGeom>
              <a:avLst/>
              <a:gdLst/>
              <a:ahLst/>
              <a:rect l="l" t="t" r="r" b="b"/>
              <a:pathLst>
                <a:path w="95" h="123">
                  <a:moveTo>
                    <a:pt x="72" y="0"/>
                  </a:moveTo>
                  <a:lnTo>
                    <a:pt x="77" y="16"/>
                  </a:lnTo>
                  <a:lnTo>
                    <a:pt x="79" y="28"/>
                  </a:lnTo>
                  <a:lnTo>
                    <a:pt x="82" y="42"/>
                  </a:lnTo>
                  <a:lnTo>
                    <a:pt x="95" y="55"/>
                  </a:lnTo>
                  <a:lnTo>
                    <a:pt x="90" y="123"/>
                  </a:lnTo>
                  <a:lnTo>
                    <a:pt x="53" y="123"/>
                  </a:lnTo>
                  <a:lnTo>
                    <a:pt x="41" y="117"/>
                  </a:lnTo>
                  <a:lnTo>
                    <a:pt x="33" y="108"/>
                  </a:lnTo>
                  <a:lnTo>
                    <a:pt x="22" y="84"/>
                  </a:lnTo>
                  <a:lnTo>
                    <a:pt x="11" y="58"/>
                  </a:lnTo>
                  <a:lnTo>
                    <a:pt x="6" y="45"/>
                  </a:lnTo>
                  <a:lnTo>
                    <a:pt x="0" y="36"/>
                  </a:lnTo>
                  <a:lnTo>
                    <a:pt x="1" y="30"/>
                  </a:lnTo>
                  <a:lnTo>
                    <a:pt x="8" y="24"/>
                  </a:lnTo>
                  <a:lnTo>
                    <a:pt x="27" y="18"/>
                  </a:lnTo>
                  <a:lnTo>
                    <a:pt x="51" y="13"/>
                  </a:lnTo>
                  <a:lnTo>
                    <a:pt x="63" y="8"/>
                  </a:lnTo>
                  <a:lnTo>
                    <a:pt x="72" y="0"/>
                  </a:lnTo>
                  <a:close/>
                </a:path>
              </a:pathLst>
            </a:custGeom>
            <a:blipFill rotWithShape="0">
              <a:blip r:embed="rId76"/>
              <a:srcRect/>
              <a:stretch/>
            </a:blip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26" name=""/>
            <p:cNvSpPr/>
            <p:nvPr/>
          </p:nvSpPr>
          <p:spPr>
            <a:xfrm>
              <a:off x="1623600" y="863640"/>
              <a:ext cx="19080" cy="17640"/>
            </a:xfrm>
            <a:custGeom>
              <a:avLst/>
              <a:gdLst/>
              <a:ahLst/>
              <a:rect l="l" t="t" r="r" b="b"/>
              <a:pathLst>
                <a:path w="150" h="147">
                  <a:moveTo>
                    <a:pt x="89" y="0"/>
                  </a:moveTo>
                  <a:lnTo>
                    <a:pt x="92" y="6"/>
                  </a:lnTo>
                  <a:lnTo>
                    <a:pt x="98" y="11"/>
                  </a:lnTo>
                  <a:lnTo>
                    <a:pt x="114" y="16"/>
                  </a:lnTo>
                  <a:lnTo>
                    <a:pt x="132" y="19"/>
                  </a:lnTo>
                  <a:lnTo>
                    <a:pt x="139" y="24"/>
                  </a:lnTo>
                  <a:lnTo>
                    <a:pt x="150" y="29"/>
                  </a:lnTo>
                  <a:lnTo>
                    <a:pt x="139" y="84"/>
                  </a:lnTo>
                  <a:lnTo>
                    <a:pt x="98" y="89"/>
                  </a:lnTo>
                  <a:lnTo>
                    <a:pt x="92" y="147"/>
                  </a:lnTo>
                  <a:lnTo>
                    <a:pt x="11" y="147"/>
                  </a:lnTo>
                  <a:lnTo>
                    <a:pt x="1" y="144"/>
                  </a:lnTo>
                  <a:lnTo>
                    <a:pt x="0" y="137"/>
                  </a:lnTo>
                  <a:lnTo>
                    <a:pt x="6" y="124"/>
                  </a:lnTo>
                  <a:lnTo>
                    <a:pt x="11" y="108"/>
                  </a:lnTo>
                  <a:lnTo>
                    <a:pt x="11" y="98"/>
                  </a:lnTo>
                  <a:lnTo>
                    <a:pt x="8" y="90"/>
                  </a:lnTo>
                  <a:lnTo>
                    <a:pt x="8" y="87"/>
                  </a:lnTo>
                  <a:lnTo>
                    <a:pt x="11" y="84"/>
                  </a:lnTo>
                  <a:lnTo>
                    <a:pt x="24" y="81"/>
                  </a:lnTo>
                  <a:lnTo>
                    <a:pt x="37" y="74"/>
                  </a:lnTo>
                  <a:lnTo>
                    <a:pt x="43" y="69"/>
                  </a:lnTo>
                  <a:lnTo>
                    <a:pt x="51" y="61"/>
                  </a:lnTo>
                  <a:lnTo>
                    <a:pt x="69" y="27"/>
                  </a:lnTo>
                  <a:lnTo>
                    <a:pt x="89" y="0"/>
                  </a:lnTo>
                  <a:close/>
                </a:path>
              </a:pathLst>
            </a:custGeom>
            <a:blipFill rotWithShape="0">
              <a:blip r:embed="rId77"/>
              <a:srcRect/>
              <a:stretch/>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27" name=""/>
            <p:cNvSpPr/>
            <p:nvPr/>
          </p:nvSpPr>
          <p:spPr>
            <a:xfrm>
              <a:off x="1636920" y="771840"/>
              <a:ext cx="12960" cy="10800"/>
            </a:xfrm>
            <a:custGeom>
              <a:avLst/>
              <a:gdLst/>
              <a:ahLst/>
              <a:rect l="l" t="t" r="r" b="b"/>
              <a:pathLst>
                <a:path w="103" h="103">
                  <a:moveTo>
                    <a:pt x="54" y="0"/>
                  </a:moveTo>
                  <a:lnTo>
                    <a:pt x="72" y="18"/>
                  </a:lnTo>
                  <a:lnTo>
                    <a:pt x="81" y="34"/>
                  </a:lnTo>
                  <a:lnTo>
                    <a:pt x="87" y="50"/>
                  </a:lnTo>
                  <a:lnTo>
                    <a:pt x="89" y="61"/>
                  </a:lnTo>
                  <a:lnTo>
                    <a:pt x="89" y="81"/>
                  </a:lnTo>
                  <a:lnTo>
                    <a:pt x="93" y="85"/>
                  </a:lnTo>
                  <a:lnTo>
                    <a:pt x="103" y="87"/>
                  </a:lnTo>
                  <a:lnTo>
                    <a:pt x="77" y="97"/>
                  </a:lnTo>
                  <a:lnTo>
                    <a:pt x="51" y="103"/>
                  </a:lnTo>
                  <a:lnTo>
                    <a:pt x="38" y="103"/>
                  </a:lnTo>
                  <a:lnTo>
                    <a:pt x="23" y="99"/>
                  </a:lnTo>
                  <a:lnTo>
                    <a:pt x="12" y="93"/>
                  </a:lnTo>
                  <a:lnTo>
                    <a:pt x="0" y="84"/>
                  </a:lnTo>
                  <a:lnTo>
                    <a:pt x="20" y="36"/>
                  </a:lnTo>
                  <a:lnTo>
                    <a:pt x="38" y="8"/>
                  </a:lnTo>
                  <a:lnTo>
                    <a:pt x="46" y="0"/>
                  </a:lnTo>
                  <a:lnTo>
                    <a:pt x="54" y="0"/>
                  </a:lnTo>
                  <a:close/>
                </a:path>
              </a:pathLst>
            </a:custGeom>
            <a:blipFill rotWithShape="0">
              <a:blip r:embed="rId78"/>
              <a:srcRect/>
              <a:stretch/>
            </a:blip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8" name=""/>
            <p:cNvSpPr/>
            <p:nvPr/>
          </p:nvSpPr>
          <p:spPr>
            <a:xfrm>
              <a:off x="1656360" y="848880"/>
              <a:ext cx="258120" cy="320760"/>
            </a:xfrm>
            <a:custGeom>
              <a:avLst/>
              <a:gdLst/>
              <a:ahLst/>
              <a:rect l="l" t="t" r="r" b="b"/>
              <a:pathLst>
                <a:path w="2015" h="2763">
                  <a:moveTo>
                    <a:pt x="893" y="1365"/>
                  </a:moveTo>
                  <a:lnTo>
                    <a:pt x="880" y="1363"/>
                  </a:lnTo>
                  <a:lnTo>
                    <a:pt x="870" y="1358"/>
                  </a:lnTo>
                  <a:lnTo>
                    <a:pt x="849" y="1339"/>
                  </a:lnTo>
                  <a:lnTo>
                    <a:pt x="849" y="1309"/>
                  </a:lnTo>
                  <a:lnTo>
                    <a:pt x="847" y="1301"/>
                  </a:lnTo>
                  <a:lnTo>
                    <a:pt x="841" y="1300"/>
                  </a:lnTo>
                  <a:lnTo>
                    <a:pt x="827" y="1292"/>
                  </a:lnTo>
                  <a:lnTo>
                    <a:pt x="796" y="1262"/>
                  </a:lnTo>
                  <a:lnTo>
                    <a:pt x="781" y="1248"/>
                  </a:lnTo>
                  <a:lnTo>
                    <a:pt x="776" y="1235"/>
                  </a:lnTo>
                  <a:lnTo>
                    <a:pt x="772" y="1199"/>
                  </a:lnTo>
                  <a:lnTo>
                    <a:pt x="752" y="1181"/>
                  </a:lnTo>
                  <a:lnTo>
                    <a:pt x="734" y="1159"/>
                  </a:lnTo>
                  <a:lnTo>
                    <a:pt x="717" y="1138"/>
                  </a:lnTo>
                  <a:lnTo>
                    <a:pt x="705" y="1130"/>
                  </a:lnTo>
                  <a:lnTo>
                    <a:pt x="691" y="1122"/>
                  </a:lnTo>
                  <a:lnTo>
                    <a:pt x="663" y="1107"/>
                  </a:lnTo>
                  <a:lnTo>
                    <a:pt x="624" y="1091"/>
                  </a:lnTo>
                  <a:lnTo>
                    <a:pt x="577" y="1071"/>
                  </a:lnTo>
                  <a:lnTo>
                    <a:pt x="524" y="1045"/>
                  </a:lnTo>
                  <a:lnTo>
                    <a:pt x="466" y="1012"/>
                  </a:lnTo>
                  <a:lnTo>
                    <a:pt x="436" y="990"/>
                  </a:lnTo>
                  <a:lnTo>
                    <a:pt x="407" y="968"/>
                  </a:lnTo>
                  <a:lnTo>
                    <a:pt x="380" y="940"/>
                  </a:lnTo>
                  <a:lnTo>
                    <a:pt x="352" y="909"/>
                  </a:lnTo>
                  <a:lnTo>
                    <a:pt x="323" y="876"/>
                  </a:lnTo>
                  <a:lnTo>
                    <a:pt x="300" y="835"/>
                  </a:lnTo>
                  <a:lnTo>
                    <a:pt x="299" y="830"/>
                  </a:lnTo>
                  <a:lnTo>
                    <a:pt x="291" y="820"/>
                  </a:lnTo>
                  <a:lnTo>
                    <a:pt x="259" y="785"/>
                  </a:lnTo>
                  <a:lnTo>
                    <a:pt x="155" y="688"/>
                  </a:lnTo>
                  <a:lnTo>
                    <a:pt x="50" y="591"/>
                  </a:lnTo>
                  <a:lnTo>
                    <a:pt x="14" y="558"/>
                  </a:lnTo>
                  <a:lnTo>
                    <a:pt x="0" y="542"/>
                  </a:lnTo>
                  <a:lnTo>
                    <a:pt x="8" y="526"/>
                  </a:lnTo>
                  <a:lnTo>
                    <a:pt x="22" y="518"/>
                  </a:lnTo>
                  <a:lnTo>
                    <a:pt x="42" y="518"/>
                  </a:lnTo>
                  <a:lnTo>
                    <a:pt x="61" y="524"/>
                  </a:lnTo>
                  <a:lnTo>
                    <a:pt x="87" y="536"/>
                  </a:lnTo>
                  <a:lnTo>
                    <a:pt x="113" y="554"/>
                  </a:lnTo>
                  <a:lnTo>
                    <a:pt x="166" y="595"/>
                  </a:lnTo>
                  <a:lnTo>
                    <a:pt x="219" y="643"/>
                  </a:lnTo>
                  <a:lnTo>
                    <a:pt x="263" y="688"/>
                  </a:lnTo>
                  <a:lnTo>
                    <a:pt x="292" y="723"/>
                  </a:lnTo>
                  <a:lnTo>
                    <a:pt x="299" y="735"/>
                  </a:lnTo>
                  <a:lnTo>
                    <a:pt x="300" y="741"/>
                  </a:lnTo>
                  <a:lnTo>
                    <a:pt x="307" y="739"/>
                  </a:lnTo>
                  <a:lnTo>
                    <a:pt x="312" y="745"/>
                  </a:lnTo>
                  <a:lnTo>
                    <a:pt x="320" y="771"/>
                  </a:lnTo>
                  <a:lnTo>
                    <a:pt x="330" y="798"/>
                  </a:lnTo>
                  <a:lnTo>
                    <a:pt x="336" y="806"/>
                  </a:lnTo>
                  <a:lnTo>
                    <a:pt x="344" y="806"/>
                  </a:lnTo>
                  <a:lnTo>
                    <a:pt x="349" y="796"/>
                  </a:lnTo>
                  <a:lnTo>
                    <a:pt x="363" y="793"/>
                  </a:lnTo>
                  <a:lnTo>
                    <a:pt x="381" y="795"/>
                  </a:lnTo>
                  <a:lnTo>
                    <a:pt x="404" y="798"/>
                  </a:lnTo>
                  <a:lnTo>
                    <a:pt x="462" y="819"/>
                  </a:lnTo>
                  <a:lnTo>
                    <a:pt x="529" y="846"/>
                  </a:lnTo>
                  <a:lnTo>
                    <a:pt x="600" y="877"/>
                  </a:lnTo>
                  <a:lnTo>
                    <a:pt x="669" y="905"/>
                  </a:lnTo>
                  <a:lnTo>
                    <a:pt x="733" y="927"/>
                  </a:lnTo>
                  <a:lnTo>
                    <a:pt x="760" y="931"/>
                  </a:lnTo>
                  <a:lnTo>
                    <a:pt x="784" y="932"/>
                  </a:lnTo>
                  <a:lnTo>
                    <a:pt x="788" y="931"/>
                  </a:lnTo>
                  <a:lnTo>
                    <a:pt x="791" y="927"/>
                  </a:lnTo>
                  <a:lnTo>
                    <a:pt x="791" y="911"/>
                  </a:lnTo>
                  <a:lnTo>
                    <a:pt x="786" y="889"/>
                  </a:lnTo>
                  <a:lnTo>
                    <a:pt x="776" y="864"/>
                  </a:lnTo>
                  <a:lnTo>
                    <a:pt x="754" y="812"/>
                  </a:lnTo>
                  <a:lnTo>
                    <a:pt x="746" y="790"/>
                  </a:lnTo>
                  <a:lnTo>
                    <a:pt x="744" y="777"/>
                  </a:lnTo>
                  <a:lnTo>
                    <a:pt x="700" y="717"/>
                  </a:lnTo>
                  <a:lnTo>
                    <a:pt x="699" y="659"/>
                  </a:lnTo>
                  <a:lnTo>
                    <a:pt x="703" y="643"/>
                  </a:lnTo>
                  <a:lnTo>
                    <a:pt x="715" y="621"/>
                  </a:lnTo>
                  <a:lnTo>
                    <a:pt x="663" y="531"/>
                  </a:lnTo>
                  <a:lnTo>
                    <a:pt x="644" y="495"/>
                  </a:lnTo>
                  <a:lnTo>
                    <a:pt x="637" y="474"/>
                  </a:lnTo>
                  <a:lnTo>
                    <a:pt x="636" y="458"/>
                  </a:lnTo>
                  <a:lnTo>
                    <a:pt x="628" y="447"/>
                  </a:lnTo>
                  <a:lnTo>
                    <a:pt x="610" y="427"/>
                  </a:lnTo>
                  <a:lnTo>
                    <a:pt x="519" y="341"/>
                  </a:lnTo>
                  <a:lnTo>
                    <a:pt x="521" y="351"/>
                  </a:lnTo>
                  <a:lnTo>
                    <a:pt x="524" y="353"/>
                  </a:lnTo>
                  <a:lnTo>
                    <a:pt x="527" y="351"/>
                  </a:lnTo>
                  <a:lnTo>
                    <a:pt x="532" y="345"/>
                  </a:lnTo>
                  <a:lnTo>
                    <a:pt x="545" y="289"/>
                  </a:lnTo>
                  <a:lnTo>
                    <a:pt x="555" y="236"/>
                  </a:lnTo>
                  <a:lnTo>
                    <a:pt x="555" y="228"/>
                  </a:lnTo>
                  <a:lnTo>
                    <a:pt x="551" y="244"/>
                  </a:lnTo>
                  <a:lnTo>
                    <a:pt x="556" y="226"/>
                  </a:lnTo>
                  <a:lnTo>
                    <a:pt x="566" y="210"/>
                  </a:lnTo>
                  <a:lnTo>
                    <a:pt x="592" y="181"/>
                  </a:lnTo>
                  <a:lnTo>
                    <a:pt x="602" y="167"/>
                  </a:lnTo>
                  <a:lnTo>
                    <a:pt x="608" y="153"/>
                  </a:lnTo>
                  <a:lnTo>
                    <a:pt x="606" y="139"/>
                  </a:lnTo>
                  <a:lnTo>
                    <a:pt x="597" y="126"/>
                  </a:lnTo>
                  <a:lnTo>
                    <a:pt x="640" y="123"/>
                  </a:lnTo>
                  <a:lnTo>
                    <a:pt x="681" y="116"/>
                  </a:lnTo>
                  <a:lnTo>
                    <a:pt x="721" y="104"/>
                  </a:lnTo>
                  <a:lnTo>
                    <a:pt x="762" y="96"/>
                  </a:lnTo>
                  <a:lnTo>
                    <a:pt x="805" y="92"/>
                  </a:lnTo>
                  <a:lnTo>
                    <a:pt x="849" y="94"/>
                  </a:lnTo>
                  <a:lnTo>
                    <a:pt x="872" y="100"/>
                  </a:lnTo>
                  <a:lnTo>
                    <a:pt x="896" y="108"/>
                  </a:lnTo>
                  <a:lnTo>
                    <a:pt x="922" y="120"/>
                  </a:lnTo>
                  <a:lnTo>
                    <a:pt x="950" y="136"/>
                  </a:lnTo>
                  <a:lnTo>
                    <a:pt x="953" y="134"/>
                  </a:lnTo>
                  <a:lnTo>
                    <a:pt x="959" y="129"/>
                  </a:lnTo>
                  <a:lnTo>
                    <a:pt x="969" y="113"/>
                  </a:lnTo>
                  <a:lnTo>
                    <a:pt x="975" y="96"/>
                  </a:lnTo>
                  <a:lnTo>
                    <a:pt x="974" y="90"/>
                  </a:lnTo>
                  <a:lnTo>
                    <a:pt x="971" y="84"/>
                  </a:lnTo>
                  <a:lnTo>
                    <a:pt x="966" y="82"/>
                  </a:lnTo>
                  <a:lnTo>
                    <a:pt x="967" y="76"/>
                  </a:lnTo>
                  <a:lnTo>
                    <a:pt x="987" y="56"/>
                  </a:lnTo>
                  <a:lnTo>
                    <a:pt x="1019" y="31"/>
                  </a:lnTo>
                  <a:lnTo>
                    <a:pt x="1037" y="8"/>
                  </a:lnTo>
                  <a:lnTo>
                    <a:pt x="1046" y="1"/>
                  </a:lnTo>
                  <a:lnTo>
                    <a:pt x="1052" y="0"/>
                  </a:lnTo>
                  <a:lnTo>
                    <a:pt x="1060" y="0"/>
                  </a:lnTo>
                  <a:lnTo>
                    <a:pt x="1066" y="1"/>
                  </a:lnTo>
                  <a:lnTo>
                    <a:pt x="1078" y="15"/>
                  </a:lnTo>
                  <a:lnTo>
                    <a:pt x="1100" y="56"/>
                  </a:lnTo>
                  <a:lnTo>
                    <a:pt x="1113" y="81"/>
                  </a:lnTo>
                  <a:lnTo>
                    <a:pt x="1129" y="102"/>
                  </a:lnTo>
                  <a:lnTo>
                    <a:pt x="1131" y="233"/>
                  </a:lnTo>
                  <a:lnTo>
                    <a:pt x="1244" y="353"/>
                  </a:lnTo>
                  <a:lnTo>
                    <a:pt x="1277" y="479"/>
                  </a:lnTo>
                  <a:lnTo>
                    <a:pt x="1382" y="563"/>
                  </a:lnTo>
                  <a:lnTo>
                    <a:pt x="1380" y="586"/>
                  </a:lnTo>
                  <a:lnTo>
                    <a:pt x="1375" y="597"/>
                  </a:lnTo>
                  <a:lnTo>
                    <a:pt x="1366" y="603"/>
                  </a:lnTo>
                  <a:lnTo>
                    <a:pt x="1351" y="609"/>
                  </a:lnTo>
                  <a:lnTo>
                    <a:pt x="1366" y="684"/>
                  </a:lnTo>
                  <a:lnTo>
                    <a:pt x="1370" y="706"/>
                  </a:lnTo>
                  <a:lnTo>
                    <a:pt x="1372" y="707"/>
                  </a:lnTo>
                  <a:lnTo>
                    <a:pt x="1375" y="709"/>
                  </a:lnTo>
                  <a:lnTo>
                    <a:pt x="1383" y="714"/>
                  </a:lnTo>
                  <a:lnTo>
                    <a:pt x="1399" y="723"/>
                  </a:lnTo>
                  <a:lnTo>
                    <a:pt x="1461" y="798"/>
                  </a:lnTo>
                  <a:lnTo>
                    <a:pt x="1599" y="892"/>
                  </a:lnTo>
                  <a:lnTo>
                    <a:pt x="1610" y="929"/>
                  </a:lnTo>
                  <a:lnTo>
                    <a:pt x="1626" y="964"/>
                  </a:lnTo>
                  <a:lnTo>
                    <a:pt x="1646" y="997"/>
                  </a:lnTo>
                  <a:lnTo>
                    <a:pt x="1668" y="1028"/>
                  </a:lnTo>
                  <a:lnTo>
                    <a:pt x="1694" y="1055"/>
                  </a:lnTo>
                  <a:lnTo>
                    <a:pt x="1721" y="1078"/>
                  </a:lnTo>
                  <a:lnTo>
                    <a:pt x="1754" y="1099"/>
                  </a:lnTo>
                  <a:lnTo>
                    <a:pt x="1793" y="1114"/>
                  </a:lnTo>
                  <a:lnTo>
                    <a:pt x="1848" y="1199"/>
                  </a:lnTo>
                  <a:lnTo>
                    <a:pt x="1853" y="1238"/>
                  </a:lnTo>
                  <a:lnTo>
                    <a:pt x="1867" y="1274"/>
                  </a:lnTo>
                  <a:lnTo>
                    <a:pt x="1887" y="1306"/>
                  </a:lnTo>
                  <a:lnTo>
                    <a:pt x="1911" y="1337"/>
                  </a:lnTo>
                  <a:lnTo>
                    <a:pt x="1961" y="1397"/>
                  </a:lnTo>
                  <a:lnTo>
                    <a:pt x="1985" y="1428"/>
                  </a:lnTo>
                  <a:lnTo>
                    <a:pt x="2010" y="1460"/>
                  </a:lnTo>
                  <a:lnTo>
                    <a:pt x="2013" y="1491"/>
                  </a:lnTo>
                  <a:lnTo>
                    <a:pt x="2015" y="1523"/>
                  </a:lnTo>
                  <a:lnTo>
                    <a:pt x="2013" y="1554"/>
                  </a:lnTo>
                  <a:lnTo>
                    <a:pt x="2010" y="1586"/>
                  </a:lnTo>
                  <a:lnTo>
                    <a:pt x="2003" y="1601"/>
                  </a:lnTo>
                  <a:lnTo>
                    <a:pt x="1995" y="1609"/>
                  </a:lnTo>
                  <a:lnTo>
                    <a:pt x="1987" y="1612"/>
                  </a:lnTo>
                  <a:lnTo>
                    <a:pt x="1977" y="1612"/>
                  </a:lnTo>
                  <a:lnTo>
                    <a:pt x="1968" y="1614"/>
                  </a:lnTo>
                  <a:lnTo>
                    <a:pt x="1960" y="1617"/>
                  </a:lnTo>
                  <a:lnTo>
                    <a:pt x="1952" y="1627"/>
                  </a:lnTo>
                  <a:lnTo>
                    <a:pt x="1946" y="1646"/>
                  </a:lnTo>
                  <a:lnTo>
                    <a:pt x="1885" y="1682"/>
                  </a:lnTo>
                  <a:lnTo>
                    <a:pt x="1859" y="1700"/>
                  </a:lnTo>
                  <a:lnTo>
                    <a:pt x="1859" y="1704"/>
                  </a:lnTo>
                  <a:lnTo>
                    <a:pt x="1861" y="1706"/>
                  </a:lnTo>
                  <a:lnTo>
                    <a:pt x="1877" y="1704"/>
                  </a:lnTo>
                  <a:lnTo>
                    <a:pt x="1895" y="1706"/>
                  </a:lnTo>
                  <a:lnTo>
                    <a:pt x="1901" y="1708"/>
                  </a:lnTo>
                  <a:lnTo>
                    <a:pt x="1903" y="1712"/>
                  </a:lnTo>
                  <a:lnTo>
                    <a:pt x="1898" y="1720"/>
                  </a:lnTo>
                  <a:lnTo>
                    <a:pt x="1887" y="1730"/>
                  </a:lnTo>
                  <a:lnTo>
                    <a:pt x="1838" y="1767"/>
                  </a:lnTo>
                  <a:lnTo>
                    <a:pt x="1796" y="1775"/>
                  </a:lnTo>
                  <a:lnTo>
                    <a:pt x="1780" y="1775"/>
                  </a:lnTo>
                  <a:lnTo>
                    <a:pt x="1767" y="1771"/>
                  </a:lnTo>
                  <a:lnTo>
                    <a:pt x="1757" y="1763"/>
                  </a:lnTo>
                  <a:lnTo>
                    <a:pt x="1747" y="1753"/>
                  </a:lnTo>
                  <a:lnTo>
                    <a:pt x="1739" y="1735"/>
                  </a:lnTo>
                  <a:lnTo>
                    <a:pt x="1733" y="1716"/>
                  </a:lnTo>
                  <a:lnTo>
                    <a:pt x="1628" y="1623"/>
                  </a:lnTo>
                  <a:lnTo>
                    <a:pt x="1544" y="1507"/>
                  </a:lnTo>
                  <a:lnTo>
                    <a:pt x="1506" y="1493"/>
                  </a:lnTo>
                  <a:lnTo>
                    <a:pt x="1472" y="1475"/>
                  </a:lnTo>
                  <a:lnTo>
                    <a:pt x="1407" y="1434"/>
                  </a:lnTo>
                  <a:lnTo>
                    <a:pt x="1340" y="1392"/>
                  </a:lnTo>
                  <a:lnTo>
                    <a:pt x="1304" y="1374"/>
                  </a:lnTo>
                  <a:lnTo>
                    <a:pt x="1265" y="1361"/>
                  </a:lnTo>
                  <a:lnTo>
                    <a:pt x="1255" y="1355"/>
                  </a:lnTo>
                  <a:lnTo>
                    <a:pt x="1246" y="1345"/>
                  </a:lnTo>
                  <a:lnTo>
                    <a:pt x="1234" y="1325"/>
                  </a:lnTo>
                  <a:lnTo>
                    <a:pt x="1218" y="1282"/>
                  </a:lnTo>
                  <a:lnTo>
                    <a:pt x="1207" y="1270"/>
                  </a:lnTo>
                  <a:lnTo>
                    <a:pt x="1191" y="1264"/>
                  </a:lnTo>
                  <a:lnTo>
                    <a:pt x="1150" y="1253"/>
                  </a:lnTo>
                  <a:lnTo>
                    <a:pt x="1066" y="1172"/>
                  </a:lnTo>
                  <a:lnTo>
                    <a:pt x="1040" y="1128"/>
                  </a:lnTo>
                  <a:lnTo>
                    <a:pt x="1038" y="1122"/>
                  </a:lnTo>
                  <a:lnTo>
                    <a:pt x="1040" y="1122"/>
                  </a:lnTo>
                  <a:lnTo>
                    <a:pt x="1045" y="1122"/>
                  </a:lnTo>
                  <a:lnTo>
                    <a:pt x="1046" y="1120"/>
                  </a:lnTo>
                  <a:lnTo>
                    <a:pt x="1046" y="1110"/>
                  </a:lnTo>
                  <a:lnTo>
                    <a:pt x="1040" y="1089"/>
                  </a:lnTo>
                  <a:lnTo>
                    <a:pt x="1030" y="1089"/>
                  </a:lnTo>
                  <a:lnTo>
                    <a:pt x="1022" y="1084"/>
                  </a:lnTo>
                  <a:lnTo>
                    <a:pt x="1014" y="1073"/>
                  </a:lnTo>
                  <a:lnTo>
                    <a:pt x="1006" y="1045"/>
                  </a:lnTo>
                  <a:lnTo>
                    <a:pt x="993" y="1041"/>
                  </a:lnTo>
                  <a:lnTo>
                    <a:pt x="985" y="1033"/>
                  </a:lnTo>
                  <a:lnTo>
                    <a:pt x="979" y="1021"/>
                  </a:lnTo>
                  <a:lnTo>
                    <a:pt x="979" y="1005"/>
                  </a:lnTo>
                  <a:lnTo>
                    <a:pt x="982" y="972"/>
                  </a:lnTo>
                  <a:lnTo>
                    <a:pt x="985" y="934"/>
                  </a:lnTo>
                  <a:lnTo>
                    <a:pt x="985" y="916"/>
                  </a:lnTo>
                  <a:lnTo>
                    <a:pt x="982" y="900"/>
                  </a:lnTo>
                  <a:lnTo>
                    <a:pt x="974" y="884"/>
                  </a:lnTo>
                  <a:lnTo>
                    <a:pt x="961" y="871"/>
                  </a:lnTo>
                  <a:lnTo>
                    <a:pt x="946" y="861"/>
                  </a:lnTo>
                  <a:lnTo>
                    <a:pt x="920" y="853"/>
                  </a:lnTo>
                  <a:lnTo>
                    <a:pt x="888" y="851"/>
                  </a:lnTo>
                  <a:lnTo>
                    <a:pt x="849" y="856"/>
                  </a:lnTo>
                  <a:lnTo>
                    <a:pt x="835" y="861"/>
                  </a:lnTo>
                  <a:lnTo>
                    <a:pt x="827" y="871"/>
                  </a:lnTo>
                  <a:lnTo>
                    <a:pt x="820" y="882"/>
                  </a:lnTo>
                  <a:lnTo>
                    <a:pt x="815" y="895"/>
                  </a:lnTo>
                  <a:lnTo>
                    <a:pt x="812" y="924"/>
                  </a:lnTo>
                  <a:lnTo>
                    <a:pt x="812" y="955"/>
                  </a:lnTo>
                  <a:lnTo>
                    <a:pt x="833" y="994"/>
                  </a:lnTo>
                  <a:lnTo>
                    <a:pt x="845" y="1013"/>
                  </a:lnTo>
                  <a:lnTo>
                    <a:pt x="853" y="1041"/>
                  </a:lnTo>
                  <a:lnTo>
                    <a:pt x="865" y="1104"/>
                  </a:lnTo>
                  <a:lnTo>
                    <a:pt x="875" y="1118"/>
                  </a:lnTo>
                  <a:lnTo>
                    <a:pt x="890" y="1141"/>
                  </a:lnTo>
                  <a:lnTo>
                    <a:pt x="920" y="1204"/>
                  </a:lnTo>
                  <a:lnTo>
                    <a:pt x="956" y="1285"/>
                  </a:lnTo>
                  <a:lnTo>
                    <a:pt x="964" y="1284"/>
                  </a:lnTo>
                  <a:lnTo>
                    <a:pt x="969" y="1288"/>
                  </a:lnTo>
                  <a:lnTo>
                    <a:pt x="983" y="1301"/>
                  </a:lnTo>
                  <a:lnTo>
                    <a:pt x="995" y="1321"/>
                  </a:lnTo>
                  <a:lnTo>
                    <a:pt x="1011" y="1342"/>
                  </a:lnTo>
                  <a:lnTo>
                    <a:pt x="1011" y="1382"/>
                  </a:lnTo>
                  <a:lnTo>
                    <a:pt x="1034" y="1405"/>
                  </a:lnTo>
                  <a:lnTo>
                    <a:pt x="1042" y="1414"/>
                  </a:lnTo>
                  <a:lnTo>
                    <a:pt x="1045" y="1426"/>
                  </a:lnTo>
                  <a:lnTo>
                    <a:pt x="1119" y="1426"/>
                  </a:lnTo>
                  <a:lnTo>
                    <a:pt x="1115" y="1452"/>
                  </a:lnTo>
                  <a:lnTo>
                    <a:pt x="1108" y="1475"/>
                  </a:lnTo>
                  <a:lnTo>
                    <a:pt x="1100" y="1499"/>
                  </a:lnTo>
                  <a:lnTo>
                    <a:pt x="1097" y="1523"/>
                  </a:lnTo>
                  <a:lnTo>
                    <a:pt x="1131" y="1526"/>
                  </a:lnTo>
                  <a:lnTo>
                    <a:pt x="1165" y="1538"/>
                  </a:lnTo>
                  <a:lnTo>
                    <a:pt x="1199" y="1554"/>
                  </a:lnTo>
                  <a:lnTo>
                    <a:pt x="1226" y="1576"/>
                  </a:lnTo>
                  <a:lnTo>
                    <a:pt x="1228" y="1607"/>
                  </a:lnTo>
                  <a:lnTo>
                    <a:pt x="1234" y="1633"/>
                  </a:lnTo>
                  <a:lnTo>
                    <a:pt x="1247" y="1659"/>
                  </a:lnTo>
                  <a:lnTo>
                    <a:pt x="1270" y="1682"/>
                  </a:lnTo>
                  <a:lnTo>
                    <a:pt x="1271" y="1704"/>
                  </a:lnTo>
                  <a:lnTo>
                    <a:pt x="1275" y="1726"/>
                  </a:lnTo>
                  <a:lnTo>
                    <a:pt x="1289" y="1769"/>
                  </a:lnTo>
                  <a:lnTo>
                    <a:pt x="1303" y="1813"/>
                  </a:lnTo>
                  <a:lnTo>
                    <a:pt x="1309" y="1834"/>
                  </a:lnTo>
                  <a:lnTo>
                    <a:pt x="1311" y="1855"/>
                  </a:lnTo>
                  <a:lnTo>
                    <a:pt x="1346" y="1874"/>
                  </a:lnTo>
                  <a:lnTo>
                    <a:pt x="1383" y="1900"/>
                  </a:lnTo>
                  <a:lnTo>
                    <a:pt x="1419" y="1925"/>
                  </a:lnTo>
                  <a:lnTo>
                    <a:pt x="1451" y="1951"/>
                  </a:lnTo>
                  <a:lnTo>
                    <a:pt x="1447" y="1931"/>
                  </a:lnTo>
                  <a:lnTo>
                    <a:pt x="1441" y="1913"/>
                  </a:lnTo>
                  <a:lnTo>
                    <a:pt x="1432" y="1895"/>
                  </a:lnTo>
                  <a:lnTo>
                    <a:pt x="1417" y="1879"/>
                  </a:lnTo>
                  <a:lnTo>
                    <a:pt x="1388" y="1852"/>
                  </a:lnTo>
                  <a:lnTo>
                    <a:pt x="1354" y="1832"/>
                  </a:lnTo>
                  <a:lnTo>
                    <a:pt x="1356" y="1807"/>
                  </a:lnTo>
                  <a:lnTo>
                    <a:pt x="1360" y="1781"/>
                  </a:lnTo>
                  <a:lnTo>
                    <a:pt x="1366" y="1738"/>
                  </a:lnTo>
                  <a:lnTo>
                    <a:pt x="1380" y="1735"/>
                  </a:lnTo>
                  <a:lnTo>
                    <a:pt x="1391" y="1732"/>
                  </a:lnTo>
                  <a:lnTo>
                    <a:pt x="1403" y="1727"/>
                  </a:lnTo>
                  <a:lnTo>
                    <a:pt x="1417" y="1726"/>
                  </a:lnTo>
                  <a:lnTo>
                    <a:pt x="1445" y="1761"/>
                  </a:lnTo>
                  <a:lnTo>
                    <a:pt x="1471" y="1801"/>
                  </a:lnTo>
                  <a:lnTo>
                    <a:pt x="1496" y="1840"/>
                  </a:lnTo>
                  <a:lnTo>
                    <a:pt x="1526" y="1876"/>
                  </a:lnTo>
                  <a:lnTo>
                    <a:pt x="1528" y="1900"/>
                  </a:lnTo>
                  <a:lnTo>
                    <a:pt x="1534" y="1928"/>
                  </a:lnTo>
                  <a:lnTo>
                    <a:pt x="1555" y="1991"/>
                  </a:lnTo>
                  <a:lnTo>
                    <a:pt x="1585" y="2051"/>
                  </a:lnTo>
                  <a:lnTo>
                    <a:pt x="1599" y="2075"/>
                  </a:lnTo>
                  <a:lnTo>
                    <a:pt x="1613" y="2091"/>
                  </a:lnTo>
                  <a:lnTo>
                    <a:pt x="1608" y="2146"/>
                  </a:lnTo>
                  <a:lnTo>
                    <a:pt x="1600" y="2198"/>
                  </a:lnTo>
                  <a:lnTo>
                    <a:pt x="1592" y="2250"/>
                  </a:lnTo>
                  <a:lnTo>
                    <a:pt x="1591" y="2304"/>
                  </a:lnTo>
                  <a:lnTo>
                    <a:pt x="1642" y="2357"/>
                  </a:lnTo>
                  <a:lnTo>
                    <a:pt x="1641" y="2381"/>
                  </a:lnTo>
                  <a:lnTo>
                    <a:pt x="1636" y="2405"/>
                  </a:lnTo>
                  <a:lnTo>
                    <a:pt x="1621" y="2450"/>
                  </a:lnTo>
                  <a:lnTo>
                    <a:pt x="1599" y="2493"/>
                  </a:lnTo>
                  <a:lnTo>
                    <a:pt x="1569" y="2529"/>
                  </a:lnTo>
                  <a:lnTo>
                    <a:pt x="1569" y="2658"/>
                  </a:lnTo>
                  <a:lnTo>
                    <a:pt x="1526" y="2700"/>
                  </a:lnTo>
                  <a:lnTo>
                    <a:pt x="1472" y="2645"/>
                  </a:lnTo>
                  <a:lnTo>
                    <a:pt x="1466" y="2679"/>
                  </a:lnTo>
                  <a:lnTo>
                    <a:pt x="1459" y="2716"/>
                  </a:lnTo>
                  <a:lnTo>
                    <a:pt x="1453" y="2736"/>
                  </a:lnTo>
                  <a:lnTo>
                    <a:pt x="1443" y="2750"/>
                  </a:lnTo>
                  <a:lnTo>
                    <a:pt x="1429" y="2760"/>
                  </a:lnTo>
                  <a:lnTo>
                    <a:pt x="1409" y="2763"/>
                  </a:lnTo>
                  <a:lnTo>
                    <a:pt x="1398" y="2572"/>
                  </a:lnTo>
                  <a:lnTo>
                    <a:pt x="1383" y="2574"/>
                  </a:lnTo>
                  <a:lnTo>
                    <a:pt x="1372" y="2580"/>
                  </a:lnTo>
                  <a:lnTo>
                    <a:pt x="1344" y="2600"/>
                  </a:lnTo>
                  <a:lnTo>
                    <a:pt x="1301" y="2645"/>
                  </a:lnTo>
                  <a:lnTo>
                    <a:pt x="1257" y="2645"/>
                  </a:lnTo>
                  <a:lnTo>
                    <a:pt x="1222" y="2612"/>
                  </a:lnTo>
                  <a:lnTo>
                    <a:pt x="1208" y="2594"/>
                  </a:lnTo>
                  <a:lnTo>
                    <a:pt x="1204" y="2585"/>
                  </a:lnTo>
                  <a:lnTo>
                    <a:pt x="1204" y="2572"/>
                  </a:lnTo>
                  <a:lnTo>
                    <a:pt x="1200" y="2592"/>
                  </a:lnTo>
                  <a:lnTo>
                    <a:pt x="1204" y="2600"/>
                  </a:lnTo>
                  <a:lnTo>
                    <a:pt x="1214" y="2604"/>
                  </a:lnTo>
                  <a:lnTo>
                    <a:pt x="1236" y="2604"/>
                  </a:lnTo>
                  <a:lnTo>
                    <a:pt x="1291" y="2551"/>
                  </a:lnTo>
                  <a:lnTo>
                    <a:pt x="1307" y="2522"/>
                  </a:lnTo>
                  <a:lnTo>
                    <a:pt x="1328" y="2486"/>
                  </a:lnTo>
                  <a:lnTo>
                    <a:pt x="1382" y="2410"/>
                  </a:lnTo>
                  <a:lnTo>
                    <a:pt x="1407" y="2371"/>
                  </a:lnTo>
                  <a:lnTo>
                    <a:pt x="1429" y="2331"/>
                  </a:lnTo>
                  <a:lnTo>
                    <a:pt x="1445" y="2297"/>
                  </a:lnTo>
                  <a:lnTo>
                    <a:pt x="1448" y="2279"/>
                  </a:lnTo>
                  <a:lnTo>
                    <a:pt x="1451" y="2261"/>
                  </a:lnTo>
                  <a:lnTo>
                    <a:pt x="1390" y="2208"/>
                  </a:lnTo>
                  <a:lnTo>
                    <a:pt x="1327" y="2154"/>
                  </a:lnTo>
                  <a:lnTo>
                    <a:pt x="1263" y="2103"/>
                  </a:lnTo>
                  <a:lnTo>
                    <a:pt x="1204" y="2048"/>
                  </a:lnTo>
                  <a:lnTo>
                    <a:pt x="1166" y="2041"/>
                  </a:lnTo>
                  <a:lnTo>
                    <a:pt x="1147" y="2038"/>
                  </a:lnTo>
                  <a:lnTo>
                    <a:pt x="1129" y="2036"/>
                  </a:lnTo>
                  <a:lnTo>
                    <a:pt x="1113" y="2014"/>
                  </a:lnTo>
                  <a:lnTo>
                    <a:pt x="1110" y="2000"/>
                  </a:lnTo>
                  <a:lnTo>
                    <a:pt x="1108" y="1984"/>
                  </a:lnTo>
                  <a:lnTo>
                    <a:pt x="1257" y="1832"/>
                  </a:lnTo>
                  <a:lnTo>
                    <a:pt x="1257" y="1769"/>
                  </a:lnTo>
                  <a:lnTo>
                    <a:pt x="1230" y="1759"/>
                  </a:lnTo>
                  <a:lnTo>
                    <a:pt x="1199" y="1745"/>
                  </a:lnTo>
                  <a:lnTo>
                    <a:pt x="1166" y="1727"/>
                  </a:lnTo>
                  <a:lnTo>
                    <a:pt x="1141" y="1704"/>
                  </a:lnTo>
                  <a:lnTo>
                    <a:pt x="1135" y="1678"/>
                  </a:lnTo>
                  <a:lnTo>
                    <a:pt x="1123" y="1651"/>
                  </a:lnTo>
                  <a:lnTo>
                    <a:pt x="1108" y="1623"/>
                  </a:lnTo>
                  <a:lnTo>
                    <a:pt x="1097" y="1598"/>
                  </a:lnTo>
                  <a:lnTo>
                    <a:pt x="1045" y="1541"/>
                  </a:lnTo>
                  <a:lnTo>
                    <a:pt x="974" y="1463"/>
                  </a:lnTo>
                  <a:lnTo>
                    <a:pt x="912" y="1397"/>
                  </a:lnTo>
                  <a:lnTo>
                    <a:pt x="896" y="1374"/>
                  </a:lnTo>
                  <a:lnTo>
                    <a:pt x="893" y="1369"/>
                  </a:lnTo>
                  <a:lnTo>
                    <a:pt x="893" y="1365"/>
                  </a:lnTo>
                  <a:close/>
                </a:path>
              </a:pathLst>
            </a:custGeom>
            <a:blipFill rotWithShape="0">
              <a:blip r:embed="rId7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1290240" y="1080720"/>
              <a:ext cx="265680" cy="158400"/>
            </a:xfrm>
            <a:custGeom>
              <a:avLst/>
              <a:gdLst/>
              <a:ahLst/>
              <a:rect l="l" t="t" r="r" b="b"/>
              <a:pathLst>
                <a:path w="2070" h="1366">
                  <a:moveTo>
                    <a:pt x="2070" y="4"/>
                  </a:moveTo>
                  <a:lnTo>
                    <a:pt x="2059" y="19"/>
                  </a:lnTo>
                  <a:lnTo>
                    <a:pt x="2044" y="34"/>
                  </a:lnTo>
                  <a:lnTo>
                    <a:pt x="2020" y="58"/>
                  </a:lnTo>
                  <a:lnTo>
                    <a:pt x="2010" y="71"/>
                  </a:lnTo>
                  <a:lnTo>
                    <a:pt x="2007" y="87"/>
                  </a:lnTo>
                  <a:lnTo>
                    <a:pt x="2012" y="105"/>
                  </a:lnTo>
                  <a:lnTo>
                    <a:pt x="2025" y="126"/>
                  </a:lnTo>
                  <a:lnTo>
                    <a:pt x="2020" y="166"/>
                  </a:lnTo>
                  <a:lnTo>
                    <a:pt x="2017" y="189"/>
                  </a:lnTo>
                  <a:lnTo>
                    <a:pt x="2021" y="205"/>
                  </a:lnTo>
                  <a:lnTo>
                    <a:pt x="2015" y="212"/>
                  </a:lnTo>
                  <a:lnTo>
                    <a:pt x="2007" y="212"/>
                  </a:lnTo>
                  <a:lnTo>
                    <a:pt x="1999" y="212"/>
                  </a:lnTo>
                  <a:lnTo>
                    <a:pt x="1992" y="215"/>
                  </a:lnTo>
                  <a:lnTo>
                    <a:pt x="1978" y="325"/>
                  </a:lnTo>
                  <a:lnTo>
                    <a:pt x="2015" y="332"/>
                  </a:lnTo>
                  <a:lnTo>
                    <a:pt x="1978" y="367"/>
                  </a:lnTo>
                  <a:lnTo>
                    <a:pt x="1923" y="395"/>
                  </a:lnTo>
                  <a:lnTo>
                    <a:pt x="1868" y="424"/>
                  </a:lnTo>
                  <a:lnTo>
                    <a:pt x="1842" y="442"/>
                  </a:lnTo>
                  <a:lnTo>
                    <a:pt x="1816" y="461"/>
                  </a:lnTo>
                  <a:lnTo>
                    <a:pt x="1795" y="485"/>
                  </a:lnTo>
                  <a:lnTo>
                    <a:pt x="1774" y="511"/>
                  </a:lnTo>
                  <a:lnTo>
                    <a:pt x="1670" y="542"/>
                  </a:lnTo>
                  <a:lnTo>
                    <a:pt x="1643" y="571"/>
                  </a:lnTo>
                  <a:lnTo>
                    <a:pt x="1619" y="600"/>
                  </a:lnTo>
                  <a:lnTo>
                    <a:pt x="1619" y="628"/>
                  </a:lnTo>
                  <a:lnTo>
                    <a:pt x="1615" y="657"/>
                  </a:lnTo>
                  <a:lnTo>
                    <a:pt x="1605" y="691"/>
                  </a:lnTo>
                  <a:lnTo>
                    <a:pt x="1591" y="720"/>
                  </a:lnTo>
                  <a:lnTo>
                    <a:pt x="1593" y="743"/>
                  </a:lnTo>
                  <a:lnTo>
                    <a:pt x="1601" y="762"/>
                  </a:lnTo>
                  <a:lnTo>
                    <a:pt x="1609" y="780"/>
                  </a:lnTo>
                  <a:lnTo>
                    <a:pt x="1620" y="795"/>
                  </a:lnTo>
                  <a:lnTo>
                    <a:pt x="1646" y="827"/>
                  </a:lnTo>
                  <a:lnTo>
                    <a:pt x="1670" y="858"/>
                  </a:lnTo>
                  <a:lnTo>
                    <a:pt x="1672" y="876"/>
                  </a:lnTo>
                  <a:lnTo>
                    <a:pt x="1678" y="896"/>
                  </a:lnTo>
                  <a:lnTo>
                    <a:pt x="1668" y="884"/>
                  </a:lnTo>
                  <a:lnTo>
                    <a:pt x="1662" y="879"/>
                  </a:lnTo>
                  <a:lnTo>
                    <a:pt x="1656" y="880"/>
                  </a:lnTo>
                  <a:lnTo>
                    <a:pt x="1652" y="888"/>
                  </a:lnTo>
                  <a:lnTo>
                    <a:pt x="1648" y="914"/>
                  </a:lnTo>
                  <a:lnTo>
                    <a:pt x="1646" y="945"/>
                  </a:lnTo>
                  <a:lnTo>
                    <a:pt x="1648" y="1000"/>
                  </a:lnTo>
                  <a:lnTo>
                    <a:pt x="1648" y="977"/>
                  </a:lnTo>
                  <a:lnTo>
                    <a:pt x="1651" y="999"/>
                  </a:lnTo>
                  <a:lnTo>
                    <a:pt x="1654" y="1010"/>
                  </a:lnTo>
                  <a:lnTo>
                    <a:pt x="1660" y="1016"/>
                  </a:lnTo>
                  <a:lnTo>
                    <a:pt x="1662" y="1018"/>
                  </a:lnTo>
                  <a:lnTo>
                    <a:pt x="1654" y="1020"/>
                  </a:lnTo>
                  <a:lnTo>
                    <a:pt x="1612" y="1040"/>
                  </a:lnTo>
                  <a:lnTo>
                    <a:pt x="1597" y="1036"/>
                  </a:lnTo>
                  <a:lnTo>
                    <a:pt x="1581" y="1024"/>
                  </a:lnTo>
                  <a:lnTo>
                    <a:pt x="1567" y="1008"/>
                  </a:lnTo>
                  <a:lnTo>
                    <a:pt x="1557" y="989"/>
                  </a:lnTo>
                  <a:lnTo>
                    <a:pt x="1581" y="942"/>
                  </a:lnTo>
                  <a:lnTo>
                    <a:pt x="1578" y="934"/>
                  </a:lnTo>
                  <a:lnTo>
                    <a:pt x="1571" y="927"/>
                  </a:lnTo>
                  <a:lnTo>
                    <a:pt x="1557" y="918"/>
                  </a:lnTo>
                  <a:lnTo>
                    <a:pt x="1539" y="910"/>
                  </a:lnTo>
                  <a:lnTo>
                    <a:pt x="1524" y="896"/>
                  </a:lnTo>
                  <a:lnTo>
                    <a:pt x="1522" y="833"/>
                  </a:lnTo>
                  <a:lnTo>
                    <a:pt x="1510" y="817"/>
                  </a:lnTo>
                  <a:lnTo>
                    <a:pt x="1497" y="809"/>
                  </a:lnTo>
                  <a:lnTo>
                    <a:pt x="1479" y="803"/>
                  </a:lnTo>
                  <a:lnTo>
                    <a:pt x="1461" y="799"/>
                  </a:lnTo>
                  <a:lnTo>
                    <a:pt x="1421" y="793"/>
                  </a:lnTo>
                  <a:lnTo>
                    <a:pt x="1403" y="788"/>
                  </a:lnTo>
                  <a:lnTo>
                    <a:pt x="1387" y="777"/>
                  </a:lnTo>
                  <a:lnTo>
                    <a:pt x="1337" y="777"/>
                  </a:lnTo>
                  <a:lnTo>
                    <a:pt x="1327" y="782"/>
                  </a:lnTo>
                  <a:lnTo>
                    <a:pt x="1319" y="791"/>
                  </a:lnTo>
                  <a:lnTo>
                    <a:pt x="1306" y="819"/>
                  </a:lnTo>
                  <a:lnTo>
                    <a:pt x="1287" y="872"/>
                  </a:lnTo>
                  <a:lnTo>
                    <a:pt x="1282" y="890"/>
                  </a:lnTo>
                  <a:lnTo>
                    <a:pt x="1282" y="900"/>
                  </a:lnTo>
                  <a:lnTo>
                    <a:pt x="1285" y="906"/>
                  </a:lnTo>
                  <a:lnTo>
                    <a:pt x="1277" y="914"/>
                  </a:lnTo>
                  <a:lnTo>
                    <a:pt x="1241" y="955"/>
                  </a:lnTo>
                  <a:lnTo>
                    <a:pt x="1246" y="971"/>
                  </a:lnTo>
                  <a:lnTo>
                    <a:pt x="1258" y="981"/>
                  </a:lnTo>
                  <a:lnTo>
                    <a:pt x="1274" y="987"/>
                  </a:lnTo>
                  <a:lnTo>
                    <a:pt x="1295" y="989"/>
                  </a:lnTo>
                  <a:lnTo>
                    <a:pt x="1335" y="989"/>
                  </a:lnTo>
                  <a:lnTo>
                    <a:pt x="1364" y="989"/>
                  </a:lnTo>
                  <a:lnTo>
                    <a:pt x="1410" y="971"/>
                  </a:lnTo>
                  <a:lnTo>
                    <a:pt x="1411" y="984"/>
                  </a:lnTo>
                  <a:lnTo>
                    <a:pt x="1419" y="992"/>
                  </a:lnTo>
                  <a:lnTo>
                    <a:pt x="1429" y="1000"/>
                  </a:lnTo>
                  <a:lnTo>
                    <a:pt x="1441" y="1005"/>
                  </a:lnTo>
                  <a:lnTo>
                    <a:pt x="1458" y="1034"/>
                  </a:lnTo>
                  <a:lnTo>
                    <a:pt x="1474" y="1055"/>
                  </a:lnTo>
                  <a:lnTo>
                    <a:pt x="1484" y="1065"/>
                  </a:lnTo>
                  <a:lnTo>
                    <a:pt x="1471" y="1071"/>
                  </a:lnTo>
                  <a:lnTo>
                    <a:pt x="1461" y="1081"/>
                  </a:lnTo>
                  <a:lnTo>
                    <a:pt x="1447" y="1107"/>
                  </a:lnTo>
                  <a:lnTo>
                    <a:pt x="1435" y="1139"/>
                  </a:lnTo>
                  <a:lnTo>
                    <a:pt x="1427" y="1152"/>
                  </a:lnTo>
                  <a:lnTo>
                    <a:pt x="1418" y="1167"/>
                  </a:lnTo>
                  <a:lnTo>
                    <a:pt x="1421" y="1172"/>
                  </a:lnTo>
                  <a:lnTo>
                    <a:pt x="1431" y="1172"/>
                  </a:lnTo>
                  <a:lnTo>
                    <a:pt x="1443" y="1172"/>
                  </a:lnTo>
                  <a:lnTo>
                    <a:pt x="1455" y="1175"/>
                  </a:lnTo>
                  <a:lnTo>
                    <a:pt x="1450" y="1184"/>
                  </a:lnTo>
                  <a:lnTo>
                    <a:pt x="1445" y="1193"/>
                  </a:lnTo>
                  <a:lnTo>
                    <a:pt x="1431" y="1202"/>
                  </a:lnTo>
                  <a:lnTo>
                    <a:pt x="1416" y="1212"/>
                  </a:lnTo>
                  <a:lnTo>
                    <a:pt x="1402" y="1224"/>
                  </a:lnTo>
                  <a:lnTo>
                    <a:pt x="1387" y="1285"/>
                  </a:lnTo>
                  <a:lnTo>
                    <a:pt x="1380" y="1295"/>
                  </a:lnTo>
                  <a:lnTo>
                    <a:pt x="1371" y="1304"/>
                  </a:lnTo>
                  <a:lnTo>
                    <a:pt x="1362" y="1316"/>
                  </a:lnTo>
                  <a:lnTo>
                    <a:pt x="1364" y="1332"/>
                  </a:lnTo>
                  <a:lnTo>
                    <a:pt x="1356" y="1326"/>
                  </a:lnTo>
                  <a:lnTo>
                    <a:pt x="1356" y="1319"/>
                  </a:lnTo>
                  <a:lnTo>
                    <a:pt x="1358" y="1306"/>
                  </a:lnTo>
                  <a:lnTo>
                    <a:pt x="1356" y="1295"/>
                  </a:lnTo>
                  <a:lnTo>
                    <a:pt x="1346" y="1293"/>
                  </a:lnTo>
                  <a:lnTo>
                    <a:pt x="1340" y="1296"/>
                  </a:lnTo>
                  <a:lnTo>
                    <a:pt x="1327" y="1311"/>
                  </a:lnTo>
                  <a:lnTo>
                    <a:pt x="1313" y="1324"/>
                  </a:lnTo>
                  <a:lnTo>
                    <a:pt x="1305" y="1330"/>
                  </a:lnTo>
                  <a:lnTo>
                    <a:pt x="1295" y="1332"/>
                  </a:lnTo>
                  <a:lnTo>
                    <a:pt x="1277" y="1332"/>
                  </a:lnTo>
                  <a:lnTo>
                    <a:pt x="1261" y="1330"/>
                  </a:lnTo>
                  <a:lnTo>
                    <a:pt x="1232" y="1321"/>
                  </a:lnTo>
                  <a:lnTo>
                    <a:pt x="1218" y="1319"/>
                  </a:lnTo>
                  <a:lnTo>
                    <a:pt x="1202" y="1321"/>
                  </a:lnTo>
                  <a:lnTo>
                    <a:pt x="1186" y="1329"/>
                  </a:lnTo>
                  <a:lnTo>
                    <a:pt x="1169" y="1342"/>
                  </a:lnTo>
                  <a:lnTo>
                    <a:pt x="1133" y="1348"/>
                  </a:lnTo>
                  <a:lnTo>
                    <a:pt x="1112" y="1356"/>
                  </a:lnTo>
                  <a:lnTo>
                    <a:pt x="1104" y="1361"/>
                  </a:lnTo>
                  <a:lnTo>
                    <a:pt x="1102" y="1366"/>
                  </a:lnTo>
                  <a:lnTo>
                    <a:pt x="1086" y="1360"/>
                  </a:lnTo>
                  <a:lnTo>
                    <a:pt x="1073" y="1350"/>
                  </a:lnTo>
                  <a:lnTo>
                    <a:pt x="1064" y="1337"/>
                  </a:lnTo>
                  <a:lnTo>
                    <a:pt x="1057" y="1319"/>
                  </a:lnTo>
                  <a:lnTo>
                    <a:pt x="1049" y="1301"/>
                  </a:lnTo>
                  <a:lnTo>
                    <a:pt x="1034" y="1287"/>
                  </a:lnTo>
                  <a:lnTo>
                    <a:pt x="1017" y="1275"/>
                  </a:lnTo>
                  <a:lnTo>
                    <a:pt x="997" y="1265"/>
                  </a:lnTo>
                  <a:lnTo>
                    <a:pt x="953" y="1251"/>
                  </a:lnTo>
                  <a:lnTo>
                    <a:pt x="913" y="1235"/>
                  </a:lnTo>
                  <a:lnTo>
                    <a:pt x="908" y="1220"/>
                  </a:lnTo>
                  <a:lnTo>
                    <a:pt x="900" y="1208"/>
                  </a:lnTo>
                  <a:lnTo>
                    <a:pt x="888" y="1198"/>
                  </a:lnTo>
                  <a:lnTo>
                    <a:pt x="874" y="1193"/>
                  </a:lnTo>
                  <a:lnTo>
                    <a:pt x="843" y="1186"/>
                  </a:lnTo>
                  <a:lnTo>
                    <a:pt x="817" y="1188"/>
                  </a:lnTo>
                  <a:lnTo>
                    <a:pt x="855" y="1167"/>
                  </a:lnTo>
                  <a:lnTo>
                    <a:pt x="845" y="1160"/>
                  </a:lnTo>
                  <a:lnTo>
                    <a:pt x="835" y="1157"/>
                  </a:lnTo>
                  <a:lnTo>
                    <a:pt x="809" y="1151"/>
                  </a:lnTo>
                  <a:lnTo>
                    <a:pt x="783" y="1152"/>
                  </a:lnTo>
                  <a:lnTo>
                    <a:pt x="758" y="1157"/>
                  </a:lnTo>
                  <a:lnTo>
                    <a:pt x="756" y="1164"/>
                  </a:lnTo>
                  <a:lnTo>
                    <a:pt x="758" y="1170"/>
                  </a:lnTo>
                  <a:lnTo>
                    <a:pt x="767" y="1176"/>
                  </a:lnTo>
                  <a:lnTo>
                    <a:pt x="780" y="1180"/>
                  </a:lnTo>
                  <a:lnTo>
                    <a:pt x="785" y="1184"/>
                  </a:lnTo>
                  <a:lnTo>
                    <a:pt x="788" y="1188"/>
                  </a:lnTo>
                  <a:lnTo>
                    <a:pt x="735" y="1168"/>
                  </a:lnTo>
                  <a:lnTo>
                    <a:pt x="722" y="1157"/>
                  </a:lnTo>
                  <a:lnTo>
                    <a:pt x="709" y="1144"/>
                  </a:lnTo>
                  <a:lnTo>
                    <a:pt x="697" y="1128"/>
                  </a:lnTo>
                  <a:lnTo>
                    <a:pt x="685" y="1107"/>
                  </a:lnTo>
                  <a:lnTo>
                    <a:pt x="675" y="1101"/>
                  </a:lnTo>
                  <a:lnTo>
                    <a:pt x="665" y="1097"/>
                  </a:lnTo>
                  <a:lnTo>
                    <a:pt x="639" y="1096"/>
                  </a:lnTo>
                  <a:lnTo>
                    <a:pt x="612" y="1097"/>
                  </a:lnTo>
                  <a:lnTo>
                    <a:pt x="586" y="1096"/>
                  </a:lnTo>
                  <a:lnTo>
                    <a:pt x="584" y="1094"/>
                  </a:lnTo>
                  <a:lnTo>
                    <a:pt x="583" y="1086"/>
                  </a:lnTo>
                  <a:lnTo>
                    <a:pt x="583" y="1060"/>
                  </a:lnTo>
                  <a:lnTo>
                    <a:pt x="584" y="1024"/>
                  </a:lnTo>
                  <a:lnTo>
                    <a:pt x="565" y="896"/>
                  </a:lnTo>
                  <a:lnTo>
                    <a:pt x="573" y="888"/>
                  </a:lnTo>
                  <a:lnTo>
                    <a:pt x="586" y="880"/>
                  </a:lnTo>
                  <a:lnTo>
                    <a:pt x="549" y="777"/>
                  </a:lnTo>
                  <a:lnTo>
                    <a:pt x="545" y="774"/>
                  </a:lnTo>
                  <a:lnTo>
                    <a:pt x="537" y="770"/>
                  </a:lnTo>
                  <a:lnTo>
                    <a:pt x="519" y="762"/>
                  </a:lnTo>
                  <a:lnTo>
                    <a:pt x="510" y="748"/>
                  </a:lnTo>
                  <a:lnTo>
                    <a:pt x="495" y="736"/>
                  </a:lnTo>
                  <a:lnTo>
                    <a:pt x="460" y="710"/>
                  </a:lnTo>
                  <a:lnTo>
                    <a:pt x="439" y="725"/>
                  </a:lnTo>
                  <a:lnTo>
                    <a:pt x="414" y="743"/>
                  </a:lnTo>
                  <a:lnTo>
                    <a:pt x="389" y="760"/>
                  </a:lnTo>
                  <a:lnTo>
                    <a:pt x="369" y="770"/>
                  </a:lnTo>
                  <a:lnTo>
                    <a:pt x="366" y="777"/>
                  </a:lnTo>
                  <a:lnTo>
                    <a:pt x="367" y="783"/>
                  </a:lnTo>
                  <a:lnTo>
                    <a:pt x="377" y="795"/>
                  </a:lnTo>
                  <a:lnTo>
                    <a:pt x="389" y="807"/>
                  </a:lnTo>
                  <a:lnTo>
                    <a:pt x="395" y="813"/>
                  </a:lnTo>
                  <a:lnTo>
                    <a:pt x="397" y="821"/>
                  </a:lnTo>
                  <a:lnTo>
                    <a:pt x="395" y="833"/>
                  </a:lnTo>
                  <a:lnTo>
                    <a:pt x="389" y="840"/>
                  </a:lnTo>
                  <a:lnTo>
                    <a:pt x="383" y="848"/>
                  </a:lnTo>
                  <a:lnTo>
                    <a:pt x="377" y="858"/>
                  </a:lnTo>
                  <a:lnTo>
                    <a:pt x="379" y="874"/>
                  </a:lnTo>
                  <a:lnTo>
                    <a:pt x="387" y="884"/>
                  </a:lnTo>
                  <a:lnTo>
                    <a:pt x="397" y="888"/>
                  </a:lnTo>
                  <a:lnTo>
                    <a:pt x="413" y="892"/>
                  </a:lnTo>
                  <a:lnTo>
                    <a:pt x="401" y="903"/>
                  </a:lnTo>
                  <a:lnTo>
                    <a:pt x="389" y="919"/>
                  </a:lnTo>
                  <a:lnTo>
                    <a:pt x="340" y="957"/>
                  </a:lnTo>
                  <a:lnTo>
                    <a:pt x="308" y="999"/>
                  </a:lnTo>
                  <a:lnTo>
                    <a:pt x="288" y="1013"/>
                  </a:lnTo>
                  <a:lnTo>
                    <a:pt x="257" y="1028"/>
                  </a:lnTo>
                  <a:lnTo>
                    <a:pt x="225" y="1046"/>
                  </a:lnTo>
                  <a:lnTo>
                    <a:pt x="214" y="1055"/>
                  </a:lnTo>
                  <a:lnTo>
                    <a:pt x="209" y="1065"/>
                  </a:lnTo>
                  <a:lnTo>
                    <a:pt x="101" y="1115"/>
                  </a:lnTo>
                  <a:lnTo>
                    <a:pt x="89" y="1135"/>
                  </a:lnTo>
                  <a:lnTo>
                    <a:pt x="69" y="1178"/>
                  </a:lnTo>
                  <a:lnTo>
                    <a:pt x="45" y="1224"/>
                  </a:lnTo>
                  <a:lnTo>
                    <a:pt x="37" y="1240"/>
                  </a:lnTo>
                  <a:lnTo>
                    <a:pt x="32" y="1245"/>
                  </a:lnTo>
                  <a:lnTo>
                    <a:pt x="0" y="1232"/>
                  </a:lnTo>
                  <a:lnTo>
                    <a:pt x="5" y="1200"/>
                  </a:lnTo>
                  <a:lnTo>
                    <a:pt x="16" y="1167"/>
                  </a:lnTo>
                  <a:lnTo>
                    <a:pt x="32" y="1128"/>
                  </a:lnTo>
                  <a:lnTo>
                    <a:pt x="45" y="1086"/>
                  </a:lnTo>
                  <a:lnTo>
                    <a:pt x="58" y="1046"/>
                  </a:lnTo>
                  <a:lnTo>
                    <a:pt x="79" y="999"/>
                  </a:lnTo>
                  <a:lnTo>
                    <a:pt x="113" y="947"/>
                  </a:lnTo>
                  <a:lnTo>
                    <a:pt x="157" y="892"/>
                  </a:lnTo>
                  <a:lnTo>
                    <a:pt x="206" y="825"/>
                  </a:lnTo>
                  <a:lnTo>
                    <a:pt x="207" y="809"/>
                  </a:lnTo>
                  <a:lnTo>
                    <a:pt x="204" y="791"/>
                  </a:lnTo>
                  <a:lnTo>
                    <a:pt x="197" y="772"/>
                  </a:lnTo>
                  <a:lnTo>
                    <a:pt x="196" y="752"/>
                  </a:lnTo>
                  <a:lnTo>
                    <a:pt x="262" y="670"/>
                  </a:lnTo>
                  <a:lnTo>
                    <a:pt x="265" y="576"/>
                  </a:lnTo>
                  <a:lnTo>
                    <a:pt x="286" y="557"/>
                  </a:lnTo>
                  <a:lnTo>
                    <a:pt x="306" y="533"/>
                  </a:lnTo>
                  <a:lnTo>
                    <a:pt x="314" y="521"/>
                  </a:lnTo>
                  <a:lnTo>
                    <a:pt x="322" y="505"/>
                  </a:lnTo>
                  <a:lnTo>
                    <a:pt x="326" y="490"/>
                  </a:lnTo>
                  <a:lnTo>
                    <a:pt x="328" y="469"/>
                  </a:lnTo>
                  <a:lnTo>
                    <a:pt x="406" y="357"/>
                  </a:lnTo>
                  <a:lnTo>
                    <a:pt x="424" y="349"/>
                  </a:lnTo>
                  <a:lnTo>
                    <a:pt x="448" y="338"/>
                  </a:lnTo>
                  <a:lnTo>
                    <a:pt x="474" y="330"/>
                  </a:lnTo>
                  <a:lnTo>
                    <a:pt x="484" y="330"/>
                  </a:lnTo>
                  <a:lnTo>
                    <a:pt x="494" y="332"/>
                  </a:lnTo>
                  <a:lnTo>
                    <a:pt x="492" y="346"/>
                  </a:lnTo>
                  <a:lnTo>
                    <a:pt x="494" y="353"/>
                  </a:lnTo>
                  <a:lnTo>
                    <a:pt x="497" y="364"/>
                  </a:lnTo>
                  <a:lnTo>
                    <a:pt x="553" y="332"/>
                  </a:lnTo>
                  <a:lnTo>
                    <a:pt x="578" y="332"/>
                  </a:lnTo>
                  <a:lnTo>
                    <a:pt x="604" y="330"/>
                  </a:lnTo>
                  <a:lnTo>
                    <a:pt x="630" y="322"/>
                  </a:lnTo>
                  <a:lnTo>
                    <a:pt x="641" y="314"/>
                  </a:lnTo>
                  <a:lnTo>
                    <a:pt x="654" y="304"/>
                  </a:lnTo>
                  <a:lnTo>
                    <a:pt x="657" y="247"/>
                  </a:lnTo>
                  <a:lnTo>
                    <a:pt x="652" y="233"/>
                  </a:lnTo>
                  <a:lnTo>
                    <a:pt x="638" y="220"/>
                  </a:lnTo>
                  <a:lnTo>
                    <a:pt x="659" y="191"/>
                  </a:lnTo>
                  <a:lnTo>
                    <a:pt x="683" y="164"/>
                  </a:lnTo>
                  <a:lnTo>
                    <a:pt x="703" y="136"/>
                  </a:lnTo>
                  <a:lnTo>
                    <a:pt x="711" y="123"/>
                  </a:lnTo>
                  <a:lnTo>
                    <a:pt x="719" y="105"/>
                  </a:lnTo>
                  <a:lnTo>
                    <a:pt x="722" y="115"/>
                  </a:lnTo>
                  <a:lnTo>
                    <a:pt x="733" y="124"/>
                  </a:lnTo>
                  <a:lnTo>
                    <a:pt x="751" y="139"/>
                  </a:lnTo>
                  <a:lnTo>
                    <a:pt x="770" y="142"/>
                  </a:lnTo>
                  <a:lnTo>
                    <a:pt x="782" y="148"/>
                  </a:lnTo>
                  <a:lnTo>
                    <a:pt x="793" y="154"/>
                  </a:lnTo>
                  <a:lnTo>
                    <a:pt x="817" y="152"/>
                  </a:lnTo>
                  <a:lnTo>
                    <a:pt x="825" y="146"/>
                  </a:lnTo>
                  <a:lnTo>
                    <a:pt x="835" y="140"/>
                  </a:lnTo>
                  <a:lnTo>
                    <a:pt x="845" y="134"/>
                  </a:lnTo>
                  <a:lnTo>
                    <a:pt x="847" y="131"/>
                  </a:lnTo>
                  <a:lnTo>
                    <a:pt x="847" y="126"/>
                  </a:lnTo>
                  <a:lnTo>
                    <a:pt x="863" y="131"/>
                  </a:lnTo>
                  <a:lnTo>
                    <a:pt x="884" y="140"/>
                  </a:lnTo>
                  <a:lnTo>
                    <a:pt x="952" y="99"/>
                  </a:lnTo>
                  <a:lnTo>
                    <a:pt x="981" y="95"/>
                  </a:lnTo>
                  <a:lnTo>
                    <a:pt x="1013" y="92"/>
                  </a:lnTo>
                  <a:lnTo>
                    <a:pt x="1044" y="92"/>
                  </a:lnTo>
                  <a:lnTo>
                    <a:pt x="1078" y="97"/>
                  </a:lnTo>
                  <a:lnTo>
                    <a:pt x="1110" y="105"/>
                  </a:lnTo>
                  <a:lnTo>
                    <a:pt x="1139" y="116"/>
                  </a:lnTo>
                  <a:lnTo>
                    <a:pt x="1167" y="132"/>
                  </a:lnTo>
                  <a:lnTo>
                    <a:pt x="1191" y="154"/>
                  </a:lnTo>
                  <a:lnTo>
                    <a:pt x="1204" y="168"/>
                  </a:lnTo>
                  <a:lnTo>
                    <a:pt x="1210" y="176"/>
                  </a:lnTo>
                  <a:lnTo>
                    <a:pt x="1216" y="188"/>
                  </a:lnTo>
                  <a:lnTo>
                    <a:pt x="1216" y="204"/>
                  </a:lnTo>
                  <a:lnTo>
                    <a:pt x="1225" y="215"/>
                  </a:lnTo>
                  <a:lnTo>
                    <a:pt x="1250" y="243"/>
                  </a:lnTo>
                  <a:lnTo>
                    <a:pt x="1261" y="241"/>
                  </a:lnTo>
                  <a:lnTo>
                    <a:pt x="1269" y="239"/>
                  </a:lnTo>
                  <a:lnTo>
                    <a:pt x="1274" y="243"/>
                  </a:lnTo>
                  <a:lnTo>
                    <a:pt x="1283" y="254"/>
                  </a:lnTo>
                  <a:lnTo>
                    <a:pt x="1387" y="285"/>
                  </a:lnTo>
                  <a:lnTo>
                    <a:pt x="1394" y="278"/>
                  </a:lnTo>
                  <a:lnTo>
                    <a:pt x="1394" y="269"/>
                  </a:lnTo>
                  <a:lnTo>
                    <a:pt x="1392" y="259"/>
                  </a:lnTo>
                  <a:lnTo>
                    <a:pt x="1392" y="247"/>
                  </a:lnTo>
                  <a:lnTo>
                    <a:pt x="1408" y="249"/>
                  </a:lnTo>
                  <a:lnTo>
                    <a:pt x="1421" y="252"/>
                  </a:lnTo>
                  <a:lnTo>
                    <a:pt x="1437" y="254"/>
                  </a:lnTo>
                  <a:lnTo>
                    <a:pt x="1466" y="257"/>
                  </a:lnTo>
                  <a:lnTo>
                    <a:pt x="1468" y="278"/>
                  </a:lnTo>
                  <a:lnTo>
                    <a:pt x="1528" y="278"/>
                  </a:lnTo>
                  <a:lnTo>
                    <a:pt x="1555" y="254"/>
                  </a:lnTo>
                  <a:lnTo>
                    <a:pt x="1573" y="239"/>
                  </a:lnTo>
                  <a:lnTo>
                    <a:pt x="1587" y="221"/>
                  </a:lnTo>
                  <a:lnTo>
                    <a:pt x="1597" y="213"/>
                  </a:lnTo>
                  <a:lnTo>
                    <a:pt x="1615" y="202"/>
                  </a:lnTo>
                  <a:lnTo>
                    <a:pt x="1704" y="160"/>
                  </a:lnTo>
                  <a:lnTo>
                    <a:pt x="1711" y="154"/>
                  </a:lnTo>
                  <a:lnTo>
                    <a:pt x="1719" y="140"/>
                  </a:lnTo>
                  <a:lnTo>
                    <a:pt x="1725" y="123"/>
                  </a:lnTo>
                  <a:lnTo>
                    <a:pt x="1729" y="105"/>
                  </a:lnTo>
                  <a:lnTo>
                    <a:pt x="1763" y="55"/>
                  </a:lnTo>
                  <a:lnTo>
                    <a:pt x="1779" y="58"/>
                  </a:lnTo>
                  <a:lnTo>
                    <a:pt x="1790" y="63"/>
                  </a:lnTo>
                  <a:lnTo>
                    <a:pt x="1810" y="71"/>
                  </a:lnTo>
                  <a:lnTo>
                    <a:pt x="1842" y="77"/>
                  </a:lnTo>
                  <a:lnTo>
                    <a:pt x="1858" y="76"/>
                  </a:lnTo>
                  <a:lnTo>
                    <a:pt x="1869" y="69"/>
                  </a:lnTo>
                  <a:lnTo>
                    <a:pt x="1884" y="60"/>
                  </a:lnTo>
                  <a:lnTo>
                    <a:pt x="1900" y="47"/>
                  </a:lnTo>
                  <a:lnTo>
                    <a:pt x="1942" y="47"/>
                  </a:lnTo>
                  <a:lnTo>
                    <a:pt x="1978" y="42"/>
                  </a:lnTo>
                  <a:lnTo>
                    <a:pt x="2007" y="32"/>
                  </a:lnTo>
                  <a:lnTo>
                    <a:pt x="2031" y="19"/>
                  </a:lnTo>
                  <a:lnTo>
                    <a:pt x="2061" y="3"/>
                  </a:lnTo>
                  <a:lnTo>
                    <a:pt x="2069" y="0"/>
                  </a:lnTo>
                  <a:lnTo>
                    <a:pt x="2070" y="4"/>
                  </a:lnTo>
                  <a:close/>
                </a:path>
              </a:pathLst>
            </a:custGeom>
            <a:blipFill rotWithShape="0">
              <a:blip r:embed="rId8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1556640" y="1082520"/>
              <a:ext cx="720" cy="720"/>
            </a:xfrm>
            <a:custGeom>
              <a:avLst/>
              <a:gdLst/>
              <a:ahLst/>
              <a:rect l="l" t="t" r="r" b="b"/>
              <a:pathLst>
                <a:path w="8" h="8">
                  <a:moveTo>
                    <a:pt x="8" y="8"/>
                  </a:moveTo>
                  <a:lnTo>
                    <a:pt x="8" y="0"/>
                  </a:lnTo>
                  <a:lnTo>
                    <a:pt x="0" y="0"/>
                  </a:lnTo>
                  <a:lnTo>
                    <a:pt x="8" y="8"/>
                  </a:lnTo>
                  <a:close/>
                </a:path>
              </a:pathLst>
            </a:custGeom>
            <a:blipFill rotWithShape="0">
              <a:blip r:embed="rId81"/>
              <a:srcRect/>
              <a:tile tx="0" ty="0" sx="100000" sy="100000" algn="ctr"/>
            </a:blip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1" name=""/>
            <p:cNvSpPr/>
            <p:nvPr/>
          </p:nvSpPr>
          <p:spPr>
            <a:xfrm>
              <a:off x="1556640" y="1114920"/>
              <a:ext cx="720" cy="720"/>
            </a:xfrm>
            <a:custGeom>
              <a:avLst/>
              <a:gdLst/>
              <a:ahLst/>
              <a:rect l="l" t="t" r="r" b="b"/>
              <a:pathLst>
                <a:path w="5" h="4">
                  <a:moveTo>
                    <a:pt x="5" y="4"/>
                  </a:moveTo>
                  <a:lnTo>
                    <a:pt x="5" y="2"/>
                  </a:lnTo>
                  <a:lnTo>
                    <a:pt x="0" y="0"/>
                  </a:lnTo>
                  <a:lnTo>
                    <a:pt x="5" y="4"/>
                  </a:lnTo>
                  <a:close/>
                </a:path>
              </a:pathLst>
            </a:custGeom>
            <a:blipFill rotWithShape="0">
              <a:blip r:embed="rId82"/>
              <a:srcRect/>
              <a:tile tx="0" ty="0" sx="100000" sy="100000" algn="ctr"/>
            </a:blip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2" name=""/>
            <p:cNvSpPr/>
            <p:nvPr/>
          </p:nvSpPr>
          <p:spPr>
            <a:xfrm>
              <a:off x="1490040" y="1330560"/>
              <a:ext cx="286200" cy="209880"/>
            </a:xfrm>
            <a:custGeom>
              <a:avLst/>
              <a:gdLst/>
              <a:ahLst/>
              <a:rect l="l" t="t" r="r" b="b"/>
              <a:pathLst>
                <a:path w="2230" h="1809">
                  <a:moveTo>
                    <a:pt x="1911" y="152"/>
                  </a:moveTo>
                  <a:lnTo>
                    <a:pt x="1925" y="158"/>
                  </a:lnTo>
                  <a:lnTo>
                    <a:pt x="1952" y="160"/>
                  </a:lnTo>
                  <a:lnTo>
                    <a:pt x="1965" y="156"/>
                  </a:lnTo>
                  <a:lnTo>
                    <a:pt x="1976" y="148"/>
                  </a:lnTo>
                  <a:lnTo>
                    <a:pt x="1982" y="136"/>
                  </a:lnTo>
                  <a:lnTo>
                    <a:pt x="1982" y="119"/>
                  </a:lnTo>
                  <a:lnTo>
                    <a:pt x="2012" y="57"/>
                  </a:lnTo>
                  <a:lnTo>
                    <a:pt x="2014" y="61"/>
                  </a:lnTo>
                  <a:lnTo>
                    <a:pt x="2020" y="67"/>
                  </a:lnTo>
                  <a:lnTo>
                    <a:pt x="2025" y="67"/>
                  </a:lnTo>
                  <a:lnTo>
                    <a:pt x="2036" y="65"/>
                  </a:lnTo>
                  <a:lnTo>
                    <a:pt x="2069" y="49"/>
                  </a:lnTo>
                  <a:lnTo>
                    <a:pt x="2101" y="65"/>
                  </a:lnTo>
                  <a:lnTo>
                    <a:pt x="2110" y="67"/>
                  </a:lnTo>
                  <a:lnTo>
                    <a:pt x="2117" y="67"/>
                  </a:lnTo>
                  <a:lnTo>
                    <a:pt x="2122" y="61"/>
                  </a:lnTo>
                  <a:lnTo>
                    <a:pt x="2124" y="57"/>
                  </a:lnTo>
                  <a:lnTo>
                    <a:pt x="2154" y="119"/>
                  </a:lnTo>
                  <a:lnTo>
                    <a:pt x="2148" y="258"/>
                  </a:lnTo>
                  <a:lnTo>
                    <a:pt x="2128" y="255"/>
                  </a:lnTo>
                  <a:lnTo>
                    <a:pt x="2118" y="258"/>
                  </a:lnTo>
                  <a:lnTo>
                    <a:pt x="2118" y="266"/>
                  </a:lnTo>
                  <a:lnTo>
                    <a:pt x="2122" y="276"/>
                  </a:lnTo>
                  <a:lnTo>
                    <a:pt x="2140" y="302"/>
                  </a:lnTo>
                  <a:lnTo>
                    <a:pt x="2154" y="318"/>
                  </a:lnTo>
                  <a:lnTo>
                    <a:pt x="2151" y="341"/>
                  </a:lnTo>
                  <a:lnTo>
                    <a:pt x="2146" y="351"/>
                  </a:lnTo>
                  <a:lnTo>
                    <a:pt x="2117" y="367"/>
                  </a:lnTo>
                  <a:lnTo>
                    <a:pt x="2073" y="448"/>
                  </a:lnTo>
                  <a:lnTo>
                    <a:pt x="2069" y="503"/>
                  </a:lnTo>
                  <a:lnTo>
                    <a:pt x="2158" y="671"/>
                  </a:lnTo>
                  <a:lnTo>
                    <a:pt x="2175" y="692"/>
                  </a:lnTo>
                  <a:lnTo>
                    <a:pt x="2193" y="708"/>
                  </a:lnTo>
                  <a:lnTo>
                    <a:pt x="2211" y="726"/>
                  </a:lnTo>
                  <a:lnTo>
                    <a:pt x="2230" y="754"/>
                  </a:lnTo>
                  <a:lnTo>
                    <a:pt x="2230" y="836"/>
                  </a:lnTo>
                  <a:lnTo>
                    <a:pt x="2217" y="859"/>
                  </a:lnTo>
                  <a:lnTo>
                    <a:pt x="2199" y="882"/>
                  </a:lnTo>
                  <a:lnTo>
                    <a:pt x="2166" y="929"/>
                  </a:lnTo>
                  <a:lnTo>
                    <a:pt x="2154" y="1174"/>
                  </a:lnTo>
                  <a:lnTo>
                    <a:pt x="2144" y="1172"/>
                  </a:lnTo>
                  <a:lnTo>
                    <a:pt x="2135" y="1174"/>
                  </a:lnTo>
                  <a:lnTo>
                    <a:pt x="2128" y="1178"/>
                  </a:lnTo>
                  <a:lnTo>
                    <a:pt x="2122" y="1186"/>
                  </a:lnTo>
                  <a:lnTo>
                    <a:pt x="2114" y="1207"/>
                  </a:lnTo>
                  <a:lnTo>
                    <a:pt x="2112" y="1231"/>
                  </a:lnTo>
                  <a:lnTo>
                    <a:pt x="2112" y="1278"/>
                  </a:lnTo>
                  <a:lnTo>
                    <a:pt x="2117" y="1291"/>
                  </a:lnTo>
                  <a:lnTo>
                    <a:pt x="2154" y="1293"/>
                  </a:lnTo>
                  <a:lnTo>
                    <a:pt x="2142" y="1302"/>
                  </a:lnTo>
                  <a:lnTo>
                    <a:pt x="2132" y="1316"/>
                  </a:lnTo>
                  <a:lnTo>
                    <a:pt x="2114" y="1341"/>
                  </a:lnTo>
                  <a:lnTo>
                    <a:pt x="2096" y="1369"/>
                  </a:lnTo>
                  <a:lnTo>
                    <a:pt x="2085" y="1379"/>
                  </a:lnTo>
                  <a:lnTo>
                    <a:pt x="2069" y="1385"/>
                  </a:lnTo>
                  <a:lnTo>
                    <a:pt x="2033" y="1430"/>
                  </a:lnTo>
                  <a:lnTo>
                    <a:pt x="2014" y="1453"/>
                  </a:lnTo>
                  <a:lnTo>
                    <a:pt x="2000" y="1466"/>
                  </a:lnTo>
                  <a:lnTo>
                    <a:pt x="1982" y="1490"/>
                  </a:lnTo>
                  <a:lnTo>
                    <a:pt x="1960" y="1519"/>
                  </a:lnTo>
                  <a:lnTo>
                    <a:pt x="1933" y="1545"/>
                  </a:lnTo>
                  <a:lnTo>
                    <a:pt x="1903" y="1566"/>
                  </a:lnTo>
                  <a:lnTo>
                    <a:pt x="1871" y="1589"/>
                  </a:lnTo>
                  <a:lnTo>
                    <a:pt x="1834" y="1610"/>
                  </a:lnTo>
                  <a:lnTo>
                    <a:pt x="1793" y="1631"/>
                  </a:lnTo>
                  <a:lnTo>
                    <a:pt x="1748" y="1652"/>
                  </a:lnTo>
                  <a:lnTo>
                    <a:pt x="1704" y="1667"/>
                  </a:lnTo>
                  <a:lnTo>
                    <a:pt x="1628" y="1691"/>
                  </a:lnTo>
                  <a:lnTo>
                    <a:pt x="1605" y="1694"/>
                  </a:lnTo>
                  <a:lnTo>
                    <a:pt x="1597" y="1694"/>
                  </a:lnTo>
                  <a:lnTo>
                    <a:pt x="1586" y="1704"/>
                  </a:lnTo>
                  <a:lnTo>
                    <a:pt x="1570" y="1720"/>
                  </a:lnTo>
                  <a:lnTo>
                    <a:pt x="1530" y="1760"/>
                  </a:lnTo>
                  <a:lnTo>
                    <a:pt x="1508" y="1782"/>
                  </a:lnTo>
                  <a:lnTo>
                    <a:pt x="1489" y="1798"/>
                  </a:lnTo>
                  <a:lnTo>
                    <a:pt x="1471" y="1807"/>
                  </a:lnTo>
                  <a:lnTo>
                    <a:pt x="1461" y="1809"/>
                  </a:lnTo>
                  <a:lnTo>
                    <a:pt x="1455" y="1807"/>
                  </a:lnTo>
                  <a:lnTo>
                    <a:pt x="1436" y="1793"/>
                  </a:lnTo>
                  <a:lnTo>
                    <a:pt x="1421" y="1772"/>
                  </a:lnTo>
                  <a:lnTo>
                    <a:pt x="1398" y="1722"/>
                  </a:lnTo>
                  <a:lnTo>
                    <a:pt x="1384" y="1699"/>
                  </a:lnTo>
                  <a:lnTo>
                    <a:pt x="1368" y="1677"/>
                  </a:lnTo>
                  <a:lnTo>
                    <a:pt x="1350" y="1662"/>
                  </a:lnTo>
                  <a:lnTo>
                    <a:pt x="1339" y="1655"/>
                  </a:lnTo>
                  <a:lnTo>
                    <a:pt x="1324" y="1654"/>
                  </a:lnTo>
                  <a:lnTo>
                    <a:pt x="1319" y="1638"/>
                  </a:lnTo>
                  <a:lnTo>
                    <a:pt x="1303" y="1622"/>
                  </a:lnTo>
                  <a:lnTo>
                    <a:pt x="1282" y="1604"/>
                  </a:lnTo>
                  <a:lnTo>
                    <a:pt x="1258" y="1586"/>
                  </a:lnTo>
                  <a:lnTo>
                    <a:pt x="1209" y="1561"/>
                  </a:lnTo>
                  <a:lnTo>
                    <a:pt x="1183" y="1547"/>
                  </a:lnTo>
                  <a:lnTo>
                    <a:pt x="1047" y="1401"/>
                  </a:lnTo>
                  <a:lnTo>
                    <a:pt x="1042" y="1348"/>
                  </a:lnTo>
                  <a:lnTo>
                    <a:pt x="1041" y="1322"/>
                  </a:lnTo>
                  <a:lnTo>
                    <a:pt x="1042" y="1314"/>
                  </a:lnTo>
                  <a:lnTo>
                    <a:pt x="1047" y="1306"/>
                  </a:lnTo>
                  <a:lnTo>
                    <a:pt x="1068" y="1283"/>
                  </a:lnTo>
                  <a:lnTo>
                    <a:pt x="979" y="1107"/>
                  </a:lnTo>
                  <a:lnTo>
                    <a:pt x="900" y="1024"/>
                  </a:lnTo>
                  <a:lnTo>
                    <a:pt x="908" y="1008"/>
                  </a:lnTo>
                  <a:lnTo>
                    <a:pt x="913" y="995"/>
                  </a:lnTo>
                  <a:lnTo>
                    <a:pt x="910" y="979"/>
                  </a:lnTo>
                  <a:lnTo>
                    <a:pt x="903" y="964"/>
                  </a:lnTo>
                  <a:lnTo>
                    <a:pt x="892" y="951"/>
                  </a:lnTo>
                  <a:lnTo>
                    <a:pt x="879" y="937"/>
                  </a:lnTo>
                  <a:lnTo>
                    <a:pt x="843" y="914"/>
                  </a:lnTo>
                  <a:lnTo>
                    <a:pt x="806" y="893"/>
                  </a:lnTo>
                  <a:lnTo>
                    <a:pt x="770" y="878"/>
                  </a:lnTo>
                  <a:lnTo>
                    <a:pt x="727" y="864"/>
                  </a:lnTo>
                  <a:lnTo>
                    <a:pt x="696" y="874"/>
                  </a:lnTo>
                  <a:lnTo>
                    <a:pt x="675" y="880"/>
                  </a:lnTo>
                  <a:lnTo>
                    <a:pt x="664" y="888"/>
                  </a:lnTo>
                  <a:lnTo>
                    <a:pt x="591" y="862"/>
                  </a:lnTo>
                  <a:lnTo>
                    <a:pt x="557" y="852"/>
                  </a:lnTo>
                  <a:lnTo>
                    <a:pt x="541" y="852"/>
                  </a:lnTo>
                  <a:lnTo>
                    <a:pt x="528" y="852"/>
                  </a:lnTo>
                  <a:lnTo>
                    <a:pt x="504" y="859"/>
                  </a:lnTo>
                  <a:lnTo>
                    <a:pt x="480" y="868"/>
                  </a:lnTo>
                  <a:lnTo>
                    <a:pt x="458" y="888"/>
                  </a:lnTo>
                  <a:lnTo>
                    <a:pt x="437" y="914"/>
                  </a:lnTo>
                  <a:lnTo>
                    <a:pt x="400" y="917"/>
                  </a:lnTo>
                  <a:lnTo>
                    <a:pt x="361" y="917"/>
                  </a:lnTo>
                  <a:lnTo>
                    <a:pt x="324" y="914"/>
                  </a:lnTo>
                  <a:lnTo>
                    <a:pt x="288" y="906"/>
                  </a:lnTo>
                  <a:lnTo>
                    <a:pt x="255" y="898"/>
                  </a:lnTo>
                  <a:lnTo>
                    <a:pt x="223" y="886"/>
                  </a:lnTo>
                  <a:lnTo>
                    <a:pt x="167" y="856"/>
                  </a:lnTo>
                  <a:lnTo>
                    <a:pt x="103" y="799"/>
                  </a:lnTo>
                  <a:lnTo>
                    <a:pt x="78" y="770"/>
                  </a:lnTo>
                  <a:lnTo>
                    <a:pt x="54" y="742"/>
                  </a:lnTo>
                  <a:lnTo>
                    <a:pt x="36" y="715"/>
                  </a:lnTo>
                  <a:lnTo>
                    <a:pt x="21" y="687"/>
                  </a:lnTo>
                  <a:lnTo>
                    <a:pt x="8" y="657"/>
                  </a:lnTo>
                  <a:lnTo>
                    <a:pt x="0" y="626"/>
                  </a:lnTo>
                  <a:lnTo>
                    <a:pt x="13" y="553"/>
                  </a:lnTo>
                  <a:lnTo>
                    <a:pt x="22" y="490"/>
                  </a:lnTo>
                  <a:lnTo>
                    <a:pt x="8" y="456"/>
                  </a:lnTo>
                  <a:lnTo>
                    <a:pt x="5" y="426"/>
                  </a:lnTo>
                  <a:lnTo>
                    <a:pt x="8" y="401"/>
                  </a:lnTo>
                  <a:lnTo>
                    <a:pt x="18" y="377"/>
                  </a:lnTo>
                  <a:lnTo>
                    <a:pt x="34" y="357"/>
                  </a:lnTo>
                  <a:lnTo>
                    <a:pt x="54" y="339"/>
                  </a:lnTo>
                  <a:lnTo>
                    <a:pt x="102" y="305"/>
                  </a:lnTo>
                  <a:lnTo>
                    <a:pt x="198" y="207"/>
                  </a:lnTo>
                  <a:lnTo>
                    <a:pt x="214" y="202"/>
                  </a:lnTo>
                  <a:lnTo>
                    <a:pt x="230" y="185"/>
                  </a:lnTo>
                  <a:lnTo>
                    <a:pt x="235" y="176"/>
                  </a:lnTo>
                  <a:lnTo>
                    <a:pt x="239" y="161"/>
                  </a:lnTo>
                  <a:lnTo>
                    <a:pt x="241" y="148"/>
                  </a:lnTo>
                  <a:lnTo>
                    <a:pt x="241" y="129"/>
                  </a:lnTo>
                  <a:lnTo>
                    <a:pt x="259" y="134"/>
                  </a:lnTo>
                  <a:lnTo>
                    <a:pt x="293" y="148"/>
                  </a:lnTo>
                  <a:lnTo>
                    <a:pt x="330" y="158"/>
                  </a:lnTo>
                  <a:lnTo>
                    <a:pt x="343" y="158"/>
                  </a:lnTo>
                  <a:lnTo>
                    <a:pt x="356" y="153"/>
                  </a:lnTo>
                  <a:lnTo>
                    <a:pt x="367" y="153"/>
                  </a:lnTo>
                  <a:lnTo>
                    <a:pt x="383" y="150"/>
                  </a:lnTo>
                  <a:lnTo>
                    <a:pt x="413" y="136"/>
                  </a:lnTo>
                  <a:lnTo>
                    <a:pt x="437" y="124"/>
                  </a:lnTo>
                  <a:lnTo>
                    <a:pt x="445" y="122"/>
                  </a:lnTo>
                  <a:lnTo>
                    <a:pt x="450" y="124"/>
                  </a:lnTo>
                  <a:lnTo>
                    <a:pt x="486" y="124"/>
                  </a:lnTo>
                  <a:lnTo>
                    <a:pt x="508" y="121"/>
                  </a:lnTo>
                  <a:lnTo>
                    <a:pt x="528" y="116"/>
                  </a:lnTo>
                  <a:lnTo>
                    <a:pt x="537" y="111"/>
                  </a:lnTo>
                  <a:lnTo>
                    <a:pt x="552" y="93"/>
                  </a:lnTo>
                  <a:lnTo>
                    <a:pt x="575" y="72"/>
                  </a:lnTo>
                  <a:lnTo>
                    <a:pt x="615" y="41"/>
                  </a:lnTo>
                  <a:lnTo>
                    <a:pt x="620" y="38"/>
                  </a:lnTo>
                  <a:lnTo>
                    <a:pt x="615" y="41"/>
                  </a:lnTo>
                  <a:lnTo>
                    <a:pt x="652" y="35"/>
                  </a:lnTo>
                  <a:lnTo>
                    <a:pt x="672" y="27"/>
                  </a:lnTo>
                  <a:lnTo>
                    <a:pt x="691" y="16"/>
                  </a:lnTo>
                  <a:lnTo>
                    <a:pt x="707" y="8"/>
                  </a:lnTo>
                  <a:lnTo>
                    <a:pt x="723" y="4"/>
                  </a:lnTo>
                  <a:lnTo>
                    <a:pt x="741" y="4"/>
                  </a:lnTo>
                  <a:lnTo>
                    <a:pt x="759" y="6"/>
                  </a:lnTo>
                  <a:lnTo>
                    <a:pt x="790" y="20"/>
                  </a:lnTo>
                  <a:lnTo>
                    <a:pt x="816" y="38"/>
                  </a:lnTo>
                  <a:lnTo>
                    <a:pt x="817" y="57"/>
                  </a:lnTo>
                  <a:lnTo>
                    <a:pt x="816" y="59"/>
                  </a:lnTo>
                  <a:lnTo>
                    <a:pt x="853" y="105"/>
                  </a:lnTo>
                  <a:lnTo>
                    <a:pt x="1026" y="85"/>
                  </a:lnTo>
                  <a:lnTo>
                    <a:pt x="1033" y="71"/>
                  </a:lnTo>
                  <a:lnTo>
                    <a:pt x="1044" y="57"/>
                  </a:lnTo>
                  <a:lnTo>
                    <a:pt x="1058" y="48"/>
                  </a:lnTo>
                  <a:lnTo>
                    <a:pt x="1076" y="38"/>
                  </a:lnTo>
                  <a:lnTo>
                    <a:pt x="1115" y="22"/>
                  </a:lnTo>
                  <a:lnTo>
                    <a:pt x="1159" y="12"/>
                  </a:lnTo>
                  <a:lnTo>
                    <a:pt x="1201" y="6"/>
                  </a:lnTo>
                  <a:lnTo>
                    <a:pt x="1238" y="2"/>
                  </a:lnTo>
                  <a:lnTo>
                    <a:pt x="1274" y="0"/>
                  </a:lnTo>
                  <a:lnTo>
                    <a:pt x="1282" y="16"/>
                  </a:lnTo>
                  <a:lnTo>
                    <a:pt x="1295" y="27"/>
                  </a:lnTo>
                  <a:lnTo>
                    <a:pt x="1311" y="43"/>
                  </a:lnTo>
                  <a:lnTo>
                    <a:pt x="1323" y="65"/>
                  </a:lnTo>
                  <a:lnTo>
                    <a:pt x="1331" y="69"/>
                  </a:lnTo>
                  <a:lnTo>
                    <a:pt x="1342" y="71"/>
                  </a:lnTo>
                  <a:lnTo>
                    <a:pt x="1376" y="69"/>
                  </a:lnTo>
                  <a:lnTo>
                    <a:pt x="1410" y="67"/>
                  </a:lnTo>
                  <a:lnTo>
                    <a:pt x="1436" y="65"/>
                  </a:lnTo>
                  <a:lnTo>
                    <a:pt x="1461" y="75"/>
                  </a:lnTo>
                  <a:lnTo>
                    <a:pt x="1489" y="83"/>
                  </a:lnTo>
                  <a:lnTo>
                    <a:pt x="1546" y="95"/>
                  </a:lnTo>
                  <a:lnTo>
                    <a:pt x="1575" y="101"/>
                  </a:lnTo>
                  <a:lnTo>
                    <a:pt x="1604" y="108"/>
                  </a:lnTo>
                  <a:lnTo>
                    <a:pt x="1631" y="121"/>
                  </a:lnTo>
                  <a:lnTo>
                    <a:pt x="1656" y="138"/>
                  </a:lnTo>
                  <a:lnTo>
                    <a:pt x="1706" y="145"/>
                  </a:lnTo>
                  <a:lnTo>
                    <a:pt x="1753" y="153"/>
                  </a:lnTo>
                  <a:lnTo>
                    <a:pt x="1797" y="158"/>
                  </a:lnTo>
                  <a:lnTo>
                    <a:pt x="1814" y="156"/>
                  </a:lnTo>
                  <a:lnTo>
                    <a:pt x="1832" y="148"/>
                  </a:lnTo>
                  <a:lnTo>
                    <a:pt x="1834" y="158"/>
                  </a:lnTo>
                  <a:lnTo>
                    <a:pt x="1838" y="161"/>
                  </a:lnTo>
                  <a:lnTo>
                    <a:pt x="1845" y="163"/>
                  </a:lnTo>
                  <a:lnTo>
                    <a:pt x="1856" y="166"/>
                  </a:lnTo>
                  <a:lnTo>
                    <a:pt x="1869" y="166"/>
                  </a:lnTo>
                  <a:lnTo>
                    <a:pt x="1887" y="160"/>
                  </a:lnTo>
                  <a:lnTo>
                    <a:pt x="1911" y="152"/>
                  </a:lnTo>
                  <a:close/>
                </a:path>
              </a:pathLst>
            </a:custGeom>
            <a:blipFill rotWithShape="0">
              <a:blip r:embed="rId8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1569240" y="1335240"/>
              <a:ext cx="720" cy="720"/>
            </a:xfrm>
            <a:custGeom>
              <a:avLst/>
              <a:gdLst/>
              <a:ahLst/>
              <a:rect l="l" t="t" r="r" b="b"/>
              <a:pathLst>
                <a:path w="5" h="3">
                  <a:moveTo>
                    <a:pt x="0" y="3"/>
                  </a:moveTo>
                  <a:lnTo>
                    <a:pt x="5" y="0"/>
                  </a:lnTo>
                  <a:lnTo>
                    <a:pt x="0" y="3"/>
                  </a:lnTo>
                  <a:lnTo>
                    <a:pt x="0" y="3"/>
                  </a:lnTo>
                  <a:close/>
                </a:path>
              </a:pathLst>
            </a:custGeom>
            <a:blipFill rotWithShape="0">
              <a:blip r:embed="rId84"/>
              <a:srcRect/>
              <a:tile tx="0" ty="0" sx="100000" sy="100000" algn="ctr"/>
            </a:blip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134" name=""/>
            <p:cNvSpPr/>
            <p:nvPr/>
          </p:nvSpPr>
          <p:spPr>
            <a:xfrm>
              <a:off x="1517760" y="1071360"/>
              <a:ext cx="297360" cy="275760"/>
            </a:xfrm>
            <a:custGeom>
              <a:avLst/>
              <a:gdLst/>
              <a:ahLst/>
              <a:rect l="l" t="t" r="r" b="b"/>
              <a:pathLst>
                <a:path w="2318" h="2383">
                  <a:moveTo>
                    <a:pt x="1352" y="144"/>
                  </a:moveTo>
                  <a:lnTo>
                    <a:pt x="1340" y="154"/>
                  </a:lnTo>
                  <a:lnTo>
                    <a:pt x="1336" y="162"/>
                  </a:lnTo>
                  <a:lnTo>
                    <a:pt x="1336" y="172"/>
                  </a:lnTo>
                  <a:lnTo>
                    <a:pt x="1340" y="182"/>
                  </a:lnTo>
                  <a:lnTo>
                    <a:pt x="1355" y="198"/>
                  </a:lnTo>
                  <a:lnTo>
                    <a:pt x="1376" y="207"/>
                  </a:lnTo>
                  <a:lnTo>
                    <a:pt x="1478" y="303"/>
                  </a:lnTo>
                  <a:lnTo>
                    <a:pt x="1525" y="199"/>
                  </a:lnTo>
                  <a:lnTo>
                    <a:pt x="1521" y="196"/>
                  </a:lnTo>
                  <a:lnTo>
                    <a:pt x="1517" y="191"/>
                  </a:lnTo>
                  <a:lnTo>
                    <a:pt x="1510" y="191"/>
                  </a:lnTo>
                  <a:lnTo>
                    <a:pt x="1497" y="193"/>
                  </a:lnTo>
                  <a:lnTo>
                    <a:pt x="1488" y="190"/>
                  </a:lnTo>
                  <a:lnTo>
                    <a:pt x="1510" y="172"/>
                  </a:lnTo>
                  <a:lnTo>
                    <a:pt x="1529" y="151"/>
                  </a:lnTo>
                  <a:lnTo>
                    <a:pt x="1552" y="130"/>
                  </a:lnTo>
                  <a:lnTo>
                    <a:pt x="1583" y="112"/>
                  </a:lnTo>
                  <a:lnTo>
                    <a:pt x="1591" y="94"/>
                  </a:lnTo>
                  <a:lnTo>
                    <a:pt x="1596" y="86"/>
                  </a:lnTo>
                  <a:lnTo>
                    <a:pt x="1606" y="79"/>
                  </a:lnTo>
                  <a:lnTo>
                    <a:pt x="1624" y="70"/>
                  </a:lnTo>
                  <a:lnTo>
                    <a:pt x="1624" y="42"/>
                  </a:lnTo>
                  <a:lnTo>
                    <a:pt x="1622" y="24"/>
                  </a:lnTo>
                  <a:lnTo>
                    <a:pt x="1622" y="2"/>
                  </a:lnTo>
                  <a:lnTo>
                    <a:pt x="1625" y="0"/>
                  </a:lnTo>
                  <a:lnTo>
                    <a:pt x="1636" y="0"/>
                  </a:lnTo>
                  <a:lnTo>
                    <a:pt x="1679" y="5"/>
                  </a:lnTo>
                  <a:lnTo>
                    <a:pt x="1683" y="10"/>
                  </a:lnTo>
                  <a:lnTo>
                    <a:pt x="1687" y="16"/>
                  </a:lnTo>
                  <a:lnTo>
                    <a:pt x="1690" y="34"/>
                  </a:lnTo>
                  <a:lnTo>
                    <a:pt x="1690" y="71"/>
                  </a:lnTo>
                  <a:lnTo>
                    <a:pt x="1898" y="188"/>
                  </a:lnTo>
                  <a:lnTo>
                    <a:pt x="1915" y="249"/>
                  </a:lnTo>
                  <a:lnTo>
                    <a:pt x="1931" y="264"/>
                  </a:lnTo>
                  <a:lnTo>
                    <a:pt x="1947" y="282"/>
                  </a:lnTo>
                  <a:lnTo>
                    <a:pt x="1981" y="318"/>
                  </a:lnTo>
                  <a:lnTo>
                    <a:pt x="2054" y="340"/>
                  </a:lnTo>
                  <a:lnTo>
                    <a:pt x="2064" y="337"/>
                  </a:lnTo>
                  <a:lnTo>
                    <a:pt x="2072" y="335"/>
                  </a:lnTo>
                  <a:lnTo>
                    <a:pt x="2083" y="324"/>
                  </a:lnTo>
                  <a:lnTo>
                    <a:pt x="2091" y="310"/>
                  </a:lnTo>
                  <a:lnTo>
                    <a:pt x="2104" y="298"/>
                  </a:lnTo>
                  <a:lnTo>
                    <a:pt x="2242" y="345"/>
                  </a:lnTo>
                  <a:lnTo>
                    <a:pt x="2200" y="448"/>
                  </a:lnTo>
                  <a:lnTo>
                    <a:pt x="2203" y="452"/>
                  </a:lnTo>
                  <a:lnTo>
                    <a:pt x="2204" y="456"/>
                  </a:lnTo>
                  <a:lnTo>
                    <a:pt x="2214" y="456"/>
                  </a:lnTo>
                  <a:lnTo>
                    <a:pt x="2226" y="454"/>
                  </a:lnTo>
                  <a:lnTo>
                    <a:pt x="2237" y="456"/>
                  </a:lnTo>
                  <a:lnTo>
                    <a:pt x="2227" y="476"/>
                  </a:lnTo>
                  <a:lnTo>
                    <a:pt x="2226" y="497"/>
                  </a:lnTo>
                  <a:lnTo>
                    <a:pt x="2226" y="517"/>
                  </a:lnTo>
                  <a:lnTo>
                    <a:pt x="2226" y="539"/>
                  </a:lnTo>
                  <a:lnTo>
                    <a:pt x="2226" y="549"/>
                  </a:lnTo>
                  <a:lnTo>
                    <a:pt x="2230" y="555"/>
                  </a:lnTo>
                  <a:lnTo>
                    <a:pt x="2242" y="559"/>
                  </a:lnTo>
                  <a:lnTo>
                    <a:pt x="2255" y="562"/>
                  </a:lnTo>
                  <a:lnTo>
                    <a:pt x="2273" y="567"/>
                  </a:lnTo>
                  <a:lnTo>
                    <a:pt x="2318" y="656"/>
                  </a:lnTo>
                  <a:lnTo>
                    <a:pt x="2174" y="705"/>
                  </a:lnTo>
                  <a:lnTo>
                    <a:pt x="2171" y="792"/>
                  </a:lnTo>
                  <a:lnTo>
                    <a:pt x="2043" y="853"/>
                  </a:lnTo>
                  <a:lnTo>
                    <a:pt x="2025" y="890"/>
                  </a:lnTo>
                  <a:lnTo>
                    <a:pt x="2009" y="923"/>
                  </a:lnTo>
                  <a:lnTo>
                    <a:pt x="2007" y="938"/>
                  </a:lnTo>
                  <a:lnTo>
                    <a:pt x="2010" y="952"/>
                  </a:lnTo>
                  <a:lnTo>
                    <a:pt x="2020" y="962"/>
                  </a:lnTo>
                  <a:lnTo>
                    <a:pt x="2041" y="971"/>
                  </a:lnTo>
                  <a:lnTo>
                    <a:pt x="2115" y="1072"/>
                  </a:lnTo>
                  <a:lnTo>
                    <a:pt x="2115" y="1156"/>
                  </a:lnTo>
                  <a:lnTo>
                    <a:pt x="2222" y="1295"/>
                  </a:lnTo>
                  <a:lnTo>
                    <a:pt x="2300" y="1368"/>
                  </a:lnTo>
                  <a:lnTo>
                    <a:pt x="2287" y="1370"/>
                  </a:lnTo>
                  <a:lnTo>
                    <a:pt x="2273" y="1376"/>
                  </a:lnTo>
                  <a:lnTo>
                    <a:pt x="2243" y="1397"/>
                  </a:lnTo>
                  <a:lnTo>
                    <a:pt x="2172" y="1460"/>
                  </a:lnTo>
                  <a:lnTo>
                    <a:pt x="2133" y="1496"/>
                  </a:lnTo>
                  <a:lnTo>
                    <a:pt x="2091" y="1525"/>
                  </a:lnTo>
                  <a:lnTo>
                    <a:pt x="2070" y="1538"/>
                  </a:lnTo>
                  <a:lnTo>
                    <a:pt x="2048" y="1546"/>
                  </a:lnTo>
                  <a:lnTo>
                    <a:pt x="2027" y="1551"/>
                  </a:lnTo>
                  <a:lnTo>
                    <a:pt x="2005" y="1553"/>
                  </a:lnTo>
                  <a:lnTo>
                    <a:pt x="1963" y="1538"/>
                  </a:lnTo>
                  <a:lnTo>
                    <a:pt x="1947" y="1528"/>
                  </a:lnTo>
                  <a:lnTo>
                    <a:pt x="1934" y="1514"/>
                  </a:lnTo>
                  <a:lnTo>
                    <a:pt x="1886" y="1538"/>
                  </a:lnTo>
                  <a:lnTo>
                    <a:pt x="1871" y="1548"/>
                  </a:lnTo>
                  <a:lnTo>
                    <a:pt x="1873" y="1551"/>
                  </a:lnTo>
                  <a:lnTo>
                    <a:pt x="1876" y="1557"/>
                  </a:lnTo>
                  <a:lnTo>
                    <a:pt x="1890" y="1579"/>
                  </a:lnTo>
                  <a:lnTo>
                    <a:pt x="1839" y="1583"/>
                  </a:lnTo>
                  <a:lnTo>
                    <a:pt x="1745" y="1745"/>
                  </a:lnTo>
                  <a:lnTo>
                    <a:pt x="1697" y="1770"/>
                  </a:lnTo>
                  <a:lnTo>
                    <a:pt x="1641" y="1800"/>
                  </a:lnTo>
                  <a:lnTo>
                    <a:pt x="1616" y="1815"/>
                  </a:lnTo>
                  <a:lnTo>
                    <a:pt x="1593" y="1836"/>
                  </a:lnTo>
                  <a:lnTo>
                    <a:pt x="1577" y="1859"/>
                  </a:lnTo>
                  <a:lnTo>
                    <a:pt x="1570" y="1871"/>
                  </a:lnTo>
                  <a:lnTo>
                    <a:pt x="1569" y="1885"/>
                  </a:lnTo>
                  <a:lnTo>
                    <a:pt x="1561" y="1899"/>
                  </a:lnTo>
                  <a:lnTo>
                    <a:pt x="1551" y="1909"/>
                  </a:lnTo>
                  <a:lnTo>
                    <a:pt x="1537" y="1914"/>
                  </a:lnTo>
                  <a:lnTo>
                    <a:pt x="1523" y="1918"/>
                  </a:lnTo>
                  <a:lnTo>
                    <a:pt x="1494" y="1926"/>
                  </a:lnTo>
                  <a:lnTo>
                    <a:pt x="1480" y="1934"/>
                  </a:lnTo>
                  <a:lnTo>
                    <a:pt x="1470" y="1944"/>
                  </a:lnTo>
                  <a:lnTo>
                    <a:pt x="1472" y="1957"/>
                  </a:lnTo>
                  <a:lnTo>
                    <a:pt x="1480" y="1967"/>
                  </a:lnTo>
                  <a:lnTo>
                    <a:pt x="1492" y="1974"/>
                  </a:lnTo>
                  <a:lnTo>
                    <a:pt x="1505" y="1975"/>
                  </a:lnTo>
                  <a:lnTo>
                    <a:pt x="1537" y="1977"/>
                  </a:lnTo>
                  <a:lnTo>
                    <a:pt x="1569" y="1980"/>
                  </a:lnTo>
                  <a:lnTo>
                    <a:pt x="1593" y="1974"/>
                  </a:lnTo>
                  <a:lnTo>
                    <a:pt x="1612" y="1964"/>
                  </a:lnTo>
                  <a:lnTo>
                    <a:pt x="1625" y="1949"/>
                  </a:lnTo>
                  <a:lnTo>
                    <a:pt x="1638" y="1934"/>
                  </a:lnTo>
                  <a:lnTo>
                    <a:pt x="1646" y="1914"/>
                  </a:lnTo>
                  <a:lnTo>
                    <a:pt x="1651" y="1894"/>
                  </a:lnTo>
                  <a:lnTo>
                    <a:pt x="1657" y="1849"/>
                  </a:lnTo>
                  <a:lnTo>
                    <a:pt x="1667" y="1836"/>
                  </a:lnTo>
                  <a:lnTo>
                    <a:pt x="1677" y="1828"/>
                  </a:lnTo>
                  <a:lnTo>
                    <a:pt x="1687" y="1828"/>
                  </a:lnTo>
                  <a:lnTo>
                    <a:pt x="1697" y="1829"/>
                  </a:lnTo>
                  <a:lnTo>
                    <a:pt x="1705" y="1837"/>
                  </a:lnTo>
                  <a:lnTo>
                    <a:pt x="1711" y="1845"/>
                  </a:lnTo>
                  <a:lnTo>
                    <a:pt x="1717" y="1862"/>
                  </a:lnTo>
                  <a:lnTo>
                    <a:pt x="1784" y="1901"/>
                  </a:lnTo>
                  <a:lnTo>
                    <a:pt x="1803" y="1917"/>
                  </a:lnTo>
                  <a:lnTo>
                    <a:pt x="1813" y="1934"/>
                  </a:lnTo>
                  <a:lnTo>
                    <a:pt x="1819" y="1959"/>
                  </a:lnTo>
                  <a:lnTo>
                    <a:pt x="1819" y="1991"/>
                  </a:lnTo>
                  <a:lnTo>
                    <a:pt x="1818" y="2098"/>
                  </a:lnTo>
                  <a:lnTo>
                    <a:pt x="1790" y="2153"/>
                  </a:lnTo>
                  <a:lnTo>
                    <a:pt x="1769" y="2205"/>
                  </a:lnTo>
                  <a:lnTo>
                    <a:pt x="1737" y="2321"/>
                  </a:lnTo>
                  <a:lnTo>
                    <a:pt x="1730" y="2335"/>
                  </a:lnTo>
                  <a:lnTo>
                    <a:pt x="1719" y="2351"/>
                  </a:lnTo>
                  <a:lnTo>
                    <a:pt x="1695" y="2383"/>
                  </a:lnTo>
                  <a:lnTo>
                    <a:pt x="1636" y="2359"/>
                  </a:lnTo>
                  <a:lnTo>
                    <a:pt x="1578" y="2336"/>
                  </a:lnTo>
                  <a:lnTo>
                    <a:pt x="1521" y="2321"/>
                  </a:lnTo>
                  <a:lnTo>
                    <a:pt x="1466" y="2309"/>
                  </a:lnTo>
                  <a:lnTo>
                    <a:pt x="1353" y="2295"/>
                  </a:lnTo>
                  <a:lnTo>
                    <a:pt x="1241" y="2281"/>
                  </a:lnTo>
                  <a:lnTo>
                    <a:pt x="1156" y="2215"/>
                  </a:lnTo>
                  <a:lnTo>
                    <a:pt x="1125" y="2190"/>
                  </a:lnTo>
                  <a:lnTo>
                    <a:pt x="1099" y="2166"/>
                  </a:lnTo>
                  <a:lnTo>
                    <a:pt x="1091" y="2161"/>
                  </a:lnTo>
                  <a:lnTo>
                    <a:pt x="1089" y="2153"/>
                  </a:lnTo>
                  <a:lnTo>
                    <a:pt x="1086" y="2135"/>
                  </a:lnTo>
                  <a:lnTo>
                    <a:pt x="1085" y="2119"/>
                  </a:lnTo>
                  <a:lnTo>
                    <a:pt x="1083" y="2114"/>
                  </a:lnTo>
                  <a:lnTo>
                    <a:pt x="1077" y="2108"/>
                  </a:lnTo>
                  <a:lnTo>
                    <a:pt x="1059" y="2100"/>
                  </a:lnTo>
                  <a:lnTo>
                    <a:pt x="1049" y="2094"/>
                  </a:lnTo>
                  <a:lnTo>
                    <a:pt x="1046" y="2085"/>
                  </a:lnTo>
                  <a:lnTo>
                    <a:pt x="1044" y="2080"/>
                  </a:lnTo>
                  <a:lnTo>
                    <a:pt x="1044" y="2066"/>
                  </a:lnTo>
                  <a:lnTo>
                    <a:pt x="1039" y="2058"/>
                  </a:lnTo>
                  <a:lnTo>
                    <a:pt x="1031" y="2053"/>
                  </a:lnTo>
                  <a:lnTo>
                    <a:pt x="1010" y="2054"/>
                  </a:lnTo>
                  <a:lnTo>
                    <a:pt x="996" y="2056"/>
                  </a:lnTo>
                  <a:lnTo>
                    <a:pt x="986" y="2062"/>
                  </a:lnTo>
                  <a:lnTo>
                    <a:pt x="983" y="2070"/>
                  </a:lnTo>
                  <a:lnTo>
                    <a:pt x="971" y="2096"/>
                  </a:lnTo>
                  <a:lnTo>
                    <a:pt x="963" y="2111"/>
                  </a:lnTo>
                  <a:lnTo>
                    <a:pt x="949" y="2129"/>
                  </a:lnTo>
                  <a:lnTo>
                    <a:pt x="937" y="2134"/>
                  </a:lnTo>
                  <a:lnTo>
                    <a:pt x="927" y="2143"/>
                  </a:lnTo>
                  <a:lnTo>
                    <a:pt x="921" y="2150"/>
                  </a:lnTo>
                  <a:lnTo>
                    <a:pt x="918" y="2151"/>
                  </a:lnTo>
                  <a:lnTo>
                    <a:pt x="918" y="2150"/>
                  </a:lnTo>
                  <a:lnTo>
                    <a:pt x="915" y="2103"/>
                  </a:lnTo>
                  <a:lnTo>
                    <a:pt x="915" y="2053"/>
                  </a:lnTo>
                  <a:lnTo>
                    <a:pt x="895" y="2045"/>
                  </a:lnTo>
                  <a:lnTo>
                    <a:pt x="887" y="2038"/>
                  </a:lnTo>
                  <a:lnTo>
                    <a:pt x="887" y="2025"/>
                  </a:lnTo>
                  <a:lnTo>
                    <a:pt x="890" y="1991"/>
                  </a:lnTo>
                  <a:lnTo>
                    <a:pt x="905" y="1980"/>
                  </a:lnTo>
                  <a:lnTo>
                    <a:pt x="921" y="1965"/>
                  </a:lnTo>
                  <a:lnTo>
                    <a:pt x="949" y="1936"/>
                  </a:lnTo>
                  <a:lnTo>
                    <a:pt x="965" y="1922"/>
                  </a:lnTo>
                  <a:lnTo>
                    <a:pt x="984" y="1910"/>
                  </a:lnTo>
                  <a:lnTo>
                    <a:pt x="1008" y="1904"/>
                  </a:lnTo>
                  <a:lnTo>
                    <a:pt x="1039" y="1902"/>
                  </a:lnTo>
                  <a:lnTo>
                    <a:pt x="1026" y="1894"/>
                  </a:lnTo>
                  <a:lnTo>
                    <a:pt x="1014" y="1885"/>
                  </a:lnTo>
                  <a:lnTo>
                    <a:pt x="992" y="1862"/>
                  </a:lnTo>
                  <a:lnTo>
                    <a:pt x="973" y="1837"/>
                  </a:lnTo>
                  <a:lnTo>
                    <a:pt x="960" y="1829"/>
                  </a:lnTo>
                  <a:lnTo>
                    <a:pt x="949" y="1821"/>
                  </a:lnTo>
                  <a:lnTo>
                    <a:pt x="882" y="1878"/>
                  </a:lnTo>
                  <a:lnTo>
                    <a:pt x="872" y="1902"/>
                  </a:lnTo>
                  <a:lnTo>
                    <a:pt x="870" y="1925"/>
                  </a:lnTo>
                  <a:lnTo>
                    <a:pt x="866" y="1941"/>
                  </a:lnTo>
                  <a:lnTo>
                    <a:pt x="860" y="1949"/>
                  </a:lnTo>
                  <a:lnTo>
                    <a:pt x="852" y="1957"/>
                  </a:lnTo>
                  <a:lnTo>
                    <a:pt x="848" y="1982"/>
                  </a:lnTo>
                  <a:lnTo>
                    <a:pt x="850" y="2006"/>
                  </a:lnTo>
                  <a:lnTo>
                    <a:pt x="850" y="2029"/>
                  </a:lnTo>
                  <a:lnTo>
                    <a:pt x="846" y="2038"/>
                  </a:lnTo>
                  <a:lnTo>
                    <a:pt x="842" y="2046"/>
                  </a:lnTo>
                  <a:lnTo>
                    <a:pt x="840" y="2053"/>
                  </a:lnTo>
                  <a:lnTo>
                    <a:pt x="834" y="2056"/>
                  </a:lnTo>
                  <a:lnTo>
                    <a:pt x="814" y="2058"/>
                  </a:lnTo>
                  <a:lnTo>
                    <a:pt x="791" y="2058"/>
                  </a:lnTo>
                  <a:lnTo>
                    <a:pt x="777" y="2061"/>
                  </a:lnTo>
                  <a:lnTo>
                    <a:pt x="777" y="2058"/>
                  </a:lnTo>
                  <a:lnTo>
                    <a:pt x="774" y="2058"/>
                  </a:lnTo>
                  <a:lnTo>
                    <a:pt x="759" y="2058"/>
                  </a:lnTo>
                  <a:lnTo>
                    <a:pt x="708" y="2064"/>
                  </a:lnTo>
                  <a:lnTo>
                    <a:pt x="643" y="2076"/>
                  </a:lnTo>
                  <a:lnTo>
                    <a:pt x="735" y="2098"/>
                  </a:lnTo>
                  <a:lnTo>
                    <a:pt x="782" y="2103"/>
                  </a:lnTo>
                  <a:lnTo>
                    <a:pt x="805" y="2106"/>
                  </a:lnTo>
                  <a:lnTo>
                    <a:pt x="819" y="2108"/>
                  </a:lnTo>
                  <a:lnTo>
                    <a:pt x="829" y="2103"/>
                  </a:lnTo>
                  <a:lnTo>
                    <a:pt x="890" y="2126"/>
                  </a:lnTo>
                  <a:lnTo>
                    <a:pt x="892" y="2132"/>
                  </a:lnTo>
                  <a:lnTo>
                    <a:pt x="890" y="2142"/>
                  </a:lnTo>
                  <a:lnTo>
                    <a:pt x="886" y="2165"/>
                  </a:lnTo>
                  <a:lnTo>
                    <a:pt x="876" y="2187"/>
                  </a:lnTo>
                  <a:lnTo>
                    <a:pt x="868" y="2200"/>
                  </a:lnTo>
                  <a:lnTo>
                    <a:pt x="860" y="2213"/>
                  </a:lnTo>
                  <a:lnTo>
                    <a:pt x="858" y="2226"/>
                  </a:lnTo>
                  <a:lnTo>
                    <a:pt x="854" y="2236"/>
                  </a:lnTo>
                  <a:lnTo>
                    <a:pt x="848" y="2240"/>
                  </a:lnTo>
                  <a:lnTo>
                    <a:pt x="842" y="2242"/>
                  </a:lnTo>
                  <a:lnTo>
                    <a:pt x="837" y="2238"/>
                  </a:lnTo>
                  <a:lnTo>
                    <a:pt x="834" y="2231"/>
                  </a:lnTo>
                  <a:lnTo>
                    <a:pt x="830" y="2210"/>
                  </a:lnTo>
                  <a:lnTo>
                    <a:pt x="830" y="2171"/>
                  </a:lnTo>
                  <a:lnTo>
                    <a:pt x="805" y="2165"/>
                  </a:lnTo>
                  <a:lnTo>
                    <a:pt x="782" y="2163"/>
                  </a:lnTo>
                  <a:lnTo>
                    <a:pt x="774" y="2165"/>
                  </a:lnTo>
                  <a:lnTo>
                    <a:pt x="767" y="2166"/>
                  </a:lnTo>
                  <a:lnTo>
                    <a:pt x="685" y="2165"/>
                  </a:lnTo>
                  <a:lnTo>
                    <a:pt x="572" y="2137"/>
                  </a:lnTo>
                  <a:lnTo>
                    <a:pt x="465" y="2159"/>
                  </a:lnTo>
                  <a:lnTo>
                    <a:pt x="445" y="2165"/>
                  </a:lnTo>
                  <a:lnTo>
                    <a:pt x="437" y="2171"/>
                  </a:lnTo>
                  <a:lnTo>
                    <a:pt x="436" y="2179"/>
                  </a:lnTo>
                  <a:lnTo>
                    <a:pt x="432" y="2190"/>
                  </a:lnTo>
                  <a:lnTo>
                    <a:pt x="416" y="2208"/>
                  </a:lnTo>
                  <a:lnTo>
                    <a:pt x="384" y="2234"/>
                  </a:lnTo>
                  <a:lnTo>
                    <a:pt x="359" y="2232"/>
                  </a:lnTo>
                  <a:lnTo>
                    <a:pt x="351" y="2231"/>
                  </a:lnTo>
                  <a:lnTo>
                    <a:pt x="343" y="2240"/>
                  </a:lnTo>
                  <a:lnTo>
                    <a:pt x="327" y="2265"/>
                  </a:lnTo>
                  <a:lnTo>
                    <a:pt x="341" y="2263"/>
                  </a:lnTo>
                  <a:lnTo>
                    <a:pt x="343" y="2265"/>
                  </a:lnTo>
                  <a:lnTo>
                    <a:pt x="341" y="2270"/>
                  </a:lnTo>
                  <a:lnTo>
                    <a:pt x="308" y="2289"/>
                  </a:lnTo>
                  <a:lnTo>
                    <a:pt x="258" y="2310"/>
                  </a:lnTo>
                  <a:lnTo>
                    <a:pt x="209" y="2325"/>
                  </a:lnTo>
                  <a:lnTo>
                    <a:pt x="173" y="2321"/>
                  </a:lnTo>
                  <a:lnTo>
                    <a:pt x="141" y="2323"/>
                  </a:lnTo>
                  <a:lnTo>
                    <a:pt x="110" y="2328"/>
                  </a:lnTo>
                  <a:lnTo>
                    <a:pt x="84" y="2339"/>
                  </a:lnTo>
                  <a:lnTo>
                    <a:pt x="42" y="2359"/>
                  </a:lnTo>
                  <a:lnTo>
                    <a:pt x="31" y="2364"/>
                  </a:lnTo>
                  <a:lnTo>
                    <a:pt x="27" y="2364"/>
                  </a:lnTo>
                  <a:lnTo>
                    <a:pt x="15" y="2352"/>
                  </a:lnTo>
                  <a:lnTo>
                    <a:pt x="8" y="2341"/>
                  </a:lnTo>
                  <a:lnTo>
                    <a:pt x="2" y="2327"/>
                  </a:lnTo>
                  <a:lnTo>
                    <a:pt x="0" y="2310"/>
                  </a:lnTo>
                  <a:lnTo>
                    <a:pt x="2" y="2279"/>
                  </a:lnTo>
                  <a:lnTo>
                    <a:pt x="13" y="2247"/>
                  </a:lnTo>
                  <a:lnTo>
                    <a:pt x="35" y="2215"/>
                  </a:lnTo>
                  <a:lnTo>
                    <a:pt x="65" y="2182"/>
                  </a:lnTo>
                  <a:lnTo>
                    <a:pt x="102" y="2155"/>
                  </a:lnTo>
                  <a:lnTo>
                    <a:pt x="147" y="2132"/>
                  </a:lnTo>
                  <a:lnTo>
                    <a:pt x="152" y="2126"/>
                  </a:lnTo>
                  <a:lnTo>
                    <a:pt x="165" y="2118"/>
                  </a:lnTo>
                  <a:lnTo>
                    <a:pt x="207" y="2098"/>
                  </a:lnTo>
                  <a:lnTo>
                    <a:pt x="251" y="2076"/>
                  </a:lnTo>
                  <a:lnTo>
                    <a:pt x="275" y="2062"/>
                  </a:lnTo>
                  <a:lnTo>
                    <a:pt x="284" y="2035"/>
                  </a:lnTo>
                  <a:lnTo>
                    <a:pt x="290" y="2017"/>
                  </a:lnTo>
                  <a:lnTo>
                    <a:pt x="292" y="2001"/>
                  </a:lnTo>
                  <a:lnTo>
                    <a:pt x="296" y="1988"/>
                  </a:lnTo>
                  <a:lnTo>
                    <a:pt x="308" y="1974"/>
                  </a:lnTo>
                  <a:lnTo>
                    <a:pt x="325" y="1956"/>
                  </a:lnTo>
                  <a:lnTo>
                    <a:pt x="333" y="1944"/>
                  </a:lnTo>
                  <a:lnTo>
                    <a:pt x="341" y="1932"/>
                  </a:lnTo>
                  <a:lnTo>
                    <a:pt x="337" y="1922"/>
                  </a:lnTo>
                  <a:lnTo>
                    <a:pt x="333" y="1920"/>
                  </a:lnTo>
                  <a:lnTo>
                    <a:pt x="325" y="1920"/>
                  </a:lnTo>
                  <a:lnTo>
                    <a:pt x="325" y="1917"/>
                  </a:lnTo>
                  <a:lnTo>
                    <a:pt x="329" y="1907"/>
                  </a:lnTo>
                  <a:lnTo>
                    <a:pt x="359" y="1855"/>
                  </a:lnTo>
                  <a:lnTo>
                    <a:pt x="387" y="1837"/>
                  </a:lnTo>
                  <a:lnTo>
                    <a:pt x="414" y="1823"/>
                  </a:lnTo>
                  <a:lnTo>
                    <a:pt x="440" y="1810"/>
                  </a:lnTo>
                  <a:lnTo>
                    <a:pt x="461" y="1794"/>
                  </a:lnTo>
                  <a:lnTo>
                    <a:pt x="573" y="1802"/>
                  </a:lnTo>
                  <a:lnTo>
                    <a:pt x="572" y="1797"/>
                  </a:lnTo>
                  <a:lnTo>
                    <a:pt x="573" y="1790"/>
                  </a:lnTo>
                  <a:lnTo>
                    <a:pt x="588" y="1768"/>
                  </a:lnTo>
                  <a:lnTo>
                    <a:pt x="617" y="1732"/>
                  </a:lnTo>
                  <a:lnTo>
                    <a:pt x="620" y="1661"/>
                  </a:lnTo>
                  <a:lnTo>
                    <a:pt x="564" y="1559"/>
                  </a:lnTo>
                  <a:lnTo>
                    <a:pt x="554" y="1561"/>
                  </a:lnTo>
                  <a:lnTo>
                    <a:pt x="549" y="1564"/>
                  </a:lnTo>
                  <a:lnTo>
                    <a:pt x="546" y="1569"/>
                  </a:lnTo>
                  <a:lnTo>
                    <a:pt x="544" y="1575"/>
                  </a:lnTo>
                  <a:lnTo>
                    <a:pt x="549" y="1614"/>
                  </a:lnTo>
                  <a:lnTo>
                    <a:pt x="554" y="1622"/>
                  </a:lnTo>
                  <a:lnTo>
                    <a:pt x="558" y="1629"/>
                  </a:lnTo>
                  <a:lnTo>
                    <a:pt x="564" y="1637"/>
                  </a:lnTo>
                  <a:lnTo>
                    <a:pt x="549" y="1629"/>
                  </a:lnTo>
                  <a:lnTo>
                    <a:pt x="536" y="1630"/>
                  </a:lnTo>
                  <a:lnTo>
                    <a:pt x="531" y="1638"/>
                  </a:lnTo>
                  <a:lnTo>
                    <a:pt x="526" y="1650"/>
                  </a:lnTo>
                  <a:lnTo>
                    <a:pt x="523" y="1679"/>
                  </a:lnTo>
                  <a:lnTo>
                    <a:pt x="521" y="1697"/>
                  </a:lnTo>
                  <a:lnTo>
                    <a:pt x="513" y="1703"/>
                  </a:lnTo>
                  <a:lnTo>
                    <a:pt x="505" y="1703"/>
                  </a:lnTo>
                  <a:lnTo>
                    <a:pt x="491" y="1700"/>
                  </a:lnTo>
                  <a:lnTo>
                    <a:pt x="477" y="1689"/>
                  </a:lnTo>
                  <a:lnTo>
                    <a:pt x="461" y="1684"/>
                  </a:lnTo>
                  <a:lnTo>
                    <a:pt x="447" y="1684"/>
                  </a:lnTo>
                  <a:lnTo>
                    <a:pt x="437" y="1689"/>
                  </a:lnTo>
                  <a:lnTo>
                    <a:pt x="429" y="1701"/>
                  </a:lnTo>
                  <a:lnTo>
                    <a:pt x="424" y="1716"/>
                  </a:lnTo>
                  <a:lnTo>
                    <a:pt x="380" y="1723"/>
                  </a:lnTo>
                  <a:lnTo>
                    <a:pt x="348" y="1684"/>
                  </a:lnTo>
                  <a:lnTo>
                    <a:pt x="348" y="1624"/>
                  </a:lnTo>
                  <a:lnTo>
                    <a:pt x="414" y="1546"/>
                  </a:lnTo>
                  <a:lnTo>
                    <a:pt x="485" y="1363"/>
                  </a:lnTo>
                  <a:lnTo>
                    <a:pt x="518" y="1346"/>
                  </a:lnTo>
                  <a:lnTo>
                    <a:pt x="552" y="1328"/>
                  </a:lnTo>
                  <a:lnTo>
                    <a:pt x="570" y="1323"/>
                  </a:lnTo>
                  <a:lnTo>
                    <a:pt x="589" y="1318"/>
                  </a:lnTo>
                  <a:lnTo>
                    <a:pt x="609" y="1321"/>
                  </a:lnTo>
                  <a:lnTo>
                    <a:pt x="631" y="1328"/>
                  </a:lnTo>
                  <a:lnTo>
                    <a:pt x="698" y="1295"/>
                  </a:lnTo>
                  <a:lnTo>
                    <a:pt x="730" y="1012"/>
                  </a:lnTo>
                  <a:lnTo>
                    <a:pt x="720" y="1001"/>
                  </a:lnTo>
                  <a:lnTo>
                    <a:pt x="714" y="985"/>
                  </a:lnTo>
                  <a:lnTo>
                    <a:pt x="710" y="970"/>
                  </a:lnTo>
                  <a:lnTo>
                    <a:pt x="702" y="955"/>
                  </a:lnTo>
                  <a:lnTo>
                    <a:pt x="665" y="923"/>
                  </a:lnTo>
                  <a:lnTo>
                    <a:pt x="641" y="904"/>
                  </a:lnTo>
                  <a:lnTo>
                    <a:pt x="621" y="894"/>
                  </a:lnTo>
                  <a:lnTo>
                    <a:pt x="633" y="890"/>
                  </a:lnTo>
                  <a:lnTo>
                    <a:pt x="645" y="884"/>
                  </a:lnTo>
                  <a:lnTo>
                    <a:pt x="662" y="873"/>
                  </a:lnTo>
                  <a:lnTo>
                    <a:pt x="657" y="803"/>
                  </a:lnTo>
                  <a:lnTo>
                    <a:pt x="665" y="762"/>
                  </a:lnTo>
                  <a:lnTo>
                    <a:pt x="662" y="729"/>
                  </a:lnTo>
                  <a:lnTo>
                    <a:pt x="654" y="701"/>
                  </a:lnTo>
                  <a:lnTo>
                    <a:pt x="639" y="677"/>
                  </a:lnTo>
                  <a:lnTo>
                    <a:pt x="597" y="632"/>
                  </a:lnTo>
                  <a:lnTo>
                    <a:pt x="576" y="606"/>
                  </a:lnTo>
                  <a:lnTo>
                    <a:pt x="558" y="575"/>
                  </a:lnTo>
                  <a:lnTo>
                    <a:pt x="544" y="578"/>
                  </a:lnTo>
                  <a:lnTo>
                    <a:pt x="536" y="573"/>
                  </a:lnTo>
                  <a:lnTo>
                    <a:pt x="533" y="560"/>
                  </a:lnTo>
                  <a:lnTo>
                    <a:pt x="531" y="544"/>
                  </a:lnTo>
                  <a:lnTo>
                    <a:pt x="526" y="531"/>
                  </a:lnTo>
                  <a:lnTo>
                    <a:pt x="521" y="523"/>
                  </a:lnTo>
                  <a:lnTo>
                    <a:pt x="517" y="520"/>
                  </a:lnTo>
                  <a:lnTo>
                    <a:pt x="513" y="521"/>
                  </a:lnTo>
                  <a:lnTo>
                    <a:pt x="497" y="529"/>
                  </a:lnTo>
                  <a:lnTo>
                    <a:pt x="479" y="521"/>
                  </a:lnTo>
                  <a:lnTo>
                    <a:pt x="455" y="505"/>
                  </a:lnTo>
                  <a:lnTo>
                    <a:pt x="396" y="460"/>
                  </a:lnTo>
                  <a:lnTo>
                    <a:pt x="339" y="413"/>
                  </a:lnTo>
                  <a:lnTo>
                    <a:pt x="308" y="381"/>
                  </a:lnTo>
                  <a:lnTo>
                    <a:pt x="316" y="387"/>
                  </a:lnTo>
                  <a:lnTo>
                    <a:pt x="347" y="352"/>
                  </a:lnTo>
                  <a:lnTo>
                    <a:pt x="351" y="335"/>
                  </a:lnTo>
                  <a:lnTo>
                    <a:pt x="356" y="306"/>
                  </a:lnTo>
                  <a:lnTo>
                    <a:pt x="359" y="292"/>
                  </a:lnTo>
                  <a:lnTo>
                    <a:pt x="356" y="279"/>
                  </a:lnTo>
                  <a:lnTo>
                    <a:pt x="351" y="269"/>
                  </a:lnTo>
                  <a:lnTo>
                    <a:pt x="341" y="263"/>
                  </a:lnTo>
                  <a:lnTo>
                    <a:pt x="348" y="182"/>
                  </a:lnTo>
                  <a:lnTo>
                    <a:pt x="308" y="105"/>
                  </a:lnTo>
                  <a:lnTo>
                    <a:pt x="308" y="97"/>
                  </a:lnTo>
                  <a:lnTo>
                    <a:pt x="348" y="97"/>
                  </a:lnTo>
                  <a:lnTo>
                    <a:pt x="361" y="99"/>
                  </a:lnTo>
                  <a:lnTo>
                    <a:pt x="371" y="102"/>
                  </a:lnTo>
                  <a:lnTo>
                    <a:pt x="379" y="105"/>
                  </a:lnTo>
                  <a:lnTo>
                    <a:pt x="387" y="99"/>
                  </a:lnTo>
                  <a:lnTo>
                    <a:pt x="531" y="130"/>
                  </a:lnTo>
                  <a:lnTo>
                    <a:pt x="536" y="141"/>
                  </a:lnTo>
                  <a:lnTo>
                    <a:pt x="546" y="152"/>
                  </a:lnTo>
                  <a:lnTo>
                    <a:pt x="581" y="178"/>
                  </a:lnTo>
                  <a:lnTo>
                    <a:pt x="617" y="199"/>
                  </a:lnTo>
                  <a:lnTo>
                    <a:pt x="643" y="209"/>
                  </a:lnTo>
                  <a:lnTo>
                    <a:pt x="638" y="225"/>
                  </a:lnTo>
                  <a:lnTo>
                    <a:pt x="638" y="235"/>
                  </a:lnTo>
                  <a:lnTo>
                    <a:pt x="641" y="243"/>
                  </a:lnTo>
                  <a:lnTo>
                    <a:pt x="651" y="249"/>
                  </a:lnTo>
                  <a:lnTo>
                    <a:pt x="680" y="259"/>
                  </a:lnTo>
                  <a:lnTo>
                    <a:pt x="714" y="269"/>
                  </a:lnTo>
                  <a:lnTo>
                    <a:pt x="728" y="267"/>
                  </a:lnTo>
                  <a:lnTo>
                    <a:pt x="740" y="263"/>
                  </a:lnTo>
                  <a:lnTo>
                    <a:pt x="748" y="255"/>
                  </a:lnTo>
                  <a:lnTo>
                    <a:pt x="753" y="241"/>
                  </a:lnTo>
                  <a:lnTo>
                    <a:pt x="868" y="249"/>
                  </a:lnTo>
                  <a:lnTo>
                    <a:pt x="874" y="172"/>
                  </a:lnTo>
                  <a:lnTo>
                    <a:pt x="882" y="190"/>
                  </a:lnTo>
                  <a:lnTo>
                    <a:pt x="886" y="190"/>
                  </a:lnTo>
                  <a:lnTo>
                    <a:pt x="887" y="186"/>
                  </a:lnTo>
                  <a:lnTo>
                    <a:pt x="892" y="166"/>
                  </a:lnTo>
                  <a:lnTo>
                    <a:pt x="894" y="138"/>
                  </a:lnTo>
                  <a:lnTo>
                    <a:pt x="892" y="87"/>
                  </a:lnTo>
                  <a:lnTo>
                    <a:pt x="890" y="75"/>
                  </a:lnTo>
                  <a:lnTo>
                    <a:pt x="886" y="86"/>
                  </a:lnTo>
                  <a:lnTo>
                    <a:pt x="879" y="86"/>
                  </a:lnTo>
                  <a:lnTo>
                    <a:pt x="876" y="83"/>
                  </a:lnTo>
                  <a:lnTo>
                    <a:pt x="876" y="75"/>
                  </a:lnTo>
                  <a:lnTo>
                    <a:pt x="879" y="62"/>
                  </a:lnTo>
                  <a:lnTo>
                    <a:pt x="890" y="50"/>
                  </a:lnTo>
                  <a:lnTo>
                    <a:pt x="903" y="42"/>
                  </a:lnTo>
                  <a:lnTo>
                    <a:pt x="918" y="42"/>
                  </a:lnTo>
                  <a:lnTo>
                    <a:pt x="923" y="44"/>
                  </a:lnTo>
                  <a:lnTo>
                    <a:pt x="929" y="50"/>
                  </a:lnTo>
                  <a:lnTo>
                    <a:pt x="941" y="73"/>
                  </a:lnTo>
                  <a:lnTo>
                    <a:pt x="950" y="89"/>
                  </a:lnTo>
                  <a:lnTo>
                    <a:pt x="960" y="101"/>
                  </a:lnTo>
                  <a:lnTo>
                    <a:pt x="976" y="112"/>
                  </a:lnTo>
                  <a:lnTo>
                    <a:pt x="999" y="120"/>
                  </a:lnTo>
                  <a:lnTo>
                    <a:pt x="1004" y="101"/>
                  </a:lnTo>
                  <a:lnTo>
                    <a:pt x="1014" y="87"/>
                  </a:lnTo>
                  <a:lnTo>
                    <a:pt x="1026" y="78"/>
                  </a:lnTo>
                  <a:lnTo>
                    <a:pt x="1039" y="70"/>
                  </a:lnTo>
                  <a:lnTo>
                    <a:pt x="1071" y="62"/>
                  </a:lnTo>
                  <a:lnTo>
                    <a:pt x="1085" y="57"/>
                  </a:lnTo>
                  <a:lnTo>
                    <a:pt x="1099" y="50"/>
                  </a:lnTo>
                  <a:lnTo>
                    <a:pt x="1093" y="60"/>
                  </a:lnTo>
                  <a:lnTo>
                    <a:pt x="1095" y="71"/>
                  </a:lnTo>
                  <a:lnTo>
                    <a:pt x="1101" y="81"/>
                  </a:lnTo>
                  <a:lnTo>
                    <a:pt x="1109" y="93"/>
                  </a:lnTo>
                  <a:lnTo>
                    <a:pt x="1128" y="112"/>
                  </a:lnTo>
                  <a:lnTo>
                    <a:pt x="1144" y="125"/>
                  </a:lnTo>
                  <a:lnTo>
                    <a:pt x="1269" y="71"/>
                  </a:lnTo>
                  <a:lnTo>
                    <a:pt x="1284" y="36"/>
                  </a:lnTo>
                  <a:lnTo>
                    <a:pt x="1290" y="30"/>
                  </a:lnTo>
                  <a:lnTo>
                    <a:pt x="1300" y="30"/>
                  </a:lnTo>
                  <a:lnTo>
                    <a:pt x="1326" y="42"/>
                  </a:lnTo>
                  <a:lnTo>
                    <a:pt x="1376" y="63"/>
                  </a:lnTo>
                  <a:lnTo>
                    <a:pt x="1387" y="86"/>
                  </a:lnTo>
                  <a:lnTo>
                    <a:pt x="1407" y="117"/>
                  </a:lnTo>
                  <a:lnTo>
                    <a:pt x="1411" y="93"/>
                  </a:lnTo>
                  <a:lnTo>
                    <a:pt x="1415" y="119"/>
                  </a:lnTo>
                  <a:lnTo>
                    <a:pt x="1413" y="120"/>
                  </a:lnTo>
                  <a:lnTo>
                    <a:pt x="1407" y="117"/>
                  </a:lnTo>
                  <a:lnTo>
                    <a:pt x="1403" y="125"/>
                  </a:lnTo>
                  <a:lnTo>
                    <a:pt x="1399" y="133"/>
                  </a:lnTo>
                  <a:lnTo>
                    <a:pt x="1385" y="136"/>
                  </a:lnTo>
                  <a:lnTo>
                    <a:pt x="1368" y="141"/>
                  </a:lnTo>
                  <a:lnTo>
                    <a:pt x="1352" y="144"/>
                  </a:lnTo>
                  <a:close/>
                </a:path>
              </a:pathLst>
            </a:custGeom>
            <a:blipFill rotWithShape="0">
              <a:blip r:embed="rId85"/>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507960" y="1168920"/>
              <a:ext cx="644760" cy="101160"/>
            </a:xfrm>
            <a:custGeom>
              <a:avLst/>
              <a:gdLst/>
              <a:ahLst/>
              <a:rect l="l" t="t" r="r" b="b"/>
              <a:pathLst>
                <a:path w="5036" h="866">
                  <a:moveTo>
                    <a:pt x="772" y="866"/>
                  </a:moveTo>
                  <a:lnTo>
                    <a:pt x="636" y="785"/>
                  </a:lnTo>
                  <a:lnTo>
                    <a:pt x="513" y="702"/>
                  </a:lnTo>
                  <a:lnTo>
                    <a:pt x="406" y="623"/>
                  </a:lnTo>
                  <a:lnTo>
                    <a:pt x="314" y="547"/>
                  </a:lnTo>
                  <a:lnTo>
                    <a:pt x="234" y="477"/>
                  </a:lnTo>
                  <a:lnTo>
                    <a:pt x="171" y="414"/>
                  </a:lnTo>
                  <a:lnTo>
                    <a:pt x="122" y="361"/>
                  </a:lnTo>
                  <a:lnTo>
                    <a:pt x="90" y="319"/>
                  </a:lnTo>
                  <a:lnTo>
                    <a:pt x="45" y="259"/>
                  </a:lnTo>
                  <a:lnTo>
                    <a:pt x="24" y="225"/>
                  </a:lnTo>
                  <a:lnTo>
                    <a:pt x="8" y="189"/>
                  </a:lnTo>
                  <a:lnTo>
                    <a:pt x="1" y="170"/>
                  </a:lnTo>
                  <a:lnTo>
                    <a:pt x="0" y="152"/>
                  </a:lnTo>
                  <a:lnTo>
                    <a:pt x="0" y="134"/>
                  </a:lnTo>
                  <a:lnTo>
                    <a:pt x="1" y="115"/>
                  </a:lnTo>
                  <a:lnTo>
                    <a:pt x="9" y="97"/>
                  </a:lnTo>
                  <a:lnTo>
                    <a:pt x="19" y="76"/>
                  </a:lnTo>
                  <a:lnTo>
                    <a:pt x="33" y="58"/>
                  </a:lnTo>
                  <a:lnTo>
                    <a:pt x="53" y="39"/>
                  </a:lnTo>
                  <a:lnTo>
                    <a:pt x="87" y="13"/>
                  </a:lnTo>
                  <a:lnTo>
                    <a:pt x="108" y="2"/>
                  </a:lnTo>
                  <a:lnTo>
                    <a:pt x="124" y="0"/>
                  </a:lnTo>
                  <a:lnTo>
                    <a:pt x="134" y="3"/>
                  </a:lnTo>
                  <a:lnTo>
                    <a:pt x="144" y="13"/>
                  </a:lnTo>
                  <a:lnTo>
                    <a:pt x="155" y="26"/>
                  </a:lnTo>
                  <a:lnTo>
                    <a:pt x="171" y="34"/>
                  </a:lnTo>
                  <a:lnTo>
                    <a:pt x="199" y="37"/>
                  </a:lnTo>
                  <a:lnTo>
                    <a:pt x="5036" y="37"/>
                  </a:lnTo>
                  <a:lnTo>
                    <a:pt x="4989" y="84"/>
                  </a:lnTo>
                  <a:lnTo>
                    <a:pt x="4944" y="134"/>
                  </a:lnTo>
                  <a:lnTo>
                    <a:pt x="199" y="134"/>
                  </a:lnTo>
                  <a:lnTo>
                    <a:pt x="178" y="132"/>
                  </a:lnTo>
                  <a:lnTo>
                    <a:pt x="153" y="134"/>
                  </a:lnTo>
                  <a:lnTo>
                    <a:pt x="145" y="136"/>
                  </a:lnTo>
                  <a:lnTo>
                    <a:pt x="137" y="139"/>
                  </a:lnTo>
                  <a:lnTo>
                    <a:pt x="134" y="147"/>
                  </a:lnTo>
                  <a:lnTo>
                    <a:pt x="134" y="160"/>
                  </a:lnTo>
                  <a:lnTo>
                    <a:pt x="140" y="175"/>
                  </a:lnTo>
                  <a:lnTo>
                    <a:pt x="148" y="189"/>
                  </a:lnTo>
                  <a:lnTo>
                    <a:pt x="160" y="201"/>
                  </a:lnTo>
                  <a:lnTo>
                    <a:pt x="176" y="211"/>
                  </a:lnTo>
                  <a:lnTo>
                    <a:pt x="191" y="219"/>
                  </a:lnTo>
                  <a:lnTo>
                    <a:pt x="211" y="225"/>
                  </a:lnTo>
                  <a:lnTo>
                    <a:pt x="233" y="228"/>
                  </a:lnTo>
                  <a:lnTo>
                    <a:pt x="257" y="228"/>
                  </a:lnTo>
                  <a:lnTo>
                    <a:pt x="4867" y="228"/>
                  </a:lnTo>
                  <a:lnTo>
                    <a:pt x="4815" y="301"/>
                  </a:lnTo>
                  <a:lnTo>
                    <a:pt x="4772" y="377"/>
                  </a:lnTo>
                  <a:lnTo>
                    <a:pt x="4732" y="453"/>
                  </a:lnTo>
                  <a:lnTo>
                    <a:pt x="4700" y="532"/>
                  </a:lnTo>
                  <a:lnTo>
                    <a:pt x="4669" y="613"/>
                  </a:lnTo>
                  <a:lnTo>
                    <a:pt x="4646" y="696"/>
                  </a:lnTo>
                  <a:lnTo>
                    <a:pt x="4628" y="782"/>
                  </a:lnTo>
                  <a:lnTo>
                    <a:pt x="4614" y="866"/>
                  </a:lnTo>
                  <a:lnTo>
                    <a:pt x="772" y="866"/>
                  </a:lnTo>
                  <a:close/>
                </a:path>
              </a:pathLst>
            </a:custGeom>
            <a:blipFill rotWithShape="0">
              <a:blip r:embed="rId86"/>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631800" y="1277640"/>
              <a:ext cx="929880" cy="375120"/>
            </a:xfrm>
            <a:custGeom>
              <a:avLst/>
              <a:gdLst/>
              <a:ahLst/>
              <a:rect l="l" t="t" r="r" b="b"/>
              <a:pathLst>
                <a:path w="7254" h="3231">
                  <a:moveTo>
                    <a:pt x="201" y="134"/>
                  </a:moveTo>
                  <a:lnTo>
                    <a:pt x="180" y="134"/>
                  </a:lnTo>
                  <a:lnTo>
                    <a:pt x="157" y="134"/>
                  </a:lnTo>
                  <a:lnTo>
                    <a:pt x="147" y="136"/>
                  </a:lnTo>
                  <a:lnTo>
                    <a:pt x="141" y="142"/>
                  </a:lnTo>
                  <a:lnTo>
                    <a:pt x="138" y="150"/>
                  </a:lnTo>
                  <a:lnTo>
                    <a:pt x="138" y="160"/>
                  </a:lnTo>
                  <a:lnTo>
                    <a:pt x="143" y="176"/>
                  </a:lnTo>
                  <a:lnTo>
                    <a:pt x="151" y="189"/>
                  </a:lnTo>
                  <a:lnTo>
                    <a:pt x="162" y="202"/>
                  </a:lnTo>
                  <a:lnTo>
                    <a:pt x="177" y="212"/>
                  </a:lnTo>
                  <a:lnTo>
                    <a:pt x="194" y="220"/>
                  </a:lnTo>
                  <a:lnTo>
                    <a:pt x="214" y="225"/>
                  </a:lnTo>
                  <a:lnTo>
                    <a:pt x="235" y="229"/>
                  </a:lnTo>
                  <a:lnTo>
                    <a:pt x="259" y="231"/>
                  </a:lnTo>
                  <a:lnTo>
                    <a:pt x="3631" y="231"/>
                  </a:lnTo>
                  <a:lnTo>
                    <a:pt x="3636" y="307"/>
                  </a:lnTo>
                  <a:lnTo>
                    <a:pt x="3647" y="385"/>
                  </a:lnTo>
                  <a:lnTo>
                    <a:pt x="3658" y="464"/>
                  </a:lnTo>
                  <a:lnTo>
                    <a:pt x="3674" y="543"/>
                  </a:lnTo>
                  <a:lnTo>
                    <a:pt x="3692" y="621"/>
                  </a:lnTo>
                  <a:lnTo>
                    <a:pt x="3713" y="701"/>
                  </a:lnTo>
                  <a:lnTo>
                    <a:pt x="3739" y="780"/>
                  </a:lnTo>
                  <a:lnTo>
                    <a:pt x="3767" y="859"/>
                  </a:lnTo>
                  <a:lnTo>
                    <a:pt x="3768" y="866"/>
                  </a:lnTo>
                  <a:lnTo>
                    <a:pt x="3823" y="1010"/>
                  </a:lnTo>
                  <a:lnTo>
                    <a:pt x="3887" y="1144"/>
                  </a:lnTo>
                  <a:lnTo>
                    <a:pt x="3953" y="1269"/>
                  </a:lnTo>
                  <a:lnTo>
                    <a:pt x="4023" y="1382"/>
                  </a:lnTo>
                  <a:lnTo>
                    <a:pt x="4089" y="1481"/>
                  </a:lnTo>
                  <a:lnTo>
                    <a:pt x="4160" y="1575"/>
                  </a:lnTo>
                  <a:lnTo>
                    <a:pt x="4231" y="1667"/>
                  </a:lnTo>
                  <a:lnTo>
                    <a:pt x="4306" y="1758"/>
                  </a:lnTo>
                  <a:lnTo>
                    <a:pt x="4382" y="1847"/>
                  </a:lnTo>
                  <a:lnTo>
                    <a:pt x="4463" y="1932"/>
                  </a:lnTo>
                  <a:lnTo>
                    <a:pt x="4547" y="2015"/>
                  </a:lnTo>
                  <a:lnTo>
                    <a:pt x="4631" y="2096"/>
                  </a:lnTo>
                  <a:lnTo>
                    <a:pt x="4718" y="2175"/>
                  </a:lnTo>
                  <a:lnTo>
                    <a:pt x="4807" y="2250"/>
                  </a:lnTo>
                  <a:lnTo>
                    <a:pt x="4900" y="2323"/>
                  </a:lnTo>
                  <a:lnTo>
                    <a:pt x="4994" y="2394"/>
                  </a:lnTo>
                  <a:lnTo>
                    <a:pt x="5089" y="2460"/>
                  </a:lnTo>
                  <a:lnTo>
                    <a:pt x="5188" y="2526"/>
                  </a:lnTo>
                  <a:lnTo>
                    <a:pt x="5288" y="2587"/>
                  </a:lnTo>
                  <a:lnTo>
                    <a:pt x="5390" y="2645"/>
                  </a:lnTo>
                  <a:lnTo>
                    <a:pt x="5495" y="2701"/>
                  </a:lnTo>
                  <a:lnTo>
                    <a:pt x="5602" y="2753"/>
                  </a:lnTo>
                  <a:lnTo>
                    <a:pt x="5711" y="2802"/>
                  </a:lnTo>
                  <a:lnTo>
                    <a:pt x="5819" y="2847"/>
                  </a:lnTo>
                  <a:lnTo>
                    <a:pt x="5932" y="2891"/>
                  </a:lnTo>
                  <a:lnTo>
                    <a:pt x="6044" y="2928"/>
                  </a:lnTo>
                  <a:lnTo>
                    <a:pt x="6159" y="2964"/>
                  </a:lnTo>
                  <a:lnTo>
                    <a:pt x="6275" y="2998"/>
                  </a:lnTo>
                  <a:lnTo>
                    <a:pt x="6394" y="3025"/>
                  </a:lnTo>
                  <a:lnTo>
                    <a:pt x="6512" y="3051"/>
                  </a:lnTo>
                  <a:lnTo>
                    <a:pt x="6635" y="3072"/>
                  </a:lnTo>
                  <a:lnTo>
                    <a:pt x="6755" y="3090"/>
                  </a:lnTo>
                  <a:lnTo>
                    <a:pt x="6879" y="3104"/>
                  </a:lnTo>
                  <a:lnTo>
                    <a:pt x="7004" y="3114"/>
                  </a:lnTo>
                  <a:lnTo>
                    <a:pt x="7128" y="3119"/>
                  </a:lnTo>
                  <a:lnTo>
                    <a:pt x="7254" y="3122"/>
                  </a:lnTo>
                  <a:lnTo>
                    <a:pt x="7254" y="3231"/>
                  </a:lnTo>
                  <a:lnTo>
                    <a:pt x="7124" y="3229"/>
                  </a:lnTo>
                  <a:lnTo>
                    <a:pt x="6996" y="3223"/>
                  </a:lnTo>
                  <a:lnTo>
                    <a:pt x="6868" y="3213"/>
                  </a:lnTo>
                  <a:lnTo>
                    <a:pt x="6741" y="3198"/>
                  </a:lnTo>
                  <a:lnTo>
                    <a:pt x="6617" y="3181"/>
                  </a:lnTo>
                  <a:lnTo>
                    <a:pt x="6492" y="3158"/>
                  </a:lnTo>
                  <a:lnTo>
                    <a:pt x="6369" y="3132"/>
                  </a:lnTo>
                  <a:lnTo>
                    <a:pt x="6248" y="3104"/>
                  </a:lnTo>
                  <a:lnTo>
                    <a:pt x="6128" y="3070"/>
                  </a:lnTo>
                  <a:lnTo>
                    <a:pt x="6010" y="3033"/>
                  </a:lnTo>
                  <a:lnTo>
                    <a:pt x="5894" y="2993"/>
                  </a:lnTo>
                  <a:lnTo>
                    <a:pt x="5780" y="2950"/>
                  </a:lnTo>
                  <a:lnTo>
                    <a:pt x="5665" y="2902"/>
                  </a:lnTo>
                  <a:lnTo>
                    <a:pt x="5555" y="2852"/>
                  </a:lnTo>
                  <a:lnTo>
                    <a:pt x="5446" y="2798"/>
                  </a:lnTo>
                  <a:lnTo>
                    <a:pt x="5338" y="2740"/>
                  </a:lnTo>
                  <a:lnTo>
                    <a:pt x="5233" y="2682"/>
                  </a:lnTo>
                  <a:lnTo>
                    <a:pt x="5131" y="2619"/>
                  </a:lnTo>
                  <a:lnTo>
                    <a:pt x="5028" y="2551"/>
                  </a:lnTo>
                  <a:lnTo>
                    <a:pt x="4929" y="2483"/>
                  </a:lnTo>
                  <a:lnTo>
                    <a:pt x="4832" y="2410"/>
                  </a:lnTo>
                  <a:lnTo>
                    <a:pt x="4738" y="2334"/>
                  </a:lnTo>
                  <a:lnTo>
                    <a:pt x="4645" y="2258"/>
                  </a:lnTo>
                  <a:lnTo>
                    <a:pt x="4556" y="2177"/>
                  </a:lnTo>
                  <a:lnTo>
                    <a:pt x="4469" y="2094"/>
                  </a:lnTo>
                  <a:lnTo>
                    <a:pt x="4385" y="2009"/>
                  </a:lnTo>
                  <a:lnTo>
                    <a:pt x="4301" y="1920"/>
                  </a:lnTo>
                  <a:lnTo>
                    <a:pt x="4223" y="1829"/>
                  </a:lnTo>
                  <a:lnTo>
                    <a:pt x="4145" y="1737"/>
                  </a:lnTo>
                  <a:lnTo>
                    <a:pt x="4071" y="1640"/>
                  </a:lnTo>
                  <a:lnTo>
                    <a:pt x="4000" y="1544"/>
                  </a:lnTo>
                  <a:lnTo>
                    <a:pt x="3930" y="1442"/>
                  </a:lnTo>
                  <a:lnTo>
                    <a:pt x="3891" y="1382"/>
                  </a:lnTo>
                  <a:lnTo>
                    <a:pt x="3854" y="1316"/>
                  </a:lnTo>
                  <a:lnTo>
                    <a:pt x="3815" y="1249"/>
                  </a:lnTo>
                  <a:lnTo>
                    <a:pt x="3780" y="1178"/>
                  </a:lnTo>
                  <a:lnTo>
                    <a:pt x="3744" y="1103"/>
                  </a:lnTo>
                  <a:lnTo>
                    <a:pt x="3713" y="1028"/>
                  </a:lnTo>
                  <a:lnTo>
                    <a:pt x="3681" y="950"/>
                  </a:lnTo>
                  <a:lnTo>
                    <a:pt x="3652" y="866"/>
                  </a:lnTo>
                  <a:lnTo>
                    <a:pt x="774" y="866"/>
                  </a:lnTo>
                  <a:lnTo>
                    <a:pt x="638" y="785"/>
                  </a:lnTo>
                  <a:lnTo>
                    <a:pt x="516" y="704"/>
                  </a:lnTo>
                  <a:lnTo>
                    <a:pt x="410" y="623"/>
                  </a:lnTo>
                  <a:lnTo>
                    <a:pt x="314" y="549"/>
                  </a:lnTo>
                  <a:lnTo>
                    <a:pt x="235" y="477"/>
                  </a:lnTo>
                  <a:lnTo>
                    <a:pt x="172" y="414"/>
                  </a:lnTo>
                  <a:lnTo>
                    <a:pt x="125" y="361"/>
                  </a:lnTo>
                  <a:lnTo>
                    <a:pt x="91" y="322"/>
                  </a:lnTo>
                  <a:lnTo>
                    <a:pt x="46" y="259"/>
                  </a:lnTo>
                  <a:lnTo>
                    <a:pt x="26" y="225"/>
                  </a:lnTo>
                  <a:lnTo>
                    <a:pt x="10" y="189"/>
                  </a:lnTo>
                  <a:lnTo>
                    <a:pt x="5" y="171"/>
                  </a:lnTo>
                  <a:lnTo>
                    <a:pt x="0" y="152"/>
                  </a:lnTo>
                  <a:lnTo>
                    <a:pt x="0" y="134"/>
                  </a:lnTo>
                  <a:lnTo>
                    <a:pt x="5" y="116"/>
                  </a:lnTo>
                  <a:lnTo>
                    <a:pt x="10" y="97"/>
                  </a:lnTo>
                  <a:lnTo>
                    <a:pt x="23" y="79"/>
                  </a:lnTo>
                  <a:lnTo>
                    <a:pt x="36" y="59"/>
                  </a:lnTo>
                  <a:lnTo>
                    <a:pt x="56" y="42"/>
                  </a:lnTo>
                  <a:lnTo>
                    <a:pt x="89" y="14"/>
                  </a:lnTo>
                  <a:lnTo>
                    <a:pt x="112" y="3"/>
                  </a:lnTo>
                  <a:lnTo>
                    <a:pt x="125" y="0"/>
                  </a:lnTo>
                  <a:lnTo>
                    <a:pt x="138" y="6"/>
                  </a:lnTo>
                  <a:lnTo>
                    <a:pt x="145" y="16"/>
                  </a:lnTo>
                  <a:lnTo>
                    <a:pt x="157" y="26"/>
                  </a:lnTo>
                  <a:lnTo>
                    <a:pt x="175" y="35"/>
                  </a:lnTo>
                  <a:lnTo>
                    <a:pt x="202" y="37"/>
                  </a:lnTo>
                  <a:lnTo>
                    <a:pt x="3632" y="37"/>
                  </a:lnTo>
                  <a:lnTo>
                    <a:pt x="3629" y="134"/>
                  </a:lnTo>
                  <a:lnTo>
                    <a:pt x="201" y="134"/>
                  </a:lnTo>
                  <a:close/>
                </a:path>
              </a:pathLst>
            </a:custGeom>
            <a:blipFill rotWithShape="0">
              <a:blip r:embed="rId87"/>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1562040" y="723240"/>
              <a:ext cx="1181160" cy="900360"/>
            </a:xfrm>
            <a:custGeom>
              <a:avLst/>
              <a:gdLst/>
              <a:ahLst/>
              <a:rect l="l" t="t" r="r" b="b"/>
              <a:pathLst>
                <a:path w="9213" h="7761">
                  <a:moveTo>
                    <a:pt x="0" y="7664"/>
                  </a:moveTo>
                  <a:lnTo>
                    <a:pt x="0" y="7761"/>
                  </a:lnTo>
                  <a:lnTo>
                    <a:pt x="120" y="7759"/>
                  </a:lnTo>
                  <a:lnTo>
                    <a:pt x="241" y="7753"/>
                  </a:lnTo>
                  <a:lnTo>
                    <a:pt x="361" y="7743"/>
                  </a:lnTo>
                  <a:lnTo>
                    <a:pt x="479" y="7729"/>
                  </a:lnTo>
                  <a:lnTo>
                    <a:pt x="598" y="7714"/>
                  </a:lnTo>
                  <a:lnTo>
                    <a:pt x="714" y="7691"/>
                  </a:lnTo>
                  <a:lnTo>
                    <a:pt x="829" y="7667"/>
                  </a:lnTo>
                  <a:lnTo>
                    <a:pt x="944" y="7640"/>
                  </a:lnTo>
                  <a:lnTo>
                    <a:pt x="1056" y="7609"/>
                  </a:lnTo>
                  <a:lnTo>
                    <a:pt x="1167" y="7575"/>
                  </a:lnTo>
                  <a:lnTo>
                    <a:pt x="1277" y="7536"/>
                  </a:lnTo>
                  <a:lnTo>
                    <a:pt x="1384" y="7497"/>
                  </a:lnTo>
                  <a:lnTo>
                    <a:pt x="1491" y="7450"/>
                  </a:lnTo>
                  <a:lnTo>
                    <a:pt x="1595" y="7403"/>
                  </a:lnTo>
                  <a:lnTo>
                    <a:pt x="1698" y="7353"/>
                  </a:lnTo>
                  <a:lnTo>
                    <a:pt x="1800" y="7299"/>
                  </a:lnTo>
                  <a:lnTo>
                    <a:pt x="1899" y="7241"/>
                  </a:lnTo>
                  <a:lnTo>
                    <a:pt x="1996" y="7183"/>
                  </a:lnTo>
                  <a:lnTo>
                    <a:pt x="2090" y="7121"/>
                  </a:lnTo>
                  <a:lnTo>
                    <a:pt x="2185" y="7057"/>
                  </a:lnTo>
                  <a:lnTo>
                    <a:pt x="2276" y="6987"/>
                  </a:lnTo>
                  <a:lnTo>
                    <a:pt x="2365" y="6918"/>
                  </a:lnTo>
                  <a:lnTo>
                    <a:pt x="2451" y="6843"/>
                  </a:lnTo>
                  <a:lnTo>
                    <a:pt x="2536" y="6768"/>
                  </a:lnTo>
                  <a:lnTo>
                    <a:pt x="2617" y="6689"/>
                  </a:lnTo>
                  <a:lnTo>
                    <a:pt x="2698" y="6610"/>
                  </a:lnTo>
                  <a:lnTo>
                    <a:pt x="2775" y="6527"/>
                  </a:lnTo>
                  <a:lnTo>
                    <a:pt x="2850" y="6440"/>
                  </a:lnTo>
                  <a:lnTo>
                    <a:pt x="2920" y="6354"/>
                  </a:lnTo>
                  <a:lnTo>
                    <a:pt x="2992" y="6263"/>
                  </a:lnTo>
                  <a:lnTo>
                    <a:pt x="3059" y="6173"/>
                  </a:lnTo>
                  <a:lnTo>
                    <a:pt x="3122" y="6077"/>
                  </a:lnTo>
                  <a:lnTo>
                    <a:pt x="3161" y="6019"/>
                  </a:lnTo>
                  <a:lnTo>
                    <a:pt x="3200" y="5953"/>
                  </a:lnTo>
                  <a:lnTo>
                    <a:pt x="3234" y="5886"/>
                  </a:lnTo>
                  <a:lnTo>
                    <a:pt x="3270" y="5815"/>
                  </a:lnTo>
                  <a:lnTo>
                    <a:pt x="3304" y="5742"/>
                  </a:lnTo>
                  <a:lnTo>
                    <a:pt x="3336" y="5665"/>
                  </a:lnTo>
                  <a:lnTo>
                    <a:pt x="3363" y="5587"/>
                  </a:lnTo>
                  <a:lnTo>
                    <a:pt x="3391" y="5506"/>
                  </a:lnTo>
                  <a:lnTo>
                    <a:pt x="3414" y="5422"/>
                  </a:lnTo>
                  <a:lnTo>
                    <a:pt x="3435" y="5338"/>
                  </a:lnTo>
                  <a:lnTo>
                    <a:pt x="3452" y="5253"/>
                  </a:lnTo>
                  <a:lnTo>
                    <a:pt x="3466" y="5166"/>
                  </a:lnTo>
                  <a:lnTo>
                    <a:pt x="3474" y="5079"/>
                  </a:lnTo>
                  <a:lnTo>
                    <a:pt x="3480" y="4990"/>
                  </a:lnTo>
                  <a:lnTo>
                    <a:pt x="3482" y="4902"/>
                  </a:lnTo>
                  <a:lnTo>
                    <a:pt x="3477" y="4815"/>
                  </a:lnTo>
                  <a:lnTo>
                    <a:pt x="3467" y="4726"/>
                  </a:lnTo>
                  <a:lnTo>
                    <a:pt x="3454" y="4639"/>
                  </a:lnTo>
                  <a:lnTo>
                    <a:pt x="3435" y="4554"/>
                  </a:lnTo>
                  <a:lnTo>
                    <a:pt x="3409" y="4470"/>
                  </a:lnTo>
                  <a:lnTo>
                    <a:pt x="3375" y="4384"/>
                  </a:lnTo>
                  <a:lnTo>
                    <a:pt x="3338" y="4303"/>
                  </a:lnTo>
                  <a:lnTo>
                    <a:pt x="3292" y="4222"/>
                  </a:lnTo>
                  <a:lnTo>
                    <a:pt x="3239" y="4146"/>
                  </a:lnTo>
                  <a:lnTo>
                    <a:pt x="3179" y="4070"/>
                  </a:lnTo>
                  <a:lnTo>
                    <a:pt x="3113" y="3999"/>
                  </a:lnTo>
                  <a:lnTo>
                    <a:pt x="3037" y="3931"/>
                  </a:lnTo>
                  <a:lnTo>
                    <a:pt x="2954" y="3866"/>
                  </a:lnTo>
                  <a:lnTo>
                    <a:pt x="2864" y="3803"/>
                  </a:lnTo>
                  <a:lnTo>
                    <a:pt x="2763" y="3745"/>
                  </a:lnTo>
                  <a:lnTo>
                    <a:pt x="2653" y="3692"/>
                  </a:lnTo>
                  <a:lnTo>
                    <a:pt x="2535" y="3643"/>
                  </a:lnTo>
                  <a:lnTo>
                    <a:pt x="2664" y="3434"/>
                  </a:lnTo>
                  <a:lnTo>
                    <a:pt x="2775" y="3258"/>
                  </a:lnTo>
                  <a:lnTo>
                    <a:pt x="2913" y="3045"/>
                  </a:lnTo>
                  <a:lnTo>
                    <a:pt x="9014" y="3045"/>
                  </a:lnTo>
                  <a:lnTo>
                    <a:pt x="9035" y="3042"/>
                  </a:lnTo>
                  <a:lnTo>
                    <a:pt x="9057" y="3045"/>
                  </a:lnTo>
                  <a:lnTo>
                    <a:pt x="9067" y="3047"/>
                  </a:lnTo>
                  <a:lnTo>
                    <a:pt x="9075" y="3050"/>
                  </a:lnTo>
                  <a:lnTo>
                    <a:pt x="9079" y="3058"/>
                  </a:lnTo>
                  <a:lnTo>
                    <a:pt x="9079" y="3070"/>
                  </a:lnTo>
                  <a:lnTo>
                    <a:pt x="9072" y="3086"/>
                  </a:lnTo>
                  <a:lnTo>
                    <a:pt x="9063" y="3100"/>
                  </a:lnTo>
                  <a:lnTo>
                    <a:pt x="9053" y="3112"/>
                  </a:lnTo>
                  <a:lnTo>
                    <a:pt x="9037" y="3122"/>
                  </a:lnTo>
                  <a:lnTo>
                    <a:pt x="9022" y="3130"/>
                  </a:lnTo>
                  <a:lnTo>
                    <a:pt x="9001" y="3136"/>
                  </a:lnTo>
                  <a:lnTo>
                    <a:pt x="8980" y="3139"/>
                  </a:lnTo>
                  <a:lnTo>
                    <a:pt x="8956" y="3139"/>
                  </a:lnTo>
                  <a:lnTo>
                    <a:pt x="2967" y="3139"/>
                  </a:lnTo>
                  <a:lnTo>
                    <a:pt x="2698" y="3562"/>
                  </a:lnTo>
                  <a:lnTo>
                    <a:pt x="2799" y="3611"/>
                  </a:lnTo>
                  <a:lnTo>
                    <a:pt x="2893" y="3662"/>
                  </a:lnTo>
                  <a:lnTo>
                    <a:pt x="2985" y="3717"/>
                  </a:lnTo>
                  <a:lnTo>
                    <a:pt x="3067" y="3777"/>
                  </a:lnTo>
                  <a:lnTo>
                    <a:pt x="8441" y="3777"/>
                  </a:lnTo>
                  <a:lnTo>
                    <a:pt x="8577" y="3696"/>
                  </a:lnTo>
                  <a:lnTo>
                    <a:pt x="8700" y="3613"/>
                  </a:lnTo>
                  <a:lnTo>
                    <a:pt x="8807" y="3534"/>
                  </a:lnTo>
                  <a:lnTo>
                    <a:pt x="8899" y="3457"/>
                  </a:lnTo>
                  <a:lnTo>
                    <a:pt x="8978" y="3386"/>
                  </a:lnTo>
                  <a:lnTo>
                    <a:pt x="9041" y="3325"/>
                  </a:lnTo>
                  <a:lnTo>
                    <a:pt x="9090" y="3272"/>
                  </a:lnTo>
                  <a:lnTo>
                    <a:pt x="9122" y="3230"/>
                  </a:lnTo>
                  <a:lnTo>
                    <a:pt x="9168" y="3169"/>
                  </a:lnTo>
                  <a:lnTo>
                    <a:pt x="9189" y="3133"/>
                  </a:lnTo>
                  <a:lnTo>
                    <a:pt x="9205" y="3097"/>
                  </a:lnTo>
                  <a:lnTo>
                    <a:pt x="9213" y="3063"/>
                  </a:lnTo>
                  <a:lnTo>
                    <a:pt x="9213" y="3045"/>
                  </a:lnTo>
                  <a:lnTo>
                    <a:pt x="9211" y="3025"/>
                  </a:lnTo>
                  <a:lnTo>
                    <a:pt x="9203" y="3007"/>
                  </a:lnTo>
                  <a:lnTo>
                    <a:pt x="9193" y="2987"/>
                  </a:lnTo>
                  <a:lnTo>
                    <a:pt x="9179" y="2969"/>
                  </a:lnTo>
                  <a:lnTo>
                    <a:pt x="9160" y="2950"/>
                  </a:lnTo>
                  <a:lnTo>
                    <a:pt x="9126" y="2924"/>
                  </a:lnTo>
                  <a:lnTo>
                    <a:pt x="9105" y="2911"/>
                  </a:lnTo>
                  <a:lnTo>
                    <a:pt x="9088" y="2908"/>
                  </a:lnTo>
                  <a:lnTo>
                    <a:pt x="9079" y="2914"/>
                  </a:lnTo>
                  <a:lnTo>
                    <a:pt x="9069" y="2924"/>
                  </a:lnTo>
                  <a:lnTo>
                    <a:pt x="9057" y="2937"/>
                  </a:lnTo>
                  <a:lnTo>
                    <a:pt x="9041" y="2944"/>
                  </a:lnTo>
                  <a:lnTo>
                    <a:pt x="9014" y="2948"/>
                  </a:lnTo>
                  <a:lnTo>
                    <a:pt x="3852" y="2948"/>
                  </a:lnTo>
                  <a:lnTo>
                    <a:pt x="3807" y="2790"/>
                  </a:lnTo>
                  <a:lnTo>
                    <a:pt x="3754" y="2636"/>
                  </a:lnTo>
                  <a:lnTo>
                    <a:pt x="3697" y="2484"/>
                  </a:lnTo>
                  <a:lnTo>
                    <a:pt x="3632" y="2336"/>
                  </a:lnTo>
                  <a:lnTo>
                    <a:pt x="3561" y="2191"/>
                  </a:lnTo>
                  <a:lnTo>
                    <a:pt x="3485" y="2048"/>
                  </a:lnTo>
                  <a:lnTo>
                    <a:pt x="3404" y="1908"/>
                  </a:lnTo>
                  <a:lnTo>
                    <a:pt x="3318" y="1773"/>
                  </a:lnTo>
                  <a:lnTo>
                    <a:pt x="3225" y="1642"/>
                  </a:lnTo>
                  <a:lnTo>
                    <a:pt x="3129" y="1514"/>
                  </a:lnTo>
                  <a:lnTo>
                    <a:pt x="3025" y="1391"/>
                  </a:lnTo>
                  <a:lnTo>
                    <a:pt x="2919" y="1271"/>
                  </a:lnTo>
                  <a:lnTo>
                    <a:pt x="2808" y="1156"/>
                  </a:lnTo>
                  <a:lnTo>
                    <a:pt x="2692" y="1046"/>
                  </a:lnTo>
                  <a:lnTo>
                    <a:pt x="2572" y="939"/>
                  </a:lnTo>
                  <a:lnTo>
                    <a:pt x="2447" y="839"/>
                  </a:lnTo>
                  <a:lnTo>
                    <a:pt x="2319" y="742"/>
                  </a:lnTo>
                  <a:lnTo>
                    <a:pt x="2185" y="651"/>
                  </a:lnTo>
                  <a:lnTo>
                    <a:pt x="2049" y="567"/>
                  </a:lnTo>
                  <a:lnTo>
                    <a:pt x="1908" y="486"/>
                  </a:lnTo>
                  <a:lnTo>
                    <a:pt x="1766" y="410"/>
                  </a:lnTo>
                  <a:lnTo>
                    <a:pt x="1619" y="342"/>
                  </a:lnTo>
                  <a:lnTo>
                    <a:pt x="1468" y="279"/>
                  </a:lnTo>
                  <a:lnTo>
                    <a:pt x="1316" y="221"/>
                  </a:lnTo>
                  <a:lnTo>
                    <a:pt x="1161" y="169"/>
                  </a:lnTo>
                  <a:lnTo>
                    <a:pt x="1001" y="127"/>
                  </a:lnTo>
                  <a:lnTo>
                    <a:pt x="840" y="86"/>
                  </a:lnTo>
                  <a:lnTo>
                    <a:pt x="677" y="55"/>
                  </a:lnTo>
                  <a:lnTo>
                    <a:pt x="509" y="31"/>
                  </a:lnTo>
                  <a:lnTo>
                    <a:pt x="342" y="14"/>
                  </a:lnTo>
                  <a:lnTo>
                    <a:pt x="172" y="2"/>
                  </a:lnTo>
                  <a:lnTo>
                    <a:pt x="0" y="0"/>
                  </a:lnTo>
                  <a:lnTo>
                    <a:pt x="0" y="111"/>
                  </a:lnTo>
                  <a:lnTo>
                    <a:pt x="165" y="112"/>
                  </a:lnTo>
                  <a:lnTo>
                    <a:pt x="329" y="122"/>
                  </a:lnTo>
                  <a:lnTo>
                    <a:pt x="494" y="140"/>
                  </a:lnTo>
                  <a:lnTo>
                    <a:pt x="653" y="164"/>
                  </a:lnTo>
                  <a:lnTo>
                    <a:pt x="811" y="193"/>
                  </a:lnTo>
                  <a:lnTo>
                    <a:pt x="968" y="231"/>
                  </a:lnTo>
                  <a:lnTo>
                    <a:pt x="1122" y="274"/>
                  </a:lnTo>
                  <a:lnTo>
                    <a:pt x="1273" y="321"/>
                  </a:lnTo>
                  <a:lnTo>
                    <a:pt x="1421" y="376"/>
                  </a:lnTo>
                  <a:lnTo>
                    <a:pt x="1567" y="438"/>
                  </a:lnTo>
                  <a:lnTo>
                    <a:pt x="1709" y="505"/>
                  </a:lnTo>
                  <a:lnTo>
                    <a:pt x="1847" y="577"/>
                  </a:lnTo>
                  <a:lnTo>
                    <a:pt x="1983" y="653"/>
                  </a:lnTo>
                  <a:lnTo>
                    <a:pt x="2116" y="736"/>
                  </a:lnTo>
                  <a:lnTo>
                    <a:pt x="2244" y="825"/>
                  </a:lnTo>
                  <a:lnTo>
                    <a:pt x="2368" y="915"/>
                  </a:lnTo>
                  <a:lnTo>
                    <a:pt x="2488" y="1014"/>
                  </a:lnTo>
                  <a:lnTo>
                    <a:pt x="2605" y="1114"/>
                  </a:lnTo>
                  <a:lnTo>
                    <a:pt x="2718" y="1221"/>
                  </a:lnTo>
                  <a:lnTo>
                    <a:pt x="2826" y="1331"/>
                  </a:lnTo>
                  <a:lnTo>
                    <a:pt x="2931" y="1448"/>
                  </a:lnTo>
                  <a:lnTo>
                    <a:pt x="3030" y="1567"/>
                  </a:lnTo>
                  <a:lnTo>
                    <a:pt x="3124" y="1689"/>
                  </a:lnTo>
                  <a:lnTo>
                    <a:pt x="3213" y="1815"/>
                  </a:lnTo>
                  <a:lnTo>
                    <a:pt x="3297" y="1946"/>
                  </a:lnTo>
                  <a:lnTo>
                    <a:pt x="3378" y="2079"/>
                  </a:lnTo>
                  <a:lnTo>
                    <a:pt x="3452" y="2218"/>
                  </a:lnTo>
                  <a:lnTo>
                    <a:pt x="3521" y="2358"/>
                  </a:lnTo>
                  <a:lnTo>
                    <a:pt x="3584" y="2500"/>
                  </a:lnTo>
                  <a:lnTo>
                    <a:pt x="3642" y="2649"/>
                  </a:lnTo>
                  <a:lnTo>
                    <a:pt x="3695" y="2796"/>
                  </a:lnTo>
                  <a:lnTo>
                    <a:pt x="3740" y="2948"/>
                  </a:lnTo>
                  <a:lnTo>
                    <a:pt x="2931" y="2948"/>
                  </a:lnTo>
                  <a:lnTo>
                    <a:pt x="2889" y="2835"/>
                  </a:lnTo>
                  <a:lnTo>
                    <a:pt x="2842" y="2727"/>
                  </a:lnTo>
                  <a:lnTo>
                    <a:pt x="2792" y="2618"/>
                  </a:lnTo>
                  <a:lnTo>
                    <a:pt x="2737" y="2514"/>
                  </a:lnTo>
                  <a:lnTo>
                    <a:pt x="2679" y="2411"/>
                  </a:lnTo>
                  <a:lnTo>
                    <a:pt x="2617" y="2311"/>
                  </a:lnTo>
                  <a:lnTo>
                    <a:pt x="2551" y="2214"/>
                  </a:lnTo>
                  <a:lnTo>
                    <a:pt x="2483" y="2119"/>
                  </a:lnTo>
                  <a:lnTo>
                    <a:pt x="2410" y="2027"/>
                  </a:lnTo>
                  <a:lnTo>
                    <a:pt x="2333" y="1938"/>
                  </a:lnTo>
                  <a:lnTo>
                    <a:pt x="2253" y="1851"/>
                  </a:lnTo>
                  <a:lnTo>
                    <a:pt x="2171" y="1766"/>
                  </a:lnTo>
                  <a:lnTo>
                    <a:pt x="2086" y="1687"/>
                  </a:lnTo>
                  <a:lnTo>
                    <a:pt x="1997" y="1610"/>
                  </a:lnTo>
                  <a:lnTo>
                    <a:pt x="1905" y="1535"/>
                  </a:lnTo>
                  <a:lnTo>
                    <a:pt x="1812" y="1466"/>
                  </a:lnTo>
                  <a:lnTo>
                    <a:pt x="1713" y="1399"/>
                  </a:lnTo>
                  <a:lnTo>
                    <a:pt x="1614" y="1336"/>
                  </a:lnTo>
                  <a:lnTo>
                    <a:pt x="1512" y="1276"/>
                  </a:lnTo>
                  <a:lnTo>
                    <a:pt x="1407" y="1221"/>
                  </a:lnTo>
                  <a:lnTo>
                    <a:pt x="1300" y="1168"/>
                  </a:lnTo>
                  <a:lnTo>
                    <a:pt x="1192" y="1121"/>
                  </a:lnTo>
                  <a:lnTo>
                    <a:pt x="1080" y="1077"/>
                  </a:lnTo>
                  <a:lnTo>
                    <a:pt x="967" y="1038"/>
                  </a:lnTo>
                  <a:lnTo>
                    <a:pt x="853" y="1002"/>
                  </a:lnTo>
                  <a:lnTo>
                    <a:pt x="734" y="973"/>
                  </a:lnTo>
                  <a:lnTo>
                    <a:pt x="615" y="946"/>
                  </a:lnTo>
                  <a:lnTo>
                    <a:pt x="495" y="923"/>
                  </a:lnTo>
                  <a:lnTo>
                    <a:pt x="373" y="907"/>
                  </a:lnTo>
                  <a:lnTo>
                    <a:pt x="251" y="894"/>
                  </a:lnTo>
                  <a:lnTo>
                    <a:pt x="125" y="888"/>
                  </a:lnTo>
                  <a:lnTo>
                    <a:pt x="0" y="886"/>
                  </a:lnTo>
                  <a:lnTo>
                    <a:pt x="0" y="996"/>
                  </a:lnTo>
                  <a:lnTo>
                    <a:pt x="120" y="996"/>
                  </a:lnTo>
                  <a:lnTo>
                    <a:pt x="241" y="1004"/>
                  </a:lnTo>
                  <a:lnTo>
                    <a:pt x="361" y="1016"/>
                  </a:lnTo>
                  <a:lnTo>
                    <a:pt x="479" y="1032"/>
                  </a:lnTo>
                  <a:lnTo>
                    <a:pt x="596" y="1054"/>
                  </a:lnTo>
                  <a:lnTo>
                    <a:pt x="711" y="1079"/>
                  </a:lnTo>
                  <a:lnTo>
                    <a:pt x="824" y="1109"/>
                  </a:lnTo>
                  <a:lnTo>
                    <a:pt x="936" y="1142"/>
                  </a:lnTo>
                  <a:lnTo>
                    <a:pt x="1044" y="1182"/>
                  </a:lnTo>
                  <a:lnTo>
                    <a:pt x="1153" y="1223"/>
                  </a:lnTo>
                  <a:lnTo>
                    <a:pt x="1258" y="1271"/>
                  </a:lnTo>
                  <a:lnTo>
                    <a:pt x="1362" y="1320"/>
                  </a:lnTo>
                  <a:lnTo>
                    <a:pt x="1462" y="1373"/>
                  </a:lnTo>
                  <a:lnTo>
                    <a:pt x="1561" y="1433"/>
                  </a:lnTo>
                  <a:lnTo>
                    <a:pt x="1658" y="1493"/>
                  </a:lnTo>
                  <a:lnTo>
                    <a:pt x="1750" y="1556"/>
                  </a:lnTo>
                  <a:lnTo>
                    <a:pt x="1842" y="1626"/>
                  </a:lnTo>
                  <a:lnTo>
                    <a:pt x="1930" y="1697"/>
                  </a:lnTo>
                  <a:lnTo>
                    <a:pt x="2017" y="1772"/>
                  </a:lnTo>
                  <a:lnTo>
                    <a:pt x="2100" y="1849"/>
                  </a:lnTo>
                  <a:lnTo>
                    <a:pt x="2179" y="1930"/>
                  </a:lnTo>
                  <a:lnTo>
                    <a:pt x="2256" y="2014"/>
                  </a:lnTo>
                  <a:lnTo>
                    <a:pt x="2329" y="2102"/>
                  </a:lnTo>
                  <a:lnTo>
                    <a:pt x="2398" y="2191"/>
                  </a:lnTo>
                  <a:lnTo>
                    <a:pt x="2465" y="2283"/>
                  </a:lnTo>
                  <a:lnTo>
                    <a:pt x="2528" y="2377"/>
                  </a:lnTo>
                  <a:lnTo>
                    <a:pt x="2590" y="2474"/>
                  </a:lnTo>
                  <a:lnTo>
                    <a:pt x="2645" y="2573"/>
                  </a:lnTo>
                  <a:lnTo>
                    <a:pt x="2698" y="2676"/>
                  </a:lnTo>
                  <a:lnTo>
                    <a:pt x="2745" y="2780"/>
                  </a:lnTo>
                  <a:lnTo>
                    <a:pt x="2791" y="2887"/>
                  </a:lnTo>
                  <a:lnTo>
                    <a:pt x="2832" y="2993"/>
                  </a:lnTo>
                  <a:lnTo>
                    <a:pt x="2671" y="3244"/>
                  </a:lnTo>
                  <a:lnTo>
                    <a:pt x="2551" y="3429"/>
                  </a:lnTo>
                  <a:lnTo>
                    <a:pt x="2422" y="3643"/>
                  </a:lnTo>
                  <a:lnTo>
                    <a:pt x="2392" y="3694"/>
                  </a:lnTo>
                  <a:lnTo>
                    <a:pt x="2496" y="3733"/>
                  </a:lnTo>
                  <a:lnTo>
                    <a:pt x="2595" y="3777"/>
                  </a:lnTo>
                  <a:lnTo>
                    <a:pt x="2688" y="3824"/>
                  </a:lnTo>
                  <a:lnTo>
                    <a:pt x="2775" y="3876"/>
                  </a:lnTo>
                  <a:lnTo>
                    <a:pt x="716" y="3876"/>
                  </a:lnTo>
                  <a:lnTo>
                    <a:pt x="724" y="3929"/>
                  </a:lnTo>
                  <a:lnTo>
                    <a:pt x="727" y="3984"/>
                  </a:lnTo>
                  <a:lnTo>
                    <a:pt x="2927" y="3984"/>
                  </a:lnTo>
                  <a:lnTo>
                    <a:pt x="3004" y="4051"/>
                  </a:lnTo>
                  <a:lnTo>
                    <a:pt x="2996" y="4203"/>
                  </a:lnTo>
                  <a:lnTo>
                    <a:pt x="2982" y="4355"/>
                  </a:lnTo>
                  <a:lnTo>
                    <a:pt x="2962" y="4503"/>
                  </a:lnTo>
                  <a:lnTo>
                    <a:pt x="2933" y="4648"/>
                  </a:lnTo>
                  <a:lnTo>
                    <a:pt x="2899" y="4791"/>
                  </a:lnTo>
                  <a:lnTo>
                    <a:pt x="2856" y="4933"/>
                  </a:lnTo>
                  <a:lnTo>
                    <a:pt x="2808" y="5069"/>
                  </a:lnTo>
                  <a:lnTo>
                    <a:pt x="2753" y="5203"/>
                  </a:lnTo>
                  <a:lnTo>
                    <a:pt x="2692" y="5336"/>
                  </a:lnTo>
                  <a:lnTo>
                    <a:pt x="2625" y="5462"/>
                  </a:lnTo>
                  <a:lnTo>
                    <a:pt x="2551" y="5587"/>
                  </a:lnTo>
                  <a:lnTo>
                    <a:pt x="2475" y="5707"/>
                  </a:lnTo>
                  <a:lnTo>
                    <a:pt x="2391" y="5823"/>
                  </a:lnTo>
                  <a:lnTo>
                    <a:pt x="2302" y="5933"/>
                  </a:lnTo>
                  <a:lnTo>
                    <a:pt x="2206" y="6040"/>
                  </a:lnTo>
                  <a:lnTo>
                    <a:pt x="2108" y="6142"/>
                  </a:lnTo>
                  <a:lnTo>
                    <a:pt x="2004" y="6241"/>
                  </a:lnTo>
                  <a:lnTo>
                    <a:pt x="1894" y="6333"/>
                  </a:lnTo>
                  <a:lnTo>
                    <a:pt x="1782" y="6421"/>
                  </a:lnTo>
                  <a:lnTo>
                    <a:pt x="1666" y="6503"/>
                  </a:lnTo>
                  <a:lnTo>
                    <a:pt x="1543" y="6581"/>
                  </a:lnTo>
                  <a:lnTo>
                    <a:pt x="1419" y="6652"/>
                  </a:lnTo>
                  <a:lnTo>
                    <a:pt x="1290" y="6717"/>
                  </a:lnTo>
                  <a:lnTo>
                    <a:pt x="1159" y="6776"/>
                  </a:lnTo>
                  <a:lnTo>
                    <a:pt x="1023" y="6830"/>
                  </a:lnTo>
                  <a:lnTo>
                    <a:pt x="884" y="6874"/>
                  </a:lnTo>
                  <a:lnTo>
                    <a:pt x="742" y="6914"/>
                  </a:lnTo>
                  <a:lnTo>
                    <a:pt x="598" y="6948"/>
                  </a:lnTo>
                  <a:lnTo>
                    <a:pt x="452" y="6973"/>
                  </a:lnTo>
                  <a:lnTo>
                    <a:pt x="304" y="6991"/>
                  </a:lnTo>
                  <a:lnTo>
                    <a:pt x="152" y="7003"/>
                  </a:lnTo>
                  <a:lnTo>
                    <a:pt x="0" y="7007"/>
                  </a:lnTo>
                  <a:lnTo>
                    <a:pt x="0" y="7117"/>
                  </a:lnTo>
                  <a:lnTo>
                    <a:pt x="154" y="7113"/>
                  </a:lnTo>
                  <a:lnTo>
                    <a:pt x="308" y="7102"/>
                  </a:lnTo>
                  <a:lnTo>
                    <a:pt x="458" y="7084"/>
                  </a:lnTo>
                  <a:lnTo>
                    <a:pt x="607" y="7058"/>
                  </a:lnTo>
                  <a:lnTo>
                    <a:pt x="754" y="7024"/>
                  </a:lnTo>
                  <a:lnTo>
                    <a:pt x="898" y="6985"/>
                  </a:lnTo>
                  <a:lnTo>
                    <a:pt x="1038" y="6940"/>
                  </a:lnTo>
                  <a:lnTo>
                    <a:pt x="1177" y="6887"/>
                  </a:lnTo>
                  <a:lnTo>
                    <a:pt x="1311" y="6827"/>
                  </a:lnTo>
                  <a:lnTo>
                    <a:pt x="1441" y="6764"/>
                  </a:lnTo>
                  <a:lnTo>
                    <a:pt x="1569" y="6693"/>
                  </a:lnTo>
                  <a:lnTo>
                    <a:pt x="1693" y="6616"/>
                  </a:lnTo>
                  <a:lnTo>
                    <a:pt x="1812" y="6535"/>
                  </a:lnTo>
                  <a:lnTo>
                    <a:pt x="1928" y="6448"/>
                  </a:lnTo>
                  <a:lnTo>
                    <a:pt x="2041" y="6356"/>
                  </a:lnTo>
                  <a:lnTo>
                    <a:pt x="2148" y="6257"/>
                  </a:lnTo>
                  <a:lnTo>
                    <a:pt x="2250" y="6157"/>
                  </a:lnTo>
                  <a:lnTo>
                    <a:pt x="2347" y="6048"/>
                  </a:lnTo>
                  <a:lnTo>
                    <a:pt x="2439" y="5938"/>
                  </a:lnTo>
                  <a:lnTo>
                    <a:pt x="2527" y="5821"/>
                  </a:lnTo>
                  <a:lnTo>
                    <a:pt x="2609" y="5702"/>
                  </a:lnTo>
                  <a:lnTo>
                    <a:pt x="2686" y="5579"/>
                  </a:lnTo>
                  <a:lnTo>
                    <a:pt x="2757" y="5450"/>
                  </a:lnTo>
                  <a:lnTo>
                    <a:pt x="2823" y="5320"/>
                  </a:lnTo>
                  <a:lnTo>
                    <a:pt x="2880" y="5185"/>
                  </a:lnTo>
                  <a:lnTo>
                    <a:pt x="2933" y="5048"/>
                  </a:lnTo>
                  <a:lnTo>
                    <a:pt x="2980" y="4907"/>
                  </a:lnTo>
                  <a:lnTo>
                    <a:pt x="3019" y="4763"/>
                  </a:lnTo>
                  <a:lnTo>
                    <a:pt x="3053" y="4617"/>
                  </a:lnTo>
                  <a:lnTo>
                    <a:pt x="3079" y="4470"/>
                  </a:lnTo>
                  <a:lnTo>
                    <a:pt x="3097" y="4318"/>
                  </a:lnTo>
                  <a:lnTo>
                    <a:pt x="3108" y="4166"/>
                  </a:lnTo>
                  <a:lnTo>
                    <a:pt x="3148" y="4213"/>
                  </a:lnTo>
                  <a:lnTo>
                    <a:pt x="3184" y="4264"/>
                  </a:lnTo>
                  <a:lnTo>
                    <a:pt x="3215" y="4316"/>
                  </a:lnTo>
                  <a:lnTo>
                    <a:pt x="3245" y="4366"/>
                  </a:lnTo>
                  <a:lnTo>
                    <a:pt x="3273" y="4420"/>
                  </a:lnTo>
                  <a:lnTo>
                    <a:pt x="3296" y="4475"/>
                  </a:lnTo>
                  <a:lnTo>
                    <a:pt x="3315" y="4530"/>
                  </a:lnTo>
                  <a:lnTo>
                    <a:pt x="3336" y="4586"/>
                  </a:lnTo>
                  <a:lnTo>
                    <a:pt x="3351" y="4643"/>
                  </a:lnTo>
                  <a:lnTo>
                    <a:pt x="3363" y="4700"/>
                  </a:lnTo>
                  <a:lnTo>
                    <a:pt x="3373" y="4760"/>
                  </a:lnTo>
                  <a:lnTo>
                    <a:pt x="3381" y="4818"/>
                  </a:lnTo>
                  <a:lnTo>
                    <a:pt x="3389" y="4936"/>
                  </a:lnTo>
                  <a:lnTo>
                    <a:pt x="3389" y="4998"/>
                  </a:lnTo>
                  <a:lnTo>
                    <a:pt x="3386" y="5057"/>
                  </a:lnTo>
                  <a:lnTo>
                    <a:pt x="3375" y="5179"/>
                  </a:lnTo>
                  <a:lnTo>
                    <a:pt x="3354" y="5304"/>
                  </a:lnTo>
                  <a:lnTo>
                    <a:pt x="3323" y="5426"/>
                  </a:lnTo>
                  <a:lnTo>
                    <a:pt x="3284" y="5548"/>
                  </a:lnTo>
                  <a:lnTo>
                    <a:pt x="3237" y="5671"/>
                  </a:lnTo>
                  <a:lnTo>
                    <a:pt x="3179" y="5791"/>
                  </a:lnTo>
                  <a:lnTo>
                    <a:pt x="3114" y="5909"/>
                  </a:lnTo>
                  <a:lnTo>
                    <a:pt x="3043" y="6024"/>
                  </a:lnTo>
                  <a:lnTo>
                    <a:pt x="2980" y="6116"/>
                  </a:lnTo>
                  <a:lnTo>
                    <a:pt x="2915" y="6205"/>
                  </a:lnTo>
                  <a:lnTo>
                    <a:pt x="2848" y="6294"/>
                  </a:lnTo>
                  <a:lnTo>
                    <a:pt x="2776" y="6380"/>
                  </a:lnTo>
                  <a:lnTo>
                    <a:pt x="2703" y="6462"/>
                  </a:lnTo>
                  <a:lnTo>
                    <a:pt x="2629" y="6543"/>
                  </a:lnTo>
                  <a:lnTo>
                    <a:pt x="2550" y="6623"/>
                  </a:lnTo>
                  <a:lnTo>
                    <a:pt x="2470" y="6697"/>
                  </a:lnTo>
                  <a:lnTo>
                    <a:pt x="2388" y="6772"/>
                  </a:lnTo>
                  <a:lnTo>
                    <a:pt x="2303" y="6843"/>
                  </a:lnTo>
                  <a:lnTo>
                    <a:pt x="2216" y="6912"/>
                  </a:lnTo>
                  <a:lnTo>
                    <a:pt x="2127" y="6977"/>
                  </a:lnTo>
                  <a:lnTo>
                    <a:pt x="2037" y="7040"/>
                  </a:lnTo>
                  <a:lnTo>
                    <a:pt x="1944" y="7102"/>
                  </a:lnTo>
                  <a:lnTo>
                    <a:pt x="1849" y="7160"/>
                  </a:lnTo>
                  <a:lnTo>
                    <a:pt x="1753" y="7216"/>
                  </a:lnTo>
                  <a:lnTo>
                    <a:pt x="1654" y="7267"/>
                  </a:lnTo>
                  <a:lnTo>
                    <a:pt x="1554" y="7317"/>
                  </a:lnTo>
                  <a:lnTo>
                    <a:pt x="1452" y="7364"/>
                  </a:lnTo>
                  <a:lnTo>
                    <a:pt x="1348" y="7405"/>
                  </a:lnTo>
                  <a:lnTo>
                    <a:pt x="1243" y="7447"/>
                  </a:lnTo>
                  <a:lnTo>
                    <a:pt x="1137" y="7482"/>
                  </a:lnTo>
                  <a:lnTo>
                    <a:pt x="1028" y="7518"/>
                  </a:lnTo>
                  <a:lnTo>
                    <a:pt x="920" y="7547"/>
                  </a:lnTo>
                  <a:lnTo>
                    <a:pt x="809" y="7575"/>
                  </a:lnTo>
                  <a:lnTo>
                    <a:pt x="696" y="7599"/>
                  </a:lnTo>
                  <a:lnTo>
                    <a:pt x="583" y="7618"/>
                  </a:lnTo>
                  <a:lnTo>
                    <a:pt x="468" y="7635"/>
                  </a:lnTo>
                  <a:lnTo>
                    <a:pt x="351" y="7648"/>
                  </a:lnTo>
                  <a:lnTo>
                    <a:pt x="235" y="7658"/>
                  </a:lnTo>
                  <a:lnTo>
                    <a:pt x="118" y="7662"/>
                  </a:lnTo>
                  <a:lnTo>
                    <a:pt x="0" y="7664"/>
                  </a:lnTo>
                  <a:close/>
                </a:path>
              </a:pathLst>
            </a:custGeom>
            <a:blipFill rotWithShape="0">
              <a:blip r:embed="rId88"/>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380880" y="723240"/>
              <a:ext cx="1181160" cy="900360"/>
            </a:xfrm>
            <a:custGeom>
              <a:avLst/>
              <a:gdLst/>
              <a:ahLst/>
              <a:rect l="l" t="t" r="r" b="b"/>
              <a:pathLst>
                <a:path w="9219" h="7762">
                  <a:moveTo>
                    <a:pt x="9219" y="112"/>
                  </a:moveTo>
                  <a:lnTo>
                    <a:pt x="9219" y="1"/>
                  </a:lnTo>
                  <a:lnTo>
                    <a:pt x="9217" y="0"/>
                  </a:lnTo>
                  <a:lnTo>
                    <a:pt x="9046" y="3"/>
                  </a:lnTo>
                  <a:lnTo>
                    <a:pt x="8876" y="15"/>
                  </a:lnTo>
                  <a:lnTo>
                    <a:pt x="8706" y="32"/>
                  </a:lnTo>
                  <a:lnTo>
                    <a:pt x="8540" y="56"/>
                  </a:lnTo>
                  <a:lnTo>
                    <a:pt x="8376" y="87"/>
                  </a:lnTo>
                  <a:lnTo>
                    <a:pt x="8214" y="128"/>
                  </a:lnTo>
                  <a:lnTo>
                    <a:pt x="8057" y="170"/>
                  </a:lnTo>
                  <a:lnTo>
                    <a:pt x="7900" y="222"/>
                  </a:lnTo>
                  <a:lnTo>
                    <a:pt x="7746" y="280"/>
                  </a:lnTo>
                  <a:lnTo>
                    <a:pt x="7596" y="343"/>
                  </a:lnTo>
                  <a:lnTo>
                    <a:pt x="7450" y="411"/>
                  </a:lnTo>
                  <a:lnTo>
                    <a:pt x="7306" y="487"/>
                  </a:lnTo>
                  <a:lnTo>
                    <a:pt x="7167" y="568"/>
                  </a:lnTo>
                  <a:lnTo>
                    <a:pt x="7031" y="652"/>
                  </a:lnTo>
                  <a:lnTo>
                    <a:pt x="6898" y="743"/>
                  </a:lnTo>
                  <a:lnTo>
                    <a:pt x="6770" y="840"/>
                  </a:lnTo>
                  <a:lnTo>
                    <a:pt x="6646" y="940"/>
                  </a:lnTo>
                  <a:lnTo>
                    <a:pt x="6525" y="1047"/>
                  </a:lnTo>
                  <a:lnTo>
                    <a:pt x="6408" y="1157"/>
                  </a:lnTo>
                  <a:lnTo>
                    <a:pt x="6298" y="1272"/>
                  </a:lnTo>
                  <a:lnTo>
                    <a:pt x="6189" y="1392"/>
                  </a:lnTo>
                  <a:lnTo>
                    <a:pt x="6089" y="1515"/>
                  </a:lnTo>
                  <a:lnTo>
                    <a:pt x="5990" y="1643"/>
                  </a:lnTo>
                  <a:lnTo>
                    <a:pt x="5899" y="1774"/>
                  </a:lnTo>
                  <a:lnTo>
                    <a:pt x="5812" y="1909"/>
                  </a:lnTo>
                  <a:lnTo>
                    <a:pt x="5731" y="2049"/>
                  </a:lnTo>
                  <a:lnTo>
                    <a:pt x="5655" y="2192"/>
                  </a:lnTo>
                  <a:lnTo>
                    <a:pt x="5586" y="2337"/>
                  </a:lnTo>
                  <a:lnTo>
                    <a:pt x="5521" y="2485"/>
                  </a:lnTo>
                  <a:lnTo>
                    <a:pt x="5461" y="2637"/>
                  </a:lnTo>
                  <a:lnTo>
                    <a:pt x="5409" y="2791"/>
                  </a:lnTo>
                  <a:lnTo>
                    <a:pt x="5362" y="2949"/>
                  </a:lnTo>
                  <a:lnTo>
                    <a:pt x="199" y="2949"/>
                  </a:lnTo>
                  <a:lnTo>
                    <a:pt x="173" y="2945"/>
                  </a:lnTo>
                  <a:lnTo>
                    <a:pt x="156" y="2938"/>
                  </a:lnTo>
                  <a:lnTo>
                    <a:pt x="144" y="2925"/>
                  </a:lnTo>
                  <a:lnTo>
                    <a:pt x="134" y="2915"/>
                  </a:lnTo>
                  <a:lnTo>
                    <a:pt x="125" y="2909"/>
                  </a:lnTo>
                  <a:lnTo>
                    <a:pt x="110" y="2912"/>
                  </a:lnTo>
                  <a:lnTo>
                    <a:pt x="89" y="2925"/>
                  </a:lnTo>
                  <a:lnTo>
                    <a:pt x="55" y="2951"/>
                  </a:lnTo>
                  <a:lnTo>
                    <a:pt x="36" y="2970"/>
                  </a:lnTo>
                  <a:lnTo>
                    <a:pt x="20" y="2988"/>
                  </a:lnTo>
                  <a:lnTo>
                    <a:pt x="10" y="3008"/>
                  </a:lnTo>
                  <a:lnTo>
                    <a:pt x="5" y="3026"/>
                  </a:lnTo>
                  <a:lnTo>
                    <a:pt x="0" y="3046"/>
                  </a:lnTo>
                  <a:lnTo>
                    <a:pt x="0" y="3064"/>
                  </a:lnTo>
                  <a:lnTo>
                    <a:pt x="5" y="3082"/>
                  </a:lnTo>
                  <a:lnTo>
                    <a:pt x="8" y="3098"/>
                  </a:lnTo>
                  <a:lnTo>
                    <a:pt x="24" y="3134"/>
                  </a:lnTo>
                  <a:lnTo>
                    <a:pt x="45" y="3170"/>
                  </a:lnTo>
                  <a:lnTo>
                    <a:pt x="91" y="3231"/>
                  </a:lnTo>
                  <a:lnTo>
                    <a:pt x="125" y="3273"/>
                  </a:lnTo>
                  <a:lnTo>
                    <a:pt x="172" y="3326"/>
                  </a:lnTo>
                  <a:lnTo>
                    <a:pt x="235" y="3387"/>
                  </a:lnTo>
                  <a:lnTo>
                    <a:pt x="314" y="3458"/>
                  </a:lnTo>
                  <a:lnTo>
                    <a:pt x="406" y="3535"/>
                  </a:lnTo>
                  <a:lnTo>
                    <a:pt x="515" y="3614"/>
                  </a:lnTo>
                  <a:lnTo>
                    <a:pt x="638" y="3697"/>
                  </a:lnTo>
                  <a:lnTo>
                    <a:pt x="774" y="3778"/>
                  </a:lnTo>
                  <a:lnTo>
                    <a:pt x="1340" y="3778"/>
                  </a:lnTo>
                  <a:lnTo>
                    <a:pt x="2423" y="3780"/>
                  </a:lnTo>
                  <a:lnTo>
                    <a:pt x="4028" y="3780"/>
                  </a:lnTo>
                  <a:lnTo>
                    <a:pt x="5023" y="3780"/>
                  </a:lnTo>
                  <a:lnTo>
                    <a:pt x="6150" y="3778"/>
                  </a:lnTo>
                  <a:lnTo>
                    <a:pt x="6233" y="3718"/>
                  </a:lnTo>
                  <a:lnTo>
                    <a:pt x="6322" y="3663"/>
                  </a:lnTo>
                  <a:lnTo>
                    <a:pt x="6419" y="3612"/>
                  </a:lnTo>
                  <a:lnTo>
                    <a:pt x="6519" y="3563"/>
                  </a:lnTo>
                  <a:lnTo>
                    <a:pt x="6251" y="3140"/>
                  </a:lnTo>
                  <a:lnTo>
                    <a:pt x="259" y="3140"/>
                  </a:lnTo>
                  <a:lnTo>
                    <a:pt x="235" y="3140"/>
                  </a:lnTo>
                  <a:lnTo>
                    <a:pt x="213" y="3137"/>
                  </a:lnTo>
                  <a:lnTo>
                    <a:pt x="194" y="3131"/>
                  </a:lnTo>
                  <a:lnTo>
                    <a:pt x="176" y="3123"/>
                  </a:lnTo>
                  <a:lnTo>
                    <a:pt x="162" y="3113"/>
                  </a:lnTo>
                  <a:lnTo>
                    <a:pt x="150" y="3101"/>
                  </a:lnTo>
                  <a:lnTo>
                    <a:pt x="142" y="3087"/>
                  </a:lnTo>
                  <a:lnTo>
                    <a:pt x="136" y="3071"/>
                  </a:lnTo>
                  <a:lnTo>
                    <a:pt x="136" y="3059"/>
                  </a:lnTo>
                  <a:lnTo>
                    <a:pt x="141" y="3051"/>
                  </a:lnTo>
                  <a:lnTo>
                    <a:pt x="146" y="3048"/>
                  </a:lnTo>
                  <a:lnTo>
                    <a:pt x="156" y="3046"/>
                  </a:lnTo>
                  <a:lnTo>
                    <a:pt x="180" y="3043"/>
                  </a:lnTo>
                  <a:lnTo>
                    <a:pt x="199" y="3046"/>
                  </a:lnTo>
                  <a:lnTo>
                    <a:pt x="6302" y="3046"/>
                  </a:lnTo>
                  <a:lnTo>
                    <a:pt x="6440" y="3259"/>
                  </a:lnTo>
                  <a:lnTo>
                    <a:pt x="6552" y="3435"/>
                  </a:lnTo>
                  <a:lnTo>
                    <a:pt x="6681" y="3644"/>
                  </a:lnTo>
                  <a:lnTo>
                    <a:pt x="6563" y="3693"/>
                  </a:lnTo>
                  <a:lnTo>
                    <a:pt x="6453" y="3746"/>
                  </a:lnTo>
                  <a:lnTo>
                    <a:pt x="6353" y="3804"/>
                  </a:lnTo>
                  <a:lnTo>
                    <a:pt x="6262" y="3867"/>
                  </a:lnTo>
                  <a:lnTo>
                    <a:pt x="6178" y="3932"/>
                  </a:lnTo>
                  <a:lnTo>
                    <a:pt x="6102" y="4000"/>
                  </a:lnTo>
                  <a:lnTo>
                    <a:pt x="6036" y="4071"/>
                  </a:lnTo>
                  <a:lnTo>
                    <a:pt x="5976" y="4147"/>
                  </a:lnTo>
                  <a:lnTo>
                    <a:pt x="5925" y="4223"/>
                  </a:lnTo>
                  <a:lnTo>
                    <a:pt x="5880" y="4304"/>
                  </a:lnTo>
                  <a:lnTo>
                    <a:pt x="5840" y="4385"/>
                  </a:lnTo>
                  <a:lnTo>
                    <a:pt x="5809" y="4471"/>
                  </a:lnTo>
                  <a:lnTo>
                    <a:pt x="5783" y="4555"/>
                  </a:lnTo>
                  <a:lnTo>
                    <a:pt x="5763" y="4640"/>
                  </a:lnTo>
                  <a:lnTo>
                    <a:pt x="5749" y="4727"/>
                  </a:lnTo>
                  <a:lnTo>
                    <a:pt x="5739" y="4816"/>
                  </a:lnTo>
                  <a:lnTo>
                    <a:pt x="5736" y="4903"/>
                  </a:lnTo>
                  <a:lnTo>
                    <a:pt x="5736" y="4991"/>
                  </a:lnTo>
                  <a:lnTo>
                    <a:pt x="5741" y="5080"/>
                  </a:lnTo>
                  <a:lnTo>
                    <a:pt x="5751" y="5167"/>
                  </a:lnTo>
                  <a:lnTo>
                    <a:pt x="5765" y="5254"/>
                  </a:lnTo>
                  <a:lnTo>
                    <a:pt x="5783" y="5339"/>
                  </a:lnTo>
                  <a:lnTo>
                    <a:pt x="5803" y="5423"/>
                  </a:lnTo>
                  <a:lnTo>
                    <a:pt x="5827" y="5507"/>
                  </a:lnTo>
                  <a:lnTo>
                    <a:pt x="5851" y="5588"/>
                  </a:lnTo>
                  <a:lnTo>
                    <a:pt x="5882" y="5666"/>
                  </a:lnTo>
                  <a:lnTo>
                    <a:pt x="5913" y="5743"/>
                  </a:lnTo>
                  <a:lnTo>
                    <a:pt x="5947" y="5816"/>
                  </a:lnTo>
                  <a:lnTo>
                    <a:pt x="5980" y="5887"/>
                  </a:lnTo>
                  <a:lnTo>
                    <a:pt x="6018" y="5954"/>
                  </a:lnTo>
                  <a:lnTo>
                    <a:pt x="6055" y="6020"/>
                  </a:lnTo>
                  <a:lnTo>
                    <a:pt x="6092" y="6078"/>
                  </a:lnTo>
                  <a:lnTo>
                    <a:pt x="6158" y="6174"/>
                  </a:lnTo>
                  <a:lnTo>
                    <a:pt x="6225" y="6264"/>
                  </a:lnTo>
                  <a:lnTo>
                    <a:pt x="6294" y="6355"/>
                  </a:lnTo>
                  <a:lnTo>
                    <a:pt x="6367" y="6441"/>
                  </a:lnTo>
                  <a:lnTo>
                    <a:pt x="6442" y="6528"/>
                  </a:lnTo>
                  <a:lnTo>
                    <a:pt x="6519" y="6611"/>
                  </a:lnTo>
                  <a:lnTo>
                    <a:pt x="6597" y="6690"/>
                  </a:lnTo>
                  <a:lnTo>
                    <a:pt x="6681" y="6769"/>
                  </a:lnTo>
                  <a:lnTo>
                    <a:pt x="6766" y="6844"/>
                  </a:lnTo>
                  <a:lnTo>
                    <a:pt x="6853" y="6919"/>
                  </a:lnTo>
                  <a:lnTo>
                    <a:pt x="6942" y="6988"/>
                  </a:lnTo>
                  <a:lnTo>
                    <a:pt x="7032" y="7058"/>
                  </a:lnTo>
                  <a:lnTo>
                    <a:pt x="7125" y="7122"/>
                  </a:lnTo>
                  <a:lnTo>
                    <a:pt x="7222" y="7184"/>
                  </a:lnTo>
                  <a:lnTo>
                    <a:pt x="7319" y="7242"/>
                  </a:lnTo>
                  <a:lnTo>
                    <a:pt x="7416" y="7300"/>
                  </a:lnTo>
                  <a:lnTo>
                    <a:pt x="7518" y="7354"/>
                  </a:lnTo>
                  <a:lnTo>
                    <a:pt x="7620" y="7404"/>
                  </a:lnTo>
                  <a:lnTo>
                    <a:pt x="7725" y="7451"/>
                  </a:lnTo>
                  <a:lnTo>
                    <a:pt x="7832" y="7498"/>
                  </a:lnTo>
                  <a:lnTo>
                    <a:pt x="7940" y="7537"/>
                  </a:lnTo>
                  <a:lnTo>
                    <a:pt x="8049" y="7576"/>
                  </a:lnTo>
                  <a:lnTo>
                    <a:pt x="8161" y="7610"/>
                  </a:lnTo>
                  <a:lnTo>
                    <a:pt x="8272" y="7641"/>
                  </a:lnTo>
                  <a:lnTo>
                    <a:pt x="8386" y="7668"/>
                  </a:lnTo>
                  <a:lnTo>
                    <a:pt x="8502" y="7692"/>
                  </a:lnTo>
                  <a:lnTo>
                    <a:pt x="8619" y="7715"/>
                  </a:lnTo>
                  <a:lnTo>
                    <a:pt x="8735" y="7730"/>
                  </a:lnTo>
                  <a:lnTo>
                    <a:pt x="8854" y="7744"/>
                  </a:lnTo>
                  <a:lnTo>
                    <a:pt x="8975" y="7754"/>
                  </a:lnTo>
                  <a:lnTo>
                    <a:pt x="9095" y="7760"/>
                  </a:lnTo>
                  <a:lnTo>
                    <a:pt x="9217" y="7762"/>
                  </a:lnTo>
                  <a:lnTo>
                    <a:pt x="9219" y="7762"/>
                  </a:lnTo>
                  <a:lnTo>
                    <a:pt x="9219" y="7665"/>
                  </a:lnTo>
                  <a:lnTo>
                    <a:pt x="9217" y="7665"/>
                  </a:lnTo>
                  <a:lnTo>
                    <a:pt x="9098" y="7663"/>
                  </a:lnTo>
                  <a:lnTo>
                    <a:pt x="8980" y="7659"/>
                  </a:lnTo>
                  <a:lnTo>
                    <a:pt x="8863" y="7649"/>
                  </a:lnTo>
                  <a:lnTo>
                    <a:pt x="8747" y="7636"/>
                  </a:lnTo>
                  <a:lnTo>
                    <a:pt x="8633" y="7619"/>
                  </a:lnTo>
                  <a:lnTo>
                    <a:pt x="8520" y="7600"/>
                  </a:lnTo>
                  <a:lnTo>
                    <a:pt x="8408" y="7576"/>
                  </a:lnTo>
                  <a:lnTo>
                    <a:pt x="8297" y="7548"/>
                  </a:lnTo>
                  <a:lnTo>
                    <a:pt x="8187" y="7519"/>
                  </a:lnTo>
                  <a:lnTo>
                    <a:pt x="8080" y="7483"/>
                  </a:lnTo>
                  <a:lnTo>
                    <a:pt x="7971" y="7448"/>
                  </a:lnTo>
                  <a:lnTo>
                    <a:pt x="7866" y="7406"/>
                  </a:lnTo>
                  <a:lnTo>
                    <a:pt x="7764" y="7365"/>
                  </a:lnTo>
                  <a:lnTo>
                    <a:pt x="7662" y="7318"/>
                  </a:lnTo>
                  <a:lnTo>
                    <a:pt x="7562" y="7268"/>
                  </a:lnTo>
                  <a:lnTo>
                    <a:pt x="7463" y="7217"/>
                  </a:lnTo>
                  <a:lnTo>
                    <a:pt x="7368" y="7161"/>
                  </a:lnTo>
                  <a:lnTo>
                    <a:pt x="7272" y="7103"/>
                  </a:lnTo>
                  <a:lnTo>
                    <a:pt x="7178" y="7041"/>
                  </a:lnTo>
                  <a:lnTo>
                    <a:pt x="7088" y="6978"/>
                  </a:lnTo>
                  <a:lnTo>
                    <a:pt x="6999" y="6913"/>
                  </a:lnTo>
                  <a:lnTo>
                    <a:pt x="6914" y="6844"/>
                  </a:lnTo>
                  <a:lnTo>
                    <a:pt x="6829" y="6773"/>
                  </a:lnTo>
                  <a:lnTo>
                    <a:pt x="6746" y="6698"/>
                  </a:lnTo>
                  <a:lnTo>
                    <a:pt x="6665" y="6624"/>
                  </a:lnTo>
                  <a:lnTo>
                    <a:pt x="6588" y="6544"/>
                  </a:lnTo>
                  <a:lnTo>
                    <a:pt x="6513" y="6463"/>
                  </a:lnTo>
                  <a:lnTo>
                    <a:pt x="6440" y="6381"/>
                  </a:lnTo>
                  <a:lnTo>
                    <a:pt x="6369" y="6295"/>
                  </a:lnTo>
                  <a:lnTo>
                    <a:pt x="6302" y="6206"/>
                  </a:lnTo>
                  <a:lnTo>
                    <a:pt x="6236" y="6117"/>
                  </a:lnTo>
                  <a:lnTo>
                    <a:pt x="6173" y="6025"/>
                  </a:lnTo>
                  <a:lnTo>
                    <a:pt x="6100" y="5910"/>
                  </a:lnTo>
                  <a:lnTo>
                    <a:pt x="6037" y="5792"/>
                  </a:lnTo>
                  <a:lnTo>
                    <a:pt x="5980" y="5672"/>
                  </a:lnTo>
                  <a:lnTo>
                    <a:pt x="5932" y="5549"/>
                  </a:lnTo>
                  <a:lnTo>
                    <a:pt x="5893" y="5427"/>
                  </a:lnTo>
                  <a:lnTo>
                    <a:pt x="5862" y="5303"/>
                  </a:lnTo>
                  <a:lnTo>
                    <a:pt x="5842" y="5180"/>
                  </a:lnTo>
                  <a:lnTo>
                    <a:pt x="5828" y="5058"/>
                  </a:lnTo>
                  <a:lnTo>
                    <a:pt x="5827" y="4937"/>
                  </a:lnTo>
                  <a:lnTo>
                    <a:pt x="5830" y="4879"/>
                  </a:lnTo>
                  <a:lnTo>
                    <a:pt x="5835" y="4817"/>
                  </a:lnTo>
                  <a:lnTo>
                    <a:pt x="5842" y="4761"/>
                  </a:lnTo>
                  <a:lnTo>
                    <a:pt x="5854" y="4701"/>
                  </a:lnTo>
                  <a:lnTo>
                    <a:pt x="5866" y="4644"/>
                  </a:lnTo>
                  <a:lnTo>
                    <a:pt x="5882" y="4587"/>
                  </a:lnTo>
                  <a:lnTo>
                    <a:pt x="5899" y="4529"/>
                  </a:lnTo>
                  <a:lnTo>
                    <a:pt x="5921" y="4474"/>
                  </a:lnTo>
                  <a:lnTo>
                    <a:pt x="5945" y="4421"/>
                  </a:lnTo>
                  <a:lnTo>
                    <a:pt x="5972" y="4367"/>
                  </a:lnTo>
                  <a:lnTo>
                    <a:pt x="6002" y="4314"/>
                  </a:lnTo>
                  <a:lnTo>
                    <a:pt x="6034" y="4263"/>
                  </a:lnTo>
                  <a:lnTo>
                    <a:pt x="6069" y="4214"/>
                  </a:lnTo>
                  <a:lnTo>
                    <a:pt x="6108" y="4165"/>
                  </a:lnTo>
                  <a:lnTo>
                    <a:pt x="6118" y="4319"/>
                  </a:lnTo>
                  <a:lnTo>
                    <a:pt x="6138" y="4468"/>
                  </a:lnTo>
                  <a:lnTo>
                    <a:pt x="6164" y="4618"/>
                  </a:lnTo>
                  <a:lnTo>
                    <a:pt x="6197" y="4764"/>
                  </a:lnTo>
                  <a:lnTo>
                    <a:pt x="6236" y="4908"/>
                  </a:lnTo>
                  <a:lnTo>
                    <a:pt x="6285" y="5049"/>
                  </a:lnTo>
                  <a:lnTo>
                    <a:pt x="6335" y="5186"/>
                  </a:lnTo>
                  <a:lnTo>
                    <a:pt x="6395" y="5321"/>
                  </a:lnTo>
                  <a:lnTo>
                    <a:pt x="6460" y="5451"/>
                  </a:lnTo>
                  <a:lnTo>
                    <a:pt x="6531" y="5580"/>
                  </a:lnTo>
                  <a:lnTo>
                    <a:pt x="6608" y="5701"/>
                  </a:lnTo>
                  <a:lnTo>
                    <a:pt x="6691" y="5822"/>
                  </a:lnTo>
                  <a:lnTo>
                    <a:pt x="6777" y="5939"/>
                  </a:lnTo>
                  <a:lnTo>
                    <a:pt x="6871" y="6049"/>
                  </a:lnTo>
                  <a:lnTo>
                    <a:pt x="6968" y="6156"/>
                  </a:lnTo>
                  <a:lnTo>
                    <a:pt x="7070" y="6258"/>
                  </a:lnTo>
                  <a:lnTo>
                    <a:pt x="7178" y="6357"/>
                  </a:lnTo>
                  <a:lnTo>
                    <a:pt x="7288" y="6447"/>
                  </a:lnTo>
                  <a:lnTo>
                    <a:pt x="7405" y="6536"/>
                  </a:lnTo>
                  <a:lnTo>
                    <a:pt x="7526" y="6617"/>
                  </a:lnTo>
                  <a:lnTo>
                    <a:pt x="7648" y="6694"/>
                  </a:lnTo>
                  <a:lnTo>
                    <a:pt x="7776" y="6765"/>
                  </a:lnTo>
                  <a:lnTo>
                    <a:pt x="7907" y="6828"/>
                  </a:lnTo>
                  <a:lnTo>
                    <a:pt x="8043" y="6888"/>
                  </a:lnTo>
                  <a:lnTo>
                    <a:pt x="8179" y="6941"/>
                  </a:lnTo>
                  <a:lnTo>
                    <a:pt x="8321" y="6986"/>
                  </a:lnTo>
                  <a:lnTo>
                    <a:pt x="8463" y="7025"/>
                  </a:lnTo>
                  <a:lnTo>
                    <a:pt x="8609" y="7059"/>
                  </a:lnTo>
                  <a:lnTo>
                    <a:pt x="8759" y="7085"/>
                  </a:lnTo>
                  <a:lnTo>
                    <a:pt x="8909" y="7103"/>
                  </a:lnTo>
                  <a:lnTo>
                    <a:pt x="9064" y="7114"/>
                  </a:lnTo>
                  <a:lnTo>
                    <a:pt x="9217" y="7118"/>
                  </a:lnTo>
                  <a:lnTo>
                    <a:pt x="9219" y="7118"/>
                  </a:lnTo>
                  <a:lnTo>
                    <a:pt x="9219" y="7008"/>
                  </a:lnTo>
                  <a:lnTo>
                    <a:pt x="9217" y="7008"/>
                  </a:lnTo>
                  <a:lnTo>
                    <a:pt x="9065" y="7004"/>
                  </a:lnTo>
                  <a:lnTo>
                    <a:pt x="8913" y="6992"/>
                  </a:lnTo>
                  <a:lnTo>
                    <a:pt x="8765" y="6974"/>
                  </a:lnTo>
                  <a:lnTo>
                    <a:pt x="8619" y="6949"/>
                  </a:lnTo>
                  <a:lnTo>
                    <a:pt x="8475" y="6915"/>
                  </a:lnTo>
                  <a:lnTo>
                    <a:pt x="8332" y="6875"/>
                  </a:lnTo>
                  <a:lnTo>
                    <a:pt x="8195" y="6831"/>
                  </a:lnTo>
                  <a:lnTo>
                    <a:pt x="8060" y="6777"/>
                  </a:lnTo>
                  <a:lnTo>
                    <a:pt x="7928" y="6718"/>
                  </a:lnTo>
                  <a:lnTo>
                    <a:pt x="7800" y="6653"/>
                  </a:lnTo>
                  <a:lnTo>
                    <a:pt x="7674" y="6582"/>
                  </a:lnTo>
                  <a:lnTo>
                    <a:pt x="7554" y="6504"/>
                  </a:lnTo>
                  <a:lnTo>
                    <a:pt x="7437" y="6422"/>
                  </a:lnTo>
                  <a:lnTo>
                    <a:pt x="7322" y="6334"/>
                  </a:lnTo>
                  <a:lnTo>
                    <a:pt x="7214" y="6242"/>
                  </a:lnTo>
                  <a:lnTo>
                    <a:pt x="7112" y="6143"/>
                  </a:lnTo>
                  <a:lnTo>
                    <a:pt x="7010" y="6041"/>
                  </a:lnTo>
                  <a:lnTo>
                    <a:pt x="6916" y="5934"/>
                  </a:lnTo>
                  <a:lnTo>
                    <a:pt x="6827" y="5824"/>
                  </a:lnTo>
                  <a:lnTo>
                    <a:pt x="6744" y="5708"/>
                  </a:lnTo>
                  <a:lnTo>
                    <a:pt x="6665" y="5588"/>
                  </a:lnTo>
                  <a:lnTo>
                    <a:pt x="6592" y="5463"/>
                  </a:lnTo>
                  <a:lnTo>
                    <a:pt x="6525" y="5337"/>
                  </a:lnTo>
                  <a:lnTo>
                    <a:pt x="6464" y="5204"/>
                  </a:lnTo>
                  <a:lnTo>
                    <a:pt x="6408" y="5070"/>
                  </a:lnTo>
                  <a:lnTo>
                    <a:pt x="6359" y="4934"/>
                  </a:lnTo>
                  <a:lnTo>
                    <a:pt x="6317" y="4792"/>
                  </a:lnTo>
                  <a:lnTo>
                    <a:pt x="6282" y="4649"/>
                  </a:lnTo>
                  <a:lnTo>
                    <a:pt x="6254" y="4504"/>
                  </a:lnTo>
                  <a:lnTo>
                    <a:pt x="6233" y="4356"/>
                  </a:lnTo>
                  <a:lnTo>
                    <a:pt x="6219" y="4204"/>
                  </a:lnTo>
                  <a:lnTo>
                    <a:pt x="6213" y="4052"/>
                  </a:lnTo>
                  <a:lnTo>
                    <a:pt x="6288" y="3985"/>
                  </a:lnTo>
                  <a:lnTo>
                    <a:pt x="8489" y="3985"/>
                  </a:lnTo>
                  <a:lnTo>
                    <a:pt x="8493" y="3930"/>
                  </a:lnTo>
                  <a:lnTo>
                    <a:pt x="8501" y="3877"/>
                  </a:lnTo>
                  <a:lnTo>
                    <a:pt x="6442" y="3877"/>
                  </a:lnTo>
                  <a:lnTo>
                    <a:pt x="6529" y="3825"/>
                  </a:lnTo>
                  <a:lnTo>
                    <a:pt x="6622" y="3778"/>
                  </a:lnTo>
                  <a:lnTo>
                    <a:pt x="6720" y="3734"/>
                  </a:lnTo>
                  <a:lnTo>
                    <a:pt x="6825" y="3695"/>
                  </a:lnTo>
                  <a:lnTo>
                    <a:pt x="6793" y="3644"/>
                  </a:lnTo>
                  <a:lnTo>
                    <a:pt x="6663" y="3432"/>
                  </a:lnTo>
                  <a:lnTo>
                    <a:pt x="6547" y="3247"/>
                  </a:lnTo>
                  <a:lnTo>
                    <a:pt x="6385" y="2996"/>
                  </a:lnTo>
                  <a:lnTo>
                    <a:pt x="6426" y="2888"/>
                  </a:lnTo>
                  <a:lnTo>
                    <a:pt x="6469" y="2781"/>
                  </a:lnTo>
                  <a:lnTo>
                    <a:pt x="6519" y="2679"/>
                  </a:lnTo>
                  <a:lnTo>
                    <a:pt x="6573" y="2576"/>
                  </a:lnTo>
                  <a:lnTo>
                    <a:pt x="6628" y="2475"/>
                  </a:lnTo>
                  <a:lnTo>
                    <a:pt x="6689" y="2378"/>
                  </a:lnTo>
                  <a:lnTo>
                    <a:pt x="6752" y="2284"/>
                  </a:lnTo>
                  <a:lnTo>
                    <a:pt x="6819" y="2192"/>
                  </a:lnTo>
                  <a:lnTo>
                    <a:pt x="6888" y="2103"/>
                  </a:lnTo>
                  <a:lnTo>
                    <a:pt x="6961" y="2015"/>
                  </a:lnTo>
                  <a:lnTo>
                    <a:pt x="7038" y="1933"/>
                  </a:lnTo>
                  <a:lnTo>
                    <a:pt x="7119" y="1852"/>
                  </a:lnTo>
                  <a:lnTo>
                    <a:pt x="7202" y="1773"/>
                  </a:lnTo>
                  <a:lnTo>
                    <a:pt x="7287" y="1698"/>
                  </a:lnTo>
                  <a:lnTo>
                    <a:pt x="7376" y="1627"/>
                  </a:lnTo>
                  <a:lnTo>
                    <a:pt x="7466" y="1560"/>
                  </a:lnTo>
                  <a:lnTo>
                    <a:pt x="7559" y="1494"/>
                  </a:lnTo>
                  <a:lnTo>
                    <a:pt x="7656" y="1434"/>
                  </a:lnTo>
                  <a:lnTo>
                    <a:pt x="7754" y="1376"/>
                  </a:lnTo>
                  <a:lnTo>
                    <a:pt x="7857" y="1321"/>
                  </a:lnTo>
                  <a:lnTo>
                    <a:pt x="7960" y="1272"/>
                  </a:lnTo>
                  <a:lnTo>
                    <a:pt x="8064" y="1224"/>
                  </a:lnTo>
                  <a:lnTo>
                    <a:pt x="8172" y="1183"/>
                  </a:lnTo>
                  <a:lnTo>
                    <a:pt x="8282" y="1143"/>
                  </a:lnTo>
                  <a:lnTo>
                    <a:pt x="8394" y="1110"/>
                  </a:lnTo>
                  <a:lnTo>
                    <a:pt x="8507" y="1080"/>
                  </a:lnTo>
                  <a:lnTo>
                    <a:pt x="8621" y="1055"/>
                  </a:lnTo>
                  <a:lnTo>
                    <a:pt x="8737" y="1033"/>
                  </a:lnTo>
                  <a:lnTo>
                    <a:pt x="8855" y="1017"/>
                  </a:lnTo>
                  <a:lnTo>
                    <a:pt x="8975" y="1005"/>
                  </a:lnTo>
                  <a:lnTo>
                    <a:pt x="9096" y="997"/>
                  </a:lnTo>
                  <a:lnTo>
                    <a:pt x="9217" y="995"/>
                  </a:lnTo>
                  <a:lnTo>
                    <a:pt x="9219" y="997"/>
                  </a:lnTo>
                  <a:lnTo>
                    <a:pt x="9219" y="887"/>
                  </a:lnTo>
                  <a:lnTo>
                    <a:pt x="9217" y="885"/>
                  </a:lnTo>
                  <a:lnTo>
                    <a:pt x="9091" y="889"/>
                  </a:lnTo>
                  <a:lnTo>
                    <a:pt x="8967" y="895"/>
                  </a:lnTo>
                  <a:lnTo>
                    <a:pt x="8844" y="908"/>
                  </a:lnTo>
                  <a:lnTo>
                    <a:pt x="8722" y="924"/>
                  </a:lnTo>
                  <a:lnTo>
                    <a:pt x="8601" y="947"/>
                  </a:lnTo>
                  <a:lnTo>
                    <a:pt x="8483" y="974"/>
                  </a:lnTo>
                  <a:lnTo>
                    <a:pt x="8366" y="1003"/>
                  </a:lnTo>
                  <a:lnTo>
                    <a:pt x="8250" y="1039"/>
                  </a:lnTo>
                  <a:lnTo>
                    <a:pt x="8138" y="1078"/>
                  </a:lnTo>
                  <a:lnTo>
                    <a:pt x="8027" y="1122"/>
                  </a:lnTo>
                  <a:lnTo>
                    <a:pt x="7916" y="1169"/>
                  </a:lnTo>
                  <a:lnTo>
                    <a:pt x="7810" y="1222"/>
                  </a:lnTo>
                  <a:lnTo>
                    <a:pt x="7706" y="1277"/>
                  </a:lnTo>
                  <a:lnTo>
                    <a:pt x="7602" y="1337"/>
                  </a:lnTo>
                  <a:lnTo>
                    <a:pt x="7504" y="1400"/>
                  </a:lnTo>
                  <a:lnTo>
                    <a:pt x="7407" y="1467"/>
                  </a:lnTo>
                  <a:lnTo>
                    <a:pt x="7313" y="1536"/>
                  </a:lnTo>
                  <a:lnTo>
                    <a:pt x="7222" y="1611"/>
                  </a:lnTo>
                  <a:lnTo>
                    <a:pt x="7133" y="1688"/>
                  </a:lnTo>
                  <a:lnTo>
                    <a:pt x="7046" y="1767"/>
                  </a:lnTo>
                  <a:lnTo>
                    <a:pt x="6963" y="1852"/>
                  </a:lnTo>
                  <a:lnTo>
                    <a:pt x="6884" y="1936"/>
                  </a:lnTo>
                  <a:lnTo>
                    <a:pt x="6809" y="2028"/>
                  </a:lnTo>
                  <a:lnTo>
                    <a:pt x="6736" y="2120"/>
                  </a:lnTo>
                  <a:lnTo>
                    <a:pt x="6667" y="2215"/>
                  </a:lnTo>
                  <a:lnTo>
                    <a:pt x="6600" y="2312"/>
                  </a:lnTo>
                  <a:lnTo>
                    <a:pt x="6539" y="2412"/>
                  </a:lnTo>
                  <a:lnTo>
                    <a:pt x="6479" y="2515"/>
                  </a:lnTo>
                  <a:lnTo>
                    <a:pt x="6424" y="2619"/>
                  </a:lnTo>
                  <a:lnTo>
                    <a:pt x="6375" y="2728"/>
                  </a:lnTo>
                  <a:lnTo>
                    <a:pt x="6327" y="2836"/>
                  </a:lnTo>
                  <a:lnTo>
                    <a:pt x="6285" y="2949"/>
                  </a:lnTo>
                  <a:lnTo>
                    <a:pt x="5479" y="2949"/>
                  </a:lnTo>
                  <a:lnTo>
                    <a:pt x="5524" y="2797"/>
                  </a:lnTo>
                  <a:lnTo>
                    <a:pt x="5576" y="2650"/>
                  </a:lnTo>
                  <a:lnTo>
                    <a:pt x="5633" y="2501"/>
                  </a:lnTo>
                  <a:lnTo>
                    <a:pt x="5696" y="2359"/>
                  </a:lnTo>
                  <a:lnTo>
                    <a:pt x="5765" y="2219"/>
                  </a:lnTo>
                  <a:lnTo>
                    <a:pt x="5838" y="2080"/>
                  </a:lnTo>
                  <a:lnTo>
                    <a:pt x="5919" y="1947"/>
                  </a:lnTo>
                  <a:lnTo>
                    <a:pt x="6003" y="1816"/>
                  </a:lnTo>
                  <a:lnTo>
                    <a:pt x="6092" y="1690"/>
                  </a:lnTo>
                  <a:lnTo>
                    <a:pt x="6188" y="1568"/>
                  </a:lnTo>
                  <a:lnTo>
                    <a:pt x="6286" y="1449"/>
                  </a:lnTo>
                  <a:lnTo>
                    <a:pt x="6390" y="1332"/>
                  </a:lnTo>
                  <a:lnTo>
                    <a:pt x="6497" y="1222"/>
                  </a:lnTo>
                  <a:lnTo>
                    <a:pt x="6612" y="1115"/>
                  </a:lnTo>
                  <a:lnTo>
                    <a:pt x="6728" y="1015"/>
                  </a:lnTo>
                  <a:lnTo>
                    <a:pt x="6848" y="916"/>
                  </a:lnTo>
                  <a:lnTo>
                    <a:pt x="6973" y="826"/>
                  </a:lnTo>
                  <a:lnTo>
                    <a:pt x="7101" y="737"/>
                  </a:lnTo>
                  <a:lnTo>
                    <a:pt x="7233" y="654"/>
                  </a:lnTo>
                  <a:lnTo>
                    <a:pt x="7369" y="578"/>
                  </a:lnTo>
                  <a:lnTo>
                    <a:pt x="7508" y="506"/>
                  </a:lnTo>
                  <a:lnTo>
                    <a:pt x="7649" y="439"/>
                  </a:lnTo>
                  <a:lnTo>
                    <a:pt x="7796" y="377"/>
                  </a:lnTo>
                  <a:lnTo>
                    <a:pt x="7944" y="322"/>
                  </a:lnTo>
                  <a:lnTo>
                    <a:pt x="8094" y="275"/>
                  </a:lnTo>
                  <a:lnTo>
                    <a:pt x="8248" y="232"/>
                  </a:lnTo>
                  <a:lnTo>
                    <a:pt x="8404" y="194"/>
                  </a:lnTo>
                  <a:lnTo>
                    <a:pt x="8562" y="165"/>
                  </a:lnTo>
                  <a:lnTo>
                    <a:pt x="8724" y="141"/>
                  </a:lnTo>
                  <a:lnTo>
                    <a:pt x="8886" y="123"/>
                  </a:lnTo>
                  <a:lnTo>
                    <a:pt x="9051" y="113"/>
                  </a:lnTo>
                  <a:lnTo>
                    <a:pt x="9217" y="110"/>
                  </a:lnTo>
                  <a:lnTo>
                    <a:pt x="9219" y="112"/>
                  </a:lnTo>
                  <a:close/>
                </a:path>
              </a:pathLst>
            </a:custGeom>
            <a:blipFill rotWithShape="0">
              <a:blip r:embed="rId8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971000" y="1168920"/>
              <a:ext cx="645840" cy="101160"/>
            </a:xfrm>
            <a:custGeom>
              <a:avLst/>
              <a:gdLst/>
              <a:ahLst/>
              <a:rect l="l" t="t" r="r" b="b"/>
              <a:pathLst>
                <a:path w="5039" h="866">
                  <a:moveTo>
                    <a:pt x="4268" y="866"/>
                  </a:moveTo>
                  <a:lnTo>
                    <a:pt x="4401" y="785"/>
                  </a:lnTo>
                  <a:lnTo>
                    <a:pt x="4524" y="704"/>
                  </a:lnTo>
                  <a:lnTo>
                    <a:pt x="4632" y="623"/>
                  </a:lnTo>
                  <a:lnTo>
                    <a:pt x="4725" y="547"/>
                  </a:lnTo>
                  <a:lnTo>
                    <a:pt x="4804" y="477"/>
                  </a:lnTo>
                  <a:lnTo>
                    <a:pt x="4867" y="414"/>
                  </a:lnTo>
                  <a:lnTo>
                    <a:pt x="4914" y="361"/>
                  </a:lnTo>
                  <a:lnTo>
                    <a:pt x="4948" y="319"/>
                  </a:lnTo>
                  <a:lnTo>
                    <a:pt x="4994" y="259"/>
                  </a:lnTo>
                  <a:lnTo>
                    <a:pt x="5016" y="225"/>
                  </a:lnTo>
                  <a:lnTo>
                    <a:pt x="5031" y="189"/>
                  </a:lnTo>
                  <a:lnTo>
                    <a:pt x="5035" y="171"/>
                  </a:lnTo>
                  <a:lnTo>
                    <a:pt x="5039" y="152"/>
                  </a:lnTo>
                  <a:lnTo>
                    <a:pt x="5039" y="134"/>
                  </a:lnTo>
                  <a:lnTo>
                    <a:pt x="5035" y="115"/>
                  </a:lnTo>
                  <a:lnTo>
                    <a:pt x="5029" y="97"/>
                  </a:lnTo>
                  <a:lnTo>
                    <a:pt x="5019" y="76"/>
                  </a:lnTo>
                  <a:lnTo>
                    <a:pt x="5003" y="58"/>
                  </a:lnTo>
                  <a:lnTo>
                    <a:pt x="4984" y="42"/>
                  </a:lnTo>
                  <a:lnTo>
                    <a:pt x="4953" y="13"/>
                  </a:lnTo>
                  <a:lnTo>
                    <a:pt x="4929" y="2"/>
                  </a:lnTo>
                  <a:lnTo>
                    <a:pt x="4914" y="0"/>
                  </a:lnTo>
                  <a:lnTo>
                    <a:pt x="4905" y="3"/>
                  </a:lnTo>
                  <a:lnTo>
                    <a:pt x="4895" y="13"/>
                  </a:lnTo>
                  <a:lnTo>
                    <a:pt x="4883" y="26"/>
                  </a:lnTo>
                  <a:lnTo>
                    <a:pt x="4865" y="34"/>
                  </a:lnTo>
                  <a:lnTo>
                    <a:pt x="4840" y="37"/>
                  </a:lnTo>
                  <a:lnTo>
                    <a:pt x="0" y="37"/>
                  </a:lnTo>
                  <a:lnTo>
                    <a:pt x="50" y="84"/>
                  </a:lnTo>
                  <a:lnTo>
                    <a:pt x="95" y="134"/>
                  </a:lnTo>
                  <a:lnTo>
                    <a:pt x="4840" y="134"/>
                  </a:lnTo>
                  <a:lnTo>
                    <a:pt x="4862" y="132"/>
                  </a:lnTo>
                  <a:lnTo>
                    <a:pt x="4883" y="134"/>
                  </a:lnTo>
                  <a:lnTo>
                    <a:pt x="4893" y="136"/>
                  </a:lnTo>
                  <a:lnTo>
                    <a:pt x="4901" y="142"/>
                  </a:lnTo>
                  <a:lnTo>
                    <a:pt x="4905" y="147"/>
                  </a:lnTo>
                  <a:lnTo>
                    <a:pt x="4903" y="160"/>
                  </a:lnTo>
                  <a:lnTo>
                    <a:pt x="4898" y="175"/>
                  </a:lnTo>
                  <a:lnTo>
                    <a:pt x="4890" y="189"/>
                  </a:lnTo>
                  <a:lnTo>
                    <a:pt x="4877" y="201"/>
                  </a:lnTo>
                  <a:lnTo>
                    <a:pt x="4864" y="211"/>
                  </a:lnTo>
                  <a:lnTo>
                    <a:pt x="4846" y="219"/>
                  </a:lnTo>
                  <a:lnTo>
                    <a:pt x="4828" y="225"/>
                  </a:lnTo>
                  <a:lnTo>
                    <a:pt x="4806" y="228"/>
                  </a:lnTo>
                  <a:lnTo>
                    <a:pt x="4781" y="228"/>
                  </a:lnTo>
                  <a:lnTo>
                    <a:pt x="172" y="228"/>
                  </a:lnTo>
                  <a:lnTo>
                    <a:pt x="222" y="301"/>
                  </a:lnTo>
                  <a:lnTo>
                    <a:pt x="267" y="377"/>
                  </a:lnTo>
                  <a:lnTo>
                    <a:pt x="306" y="453"/>
                  </a:lnTo>
                  <a:lnTo>
                    <a:pt x="340" y="532"/>
                  </a:lnTo>
                  <a:lnTo>
                    <a:pt x="368" y="613"/>
                  </a:lnTo>
                  <a:lnTo>
                    <a:pt x="392" y="696"/>
                  </a:lnTo>
                  <a:lnTo>
                    <a:pt x="411" y="782"/>
                  </a:lnTo>
                  <a:lnTo>
                    <a:pt x="424" y="866"/>
                  </a:lnTo>
                  <a:lnTo>
                    <a:pt x="4268" y="866"/>
                  </a:lnTo>
                  <a:close/>
                </a:path>
              </a:pathLst>
            </a:custGeom>
            <a:blipFill rotWithShape="0">
              <a:blip r:embed="rId9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1562040" y="1277640"/>
              <a:ext cx="929880" cy="375120"/>
            </a:xfrm>
            <a:custGeom>
              <a:avLst/>
              <a:gdLst/>
              <a:ahLst/>
              <a:rect l="l" t="t" r="r" b="b"/>
              <a:pathLst>
                <a:path w="7253" h="3231">
                  <a:moveTo>
                    <a:pt x="6996" y="231"/>
                  </a:moveTo>
                  <a:lnTo>
                    <a:pt x="7020" y="229"/>
                  </a:lnTo>
                  <a:lnTo>
                    <a:pt x="7042" y="225"/>
                  </a:lnTo>
                  <a:lnTo>
                    <a:pt x="7062" y="220"/>
                  </a:lnTo>
                  <a:lnTo>
                    <a:pt x="7077" y="212"/>
                  </a:lnTo>
                  <a:lnTo>
                    <a:pt x="7093" y="202"/>
                  </a:lnTo>
                  <a:lnTo>
                    <a:pt x="7103" y="189"/>
                  </a:lnTo>
                  <a:lnTo>
                    <a:pt x="7113" y="176"/>
                  </a:lnTo>
                  <a:lnTo>
                    <a:pt x="7119" y="160"/>
                  </a:lnTo>
                  <a:lnTo>
                    <a:pt x="7119" y="150"/>
                  </a:lnTo>
                  <a:lnTo>
                    <a:pt x="7114" y="142"/>
                  </a:lnTo>
                  <a:lnTo>
                    <a:pt x="7107" y="136"/>
                  </a:lnTo>
                  <a:lnTo>
                    <a:pt x="7098" y="134"/>
                  </a:lnTo>
                  <a:lnTo>
                    <a:pt x="7075" y="134"/>
                  </a:lnTo>
                  <a:lnTo>
                    <a:pt x="7054" y="134"/>
                  </a:lnTo>
                  <a:lnTo>
                    <a:pt x="3628" y="134"/>
                  </a:lnTo>
                  <a:lnTo>
                    <a:pt x="3623" y="37"/>
                  </a:lnTo>
                  <a:lnTo>
                    <a:pt x="7054" y="37"/>
                  </a:lnTo>
                  <a:lnTo>
                    <a:pt x="7080" y="35"/>
                  </a:lnTo>
                  <a:lnTo>
                    <a:pt x="7098" y="26"/>
                  </a:lnTo>
                  <a:lnTo>
                    <a:pt x="7109" y="16"/>
                  </a:lnTo>
                  <a:lnTo>
                    <a:pt x="7119" y="6"/>
                  </a:lnTo>
                  <a:lnTo>
                    <a:pt x="7129" y="0"/>
                  </a:lnTo>
                  <a:lnTo>
                    <a:pt x="7145" y="3"/>
                  </a:lnTo>
                  <a:lnTo>
                    <a:pt x="7166" y="14"/>
                  </a:lnTo>
                  <a:lnTo>
                    <a:pt x="7200" y="42"/>
                  </a:lnTo>
                  <a:lnTo>
                    <a:pt x="7219" y="59"/>
                  </a:lnTo>
                  <a:lnTo>
                    <a:pt x="7234" y="79"/>
                  </a:lnTo>
                  <a:lnTo>
                    <a:pt x="7243" y="97"/>
                  </a:lnTo>
                  <a:lnTo>
                    <a:pt x="7252" y="116"/>
                  </a:lnTo>
                  <a:lnTo>
                    <a:pt x="7253" y="134"/>
                  </a:lnTo>
                  <a:lnTo>
                    <a:pt x="7253" y="152"/>
                  </a:lnTo>
                  <a:lnTo>
                    <a:pt x="7245" y="189"/>
                  </a:lnTo>
                  <a:lnTo>
                    <a:pt x="7229" y="225"/>
                  </a:lnTo>
                  <a:lnTo>
                    <a:pt x="7208" y="259"/>
                  </a:lnTo>
                  <a:lnTo>
                    <a:pt x="7163" y="322"/>
                  </a:lnTo>
                  <a:lnTo>
                    <a:pt x="7131" y="361"/>
                  </a:lnTo>
                  <a:lnTo>
                    <a:pt x="7082" y="414"/>
                  </a:lnTo>
                  <a:lnTo>
                    <a:pt x="7019" y="477"/>
                  </a:lnTo>
                  <a:lnTo>
                    <a:pt x="6939" y="549"/>
                  </a:lnTo>
                  <a:lnTo>
                    <a:pt x="6847" y="623"/>
                  </a:lnTo>
                  <a:lnTo>
                    <a:pt x="6738" y="704"/>
                  </a:lnTo>
                  <a:lnTo>
                    <a:pt x="6617" y="785"/>
                  </a:lnTo>
                  <a:lnTo>
                    <a:pt x="6551" y="827"/>
                  </a:lnTo>
                  <a:lnTo>
                    <a:pt x="6481" y="866"/>
                  </a:lnTo>
                  <a:lnTo>
                    <a:pt x="3602" y="866"/>
                  </a:lnTo>
                  <a:lnTo>
                    <a:pt x="3574" y="950"/>
                  </a:lnTo>
                  <a:lnTo>
                    <a:pt x="3542" y="1028"/>
                  </a:lnTo>
                  <a:lnTo>
                    <a:pt x="3509" y="1103"/>
                  </a:lnTo>
                  <a:lnTo>
                    <a:pt x="3476" y="1178"/>
                  </a:lnTo>
                  <a:lnTo>
                    <a:pt x="3403" y="1316"/>
                  </a:lnTo>
                  <a:lnTo>
                    <a:pt x="3324" y="1442"/>
                  </a:lnTo>
                  <a:lnTo>
                    <a:pt x="3257" y="1544"/>
                  </a:lnTo>
                  <a:lnTo>
                    <a:pt x="3184" y="1640"/>
                  </a:lnTo>
                  <a:lnTo>
                    <a:pt x="3110" y="1737"/>
                  </a:lnTo>
                  <a:lnTo>
                    <a:pt x="3034" y="1829"/>
                  </a:lnTo>
                  <a:lnTo>
                    <a:pt x="2954" y="1920"/>
                  </a:lnTo>
                  <a:lnTo>
                    <a:pt x="2872" y="2009"/>
                  </a:lnTo>
                  <a:lnTo>
                    <a:pt x="2786" y="2094"/>
                  </a:lnTo>
                  <a:lnTo>
                    <a:pt x="2700" y="2177"/>
                  </a:lnTo>
                  <a:lnTo>
                    <a:pt x="2610" y="2258"/>
                  </a:lnTo>
                  <a:lnTo>
                    <a:pt x="2516" y="2334"/>
                  </a:lnTo>
                  <a:lnTo>
                    <a:pt x="2424" y="2410"/>
                  </a:lnTo>
                  <a:lnTo>
                    <a:pt x="2325" y="2483"/>
                  </a:lnTo>
                  <a:lnTo>
                    <a:pt x="2226" y="2551"/>
                  </a:lnTo>
                  <a:lnTo>
                    <a:pt x="2126" y="2619"/>
                  </a:lnTo>
                  <a:lnTo>
                    <a:pt x="2022" y="2682"/>
                  </a:lnTo>
                  <a:lnTo>
                    <a:pt x="1917" y="2740"/>
                  </a:lnTo>
                  <a:lnTo>
                    <a:pt x="1810" y="2798"/>
                  </a:lnTo>
                  <a:lnTo>
                    <a:pt x="1700" y="2852"/>
                  </a:lnTo>
                  <a:lnTo>
                    <a:pt x="1589" y="2902"/>
                  </a:lnTo>
                  <a:lnTo>
                    <a:pt x="1477" y="2950"/>
                  </a:lnTo>
                  <a:lnTo>
                    <a:pt x="1362" y="2993"/>
                  </a:lnTo>
                  <a:lnTo>
                    <a:pt x="1245" y="3033"/>
                  </a:lnTo>
                  <a:lnTo>
                    <a:pt x="1127" y="3070"/>
                  </a:lnTo>
                  <a:lnTo>
                    <a:pt x="1006" y="3104"/>
                  </a:lnTo>
                  <a:lnTo>
                    <a:pt x="886" y="3132"/>
                  </a:lnTo>
                  <a:lnTo>
                    <a:pt x="763" y="3158"/>
                  </a:lnTo>
                  <a:lnTo>
                    <a:pt x="640" y="3181"/>
                  </a:lnTo>
                  <a:lnTo>
                    <a:pt x="513" y="3198"/>
                  </a:lnTo>
                  <a:lnTo>
                    <a:pt x="387" y="3213"/>
                  </a:lnTo>
                  <a:lnTo>
                    <a:pt x="261" y="3223"/>
                  </a:lnTo>
                  <a:lnTo>
                    <a:pt x="130" y="3229"/>
                  </a:lnTo>
                  <a:lnTo>
                    <a:pt x="0" y="3231"/>
                  </a:lnTo>
                  <a:lnTo>
                    <a:pt x="0" y="3122"/>
                  </a:lnTo>
                  <a:lnTo>
                    <a:pt x="127" y="3119"/>
                  </a:lnTo>
                  <a:lnTo>
                    <a:pt x="253" y="3114"/>
                  </a:lnTo>
                  <a:lnTo>
                    <a:pt x="376" y="3104"/>
                  </a:lnTo>
                  <a:lnTo>
                    <a:pt x="499" y="3090"/>
                  </a:lnTo>
                  <a:lnTo>
                    <a:pt x="622" y="3072"/>
                  </a:lnTo>
                  <a:lnTo>
                    <a:pt x="742" y="3051"/>
                  </a:lnTo>
                  <a:lnTo>
                    <a:pt x="862" y="3025"/>
                  </a:lnTo>
                  <a:lnTo>
                    <a:pt x="978" y="2998"/>
                  </a:lnTo>
                  <a:lnTo>
                    <a:pt x="1095" y="2964"/>
                  </a:lnTo>
                  <a:lnTo>
                    <a:pt x="1210" y="2928"/>
                  </a:lnTo>
                  <a:lnTo>
                    <a:pt x="1324" y="2891"/>
                  </a:lnTo>
                  <a:lnTo>
                    <a:pt x="1435" y="2847"/>
                  </a:lnTo>
                  <a:lnTo>
                    <a:pt x="1545" y="2802"/>
                  </a:lnTo>
                  <a:lnTo>
                    <a:pt x="1653" y="2753"/>
                  </a:lnTo>
                  <a:lnTo>
                    <a:pt x="1760" y="2701"/>
                  </a:lnTo>
                  <a:lnTo>
                    <a:pt x="1863" y="2645"/>
                  </a:lnTo>
                  <a:lnTo>
                    <a:pt x="1966" y="2587"/>
                  </a:lnTo>
                  <a:lnTo>
                    <a:pt x="2066" y="2526"/>
                  </a:lnTo>
                  <a:lnTo>
                    <a:pt x="2165" y="2460"/>
                  </a:lnTo>
                  <a:lnTo>
                    <a:pt x="2262" y="2394"/>
                  </a:lnTo>
                  <a:lnTo>
                    <a:pt x="2357" y="2323"/>
                  </a:lnTo>
                  <a:lnTo>
                    <a:pt x="2448" y="2250"/>
                  </a:lnTo>
                  <a:lnTo>
                    <a:pt x="2538" y="2175"/>
                  </a:lnTo>
                  <a:lnTo>
                    <a:pt x="2625" y="2096"/>
                  </a:lnTo>
                  <a:lnTo>
                    <a:pt x="2710" y="2015"/>
                  </a:lnTo>
                  <a:lnTo>
                    <a:pt x="2793" y="1932"/>
                  </a:lnTo>
                  <a:lnTo>
                    <a:pt x="2872" y="1847"/>
                  </a:lnTo>
                  <a:lnTo>
                    <a:pt x="2951" y="1758"/>
                  </a:lnTo>
                  <a:lnTo>
                    <a:pt x="3026" y="1667"/>
                  </a:lnTo>
                  <a:lnTo>
                    <a:pt x="3097" y="1575"/>
                  </a:lnTo>
                  <a:lnTo>
                    <a:pt x="3166" y="1481"/>
                  </a:lnTo>
                  <a:lnTo>
                    <a:pt x="3233" y="1382"/>
                  </a:lnTo>
                  <a:lnTo>
                    <a:pt x="3302" y="1269"/>
                  </a:lnTo>
                  <a:lnTo>
                    <a:pt x="3369" y="1144"/>
                  </a:lnTo>
                  <a:lnTo>
                    <a:pt x="3430" y="1010"/>
                  </a:lnTo>
                  <a:lnTo>
                    <a:pt x="3485" y="866"/>
                  </a:lnTo>
                  <a:lnTo>
                    <a:pt x="3487" y="862"/>
                  </a:lnTo>
                  <a:lnTo>
                    <a:pt x="3515" y="782"/>
                  </a:lnTo>
                  <a:lnTo>
                    <a:pt x="3541" y="702"/>
                  </a:lnTo>
                  <a:lnTo>
                    <a:pt x="3563" y="621"/>
                  </a:lnTo>
                  <a:lnTo>
                    <a:pt x="3582" y="543"/>
                  </a:lnTo>
                  <a:lnTo>
                    <a:pt x="3598" y="464"/>
                  </a:lnTo>
                  <a:lnTo>
                    <a:pt x="3610" y="385"/>
                  </a:lnTo>
                  <a:lnTo>
                    <a:pt x="3620" y="307"/>
                  </a:lnTo>
                  <a:lnTo>
                    <a:pt x="3623" y="231"/>
                  </a:lnTo>
                  <a:lnTo>
                    <a:pt x="6996" y="231"/>
                  </a:lnTo>
                  <a:close/>
                </a:path>
              </a:pathLst>
            </a:custGeom>
            <a:blipFill rotWithShape="0">
              <a:blip r:embed="rId9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748800" y="1470600"/>
              <a:ext cx="80640" cy="130680"/>
            </a:xfrm>
            <a:custGeom>
              <a:avLst/>
              <a:gdLst/>
              <a:ahLst/>
              <a:rect l="l" t="t" r="r" b="b"/>
              <a:pathLst>
                <a:path w="636" h="1132">
                  <a:moveTo>
                    <a:pt x="0" y="991"/>
                  </a:moveTo>
                  <a:lnTo>
                    <a:pt x="0" y="1132"/>
                  </a:lnTo>
                  <a:lnTo>
                    <a:pt x="636" y="818"/>
                  </a:lnTo>
                  <a:lnTo>
                    <a:pt x="238" y="0"/>
                  </a:lnTo>
                  <a:lnTo>
                    <a:pt x="0" y="115"/>
                  </a:lnTo>
                  <a:lnTo>
                    <a:pt x="0" y="240"/>
                  </a:lnTo>
                  <a:lnTo>
                    <a:pt x="177" y="151"/>
                  </a:lnTo>
                  <a:lnTo>
                    <a:pt x="482" y="747"/>
                  </a:lnTo>
                  <a:lnTo>
                    <a:pt x="0" y="991"/>
                  </a:lnTo>
                  <a:close/>
                </a:path>
              </a:pathLst>
            </a:custGeom>
            <a:blipFill rotWithShape="0">
              <a:blip r:embed="rId9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655560" y="1483920"/>
              <a:ext cx="93240" cy="137160"/>
            </a:xfrm>
            <a:custGeom>
              <a:avLst/>
              <a:gdLst/>
              <a:ahLst/>
              <a:rect l="l" t="t" r="r" b="b"/>
              <a:pathLst>
                <a:path w="725" h="1180">
                  <a:moveTo>
                    <a:pt x="725" y="125"/>
                  </a:moveTo>
                  <a:lnTo>
                    <a:pt x="725" y="0"/>
                  </a:lnTo>
                  <a:lnTo>
                    <a:pt x="0" y="353"/>
                  </a:lnTo>
                  <a:lnTo>
                    <a:pt x="49" y="450"/>
                  </a:lnTo>
                  <a:lnTo>
                    <a:pt x="123" y="436"/>
                  </a:lnTo>
                  <a:lnTo>
                    <a:pt x="416" y="1034"/>
                  </a:lnTo>
                  <a:lnTo>
                    <a:pt x="351" y="1090"/>
                  </a:lnTo>
                  <a:lnTo>
                    <a:pt x="392" y="1180"/>
                  </a:lnTo>
                  <a:lnTo>
                    <a:pt x="725" y="1017"/>
                  </a:lnTo>
                  <a:lnTo>
                    <a:pt x="725" y="876"/>
                  </a:lnTo>
                  <a:lnTo>
                    <a:pt x="520" y="981"/>
                  </a:lnTo>
                  <a:lnTo>
                    <a:pt x="238" y="373"/>
                  </a:lnTo>
                  <a:lnTo>
                    <a:pt x="725" y="125"/>
                  </a:lnTo>
                  <a:close/>
                </a:path>
              </a:pathLst>
            </a:custGeom>
            <a:blipFill rotWithShape="0">
              <a:blip r:embed="rId9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694440" y="1499400"/>
              <a:ext cx="102240" cy="90720"/>
            </a:xfrm>
            <a:custGeom>
              <a:avLst/>
              <a:gdLst/>
              <a:ahLst/>
              <a:rect l="l" t="t" r="r" b="b"/>
              <a:pathLst>
                <a:path w="797" h="782">
                  <a:moveTo>
                    <a:pt x="0" y="247"/>
                  </a:moveTo>
                  <a:lnTo>
                    <a:pt x="76" y="193"/>
                  </a:lnTo>
                  <a:lnTo>
                    <a:pt x="196" y="421"/>
                  </a:lnTo>
                  <a:lnTo>
                    <a:pt x="348" y="351"/>
                  </a:lnTo>
                  <a:lnTo>
                    <a:pt x="264" y="168"/>
                  </a:lnTo>
                  <a:lnTo>
                    <a:pt x="358" y="123"/>
                  </a:lnTo>
                  <a:lnTo>
                    <a:pt x="450" y="280"/>
                  </a:lnTo>
                  <a:lnTo>
                    <a:pt x="554" y="251"/>
                  </a:lnTo>
                  <a:lnTo>
                    <a:pt x="450" y="44"/>
                  </a:lnTo>
                  <a:lnTo>
                    <a:pt x="550" y="0"/>
                  </a:lnTo>
                  <a:lnTo>
                    <a:pt x="797" y="488"/>
                  </a:lnTo>
                  <a:lnTo>
                    <a:pt x="714" y="544"/>
                  </a:lnTo>
                  <a:lnTo>
                    <a:pt x="605" y="371"/>
                  </a:lnTo>
                  <a:lnTo>
                    <a:pt x="502" y="405"/>
                  </a:lnTo>
                  <a:lnTo>
                    <a:pt x="586" y="570"/>
                  </a:lnTo>
                  <a:lnTo>
                    <a:pt x="515" y="624"/>
                  </a:lnTo>
                  <a:lnTo>
                    <a:pt x="394" y="476"/>
                  </a:lnTo>
                  <a:lnTo>
                    <a:pt x="272" y="517"/>
                  </a:lnTo>
                  <a:lnTo>
                    <a:pt x="351" y="711"/>
                  </a:lnTo>
                  <a:lnTo>
                    <a:pt x="337" y="768"/>
                  </a:lnTo>
                  <a:lnTo>
                    <a:pt x="267" y="782"/>
                  </a:lnTo>
                  <a:lnTo>
                    <a:pt x="0" y="247"/>
                  </a:lnTo>
                  <a:close/>
                </a:path>
              </a:pathLst>
            </a:custGeom>
            <a:blipFill rotWithShape="0">
              <a:blip r:embed="rId94"/>
              <a:srcRect/>
              <a:stretch/>
            </a:blip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44" name=""/>
            <p:cNvSpPr/>
            <p:nvPr/>
          </p:nvSpPr>
          <p:spPr>
            <a:xfrm>
              <a:off x="736560" y="1559880"/>
              <a:ext cx="15120" cy="12600"/>
            </a:xfrm>
            <a:custGeom>
              <a:avLst/>
              <a:gdLst/>
              <a:ahLst/>
              <a:rect l="l" t="t" r="r" b="b"/>
              <a:pathLst>
                <a:path w="122" h="115">
                  <a:moveTo>
                    <a:pt x="1" y="42"/>
                  </a:moveTo>
                  <a:lnTo>
                    <a:pt x="0" y="86"/>
                  </a:lnTo>
                  <a:lnTo>
                    <a:pt x="69" y="115"/>
                  </a:lnTo>
                  <a:lnTo>
                    <a:pt x="122" y="36"/>
                  </a:lnTo>
                  <a:lnTo>
                    <a:pt x="87" y="8"/>
                  </a:lnTo>
                  <a:lnTo>
                    <a:pt x="55" y="0"/>
                  </a:lnTo>
                  <a:lnTo>
                    <a:pt x="1" y="42"/>
                  </a:lnTo>
                  <a:close/>
                </a:path>
              </a:pathLst>
            </a:custGeom>
            <a:blipFill rotWithShape="0">
              <a:blip r:embed="rId95"/>
              <a:srcRect/>
              <a:stretch/>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45" name=""/>
            <p:cNvSpPr/>
            <p:nvPr/>
          </p:nvSpPr>
          <p:spPr>
            <a:xfrm>
              <a:off x="731520" y="1592280"/>
              <a:ext cx="134280" cy="83520"/>
            </a:xfrm>
            <a:custGeom>
              <a:avLst/>
              <a:gdLst/>
              <a:ahLst/>
              <a:rect l="l" t="t" r="r" b="b"/>
              <a:pathLst>
                <a:path w="1047" h="718">
                  <a:moveTo>
                    <a:pt x="0" y="670"/>
                  </a:moveTo>
                  <a:lnTo>
                    <a:pt x="7" y="606"/>
                  </a:lnTo>
                  <a:lnTo>
                    <a:pt x="369" y="314"/>
                  </a:lnTo>
                  <a:lnTo>
                    <a:pt x="742" y="12"/>
                  </a:lnTo>
                  <a:lnTo>
                    <a:pt x="759" y="4"/>
                  </a:lnTo>
                  <a:lnTo>
                    <a:pt x="781" y="0"/>
                  </a:lnTo>
                  <a:lnTo>
                    <a:pt x="795" y="3"/>
                  </a:lnTo>
                  <a:lnTo>
                    <a:pt x="806" y="6"/>
                  </a:lnTo>
                  <a:lnTo>
                    <a:pt x="821" y="12"/>
                  </a:lnTo>
                  <a:lnTo>
                    <a:pt x="832" y="24"/>
                  </a:lnTo>
                  <a:lnTo>
                    <a:pt x="952" y="174"/>
                  </a:lnTo>
                  <a:lnTo>
                    <a:pt x="1047" y="296"/>
                  </a:lnTo>
                  <a:lnTo>
                    <a:pt x="717" y="406"/>
                  </a:lnTo>
                  <a:lnTo>
                    <a:pt x="690" y="419"/>
                  </a:lnTo>
                  <a:lnTo>
                    <a:pt x="670" y="437"/>
                  </a:lnTo>
                  <a:lnTo>
                    <a:pt x="657" y="456"/>
                  </a:lnTo>
                  <a:lnTo>
                    <a:pt x="645" y="484"/>
                  </a:lnTo>
                  <a:lnTo>
                    <a:pt x="631" y="518"/>
                  </a:lnTo>
                  <a:lnTo>
                    <a:pt x="607" y="558"/>
                  </a:lnTo>
                  <a:lnTo>
                    <a:pt x="591" y="582"/>
                  </a:lnTo>
                  <a:lnTo>
                    <a:pt x="570" y="606"/>
                  </a:lnTo>
                  <a:lnTo>
                    <a:pt x="546" y="630"/>
                  </a:lnTo>
                  <a:lnTo>
                    <a:pt x="515" y="654"/>
                  </a:lnTo>
                  <a:lnTo>
                    <a:pt x="460" y="693"/>
                  </a:lnTo>
                  <a:lnTo>
                    <a:pt x="436" y="707"/>
                  </a:lnTo>
                  <a:lnTo>
                    <a:pt x="416" y="715"/>
                  </a:lnTo>
                  <a:lnTo>
                    <a:pt x="398" y="718"/>
                  </a:lnTo>
                  <a:lnTo>
                    <a:pt x="382" y="718"/>
                  </a:lnTo>
                  <a:lnTo>
                    <a:pt x="364" y="712"/>
                  </a:lnTo>
                  <a:lnTo>
                    <a:pt x="345" y="702"/>
                  </a:lnTo>
                  <a:lnTo>
                    <a:pt x="309" y="678"/>
                  </a:lnTo>
                  <a:lnTo>
                    <a:pt x="284" y="655"/>
                  </a:lnTo>
                  <a:lnTo>
                    <a:pt x="264" y="634"/>
                  </a:lnTo>
                  <a:lnTo>
                    <a:pt x="321" y="531"/>
                  </a:lnTo>
                  <a:lnTo>
                    <a:pt x="327" y="541"/>
                  </a:lnTo>
                  <a:lnTo>
                    <a:pt x="345" y="563"/>
                  </a:lnTo>
                  <a:lnTo>
                    <a:pt x="369" y="584"/>
                  </a:lnTo>
                  <a:lnTo>
                    <a:pt x="382" y="594"/>
                  </a:lnTo>
                  <a:lnTo>
                    <a:pt x="398" y="598"/>
                  </a:lnTo>
                  <a:lnTo>
                    <a:pt x="428" y="598"/>
                  </a:lnTo>
                  <a:lnTo>
                    <a:pt x="455" y="592"/>
                  </a:lnTo>
                  <a:lnTo>
                    <a:pt x="481" y="581"/>
                  </a:lnTo>
                  <a:lnTo>
                    <a:pt x="499" y="565"/>
                  </a:lnTo>
                  <a:lnTo>
                    <a:pt x="510" y="543"/>
                  </a:lnTo>
                  <a:lnTo>
                    <a:pt x="518" y="513"/>
                  </a:lnTo>
                  <a:lnTo>
                    <a:pt x="526" y="482"/>
                  </a:lnTo>
                  <a:lnTo>
                    <a:pt x="536" y="450"/>
                  </a:lnTo>
                  <a:lnTo>
                    <a:pt x="544" y="421"/>
                  </a:lnTo>
                  <a:lnTo>
                    <a:pt x="554" y="391"/>
                  </a:lnTo>
                  <a:lnTo>
                    <a:pt x="562" y="377"/>
                  </a:lnTo>
                  <a:lnTo>
                    <a:pt x="573" y="364"/>
                  </a:lnTo>
                  <a:lnTo>
                    <a:pt x="591" y="351"/>
                  </a:lnTo>
                  <a:lnTo>
                    <a:pt x="617" y="341"/>
                  </a:lnTo>
                  <a:lnTo>
                    <a:pt x="774" y="283"/>
                  </a:lnTo>
                  <a:lnTo>
                    <a:pt x="871" y="243"/>
                  </a:lnTo>
                  <a:lnTo>
                    <a:pt x="783" y="126"/>
                  </a:lnTo>
                  <a:lnTo>
                    <a:pt x="73" y="710"/>
                  </a:lnTo>
                  <a:lnTo>
                    <a:pt x="0" y="670"/>
                  </a:lnTo>
                  <a:close/>
                </a:path>
              </a:pathLst>
            </a:custGeom>
            <a:blipFill rotWithShape="0">
              <a:blip r:embed="rId96"/>
              <a:srcRect/>
              <a:stretch/>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46" name=""/>
            <p:cNvSpPr/>
            <p:nvPr/>
          </p:nvSpPr>
          <p:spPr>
            <a:xfrm>
              <a:off x="765360" y="1671480"/>
              <a:ext cx="52920" cy="21960"/>
            </a:xfrm>
            <a:custGeom>
              <a:avLst/>
              <a:gdLst/>
              <a:ahLst/>
              <a:rect l="l" t="t" r="r" b="b"/>
              <a:pathLst>
                <a:path w="422" h="193">
                  <a:moveTo>
                    <a:pt x="0" y="89"/>
                  </a:moveTo>
                  <a:lnTo>
                    <a:pt x="47" y="87"/>
                  </a:lnTo>
                  <a:lnTo>
                    <a:pt x="99" y="83"/>
                  </a:lnTo>
                  <a:lnTo>
                    <a:pt x="160" y="77"/>
                  </a:lnTo>
                  <a:lnTo>
                    <a:pt x="221" y="67"/>
                  </a:lnTo>
                  <a:lnTo>
                    <a:pt x="280" y="51"/>
                  </a:lnTo>
                  <a:lnTo>
                    <a:pt x="306" y="39"/>
                  </a:lnTo>
                  <a:lnTo>
                    <a:pt x="330" y="28"/>
                  </a:lnTo>
                  <a:lnTo>
                    <a:pt x="348" y="14"/>
                  </a:lnTo>
                  <a:lnTo>
                    <a:pt x="361" y="0"/>
                  </a:lnTo>
                  <a:lnTo>
                    <a:pt x="387" y="38"/>
                  </a:lnTo>
                  <a:lnTo>
                    <a:pt x="406" y="67"/>
                  </a:lnTo>
                  <a:lnTo>
                    <a:pt x="422" y="96"/>
                  </a:lnTo>
                  <a:lnTo>
                    <a:pt x="377" y="138"/>
                  </a:lnTo>
                  <a:lnTo>
                    <a:pt x="3" y="193"/>
                  </a:lnTo>
                  <a:lnTo>
                    <a:pt x="0" y="89"/>
                  </a:lnTo>
                  <a:close/>
                </a:path>
              </a:pathLst>
            </a:custGeom>
            <a:blipFill rotWithShape="0">
              <a:blip r:embed="rId97"/>
              <a:srcRect/>
              <a:stretch/>
            </a:blip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47" name=""/>
            <p:cNvSpPr/>
            <p:nvPr/>
          </p:nvSpPr>
          <p:spPr>
            <a:xfrm>
              <a:off x="769320" y="1644480"/>
              <a:ext cx="113760" cy="82440"/>
            </a:xfrm>
            <a:custGeom>
              <a:avLst/>
              <a:gdLst/>
              <a:ahLst/>
              <a:rect l="l" t="t" r="r" b="b"/>
              <a:pathLst>
                <a:path w="888" h="719">
                  <a:moveTo>
                    <a:pt x="66" y="488"/>
                  </a:moveTo>
                  <a:lnTo>
                    <a:pt x="89" y="507"/>
                  </a:lnTo>
                  <a:lnTo>
                    <a:pt x="131" y="545"/>
                  </a:lnTo>
                  <a:lnTo>
                    <a:pt x="141" y="551"/>
                  </a:lnTo>
                  <a:lnTo>
                    <a:pt x="152" y="553"/>
                  </a:lnTo>
                  <a:lnTo>
                    <a:pt x="166" y="551"/>
                  </a:lnTo>
                  <a:lnTo>
                    <a:pt x="182" y="546"/>
                  </a:lnTo>
                  <a:lnTo>
                    <a:pt x="212" y="531"/>
                  </a:lnTo>
                  <a:lnTo>
                    <a:pt x="241" y="512"/>
                  </a:lnTo>
                  <a:lnTo>
                    <a:pt x="304" y="464"/>
                  </a:lnTo>
                  <a:lnTo>
                    <a:pt x="409" y="383"/>
                  </a:lnTo>
                  <a:lnTo>
                    <a:pt x="549" y="272"/>
                  </a:lnTo>
                  <a:lnTo>
                    <a:pt x="395" y="77"/>
                  </a:lnTo>
                  <a:lnTo>
                    <a:pt x="468" y="0"/>
                  </a:lnTo>
                  <a:lnTo>
                    <a:pt x="662" y="225"/>
                  </a:lnTo>
                  <a:lnTo>
                    <a:pt x="798" y="387"/>
                  </a:lnTo>
                  <a:lnTo>
                    <a:pt x="869" y="472"/>
                  </a:lnTo>
                  <a:lnTo>
                    <a:pt x="882" y="494"/>
                  </a:lnTo>
                  <a:lnTo>
                    <a:pt x="888" y="519"/>
                  </a:lnTo>
                  <a:lnTo>
                    <a:pt x="888" y="543"/>
                  </a:lnTo>
                  <a:lnTo>
                    <a:pt x="882" y="564"/>
                  </a:lnTo>
                  <a:lnTo>
                    <a:pt x="867" y="593"/>
                  </a:lnTo>
                  <a:lnTo>
                    <a:pt x="861" y="598"/>
                  </a:lnTo>
                  <a:lnTo>
                    <a:pt x="801" y="575"/>
                  </a:lnTo>
                  <a:lnTo>
                    <a:pt x="623" y="371"/>
                  </a:lnTo>
                  <a:lnTo>
                    <a:pt x="447" y="517"/>
                  </a:lnTo>
                  <a:lnTo>
                    <a:pt x="317" y="625"/>
                  </a:lnTo>
                  <a:lnTo>
                    <a:pt x="231" y="690"/>
                  </a:lnTo>
                  <a:lnTo>
                    <a:pt x="214" y="703"/>
                  </a:lnTo>
                  <a:lnTo>
                    <a:pt x="194" y="711"/>
                  </a:lnTo>
                  <a:lnTo>
                    <a:pt x="176" y="716"/>
                  </a:lnTo>
                  <a:lnTo>
                    <a:pt x="158" y="719"/>
                  </a:lnTo>
                  <a:lnTo>
                    <a:pt x="141" y="719"/>
                  </a:lnTo>
                  <a:lnTo>
                    <a:pt x="125" y="713"/>
                  </a:lnTo>
                  <a:lnTo>
                    <a:pt x="111" y="705"/>
                  </a:lnTo>
                  <a:lnTo>
                    <a:pt x="99" y="695"/>
                  </a:lnTo>
                  <a:lnTo>
                    <a:pt x="38" y="627"/>
                  </a:lnTo>
                  <a:lnTo>
                    <a:pt x="0" y="586"/>
                  </a:lnTo>
                  <a:lnTo>
                    <a:pt x="66" y="488"/>
                  </a:lnTo>
                  <a:close/>
                </a:path>
              </a:pathLst>
            </a:custGeom>
            <a:blipFill rotWithShape="0">
              <a:blip r:embed="rId98"/>
              <a:srcRect/>
              <a:stretch/>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8" name=""/>
            <p:cNvSpPr/>
            <p:nvPr/>
          </p:nvSpPr>
          <p:spPr>
            <a:xfrm>
              <a:off x="816480" y="1702800"/>
              <a:ext cx="28800" cy="46080"/>
            </a:xfrm>
            <a:custGeom>
              <a:avLst/>
              <a:gdLst/>
              <a:ahLst/>
              <a:rect l="l" t="t" r="r" b="b"/>
              <a:pathLst>
                <a:path w="229" h="399">
                  <a:moveTo>
                    <a:pt x="126" y="0"/>
                  </a:moveTo>
                  <a:lnTo>
                    <a:pt x="0" y="363"/>
                  </a:lnTo>
                  <a:lnTo>
                    <a:pt x="118" y="399"/>
                  </a:lnTo>
                  <a:lnTo>
                    <a:pt x="229" y="42"/>
                  </a:lnTo>
                  <a:lnTo>
                    <a:pt x="126" y="0"/>
                  </a:lnTo>
                  <a:close/>
                </a:path>
              </a:pathLst>
            </a:custGeom>
            <a:blipFill rotWithShape="0">
              <a:blip r:embed="rId99"/>
              <a:srcRect/>
              <a:stretch/>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49" name=""/>
            <p:cNvSpPr/>
            <p:nvPr/>
          </p:nvSpPr>
          <p:spPr>
            <a:xfrm>
              <a:off x="855360" y="1632240"/>
              <a:ext cx="51120" cy="51480"/>
            </a:xfrm>
            <a:custGeom>
              <a:avLst/>
              <a:gdLst/>
              <a:ahLst/>
              <a:rect l="l" t="t" r="r" b="b"/>
              <a:pathLst>
                <a:path w="397" h="450">
                  <a:moveTo>
                    <a:pt x="0" y="81"/>
                  </a:moveTo>
                  <a:lnTo>
                    <a:pt x="57" y="0"/>
                  </a:lnTo>
                  <a:lnTo>
                    <a:pt x="85" y="0"/>
                  </a:lnTo>
                  <a:lnTo>
                    <a:pt x="397" y="374"/>
                  </a:lnTo>
                  <a:lnTo>
                    <a:pt x="394" y="419"/>
                  </a:lnTo>
                  <a:lnTo>
                    <a:pt x="334" y="450"/>
                  </a:lnTo>
                  <a:lnTo>
                    <a:pt x="277" y="427"/>
                  </a:lnTo>
                  <a:lnTo>
                    <a:pt x="0" y="81"/>
                  </a:lnTo>
                  <a:close/>
                </a:path>
              </a:pathLst>
            </a:custGeom>
            <a:blipFill rotWithShape="0">
              <a:blip r:embed="rId100"/>
              <a:srcRect/>
              <a:stretch/>
            </a:blipFill>
            <a:ln w="0">
              <a:noFill/>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sp>
          <p:nvSpPr>
            <p:cNvPr id="150" name=""/>
            <p:cNvSpPr/>
            <p:nvPr/>
          </p:nvSpPr>
          <p:spPr>
            <a:xfrm>
              <a:off x="1092240" y="1840320"/>
              <a:ext cx="14400" cy="19440"/>
            </a:xfrm>
            <a:custGeom>
              <a:avLst/>
              <a:gdLst/>
              <a:ahLst/>
              <a:rect l="l" t="t" r="r" b="b"/>
              <a:pathLst>
                <a:path w="113" h="165">
                  <a:moveTo>
                    <a:pt x="0" y="3"/>
                  </a:moveTo>
                  <a:lnTo>
                    <a:pt x="13" y="149"/>
                  </a:lnTo>
                  <a:lnTo>
                    <a:pt x="109" y="165"/>
                  </a:lnTo>
                  <a:lnTo>
                    <a:pt x="113" y="0"/>
                  </a:lnTo>
                  <a:lnTo>
                    <a:pt x="0" y="3"/>
                  </a:lnTo>
                  <a:close/>
                </a:path>
              </a:pathLst>
            </a:custGeom>
            <a:blipFill rotWithShape="0">
              <a:blip r:embed="rId101"/>
              <a:srcRect/>
              <a:stretch/>
            </a:blip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51" name=""/>
            <p:cNvSpPr/>
            <p:nvPr/>
          </p:nvSpPr>
          <p:spPr>
            <a:xfrm>
              <a:off x="1033920" y="1870920"/>
              <a:ext cx="61560" cy="92520"/>
            </a:xfrm>
            <a:custGeom>
              <a:avLst/>
              <a:gdLst/>
              <a:ahLst/>
              <a:rect l="l" t="t" r="r" b="b"/>
              <a:pathLst>
                <a:path w="484" h="797">
                  <a:moveTo>
                    <a:pt x="0" y="324"/>
                  </a:moveTo>
                  <a:lnTo>
                    <a:pt x="0" y="475"/>
                  </a:lnTo>
                  <a:lnTo>
                    <a:pt x="22" y="460"/>
                  </a:lnTo>
                  <a:lnTo>
                    <a:pt x="66" y="424"/>
                  </a:lnTo>
                  <a:lnTo>
                    <a:pt x="105" y="382"/>
                  </a:lnTo>
                  <a:lnTo>
                    <a:pt x="140" y="339"/>
                  </a:lnTo>
                  <a:lnTo>
                    <a:pt x="174" y="295"/>
                  </a:lnTo>
                  <a:lnTo>
                    <a:pt x="225" y="217"/>
                  </a:lnTo>
                  <a:lnTo>
                    <a:pt x="257" y="172"/>
                  </a:lnTo>
                  <a:lnTo>
                    <a:pt x="267" y="162"/>
                  </a:lnTo>
                  <a:lnTo>
                    <a:pt x="276" y="156"/>
                  </a:lnTo>
                  <a:lnTo>
                    <a:pt x="284" y="154"/>
                  </a:lnTo>
                  <a:lnTo>
                    <a:pt x="291" y="156"/>
                  </a:lnTo>
                  <a:lnTo>
                    <a:pt x="306" y="165"/>
                  </a:lnTo>
                  <a:lnTo>
                    <a:pt x="322" y="180"/>
                  </a:lnTo>
                  <a:lnTo>
                    <a:pt x="336" y="191"/>
                  </a:lnTo>
                  <a:lnTo>
                    <a:pt x="343" y="203"/>
                  </a:lnTo>
                  <a:lnTo>
                    <a:pt x="341" y="219"/>
                  </a:lnTo>
                  <a:lnTo>
                    <a:pt x="333" y="235"/>
                  </a:lnTo>
                  <a:lnTo>
                    <a:pt x="118" y="544"/>
                  </a:lnTo>
                  <a:lnTo>
                    <a:pt x="98" y="578"/>
                  </a:lnTo>
                  <a:lnTo>
                    <a:pt x="89" y="609"/>
                  </a:lnTo>
                  <a:lnTo>
                    <a:pt x="87" y="641"/>
                  </a:lnTo>
                  <a:lnTo>
                    <a:pt x="95" y="672"/>
                  </a:lnTo>
                  <a:lnTo>
                    <a:pt x="108" y="700"/>
                  </a:lnTo>
                  <a:lnTo>
                    <a:pt x="131" y="727"/>
                  </a:lnTo>
                  <a:lnTo>
                    <a:pt x="158" y="753"/>
                  </a:lnTo>
                  <a:lnTo>
                    <a:pt x="192" y="779"/>
                  </a:lnTo>
                  <a:lnTo>
                    <a:pt x="211" y="789"/>
                  </a:lnTo>
                  <a:lnTo>
                    <a:pt x="229" y="795"/>
                  </a:lnTo>
                  <a:lnTo>
                    <a:pt x="244" y="797"/>
                  </a:lnTo>
                  <a:lnTo>
                    <a:pt x="262" y="797"/>
                  </a:lnTo>
                  <a:lnTo>
                    <a:pt x="292" y="789"/>
                  </a:lnTo>
                  <a:lnTo>
                    <a:pt x="320" y="773"/>
                  </a:lnTo>
                  <a:lnTo>
                    <a:pt x="343" y="755"/>
                  </a:lnTo>
                  <a:lnTo>
                    <a:pt x="361" y="738"/>
                  </a:lnTo>
                  <a:lnTo>
                    <a:pt x="375" y="718"/>
                  </a:lnTo>
                  <a:lnTo>
                    <a:pt x="294" y="633"/>
                  </a:lnTo>
                  <a:lnTo>
                    <a:pt x="268" y="653"/>
                  </a:lnTo>
                  <a:lnTo>
                    <a:pt x="257" y="661"/>
                  </a:lnTo>
                  <a:lnTo>
                    <a:pt x="247" y="661"/>
                  </a:lnTo>
                  <a:lnTo>
                    <a:pt x="237" y="659"/>
                  </a:lnTo>
                  <a:lnTo>
                    <a:pt x="231" y="653"/>
                  </a:lnTo>
                  <a:lnTo>
                    <a:pt x="225" y="643"/>
                  </a:lnTo>
                  <a:lnTo>
                    <a:pt x="225" y="630"/>
                  </a:lnTo>
                  <a:lnTo>
                    <a:pt x="229" y="614"/>
                  </a:lnTo>
                  <a:lnTo>
                    <a:pt x="237" y="598"/>
                  </a:lnTo>
                  <a:lnTo>
                    <a:pt x="346" y="424"/>
                  </a:lnTo>
                  <a:lnTo>
                    <a:pt x="459" y="238"/>
                  </a:lnTo>
                  <a:lnTo>
                    <a:pt x="472" y="217"/>
                  </a:lnTo>
                  <a:lnTo>
                    <a:pt x="477" y="198"/>
                  </a:lnTo>
                  <a:lnTo>
                    <a:pt x="484" y="164"/>
                  </a:lnTo>
                  <a:lnTo>
                    <a:pt x="482" y="146"/>
                  </a:lnTo>
                  <a:lnTo>
                    <a:pt x="480" y="138"/>
                  </a:lnTo>
                  <a:lnTo>
                    <a:pt x="225" y="0"/>
                  </a:lnTo>
                  <a:lnTo>
                    <a:pt x="122" y="154"/>
                  </a:lnTo>
                  <a:lnTo>
                    <a:pt x="43" y="268"/>
                  </a:lnTo>
                  <a:lnTo>
                    <a:pt x="0" y="324"/>
                  </a:lnTo>
                  <a:close/>
                </a:path>
              </a:pathLst>
            </a:custGeom>
            <a:blipFill rotWithShape="0">
              <a:blip r:embed="rId102"/>
              <a:srcRect/>
              <a:stretch/>
            </a:blipFill>
            <a:ln w="0">
              <a:noFill/>
            </a:ln>
          </p:spPr>
          <p:style>
            <a:lnRef idx="0"/>
            <a:fillRef idx="0"/>
            <a:effectRef idx="0"/>
            <a:fontRef idx="minor"/>
          </p:style>
          <p:txBody>
            <a:bodyPr lIns="90000" rIns="90000" anchor="t">
              <a:noAutofit/>
            </a:bodyPr>
            <a:p>
              <a:endParaRPr b="0" lang="en-US" sz="2400" spc="-1" strike="noStrike">
                <a:solidFill>
                  <a:srgbClr val="ffffff"/>
                </a:solidFill>
                <a:latin typeface="Times New Roman"/>
              </a:endParaRPr>
            </a:p>
          </p:txBody>
        </p:sp>
        <p:sp>
          <p:nvSpPr>
            <p:cNvPr id="152" name=""/>
            <p:cNvSpPr/>
            <p:nvPr/>
          </p:nvSpPr>
          <p:spPr>
            <a:xfrm>
              <a:off x="1033920" y="1811520"/>
              <a:ext cx="94320" cy="77760"/>
            </a:xfrm>
            <a:custGeom>
              <a:avLst/>
              <a:gdLst/>
              <a:ahLst/>
              <a:rect l="l" t="t" r="r" b="b"/>
              <a:pathLst>
                <a:path w="738" h="676">
                  <a:moveTo>
                    <a:pt x="0" y="477"/>
                  </a:moveTo>
                  <a:lnTo>
                    <a:pt x="0" y="657"/>
                  </a:lnTo>
                  <a:lnTo>
                    <a:pt x="195" y="377"/>
                  </a:lnTo>
                  <a:lnTo>
                    <a:pt x="446" y="534"/>
                  </a:lnTo>
                  <a:lnTo>
                    <a:pt x="655" y="665"/>
                  </a:lnTo>
                  <a:lnTo>
                    <a:pt x="679" y="675"/>
                  </a:lnTo>
                  <a:lnTo>
                    <a:pt x="687" y="676"/>
                  </a:lnTo>
                  <a:lnTo>
                    <a:pt x="697" y="675"/>
                  </a:lnTo>
                  <a:lnTo>
                    <a:pt x="705" y="668"/>
                  </a:lnTo>
                  <a:lnTo>
                    <a:pt x="710" y="660"/>
                  </a:lnTo>
                  <a:lnTo>
                    <a:pt x="728" y="637"/>
                  </a:lnTo>
                  <a:lnTo>
                    <a:pt x="738" y="610"/>
                  </a:lnTo>
                  <a:lnTo>
                    <a:pt x="738" y="599"/>
                  </a:lnTo>
                  <a:lnTo>
                    <a:pt x="736" y="592"/>
                  </a:lnTo>
                  <a:lnTo>
                    <a:pt x="720" y="574"/>
                  </a:lnTo>
                  <a:lnTo>
                    <a:pt x="694" y="556"/>
                  </a:lnTo>
                  <a:lnTo>
                    <a:pt x="257" y="270"/>
                  </a:lnTo>
                  <a:lnTo>
                    <a:pt x="260" y="251"/>
                  </a:lnTo>
                  <a:lnTo>
                    <a:pt x="260" y="233"/>
                  </a:lnTo>
                  <a:lnTo>
                    <a:pt x="259" y="217"/>
                  </a:lnTo>
                  <a:lnTo>
                    <a:pt x="252" y="202"/>
                  </a:lnTo>
                  <a:lnTo>
                    <a:pt x="237" y="178"/>
                  </a:lnTo>
                  <a:lnTo>
                    <a:pt x="217" y="157"/>
                  </a:lnTo>
                  <a:lnTo>
                    <a:pt x="179" y="132"/>
                  </a:lnTo>
                  <a:lnTo>
                    <a:pt x="225" y="57"/>
                  </a:lnTo>
                  <a:lnTo>
                    <a:pt x="134" y="0"/>
                  </a:lnTo>
                  <a:lnTo>
                    <a:pt x="77" y="71"/>
                  </a:lnTo>
                  <a:lnTo>
                    <a:pt x="0" y="27"/>
                  </a:lnTo>
                  <a:lnTo>
                    <a:pt x="0" y="207"/>
                  </a:lnTo>
                  <a:lnTo>
                    <a:pt x="26" y="170"/>
                  </a:lnTo>
                  <a:lnTo>
                    <a:pt x="51" y="179"/>
                  </a:lnTo>
                  <a:lnTo>
                    <a:pt x="79" y="193"/>
                  </a:lnTo>
                  <a:lnTo>
                    <a:pt x="111" y="215"/>
                  </a:lnTo>
                  <a:lnTo>
                    <a:pt x="114" y="235"/>
                  </a:lnTo>
                  <a:lnTo>
                    <a:pt x="114" y="256"/>
                  </a:lnTo>
                  <a:lnTo>
                    <a:pt x="111" y="276"/>
                  </a:lnTo>
                  <a:lnTo>
                    <a:pt x="100" y="301"/>
                  </a:lnTo>
                  <a:lnTo>
                    <a:pt x="66" y="369"/>
                  </a:lnTo>
                  <a:lnTo>
                    <a:pt x="6" y="471"/>
                  </a:lnTo>
                  <a:lnTo>
                    <a:pt x="0" y="477"/>
                  </a:lnTo>
                  <a:close/>
                </a:path>
              </a:pathLst>
            </a:custGeom>
            <a:blipFill rotWithShape="0">
              <a:blip r:embed="rId103"/>
              <a:srcRect/>
              <a:stretch/>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53" name=""/>
            <p:cNvSpPr/>
            <p:nvPr/>
          </p:nvSpPr>
          <p:spPr>
            <a:xfrm>
              <a:off x="959040" y="1812240"/>
              <a:ext cx="74520" cy="124920"/>
            </a:xfrm>
            <a:custGeom>
              <a:avLst/>
              <a:gdLst/>
              <a:ahLst/>
              <a:rect l="l" t="t" r="r" b="b"/>
              <a:pathLst>
                <a:path w="585" h="1076">
                  <a:moveTo>
                    <a:pt x="585" y="196"/>
                  </a:moveTo>
                  <a:lnTo>
                    <a:pt x="585" y="16"/>
                  </a:lnTo>
                  <a:lnTo>
                    <a:pt x="562" y="0"/>
                  </a:lnTo>
                  <a:lnTo>
                    <a:pt x="539" y="44"/>
                  </a:lnTo>
                  <a:lnTo>
                    <a:pt x="435" y="235"/>
                  </a:lnTo>
                  <a:lnTo>
                    <a:pt x="384" y="324"/>
                  </a:lnTo>
                  <a:lnTo>
                    <a:pt x="319" y="280"/>
                  </a:lnTo>
                  <a:lnTo>
                    <a:pt x="298" y="272"/>
                  </a:lnTo>
                  <a:lnTo>
                    <a:pt x="293" y="271"/>
                  </a:lnTo>
                  <a:lnTo>
                    <a:pt x="287" y="272"/>
                  </a:lnTo>
                  <a:lnTo>
                    <a:pt x="275" y="288"/>
                  </a:lnTo>
                  <a:lnTo>
                    <a:pt x="258" y="320"/>
                  </a:lnTo>
                  <a:lnTo>
                    <a:pt x="248" y="340"/>
                  </a:lnTo>
                  <a:lnTo>
                    <a:pt x="243" y="353"/>
                  </a:lnTo>
                  <a:lnTo>
                    <a:pt x="243" y="364"/>
                  </a:lnTo>
                  <a:lnTo>
                    <a:pt x="248" y="374"/>
                  </a:lnTo>
                  <a:lnTo>
                    <a:pt x="258" y="379"/>
                  </a:lnTo>
                  <a:lnTo>
                    <a:pt x="271" y="387"/>
                  </a:lnTo>
                  <a:lnTo>
                    <a:pt x="311" y="405"/>
                  </a:lnTo>
                  <a:lnTo>
                    <a:pt x="321" y="413"/>
                  </a:lnTo>
                  <a:lnTo>
                    <a:pt x="264" y="482"/>
                  </a:lnTo>
                  <a:lnTo>
                    <a:pt x="208" y="543"/>
                  </a:lnTo>
                  <a:lnTo>
                    <a:pt x="153" y="596"/>
                  </a:lnTo>
                  <a:lnTo>
                    <a:pt x="105" y="640"/>
                  </a:lnTo>
                  <a:lnTo>
                    <a:pt x="31" y="699"/>
                  </a:lnTo>
                  <a:lnTo>
                    <a:pt x="0" y="719"/>
                  </a:lnTo>
                  <a:lnTo>
                    <a:pt x="18" y="746"/>
                  </a:lnTo>
                  <a:lnTo>
                    <a:pt x="42" y="777"/>
                  </a:lnTo>
                  <a:lnTo>
                    <a:pt x="78" y="824"/>
                  </a:lnTo>
                  <a:lnTo>
                    <a:pt x="154" y="756"/>
                  </a:lnTo>
                  <a:lnTo>
                    <a:pt x="233" y="680"/>
                  </a:lnTo>
                  <a:lnTo>
                    <a:pt x="311" y="593"/>
                  </a:lnTo>
                  <a:lnTo>
                    <a:pt x="384" y="500"/>
                  </a:lnTo>
                  <a:lnTo>
                    <a:pt x="408" y="466"/>
                  </a:lnTo>
                  <a:lnTo>
                    <a:pt x="476" y="515"/>
                  </a:lnTo>
                  <a:lnTo>
                    <a:pt x="528" y="559"/>
                  </a:lnTo>
                  <a:lnTo>
                    <a:pt x="458" y="656"/>
                  </a:lnTo>
                  <a:lnTo>
                    <a:pt x="397" y="738"/>
                  </a:lnTo>
                  <a:lnTo>
                    <a:pt x="334" y="816"/>
                  </a:lnTo>
                  <a:lnTo>
                    <a:pt x="235" y="819"/>
                  </a:lnTo>
                  <a:lnTo>
                    <a:pt x="228" y="923"/>
                  </a:lnTo>
                  <a:lnTo>
                    <a:pt x="330" y="968"/>
                  </a:lnTo>
                  <a:lnTo>
                    <a:pt x="376" y="957"/>
                  </a:lnTo>
                  <a:lnTo>
                    <a:pt x="411" y="1049"/>
                  </a:lnTo>
                  <a:lnTo>
                    <a:pt x="468" y="1076"/>
                  </a:lnTo>
                  <a:lnTo>
                    <a:pt x="473" y="1070"/>
                  </a:lnTo>
                  <a:lnTo>
                    <a:pt x="492" y="1051"/>
                  </a:lnTo>
                  <a:lnTo>
                    <a:pt x="536" y="1013"/>
                  </a:lnTo>
                  <a:lnTo>
                    <a:pt x="585" y="975"/>
                  </a:lnTo>
                  <a:lnTo>
                    <a:pt x="585" y="824"/>
                  </a:lnTo>
                  <a:lnTo>
                    <a:pt x="573" y="842"/>
                  </a:lnTo>
                  <a:lnTo>
                    <a:pt x="557" y="857"/>
                  </a:lnTo>
                  <a:lnTo>
                    <a:pt x="536" y="874"/>
                  </a:lnTo>
                  <a:lnTo>
                    <a:pt x="491" y="905"/>
                  </a:lnTo>
                  <a:lnTo>
                    <a:pt x="435" y="934"/>
                  </a:lnTo>
                  <a:lnTo>
                    <a:pt x="427" y="876"/>
                  </a:lnTo>
                  <a:lnTo>
                    <a:pt x="585" y="646"/>
                  </a:lnTo>
                  <a:lnTo>
                    <a:pt x="585" y="466"/>
                  </a:lnTo>
                  <a:lnTo>
                    <a:pt x="585" y="468"/>
                  </a:lnTo>
                  <a:lnTo>
                    <a:pt x="466" y="382"/>
                  </a:lnTo>
                  <a:lnTo>
                    <a:pt x="465" y="382"/>
                  </a:lnTo>
                  <a:lnTo>
                    <a:pt x="565" y="230"/>
                  </a:lnTo>
                  <a:lnTo>
                    <a:pt x="585" y="196"/>
                  </a:lnTo>
                  <a:close/>
                </a:path>
              </a:pathLst>
            </a:custGeom>
            <a:blipFill rotWithShape="0">
              <a:blip r:embed="rId104"/>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1025640" y="1839240"/>
              <a:ext cx="15120" cy="17640"/>
            </a:xfrm>
            <a:custGeom>
              <a:avLst/>
              <a:gdLst/>
              <a:ahLst/>
              <a:rect l="l" t="t" r="r" b="b"/>
              <a:pathLst>
                <a:path w="121" h="145">
                  <a:moveTo>
                    <a:pt x="81" y="0"/>
                  </a:moveTo>
                  <a:lnTo>
                    <a:pt x="121" y="33"/>
                  </a:lnTo>
                  <a:lnTo>
                    <a:pt x="118" y="51"/>
                  </a:lnTo>
                  <a:lnTo>
                    <a:pt x="108" y="84"/>
                  </a:lnTo>
                  <a:lnTo>
                    <a:pt x="98" y="105"/>
                  </a:lnTo>
                  <a:lnTo>
                    <a:pt x="81" y="124"/>
                  </a:lnTo>
                  <a:lnTo>
                    <a:pt x="61" y="145"/>
                  </a:lnTo>
                  <a:lnTo>
                    <a:pt x="0" y="102"/>
                  </a:lnTo>
                  <a:lnTo>
                    <a:pt x="81" y="0"/>
                  </a:lnTo>
                  <a:close/>
                </a:path>
              </a:pathLst>
            </a:custGeom>
            <a:blipFill rotWithShape="0">
              <a:blip r:embed="rId105"/>
              <a:srcRect/>
              <a:stretch/>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55" name=""/>
            <p:cNvSpPr/>
            <p:nvPr/>
          </p:nvSpPr>
          <p:spPr>
            <a:xfrm>
              <a:off x="999000" y="1874520"/>
              <a:ext cx="17280" cy="19440"/>
            </a:xfrm>
            <a:custGeom>
              <a:avLst/>
              <a:gdLst/>
              <a:ahLst/>
              <a:rect l="l" t="t" r="r" b="b"/>
              <a:pathLst>
                <a:path w="139" h="163">
                  <a:moveTo>
                    <a:pt x="65" y="0"/>
                  </a:moveTo>
                  <a:lnTo>
                    <a:pt x="139" y="9"/>
                  </a:lnTo>
                  <a:lnTo>
                    <a:pt x="109" y="163"/>
                  </a:lnTo>
                  <a:lnTo>
                    <a:pt x="0" y="163"/>
                  </a:lnTo>
                  <a:lnTo>
                    <a:pt x="65" y="0"/>
                  </a:lnTo>
                  <a:close/>
                </a:path>
              </a:pathLst>
            </a:custGeom>
            <a:blipFill rotWithShape="0">
              <a:blip r:embed="rId106"/>
              <a:srcRect/>
              <a:stretch/>
            </a:blip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56" name=""/>
            <p:cNvSpPr/>
            <p:nvPr/>
          </p:nvSpPr>
          <p:spPr>
            <a:xfrm>
              <a:off x="1131120" y="1891440"/>
              <a:ext cx="77760" cy="87120"/>
            </a:xfrm>
            <a:custGeom>
              <a:avLst/>
              <a:gdLst/>
              <a:ahLst/>
              <a:rect l="l" t="t" r="r" b="b"/>
              <a:pathLst>
                <a:path w="610" h="750">
                  <a:moveTo>
                    <a:pt x="565" y="120"/>
                  </a:moveTo>
                  <a:lnTo>
                    <a:pt x="476" y="0"/>
                  </a:lnTo>
                  <a:lnTo>
                    <a:pt x="454" y="26"/>
                  </a:lnTo>
                  <a:lnTo>
                    <a:pt x="400" y="83"/>
                  </a:lnTo>
                  <a:lnTo>
                    <a:pt x="369" y="115"/>
                  </a:lnTo>
                  <a:lnTo>
                    <a:pt x="337" y="144"/>
                  </a:lnTo>
                  <a:lnTo>
                    <a:pt x="308" y="168"/>
                  </a:lnTo>
                  <a:lnTo>
                    <a:pt x="280" y="182"/>
                  </a:lnTo>
                  <a:lnTo>
                    <a:pt x="213" y="201"/>
                  </a:lnTo>
                  <a:lnTo>
                    <a:pt x="191" y="207"/>
                  </a:lnTo>
                  <a:lnTo>
                    <a:pt x="130" y="248"/>
                  </a:lnTo>
                  <a:lnTo>
                    <a:pt x="134" y="356"/>
                  </a:lnTo>
                  <a:lnTo>
                    <a:pt x="285" y="415"/>
                  </a:lnTo>
                  <a:lnTo>
                    <a:pt x="274" y="424"/>
                  </a:lnTo>
                  <a:lnTo>
                    <a:pt x="246" y="450"/>
                  </a:lnTo>
                  <a:lnTo>
                    <a:pt x="227" y="464"/>
                  </a:lnTo>
                  <a:lnTo>
                    <a:pt x="203" y="478"/>
                  </a:lnTo>
                  <a:lnTo>
                    <a:pt x="175" y="489"/>
                  </a:lnTo>
                  <a:lnTo>
                    <a:pt x="146" y="500"/>
                  </a:lnTo>
                  <a:lnTo>
                    <a:pt x="96" y="510"/>
                  </a:lnTo>
                  <a:lnTo>
                    <a:pt x="62" y="520"/>
                  </a:lnTo>
                  <a:lnTo>
                    <a:pt x="49" y="528"/>
                  </a:lnTo>
                  <a:lnTo>
                    <a:pt x="37" y="537"/>
                  </a:lnTo>
                  <a:lnTo>
                    <a:pt x="28" y="549"/>
                  </a:lnTo>
                  <a:lnTo>
                    <a:pt x="15" y="567"/>
                  </a:lnTo>
                  <a:lnTo>
                    <a:pt x="2" y="601"/>
                  </a:lnTo>
                  <a:lnTo>
                    <a:pt x="0" y="612"/>
                  </a:lnTo>
                  <a:lnTo>
                    <a:pt x="2" y="622"/>
                  </a:lnTo>
                  <a:lnTo>
                    <a:pt x="8" y="630"/>
                  </a:lnTo>
                  <a:lnTo>
                    <a:pt x="15" y="640"/>
                  </a:lnTo>
                  <a:lnTo>
                    <a:pt x="41" y="657"/>
                  </a:lnTo>
                  <a:lnTo>
                    <a:pt x="89" y="683"/>
                  </a:lnTo>
                  <a:lnTo>
                    <a:pt x="159" y="711"/>
                  </a:lnTo>
                  <a:lnTo>
                    <a:pt x="233" y="737"/>
                  </a:lnTo>
                  <a:lnTo>
                    <a:pt x="290" y="750"/>
                  </a:lnTo>
                  <a:lnTo>
                    <a:pt x="311" y="750"/>
                  </a:lnTo>
                  <a:lnTo>
                    <a:pt x="335" y="748"/>
                  </a:lnTo>
                  <a:lnTo>
                    <a:pt x="358" y="740"/>
                  </a:lnTo>
                  <a:lnTo>
                    <a:pt x="377" y="730"/>
                  </a:lnTo>
                  <a:lnTo>
                    <a:pt x="390" y="721"/>
                  </a:lnTo>
                  <a:lnTo>
                    <a:pt x="397" y="706"/>
                  </a:lnTo>
                  <a:lnTo>
                    <a:pt x="397" y="701"/>
                  </a:lnTo>
                  <a:lnTo>
                    <a:pt x="392" y="695"/>
                  </a:lnTo>
                  <a:lnTo>
                    <a:pt x="379" y="681"/>
                  </a:lnTo>
                  <a:lnTo>
                    <a:pt x="310" y="643"/>
                  </a:lnTo>
                  <a:lnTo>
                    <a:pt x="261" y="620"/>
                  </a:lnTo>
                  <a:lnTo>
                    <a:pt x="248" y="614"/>
                  </a:lnTo>
                  <a:lnTo>
                    <a:pt x="238" y="606"/>
                  </a:lnTo>
                  <a:lnTo>
                    <a:pt x="233" y="598"/>
                  </a:lnTo>
                  <a:lnTo>
                    <a:pt x="229" y="586"/>
                  </a:lnTo>
                  <a:lnTo>
                    <a:pt x="229" y="576"/>
                  </a:lnTo>
                  <a:lnTo>
                    <a:pt x="235" y="567"/>
                  </a:lnTo>
                  <a:lnTo>
                    <a:pt x="245" y="559"/>
                  </a:lnTo>
                  <a:lnTo>
                    <a:pt x="261" y="551"/>
                  </a:lnTo>
                  <a:lnTo>
                    <a:pt x="290" y="537"/>
                  </a:lnTo>
                  <a:lnTo>
                    <a:pt x="335" y="513"/>
                  </a:lnTo>
                  <a:lnTo>
                    <a:pt x="454" y="444"/>
                  </a:lnTo>
                  <a:lnTo>
                    <a:pt x="610" y="348"/>
                  </a:lnTo>
                  <a:lnTo>
                    <a:pt x="541" y="259"/>
                  </a:lnTo>
                  <a:lnTo>
                    <a:pt x="379" y="356"/>
                  </a:lnTo>
                  <a:lnTo>
                    <a:pt x="276" y="282"/>
                  </a:lnTo>
                  <a:lnTo>
                    <a:pt x="565" y="120"/>
                  </a:lnTo>
                  <a:close/>
                </a:path>
              </a:pathLst>
            </a:custGeom>
            <a:blipFill rotWithShape="0">
              <a:blip r:embed="rId107"/>
              <a:srcRect/>
              <a:stretch/>
            </a:blip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57" name=""/>
            <p:cNvSpPr/>
            <p:nvPr/>
          </p:nvSpPr>
          <p:spPr>
            <a:xfrm>
              <a:off x="1116720" y="1975680"/>
              <a:ext cx="50040" cy="23040"/>
            </a:xfrm>
            <a:custGeom>
              <a:avLst/>
              <a:gdLst/>
              <a:ahLst/>
              <a:rect l="l" t="t" r="r" b="b"/>
              <a:pathLst>
                <a:path w="388" h="199">
                  <a:moveTo>
                    <a:pt x="3" y="0"/>
                  </a:moveTo>
                  <a:lnTo>
                    <a:pt x="94" y="39"/>
                  </a:lnTo>
                  <a:lnTo>
                    <a:pt x="173" y="70"/>
                  </a:lnTo>
                  <a:lnTo>
                    <a:pt x="210" y="81"/>
                  </a:lnTo>
                  <a:lnTo>
                    <a:pt x="242" y="89"/>
                  </a:lnTo>
                  <a:lnTo>
                    <a:pt x="298" y="96"/>
                  </a:lnTo>
                  <a:lnTo>
                    <a:pt x="345" y="93"/>
                  </a:lnTo>
                  <a:lnTo>
                    <a:pt x="388" y="89"/>
                  </a:lnTo>
                  <a:lnTo>
                    <a:pt x="377" y="199"/>
                  </a:lnTo>
                  <a:lnTo>
                    <a:pt x="330" y="198"/>
                  </a:lnTo>
                  <a:lnTo>
                    <a:pt x="262" y="191"/>
                  </a:lnTo>
                  <a:lnTo>
                    <a:pt x="228" y="186"/>
                  </a:lnTo>
                  <a:lnTo>
                    <a:pt x="202" y="178"/>
                  </a:lnTo>
                  <a:lnTo>
                    <a:pt x="161" y="167"/>
                  </a:lnTo>
                  <a:lnTo>
                    <a:pt x="116" y="159"/>
                  </a:lnTo>
                  <a:lnTo>
                    <a:pt x="39" y="151"/>
                  </a:lnTo>
                  <a:lnTo>
                    <a:pt x="8" y="144"/>
                  </a:lnTo>
                  <a:lnTo>
                    <a:pt x="0" y="143"/>
                  </a:lnTo>
                  <a:lnTo>
                    <a:pt x="3" y="0"/>
                  </a:lnTo>
                  <a:close/>
                </a:path>
              </a:pathLst>
            </a:custGeom>
            <a:blipFill rotWithShape="0">
              <a:blip r:embed="rId108"/>
              <a:srcRect/>
              <a:stretch/>
            </a:blip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58" name=""/>
            <p:cNvSpPr/>
            <p:nvPr/>
          </p:nvSpPr>
          <p:spPr>
            <a:xfrm>
              <a:off x="1239840" y="2036160"/>
              <a:ext cx="1080" cy="4320"/>
            </a:xfrm>
            <a:custGeom>
              <a:avLst/>
              <a:gdLst/>
              <a:ahLst/>
              <a:rect l="l" t="t" r="r" b="b"/>
              <a:pathLst>
                <a:path w="8" h="37">
                  <a:moveTo>
                    <a:pt x="0" y="0"/>
                  </a:moveTo>
                  <a:lnTo>
                    <a:pt x="0" y="37"/>
                  </a:lnTo>
                  <a:lnTo>
                    <a:pt x="3" y="34"/>
                  </a:lnTo>
                  <a:lnTo>
                    <a:pt x="8" y="16"/>
                  </a:lnTo>
                  <a:lnTo>
                    <a:pt x="6" y="8"/>
                  </a:lnTo>
                  <a:lnTo>
                    <a:pt x="1" y="0"/>
                  </a:lnTo>
                  <a:lnTo>
                    <a:pt x="0" y="0"/>
                  </a:lnTo>
                  <a:close/>
                </a:path>
              </a:pathLst>
            </a:custGeom>
            <a:blipFill rotWithShape="0">
              <a:blip r:embed="rId109"/>
              <a:srcRect/>
              <a:tile tx="0" ty="0" sx="100000" sy="100000" algn="ctr"/>
            </a:blip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159" name=""/>
            <p:cNvSpPr/>
            <p:nvPr/>
          </p:nvSpPr>
          <p:spPr>
            <a:xfrm>
              <a:off x="1239840" y="1918440"/>
              <a:ext cx="39960" cy="91440"/>
            </a:xfrm>
            <a:custGeom>
              <a:avLst/>
              <a:gdLst/>
              <a:ahLst/>
              <a:rect l="l" t="t" r="r" b="b"/>
              <a:pathLst>
                <a:path w="315" h="792">
                  <a:moveTo>
                    <a:pt x="0" y="491"/>
                  </a:moveTo>
                  <a:lnTo>
                    <a:pt x="0" y="792"/>
                  </a:lnTo>
                  <a:lnTo>
                    <a:pt x="315" y="136"/>
                  </a:lnTo>
                  <a:lnTo>
                    <a:pt x="0" y="0"/>
                  </a:lnTo>
                  <a:lnTo>
                    <a:pt x="0" y="112"/>
                  </a:lnTo>
                  <a:lnTo>
                    <a:pt x="154" y="175"/>
                  </a:lnTo>
                  <a:lnTo>
                    <a:pt x="84" y="347"/>
                  </a:lnTo>
                  <a:lnTo>
                    <a:pt x="0" y="314"/>
                  </a:lnTo>
                  <a:lnTo>
                    <a:pt x="0" y="423"/>
                  </a:lnTo>
                  <a:lnTo>
                    <a:pt x="31" y="432"/>
                  </a:lnTo>
                  <a:lnTo>
                    <a:pt x="0" y="491"/>
                  </a:lnTo>
                  <a:close/>
                </a:path>
              </a:pathLst>
            </a:custGeom>
            <a:blipFill rotWithShape="0">
              <a:blip r:embed="rId110"/>
              <a:srcRect/>
              <a:stretch/>
            </a:blip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60" name=""/>
            <p:cNvSpPr/>
            <p:nvPr/>
          </p:nvSpPr>
          <p:spPr>
            <a:xfrm>
              <a:off x="1208160" y="1910880"/>
              <a:ext cx="31320" cy="58320"/>
            </a:xfrm>
            <a:custGeom>
              <a:avLst/>
              <a:gdLst/>
              <a:ahLst/>
              <a:rect l="l" t="t" r="r" b="b"/>
              <a:pathLst>
                <a:path w="245" h="503">
                  <a:moveTo>
                    <a:pt x="245" y="175"/>
                  </a:moveTo>
                  <a:lnTo>
                    <a:pt x="245" y="63"/>
                  </a:lnTo>
                  <a:lnTo>
                    <a:pt x="107" y="0"/>
                  </a:lnTo>
                  <a:lnTo>
                    <a:pt x="0" y="231"/>
                  </a:lnTo>
                  <a:lnTo>
                    <a:pt x="0" y="503"/>
                  </a:lnTo>
                  <a:lnTo>
                    <a:pt x="47" y="415"/>
                  </a:lnTo>
                  <a:lnTo>
                    <a:pt x="245" y="486"/>
                  </a:lnTo>
                  <a:lnTo>
                    <a:pt x="245" y="377"/>
                  </a:lnTo>
                  <a:lnTo>
                    <a:pt x="89" y="312"/>
                  </a:lnTo>
                  <a:lnTo>
                    <a:pt x="170" y="142"/>
                  </a:lnTo>
                  <a:lnTo>
                    <a:pt x="245" y="175"/>
                  </a:lnTo>
                  <a:close/>
                </a:path>
              </a:pathLst>
            </a:custGeom>
            <a:blipFill rotWithShape="0">
              <a:blip r:embed="rId111"/>
              <a:srcRect/>
              <a:stretch/>
            </a:blip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161" name=""/>
            <p:cNvSpPr/>
            <p:nvPr/>
          </p:nvSpPr>
          <p:spPr>
            <a:xfrm>
              <a:off x="1208160" y="1974960"/>
              <a:ext cx="31320" cy="69120"/>
            </a:xfrm>
            <a:custGeom>
              <a:avLst/>
              <a:gdLst/>
              <a:ahLst/>
              <a:rect l="l" t="t" r="r" b="b"/>
              <a:pathLst>
                <a:path w="246" h="599">
                  <a:moveTo>
                    <a:pt x="245" y="301"/>
                  </a:moveTo>
                  <a:lnTo>
                    <a:pt x="245" y="0"/>
                  </a:lnTo>
                  <a:lnTo>
                    <a:pt x="182" y="125"/>
                  </a:lnTo>
                  <a:lnTo>
                    <a:pt x="0" y="45"/>
                  </a:lnTo>
                  <a:lnTo>
                    <a:pt x="0" y="170"/>
                  </a:lnTo>
                  <a:lnTo>
                    <a:pt x="149" y="233"/>
                  </a:lnTo>
                  <a:lnTo>
                    <a:pt x="65" y="399"/>
                  </a:lnTo>
                  <a:lnTo>
                    <a:pt x="29" y="399"/>
                  </a:lnTo>
                  <a:lnTo>
                    <a:pt x="0" y="395"/>
                  </a:lnTo>
                  <a:lnTo>
                    <a:pt x="0" y="524"/>
                  </a:lnTo>
                  <a:lnTo>
                    <a:pt x="36" y="539"/>
                  </a:lnTo>
                  <a:lnTo>
                    <a:pt x="146" y="591"/>
                  </a:lnTo>
                  <a:lnTo>
                    <a:pt x="177" y="599"/>
                  </a:lnTo>
                  <a:lnTo>
                    <a:pt x="203" y="597"/>
                  </a:lnTo>
                  <a:lnTo>
                    <a:pt x="225" y="589"/>
                  </a:lnTo>
                  <a:lnTo>
                    <a:pt x="238" y="575"/>
                  </a:lnTo>
                  <a:lnTo>
                    <a:pt x="245" y="563"/>
                  </a:lnTo>
                  <a:lnTo>
                    <a:pt x="246" y="526"/>
                  </a:lnTo>
                  <a:lnTo>
                    <a:pt x="238" y="518"/>
                  </a:lnTo>
                  <a:lnTo>
                    <a:pt x="227" y="510"/>
                  </a:lnTo>
                  <a:lnTo>
                    <a:pt x="162" y="476"/>
                  </a:lnTo>
                  <a:lnTo>
                    <a:pt x="245" y="301"/>
                  </a:lnTo>
                  <a:close/>
                </a:path>
              </a:pathLst>
            </a:custGeom>
            <a:blipFill rotWithShape="0">
              <a:blip r:embed="rId112"/>
              <a:srcRect/>
              <a:stretch/>
            </a:blip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62" name=""/>
            <p:cNvSpPr/>
            <p:nvPr/>
          </p:nvSpPr>
          <p:spPr>
            <a:xfrm>
              <a:off x="1151640" y="1937520"/>
              <a:ext cx="56160" cy="98280"/>
            </a:xfrm>
            <a:custGeom>
              <a:avLst/>
              <a:gdLst/>
              <a:ahLst/>
              <a:rect l="l" t="t" r="r" b="b"/>
              <a:pathLst>
                <a:path w="443" h="847">
                  <a:moveTo>
                    <a:pt x="443" y="272"/>
                  </a:moveTo>
                  <a:lnTo>
                    <a:pt x="443" y="0"/>
                  </a:lnTo>
                  <a:lnTo>
                    <a:pt x="178" y="588"/>
                  </a:lnTo>
                  <a:lnTo>
                    <a:pt x="56" y="528"/>
                  </a:lnTo>
                  <a:lnTo>
                    <a:pt x="0" y="625"/>
                  </a:lnTo>
                  <a:lnTo>
                    <a:pt x="277" y="763"/>
                  </a:lnTo>
                  <a:lnTo>
                    <a:pt x="443" y="847"/>
                  </a:lnTo>
                  <a:lnTo>
                    <a:pt x="443" y="718"/>
                  </a:lnTo>
                  <a:lnTo>
                    <a:pt x="439" y="716"/>
                  </a:lnTo>
                  <a:lnTo>
                    <a:pt x="401" y="703"/>
                  </a:lnTo>
                  <a:lnTo>
                    <a:pt x="384" y="692"/>
                  </a:lnTo>
                  <a:lnTo>
                    <a:pt x="364" y="677"/>
                  </a:lnTo>
                  <a:lnTo>
                    <a:pt x="327" y="645"/>
                  </a:lnTo>
                  <a:lnTo>
                    <a:pt x="289" y="606"/>
                  </a:lnTo>
                  <a:lnTo>
                    <a:pt x="354" y="452"/>
                  </a:lnTo>
                  <a:lnTo>
                    <a:pt x="443" y="493"/>
                  </a:lnTo>
                  <a:lnTo>
                    <a:pt x="443" y="368"/>
                  </a:lnTo>
                  <a:lnTo>
                    <a:pt x="406" y="349"/>
                  </a:lnTo>
                  <a:lnTo>
                    <a:pt x="443" y="272"/>
                  </a:lnTo>
                  <a:close/>
                </a:path>
              </a:pathLst>
            </a:custGeom>
            <a:blipFill rotWithShape="0">
              <a:blip r:embed="rId11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1295280" y="1945080"/>
              <a:ext cx="70560" cy="87120"/>
            </a:xfrm>
            <a:custGeom>
              <a:avLst/>
              <a:gdLst/>
              <a:ahLst/>
              <a:rect l="l" t="t" r="r" b="b"/>
              <a:pathLst>
                <a:path w="550" h="756">
                  <a:moveTo>
                    <a:pt x="328" y="0"/>
                  </a:moveTo>
                  <a:lnTo>
                    <a:pt x="286" y="97"/>
                  </a:lnTo>
                  <a:lnTo>
                    <a:pt x="234" y="207"/>
                  </a:lnTo>
                  <a:lnTo>
                    <a:pt x="226" y="215"/>
                  </a:lnTo>
                  <a:lnTo>
                    <a:pt x="213" y="227"/>
                  </a:lnTo>
                  <a:lnTo>
                    <a:pt x="176" y="248"/>
                  </a:lnTo>
                  <a:lnTo>
                    <a:pt x="100" y="288"/>
                  </a:lnTo>
                  <a:lnTo>
                    <a:pt x="77" y="302"/>
                  </a:lnTo>
                  <a:lnTo>
                    <a:pt x="55" y="319"/>
                  </a:lnTo>
                  <a:lnTo>
                    <a:pt x="47" y="329"/>
                  </a:lnTo>
                  <a:lnTo>
                    <a:pt x="41" y="342"/>
                  </a:lnTo>
                  <a:lnTo>
                    <a:pt x="37" y="353"/>
                  </a:lnTo>
                  <a:lnTo>
                    <a:pt x="40" y="365"/>
                  </a:lnTo>
                  <a:lnTo>
                    <a:pt x="58" y="420"/>
                  </a:lnTo>
                  <a:lnTo>
                    <a:pt x="67" y="446"/>
                  </a:lnTo>
                  <a:lnTo>
                    <a:pt x="213" y="442"/>
                  </a:lnTo>
                  <a:lnTo>
                    <a:pt x="239" y="446"/>
                  </a:lnTo>
                  <a:lnTo>
                    <a:pt x="247" y="450"/>
                  </a:lnTo>
                  <a:lnTo>
                    <a:pt x="250" y="455"/>
                  </a:lnTo>
                  <a:lnTo>
                    <a:pt x="252" y="462"/>
                  </a:lnTo>
                  <a:lnTo>
                    <a:pt x="250" y="470"/>
                  </a:lnTo>
                  <a:lnTo>
                    <a:pt x="239" y="491"/>
                  </a:lnTo>
                  <a:lnTo>
                    <a:pt x="225" y="505"/>
                  </a:lnTo>
                  <a:lnTo>
                    <a:pt x="203" y="519"/>
                  </a:lnTo>
                  <a:lnTo>
                    <a:pt x="148" y="549"/>
                  </a:lnTo>
                  <a:lnTo>
                    <a:pt x="90" y="575"/>
                  </a:lnTo>
                  <a:lnTo>
                    <a:pt x="51" y="590"/>
                  </a:lnTo>
                  <a:lnTo>
                    <a:pt x="27" y="600"/>
                  </a:lnTo>
                  <a:lnTo>
                    <a:pt x="17" y="606"/>
                  </a:lnTo>
                  <a:lnTo>
                    <a:pt x="9" y="614"/>
                  </a:lnTo>
                  <a:lnTo>
                    <a:pt x="4" y="625"/>
                  </a:lnTo>
                  <a:lnTo>
                    <a:pt x="0" y="640"/>
                  </a:lnTo>
                  <a:lnTo>
                    <a:pt x="1" y="657"/>
                  </a:lnTo>
                  <a:lnTo>
                    <a:pt x="8" y="679"/>
                  </a:lnTo>
                  <a:lnTo>
                    <a:pt x="22" y="714"/>
                  </a:lnTo>
                  <a:lnTo>
                    <a:pt x="27" y="722"/>
                  </a:lnTo>
                  <a:lnTo>
                    <a:pt x="37" y="729"/>
                  </a:lnTo>
                  <a:lnTo>
                    <a:pt x="69" y="732"/>
                  </a:lnTo>
                  <a:lnTo>
                    <a:pt x="121" y="734"/>
                  </a:lnTo>
                  <a:lnTo>
                    <a:pt x="304" y="748"/>
                  </a:lnTo>
                  <a:lnTo>
                    <a:pt x="420" y="756"/>
                  </a:lnTo>
                  <a:lnTo>
                    <a:pt x="424" y="667"/>
                  </a:lnTo>
                  <a:lnTo>
                    <a:pt x="375" y="661"/>
                  </a:lnTo>
                  <a:lnTo>
                    <a:pt x="331" y="656"/>
                  </a:lnTo>
                  <a:lnTo>
                    <a:pt x="290" y="645"/>
                  </a:lnTo>
                  <a:lnTo>
                    <a:pt x="262" y="635"/>
                  </a:lnTo>
                  <a:lnTo>
                    <a:pt x="250" y="632"/>
                  </a:lnTo>
                  <a:lnTo>
                    <a:pt x="244" y="624"/>
                  </a:lnTo>
                  <a:lnTo>
                    <a:pt x="242" y="616"/>
                  </a:lnTo>
                  <a:lnTo>
                    <a:pt x="247" y="606"/>
                  </a:lnTo>
                  <a:lnTo>
                    <a:pt x="257" y="594"/>
                  </a:lnTo>
                  <a:lnTo>
                    <a:pt x="274" y="580"/>
                  </a:lnTo>
                  <a:lnTo>
                    <a:pt x="331" y="536"/>
                  </a:lnTo>
                  <a:lnTo>
                    <a:pt x="404" y="476"/>
                  </a:lnTo>
                  <a:lnTo>
                    <a:pt x="514" y="379"/>
                  </a:lnTo>
                  <a:lnTo>
                    <a:pt x="545" y="347"/>
                  </a:lnTo>
                  <a:lnTo>
                    <a:pt x="550" y="337"/>
                  </a:lnTo>
                  <a:lnTo>
                    <a:pt x="547" y="326"/>
                  </a:lnTo>
                  <a:lnTo>
                    <a:pt x="527" y="300"/>
                  </a:lnTo>
                  <a:lnTo>
                    <a:pt x="513" y="284"/>
                  </a:lnTo>
                  <a:lnTo>
                    <a:pt x="495" y="271"/>
                  </a:lnTo>
                  <a:lnTo>
                    <a:pt x="472" y="258"/>
                  </a:lnTo>
                  <a:lnTo>
                    <a:pt x="446" y="248"/>
                  </a:lnTo>
                  <a:lnTo>
                    <a:pt x="419" y="294"/>
                  </a:lnTo>
                  <a:lnTo>
                    <a:pt x="401" y="329"/>
                  </a:lnTo>
                  <a:lnTo>
                    <a:pt x="388" y="361"/>
                  </a:lnTo>
                  <a:lnTo>
                    <a:pt x="378" y="365"/>
                  </a:lnTo>
                  <a:lnTo>
                    <a:pt x="351" y="369"/>
                  </a:lnTo>
                  <a:lnTo>
                    <a:pt x="333" y="369"/>
                  </a:lnTo>
                  <a:lnTo>
                    <a:pt x="314" y="369"/>
                  </a:lnTo>
                  <a:lnTo>
                    <a:pt x="292" y="363"/>
                  </a:lnTo>
                  <a:lnTo>
                    <a:pt x="270" y="353"/>
                  </a:lnTo>
                  <a:lnTo>
                    <a:pt x="252" y="342"/>
                  </a:lnTo>
                  <a:lnTo>
                    <a:pt x="242" y="329"/>
                  </a:lnTo>
                  <a:lnTo>
                    <a:pt x="236" y="319"/>
                  </a:lnTo>
                  <a:lnTo>
                    <a:pt x="236" y="310"/>
                  </a:lnTo>
                  <a:lnTo>
                    <a:pt x="241" y="300"/>
                  </a:lnTo>
                  <a:lnTo>
                    <a:pt x="249" y="290"/>
                  </a:lnTo>
                  <a:lnTo>
                    <a:pt x="270" y="272"/>
                  </a:lnTo>
                  <a:lnTo>
                    <a:pt x="378" y="180"/>
                  </a:lnTo>
                  <a:lnTo>
                    <a:pt x="461" y="104"/>
                  </a:lnTo>
                  <a:lnTo>
                    <a:pt x="328" y="0"/>
                  </a:lnTo>
                  <a:close/>
                </a:path>
              </a:pathLst>
            </a:custGeom>
            <a:blipFill rotWithShape="0">
              <a:blip r:embed="rId114"/>
              <a:srcRect/>
              <a:stretch/>
            </a:blip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64" name=""/>
            <p:cNvSpPr/>
            <p:nvPr/>
          </p:nvSpPr>
          <p:spPr>
            <a:xfrm>
              <a:off x="1396800" y="1967400"/>
              <a:ext cx="39960" cy="71280"/>
            </a:xfrm>
            <a:custGeom>
              <a:avLst/>
              <a:gdLst/>
              <a:ahLst/>
              <a:rect l="l" t="t" r="r" b="b"/>
              <a:pathLst>
                <a:path w="310" h="614">
                  <a:moveTo>
                    <a:pt x="0" y="481"/>
                  </a:moveTo>
                  <a:lnTo>
                    <a:pt x="0" y="583"/>
                  </a:lnTo>
                  <a:lnTo>
                    <a:pt x="159" y="614"/>
                  </a:lnTo>
                  <a:lnTo>
                    <a:pt x="310" y="73"/>
                  </a:lnTo>
                  <a:lnTo>
                    <a:pt x="0" y="0"/>
                  </a:lnTo>
                  <a:lnTo>
                    <a:pt x="0" y="119"/>
                  </a:lnTo>
                  <a:lnTo>
                    <a:pt x="156" y="154"/>
                  </a:lnTo>
                  <a:lnTo>
                    <a:pt x="87" y="504"/>
                  </a:lnTo>
                  <a:lnTo>
                    <a:pt x="0" y="481"/>
                  </a:lnTo>
                  <a:close/>
                </a:path>
              </a:pathLst>
            </a:custGeom>
            <a:blipFill rotWithShape="0">
              <a:blip r:embed="rId115"/>
              <a:srcRect/>
              <a:stretch/>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65" name=""/>
            <p:cNvSpPr/>
            <p:nvPr/>
          </p:nvSpPr>
          <p:spPr>
            <a:xfrm>
              <a:off x="1357920" y="1962720"/>
              <a:ext cx="38880" cy="72360"/>
            </a:xfrm>
            <a:custGeom>
              <a:avLst/>
              <a:gdLst/>
              <a:ahLst/>
              <a:rect l="l" t="t" r="r" b="b"/>
              <a:pathLst>
                <a:path w="307" h="624">
                  <a:moveTo>
                    <a:pt x="307" y="160"/>
                  </a:moveTo>
                  <a:lnTo>
                    <a:pt x="307" y="41"/>
                  </a:lnTo>
                  <a:lnTo>
                    <a:pt x="146" y="0"/>
                  </a:lnTo>
                  <a:lnTo>
                    <a:pt x="0" y="556"/>
                  </a:lnTo>
                  <a:lnTo>
                    <a:pt x="307" y="624"/>
                  </a:lnTo>
                  <a:lnTo>
                    <a:pt x="307" y="522"/>
                  </a:lnTo>
                  <a:lnTo>
                    <a:pt x="151" y="480"/>
                  </a:lnTo>
                  <a:lnTo>
                    <a:pt x="222" y="138"/>
                  </a:lnTo>
                  <a:lnTo>
                    <a:pt x="307" y="160"/>
                  </a:lnTo>
                  <a:close/>
                </a:path>
              </a:pathLst>
            </a:custGeom>
            <a:blipFill rotWithShape="0">
              <a:blip r:embed="rId116"/>
              <a:srcRect/>
              <a:stretch/>
            </a:blip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66" name=""/>
            <p:cNvSpPr/>
            <p:nvPr/>
          </p:nvSpPr>
          <p:spPr>
            <a:xfrm>
              <a:off x="1383480" y="2045520"/>
              <a:ext cx="31320" cy="40680"/>
            </a:xfrm>
            <a:custGeom>
              <a:avLst/>
              <a:gdLst/>
              <a:ahLst/>
              <a:rect l="l" t="t" r="r" b="b"/>
              <a:pathLst>
                <a:path w="252" h="358">
                  <a:moveTo>
                    <a:pt x="0" y="37"/>
                  </a:moveTo>
                  <a:lnTo>
                    <a:pt x="130" y="0"/>
                  </a:lnTo>
                  <a:lnTo>
                    <a:pt x="252" y="296"/>
                  </a:lnTo>
                  <a:lnTo>
                    <a:pt x="122" y="358"/>
                  </a:lnTo>
                  <a:lnTo>
                    <a:pt x="0" y="37"/>
                  </a:lnTo>
                  <a:close/>
                </a:path>
              </a:pathLst>
            </a:custGeom>
            <a:blipFill rotWithShape="0">
              <a:blip r:embed="rId117"/>
              <a:srcRect/>
              <a:stretch/>
            </a:blip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167" name=""/>
            <p:cNvSpPr/>
            <p:nvPr/>
          </p:nvSpPr>
          <p:spPr>
            <a:xfrm>
              <a:off x="1286280" y="2039760"/>
              <a:ext cx="92160" cy="36000"/>
            </a:xfrm>
            <a:custGeom>
              <a:avLst/>
              <a:gdLst/>
              <a:ahLst/>
              <a:rect l="l" t="t" r="r" b="b"/>
              <a:pathLst>
                <a:path w="722" h="316">
                  <a:moveTo>
                    <a:pt x="722" y="92"/>
                  </a:moveTo>
                  <a:lnTo>
                    <a:pt x="434" y="316"/>
                  </a:lnTo>
                  <a:lnTo>
                    <a:pt x="354" y="223"/>
                  </a:lnTo>
                  <a:lnTo>
                    <a:pt x="388" y="189"/>
                  </a:lnTo>
                  <a:lnTo>
                    <a:pt x="401" y="173"/>
                  </a:lnTo>
                  <a:lnTo>
                    <a:pt x="403" y="165"/>
                  </a:lnTo>
                  <a:lnTo>
                    <a:pt x="401" y="157"/>
                  </a:lnTo>
                  <a:lnTo>
                    <a:pt x="396" y="152"/>
                  </a:lnTo>
                  <a:lnTo>
                    <a:pt x="388" y="146"/>
                  </a:lnTo>
                  <a:lnTo>
                    <a:pt x="379" y="142"/>
                  </a:lnTo>
                  <a:lnTo>
                    <a:pt x="363" y="142"/>
                  </a:lnTo>
                  <a:lnTo>
                    <a:pt x="0" y="154"/>
                  </a:lnTo>
                  <a:lnTo>
                    <a:pt x="0" y="12"/>
                  </a:lnTo>
                  <a:lnTo>
                    <a:pt x="140" y="36"/>
                  </a:lnTo>
                  <a:lnTo>
                    <a:pt x="249" y="53"/>
                  </a:lnTo>
                  <a:lnTo>
                    <a:pt x="323" y="61"/>
                  </a:lnTo>
                  <a:lnTo>
                    <a:pt x="367" y="57"/>
                  </a:lnTo>
                  <a:lnTo>
                    <a:pt x="408" y="52"/>
                  </a:lnTo>
                  <a:lnTo>
                    <a:pt x="450" y="44"/>
                  </a:lnTo>
                  <a:lnTo>
                    <a:pt x="450" y="65"/>
                  </a:lnTo>
                  <a:lnTo>
                    <a:pt x="453" y="83"/>
                  </a:lnTo>
                  <a:lnTo>
                    <a:pt x="458" y="100"/>
                  </a:lnTo>
                  <a:lnTo>
                    <a:pt x="466" y="115"/>
                  </a:lnTo>
                  <a:lnTo>
                    <a:pt x="471" y="120"/>
                  </a:lnTo>
                  <a:lnTo>
                    <a:pt x="479" y="123"/>
                  </a:lnTo>
                  <a:lnTo>
                    <a:pt x="489" y="120"/>
                  </a:lnTo>
                  <a:lnTo>
                    <a:pt x="503" y="117"/>
                  </a:lnTo>
                  <a:lnTo>
                    <a:pt x="519" y="105"/>
                  </a:lnTo>
                  <a:lnTo>
                    <a:pt x="539" y="89"/>
                  </a:lnTo>
                  <a:lnTo>
                    <a:pt x="576" y="53"/>
                  </a:lnTo>
                  <a:lnTo>
                    <a:pt x="604" y="24"/>
                  </a:lnTo>
                  <a:lnTo>
                    <a:pt x="623" y="0"/>
                  </a:lnTo>
                  <a:lnTo>
                    <a:pt x="722" y="92"/>
                  </a:lnTo>
                  <a:close/>
                </a:path>
              </a:pathLst>
            </a:custGeom>
            <a:blipFill rotWithShape="0">
              <a:blip r:embed="rId118"/>
              <a:srcRect/>
              <a:stretch/>
            </a:blip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168" name=""/>
            <p:cNvSpPr/>
            <p:nvPr/>
          </p:nvSpPr>
          <p:spPr>
            <a:xfrm>
              <a:off x="1752480" y="1635120"/>
              <a:ext cx="609840" cy="426960"/>
            </a:xfrm>
            <a:custGeom>
              <a:avLst/>
              <a:gdLst/>
              <a:ahLst/>
              <a:rect l="l" t="t" r="r" b="b"/>
              <a:pathLst>
                <a:path w="4761" h="3674">
                  <a:moveTo>
                    <a:pt x="57" y="2940"/>
                  </a:moveTo>
                  <a:lnTo>
                    <a:pt x="0" y="2871"/>
                  </a:lnTo>
                  <a:lnTo>
                    <a:pt x="166" y="2628"/>
                  </a:lnTo>
                  <a:lnTo>
                    <a:pt x="352" y="2877"/>
                  </a:lnTo>
                  <a:lnTo>
                    <a:pt x="547" y="3131"/>
                  </a:lnTo>
                  <a:lnTo>
                    <a:pt x="776" y="3428"/>
                  </a:lnTo>
                  <a:lnTo>
                    <a:pt x="971" y="3366"/>
                  </a:lnTo>
                  <a:lnTo>
                    <a:pt x="1159" y="3300"/>
                  </a:lnTo>
                  <a:lnTo>
                    <a:pt x="1346" y="3225"/>
                  </a:lnTo>
                  <a:lnTo>
                    <a:pt x="1535" y="3140"/>
                  </a:lnTo>
                  <a:lnTo>
                    <a:pt x="1734" y="3041"/>
                  </a:lnTo>
                  <a:lnTo>
                    <a:pt x="1944" y="2931"/>
                  </a:lnTo>
                  <a:lnTo>
                    <a:pt x="2171" y="2803"/>
                  </a:lnTo>
                  <a:lnTo>
                    <a:pt x="2420" y="2657"/>
                  </a:lnTo>
                  <a:lnTo>
                    <a:pt x="2550" y="2576"/>
                  </a:lnTo>
                  <a:lnTo>
                    <a:pt x="2679" y="2489"/>
                  </a:lnTo>
                  <a:lnTo>
                    <a:pt x="2805" y="2398"/>
                  </a:lnTo>
                  <a:lnTo>
                    <a:pt x="2927" y="2303"/>
                  </a:lnTo>
                  <a:lnTo>
                    <a:pt x="3048" y="2204"/>
                  </a:lnTo>
                  <a:lnTo>
                    <a:pt x="3163" y="2105"/>
                  </a:lnTo>
                  <a:lnTo>
                    <a:pt x="3275" y="2005"/>
                  </a:lnTo>
                  <a:lnTo>
                    <a:pt x="3383" y="1904"/>
                  </a:lnTo>
                  <a:lnTo>
                    <a:pt x="3485" y="1806"/>
                  </a:lnTo>
                  <a:lnTo>
                    <a:pt x="3582" y="1709"/>
                  </a:lnTo>
                  <a:lnTo>
                    <a:pt x="3758" y="1524"/>
                  </a:lnTo>
                  <a:lnTo>
                    <a:pt x="3906" y="1360"/>
                  </a:lnTo>
                  <a:lnTo>
                    <a:pt x="4024" y="1221"/>
                  </a:lnTo>
                  <a:lnTo>
                    <a:pt x="4123" y="1101"/>
                  </a:lnTo>
                  <a:lnTo>
                    <a:pt x="4218" y="973"/>
                  </a:lnTo>
                  <a:lnTo>
                    <a:pt x="4089" y="1085"/>
                  </a:lnTo>
                  <a:lnTo>
                    <a:pt x="3916" y="959"/>
                  </a:lnTo>
                  <a:lnTo>
                    <a:pt x="3306" y="1585"/>
                  </a:lnTo>
                  <a:lnTo>
                    <a:pt x="3132" y="1524"/>
                  </a:lnTo>
                  <a:lnTo>
                    <a:pt x="3163" y="1113"/>
                  </a:lnTo>
                  <a:lnTo>
                    <a:pt x="3186" y="813"/>
                  </a:lnTo>
                  <a:lnTo>
                    <a:pt x="3194" y="700"/>
                  </a:lnTo>
                  <a:lnTo>
                    <a:pt x="3195" y="637"/>
                  </a:lnTo>
                  <a:lnTo>
                    <a:pt x="3197" y="612"/>
                  </a:lnTo>
                  <a:lnTo>
                    <a:pt x="3202" y="598"/>
                  </a:lnTo>
                  <a:lnTo>
                    <a:pt x="3207" y="595"/>
                  </a:lnTo>
                  <a:lnTo>
                    <a:pt x="3215" y="596"/>
                  </a:lnTo>
                  <a:lnTo>
                    <a:pt x="3223" y="606"/>
                  </a:lnTo>
                  <a:lnTo>
                    <a:pt x="3229" y="619"/>
                  </a:lnTo>
                  <a:lnTo>
                    <a:pt x="3233" y="635"/>
                  </a:lnTo>
                  <a:lnTo>
                    <a:pt x="3237" y="655"/>
                  </a:lnTo>
                  <a:lnTo>
                    <a:pt x="3249" y="837"/>
                  </a:lnTo>
                  <a:lnTo>
                    <a:pt x="3267" y="985"/>
                  </a:lnTo>
                  <a:lnTo>
                    <a:pt x="3286" y="1098"/>
                  </a:lnTo>
                  <a:lnTo>
                    <a:pt x="3310" y="1182"/>
                  </a:lnTo>
                  <a:lnTo>
                    <a:pt x="3332" y="1242"/>
                  </a:lnTo>
                  <a:lnTo>
                    <a:pt x="3349" y="1279"/>
                  </a:lnTo>
                  <a:lnTo>
                    <a:pt x="3364" y="1299"/>
                  </a:lnTo>
                  <a:lnTo>
                    <a:pt x="3367" y="1304"/>
                  </a:lnTo>
                  <a:lnTo>
                    <a:pt x="3924" y="724"/>
                  </a:lnTo>
                  <a:lnTo>
                    <a:pt x="4222" y="965"/>
                  </a:lnTo>
                  <a:lnTo>
                    <a:pt x="4293" y="867"/>
                  </a:lnTo>
                  <a:lnTo>
                    <a:pt x="4356" y="770"/>
                  </a:lnTo>
                  <a:lnTo>
                    <a:pt x="4464" y="598"/>
                  </a:lnTo>
                  <a:lnTo>
                    <a:pt x="4565" y="431"/>
                  </a:lnTo>
                  <a:lnTo>
                    <a:pt x="4354" y="219"/>
                  </a:lnTo>
                  <a:lnTo>
                    <a:pt x="4212" y="334"/>
                  </a:lnTo>
                  <a:lnTo>
                    <a:pt x="4167" y="257"/>
                  </a:lnTo>
                  <a:lnTo>
                    <a:pt x="4370" y="0"/>
                  </a:lnTo>
                  <a:lnTo>
                    <a:pt x="4508" y="174"/>
                  </a:lnTo>
                  <a:lnTo>
                    <a:pt x="4636" y="336"/>
                  </a:lnTo>
                  <a:lnTo>
                    <a:pt x="4761" y="499"/>
                  </a:lnTo>
                  <a:lnTo>
                    <a:pt x="4605" y="740"/>
                  </a:lnTo>
                  <a:lnTo>
                    <a:pt x="4451" y="965"/>
                  </a:lnTo>
                  <a:lnTo>
                    <a:pt x="4296" y="1179"/>
                  </a:lnTo>
                  <a:lnTo>
                    <a:pt x="4139" y="1380"/>
                  </a:lnTo>
                  <a:lnTo>
                    <a:pt x="3977" y="1574"/>
                  </a:lnTo>
                  <a:lnTo>
                    <a:pt x="3806" y="1767"/>
                  </a:lnTo>
                  <a:lnTo>
                    <a:pt x="3624" y="1954"/>
                  </a:lnTo>
                  <a:lnTo>
                    <a:pt x="3428" y="2145"/>
                  </a:lnTo>
                  <a:lnTo>
                    <a:pt x="3328" y="2238"/>
                  </a:lnTo>
                  <a:lnTo>
                    <a:pt x="3228" y="2327"/>
                  </a:lnTo>
                  <a:lnTo>
                    <a:pt x="3124" y="2411"/>
                  </a:lnTo>
                  <a:lnTo>
                    <a:pt x="3024" y="2492"/>
                  </a:lnTo>
                  <a:lnTo>
                    <a:pt x="2923" y="2568"/>
                  </a:lnTo>
                  <a:lnTo>
                    <a:pt x="2823" y="2641"/>
                  </a:lnTo>
                  <a:lnTo>
                    <a:pt x="2724" y="2709"/>
                  </a:lnTo>
                  <a:lnTo>
                    <a:pt x="2623" y="2775"/>
                  </a:lnTo>
                  <a:lnTo>
                    <a:pt x="2524" y="2838"/>
                  </a:lnTo>
                  <a:lnTo>
                    <a:pt x="2425" y="2898"/>
                  </a:lnTo>
                  <a:lnTo>
                    <a:pt x="2231" y="3011"/>
                  </a:lnTo>
                  <a:lnTo>
                    <a:pt x="2037" y="3115"/>
                  </a:lnTo>
                  <a:lnTo>
                    <a:pt x="1847" y="3217"/>
                  </a:lnTo>
                  <a:lnTo>
                    <a:pt x="1753" y="3264"/>
                  </a:lnTo>
                  <a:lnTo>
                    <a:pt x="1656" y="3311"/>
                  </a:lnTo>
                  <a:lnTo>
                    <a:pt x="1460" y="3398"/>
                  </a:lnTo>
                  <a:lnTo>
                    <a:pt x="1269" y="3475"/>
                  </a:lnTo>
                  <a:lnTo>
                    <a:pt x="1091" y="3542"/>
                  </a:lnTo>
                  <a:lnTo>
                    <a:pt x="939" y="3598"/>
                  </a:lnTo>
                  <a:lnTo>
                    <a:pt x="819" y="3638"/>
                  </a:lnTo>
                  <a:lnTo>
                    <a:pt x="711" y="3674"/>
                  </a:lnTo>
                  <a:lnTo>
                    <a:pt x="122" y="2887"/>
                  </a:lnTo>
                  <a:lnTo>
                    <a:pt x="57" y="2940"/>
                  </a:lnTo>
                  <a:close/>
                </a:path>
              </a:pathLst>
            </a:custGeom>
            <a:blipFill rotWithShape="0">
              <a:blip r:embed="rId11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69" name="PlaceHolder 2"/>
          <p:cNvSpPr>
            <a:spLocks noGrp="1"/>
          </p:cNvSpPr>
          <p:nvPr>
            <p:ph type="title"/>
          </p:nvPr>
        </p:nvSpPr>
        <p:spPr>
          <a:xfrm>
            <a:off x="1828800" y="762120"/>
            <a:ext cx="68580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ession 1:  The Nature of the Problem</a:t>
            </a:r>
            <a:endParaRPr b="0" lang="en-US" sz="4400" spc="-1" strike="noStrike">
              <a:solidFill>
                <a:srgbClr val="ffff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Frequency and Pitch</a:t>
            </a:r>
            <a:endParaRPr b="0" lang="en-US" sz="3600" spc="-1" strike="noStrike">
              <a:solidFill>
                <a:srgbClr val="ffff00"/>
              </a:solidFill>
              <a:latin typeface="Times New Roman"/>
            </a:endParaRPr>
          </a:p>
        </p:txBody>
      </p:sp>
      <p:pic>
        <p:nvPicPr>
          <p:cNvPr id="438" name="cars" descr=""/>
          <p:cNvPicPr/>
          <p:nvPr/>
        </p:nvPicPr>
        <p:blipFill>
          <a:blip r:embed="rId1"/>
          <a:stretch/>
        </p:blipFill>
        <p:spPr>
          <a:xfrm>
            <a:off x="762120" y="1828800"/>
            <a:ext cx="3736800" cy="4103640"/>
          </a:xfrm>
          <a:prstGeom prst="rect">
            <a:avLst/>
          </a:prstGeom>
          <a:ln w="0">
            <a:noFill/>
          </a:ln>
        </p:spPr>
      </p:pic>
      <p:pic>
        <p:nvPicPr>
          <p:cNvPr id="439" name="carshist" descr=""/>
          <p:cNvPicPr/>
          <p:nvPr/>
        </p:nvPicPr>
        <p:blipFill>
          <a:blip r:embed="rId2"/>
          <a:stretch/>
        </p:blipFill>
        <p:spPr>
          <a:xfrm>
            <a:off x="4800600" y="1828800"/>
            <a:ext cx="3736800" cy="4103640"/>
          </a:xfrm>
          <a:prstGeom prst="rect">
            <a:avLst/>
          </a:prstGeom>
          <a:ln w="0">
            <a:noFill/>
          </a:ln>
        </p:spPr>
      </p:pic>
      <p:pic>
        <p:nvPicPr>
          <p:cNvPr id="440" name="" descr=""/>
          <p:cNvPicPr/>
          <p:nvPr/>
        </p:nvPicPr>
        <p:blipFill>
          <a:blip r:embed="rId3"/>
          <a:stretch/>
        </p:blipFill>
        <p:spPr>
          <a:xfrm>
            <a:off x="6553080" y="5943600"/>
            <a:ext cx="304920" cy="304920"/>
          </a:xfrm>
          <a:prstGeom prst="rect">
            <a:avLst/>
          </a:prstGeom>
          <a:ln w="0">
            <a:noFill/>
          </a:ln>
        </p:spPr>
      </p:pic>
      <p:sp>
        <p:nvSpPr>
          <p:cNvPr id="441" name=""/>
          <p:cNvSpPr/>
          <p:nvPr/>
        </p:nvSpPr>
        <p:spPr>
          <a:xfrm>
            <a:off x="1525320" y="1371600"/>
            <a:ext cx="10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urce</a:t>
            </a:r>
            <a:endParaRPr b="0" lang="en-US" sz="2400" spc="-1" strike="noStrike">
              <a:solidFill>
                <a:srgbClr val="ffffff"/>
              </a:solidFill>
              <a:latin typeface="Times New Roman"/>
            </a:endParaRPr>
          </a:p>
        </p:txBody>
      </p:sp>
      <p:sp>
        <p:nvSpPr>
          <p:cNvPr id="442" name=""/>
          <p:cNvSpPr/>
          <p:nvPr/>
        </p:nvSpPr>
        <p:spPr>
          <a:xfrm>
            <a:off x="4725360" y="1371600"/>
            <a:ext cx="392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und Spectra at Peak Level</a:t>
            </a:r>
            <a:endParaRPr b="0" lang="en-US" sz="2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Frequency and Pitch</a:t>
            </a:r>
            <a:endParaRPr b="0" lang="en-US" sz="3600" spc="-1" strike="noStrike">
              <a:solidFill>
                <a:srgbClr val="ffff00"/>
              </a:solidFill>
              <a:latin typeface="Times New Roman"/>
            </a:endParaRPr>
          </a:p>
        </p:txBody>
      </p:sp>
      <p:pic>
        <p:nvPicPr>
          <p:cNvPr id="444" name="music" descr=""/>
          <p:cNvPicPr/>
          <p:nvPr/>
        </p:nvPicPr>
        <p:blipFill>
          <a:blip r:embed="rId1"/>
          <a:stretch/>
        </p:blipFill>
        <p:spPr>
          <a:xfrm>
            <a:off x="457200" y="1828800"/>
            <a:ext cx="3736800" cy="4103640"/>
          </a:xfrm>
          <a:prstGeom prst="rect">
            <a:avLst/>
          </a:prstGeom>
          <a:ln w="0">
            <a:noFill/>
          </a:ln>
        </p:spPr>
      </p:pic>
      <p:pic>
        <p:nvPicPr>
          <p:cNvPr id="445" name="musichist" descr=""/>
          <p:cNvPicPr/>
          <p:nvPr/>
        </p:nvPicPr>
        <p:blipFill>
          <a:blip r:embed="rId2"/>
          <a:stretch/>
        </p:blipFill>
        <p:spPr>
          <a:xfrm>
            <a:off x="4876920" y="1828800"/>
            <a:ext cx="3736800" cy="4103640"/>
          </a:xfrm>
          <a:prstGeom prst="rect">
            <a:avLst/>
          </a:prstGeom>
          <a:ln w="0">
            <a:noFill/>
          </a:ln>
        </p:spPr>
      </p:pic>
      <p:sp>
        <p:nvSpPr>
          <p:cNvPr id="446" name=""/>
          <p:cNvSpPr/>
          <p:nvPr/>
        </p:nvSpPr>
        <p:spPr>
          <a:xfrm>
            <a:off x="1525320" y="1371600"/>
            <a:ext cx="10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urce</a:t>
            </a:r>
            <a:endParaRPr b="0" lang="en-US" sz="2400" spc="-1" strike="noStrike">
              <a:solidFill>
                <a:srgbClr val="ffffff"/>
              </a:solidFill>
              <a:latin typeface="Times New Roman"/>
            </a:endParaRPr>
          </a:p>
        </p:txBody>
      </p:sp>
      <p:sp>
        <p:nvSpPr>
          <p:cNvPr id="447" name=""/>
          <p:cNvSpPr/>
          <p:nvPr/>
        </p:nvSpPr>
        <p:spPr>
          <a:xfrm>
            <a:off x="4725360" y="1371600"/>
            <a:ext cx="392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und Spectra at Peak Level</a:t>
            </a:r>
            <a:endParaRPr b="0" lang="en-US" sz="2400" spc="-1" strike="noStrike">
              <a:solidFill>
                <a:srgbClr val="ffffff"/>
              </a:solidFill>
              <a:latin typeface="Times New Roman"/>
            </a:endParaRPr>
          </a:p>
        </p:txBody>
      </p:sp>
      <p:pic>
        <p:nvPicPr>
          <p:cNvPr id="448" name="" descr=""/>
          <p:cNvPicPr/>
          <p:nvPr/>
        </p:nvPicPr>
        <p:blipFill>
          <a:blip r:embed="rId3"/>
          <a:stretch/>
        </p:blipFill>
        <p:spPr>
          <a:xfrm>
            <a:off x="6629400" y="5943600"/>
            <a:ext cx="304920" cy="304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Frequency and Pitch</a:t>
            </a:r>
            <a:endParaRPr b="0" lang="en-US" sz="3600" spc="-1" strike="noStrike">
              <a:solidFill>
                <a:srgbClr val="ffff00"/>
              </a:solidFill>
              <a:latin typeface="Times New Roman"/>
            </a:endParaRPr>
          </a:p>
        </p:txBody>
      </p:sp>
      <p:pic>
        <p:nvPicPr>
          <p:cNvPr id="450" name="cannon" descr=""/>
          <p:cNvPicPr/>
          <p:nvPr/>
        </p:nvPicPr>
        <p:blipFill>
          <a:blip r:embed="rId1"/>
          <a:stretch/>
        </p:blipFill>
        <p:spPr>
          <a:xfrm>
            <a:off x="380880" y="1828800"/>
            <a:ext cx="3737160" cy="4103640"/>
          </a:xfrm>
          <a:prstGeom prst="rect">
            <a:avLst/>
          </a:prstGeom>
          <a:ln w="0">
            <a:noFill/>
          </a:ln>
        </p:spPr>
      </p:pic>
      <p:pic>
        <p:nvPicPr>
          <p:cNvPr id="451" name="cannonhist" descr=""/>
          <p:cNvPicPr/>
          <p:nvPr/>
        </p:nvPicPr>
        <p:blipFill>
          <a:blip r:embed="rId2"/>
          <a:stretch/>
        </p:blipFill>
        <p:spPr>
          <a:xfrm>
            <a:off x="4648320" y="1828800"/>
            <a:ext cx="3736800" cy="4103640"/>
          </a:xfrm>
          <a:prstGeom prst="rect">
            <a:avLst/>
          </a:prstGeom>
          <a:ln w="0">
            <a:noFill/>
          </a:ln>
        </p:spPr>
      </p:pic>
      <p:pic>
        <p:nvPicPr>
          <p:cNvPr id="452" name="" descr=""/>
          <p:cNvPicPr/>
          <p:nvPr/>
        </p:nvPicPr>
        <p:blipFill>
          <a:blip r:embed="rId3"/>
          <a:stretch/>
        </p:blipFill>
        <p:spPr>
          <a:xfrm>
            <a:off x="6248520" y="5943600"/>
            <a:ext cx="304560" cy="304920"/>
          </a:xfrm>
          <a:prstGeom prst="rect">
            <a:avLst/>
          </a:prstGeom>
          <a:ln w="0">
            <a:noFill/>
          </a:ln>
        </p:spPr>
      </p:pic>
      <p:sp>
        <p:nvSpPr>
          <p:cNvPr id="453" name=""/>
          <p:cNvSpPr/>
          <p:nvPr/>
        </p:nvSpPr>
        <p:spPr>
          <a:xfrm>
            <a:off x="1525320" y="1371600"/>
            <a:ext cx="10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urce</a:t>
            </a:r>
            <a:endParaRPr b="0" lang="en-US" sz="2400" spc="-1" strike="noStrike">
              <a:solidFill>
                <a:srgbClr val="ffffff"/>
              </a:solidFill>
              <a:latin typeface="Times New Roman"/>
            </a:endParaRPr>
          </a:p>
        </p:txBody>
      </p:sp>
      <p:sp>
        <p:nvSpPr>
          <p:cNvPr id="454" name=""/>
          <p:cNvSpPr/>
          <p:nvPr/>
        </p:nvSpPr>
        <p:spPr>
          <a:xfrm>
            <a:off x="4573080" y="1371600"/>
            <a:ext cx="392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und Spectra at Peak Level</a:t>
            </a:r>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Frequency and Pitch</a:t>
            </a:r>
            <a:endParaRPr b="0" lang="en-US" sz="3600" spc="-1" strike="noStrike">
              <a:solidFill>
                <a:srgbClr val="ffff00"/>
              </a:solidFill>
              <a:latin typeface="Times New Roman"/>
            </a:endParaRPr>
          </a:p>
        </p:txBody>
      </p:sp>
      <p:pic>
        <p:nvPicPr>
          <p:cNvPr id="456" name="dc-10" descr=""/>
          <p:cNvPicPr/>
          <p:nvPr/>
        </p:nvPicPr>
        <p:blipFill>
          <a:blip r:embed="rId1"/>
          <a:stretch/>
        </p:blipFill>
        <p:spPr>
          <a:xfrm>
            <a:off x="457200" y="1828800"/>
            <a:ext cx="3736800" cy="4103640"/>
          </a:xfrm>
          <a:prstGeom prst="rect">
            <a:avLst/>
          </a:prstGeom>
          <a:ln w="0">
            <a:noFill/>
          </a:ln>
        </p:spPr>
      </p:pic>
      <p:pic>
        <p:nvPicPr>
          <p:cNvPr id="457" name="dc-10hist" descr=""/>
          <p:cNvPicPr/>
          <p:nvPr/>
        </p:nvPicPr>
        <p:blipFill>
          <a:blip r:embed="rId2"/>
          <a:stretch/>
        </p:blipFill>
        <p:spPr>
          <a:xfrm>
            <a:off x="4724280" y="1828800"/>
            <a:ext cx="3737160" cy="4103640"/>
          </a:xfrm>
          <a:prstGeom prst="rect">
            <a:avLst/>
          </a:prstGeom>
          <a:ln w="0">
            <a:noFill/>
          </a:ln>
        </p:spPr>
      </p:pic>
      <p:pic>
        <p:nvPicPr>
          <p:cNvPr id="458" name="" descr=""/>
          <p:cNvPicPr/>
          <p:nvPr/>
        </p:nvPicPr>
        <p:blipFill>
          <a:blip r:embed="rId3"/>
          <a:stretch/>
        </p:blipFill>
        <p:spPr>
          <a:xfrm>
            <a:off x="6400800" y="5943600"/>
            <a:ext cx="304920" cy="304920"/>
          </a:xfrm>
          <a:prstGeom prst="rect">
            <a:avLst/>
          </a:prstGeom>
          <a:ln w="0">
            <a:noFill/>
          </a:ln>
        </p:spPr>
      </p:pic>
      <p:sp>
        <p:nvSpPr>
          <p:cNvPr id="459" name=""/>
          <p:cNvSpPr/>
          <p:nvPr/>
        </p:nvSpPr>
        <p:spPr>
          <a:xfrm>
            <a:off x="1525320" y="1371600"/>
            <a:ext cx="107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urce</a:t>
            </a:r>
            <a:endParaRPr b="0" lang="en-US" sz="2400" spc="-1" strike="noStrike">
              <a:solidFill>
                <a:srgbClr val="ffffff"/>
              </a:solidFill>
              <a:latin typeface="Times New Roman"/>
            </a:endParaRPr>
          </a:p>
        </p:txBody>
      </p:sp>
      <p:sp>
        <p:nvSpPr>
          <p:cNvPr id="460" name=""/>
          <p:cNvSpPr/>
          <p:nvPr/>
        </p:nvSpPr>
        <p:spPr>
          <a:xfrm>
            <a:off x="4573080" y="1371600"/>
            <a:ext cx="392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und Spectra at Peak Level</a:t>
            </a: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ise Measurement</a:t>
            </a:r>
            <a:endParaRPr b="0" lang="en-US" sz="3600" spc="-1" strike="noStrike">
              <a:solidFill>
                <a:srgbClr val="ffff00"/>
              </a:solidFill>
              <a:latin typeface="Times New Roman"/>
            </a:endParaRPr>
          </a:p>
        </p:txBody>
      </p:sp>
      <p:sp>
        <p:nvSpPr>
          <p:cNvPr id="462" name=""/>
          <p:cNvSpPr/>
          <p:nvPr/>
        </p:nvSpPr>
        <p:spPr>
          <a:xfrm>
            <a:off x="2523960" y="1819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63" name=""/>
          <p:cNvSpPr/>
          <p:nvPr/>
        </p:nvSpPr>
        <p:spPr>
          <a:xfrm>
            <a:off x="2738520" y="7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64" name="pressure_gif" descr=""/>
          <p:cNvPicPr/>
          <p:nvPr/>
        </p:nvPicPr>
        <p:blipFill>
          <a:blip r:embed="rId1"/>
          <a:stretch/>
        </p:blipFill>
        <p:spPr>
          <a:xfrm>
            <a:off x="4610160" y="1066680"/>
            <a:ext cx="4010040" cy="5791320"/>
          </a:xfrm>
          <a:prstGeom prst="rect">
            <a:avLst/>
          </a:prstGeom>
          <a:ln w="0">
            <a:noFill/>
          </a:ln>
        </p:spPr>
      </p:pic>
      <p:sp>
        <p:nvSpPr>
          <p:cNvPr id="465" name=""/>
          <p:cNvSpPr/>
          <p:nvPr/>
        </p:nvSpPr>
        <p:spPr>
          <a:xfrm>
            <a:off x="0" y="1143000"/>
            <a:ext cx="4267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Decibel (dB)</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unit for measuring the loudness of sound.  The logarithm of the ratio of acoustic pow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und) intensiti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ise Measurement</a:t>
            </a:r>
            <a:endParaRPr b="0" lang="en-US" sz="3600" spc="-1" strike="noStrike">
              <a:solidFill>
                <a:srgbClr val="ffff00"/>
              </a:solidFill>
              <a:latin typeface="Times New Roman"/>
            </a:endParaRPr>
          </a:p>
        </p:txBody>
      </p:sp>
      <p:sp>
        <p:nvSpPr>
          <p:cNvPr id="467" name=""/>
          <p:cNvSpPr/>
          <p:nvPr/>
        </p:nvSpPr>
        <p:spPr>
          <a:xfrm>
            <a:off x="0" y="1143000"/>
            <a:ext cx="42670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Decibel (dB)</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unit for measuring the loudness of sound.  The logarithm of the ratio of acoustic pow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und) intensiti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A-weight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eighting of the soun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pectra to approximat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human ear’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esponse to sound.</a:t>
            </a:r>
            <a:endParaRPr b="0" lang="en-US" sz="2400" spc="-1" strike="noStrike">
              <a:solidFill>
                <a:srgbClr val="ffffff"/>
              </a:solidFill>
              <a:latin typeface="Times New Roman"/>
            </a:endParaRPr>
          </a:p>
        </p:txBody>
      </p:sp>
      <p:sp>
        <p:nvSpPr>
          <p:cNvPr id="468" name=""/>
          <p:cNvSpPr/>
          <p:nvPr/>
        </p:nvSpPr>
        <p:spPr>
          <a:xfrm>
            <a:off x="2523960" y="1819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69" name="pg11_ns5" descr=""/>
          <p:cNvPicPr/>
          <p:nvPr/>
        </p:nvPicPr>
        <p:blipFill>
          <a:blip r:embed="rId1"/>
          <a:stretch/>
        </p:blipFill>
        <p:spPr>
          <a:xfrm>
            <a:off x="3733920" y="2606760"/>
            <a:ext cx="5410080" cy="4251240"/>
          </a:xfrm>
          <a:prstGeom prst="rect">
            <a:avLst/>
          </a:prstGeom>
          <a:ln w="0">
            <a:noFill/>
          </a:ln>
        </p:spPr>
      </p:pic>
      <p:sp>
        <p:nvSpPr>
          <p:cNvPr id="470" name=""/>
          <p:cNvSpPr/>
          <p:nvPr/>
        </p:nvSpPr>
        <p:spPr>
          <a:xfrm>
            <a:off x="2738520" y="7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471" name=""/>
          <p:cNvGraphicFramePr/>
          <p:nvPr/>
        </p:nvGraphicFramePr>
        <p:xfrm>
          <a:off x="380880" y="1177920"/>
          <a:ext cx="8305920" cy="5680080"/>
        </p:xfrm>
        <a:graphic>
          <a:graphicData uri="http://schemas.openxmlformats.org/presentationml/2006/ole">
            <p:oleObj progId="Excel.Sheet.12" r:id="rId1" spid="">
              <p:embed/>
              <p:pic>
                <p:nvPicPr>
                  <p:cNvPr id="472" name="" descr=""/>
                  <p:cNvPicPr/>
                  <p:nvPr/>
                </p:nvPicPr>
                <p:blipFill>
                  <a:blip r:embed="rId2"/>
                  <a:stretch/>
                </p:blipFill>
                <p:spPr>
                  <a:xfrm>
                    <a:off x="380880" y="1177920"/>
                    <a:ext cx="8305920" cy="5680080"/>
                  </a:xfrm>
                  <a:prstGeom prst="rect">
                    <a:avLst/>
                  </a:prstGeom>
                  <a:ln w="0">
                    <a:noFill/>
                  </a:ln>
                </p:spPr>
              </p:pic>
            </p:oleObj>
          </a:graphicData>
        </a:graphic>
      </p:graphicFrame>
      <p:sp>
        <p:nvSpPr>
          <p:cNvPr id="473" name="PlaceHolder 1"/>
          <p:cNvSpPr>
            <a:spLocks noGrp="1"/>
          </p:cNvSpPr>
          <p:nvPr>
            <p:ph type="title"/>
          </p:nvPr>
        </p:nvSpPr>
        <p:spPr>
          <a:xfrm>
            <a:off x="60948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ise Measurement </a:t>
            </a:r>
            <a:br>
              <a:rPr sz="3600"/>
            </a:br>
            <a:r>
              <a:rPr b="1" lang="en-US" sz="2800" spc="-1" strike="noStrike" u="sng">
                <a:solidFill>
                  <a:srgbClr val="ffffff"/>
                </a:solidFill>
                <a:uFillTx/>
                <a:latin typeface="Times New Roman"/>
              </a:rPr>
              <a:t>Comparison of Noise Levels in dB(A)</a:t>
            </a:r>
            <a:endParaRPr b="0" lang="en-US" sz="2800" spc="-1" strike="noStrike">
              <a:solidFill>
                <a:srgbClr val="ffff00"/>
              </a:solidFill>
              <a:latin typeface="Times New Roman"/>
            </a:endParaRPr>
          </a:p>
        </p:txBody>
      </p:sp>
      <p:sp>
        <p:nvSpPr>
          <p:cNvPr id="474" name=""/>
          <p:cNvSpPr/>
          <p:nvPr/>
        </p:nvSpPr>
        <p:spPr>
          <a:xfrm>
            <a:off x="2523960" y="1819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5" name=""/>
          <p:cNvSpPr/>
          <p:nvPr/>
        </p:nvSpPr>
        <p:spPr>
          <a:xfrm>
            <a:off x="1905840" y="6397560"/>
            <a:ext cx="223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ffff"/>
                </a:solidFill>
                <a:latin typeface="Times New Roman"/>
              </a:rPr>
              <a:t>Threshold of hearing</a:t>
            </a:r>
            <a:endParaRPr b="0" lang="en-US" sz="1800" spc="-1" strike="noStrike">
              <a:solidFill>
                <a:srgbClr val="ffffff"/>
              </a:solidFill>
              <a:latin typeface="Times New Roman"/>
            </a:endParaRPr>
          </a:p>
        </p:txBody>
      </p:sp>
      <p:sp>
        <p:nvSpPr>
          <p:cNvPr id="476" name=""/>
          <p:cNvSpPr/>
          <p:nvPr/>
        </p:nvSpPr>
        <p:spPr>
          <a:xfrm>
            <a:off x="4649760" y="1295280"/>
            <a:ext cx="192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rPr>
              <a:t>Threshold of pain</a:t>
            </a:r>
            <a:endParaRPr b="0" lang="en-US" sz="1800" spc="-1" strike="noStrike">
              <a:solidFill>
                <a:srgbClr val="ffffff"/>
              </a:solidFill>
              <a:latin typeface="Times New Roman"/>
            </a:endParaRPr>
          </a:p>
        </p:txBody>
      </p:sp>
      <p:pic>
        <p:nvPicPr>
          <p:cNvPr id="477" name="" descr=""/>
          <p:cNvPicPr/>
          <p:nvPr/>
        </p:nvPicPr>
        <p:blipFill>
          <a:blip r:embed="rId3"/>
          <a:stretch/>
        </p:blipFill>
        <p:spPr>
          <a:xfrm>
            <a:off x="4572000" y="3048120"/>
            <a:ext cx="304920" cy="304560"/>
          </a:xfrm>
          <a:prstGeom prst="rect">
            <a:avLst/>
          </a:prstGeom>
          <a:ln w="0">
            <a:noFill/>
          </a:ln>
        </p:spPr>
      </p:pic>
      <p:pic>
        <p:nvPicPr>
          <p:cNvPr id="478" name="" descr=""/>
          <p:cNvPicPr/>
          <p:nvPr/>
        </p:nvPicPr>
        <p:blipFill>
          <a:blip r:embed="rId4"/>
          <a:stretch/>
        </p:blipFill>
        <p:spPr>
          <a:xfrm>
            <a:off x="4343400" y="3581280"/>
            <a:ext cx="304920" cy="304920"/>
          </a:xfrm>
          <a:prstGeom prst="rect">
            <a:avLst/>
          </a:prstGeom>
          <a:ln w="0">
            <a:noFill/>
          </a:ln>
        </p:spPr>
      </p:pic>
      <p:pic>
        <p:nvPicPr>
          <p:cNvPr id="479" name="" descr=""/>
          <p:cNvPicPr/>
          <p:nvPr/>
        </p:nvPicPr>
        <p:blipFill>
          <a:blip r:embed="rId5"/>
          <a:stretch/>
        </p:blipFill>
        <p:spPr>
          <a:xfrm>
            <a:off x="4572000" y="3733920"/>
            <a:ext cx="304920" cy="304560"/>
          </a:xfrm>
          <a:prstGeom prst="rect">
            <a:avLst/>
          </a:prstGeom>
          <a:ln w="0">
            <a:noFill/>
          </a:ln>
        </p:spPr>
      </p:pic>
      <p:pic>
        <p:nvPicPr>
          <p:cNvPr id="480" name="" descr=""/>
          <p:cNvPicPr/>
          <p:nvPr/>
        </p:nvPicPr>
        <p:blipFill>
          <a:blip r:embed="rId6"/>
          <a:stretch/>
        </p:blipFill>
        <p:spPr>
          <a:xfrm>
            <a:off x="4343400" y="2895480"/>
            <a:ext cx="304920" cy="304920"/>
          </a:xfrm>
          <a:prstGeom prst="rect">
            <a:avLst/>
          </a:prstGeom>
          <a:ln w="0">
            <a:noFill/>
          </a:ln>
        </p:spPr>
      </p:pic>
      <p:pic>
        <p:nvPicPr>
          <p:cNvPr id="481" name="" descr=""/>
          <p:cNvPicPr/>
          <p:nvPr/>
        </p:nvPicPr>
        <p:blipFill>
          <a:blip r:embed="rId7"/>
          <a:stretch/>
        </p:blipFill>
        <p:spPr>
          <a:xfrm>
            <a:off x="4572000" y="3352680"/>
            <a:ext cx="304920" cy="304920"/>
          </a:xfrm>
          <a:prstGeom prst="rect">
            <a:avLst/>
          </a:prstGeom>
          <a:ln w="0">
            <a:noFill/>
          </a:ln>
        </p:spPr>
      </p:pic>
      <p:grpSp>
        <p:nvGrpSpPr>
          <p:cNvPr id="482" name=""/>
          <p:cNvGrpSpPr/>
          <p:nvPr/>
        </p:nvGrpSpPr>
        <p:grpSpPr>
          <a:xfrm>
            <a:off x="4800600" y="2971800"/>
            <a:ext cx="3905280" cy="1266840"/>
            <a:chOff x="4800600" y="2971800"/>
            <a:chExt cx="3905280" cy="1266840"/>
          </a:xfrm>
        </p:grpSpPr>
        <p:pic>
          <p:nvPicPr>
            <p:cNvPr id="483" name="smalltruck" descr=""/>
            <p:cNvPicPr/>
            <p:nvPr/>
          </p:nvPicPr>
          <p:blipFill>
            <a:blip r:embed="rId8"/>
            <a:stretch/>
          </p:blipFill>
          <p:spPr>
            <a:xfrm>
              <a:off x="7010280" y="2971800"/>
              <a:ext cx="1695600" cy="1266840"/>
            </a:xfrm>
            <a:prstGeom prst="rect">
              <a:avLst/>
            </a:prstGeom>
            <a:ln w="0">
              <a:noFill/>
            </a:ln>
          </p:spPr>
        </p:pic>
        <p:sp>
          <p:nvSpPr>
            <p:cNvPr id="484" name=""/>
            <p:cNvSpPr/>
            <p:nvPr/>
          </p:nvSpPr>
          <p:spPr>
            <a:xfrm flipH="1">
              <a:off x="4800600" y="3505320"/>
              <a:ext cx="220968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85" name=""/>
          <p:cNvGrpSpPr/>
          <p:nvPr/>
        </p:nvGrpSpPr>
        <p:grpSpPr>
          <a:xfrm>
            <a:off x="2209680" y="2362320"/>
            <a:ext cx="2133720" cy="1266840"/>
            <a:chOff x="2209680" y="2362320"/>
            <a:chExt cx="2133720" cy="1266840"/>
          </a:xfrm>
        </p:grpSpPr>
        <p:sp>
          <p:nvSpPr>
            <p:cNvPr id="486" name=""/>
            <p:cNvSpPr/>
            <p:nvPr/>
          </p:nvSpPr>
          <p:spPr>
            <a:xfrm>
              <a:off x="3352680" y="3048120"/>
              <a:ext cx="99072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87" name="smalltrain" descr=""/>
            <p:cNvPicPr/>
            <p:nvPr/>
          </p:nvPicPr>
          <p:blipFill>
            <a:blip r:embed="rId9"/>
            <a:stretch/>
          </p:blipFill>
          <p:spPr>
            <a:xfrm>
              <a:off x="2209680" y="2362320"/>
              <a:ext cx="1695600" cy="1266840"/>
            </a:xfrm>
            <a:prstGeom prst="rect">
              <a:avLst/>
            </a:prstGeom>
            <a:ln w="0">
              <a:noFill/>
            </a:ln>
          </p:spPr>
        </p:pic>
      </p:grpSp>
      <p:grpSp>
        <p:nvGrpSpPr>
          <p:cNvPr id="488" name=""/>
          <p:cNvGrpSpPr/>
          <p:nvPr/>
        </p:nvGrpSpPr>
        <p:grpSpPr>
          <a:xfrm>
            <a:off x="4800240" y="1981080"/>
            <a:ext cx="2000520" cy="1266840"/>
            <a:chOff x="4800240" y="1981080"/>
            <a:chExt cx="2000520" cy="1266840"/>
          </a:xfrm>
        </p:grpSpPr>
        <p:sp>
          <p:nvSpPr>
            <p:cNvPr id="489" name=""/>
            <p:cNvSpPr/>
            <p:nvPr/>
          </p:nvSpPr>
          <p:spPr>
            <a:xfrm flipH="1">
              <a:off x="4800240" y="3200400"/>
              <a:ext cx="76212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90" name="smallblender" descr=""/>
            <p:cNvPicPr/>
            <p:nvPr/>
          </p:nvPicPr>
          <p:blipFill>
            <a:blip r:embed="rId10"/>
            <a:stretch/>
          </p:blipFill>
          <p:spPr>
            <a:xfrm>
              <a:off x="5105520" y="1981080"/>
              <a:ext cx="1695240" cy="1266840"/>
            </a:xfrm>
            <a:prstGeom prst="rect">
              <a:avLst/>
            </a:prstGeom>
            <a:ln w="0">
              <a:noFill/>
            </a:ln>
          </p:spPr>
        </p:pic>
      </p:grpSp>
      <p:grpSp>
        <p:nvGrpSpPr>
          <p:cNvPr id="491" name=""/>
          <p:cNvGrpSpPr/>
          <p:nvPr/>
        </p:nvGrpSpPr>
        <p:grpSpPr>
          <a:xfrm>
            <a:off x="2209680" y="3733920"/>
            <a:ext cx="2133720" cy="1266840"/>
            <a:chOff x="2209680" y="3733920"/>
            <a:chExt cx="2133720" cy="1266840"/>
          </a:xfrm>
        </p:grpSpPr>
        <p:sp>
          <p:nvSpPr>
            <p:cNvPr id="492" name=""/>
            <p:cNvSpPr/>
            <p:nvPr/>
          </p:nvSpPr>
          <p:spPr>
            <a:xfrm>
              <a:off x="3352680" y="3733920"/>
              <a:ext cx="99072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93" name="smallleafblower" descr=""/>
            <p:cNvPicPr/>
            <p:nvPr/>
          </p:nvPicPr>
          <p:blipFill>
            <a:blip r:embed="rId11"/>
            <a:stretch/>
          </p:blipFill>
          <p:spPr>
            <a:xfrm>
              <a:off x="2209680" y="3733920"/>
              <a:ext cx="1695600" cy="1266840"/>
            </a:xfrm>
            <a:prstGeom prst="rect">
              <a:avLst/>
            </a:prstGeom>
            <a:ln w="0">
              <a:noFill/>
            </a:ln>
          </p:spPr>
        </p:pic>
      </p:grpSp>
      <p:grpSp>
        <p:nvGrpSpPr>
          <p:cNvPr id="494" name=""/>
          <p:cNvGrpSpPr/>
          <p:nvPr/>
        </p:nvGrpSpPr>
        <p:grpSpPr>
          <a:xfrm>
            <a:off x="4800240" y="3886200"/>
            <a:ext cx="2000520" cy="1266840"/>
            <a:chOff x="4800240" y="3886200"/>
            <a:chExt cx="2000520" cy="1266840"/>
          </a:xfrm>
        </p:grpSpPr>
        <p:sp>
          <p:nvSpPr>
            <p:cNvPr id="495" name=""/>
            <p:cNvSpPr/>
            <p:nvPr/>
          </p:nvSpPr>
          <p:spPr>
            <a:xfrm flipH="1">
              <a:off x="4800240" y="3886200"/>
              <a:ext cx="76212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96" name="smalllawnmower" descr=""/>
            <p:cNvPicPr/>
            <p:nvPr/>
          </p:nvPicPr>
          <p:blipFill>
            <a:blip r:embed="rId12"/>
            <a:stretch/>
          </p:blipFill>
          <p:spPr>
            <a:xfrm>
              <a:off x="5105520" y="3886200"/>
              <a:ext cx="1695240" cy="1266840"/>
            </a:xfrm>
            <a:prstGeom prst="rect">
              <a:avLst/>
            </a:prstGeom>
            <a:ln w="0">
              <a:noFill/>
            </a:ln>
          </p:spPr>
        </p:pic>
      </p:grpSp>
      <p:grpSp>
        <p:nvGrpSpPr>
          <p:cNvPr id="497" name=""/>
          <p:cNvGrpSpPr/>
          <p:nvPr/>
        </p:nvGrpSpPr>
        <p:grpSpPr>
          <a:xfrm>
            <a:off x="228600" y="1644480"/>
            <a:ext cx="4038480" cy="1227240"/>
            <a:chOff x="228600" y="1644480"/>
            <a:chExt cx="4038480" cy="1227240"/>
          </a:xfrm>
        </p:grpSpPr>
        <p:sp>
          <p:nvSpPr>
            <p:cNvPr id="498" name=""/>
            <p:cNvSpPr/>
            <p:nvPr/>
          </p:nvSpPr>
          <p:spPr>
            <a:xfrm>
              <a:off x="1828800" y="2558880"/>
              <a:ext cx="2438280" cy="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499" name="metallica" descr=""/>
            <p:cNvPicPr/>
            <p:nvPr/>
          </p:nvPicPr>
          <p:blipFill>
            <a:blip r:embed="rId13"/>
            <a:stretch/>
          </p:blipFill>
          <p:spPr>
            <a:xfrm>
              <a:off x="228600" y="1644480"/>
              <a:ext cx="2057400" cy="1227240"/>
            </a:xfrm>
            <a:prstGeom prst="rect">
              <a:avLst/>
            </a:prstGeom>
            <a:ln w="0">
              <a:noFill/>
            </a:ln>
          </p:spPr>
        </p:pic>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ise Measurement</a:t>
            </a:r>
            <a:endParaRPr b="0" lang="en-US" sz="3600" spc="-1" strike="noStrike">
              <a:solidFill>
                <a:srgbClr val="ffff00"/>
              </a:solidFill>
              <a:latin typeface="Times New Roman"/>
            </a:endParaRPr>
          </a:p>
        </p:txBody>
      </p:sp>
      <p:sp>
        <p:nvSpPr>
          <p:cNvPr id="501" name=""/>
          <p:cNvSpPr/>
          <p:nvPr/>
        </p:nvSpPr>
        <p:spPr>
          <a:xfrm>
            <a:off x="2523960" y="1819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02" name=""/>
          <p:cNvSpPr/>
          <p:nvPr/>
        </p:nvSpPr>
        <p:spPr>
          <a:xfrm>
            <a:off x="304920" y="2057400"/>
            <a:ext cx="8534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Sound Exposure Level (SE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measure of the physical energy of the noise event taking into account intensity and duration.</a:t>
            </a:r>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ise Measurement</a:t>
            </a:r>
            <a:endParaRPr b="0" lang="en-US" sz="3600" spc="-1" strike="noStrike">
              <a:solidFill>
                <a:srgbClr val="ffff00"/>
              </a:solidFill>
              <a:latin typeface="Times New Roman"/>
            </a:endParaRPr>
          </a:p>
        </p:txBody>
      </p:sp>
      <p:sp>
        <p:nvSpPr>
          <p:cNvPr id="504" name=""/>
          <p:cNvSpPr/>
          <p:nvPr/>
        </p:nvSpPr>
        <p:spPr>
          <a:xfrm>
            <a:off x="2523960" y="1819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05" name="picture2" descr=""/>
          <p:cNvPicPr/>
          <p:nvPr/>
        </p:nvPicPr>
        <p:blipFill>
          <a:blip r:embed="rId1"/>
          <a:stretch/>
        </p:blipFill>
        <p:spPr>
          <a:xfrm>
            <a:off x="380880" y="1066680"/>
            <a:ext cx="8534520" cy="54165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6"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ise Measurement</a:t>
            </a:r>
            <a:endParaRPr b="0" lang="en-US" sz="3600" spc="-1" strike="noStrike">
              <a:solidFill>
                <a:srgbClr val="ffffff"/>
              </a:solidFill>
              <a:latin typeface="Times New Roman"/>
            </a:endParaRPr>
          </a:p>
        </p:txBody>
      </p:sp>
      <p:sp>
        <p:nvSpPr>
          <p:cNvPr id="507"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ound Exposure Level </a:t>
            </a:r>
            <a:r>
              <a:rPr b="1" lang="en-US" sz="2800" spc="-1" strike="noStrike" u="sng">
                <a:solidFill>
                  <a:srgbClr val="ffff00"/>
                </a:solidFill>
                <a:uFillTx/>
                <a:latin typeface="Times New Roman"/>
              </a:rPr>
              <a:t>(SE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tegration of A-weighted levels (A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uman ear’s response to sound</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ssess community noise</a:t>
            </a:r>
            <a:endParaRPr b="0" lang="en-US" sz="2800" spc="-1" strike="noStrike">
              <a:solidFill>
                <a:srgbClr val="ffffff"/>
              </a:solidFill>
              <a:latin typeface="Times New Roman"/>
            </a:endParaRPr>
          </a:p>
        </p:txBody>
      </p:sp>
      <p:sp>
        <p:nvSpPr>
          <p:cNvPr id="50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ffective Perceived </a:t>
            </a:r>
            <a:r>
              <a:rPr b="1" lang="en-US" sz="2800" spc="-1" strike="noStrike" u="sng">
                <a:solidFill>
                  <a:srgbClr val="ffff00"/>
                </a:solidFill>
                <a:uFillTx/>
                <a:latin typeface="Times New Roman"/>
              </a:rPr>
              <a:t>Noise Level (EPNL)</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one-corrected PNL</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isiness of discreet frequenci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ircraft noise certification</a:t>
            </a:r>
            <a:endParaRPr b="0" lang="en-US" sz="2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1752480" y="4038120"/>
            <a:ext cx="6553440" cy="20574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CAO Environmental Colloquium</a:t>
            </a:r>
            <a:endParaRPr b="0" lang="en-US" sz="2800" spc="-1" strike="noStrike">
              <a:solidFill>
                <a:srgbClr val="ffffff"/>
              </a:solidFill>
              <a:latin typeface="Times New Roman"/>
            </a:endParaRPr>
          </a:p>
          <a:p>
            <a:pPr algn="ctr">
              <a:spcBef>
                <a:spcPts val="700"/>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pril 2001</a:t>
            </a:r>
            <a:endParaRPr b="0" lang="en-US" sz="2800" spc="-1" strike="noStrike">
              <a:solidFill>
                <a:srgbClr val="ffffff"/>
              </a:solidFill>
              <a:latin typeface="Times New Roman"/>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esented by Mr. T. Connor</a:t>
            </a:r>
            <a:endParaRPr b="0" lang="en-US" sz="1800" spc="-1" strike="noStrike">
              <a:solidFill>
                <a:srgbClr val="ffffff"/>
              </a:solidFill>
              <a:latin typeface="Times New Roman"/>
            </a:endParaRPr>
          </a:p>
        </p:txBody>
      </p:sp>
      <p:grpSp>
        <p:nvGrpSpPr>
          <p:cNvPr id="171" name=""/>
          <p:cNvGrpSpPr/>
          <p:nvPr/>
        </p:nvGrpSpPr>
        <p:grpSpPr>
          <a:xfrm>
            <a:off x="380880" y="380880"/>
            <a:ext cx="2362320" cy="1752840"/>
            <a:chOff x="380880" y="380880"/>
            <a:chExt cx="2362320" cy="1752840"/>
          </a:xfrm>
        </p:grpSpPr>
        <p:sp>
          <p:nvSpPr>
            <p:cNvPr id="172" name=""/>
            <p:cNvSpPr/>
            <p:nvPr/>
          </p:nvSpPr>
          <p:spPr>
            <a:xfrm>
              <a:off x="708840" y="844200"/>
              <a:ext cx="134280" cy="70200"/>
            </a:xfrm>
            <a:custGeom>
              <a:avLst/>
              <a:gdLst/>
              <a:ahLst/>
              <a:rect l="l" t="t" r="r" b="b"/>
              <a:pathLst>
                <a:path w="1051" h="604">
                  <a:moveTo>
                    <a:pt x="1051" y="460"/>
                  </a:moveTo>
                  <a:lnTo>
                    <a:pt x="67" y="0"/>
                  </a:lnTo>
                  <a:lnTo>
                    <a:pt x="0" y="144"/>
                  </a:lnTo>
                  <a:lnTo>
                    <a:pt x="985" y="604"/>
                  </a:lnTo>
                  <a:lnTo>
                    <a:pt x="1051" y="460"/>
                  </a:lnTo>
                  <a:close/>
                </a:path>
              </a:pathLst>
            </a:custGeom>
            <a:blipFill rotWithShape="0">
              <a:blip r:embed="rId1"/>
              <a:srcRect/>
              <a:stretch/>
            </a:blip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173" name=""/>
            <p:cNvSpPr/>
            <p:nvPr/>
          </p:nvSpPr>
          <p:spPr>
            <a:xfrm>
              <a:off x="764280" y="720360"/>
              <a:ext cx="143640" cy="130680"/>
            </a:xfrm>
            <a:custGeom>
              <a:avLst/>
              <a:gdLst/>
              <a:ahLst/>
              <a:rect l="l" t="t" r="r" b="b"/>
              <a:pathLst>
                <a:path w="1128" h="1123">
                  <a:moveTo>
                    <a:pt x="622" y="3"/>
                  </a:moveTo>
                  <a:lnTo>
                    <a:pt x="574" y="0"/>
                  </a:lnTo>
                  <a:lnTo>
                    <a:pt x="518" y="0"/>
                  </a:lnTo>
                  <a:lnTo>
                    <a:pt x="448" y="10"/>
                  </a:lnTo>
                  <a:lnTo>
                    <a:pt x="411" y="21"/>
                  </a:lnTo>
                  <a:lnTo>
                    <a:pt x="369" y="34"/>
                  </a:lnTo>
                  <a:lnTo>
                    <a:pt x="320" y="53"/>
                  </a:lnTo>
                  <a:lnTo>
                    <a:pt x="275" y="79"/>
                  </a:lnTo>
                  <a:lnTo>
                    <a:pt x="235" y="105"/>
                  </a:lnTo>
                  <a:lnTo>
                    <a:pt x="199" y="134"/>
                  </a:lnTo>
                  <a:lnTo>
                    <a:pt x="166" y="164"/>
                  </a:lnTo>
                  <a:lnTo>
                    <a:pt x="139" y="194"/>
                  </a:lnTo>
                  <a:lnTo>
                    <a:pt x="115" y="223"/>
                  </a:lnTo>
                  <a:lnTo>
                    <a:pt x="95" y="249"/>
                  </a:lnTo>
                  <a:lnTo>
                    <a:pt x="68" y="298"/>
                  </a:lnTo>
                  <a:lnTo>
                    <a:pt x="44" y="348"/>
                  </a:lnTo>
                  <a:lnTo>
                    <a:pt x="24" y="398"/>
                  </a:lnTo>
                  <a:lnTo>
                    <a:pt x="10" y="452"/>
                  </a:lnTo>
                  <a:lnTo>
                    <a:pt x="2" y="505"/>
                  </a:lnTo>
                  <a:lnTo>
                    <a:pt x="0" y="558"/>
                  </a:lnTo>
                  <a:lnTo>
                    <a:pt x="2" y="612"/>
                  </a:lnTo>
                  <a:lnTo>
                    <a:pt x="8" y="665"/>
                  </a:lnTo>
                  <a:lnTo>
                    <a:pt x="22" y="719"/>
                  </a:lnTo>
                  <a:lnTo>
                    <a:pt x="40" y="767"/>
                  </a:lnTo>
                  <a:lnTo>
                    <a:pt x="61" y="817"/>
                  </a:lnTo>
                  <a:lnTo>
                    <a:pt x="89" y="864"/>
                  </a:lnTo>
                  <a:lnTo>
                    <a:pt x="121" y="910"/>
                  </a:lnTo>
                  <a:lnTo>
                    <a:pt x="158" y="952"/>
                  </a:lnTo>
                  <a:lnTo>
                    <a:pt x="199" y="991"/>
                  </a:lnTo>
                  <a:lnTo>
                    <a:pt x="247" y="1026"/>
                  </a:lnTo>
                  <a:lnTo>
                    <a:pt x="296" y="1056"/>
                  </a:lnTo>
                  <a:lnTo>
                    <a:pt x="348" y="1080"/>
                  </a:lnTo>
                  <a:lnTo>
                    <a:pt x="398" y="1097"/>
                  </a:lnTo>
                  <a:lnTo>
                    <a:pt x="452" y="1112"/>
                  </a:lnTo>
                  <a:lnTo>
                    <a:pt x="508" y="1119"/>
                  </a:lnTo>
                  <a:lnTo>
                    <a:pt x="560" y="1123"/>
                  </a:lnTo>
                  <a:lnTo>
                    <a:pt x="616" y="1121"/>
                  </a:lnTo>
                  <a:lnTo>
                    <a:pt x="670" y="1113"/>
                  </a:lnTo>
                  <a:lnTo>
                    <a:pt x="722" y="1101"/>
                  </a:lnTo>
                  <a:lnTo>
                    <a:pt x="774" y="1083"/>
                  </a:lnTo>
                  <a:lnTo>
                    <a:pt x="823" y="1062"/>
                  </a:lnTo>
                  <a:lnTo>
                    <a:pt x="871" y="1036"/>
                  </a:lnTo>
                  <a:lnTo>
                    <a:pt x="916" y="1005"/>
                  </a:lnTo>
                  <a:lnTo>
                    <a:pt x="958" y="968"/>
                  </a:lnTo>
                  <a:lnTo>
                    <a:pt x="995" y="926"/>
                  </a:lnTo>
                  <a:lnTo>
                    <a:pt x="1031" y="880"/>
                  </a:lnTo>
                  <a:lnTo>
                    <a:pt x="1062" y="825"/>
                  </a:lnTo>
                  <a:lnTo>
                    <a:pt x="1091" y="764"/>
                  </a:lnTo>
                  <a:lnTo>
                    <a:pt x="1112" y="697"/>
                  </a:lnTo>
                  <a:lnTo>
                    <a:pt x="1120" y="662"/>
                  </a:lnTo>
                  <a:lnTo>
                    <a:pt x="1125" y="626"/>
                  </a:lnTo>
                  <a:lnTo>
                    <a:pt x="1128" y="589"/>
                  </a:lnTo>
                  <a:lnTo>
                    <a:pt x="1128" y="550"/>
                  </a:lnTo>
                  <a:lnTo>
                    <a:pt x="1125" y="511"/>
                  </a:lnTo>
                  <a:lnTo>
                    <a:pt x="1120" y="472"/>
                  </a:lnTo>
                  <a:lnTo>
                    <a:pt x="1112" y="432"/>
                  </a:lnTo>
                  <a:lnTo>
                    <a:pt x="1099" y="391"/>
                  </a:lnTo>
                  <a:lnTo>
                    <a:pt x="1084" y="351"/>
                  </a:lnTo>
                  <a:lnTo>
                    <a:pt x="1066" y="310"/>
                  </a:lnTo>
                  <a:lnTo>
                    <a:pt x="958" y="472"/>
                  </a:lnTo>
                  <a:lnTo>
                    <a:pt x="965" y="513"/>
                  </a:lnTo>
                  <a:lnTo>
                    <a:pt x="971" y="557"/>
                  </a:lnTo>
                  <a:lnTo>
                    <a:pt x="973" y="600"/>
                  </a:lnTo>
                  <a:lnTo>
                    <a:pt x="969" y="641"/>
                  </a:lnTo>
                  <a:lnTo>
                    <a:pt x="961" y="683"/>
                  </a:lnTo>
                  <a:lnTo>
                    <a:pt x="950" y="722"/>
                  </a:lnTo>
                  <a:lnTo>
                    <a:pt x="932" y="762"/>
                  </a:lnTo>
                  <a:lnTo>
                    <a:pt x="910" y="798"/>
                  </a:lnTo>
                  <a:lnTo>
                    <a:pt x="887" y="829"/>
                  </a:lnTo>
                  <a:lnTo>
                    <a:pt x="859" y="858"/>
                  </a:lnTo>
                  <a:lnTo>
                    <a:pt x="829" y="884"/>
                  </a:lnTo>
                  <a:lnTo>
                    <a:pt x="798" y="906"/>
                  </a:lnTo>
                  <a:lnTo>
                    <a:pt x="764" y="926"/>
                  </a:lnTo>
                  <a:lnTo>
                    <a:pt x="727" y="942"/>
                  </a:lnTo>
                  <a:lnTo>
                    <a:pt x="689" y="953"/>
                  </a:lnTo>
                  <a:lnTo>
                    <a:pt x="652" y="961"/>
                  </a:lnTo>
                  <a:lnTo>
                    <a:pt x="612" y="968"/>
                  </a:lnTo>
                  <a:lnTo>
                    <a:pt x="573" y="969"/>
                  </a:lnTo>
                  <a:lnTo>
                    <a:pt x="531" y="965"/>
                  </a:lnTo>
                  <a:lnTo>
                    <a:pt x="492" y="960"/>
                  </a:lnTo>
                  <a:lnTo>
                    <a:pt x="452" y="950"/>
                  </a:lnTo>
                  <a:lnTo>
                    <a:pt x="413" y="936"/>
                  </a:lnTo>
                  <a:lnTo>
                    <a:pt x="373" y="918"/>
                  </a:lnTo>
                  <a:lnTo>
                    <a:pt x="338" y="894"/>
                  </a:lnTo>
                  <a:lnTo>
                    <a:pt x="302" y="871"/>
                  </a:lnTo>
                  <a:lnTo>
                    <a:pt x="272" y="841"/>
                  </a:lnTo>
                  <a:lnTo>
                    <a:pt x="244" y="811"/>
                  </a:lnTo>
                  <a:lnTo>
                    <a:pt x="221" y="780"/>
                  </a:lnTo>
                  <a:lnTo>
                    <a:pt x="199" y="744"/>
                  </a:lnTo>
                  <a:lnTo>
                    <a:pt x="181" y="709"/>
                  </a:lnTo>
                  <a:lnTo>
                    <a:pt x="168" y="671"/>
                  </a:lnTo>
                  <a:lnTo>
                    <a:pt x="158" y="634"/>
                  </a:lnTo>
                  <a:lnTo>
                    <a:pt x="152" y="594"/>
                  </a:lnTo>
                  <a:lnTo>
                    <a:pt x="150" y="557"/>
                  </a:lnTo>
                  <a:lnTo>
                    <a:pt x="152" y="518"/>
                  </a:lnTo>
                  <a:lnTo>
                    <a:pt x="157" y="478"/>
                  </a:lnTo>
                  <a:lnTo>
                    <a:pt x="166" y="438"/>
                  </a:lnTo>
                  <a:lnTo>
                    <a:pt x="180" y="401"/>
                  </a:lnTo>
                  <a:lnTo>
                    <a:pt x="196" y="364"/>
                  </a:lnTo>
                  <a:lnTo>
                    <a:pt x="217" y="328"/>
                  </a:lnTo>
                  <a:lnTo>
                    <a:pt x="236" y="302"/>
                  </a:lnTo>
                  <a:lnTo>
                    <a:pt x="257" y="278"/>
                  </a:lnTo>
                  <a:lnTo>
                    <a:pt x="301" y="241"/>
                  </a:lnTo>
                  <a:lnTo>
                    <a:pt x="341" y="213"/>
                  </a:lnTo>
                  <a:lnTo>
                    <a:pt x="385" y="191"/>
                  </a:lnTo>
                  <a:lnTo>
                    <a:pt x="427" y="178"/>
                  </a:lnTo>
                  <a:lnTo>
                    <a:pt x="461" y="168"/>
                  </a:lnTo>
                  <a:lnTo>
                    <a:pt x="515" y="160"/>
                  </a:lnTo>
                  <a:lnTo>
                    <a:pt x="622" y="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921240" y="650160"/>
              <a:ext cx="98280" cy="119520"/>
            </a:xfrm>
            <a:custGeom>
              <a:avLst/>
              <a:gdLst/>
              <a:ahLst/>
              <a:rect l="l" t="t" r="r" b="b"/>
              <a:pathLst>
                <a:path w="769" h="1028">
                  <a:moveTo>
                    <a:pt x="0" y="453"/>
                  </a:moveTo>
                  <a:lnTo>
                    <a:pt x="0" y="844"/>
                  </a:lnTo>
                  <a:lnTo>
                    <a:pt x="86" y="1028"/>
                  </a:lnTo>
                  <a:lnTo>
                    <a:pt x="204" y="910"/>
                  </a:lnTo>
                  <a:lnTo>
                    <a:pt x="62" y="597"/>
                  </a:lnTo>
                  <a:lnTo>
                    <a:pt x="338" y="321"/>
                  </a:lnTo>
                  <a:lnTo>
                    <a:pt x="650" y="463"/>
                  </a:lnTo>
                  <a:lnTo>
                    <a:pt x="769" y="343"/>
                  </a:lnTo>
                  <a:lnTo>
                    <a:pt x="0" y="0"/>
                  </a:lnTo>
                  <a:lnTo>
                    <a:pt x="0" y="162"/>
                  </a:lnTo>
                  <a:lnTo>
                    <a:pt x="196" y="258"/>
                  </a:lnTo>
                  <a:lnTo>
                    <a:pt x="0" y="453"/>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870840" y="635040"/>
              <a:ext cx="50040" cy="113040"/>
            </a:xfrm>
            <a:custGeom>
              <a:avLst/>
              <a:gdLst/>
              <a:ahLst/>
              <a:rect l="l" t="t" r="r" b="b"/>
              <a:pathLst>
                <a:path w="392" h="977">
                  <a:moveTo>
                    <a:pt x="392" y="295"/>
                  </a:moveTo>
                  <a:lnTo>
                    <a:pt x="392" y="133"/>
                  </a:lnTo>
                  <a:lnTo>
                    <a:pt x="101" y="0"/>
                  </a:lnTo>
                  <a:lnTo>
                    <a:pt x="0" y="101"/>
                  </a:lnTo>
                  <a:lnTo>
                    <a:pt x="392" y="977"/>
                  </a:lnTo>
                  <a:lnTo>
                    <a:pt x="392" y="586"/>
                  </a:lnTo>
                  <a:lnTo>
                    <a:pt x="391" y="588"/>
                  </a:lnTo>
                  <a:lnTo>
                    <a:pt x="195" y="196"/>
                  </a:lnTo>
                  <a:lnTo>
                    <a:pt x="198" y="193"/>
                  </a:lnTo>
                  <a:lnTo>
                    <a:pt x="392" y="295"/>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1041120" y="529200"/>
              <a:ext cx="71640" cy="130680"/>
            </a:xfrm>
            <a:custGeom>
              <a:avLst/>
              <a:gdLst/>
              <a:ahLst/>
              <a:rect l="l" t="t" r="r" b="b"/>
              <a:pathLst>
                <a:path w="561" h="1129">
                  <a:moveTo>
                    <a:pt x="0" y="983"/>
                  </a:moveTo>
                  <a:lnTo>
                    <a:pt x="0" y="1129"/>
                  </a:lnTo>
                  <a:lnTo>
                    <a:pt x="20" y="1129"/>
                  </a:lnTo>
                  <a:lnTo>
                    <a:pt x="74" y="1125"/>
                  </a:lnTo>
                  <a:lnTo>
                    <a:pt x="129" y="1114"/>
                  </a:lnTo>
                  <a:lnTo>
                    <a:pt x="182" y="1098"/>
                  </a:lnTo>
                  <a:lnTo>
                    <a:pt x="236" y="1077"/>
                  </a:lnTo>
                  <a:lnTo>
                    <a:pt x="286" y="1048"/>
                  </a:lnTo>
                  <a:lnTo>
                    <a:pt x="336" y="1015"/>
                  </a:lnTo>
                  <a:lnTo>
                    <a:pt x="381" y="978"/>
                  </a:lnTo>
                  <a:lnTo>
                    <a:pt x="422" y="936"/>
                  </a:lnTo>
                  <a:lnTo>
                    <a:pt x="458" y="891"/>
                  </a:lnTo>
                  <a:lnTo>
                    <a:pt x="488" y="844"/>
                  </a:lnTo>
                  <a:lnTo>
                    <a:pt x="513" y="794"/>
                  </a:lnTo>
                  <a:lnTo>
                    <a:pt x="534" y="743"/>
                  </a:lnTo>
                  <a:lnTo>
                    <a:pt x="547" y="691"/>
                  </a:lnTo>
                  <a:lnTo>
                    <a:pt x="557" y="638"/>
                  </a:lnTo>
                  <a:lnTo>
                    <a:pt x="561" y="583"/>
                  </a:lnTo>
                  <a:lnTo>
                    <a:pt x="561" y="530"/>
                  </a:lnTo>
                  <a:lnTo>
                    <a:pt x="555" y="476"/>
                  </a:lnTo>
                  <a:lnTo>
                    <a:pt x="543" y="423"/>
                  </a:lnTo>
                  <a:lnTo>
                    <a:pt x="527" y="371"/>
                  </a:lnTo>
                  <a:lnTo>
                    <a:pt x="508" y="322"/>
                  </a:lnTo>
                  <a:lnTo>
                    <a:pt x="480" y="273"/>
                  </a:lnTo>
                  <a:lnTo>
                    <a:pt x="450" y="227"/>
                  </a:lnTo>
                  <a:lnTo>
                    <a:pt x="412" y="185"/>
                  </a:lnTo>
                  <a:lnTo>
                    <a:pt x="373" y="144"/>
                  </a:lnTo>
                  <a:lnTo>
                    <a:pt x="330" y="109"/>
                  </a:lnTo>
                  <a:lnTo>
                    <a:pt x="284" y="78"/>
                  </a:lnTo>
                  <a:lnTo>
                    <a:pt x="236" y="52"/>
                  </a:lnTo>
                  <a:lnTo>
                    <a:pt x="186" y="33"/>
                  </a:lnTo>
                  <a:lnTo>
                    <a:pt x="132" y="16"/>
                  </a:lnTo>
                  <a:lnTo>
                    <a:pt x="81" y="7"/>
                  </a:lnTo>
                  <a:lnTo>
                    <a:pt x="26" y="0"/>
                  </a:lnTo>
                  <a:lnTo>
                    <a:pt x="0" y="0"/>
                  </a:lnTo>
                  <a:lnTo>
                    <a:pt x="0" y="151"/>
                  </a:lnTo>
                  <a:lnTo>
                    <a:pt x="32" y="153"/>
                  </a:lnTo>
                  <a:lnTo>
                    <a:pt x="71" y="159"/>
                  </a:lnTo>
                  <a:lnTo>
                    <a:pt x="111" y="170"/>
                  </a:lnTo>
                  <a:lnTo>
                    <a:pt x="147" y="185"/>
                  </a:lnTo>
                  <a:lnTo>
                    <a:pt x="182" y="202"/>
                  </a:lnTo>
                  <a:lnTo>
                    <a:pt x="215" y="222"/>
                  </a:lnTo>
                  <a:lnTo>
                    <a:pt x="247" y="245"/>
                  </a:lnTo>
                  <a:lnTo>
                    <a:pt x="275" y="269"/>
                  </a:lnTo>
                  <a:lnTo>
                    <a:pt x="301" y="297"/>
                  </a:lnTo>
                  <a:lnTo>
                    <a:pt x="324" y="324"/>
                  </a:lnTo>
                  <a:lnTo>
                    <a:pt x="341" y="352"/>
                  </a:lnTo>
                  <a:lnTo>
                    <a:pt x="359" y="381"/>
                  </a:lnTo>
                  <a:lnTo>
                    <a:pt x="373" y="413"/>
                  </a:lnTo>
                  <a:lnTo>
                    <a:pt x="387" y="449"/>
                  </a:lnTo>
                  <a:lnTo>
                    <a:pt x="396" y="484"/>
                  </a:lnTo>
                  <a:lnTo>
                    <a:pt x="404" y="522"/>
                  </a:lnTo>
                  <a:lnTo>
                    <a:pt x="409" y="561"/>
                  </a:lnTo>
                  <a:lnTo>
                    <a:pt x="409" y="601"/>
                  </a:lnTo>
                  <a:lnTo>
                    <a:pt x="404" y="640"/>
                  </a:lnTo>
                  <a:lnTo>
                    <a:pt x="396" y="680"/>
                  </a:lnTo>
                  <a:lnTo>
                    <a:pt x="385" y="719"/>
                  </a:lnTo>
                  <a:lnTo>
                    <a:pt x="369" y="758"/>
                  </a:lnTo>
                  <a:lnTo>
                    <a:pt x="348" y="795"/>
                  </a:lnTo>
                  <a:lnTo>
                    <a:pt x="320" y="831"/>
                  </a:lnTo>
                  <a:lnTo>
                    <a:pt x="286" y="867"/>
                  </a:lnTo>
                  <a:lnTo>
                    <a:pt x="249" y="900"/>
                  </a:lnTo>
                  <a:lnTo>
                    <a:pt x="205" y="928"/>
                  </a:lnTo>
                  <a:lnTo>
                    <a:pt x="164" y="950"/>
                  </a:lnTo>
                  <a:lnTo>
                    <a:pt x="121" y="965"/>
                  </a:lnTo>
                  <a:lnTo>
                    <a:pt x="79" y="975"/>
                  </a:lnTo>
                  <a:lnTo>
                    <a:pt x="38" y="981"/>
                  </a:lnTo>
                  <a:lnTo>
                    <a:pt x="0" y="983"/>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968400" y="529200"/>
              <a:ext cx="72720" cy="130680"/>
            </a:xfrm>
            <a:custGeom>
              <a:avLst/>
              <a:gdLst/>
              <a:ahLst/>
              <a:rect l="l" t="t" r="r" b="b"/>
              <a:pathLst>
                <a:path w="568" h="1129">
                  <a:moveTo>
                    <a:pt x="568" y="151"/>
                  </a:moveTo>
                  <a:lnTo>
                    <a:pt x="568" y="0"/>
                  </a:lnTo>
                  <a:lnTo>
                    <a:pt x="540" y="0"/>
                  </a:lnTo>
                  <a:lnTo>
                    <a:pt x="485" y="5"/>
                  </a:lnTo>
                  <a:lnTo>
                    <a:pt x="432" y="16"/>
                  </a:lnTo>
                  <a:lnTo>
                    <a:pt x="378" y="33"/>
                  </a:lnTo>
                  <a:lnTo>
                    <a:pt x="325" y="54"/>
                  </a:lnTo>
                  <a:lnTo>
                    <a:pt x="274" y="81"/>
                  </a:lnTo>
                  <a:lnTo>
                    <a:pt x="225" y="115"/>
                  </a:lnTo>
                  <a:lnTo>
                    <a:pt x="178" y="154"/>
                  </a:lnTo>
                  <a:lnTo>
                    <a:pt x="138" y="196"/>
                  </a:lnTo>
                  <a:lnTo>
                    <a:pt x="100" y="241"/>
                  </a:lnTo>
                  <a:lnTo>
                    <a:pt x="71" y="290"/>
                  </a:lnTo>
                  <a:lnTo>
                    <a:pt x="45" y="340"/>
                  </a:lnTo>
                  <a:lnTo>
                    <a:pt x="27" y="392"/>
                  </a:lnTo>
                  <a:lnTo>
                    <a:pt x="12" y="442"/>
                  </a:lnTo>
                  <a:lnTo>
                    <a:pt x="4" y="496"/>
                  </a:lnTo>
                  <a:lnTo>
                    <a:pt x="0" y="551"/>
                  </a:lnTo>
                  <a:lnTo>
                    <a:pt x="0" y="604"/>
                  </a:lnTo>
                  <a:lnTo>
                    <a:pt x="8" y="658"/>
                  </a:lnTo>
                  <a:lnTo>
                    <a:pt x="17" y="711"/>
                  </a:lnTo>
                  <a:lnTo>
                    <a:pt x="35" y="763"/>
                  </a:lnTo>
                  <a:lnTo>
                    <a:pt x="58" y="811"/>
                  </a:lnTo>
                  <a:lnTo>
                    <a:pt x="82" y="861"/>
                  </a:lnTo>
                  <a:lnTo>
                    <a:pt x="113" y="907"/>
                  </a:lnTo>
                  <a:lnTo>
                    <a:pt x="148" y="947"/>
                  </a:lnTo>
                  <a:lnTo>
                    <a:pt x="187" y="988"/>
                  </a:lnTo>
                  <a:lnTo>
                    <a:pt x="231" y="1020"/>
                  </a:lnTo>
                  <a:lnTo>
                    <a:pt x="276" y="1051"/>
                  </a:lnTo>
                  <a:lnTo>
                    <a:pt x="323" y="1077"/>
                  </a:lnTo>
                  <a:lnTo>
                    <a:pt x="373" y="1096"/>
                  </a:lnTo>
                  <a:lnTo>
                    <a:pt x="427" y="1111"/>
                  </a:lnTo>
                  <a:lnTo>
                    <a:pt x="480" y="1124"/>
                  </a:lnTo>
                  <a:lnTo>
                    <a:pt x="532" y="1129"/>
                  </a:lnTo>
                  <a:lnTo>
                    <a:pt x="568" y="1129"/>
                  </a:lnTo>
                  <a:lnTo>
                    <a:pt x="568" y="983"/>
                  </a:lnTo>
                  <a:lnTo>
                    <a:pt x="564" y="983"/>
                  </a:lnTo>
                  <a:lnTo>
                    <a:pt x="525" y="980"/>
                  </a:lnTo>
                  <a:lnTo>
                    <a:pt x="485" y="972"/>
                  </a:lnTo>
                  <a:lnTo>
                    <a:pt x="446" y="960"/>
                  </a:lnTo>
                  <a:lnTo>
                    <a:pt x="411" y="946"/>
                  </a:lnTo>
                  <a:lnTo>
                    <a:pt x="377" y="928"/>
                  </a:lnTo>
                  <a:lnTo>
                    <a:pt x="343" y="908"/>
                  </a:lnTo>
                  <a:lnTo>
                    <a:pt x="314" y="884"/>
                  </a:lnTo>
                  <a:lnTo>
                    <a:pt x="286" y="861"/>
                  </a:lnTo>
                  <a:lnTo>
                    <a:pt x="262" y="837"/>
                  </a:lnTo>
                  <a:lnTo>
                    <a:pt x="241" y="810"/>
                  </a:lnTo>
                  <a:lnTo>
                    <a:pt x="221" y="782"/>
                  </a:lnTo>
                  <a:lnTo>
                    <a:pt x="203" y="753"/>
                  </a:lnTo>
                  <a:lnTo>
                    <a:pt x="189" y="719"/>
                  </a:lnTo>
                  <a:lnTo>
                    <a:pt x="176" y="685"/>
                  </a:lnTo>
                  <a:lnTo>
                    <a:pt x="166" y="648"/>
                  </a:lnTo>
                  <a:lnTo>
                    <a:pt x="158" y="610"/>
                  </a:lnTo>
                  <a:lnTo>
                    <a:pt x="153" y="570"/>
                  </a:lnTo>
                  <a:lnTo>
                    <a:pt x="153" y="531"/>
                  </a:lnTo>
                  <a:lnTo>
                    <a:pt x="156" y="492"/>
                  </a:lnTo>
                  <a:lnTo>
                    <a:pt x="163" y="452"/>
                  </a:lnTo>
                  <a:lnTo>
                    <a:pt x="176" y="413"/>
                  </a:lnTo>
                  <a:lnTo>
                    <a:pt x="192" y="374"/>
                  </a:lnTo>
                  <a:lnTo>
                    <a:pt x="213" y="336"/>
                  </a:lnTo>
                  <a:lnTo>
                    <a:pt x="241" y="298"/>
                  </a:lnTo>
                  <a:lnTo>
                    <a:pt x="274" y="266"/>
                  </a:lnTo>
                  <a:lnTo>
                    <a:pt x="314" y="232"/>
                  </a:lnTo>
                  <a:lnTo>
                    <a:pt x="354" y="204"/>
                  </a:lnTo>
                  <a:lnTo>
                    <a:pt x="394" y="182"/>
                  </a:lnTo>
                  <a:lnTo>
                    <a:pt x="436" y="167"/>
                  </a:lnTo>
                  <a:lnTo>
                    <a:pt x="477" y="157"/>
                  </a:lnTo>
                  <a:lnTo>
                    <a:pt x="519" y="151"/>
                  </a:lnTo>
                  <a:lnTo>
                    <a:pt x="561" y="149"/>
                  </a:lnTo>
                  <a:lnTo>
                    <a:pt x="568" y="151"/>
                  </a:lnTo>
                  <a:close/>
                </a:path>
              </a:pathLst>
            </a:custGeom>
            <a:blipFill rotWithShape="0">
              <a:blip r:embed="rId6"/>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1183680" y="499680"/>
              <a:ext cx="26280" cy="47880"/>
            </a:xfrm>
            <a:custGeom>
              <a:avLst/>
              <a:gdLst/>
              <a:ahLst/>
              <a:rect l="l" t="t" r="r" b="b"/>
              <a:pathLst>
                <a:path w="209" h="419">
                  <a:moveTo>
                    <a:pt x="0" y="330"/>
                  </a:moveTo>
                  <a:lnTo>
                    <a:pt x="0" y="419"/>
                  </a:lnTo>
                  <a:lnTo>
                    <a:pt x="10" y="419"/>
                  </a:lnTo>
                  <a:lnTo>
                    <a:pt x="52" y="413"/>
                  </a:lnTo>
                  <a:lnTo>
                    <a:pt x="91" y="396"/>
                  </a:lnTo>
                  <a:lnTo>
                    <a:pt x="128" y="375"/>
                  </a:lnTo>
                  <a:lnTo>
                    <a:pt x="159" y="346"/>
                  </a:lnTo>
                  <a:lnTo>
                    <a:pt x="182" y="314"/>
                  </a:lnTo>
                  <a:lnTo>
                    <a:pt x="198" y="276"/>
                  </a:lnTo>
                  <a:lnTo>
                    <a:pt x="207" y="237"/>
                  </a:lnTo>
                  <a:lnTo>
                    <a:pt x="209" y="197"/>
                  </a:lnTo>
                  <a:lnTo>
                    <a:pt x="204" y="156"/>
                  </a:lnTo>
                  <a:lnTo>
                    <a:pt x="188" y="116"/>
                  </a:lnTo>
                  <a:lnTo>
                    <a:pt x="167" y="79"/>
                  </a:lnTo>
                  <a:lnTo>
                    <a:pt x="136" y="50"/>
                  </a:lnTo>
                  <a:lnTo>
                    <a:pt x="105" y="26"/>
                  </a:lnTo>
                  <a:lnTo>
                    <a:pt x="68" y="8"/>
                  </a:lnTo>
                  <a:lnTo>
                    <a:pt x="28" y="0"/>
                  </a:lnTo>
                  <a:lnTo>
                    <a:pt x="0" y="0"/>
                  </a:lnTo>
                  <a:lnTo>
                    <a:pt x="0" y="87"/>
                  </a:lnTo>
                  <a:lnTo>
                    <a:pt x="15" y="87"/>
                  </a:lnTo>
                  <a:lnTo>
                    <a:pt x="38" y="93"/>
                  </a:lnTo>
                  <a:lnTo>
                    <a:pt x="58" y="103"/>
                  </a:lnTo>
                  <a:lnTo>
                    <a:pt x="78" y="116"/>
                  </a:lnTo>
                  <a:lnTo>
                    <a:pt x="94" y="134"/>
                  </a:lnTo>
                  <a:lnTo>
                    <a:pt x="105" y="154"/>
                  </a:lnTo>
                  <a:lnTo>
                    <a:pt x="115" y="178"/>
                  </a:lnTo>
                  <a:lnTo>
                    <a:pt x="117" y="202"/>
                  </a:lnTo>
                  <a:lnTo>
                    <a:pt x="117" y="225"/>
                  </a:lnTo>
                  <a:lnTo>
                    <a:pt x="113" y="249"/>
                  </a:lnTo>
                  <a:lnTo>
                    <a:pt x="103" y="270"/>
                  </a:lnTo>
                  <a:lnTo>
                    <a:pt x="91" y="291"/>
                  </a:lnTo>
                  <a:lnTo>
                    <a:pt x="73" y="306"/>
                  </a:lnTo>
                  <a:lnTo>
                    <a:pt x="54" y="320"/>
                  </a:lnTo>
                  <a:lnTo>
                    <a:pt x="31" y="328"/>
                  </a:lnTo>
                  <a:lnTo>
                    <a:pt x="7" y="330"/>
                  </a:lnTo>
                  <a:lnTo>
                    <a:pt x="0" y="330"/>
                  </a:lnTo>
                  <a:close/>
                </a:path>
              </a:pathLst>
            </a:custGeom>
            <a:blipFill rotWithShape="0">
              <a:blip r:embed="rId7"/>
              <a:srcRect/>
              <a:stretch/>
            </a:blip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79" name=""/>
            <p:cNvSpPr/>
            <p:nvPr/>
          </p:nvSpPr>
          <p:spPr>
            <a:xfrm>
              <a:off x="1155960" y="498600"/>
              <a:ext cx="27360" cy="48960"/>
            </a:xfrm>
            <a:custGeom>
              <a:avLst/>
              <a:gdLst/>
              <a:ahLst/>
              <a:rect l="l" t="t" r="r" b="b"/>
              <a:pathLst>
                <a:path w="210" h="421">
                  <a:moveTo>
                    <a:pt x="210" y="89"/>
                  </a:moveTo>
                  <a:lnTo>
                    <a:pt x="210" y="2"/>
                  </a:lnTo>
                  <a:lnTo>
                    <a:pt x="199" y="0"/>
                  </a:lnTo>
                  <a:lnTo>
                    <a:pt x="157" y="6"/>
                  </a:lnTo>
                  <a:lnTo>
                    <a:pt x="118" y="21"/>
                  </a:lnTo>
                  <a:lnTo>
                    <a:pt x="80" y="44"/>
                  </a:lnTo>
                  <a:lnTo>
                    <a:pt x="50" y="73"/>
                  </a:lnTo>
                  <a:lnTo>
                    <a:pt x="27" y="105"/>
                  </a:lnTo>
                  <a:lnTo>
                    <a:pt x="9" y="142"/>
                  </a:lnTo>
                  <a:lnTo>
                    <a:pt x="1" y="180"/>
                  </a:lnTo>
                  <a:lnTo>
                    <a:pt x="0" y="222"/>
                  </a:lnTo>
                  <a:lnTo>
                    <a:pt x="5" y="262"/>
                  </a:lnTo>
                  <a:lnTo>
                    <a:pt x="21" y="303"/>
                  </a:lnTo>
                  <a:lnTo>
                    <a:pt x="42" y="340"/>
                  </a:lnTo>
                  <a:lnTo>
                    <a:pt x="71" y="369"/>
                  </a:lnTo>
                  <a:lnTo>
                    <a:pt x="104" y="393"/>
                  </a:lnTo>
                  <a:lnTo>
                    <a:pt x="142" y="408"/>
                  </a:lnTo>
                  <a:lnTo>
                    <a:pt x="179" y="419"/>
                  </a:lnTo>
                  <a:lnTo>
                    <a:pt x="210" y="421"/>
                  </a:lnTo>
                  <a:lnTo>
                    <a:pt x="210" y="332"/>
                  </a:lnTo>
                  <a:lnTo>
                    <a:pt x="194" y="330"/>
                  </a:lnTo>
                  <a:lnTo>
                    <a:pt x="171" y="324"/>
                  </a:lnTo>
                  <a:lnTo>
                    <a:pt x="149" y="314"/>
                  </a:lnTo>
                  <a:lnTo>
                    <a:pt x="131" y="300"/>
                  </a:lnTo>
                  <a:lnTo>
                    <a:pt x="113" y="282"/>
                  </a:lnTo>
                  <a:lnTo>
                    <a:pt x="102" y="261"/>
                  </a:lnTo>
                  <a:lnTo>
                    <a:pt x="94" y="239"/>
                  </a:lnTo>
                  <a:lnTo>
                    <a:pt x="90" y="215"/>
                  </a:lnTo>
                  <a:lnTo>
                    <a:pt x="90" y="191"/>
                  </a:lnTo>
                  <a:lnTo>
                    <a:pt x="97" y="170"/>
                  </a:lnTo>
                  <a:lnTo>
                    <a:pt x="104" y="149"/>
                  </a:lnTo>
                  <a:lnTo>
                    <a:pt x="118" y="128"/>
                  </a:lnTo>
                  <a:lnTo>
                    <a:pt x="136" y="113"/>
                  </a:lnTo>
                  <a:lnTo>
                    <a:pt x="155" y="99"/>
                  </a:lnTo>
                  <a:lnTo>
                    <a:pt x="179" y="91"/>
                  </a:lnTo>
                  <a:lnTo>
                    <a:pt x="200" y="87"/>
                  </a:lnTo>
                  <a:lnTo>
                    <a:pt x="210" y="89"/>
                  </a:lnTo>
                  <a:close/>
                </a:path>
              </a:pathLst>
            </a:custGeom>
            <a:blipFill rotWithShape="0">
              <a:blip r:embed="rId8"/>
              <a:srcRect/>
              <a:stretch/>
            </a:blip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80" name=""/>
            <p:cNvSpPr/>
            <p:nvPr/>
          </p:nvSpPr>
          <p:spPr>
            <a:xfrm>
              <a:off x="1342440" y="402120"/>
              <a:ext cx="71640" cy="130680"/>
            </a:xfrm>
            <a:custGeom>
              <a:avLst/>
              <a:gdLst/>
              <a:ahLst/>
              <a:rect l="l" t="t" r="r" b="b"/>
              <a:pathLst>
                <a:path w="560" h="1130">
                  <a:moveTo>
                    <a:pt x="0" y="984"/>
                  </a:moveTo>
                  <a:lnTo>
                    <a:pt x="0" y="1130"/>
                  </a:lnTo>
                  <a:lnTo>
                    <a:pt x="26" y="1128"/>
                  </a:lnTo>
                  <a:lnTo>
                    <a:pt x="83" y="1121"/>
                  </a:lnTo>
                  <a:lnTo>
                    <a:pt x="142" y="1110"/>
                  </a:lnTo>
                  <a:lnTo>
                    <a:pt x="199" y="1092"/>
                  </a:lnTo>
                  <a:lnTo>
                    <a:pt x="252" y="1068"/>
                  </a:lnTo>
                  <a:lnTo>
                    <a:pt x="301" y="1039"/>
                  </a:lnTo>
                  <a:lnTo>
                    <a:pt x="348" y="1007"/>
                  </a:lnTo>
                  <a:lnTo>
                    <a:pt x="389" y="971"/>
                  </a:lnTo>
                  <a:lnTo>
                    <a:pt x="426" y="930"/>
                  </a:lnTo>
                  <a:lnTo>
                    <a:pt x="460" y="887"/>
                  </a:lnTo>
                  <a:lnTo>
                    <a:pt x="489" y="841"/>
                  </a:lnTo>
                  <a:lnTo>
                    <a:pt x="513" y="793"/>
                  </a:lnTo>
                  <a:lnTo>
                    <a:pt x="533" y="743"/>
                  </a:lnTo>
                  <a:lnTo>
                    <a:pt x="547" y="691"/>
                  </a:lnTo>
                  <a:lnTo>
                    <a:pt x="557" y="638"/>
                  </a:lnTo>
                  <a:lnTo>
                    <a:pt x="560" y="584"/>
                  </a:lnTo>
                  <a:lnTo>
                    <a:pt x="560" y="529"/>
                  </a:lnTo>
                  <a:lnTo>
                    <a:pt x="555" y="476"/>
                  </a:lnTo>
                  <a:lnTo>
                    <a:pt x="542" y="421"/>
                  </a:lnTo>
                  <a:lnTo>
                    <a:pt x="525" y="367"/>
                  </a:lnTo>
                  <a:lnTo>
                    <a:pt x="503" y="314"/>
                  </a:lnTo>
                  <a:lnTo>
                    <a:pt x="476" y="267"/>
                  </a:lnTo>
                  <a:lnTo>
                    <a:pt x="444" y="222"/>
                  </a:lnTo>
                  <a:lnTo>
                    <a:pt x="411" y="178"/>
                  </a:lnTo>
                  <a:lnTo>
                    <a:pt x="371" y="141"/>
                  </a:lnTo>
                  <a:lnTo>
                    <a:pt x="330" y="107"/>
                  </a:lnTo>
                  <a:lnTo>
                    <a:pt x="285" y="77"/>
                  </a:lnTo>
                  <a:lnTo>
                    <a:pt x="236" y="52"/>
                  </a:lnTo>
                  <a:lnTo>
                    <a:pt x="186" y="32"/>
                  </a:lnTo>
                  <a:lnTo>
                    <a:pt x="134" y="16"/>
                  </a:lnTo>
                  <a:lnTo>
                    <a:pt x="79" y="6"/>
                  </a:lnTo>
                  <a:lnTo>
                    <a:pt x="24" y="0"/>
                  </a:lnTo>
                  <a:lnTo>
                    <a:pt x="0" y="0"/>
                  </a:lnTo>
                  <a:lnTo>
                    <a:pt x="0" y="147"/>
                  </a:lnTo>
                  <a:lnTo>
                    <a:pt x="27" y="147"/>
                  </a:lnTo>
                  <a:lnTo>
                    <a:pt x="69" y="152"/>
                  </a:lnTo>
                  <a:lnTo>
                    <a:pt x="110" y="162"/>
                  </a:lnTo>
                  <a:lnTo>
                    <a:pt x="147" y="176"/>
                  </a:lnTo>
                  <a:lnTo>
                    <a:pt x="186" y="196"/>
                  </a:lnTo>
                  <a:lnTo>
                    <a:pt x="219" y="215"/>
                  </a:lnTo>
                  <a:lnTo>
                    <a:pt x="251" y="241"/>
                  </a:lnTo>
                  <a:lnTo>
                    <a:pt x="278" y="269"/>
                  </a:lnTo>
                  <a:lnTo>
                    <a:pt x="304" y="296"/>
                  </a:lnTo>
                  <a:lnTo>
                    <a:pt x="327" y="328"/>
                  </a:lnTo>
                  <a:lnTo>
                    <a:pt x="348" y="362"/>
                  </a:lnTo>
                  <a:lnTo>
                    <a:pt x="364" y="395"/>
                  </a:lnTo>
                  <a:lnTo>
                    <a:pt x="379" y="429"/>
                  </a:lnTo>
                  <a:lnTo>
                    <a:pt x="390" y="464"/>
                  </a:lnTo>
                  <a:lnTo>
                    <a:pt x="397" y="495"/>
                  </a:lnTo>
                  <a:lnTo>
                    <a:pt x="403" y="529"/>
                  </a:lnTo>
                  <a:lnTo>
                    <a:pt x="405" y="565"/>
                  </a:lnTo>
                  <a:lnTo>
                    <a:pt x="403" y="602"/>
                  </a:lnTo>
                  <a:lnTo>
                    <a:pt x="398" y="639"/>
                  </a:lnTo>
                  <a:lnTo>
                    <a:pt x="390" y="678"/>
                  </a:lnTo>
                  <a:lnTo>
                    <a:pt x="380" y="715"/>
                  </a:lnTo>
                  <a:lnTo>
                    <a:pt x="364" y="751"/>
                  </a:lnTo>
                  <a:lnTo>
                    <a:pt x="348" y="786"/>
                  </a:lnTo>
                  <a:lnTo>
                    <a:pt x="325" y="822"/>
                  </a:lnTo>
                  <a:lnTo>
                    <a:pt x="300" y="853"/>
                  </a:lnTo>
                  <a:lnTo>
                    <a:pt x="270" y="882"/>
                  </a:lnTo>
                  <a:lnTo>
                    <a:pt x="235" y="910"/>
                  </a:lnTo>
                  <a:lnTo>
                    <a:pt x="197" y="934"/>
                  </a:lnTo>
                  <a:lnTo>
                    <a:pt x="154" y="953"/>
                  </a:lnTo>
                  <a:lnTo>
                    <a:pt x="105" y="969"/>
                  </a:lnTo>
                  <a:lnTo>
                    <a:pt x="55" y="979"/>
                  </a:lnTo>
                  <a:lnTo>
                    <a:pt x="8" y="984"/>
                  </a:lnTo>
                  <a:lnTo>
                    <a:pt x="0" y="984"/>
                  </a:lnTo>
                  <a:close/>
                </a:path>
              </a:pathLst>
            </a:custGeom>
            <a:blipFill rotWithShape="0">
              <a:blip r:embed="rId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1269720" y="402120"/>
              <a:ext cx="72720" cy="130680"/>
            </a:xfrm>
            <a:custGeom>
              <a:avLst/>
              <a:gdLst/>
              <a:ahLst/>
              <a:rect l="l" t="t" r="r" b="b"/>
              <a:pathLst>
                <a:path w="568" h="1130">
                  <a:moveTo>
                    <a:pt x="568" y="147"/>
                  </a:moveTo>
                  <a:lnTo>
                    <a:pt x="568" y="0"/>
                  </a:lnTo>
                  <a:lnTo>
                    <a:pt x="534" y="0"/>
                  </a:lnTo>
                  <a:lnTo>
                    <a:pt x="477" y="8"/>
                  </a:lnTo>
                  <a:lnTo>
                    <a:pt x="418" y="21"/>
                  </a:lnTo>
                  <a:lnTo>
                    <a:pt x="361" y="40"/>
                  </a:lnTo>
                  <a:lnTo>
                    <a:pt x="306" y="63"/>
                  </a:lnTo>
                  <a:lnTo>
                    <a:pt x="256" y="92"/>
                  </a:lnTo>
                  <a:lnTo>
                    <a:pt x="210" y="125"/>
                  </a:lnTo>
                  <a:lnTo>
                    <a:pt x="170" y="160"/>
                  </a:lnTo>
                  <a:lnTo>
                    <a:pt x="131" y="202"/>
                  </a:lnTo>
                  <a:lnTo>
                    <a:pt x="98" y="246"/>
                  </a:lnTo>
                  <a:lnTo>
                    <a:pt x="71" y="291"/>
                  </a:lnTo>
                  <a:lnTo>
                    <a:pt x="47" y="340"/>
                  </a:lnTo>
                  <a:lnTo>
                    <a:pt x="27" y="390"/>
                  </a:lnTo>
                  <a:lnTo>
                    <a:pt x="13" y="443"/>
                  </a:lnTo>
                  <a:lnTo>
                    <a:pt x="3" y="495"/>
                  </a:lnTo>
                  <a:lnTo>
                    <a:pt x="0" y="549"/>
                  </a:lnTo>
                  <a:lnTo>
                    <a:pt x="1" y="602"/>
                  </a:lnTo>
                  <a:lnTo>
                    <a:pt x="8" y="657"/>
                  </a:lnTo>
                  <a:lnTo>
                    <a:pt x="19" y="711"/>
                  </a:lnTo>
                  <a:lnTo>
                    <a:pt x="35" y="764"/>
                  </a:lnTo>
                  <a:lnTo>
                    <a:pt x="57" y="814"/>
                  </a:lnTo>
                  <a:lnTo>
                    <a:pt x="84" y="863"/>
                  </a:lnTo>
                  <a:lnTo>
                    <a:pt x="116" y="906"/>
                  </a:lnTo>
                  <a:lnTo>
                    <a:pt x="149" y="948"/>
                  </a:lnTo>
                  <a:lnTo>
                    <a:pt x="189" y="985"/>
                  </a:lnTo>
                  <a:lnTo>
                    <a:pt x="230" y="1021"/>
                  </a:lnTo>
                  <a:lnTo>
                    <a:pt x="275" y="1050"/>
                  </a:lnTo>
                  <a:lnTo>
                    <a:pt x="323" y="1076"/>
                  </a:lnTo>
                  <a:lnTo>
                    <a:pt x="374" y="1096"/>
                  </a:lnTo>
                  <a:lnTo>
                    <a:pt x="426" y="1112"/>
                  </a:lnTo>
                  <a:lnTo>
                    <a:pt x="481" y="1123"/>
                  </a:lnTo>
                  <a:lnTo>
                    <a:pt x="536" y="1130"/>
                  </a:lnTo>
                  <a:lnTo>
                    <a:pt x="568" y="1130"/>
                  </a:lnTo>
                  <a:lnTo>
                    <a:pt x="568" y="984"/>
                  </a:lnTo>
                  <a:lnTo>
                    <a:pt x="531" y="984"/>
                  </a:lnTo>
                  <a:lnTo>
                    <a:pt x="487" y="977"/>
                  </a:lnTo>
                  <a:lnTo>
                    <a:pt x="445" y="966"/>
                  </a:lnTo>
                  <a:lnTo>
                    <a:pt x="408" y="952"/>
                  </a:lnTo>
                  <a:lnTo>
                    <a:pt x="372" y="932"/>
                  </a:lnTo>
                  <a:lnTo>
                    <a:pt x="338" y="910"/>
                  </a:lnTo>
                  <a:lnTo>
                    <a:pt x="307" y="887"/>
                  </a:lnTo>
                  <a:lnTo>
                    <a:pt x="280" y="859"/>
                  </a:lnTo>
                  <a:lnTo>
                    <a:pt x="254" y="829"/>
                  </a:lnTo>
                  <a:lnTo>
                    <a:pt x="230" y="800"/>
                  </a:lnTo>
                  <a:lnTo>
                    <a:pt x="212" y="768"/>
                  </a:lnTo>
                  <a:lnTo>
                    <a:pt x="194" y="735"/>
                  </a:lnTo>
                  <a:lnTo>
                    <a:pt x="181" y="703"/>
                  </a:lnTo>
                  <a:lnTo>
                    <a:pt x="171" y="670"/>
                  </a:lnTo>
                  <a:lnTo>
                    <a:pt x="165" y="638"/>
                  </a:lnTo>
                  <a:lnTo>
                    <a:pt x="160" y="602"/>
                  </a:lnTo>
                  <a:lnTo>
                    <a:pt x="157" y="567"/>
                  </a:lnTo>
                  <a:lnTo>
                    <a:pt x="160" y="529"/>
                  </a:lnTo>
                  <a:lnTo>
                    <a:pt x="163" y="492"/>
                  </a:lnTo>
                  <a:lnTo>
                    <a:pt x="171" y="455"/>
                  </a:lnTo>
                  <a:lnTo>
                    <a:pt x="181" y="417"/>
                  </a:lnTo>
                  <a:lnTo>
                    <a:pt x="194" y="380"/>
                  </a:lnTo>
                  <a:lnTo>
                    <a:pt x="212" y="344"/>
                  </a:lnTo>
                  <a:lnTo>
                    <a:pt x="234" y="310"/>
                  </a:lnTo>
                  <a:lnTo>
                    <a:pt x="262" y="277"/>
                  </a:lnTo>
                  <a:lnTo>
                    <a:pt x="291" y="247"/>
                  </a:lnTo>
                  <a:lnTo>
                    <a:pt x="325" y="220"/>
                  </a:lnTo>
                  <a:lnTo>
                    <a:pt x="364" y="196"/>
                  </a:lnTo>
                  <a:lnTo>
                    <a:pt x="408" y="176"/>
                  </a:lnTo>
                  <a:lnTo>
                    <a:pt x="455" y="160"/>
                  </a:lnTo>
                  <a:lnTo>
                    <a:pt x="505" y="150"/>
                  </a:lnTo>
                  <a:lnTo>
                    <a:pt x="550" y="147"/>
                  </a:lnTo>
                  <a:lnTo>
                    <a:pt x="568" y="147"/>
                  </a:lnTo>
                  <a:close/>
                </a:path>
              </a:pathLst>
            </a:custGeom>
            <a:blipFill rotWithShape="0">
              <a:blip r:embed="rId1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1497240" y="381600"/>
              <a:ext cx="66600" cy="123120"/>
            </a:xfrm>
            <a:custGeom>
              <a:avLst/>
              <a:gdLst/>
              <a:ahLst/>
              <a:rect l="l" t="t" r="r" b="b"/>
              <a:pathLst>
                <a:path w="515" h="1065">
                  <a:moveTo>
                    <a:pt x="0" y="623"/>
                  </a:moveTo>
                  <a:lnTo>
                    <a:pt x="0" y="769"/>
                  </a:lnTo>
                  <a:lnTo>
                    <a:pt x="203" y="756"/>
                  </a:lnTo>
                  <a:lnTo>
                    <a:pt x="345" y="1065"/>
                  </a:lnTo>
                  <a:lnTo>
                    <a:pt x="515" y="1054"/>
                  </a:lnTo>
                  <a:lnTo>
                    <a:pt x="28" y="0"/>
                  </a:lnTo>
                  <a:lnTo>
                    <a:pt x="0" y="2"/>
                  </a:lnTo>
                  <a:lnTo>
                    <a:pt x="0" y="282"/>
                  </a:lnTo>
                  <a:lnTo>
                    <a:pt x="138" y="614"/>
                  </a:lnTo>
                  <a:lnTo>
                    <a:pt x="0" y="623"/>
                  </a:lnTo>
                  <a:close/>
                </a:path>
              </a:pathLst>
            </a:custGeom>
            <a:blipFill rotWithShape="0">
              <a:blip r:embed="rId1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1440000" y="381600"/>
              <a:ext cx="57240" cy="129600"/>
            </a:xfrm>
            <a:custGeom>
              <a:avLst/>
              <a:gdLst/>
              <a:ahLst/>
              <a:rect l="l" t="t" r="r" b="b"/>
              <a:pathLst>
                <a:path w="450" h="1118">
                  <a:moveTo>
                    <a:pt x="450" y="280"/>
                  </a:moveTo>
                  <a:lnTo>
                    <a:pt x="450" y="0"/>
                  </a:lnTo>
                  <a:lnTo>
                    <a:pt x="335" y="8"/>
                  </a:lnTo>
                  <a:lnTo>
                    <a:pt x="0" y="1118"/>
                  </a:lnTo>
                  <a:lnTo>
                    <a:pt x="165" y="1107"/>
                  </a:lnTo>
                  <a:lnTo>
                    <a:pt x="264" y="780"/>
                  </a:lnTo>
                  <a:lnTo>
                    <a:pt x="450" y="767"/>
                  </a:lnTo>
                  <a:lnTo>
                    <a:pt x="450" y="621"/>
                  </a:lnTo>
                  <a:lnTo>
                    <a:pt x="309" y="631"/>
                  </a:lnTo>
                  <a:lnTo>
                    <a:pt x="420" y="207"/>
                  </a:lnTo>
                  <a:lnTo>
                    <a:pt x="422" y="207"/>
                  </a:lnTo>
                  <a:lnTo>
                    <a:pt x="450" y="280"/>
                  </a:lnTo>
                  <a:close/>
                </a:path>
              </a:pathLst>
            </a:custGeom>
            <a:blipFill rotWithShape="0">
              <a:blip r:embed="rId1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1579320" y="380880"/>
              <a:ext cx="138240" cy="130680"/>
            </a:xfrm>
            <a:custGeom>
              <a:avLst/>
              <a:gdLst/>
              <a:ahLst/>
              <a:rect l="l" t="t" r="r" b="b"/>
              <a:pathLst>
                <a:path w="1075" h="1127">
                  <a:moveTo>
                    <a:pt x="1075" y="333"/>
                  </a:moveTo>
                  <a:lnTo>
                    <a:pt x="1056" y="293"/>
                  </a:lnTo>
                  <a:lnTo>
                    <a:pt x="1025" y="243"/>
                  </a:lnTo>
                  <a:lnTo>
                    <a:pt x="1007" y="215"/>
                  </a:lnTo>
                  <a:lnTo>
                    <a:pt x="983" y="188"/>
                  </a:lnTo>
                  <a:lnTo>
                    <a:pt x="955" y="158"/>
                  </a:lnTo>
                  <a:lnTo>
                    <a:pt x="922" y="131"/>
                  </a:lnTo>
                  <a:lnTo>
                    <a:pt x="881" y="99"/>
                  </a:lnTo>
                  <a:lnTo>
                    <a:pt x="837" y="71"/>
                  </a:lnTo>
                  <a:lnTo>
                    <a:pt x="794" y="50"/>
                  </a:lnTo>
                  <a:lnTo>
                    <a:pt x="750" y="34"/>
                  </a:lnTo>
                  <a:lnTo>
                    <a:pt x="708" y="19"/>
                  </a:lnTo>
                  <a:lnTo>
                    <a:pt x="669" y="11"/>
                  </a:lnTo>
                  <a:lnTo>
                    <a:pt x="600" y="2"/>
                  </a:lnTo>
                  <a:lnTo>
                    <a:pt x="543" y="0"/>
                  </a:lnTo>
                  <a:lnTo>
                    <a:pt x="488" y="3"/>
                  </a:lnTo>
                  <a:lnTo>
                    <a:pt x="434" y="14"/>
                  </a:lnTo>
                  <a:lnTo>
                    <a:pt x="381" y="29"/>
                  </a:lnTo>
                  <a:lnTo>
                    <a:pt x="332" y="50"/>
                  </a:lnTo>
                  <a:lnTo>
                    <a:pt x="282" y="73"/>
                  </a:lnTo>
                  <a:lnTo>
                    <a:pt x="237" y="100"/>
                  </a:lnTo>
                  <a:lnTo>
                    <a:pt x="195" y="134"/>
                  </a:lnTo>
                  <a:lnTo>
                    <a:pt x="156" y="172"/>
                  </a:lnTo>
                  <a:lnTo>
                    <a:pt x="120" y="212"/>
                  </a:lnTo>
                  <a:lnTo>
                    <a:pt x="89" y="257"/>
                  </a:lnTo>
                  <a:lnTo>
                    <a:pt x="62" y="302"/>
                  </a:lnTo>
                  <a:lnTo>
                    <a:pt x="40" y="353"/>
                  </a:lnTo>
                  <a:lnTo>
                    <a:pt x="22" y="406"/>
                  </a:lnTo>
                  <a:lnTo>
                    <a:pt x="10" y="461"/>
                  </a:lnTo>
                  <a:lnTo>
                    <a:pt x="2" y="521"/>
                  </a:lnTo>
                  <a:lnTo>
                    <a:pt x="0" y="578"/>
                  </a:lnTo>
                  <a:lnTo>
                    <a:pt x="6" y="633"/>
                  </a:lnTo>
                  <a:lnTo>
                    <a:pt x="15" y="689"/>
                  </a:lnTo>
                  <a:lnTo>
                    <a:pt x="30" y="743"/>
                  </a:lnTo>
                  <a:lnTo>
                    <a:pt x="51" y="793"/>
                  </a:lnTo>
                  <a:lnTo>
                    <a:pt x="75" y="840"/>
                  </a:lnTo>
                  <a:lnTo>
                    <a:pt x="104" y="888"/>
                  </a:lnTo>
                  <a:lnTo>
                    <a:pt x="136" y="929"/>
                  </a:lnTo>
                  <a:lnTo>
                    <a:pt x="174" y="971"/>
                  </a:lnTo>
                  <a:lnTo>
                    <a:pt x="216" y="1007"/>
                  </a:lnTo>
                  <a:lnTo>
                    <a:pt x="258" y="1038"/>
                  </a:lnTo>
                  <a:lnTo>
                    <a:pt x="306" y="1065"/>
                  </a:lnTo>
                  <a:lnTo>
                    <a:pt x="355" y="1089"/>
                  </a:lnTo>
                  <a:lnTo>
                    <a:pt x="407" y="1107"/>
                  </a:lnTo>
                  <a:lnTo>
                    <a:pt x="462" y="1119"/>
                  </a:lnTo>
                  <a:lnTo>
                    <a:pt x="519" y="1127"/>
                  </a:lnTo>
                  <a:lnTo>
                    <a:pt x="585" y="1127"/>
                  </a:lnTo>
                  <a:lnTo>
                    <a:pt x="651" y="1120"/>
                  </a:lnTo>
                  <a:lnTo>
                    <a:pt x="719" y="1105"/>
                  </a:lnTo>
                  <a:lnTo>
                    <a:pt x="787" y="1080"/>
                  </a:lnTo>
                  <a:lnTo>
                    <a:pt x="855" y="1046"/>
                  </a:lnTo>
                  <a:lnTo>
                    <a:pt x="886" y="1024"/>
                  </a:lnTo>
                  <a:lnTo>
                    <a:pt x="918" y="999"/>
                  </a:lnTo>
                  <a:lnTo>
                    <a:pt x="947" y="973"/>
                  </a:lnTo>
                  <a:lnTo>
                    <a:pt x="977" y="942"/>
                  </a:lnTo>
                  <a:lnTo>
                    <a:pt x="1004" y="908"/>
                  </a:lnTo>
                  <a:lnTo>
                    <a:pt x="1030" y="872"/>
                  </a:lnTo>
                  <a:lnTo>
                    <a:pt x="837" y="858"/>
                  </a:lnTo>
                  <a:lnTo>
                    <a:pt x="805" y="888"/>
                  </a:lnTo>
                  <a:lnTo>
                    <a:pt x="770" y="913"/>
                  </a:lnTo>
                  <a:lnTo>
                    <a:pt x="734" y="935"/>
                  </a:lnTo>
                  <a:lnTo>
                    <a:pt x="697" y="953"/>
                  </a:lnTo>
                  <a:lnTo>
                    <a:pt x="656" y="967"/>
                  </a:lnTo>
                  <a:lnTo>
                    <a:pt x="616" y="976"/>
                  </a:lnTo>
                  <a:lnTo>
                    <a:pt x="572" y="981"/>
                  </a:lnTo>
                  <a:lnTo>
                    <a:pt x="531" y="981"/>
                  </a:lnTo>
                  <a:lnTo>
                    <a:pt x="491" y="976"/>
                  </a:lnTo>
                  <a:lnTo>
                    <a:pt x="452" y="967"/>
                  </a:lnTo>
                  <a:lnTo>
                    <a:pt x="417" y="955"/>
                  </a:lnTo>
                  <a:lnTo>
                    <a:pt x="381" y="937"/>
                  </a:lnTo>
                  <a:lnTo>
                    <a:pt x="347" y="918"/>
                  </a:lnTo>
                  <a:lnTo>
                    <a:pt x="316" y="894"/>
                  </a:lnTo>
                  <a:lnTo>
                    <a:pt x="287" y="868"/>
                  </a:lnTo>
                  <a:lnTo>
                    <a:pt x="261" y="838"/>
                  </a:lnTo>
                  <a:lnTo>
                    <a:pt x="235" y="807"/>
                  </a:lnTo>
                  <a:lnTo>
                    <a:pt x="213" y="774"/>
                  </a:lnTo>
                  <a:lnTo>
                    <a:pt x="195" y="736"/>
                  </a:lnTo>
                  <a:lnTo>
                    <a:pt x="182" y="699"/>
                  </a:lnTo>
                  <a:lnTo>
                    <a:pt x="170" y="659"/>
                  </a:lnTo>
                  <a:lnTo>
                    <a:pt x="162" y="618"/>
                  </a:lnTo>
                  <a:lnTo>
                    <a:pt x="161" y="576"/>
                  </a:lnTo>
                  <a:lnTo>
                    <a:pt x="161" y="533"/>
                  </a:lnTo>
                  <a:lnTo>
                    <a:pt x="166" y="492"/>
                  </a:lnTo>
                  <a:lnTo>
                    <a:pt x="174" y="450"/>
                  </a:lnTo>
                  <a:lnTo>
                    <a:pt x="185" y="411"/>
                  </a:lnTo>
                  <a:lnTo>
                    <a:pt x="203" y="372"/>
                  </a:lnTo>
                  <a:lnTo>
                    <a:pt x="221" y="340"/>
                  </a:lnTo>
                  <a:lnTo>
                    <a:pt x="245" y="306"/>
                  </a:lnTo>
                  <a:lnTo>
                    <a:pt x="271" y="277"/>
                  </a:lnTo>
                  <a:lnTo>
                    <a:pt x="298" y="249"/>
                  </a:lnTo>
                  <a:lnTo>
                    <a:pt x="328" y="223"/>
                  </a:lnTo>
                  <a:lnTo>
                    <a:pt x="361" y="201"/>
                  </a:lnTo>
                  <a:lnTo>
                    <a:pt x="395" y="183"/>
                  </a:lnTo>
                  <a:lnTo>
                    <a:pt x="433" y="168"/>
                  </a:lnTo>
                  <a:lnTo>
                    <a:pt x="470" y="156"/>
                  </a:lnTo>
                  <a:lnTo>
                    <a:pt x="509" y="150"/>
                  </a:lnTo>
                  <a:lnTo>
                    <a:pt x="551" y="146"/>
                  </a:lnTo>
                  <a:lnTo>
                    <a:pt x="593" y="146"/>
                  </a:lnTo>
                  <a:lnTo>
                    <a:pt x="624" y="150"/>
                  </a:lnTo>
                  <a:lnTo>
                    <a:pt x="653" y="156"/>
                  </a:lnTo>
                  <a:lnTo>
                    <a:pt x="708" y="173"/>
                  </a:lnTo>
                  <a:lnTo>
                    <a:pt x="755" y="197"/>
                  </a:lnTo>
                  <a:lnTo>
                    <a:pt x="794" y="223"/>
                  </a:lnTo>
                  <a:lnTo>
                    <a:pt x="827" y="251"/>
                  </a:lnTo>
                  <a:lnTo>
                    <a:pt x="852" y="278"/>
                  </a:lnTo>
                  <a:lnTo>
                    <a:pt x="886" y="320"/>
                  </a:lnTo>
                  <a:lnTo>
                    <a:pt x="1075" y="333"/>
                  </a:lnTo>
                  <a:close/>
                </a:path>
              </a:pathLst>
            </a:custGeom>
            <a:blipFill rotWithShape="0">
              <a:blip r:embed="rId1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1733040" y="399240"/>
              <a:ext cx="51120" cy="126000"/>
            </a:xfrm>
            <a:custGeom>
              <a:avLst/>
              <a:gdLst/>
              <a:ahLst/>
              <a:rect l="l" t="t" r="r" b="b"/>
              <a:pathLst>
                <a:path w="398" h="1093">
                  <a:moveTo>
                    <a:pt x="154" y="1093"/>
                  </a:moveTo>
                  <a:lnTo>
                    <a:pt x="398" y="36"/>
                  </a:lnTo>
                  <a:lnTo>
                    <a:pt x="245" y="0"/>
                  </a:lnTo>
                  <a:lnTo>
                    <a:pt x="0" y="1058"/>
                  </a:lnTo>
                  <a:lnTo>
                    <a:pt x="154" y="1093"/>
                  </a:lnTo>
                  <a:close/>
                </a:path>
              </a:pathLst>
            </a:custGeom>
            <a:blipFill rotWithShape="0">
              <a:blip r:embed="rId14"/>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1864440" y="470880"/>
              <a:ext cx="27360" cy="47880"/>
            </a:xfrm>
            <a:custGeom>
              <a:avLst/>
              <a:gdLst/>
              <a:ahLst/>
              <a:rect l="l" t="t" r="r" b="b"/>
              <a:pathLst>
                <a:path w="209" h="417">
                  <a:moveTo>
                    <a:pt x="0" y="330"/>
                  </a:moveTo>
                  <a:lnTo>
                    <a:pt x="0" y="417"/>
                  </a:lnTo>
                  <a:lnTo>
                    <a:pt x="6" y="417"/>
                  </a:lnTo>
                  <a:lnTo>
                    <a:pt x="46" y="412"/>
                  </a:lnTo>
                  <a:lnTo>
                    <a:pt x="83" y="400"/>
                  </a:lnTo>
                  <a:lnTo>
                    <a:pt x="118" y="380"/>
                  </a:lnTo>
                  <a:lnTo>
                    <a:pt x="151" y="353"/>
                  </a:lnTo>
                  <a:lnTo>
                    <a:pt x="176" y="322"/>
                  </a:lnTo>
                  <a:lnTo>
                    <a:pt x="194" y="281"/>
                  </a:lnTo>
                  <a:lnTo>
                    <a:pt x="206" y="241"/>
                  </a:lnTo>
                  <a:lnTo>
                    <a:pt x="209" y="199"/>
                  </a:lnTo>
                  <a:lnTo>
                    <a:pt x="204" y="160"/>
                  </a:lnTo>
                  <a:lnTo>
                    <a:pt x="191" y="121"/>
                  </a:lnTo>
                  <a:lnTo>
                    <a:pt x="170" y="87"/>
                  </a:lnTo>
                  <a:lnTo>
                    <a:pt x="144" y="55"/>
                  </a:lnTo>
                  <a:lnTo>
                    <a:pt x="113" y="31"/>
                  </a:lnTo>
                  <a:lnTo>
                    <a:pt x="73" y="11"/>
                  </a:lnTo>
                  <a:lnTo>
                    <a:pt x="32" y="0"/>
                  </a:lnTo>
                  <a:lnTo>
                    <a:pt x="0" y="0"/>
                  </a:lnTo>
                  <a:lnTo>
                    <a:pt x="0" y="87"/>
                  </a:lnTo>
                  <a:lnTo>
                    <a:pt x="20" y="87"/>
                  </a:lnTo>
                  <a:lnTo>
                    <a:pt x="42" y="92"/>
                  </a:lnTo>
                  <a:lnTo>
                    <a:pt x="63" y="102"/>
                  </a:lnTo>
                  <a:lnTo>
                    <a:pt x="83" y="118"/>
                  </a:lnTo>
                  <a:lnTo>
                    <a:pt x="97" y="136"/>
                  </a:lnTo>
                  <a:lnTo>
                    <a:pt x="109" y="155"/>
                  </a:lnTo>
                  <a:lnTo>
                    <a:pt x="115" y="179"/>
                  </a:lnTo>
                  <a:lnTo>
                    <a:pt x="117" y="201"/>
                  </a:lnTo>
                  <a:lnTo>
                    <a:pt x="117" y="225"/>
                  </a:lnTo>
                  <a:lnTo>
                    <a:pt x="109" y="249"/>
                  </a:lnTo>
                  <a:lnTo>
                    <a:pt x="99" y="270"/>
                  </a:lnTo>
                  <a:lnTo>
                    <a:pt x="83" y="289"/>
                  </a:lnTo>
                  <a:lnTo>
                    <a:pt x="65" y="306"/>
                  </a:lnTo>
                  <a:lnTo>
                    <a:pt x="46" y="317"/>
                  </a:lnTo>
                  <a:lnTo>
                    <a:pt x="24" y="325"/>
                  </a:lnTo>
                  <a:lnTo>
                    <a:pt x="0" y="330"/>
                  </a:lnTo>
                  <a:close/>
                </a:path>
              </a:pathLst>
            </a:custGeom>
            <a:blipFill rotWithShape="0">
              <a:blip r:embed="rId15"/>
              <a:srcRect/>
              <a:stretch/>
            </a:blip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87" name=""/>
            <p:cNvSpPr/>
            <p:nvPr/>
          </p:nvSpPr>
          <p:spPr>
            <a:xfrm>
              <a:off x="1837800" y="470880"/>
              <a:ext cx="26640" cy="47880"/>
            </a:xfrm>
            <a:custGeom>
              <a:avLst/>
              <a:gdLst/>
              <a:ahLst/>
              <a:rect l="l" t="t" r="r" b="b"/>
              <a:pathLst>
                <a:path w="212" h="419">
                  <a:moveTo>
                    <a:pt x="212" y="89"/>
                  </a:moveTo>
                  <a:lnTo>
                    <a:pt x="212" y="2"/>
                  </a:lnTo>
                  <a:lnTo>
                    <a:pt x="202" y="0"/>
                  </a:lnTo>
                  <a:lnTo>
                    <a:pt x="163" y="3"/>
                  </a:lnTo>
                  <a:lnTo>
                    <a:pt x="126" y="18"/>
                  </a:lnTo>
                  <a:lnTo>
                    <a:pt x="90" y="37"/>
                  </a:lnTo>
                  <a:lnTo>
                    <a:pt x="58" y="63"/>
                  </a:lnTo>
                  <a:lnTo>
                    <a:pt x="33" y="94"/>
                  </a:lnTo>
                  <a:lnTo>
                    <a:pt x="15" y="134"/>
                  </a:lnTo>
                  <a:lnTo>
                    <a:pt x="3" y="175"/>
                  </a:lnTo>
                  <a:lnTo>
                    <a:pt x="0" y="217"/>
                  </a:lnTo>
                  <a:lnTo>
                    <a:pt x="5" y="256"/>
                  </a:lnTo>
                  <a:lnTo>
                    <a:pt x="18" y="293"/>
                  </a:lnTo>
                  <a:lnTo>
                    <a:pt x="37" y="329"/>
                  </a:lnTo>
                  <a:lnTo>
                    <a:pt x="65" y="361"/>
                  </a:lnTo>
                  <a:lnTo>
                    <a:pt x="96" y="387"/>
                  </a:lnTo>
                  <a:lnTo>
                    <a:pt x="136" y="404"/>
                  </a:lnTo>
                  <a:lnTo>
                    <a:pt x="177" y="416"/>
                  </a:lnTo>
                  <a:lnTo>
                    <a:pt x="212" y="419"/>
                  </a:lnTo>
                  <a:lnTo>
                    <a:pt x="212" y="332"/>
                  </a:lnTo>
                  <a:lnTo>
                    <a:pt x="212" y="332"/>
                  </a:lnTo>
                  <a:lnTo>
                    <a:pt x="189" y="332"/>
                  </a:lnTo>
                  <a:lnTo>
                    <a:pt x="167" y="324"/>
                  </a:lnTo>
                  <a:lnTo>
                    <a:pt x="146" y="314"/>
                  </a:lnTo>
                  <a:lnTo>
                    <a:pt x="126" y="298"/>
                  </a:lnTo>
                  <a:lnTo>
                    <a:pt x="112" y="280"/>
                  </a:lnTo>
                  <a:lnTo>
                    <a:pt x="102" y="258"/>
                  </a:lnTo>
                  <a:lnTo>
                    <a:pt x="94" y="236"/>
                  </a:lnTo>
                  <a:lnTo>
                    <a:pt x="92" y="212"/>
                  </a:lnTo>
                  <a:lnTo>
                    <a:pt x="94" y="189"/>
                  </a:lnTo>
                  <a:lnTo>
                    <a:pt x="100" y="165"/>
                  </a:lnTo>
                  <a:lnTo>
                    <a:pt x="110" y="144"/>
                  </a:lnTo>
                  <a:lnTo>
                    <a:pt x="126" y="126"/>
                  </a:lnTo>
                  <a:lnTo>
                    <a:pt x="144" y="110"/>
                  </a:lnTo>
                  <a:lnTo>
                    <a:pt x="163" y="99"/>
                  </a:lnTo>
                  <a:lnTo>
                    <a:pt x="185" y="91"/>
                  </a:lnTo>
                  <a:lnTo>
                    <a:pt x="209" y="86"/>
                  </a:lnTo>
                  <a:lnTo>
                    <a:pt x="212" y="89"/>
                  </a:lnTo>
                  <a:close/>
                </a:path>
              </a:pathLst>
            </a:custGeom>
            <a:blipFill rotWithShape="0">
              <a:blip r:embed="rId16"/>
              <a:srcRect/>
              <a:stretch/>
            </a:blip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88" name=""/>
            <p:cNvSpPr/>
            <p:nvPr/>
          </p:nvSpPr>
          <p:spPr>
            <a:xfrm>
              <a:off x="1929960" y="473400"/>
              <a:ext cx="165960" cy="159480"/>
            </a:xfrm>
            <a:custGeom>
              <a:avLst/>
              <a:gdLst/>
              <a:ahLst/>
              <a:rect l="l" t="t" r="r" b="b"/>
              <a:pathLst>
                <a:path w="1298" h="1375">
                  <a:moveTo>
                    <a:pt x="0" y="930"/>
                  </a:moveTo>
                  <a:lnTo>
                    <a:pt x="559" y="0"/>
                  </a:lnTo>
                  <a:lnTo>
                    <a:pt x="695" y="81"/>
                  </a:lnTo>
                  <a:lnTo>
                    <a:pt x="270" y="789"/>
                  </a:lnTo>
                  <a:lnTo>
                    <a:pt x="272" y="792"/>
                  </a:lnTo>
                  <a:lnTo>
                    <a:pt x="1151" y="355"/>
                  </a:lnTo>
                  <a:lnTo>
                    <a:pt x="1298" y="444"/>
                  </a:lnTo>
                  <a:lnTo>
                    <a:pt x="740" y="1375"/>
                  </a:lnTo>
                  <a:lnTo>
                    <a:pt x="604" y="1292"/>
                  </a:lnTo>
                  <a:lnTo>
                    <a:pt x="1036" y="575"/>
                  </a:lnTo>
                  <a:lnTo>
                    <a:pt x="1034" y="572"/>
                  </a:lnTo>
                  <a:lnTo>
                    <a:pt x="140" y="1014"/>
                  </a:lnTo>
                  <a:lnTo>
                    <a:pt x="0" y="930"/>
                  </a:lnTo>
                  <a:close/>
                </a:path>
              </a:pathLst>
            </a:custGeom>
            <a:blipFill rotWithShape="0">
              <a:blip r:embed="rId17"/>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2055240" y="557280"/>
              <a:ext cx="164880" cy="153000"/>
            </a:xfrm>
            <a:custGeom>
              <a:avLst/>
              <a:gdLst/>
              <a:ahLst/>
              <a:rect l="l" t="t" r="r" b="b"/>
              <a:pathLst>
                <a:path w="1287" h="1326">
                  <a:moveTo>
                    <a:pt x="589" y="1326"/>
                  </a:moveTo>
                  <a:lnTo>
                    <a:pt x="617" y="634"/>
                  </a:lnTo>
                  <a:lnTo>
                    <a:pt x="1287" y="494"/>
                  </a:lnTo>
                  <a:lnTo>
                    <a:pt x="1138" y="367"/>
                  </a:lnTo>
                  <a:lnTo>
                    <a:pt x="476" y="515"/>
                  </a:lnTo>
                  <a:lnTo>
                    <a:pt x="474" y="513"/>
                  </a:lnTo>
                  <a:lnTo>
                    <a:pt x="819" y="101"/>
                  </a:lnTo>
                  <a:lnTo>
                    <a:pt x="699" y="0"/>
                  </a:lnTo>
                  <a:lnTo>
                    <a:pt x="0" y="831"/>
                  </a:lnTo>
                  <a:lnTo>
                    <a:pt x="121" y="934"/>
                  </a:lnTo>
                  <a:lnTo>
                    <a:pt x="474" y="513"/>
                  </a:lnTo>
                  <a:lnTo>
                    <a:pt x="476" y="515"/>
                  </a:lnTo>
                  <a:lnTo>
                    <a:pt x="441" y="1200"/>
                  </a:lnTo>
                  <a:lnTo>
                    <a:pt x="589" y="1326"/>
                  </a:lnTo>
                  <a:close/>
                </a:path>
              </a:pathLst>
            </a:custGeom>
            <a:blipFill rotWithShape="0">
              <a:blip r:embed="rId18"/>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2234520" y="666720"/>
              <a:ext cx="51120" cy="101880"/>
            </a:xfrm>
            <a:custGeom>
              <a:avLst/>
              <a:gdLst/>
              <a:ahLst/>
              <a:rect l="l" t="t" r="r" b="b"/>
              <a:pathLst>
                <a:path w="403" h="882">
                  <a:moveTo>
                    <a:pt x="0" y="545"/>
                  </a:moveTo>
                  <a:lnTo>
                    <a:pt x="0" y="882"/>
                  </a:lnTo>
                  <a:lnTo>
                    <a:pt x="403" y="105"/>
                  </a:lnTo>
                  <a:lnTo>
                    <a:pt x="306" y="0"/>
                  </a:lnTo>
                  <a:lnTo>
                    <a:pt x="0" y="118"/>
                  </a:lnTo>
                  <a:lnTo>
                    <a:pt x="0" y="277"/>
                  </a:lnTo>
                  <a:lnTo>
                    <a:pt x="201" y="190"/>
                  </a:lnTo>
                  <a:lnTo>
                    <a:pt x="204" y="192"/>
                  </a:lnTo>
                  <a:lnTo>
                    <a:pt x="0" y="545"/>
                  </a:lnTo>
                  <a:close/>
                </a:path>
              </a:pathLst>
            </a:custGeom>
            <a:blipFill rotWithShape="0">
              <a:blip r:embed="rId1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2135160" y="680760"/>
              <a:ext cx="99360" cy="117720"/>
            </a:xfrm>
            <a:custGeom>
              <a:avLst/>
              <a:gdLst/>
              <a:ahLst/>
              <a:rect l="l" t="t" r="r" b="b"/>
              <a:pathLst>
                <a:path w="777" h="1021">
                  <a:moveTo>
                    <a:pt x="777" y="159"/>
                  </a:moveTo>
                  <a:lnTo>
                    <a:pt x="777" y="0"/>
                  </a:lnTo>
                  <a:lnTo>
                    <a:pt x="0" y="303"/>
                  </a:lnTo>
                  <a:lnTo>
                    <a:pt x="112" y="427"/>
                  </a:lnTo>
                  <a:lnTo>
                    <a:pt x="429" y="303"/>
                  </a:lnTo>
                  <a:lnTo>
                    <a:pt x="693" y="593"/>
                  </a:lnTo>
                  <a:lnTo>
                    <a:pt x="534" y="897"/>
                  </a:lnTo>
                  <a:lnTo>
                    <a:pt x="646" y="1021"/>
                  </a:lnTo>
                  <a:lnTo>
                    <a:pt x="777" y="764"/>
                  </a:lnTo>
                  <a:lnTo>
                    <a:pt x="777" y="427"/>
                  </a:lnTo>
                  <a:lnTo>
                    <a:pt x="764" y="455"/>
                  </a:lnTo>
                  <a:lnTo>
                    <a:pt x="576" y="246"/>
                  </a:lnTo>
                  <a:lnTo>
                    <a:pt x="777" y="159"/>
                  </a:lnTo>
                  <a:close/>
                </a:path>
              </a:pathLst>
            </a:custGeom>
            <a:blipFill rotWithShape="0">
              <a:blip r:embed="rId2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2318400" y="763200"/>
              <a:ext cx="71640" cy="130680"/>
            </a:xfrm>
            <a:custGeom>
              <a:avLst/>
              <a:gdLst/>
              <a:ahLst/>
              <a:rect l="l" t="t" r="r" b="b"/>
              <a:pathLst>
                <a:path w="566" h="1128">
                  <a:moveTo>
                    <a:pt x="0" y="974"/>
                  </a:moveTo>
                  <a:lnTo>
                    <a:pt x="0" y="1128"/>
                  </a:lnTo>
                  <a:lnTo>
                    <a:pt x="32" y="1128"/>
                  </a:lnTo>
                  <a:lnTo>
                    <a:pt x="85" y="1122"/>
                  </a:lnTo>
                  <a:lnTo>
                    <a:pt x="139" y="1112"/>
                  </a:lnTo>
                  <a:lnTo>
                    <a:pt x="192" y="1097"/>
                  </a:lnTo>
                  <a:lnTo>
                    <a:pt x="241" y="1075"/>
                  </a:lnTo>
                  <a:lnTo>
                    <a:pt x="291" y="1049"/>
                  </a:lnTo>
                  <a:lnTo>
                    <a:pt x="338" y="1018"/>
                  </a:lnTo>
                  <a:lnTo>
                    <a:pt x="381" y="982"/>
                  </a:lnTo>
                  <a:lnTo>
                    <a:pt x="421" y="942"/>
                  </a:lnTo>
                  <a:lnTo>
                    <a:pt x="456" y="899"/>
                  </a:lnTo>
                  <a:lnTo>
                    <a:pt x="485" y="854"/>
                  </a:lnTo>
                  <a:lnTo>
                    <a:pt x="511" y="806"/>
                  </a:lnTo>
                  <a:lnTo>
                    <a:pt x="533" y="757"/>
                  </a:lnTo>
                  <a:lnTo>
                    <a:pt x="549" y="706"/>
                  </a:lnTo>
                  <a:lnTo>
                    <a:pt x="561" y="652"/>
                  </a:lnTo>
                  <a:lnTo>
                    <a:pt x="566" y="599"/>
                  </a:lnTo>
                  <a:lnTo>
                    <a:pt x="566" y="544"/>
                  </a:lnTo>
                  <a:lnTo>
                    <a:pt x="563" y="489"/>
                  </a:lnTo>
                  <a:lnTo>
                    <a:pt x="551" y="433"/>
                  </a:lnTo>
                  <a:lnTo>
                    <a:pt x="535" y="380"/>
                  </a:lnTo>
                  <a:lnTo>
                    <a:pt x="513" y="327"/>
                  </a:lnTo>
                  <a:lnTo>
                    <a:pt x="484" y="273"/>
                  </a:lnTo>
                  <a:lnTo>
                    <a:pt x="450" y="223"/>
                  </a:lnTo>
                  <a:lnTo>
                    <a:pt x="412" y="176"/>
                  </a:lnTo>
                  <a:lnTo>
                    <a:pt x="372" y="137"/>
                  </a:lnTo>
                  <a:lnTo>
                    <a:pt x="328" y="102"/>
                  </a:lnTo>
                  <a:lnTo>
                    <a:pt x="281" y="72"/>
                  </a:lnTo>
                  <a:lnTo>
                    <a:pt x="231" y="47"/>
                  </a:lnTo>
                  <a:lnTo>
                    <a:pt x="179" y="27"/>
                  </a:lnTo>
                  <a:lnTo>
                    <a:pt x="129" y="13"/>
                  </a:lnTo>
                  <a:lnTo>
                    <a:pt x="76" y="3"/>
                  </a:lnTo>
                  <a:lnTo>
                    <a:pt x="22" y="0"/>
                  </a:lnTo>
                  <a:lnTo>
                    <a:pt x="0" y="0"/>
                  </a:lnTo>
                  <a:lnTo>
                    <a:pt x="0" y="155"/>
                  </a:lnTo>
                  <a:lnTo>
                    <a:pt x="38" y="155"/>
                  </a:lnTo>
                  <a:lnTo>
                    <a:pt x="77" y="157"/>
                  </a:lnTo>
                  <a:lnTo>
                    <a:pt x="116" y="165"/>
                  </a:lnTo>
                  <a:lnTo>
                    <a:pt x="156" y="176"/>
                  </a:lnTo>
                  <a:lnTo>
                    <a:pt x="194" y="192"/>
                  </a:lnTo>
                  <a:lnTo>
                    <a:pt x="231" y="215"/>
                  </a:lnTo>
                  <a:lnTo>
                    <a:pt x="267" y="238"/>
                  </a:lnTo>
                  <a:lnTo>
                    <a:pt x="300" y="270"/>
                  </a:lnTo>
                  <a:lnTo>
                    <a:pt x="332" y="305"/>
                  </a:lnTo>
                  <a:lnTo>
                    <a:pt x="359" y="349"/>
                  </a:lnTo>
                  <a:lnTo>
                    <a:pt x="383" y="392"/>
                  </a:lnTo>
                  <a:lnTo>
                    <a:pt x="401" y="435"/>
                  </a:lnTo>
                  <a:lnTo>
                    <a:pt x="412" y="479"/>
                  </a:lnTo>
                  <a:lnTo>
                    <a:pt x="419" y="521"/>
                  </a:lnTo>
                  <a:lnTo>
                    <a:pt x="419" y="561"/>
                  </a:lnTo>
                  <a:lnTo>
                    <a:pt x="417" y="603"/>
                  </a:lnTo>
                  <a:lnTo>
                    <a:pt x="409" y="642"/>
                  </a:lnTo>
                  <a:lnTo>
                    <a:pt x="396" y="680"/>
                  </a:lnTo>
                  <a:lnTo>
                    <a:pt x="383" y="717"/>
                  </a:lnTo>
                  <a:lnTo>
                    <a:pt x="365" y="753"/>
                  </a:lnTo>
                  <a:lnTo>
                    <a:pt x="344" y="786"/>
                  </a:lnTo>
                  <a:lnTo>
                    <a:pt x="320" y="816"/>
                  </a:lnTo>
                  <a:lnTo>
                    <a:pt x="294" y="846"/>
                  </a:lnTo>
                  <a:lnTo>
                    <a:pt x="267" y="872"/>
                  </a:lnTo>
                  <a:lnTo>
                    <a:pt x="237" y="895"/>
                  </a:lnTo>
                  <a:lnTo>
                    <a:pt x="207" y="915"/>
                  </a:lnTo>
                  <a:lnTo>
                    <a:pt x="178" y="931"/>
                  </a:lnTo>
                  <a:lnTo>
                    <a:pt x="147" y="945"/>
                  </a:lnTo>
                  <a:lnTo>
                    <a:pt x="113" y="955"/>
                  </a:lnTo>
                  <a:lnTo>
                    <a:pt x="77" y="964"/>
                  </a:lnTo>
                  <a:lnTo>
                    <a:pt x="40" y="971"/>
                  </a:lnTo>
                  <a:lnTo>
                    <a:pt x="3" y="974"/>
                  </a:lnTo>
                  <a:lnTo>
                    <a:pt x="0" y="974"/>
                  </a:lnTo>
                  <a:close/>
                </a:path>
              </a:pathLst>
            </a:custGeom>
            <a:blipFill rotWithShape="0">
              <a:blip r:embed="rId2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2245680" y="763200"/>
              <a:ext cx="72720" cy="130680"/>
            </a:xfrm>
            <a:custGeom>
              <a:avLst/>
              <a:gdLst/>
              <a:ahLst/>
              <a:rect l="l" t="t" r="r" b="b"/>
              <a:pathLst>
                <a:path w="565" h="1128">
                  <a:moveTo>
                    <a:pt x="562" y="155"/>
                  </a:moveTo>
                  <a:lnTo>
                    <a:pt x="562" y="0"/>
                  </a:lnTo>
                  <a:lnTo>
                    <a:pt x="529" y="0"/>
                  </a:lnTo>
                  <a:lnTo>
                    <a:pt x="476" y="5"/>
                  </a:lnTo>
                  <a:lnTo>
                    <a:pt x="422" y="17"/>
                  </a:lnTo>
                  <a:lnTo>
                    <a:pt x="371" y="32"/>
                  </a:lnTo>
                  <a:lnTo>
                    <a:pt x="322" y="53"/>
                  </a:lnTo>
                  <a:lnTo>
                    <a:pt x="272" y="80"/>
                  </a:lnTo>
                  <a:lnTo>
                    <a:pt x="227" y="110"/>
                  </a:lnTo>
                  <a:lnTo>
                    <a:pt x="183" y="145"/>
                  </a:lnTo>
                  <a:lnTo>
                    <a:pt x="146" y="184"/>
                  </a:lnTo>
                  <a:lnTo>
                    <a:pt x="110" y="226"/>
                  </a:lnTo>
                  <a:lnTo>
                    <a:pt x="81" y="272"/>
                  </a:lnTo>
                  <a:lnTo>
                    <a:pt x="55" y="319"/>
                  </a:lnTo>
                  <a:lnTo>
                    <a:pt x="34" y="369"/>
                  </a:lnTo>
                  <a:lnTo>
                    <a:pt x="18" y="419"/>
                  </a:lnTo>
                  <a:lnTo>
                    <a:pt x="6" y="473"/>
                  </a:lnTo>
                  <a:lnTo>
                    <a:pt x="0" y="526"/>
                  </a:lnTo>
                  <a:lnTo>
                    <a:pt x="0" y="581"/>
                  </a:lnTo>
                  <a:lnTo>
                    <a:pt x="3" y="636"/>
                  </a:lnTo>
                  <a:lnTo>
                    <a:pt x="13" y="692"/>
                  </a:lnTo>
                  <a:lnTo>
                    <a:pt x="29" y="747"/>
                  </a:lnTo>
                  <a:lnTo>
                    <a:pt x="51" y="801"/>
                  </a:lnTo>
                  <a:lnTo>
                    <a:pt x="81" y="854"/>
                  </a:lnTo>
                  <a:lnTo>
                    <a:pt x="115" y="903"/>
                  </a:lnTo>
                  <a:lnTo>
                    <a:pt x="150" y="948"/>
                  </a:lnTo>
                  <a:lnTo>
                    <a:pt x="191" y="987"/>
                  </a:lnTo>
                  <a:lnTo>
                    <a:pt x="235" y="1023"/>
                  </a:lnTo>
                  <a:lnTo>
                    <a:pt x="282" y="1053"/>
                  </a:lnTo>
                  <a:lnTo>
                    <a:pt x="332" y="1079"/>
                  </a:lnTo>
                  <a:lnTo>
                    <a:pt x="380" y="1099"/>
                  </a:lnTo>
                  <a:lnTo>
                    <a:pt x="434" y="1112"/>
                  </a:lnTo>
                  <a:lnTo>
                    <a:pt x="487" y="1122"/>
                  </a:lnTo>
                  <a:lnTo>
                    <a:pt x="541" y="1128"/>
                  </a:lnTo>
                  <a:lnTo>
                    <a:pt x="562" y="1128"/>
                  </a:lnTo>
                  <a:lnTo>
                    <a:pt x="565" y="974"/>
                  </a:lnTo>
                  <a:lnTo>
                    <a:pt x="525" y="974"/>
                  </a:lnTo>
                  <a:lnTo>
                    <a:pt x="487" y="971"/>
                  </a:lnTo>
                  <a:lnTo>
                    <a:pt x="448" y="963"/>
                  </a:lnTo>
                  <a:lnTo>
                    <a:pt x="408" y="950"/>
                  </a:lnTo>
                  <a:lnTo>
                    <a:pt x="371" y="935"/>
                  </a:lnTo>
                  <a:lnTo>
                    <a:pt x="333" y="915"/>
                  </a:lnTo>
                  <a:lnTo>
                    <a:pt x="298" y="890"/>
                  </a:lnTo>
                  <a:lnTo>
                    <a:pt x="264" y="858"/>
                  </a:lnTo>
                  <a:lnTo>
                    <a:pt x="233" y="822"/>
                  </a:lnTo>
                  <a:lnTo>
                    <a:pt x="205" y="778"/>
                  </a:lnTo>
                  <a:lnTo>
                    <a:pt x="181" y="735"/>
                  </a:lnTo>
                  <a:lnTo>
                    <a:pt x="163" y="690"/>
                  </a:lnTo>
                  <a:lnTo>
                    <a:pt x="152" y="647"/>
                  </a:lnTo>
                  <a:lnTo>
                    <a:pt x="146" y="603"/>
                  </a:lnTo>
                  <a:lnTo>
                    <a:pt x="146" y="561"/>
                  </a:lnTo>
                  <a:lnTo>
                    <a:pt x="147" y="521"/>
                  </a:lnTo>
                  <a:lnTo>
                    <a:pt x="155" y="481"/>
                  </a:lnTo>
                  <a:lnTo>
                    <a:pt x="168" y="441"/>
                  </a:lnTo>
                  <a:lnTo>
                    <a:pt x="183" y="406"/>
                  </a:lnTo>
                  <a:lnTo>
                    <a:pt x="201" y="370"/>
                  </a:lnTo>
                  <a:lnTo>
                    <a:pt x="223" y="338"/>
                  </a:lnTo>
                  <a:lnTo>
                    <a:pt x="246" y="309"/>
                  </a:lnTo>
                  <a:lnTo>
                    <a:pt x="272" y="281"/>
                  </a:lnTo>
                  <a:lnTo>
                    <a:pt x="298" y="256"/>
                  </a:lnTo>
                  <a:lnTo>
                    <a:pt x="325" y="234"/>
                  </a:lnTo>
                  <a:lnTo>
                    <a:pt x="353" y="215"/>
                  </a:lnTo>
                  <a:lnTo>
                    <a:pt x="382" y="199"/>
                  </a:lnTo>
                  <a:lnTo>
                    <a:pt x="414" y="184"/>
                  </a:lnTo>
                  <a:lnTo>
                    <a:pt x="450" y="173"/>
                  </a:lnTo>
                  <a:lnTo>
                    <a:pt x="485" y="165"/>
                  </a:lnTo>
                  <a:lnTo>
                    <a:pt x="523" y="157"/>
                  </a:lnTo>
                  <a:lnTo>
                    <a:pt x="560" y="155"/>
                  </a:lnTo>
                  <a:lnTo>
                    <a:pt x="562" y="155"/>
                  </a:lnTo>
                  <a:close/>
                </a:path>
              </a:pathLst>
            </a:custGeom>
            <a:blipFill rotWithShape="0">
              <a:blip r:embed="rId2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956880" y="1810440"/>
              <a:ext cx="15120" cy="18360"/>
            </a:xfrm>
            <a:custGeom>
              <a:avLst/>
              <a:gdLst/>
              <a:ahLst/>
              <a:rect l="l" t="t" r="r" b="b"/>
              <a:pathLst>
                <a:path w="120" h="165">
                  <a:moveTo>
                    <a:pt x="0" y="0"/>
                  </a:moveTo>
                  <a:lnTo>
                    <a:pt x="0" y="160"/>
                  </a:lnTo>
                  <a:lnTo>
                    <a:pt x="3" y="160"/>
                  </a:lnTo>
                  <a:lnTo>
                    <a:pt x="39" y="165"/>
                  </a:lnTo>
                  <a:lnTo>
                    <a:pt x="69" y="165"/>
                  </a:lnTo>
                  <a:lnTo>
                    <a:pt x="92" y="162"/>
                  </a:lnTo>
                  <a:lnTo>
                    <a:pt x="107" y="152"/>
                  </a:lnTo>
                  <a:lnTo>
                    <a:pt x="115" y="134"/>
                  </a:lnTo>
                  <a:lnTo>
                    <a:pt x="120" y="110"/>
                  </a:lnTo>
                  <a:lnTo>
                    <a:pt x="118" y="97"/>
                  </a:lnTo>
                  <a:lnTo>
                    <a:pt x="115" y="84"/>
                  </a:lnTo>
                  <a:lnTo>
                    <a:pt x="107" y="73"/>
                  </a:lnTo>
                  <a:lnTo>
                    <a:pt x="95" y="63"/>
                  </a:lnTo>
                  <a:lnTo>
                    <a:pt x="34" y="26"/>
                  </a:lnTo>
                  <a:lnTo>
                    <a:pt x="8" y="5"/>
                  </a:lnTo>
                  <a:lnTo>
                    <a:pt x="0" y="0"/>
                  </a:lnTo>
                  <a:close/>
                </a:path>
              </a:pathLst>
            </a:custGeom>
            <a:blipFill rotWithShape="0">
              <a:blip r:embed="rId23"/>
              <a:srcRect/>
              <a:stretch/>
            </a:blip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195" name=""/>
            <p:cNvSpPr/>
            <p:nvPr/>
          </p:nvSpPr>
          <p:spPr>
            <a:xfrm>
              <a:off x="956880" y="1732680"/>
              <a:ext cx="51120" cy="74160"/>
            </a:xfrm>
            <a:custGeom>
              <a:avLst/>
              <a:gdLst/>
              <a:ahLst/>
              <a:rect l="l" t="t" r="r" b="b"/>
              <a:pathLst>
                <a:path w="398" h="639">
                  <a:moveTo>
                    <a:pt x="0" y="334"/>
                  </a:moveTo>
                  <a:lnTo>
                    <a:pt x="0" y="481"/>
                  </a:lnTo>
                  <a:lnTo>
                    <a:pt x="180" y="639"/>
                  </a:lnTo>
                  <a:lnTo>
                    <a:pt x="398" y="397"/>
                  </a:lnTo>
                  <a:lnTo>
                    <a:pt x="383" y="377"/>
                  </a:lnTo>
                  <a:lnTo>
                    <a:pt x="293" y="270"/>
                  </a:lnTo>
                  <a:lnTo>
                    <a:pt x="241" y="217"/>
                  </a:lnTo>
                  <a:lnTo>
                    <a:pt x="172" y="149"/>
                  </a:lnTo>
                  <a:lnTo>
                    <a:pt x="6" y="2"/>
                  </a:lnTo>
                  <a:lnTo>
                    <a:pt x="0" y="0"/>
                  </a:lnTo>
                  <a:lnTo>
                    <a:pt x="0" y="142"/>
                  </a:lnTo>
                  <a:lnTo>
                    <a:pt x="243" y="363"/>
                  </a:lnTo>
                  <a:lnTo>
                    <a:pt x="146" y="470"/>
                  </a:lnTo>
                  <a:lnTo>
                    <a:pt x="0" y="334"/>
                  </a:lnTo>
                  <a:close/>
                </a:path>
              </a:pathLst>
            </a:custGeom>
            <a:blipFill rotWithShape="0">
              <a:blip r:embed="rId24"/>
              <a:srcRect/>
              <a:stretch/>
            </a:blip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96" name=""/>
            <p:cNvSpPr/>
            <p:nvPr/>
          </p:nvSpPr>
          <p:spPr>
            <a:xfrm>
              <a:off x="930240" y="1712160"/>
              <a:ext cx="26280" cy="36720"/>
            </a:xfrm>
            <a:custGeom>
              <a:avLst/>
              <a:gdLst/>
              <a:ahLst/>
              <a:rect l="l" t="t" r="r" b="b"/>
              <a:pathLst>
                <a:path w="209" h="322">
                  <a:moveTo>
                    <a:pt x="209" y="322"/>
                  </a:moveTo>
                  <a:lnTo>
                    <a:pt x="209" y="180"/>
                  </a:lnTo>
                  <a:lnTo>
                    <a:pt x="5" y="0"/>
                  </a:lnTo>
                  <a:lnTo>
                    <a:pt x="0" y="7"/>
                  </a:lnTo>
                  <a:lnTo>
                    <a:pt x="0" y="239"/>
                  </a:lnTo>
                  <a:lnTo>
                    <a:pt x="59" y="182"/>
                  </a:lnTo>
                  <a:lnTo>
                    <a:pt x="209" y="322"/>
                  </a:lnTo>
                  <a:close/>
                </a:path>
              </a:pathLst>
            </a:custGeom>
            <a:blipFill rotWithShape="0">
              <a:blip r:embed="rId25"/>
              <a:srcRect/>
              <a:stretch/>
            </a:blip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197" name=""/>
            <p:cNvSpPr/>
            <p:nvPr/>
          </p:nvSpPr>
          <p:spPr>
            <a:xfrm>
              <a:off x="930240" y="1748520"/>
              <a:ext cx="26280" cy="80280"/>
            </a:xfrm>
            <a:custGeom>
              <a:avLst/>
              <a:gdLst/>
              <a:ahLst/>
              <a:rect l="l" t="t" r="r" b="b"/>
              <a:pathLst>
                <a:path w="209" h="693">
                  <a:moveTo>
                    <a:pt x="209" y="347"/>
                  </a:moveTo>
                  <a:lnTo>
                    <a:pt x="209" y="200"/>
                  </a:lnTo>
                  <a:lnTo>
                    <a:pt x="0" y="0"/>
                  </a:lnTo>
                  <a:lnTo>
                    <a:pt x="0" y="158"/>
                  </a:lnTo>
                  <a:lnTo>
                    <a:pt x="36" y="188"/>
                  </a:lnTo>
                  <a:lnTo>
                    <a:pt x="0" y="239"/>
                  </a:lnTo>
                  <a:lnTo>
                    <a:pt x="0" y="478"/>
                  </a:lnTo>
                  <a:lnTo>
                    <a:pt x="144" y="608"/>
                  </a:lnTo>
                  <a:lnTo>
                    <a:pt x="154" y="617"/>
                  </a:lnTo>
                  <a:lnTo>
                    <a:pt x="160" y="632"/>
                  </a:lnTo>
                  <a:lnTo>
                    <a:pt x="172" y="655"/>
                  </a:lnTo>
                  <a:lnTo>
                    <a:pt x="178" y="667"/>
                  </a:lnTo>
                  <a:lnTo>
                    <a:pt x="185" y="677"/>
                  </a:lnTo>
                  <a:lnTo>
                    <a:pt x="197" y="687"/>
                  </a:lnTo>
                  <a:lnTo>
                    <a:pt x="209" y="693"/>
                  </a:lnTo>
                  <a:lnTo>
                    <a:pt x="209" y="533"/>
                  </a:lnTo>
                  <a:lnTo>
                    <a:pt x="193" y="513"/>
                  </a:lnTo>
                  <a:lnTo>
                    <a:pt x="146" y="465"/>
                  </a:lnTo>
                  <a:lnTo>
                    <a:pt x="52" y="376"/>
                  </a:lnTo>
                  <a:lnTo>
                    <a:pt x="89" y="329"/>
                  </a:lnTo>
                  <a:lnTo>
                    <a:pt x="134" y="276"/>
                  </a:lnTo>
                  <a:lnTo>
                    <a:pt x="209" y="347"/>
                  </a:lnTo>
                  <a:close/>
                </a:path>
              </a:pathLst>
            </a:custGeom>
            <a:blipFill rotWithShape="0">
              <a:blip r:embed="rId26"/>
              <a:srcRect/>
              <a:stretch/>
            </a:blipFill>
            <a:ln w="0">
              <a:no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Times New Roman"/>
              </a:endParaRPr>
            </a:p>
          </p:txBody>
        </p:sp>
        <p:sp>
          <p:nvSpPr>
            <p:cNvPr id="198" name=""/>
            <p:cNvSpPr/>
            <p:nvPr/>
          </p:nvSpPr>
          <p:spPr>
            <a:xfrm>
              <a:off x="930240" y="1843920"/>
              <a:ext cx="18360" cy="23040"/>
            </a:xfrm>
            <a:custGeom>
              <a:avLst/>
              <a:gdLst/>
              <a:ahLst/>
              <a:rect l="l" t="t" r="r" b="b"/>
              <a:pathLst>
                <a:path w="140" h="196">
                  <a:moveTo>
                    <a:pt x="0" y="36"/>
                  </a:moveTo>
                  <a:lnTo>
                    <a:pt x="0" y="196"/>
                  </a:lnTo>
                  <a:lnTo>
                    <a:pt x="28" y="193"/>
                  </a:lnTo>
                  <a:lnTo>
                    <a:pt x="65" y="183"/>
                  </a:lnTo>
                  <a:lnTo>
                    <a:pt x="92" y="167"/>
                  </a:lnTo>
                  <a:lnTo>
                    <a:pt x="112" y="151"/>
                  </a:lnTo>
                  <a:lnTo>
                    <a:pt x="126" y="135"/>
                  </a:lnTo>
                  <a:lnTo>
                    <a:pt x="134" y="120"/>
                  </a:lnTo>
                  <a:lnTo>
                    <a:pt x="140" y="105"/>
                  </a:lnTo>
                  <a:lnTo>
                    <a:pt x="92" y="0"/>
                  </a:lnTo>
                  <a:lnTo>
                    <a:pt x="71" y="15"/>
                  </a:lnTo>
                  <a:lnTo>
                    <a:pt x="52" y="24"/>
                  </a:lnTo>
                  <a:lnTo>
                    <a:pt x="28" y="34"/>
                  </a:lnTo>
                  <a:lnTo>
                    <a:pt x="2" y="36"/>
                  </a:lnTo>
                  <a:lnTo>
                    <a:pt x="0" y="36"/>
                  </a:lnTo>
                  <a:close/>
                </a:path>
              </a:pathLst>
            </a:custGeom>
            <a:blipFill rotWithShape="0">
              <a:blip r:embed="rId27"/>
              <a:srcRect/>
              <a:stretch/>
            </a:blip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99" name=""/>
            <p:cNvSpPr/>
            <p:nvPr/>
          </p:nvSpPr>
          <p:spPr>
            <a:xfrm>
              <a:off x="840240" y="1712880"/>
              <a:ext cx="90000" cy="154080"/>
            </a:xfrm>
            <a:custGeom>
              <a:avLst/>
              <a:gdLst/>
              <a:ahLst/>
              <a:rect l="l" t="t" r="r" b="b"/>
              <a:pathLst>
                <a:path w="707" h="1329">
                  <a:moveTo>
                    <a:pt x="705" y="232"/>
                  </a:moveTo>
                  <a:lnTo>
                    <a:pt x="705" y="0"/>
                  </a:lnTo>
                  <a:lnTo>
                    <a:pt x="114" y="635"/>
                  </a:lnTo>
                  <a:lnTo>
                    <a:pt x="38" y="654"/>
                  </a:lnTo>
                  <a:lnTo>
                    <a:pt x="0" y="785"/>
                  </a:lnTo>
                  <a:lnTo>
                    <a:pt x="391" y="869"/>
                  </a:lnTo>
                  <a:lnTo>
                    <a:pt x="438" y="759"/>
                  </a:lnTo>
                  <a:lnTo>
                    <a:pt x="252" y="707"/>
                  </a:lnTo>
                  <a:lnTo>
                    <a:pt x="414" y="526"/>
                  </a:lnTo>
                  <a:lnTo>
                    <a:pt x="608" y="698"/>
                  </a:lnTo>
                  <a:lnTo>
                    <a:pt x="587" y="735"/>
                  </a:lnTo>
                  <a:lnTo>
                    <a:pt x="566" y="780"/>
                  </a:lnTo>
                  <a:lnTo>
                    <a:pt x="551" y="832"/>
                  </a:lnTo>
                  <a:lnTo>
                    <a:pt x="541" y="889"/>
                  </a:lnTo>
                  <a:lnTo>
                    <a:pt x="537" y="944"/>
                  </a:lnTo>
                  <a:lnTo>
                    <a:pt x="539" y="1010"/>
                  </a:lnTo>
                  <a:lnTo>
                    <a:pt x="545" y="1083"/>
                  </a:lnTo>
                  <a:lnTo>
                    <a:pt x="556" y="1156"/>
                  </a:lnTo>
                  <a:lnTo>
                    <a:pt x="566" y="1189"/>
                  </a:lnTo>
                  <a:lnTo>
                    <a:pt x="577" y="1222"/>
                  </a:lnTo>
                  <a:lnTo>
                    <a:pt x="588" y="1250"/>
                  </a:lnTo>
                  <a:lnTo>
                    <a:pt x="605" y="1277"/>
                  </a:lnTo>
                  <a:lnTo>
                    <a:pt x="620" y="1298"/>
                  </a:lnTo>
                  <a:lnTo>
                    <a:pt x="640" y="1316"/>
                  </a:lnTo>
                  <a:lnTo>
                    <a:pt x="661" y="1326"/>
                  </a:lnTo>
                  <a:lnTo>
                    <a:pt x="687" y="1329"/>
                  </a:lnTo>
                  <a:lnTo>
                    <a:pt x="705" y="1329"/>
                  </a:lnTo>
                  <a:lnTo>
                    <a:pt x="707" y="1169"/>
                  </a:lnTo>
                  <a:lnTo>
                    <a:pt x="697" y="1165"/>
                  </a:lnTo>
                  <a:lnTo>
                    <a:pt x="687" y="1159"/>
                  </a:lnTo>
                  <a:lnTo>
                    <a:pt x="679" y="1149"/>
                  </a:lnTo>
                  <a:lnTo>
                    <a:pt x="671" y="1136"/>
                  </a:lnTo>
                  <a:lnTo>
                    <a:pt x="668" y="1117"/>
                  </a:lnTo>
                  <a:lnTo>
                    <a:pt x="668" y="1093"/>
                  </a:lnTo>
                  <a:lnTo>
                    <a:pt x="663" y="1021"/>
                  </a:lnTo>
                  <a:lnTo>
                    <a:pt x="660" y="948"/>
                  </a:lnTo>
                  <a:lnTo>
                    <a:pt x="661" y="911"/>
                  </a:lnTo>
                  <a:lnTo>
                    <a:pt x="669" y="869"/>
                  </a:lnTo>
                  <a:lnTo>
                    <a:pt x="681" y="826"/>
                  </a:lnTo>
                  <a:lnTo>
                    <a:pt x="700" y="779"/>
                  </a:lnTo>
                  <a:lnTo>
                    <a:pt x="705" y="785"/>
                  </a:lnTo>
                  <a:lnTo>
                    <a:pt x="705" y="546"/>
                  </a:lnTo>
                  <a:lnTo>
                    <a:pt x="668" y="603"/>
                  </a:lnTo>
                  <a:lnTo>
                    <a:pt x="490" y="439"/>
                  </a:lnTo>
                  <a:lnTo>
                    <a:pt x="572" y="345"/>
                  </a:lnTo>
                  <a:lnTo>
                    <a:pt x="705" y="465"/>
                  </a:lnTo>
                  <a:lnTo>
                    <a:pt x="705" y="307"/>
                  </a:lnTo>
                  <a:lnTo>
                    <a:pt x="668" y="270"/>
                  </a:lnTo>
                  <a:lnTo>
                    <a:pt x="705" y="232"/>
                  </a:lnTo>
                  <a:close/>
                </a:path>
              </a:pathLst>
            </a:custGeom>
            <a:blipFill rotWithShape="0">
              <a:blip r:embed="rId28"/>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1560960" y="2025000"/>
              <a:ext cx="21240" cy="37800"/>
            </a:xfrm>
            <a:custGeom>
              <a:avLst/>
              <a:gdLst/>
              <a:ahLst/>
              <a:rect l="l" t="t" r="r" b="b"/>
              <a:pathLst>
                <a:path w="164" h="330">
                  <a:moveTo>
                    <a:pt x="0" y="271"/>
                  </a:moveTo>
                  <a:lnTo>
                    <a:pt x="0" y="330"/>
                  </a:lnTo>
                  <a:lnTo>
                    <a:pt x="31" y="329"/>
                  </a:lnTo>
                  <a:lnTo>
                    <a:pt x="63" y="318"/>
                  </a:lnTo>
                  <a:lnTo>
                    <a:pt x="91" y="303"/>
                  </a:lnTo>
                  <a:lnTo>
                    <a:pt x="115" y="282"/>
                  </a:lnTo>
                  <a:lnTo>
                    <a:pt x="136" y="258"/>
                  </a:lnTo>
                  <a:lnTo>
                    <a:pt x="152" y="230"/>
                  </a:lnTo>
                  <a:lnTo>
                    <a:pt x="160" y="198"/>
                  </a:lnTo>
                  <a:lnTo>
                    <a:pt x="164" y="164"/>
                  </a:lnTo>
                  <a:lnTo>
                    <a:pt x="160" y="131"/>
                  </a:lnTo>
                  <a:lnTo>
                    <a:pt x="152" y="101"/>
                  </a:lnTo>
                  <a:lnTo>
                    <a:pt x="136" y="72"/>
                  </a:lnTo>
                  <a:lnTo>
                    <a:pt x="115" y="49"/>
                  </a:lnTo>
                  <a:lnTo>
                    <a:pt x="91" y="28"/>
                  </a:lnTo>
                  <a:lnTo>
                    <a:pt x="63" y="13"/>
                  </a:lnTo>
                  <a:lnTo>
                    <a:pt x="31" y="2"/>
                  </a:lnTo>
                  <a:lnTo>
                    <a:pt x="0" y="0"/>
                  </a:lnTo>
                  <a:lnTo>
                    <a:pt x="0" y="62"/>
                  </a:lnTo>
                  <a:lnTo>
                    <a:pt x="20" y="62"/>
                  </a:lnTo>
                  <a:lnTo>
                    <a:pt x="39" y="68"/>
                  </a:lnTo>
                  <a:lnTo>
                    <a:pt x="57" y="78"/>
                  </a:lnTo>
                  <a:lnTo>
                    <a:pt x="73" y="91"/>
                  </a:lnTo>
                  <a:lnTo>
                    <a:pt x="85" y="107"/>
                  </a:lnTo>
                  <a:lnTo>
                    <a:pt x="94" y="125"/>
                  </a:lnTo>
                  <a:lnTo>
                    <a:pt x="101" y="145"/>
                  </a:lnTo>
                  <a:lnTo>
                    <a:pt x="102" y="164"/>
                  </a:lnTo>
                  <a:lnTo>
                    <a:pt x="101" y="186"/>
                  </a:lnTo>
                  <a:lnTo>
                    <a:pt x="94" y="206"/>
                  </a:lnTo>
                  <a:lnTo>
                    <a:pt x="85" y="224"/>
                  </a:lnTo>
                  <a:lnTo>
                    <a:pt x="73" y="240"/>
                  </a:lnTo>
                  <a:lnTo>
                    <a:pt x="57" y="253"/>
                  </a:lnTo>
                  <a:lnTo>
                    <a:pt x="39" y="261"/>
                  </a:lnTo>
                  <a:lnTo>
                    <a:pt x="20" y="269"/>
                  </a:lnTo>
                  <a:lnTo>
                    <a:pt x="0" y="271"/>
                  </a:lnTo>
                  <a:close/>
                </a:path>
              </a:pathLst>
            </a:custGeom>
            <a:blipFill rotWithShape="0">
              <a:blip r:embed="rId29"/>
              <a:srcRect/>
              <a:stretch/>
            </a:blip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01" name=""/>
            <p:cNvSpPr/>
            <p:nvPr/>
          </p:nvSpPr>
          <p:spPr>
            <a:xfrm>
              <a:off x="1539360" y="2025000"/>
              <a:ext cx="21600" cy="37800"/>
            </a:xfrm>
            <a:custGeom>
              <a:avLst/>
              <a:gdLst/>
              <a:ahLst/>
              <a:rect l="l" t="t" r="r" b="b"/>
              <a:pathLst>
                <a:path w="168" h="331">
                  <a:moveTo>
                    <a:pt x="168" y="63"/>
                  </a:moveTo>
                  <a:lnTo>
                    <a:pt x="168" y="1"/>
                  </a:lnTo>
                  <a:lnTo>
                    <a:pt x="166" y="0"/>
                  </a:lnTo>
                  <a:lnTo>
                    <a:pt x="133" y="3"/>
                  </a:lnTo>
                  <a:lnTo>
                    <a:pt x="100" y="14"/>
                  </a:lnTo>
                  <a:lnTo>
                    <a:pt x="73" y="29"/>
                  </a:lnTo>
                  <a:lnTo>
                    <a:pt x="50" y="50"/>
                  </a:lnTo>
                  <a:lnTo>
                    <a:pt x="28" y="73"/>
                  </a:lnTo>
                  <a:lnTo>
                    <a:pt x="14" y="102"/>
                  </a:lnTo>
                  <a:lnTo>
                    <a:pt x="5" y="132"/>
                  </a:lnTo>
                  <a:lnTo>
                    <a:pt x="0" y="165"/>
                  </a:lnTo>
                  <a:lnTo>
                    <a:pt x="5" y="199"/>
                  </a:lnTo>
                  <a:lnTo>
                    <a:pt x="14" y="231"/>
                  </a:lnTo>
                  <a:lnTo>
                    <a:pt x="28" y="259"/>
                  </a:lnTo>
                  <a:lnTo>
                    <a:pt x="50" y="283"/>
                  </a:lnTo>
                  <a:lnTo>
                    <a:pt x="73" y="304"/>
                  </a:lnTo>
                  <a:lnTo>
                    <a:pt x="100" y="319"/>
                  </a:lnTo>
                  <a:lnTo>
                    <a:pt x="133" y="330"/>
                  </a:lnTo>
                  <a:lnTo>
                    <a:pt x="166" y="331"/>
                  </a:lnTo>
                  <a:lnTo>
                    <a:pt x="168" y="331"/>
                  </a:lnTo>
                  <a:lnTo>
                    <a:pt x="168" y="272"/>
                  </a:lnTo>
                  <a:lnTo>
                    <a:pt x="166" y="272"/>
                  </a:lnTo>
                  <a:lnTo>
                    <a:pt x="144" y="270"/>
                  </a:lnTo>
                  <a:lnTo>
                    <a:pt x="125" y="262"/>
                  </a:lnTo>
                  <a:lnTo>
                    <a:pt x="107" y="254"/>
                  </a:lnTo>
                  <a:lnTo>
                    <a:pt x="91" y="241"/>
                  </a:lnTo>
                  <a:lnTo>
                    <a:pt x="79" y="225"/>
                  </a:lnTo>
                  <a:lnTo>
                    <a:pt x="69" y="207"/>
                  </a:lnTo>
                  <a:lnTo>
                    <a:pt x="63" y="187"/>
                  </a:lnTo>
                  <a:lnTo>
                    <a:pt x="61" y="165"/>
                  </a:lnTo>
                  <a:lnTo>
                    <a:pt x="63" y="146"/>
                  </a:lnTo>
                  <a:lnTo>
                    <a:pt x="69" y="126"/>
                  </a:lnTo>
                  <a:lnTo>
                    <a:pt x="79" y="108"/>
                  </a:lnTo>
                  <a:lnTo>
                    <a:pt x="91" y="92"/>
                  </a:lnTo>
                  <a:lnTo>
                    <a:pt x="107" y="79"/>
                  </a:lnTo>
                  <a:lnTo>
                    <a:pt x="125" y="69"/>
                  </a:lnTo>
                  <a:lnTo>
                    <a:pt x="144" y="63"/>
                  </a:lnTo>
                  <a:lnTo>
                    <a:pt x="166" y="61"/>
                  </a:lnTo>
                  <a:lnTo>
                    <a:pt x="168" y="63"/>
                  </a:lnTo>
                  <a:close/>
                </a:path>
              </a:pathLst>
            </a:custGeom>
            <a:blipFill rotWithShape="0">
              <a:blip r:embed="rId30"/>
              <a:srcRect/>
              <a:stretch/>
            </a:blip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202" name=""/>
            <p:cNvSpPr/>
            <p:nvPr/>
          </p:nvSpPr>
          <p:spPr>
            <a:xfrm>
              <a:off x="1724760" y="2027880"/>
              <a:ext cx="45000" cy="105840"/>
            </a:xfrm>
            <a:custGeom>
              <a:avLst/>
              <a:gdLst/>
              <a:ahLst/>
              <a:rect l="l" t="t" r="r" b="b"/>
              <a:pathLst>
                <a:path w="351" h="911">
                  <a:moveTo>
                    <a:pt x="0" y="814"/>
                  </a:moveTo>
                  <a:lnTo>
                    <a:pt x="0" y="911"/>
                  </a:lnTo>
                  <a:lnTo>
                    <a:pt x="6" y="911"/>
                  </a:lnTo>
                  <a:lnTo>
                    <a:pt x="42" y="905"/>
                  </a:lnTo>
                  <a:lnTo>
                    <a:pt x="89" y="890"/>
                  </a:lnTo>
                  <a:lnTo>
                    <a:pt x="146" y="864"/>
                  </a:lnTo>
                  <a:lnTo>
                    <a:pt x="176" y="846"/>
                  </a:lnTo>
                  <a:lnTo>
                    <a:pt x="205" y="827"/>
                  </a:lnTo>
                  <a:lnTo>
                    <a:pt x="233" y="803"/>
                  </a:lnTo>
                  <a:lnTo>
                    <a:pt x="260" y="777"/>
                  </a:lnTo>
                  <a:lnTo>
                    <a:pt x="286" y="747"/>
                  </a:lnTo>
                  <a:lnTo>
                    <a:pt x="308" y="714"/>
                  </a:lnTo>
                  <a:lnTo>
                    <a:pt x="325" y="680"/>
                  </a:lnTo>
                  <a:lnTo>
                    <a:pt x="340" y="641"/>
                  </a:lnTo>
                  <a:lnTo>
                    <a:pt x="348" y="599"/>
                  </a:lnTo>
                  <a:lnTo>
                    <a:pt x="351" y="553"/>
                  </a:lnTo>
                  <a:lnTo>
                    <a:pt x="349" y="506"/>
                  </a:lnTo>
                  <a:lnTo>
                    <a:pt x="343" y="459"/>
                  </a:lnTo>
                  <a:lnTo>
                    <a:pt x="333" y="412"/>
                  </a:lnTo>
                  <a:lnTo>
                    <a:pt x="320" y="362"/>
                  </a:lnTo>
                  <a:lnTo>
                    <a:pt x="304" y="315"/>
                  </a:lnTo>
                  <a:lnTo>
                    <a:pt x="284" y="270"/>
                  </a:lnTo>
                  <a:lnTo>
                    <a:pt x="262" y="225"/>
                  </a:lnTo>
                  <a:lnTo>
                    <a:pt x="239" y="183"/>
                  </a:lnTo>
                  <a:lnTo>
                    <a:pt x="212" y="144"/>
                  </a:lnTo>
                  <a:lnTo>
                    <a:pt x="184" y="108"/>
                  </a:lnTo>
                  <a:lnTo>
                    <a:pt x="154" y="76"/>
                  </a:lnTo>
                  <a:lnTo>
                    <a:pt x="123" y="51"/>
                  </a:lnTo>
                  <a:lnTo>
                    <a:pt x="89" y="27"/>
                  </a:lnTo>
                  <a:lnTo>
                    <a:pt x="55" y="11"/>
                  </a:lnTo>
                  <a:lnTo>
                    <a:pt x="19" y="1"/>
                  </a:lnTo>
                  <a:lnTo>
                    <a:pt x="0" y="0"/>
                  </a:lnTo>
                  <a:lnTo>
                    <a:pt x="0" y="202"/>
                  </a:lnTo>
                  <a:lnTo>
                    <a:pt x="14" y="205"/>
                  </a:lnTo>
                  <a:lnTo>
                    <a:pt x="34" y="215"/>
                  </a:lnTo>
                  <a:lnTo>
                    <a:pt x="53" y="228"/>
                  </a:lnTo>
                  <a:lnTo>
                    <a:pt x="73" y="248"/>
                  </a:lnTo>
                  <a:lnTo>
                    <a:pt x="92" y="275"/>
                  </a:lnTo>
                  <a:lnTo>
                    <a:pt x="113" y="311"/>
                  </a:lnTo>
                  <a:lnTo>
                    <a:pt x="132" y="354"/>
                  </a:lnTo>
                  <a:lnTo>
                    <a:pt x="110" y="370"/>
                  </a:lnTo>
                  <a:lnTo>
                    <a:pt x="87" y="385"/>
                  </a:lnTo>
                  <a:lnTo>
                    <a:pt x="42" y="401"/>
                  </a:lnTo>
                  <a:lnTo>
                    <a:pt x="0" y="412"/>
                  </a:lnTo>
                  <a:lnTo>
                    <a:pt x="0" y="526"/>
                  </a:lnTo>
                  <a:lnTo>
                    <a:pt x="34" y="518"/>
                  </a:lnTo>
                  <a:lnTo>
                    <a:pt x="91" y="503"/>
                  </a:lnTo>
                  <a:lnTo>
                    <a:pt x="134" y="487"/>
                  </a:lnTo>
                  <a:lnTo>
                    <a:pt x="171" y="473"/>
                  </a:lnTo>
                  <a:lnTo>
                    <a:pt x="186" y="516"/>
                  </a:lnTo>
                  <a:lnTo>
                    <a:pt x="194" y="560"/>
                  </a:lnTo>
                  <a:lnTo>
                    <a:pt x="197" y="607"/>
                  </a:lnTo>
                  <a:lnTo>
                    <a:pt x="196" y="631"/>
                  </a:lnTo>
                  <a:lnTo>
                    <a:pt x="191" y="652"/>
                  </a:lnTo>
                  <a:lnTo>
                    <a:pt x="184" y="676"/>
                  </a:lnTo>
                  <a:lnTo>
                    <a:pt x="171" y="700"/>
                  </a:lnTo>
                  <a:lnTo>
                    <a:pt x="158" y="722"/>
                  </a:lnTo>
                  <a:lnTo>
                    <a:pt x="139" y="743"/>
                  </a:lnTo>
                  <a:lnTo>
                    <a:pt x="116" y="761"/>
                  </a:lnTo>
                  <a:lnTo>
                    <a:pt x="91" y="777"/>
                  </a:lnTo>
                  <a:lnTo>
                    <a:pt x="29" y="804"/>
                  </a:lnTo>
                  <a:lnTo>
                    <a:pt x="0" y="814"/>
                  </a:lnTo>
                  <a:close/>
                </a:path>
              </a:pathLst>
            </a:custGeom>
            <a:blipFill rotWithShape="0">
              <a:blip r:embed="rId3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1693080" y="2027880"/>
              <a:ext cx="31680" cy="63720"/>
            </a:xfrm>
            <a:custGeom>
              <a:avLst/>
              <a:gdLst/>
              <a:ahLst/>
              <a:rect l="l" t="t" r="r" b="b"/>
              <a:pathLst>
                <a:path w="253" h="550">
                  <a:moveTo>
                    <a:pt x="253" y="204"/>
                  </a:moveTo>
                  <a:lnTo>
                    <a:pt x="253" y="2"/>
                  </a:lnTo>
                  <a:lnTo>
                    <a:pt x="240" y="0"/>
                  </a:lnTo>
                  <a:lnTo>
                    <a:pt x="206" y="3"/>
                  </a:lnTo>
                  <a:lnTo>
                    <a:pt x="174" y="15"/>
                  </a:lnTo>
                  <a:lnTo>
                    <a:pt x="144" y="31"/>
                  </a:lnTo>
                  <a:lnTo>
                    <a:pt x="117" y="55"/>
                  </a:lnTo>
                  <a:lnTo>
                    <a:pt x="93" y="84"/>
                  </a:lnTo>
                  <a:lnTo>
                    <a:pt x="71" y="116"/>
                  </a:lnTo>
                  <a:lnTo>
                    <a:pt x="54" y="154"/>
                  </a:lnTo>
                  <a:lnTo>
                    <a:pt x="36" y="193"/>
                  </a:lnTo>
                  <a:lnTo>
                    <a:pt x="24" y="235"/>
                  </a:lnTo>
                  <a:lnTo>
                    <a:pt x="15" y="280"/>
                  </a:lnTo>
                  <a:lnTo>
                    <a:pt x="7" y="325"/>
                  </a:lnTo>
                  <a:lnTo>
                    <a:pt x="2" y="371"/>
                  </a:lnTo>
                  <a:lnTo>
                    <a:pt x="0" y="416"/>
                  </a:lnTo>
                  <a:lnTo>
                    <a:pt x="2" y="461"/>
                  </a:lnTo>
                  <a:lnTo>
                    <a:pt x="7" y="502"/>
                  </a:lnTo>
                  <a:lnTo>
                    <a:pt x="16" y="544"/>
                  </a:lnTo>
                  <a:lnTo>
                    <a:pt x="50" y="547"/>
                  </a:lnTo>
                  <a:lnTo>
                    <a:pt x="86" y="550"/>
                  </a:lnTo>
                  <a:lnTo>
                    <a:pt x="154" y="546"/>
                  </a:lnTo>
                  <a:lnTo>
                    <a:pt x="224" y="534"/>
                  </a:lnTo>
                  <a:lnTo>
                    <a:pt x="253" y="528"/>
                  </a:lnTo>
                  <a:lnTo>
                    <a:pt x="253" y="414"/>
                  </a:lnTo>
                  <a:lnTo>
                    <a:pt x="251" y="414"/>
                  </a:lnTo>
                  <a:lnTo>
                    <a:pt x="208" y="418"/>
                  </a:lnTo>
                  <a:lnTo>
                    <a:pt x="172" y="418"/>
                  </a:lnTo>
                  <a:lnTo>
                    <a:pt x="143" y="414"/>
                  </a:lnTo>
                  <a:lnTo>
                    <a:pt x="117" y="410"/>
                  </a:lnTo>
                  <a:lnTo>
                    <a:pt x="119" y="376"/>
                  </a:lnTo>
                  <a:lnTo>
                    <a:pt x="123" y="340"/>
                  </a:lnTo>
                  <a:lnTo>
                    <a:pt x="128" y="301"/>
                  </a:lnTo>
                  <a:lnTo>
                    <a:pt x="143" y="262"/>
                  </a:lnTo>
                  <a:lnTo>
                    <a:pt x="151" y="244"/>
                  </a:lnTo>
                  <a:lnTo>
                    <a:pt x="162" y="228"/>
                  </a:lnTo>
                  <a:lnTo>
                    <a:pt x="174" y="214"/>
                  </a:lnTo>
                  <a:lnTo>
                    <a:pt x="190" y="204"/>
                  </a:lnTo>
                  <a:lnTo>
                    <a:pt x="206" y="201"/>
                  </a:lnTo>
                  <a:lnTo>
                    <a:pt x="227" y="199"/>
                  </a:lnTo>
                  <a:lnTo>
                    <a:pt x="248" y="201"/>
                  </a:lnTo>
                  <a:lnTo>
                    <a:pt x="253" y="204"/>
                  </a:lnTo>
                  <a:close/>
                </a:path>
              </a:pathLst>
            </a:custGeom>
            <a:blipFill rotWithShape="0">
              <a:blip r:embed="rId32"/>
              <a:srcRect/>
              <a:stretch/>
            </a:blip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4" name=""/>
            <p:cNvSpPr/>
            <p:nvPr/>
          </p:nvSpPr>
          <p:spPr>
            <a:xfrm>
              <a:off x="1698120" y="2122560"/>
              <a:ext cx="26640" cy="10800"/>
            </a:xfrm>
            <a:custGeom>
              <a:avLst/>
              <a:gdLst/>
              <a:ahLst/>
              <a:rect l="l" t="t" r="r" b="b"/>
              <a:pathLst>
                <a:path w="211" h="97">
                  <a:moveTo>
                    <a:pt x="211" y="97"/>
                  </a:moveTo>
                  <a:lnTo>
                    <a:pt x="211" y="0"/>
                  </a:lnTo>
                  <a:lnTo>
                    <a:pt x="174" y="13"/>
                  </a:lnTo>
                  <a:lnTo>
                    <a:pt x="109" y="22"/>
                  </a:lnTo>
                  <a:lnTo>
                    <a:pt x="78" y="22"/>
                  </a:lnTo>
                  <a:lnTo>
                    <a:pt x="55" y="21"/>
                  </a:lnTo>
                  <a:lnTo>
                    <a:pt x="36" y="18"/>
                  </a:lnTo>
                  <a:lnTo>
                    <a:pt x="20" y="18"/>
                  </a:lnTo>
                  <a:lnTo>
                    <a:pt x="10" y="21"/>
                  </a:lnTo>
                  <a:lnTo>
                    <a:pt x="4" y="24"/>
                  </a:lnTo>
                  <a:lnTo>
                    <a:pt x="0" y="28"/>
                  </a:lnTo>
                  <a:lnTo>
                    <a:pt x="2" y="34"/>
                  </a:lnTo>
                  <a:lnTo>
                    <a:pt x="8" y="40"/>
                  </a:lnTo>
                  <a:lnTo>
                    <a:pt x="20" y="44"/>
                  </a:lnTo>
                  <a:lnTo>
                    <a:pt x="104" y="76"/>
                  </a:lnTo>
                  <a:lnTo>
                    <a:pt x="162" y="91"/>
                  </a:lnTo>
                  <a:lnTo>
                    <a:pt x="190" y="95"/>
                  </a:lnTo>
                  <a:lnTo>
                    <a:pt x="211" y="97"/>
                  </a:lnTo>
                  <a:close/>
                </a:path>
              </a:pathLst>
            </a:custGeom>
            <a:blipFill rotWithShape="0">
              <a:blip r:embed="rId33"/>
              <a:srcRect/>
              <a:stretch/>
            </a:blip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05" name=""/>
            <p:cNvSpPr/>
            <p:nvPr/>
          </p:nvSpPr>
          <p:spPr>
            <a:xfrm>
              <a:off x="2337120" y="1747440"/>
              <a:ext cx="31320" cy="27720"/>
            </a:xfrm>
            <a:custGeom>
              <a:avLst/>
              <a:gdLst/>
              <a:ahLst/>
              <a:rect l="l" t="t" r="r" b="b"/>
              <a:pathLst>
                <a:path w="243" h="242">
                  <a:moveTo>
                    <a:pt x="0" y="121"/>
                  </a:moveTo>
                  <a:lnTo>
                    <a:pt x="2" y="96"/>
                  </a:lnTo>
                  <a:lnTo>
                    <a:pt x="8" y="74"/>
                  </a:lnTo>
                  <a:lnTo>
                    <a:pt x="20" y="53"/>
                  </a:lnTo>
                  <a:lnTo>
                    <a:pt x="36" y="35"/>
                  </a:lnTo>
                  <a:lnTo>
                    <a:pt x="54" y="21"/>
                  </a:lnTo>
                  <a:lnTo>
                    <a:pt x="73" y="9"/>
                  </a:lnTo>
                  <a:lnTo>
                    <a:pt x="97" y="3"/>
                  </a:lnTo>
                  <a:lnTo>
                    <a:pt x="120" y="0"/>
                  </a:lnTo>
                  <a:lnTo>
                    <a:pt x="144" y="3"/>
                  </a:lnTo>
                  <a:lnTo>
                    <a:pt x="168" y="9"/>
                  </a:lnTo>
                  <a:lnTo>
                    <a:pt x="188" y="21"/>
                  </a:lnTo>
                  <a:lnTo>
                    <a:pt x="207" y="35"/>
                  </a:lnTo>
                  <a:lnTo>
                    <a:pt x="222" y="53"/>
                  </a:lnTo>
                  <a:lnTo>
                    <a:pt x="233" y="74"/>
                  </a:lnTo>
                  <a:lnTo>
                    <a:pt x="239" y="96"/>
                  </a:lnTo>
                  <a:lnTo>
                    <a:pt x="243" y="121"/>
                  </a:lnTo>
                  <a:lnTo>
                    <a:pt x="239" y="145"/>
                  </a:lnTo>
                  <a:lnTo>
                    <a:pt x="233" y="168"/>
                  </a:lnTo>
                  <a:lnTo>
                    <a:pt x="222" y="189"/>
                  </a:lnTo>
                  <a:lnTo>
                    <a:pt x="207" y="207"/>
                  </a:lnTo>
                  <a:lnTo>
                    <a:pt x="188" y="222"/>
                  </a:lnTo>
                  <a:lnTo>
                    <a:pt x="168" y="233"/>
                  </a:lnTo>
                  <a:lnTo>
                    <a:pt x="144" y="240"/>
                  </a:lnTo>
                  <a:lnTo>
                    <a:pt x="120" y="242"/>
                  </a:lnTo>
                  <a:lnTo>
                    <a:pt x="97" y="240"/>
                  </a:lnTo>
                  <a:lnTo>
                    <a:pt x="73" y="233"/>
                  </a:lnTo>
                  <a:lnTo>
                    <a:pt x="54" y="222"/>
                  </a:lnTo>
                  <a:lnTo>
                    <a:pt x="36" y="207"/>
                  </a:lnTo>
                  <a:lnTo>
                    <a:pt x="20" y="189"/>
                  </a:lnTo>
                  <a:lnTo>
                    <a:pt x="8" y="168"/>
                  </a:lnTo>
                  <a:lnTo>
                    <a:pt x="2" y="145"/>
                  </a:lnTo>
                  <a:lnTo>
                    <a:pt x="0" y="121"/>
                  </a:lnTo>
                  <a:close/>
                </a:path>
              </a:pathLst>
            </a:custGeom>
            <a:blipFill rotWithShape="0">
              <a:blip r:embed="rId34"/>
              <a:srcRect/>
              <a:stretch/>
            </a:blip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6" name=""/>
            <p:cNvSpPr/>
            <p:nvPr/>
          </p:nvSpPr>
          <p:spPr>
            <a:xfrm>
              <a:off x="2365920" y="1713960"/>
              <a:ext cx="30600" cy="28440"/>
            </a:xfrm>
            <a:custGeom>
              <a:avLst/>
              <a:gdLst/>
              <a:ahLst/>
              <a:rect l="l" t="t" r="r" b="b"/>
              <a:pathLst>
                <a:path w="243" h="243">
                  <a:moveTo>
                    <a:pt x="0" y="123"/>
                  </a:moveTo>
                  <a:lnTo>
                    <a:pt x="2" y="97"/>
                  </a:lnTo>
                  <a:lnTo>
                    <a:pt x="10" y="75"/>
                  </a:lnTo>
                  <a:lnTo>
                    <a:pt x="20" y="53"/>
                  </a:lnTo>
                  <a:lnTo>
                    <a:pt x="36" y="36"/>
                  </a:lnTo>
                  <a:lnTo>
                    <a:pt x="54" y="21"/>
                  </a:lnTo>
                  <a:lnTo>
                    <a:pt x="73" y="10"/>
                  </a:lnTo>
                  <a:lnTo>
                    <a:pt x="97" y="3"/>
                  </a:lnTo>
                  <a:lnTo>
                    <a:pt x="120" y="0"/>
                  </a:lnTo>
                  <a:lnTo>
                    <a:pt x="146" y="3"/>
                  </a:lnTo>
                  <a:lnTo>
                    <a:pt x="169" y="10"/>
                  </a:lnTo>
                  <a:lnTo>
                    <a:pt x="190" y="21"/>
                  </a:lnTo>
                  <a:lnTo>
                    <a:pt x="208" y="36"/>
                  </a:lnTo>
                  <a:lnTo>
                    <a:pt x="221" y="53"/>
                  </a:lnTo>
                  <a:lnTo>
                    <a:pt x="233" y="75"/>
                  </a:lnTo>
                  <a:lnTo>
                    <a:pt x="239" y="97"/>
                  </a:lnTo>
                  <a:lnTo>
                    <a:pt x="243" y="123"/>
                  </a:lnTo>
                  <a:lnTo>
                    <a:pt x="239" y="146"/>
                  </a:lnTo>
                  <a:lnTo>
                    <a:pt x="233" y="170"/>
                  </a:lnTo>
                  <a:lnTo>
                    <a:pt x="221" y="189"/>
                  </a:lnTo>
                  <a:lnTo>
                    <a:pt x="208" y="207"/>
                  </a:lnTo>
                  <a:lnTo>
                    <a:pt x="190" y="223"/>
                  </a:lnTo>
                  <a:lnTo>
                    <a:pt x="169" y="235"/>
                  </a:lnTo>
                  <a:lnTo>
                    <a:pt x="146" y="241"/>
                  </a:lnTo>
                  <a:lnTo>
                    <a:pt x="120" y="243"/>
                  </a:lnTo>
                  <a:lnTo>
                    <a:pt x="97" y="241"/>
                  </a:lnTo>
                  <a:lnTo>
                    <a:pt x="73" y="235"/>
                  </a:lnTo>
                  <a:lnTo>
                    <a:pt x="54" y="223"/>
                  </a:lnTo>
                  <a:lnTo>
                    <a:pt x="36" y="207"/>
                  </a:lnTo>
                  <a:lnTo>
                    <a:pt x="20" y="189"/>
                  </a:lnTo>
                  <a:lnTo>
                    <a:pt x="10" y="170"/>
                  </a:lnTo>
                  <a:lnTo>
                    <a:pt x="2" y="146"/>
                  </a:lnTo>
                  <a:lnTo>
                    <a:pt x="0" y="123"/>
                  </a:lnTo>
                  <a:close/>
                </a:path>
              </a:pathLst>
            </a:custGeom>
            <a:blipFill rotWithShape="0">
              <a:blip r:embed="rId35"/>
              <a:srcRect/>
              <a:stretch/>
            </a:blip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07" name=""/>
            <p:cNvSpPr/>
            <p:nvPr/>
          </p:nvSpPr>
          <p:spPr>
            <a:xfrm>
              <a:off x="2393280" y="1642320"/>
              <a:ext cx="1080" cy="720"/>
            </a:xfrm>
            <a:custGeom>
              <a:avLst/>
              <a:gdLst/>
              <a:ahLst/>
              <a:rect l="l" t="t" r="r" b="b"/>
              <a:pathLst>
                <a:path w="3" h="0">
                  <a:moveTo>
                    <a:pt x="0" y="0"/>
                  </a:moveTo>
                  <a:lnTo>
                    <a:pt x="2" y="0"/>
                  </a:lnTo>
                  <a:lnTo>
                    <a:pt x="3" y="0"/>
                  </a:lnTo>
                  <a:lnTo>
                    <a:pt x="2" y="0"/>
                  </a:lnTo>
                  <a:lnTo>
                    <a:pt x="0" y="0"/>
                  </a:lnTo>
                  <a:close/>
                </a:path>
              </a:pathLst>
            </a:custGeom>
            <a:blipFill rotWithShape="0">
              <a:blip r:embed="rId36"/>
              <a:srcRect/>
              <a:tile tx="0" ty="0" sx="100000" sy="100000" algn="ctr"/>
            </a:blip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208" name=""/>
            <p:cNvSpPr/>
            <p:nvPr/>
          </p:nvSpPr>
          <p:spPr>
            <a:xfrm>
              <a:off x="2287800" y="1528200"/>
              <a:ext cx="117720" cy="113760"/>
            </a:xfrm>
            <a:custGeom>
              <a:avLst/>
              <a:gdLst/>
              <a:ahLst/>
              <a:rect l="l" t="t" r="r" b="b"/>
              <a:pathLst>
                <a:path w="921" h="982">
                  <a:moveTo>
                    <a:pt x="0" y="244"/>
                  </a:moveTo>
                  <a:lnTo>
                    <a:pt x="48" y="144"/>
                  </a:lnTo>
                  <a:lnTo>
                    <a:pt x="86" y="61"/>
                  </a:lnTo>
                  <a:lnTo>
                    <a:pt x="111" y="0"/>
                  </a:lnTo>
                  <a:lnTo>
                    <a:pt x="298" y="186"/>
                  </a:lnTo>
                  <a:lnTo>
                    <a:pt x="571" y="459"/>
                  </a:lnTo>
                  <a:lnTo>
                    <a:pt x="921" y="817"/>
                  </a:lnTo>
                  <a:lnTo>
                    <a:pt x="822" y="982"/>
                  </a:lnTo>
                  <a:lnTo>
                    <a:pt x="147" y="268"/>
                  </a:lnTo>
                  <a:lnTo>
                    <a:pt x="76" y="330"/>
                  </a:lnTo>
                  <a:lnTo>
                    <a:pt x="0" y="244"/>
                  </a:lnTo>
                  <a:close/>
                </a:path>
              </a:pathLst>
            </a:custGeom>
            <a:blipFill rotWithShape="0">
              <a:blip r:embed="rId37"/>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1554840" y="1272240"/>
              <a:ext cx="14400" cy="348840"/>
            </a:xfrm>
            <a:custGeom>
              <a:avLst/>
              <a:gdLst/>
              <a:ahLst/>
              <a:rect l="l" t="t" r="r" b="b"/>
              <a:pathLst>
                <a:path w="108" h="3004">
                  <a:moveTo>
                    <a:pt x="108" y="0"/>
                  </a:moveTo>
                  <a:lnTo>
                    <a:pt x="108" y="3004"/>
                  </a:lnTo>
                  <a:lnTo>
                    <a:pt x="0" y="3004"/>
                  </a:lnTo>
                  <a:lnTo>
                    <a:pt x="0" y="0"/>
                  </a:lnTo>
                  <a:lnTo>
                    <a:pt x="53" y="3"/>
                  </a:lnTo>
                  <a:lnTo>
                    <a:pt x="108" y="0"/>
                  </a:lnTo>
                  <a:close/>
                </a:path>
              </a:pathLst>
            </a:custGeom>
            <a:blipFill rotWithShape="0">
              <a:blip r:embed="rId38"/>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1624320" y="1241280"/>
              <a:ext cx="278640" cy="253440"/>
            </a:xfrm>
            <a:custGeom>
              <a:avLst/>
              <a:gdLst/>
              <a:ahLst/>
              <a:rect l="l" t="t" r="r" b="b"/>
              <a:pathLst>
                <a:path w="2180" h="2181">
                  <a:moveTo>
                    <a:pt x="76" y="0"/>
                  </a:moveTo>
                  <a:lnTo>
                    <a:pt x="2180" y="2101"/>
                  </a:lnTo>
                  <a:lnTo>
                    <a:pt x="2103" y="2181"/>
                  </a:lnTo>
                  <a:lnTo>
                    <a:pt x="0" y="79"/>
                  </a:lnTo>
                  <a:lnTo>
                    <a:pt x="39" y="42"/>
                  </a:lnTo>
                  <a:lnTo>
                    <a:pt x="76" y="0"/>
                  </a:lnTo>
                  <a:close/>
                </a:path>
              </a:pathLst>
            </a:custGeom>
            <a:blipFill rotWithShape="0">
              <a:blip r:embed="rId3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1622520" y="862560"/>
              <a:ext cx="297360" cy="269280"/>
            </a:xfrm>
            <a:custGeom>
              <a:avLst/>
              <a:gdLst/>
              <a:ahLst/>
              <a:rect l="l" t="t" r="r" b="b"/>
              <a:pathLst>
                <a:path w="2321" h="2318">
                  <a:moveTo>
                    <a:pt x="0" y="2242"/>
                  </a:moveTo>
                  <a:lnTo>
                    <a:pt x="2244" y="0"/>
                  </a:lnTo>
                  <a:lnTo>
                    <a:pt x="2321" y="76"/>
                  </a:lnTo>
                  <a:lnTo>
                    <a:pt x="78" y="2318"/>
                  </a:lnTo>
                  <a:lnTo>
                    <a:pt x="41" y="2279"/>
                  </a:lnTo>
                  <a:lnTo>
                    <a:pt x="0" y="2242"/>
                  </a:lnTo>
                  <a:close/>
                </a:path>
              </a:pathLst>
            </a:custGeom>
            <a:blipFill rotWithShape="0">
              <a:blip r:embed="rId4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1554840" y="726120"/>
              <a:ext cx="14400" cy="376560"/>
            </a:xfrm>
            <a:custGeom>
              <a:avLst/>
              <a:gdLst/>
              <a:ahLst/>
              <a:rect l="l" t="t" r="r" b="b"/>
              <a:pathLst>
                <a:path w="108" h="3252">
                  <a:moveTo>
                    <a:pt x="0" y="3252"/>
                  </a:moveTo>
                  <a:lnTo>
                    <a:pt x="0" y="0"/>
                  </a:lnTo>
                  <a:lnTo>
                    <a:pt x="108" y="0"/>
                  </a:lnTo>
                  <a:lnTo>
                    <a:pt x="108" y="3252"/>
                  </a:lnTo>
                  <a:lnTo>
                    <a:pt x="53" y="3247"/>
                  </a:lnTo>
                  <a:lnTo>
                    <a:pt x="0" y="3252"/>
                  </a:lnTo>
                  <a:close/>
                </a:path>
              </a:pathLst>
            </a:custGeom>
            <a:blipFill rotWithShape="0">
              <a:blip r:embed="rId4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1204920" y="862560"/>
              <a:ext cx="297360" cy="269280"/>
            </a:xfrm>
            <a:custGeom>
              <a:avLst/>
              <a:gdLst/>
              <a:ahLst/>
              <a:rect l="l" t="t" r="r" b="b"/>
              <a:pathLst>
                <a:path w="2322" h="2321">
                  <a:moveTo>
                    <a:pt x="2243" y="2321"/>
                  </a:moveTo>
                  <a:lnTo>
                    <a:pt x="0" y="78"/>
                  </a:lnTo>
                  <a:lnTo>
                    <a:pt x="78" y="0"/>
                  </a:lnTo>
                  <a:lnTo>
                    <a:pt x="2322" y="2244"/>
                  </a:lnTo>
                  <a:lnTo>
                    <a:pt x="2282" y="2281"/>
                  </a:lnTo>
                  <a:lnTo>
                    <a:pt x="2243" y="2321"/>
                  </a:lnTo>
                  <a:close/>
                </a:path>
              </a:pathLst>
            </a:custGeom>
            <a:blipFill rotWithShape="0">
              <a:blip r:embed="rId4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221480" y="1242360"/>
              <a:ext cx="278640" cy="252360"/>
            </a:xfrm>
            <a:custGeom>
              <a:avLst/>
              <a:gdLst/>
              <a:ahLst/>
              <a:rect l="l" t="t" r="r" b="b"/>
              <a:pathLst>
                <a:path w="2177" h="2177">
                  <a:moveTo>
                    <a:pt x="0" y="2099"/>
                  </a:moveTo>
                  <a:lnTo>
                    <a:pt x="2102" y="0"/>
                  </a:lnTo>
                  <a:lnTo>
                    <a:pt x="2136" y="42"/>
                  </a:lnTo>
                  <a:lnTo>
                    <a:pt x="2177" y="79"/>
                  </a:lnTo>
                  <a:lnTo>
                    <a:pt x="76" y="2177"/>
                  </a:lnTo>
                  <a:lnTo>
                    <a:pt x="0" y="2099"/>
                  </a:lnTo>
                  <a:close/>
                </a:path>
              </a:pathLst>
            </a:custGeom>
            <a:blipFill rotWithShape="0">
              <a:blip r:embed="rId4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1468800" y="1103040"/>
              <a:ext cx="186480" cy="169560"/>
            </a:xfrm>
            <a:custGeom>
              <a:avLst/>
              <a:gdLst/>
              <a:ahLst/>
              <a:rect l="l" t="t" r="r" b="b"/>
              <a:pathLst>
                <a:path w="1457" h="1463">
                  <a:moveTo>
                    <a:pt x="728" y="0"/>
                  </a:moveTo>
                  <a:lnTo>
                    <a:pt x="876" y="14"/>
                  </a:lnTo>
                  <a:lnTo>
                    <a:pt x="945" y="32"/>
                  </a:lnTo>
                  <a:lnTo>
                    <a:pt x="1012" y="58"/>
                  </a:lnTo>
                  <a:lnTo>
                    <a:pt x="1077" y="87"/>
                  </a:lnTo>
                  <a:lnTo>
                    <a:pt x="1137" y="125"/>
                  </a:lnTo>
                  <a:lnTo>
                    <a:pt x="1243" y="215"/>
                  </a:lnTo>
                  <a:lnTo>
                    <a:pt x="1334" y="322"/>
                  </a:lnTo>
                  <a:lnTo>
                    <a:pt x="1399" y="447"/>
                  </a:lnTo>
                  <a:lnTo>
                    <a:pt x="1425" y="513"/>
                  </a:lnTo>
                  <a:lnTo>
                    <a:pt x="1442" y="583"/>
                  </a:lnTo>
                  <a:lnTo>
                    <a:pt x="1452" y="656"/>
                  </a:lnTo>
                  <a:lnTo>
                    <a:pt x="1457" y="730"/>
                  </a:lnTo>
                  <a:lnTo>
                    <a:pt x="1442" y="879"/>
                  </a:lnTo>
                  <a:lnTo>
                    <a:pt x="1399" y="1015"/>
                  </a:lnTo>
                  <a:lnTo>
                    <a:pt x="1334" y="1139"/>
                  </a:lnTo>
                  <a:lnTo>
                    <a:pt x="1243" y="1248"/>
                  </a:lnTo>
                  <a:lnTo>
                    <a:pt x="1137" y="1337"/>
                  </a:lnTo>
                  <a:lnTo>
                    <a:pt x="1012" y="1405"/>
                  </a:lnTo>
                  <a:lnTo>
                    <a:pt x="876" y="1447"/>
                  </a:lnTo>
                  <a:lnTo>
                    <a:pt x="728" y="1463"/>
                  </a:lnTo>
                  <a:lnTo>
                    <a:pt x="582" y="1447"/>
                  </a:lnTo>
                  <a:lnTo>
                    <a:pt x="444" y="1405"/>
                  </a:lnTo>
                  <a:lnTo>
                    <a:pt x="321" y="1337"/>
                  </a:lnTo>
                  <a:lnTo>
                    <a:pt x="213" y="1248"/>
                  </a:lnTo>
                  <a:lnTo>
                    <a:pt x="125" y="1139"/>
                  </a:lnTo>
                  <a:lnTo>
                    <a:pt x="57" y="1015"/>
                  </a:lnTo>
                  <a:lnTo>
                    <a:pt x="13" y="879"/>
                  </a:lnTo>
                  <a:lnTo>
                    <a:pt x="0" y="730"/>
                  </a:lnTo>
                  <a:lnTo>
                    <a:pt x="4" y="656"/>
                  </a:lnTo>
                  <a:lnTo>
                    <a:pt x="13" y="583"/>
                  </a:lnTo>
                  <a:lnTo>
                    <a:pt x="33" y="513"/>
                  </a:lnTo>
                  <a:lnTo>
                    <a:pt x="57" y="447"/>
                  </a:lnTo>
                  <a:lnTo>
                    <a:pt x="125" y="322"/>
                  </a:lnTo>
                  <a:lnTo>
                    <a:pt x="213" y="215"/>
                  </a:lnTo>
                  <a:lnTo>
                    <a:pt x="321" y="125"/>
                  </a:lnTo>
                  <a:lnTo>
                    <a:pt x="381" y="87"/>
                  </a:lnTo>
                  <a:lnTo>
                    <a:pt x="444" y="58"/>
                  </a:lnTo>
                  <a:lnTo>
                    <a:pt x="513" y="32"/>
                  </a:lnTo>
                  <a:lnTo>
                    <a:pt x="582" y="14"/>
                  </a:lnTo>
                  <a:lnTo>
                    <a:pt x="654" y="5"/>
                  </a:lnTo>
                  <a:lnTo>
                    <a:pt x="728" y="0"/>
                  </a:lnTo>
                  <a:close/>
                </a:path>
              </a:pathLst>
            </a:custGeom>
            <a:blipFill rotWithShape="0">
              <a:blip r:embed="rId44"/>
              <a:srcRect/>
              <a:stretch/>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1468800" y="1103040"/>
              <a:ext cx="186480" cy="169560"/>
            </a:xfrm>
            <a:custGeom>
              <a:avLst/>
              <a:gdLst/>
              <a:ahLst/>
              <a:rect l="l" t="t" r="r" b="b"/>
              <a:pathLst>
                <a:path w="1457" h="1463">
                  <a:moveTo>
                    <a:pt x="728" y="0"/>
                  </a:moveTo>
                  <a:lnTo>
                    <a:pt x="876" y="14"/>
                  </a:lnTo>
                  <a:lnTo>
                    <a:pt x="945" y="32"/>
                  </a:lnTo>
                  <a:lnTo>
                    <a:pt x="1012" y="58"/>
                  </a:lnTo>
                  <a:lnTo>
                    <a:pt x="1077" y="87"/>
                  </a:lnTo>
                  <a:lnTo>
                    <a:pt x="1137" y="125"/>
                  </a:lnTo>
                  <a:lnTo>
                    <a:pt x="1243" y="215"/>
                  </a:lnTo>
                  <a:lnTo>
                    <a:pt x="1334" y="322"/>
                  </a:lnTo>
                  <a:lnTo>
                    <a:pt x="1399" y="447"/>
                  </a:lnTo>
                  <a:lnTo>
                    <a:pt x="1425" y="513"/>
                  </a:lnTo>
                  <a:lnTo>
                    <a:pt x="1442" y="583"/>
                  </a:lnTo>
                  <a:lnTo>
                    <a:pt x="1452" y="656"/>
                  </a:lnTo>
                  <a:lnTo>
                    <a:pt x="1457" y="730"/>
                  </a:lnTo>
                  <a:lnTo>
                    <a:pt x="1442" y="879"/>
                  </a:lnTo>
                  <a:lnTo>
                    <a:pt x="1399" y="1015"/>
                  </a:lnTo>
                  <a:lnTo>
                    <a:pt x="1334" y="1139"/>
                  </a:lnTo>
                  <a:lnTo>
                    <a:pt x="1243" y="1248"/>
                  </a:lnTo>
                  <a:lnTo>
                    <a:pt x="1137" y="1337"/>
                  </a:lnTo>
                  <a:lnTo>
                    <a:pt x="1012" y="1405"/>
                  </a:lnTo>
                  <a:lnTo>
                    <a:pt x="876" y="1447"/>
                  </a:lnTo>
                  <a:lnTo>
                    <a:pt x="728" y="1463"/>
                  </a:lnTo>
                  <a:lnTo>
                    <a:pt x="582" y="1447"/>
                  </a:lnTo>
                  <a:lnTo>
                    <a:pt x="444" y="1405"/>
                  </a:lnTo>
                  <a:lnTo>
                    <a:pt x="321" y="1337"/>
                  </a:lnTo>
                  <a:lnTo>
                    <a:pt x="213" y="1248"/>
                  </a:lnTo>
                  <a:lnTo>
                    <a:pt x="125" y="1139"/>
                  </a:lnTo>
                  <a:lnTo>
                    <a:pt x="57" y="1015"/>
                  </a:lnTo>
                  <a:lnTo>
                    <a:pt x="13" y="879"/>
                  </a:lnTo>
                  <a:lnTo>
                    <a:pt x="0" y="730"/>
                  </a:lnTo>
                  <a:lnTo>
                    <a:pt x="4" y="656"/>
                  </a:lnTo>
                  <a:lnTo>
                    <a:pt x="13" y="583"/>
                  </a:lnTo>
                  <a:lnTo>
                    <a:pt x="33" y="513"/>
                  </a:lnTo>
                  <a:lnTo>
                    <a:pt x="57" y="447"/>
                  </a:lnTo>
                  <a:lnTo>
                    <a:pt x="125" y="322"/>
                  </a:lnTo>
                  <a:lnTo>
                    <a:pt x="213" y="215"/>
                  </a:lnTo>
                  <a:lnTo>
                    <a:pt x="321" y="125"/>
                  </a:lnTo>
                  <a:lnTo>
                    <a:pt x="381" y="87"/>
                  </a:lnTo>
                  <a:lnTo>
                    <a:pt x="444" y="58"/>
                  </a:lnTo>
                  <a:lnTo>
                    <a:pt x="513" y="32"/>
                  </a:lnTo>
                  <a:lnTo>
                    <a:pt x="582" y="14"/>
                  </a:lnTo>
                  <a:lnTo>
                    <a:pt x="654" y="5"/>
                  </a:lnTo>
                  <a:lnTo>
                    <a:pt x="728" y="0"/>
                  </a:lnTo>
                </a:path>
              </a:pathLst>
            </a:custGeom>
            <a:blipFill rotWithShape="0">
              <a:blip r:embed="rId45"/>
              <a:srcRect/>
              <a:stretch/>
            </a:blip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1562040" y="1001880"/>
              <a:ext cx="205920" cy="372240"/>
            </a:xfrm>
            <a:custGeom>
              <a:avLst/>
              <a:gdLst/>
              <a:ahLst/>
              <a:rect l="l" t="t" r="r" b="b"/>
              <a:pathLst>
                <a:path w="1609" h="3213">
                  <a:moveTo>
                    <a:pt x="0" y="3103"/>
                  </a:moveTo>
                  <a:lnTo>
                    <a:pt x="0" y="3213"/>
                  </a:lnTo>
                  <a:lnTo>
                    <a:pt x="81" y="3211"/>
                  </a:lnTo>
                  <a:lnTo>
                    <a:pt x="164" y="3205"/>
                  </a:lnTo>
                  <a:lnTo>
                    <a:pt x="245" y="3195"/>
                  </a:lnTo>
                  <a:lnTo>
                    <a:pt x="324" y="3179"/>
                  </a:lnTo>
                  <a:lnTo>
                    <a:pt x="400" y="3161"/>
                  </a:lnTo>
                  <a:lnTo>
                    <a:pt x="478" y="3140"/>
                  </a:lnTo>
                  <a:lnTo>
                    <a:pt x="552" y="3116"/>
                  </a:lnTo>
                  <a:lnTo>
                    <a:pt x="625" y="3087"/>
                  </a:lnTo>
                  <a:lnTo>
                    <a:pt x="696" y="3055"/>
                  </a:lnTo>
                  <a:lnTo>
                    <a:pt x="766" y="3019"/>
                  </a:lnTo>
                  <a:lnTo>
                    <a:pt x="832" y="2980"/>
                  </a:lnTo>
                  <a:lnTo>
                    <a:pt x="898" y="2939"/>
                  </a:lnTo>
                  <a:lnTo>
                    <a:pt x="961" y="2894"/>
                  </a:lnTo>
                  <a:lnTo>
                    <a:pt x="1023" y="2846"/>
                  </a:lnTo>
                  <a:lnTo>
                    <a:pt x="1081" y="2795"/>
                  </a:lnTo>
                  <a:lnTo>
                    <a:pt x="1137" y="2742"/>
                  </a:lnTo>
                  <a:lnTo>
                    <a:pt x="1190" y="2685"/>
                  </a:lnTo>
                  <a:lnTo>
                    <a:pt x="1242" y="2627"/>
                  </a:lnTo>
                  <a:lnTo>
                    <a:pt x="1289" y="2567"/>
                  </a:lnTo>
                  <a:lnTo>
                    <a:pt x="1332" y="2504"/>
                  </a:lnTo>
                  <a:lnTo>
                    <a:pt x="1376" y="2439"/>
                  </a:lnTo>
                  <a:lnTo>
                    <a:pt x="1413" y="2370"/>
                  </a:lnTo>
                  <a:lnTo>
                    <a:pt x="1449" y="2301"/>
                  </a:lnTo>
                  <a:lnTo>
                    <a:pt x="1483" y="2230"/>
                  </a:lnTo>
                  <a:lnTo>
                    <a:pt x="1510" y="2157"/>
                  </a:lnTo>
                  <a:lnTo>
                    <a:pt x="1536" y="2083"/>
                  </a:lnTo>
                  <a:lnTo>
                    <a:pt x="1557" y="2007"/>
                  </a:lnTo>
                  <a:lnTo>
                    <a:pt x="1575" y="1928"/>
                  </a:lnTo>
                  <a:lnTo>
                    <a:pt x="1588" y="1850"/>
                  </a:lnTo>
                  <a:lnTo>
                    <a:pt x="1599" y="1769"/>
                  </a:lnTo>
                  <a:lnTo>
                    <a:pt x="1606" y="1688"/>
                  </a:lnTo>
                  <a:lnTo>
                    <a:pt x="1609" y="1604"/>
                  </a:lnTo>
                  <a:lnTo>
                    <a:pt x="1606" y="1521"/>
                  </a:lnTo>
                  <a:lnTo>
                    <a:pt x="1599" y="1441"/>
                  </a:lnTo>
                  <a:lnTo>
                    <a:pt x="1588" y="1360"/>
                  </a:lnTo>
                  <a:lnTo>
                    <a:pt x="1575" y="1281"/>
                  </a:lnTo>
                  <a:lnTo>
                    <a:pt x="1557" y="1202"/>
                  </a:lnTo>
                  <a:lnTo>
                    <a:pt x="1536" y="1128"/>
                  </a:lnTo>
                  <a:lnTo>
                    <a:pt x="1510" y="1052"/>
                  </a:lnTo>
                  <a:lnTo>
                    <a:pt x="1483" y="979"/>
                  </a:lnTo>
                  <a:lnTo>
                    <a:pt x="1449" y="908"/>
                  </a:lnTo>
                  <a:lnTo>
                    <a:pt x="1413" y="840"/>
                  </a:lnTo>
                  <a:lnTo>
                    <a:pt x="1376" y="772"/>
                  </a:lnTo>
                  <a:lnTo>
                    <a:pt x="1332" y="707"/>
                  </a:lnTo>
                  <a:lnTo>
                    <a:pt x="1289" y="644"/>
                  </a:lnTo>
                  <a:lnTo>
                    <a:pt x="1242" y="582"/>
                  </a:lnTo>
                  <a:lnTo>
                    <a:pt x="1190" y="526"/>
                  </a:lnTo>
                  <a:lnTo>
                    <a:pt x="1137" y="470"/>
                  </a:lnTo>
                  <a:lnTo>
                    <a:pt x="1081" y="417"/>
                  </a:lnTo>
                  <a:lnTo>
                    <a:pt x="1023" y="365"/>
                  </a:lnTo>
                  <a:lnTo>
                    <a:pt x="961" y="318"/>
                  </a:lnTo>
                  <a:lnTo>
                    <a:pt x="898" y="273"/>
                  </a:lnTo>
                  <a:lnTo>
                    <a:pt x="832" y="231"/>
                  </a:lnTo>
                  <a:lnTo>
                    <a:pt x="766" y="192"/>
                  </a:lnTo>
                  <a:lnTo>
                    <a:pt x="696" y="158"/>
                  </a:lnTo>
                  <a:lnTo>
                    <a:pt x="625" y="124"/>
                  </a:lnTo>
                  <a:lnTo>
                    <a:pt x="552" y="97"/>
                  </a:lnTo>
                  <a:lnTo>
                    <a:pt x="478" y="71"/>
                  </a:lnTo>
                  <a:lnTo>
                    <a:pt x="400" y="50"/>
                  </a:lnTo>
                  <a:lnTo>
                    <a:pt x="324" y="32"/>
                  </a:lnTo>
                  <a:lnTo>
                    <a:pt x="245" y="18"/>
                  </a:lnTo>
                  <a:lnTo>
                    <a:pt x="164" y="6"/>
                  </a:lnTo>
                  <a:lnTo>
                    <a:pt x="81" y="0"/>
                  </a:lnTo>
                  <a:lnTo>
                    <a:pt x="0" y="0"/>
                  </a:lnTo>
                  <a:lnTo>
                    <a:pt x="0" y="111"/>
                  </a:lnTo>
                  <a:lnTo>
                    <a:pt x="75" y="111"/>
                  </a:lnTo>
                  <a:lnTo>
                    <a:pt x="152" y="116"/>
                  </a:lnTo>
                  <a:lnTo>
                    <a:pt x="227" y="126"/>
                  </a:lnTo>
                  <a:lnTo>
                    <a:pt x="302" y="139"/>
                  </a:lnTo>
                  <a:lnTo>
                    <a:pt x="373" y="157"/>
                  </a:lnTo>
                  <a:lnTo>
                    <a:pt x="444" y="176"/>
                  </a:lnTo>
                  <a:lnTo>
                    <a:pt x="515" y="200"/>
                  </a:lnTo>
                  <a:lnTo>
                    <a:pt x="583" y="225"/>
                  </a:lnTo>
                  <a:lnTo>
                    <a:pt x="649" y="257"/>
                  </a:lnTo>
                  <a:lnTo>
                    <a:pt x="714" y="288"/>
                  </a:lnTo>
                  <a:lnTo>
                    <a:pt x="776" y="326"/>
                  </a:lnTo>
                  <a:lnTo>
                    <a:pt x="837" y="364"/>
                  </a:lnTo>
                  <a:lnTo>
                    <a:pt x="896" y="405"/>
                  </a:lnTo>
                  <a:lnTo>
                    <a:pt x="953" y="450"/>
                  </a:lnTo>
                  <a:lnTo>
                    <a:pt x="1007" y="498"/>
                  </a:lnTo>
                  <a:lnTo>
                    <a:pt x="1060" y="547"/>
                  </a:lnTo>
                  <a:lnTo>
                    <a:pt x="1109" y="598"/>
                  </a:lnTo>
                  <a:lnTo>
                    <a:pt x="1156" y="654"/>
                  </a:lnTo>
                  <a:lnTo>
                    <a:pt x="1200" y="709"/>
                  </a:lnTo>
                  <a:lnTo>
                    <a:pt x="1242" y="768"/>
                  </a:lnTo>
                  <a:lnTo>
                    <a:pt x="1281" y="829"/>
                  </a:lnTo>
                  <a:lnTo>
                    <a:pt x="1316" y="892"/>
                  </a:lnTo>
                  <a:lnTo>
                    <a:pt x="1350" y="955"/>
                  </a:lnTo>
                  <a:lnTo>
                    <a:pt x="1379" y="1023"/>
                  </a:lnTo>
                  <a:lnTo>
                    <a:pt x="1407" y="1089"/>
                  </a:lnTo>
                  <a:lnTo>
                    <a:pt x="1431" y="1159"/>
                  </a:lnTo>
                  <a:lnTo>
                    <a:pt x="1451" y="1230"/>
                  </a:lnTo>
                  <a:lnTo>
                    <a:pt x="1468" y="1303"/>
                  </a:lnTo>
                  <a:lnTo>
                    <a:pt x="1480" y="1376"/>
                  </a:lnTo>
                  <a:lnTo>
                    <a:pt x="1491" y="1450"/>
                  </a:lnTo>
                  <a:lnTo>
                    <a:pt x="1496" y="1528"/>
                  </a:lnTo>
                  <a:lnTo>
                    <a:pt x="1498" y="1604"/>
                  </a:lnTo>
                  <a:lnTo>
                    <a:pt x="1496" y="1682"/>
                  </a:lnTo>
                  <a:lnTo>
                    <a:pt x="1491" y="1756"/>
                  </a:lnTo>
                  <a:lnTo>
                    <a:pt x="1480" y="1832"/>
                  </a:lnTo>
                  <a:lnTo>
                    <a:pt x="1468" y="1907"/>
                  </a:lnTo>
                  <a:lnTo>
                    <a:pt x="1451" y="1979"/>
                  </a:lnTo>
                  <a:lnTo>
                    <a:pt x="1431" y="2051"/>
                  </a:lnTo>
                  <a:lnTo>
                    <a:pt x="1407" y="2120"/>
                  </a:lnTo>
                  <a:lnTo>
                    <a:pt x="1379" y="2188"/>
                  </a:lnTo>
                  <a:lnTo>
                    <a:pt x="1350" y="2253"/>
                  </a:lnTo>
                  <a:lnTo>
                    <a:pt x="1316" y="2319"/>
                  </a:lnTo>
                  <a:lnTo>
                    <a:pt x="1281" y="2382"/>
                  </a:lnTo>
                  <a:lnTo>
                    <a:pt x="1242" y="2444"/>
                  </a:lnTo>
                  <a:lnTo>
                    <a:pt x="1200" y="2501"/>
                  </a:lnTo>
                  <a:lnTo>
                    <a:pt x="1156" y="2557"/>
                  </a:lnTo>
                  <a:lnTo>
                    <a:pt x="1109" y="2613"/>
                  </a:lnTo>
                  <a:lnTo>
                    <a:pt x="1060" y="2664"/>
                  </a:lnTo>
                  <a:lnTo>
                    <a:pt x="1007" y="2714"/>
                  </a:lnTo>
                  <a:lnTo>
                    <a:pt x="953" y="2761"/>
                  </a:lnTo>
                  <a:lnTo>
                    <a:pt x="896" y="2807"/>
                  </a:lnTo>
                  <a:lnTo>
                    <a:pt x="837" y="2847"/>
                  </a:lnTo>
                  <a:lnTo>
                    <a:pt x="776" y="2887"/>
                  </a:lnTo>
                  <a:lnTo>
                    <a:pt x="714" y="2923"/>
                  </a:lnTo>
                  <a:lnTo>
                    <a:pt x="649" y="2957"/>
                  </a:lnTo>
                  <a:lnTo>
                    <a:pt x="583" y="2986"/>
                  </a:lnTo>
                  <a:lnTo>
                    <a:pt x="515" y="3012"/>
                  </a:lnTo>
                  <a:lnTo>
                    <a:pt x="444" y="3035"/>
                  </a:lnTo>
                  <a:lnTo>
                    <a:pt x="373" y="3057"/>
                  </a:lnTo>
                  <a:lnTo>
                    <a:pt x="302" y="3072"/>
                  </a:lnTo>
                  <a:lnTo>
                    <a:pt x="227" y="3087"/>
                  </a:lnTo>
                  <a:lnTo>
                    <a:pt x="152" y="3095"/>
                  </a:lnTo>
                  <a:lnTo>
                    <a:pt x="75" y="3100"/>
                  </a:lnTo>
                  <a:lnTo>
                    <a:pt x="0" y="3103"/>
                  </a:lnTo>
                  <a:close/>
                </a:path>
              </a:pathLst>
            </a:custGeom>
            <a:blipFill rotWithShape="0">
              <a:blip r:embed="rId46"/>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1355760" y="1000800"/>
              <a:ext cx="205920" cy="372960"/>
            </a:xfrm>
            <a:custGeom>
              <a:avLst/>
              <a:gdLst/>
              <a:ahLst/>
              <a:rect l="l" t="t" r="r" b="b"/>
              <a:pathLst>
                <a:path w="1610" h="3215">
                  <a:moveTo>
                    <a:pt x="1610" y="113"/>
                  </a:moveTo>
                  <a:lnTo>
                    <a:pt x="1610" y="2"/>
                  </a:lnTo>
                  <a:lnTo>
                    <a:pt x="1608" y="0"/>
                  </a:lnTo>
                  <a:lnTo>
                    <a:pt x="1525" y="2"/>
                  </a:lnTo>
                  <a:lnTo>
                    <a:pt x="1444" y="8"/>
                  </a:lnTo>
                  <a:lnTo>
                    <a:pt x="1363" y="20"/>
                  </a:lnTo>
                  <a:lnTo>
                    <a:pt x="1285" y="34"/>
                  </a:lnTo>
                  <a:lnTo>
                    <a:pt x="1206" y="52"/>
                  </a:lnTo>
                  <a:lnTo>
                    <a:pt x="1131" y="73"/>
                  </a:lnTo>
                  <a:lnTo>
                    <a:pt x="1055" y="99"/>
                  </a:lnTo>
                  <a:lnTo>
                    <a:pt x="982" y="126"/>
                  </a:lnTo>
                  <a:lnTo>
                    <a:pt x="911" y="160"/>
                  </a:lnTo>
                  <a:lnTo>
                    <a:pt x="840" y="194"/>
                  </a:lnTo>
                  <a:lnTo>
                    <a:pt x="773" y="233"/>
                  </a:lnTo>
                  <a:lnTo>
                    <a:pt x="708" y="275"/>
                  </a:lnTo>
                  <a:lnTo>
                    <a:pt x="645" y="320"/>
                  </a:lnTo>
                  <a:lnTo>
                    <a:pt x="586" y="367"/>
                  </a:lnTo>
                  <a:lnTo>
                    <a:pt x="526" y="419"/>
                  </a:lnTo>
                  <a:lnTo>
                    <a:pt x="471" y="472"/>
                  </a:lnTo>
                  <a:lnTo>
                    <a:pt x="418" y="528"/>
                  </a:lnTo>
                  <a:lnTo>
                    <a:pt x="367" y="584"/>
                  </a:lnTo>
                  <a:lnTo>
                    <a:pt x="319" y="646"/>
                  </a:lnTo>
                  <a:lnTo>
                    <a:pt x="273" y="709"/>
                  </a:lnTo>
                  <a:lnTo>
                    <a:pt x="233" y="774"/>
                  </a:lnTo>
                  <a:lnTo>
                    <a:pt x="193" y="842"/>
                  </a:lnTo>
                  <a:lnTo>
                    <a:pt x="157" y="910"/>
                  </a:lnTo>
                  <a:lnTo>
                    <a:pt x="126" y="981"/>
                  </a:lnTo>
                  <a:lnTo>
                    <a:pt x="97" y="1054"/>
                  </a:lnTo>
                  <a:lnTo>
                    <a:pt x="73" y="1130"/>
                  </a:lnTo>
                  <a:lnTo>
                    <a:pt x="50" y="1204"/>
                  </a:lnTo>
                  <a:lnTo>
                    <a:pt x="32" y="1283"/>
                  </a:lnTo>
                  <a:lnTo>
                    <a:pt x="17" y="1362"/>
                  </a:lnTo>
                  <a:lnTo>
                    <a:pt x="8" y="1443"/>
                  </a:lnTo>
                  <a:lnTo>
                    <a:pt x="1" y="1523"/>
                  </a:lnTo>
                  <a:lnTo>
                    <a:pt x="0" y="1606"/>
                  </a:lnTo>
                  <a:lnTo>
                    <a:pt x="1" y="1690"/>
                  </a:lnTo>
                  <a:lnTo>
                    <a:pt x="8" y="1771"/>
                  </a:lnTo>
                  <a:lnTo>
                    <a:pt x="17" y="1852"/>
                  </a:lnTo>
                  <a:lnTo>
                    <a:pt x="32" y="1930"/>
                  </a:lnTo>
                  <a:lnTo>
                    <a:pt x="50" y="2009"/>
                  </a:lnTo>
                  <a:lnTo>
                    <a:pt x="73" y="2085"/>
                  </a:lnTo>
                  <a:lnTo>
                    <a:pt x="97" y="2159"/>
                  </a:lnTo>
                  <a:lnTo>
                    <a:pt x="126" y="2232"/>
                  </a:lnTo>
                  <a:lnTo>
                    <a:pt x="157" y="2303"/>
                  </a:lnTo>
                  <a:lnTo>
                    <a:pt x="193" y="2372"/>
                  </a:lnTo>
                  <a:lnTo>
                    <a:pt x="233" y="2441"/>
                  </a:lnTo>
                  <a:lnTo>
                    <a:pt x="273" y="2506"/>
                  </a:lnTo>
                  <a:lnTo>
                    <a:pt x="319" y="2569"/>
                  </a:lnTo>
                  <a:lnTo>
                    <a:pt x="367" y="2629"/>
                  </a:lnTo>
                  <a:lnTo>
                    <a:pt x="418" y="2687"/>
                  </a:lnTo>
                  <a:lnTo>
                    <a:pt x="471" y="2744"/>
                  </a:lnTo>
                  <a:lnTo>
                    <a:pt x="526" y="2797"/>
                  </a:lnTo>
                  <a:lnTo>
                    <a:pt x="584" y="2848"/>
                  </a:lnTo>
                  <a:lnTo>
                    <a:pt x="645" y="2896"/>
                  </a:lnTo>
                  <a:lnTo>
                    <a:pt x="708" y="2941"/>
                  </a:lnTo>
                  <a:lnTo>
                    <a:pt x="773" y="2982"/>
                  </a:lnTo>
                  <a:lnTo>
                    <a:pt x="840" y="3021"/>
                  </a:lnTo>
                  <a:lnTo>
                    <a:pt x="911" y="3057"/>
                  </a:lnTo>
                  <a:lnTo>
                    <a:pt x="982" y="3089"/>
                  </a:lnTo>
                  <a:lnTo>
                    <a:pt x="1055" y="3118"/>
                  </a:lnTo>
                  <a:lnTo>
                    <a:pt x="1131" y="3142"/>
                  </a:lnTo>
                  <a:lnTo>
                    <a:pt x="1206" y="3163"/>
                  </a:lnTo>
                  <a:lnTo>
                    <a:pt x="1285" y="3181"/>
                  </a:lnTo>
                  <a:lnTo>
                    <a:pt x="1363" y="3197"/>
                  </a:lnTo>
                  <a:lnTo>
                    <a:pt x="1444" y="3207"/>
                  </a:lnTo>
                  <a:lnTo>
                    <a:pt x="1525" y="3213"/>
                  </a:lnTo>
                  <a:lnTo>
                    <a:pt x="1608" y="3215"/>
                  </a:lnTo>
                  <a:lnTo>
                    <a:pt x="1610" y="3215"/>
                  </a:lnTo>
                  <a:lnTo>
                    <a:pt x="1610" y="3105"/>
                  </a:lnTo>
                  <a:lnTo>
                    <a:pt x="1608" y="3105"/>
                  </a:lnTo>
                  <a:lnTo>
                    <a:pt x="1531" y="3102"/>
                  </a:lnTo>
                  <a:lnTo>
                    <a:pt x="1456" y="3097"/>
                  </a:lnTo>
                  <a:lnTo>
                    <a:pt x="1379" y="3089"/>
                  </a:lnTo>
                  <a:lnTo>
                    <a:pt x="1306" y="3074"/>
                  </a:lnTo>
                  <a:lnTo>
                    <a:pt x="1233" y="3059"/>
                  </a:lnTo>
                  <a:lnTo>
                    <a:pt x="1162" y="3037"/>
                  </a:lnTo>
                  <a:lnTo>
                    <a:pt x="1093" y="3014"/>
                  </a:lnTo>
                  <a:lnTo>
                    <a:pt x="1024" y="2988"/>
                  </a:lnTo>
                  <a:lnTo>
                    <a:pt x="958" y="2959"/>
                  </a:lnTo>
                  <a:lnTo>
                    <a:pt x="893" y="2925"/>
                  </a:lnTo>
                  <a:lnTo>
                    <a:pt x="830" y="2889"/>
                  </a:lnTo>
                  <a:lnTo>
                    <a:pt x="769" y="2849"/>
                  </a:lnTo>
                  <a:lnTo>
                    <a:pt x="712" y="2809"/>
                  </a:lnTo>
                  <a:lnTo>
                    <a:pt x="655" y="2763"/>
                  </a:lnTo>
                  <a:lnTo>
                    <a:pt x="600" y="2716"/>
                  </a:lnTo>
                  <a:lnTo>
                    <a:pt x="548" y="2666"/>
                  </a:lnTo>
                  <a:lnTo>
                    <a:pt x="498" y="2615"/>
                  </a:lnTo>
                  <a:lnTo>
                    <a:pt x="451" y="2559"/>
                  </a:lnTo>
                  <a:lnTo>
                    <a:pt x="406" y="2503"/>
                  </a:lnTo>
                  <a:lnTo>
                    <a:pt x="364" y="2446"/>
                  </a:lnTo>
                  <a:lnTo>
                    <a:pt x="325" y="2384"/>
                  </a:lnTo>
                  <a:lnTo>
                    <a:pt x="290" y="2321"/>
                  </a:lnTo>
                  <a:lnTo>
                    <a:pt x="256" y="2255"/>
                  </a:lnTo>
                  <a:lnTo>
                    <a:pt x="226" y="2190"/>
                  </a:lnTo>
                  <a:lnTo>
                    <a:pt x="201" y="2122"/>
                  </a:lnTo>
                  <a:lnTo>
                    <a:pt x="178" y="2053"/>
                  </a:lnTo>
                  <a:lnTo>
                    <a:pt x="155" y="1981"/>
                  </a:lnTo>
                  <a:lnTo>
                    <a:pt x="139" y="1909"/>
                  </a:lnTo>
                  <a:lnTo>
                    <a:pt x="126" y="1834"/>
                  </a:lnTo>
                  <a:lnTo>
                    <a:pt x="116" y="1758"/>
                  </a:lnTo>
                  <a:lnTo>
                    <a:pt x="112" y="1684"/>
                  </a:lnTo>
                  <a:lnTo>
                    <a:pt x="110" y="1606"/>
                  </a:lnTo>
                  <a:lnTo>
                    <a:pt x="112" y="1530"/>
                  </a:lnTo>
                  <a:lnTo>
                    <a:pt x="116" y="1452"/>
                  </a:lnTo>
                  <a:lnTo>
                    <a:pt x="126" y="1378"/>
                  </a:lnTo>
                  <a:lnTo>
                    <a:pt x="139" y="1305"/>
                  </a:lnTo>
                  <a:lnTo>
                    <a:pt x="155" y="1232"/>
                  </a:lnTo>
                  <a:lnTo>
                    <a:pt x="178" y="1161"/>
                  </a:lnTo>
                  <a:lnTo>
                    <a:pt x="201" y="1091"/>
                  </a:lnTo>
                  <a:lnTo>
                    <a:pt x="226" y="1025"/>
                  </a:lnTo>
                  <a:lnTo>
                    <a:pt x="256" y="957"/>
                  </a:lnTo>
                  <a:lnTo>
                    <a:pt x="290" y="894"/>
                  </a:lnTo>
                  <a:lnTo>
                    <a:pt x="325" y="831"/>
                  </a:lnTo>
                  <a:lnTo>
                    <a:pt x="364" y="770"/>
                  </a:lnTo>
                  <a:lnTo>
                    <a:pt x="406" y="711"/>
                  </a:lnTo>
                  <a:lnTo>
                    <a:pt x="451" y="656"/>
                  </a:lnTo>
                  <a:lnTo>
                    <a:pt x="498" y="600"/>
                  </a:lnTo>
                  <a:lnTo>
                    <a:pt x="548" y="549"/>
                  </a:lnTo>
                  <a:lnTo>
                    <a:pt x="600" y="500"/>
                  </a:lnTo>
                  <a:lnTo>
                    <a:pt x="655" y="452"/>
                  </a:lnTo>
                  <a:lnTo>
                    <a:pt x="712" y="407"/>
                  </a:lnTo>
                  <a:lnTo>
                    <a:pt x="769" y="366"/>
                  </a:lnTo>
                  <a:lnTo>
                    <a:pt x="830" y="328"/>
                  </a:lnTo>
                  <a:lnTo>
                    <a:pt x="893" y="290"/>
                  </a:lnTo>
                  <a:lnTo>
                    <a:pt x="958" y="259"/>
                  </a:lnTo>
                  <a:lnTo>
                    <a:pt x="1024" y="227"/>
                  </a:lnTo>
                  <a:lnTo>
                    <a:pt x="1093" y="202"/>
                  </a:lnTo>
                  <a:lnTo>
                    <a:pt x="1162" y="178"/>
                  </a:lnTo>
                  <a:lnTo>
                    <a:pt x="1233" y="159"/>
                  </a:lnTo>
                  <a:lnTo>
                    <a:pt x="1306" y="141"/>
                  </a:lnTo>
                  <a:lnTo>
                    <a:pt x="1379" y="128"/>
                  </a:lnTo>
                  <a:lnTo>
                    <a:pt x="1456" y="118"/>
                  </a:lnTo>
                  <a:lnTo>
                    <a:pt x="1531" y="113"/>
                  </a:lnTo>
                  <a:lnTo>
                    <a:pt x="1608" y="110"/>
                  </a:lnTo>
                  <a:lnTo>
                    <a:pt x="1610" y="113"/>
                  </a:lnTo>
                  <a:close/>
                </a:path>
              </a:pathLst>
            </a:custGeom>
            <a:blipFill rotWithShape="0">
              <a:blip r:embed="rId47"/>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1562040" y="912600"/>
              <a:ext cx="303120" cy="550440"/>
            </a:xfrm>
            <a:custGeom>
              <a:avLst/>
              <a:gdLst/>
              <a:ahLst/>
              <a:rect l="l" t="t" r="r" b="b"/>
              <a:pathLst>
                <a:path w="2366" h="4738">
                  <a:moveTo>
                    <a:pt x="0" y="4627"/>
                  </a:moveTo>
                  <a:lnTo>
                    <a:pt x="0" y="4738"/>
                  </a:lnTo>
                  <a:lnTo>
                    <a:pt x="120" y="4733"/>
                  </a:lnTo>
                  <a:lnTo>
                    <a:pt x="241" y="4724"/>
                  </a:lnTo>
                  <a:lnTo>
                    <a:pt x="359" y="4710"/>
                  </a:lnTo>
                  <a:lnTo>
                    <a:pt x="476" y="4688"/>
                  </a:lnTo>
                  <a:lnTo>
                    <a:pt x="590" y="4662"/>
                  </a:lnTo>
                  <a:lnTo>
                    <a:pt x="703" y="4631"/>
                  </a:lnTo>
                  <a:lnTo>
                    <a:pt x="813" y="4594"/>
                  </a:lnTo>
                  <a:lnTo>
                    <a:pt x="921" y="4550"/>
                  </a:lnTo>
                  <a:lnTo>
                    <a:pt x="1026" y="4503"/>
                  </a:lnTo>
                  <a:lnTo>
                    <a:pt x="1127" y="4450"/>
                  </a:lnTo>
                  <a:lnTo>
                    <a:pt x="1227" y="4392"/>
                  </a:lnTo>
                  <a:lnTo>
                    <a:pt x="1322" y="4331"/>
                  </a:lnTo>
                  <a:lnTo>
                    <a:pt x="1415" y="4266"/>
                  </a:lnTo>
                  <a:lnTo>
                    <a:pt x="1506" y="4194"/>
                  </a:lnTo>
                  <a:lnTo>
                    <a:pt x="1591" y="4120"/>
                  </a:lnTo>
                  <a:lnTo>
                    <a:pt x="1674" y="4041"/>
                  </a:lnTo>
                  <a:lnTo>
                    <a:pt x="1753" y="3958"/>
                  </a:lnTo>
                  <a:lnTo>
                    <a:pt x="1826" y="3873"/>
                  </a:lnTo>
                  <a:lnTo>
                    <a:pt x="1897" y="3783"/>
                  </a:lnTo>
                  <a:lnTo>
                    <a:pt x="1964" y="3689"/>
                  </a:lnTo>
                  <a:lnTo>
                    <a:pt x="2025" y="3595"/>
                  </a:lnTo>
                  <a:lnTo>
                    <a:pt x="2082" y="3495"/>
                  </a:lnTo>
                  <a:lnTo>
                    <a:pt x="2133" y="3391"/>
                  </a:lnTo>
                  <a:lnTo>
                    <a:pt x="2181" y="3287"/>
                  </a:lnTo>
                  <a:lnTo>
                    <a:pt x="2224" y="3181"/>
                  </a:lnTo>
                  <a:lnTo>
                    <a:pt x="2262" y="3070"/>
                  </a:lnTo>
                  <a:lnTo>
                    <a:pt x="2294" y="2957"/>
                  </a:lnTo>
                  <a:lnTo>
                    <a:pt x="2319" y="2844"/>
                  </a:lnTo>
                  <a:lnTo>
                    <a:pt x="2341" y="2724"/>
                  </a:lnTo>
                  <a:lnTo>
                    <a:pt x="2355" y="2606"/>
                  </a:lnTo>
                  <a:lnTo>
                    <a:pt x="2365" y="2486"/>
                  </a:lnTo>
                  <a:lnTo>
                    <a:pt x="2366" y="2365"/>
                  </a:lnTo>
                  <a:lnTo>
                    <a:pt x="2365" y="2243"/>
                  </a:lnTo>
                  <a:lnTo>
                    <a:pt x="2355" y="2123"/>
                  </a:lnTo>
                  <a:lnTo>
                    <a:pt x="2341" y="2004"/>
                  </a:lnTo>
                  <a:lnTo>
                    <a:pt x="2319" y="1889"/>
                  </a:lnTo>
                  <a:lnTo>
                    <a:pt x="2294" y="1774"/>
                  </a:lnTo>
                  <a:lnTo>
                    <a:pt x="2262" y="1661"/>
                  </a:lnTo>
                  <a:lnTo>
                    <a:pt x="2224" y="1551"/>
                  </a:lnTo>
                  <a:lnTo>
                    <a:pt x="2181" y="1442"/>
                  </a:lnTo>
                  <a:lnTo>
                    <a:pt x="2133" y="1337"/>
                  </a:lnTo>
                  <a:lnTo>
                    <a:pt x="2082" y="1237"/>
                  </a:lnTo>
                  <a:lnTo>
                    <a:pt x="2025" y="1136"/>
                  </a:lnTo>
                  <a:lnTo>
                    <a:pt x="1964" y="1042"/>
                  </a:lnTo>
                  <a:lnTo>
                    <a:pt x="1897" y="949"/>
                  </a:lnTo>
                  <a:lnTo>
                    <a:pt x="1826" y="858"/>
                  </a:lnTo>
                  <a:lnTo>
                    <a:pt x="1753" y="773"/>
                  </a:lnTo>
                  <a:lnTo>
                    <a:pt x="1674" y="691"/>
                  </a:lnTo>
                  <a:lnTo>
                    <a:pt x="1591" y="612"/>
                  </a:lnTo>
                  <a:lnTo>
                    <a:pt x="1506" y="539"/>
                  </a:lnTo>
                  <a:lnTo>
                    <a:pt x="1415" y="468"/>
                  </a:lnTo>
                  <a:lnTo>
                    <a:pt x="1322" y="400"/>
                  </a:lnTo>
                  <a:lnTo>
                    <a:pt x="1227" y="340"/>
                  </a:lnTo>
                  <a:lnTo>
                    <a:pt x="1127" y="282"/>
                  </a:lnTo>
                  <a:lnTo>
                    <a:pt x="1026" y="231"/>
                  </a:lnTo>
                  <a:lnTo>
                    <a:pt x="921" y="183"/>
                  </a:lnTo>
                  <a:lnTo>
                    <a:pt x="813" y="139"/>
                  </a:lnTo>
                  <a:lnTo>
                    <a:pt x="703" y="102"/>
                  </a:lnTo>
                  <a:lnTo>
                    <a:pt x="590" y="71"/>
                  </a:lnTo>
                  <a:lnTo>
                    <a:pt x="476" y="45"/>
                  </a:lnTo>
                  <a:lnTo>
                    <a:pt x="359" y="24"/>
                  </a:lnTo>
                  <a:lnTo>
                    <a:pt x="241" y="10"/>
                  </a:lnTo>
                  <a:lnTo>
                    <a:pt x="120" y="0"/>
                  </a:lnTo>
                  <a:lnTo>
                    <a:pt x="0" y="0"/>
                  </a:lnTo>
                  <a:lnTo>
                    <a:pt x="0" y="108"/>
                  </a:lnTo>
                  <a:lnTo>
                    <a:pt x="115" y="110"/>
                  </a:lnTo>
                  <a:lnTo>
                    <a:pt x="229" y="118"/>
                  </a:lnTo>
                  <a:lnTo>
                    <a:pt x="343" y="132"/>
                  </a:lnTo>
                  <a:lnTo>
                    <a:pt x="454" y="152"/>
                  </a:lnTo>
                  <a:lnTo>
                    <a:pt x="562" y="178"/>
                  </a:lnTo>
                  <a:lnTo>
                    <a:pt x="671" y="209"/>
                  </a:lnTo>
                  <a:lnTo>
                    <a:pt x="776" y="244"/>
                  </a:lnTo>
                  <a:lnTo>
                    <a:pt x="878" y="283"/>
                  </a:lnTo>
                  <a:lnTo>
                    <a:pt x="979" y="330"/>
                  </a:lnTo>
                  <a:lnTo>
                    <a:pt x="1075" y="379"/>
                  </a:lnTo>
                  <a:lnTo>
                    <a:pt x="1170" y="434"/>
                  </a:lnTo>
                  <a:lnTo>
                    <a:pt x="1261" y="493"/>
                  </a:lnTo>
                  <a:lnTo>
                    <a:pt x="1350" y="555"/>
                  </a:lnTo>
                  <a:lnTo>
                    <a:pt x="1434" y="621"/>
                  </a:lnTo>
                  <a:lnTo>
                    <a:pt x="1518" y="693"/>
                  </a:lnTo>
                  <a:lnTo>
                    <a:pt x="1596" y="767"/>
                  </a:lnTo>
                  <a:lnTo>
                    <a:pt x="1672" y="846"/>
                  </a:lnTo>
                  <a:lnTo>
                    <a:pt x="1743" y="929"/>
                  </a:lnTo>
                  <a:lnTo>
                    <a:pt x="1810" y="1015"/>
                  </a:lnTo>
                  <a:lnTo>
                    <a:pt x="1871" y="1102"/>
                  </a:lnTo>
                  <a:lnTo>
                    <a:pt x="1930" y="1193"/>
                  </a:lnTo>
                  <a:lnTo>
                    <a:pt x="1986" y="1288"/>
                  </a:lnTo>
                  <a:lnTo>
                    <a:pt x="2035" y="1385"/>
                  </a:lnTo>
                  <a:lnTo>
                    <a:pt x="2080" y="1486"/>
                  </a:lnTo>
                  <a:lnTo>
                    <a:pt x="2119" y="1588"/>
                  </a:lnTo>
                  <a:lnTo>
                    <a:pt x="2155" y="1693"/>
                  </a:lnTo>
                  <a:lnTo>
                    <a:pt x="2187" y="1801"/>
                  </a:lnTo>
                  <a:lnTo>
                    <a:pt x="2213" y="1910"/>
                  </a:lnTo>
                  <a:lnTo>
                    <a:pt x="2232" y="2020"/>
                  </a:lnTo>
                  <a:lnTo>
                    <a:pt x="2245" y="2135"/>
                  </a:lnTo>
                  <a:lnTo>
                    <a:pt x="2253" y="2250"/>
                  </a:lnTo>
                  <a:lnTo>
                    <a:pt x="2258" y="2365"/>
                  </a:lnTo>
                  <a:lnTo>
                    <a:pt x="2253" y="2482"/>
                  </a:lnTo>
                  <a:lnTo>
                    <a:pt x="2245" y="2596"/>
                  </a:lnTo>
                  <a:lnTo>
                    <a:pt x="2232" y="2709"/>
                  </a:lnTo>
                  <a:lnTo>
                    <a:pt x="2213" y="2820"/>
                  </a:lnTo>
                  <a:lnTo>
                    <a:pt x="2187" y="2930"/>
                  </a:lnTo>
                  <a:lnTo>
                    <a:pt x="2155" y="3037"/>
                  </a:lnTo>
                  <a:lnTo>
                    <a:pt x="2119" y="3143"/>
                  </a:lnTo>
                  <a:lnTo>
                    <a:pt x="2080" y="3246"/>
                  </a:lnTo>
                  <a:lnTo>
                    <a:pt x="2035" y="3344"/>
                  </a:lnTo>
                  <a:lnTo>
                    <a:pt x="1986" y="3443"/>
                  </a:lnTo>
                  <a:lnTo>
                    <a:pt x="1930" y="3538"/>
                  </a:lnTo>
                  <a:lnTo>
                    <a:pt x="1871" y="3629"/>
                  </a:lnTo>
                  <a:lnTo>
                    <a:pt x="1810" y="3718"/>
                  </a:lnTo>
                  <a:lnTo>
                    <a:pt x="1743" y="3804"/>
                  </a:lnTo>
                  <a:lnTo>
                    <a:pt x="1672" y="3885"/>
                  </a:lnTo>
                  <a:lnTo>
                    <a:pt x="1596" y="3964"/>
                  </a:lnTo>
                  <a:lnTo>
                    <a:pt x="1518" y="4039"/>
                  </a:lnTo>
                  <a:lnTo>
                    <a:pt x="1434" y="4110"/>
                  </a:lnTo>
                  <a:lnTo>
                    <a:pt x="1350" y="4178"/>
                  </a:lnTo>
                  <a:lnTo>
                    <a:pt x="1261" y="4241"/>
                  </a:lnTo>
                  <a:lnTo>
                    <a:pt x="1170" y="4299"/>
                  </a:lnTo>
                  <a:lnTo>
                    <a:pt x="1075" y="4354"/>
                  </a:lnTo>
                  <a:lnTo>
                    <a:pt x="979" y="4404"/>
                  </a:lnTo>
                  <a:lnTo>
                    <a:pt x="878" y="4450"/>
                  </a:lnTo>
                  <a:lnTo>
                    <a:pt x="776" y="4489"/>
                  </a:lnTo>
                  <a:lnTo>
                    <a:pt x="671" y="4526"/>
                  </a:lnTo>
                  <a:lnTo>
                    <a:pt x="562" y="4555"/>
                  </a:lnTo>
                  <a:lnTo>
                    <a:pt x="454" y="4581"/>
                  </a:lnTo>
                  <a:lnTo>
                    <a:pt x="343" y="4602"/>
                  </a:lnTo>
                  <a:lnTo>
                    <a:pt x="229" y="4615"/>
                  </a:lnTo>
                  <a:lnTo>
                    <a:pt x="115" y="4625"/>
                  </a:lnTo>
                  <a:lnTo>
                    <a:pt x="0" y="4627"/>
                  </a:lnTo>
                  <a:close/>
                </a:path>
              </a:pathLst>
            </a:custGeom>
            <a:blipFill rotWithShape="0">
              <a:blip r:embed="rId48"/>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1258560" y="912600"/>
              <a:ext cx="303120" cy="550440"/>
            </a:xfrm>
            <a:custGeom>
              <a:avLst/>
              <a:gdLst/>
              <a:ahLst/>
              <a:rect l="l" t="t" r="r" b="b"/>
              <a:pathLst>
                <a:path w="2371" h="4740">
                  <a:moveTo>
                    <a:pt x="2371" y="110"/>
                  </a:moveTo>
                  <a:lnTo>
                    <a:pt x="2371" y="2"/>
                  </a:lnTo>
                  <a:lnTo>
                    <a:pt x="2369" y="0"/>
                  </a:lnTo>
                  <a:lnTo>
                    <a:pt x="2248" y="2"/>
                  </a:lnTo>
                  <a:lnTo>
                    <a:pt x="2128" y="12"/>
                  </a:lnTo>
                  <a:lnTo>
                    <a:pt x="2010" y="26"/>
                  </a:lnTo>
                  <a:lnTo>
                    <a:pt x="1892" y="47"/>
                  </a:lnTo>
                  <a:lnTo>
                    <a:pt x="1777" y="73"/>
                  </a:lnTo>
                  <a:lnTo>
                    <a:pt x="1664" y="104"/>
                  </a:lnTo>
                  <a:lnTo>
                    <a:pt x="1556" y="141"/>
                  </a:lnTo>
                  <a:lnTo>
                    <a:pt x="1447" y="185"/>
                  </a:lnTo>
                  <a:lnTo>
                    <a:pt x="1342" y="233"/>
                  </a:lnTo>
                  <a:lnTo>
                    <a:pt x="1240" y="284"/>
                  </a:lnTo>
                  <a:lnTo>
                    <a:pt x="1141" y="342"/>
                  </a:lnTo>
                  <a:lnTo>
                    <a:pt x="1044" y="402"/>
                  </a:lnTo>
                  <a:lnTo>
                    <a:pt x="952" y="470"/>
                  </a:lnTo>
                  <a:lnTo>
                    <a:pt x="863" y="541"/>
                  </a:lnTo>
                  <a:lnTo>
                    <a:pt x="777" y="614"/>
                  </a:lnTo>
                  <a:lnTo>
                    <a:pt x="696" y="693"/>
                  </a:lnTo>
                  <a:lnTo>
                    <a:pt x="617" y="775"/>
                  </a:lnTo>
                  <a:lnTo>
                    <a:pt x="541" y="860"/>
                  </a:lnTo>
                  <a:lnTo>
                    <a:pt x="473" y="951"/>
                  </a:lnTo>
                  <a:lnTo>
                    <a:pt x="405" y="1044"/>
                  </a:lnTo>
                  <a:lnTo>
                    <a:pt x="345" y="1138"/>
                  </a:lnTo>
                  <a:lnTo>
                    <a:pt x="287" y="1239"/>
                  </a:lnTo>
                  <a:lnTo>
                    <a:pt x="233" y="1339"/>
                  </a:lnTo>
                  <a:lnTo>
                    <a:pt x="186" y="1444"/>
                  </a:lnTo>
                  <a:lnTo>
                    <a:pt x="144" y="1553"/>
                  </a:lnTo>
                  <a:lnTo>
                    <a:pt x="107" y="1663"/>
                  </a:lnTo>
                  <a:lnTo>
                    <a:pt x="76" y="1776"/>
                  </a:lnTo>
                  <a:lnTo>
                    <a:pt x="50" y="1891"/>
                  </a:lnTo>
                  <a:lnTo>
                    <a:pt x="28" y="2006"/>
                  </a:lnTo>
                  <a:lnTo>
                    <a:pt x="13" y="2125"/>
                  </a:lnTo>
                  <a:lnTo>
                    <a:pt x="5" y="2245"/>
                  </a:lnTo>
                  <a:lnTo>
                    <a:pt x="0" y="2367"/>
                  </a:lnTo>
                  <a:lnTo>
                    <a:pt x="5" y="2488"/>
                  </a:lnTo>
                  <a:lnTo>
                    <a:pt x="13" y="2608"/>
                  </a:lnTo>
                  <a:lnTo>
                    <a:pt x="28" y="2729"/>
                  </a:lnTo>
                  <a:lnTo>
                    <a:pt x="50" y="2846"/>
                  </a:lnTo>
                  <a:lnTo>
                    <a:pt x="76" y="2959"/>
                  </a:lnTo>
                  <a:lnTo>
                    <a:pt x="107" y="3072"/>
                  </a:lnTo>
                  <a:lnTo>
                    <a:pt x="144" y="3183"/>
                  </a:lnTo>
                  <a:lnTo>
                    <a:pt x="186" y="3289"/>
                  </a:lnTo>
                  <a:lnTo>
                    <a:pt x="233" y="3393"/>
                  </a:lnTo>
                  <a:lnTo>
                    <a:pt x="287" y="3497"/>
                  </a:lnTo>
                  <a:lnTo>
                    <a:pt x="345" y="3597"/>
                  </a:lnTo>
                  <a:lnTo>
                    <a:pt x="405" y="3691"/>
                  </a:lnTo>
                  <a:lnTo>
                    <a:pt x="473" y="3785"/>
                  </a:lnTo>
                  <a:lnTo>
                    <a:pt x="541" y="3875"/>
                  </a:lnTo>
                  <a:lnTo>
                    <a:pt x="617" y="3960"/>
                  </a:lnTo>
                  <a:lnTo>
                    <a:pt x="696" y="4043"/>
                  </a:lnTo>
                  <a:lnTo>
                    <a:pt x="777" y="4122"/>
                  </a:lnTo>
                  <a:lnTo>
                    <a:pt x="863" y="4196"/>
                  </a:lnTo>
                  <a:lnTo>
                    <a:pt x="952" y="4268"/>
                  </a:lnTo>
                  <a:lnTo>
                    <a:pt x="1044" y="4333"/>
                  </a:lnTo>
                  <a:lnTo>
                    <a:pt x="1141" y="4394"/>
                  </a:lnTo>
                  <a:lnTo>
                    <a:pt x="1240" y="4452"/>
                  </a:lnTo>
                  <a:lnTo>
                    <a:pt x="1342" y="4505"/>
                  </a:lnTo>
                  <a:lnTo>
                    <a:pt x="1447" y="4552"/>
                  </a:lnTo>
                  <a:lnTo>
                    <a:pt x="1556" y="4596"/>
                  </a:lnTo>
                  <a:lnTo>
                    <a:pt x="1664" y="4633"/>
                  </a:lnTo>
                  <a:lnTo>
                    <a:pt x="1777" y="4664"/>
                  </a:lnTo>
                  <a:lnTo>
                    <a:pt x="1892" y="4690"/>
                  </a:lnTo>
                  <a:lnTo>
                    <a:pt x="2007" y="4712"/>
                  </a:lnTo>
                  <a:lnTo>
                    <a:pt x="2128" y="4726"/>
                  </a:lnTo>
                  <a:lnTo>
                    <a:pt x="2248" y="4735"/>
                  </a:lnTo>
                  <a:lnTo>
                    <a:pt x="2369" y="4740"/>
                  </a:lnTo>
                  <a:lnTo>
                    <a:pt x="2371" y="4740"/>
                  </a:lnTo>
                  <a:lnTo>
                    <a:pt x="2371" y="4629"/>
                  </a:lnTo>
                  <a:lnTo>
                    <a:pt x="2369" y="4629"/>
                  </a:lnTo>
                  <a:lnTo>
                    <a:pt x="2253" y="4627"/>
                  </a:lnTo>
                  <a:lnTo>
                    <a:pt x="2138" y="4617"/>
                  </a:lnTo>
                  <a:lnTo>
                    <a:pt x="2025" y="4604"/>
                  </a:lnTo>
                  <a:lnTo>
                    <a:pt x="1915" y="4583"/>
                  </a:lnTo>
                  <a:lnTo>
                    <a:pt x="1805" y="4557"/>
                  </a:lnTo>
                  <a:lnTo>
                    <a:pt x="1698" y="4528"/>
                  </a:lnTo>
                  <a:lnTo>
                    <a:pt x="1593" y="4491"/>
                  </a:lnTo>
                  <a:lnTo>
                    <a:pt x="1491" y="4452"/>
                  </a:lnTo>
                  <a:lnTo>
                    <a:pt x="1390" y="4406"/>
                  </a:lnTo>
                  <a:lnTo>
                    <a:pt x="1293" y="4356"/>
                  </a:lnTo>
                  <a:lnTo>
                    <a:pt x="1198" y="4301"/>
                  </a:lnTo>
                  <a:lnTo>
                    <a:pt x="1106" y="4243"/>
                  </a:lnTo>
                  <a:lnTo>
                    <a:pt x="1017" y="4180"/>
                  </a:lnTo>
                  <a:lnTo>
                    <a:pt x="932" y="4112"/>
                  </a:lnTo>
                  <a:lnTo>
                    <a:pt x="851" y="4041"/>
                  </a:lnTo>
                  <a:lnTo>
                    <a:pt x="772" y="3966"/>
                  </a:lnTo>
                  <a:lnTo>
                    <a:pt x="698" y="3887"/>
                  </a:lnTo>
                  <a:lnTo>
                    <a:pt x="626" y="3806"/>
                  </a:lnTo>
                  <a:lnTo>
                    <a:pt x="559" y="3720"/>
                  </a:lnTo>
                  <a:lnTo>
                    <a:pt x="496" y="3631"/>
                  </a:lnTo>
                  <a:lnTo>
                    <a:pt x="437" y="3540"/>
                  </a:lnTo>
                  <a:lnTo>
                    <a:pt x="384" y="3445"/>
                  </a:lnTo>
                  <a:lnTo>
                    <a:pt x="334" y="3346"/>
                  </a:lnTo>
                  <a:lnTo>
                    <a:pt x="288" y="3248"/>
                  </a:lnTo>
                  <a:lnTo>
                    <a:pt x="248" y="3145"/>
                  </a:lnTo>
                  <a:lnTo>
                    <a:pt x="212" y="3039"/>
                  </a:lnTo>
                  <a:lnTo>
                    <a:pt x="183" y="2932"/>
                  </a:lnTo>
                  <a:lnTo>
                    <a:pt x="157" y="2822"/>
                  </a:lnTo>
                  <a:lnTo>
                    <a:pt x="136" y="2711"/>
                  </a:lnTo>
                  <a:lnTo>
                    <a:pt x="123" y="2598"/>
                  </a:lnTo>
                  <a:lnTo>
                    <a:pt x="113" y="2484"/>
                  </a:lnTo>
                  <a:lnTo>
                    <a:pt x="112" y="2367"/>
                  </a:lnTo>
                  <a:lnTo>
                    <a:pt x="113" y="2252"/>
                  </a:lnTo>
                  <a:lnTo>
                    <a:pt x="123" y="2137"/>
                  </a:lnTo>
                  <a:lnTo>
                    <a:pt x="136" y="2022"/>
                  </a:lnTo>
                  <a:lnTo>
                    <a:pt x="157" y="1912"/>
                  </a:lnTo>
                  <a:lnTo>
                    <a:pt x="183" y="1803"/>
                  </a:lnTo>
                  <a:lnTo>
                    <a:pt x="212" y="1695"/>
                  </a:lnTo>
                  <a:lnTo>
                    <a:pt x="248" y="1590"/>
                  </a:lnTo>
                  <a:lnTo>
                    <a:pt x="288" y="1488"/>
                  </a:lnTo>
                  <a:lnTo>
                    <a:pt x="334" y="1387"/>
                  </a:lnTo>
                  <a:lnTo>
                    <a:pt x="384" y="1290"/>
                  </a:lnTo>
                  <a:lnTo>
                    <a:pt x="437" y="1195"/>
                  </a:lnTo>
                  <a:lnTo>
                    <a:pt x="496" y="1104"/>
                  </a:lnTo>
                  <a:lnTo>
                    <a:pt x="559" y="1017"/>
                  </a:lnTo>
                  <a:lnTo>
                    <a:pt x="626" y="931"/>
                  </a:lnTo>
                  <a:lnTo>
                    <a:pt x="698" y="848"/>
                  </a:lnTo>
                  <a:lnTo>
                    <a:pt x="772" y="769"/>
                  </a:lnTo>
                  <a:lnTo>
                    <a:pt x="851" y="695"/>
                  </a:lnTo>
                  <a:lnTo>
                    <a:pt x="932" y="623"/>
                  </a:lnTo>
                  <a:lnTo>
                    <a:pt x="1017" y="557"/>
                  </a:lnTo>
                  <a:lnTo>
                    <a:pt x="1106" y="495"/>
                  </a:lnTo>
                  <a:lnTo>
                    <a:pt x="1198" y="436"/>
                  </a:lnTo>
                  <a:lnTo>
                    <a:pt x="1293" y="381"/>
                  </a:lnTo>
                  <a:lnTo>
                    <a:pt x="1390" y="332"/>
                  </a:lnTo>
                  <a:lnTo>
                    <a:pt x="1491" y="285"/>
                  </a:lnTo>
                  <a:lnTo>
                    <a:pt x="1593" y="246"/>
                  </a:lnTo>
                  <a:lnTo>
                    <a:pt x="1698" y="211"/>
                  </a:lnTo>
                  <a:lnTo>
                    <a:pt x="1805" y="180"/>
                  </a:lnTo>
                  <a:lnTo>
                    <a:pt x="1915" y="154"/>
                  </a:lnTo>
                  <a:lnTo>
                    <a:pt x="2025" y="134"/>
                  </a:lnTo>
                  <a:lnTo>
                    <a:pt x="2138" y="120"/>
                  </a:lnTo>
                  <a:lnTo>
                    <a:pt x="2253" y="112"/>
                  </a:lnTo>
                  <a:lnTo>
                    <a:pt x="2369" y="109"/>
                  </a:lnTo>
                  <a:lnTo>
                    <a:pt x="2371" y="110"/>
                  </a:lnTo>
                  <a:close/>
                </a:path>
              </a:pathLst>
            </a:custGeom>
            <a:blipFill rotWithShape="0">
              <a:blip r:embed="rId4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1119960" y="1676880"/>
              <a:ext cx="620280" cy="140760"/>
            </a:xfrm>
            <a:custGeom>
              <a:avLst/>
              <a:gdLst/>
              <a:ahLst/>
              <a:rect l="l" t="t" r="r" b="b"/>
              <a:pathLst>
                <a:path w="4839" h="1209">
                  <a:moveTo>
                    <a:pt x="4839" y="1144"/>
                  </a:moveTo>
                  <a:lnTo>
                    <a:pt x="4810" y="1110"/>
                  </a:lnTo>
                  <a:lnTo>
                    <a:pt x="4721" y="1021"/>
                  </a:lnTo>
                  <a:lnTo>
                    <a:pt x="4660" y="960"/>
                  </a:lnTo>
                  <a:lnTo>
                    <a:pt x="4585" y="892"/>
                  </a:lnTo>
                  <a:lnTo>
                    <a:pt x="4500" y="816"/>
                  </a:lnTo>
                  <a:lnTo>
                    <a:pt x="4405" y="738"/>
                  </a:lnTo>
                  <a:lnTo>
                    <a:pt x="4302" y="654"/>
                  </a:lnTo>
                  <a:lnTo>
                    <a:pt x="4190" y="573"/>
                  </a:lnTo>
                  <a:lnTo>
                    <a:pt x="4072" y="492"/>
                  </a:lnTo>
                  <a:lnTo>
                    <a:pt x="3947" y="416"/>
                  </a:lnTo>
                  <a:lnTo>
                    <a:pt x="3817" y="343"/>
                  </a:lnTo>
                  <a:lnTo>
                    <a:pt x="3682" y="280"/>
                  </a:lnTo>
                  <a:lnTo>
                    <a:pt x="3614" y="250"/>
                  </a:lnTo>
                  <a:lnTo>
                    <a:pt x="3545" y="225"/>
                  </a:lnTo>
                  <a:lnTo>
                    <a:pt x="3473" y="201"/>
                  </a:lnTo>
                  <a:lnTo>
                    <a:pt x="3402" y="181"/>
                  </a:lnTo>
                  <a:lnTo>
                    <a:pt x="3162" y="118"/>
                  </a:lnTo>
                  <a:lnTo>
                    <a:pt x="2949" y="68"/>
                  </a:lnTo>
                  <a:lnTo>
                    <a:pt x="2850" y="49"/>
                  </a:lnTo>
                  <a:lnTo>
                    <a:pt x="2755" y="31"/>
                  </a:lnTo>
                  <a:lnTo>
                    <a:pt x="2664" y="18"/>
                  </a:lnTo>
                  <a:lnTo>
                    <a:pt x="2575" y="8"/>
                  </a:lnTo>
                  <a:lnTo>
                    <a:pt x="2487" y="2"/>
                  </a:lnTo>
                  <a:lnTo>
                    <a:pt x="2398" y="0"/>
                  </a:lnTo>
                  <a:lnTo>
                    <a:pt x="2308" y="0"/>
                  </a:lnTo>
                  <a:lnTo>
                    <a:pt x="2214" y="5"/>
                  </a:lnTo>
                  <a:lnTo>
                    <a:pt x="2117" y="15"/>
                  </a:lnTo>
                  <a:lnTo>
                    <a:pt x="2017" y="27"/>
                  </a:lnTo>
                  <a:lnTo>
                    <a:pt x="1910" y="45"/>
                  </a:lnTo>
                  <a:lnTo>
                    <a:pt x="1798" y="66"/>
                  </a:lnTo>
                  <a:lnTo>
                    <a:pt x="1567" y="120"/>
                  </a:lnTo>
                  <a:lnTo>
                    <a:pt x="1340" y="173"/>
                  </a:lnTo>
                  <a:lnTo>
                    <a:pt x="1117" y="222"/>
                  </a:lnTo>
                  <a:lnTo>
                    <a:pt x="1007" y="244"/>
                  </a:lnTo>
                  <a:lnTo>
                    <a:pt x="898" y="262"/>
                  </a:lnTo>
                  <a:lnTo>
                    <a:pt x="791" y="275"/>
                  </a:lnTo>
                  <a:lnTo>
                    <a:pt x="683" y="288"/>
                  </a:lnTo>
                  <a:lnTo>
                    <a:pt x="576" y="291"/>
                  </a:lnTo>
                  <a:lnTo>
                    <a:pt x="472" y="291"/>
                  </a:lnTo>
                  <a:lnTo>
                    <a:pt x="367" y="283"/>
                  </a:lnTo>
                  <a:lnTo>
                    <a:pt x="264" y="267"/>
                  </a:lnTo>
                  <a:lnTo>
                    <a:pt x="162" y="244"/>
                  </a:lnTo>
                  <a:lnTo>
                    <a:pt x="60" y="212"/>
                  </a:lnTo>
                  <a:lnTo>
                    <a:pt x="27" y="204"/>
                  </a:lnTo>
                  <a:lnTo>
                    <a:pt x="14" y="204"/>
                  </a:lnTo>
                  <a:lnTo>
                    <a:pt x="6" y="209"/>
                  </a:lnTo>
                  <a:lnTo>
                    <a:pt x="0" y="214"/>
                  </a:lnTo>
                  <a:lnTo>
                    <a:pt x="0" y="225"/>
                  </a:lnTo>
                  <a:lnTo>
                    <a:pt x="6" y="236"/>
                  </a:lnTo>
                  <a:lnTo>
                    <a:pt x="19" y="254"/>
                  </a:lnTo>
                  <a:lnTo>
                    <a:pt x="57" y="295"/>
                  </a:lnTo>
                  <a:lnTo>
                    <a:pt x="102" y="345"/>
                  </a:lnTo>
                  <a:lnTo>
                    <a:pt x="160" y="398"/>
                  </a:lnTo>
                  <a:lnTo>
                    <a:pt x="231" y="453"/>
                  </a:lnTo>
                  <a:lnTo>
                    <a:pt x="278" y="481"/>
                  </a:lnTo>
                  <a:lnTo>
                    <a:pt x="345" y="513"/>
                  </a:lnTo>
                  <a:lnTo>
                    <a:pt x="430" y="542"/>
                  </a:lnTo>
                  <a:lnTo>
                    <a:pt x="527" y="573"/>
                  </a:lnTo>
                  <a:lnTo>
                    <a:pt x="634" y="604"/>
                  </a:lnTo>
                  <a:lnTo>
                    <a:pt x="751" y="631"/>
                  </a:lnTo>
                  <a:lnTo>
                    <a:pt x="871" y="654"/>
                  </a:lnTo>
                  <a:lnTo>
                    <a:pt x="995" y="676"/>
                  </a:lnTo>
                  <a:lnTo>
                    <a:pt x="1113" y="693"/>
                  </a:lnTo>
                  <a:lnTo>
                    <a:pt x="1220" y="704"/>
                  </a:lnTo>
                  <a:lnTo>
                    <a:pt x="1324" y="708"/>
                  </a:lnTo>
                  <a:lnTo>
                    <a:pt x="1429" y="704"/>
                  </a:lnTo>
                  <a:lnTo>
                    <a:pt x="1541" y="690"/>
                  </a:lnTo>
                  <a:lnTo>
                    <a:pt x="1667" y="667"/>
                  </a:lnTo>
                  <a:lnTo>
                    <a:pt x="1811" y="628"/>
                  </a:lnTo>
                  <a:lnTo>
                    <a:pt x="1981" y="580"/>
                  </a:lnTo>
                  <a:lnTo>
                    <a:pt x="2151" y="523"/>
                  </a:lnTo>
                  <a:lnTo>
                    <a:pt x="2301" y="468"/>
                  </a:lnTo>
                  <a:lnTo>
                    <a:pt x="2437" y="416"/>
                  </a:lnTo>
                  <a:lnTo>
                    <a:pt x="2568" y="371"/>
                  </a:lnTo>
                  <a:lnTo>
                    <a:pt x="2633" y="351"/>
                  </a:lnTo>
                  <a:lnTo>
                    <a:pt x="2698" y="333"/>
                  </a:lnTo>
                  <a:lnTo>
                    <a:pt x="2766" y="317"/>
                  </a:lnTo>
                  <a:lnTo>
                    <a:pt x="2834" y="303"/>
                  </a:lnTo>
                  <a:lnTo>
                    <a:pt x="2905" y="293"/>
                  </a:lnTo>
                  <a:lnTo>
                    <a:pt x="2983" y="285"/>
                  </a:lnTo>
                  <a:lnTo>
                    <a:pt x="3064" y="280"/>
                  </a:lnTo>
                  <a:lnTo>
                    <a:pt x="3150" y="277"/>
                  </a:lnTo>
                  <a:lnTo>
                    <a:pt x="3240" y="280"/>
                  </a:lnTo>
                  <a:lnTo>
                    <a:pt x="3324" y="285"/>
                  </a:lnTo>
                  <a:lnTo>
                    <a:pt x="3399" y="295"/>
                  </a:lnTo>
                  <a:lnTo>
                    <a:pt x="3472" y="311"/>
                  </a:lnTo>
                  <a:lnTo>
                    <a:pt x="3538" y="333"/>
                  </a:lnTo>
                  <a:lnTo>
                    <a:pt x="3606" y="361"/>
                  </a:lnTo>
                  <a:lnTo>
                    <a:pt x="3675" y="396"/>
                  </a:lnTo>
                  <a:lnTo>
                    <a:pt x="3747" y="442"/>
                  </a:lnTo>
                  <a:lnTo>
                    <a:pt x="3821" y="497"/>
                  </a:lnTo>
                  <a:lnTo>
                    <a:pt x="3900" y="560"/>
                  </a:lnTo>
                  <a:lnTo>
                    <a:pt x="3988" y="636"/>
                  </a:lnTo>
                  <a:lnTo>
                    <a:pt x="4087" y="724"/>
                  </a:lnTo>
                  <a:lnTo>
                    <a:pt x="4318" y="937"/>
                  </a:lnTo>
                  <a:lnTo>
                    <a:pt x="4608" y="1209"/>
                  </a:lnTo>
                  <a:lnTo>
                    <a:pt x="4778" y="1162"/>
                  </a:lnTo>
                  <a:lnTo>
                    <a:pt x="4839" y="1144"/>
                  </a:lnTo>
                  <a:close/>
                </a:path>
              </a:pathLst>
            </a:custGeom>
            <a:blipFill rotWithShape="0">
              <a:blip r:embed="rId5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982800" y="1504080"/>
              <a:ext cx="330840" cy="189360"/>
            </a:xfrm>
            <a:custGeom>
              <a:avLst/>
              <a:gdLst/>
              <a:ahLst/>
              <a:rect l="l" t="t" r="r" b="b"/>
              <a:pathLst>
                <a:path w="2578" h="1626">
                  <a:moveTo>
                    <a:pt x="2414" y="1490"/>
                  </a:moveTo>
                  <a:lnTo>
                    <a:pt x="2335" y="1496"/>
                  </a:lnTo>
                  <a:lnTo>
                    <a:pt x="2225" y="1515"/>
                  </a:lnTo>
                  <a:lnTo>
                    <a:pt x="2092" y="1545"/>
                  </a:lnTo>
                  <a:lnTo>
                    <a:pt x="1955" y="1582"/>
                  </a:lnTo>
                  <a:lnTo>
                    <a:pt x="1885" y="1600"/>
                  </a:lnTo>
                  <a:lnTo>
                    <a:pt x="1819" y="1614"/>
                  </a:lnTo>
                  <a:lnTo>
                    <a:pt x="1749" y="1622"/>
                  </a:lnTo>
                  <a:lnTo>
                    <a:pt x="1678" y="1626"/>
                  </a:lnTo>
                  <a:lnTo>
                    <a:pt x="1607" y="1626"/>
                  </a:lnTo>
                  <a:lnTo>
                    <a:pt x="1529" y="1622"/>
                  </a:lnTo>
                  <a:lnTo>
                    <a:pt x="1362" y="1606"/>
                  </a:lnTo>
                  <a:lnTo>
                    <a:pt x="1173" y="1580"/>
                  </a:lnTo>
                  <a:lnTo>
                    <a:pt x="1071" y="1561"/>
                  </a:lnTo>
                  <a:lnTo>
                    <a:pt x="969" y="1535"/>
                  </a:lnTo>
                  <a:lnTo>
                    <a:pt x="920" y="1517"/>
                  </a:lnTo>
                  <a:lnTo>
                    <a:pt x="869" y="1498"/>
                  </a:lnTo>
                  <a:lnTo>
                    <a:pt x="817" y="1475"/>
                  </a:lnTo>
                  <a:lnTo>
                    <a:pt x="768" y="1448"/>
                  </a:lnTo>
                  <a:lnTo>
                    <a:pt x="717" y="1417"/>
                  </a:lnTo>
                  <a:lnTo>
                    <a:pt x="670" y="1383"/>
                  </a:lnTo>
                  <a:lnTo>
                    <a:pt x="620" y="1341"/>
                  </a:lnTo>
                  <a:lnTo>
                    <a:pt x="574" y="1298"/>
                  </a:lnTo>
                  <a:lnTo>
                    <a:pt x="480" y="1200"/>
                  </a:lnTo>
                  <a:lnTo>
                    <a:pt x="387" y="1095"/>
                  </a:lnTo>
                  <a:lnTo>
                    <a:pt x="299" y="992"/>
                  </a:lnTo>
                  <a:lnTo>
                    <a:pt x="218" y="894"/>
                  </a:lnTo>
                  <a:lnTo>
                    <a:pt x="85" y="730"/>
                  </a:lnTo>
                  <a:lnTo>
                    <a:pt x="18" y="638"/>
                  </a:lnTo>
                  <a:lnTo>
                    <a:pt x="8" y="622"/>
                  </a:lnTo>
                  <a:lnTo>
                    <a:pt x="3" y="606"/>
                  </a:lnTo>
                  <a:lnTo>
                    <a:pt x="0" y="593"/>
                  </a:lnTo>
                  <a:lnTo>
                    <a:pt x="4" y="588"/>
                  </a:lnTo>
                  <a:lnTo>
                    <a:pt x="12" y="588"/>
                  </a:lnTo>
                  <a:lnTo>
                    <a:pt x="24" y="591"/>
                  </a:lnTo>
                  <a:lnTo>
                    <a:pt x="40" y="601"/>
                  </a:lnTo>
                  <a:lnTo>
                    <a:pt x="60" y="619"/>
                  </a:lnTo>
                  <a:lnTo>
                    <a:pt x="87" y="645"/>
                  </a:lnTo>
                  <a:lnTo>
                    <a:pt x="129" y="679"/>
                  </a:lnTo>
                  <a:lnTo>
                    <a:pt x="184" y="719"/>
                  </a:lnTo>
                  <a:lnTo>
                    <a:pt x="255" y="763"/>
                  </a:lnTo>
                  <a:lnTo>
                    <a:pt x="344" y="808"/>
                  </a:lnTo>
                  <a:lnTo>
                    <a:pt x="395" y="832"/>
                  </a:lnTo>
                  <a:lnTo>
                    <a:pt x="450" y="854"/>
                  </a:lnTo>
                  <a:lnTo>
                    <a:pt x="509" y="874"/>
                  </a:lnTo>
                  <a:lnTo>
                    <a:pt x="574" y="894"/>
                  </a:lnTo>
                  <a:lnTo>
                    <a:pt x="646" y="912"/>
                  </a:lnTo>
                  <a:lnTo>
                    <a:pt x="720" y="927"/>
                  </a:lnTo>
                  <a:lnTo>
                    <a:pt x="869" y="957"/>
                  </a:lnTo>
                  <a:lnTo>
                    <a:pt x="1001" y="986"/>
                  </a:lnTo>
                  <a:lnTo>
                    <a:pt x="1123" y="1017"/>
                  </a:lnTo>
                  <a:lnTo>
                    <a:pt x="1238" y="1056"/>
                  </a:lnTo>
                  <a:lnTo>
                    <a:pt x="1348" y="1095"/>
                  </a:lnTo>
                  <a:lnTo>
                    <a:pt x="1463" y="1145"/>
                  </a:lnTo>
                  <a:lnTo>
                    <a:pt x="1581" y="1200"/>
                  </a:lnTo>
                  <a:lnTo>
                    <a:pt x="1707" y="1266"/>
                  </a:lnTo>
                  <a:lnTo>
                    <a:pt x="1772" y="1300"/>
                  </a:lnTo>
                  <a:lnTo>
                    <a:pt x="1842" y="1329"/>
                  </a:lnTo>
                  <a:lnTo>
                    <a:pt x="1913" y="1357"/>
                  </a:lnTo>
                  <a:lnTo>
                    <a:pt x="1987" y="1379"/>
                  </a:lnTo>
                  <a:lnTo>
                    <a:pt x="2067" y="1397"/>
                  </a:lnTo>
                  <a:lnTo>
                    <a:pt x="2146" y="1407"/>
                  </a:lnTo>
                  <a:lnTo>
                    <a:pt x="2228" y="1409"/>
                  </a:lnTo>
                  <a:lnTo>
                    <a:pt x="2311" y="1402"/>
                  </a:lnTo>
                  <a:lnTo>
                    <a:pt x="2236" y="1361"/>
                  </a:lnTo>
                  <a:lnTo>
                    <a:pt x="2175" y="1331"/>
                  </a:lnTo>
                  <a:lnTo>
                    <a:pt x="2078" y="1289"/>
                  </a:lnTo>
                  <a:lnTo>
                    <a:pt x="1994" y="1250"/>
                  </a:lnTo>
                  <a:lnTo>
                    <a:pt x="1948" y="1224"/>
                  </a:lnTo>
                  <a:lnTo>
                    <a:pt x="1897" y="1193"/>
                  </a:lnTo>
                  <a:lnTo>
                    <a:pt x="1840" y="1158"/>
                  </a:lnTo>
                  <a:lnTo>
                    <a:pt x="1786" y="1116"/>
                  </a:lnTo>
                  <a:lnTo>
                    <a:pt x="1733" y="1073"/>
                  </a:lnTo>
                  <a:lnTo>
                    <a:pt x="1682" y="1025"/>
                  </a:lnTo>
                  <a:lnTo>
                    <a:pt x="1631" y="975"/>
                  </a:lnTo>
                  <a:lnTo>
                    <a:pt x="1583" y="917"/>
                  </a:lnTo>
                  <a:lnTo>
                    <a:pt x="1536" y="856"/>
                  </a:lnTo>
                  <a:lnTo>
                    <a:pt x="1492" y="787"/>
                  </a:lnTo>
                  <a:lnTo>
                    <a:pt x="1451" y="714"/>
                  </a:lnTo>
                  <a:lnTo>
                    <a:pt x="1416" y="638"/>
                  </a:lnTo>
                  <a:lnTo>
                    <a:pt x="1385" y="566"/>
                  </a:lnTo>
                  <a:lnTo>
                    <a:pt x="1362" y="493"/>
                  </a:lnTo>
                  <a:lnTo>
                    <a:pt x="1343" y="426"/>
                  </a:lnTo>
                  <a:lnTo>
                    <a:pt x="1327" y="365"/>
                  </a:lnTo>
                  <a:lnTo>
                    <a:pt x="1317" y="311"/>
                  </a:lnTo>
                  <a:lnTo>
                    <a:pt x="1311" y="269"/>
                  </a:lnTo>
                  <a:lnTo>
                    <a:pt x="1307" y="201"/>
                  </a:lnTo>
                  <a:lnTo>
                    <a:pt x="1307" y="146"/>
                  </a:lnTo>
                  <a:lnTo>
                    <a:pt x="1307" y="101"/>
                  </a:lnTo>
                  <a:lnTo>
                    <a:pt x="1303" y="78"/>
                  </a:lnTo>
                  <a:lnTo>
                    <a:pt x="1296" y="60"/>
                  </a:lnTo>
                  <a:lnTo>
                    <a:pt x="1287" y="28"/>
                  </a:lnTo>
                  <a:lnTo>
                    <a:pt x="1287" y="13"/>
                  </a:lnTo>
                  <a:lnTo>
                    <a:pt x="1289" y="5"/>
                  </a:lnTo>
                  <a:lnTo>
                    <a:pt x="1295" y="0"/>
                  </a:lnTo>
                  <a:lnTo>
                    <a:pt x="1304" y="2"/>
                  </a:lnTo>
                  <a:lnTo>
                    <a:pt x="1317" y="10"/>
                  </a:lnTo>
                  <a:lnTo>
                    <a:pt x="1330" y="25"/>
                  </a:lnTo>
                  <a:lnTo>
                    <a:pt x="1377" y="83"/>
                  </a:lnTo>
                  <a:lnTo>
                    <a:pt x="1451" y="159"/>
                  </a:lnTo>
                  <a:lnTo>
                    <a:pt x="1542" y="250"/>
                  </a:lnTo>
                  <a:lnTo>
                    <a:pt x="1594" y="295"/>
                  </a:lnTo>
                  <a:lnTo>
                    <a:pt x="1646" y="341"/>
                  </a:lnTo>
                  <a:lnTo>
                    <a:pt x="1754" y="431"/>
                  </a:lnTo>
                  <a:lnTo>
                    <a:pt x="1808" y="481"/>
                  </a:lnTo>
                  <a:lnTo>
                    <a:pt x="1859" y="534"/>
                  </a:lnTo>
                  <a:lnTo>
                    <a:pt x="1911" y="591"/>
                  </a:lnTo>
                  <a:lnTo>
                    <a:pt x="1958" y="656"/>
                  </a:lnTo>
                  <a:lnTo>
                    <a:pt x="2005" y="727"/>
                  </a:lnTo>
                  <a:lnTo>
                    <a:pt x="2051" y="811"/>
                  </a:lnTo>
                  <a:lnTo>
                    <a:pt x="2123" y="965"/>
                  </a:lnTo>
                  <a:lnTo>
                    <a:pt x="2154" y="1030"/>
                  </a:lnTo>
                  <a:lnTo>
                    <a:pt x="2185" y="1088"/>
                  </a:lnTo>
                  <a:lnTo>
                    <a:pt x="2219" y="1145"/>
                  </a:lnTo>
                  <a:lnTo>
                    <a:pt x="2262" y="1200"/>
                  </a:lnTo>
                  <a:lnTo>
                    <a:pt x="2316" y="1255"/>
                  </a:lnTo>
                  <a:lnTo>
                    <a:pt x="2382" y="1312"/>
                  </a:lnTo>
                  <a:lnTo>
                    <a:pt x="2505" y="1404"/>
                  </a:lnTo>
                  <a:lnTo>
                    <a:pt x="2542" y="1436"/>
                  </a:lnTo>
                  <a:lnTo>
                    <a:pt x="2568" y="1460"/>
                  </a:lnTo>
                  <a:lnTo>
                    <a:pt x="2578" y="1473"/>
                  </a:lnTo>
                  <a:lnTo>
                    <a:pt x="2578" y="1480"/>
                  </a:lnTo>
                  <a:lnTo>
                    <a:pt x="2573" y="1483"/>
                  </a:lnTo>
                  <a:lnTo>
                    <a:pt x="2554" y="1488"/>
                  </a:lnTo>
                  <a:lnTo>
                    <a:pt x="2523" y="1490"/>
                  </a:lnTo>
                  <a:lnTo>
                    <a:pt x="2414" y="1490"/>
                  </a:lnTo>
                  <a:close/>
                </a:path>
              </a:pathLst>
            </a:custGeom>
            <a:blipFill rotWithShape="0">
              <a:blip r:embed="rId5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901440" y="1399320"/>
              <a:ext cx="251280" cy="215280"/>
            </a:xfrm>
            <a:custGeom>
              <a:avLst/>
              <a:gdLst/>
              <a:ahLst/>
              <a:rect l="l" t="t" r="r" b="b"/>
              <a:pathLst>
                <a:path w="1957" h="1859">
                  <a:moveTo>
                    <a:pt x="1883" y="1835"/>
                  </a:moveTo>
                  <a:lnTo>
                    <a:pt x="1547" y="1727"/>
                  </a:lnTo>
                  <a:lnTo>
                    <a:pt x="1298" y="1644"/>
                  </a:lnTo>
                  <a:lnTo>
                    <a:pt x="1091" y="1568"/>
                  </a:lnTo>
                  <a:lnTo>
                    <a:pt x="1002" y="1534"/>
                  </a:lnTo>
                  <a:lnTo>
                    <a:pt x="903" y="1486"/>
                  </a:lnTo>
                  <a:lnTo>
                    <a:pt x="799" y="1429"/>
                  </a:lnTo>
                  <a:lnTo>
                    <a:pt x="746" y="1395"/>
                  </a:lnTo>
                  <a:lnTo>
                    <a:pt x="695" y="1358"/>
                  </a:lnTo>
                  <a:lnTo>
                    <a:pt x="641" y="1318"/>
                  </a:lnTo>
                  <a:lnTo>
                    <a:pt x="590" y="1273"/>
                  </a:lnTo>
                  <a:lnTo>
                    <a:pt x="539" y="1225"/>
                  </a:lnTo>
                  <a:lnTo>
                    <a:pt x="491" y="1172"/>
                  </a:lnTo>
                  <a:lnTo>
                    <a:pt x="445" y="1115"/>
                  </a:lnTo>
                  <a:lnTo>
                    <a:pt x="405" y="1053"/>
                  </a:lnTo>
                  <a:lnTo>
                    <a:pt x="365" y="987"/>
                  </a:lnTo>
                  <a:lnTo>
                    <a:pt x="332" y="916"/>
                  </a:lnTo>
                  <a:lnTo>
                    <a:pt x="211" y="642"/>
                  </a:lnTo>
                  <a:lnTo>
                    <a:pt x="110" y="420"/>
                  </a:lnTo>
                  <a:lnTo>
                    <a:pt x="71" y="328"/>
                  </a:lnTo>
                  <a:lnTo>
                    <a:pt x="39" y="250"/>
                  </a:lnTo>
                  <a:lnTo>
                    <a:pt x="18" y="187"/>
                  </a:lnTo>
                  <a:lnTo>
                    <a:pt x="8" y="140"/>
                  </a:lnTo>
                  <a:lnTo>
                    <a:pt x="0" y="77"/>
                  </a:lnTo>
                  <a:lnTo>
                    <a:pt x="0" y="43"/>
                  </a:lnTo>
                  <a:lnTo>
                    <a:pt x="4" y="25"/>
                  </a:lnTo>
                  <a:lnTo>
                    <a:pt x="8" y="14"/>
                  </a:lnTo>
                  <a:lnTo>
                    <a:pt x="13" y="6"/>
                  </a:lnTo>
                  <a:lnTo>
                    <a:pt x="20" y="0"/>
                  </a:lnTo>
                  <a:lnTo>
                    <a:pt x="28" y="2"/>
                  </a:lnTo>
                  <a:lnTo>
                    <a:pt x="37" y="12"/>
                  </a:lnTo>
                  <a:lnTo>
                    <a:pt x="91" y="90"/>
                  </a:lnTo>
                  <a:lnTo>
                    <a:pt x="209" y="258"/>
                  </a:lnTo>
                  <a:lnTo>
                    <a:pt x="284" y="357"/>
                  </a:lnTo>
                  <a:lnTo>
                    <a:pt x="363" y="454"/>
                  </a:lnTo>
                  <a:lnTo>
                    <a:pt x="442" y="543"/>
                  </a:lnTo>
                  <a:lnTo>
                    <a:pt x="481" y="582"/>
                  </a:lnTo>
                  <a:lnTo>
                    <a:pt x="521" y="616"/>
                  </a:lnTo>
                  <a:lnTo>
                    <a:pt x="598" y="679"/>
                  </a:lnTo>
                  <a:lnTo>
                    <a:pt x="677" y="738"/>
                  </a:lnTo>
                  <a:lnTo>
                    <a:pt x="840" y="852"/>
                  </a:lnTo>
                  <a:lnTo>
                    <a:pt x="992" y="959"/>
                  </a:lnTo>
                  <a:lnTo>
                    <a:pt x="1057" y="1011"/>
                  </a:lnTo>
                  <a:lnTo>
                    <a:pt x="1117" y="1058"/>
                  </a:lnTo>
                  <a:lnTo>
                    <a:pt x="1222" y="1157"/>
                  </a:lnTo>
                  <a:lnTo>
                    <a:pt x="1324" y="1259"/>
                  </a:lnTo>
                  <a:lnTo>
                    <a:pt x="1517" y="1458"/>
                  </a:lnTo>
                  <a:lnTo>
                    <a:pt x="1561" y="1502"/>
                  </a:lnTo>
                  <a:lnTo>
                    <a:pt x="1601" y="1539"/>
                  </a:lnTo>
                  <a:lnTo>
                    <a:pt x="1638" y="1568"/>
                  </a:lnTo>
                  <a:lnTo>
                    <a:pt x="1667" y="1591"/>
                  </a:lnTo>
                  <a:lnTo>
                    <a:pt x="1713" y="1618"/>
                  </a:lnTo>
                  <a:lnTo>
                    <a:pt x="1729" y="1626"/>
                  </a:lnTo>
                  <a:lnTo>
                    <a:pt x="1624" y="1462"/>
                  </a:lnTo>
                  <a:lnTo>
                    <a:pt x="1444" y="1192"/>
                  </a:lnTo>
                  <a:lnTo>
                    <a:pt x="1376" y="1087"/>
                  </a:lnTo>
                  <a:lnTo>
                    <a:pt x="1342" y="1034"/>
                  </a:lnTo>
                  <a:lnTo>
                    <a:pt x="1313" y="979"/>
                  </a:lnTo>
                  <a:lnTo>
                    <a:pt x="1289" y="919"/>
                  </a:lnTo>
                  <a:lnTo>
                    <a:pt x="1269" y="856"/>
                  </a:lnTo>
                  <a:lnTo>
                    <a:pt x="1256" y="789"/>
                  </a:lnTo>
                  <a:lnTo>
                    <a:pt x="1255" y="754"/>
                  </a:lnTo>
                  <a:lnTo>
                    <a:pt x="1253" y="716"/>
                  </a:lnTo>
                  <a:lnTo>
                    <a:pt x="1259" y="361"/>
                  </a:lnTo>
                  <a:lnTo>
                    <a:pt x="1267" y="126"/>
                  </a:lnTo>
                  <a:lnTo>
                    <a:pt x="1271" y="98"/>
                  </a:lnTo>
                  <a:lnTo>
                    <a:pt x="1273" y="89"/>
                  </a:lnTo>
                  <a:lnTo>
                    <a:pt x="1277" y="85"/>
                  </a:lnTo>
                  <a:lnTo>
                    <a:pt x="1282" y="85"/>
                  </a:lnTo>
                  <a:lnTo>
                    <a:pt x="1290" y="89"/>
                  </a:lnTo>
                  <a:lnTo>
                    <a:pt x="1313" y="113"/>
                  </a:lnTo>
                  <a:lnTo>
                    <a:pt x="1358" y="171"/>
                  </a:lnTo>
                  <a:lnTo>
                    <a:pt x="1436" y="274"/>
                  </a:lnTo>
                  <a:lnTo>
                    <a:pt x="1481" y="338"/>
                  </a:lnTo>
                  <a:lnTo>
                    <a:pt x="1528" y="404"/>
                  </a:lnTo>
                  <a:lnTo>
                    <a:pt x="1573" y="477"/>
                  </a:lnTo>
                  <a:lnTo>
                    <a:pt x="1612" y="550"/>
                  </a:lnTo>
                  <a:lnTo>
                    <a:pt x="1650" y="626"/>
                  </a:lnTo>
                  <a:lnTo>
                    <a:pt x="1682" y="702"/>
                  </a:lnTo>
                  <a:lnTo>
                    <a:pt x="1709" y="775"/>
                  </a:lnTo>
                  <a:lnTo>
                    <a:pt x="1732" y="846"/>
                  </a:lnTo>
                  <a:lnTo>
                    <a:pt x="1750" y="912"/>
                  </a:lnTo>
                  <a:lnTo>
                    <a:pt x="1764" y="969"/>
                  </a:lnTo>
                  <a:lnTo>
                    <a:pt x="1772" y="1018"/>
                  </a:lnTo>
                  <a:lnTo>
                    <a:pt x="1774" y="1055"/>
                  </a:lnTo>
                  <a:lnTo>
                    <a:pt x="1776" y="1207"/>
                  </a:lnTo>
                  <a:lnTo>
                    <a:pt x="1782" y="1293"/>
                  </a:lnTo>
                  <a:lnTo>
                    <a:pt x="1794" y="1369"/>
                  </a:lnTo>
                  <a:lnTo>
                    <a:pt x="1821" y="1466"/>
                  </a:lnTo>
                  <a:lnTo>
                    <a:pt x="1861" y="1594"/>
                  </a:lnTo>
                  <a:lnTo>
                    <a:pt x="1904" y="1719"/>
                  </a:lnTo>
                  <a:lnTo>
                    <a:pt x="1938" y="1806"/>
                  </a:lnTo>
                  <a:lnTo>
                    <a:pt x="1955" y="1845"/>
                  </a:lnTo>
                  <a:lnTo>
                    <a:pt x="1957" y="1855"/>
                  </a:lnTo>
                  <a:lnTo>
                    <a:pt x="1954" y="1859"/>
                  </a:lnTo>
                  <a:lnTo>
                    <a:pt x="1944" y="1859"/>
                  </a:lnTo>
                  <a:lnTo>
                    <a:pt x="1930" y="1855"/>
                  </a:lnTo>
                  <a:lnTo>
                    <a:pt x="1883" y="1835"/>
                  </a:lnTo>
                  <a:close/>
                </a:path>
              </a:pathLst>
            </a:custGeom>
            <a:blipFill rotWithShape="0">
              <a:blip r:embed="rId5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921240" y="1388880"/>
              <a:ext cx="114840" cy="93600"/>
            </a:xfrm>
            <a:custGeom>
              <a:avLst/>
              <a:gdLst/>
              <a:ahLst/>
              <a:rect l="l" t="t" r="r" b="b"/>
              <a:pathLst>
                <a:path w="899" h="803">
                  <a:moveTo>
                    <a:pt x="0" y="0"/>
                  </a:moveTo>
                  <a:lnTo>
                    <a:pt x="121" y="134"/>
                  </a:lnTo>
                  <a:lnTo>
                    <a:pt x="236" y="257"/>
                  </a:lnTo>
                  <a:lnTo>
                    <a:pt x="295" y="317"/>
                  </a:lnTo>
                  <a:lnTo>
                    <a:pt x="354" y="373"/>
                  </a:lnTo>
                  <a:lnTo>
                    <a:pt x="484" y="493"/>
                  </a:lnTo>
                  <a:lnTo>
                    <a:pt x="626" y="620"/>
                  </a:lnTo>
                  <a:lnTo>
                    <a:pt x="745" y="726"/>
                  </a:lnTo>
                  <a:lnTo>
                    <a:pt x="806" y="785"/>
                  </a:lnTo>
                  <a:lnTo>
                    <a:pt x="824" y="801"/>
                  </a:lnTo>
                  <a:lnTo>
                    <a:pt x="830" y="803"/>
                  </a:lnTo>
                  <a:lnTo>
                    <a:pt x="835" y="803"/>
                  </a:lnTo>
                  <a:lnTo>
                    <a:pt x="840" y="798"/>
                  </a:lnTo>
                  <a:lnTo>
                    <a:pt x="843" y="788"/>
                  </a:lnTo>
                  <a:lnTo>
                    <a:pt x="848" y="762"/>
                  </a:lnTo>
                  <a:lnTo>
                    <a:pt x="855" y="565"/>
                  </a:lnTo>
                  <a:lnTo>
                    <a:pt x="866" y="422"/>
                  </a:lnTo>
                  <a:lnTo>
                    <a:pt x="879" y="298"/>
                  </a:lnTo>
                  <a:lnTo>
                    <a:pt x="891" y="194"/>
                  </a:lnTo>
                  <a:lnTo>
                    <a:pt x="897" y="99"/>
                  </a:lnTo>
                  <a:lnTo>
                    <a:pt x="899" y="0"/>
                  </a:lnTo>
                  <a:lnTo>
                    <a:pt x="573" y="0"/>
                  </a:lnTo>
                  <a:lnTo>
                    <a:pt x="617" y="115"/>
                  </a:lnTo>
                  <a:lnTo>
                    <a:pt x="650" y="213"/>
                  </a:lnTo>
                  <a:lnTo>
                    <a:pt x="675" y="298"/>
                  </a:lnTo>
                  <a:lnTo>
                    <a:pt x="690" y="359"/>
                  </a:lnTo>
                  <a:lnTo>
                    <a:pt x="696" y="401"/>
                  </a:lnTo>
                  <a:lnTo>
                    <a:pt x="698" y="432"/>
                  </a:lnTo>
                  <a:lnTo>
                    <a:pt x="686" y="421"/>
                  </a:lnTo>
                  <a:lnTo>
                    <a:pt x="659" y="380"/>
                  </a:lnTo>
                  <a:lnTo>
                    <a:pt x="617" y="310"/>
                  </a:lnTo>
                  <a:lnTo>
                    <a:pt x="593" y="259"/>
                  </a:lnTo>
                  <a:lnTo>
                    <a:pt x="567" y="199"/>
                  </a:lnTo>
                  <a:lnTo>
                    <a:pt x="500" y="34"/>
                  </a:lnTo>
                  <a:lnTo>
                    <a:pt x="489" y="0"/>
                  </a:lnTo>
                  <a:lnTo>
                    <a:pt x="0" y="0"/>
                  </a:lnTo>
                  <a:close/>
                </a:path>
              </a:pathLst>
            </a:custGeom>
            <a:blipFill rotWithShape="0">
              <a:blip r:embed="rId5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895680" y="880200"/>
              <a:ext cx="73440" cy="174240"/>
            </a:xfrm>
            <a:custGeom>
              <a:avLst/>
              <a:gdLst/>
              <a:ahLst/>
              <a:rect l="l" t="t" r="r" b="b"/>
              <a:pathLst>
                <a:path w="581" h="1497">
                  <a:moveTo>
                    <a:pt x="0" y="1497"/>
                  </a:moveTo>
                  <a:lnTo>
                    <a:pt x="0" y="1446"/>
                  </a:lnTo>
                  <a:lnTo>
                    <a:pt x="5" y="1385"/>
                  </a:lnTo>
                  <a:lnTo>
                    <a:pt x="10" y="1304"/>
                  </a:lnTo>
                  <a:lnTo>
                    <a:pt x="22" y="1206"/>
                  </a:lnTo>
                  <a:lnTo>
                    <a:pt x="40" y="1093"/>
                  </a:lnTo>
                  <a:lnTo>
                    <a:pt x="68" y="968"/>
                  </a:lnTo>
                  <a:lnTo>
                    <a:pt x="103" y="837"/>
                  </a:lnTo>
                  <a:lnTo>
                    <a:pt x="147" y="706"/>
                  </a:lnTo>
                  <a:lnTo>
                    <a:pt x="192" y="587"/>
                  </a:lnTo>
                  <a:lnTo>
                    <a:pt x="239" y="477"/>
                  </a:lnTo>
                  <a:lnTo>
                    <a:pt x="291" y="374"/>
                  </a:lnTo>
                  <a:lnTo>
                    <a:pt x="343" y="280"/>
                  </a:lnTo>
                  <a:lnTo>
                    <a:pt x="403" y="191"/>
                  </a:lnTo>
                  <a:lnTo>
                    <a:pt x="466" y="105"/>
                  </a:lnTo>
                  <a:lnTo>
                    <a:pt x="536" y="21"/>
                  </a:lnTo>
                  <a:lnTo>
                    <a:pt x="555" y="6"/>
                  </a:lnTo>
                  <a:lnTo>
                    <a:pt x="563" y="1"/>
                  </a:lnTo>
                  <a:lnTo>
                    <a:pt x="571" y="0"/>
                  </a:lnTo>
                  <a:lnTo>
                    <a:pt x="576" y="1"/>
                  </a:lnTo>
                  <a:lnTo>
                    <a:pt x="581" y="9"/>
                  </a:lnTo>
                  <a:lnTo>
                    <a:pt x="581" y="19"/>
                  </a:lnTo>
                  <a:lnTo>
                    <a:pt x="575" y="37"/>
                  </a:lnTo>
                  <a:lnTo>
                    <a:pt x="547" y="108"/>
                  </a:lnTo>
                  <a:lnTo>
                    <a:pt x="528" y="170"/>
                  </a:lnTo>
                  <a:lnTo>
                    <a:pt x="505" y="252"/>
                  </a:lnTo>
                  <a:lnTo>
                    <a:pt x="484" y="353"/>
                  </a:lnTo>
                  <a:lnTo>
                    <a:pt x="466" y="477"/>
                  </a:lnTo>
                  <a:lnTo>
                    <a:pt x="460" y="547"/>
                  </a:lnTo>
                  <a:lnTo>
                    <a:pt x="455" y="623"/>
                  </a:lnTo>
                  <a:lnTo>
                    <a:pt x="450" y="704"/>
                  </a:lnTo>
                  <a:lnTo>
                    <a:pt x="450" y="793"/>
                  </a:lnTo>
                  <a:lnTo>
                    <a:pt x="453" y="1037"/>
                  </a:lnTo>
                  <a:lnTo>
                    <a:pt x="458" y="1140"/>
                  </a:lnTo>
                  <a:lnTo>
                    <a:pt x="464" y="1245"/>
                  </a:lnTo>
                  <a:lnTo>
                    <a:pt x="466" y="1343"/>
                  </a:lnTo>
                  <a:lnTo>
                    <a:pt x="468" y="1497"/>
                  </a:lnTo>
                  <a:lnTo>
                    <a:pt x="0" y="1497"/>
                  </a:lnTo>
                  <a:close/>
                </a:path>
              </a:pathLst>
            </a:custGeom>
            <a:blipFill rotWithShape="0">
              <a:blip r:embed="rId54"/>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974160" y="952920"/>
              <a:ext cx="110520" cy="101880"/>
            </a:xfrm>
            <a:custGeom>
              <a:avLst/>
              <a:gdLst/>
              <a:ahLst/>
              <a:rect l="l" t="t" r="r" b="b"/>
              <a:pathLst>
                <a:path w="866" h="876">
                  <a:moveTo>
                    <a:pt x="0" y="876"/>
                  </a:moveTo>
                  <a:lnTo>
                    <a:pt x="162" y="726"/>
                  </a:lnTo>
                  <a:lnTo>
                    <a:pt x="325" y="569"/>
                  </a:lnTo>
                  <a:lnTo>
                    <a:pt x="416" y="476"/>
                  </a:lnTo>
                  <a:lnTo>
                    <a:pt x="510" y="381"/>
                  </a:lnTo>
                  <a:lnTo>
                    <a:pt x="660" y="221"/>
                  </a:lnTo>
                  <a:lnTo>
                    <a:pt x="748" y="125"/>
                  </a:lnTo>
                  <a:lnTo>
                    <a:pt x="793" y="70"/>
                  </a:lnTo>
                  <a:lnTo>
                    <a:pt x="814" y="34"/>
                  </a:lnTo>
                  <a:lnTo>
                    <a:pt x="824" y="20"/>
                  </a:lnTo>
                  <a:lnTo>
                    <a:pt x="834" y="10"/>
                  </a:lnTo>
                  <a:lnTo>
                    <a:pt x="844" y="2"/>
                  </a:lnTo>
                  <a:lnTo>
                    <a:pt x="853" y="0"/>
                  </a:lnTo>
                  <a:lnTo>
                    <a:pt x="860" y="2"/>
                  </a:lnTo>
                  <a:lnTo>
                    <a:pt x="864" y="10"/>
                  </a:lnTo>
                  <a:lnTo>
                    <a:pt x="866" y="23"/>
                  </a:lnTo>
                  <a:lnTo>
                    <a:pt x="861" y="44"/>
                  </a:lnTo>
                  <a:lnTo>
                    <a:pt x="829" y="154"/>
                  </a:lnTo>
                  <a:lnTo>
                    <a:pt x="757" y="360"/>
                  </a:lnTo>
                  <a:lnTo>
                    <a:pt x="709" y="483"/>
                  </a:lnTo>
                  <a:lnTo>
                    <a:pt x="654" y="614"/>
                  </a:lnTo>
                  <a:lnTo>
                    <a:pt x="594" y="748"/>
                  </a:lnTo>
                  <a:lnTo>
                    <a:pt x="528" y="876"/>
                  </a:lnTo>
                  <a:lnTo>
                    <a:pt x="0" y="876"/>
                  </a:lnTo>
                  <a:close/>
                </a:path>
              </a:pathLst>
            </a:custGeom>
            <a:blipFill rotWithShape="0">
              <a:blip r:embed="rId55"/>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974160" y="786240"/>
              <a:ext cx="177120" cy="239400"/>
            </a:xfrm>
            <a:custGeom>
              <a:avLst/>
              <a:gdLst/>
              <a:ahLst/>
              <a:rect l="l" t="t" r="r" b="b"/>
              <a:pathLst>
                <a:path w="1386" h="2062">
                  <a:moveTo>
                    <a:pt x="0" y="1246"/>
                  </a:moveTo>
                  <a:lnTo>
                    <a:pt x="4" y="1125"/>
                  </a:lnTo>
                  <a:lnTo>
                    <a:pt x="18" y="998"/>
                  </a:lnTo>
                  <a:lnTo>
                    <a:pt x="28" y="932"/>
                  </a:lnTo>
                  <a:lnTo>
                    <a:pt x="42" y="866"/>
                  </a:lnTo>
                  <a:lnTo>
                    <a:pt x="57" y="801"/>
                  </a:lnTo>
                  <a:lnTo>
                    <a:pt x="78" y="736"/>
                  </a:lnTo>
                  <a:lnTo>
                    <a:pt x="101" y="670"/>
                  </a:lnTo>
                  <a:lnTo>
                    <a:pt x="128" y="605"/>
                  </a:lnTo>
                  <a:lnTo>
                    <a:pt x="160" y="542"/>
                  </a:lnTo>
                  <a:lnTo>
                    <a:pt x="196" y="481"/>
                  </a:lnTo>
                  <a:lnTo>
                    <a:pt x="237" y="422"/>
                  </a:lnTo>
                  <a:lnTo>
                    <a:pt x="282" y="364"/>
                  </a:lnTo>
                  <a:lnTo>
                    <a:pt x="332" y="309"/>
                  </a:lnTo>
                  <a:lnTo>
                    <a:pt x="387" y="256"/>
                  </a:lnTo>
                  <a:lnTo>
                    <a:pt x="531" y="128"/>
                  </a:lnTo>
                  <a:lnTo>
                    <a:pt x="624" y="37"/>
                  </a:lnTo>
                  <a:lnTo>
                    <a:pt x="657" y="8"/>
                  </a:lnTo>
                  <a:lnTo>
                    <a:pt x="669" y="1"/>
                  </a:lnTo>
                  <a:lnTo>
                    <a:pt x="679" y="0"/>
                  </a:lnTo>
                  <a:lnTo>
                    <a:pt x="685" y="3"/>
                  </a:lnTo>
                  <a:lnTo>
                    <a:pt x="685" y="13"/>
                  </a:lnTo>
                  <a:lnTo>
                    <a:pt x="679" y="31"/>
                  </a:lnTo>
                  <a:lnTo>
                    <a:pt x="667" y="55"/>
                  </a:lnTo>
                  <a:lnTo>
                    <a:pt x="628" y="132"/>
                  </a:lnTo>
                  <a:lnTo>
                    <a:pt x="601" y="186"/>
                  </a:lnTo>
                  <a:lnTo>
                    <a:pt x="570" y="252"/>
                  </a:lnTo>
                  <a:lnTo>
                    <a:pt x="541" y="331"/>
                  </a:lnTo>
                  <a:lnTo>
                    <a:pt x="510" y="424"/>
                  </a:lnTo>
                  <a:lnTo>
                    <a:pt x="478" y="531"/>
                  </a:lnTo>
                  <a:lnTo>
                    <a:pt x="448" y="655"/>
                  </a:lnTo>
                  <a:lnTo>
                    <a:pt x="393" y="905"/>
                  </a:lnTo>
                  <a:lnTo>
                    <a:pt x="337" y="1134"/>
                  </a:lnTo>
                  <a:lnTo>
                    <a:pt x="279" y="1343"/>
                  </a:lnTo>
                  <a:lnTo>
                    <a:pt x="215" y="1535"/>
                  </a:lnTo>
                  <a:lnTo>
                    <a:pt x="334" y="1318"/>
                  </a:lnTo>
                  <a:lnTo>
                    <a:pt x="384" y="1235"/>
                  </a:lnTo>
                  <a:lnTo>
                    <a:pt x="432" y="1164"/>
                  </a:lnTo>
                  <a:lnTo>
                    <a:pt x="460" y="1130"/>
                  </a:lnTo>
                  <a:lnTo>
                    <a:pt x="492" y="1099"/>
                  </a:lnTo>
                  <a:lnTo>
                    <a:pt x="525" y="1067"/>
                  </a:lnTo>
                  <a:lnTo>
                    <a:pt x="562" y="1036"/>
                  </a:lnTo>
                  <a:lnTo>
                    <a:pt x="654" y="968"/>
                  </a:lnTo>
                  <a:lnTo>
                    <a:pt x="772" y="893"/>
                  </a:lnTo>
                  <a:lnTo>
                    <a:pt x="894" y="814"/>
                  </a:lnTo>
                  <a:lnTo>
                    <a:pt x="1002" y="740"/>
                  </a:lnTo>
                  <a:lnTo>
                    <a:pt x="1093" y="667"/>
                  </a:lnTo>
                  <a:lnTo>
                    <a:pt x="1171" y="599"/>
                  </a:lnTo>
                  <a:lnTo>
                    <a:pt x="1232" y="540"/>
                  </a:lnTo>
                  <a:lnTo>
                    <a:pt x="1281" y="489"/>
                  </a:lnTo>
                  <a:lnTo>
                    <a:pt x="1315" y="445"/>
                  </a:lnTo>
                  <a:lnTo>
                    <a:pt x="1336" y="414"/>
                  </a:lnTo>
                  <a:lnTo>
                    <a:pt x="1350" y="392"/>
                  </a:lnTo>
                  <a:lnTo>
                    <a:pt x="1362" y="379"/>
                  </a:lnTo>
                  <a:lnTo>
                    <a:pt x="1371" y="371"/>
                  </a:lnTo>
                  <a:lnTo>
                    <a:pt x="1379" y="371"/>
                  </a:lnTo>
                  <a:lnTo>
                    <a:pt x="1384" y="377"/>
                  </a:lnTo>
                  <a:lnTo>
                    <a:pt x="1386" y="388"/>
                  </a:lnTo>
                  <a:lnTo>
                    <a:pt x="1384" y="406"/>
                  </a:lnTo>
                  <a:lnTo>
                    <a:pt x="1378" y="427"/>
                  </a:lnTo>
                  <a:lnTo>
                    <a:pt x="1363" y="467"/>
                  </a:lnTo>
                  <a:lnTo>
                    <a:pt x="1339" y="534"/>
                  </a:lnTo>
                  <a:lnTo>
                    <a:pt x="1300" y="623"/>
                  </a:lnTo>
                  <a:lnTo>
                    <a:pt x="1250" y="728"/>
                  </a:lnTo>
                  <a:lnTo>
                    <a:pt x="1185" y="845"/>
                  </a:lnTo>
                  <a:lnTo>
                    <a:pt x="1146" y="903"/>
                  </a:lnTo>
                  <a:lnTo>
                    <a:pt x="1104" y="965"/>
                  </a:lnTo>
                  <a:lnTo>
                    <a:pt x="1059" y="1026"/>
                  </a:lnTo>
                  <a:lnTo>
                    <a:pt x="1007" y="1086"/>
                  </a:lnTo>
                  <a:lnTo>
                    <a:pt x="954" y="1146"/>
                  </a:lnTo>
                  <a:lnTo>
                    <a:pt x="894" y="1203"/>
                  </a:lnTo>
                  <a:lnTo>
                    <a:pt x="772" y="1311"/>
                  </a:lnTo>
                  <a:lnTo>
                    <a:pt x="648" y="1418"/>
                  </a:lnTo>
                  <a:lnTo>
                    <a:pt x="529" y="1521"/>
                  </a:lnTo>
                  <a:lnTo>
                    <a:pt x="415" y="1622"/>
                  </a:lnTo>
                  <a:lnTo>
                    <a:pt x="310" y="1720"/>
                  </a:lnTo>
                  <a:lnTo>
                    <a:pt x="263" y="1769"/>
                  </a:lnTo>
                  <a:lnTo>
                    <a:pt x="217" y="1819"/>
                  </a:lnTo>
                  <a:lnTo>
                    <a:pt x="178" y="1866"/>
                  </a:lnTo>
                  <a:lnTo>
                    <a:pt x="141" y="1915"/>
                  </a:lnTo>
                  <a:lnTo>
                    <a:pt x="109" y="1965"/>
                  </a:lnTo>
                  <a:lnTo>
                    <a:pt x="83" y="2014"/>
                  </a:lnTo>
                  <a:lnTo>
                    <a:pt x="65" y="2046"/>
                  </a:lnTo>
                  <a:lnTo>
                    <a:pt x="55" y="2056"/>
                  </a:lnTo>
                  <a:lnTo>
                    <a:pt x="47" y="2062"/>
                  </a:lnTo>
                  <a:lnTo>
                    <a:pt x="39" y="2059"/>
                  </a:lnTo>
                  <a:lnTo>
                    <a:pt x="34" y="2052"/>
                  </a:lnTo>
                  <a:lnTo>
                    <a:pt x="30" y="2032"/>
                  </a:lnTo>
                  <a:lnTo>
                    <a:pt x="28" y="2001"/>
                  </a:lnTo>
                  <a:lnTo>
                    <a:pt x="12" y="1722"/>
                  </a:lnTo>
                  <a:lnTo>
                    <a:pt x="4" y="1503"/>
                  </a:lnTo>
                  <a:lnTo>
                    <a:pt x="0" y="1379"/>
                  </a:lnTo>
                  <a:lnTo>
                    <a:pt x="0" y="1246"/>
                  </a:lnTo>
                  <a:close/>
                </a:path>
              </a:pathLst>
            </a:custGeom>
            <a:blipFill rotWithShape="0">
              <a:blip r:embed="rId56"/>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1040040" y="738360"/>
              <a:ext cx="156600" cy="145440"/>
            </a:xfrm>
            <a:custGeom>
              <a:avLst/>
              <a:gdLst/>
              <a:ahLst/>
              <a:rect l="l" t="t" r="r" b="b"/>
              <a:pathLst>
                <a:path w="1222" h="1254">
                  <a:moveTo>
                    <a:pt x="8" y="1191"/>
                  </a:moveTo>
                  <a:lnTo>
                    <a:pt x="38" y="1081"/>
                  </a:lnTo>
                  <a:lnTo>
                    <a:pt x="67" y="992"/>
                  </a:lnTo>
                  <a:lnTo>
                    <a:pt x="109" y="891"/>
                  </a:lnTo>
                  <a:lnTo>
                    <a:pt x="162" y="780"/>
                  </a:lnTo>
                  <a:lnTo>
                    <a:pt x="193" y="723"/>
                  </a:lnTo>
                  <a:lnTo>
                    <a:pt x="229" y="667"/>
                  </a:lnTo>
                  <a:lnTo>
                    <a:pt x="269" y="611"/>
                  </a:lnTo>
                  <a:lnTo>
                    <a:pt x="313" y="558"/>
                  </a:lnTo>
                  <a:lnTo>
                    <a:pt x="360" y="506"/>
                  </a:lnTo>
                  <a:lnTo>
                    <a:pt x="413" y="458"/>
                  </a:lnTo>
                  <a:lnTo>
                    <a:pt x="468" y="411"/>
                  </a:lnTo>
                  <a:lnTo>
                    <a:pt x="523" y="369"/>
                  </a:lnTo>
                  <a:lnTo>
                    <a:pt x="640" y="288"/>
                  </a:lnTo>
                  <a:lnTo>
                    <a:pt x="753" y="218"/>
                  </a:lnTo>
                  <a:lnTo>
                    <a:pt x="861" y="159"/>
                  </a:lnTo>
                  <a:lnTo>
                    <a:pt x="960" y="108"/>
                  </a:lnTo>
                  <a:lnTo>
                    <a:pt x="1043" y="68"/>
                  </a:lnTo>
                  <a:lnTo>
                    <a:pt x="1153" y="19"/>
                  </a:lnTo>
                  <a:lnTo>
                    <a:pt x="1179" y="8"/>
                  </a:lnTo>
                  <a:lnTo>
                    <a:pt x="1200" y="1"/>
                  </a:lnTo>
                  <a:lnTo>
                    <a:pt x="1214" y="0"/>
                  </a:lnTo>
                  <a:lnTo>
                    <a:pt x="1222" y="3"/>
                  </a:lnTo>
                  <a:lnTo>
                    <a:pt x="1222" y="11"/>
                  </a:lnTo>
                  <a:lnTo>
                    <a:pt x="1218" y="21"/>
                  </a:lnTo>
                  <a:lnTo>
                    <a:pt x="1206" y="37"/>
                  </a:lnTo>
                  <a:lnTo>
                    <a:pt x="1190" y="53"/>
                  </a:lnTo>
                  <a:lnTo>
                    <a:pt x="1127" y="121"/>
                  </a:lnTo>
                  <a:lnTo>
                    <a:pt x="1027" y="244"/>
                  </a:lnTo>
                  <a:lnTo>
                    <a:pt x="967" y="321"/>
                  </a:lnTo>
                  <a:lnTo>
                    <a:pt x="907" y="404"/>
                  </a:lnTo>
                  <a:lnTo>
                    <a:pt x="845" y="492"/>
                  </a:lnTo>
                  <a:lnTo>
                    <a:pt x="786" y="584"/>
                  </a:lnTo>
                  <a:lnTo>
                    <a:pt x="730" y="670"/>
                  </a:lnTo>
                  <a:lnTo>
                    <a:pt x="677" y="745"/>
                  </a:lnTo>
                  <a:lnTo>
                    <a:pt x="625" y="808"/>
                  </a:lnTo>
                  <a:lnTo>
                    <a:pt x="577" y="864"/>
                  </a:lnTo>
                  <a:lnTo>
                    <a:pt x="528" y="909"/>
                  </a:lnTo>
                  <a:lnTo>
                    <a:pt x="474" y="950"/>
                  </a:lnTo>
                  <a:lnTo>
                    <a:pt x="421" y="984"/>
                  </a:lnTo>
                  <a:lnTo>
                    <a:pt x="361" y="1015"/>
                  </a:lnTo>
                  <a:lnTo>
                    <a:pt x="247" y="1075"/>
                  </a:lnTo>
                  <a:lnTo>
                    <a:pt x="154" y="1132"/>
                  </a:lnTo>
                  <a:lnTo>
                    <a:pt x="85" y="1183"/>
                  </a:lnTo>
                  <a:lnTo>
                    <a:pt x="62" y="1204"/>
                  </a:lnTo>
                  <a:lnTo>
                    <a:pt x="46" y="1225"/>
                  </a:lnTo>
                  <a:lnTo>
                    <a:pt x="34" y="1240"/>
                  </a:lnTo>
                  <a:lnTo>
                    <a:pt x="22" y="1251"/>
                  </a:lnTo>
                  <a:lnTo>
                    <a:pt x="12" y="1254"/>
                  </a:lnTo>
                  <a:lnTo>
                    <a:pt x="7" y="1253"/>
                  </a:lnTo>
                  <a:lnTo>
                    <a:pt x="2" y="1244"/>
                  </a:lnTo>
                  <a:lnTo>
                    <a:pt x="0" y="1233"/>
                  </a:lnTo>
                  <a:lnTo>
                    <a:pt x="2" y="1215"/>
                  </a:lnTo>
                  <a:lnTo>
                    <a:pt x="8" y="1191"/>
                  </a:lnTo>
                  <a:close/>
                </a:path>
              </a:pathLst>
            </a:custGeom>
            <a:blipFill rotWithShape="0">
              <a:blip r:embed="rId57"/>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1383480" y="1676880"/>
              <a:ext cx="621000" cy="140760"/>
            </a:xfrm>
            <a:custGeom>
              <a:avLst/>
              <a:gdLst/>
              <a:ahLst/>
              <a:rect l="l" t="t" r="r" b="b"/>
              <a:pathLst>
                <a:path w="4842" h="1209">
                  <a:moveTo>
                    <a:pt x="0" y="1144"/>
                  </a:moveTo>
                  <a:lnTo>
                    <a:pt x="32" y="1110"/>
                  </a:lnTo>
                  <a:lnTo>
                    <a:pt x="119" y="1021"/>
                  </a:lnTo>
                  <a:lnTo>
                    <a:pt x="182" y="960"/>
                  </a:lnTo>
                  <a:lnTo>
                    <a:pt x="255" y="892"/>
                  </a:lnTo>
                  <a:lnTo>
                    <a:pt x="340" y="816"/>
                  </a:lnTo>
                  <a:lnTo>
                    <a:pt x="434" y="738"/>
                  </a:lnTo>
                  <a:lnTo>
                    <a:pt x="539" y="654"/>
                  </a:lnTo>
                  <a:lnTo>
                    <a:pt x="650" y="573"/>
                  </a:lnTo>
                  <a:lnTo>
                    <a:pt x="769" y="492"/>
                  </a:lnTo>
                  <a:lnTo>
                    <a:pt x="895" y="416"/>
                  </a:lnTo>
                  <a:lnTo>
                    <a:pt x="1025" y="343"/>
                  </a:lnTo>
                  <a:lnTo>
                    <a:pt x="1159" y="280"/>
                  </a:lnTo>
                  <a:lnTo>
                    <a:pt x="1229" y="250"/>
                  </a:lnTo>
                  <a:lnTo>
                    <a:pt x="1297" y="225"/>
                  </a:lnTo>
                  <a:lnTo>
                    <a:pt x="1368" y="201"/>
                  </a:lnTo>
                  <a:lnTo>
                    <a:pt x="1439" y="181"/>
                  </a:lnTo>
                  <a:lnTo>
                    <a:pt x="1680" y="118"/>
                  </a:lnTo>
                  <a:lnTo>
                    <a:pt x="1894" y="68"/>
                  </a:lnTo>
                  <a:lnTo>
                    <a:pt x="1990" y="49"/>
                  </a:lnTo>
                  <a:lnTo>
                    <a:pt x="2085" y="31"/>
                  </a:lnTo>
                  <a:lnTo>
                    <a:pt x="2176" y="18"/>
                  </a:lnTo>
                  <a:lnTo>
                    <a:pt x="2266" y="8"/>
                  </a:lnTo>
                  <a:lnTo>
                    <a:pt x="2355" y="2"/>
                  </a:lnTo>
                  <a:lnTo>
                    <a:pt x="2444" y="0"/>
                  </a:lnTo>
                  <a:lnTo>
                    <a:pt x="2535" y="0"/>
                  </a:lnTo>
                  <a:lnTo>
                    <a:pt x="2627" y="5"/>
                  </a:lnTo>
                  <a:lnTo>
                    <a:pt x="2724" y="15"/>
                  </a:lnTo>
                  <a:lnTo>
                    <a:pt x="2825" y="27"/>
                  </a:lnTo>
                  <a:lnTo>
                    <a:pt x="2930" y="45"/>
                  </a:lnTo>
                  <a:lnTo>
                    <a:pt x="3043" y="66"/>
                  </a:lnTo>
                  <a:lnTo>
                    <a:pt x="3275" y="120"/>
                  </a:lnTo>
                  <a:lnTo>
                    <a:pt x="3501" y="173"/>
                  </a:lnTo>
                  <a:lnTo>
                    <a:pt x="3723" y="222"/>
                  </a:lnTo>
                  <a:lnTo>
                    <a:pt x="3833" y="244"/>
                  </a:lnTo>
                  <a:lnTo>
                    <a:pt x="3942" y="262"/>
                  </a:lnTo>
                  <a:lnTo>
                    <a:pt x="4050" y="275"/>
                  </a:lnTo>
                  <a:lnTo>
                    <a:pt x="4157" y="288"/>
                  </a:lnTo>
                  <a:lnTo>
                    <a:pt x="4264" y="291"/>
                  </a:lnTo>
                  <a:lnTo>
                    <a:pt x="4369" y="291"/>
                  </a:lnTo>
                  <a:lnTo>
                    <a:pt x="4473" y="283"/>
                  </a:lnTo>
                  <a:lnTo>
                    <a:pt x="4578" y="267"/>
                  </a:lnTo>
                  <a:lnTo>
                    <a:pt x="4680" y="244"/>
                  </a:lnTo>
                  <a:lnTo>
                    <a:pt x="4781" y="212"/>
                  </a:lnTo>
                  <a:lnTo>
                    <a:pt x="4814" y="204"/>
                  </a:lnTo>
                  <a:lnTo>
                    <a:pt x="4827" y="204"/>
                  </a:lnTo>
                  <a:lnTo>
                    <a:pt x="4836" y="209"/>
                  </a:lnTo>
                  <a:lnTo>
                    <a:pt x="4842" y="214"/>
                  </a:lnTo>
                  <a:lnTo>
                    <a:pt x="4840" y="225"/>
                  </a:lnTo>
                  <a:lnTo>
                    <a:pt x="4835" y="236"/>
                  </a:lnTo>
                  <a:lnTo>
                    <a:pt x="4822" y="254"/>
                  </a:lnTo>
                  <a:lnTo>
                    <a:pt x="4785" y="295"/>
                  </a:lnTo>
                  <a:lnTo>
                    <a:pt x="4738" y="345"/>
                  </a:lnTo>
                  <a:lnTo>
                    <a:pt x="4680" y="398"/>
                  </a:lnTo>
                  <a:lnTo>
                    <a:pt x="4611" y="453"/>
                  </a:lnTo>
                  <a:lnTo>
                    <a:pt x="4561" y="481"/>
                  </a:lnTo>
                  <a:lnTo>
                    <a:pt x="4495" y="513"/>
                  </a:lnTo>
                  <a:lnTo>
                    <a:pt x="4411" y="542"/>
                  </a:lnTo>
                  <a:lnTo>
                    <a:pt x="4315" y="573"/>
                  </a:lnTo>
                  <a:lnTo>
                    <a:pt x="4208" y="604"/>
                  </a:lnTo>
                  <a:lnTo>
                    <a:pt x="4092" y="631"/>
                  </a:lnTo>
                  <a:lnTo>
                    <a:pt x="3972" y="654"/>
                  </a:lnTo>
                  <a:lnTo>
                    <a:pt x="3847" y="676"/>
                  </a:lnTo>
                  <a:lnTo>
                    <a:pt x="3729" y="693"/>
                  </a:lnTo>
                  <a:lnTo>
                    <a:pt x="3621" y="704"/>
                  </a:lnTo>
                  <a:lnTo>
                    <a:pt x="3517" y="708"/>
                  </a:lnTo>
                  <a:lnTo>
                    <a:pt x="3411" y="704"/>
                  </a:lnTo>
                  <a:lnTo>
                    <a:pt x="3299" y="690"/>
                  </a:lnTo>
                  <a:lnTo>
                    <a:pt x="3174" y="667"/>
                  </a:lnTo>
                  <a:lnTo>
                    <a:pt x="3028" y="628"/>
                  </a:lnTo>
                  <a:lnTo>
                    <a:pt x="2860" y="580"/>
                  </a:lnTo>
                  <a:lnTo>
                    <a:pt x="2690" y="523"/>
                  </a:lnTo>
                  <a:lnTo>
                    <a:pt x="2538" y="468"/>
                  </a:lnTo>
                  <a:lnTo>
                    <a:pt x="2402" y="416"/>
                  </a:lnTo>
                  <a:lnTo>
                    <a:pt x="2273" y="371"/>
                  </a:lnTo>
                  <a:lnTo>
                    <a:pt x="2209" y="351"/>
                  </a:lnTo>
                  <a:lnTo>
                    <a:pt x="2144" y="333"/>
                  </a:lnTo>
                  <a:lnTo>
                    <a:pt x="2077" y="317"/>
                  </a:lnTo>
                  <a:lnTo>
                    <a:pt x="2007" y="303"/>
                  </a:lnTo>
                  <a:lnTo>
                    <a:pt x="1935" y="293"/>
                  </a:lnTo>
                  <a:lnTo>
                    <a:pt x="1860" y="285"/>
                  </a:lnTo>
                  <a:lnTo>
                    <a:pt x="1779" y="280"/>
                  </a:lnTo>
                  <a:lnTo>
                    <a:pt x="1692" y="277"/>
                  </a:lnTo>
                  <a:lnTo>
                    <a:pt x="1601" y="280"/>
                  </a:lnTo>
                  <a:lnTo>
                    <a:pt x="1518" y="285"/>
                  </a:lnTo>
                  <a:lnTo>
                    <a:pt x="1441" y="295"/>
                  </a:lnTo>
                  <a:lnTo>
                    <a:pt x="1370" y="311"/>
                  </a:lnTo>
                  <a:lnTo>
                    <a:pt x="1301" y="333"/>
                  </a:lnTo>
                  <a:lnTo>
                    <a:pt x="1234" y="361"/>
                  </a:lnTo>
                  <a:lnTo>
                    <a:pt x="1167" y="396"/>
                  </a:lnTo>
                  <a:lnTo>
                    <a:pt x="1096" y="442"/>
                  </a:lnTo>
                  <a:lnTo>
                    <a:pt x="1021" y="497"/>
                  </a:lnTo>
                  <a:lnTo>
                    <a:pt x="940" y="560"/>
                  </a:lnTo>
                  <a:lnTo>
                    <a:pt x="851" y="636"/>
                  </a:lnTo>
                  <a:lnTo>
                    <a:pt x="755" y="724"/>
                  </a:lnTo>
                  <a:lnTo>
                    <a:pt x="523" y="937"/>
                  </a:lnTo>
                  <a:lnTo>
                    <a:pt x="233" y="1209"/>
                  </a:lnTo>
                  <a:lnTo>
                    <a:pt x="64" y="1162"/>
                  </a:lnTo>
                  <a:lnTo>
                    <a:pt x="0" y="1144"/>
                  </a:lnTo>
                  <a:close/>
                </a:path>
              </a:pathLst>
            </a:custGeom>
            <a:blipFill rotWithShape="0">
              <a:blip r:embed="rId58"/>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1811160" y="1504080"/>
              <a:ext cx="329760" cy="189360"/>
            </a:xfrm>
            <a:custGeom>
              <a:avLst/>
              <a:gdLst/>
              <a:ahLst/>
              <a:rect l="l" t="t" r="r" b="b"/>
              <a:pathLst>
                <a:path w="2575" h="1626">
                  <a:moveTo>
                    <a:pt x="163" y="1490"/>
                  </a:moveTo>
                  <a:lnTo>
                    <a:pt x="241" y="1496"/>
                  </a:lnTo>
                  <a:lnTo>
                    <a:pt x="353" y="1515"/>
                  </a:lnTo>
                  <a:lnTo>
                    <a:pt x="482" y="1545"/>
                  </a:lnTo>
                  <a:lnTo>
                    <a:pt x="621" y="1582"/>
                  </a:lnTo>
                  <a:lnTo>
                    <a:pt x="690" y="1600"/>
                  </a:lnTo>
                  <a:lnTo>
                    <a:pt x="759" y="1614"/>
                  </a:lnTo>
                  <a:lnTo>
                    <a:pt x="828" y="1622"/>
                  </a:lnTo>
                  <a:lnTo>
                    <a:pt x="897" y="1626"/>
                  </a:lnTo>
                  <a:lnTo>
                    <a:pt x="970" y="1626"/>
                  </a:lnTo>
                  <a:lnTo>
                    <a:pt x="1047" y="1622"/>
                  </a:lnTo>
                  <a:lnTo>
                    <a:pt x="1215" y="1606"/>
                  </a:lnTo>
                  <a:lnTo>
                    <a:pt x="1405" y="1580"/>
                  </a:lnTo>
                  <a:lnTo>
                    <a:pt x="1505" y="1561"/>
                  </a:lnTo>
                  <a:lnTo>
                    <a:pt x="1606" y="1535"/>
                  </a:lnTo>
                  <a:lnTo>
                    <a:pt x="1657" y="1517"/>
                  </a:lnTo>
                  <a:lnTo>
                    <a:pt x="1709" y="1498"/>
                  </a:lnTo>
                  <a:lnTo>
                    <a:pt x="1759" y="1475"/>
                  </a:lnTo>
                  <a:lnTo>
                    <a:pt x="1809" y="1448"/>
                  </a:lnTo>
                  <a:lnTo>
                    <a:pt x="1858" y="1417"/>
                  </a:lnTo>
                  <a:lnTo>
                    <a:pt x="1908" y="1383"/>
                  </a:lnTo>
                  <a:lnTo>
                    <a:pt x="1955" y="1341"/>
                  </a:lnTo>
                  <a:lnTo>
                    <a:pt x="2002" y="1298"/>
                  </a:lnTo>
                  <a:lnTo>
                    <a:pt x="2096" y="1200"/>
                  </a:lnTo>
                  <a:lnTo>
                    <a:pt x="2188" y="1095"/>
                  </a:lnTo>
                  <a:lnTo>
                    <a:pt x="2277" y="992"/>
                  </a:lnTo>
                  <a:lnTo>
                    <a:pt x="2360" y="894"/>
                  </a:lnTo>
                  <a:lnTo>
                    <a:pt x="2492" y="730"/>
                  </a:lnTo>
                  <a:lnTo>
                    <a:pt x="2557" y="638"/>
                  </a:lnTo>
                  <a:lnTo>
                    <a:pt x="2569" y="622"/>
                  </a:lnTo>
                  <a:lnTo>
                    <a:pt x="2575" y="606"/>
                  </a:lnTo>
                  <a:lnTo>
                    <a:pt x="2575" y="593"/>
                  </a:lnTo>
                  <a:lnTo>
                    <a:pt x="2570" y="588"/>
                  </a:lnTo>
                  <a:lnTo>
                    <a:pt x="2565" y="588"/>
                  </a:lnTo>
                  <a:lnTo>
                    <a:pt x="2553" y="591"/>
                  </a:lnTo>
                  <a:lnTo>
                    <a:pt x="2538" y="601"/>
                  </a:lnTo>
                  <a:lnTo>
                    <a:pt x="2517" y="619"/>
                  </a:lnTo>
                  <a:lnTo>
                    <a:pt x="2488" y="645"/>
                  </a:lnTo>
                  <a:lnTo>
                    <a:pt x="2447" y="679"/>
                  </a:lnTo>
                  <a:lnTo>
                    <a:pt x="2391" y="719"/>
                  </a:lnTo>
                  <a:lnTo>
                    <a:pt x="2321" y="763"/>
                  </a:lnTo>
                  <a:lnTo>
                    <a:pt x="2233" y="808"/>
                  </a:lnTo>
                  <a:lnTo>
                    <a:pt x="2182" y="832"/>
                  </a:lnTo>
                  <a:lnTo>
                    <a:pt x="2127" y="854"/>
                  </a:lnTo>
                  <a:lnTo>
                    <a:pt x="2065" y="874"/>
                  </a:lnTo>
                  <a:lnTo>
                    <a:pt x="2000" y="894"/>
                  </a:lnTo>
                  <a:lnTo>
                    <a:pt x="1931" y="912"/>
                  </a:lnTo>
                  <a:lnTo>
                    <a:pt x="1855" y="927"/>
                  </a:lnTo>
                  <a:lnTo>
                    <a:pt x="1709" y="957"/>
                  </a:lnTo>
                  <a:lnTo>
                    <a:pt x="1574" y="986"/>
                  </a:lnTo>
                  <a:lnTo>
                    <a:pt x="1453" y="1017"/>
                  </a:lnTo>
                  <a:lnTo>
                    <a:pt x="1340" y="1056"/>
                  </a:lnTo>
                  <a:lnTo>
                    <a:pt x="1227" y="1095"/>
                  </a:lnTo>
                  <a:lnTo>
                    <a:pt x="1114" y="1145"/>
                  </a:lnTo>
                  <a:lnTo>
                    <a:pt x="995" y="1200"/>
                  </a:lnTo>
                  <a:lnTo>
                    <a:pt x="867" y="1266"/>
                  </a:lnTo>
                  <a:lnTo>
                    <a:pt x="804" y="1300"/>
                  </a:lnTo>
                  <a:lnTo>
                    <a:pt x="735" y="1329"/>
                  </a:lnTo>
                  <a:lnTo>
                    <a:pt x="662" y="1357"/>
                  </a:lnTo>
                  <a:lnTo>
                    <a:pt x="587" y="1379"/>
                  </a:lnTo>
                  <a:lnTo>
                    <a:pt x="510" y="1397"/>
                  </a:lnTo>
                  <a:lnTo>
                    <a:pt x="429" y="1407"/>
                  </a:lnTo>
                  <a:lnTo>
                    <a:pt x="348" y="1409"/>
                  </a:lnTo>
                  <a:lnTo>
                    <a:pt x="265" y="1402"/>
                  </a:lnTo>
                  <a:lnTo>
                    <a:pt x="340" y="1361"/>
                  </a:lnTo>
                  <a:lnTo>
                    <a:pt x="401" y="1331"/>
                  </a:lnTo>
                  <a:lnTo>
                    <a:pt x="498" y="1289"/>
                  </a:lnTo>
                  <a:lnTo>
                    <a:pt x="583" y="1250"/>
                  </a:lnTo>
                  <a:lnTo>
                    <a:pt x="628" y="1224"/>
                  </a:lnTo>
                  <a:lnTo>
                    <a:pt x="680" y="1193"/>
                  </a:lnTo>
                  <a:lnTo>
                    <a:pt x="735" y="1158"/>
                  </a:lnTo>
                  <a:lnTo>
                    <a:pt x="790" y="1116"/>
                  </a:lnTo>
                  <a:lnTo>
                    <a:pt x="843" y="1073"/>
                  </a:lnTo>
                  <a:lnTo>
                    <a:pt x="895" y="1025"/>
                  </a:lnTo>
                  <a:lnTo>
                    <a:pt x="945" y="975"/>
                  </a:lnTo>
                  <a:lnTo>
                    <a:pt x="994" y="917"/>
                  </a:lnTo>
                  <a:lnTo>
                    <a:pt x="1039" y="856"/>
                  </a:lnTo>
                  <a:lnTo>
                    <a:pt x="1084" y="787"/>
                  </a:lnTo>
                  <a:lnTo>
                    <a:pt x="1123" y="714"/>
                  </a:lnTo>
                  <a:lnTo>
                    <a:pt x="1160" y="638"/>
                  </a:lnTo>
                  <a:lnTo>
                    <a:pt x="1189" y="566"/>
                  </a:lnTo>
                  <a:lnTo>
                    <a:pt x="1215" y="493"/>
                  </a:lnTo>
                  <a:lnTo>
                    <a:pt x="1235" y="426"/>
                  </a:lnTo>
                  <a:lnTo>
                    <a:pt x="1251" y="365"/>
                  </a:lnTo>
                  <a:lnTo>
                    <a:pt x="1261" y="311"/>
                  </a:lnTo>
                  <a:lnTo>
                    <a:pt x="1266" y="269"/>
                  </a:lnTo>
                  <a:lnTo>
                    <a:pt x="1270" y="201"/>
                  </a:lnTo>
                  <a:lnTo>
                    <a:pt x="1269" y="146"/>
                  </a:lnTo>
                  <a:lnTo>
                    <a:pt x="1270" y="101"/>
                  </a:lnTo>
                  <a:lnTo>
                    <a:pt x="1274" y="78"/>
                  </a:lnTo>
                  <a:lnTo>
                    <a:pt x="1280" y="60"/>
                  </a:lnTo>
                  <a:lnTo>
                    <a:pt x="1290" y="28"/>
                  </a:lnTo>
                  <a:lnTo>
                    <a:pt x="1290" y="13"/>
                  </a:lnTo>
                  <a:lnTo>
                    <a:pt x="1286" y="5"/>
                  </a:lnTo>
                  <a:lnTo>
                    <a:pt x="1282" y="0"/>
                  </a:lnTo>
                  <a:lnTo>
                    <a:pt x="1272" y="2"/>
                  </a:lnTo>
                  <a:lnTo>
                    <a:pt x="1261" y="10"/>
                  </a:lnTo>
                  <a:lnTo>
                    <a:pt x="1245" y="25"/>
                  </a:lnTo>
                  <a:lnTo>
                    <a:pt x="1197" y="83"/>
                  </a:lnTo>
                  <a:lnTo>
                    <a:pt x="1126" y="159"/>
                  </a:lnTo>
                  <a:lnTo>
                    <a:pt x="1036" y="250"/>
                  </a:lnTo>
                  <a:lnTo>
                    <a:pt x="984" y="295"/>
                  </a:lnTo>
                  <a:lnTo>
                    <a:pt x="931" y="341"/>
                  </a:lnTo>
                  <a:lnTo>
                    <a:pt x="820" y="431"/>
                  </a:lnTo>
                  <a:lnTo>
                    <a:pt x="769" y="481"/>
                  </a:lnTo>
                  <a:lnTo>
                    <a:pt x="715" y="534"/>
                  </a:lnTo>
                  <a:lnTo>
                    <a:pt x="667" y="591"/>
                  </a:lnTo>
                  <a:lnTo>
                    <a:pt x="617" y="656"/>
                  </a:lnTo>
                  <a:lnTo>
                    <a:pt x="571" y="727"/>
                  </a:lnTo>
                  <a:lnTo>
                    <a:pt x="526" y="811"/>
                  </a:lnTo>
                  <a:lnTo>
                    <a:pt x="453" y="965"/>
                  </a:lnTo>
                  <a:lnTo>
                    <a:pt x="424" y="1030"/>
                  </a:lnTo>
                  <a:lnTo>
                    <a:pt x="392" y="1088"/>
                  </a:lnTo>
                  <a:lnTo>
                    <a:pt x="356" y="1145"/>
                  </a:lnTo>
                  <a:lnTo>
                    <a:pt x="315" y="1200"/>
                  </a:lnTo>
                  <a:lnTo>
                    <a:pt x="262" y="1255"/>
                  </a:lnTo>
                  <a:lnTo>
                    <a:pt x="192" y="1312"/>
                  </a:lnTo>
                  <a:lnTo>
                    <a:pt x="72" y="1404"/>
                  </a:lnTo>
                  <a:lnTo>
                    <a:pt x="32" y="1436"/>
                  </a:lnTo>
                  <a:lnTo>
                    <a:pt x="9" y="1460"/>
                  </a:lnTo>
                  <a:lnTo>
                    <a:pt x="0" y="1473"/>
                  </a:lnTo>
                  <a:lnTo>
                    <a:pt x="0" y="1480"/>
                  </a:lnTo>
                  <a:lnTo>
                    <a:pt x="3" y="1483"/>
                  </a:lnTo>
                  <a:lnTo>
                    <a:pt x="21" y="1488"/>
                  </a:lnTo>
                  <a:lnTo>
                    <a:pt x="52" y="1490"/>
                  </a:lnTo>
                  <a:lnTo>
                    <a:pt x="163" y="1490"/>
                  </a:lnTo>
                  <a:close/>
                </a:path>
              </a:pathLst>
            </a:custGeom>
            <a:blipFill rotWithShape="0">
              <a:blip r:embed="rId5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1972080" y="1399320"/>
              <a:ext cx="249840" cy="215280"/>
            </a:xfrm>
            <a:custGeom>
              <a:avLst/>
              <a:gdLst/>
              <a:ahLst/>
              <a:rect l="l" t="t" r="r" b="b"/>
              <a:pathLst>
                <a:path w="1958" h="1859">
                  <a:moveTo>
                    <a:pt x="75" y="1835"/>
                  </a:moveTo>
                  <a:lnTo>
                    <a:pt x="411" y="1727"/>
                  </a:lnTo>
                  <a:lnTo>
                    <a:pt x="657" y="1644"/>
                  </a:lnTo>
                  <a:lnTo>
                    <a:pt x="865" y="1568"/>
                  </a:lnTo>
                  <a:lnTo>
                    <a:pt x="954" y="1534"/>
                  </a:lnTo>
                  <a:lnTo>
                    <a:pt x="1052" y="1486"/>
                  </a:lnTo>
                  <a:lnTo>
                    <a:pt x="1157" y="1429"/>
                  </a:lnTo>
                  <a:lnTo>
                    <a:pt x="1211" y="1395"/>
                  </a:lnTo>
                  <a:lnTo>
                    <a:pt x="1263" y="1358"/>
                  </a:lnTo>
                  <a:lnTo>
                    <a:pt x="1316" y="1318"/>
                  </a:lnTo>
                  <a:lnTo>
                    <a:pt x="1368" y="1273"/>
                  </a:lnTo>
                  <a:lnTo>
                    <a:pt x="1418" y="1225"/>
                  </a:lnTo>
                  <a:lnTo>
                    <a:pt x="1465" y="1172"/>
                  </a:lnTo>
                  <a:lnTo>
                    <a:pt x="1510" y="1115"/>
                  </a:lnTo>
                  <a:lnTo>
                    <a:pt x="1554" y="1053"/>
                  </a:lnTo>
                  <a:lnTo>
                    <a:pt x="1591" y="987"/>
                  </a:lnTo>
                  <a:lnTo>
                    <a:pt x="1627" y="916"/>
                  </a:lnTo>
                  <a:lnTo>
                    <a:pt x="1747" y="642"/>
                  </a:lnTo>
                  <a:lnTo>
                    <a:pt x="1847" y="420"/>
                  </a:lnTo>
                  <a:lnTo>
                    <a:pt x="1886" y="328"/>
                  </a:lnTo>
                  <a:lnTo>
                    <a:pt x="1917" y="250"/>
                  </a:lnTo>
                  <a:lnTo>
                    <a:pt x="1939" y="187"/>
                  </a:lnTo>
                  <a:lnTo>
                    <a:pt x="1950" y="140"/>
                  </a:lnTo>
                  <a:lnTo>
                    <a:pt x="1958" y="77"/>
                  </a:lnTo>
                  <a:lnTo>
                    <a:pt x="1958" y="43"/>
                  </a:lnTo>
                  <a:lnTo>
                    <a:pt x="1954" y="25"/>
                  </a:lnTo>
                  <a:lnTo>
                    <a:pt x="1949" y="14"/>
                  </a:lnTo>
                  <a:lnTo>
                    <a:pt x="1942" y="6"/>
                  </a:lnTo>
                  <a:lnTo>
                    <a:pt x="1936" y="0"/>
                  </a:lnTo>
                  <a:lnTo>
                    <a:pt x="1928" y="2"/>
                  </a:lnTo>
                  <a:lnTo>
                    <a:pt x="1920" y="12"/>
                  </a:lnTo>
                  <a:lnTo>
                    <a:pt x="1868" y="90"/>
                  </a:lnTo>
                  <a:lnTo>
                    <a:pt x="1749" y="258"/>
                  </a:lnTo>
                  <a:lnTo>
                    <a:pt x="1674" y="357"/>
                  </a:lnTo>
                  <a:lnTo>
                    <a:pt x="1595" y="454"/>
                  </a:lnTo>
                  <a:lnTo>
                    <a:pt x="1514" y="543"/>
                  </a:lnTo>
                  <a:lnTo>
                    <a:pt x="1475" y="582"/>
                  </a:lnTo>
                  <a:lnTo>
                    <a:pt x="1437" y="616"/>
                  </a:lnTo>
                  <a:lnTo>
                    <a:pt x="1360" y="679"/>
                  </a:lnTo>
                  <a:lnTo>
                    <a:pt x="1279" y="738"/>
                  </a:lnTo>
                  <a:lnTo>
                    <a:pt x="1117" y="852"/>
                  </a:lnTo>
                  <a:lnTo>
                    <a:pt x="965" y="959"/>
                  </a:lnTo>
                  <a:lnTo>
                    <a:pt x="898" y="1011"/>
                  </a:lnTo>
                  <a:lnTo>
                    <a:pt x="842" y="1058"/>
                  </a:lnTo>
                  <a:lnTo>
                    <a:pt x="737" y="1157"/>
                  </a:lnTo>
                  <a:lnTo>
                    <a:pt x="632" y="1259"/>
                  </a:lnTo>
                  <a:lnTo>
                    <a:pt x="440" y="1458"/>
                  </a:lnTo>
                  <a:lnTo>
                    <a:pt x="397" y="1502"/>
                  </a:lnTo>
                  <a:lnTo>
                    <a:pt x="356" y="1539"/>
                  </a:lnTo>
                  <a:lnTo>
                    <a:pt x="320" y="1568"/>
                  </a:lnTo>
                  <a:lnTo>
                    <a:pt x="288" y="1591"/>
                  </a:lnTo>
                  <a:lnTo>
                    <a:pt x="243" y="1618"/>
                  </a:lnTo>
                  <a:lnTo>
                    <a:pt x="227" y="1626"/>
                  </a:lnTo>
                  <a:lnTo>
                    <a:pt x="334" y="1462"/>
                  </a:lnTo>
                  <a:lnTo>
                    <a:pt x="512" y="1192"/>
                  </a:lnTo>
                  <a:lnTo>
                    <a:pt x="583" y="1087"/>
                  </a:lnTo>
                  <a:lnTo>
                    <a:pt x="614" y="1034"/>
                  </a:lnTo>
                  <a:lnTo>
                    <a:pt x="644" y="979"/>
                  </a:lnTo>
                  <a:lnTo>
                    <a:pt x="669" y="919"/>
                  </a:lnTo>
                  <a:lnTo>
                    <a:pt x="687" y="856"/>
                  </a:lnTo>
                  <a:lnTo>
                    <a:pt x="699" y="789"/>
                  </a:lnTo>
                  <a:lnTo>
                    <a:pt x="703" y="754"/>
                  </a:lnTo>
                  <a:lnTo>
                    <a:pt x="705" y="716"/>
                  </a:lnTo>
                  <a:lnTo>
                    <a:pt x="699" y="361"/>
                  </a:lnTo>
                  <a:lnTo>
                    <a:pt x="691" y="126"/>
                  </a:lnTo>
                  <a:lnTo>
                    <a:pt x="687" y="98"/>
                  </a:lnTo>
                  <a:lnTo>
                    <a:pt x="683" y="89"/>
                  </a:lnTo>
                  <a:lnTo>
                    <a:pt x="680" y="85"/>
                  </a:lnTo>
                  <a:lnTo>
                    <a:pt x="673" y="85"/>
                  </a:lnTo>
                  <a:lnTo>
                    <a:pt x="667" y="89"/>
                  </a:lnTo>
                  <a:lnTo>
                    <a:pt x="646" y="113"/>
                  </a:lnTo>
                  <a:lnTo>
                    <a:pt x="599" y="171"/>
                  </a:lnTo>
                  <a:lnTo>
                    <a:pt x="521" y="274"/>
                  </a:lnTo>
                  <a:lnTo>
                    <a:pt x="476" y="338"/>
                  </a:lnTo>
                  <a:lnTo>
                    <a:pt x="431" y="404"/>
                  </a:lnTo>
                  <a:lnTo>
                    <a:pt x="385" y="477"/>
                  </a:lnTo>
                  <a:lnTo>
                    <a:pt x="344" y="550"/>
                  </a:lnTo>
                  <a:lnTo>
                    <a:pt x="308" y="626"/>
                  </a:lnTo>
                  <a:lnTo>
                    <a:pt x="275" y="702"/>
                  </a:lnTo>
                  <a:lnTo>
                    <a:pt x="249" y="775"/>
                  </a:lnTo>
                  <a:lnTo>
                    <a:pt x="225" y="846"/>
                  </a:lnTo>
                  <a:lnTo>
                    <a:pt x="207" y="912"/>
                  </a:lnTo>
                  <a:lnTo>
                    <a:pt x="194" y="969"/>
                  </a:lnTo>
                  <a:lnTo>
                    <a:pt x="186" y="1018"/>
                  </a:lnTo>
                  <a:lnTo>
                    <a:pt x="183" y="1055"/>
                  </a:lnTo>
                  <a:lnTo>
                    <a:pt x="180" y="1207"/>
                  </a:lnTo>
                  <a:lnTo>
                    <a:pt x="174" y="1293"/>
                  </a:lnTo>
                  <a:lnTo>
                    <a:pt x="162" y="1369"/>
                  </a:lnTo>
                  <a:lnTo>
                    <a:pt x="136" y="1466"/>
                  </a:lnTo>
                  <a:lnTo>
                    <a:pt x="95" y="1594"/>
                  </a:lnTo>
                  <a:lnTo>
                    <a:pt x="54" y="1719"/>
                  </a:lnTo>
                  <a:lnTo>
                    <a:pt x="18" y="1806"/>
                  </a:lnTo>
                  <a:lnTo>
                    <a:pt x="2" y="1845"/>
                  </a:lnTo>
                  <a:lnTo>
                    <a:pt x="0" y="1855"/>
                  </a:lnTo>
                  <a:lnTo>
                    <a:pt x="5" y="1859"/>
                  </a:lnTo>
                  <a:lnTo>
                    <a:pt x="12" y="1859"/>
                  </a:lnTo>
                  <a:lnTo>
                    <a:pt x="28" y="1855"/>
                  </a:lnTo>
                  <a:lnTo>
                    <a:pt x="75" y="1835"/>
                  </a:lnTo>
                  <a:close/>
                </a:path>
              </a:pathLst>
            </a:custGeom>
            <a:blipFill rotWithShape="0">
              <a:blip r:embed="rId6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2089080" y="1388880"/>
              <a:ext cx="114480" cy="93600"/>
            </a:xfrm>
            <a:custGeom>
              <a:avLst/>
              <a:gdLst/>
              <a:ahLst/>
              <a:rect l="l" t="t" r="r" b="b"/>
              <a:pathLst>
                <a:path w="898" h="803">
                  <a:moveTo>
                    <a:pt x="898" y="0"/>
                  </a:moveTo>
                  <a:lnTo>
                    <a:pt x="778" y="134"/>
                  </a:lnTo>
                  <a:lnTo>
                    <a:pt x="663" y="257"/>
                  </a:lnTo>
                  <a:lnTo>
                    <a:pt x="602" y="317"/>
                  </a:lnTo>
                  <a:lnTo>
                    <a:pt x="545" y="373"/>
                  </a:lnTo>
                  <a:lnTo>
                    <a:pt x="414" y="493"/>
                  </a:lnTo>
                  <a:lnTo>
                    <a:pt x="272" y="620"/>
                  </a:lnTo>
                  <a:lnTo>
                    <a:pt x="152" y="726"/>
                  </a:lnTo>
                  <a:lnTo>
                    <a:pt x="92" y="785"/>
                  </a:lnTo>
                  <a:lnTo>
                    <a:pt x="76" y="801"/>
                  </a:lnTo>
                  <a:lnTo>
                    <a:pt x="68" y="803"/>
                  </a:lnTo>
                  <a:lnTo>
                    <a:pt x="63" y="803"/>
                  </a:lnTo>
                  <a:lnTo>
                    <a:pt x="58" y="798"/>
                  </a:lnTo>
                  <a:lnTo>
                    <a:pt x="55" y="788"/>
                  </a:lnTo>
                  <a:lnTo>
                    <a:pt x="52" y="762"/>
                  </a:lnTo>
                  <a:lnTo>
                    <a:pt x="42" y="565"/>
                  </a:lnTo>
                  <a:lnTo>
                    <a:pt x="34" y="422"/>
                  </a:lnTo>
                  <a:lnTo>
                    <a:pt x="20" y="298"/>
                  </a:lnTo>
                  <a:lnTo>
                    <a:pt x="8" y="194"/>
                  </a:lnTo>
                  <a:lnTo>
                    <a:pt x="2" y="99"/>
                  </a:lnTo>
                  <a:lnTo>
                    <a:pt x="0" y="0"/>
                  </a:lnTo>
                  <a:lnTo>
                    <a:pt x="325" y="0"/>
                  </a:lnTo>
                  <a:lnTo>
                    <a:pt x="283" y="115"/>
                  </a:lnTo>
                  <a:lnTo>
                    <a:pt x="249" y="213"/>
                  </a:lnTo>
                  <a:lnTo>
                    <a:pt x="223" y="298"/>
                  </a:lnTo>
                  <a:lnTo>
                    <a:pt x="209" y="359"/>
                  </a:lnTo>
                  <a:lnTo>
                    <a:pt x="204" y="401"/>
                  </a:lnTo>
                  <a:lnTo>
                    <a:pt x="202" y="432"/>
                  </a:lnTo>
                  <a:lnTo>
                    <a:pt x="212" y="421"/>
                  </a:lnTo>
                  <a:lnTo>
                    <a:pt x="239" y="380"/>
                  </a:lnTo>
                  <a:lnTo>
                    <a:pt x="280" y="310"/>
                  </a:lnTo>
                  <a:lnTo>
                    <a:pt x="306" y="259"/>
                  </a:lnTo>
                  <a:lnTo>
                    <a:pt x="332" y="199"/>
                  </a:lnTo>
                  <a:lnTo>
                    <a:pt x="398" y="34"/>
                  </a:lnTo>
                  <a:lnTo>
                    <a:pt x="411" y="0"/>
                  </a:lnTo>
                  <a:lnTo>
                    <a:pt x="898" y="0"/>
                  </a:lnTo>
                  <a:close/>
                </a:path>
              </a:pathLst>
            </a:custGeom>
            <a:blipFill rotWithShape="0">
              <a:blip r:embed="rId6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2154600" y="880200"/>
              <a:ext cx="74520" cy="174240"/>
            </a:xfrm>
            <a:custGeom>
              <a:avLst/>
              <a:gdLst/>
              <a:ahLst/>
              <a:rect l="l" t="t" r="r" b="b"/>
              <a:pathLst>
                <a:path w="578" h="1497">
                  <a:moveTo>
                    <a:pt x="578" y="1497"/>
                  </a:moveTo>
                  <a:lnTo>
                    <a:pt x="578" y="1446"/>
                  </a:lnTo>
                  <a:lnTo>
                    <a:pt x="576" y="1385"/>
                  </a:lnTo>
                  <a:lnTo>
                    <a:pt x="570" y="1304"/>
                  </a:lnTo>
                  <a:lnTo>
                    <a:pt x="558" y="1206"/>
                  </a:lnTo>
                  <a:lnTo>
                    <a:pt x="539" y="1093"/>
                  </a:lnTo>
                  <a:lnTo>
                    <a:pt x="513" y="968"/>
                  </a:lnTo>
                  <a:lnTo>
                    <a:pt x="474" y="837"/>
                  </a:lnTo>
                  <a:lnTo>
                    <a:pt x="432" y="706"/>
                  </a:lnTo>
                  <a:lnTo>
                    <a:pt x="386" y="587"/>
                  </a:lnTo>
                  <a:lnTo>
                    <a:pt x="338" y="477"/>
                  </a:lnTo>
                  <a:lnTo>
                    <a:pt x="289" y="374"/>
                  </a:lnTo>
                  <a:lnTo>
                    <a:pt x="234" y="280"/>
                  </a:lnTo>
                  <a:lnTo>
                    <a:pt x="176" y="191"/>
                  </a:lnTo>
                  <a:lnTo>
                    <a:pt x="112" y="105"/>
                  </a:lnTo>
                  <a:lnTo>
                    <a:pt x="42" y="21"/>
                  </a:lnTo>
                  <a:lnTo>
                    <a:pt x="24" y="6"/>
                  </a:lnTo>
                  <a:lnTo>
                    <a:pt x="15" y="1"/>
                  </a:lnTo>
                  <a:lnTo>
                    <a:pt x="8" y="0"/>
                  </a:lnTo>
                  <a:lnTo>
                    <a:pt x="1" y="1"/>
                  </a:lnTo>
                  <a:lnTo>
                    <a:pt x="0" y="9"/>
                  </a:lnTo>
                  <a:lnTo>
                    <a:pt x="0" y="19"/>
                  </a:lnTo>
                  <a:lnTo>
                    <a:pt x="3" y="37"/>
                  </a:lnTo>
                  <a:lnTo>
                    <a:pt x="31" y="108"/>
                  </a:lnTo>
                  <a:lnTo>
                    <a:pt x="53" y="170"/>
                  </a:lnTo>
                  <a:lnTo>
                    <a:pt x="74" y="252"/>
                  </a:lnTo>
                  <a:lnTo>
                    <a:pt x="94" y="353"/>
                  </a:lnTo>
                  <a:lnTo>
                    <a:pt x="112" y="477"/>
                  </a:lnTo>
                  <a:lnTo>
                    <a:pt x="120" y="547"/>
                  </a:lnTo>
                  <a:lnTo>
                    <a:pt x="123" y="623"/>
                  </a:lnTo>
                  <a:lnTo>
                    <a:pt x="128" y="704"/>
                  </a:lnTo>
                  <a:lnTo>
                    <a:pt x="129" y="793"/>
                  </a:lnTo>
                  <a:lnTo>
                    <a:pt x="126" y="1037"/>
                  </a:lnTo>
                  <a:lnTo>
                    <a:pt x="120" y="1140"/>
                  </a:lnTo>
                  <a:lnTo>
                    <a:pt x="113" y="1245"/>
                  </a:lnTo>
                  <a:lnTo>
                    <a:pt x="112" y="1343"/>
                  </a:lnTo>
                  <a:lnTo>
                    <a:pt x="112" y="1497"/>
                  </a:lnTo>
                  <a:lnTo>
                    <a:pt x="578" y="1497"/>
                  </a:lnTo>
                  <a:close/>
                </a:path>
              </a:pathLst>
            </a:custGeom>
            <a:blipFill rotWithShape="0">
              <a:blip r:embed="rId6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2039760" y="952920"/>
              <a:ext cx="110520" cy="101880"/>
            </a:xfrm>
            <a:custGeom>
              <a:avLst/>
              <a:gdLst/>
              <a:ahLst/>
              <a:rect l="l" t="t" r="r" b="b"/>
              <a:pathLst>
                <a:path w="864" h="876">
                  <a:moveTo>
                    <a:pt x="864" y="876"/>
                  </a:moveTo>
                  <a:lnTo>
                    <a:pt x="704" y="726"/>
                  </a:lnTo>
                  <a:lnTo>
                    <a:pt x="540" y="569"/>
                  </a:lnTo>
                  <a:lnTo>
                    <a:pt x="447" y="476"/>
                  </a:lnTo>
                  <a:lnTo>
                    <a:pt x="354" y="381"/>
                  </a:lnTo>
                  <a:lnTo>
                    <a:pt x="204" y="221"/>
                  </a:lnTo>
                  <a:lnTo>
                    <a:pt x="118" y="125"/>
                  </a:lnTo>
                  <a:lnTo>
                    <a:pt x="73" y="70"/>
                  </a:lnTo>
                  <a:lnTo>
                    <a:pt x="49" y="34"/>
                  </a:lnTo>
                  <a:lnTo>
                    <a:pt x="39" y="20"/>
                  </a:lnTo>
                  <a:lnTo>
                    <a:pt x="29" y="10"/>
                  </a:lnTo>
                  <a:lnTo>
                    <a:pt x="19" y="2"/>
                  </a:lnTo>
                  <a:lnTo>
                    <a:pt x="11" y="0"/>
                  </a:lnTo>
                  <a:lnTo>
                    <a:pt x="3" y="2"/>
                  </a:lnTo>
                  <a:lnTo>
                    <a:pt x="0" y="10"/>
                  </a:lnTo>
                  <a:lnTo>
                    <a:pt x="0" y="23"/>
                  </a:lnTo>
                  <a:lnTo>
                    <a:pt x="3" y="44"/>
                  </a:lnTo>
                  <a:lnTo>
                    <a:pt x="37" y="154"/>
                  </a:lnTo>
                  <a:lnTo>
                    <a:pt x="108" y="360"/>
                  </a:lnTo>
                  <a:lnTo>
                    <a:pt x="155" y="483"/>
                  </a:lnTo>
                  <a:lnTo>
                    <a:pt x="209" y="614"/>
                  </a:lnTo>
                  <a:lnTo>
                    <a:pt x="270" y="748"/>
                  </a:lnTo>
                  <a:lnTo>
                    <a:pt x="337" y="876"/>
                  </a:lnTo>
                  <a:lnTo>
                    <a:pt x="864" y="876"/>
                  </a:lnTo>
                  <a:close/>
                </a:path>
              </a:pathLst>
            </a:custGeom>
            <a:blipFill rotWithShape="0">
              <a:blip r:embed="rId6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1972080" y="786240"/>
              <a:ext cx="177120" cy="239400"/>
            </a:xfrm>
            <a:custGeom>
              <a:avLst/>
              <a:gdLst/>
              <a:ahLst/>
              <a:rect l="l" t="t" r="r" b="b"/>
              <a:pathLst>
                <a:path w="1384" h="2062">
                  <a:moveTo>
                    <a:pt x="1384" y="1246"/>
                  </a:moveTo>
                  <a:lnTo>
                    <a:pt x="1381" y="1125"/>
                  </a:lnTo>
                  <a:lnTo>
                    <a:pt x="1366" y="998"/>
                  </a:lnTo>
                  <a:lnTo>
                    <a:pt x="1357" y="932"/>
                  </a:lnTo>
                  <a:lnTo>
                    <a:pt x="1343" y="866"/>
                  </a:lnTo>
                  <a:lnTo>
                    <a:pt x="1326" y="801"/>
                  </a:lnTo>
                  <a:lnTo>
                    <a:pt x="1306" y="736"/>
                  </a:lnTo>
                  <a:lnTo>
                    <a:pt x="1282" y="670"/>
                  </a:lnTo>
                  <a:lnTo>
                    <a:pt x="1254" y="605"/>
                  </a:lnTo>
                  <a:lnTo>
                    <a:pt x="1222" y="542"/>
                  </a:lnTo>
                  <a:lnTo>
                    <a:pt x="1188" y="481"/>
                  </a:lnTo>
                  <a:lnTo>
                    <a:pt x="1148" y="422"/>
                  </a:lnTo>
                  <a:lnTo>
                    <a:pt x="1102" y="364"/>
                  </a:lnTo>
                  <a:lnTo>
                    <a:pt x="1054" y="309"/>
                  </a:lnTo>
                  <a:lnTo>
                    <a:pt x="997" y="256"/>
                  </a:lnTo>
                  <a:lnTo>
                    <a:pt x="853" y="128"/>
                  </a:lnTo>
                  <a:lnTo>
                    <a:pt x="761" y="37"/>
                  </a:lnTo>
                  <a:lnTo>
                    <a:pt x="727" y="8"/>
                  </a:lnTo>
                  <a:lnTo>
                    <a:pt x="714" y="1"/>
                  </a:lnTo>
                  <a:lnTo>
                    <a:pt x="706" y="0"/>
                  </a:lnTo>
                  <a:lnTo>
                    <a:pt x="700" y="3"/>
                  </a:lnTo>
                  <a:lnTo>
                    <a:pt x="700" y="13"/>
                  </a:lnTo>
                  <a:lnTo>
                    <a:pt x="704" y="31"/>
                  </a:lnTo>
                  <a:lnTo>
                    <a:pt x="716" y="55"/>
                  </a:lnTo>
                  <a:lnTo>
                    <a:pt x="757" y="132"/>
                  </a:lnTo>
                  <a:lnTo>
                    <a:pt x="783" y="186"/>
                  </a:lnTo>
                  <a:lnTo>
                    <a:pt x="813" y="252"/>
                  </a:lnTo>
                  <a:lnTo>
                    <a:pt x="844" y="331"/>
                  </a:lnTo>
                  <a:lnTo>
                    <a:pt x="876" y="424"/>
                  </a:lnTo>
                  <a:lnTo>
                    <a:pt x="905" y="531"/>
                  </a:lnTo>
                  <a:lnTo>
                    <a:pt x="934" y="655"/>
                  </a:lnTo>
                  <a:lnTo>
                    <a:pt x="992" y="905"/>
                  </a:lnTo>
                  <a:lnTo>
                    <a:pt x="1047" y="1134"/>
                  </a:lnTo>
                  <a:lnTo>
                    <a:pt x="1104" y="1343"/>
                  </a:lnTo>
                  <a:lnTo>
                    <a:pt x="1167" y="1535"/>
                  </a:lnTo>
                  <a:lnTo>
                    <a:pt x="1051" y="1318"/>
                  </a:lnTo>
                  <a:lnTo>
                    <a:pt x="1002" y="1235"/>
                  </a:lnTo>
                  <a:lnTo>
                    <a:pt x="950" y="1164"/>
                  </a:lnTo>
                  <a:lnTo>
                    <a:pt x="923" y="1130"/>
                  </a:lnTo>
                  <a:lnTo>
                    <a:pt x="893" y="1099"/>
                  </a:lnTo>
                  <a:lnTo>
                    <a:pt x="860" y="1067"/>
                  </a:lnTo>
                  <a:lnTo>
                    <a:pt x="822" y="1036"/>
                  </a:lnTo>
                  <a:lnTo>
                    <a:pt x="732" y="968"/>
                  </a:lnTo>
                  <a:lnTo>
                    <a:pt x="613" y="893"/>
                  </a:lnTo>
                  <a:lnTo>
                    <a:pt x="489" y="814"/>
                  </a:lnTo>
                  <a:lnTo>
                    <a:pt x="382" y="740"/>
                  </a:lnTo>
                  <a:lnTo>
                    <a:pt x="290" y="667"/>
                  </a:lnTo>
                  <a:lnTo>
                    <a:pt x="214" y="599"/>
                  </a:lnTo>
                  <a:lnTo>
                    <a:pt x="151" y="540"/>
                  </a:lnTo>
                  <a:lnTo>
                    <a:pt x="104" y="489"/>
                  </a:lnTo>
                  <a:lnTo>
                    <a:pt x="70" y="445"/>
                  </a:lnTo>
                  <a:lnTo>
                    <a:pt x="49" y="414"/>
                  </a:lnTo>
                  <a:lnTo>
                    <a:pt x="33" y="392"/>
                  </a:lnTo>
                  <a:lnTo>
                    <a:pt x="21" y="379"/>
                  </a:lnTo>
                  <a:lnTo>
                    <a:pt x="11" y="371"/>
                  </a:lnTo>
                  <a:lnTo>
                    <a:pt x="5" y="371"/>
                  </a:lnTo>
                  <a:lnTo>
                    <a:pt x="0" y="377"/>
                  </a:lnTo>
                  <a:lnTo>
                    <a:pt x="0" y="388"/>
                  </a:lnTo>
                  <a:lnTo>
                    <a:pt x="2" y="406"/>
                  </a:lnTo>
                  <a:lnTo>
                    <a:pt x="7" y="427"/>
                  </a:lnTo>
                  <a:lnTo>
                    <a:pt x="21" y="467"/>
                  </a:lnTo>
                  <a:lnTo>
                    <a:pt x="45" y="534"/>
                  </a:lnTo>
                  <a:lnTo>
                    <a:pt x="82" y="623"/>
                  </a:lnTo>
                  <a:lnTo>
                    <a:pt x="133" y="728"/>
                  </a:lnTo>
                  <a:lnTo>
                    <a:pt x="199" y="845"/>
                  </a:lnTo>
                  <a:lnTo>
                    <a:pt x="238" y="903"/>
                  </a:lnTo>
                  <a:lnTo>
                    <a:pt x="280" y="965"/>
                  </a:lnTo>
                  <a:lnTo>
                    <a:pt x="327" y="1026"/>
                  </a:lnTo>
                  <a:lnTo>
                    <a:pt x="376" y="1086"/>
                  </a:lnTo>
                  <a:lnTo>
                    <a:pt x="432" y="1146"/>
                  </a:lnTo>
                  <a:lnTo>
                    <a:pt x="491" y="1203"/>
                  </a:lnTo>
                  <a:lnTo>
                    <a:pt x="613" y="1311"/>
                  </a:lnTo>
                  <a:lnTo>
                    <a:pt x="735" y="1418"/>
                  </a:lnTo>
                  <a:lnTo>
                    <a:pt x="856" y="1521"/>
                  </a:lnTo>
                  <a:lnTo>
                    <a:pt x="968" y="1622"/>
                  </a:lnTo>
                  <a:lnTo>
                    <a:pt x="1073" y="1720"/>
                  </a:lnTo>
                  <a:lnTo>
                    <a:pt x="1122" y="1769"/>
                  </a:lnTo>
                  <a:lnTo>
                    <a:pt x="1166" y="1819"/>
                  </a:lnTo>
                  <a:lnTo>
                    <a:pt x="1207" y="1866"/>
                  </a:lnTo>
                  <a:lnTo>
                    <a:pt x="1243" y="1915"/>
                  </a:lnTo>
                  <a:lnTo>
                    <a:pt x="1274" y="1965"/>
                  </a:lnTo>
                  <a:lnTo>
                    <a:pt x="1302" y="2014"/>
                  </a:lnTo>
                  <a:lnTo>
                    <a:pt x="1319" y="2046"/>
                  </a:lnTo>
                  <a:lnTo>
                    <a:pt x="1327" y="2056"/>
                  </a:lnTo>
                  <a:lnTo>
                    <a:pt x="1337" y="2062"/>
                  </a:lnTo>
                  <a:lnTo>
                    <a:pt x="1343" y="2059"/>
                  </a:lnTo>
                  <a:lnTo>
                    <a:pt x="1350" y="2052"/>
                  </a:lnTo>
                  <a:lnTo>
                    <a:pt x="1355" y="2032"/>
                  </a:lnTo>
                  <a:lnTo>
                    <a:pt x="1357" y="2001"/>
                  </a:lnTo>
                  <a:lnTo>
                    <a:pt x="1371" y="1722"/>
                  </a:lnTo>
                  <a:lnTo>
                    <a:pt x="1381" y="1503"/>
                  </a:lnTo>
                  <a:lnTo>
                    <a:pt x="1383" y="1379"/>
                  </a:lnTo>
                  <a:lnTo>
                    <a:pt x="1384" y="1246"/>
                  </a:lnTo>
                  <a:close/>
                </a:path>
              </a:pathLst>
            </a:custGeom>
            <a:blipFill rotWithShape="0">
              <a:blip r:embed="rId64"/>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1927080" y="738360"/>
              <a:ext cx="156600" cy="145440"/>
            </a:xfrm>
            <a:custGeom>
              <a:avLst/>
              <a:gdLst/>
              <a:ahLst/>
              <a:rect l="l" t="t" r="r" b="b"/>
              <a:pathLst>
                <a:path w="1223" h="1254">
                  <a:moveTo>
                    <a:pt x="1216" y="1191"/>
                  </a:moveTo>
                  <a:lnTo>
                    <a:pt x="1184" y="1081"/>
                  </a:lnTo>
                  <a:lnTo>
                    <a:pt x="1155" y="992"/>
                  </a:lnTo>
                  <a:lnTo>
                    <a:pt x="1115" y="891"/>
                  </a:lnTo>
                  <a:lnTo>
                    <a:pt x="1061" y="780"/>
                  </a:lnTo>
                  <a:lnTo>
                    <a:pt x="1030" y="723"/>
                  </a:lnTo>
                  <a:lnTo>
                    <a:pt x="995" y="667"/>
                  </a:lnTo>
                  <a:lnTo>
                    <a:pt x="956" y="611"/>
                  </a:lnTo>
                  <a:lnTo>
                    <a:pt x="912" y="558"/>
                  </a:lnTo>
                  <a:lnTo>
                    <a:pt x="862" y="506"/>
                  </a:lnTo>
                  <a:lnTo>
                    <a:pt x="812" y="458"/>
                  </a:lnTo>
                  <a:lnTo>
                    <a:pt x="755" y="411"/>
                  </a:lnTo>
                  <a:lnTo>
                    <a:pt x="699" y="369"/>
                  </a:lnTo>
                  <a:lnTo>
                    <a:pt x="584" y="288"/>
                  </a:lnTo>
                  <a:lnTo>
                    <a:pt x="470" y="218"/>
                  </a:lnTo>
                  <a:lnTo>
                    <a:pt x="363" y="159"/>
                  </a:lnTo>
                  <a:lnTo>
                    <a:pt x="265" y="108"/>
                  </a:lnTo>
                  <a:lnTo>
                    <a:pt x="179" y="68"/>
                  </a:lnTo>
                  <a:lnTo>
                    <a:pt x="71" y="19"/>
                  </a:lnTo>
                  <a:lnTo>
                    <a:pt x="43" y="8"/>
                  </a:lnTo>
                  <a:lnTo>
                    <a:pt x="24" y="1"/>
                  </a:lnTo>
                  <a:lnTo>
                    <a:pt x="9" y="0"/>
                  </a:lnTo>
                  <a:lnTo>
                    <a:pt x="2" y="3"/>
                  </a:lnTo>
                  <a:lnTo>
                    <a:pt x="0" y="11"/>
                  </a:lnTo>
                  <a:lnTo>
                    <a:pt x="6" y="21"/>
                  </a:lnTo>
                  <a:lnTo>
                    <a:pt x="17" y="37"/>
                  </a:lnTo>
                  <a:lnTo>
                    <a:pt x="33" y="53"/>
                  </a:lnTo>
                  <a:lnTo>
                    <a:pt x="96" y="121"/>
                  </a:lnTo>
                  <a:lnTo>
                    <a:pt x="197" y="244"/>
                  </a:lnTo>
                  <a:lnTo>
                    <a:pt x="255" y="321"/>
                  </a:lnTo>
                  <a:lnTo>
                    <a:pt x="316" y="404"/>
                  </a:lnTo>
                  <a:lnTo>
                    <a:pt x="379" y="492"/>
                  </a:lnTo>
                  <a:lnTo>
                    <a:pt x="438" y="584"/>
                  </a:lnTo>
                  <a:lnTo>
                    <a:pt x="493" y="670"/>
                  </a:lnTo>
                  <a:lnTo>
                    <a:pt x="546" y="745"/>
                  </a:lnTo>
                  <a:lnTo>
                    <a:pt x="596" y="808"/>
                  </a:lnTo>
                  <a:lnTo>
                    <a:pt x="645" y="864"/>
                  </a:lnTo>
                  <a:lnTo>
                    <a:pt x="697" y="909"/>
                  </a:lnTo>
                  <a:lnTo>
                    <a:pt x="748" y="950"/>
                  </a:lnTo>
                  <a:lnTo>
                    <a:pt x="804" y="984"/>
                  </a:lnTo>
                  <a:lnTo>
                    <a:pt x="862" y="1015"/>
                  </a:lnTo>
                  <a:lnTo>
                    <a:pt x="977" y="1075"/>
                  </a:lnTo>
                  <a:lnTo>
                    <a:pt x="1069" y="1132"/>
                  </a:lnTo>
                  <a:lnTo>
                    <a:pt x="1137" y="1183"/>
                  </a:lnTo>
                  <a:lnTo>
                    <a:pt x="1160" y="1204"/>
                  </a:lnTo>
                  <a:lnTo>
                    <a:pt x="1178" y="1225"/>
                  </a:lnTo>
                  <a:lnTo>
                    <a:pt x="1190" y="1240"/>
                  </a:lnTo>
                  <a:lnTo>
                    <a:pt x="1202" y="1251"/>
                  </a:lnTo>
                  <a:lnTo>
                    <a:pt x="1210" y="1254"/>
                  </a:lnTo>
                  <a:lnTo>
                    <a:pt x="1218" y="1253"/>
                  </a:lnTo>
                  <a:lnTo>
                    <a:pt x="1221" y="1244"/>
                  </a:lnTo>
                  <a:lnTo>
                    <a:pt x="1223" y="1233"/>
                  </a:lnTo>
                  <a:lnTo>
                    <a:pt x="1221" y="1215"/>
                  </a:lnTo>
                  <a:lnTo>
                    <a:pt x="1216" y="1191"/>
                  </a:lnTo>
                  <a:close/>
                </a:path>
              </a:pathLst>
            </a:custGeom>
            <a:blipFill rotWithShape="0">
              <a:blip r:embed="rId65"/>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1125000" y="1221120"/>
              <a:ext cx="264600" cy="214200"/>
            </a:xfrm>
            <a:custGeom>
              <a:avLst/>
              <a:gdLst/>
              <a:ahLst/>
              <a:rect l="l" t="t" r="r" b="b"/>
              <a:pathLst>
                <a:path w="2069" h="1847">
                  <a:moveTo>
                    <a:pt x="1173" y="0"/>
                  </a:moveTo>
                  <a:lnTo>
                    <a:pt x="1350" y="94"/>
                  </a:lnTo>
                  <a:lnTo>
                    <a:pt x="1345" y="101"/>
                  </a:lnTo>
                  <a:lnTo>
                    <a:pt x="1348" y="104"/>
                  </a:lnTo>
                  <a:lnTo>
                    <a:pt x="1376" y="112"/>
                  </a:lnTo>
                  <a:lnTo>
                    <a:pt x="1423" y="120"/>
                  </a:lnTo>
                  <a:lnTo>
                    <a:pt x="1434" y="122"/>
                  </a:lnTo>
                  <a:lnTo>
                    <a:pt x="1444" y="128"/>
                  </a:lnTo>
                  <a:lnTo>
                    <a:pt x="1459" y="146"/>
                  </a:lnTo>
                  <a:lnTo>
                    <a:pt x="1467" y="156"/>
                  </a:lnTo>
                  <a:lnTo>
                    <a:pt x="1476" y="162"/>
                  </a:lnTo>
                  <a:lnTo>
                    <a:pt x="1489" y="164"/>
                  </a:lnTo>
                  <a:lnTo>
                    <a:pt x="1504" y="162"/>
                  </a:lnTo>
                  <a:lnTo>
                    <a:pt x="1591" y="245"/>
                  </a:lnTo>
                  <a:lnTo>
                    <a:pt x="1591" y="296"/>
                  </a:lnTo>
                  <a:lnTo>
                    <a:pt x="1601" y="345"/>
                  </a:lnTo>
                  <a:lnTo>
                    <a:pt x="1621" y="392"/>
                  </a:lnTo>
                  <a:lnTo>
                    <a:pt x="1633" y="412"/>
                  </a:lnTo>
                  <a:lnTo>
                    <a:pt x="1648" y="432"/>
                  </a:lnTo>
                  <a:lnTo>
                    <a:pt x="1648" y="447"/>
                  </a:lnTo>
                  <a:lnTo>
                    <a:pt x="1653" y="462"/>
                  </a:lnTo>
                  <a:lnTo>
                    <a:pt x="1672" y="486"/>
                  </a:lnTo>
                  <a:lnTo>
                    <a:pt x="1684" y="588"/>
                  </a:lnTo>
                  <a:lnTo>
                    <a:pt x="1659" y="583"/>
                  </a:lnTo>
                  <a:lnTo>
                    <a:pt x="1629" y="580"/>
                  </a:lnTo>
                  <a:lnTo>
                    <a:pt x="1625" y="588"/>
                  </a:lnTo>
                  <a:lnTo>
                    <a:pt x="1625" y="598"/>
                  </a:lnTo>
                  <a:lnTo>
                    <a:pt x="1635" y="622"/>
                  </a:lnTo>
                  <a:lnTo>
                    <a:pt x="1646" y="649"/>
                  </a:lnTo>
                  <a:lnTo>
                    <a:pt x="1648" y="662"/>
                  </a:lnTo>
                  <a:lnTo>
                    <a:pt x="1648" y="675"/>
                  </a:lnTo>
                  <a:lnTo>
                    <a:pt x="1656" y="680"/>
                  </a:lnTo>
                  <a:lnTo>
                    <a:pt x="1677" y="700"/>
                  </a:lnTo>
                  <a:lnTo>
                    <a:pt x="1704" y="730"/>
                  </a:lnTo>
                  <a:lnTo>
                    <a:pt x="1706" y="748"/>
                  </a:lnTo>
                  <a:lnTo>
                    <a:pt x="1714" y="769"/>
                  </a:lnTo>
                  <a:lnTo>
                    <a:pt x="1722" y="795"/>
                  </a:lnTo>
                  <a:lnTo>
                    <a:pt x="1725" y="815"/>
                  </a:lnTo>
                  <a:lnTo>
                    <a:pt x="1727" y="824"/>
                  </a:lnTo>
                  <a:lnTo>
                    <a:pt x="1734" y="832"/>
                  </a:lnTo>
                  <a:lnTo>
                    <a:pt x="1742" y="839"/>
                  </a:lnTo>
                  <a:lnTo>
                    <a:pt x="1750" y="848"/>
                  </a:lnTo>
                  <a:lnTo>
                    <a:pt x="1750" y="1109"/>
                  </a:lnTo>
                  <a:lnTo>
                    <a:pt x="1729" y="1128"/>
                  </a:lnTo>
                  <a:lnTo>
                    <a:pt x="1714" y="1146"/>
                  </a:lnTo>
                  <a:lnTo>
                    <a:pt x="1708" y="1156"/>
                  </a:lnTo>
                  <a:lnTo>
                    <a:pt x="1706" y="1166"/>
                  </a:lnTo>
                  <a:lnTo>
                    <a:pt x="1706" y="1177"/>
                  </a:lnTo>
                  <a:lnTo>
                    <a:pt x="1709" y="1192"/>
                  </a:lnTo>
                  <a:lnTo>
                    <a:pt x="1787" y="1225"/>
                  </a:lnTo>
                  <a:lnTo>
                    <a:pt x="1798" y="1235"/>
                  </a:lnTo>
                  <a:lnTo>
                    <a:pt x="1830" y="1263"/>
                  </a:lnTo>
                  <a:lnTo>
                    <a:pt x="1844" y="1274"/>
                  </a:lnTo>
                  <a:lnTo>
                    <a:pt x="1850" y="1282"/>
                  </a:lnTo>
                  <a:lnTo>
                    <a:pt x="1852" y="1289"/>
                  </a:lnTo>
                  <a:lnTo>
                    <a:pt x="1863" y="1294"/>
                  </a:lnTo>
                  <a:lnTo>
                    <a:pt x="1921" y="1308"/>
                  </a:lnTo>
                  <a:lnTo>
                    <a:pt x="1921" y="1321"/>
                  </a:lnTo>
                  <a:lnTo>
                    <a:pt x="1926" y="1329"/>
                  </a:lnTo>
                  <a:lnTo>
                    <a:pt x="1947" y="1352"/>
                  </a:lnTo>
                  <a:lnTo>
                    <a:pt x="2007" y="1493"/>
                  </a:lnTo>
                  <a:lnTo>
                    <a:pt x="2069" y="1545"/>
                  </a:lnTo>
                  <a:lnTo>
                    <a:pt x="2049" y="1549"/>
                  </a:lnTo>
                  <a:lnTo>
                    <a:pt x="2038" y="1556"/>
                  </a:lnTo>
                  <a:lnTo>
                    <a:pt x="2033" y="1569"/>
                  </a:lnTo>
                  <a:lnTo>
                    <a:pt x="2031" y="1585"/>
                  </a:lnTo>
                  <a:lnTo>
                    <a:pt x="2039" y="1622"/>
                  </a:lnTo>
                  <a:lnTo>
                    <a:pt x="2047" y="1666"/>
                  </a:lnTo>
                  <a:lnTo>
                    <a:pt x="2059" y="1667"/>
                  </a:lnTo>
                  <a:lnTo>
                    <a:pt x="2067" y="1671"/>
                  </a:lnTo>
                  <a:lnTo>
                    <a:pt x="2069" y="1677"/>
                  </a:lnTo>
                  <a:lnTo>
                    <a:pt x="2067" y="1685"/>
                  </a:lnTo>
                  <a:lnTo>
                    <a:pt x="2038" y="1734"/>
                  </a:lnTo>
                  <a:lnTo>
                    <a:pt x="2020" y="1748"/>
                  </a:lnTo>
                  <a:lnTo>
                    <a:pt x="2002" y="1760"/>
                  </a:lnTo>
                  <a:lnTo>
                    <a:pt x="1983" y="1766"/>
                  </a:lnTo>
                  <a:lnTo>
                    <a:pt x="1960" y="1771"/>
                  </a:lnTo>
                  <a:lnTo>
                    <a:pt x="1917" y="1776"/>
                  </a:lnTo>
                  <a:lnTo>
                    <a:pt x="1871" y="1776"/>
                  </a:lnTo>
                  <a:lnTo>
                    <a:pt x="1828" y="1778"/>
                  </a:lnTo>
                  <a:lnTo>
                    <a:pt x="1785" y="1786"/>
                  </a:lnTo>
                  <a:lnTo>
                    <a:pt x="1765" y="1792"/>
                  </a:lnTo>
                  <a:lnTo>
                    <a:pt x="1747" y="1803"/>
                  </a:lnTo>
                  <a:lnTo>
                    <a:pt x="1729" y="1817"/>
                  </a:lnTo>
                  <a:lnTo>
                    <a:pt x="1716" y="1835"/>
                  </a:lnTo>
                  <a:lnTo>
                    <a:pt x="1688" y="1843"/>
                  </a:lnTo>
                  <a:lnTo>
                    <a:pt x="1661" y="1847"/>
                  </a:lnTo>
                  <a:lnTo>
                    <a:pt x="1633" y="1847"/>
                  </a:lnTo>
                  <a:lnTo>
                    <a:pt x="1603" y="1843"/>
                  </a:lnTo>
                  <a:lnTo>
                    <a:pt x="1575" y="1836"/>
                  </a:lnTo>
                  <a:lnTo>
                    <a:pt x="1549" y="1829"/>
                  </a:lnTo>
                  <a:lnTo>
                    <a:pt x="1501" y="1805"/>
                  </a:lnTo>
                  <a:lnTo>
                    <a:pt x="1489" y="1799"/>
                  </a:lnTo>
                  <a:lnTo>
                    <a:pt x="1476" y="1787"/>
                  </a:lnTo>
                  <a:lnTo>
                    <a:pt x="1445" y="1754"/>
                  </a:lnTo>
                  <a:lnTo>
                    <a:pt x="1408" y="1705"/>
                  </a:lnTo>
                  <a:lnTo>
                    <a:pt x="1402" y="1705"/>
                  </a:lnTo>
                  <a:lnTo>
                    <a:pt x="1389" y="1698"/>
                  </a:lnTo>
                  <a:lnTo>
                    <a:pt x="1345" y="1675"/>
                  </a:lnTo>
                  <a:lnTo>
                    <a:pt x="1309" y="1651"/>
                  </a:lnTo>
                  <a:lnTo>
                    <a:pt x="1301" y="1643"/>
                  </a:lnTo>
                  <a:lnTo>
                    <a:pt x="1308" y="1643"/>
                  </a:lnTo>
                  <a:lnTo>
                    <a:pt x="1301" y="1645"/>
                  </a:lnTo>
                  <a:lnTo>
                    <a:pt x="1300" y="1650"/>
                  </a:lnTo>
                  <a:lnTo>
                    <a:pt x="1300" y="1658"/>
                  </a:lnTo>
                  <a:lnTo>
                    <a:pt x="1300" y="1667"/>
                  </a:lnTo>
                  <a:lnTo>
                    <a:pt x="1295" y="1677"/>
                  </a:lnTo>
                  <a:lnTo>
                    <a:pt x="1279" y="1667"/>
                  </a:lnTo>
                  <a:lnTo>
                    <a:pt x="1261" y="1659"/>
                  </a:lnTo>
                  <a:lnTo>
                    <a:pt x="1214" y="1643"/>
                  </a:lnTo>
                  <a:lnTo>
                    <a:pt x="1193" y="1655"/>
                  </a:lnTo>
                  <a:lnTo>
                    <a:pt x="1175" y="1667"/>
                  </a:lnTo>
                  <a:lnTo>
                    <a:pt x="1153" y="1679"/>
                  </a:lnTo>
                  <a:lnTo>
                    <a:pt x="1139" y="1681"/>
                  </a:lnTo>
                  <a:lnTo>
                    <a:pt x="1125" y="1682"/>
                  </a:lnTo>
                  <a:lnTo>
                    <a:pt x="1122" y="1687"/>
                  </a:lnTo>
                  <a:lnTo>
                    <a:pt x="1120" y="1690"/>
                  </a:lnTo>
                  <a:lnTo>
                    <a:pt x="1117" y="1703"/>
                  </a:lnTo>
                  <a:lnTo>
                    <a:pt x="1115" y="1705"/>
                  </a:lnTo>
                  <a:lnTo>
                    <a:pt x="1110" y="1703"/>
                  </a:lnTo>
                  <a:lnTo>
                    <a:pt x="1086" y="1671"/>
                  </a:lnTo>
                  <a:lnTo>
                    <a:pt x="1023" y="1594"/>
                  </a:lnTo>
                  <a:lnTo>
                    <a:pt x="910" y="1577"/>
                  </a:lnTo>
                  <a:lnTo>
                    <a:pt x="840" y="1493"/>
                  </a:lnTo>
                  <a:lnTo>
                    <a:pt x="840" y="1417"/>
                  </a:lnTo>
                  <a:lnTo>
                    <a:pt x="832" y="1402"/>
                  </a:lnTo>
                  <a:lnTo>
                    <a:pt x="826" y="1397"/>
                  </a:lnTo>
                  <a:lnTo>
                    <a:pt x="818" y="1391"/>
                  </a:lnTo>
                  <a:lnTo>
                    <a:pt x="706" y="1426"/>
                  </a:lnTo>
                  <a:lnTo>
                    <a:pt x="615" y="1308"/>
                  </a:lnTo>
                  <a:lnTo>
                    <a:pt x="609" y="1284"/>
                  </a:lnTo>
                  <a:lnTo>
                    <a:pt x="599" y="1265"/>
                  </a:lnTo>
                  <a:lnTo>
                    <a:pt x="585" y="1247"/>
                  </a:lnTo>
                  <a:lnTo>
                    <a:pt x="567" y="1232"/>
                  </a:lnTo>
                  <a:lnTo>
                    <a:pt x="529" y="1203"/>
                  </a:lnTo>
                  <a:lnTo>
                    <a:pt x="513" y="1187"/>
                  </a:lnTo>
                  <a:lnTo>
                    <a:pt x="498" y="1169"/>
                  </a:lnTo>
                  <a:lnTo>
                    <a:pt x="455" y="1166"/>
                  </a:lnTo>
                  <a:lnTo>
                    <a:pt x="432" y="1162"/>
                  </a:lnTo>
                  <a:lnTo>
                    <a:pt x="421" y="1158"/>
                  </a:lnTo>
                  <a:lnTo>
                    <a:pt x="405" y="1142"/>
                  </a:lnTo>
                  <a:lnTo>
                    <a:pt x="393" y="1095"/>
                  </a:lnTo>
                  <a:lnTo>
                    <a:pt x="379" y="1085"/>
                  </a:lnTo>
                  <a:lnTo>
                    <a:pt x="364" y="1075"/>
                  </a:lnTo>
                  <a:lnTo>
                    <a:pt x="334" y="1081"/>
                  </a:lnTo>
                  <a:lnTo>
                    <a:pt x="306" y="1083"/>
                  </a:lnTo>
                  <a:lnTo>
                    <a:pt x="279" y="1079"/>
                  </a:lnTo>
                  <a:lnTo>
                    <a:pt x="251" y="1069"/>
                  </a:lnTo>
                  <a:lnTo>
                    <a:pt x="220" y="1044"/>
                  </a:lnTo>
                  <a:lnTo>
                    <a:pt x="194" y="1014"/>
                  </a:lnTo>
                  <a:lnTo>
                    <a:pt x="109" y="984"/>
                  </a:lnTo>
                  <a:lnTo>
                    <a:pt x="97" y="978"/>
                  </a:lnTo>
                  <a:lnTo>
                    <a:pt x="94" y="973"/>
                  </a:lnTo>
                  <a:lnTo>
                    <a:pt x="94" y="959"/>
                  </a:lnTo>
                  <a:lnTo>
                    <a:pt x="94" y="952"/>
                  </a:lnTo>
                  <a:lnTo>
                    <a:pt x="87" y="947"/>
                  </a:lnTo>
                  <a:lnTo>
                    <a:pt x="76" y="945"/>
                  </a:lnTo>
                  <a:lnTo>
                    <a:pt x="54" y="943"/>
                  </a:lnTo>
                  <a:lnTo>
                    <a:pt x="38" y="933"/>
                  </a:lnTo>
                  <a:lnTo>
                    <a:pt x="23" y="920"/>
                  </a:lnTo>
                  <a:lnTo>
                    <a:pt x="8" y="903"/>
                  </a:lnTo>
                  <a:lnTo>
                    <a:pt x="0" y="884"/>
                  </a:lnTo>
                  <a:lnTo>
                    <a:pt x="0" y="718"/>
                  </a:lnTo>
                  <a:lnTo>
                    <a:pt x="5" y="704"/>
                  </a:lnTo>
                  <a:lnTo>
                    <a:pt x="15" y="690"/>
                  </a:lnTo>
                  <a:lnTo>
                    <a:pt x="26" y="680"/>
                  </a:lnTo>
                  <a:lnTo>
                    <a:pt x="42" y="675"/>
                  </a:lnTo>
                  <a:lnTo>
                    <a:pt x="107" y="649"/>
                  </a:lnTo>
                  <a:lnTo>
                    <a:pt x="175" y="623"/>
                  </a:lnTo>
                  <a:lnTo>
                    <a:pt x="178" y="619"/>
                  </a:lnTo>
                  <a:lnTo>
                    <a:pt x="184" y="619"/>
                  </a:lnTo>
                  <a:lnTo>
                    <a:pt x="196" y="627"/>
                  </a:lnTo>
                  <a:lnTo>
                    <a:pt x="209" y="639"/>
                  </a:lnTo>
                  <a:lnTo>
                    <a:pt x="215" y="643"/>
                  </a:lnTo>
                  <a:lnTo>
                    <a:pt x="225" y="645"/>
                  </a:lnTo>
                  <a:lnTo>
                    <a:pt x="271" y="623"/>
                  </a:lnTo>
                  <a:lnTo>
                    <a:pt x="316" y="572"/>
                  </a:lnTo>
                  <a:lnTo>
                    <a:pt x="453" y="572"/>
                  </a:lnTo>
                  <a:lnTo>
                    <a:pt x="460" y="578"/>
                  </a:lnTo>
                  <a:lnTo>
                    <a:pt x="463" y="588"/>
                  </a:lnTo>
                  <a:lnTo>
                    <a:pt x="465" y="598"/>
                  </a:lnTo>
                  <a:lnTo>
                    <a:pt x="468" y="609"/>
                  </a:lnTo>
                  <a:lnTo>
                    <a:pt x="484" y="614"/>
                  </a:lnTo>
                  <a:lnTo>
                    <a:pt x="523" y="617"/>
                  </a:lnTo>
                  <a:lnTo>
                    <a:pt x="577" y="623"/>
                  </a:lnTo>
                  <a:lnTo>
                    <a:pt x="581" y="619"/>
                  </a:lnTo>
                  <a:lnTo>
                    <a:pt x="583" y="612"/>
                  </a:lnTo>
                  <a:lnTo>
                    <a:pt x="585" y="601"/>
                  </a:lnTo>
                  <a:lnTo>
                    <a:pt x="589" y="598"/>
                  </a:lnTo>
                  <a:lnTo>
                    <a:pt x="594" y="596"/>
                  </a:lnTo>
                  <a:lnTo>
                    <a:pt x="607" y="598"/>
                  </a:lnTo>
                  <a:lnTo>
                    <a:pt x="622" y="596"/>
                  </a:lnTo>
                  <a:lnTo>
                    <a:pt x="640" y="594"/>
                  </a:lnTo>
                  <a:lnTo>
                    <a:pt x="656" y="594"/>
                  </a:lnTo>
                  <a:lnTo>
                    <a:pt x="683" y="588"/>
                  </a:lnTo>
                  <a:lnTo>
                    <a:pt x="714" y="583"/>
                  </a:lnTo>
                  <a:lnTo>
                    <a:pt x="766" y="578"/>
                  </a:lnTo>
                  <a:lnTo>
                    <a:pt x="792" y="574"/>
                  </a:lnTo>
                  <a:lnTo>
                    <a:pt x="814" y="564"/>
                  </a:lnTo>
                  <a:lnTo>
                    <a:pt x="835" y="552"/>
                  </a:lnTo>
                  <a:lnTo>
                    <a:pt x="858" y="531"/>
                  </a:lnTo>
                  <a:lnTo>
                    <a:pt x="853" y="381"/>
                  </a:lnTo>
                  <a:lnTo>
                    <a:pt x="859" y="373"/>
                  </a:lnTo>
                  <a:lnTo>
                    <a:pt x="869" y="357"/>
                  </a:lnTo>
                  <a:lnTo>
                    <a:pt x="885" y="331"/>
                  </a:lnTo>
                  <a:lnTo>
                    <a:pt x="900" y="222"/>
                  </a:lnTo>
                  <a:lnTo>
                    <a:pt x="1007" y="71"/>
                  </a:lnTo>
                  <a:lnTo>
                    <a:pt x="1049" y="37"/>
                  </a:lnTo>
                  <a:lnTo>
                    <a:pt x="1057" y="29"/>
                  </a:lnTo>
                  <a:lnTo>
                    <a:pt x="1054" y="39"/>
                  </a:lnTo>
                  <a:lnTo>
                    <a:pt x="1057" y="47"/>
                  </a:lnTo>
                  <a:lnTo>
                    <a:pt x="1065" y="57"/>
                  </a:lnTo>
                  <a:lnTo>
                    <a:pt x="1057" y="53"/>
                  </a:lnTo>
                  <a:lnTo>
                    <a:pt x="1054" y="49"/>
                  </a:lnTo>
                  <a:lnTo>
                    <a:pt x="1057" y="45"/>
                  </a:lnTo>
                  <a:lnTo>
                    <a:pt x="1060" y="41"/>
                  </a:lnTo>
                  <a:lnTo>
                    <a:pt x="1078" y="37"/>
                  </a:lnTo>
                  <a:lnTo>
                    <a:pt x="1104" y="33"/>
                  </a:lnTo>
                  <a:lnTo>
                    <a:pt x="1153" y="29"/>
                  </a:lnTo>
                  <a:lnTo>
                    <a:pt x="1167" y="31"/>
                  </a:lnTo>
                  <a:lnTo>
                    <a:pt x="1169" y="31"/>
                  </a:lnTo>
                  <a:lnTo>
                    <a:pt x="1169" y="33"/>
                  </a:lnTo>
                  <a:lnTo>
                    <a:pt x="1173" y="0"/>
                  </a:lnTo>
                  <a:close/>
                </a:path>
              </a:pathLst>
            </a:custGeom>
            <a:blipFill rotWithShape="0">
              <a:blip r:embed="rId66"/>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1490040" y="1176480"/>
              <a:ext cx="65520" cy="75240"/>
            </a:xfrm>
            <a:custGeom>
              <a:avLst/>
              <a:gdLst/>
              <a:ahLst/>
              <a:rect l="l" t="t" r="r" b="b"/>
              <a:pathLst>
                <a:path w="516" h="655">
                  <a:moveTo>
                    <a:pt x="288" y="12"/>
                  </a:moveTo>
                  <a:lnTo>
                    <a:pt x="322" y="67"/>
                  </a:lnTo>
                  <a:lnTo>
                    <a:pt x="342" y="93"/>
                  </a:lnTo>
                  <a:lnTo>
                    <a:pt x="364" y="116"/>
                  </a:lnTo>
                  <a:lnTo>
                    <a:pt x="387" y="136"/>
                  </a:lnTo>
                  <a:lnTo>
                    <a:pt x="413" y="150"/>
                  </a:lnTo>
                  <a:lnTo>
                    <a:pt x="440" y="160"/>
                  </a:lnTo>
                  <a:lnTo>
                    <a:pt x="472" y="163"/>
                  </a:lnTo>
                  <a:lnTo>
                    <a:pt x="494" y="192"/>
                  </a:lnTo>
                  <a:lnTo>
                    <a:pt x="508" y="221"/>
                  </a:lnTo>
                  <a:lnTo>
                    <a:pt x="516" y="250"/>
                  </a:lnTo>
                  <a:lnTo>
                    <a:pt x="516" y="283"/>
                  </a:lnTo>
                  <a:lnTo>
                    <a:pt x="512" y="314"/>
                  </a:lnTo>
                  <a:lnTo>
                    <a:pt x="504" y="347"/>
                  </a:lnTo>
                  <a:lnTo>
                    <a:pt x="490" y="377"/>
                  </a:lnTo>
                  <a:lnTo>
                    <a:pt x="472" y="409"/>
                  </a:lnTo>
                  <a:lnTo>
                    <a:pt x="450" y="436"/>
                  </a:lnTo>
                  <a:lnTo>
                    <a:pt x="427" y="464"/>
                  </a:lnTo>
                  <a:lnTo>
                    <a:pt x="401" y="487"/>
                  </a:lnTo>
                  <a:lnTo>
                    <a:pt x="372" y="508"/>
                  </a:lnTo>
                  <a:lnTo>
                    <a:pt x="343" y="525"/>
                  </a:lnTo>
                  <a:lnTo>
                    <a:pt x="314" y="539"/>
                  </a:lnTo>
                  <a:lnTo>
                    <a:pt x="285" y="547"/>
                  </a:lnTo>
                  <a:lnTo>
                    <a:pt x="257" y="548"/>
                  </a:lnTo>
                  <a:lnTo>
                    <a:pt x="217" y="582"/>
                  </a:lnTo>
                  <a:lnTo>
                    <a:pt x="170" y="613"/>
                  </a:lnTo>
                  <a:lnTo>
                    <a:pt x="118" y="642"/>
                  </a:lnTo>
                  <a:lnTo>
                    <a:pt x="97" y="649"/>
                  </a:lnTo>
                  <a:lnTo>
                    <a:pt x="76" y="655"/>
                  </a:lnTo>
                  <a:lnTo>
                    <a:pt x="54" y="655"/>
                  </a:lnTo>
                  <a:lnTo>
                    <a:pt x="42" y="652"/>
                  </a:lnTo>
                  <a:lnTo>
                    <a:pt x="32" y="644"/>
                  </a:lnTo>
                  <a:lnTo>
                    <a:pt x="22" y="631"/>
                  </a:lnTo>
                  <a:lnTo>
                    <a:pt x="14" y="616"/>
                  </a:lnTo>
                  <a:lnTo>
                    <a:pt x="5" y="582"/>
                  </a:lnTo>
                  <a:lnTo>
                    <a:pt x="0" y="558"/>
                  </a:lnTo>
                  <a:lnTo>
                    <a:pt x="30" y="519"/>
                  </a:lnTo>
                  <a:lnTo>
                    <a:pt x="60" y="472"/>
                  </a:lnTo>
                  <a:lnTo>
                    <a:pt x="87" y="422"/>
                  </a:lnTo>
                  <a:lnTo>
                    <a:pt x="107" y="377"/>
                  </a:lnTo>
                  <a:lnTo>
                    <a:pt x="126" y="341"/>
                  </a:lnTo>
                  <a:lnTo>
                    <a:pt x="150" y="310"/>
                  </a:lnTo>
                  <a:lnTo>
                    <a:pt x="204" y="255"/>
                  </a:lnTo>
                  <a:lnTo>
                    <a:pt x="228" y="226"/>
                  </a:lnTo>
                  <a:lnTo>
                    <a:pt x="238" y="211"/>
                  </a:lnTo>
                  <a:lnTo>
                    <a:pt x="243" y="195"/>
                  </a:lnTo>
                  <a:lnTo>
                    <a:pt x="249" y="176"/>
                  </a:lnTo>
                  <a:lnTo>
                    <a:pt x="251" y="156"/>
                  </a:lnTo>
                  <a:lnTo>
                    <a:pt x="251" y="134"/>
                  </a:lnTo>
                  <a:lnTo>
                    <a:pt x="247" y="108"/>
                  </a:lnTo>
                  <a:lnTo>
                    <a:pt x="247" y="67"/>
                  </a:lnTo>
                  <a:lnTo>
                    <a:pt x="231" y="50"/>
                  </a:lnTo>
                  <a:lnTo>
                    <a:pt x="228" y="37"/>
                  </a:lnTo>
                  <a:lnTo>
                    <a:pt x="225" y="24"/>
                  </a:lnTo>
                  <a:lnTo>
                    <a:pt x="233" y="22"/>
                  </a:lnTo>
                  <a:lnTo>
                    <a:pt x="241" y="17"/>
                  </a:lnTo>
                  <a:lnTo>
                    <a:pt x="249" y="14"/>
                  </a:lnTo>
                  <a:lnTo>
                    <a:pt x="257" y="12"/>
                  </a:lnTo>
                  <a:lnTo>
                    <a:pt x="259" y="6"/>
                  </a:lnTo>
                  <a:lnTo>
                    <a:pt x="269" y="0"/>
                  </a:lnTo>
                  <a:lnTo>
                    <a:pt x="279" y="1"/>
                  </a:lnTo>
                  <a:lnTo>
                    <a:pt x="288" y="12"/>
                  </a:lnTo>
                  <a:close/>
                </a:path>
              </a:pathLst>
            </a:custGeom>
            <a:blipFill rotWithShape="0">
              <a:blip r:embed="rId67"/>
              <a:srcRect/>
              <a:stretch/>
            </a:blip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239" name=""/>
            <p:cNvSpPr/>
            <p:nvPr/>
          </p:nvSpPr>
          <p:spPr>
            <a:xfrm>
              <a:off x="1795680" y="1372320"/>
              <a:ext cx="36000" cy="59040"/>
            </a:xfrm>
            <a:custGeom>
              <a:avLst/>
              <a:gdLst/>
              <a:ahLst/>
              <a:rect l="l" t="t" r="r" b="b"/>
              <a:pathLst>
                <a:path w="280" h="513">
                  <a:moveTo>
                    <a:pt x="76" y="0"/>
                  </a:moveTo>
                  <a:lnTo>
                    <a:pt x="90" y="2"/>
                  </a:lnTo>
                  <a:lnTo>
                    <a:pt x="107" y="8"/>
                  </a:lnTo>
                  <a:lnTo>
                    <a:pt x="134" y="22"/>
                  </a:lnTo>
                  <a:lnTo>
                    <a:pt x="162" y="38"/>
                  </a:lnTo>
                  <a:lnTo>
                    <a:pt x="178" y="41"/>
                  </a:lnTo>
                  <a:lnTo>
                    <a:pt x="193" y="44"/>
                  </a:lnTo>
                  <a:lnTo>
                    <a:pt x="207" y="69"/>
                  </a:lnTo>
                  <a:lnTo>
                    <a:pt x="231" y="96"/>
                  </a:lnTo>
                  <a:lnTo>
                    <a:pt x="252" y="125"/>
                  </a:lnTo>
                  <a:lnTo>
                    <a:pt x="268" y="148"/>
                  </a:lnTo>
                  <a:lnTo>
                    <a:pt x="274" y="167"/>
                  </a:lnTo>
                  <a:lnTo>
                    <a:pt x="278" y="190"/>
                  </a:lnTo>
                  <a:lnTo>
                    <a:pt x="280" y="231"/>
                  </a:lnTo>
                  <a:lnTo>
                    <a:pt x="276" y="272"/>
                  </a:lnTo>
                  <a:lnTo>
                    <a:pt x="268" y="314"/>
                  </a:lnTo>
                  <a:lnTo>
                    <a:pt x="246" y="399"/>
                  </a:lnTo>
                  <a:lnTo>
                    <a:pt x="238" y="441"/>
                  </a:lnTo>
                  <a:lnTo>
                    <a:pt x="236" y="480"/>
                  </a:lnTo>
                  <a:lnTo>
                    <a:pt x="205" y="513"/>
                  </a:lnTo>
                  <a:lnTo>
                    <a:pt x="178" y="512"/>
                  </a:lnTo>
                  <a:lnTo>
                    <a:pt x="152" y="505"/>
                  </a:lnTo>
                  <a:lnTo>
                    <a:pt x="130" y="496"/>
                  </a:lnTo>
                  <a:lnTo>
                    <a:pt x="108" y="483"/>
                  </a:lnTo>
                  <a:lnTo>
                    <a:pt x="90" y="468"/>
                  </a:lnTo>
                  <a:lnTo>
                    <a:pt x="73" y="450"/>
                  </a:lnTo>
                  <a:lnTo>
                    <a:pt x="58" y="431"/>
                  </a:lnTo>
                  <a:lnTo>
                    <a:pt x="45" y="408"/>
                  </a:lnTo>
                  <a:lnTo>
                    <a:pt x="26" y="361"/>
                  </a:lnTo>
                  <a:lnTo>
                    <a:pt x="10" y="310"/>
                  </a:lnTo>
                  <a:lnTo>
                    <a:pt x="2" y="261"/>
                  </a:lnTo>
                  <a:lnTo>
                    <a:pt x="0" y="213"/>
                  </a:lnTo>
                  <a:lnTo>
                    <a:pt x="97" y="119"/>
                  </a:lnTo>
                  <a:lnTo>
                    <a:pt x="92" y="87"/>
                  </a:lnTo>
                  <a:lnTo>
                    <a:pt x="87" y="55"/>
                  </a:lnTo>
                  <a:lnTo>
                    <a:pt x="79" y="28"/>
                  </a:lnTo>
                  <a:lnTo>
                    <a:pt x="76" y="0"/>
                  </a:lnTo>
                  <a:close/>
                </a:path>
              </a:pathLst>
            </a:custGeom>
            <a:blipFill rotWithShape="0">
              <a:blip r:embed="rId68"/>
              <a:srcRect/>
              <a:stretch/>
            </a:blip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40" name=""/>
            <p:cNvSpPr/>
            <p:nvPr/>
          </p:nvSpPr>
          <p:spPr>
            <a:xfrm>
              <a:off x="1345680" y="1236600"/>
              <a:ext cx="20160" cy="31320"/>
            </a:xfrm>
            <a:custGeom>
              <a:avLst/>
              <a:gdLst/>
              <a:ahLst/>
              <a:rect l="l" t="t" r="r" b="b"/>
              <a:pathLst>
                <a:path w="160" h="271">
                  <a:moveTo>
                    <a:pt x="29" y="0"/>
                  </a:moveTo>
                  <a:lnTo>
                    <a:pt x="53" y="4"/>
                  </a:lnTo>
                  <a:lnTo>
                    <a:pt x="76" y="14"/>
                  </a:lnTo>
                  <a:lnTo>
                    <a:pt x="98" y="28"/>
                  </a:lnTo>
                  <a:lnTo>
                    <a:pt x="116" y="43"/>
                  </a:lnTo>
                  <a:lnTo>
                    <a:pt x="118" y="67"/>
                  </a:lnTo>
                  <a:lnTo>
                    <a:pt x="124" y="93"/>
                  </a:lnTo>
                  <a:lnTo>
                    <a:pt x="142" y="154"/>
                  </a:lnTo>
                  <a:lnTo>
                    <a:pt x="155" y="215"/>
                  </a:lnTo>
                  <a:lnTo>
                    <a:pt x="160" y="239"/>
                  </a:lnTo>
                  <a:lnTo>
                    <a:pt x="160" y="258"/>
                  </a:lnTo>
                  <a:lnTo>
                    <a:pt x="147" y="268"/>
                  </a:lnTo>
                  <a:lnTo>
                    <a:pt x="138" y="271"/>
                  </a:lnTo>
                  <a:lnTo>
                    <a:pt x="130" y="266"/>
                  </a:lnTo>
                  <a:lnTo>
                    <a:pt x="108" y="253"/>
                  </a:lnTo>
                  <a:lnTo>
                    <a:pt x="86" y="235"/>
                  </a:lnTo>
                  <a:lnTo>
                    <a:pt x="74" y="229"/>
                  </a:lnTo>
                  <a:lnTo>
                    <a:pt x="63" y="227"/>
                  </a:lnTo>
                  <a:lnTo>
                    <a:pt x="29" y="174"/>
                  </a:lnTo>
                  <a:lnTo>
                    <a:pt x="16" y="148"/>
                  </a:lnTo>
                  <a:lnTo>
                    <a:pt x="5" y="122"/>
                  </a:lnTo>
                  <a:lnTo>
                    <a:pt x="0" y="95"/>
                  </a:lnTo>
                  <a:lnTo>
                    <a:pt x="1" y="65"/>
                  </a:lnTo>
                  <a:lnTo>
                    <a:pt x="10" y="36"/>
                  </a:lnTo>
                  <a:lnTo>
                    <a:pt x="29" y="0"/>
                  </a:lnTo>
                  <a:close/>
                </a:path>
              </a:pathLst>
            </a:custGeom>
            <a:blipFill rotWithShape="0">
              <a:blip r:embed="rId69"/>
              <a:srcRect/>
              <a:stretch/>
            </a:blip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41" name=""/>
            <p:cNvSpPr/>
            <p:nvPr/>
          </p:nvSpPr>
          <p:spPr>
            <a:xfrm>
              <a:off x="1335240" y="1200600"/>
              <a:ext cx="23400" cy="26640"/>
            </a:xfrm>
            <a:custGeom>
              <a:avLst/>
              <a:gdLst/>
              <a:ahLst/>
              <a:rect l="l" t="t" r="r" b="b"/>
              <a:pathLst>
                <a:path w="182" h="229">
                  <a:moveTo>
                    <a:pt x="86" y="225"/>
                  </a:moveTo>
                  <a:lnTo>
                    <a:pt x="113" y="221"/>
                  </a:lnTo>
                  <a:lnTo>
                    <a:pt x="136" y="211"/>
                  </a:lnTo>
                  <a:lnTo>
                    <a:pt x="159" y="195"/>
                  </a:lnTo>
                  <a:lnTo>
                    <a:pt x="182" y="174"/>
                  </a:lnTo>
                  <a:lnTo>
                    <a:pt x="167" y="119"/>
                  </a:lnTo>
                  <a:lnTo>
                    <a:pt x="162" y="87"/>
                  </a:lnTo>
                  <a:lnTo>
                    <a:pt x="160" y="56"/>
                  </a:lnTo>
                  <a:lnTo>
                    <a:pt x="141" y="28"/>
                  </a:lnTo>
                  <a:lnTo>
                    <a:pt x="131" y="12"/>
                  </a:lnTo>
                  <a:lnTo>
                    <a:pt x="128" y="0"/>
                  </a:lnTo>
                  <a:lnTo>
                    <a:pt x="86" y="0"/>
                  </a:lnTo>
                  <a:lnTo>
                    <a:pt x="54" y="33"/>
                  </a:lnTo>
                  <a:lnTo>
                    <a:pt x="54" y="119"/>
                  </a:lnTo>
                  <a:lnTo>
                    <a:pt x="38" y="140"/>
                  </a:lnTo>
                  <a:lnTo>
                    <a:pt x="23" y="168"/>
                  </a:lnTo>
                  <a:lnTo>
                    <a:pt x="0" y="216"/>
                  </a:lnTo>
                  <a:lnTo>
                    <a:pt x="10" y="219"/>
                  </a:lnTo>
                  <a:lnTo>
                    <a:pt x="26" y="225"/>
                  </a:lnTo>
                  <a:lnTo>
                    <a:pt x="50" y="229"/>
                  </a:lnTo>
                  <a:lnTo>
                    <a:pt x="86" y="225"/>
                  </a:lnTo>
                  <a:close/>
                </a:path>
              </a:pathLst>
            </a:custGeom>
            <a:blipFill rotWithShape="0">
              <a:blip r:embed="rId70"/>
              <a:srcRect/>
              <a:stretch/>
            </a:blip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242" name=""/>
            <p:cNvSpPr/>
            <p:nvPr/>
          </p:nvSpPr>
          <p:spPr>
            <a:xfrm>
              <a:off x="1536480" y="1270080"/>
              <a:ext cx="22320" cy="23760"/>
            </a:xfrm>
            <a:custGeom>
              <a:avLst/>
              <a:gdLst/>
              <a:ahLst/>
              <a:rect l="l" t="t" r="r" b="b"/>
              <a:pathLst>
                <a:path w="180" h="203">
                  <a:moveTo>
                    <a:pt x="20" y="203"/>
                  </a:moveTo>
                  <a:lnTo>
                    <a:pt x="8" y="182"/>
                  </a:lnTo>
                  <a:lnTo>
                    <a:pt x="2" y="159"/>
                  </a:lnTo>
                  <a:lnTo>
                    <a:pt x="0" y="136"/>
                  </a:lnTo>
                  <a:lnTo>
                    <a:pt x="0" y="107"/>
                  </a:lnTo>
                  <a:lnTo>
                    <a:pt x="16" y="93"/>
                  </a:lnTo>
                  <a:lnTo>
                    <a:pt x="26" y="89"/>
                  </a:lnTo>
                  <a:lnTo>
                    <a:pt x="42" y="86"/>
                  </a:lnTo>
                  <a:lnTo>
                    <a:pt x="60" y="63"/>
                  </a:lnTo>
                  <a:lnTo>
                    <a:pt x="80" y="39"/>
                  </a:lnTo>
                  <a:lnTo>
                    <a:pt x="117" y="0"/>
                  </a:lnTo>
                  <a:lnTo>
                    <a:pt x="133" y="5"/>
                  </a:lnTo>
                  <a:lnTo>
                    <a:pt x="151" y="10"/>
                  </a:lnTo>
                  <a:lnTo>
                    <a:pt x="153" y="23"/>
                  </a:lnTo>
                  <a:lnTo>
                    <a:pt x="157" y="36"/>
                  </a:lnTo>
                  <a:lnTo>
                    <a:pt x="162" y="46"/>
                  </a:lnTo>
                  <a:lnTo>
                    <a:pt x="172" y="54"/>
                  </a:lnTo>
                  <a:lnTo>
                    <a:pt x="177" y="102"/>
                  </a:lnTo>
                  <a:lnTo>
                    <a:pt x="180" y="150"/>
                  </a:lnTo>
                  <a:lnTo>
                    <a:pt x="170" y="159"/>
                  </a:lnTo>
                  <a:lnTo>
                    <a:pt x="159" y="172"/>
                  </a:lnTo>
                  <a:lnTo>
                    <a:pt x="145" y="180"/>
                  </a:lnTo>
                  <a:lnTo>
                    <a:pt x="128" y="183"/>
                  </a:lnTo>
                  <a:lnTo>
                    <a:pt x="127" y="152"/>
                  </a:lnTo>
                  <a:lnTo>
                    <a:pt x="123" y="136"/>
                  </a:lnTo>
                  <a:lnTo>
                    <a:pt x="121" y="130"/>
                  </a:lnTo>
                  <a:lnTo>
                    <a:pt x="117" y="128"/>
                  </a:lnTo>
                  <a:lnTo>
                    <a:pt x="96" y="128"/>
                  </a:lnTo>
                  <a:lnTo>
                    <a:pt x="91" y="132"/>
                  </a:lnTo>
                  <a:lnTo>
                    <a:pt x="86" y="138"/>
                  </a:lnTo>
                  <a:lnTo>
                    <a:pt x="76" y="162"/>
                  </a:lnTo>
                  <a:lnTo>
                    <a:pt x="64" y="203"/>
                  </a:lnTo>
                  <a:lnTo>
                    <a:pt x="38" y="199"/>
                  </a:lnTo>
                  <a:lnTo>
                    <a:pt x="28" y="199"/>
                  </a:lnTo>
                  <a:lnTo>
                    <a:pt x="20" y="203"/>
                  </a:lnTo>
                  <a:close/>
                </a:path>
              </a:pathLst>
            </a:custGeom>
            <a:blipFill rotWithShape="0">
              <a:blip r:embed="rId71"/>
              <a:srcRect/>
              <a:stretch/>
            </a:blip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243" name=""/>
            <p:cNvSpPr/>
            <p:nvPr/>
          </p:nvSpPr>
          <p:spPr>
            <a:xfrm>
              <a:off x="1749600" y="1035360"/>
              <a:ext cx="36720" cy="47160"/>
            </a:xfrm>
            <a:custGeom>
              <a:avLst/>
              <a:gdLst/>
              <a:ahLst/>
              <a:rect l="l" t="t" r="r" b="b"/>
              <a:pathLst>
                <a:path w="289" h="408">
                  <a:moveTo>
                    <a:pt x="33" y="394"/>
                  </a:moveTo>
                  <a:lnTo>
                    <a:pt x="132" y="335"/>
                  </a:lnTo>
                  <a:lnTo>
                    <a:pt x="183" y="299"/>
                  </a:lnTo>
                  <a:lnTo>
                    <a:pt x="225" y="265"/>
                  </a:lnTo>
                  <a:lnTo>
                    <a:pt x="221" y="249"/>
                  </a:lnTo>
                  <a:lnTo>
                    <a:pt x="215" y="231"/>
                  </a:lnTo>
                  <a:lnTo>
                    <a:pt x="205" y="202"/>
                  </a:lnTo>
                  <a:lnTo>
                    <a:pt x="268" y="202"/>
                  </a:lnTo>
                  <a:lnTo>
                    <a:pt x="289" y="181"/>
                  </a:lnTo>
                  <a:lnTo>
                    <a:pt x="286" y="152"/>
                  </a:lnTo>
                  <a:lnTo>
                    <a:pt x="273" y="124"/>
                  </a:lnTo>
                  <a:lnTo>
                    <a:pt x="258" y="98"/>
                  </a:lnTo>
                  <a:lnTo>
                    <a:pt x="236" y="74"/>
                  </a:lnTo>
                  <a:lnTo>
                    <a:pt x="231" y="37"/>
                  </a:lnTo>
                  <a:lnTo>
                    <a:pt x="225" y="0"/>
                  </a:lnTo>
                  <a:lnTo>
                    <a:pt x="205" y="1"/>
                  </a:lnTo>
                  <a:lnTo>
                    <a:pt x="189" y="3"/>
                  </a:lnTo>
                  <a:lnTo>
                    <a:pt x="177" y="9"/>
                  </a:lnTo>
                  <a:lnTo>
                    <a:pt x="165" y="17"/>
                  </a:lnTo>
                  <a:lnTo>
                    <a:pt x="147" y="37"/>
                  </a:lnTo>
                  <a:lnTo>
                    <a:pt x="137" y="58"/>
                  </a:lnTo>
                  <a:lnTo>
                    <a:pt x="124" y="112"/>
                  </a:lnTo>
                  <a:lnTo>
                    <a:pt x="118" y="137"/>
                  </a:lnTo>
                  <a:lnTo>
                    <a:pt x="108" y="160"/>
                  </a:lnTo>
                  <a:lnTo>
                    <a:pt x="96" y="169"/>
                  </a:lnTo>
                  <a:lnTo>
                    <a:pt x="84" y="177"/>
                  </a:lnTo>
                  <a:lnTo>
                    <a:pt x="69" y="187"/>
                  </a:lnTo>
                  <a:lnTo>
                    <a:pt x="53" y="195"/>
                  </a:lnTo>
                  <a:lnTo>
                    <a:pt x="43" y="202"/>
                  </a:lnTo>
                  <a:lnTo>
                    <a:pt x="47" y="262"/>
                  </a:lnTo>
                  <a:lnTo>
                    <a:pt x="53" y="322"/>
                  </a:lnTo>
                  <a:lnTo>
                    <a:pt x="27" y="335"/>
                  </a:lnTo>
                  <a:lnTo>
                    <a:pt x="9" y="351"/>
                  </a:lnTo>
                  <a:lnTo>
                    <a:pt x="1" y="372"/>
                  </a:lnTo>
                  <a:lnTo>
                    <a:pt x="0" y="406"/>
                  </a:lnTo>
                  <a:lnTo>
                    <a:pt x="43" y="408"/>
                  </a:lnTo>
                  <a:lnTo>
                    <a:pt x="53" y="408"/>
                  </a:lnTo>
                  <a:lnTo>
                    <a:pt x="55" y="406"/>
                  </a:lnTo>
                  <a:lnTo>
                    <a:pt x="48" y="401"/>
                  </a:lnTo>
                  <a:lnTo>
                    <a:pt x="33" y="394"/>
                  </a:lnTo>
                  <a:close/>
                </a:path>
              </a:pathLst>
            </a:custGeom>
            <a:blipFill rotWithShape="0">
              <a:blip r:embed="rId72"/>
              <a:srcRect/>
              <a:stretch/>
            </a:blip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244" name=""/>
            <p:cNvSpPr/>
            <p:nvPr/>
          </p:nvSpPr>
          <p:spPr>
            <a:xfrm>
              <a:off x="1604880" y="790920"/>
              <a:ext cx="57240" cy="19440"/>
            </a:xfrm>
            <a:custGeom>
              <a:avLst/>
              <a:gdLst/>
              <a:ahLst/>
              <a:rect l="l" t="t" r="r" b="b"/>
              <a:pathLst>
                <a:path w="443" h="168">
                  <a:moveTo>
                    <a:pt x="112" y="19"/>
                  </a:moveTo>
                  <a:lnTo>
                    <a:pt x="394" y="3"/>
                  </a:lnTo>
                  <a:lnTo>
                    <a:pt x="426" y="34"/>
                  </a:lnTo>
                  <a:lnTo>
                    <a:pt x="438" y="50"/>
                  </a:lnTo>
                  <a:lnTo>
                    <a:pt x="442" y="60"/>
                  </a:lnTo>
                  <a:lnTo>
                    <a:pt x="443" y="72"/>
                  </a:lnTo>
                  <a:lnTo>
                    <a:pt x="414" y="94"/>
                  </a:lnTo>
                  <a:lnTo>
                    <a:pt x="380" y="112"/>
                  </a:lnTo>
                  <a:lnTo>
                    <a:pt x="343" y="121"/>
                  </a:lnTo>
                  <a:lnTo>
                    <a:pt x="304" y="126"/>
                  </a:lnTo>
                  <a:lnTo>
                    <a:pt x="289" y="137"/>
                  </a:lnTo>
                  <a:lnTo>
                    <a:pt x="276" y="145"/>
                  </a:lnTo>
                  <a:lnTo>
                    <a:pt x="242" y="159"/>
                  </a:lnTo>
                  <a:lnTo>
                    <a:pt x="202" y="167"/>
                  </a:lnTo>
                  <a:lnTo>
                    <a:pt x="163" y="168"/>
                  </a:lnTo>
                  <a:lnTo>
                    <a:pt x="79" y="168"/>
                  </a:lnTo>
                  <a:lnTo>
                    <a:pt x="6" y="165"/>
                  </a:lnTo>
                  <a:lnTo>
                    <a:pt x="1" y="133"/>
                  </a:lnTo>
                  <a:lnTo>
                    <a:pt x="0" y="110"/>
                  </a:lnTo>
                  <a:lnTo>
                    <a:pt x="0" y="87"/>
                  </a:lnTo>
                  <a:lnTo>
                    <a:pt x="9" y="60"/>
                  </a:lnTo>
                  <a:lnTo>
                    <a:pt x="8" y="60"/>
                  </a:lnTo>
                  <a:lnTo>
                    <a:pt x="9" y="58"/>
                  </a:lnTo>
                  <a:lnTo>
                    <a:pt x="25" y="47"/>
                  </a:lnTo>
                  <a:lnTo>
                    <a:pt x="76" y="16"/>
                  </a:lnTo>
                  <a:lnTo>
                    <a:pt x="100" y="5"/>
                  </a:lnTo>
                  <a:lnTo>
                    <a:pt x="118" y="0"/>
                  </a:lnTo>
                  <a:lnTo>
                    <a:pt x="124" y="0"/>
                  </a:lnTo>
                  <a:lnTo>
                    <a:pt x="124" y="3"/>
                  </a:lnTo>
                  <a:lnTo>
                    <a:pt x="112" y="19"/>
                  </a:lnTo>
                  <a:close/>
                </a:path>
              </a:pathLst>
            </a:custGeom>
            <a:blipFill rotWithShape="0">
              <a:blip r:embed="rId73"/>
              <a:srcRect/>
              <a:stretch/>
            </a:blip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245" name=""/>
            <p:cNvSpPr/>
            <p:nvPr/>
          </p:nvSpPr>
          <p:spPr>
            <a:xfrm>
              <a:off x="1574280" y="798480"/>
              <a:ext cx="43920" cy="31320"/>
            </a:xfrm>
            <a:custGeom>
              <a:avLst/>
              <a:gdLst/>
              <a:ahLst/>
              <a:rect l="l" t="t" r="r" b="b"/>
              <a:pathLst>
                <a:path w="347" h="264">
                  <a:moveTo>
                    <a:pt x="145" y="16"/>
                  </a:moveTo>
                  <a:lnTo>
                    <a:pt x="108" y="24"/>
                  </a:lnTo>
                  <a:lnTo>
                    <a:pt x="67" y="30"/>
                  </a:lnTo>
                  <a:lnTo>
                    <a:pt x="29" y="39"/>
                  </a:lnTo>
                  <a:lnTo>
                    <a:pt x="14" y="49"/>
                  </a:lnTo>
                  <a:lnTo>
                    <a:pt x="0" y="60"/>
                  </a:lnTo>
                  <a:lnTo>
                    <a:pt x="24" y="151"/>
                  </a:lnTo>
                  <a:lnTo>
                    <a:pt x="32" y="172"/>
                  </a:lnTo>
                  <a:lnTo>
                    <a:pt x="47" y="185"/>
                  </a:lnTo>
                  <a:lnTo>
                    <a:pt x="67" y="198"/>
                  </a:lnTo>
                  <a:lnTo>
                    <a:pt x="92" y="206"/>
                  </a:lnTo>
                  <a:lnTo>
                    <a:pt x="150" y="214"/>
                  </a:lnTo>
                  <a:lnTo>
                    <a:pt x="209" y="221"/>
                  </a:lnTo>
                  <a:lnTo>
                    <a:pt x="211" y="223"/>
                  </a:lnTo>
                  <a:lnTo>
                    <a:pt x="211" y="229"/>
                  </a:lnTo>
                  <a:lnTo>
                    <a:pt x="211" y="245"/>
                  </a:lnTo>
                  <a:lnTo>
                    <a:pt x="213" y="254"/>
                  </a:lnTo>
                  <a:lnTo>
                    <a:pt x="215" y="261"/>
                  </a:lnTo>
                  <a:lnTo>
                    <a:pt x="223" y="264"/>
                  </a:lnTo>
                  <a:lnTo>
                    <a:pt x="234" y="263"/>
                  </a:lnTo>
                  <a:lnTo>
                    <a:pt x="347" y="237"/>
                  </a:lnTo>
                  <a:lnTo>
                    <a:pt x="315" y="214"/>
                  </a:lnTo>
                  <a:lnTo>
                    <a:pt x="280" y="185"/>
                  </a:lnTo>
                  <a:lnTo>
                    <a:pt x="265" y="170"/>
                  </a:lnTo>
                  <a:lnTo>
                    <a:pt x="250" y="152"/>
                  </a:lnTo>
                  <a:lnTo>
                    <a:pt x="242" y="134"/>
                  </a:lnTo>
                  <a:lnTo>
                    <a:pt x="241" y="112"/>
                  </a:lnTo>
                  <a:lnTo>
                    <a:pt x="249" y="0"/>
                  </a:lnTo>
                  <a:lnTo>
                    <a:pt x="221" y="2"/>
                  </a:lnTo>
                  <a:lnTo>
                    <a:pt x="191" y="8"/>
                  </a:lnTo>
                  <a:lnTo>
                    <a:pt x="145" y="16"/>
                  </a:lnTo>
                  <a:close/>
                </a:path>
              </a:pathLst>
            </a:custGeom>
            <a:blipFill rotWithShape="0">
              <a:blip r:embed="rId74"/>
              <a:srcRect/>
              <a:stretch/>
            </a:blip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46" name=""/>
            <p:cNvSpPr/>
            <p:nvPr/>
          </p:nvSpPr>
          <p:spPr>
            <a:xfrm>
              <a:off x="1647000" y="867240"/>
              <a:ext cx="18360" cy="14400"/>
            </a:xfrm>
            <a:custGeom>
              <a:avLst/>
              <a:gdLst/>
              <a:ahLst/>
              <a:rect l="l" t="t" r="r" b="b"/>
              <a:pathLst>
                <a:path w="143" h="128">
                  <a:moveTo>
                    <a:pt x="77" y="0"/>
                  </a:moveTo>
                  <a:lnTo>
                    <a:pt x="87" y="18"/>
                  </a:lnTo>
                  <a:lnTo>
                    <a:pt x="104" y="36"/>
                  </a:lnTo>
                  <a:lnTo>
                    <a:pt x="143" y="70"/>
                  </a:lnTo>
                  <a:lnTo>
                    <a:pt x="117" y="128"/>
                  </a:lnTo>
                  <a:lnTo>
                    <a:pt x="73" y="125"/>
                  </a:lnTo>
                  <a:lnTo>
                    <a:pt x="51" y="115"/>
                  </a:lnTo>
                  <a:lnTo>
                    <a:pt x="38" y="99"/>
                  </a:lnTo>
                  <a:lnTo>
                    <a:pt x="10" y="65"/>
                  </a:lnTo>
                  <a:lnTo>
                    <a:pt x="2" y="38"/>
                  </a:lnTo>
                  <a:lnTo>
                    <a:pt x="0" y="22"/>
                  </a:lnTo>
                  <a:lnTo>
                    <a:pt x="2" y="16"/>
                  </a:lnTo>
                  <a:lnTo>
                    <a:pt x="6" y="10"/>
                  </a:lnTo>
                  <a:lnTo>
                    <a:pt x="10" y="6"/>
                  </a:lnTo>
                  <a:lnTo>
                    <a:pt x="20" y="4"/>
                  </a:lnTo>
                  <a:lnTo>
                    <a:pt x="39" y="4"/>
                  </a:lnTo>
                  <a:lnTo>
                    <a:pt x="62" y="4"/>
                  </a:lnTo>
                  <a:lnTo>
                    <a:pt x="77" y="0"/>
                  </a:lnTo>
                  <a:close/>
                </a:path>
              </a:pathLst>
            </a:custGeom>
            <a:blipFill rotWithShape="0">
              <a:blip r:embed="rId75"/>
              <a:srcRect/>
              <a:stretch/>
            </a:blip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247" name=""/>
            <p:cNvSpPr/>
            <p:nvPr/>
          </p:nvSpPr>
          <p:spPr>
            <a:xfrm>
              <a:off x="1631520" y="883080"/>
              <a:ext cx="12240" cy="13680"/>
            </a:xfrm>
            <a:custGeom>
              <a:avLst/>
              <a:gdLst/>
              <a:ahLst/>
              <a:rect l="l" t="t" r="r" b="b"/>
              <a:pathLst>
                <a:path w="95" h="123">
                  <a:moveTo>
                    <a:pt x="72" y="0"/>
                  </a:moveTo>
                  <a:lnTo>
                    <a:pt x="77" y="16"/>
                  </a:lnTo>
                  <a:lnTo>
                    <a:pt x="79" y="28"/>
                  </a:lnTo>
                  <a:lnTo>
                    <a:pt x="82" y="42"/>
                  </a:lnTo>
                  <a:lnTo>
                    <a:pt x="95" y="55"/>
                  </a:lnTo>
                  <a:lnTo>
                    <a:pt x="90" y="123"/>
                  </a:lnTo>
                  <a:lnTo>
                    <a:pt x="53" y="123"/>
                  </a:lnTo>
                  <a:lnTo>
                    <a:pt x="41" y="117"/>
                  </a:lnTo>
                  <a:lnTo>
                    <a:pt x="33" y="108"/>
                  </a:lnTo>
                  <a:lnTo>
                    <a:pt x="22" y="84"/>
                  </a:lnTo>
                  <a:lnTo>
                    <a:pt x="11" y="58"/>
                  </a:lnTo>
                  <a:lnTo>
                    <a:pt x="6" y="45"/>
                  </a:lnTo>
                  <a:lnTo>
                    <a:pt x="0" y="36"/>
                  </a:lnTo>
                  <a:lnTo>
                    <a:pt x="1" y="30"/>
                  </a:lnTo>
                  <a:lnTo>
                    <a:pt x="8" y="24"/>
                  </a:lnTo>
                  <a:lnTo>
                    <a:pt x="27" y="18"/>
                  </a:lnTo>
                  <a:lnTo>
                    <a:pt x="51" y="13"/>
                  </a:lnTo>
                  <a:lnTo>
                    <a:pt x="63" y="8"/>
                  </a:lnTo>
                  <a:lnTo>
                    <a:pt x="72" y="0"/>
                  </a:lnTo>
                  <a:close/>
                </a:path>
              </a:pathLst>
            </a:custGeom>
            <a:blipFill rotWithShape="0">
              <a:blip r:embed="rId76"/>
              <a:srcRect/>
              <a:stretch/>
            </a:blip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248" name=""/>
            <p:cNvSpPr/>
            <p:nvPr/>
          </p:nvSpPr>
          <p:spPr>
            <a:xfrm>
              <a:off x="1623600" y="863640"/>
              <a:ext cx="19080" cy="17640"/>
            </a:xfrm>
            <a:custGeom>
              <a:avLst/>
              <a:gdLst/>
              <a:ahLst/>
              <a:rect l="l" t="t" r="r" b="b"/>
              <a:pathLst>
                <a:path w="150" h="147">
                  <a:moveTo>
                    <a:pt x="89" y="0"/>
                  </a:moveTo>
                  <a:lnTo>
                    <a:pt x="92" y="6"/>
                  </a:lnTo>
                  <a:lnTo>
                    <a:pt x="98" y="11"/>
                  </a:lnTo>
                  <a:lnTo>
                    <a:pt x="114" y="16"/>
                  </a:lnTo>
                  <a:lnTo>
                    <a:pt x="132" y="19"/>
                  </a:lnTo>
                  <a:lnTo>
                    <a:pt x="139" y="24"/>
                  </a:lnTo>
                  <a:lnTo>
                    <a:pt x="150" y="29"/>
                  </a:lnTo>
                  <a:lnTo>
                    <a:pt x="139" y="84"/>
                  </a:lnTo>
                  <a:lnTo>
                    <a:pt x="98" y="89"/>
                  </a:lnTo>
                  <a:lnTo>
                    <a:pt x="92" y="147"/>
                  </a:lnTo>
                  <a:lnTo>
                    <a:pt x="11" y="147"/>
                  </a:lnTo>
                  <a:lnTo>
                    <a:pt x="1" y="144"/>
                  </a:lnTo>
                  <a:lnTo>
                    <a:pt x="0" y="137"/>
                  </a:lnTo>
                  <a:lnTo>
                    <a:pt x="6" y="124"/>
                  </a:lnTo>
                  <a:lnTo>
                    <a:pt x="11" y="108"/>
                  </a:lnTo>
                  <a:lnTo>
                    <a:pt x="11" y="98"/>
                  </a:lnTo>
                  <a:lnTo>
                    <a:pt x="8" y="90"/>
                  </a:lnTo>
                  <a:lnTo>
                    <a:pt x="8" y="87"/>
                  </a:lnTo>
                  <a:lnTo>
                    <a:pt x="11" y="84"/>
                  </a:lnTo>
                  <a:lnTo>
                    <a:pt x="24" y="81"/>
                  </a:lnTo>
                  <a:lnTo>
                    <a:pt x="37" y="74"/>
                  </a:lnTo>
                  <a:lnTo>
                    <a:pt x="43" y="69"/>
                  </a:lnTo>
                  <a:lnTo>
                    <a:pt x="51" y="61"/>
                  </a:lnTo>
                  <a:lnTo>
                    <a:pt x="69" y="27"/>
                  </a:lnTo>
                  <a:lnTo>
                    <a:pt x="89" y="0"/>
                  </a:lnTo>
                  <a:close/>
                </a:path>
              </a:pathLst>
            </a:custGeom>
            <a:blipFill rotWithShape="0">
              <a:blip r:embed="rId77"/>
              <a:srcRect/>
              <a:stretch/>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9" name=""/>
            <p:cNvSpPr/>
            <p:nvPr/>
          </p:nvSpPr>
          <p:spPr>
            <a:xfrm>
              <a:off x="1636920" y="771840"/>
              <a:ext cx="12960" cy="10800"/>
            </a:xfrm>
            <a:custGeom>
              <a:avLst/>
              <a:gdLst/>
              <a:ahLst/>
              <a:rect l="l" t="t" r="r" b="b"/>
              <a:pathLst>
                <a:path w="103" h="103">
                  <a:moveTo>
                    <a:pt x="54" y="0"/>
                  </a:moveTo>
                  <a:lnTo>
                    <a:pt x="72" y="18"/>
                  </a:lnTo>
                  <a:lnTo>
                    <a:pt x="81" y="34"/>
                  </a:lnTo>
                  <a:lnTo>
                    <a:pt x="87" y="50"/>
                  </a:lnTo>
                  <a:lnTo>
                    <a:pt x="89" y="61"/>
                  </a:lnTo>
                  <a:lnTo>
                    <a:pt x="89" y="81"/>
                  </a:lnTo>
                  <a:lnTo>
                    <a:pt x="93" y="85"/>
                  </a:lnTo>
                  <a:lnTo>
                    <a:pt x="103" y="87"/>
                  </a:lnTo>
                  <a:lnTo>
                    <a:pt x="77" y="97"/>
                  </a:lnTo>
                  <a:lnTo>
                    <a:pt x="51" y="103"/>
                  </a:lnTo>
                  <a:lnTo>
                    <a:pt x="38" y="103"/>
                  </a:lnTo>
                  <a:lnTo>
                    <a:pt x="23" y="99"/>
                  </a:lnTo>
                  <a:lnTo>
                    <a:pt x="12" y="93"/>
                  </a:lnTo>
                  <a:lnTo>
                    <a:pt x="0" y="84"/>
                  </a:lnTo>
                  <a:lnTo>
                    <a:pt x="20" y="36"/>
                  </a:lnTo>
                  <a:lnTo>
                    <a:pt x="38" y="8"/>
                  </a:lnTo>
                  <a:lnTo>
                    <a:pt x="46" y="0"/>
                  </a:lnTo>
                  <a:lnTo>
                    <a:pt x="54" y="0"/>
                  </a:lnTo>
                  <a:close/>
                </a:path>
              </a:pathLst>
            </a:custGeom>
            <a:blipFill rotWithShape="0">
              <a:blip r:embed="rId78"/>
              <a:srcRect/>
              <a:stretch/>
            </a:blip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250" name=""/>
            <p:cNvSpPr/>
            <p:nvPr/>
          </p:nvSpPr>
          <p:spPr>
            <a:xfrm>
              <a:off x="1656360" y="848880"/>
              <a:ext cx="258120" cy="320760"/>
            </a:xfrm>
            <a:custGeom>
              <a:avLst/>
              <a:gdLst/>
              <a:ahLst/>
              <a:rect l="l" t="t" r="r" b="b"/>
              <a:pathLst>
                <a:path w="2015" h="2763">
                  <a:moveTo>
                    <a:pt x="893" y="1365"/>
                  </a:moveTo>
                  <a:lnTo>
                    <a:pt x="880" y="1363"/>
                  </a:lnTo>
                  <a:lnTo>
                    <a:pt x="870" y="1358"/>
                  </a:lnTo>
                  <a:lnTo>
                    <a:pt x="849" y="1339"/>
                  </a:lnTo>
                  <a:lnTo>
                    <a:pt x="849" y="1309"/>
                  </a:lnTo>
                  <a:lnTo>
                    <a:pt x="847" y="1301"/>
                  </a:lnTo>
                  <a:lnTo>
                    <a:pt x="841" y="1300"/>
                  </a:lnTo>
                  <a:lnTo>
                    <a:pt x="827" y="1292"/>
                  </a:lnTo>
                  <a:lnTo>
                    <a:pt x="796" y="1262"/>
                  </a:lnTo>
                  <a:lnTo>
                    <a:pt x="781" y="1248"/>
                  </a:lnTo>
                  <a:lnTo>
                    <a:pt x="776" y="1235"/>
                  </a:lnTo>
                  <a:lnTo>
                    <a:pt x="772" y="1199"/>
                  </a:lnTo>
                  <a:lnTo>
                    <a:pt x="752" y="1181"/>
                  </a:lnTo>
                  <a:lnTo>
                    <a:pt x="734" y="1159"/>
                  </a:lnTo>
                  <a:lnTo>
                    <a:pt x="717" y="1138"/>
                  </a:lnTo>
                  <a:lnTo>
                    <a:pt x="705" y="1130"/>
                  </a:lnTo>
                  <a:lnTo>
                    <a:pt x="691" y="1122"/>
                  </a:lnTo>
                  <a:lnTo>
                    <a:pt x="663" y="1107"/>
                  </a:lnTo>
                  <a:lnTo>
                    <a:pt x="624" y="1091"/>
                  </a:lnTo>
                  <a:lnTo>
                    <a:pt x="577" y="1071"/>
                  </a:lnTo>
                  <a:lnTo>
                    <a:pt x="524" y="1045"/>
                  </a:lnTo>
                  <a:lnTo>
                    <a:pt x="466" y="1012"/>
                  </a:lnTo>
                  <a:lnTo>
                    <a:pt x="436" y="990"/>
                  </a:lnTo>
                  <a:lnTo>
                    <a:pt x="407" y="968"/>
                  </a:lnTo>
                  <a:lnTo>
                    <a:pt x="380" y="940"/>
                  </a:lnTo>
                  <a:lnTo>
                    <a:pt x="352" y="909"/>
                  </a:lnTo>
                  <a:lnTo>
                    <a:pt x="323" y="876"/>
                  </a:lnTo>
                  <a:lnTo>
                    <a:pt x="300" y="835"/>
                  </a:lnTo>
                  <a:lnTo>
                    <a:pt x="299" y="830"/>
                  </a:lnTo>
                  <a:lnTo>
                    <a:pt x="291" y="820"/>
                  </a:lnTo>
                  <a:lnTo>
                    <a:pt x="259" y="785"/>
                  </a:lnTo>
                  <a:lnTo>
                    <a:pt x="155" y="688"/>
                  </a:lnTo>
                  <a:lnTo>
                    <a:pt x="50" y="591"/>
                  </a:lnTo>
                  <a:lnTo>
                    <a:pt x="14" y="558"/>
                  </a:lnTo>
                  <a:lnTo>
                    <a:pt x="0" y="542"/>
                  </a:lnTo>
                  <a:lnTo>
                    <a:pt x="8" y="526"/>
                  </a:lnTo>
                  <a:lnTo>
                    <a:pt x="22" y="518"/>
                  </a:lnTo>
                  <a:lnTo>
                    <a:pt x="42" y="518"/>
                  </a:lnTo>
                  <a:lnTo>
                    <a:pt x="61" y="524"/>
                  </a:lnTo>
                  <a:lnTo>
                    <a:pt x="87" y="536"/>
                  </a:lnTo>
                  <a:lnTo>
                    <a:pt x="113" y="554"/>
                  </a:lnTo>
                  <a:lnTo>
                    <a:pt x="166" y="595"/>
                  </a:lnTo>
                  <a:lnTo>
                    <a:pt x="219" y="643"/>
                  </a:lnTo>
                  <a:lnTo>
                    <a:pt x="263" y="688"/>
                  </a:lnTo>
                  <a:lnTo>
                    <a:pt x="292" y="723"/>
                  </a:lnTo>
                  <a:lnTo>
                    <a:pt x="299" y="735"/>
                  </a:lnTo>
                  <a:lnTo>
                    <a:pt x="300" y="741"/>
                  </a:lnTo>
                  <a:lnTo>
                    <a:pt x="307" y="739"/>
                  </a:lnTo>
                  <a:lnTo>
                    <a:pt x="312" y="745"/>
                  </a:lnTo>
                  <a:lnTo>
                    <a:pt x="320" y="771"/>
                  </a:lnTo>
                  <a:lnTo>
                    <a:pt x="330" y="798"/>
                  </a:lnTo>
                  <a:lnTo>
                    <a:pt x="336" y="806"/>
                  </a:lnTo>
                  <a:lnTo>
                    <a:pt x="344" y="806"/>
                  </a:lnTo>
                  <a:lnTo>
                    <a:pt x="349" y="796"/>
                  </a:lnTo>
                  <a:lnTo>
                    <a:pt x="363" y="793"/>
                  </a:lnTo>
                  <a:lnTo>
                    <a:pt x="381" y="795"/>
                  </a:lnTo>
                  <a:lnTo>
                    <a:pt x="404" y="798"/>
                  </a:lnTo>
                  <a:lnTo>
                    <a:pt x="462" y="819"/>
                  </a:lnTo>
                  <a:lnTo>
                    <a:pt x="529" y="846"/>
                  </a:lnTo>
                  <a:lnTo>
                    <a:pt x="600" y="877"/>
                  </a:lnTo>
                  <a:lnTo>
                    <a:pt x="669" y="905"/>
                  </a:lnTo>
                  <a:lnTo>
                    <a:pt x="733" y="927"/>
                  </a:lnTo>
                  <a:lnTo>
                    <a:pt x="760" y="931"/>
                  </a:lnTo>
                  <a:lnTo>
                    <a:pt x="784" y="932"/>
                  </a:lnTo>
                  <a:lnTo>
                    <a:pt x="788" y="931"/>
                  </a:lnTo>
                  <a:lnTo>
                    <a:pt x="791" y="927"/>
                  </a:lnTo>
                  <a:lnTo>
                    <a:pt x="791" y="911"/>
                  </a:lnTo>
                  <a:lnTo>
                    <a:pt x="786" y="889"/>
                  </a:lnTo>
                  <a:lnTo>
                    <a:pt x="776" y="864"/>
                  </a:lnTo>
                  <a:lnTo>
                    <a:pt x="754" y="812"/>
                  </a:lnTo>
                  <a:lnTo>
                    <a:pt x="746" y="790"/>
                  </a:lnTo>
                  <a:lnTo>
                    <a:pt x="744" y="777"/>
                  </a:lnTo>
                  <a:lnTo>
                    <a:pt x="700" y="717"/>
                  </a:lnTo>
                  <a:lnTo>
                    <a:pt x="699" y="659"/>
                  </a:lnTo>
                  <a:lnTo>
                    <a:pt x="703" y="643"/>
                  </a:lnTo>
                  <a:lnTo>
                    <a:pt x="715" y="621"/>
                  </a:lnTo>
                  <a:lnTo>
                    <a:pt x="663" y="531"/>
                  </a:lnTo>
                  <a:lnTo>
                    <a:pt x="644" y="495"/>
                  </a:lnTo>
                  <a:lnTo>
                    <a:pt x="637" y="474"/>
                  </a:lnTo>
                  <a:lnTo>
                    <a:pt x="636" y="458"/>
                  </a:lnTo>
                  <a:lnTo>
                    <a:pt x="628" y="447"/>
                  </a:lnTo>
                  <a:lnTo>
                    <a:pt x="610" y="427"/>
                  </a:lnTo>
                  <a:lnTo>
                    <a:pt x="519" y="341"/>
                  </a:lnTo>
                  <a:lnTo>
                    <a:pt x="521" y="351"/>
                  </a:lnTo>
                  <a:lnTo>
                    <a:pt x="524" y="353"/>
                  </a:lnTo>
                  <a:lnTo>
                    <a:pt x="527" y="351"/>
                  </a:lnTo>
                  <a:lnTo>
                    <a:pt x="532" y="345"/>
                  </a:lnTo>
                  <a:lnTo>
                    <a:pt x="545" y="289"/>
                  </a:lnTo>
                  <a:lnTo>
                    <a:pt x="555" y="236"/>
                  </a:lnTo>
                  <a:lnTo>
                    <a:pt x="555" y="228"/>
                  </a:lnTo>
                  <a:lnTo>
                    <a:pt x="551" y="244"/>
                  </a:lnTo>
                  <a:lnTo>
                    <a:pt x="556" y="226"/>
                  </a:lnTo>
                  <a:lnTo>
                    <a:pt x="566" y="210"/>
                  </a:lnTo>
                  <a:lnTo>
                    <a:pt x="592" y="181"/>
                  </a:lnTo>
                  <a:lnTo>
                    <a:pt x="602" y="167"/>
                  </a:lnTo>
                  <a:lnTo>
                    <a:pt x="608" y="153"/>
                  </a:lnTo>
                  <a:lnTo>
                    <a:pt x="606" y="139"/>
                  </a:lnTo>
                  <a:lnTo>
                    <a:pt x="597" y="126"/>
                  </a:lnTo>
                  <a:lnTo>
                    <a:pt x="640" y="123"/>
                  </a:lnTo>
                  <a:lnTo>
                    <a:pt x="681" y="116"/>
                  </a:lnTo>
                  <a:lnTo>
                    <a:pt x="721" y="104"/>
                  </a:lnTo>
                  <a:lnTo>
                    <a:pt x="762" y="96"/>
                  </a:lnTo>
                  <a:lnTo>
                    <a:pt x="805" y="92"/>
                  </a:lnTo>
                  <a:lnTo>
                    <a:pt x="849" y="94"/>
                  </a:lnTo>
                  <a:lnTo>
                    <a:pt x="872" y="100"/>
                  </a:lnTo>
                  <a:lnTo>
                    <a:pt x="896" y="108"/>
                  </a:lnTo>
                  <a:lnTo>
                    <a:pt x="922" y="120"/>
                  </a:lnTo>
                  <a:lnTo>
                    <a:pt x="950" y="136"/>
                  </a:lnTo>
                  <a:lnTo>
                    <a:pt x="953" y="134"/>
                  </a:lnTo>
                  <a:lnTo>
                    <a:pt x="959" y="129"/>
                  </a:lnTo>
                  <a:lnTo>
                    <a:pt x="969" y="113"/>
                  </a:lnTo>
                  <a:lnTo>
                    <a:pt x="975" y="96"/>
                  </a:lnTo>
                  <a:lnTo>
                    <a:pt x="974" y="90"/>
                  </a:lnTo>
                  <a:lnTo>
                    <a:pt x="971" y="84"/>
                  </a:lnTo>
                  <a:lnTo>
                    <a:pt x="966" y="82"/>
                  </a:lnTo>
                  <a:lnTo>
                    <a:pt x="967" y="76"/>
                  </a:lnTo>
                  <a:lnTo>
                    <a:pt x="987" y="56"/>
                  </a:lnTo>
                  <a:lnTo>
                    <a:pt x="1019" y="31"/>
                  </a:lnTo>
                  <a:lnTo>
                    <a:pt x="1037" y="8"/>
                  </a:lnTo>
                  <a:lnTo>
                    <a:pt x="1046" y="1"/>
                  </a:lnTo>
                  <a:lnTo>
                    <a:pt x="1052" y="0"/>
                  </a:lnTo>
                  <a:lnTo>
                    <a:pt x="1060" y="0"/>
                  </a:lnTo>
                  <a:lnTo>
                    <a:pt x="1066" y="1"/>
                  </a:lnTo>
                  <a:lnTo>
                    <a:pt x="1078" y="15"/>
                  </a:lnTo>
                  <a:lnTo>
                    <a:pt x="1100" y="56"/>
                  </a:lnTo>
                  <a:lnTo>
                    <a:pt x="1113" y="81"/>
                  </a:lnTo>
                  <a:lnTo>
                    <a:pt x="1129" y="102"/>
                  </a:lnTo>
                  <a:lnTo>
                    <a:pt x="1131" y="233"/>
                  </a:lnTo>
                  <a:lnTo>
                    <a:pt x="1244" y="353"/>
                  </a:lnTo>
                  <a:lnTo>
                    <a:pt x="1277" y="479"/>
                  </a:lnTo>
                  <a:lnTo>
                    <a:pt x="1382" y="563"/>
                  </a:lnTo>
                  <a:lnTo>
                    <a:pt x="1380" y="586"/>
                  </a:lnTo>
                  <a:lnTo>
                    <a:pt x="1375" y="597"/>
                  </a:lnTo>
                  <a:lnTo>
                    <a:pt x="1366" y="603"/>
                  </a:lnTo>
                  <a:lnTo>
                    <a:pt x="1351" y="609"/>
                  </a:lnTo>
                  <a:lnTo>
                    <a:pt x="1366" y="684"/>
                  </a:lnTo>
                  <a:lnTo>
                    <a:pt x="1370" y="706"/>
                  </a:lnTo>
                  <a:lnTo>
                    <a:pt x="1372" y="707"/>
                  </a:lnTo>
                  <a:lnTo>
                    <a:pt x="1375" y="709"/>
                  </a:lnTo>
                  <a:lnTo>
                    <a:pt x="1383" y="714"/>
                  </a:lnTo>
                  <a:lnTo>
                    <a:pt x="1399" y="723"/>
                  </a:lnTo>
                  <a:lnTo>
                    <a:pt x="1461" y="798"/>
                  </a:lnTo>
                  <a:lnTo>
                    <a:pt x="1599" y="892"/>
                  </a:lnTo>
                  <a:lnTo>
                    <a:pt x="1610" y="929"/>
                  </a:lnTo>
                  <a:lnTo>
                    <a:pt x="1626" y="964"/>
                  </a:lnTo>
                  <a:lnTo>
                    <a:pt x="1646" y="997"/>
                  </a:lnTo>
                  <a:lnTo>
                    <a:pt x="1668" y="1028"/>
                  </a:lnTo>
                  <a:lnTo>
                    <a:pt x="1694" y="1055"/>
                  </a:lnTo>
                  <a:lnTo>
                    <a:pt x="1721" y="1078"/>
                  </a:lnTo>
                  <a:lnTo>
                    <a:pt x="1754" y="1099"/>
                  </a:lnTo>
                  <a:lnTo>
                    <a:pt x="1793" y="1114"/>
                  </a:lnTo>
                  <a:lnTo>
                    <a:pt x="1848" y="1199"/>
                  </a:lnTo>
                  <a:lnTo>
                    <a:pt x="1853" y="1238"/>
                  </a:lnTo>
                  <a:lnTo>
                    <a:pt x="1867" y="1274"/>
                  </a:lnTo>
                  <a:lnTo>
                    <a:pt x="1887" y="1306"/>
                  </a:lnTo>
                  <a:lnTo>
                    <a:pt x="1911" y="1337"/>
                  </a:lnTo>
                  <a:lnTo>
                    <a:pt x="1961" y="1397"/>
                  </a:lnTo>
                  <a:lnTo>
                    <a:pt x="1985" y="1428"/>
                  </a:lnTo>
                  <a:lnTo>
                    <a:pt x="2010" y="1460"/>
                  </a:lnTo>
                  <a:lnTo>
                    <a:pt x="2013" y="1491"/>
                  </a:lnTo>
                  <a:lnTo>
                    <a:pt x="2015" y="1523"/>
                  </a:lnTo>
                  <a:lnTo>
                    <a:pt x="2013" y="1554"/>
                  </a:lnTo>
                  <a:lnTo>
                    <a:pt x="2010" y="1586"/>
                  </a:lnTo>
                  <a:lnTo>
                    <a:pt x="2003" y="1601"/>
                  </a:lnTo>
                  <a:lnTo>
                    <a:pt x="1995" y="1609"/>
                  </a:lnTo>
                  <a:lnTo>
                    <a:pt x="1987" y="1612"/>
                  </a:lnTo>
                  <a:lnTo>
                    <a:pt x="1977" y="1612"/>
                  </a:lnTo>
                  <a:lnTo>
                    <a:pt x="1968" y="1614"/>
                  </a:lnTo>
                  <a:lnTo>
                    <a:pt x="1960" y="1617"/>
                  </a:lnTo>
                  <a:lnTo>
                    <a:pt x="1952" y="1627"/>
                  </a:lnTo>
                  <a:lnTo>
                    <a:pt x="1946" y="1646"/>
                  </a:lnTo>
                  <a:lnTo>
                    <a:pt x="1885" y="1682"/>
                  </a:lnTo>
                  <a:lnTo>
                    <a:pt x="1859" y="1700"/>
                  </a:lnTo>
                  <a:lnTo>
                    <a:pt x="1859" y="1704"/>
                  </a:lnTo>
                  <a:lnTo>
                    <a:pt x="1861" y="1706"/>
                  </a:lnTo>
                  <a:lnTo>
                    <a:pt x="1877" y="1704"/>
                  </a:lnTo>
                  <a:lnTo>
                    <a:pt x="1895" y="1706"/>
                  </a:lnTo>
                  <a:lnTo>
                    <a:pt x="1901" y="1708"/>
                  </a:lnTo>
                  <a:lnTo>
                    <a:pt x="1903" y="1712"/>
                  </a:lnTo>
                  <a:lnTo>
                    <a:pt x="1898" y="1720"/>
                  </a:lnTo>
                  <a:lnTo>
                    <a:pt x="1887" y="1730"/>
                  </a:lnTo>
                  <a:lnTo>
                    <a:pt x="1838" y="1767"/>
                  </a:lnTo>
                  <a:lnTo>
                    <a:pt x="1796" y="1775"/>
                  </a:lnTo>
                  <a:lnTo>
                    <a:pt x="1780" y="1775"/>
                  </a:lnTo>
                  <a:lnTo>
                    <a:pt x="1767" y="1771"/>
                  </a:lnTo>
                  <a:lnTo>
                    <a:pt x="1757" y="1763"/>
                  </a:lnTo>
                  <a:lnTo>
                    <a:pt x="1747" y="1753"/>
                  </a:lnTo>
                  <a:lnTo>
                    <a:pt x="1739" y="1735"/>
                  </a:lnTo>
                  <a:lnTo>
                    <a:pt x="1733" y="1716"/>
                  </a:lnTo>
                  <a:lnTo>
                    <a:pt x="1628" y="1623"/>
                  </a:lnTo>
                  <a:lnTo>
                    <a:pt x="1544" y="1507"/>
                  </a:lnTo>
                  <a:lnTo>
                    <a:pt x="1506" y="1493"/>
                  </a:lnTo>
                  <a:lnTo>
                    <a:pt x="1472" y="1475"/>
                  </a:lnTo>
                  <a:lnTo>
                    <a:pt x="1407" y="1434"/>
                  </a:lnTo>
                  <a:lnTo>
                    <a:pt x="1340" y="1392"/>
                  </a:lnTo>
                  <a:lnTo>
                    <a:pt x="1304" y="1374"/>
                  </a:lnTo>
                  <a:lnTo>
                    <a:pt x="1265" y="1361"/>
                  </a:lnTo>
                  <a:lnTo>
                    <a:pt x="1255" y="1355"/>
                  </a:lnTo>
                  <a:lnTo>
                    <a:pt x="1246" y="1345"/>
                  </a:lnTo>
                  <a:lnTo>
                    <a:pt x="1234" y="1325"/>
                  </a:lnTo>
                  <a:lnTo>
                    <a:pt x="1218" y="1282"/>
                  </a:lnTo>
                  <a:lnTo>
                    <a:pt x="1207" y="1270"/>
                  </a:lnTo>
                  <a:lnTo>
                    <a:pt x="1191" y="1264"/>
                  </a:lnTo>
                  <a:lnTo>
                    <a:pt x="1150" y="1253"/>
                  </a:lnTo>
                  <a:lnTo>
                    <a:pt x="1066" y="1172"/>
                  </a:lnTo>
                  <a:lnTo>
                    <a:pt x="1040" y="1128"/>
                  </a:lnTo>
                  <a:lnTo>
                    <a:pt x="1038" y="1122"/>
                  </a:lnTo>
                  <a:lnTo>
                    <a:pt x="1040" y="1122"/>
                  </a:lnTo>
                  <a:lnTo>
                    <a:pt x="1045" y="1122"/>
                  </a:lnTo>
                  <a:lnTo>
                    <a:pt x="1046" y="1120"/>
                  </a:lnTo>
                  <a:lnTo>
                    <a:pt x="1046" y="1110"/>
                  </a:lnTo>
                  <a:lnTo>
                    <a:pt x="1040" y="1089"/>
                  </a:lnTo>
                  <a:lnTo>
                    <a:pt x="1030" y="1089"/>
                  </a:lnTo>
                  <a:lnTo>
                    <a:pt x="1022" y="1084"/>
                  </a:lnTo>
                  <a:lnTo>
                    <a:pt x="1014" y="1073"/>
                  </a:lnTo>
                  <a:lnTo>
                    <a:pt x="1006" y="1045"/>
                  </a:lnTo>
                  <a:lnTo>
                    <a:pt x="993" y="1041"/>
                  </a:lnTo>
                  <a:lnTo>
                    <a:pt x="985" y="1033"/>
                  </a:lnTo>
                  <a:lnTo>
                    <a:pt x="979" y="1021"/>
                  </a:lnTo>
                  <a:lnTo>
                    <a:pt x="979" y="1005"/>
                  </a:lnTo>
                  <a:lnTo>
                    <a:pt x="982" y="972"/>
                  </a:lnTo>
                  <a:lnTo>
                    <a:pt x="985" y="934"/>
                  </a:lnTo>
                  <a:lnTo>
                    <a:pt x="985" y="916"/>
                  </a:lnTo>
                  <a:lnTo>
                    <a:pt x="982" y="900"/>
                  </a:lnTo>
                  <a:lnTo>
                    <a:pt x="974" y="884"/>
                  </a:lnTo>
                  <a:lnTo>
                    <a:pt x="961" y="871"/>
                  </a:lnTo>
                  <a:lnTo>
                    <a:pt x="946" y="861"/>
                  </a:lnTo>
                  <a:lnTo>
                    <a:pt x="920" y="853"/>
                  </a:lnTo>
                  <a:lnTo>
                    <a:pt x="888" y="851"/>
                  </a:lnTo>
                  <a:lnTo>
                    <a:pt x="849" y="856"/>
                  </a:lnTo>
                  <a:lnTo>
                    <a:pt x="835" y="861"/>
                  </a:lnTo>
                  <a:lnTo>
                    <a:pt x="827" y="871"/>
                  </a:lnTo>
                  <a:lnTo>
                    <a:pt x="820" y="882"/>
                  </a:lnTo>
                  <a:lnTo>
                    <a:pt x="815" y="895"/>
                  </a:lnTo>
                  <a:lnTo>
                    <a:pt x="812" y="924"/>
                  </a:lnTo>
                  <a:lnTo>
                    <a:pt x="812" y="955"/>
                  </a:lnTo>
                  <a:lnTo>
                    <a:pt x="833" y="994"/>
                  </a:lnTo>
                  <a:lnTo>
                    <a:pt x="845" y="1013"/>
                  </a:lnTo>
                  <a:lnTo>
                    <a:pt x="853" y="1041"/>
                  </a:lnTo>
                  <a:lnTo>
                    <a:pt x="865" y="1104"/>
                  </a:lnTo>
                  <a:lnTo>
                    <a:pt x="875" y="1118"/>
                  </a:lnTo>
                  <a:lnTo>
                    <a:pt x="890" y="1141"/>
                  </a:lnTo>
                  <a:lnTo>
                    <a:pt x="920" y="1204"/>
                  </a:lnTo>
                  <a:lnTo>
                    <a:pt x="956" y="1285"/>
                  </a:lnTo>
                  <a:lnTo>
                    <a:pt x="964" y="1284"/>
                  </a:lnTo>
                  <a:lnTo>
                    <a:pt x="969" y="1288"/>
                  </a:lnTo>
                  <a:lnTo>
                    <a:pt x="983" y="1301"/>
                  </a:lnTo>
                  <a:lnTo>
                    <a:pt x="995" y="1321"/>
                  </a:lnTo>
                  <a:lnTo>
                    <a:pt x="1011" y="1342"/>
                  </a:lnTo>
                  <a:lnTo>
                    <a:pt x="1011" y="1382"/>
                  </a:lnTo>
                  <a:lnTo>
                    <a:pt x="1034" y="1405"/>
                  </a:lnTo>
                  <a:lnTo>
                    <a:pt x="1042" y="1414"/>
                  </a:lnTo>
                  <a:lnTo>
                    <a:pt x="1045" y="1426"/>
                  </a:lnTo>
                  <a:lnTo>
                    <a:pt x="1119" y="1426"/>
                  </a:lnTo>
                  <a:lnTo>
                    <a:pt x="1115" y="1452"/>
                  </a:lnTo>
                  <a:lnTo>
                    <a:pt x="1108" y="1475"/>
                  </a:lnTo>
                  <a:lnTo>
                    <a:pt x="1100" y="1499"/>
                  </a:lnTo>
                  <a:lnTo>
                    <a:pt x="1097" y="1523"/>
                  </a:lnTo>
                  <a:lnTo>
                    <a:pt x="1131" y="1526"/>
                  </a:lnTo>
                  <a:lnTo>
                    <a:pt x="1165" y="1538"/>
                  </a:lnTo>
                  <a:lnTo>
                    <a:pt x="1199" y="1554"/>
                  </a:lnTo>
                  <a:lnTo>
                    <a:pt x="1226" y="1576"/>
                  </a:lnTo>
                  <a:lnTo>
                    <a:pt x="1228" y="1607"/>
                  </a:lnTo>
                  <a:lnTo>
                    <a:pt x="1234" y="1633"/>
                  </a:lnTo>
                  <a:lnTo>
                    <a:pt x="1247" y="1659"/>
                  </a:lnTo>
                  <a:lnTo>
                    <a:pt x="1270" y="1682"/>
                  </a:lnTo>
                  <a:lnTo>
                    <a:pt x="1271" y="1704"/>
                  </a:lnTo>
                  <a:lnTo>
                    <a:pt x="1275" y="1726"/>
                  </a:lnTo>
                  <a:lnTo>
                    <a:pt x="1289" y="1769"/>
                  </a:lnTo>
                  <a:lnTo>
                    <a:pt x="1303" y="1813"/>
                  </a:lnTo>
                  <a:lnTo>
                    <a:pt x="1309" y="1834"/>
                  </a:lnTo>
                  <a:lnTo>
                    <a:pt x="1311" y="1855"/>
                  </a:lnTo>
                  <a:lnTo>
                    <a:pt x="1346" y="1874"/>
                  </a:lnTo>
                  <a:lnTo>
                    <a:pt x="1383" y="1900"/>
                  </a:lnTo>
                  <a:lnTo>
                    <a:pt x="1419" y="1925"/>
                  </a:lnTo>
                  <a:lnTo>
                    <a:pt x="1451" y="1951"/>
                  </a:lnTo>
                  <a:lnTo>
                    <a:pt x="1447" y="1931"/>
                  </a:lnTo>
                  <a:lnTo>
                    <a:pt x="1441" y="1913"/>
                  </a:lnTo>
                  <a:lnTo>
                    <a:pt x="1432" y="1895"/>
                  </a:lnTo>
                  <a:lnTo>
                    <a:pt x="1417" y="1879"/>
                  </a:lnTo>
                  <a:lnTo>
                    <a:pt x="1388" y="1852"/>
                  </a:lnTo>
                  <a:lnTo>
                    <a:pt x="1354" y="1832"/>
                  </a:lnTo>
                  <a:lnTo>
                    <a:pt x="1356" y="1807"/>
                  </a:lnTo>
                  <a:lnTo>
                    <a:pt x="1360" y="1781"/>
                  </a:lnTo>
                  <a:lnTo>
                    <a:pt x="1366" y="1738"/>
                  </a:lnTo>
                  <a:lnTo>
                    <a:pt x="1380" y="1735"/>
                  </a:lnTo>
                  <a:lnTo>
                    <a:pt x="1391" y="1732"/>
                  </a:lnTo>
                  <a:lnTo>
                    <a:pt x="1403" y="1727"/>
                  </a:lnTo>
                  <a:lnTo>
                    <a:pt x="1417" y="1726"/>
                  </a:lnTo>
                  <a:lnTo>
                    <a:pt x="1445" y="1761"/>
                  </a:lnTo>
                  <a:lnTo>
                    <a:pt x="1471" y="1801"/>
                  </a:lnTo>
                  <a:lnTo>
                    <a:pt x="1496" y="1840"/>
                  </a:lnTo>
                  <a:lnTo>
                    <a:pt x="1526" y="1876"/>
                  </a:lnTo>
                  <a:lnTo>
                    <a:pt x="1528" y="1900"/>
                  </a:lnTo>
                  <a:lnTo>
                    <a:pt x="1534" y="1928"/>
                  </a:lnTo>
                  <a:lnTo>
                    <a:pt x="1555" y="1991"/>
                  </a:lnTo>
                  <a:lnTo>
                    <a:pt x="1585" y="2051"/>
                  </a:lnTo>
                  <a:lnTo>
                    <a:pt x="1599" y="2075"/>
                  </a:lnTo>
                  <a:lnTo>
                    <a:pt x="1613" y="2091"/>
                  </a:lnTo>
                  <a:lnTo>
                    <a:pt x="1608" y="2146"/>
                  </a:lnTo>
                  <a:lnTo>
                    <a:pt x="1600" y="2198"/>
                  </a:lnTo>
                  <a:lnTo>
                    <a:pt x="1592" y="2250"/>
                  </a:lnTo>
                  <a:lnTo>
                    <a:pt x="1591" y="2304"/>
                  </a:lnTo>
                  <a:lnTo>
                    <a:pt x="1642" y="2357"/>
                  </a:lnTo>
                  <a:lnTo>
                    <a:pt x="1641" y="2381"/>
                  </a:lnTo>
                  <a:lnTo>
                    <a:pt x="1636" y="2405"/>
                  </a:lnTo>
                  <a:lnTo>
                    <a:pt x="1621" y="2450"/>
                  </a:lnTo>
                  <a:lnTo>
                    <a:pt x="1599" y="2493"/>
                  </a:lnTo>
                  <a:lnTo>
                    <a:pt x="1569" y="2529"/>
                  </a:lnTo>
                  <a:lnTo>
                    <a:pt x="1569" y="2658"/>
                  </a:lnTo>
                  <a:lnTo>
                    <a:pt x="1526" y="2700"/>
                  </a:lnTo>
                  <a:lnTo>
                    <a:pt x="1472" y="2645"/>
                  </a:lnTo>
                  <a:lnTo>
                    <a:pt x="1466" y="2679"/>
                  </a:lnTo>
                  <a:lnTo>
                    <a:pt x="1459" y="2716"/>
                  </a:lnTo>
                  <a:lnTo>
                    <a:pt x="1453" y="2736"/>
                  </a:lnTo>
                  <a:lnTo>
                    <a:pt x="1443" y="2750"/>
                  </a:lnTo>
                  <a:lnTo>
                    <a:pt x="1429" y="2760"/>
                  </a:lnTo>
                  <a:lnTo>
                    <a:pt x="1409" y="2763"/>
                  </a:lnTo>
                  <a:lnTo>
                    <a:pt x="1398" y="2572"/>
                  </a:lnTo>
                  <a:lnTo>
                    <a:pt x="1383" y="2574"/>
                  </a:lnTo>
                  <a:lnTo>
                    <a:pt x="1372" y="2580"/>
                  </a:lnTo>
                  <a:lnTo>
                    <a:pt x="1344" y="2600"/>
                  </a:lnTo>
                  <a:lnTo>
                    <a:pt x="1301" y="2645"/>
                  </a:lnTo>
                  <a:lnTo>
                    <a:pt x="1257" y="2645"/>
                  </a:lnTo>
                  <a:lnTo>
                    <a:pt x="1222" y="2612"/>
                  </a:lnTo>
                  <a:lnTo>
                    <a:pt x="1208" y="2594"/>
                  </a:lnTo>
                  <a:lnTo>
                    <a:pt x="1204" y="2585"/>
                  </a:lnTo>
                  <a:lnTo>
                    <a:pt x="1204" y="2572"/>
                  </a:lnTo>
                  <a:lnTo>
                    <a:pt x="1200" y="2592"/>
                  </a:lnTo>
                  <a:lnTo>
                    <a:pt x="1204" y="2600"/>
                  </a:lnTo>
                  <a:lnTo>
                    <a:pt x="1214" y="2604"/>
                  </a:lnTo>
                  <a:lnTo>
                    <a:pt x="1236" y="2604"/>
                  </a:lnTo>
                  <a:lnTo>
                    <a:pt x="1291" y="2551"/>
                  </a:lnTo>
                  <a:lnTo>
                    <a:pt x="1307" y="2522"/>
                  </a:lnTo>
                  <a:lnTo>
                    <a:pt x="1328" y="2486"/>
                  </a:lnTo>
                  <a:lnTo>
                    <a:pt x="1382" y="2410"/>
                  </a:lnTo>
                  <a:lnTo>
                    <a:pt x="1407" y="2371"/>
                  </a:lnTo>
                  <a:lnTo>
                    <a:pt x="1429" y="2331"/>
                  </a:lnTo>
                  <a:lnTo>
                    <a:pt x="1445" y="2297"/>
                  </a:lnTo>
                  <a:lnTo>
                    <a:pt x="1448" y="2279"/>
                  </a:lnTo>
                  <a:lnTo>
                    <a:pt x="1451" y="2261"/>
                  </a:lnTo>
                  <a:lnTo>
                    <a:pt x="1390" y="2208"/>
                  </a:lnTo>
                  <a:lnTo>
                    <a:pt x="1327" y="2154"/>
                  </a:lnTo>
                  <a:lnTo>
                    <a:pt x="1263" y="2103"/>
                  </a:lnTo>
                  <a:lnTo>
                    <a:pt x="1204" y="2048"/>
                  </a:lnTo>
                  <a:lnTo>
                    <a:pt x="1166" y="2041"/>
                  </a:lnTo>
                  <a:lnTo>
                    <a:pt x="1147" y="2038"/>
                  </a:lnTo>
                  <a:lnTo>
                    <a:pt x="1129" y="2036"/>
                  </a:lnTo>
                  <a:lnTo>
                    <a:pt x="1113" y="2014"/>
                  </a:lnTo>
                  <a:lnTo>
                    <a:pt x="1110" y="2000"/>
                  </a:lnTo>
                  <a:lnTo>
                    <a:pt x="1108" y="1984"/>
                  </a:lnTo>
                  <a:lnTo>
                    <a:pt x="1257" y="1832"/>
                  </a:lnTo>
                  <a:lnTo>
                    <a:pt x="1257" y="1769"/>
                  </a:lnTo>
                  <a:lnTo>
                    <a:pt x="1230" y="1759"/>
                  </a:lnTo>
                  <a:lnTo>
                    <a:pt x="1199" y="1745"/>
                  </a:lnTo>
                  <a:lnTo>
                    <a:pt x="1166" y="1727"/>
                  </a:lnTo>
                  <a:lnTo>
                    <a:pt x="1141" y="1704"/>
                  </a:lnTo>
                  <a:lnTo>
                    <a:pt x="1135" y="1678"/>
                  </a:lnTo>
                  <a:lnTo>
                    <a:pt x="1123" y="1651"/>
                  </a:lnTo>
                  <a:lnTo>
                    <a:pt x="1108" y="1623"/>
                  </a:lnTo>
                  <a:lnTo>
                    <a:pt x="1097" y="1598"/>
                  </a:lnTo>
                  <a:lnTo>
                    <a:pt x="1045" y="1541"/>
                  </a:lnTo>
                  <a:lnTo>
                    <a:pt x="974" y="1463"/>
                  </a:lnTo>
                  <a:lnTo>
                    <a:pt x="912" y="1397"/>
                  </a:lnTo>
                  <a:lnTo>
                    <a:pt x="896" y="1374"/>
                  </a:lnTo>
                  <a:lnTo>
                    <a:pt x="893" y="1369"/>
                  </a:lnTo>
                  <a:lnTo>
                    <a:pt x="893" y="1365"/>
                  </a:lnTo>
                  <a:close/>
                </a:path>
              </a:pathLst>
            </a:custGeom>
            <a:blipFill rotWithShape="0">
              <a:blip r:embed="rId7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1290240" y="1080720"/>
              <a:ext cx="265680" cy="158400"/>
            </a:xfrm>
            <a:custGeom>
              <a:avLst/>
              <a:gdLst/>
              <a:ahLst/>
              <a:rect l="l" t="t" r="r" b="b"/>
              <a:pathLst>
                <a:path w="2070" h="1366">
                  <a:moveTo>
                    <a:pt x="2070" y="4"/>
                  </a:moveTo>
                  <a:lnTo>
                    <a:pt x="2059" y="19"/>
                  </a:lnTo>
                  <a:lnTo>
                    <a:pt x="2044" y="34"/>
                  </a:lnTo>
                  <a:lnTo>
                    <a:pt x="2020" y="58"/>
                  </a:lnTo>
                  <a:lnTo>
                    <a:pt x="2010" y="71"/>
                  </a:lnTo>
                  <a:lnTo>
                    <a:pt x="2007" y="87"/>
                  </a:lnTo>
                  <a:lnTo>
                    <a:pt x="2012" y="105"/>
                  </a:lnTo>
                  <a:lnTo>
                    <a:pt x="2025" y="126"/>
                  </a:lnTo>
                  <a:lnTo>
                    <a:pt x="2020" y="166"/>
                  </a:lnTo>
                  <a:lnTo>
                    <a:pt x="2017" y="189"/>
                  </a:lnTo>
                  <a:lnTo>
                    <a:pt x="2021" y="205"/>
                  </a:lnTo>
                  <a:lnTo>
                    <a:pt x="2015" y="212"/>
                  </a:lnTo>
                  <a:lnTo>
                    <a:pt x="2007" y="212"/>
                  </a:lnTo>
                  <a:lnTo>
                    <a:pt x="1999" y="212"/>
                  </a:lnTo>
                  <a:lnTo>
                    <a:pt x="1992" y="215"/>
                  </a:lnTo>
                  <a:lnTo>
                    <a:pt x="1978" y="325"/>
                  </a:lnTo>
                  <a:lnTo>
                    <a:pt x="2015" y="332"/>
                  </a:lnTo>
                  <a:lnTo>
                    <a:pt x="1978" y="367"/>
                  </a:lnTo>
                  <a:lnTo>
                    <a:pt x="1923" y="395"/>
                  </a:lnTo>
                  <a:lnTo>
                    <a:pt x="1868" y="424"/>
                  </a:lnTo>
                  <a:lnTo>
                    <a:pt x="1842" y="442"/>
                  </a:lnTo>
                  <a:lnTo>
                    <a:pt x="1816" y="461"/>
                  </a:lnTo>
                  <a:lnTo>
                    <a:pt x="1795" y="485"/>
                  </a:lnTo>
                  <a:lnTo>
                    <a:pt x="1774" y="511"/>
                  </a:lnTo>
                  <a:lnTo>
                    <a:pt x="1670" y="542"/>
                  </a:lnTo>
                  <a:lnTo>
                    <a:pt x="1643" y="571"/>
                  </a:lnTo>
                  <a:lnTo>
                    <a:pt x="1619" y="600"/>
                  </a:lnTo>
                  <a:lnTo>
                    <a:pt x="1619" y="628"/>
                  </a:lnTo>
                  <a:lnTo>
                    <a:pt x="1615" y="657"/>
                  </a:lnTo>
                  <a:lnTo>
                    <a:pt x="1605" y="691"/>
                  </a:lnTo>
                  <a:lnTo>
                    <a:pt x="1591" y="720"/>
                  </a:lnTo>
                  <a:lnTo>
                    <a:pt x="1593" y="743"/>
                  </a:lnTo>
                  <a:lnTo>
                    <a:pt x="1601" y="762"/>
                  </a:lnTo>
                  <a:lnTo>
                    <a:pt x="1609" y="780"/>
                  </a:lnTo>
                  <a:lnTo>
                    <a:pt x="1620" y="795"/>
                  </a:lnTo>
                  <a:lnTo>
                    <a:pt x="1646" y="827"/>
                  </a:lnTo>
                  <a:lnTo>
                    <a:pt x="1670" y="858"/>
                  </a:lnTo>
                  <a:lnTo>
                    <a:pt x="1672" y="876"/>
                  </a:lnTo>
                  <a:lnTo>
                    <a:pt x="1678" y="896"/>
                  </a:lnTo>
                  <a:lnTo>
                    <a:pt x="1668" y="884"/>
                  </a:lnTo>
                  <a:lnTo>
                    <a:pt x="1662" y="879"/>
                  </a:lnTo>
                  <a:lnTo>
                    <a:pt x="1656" y="880"/>
                  </a:lnTo>
                  <a:lnTo>
                    <a:pt x="1652" y="888"/>
                  </a:lnTo>
                  <a:lnTo>
                    <a:pt x="1648" y="914"/>
                  </a:lnTo>
                  <a:lnTo>
                    <a:pt x="1646" y="945"/>
                  </a:lnTo>
                  <a:lnTo>
                    <a:pt x="1648" y="1000"/>
                  </a:lnTo>
                  <a:lnTo>
                    <a:pt x="1648" y="977"/>
                  </a:lnTo>
                  <a:lnTo>
                    <a:pt x="1651" y="999"/>
                  </a:lnTo>
                  <a:lnTo>
                    <a:pt x="1654" y="1010"/>
                  </a:lnTo>
                  <a:lnTo>
                    <a:pt x="1660" y="1016"/>
                  </a:lnTo>
                  <a:lnTo>
                    <a:pt x="1662" y="1018"/>
                  </a:lnTo>
                  <a:lnTo>
                    <a:pt x="1654" y="1020"/>
                  </a:lnTo>
                  <a:lnTo>
                    <a:pt x="1612" y="1040"/>
                  </a:lnTo>
                  <a:lnTo>
                    <a:pt x="1597" y="1036"/>
                  </a:lnTo>
                  <a:lnTo>
                    <a:pt x="1581" y="1024"/>
                  </a:lnTo>
                  <a:lnTo>
                    <a:pt x="1567" y="1008"/>
                  </a:lnTo>
                  <a:lnTo>
                    <a:pt x="1557" y="989"/>
                  </a:lnTo>
                  <a:lnTo>
                    <a:pt x="1581" y="942"/>
                  </a:lnTo>
                  <a:lnTo>
                    <a:pt x="1578" y="934"/>
                  </a:lnTo>
                  <a:lnTo>
                    <a:pt x="1571" y="927"/>
                  </a:lnTo>
                  <a:lnTo>
                    <a:pt x="1557" y="918"/>
                  </a:lnTo>
                  <a:lnTo>
                    <a:pt x="1539" y="910"/>
                  </a:lnTo>
                  <a:lnTo>
                    <a:pt x="1524" y="896"/>
                  </a:lnTo>
                  <a:lnTo>
                    <a:pt x="1522" y="833"/>
                  </a:lnTo>
                  <a:lnTo>
                    <a:pt x="1510" y="817"/>
                  </a:lnTo>
                  <a:lnTo>
                    <a:pt x="1497" y="809"/>
                  </a:lnTo>
                  <a:lnTo>
                    <a:pt x="1479" y="803"/>
                  </a:lnTo>
                  <a:lnTo>
                    <a:pt x="1461" y="799"/>
                  </a:lnTo>
                  <a:lnTo>
                    <a:pt x="1421" y="793"/>
                  </a:lnTo>
                  <a:lnTo>
                    <a:pt x="1403" y="788"/>
                  </a:lnTo>
                  <a:lnTo>
                    <a:pt x="1387" y="777"/>
                  </a:lnTo>
                  <a:lnTo>
                    <a:pt x="1337" y="777"/>
                  </a:lnTo>
                  <a:lnTo>
                    <a:pt x="1327" y="782"/>
                  </a:lnTo>
                  <a:lnTo>
                    <a:pt x="1319" y="791"/>
                  </a:lnTo>
                  <a:lnTo>
                    <a:pt x="1306" y="819"/>
                  </a:lnTo>
                  <a:lnTo>
                    <a:pt x="1287" y="872"/>
                  </a:lnTo>
                  <a:lnTo>
                    <a:pt x="1282" y="890"/>
                  </a:lnTo>
                  <a:lnTo>
                    <a:pt x="1282" y="900"/>
                  </a:lnTo>
                  <a:lnTo>
                    <a:pt x="1285" y="906"/>
                  </a:lnTo>
                  <a:lnTo>
                    <a:pt x="1277" y="914"/>
                  </a:lnTo>
                  <a:lnTo>
                    <a:pt x="1241" y="955"/>
                  </a:lnTo>
                  <a:lnTo>
                    <a:pt x="1246" y="971"/>
                  </a:lnTo>
                  <a:lnTo>
                    <a:pt x="1258" y="981"/>
                  </a:lnTo>
                  <a:lnTo>
                    <a:pt x="1274" y="987"/>
                  </a:lnTo>
                  <a:lnTo>
                    <a:pt x="1295" y="989"/>
                  </a:lnTo>
                  <a:lnTo>
                    <a:pt x="1335" y="989"/>
                  </a:lnTo>
                  <a:lnTo>
                    <a:pt x="1364" y="989"/>
                  </a:lnTo>
                  <a:lnTo>
                    <a:pt x="1410" y="971"/>
                  </a:lnTo>
                  <a:lnTo>
                    <a:pt x="1411" y="984"/>
                  </a:lnTo>
                  <a:lnTo>
                    <a:pt x="1419" y="992"/>
                  </a:lnTo>
                  <a:lnTo>
                    <a:pt x="1429" y="1000"/>
                  </a:lnTo>
                  <a:lnTo>
                    <a:pt x="1441" y="1005"/>
                  </a:lnTo>
                  <a:lnTo>
                    <a:pt x="1458" y="1034"/>
                  </a:lnTo>
                  <a:lnTo>
                    <a:pt x="1474" y="1055"/>
                  </a:lnTo>
                  <a:lnTo>
                    <a:pt x="1484" y="1065"/>
                  </a:lnTo>
                  <a:lnTo>
                    <a:pt x="1471" y="1071"/>
                  </a:lnTo>
                  <a:lnTo>
                    <a:pt x="1461" y="1081"/>
                  </a:lnTo>
                  <a:lnTo>
                    <a:pt x="1447" y="1107"/>
                  </a:lnTo>
                  <a:lnTo>
                    <a:pt x="1435" y="1139"/>
                  </a:lnTo>
                  <a:lnTo>
                    <a:pt x="1427" y="1152"/>
                  </a:lnTo>
                  <a:lnTo>
                    <a:pt x="1418" y="1167"/>
                  </a:lnTo>
                  <a:lnTo>
                    <a:pt x="1421" y="1172"/>
                  </a:lnTo>
                  <a:lnTo>
                    <a:pt x="1431" y="1172"/>
                  </a:lnTo>
                  <a:lnTo>
                    <a:pt x="1443" y="1172"/>
                  </a:lnTo>
                  <a:lnTo>
                    <a:pt x="1455" y="1175"/>
                  </a:lnTo>
                  <a:lnTo>
                    <a:pt x="1450" y="1184"/>
                  </a:lnTo>
                  <a:lnTo>
                    <a:pt x="1445" y="1193"/>
                  </a:lnTo>
                  <a:lnTo>
                    <a:pt x="1431" y="1202"/>
                  </a:lnTo>
                  <a:lnTo>
                    <a:pt x="1416" y="1212"/>
                  </a:lnTo>
                  <a:lnTo>
                    <a:pt x="1402" y="1224"/>
                  </a:lnTo>
                  <a:lnTo>
                    <a:pt x="1387" y="1285"/>
                  </a:lnTo>
                  <a:lnTo>
                    <a:pt x="1380" y="1295"/>
                  </a:lnTo>
                  <a:lnTo>
                    <a:pt x="1371" y="1304"/>
                  </a:lnTo>
                  <a:lnTo>
                    <a:pt x="1362" y="1316"/>
                  </a:lnTo>
                  <a:lnTo>
                    <a:pt x="1364" y="1332"/>
                  </a:lnTo>
                  <a:lnTo>
                    <a:pt x="1356" y="1326"/>
                  </a:lnTo>
                  <a:lnTo>
                    <a:pt x="1356" y="1319"/>
                  </a:lnTo>
                  <a:lnTo>
                    <a:pt x="1358" y="1306"/>
                  </a:lnTo>
                  <a:lnTo>
                    <a:pt x="1356" y="1295"/>
                  </a:lnTo>
                  <a:lnTo>
                    <a:pt x="1346" y="1293"/>
                  </a:lnTo>
                  <a:lnTo>
                    <a:pt x="1340" y="1296"/>
                  </a:lnTo>
                  <a:lnTo>
                    <a:pt x="1327" y="1311"/>
                  </a:lnTo>
                  <a:lnTo>
                    <a:pt x="1313" y="1324"/>
                  </a:lnTo>
                  <a:lnTo>
                    <a:pt x="1305" y="1330"/>
                  </a:lnTo>
                  <a:lnTo>
                    <a:pt x="1295" y="1332"/>
                  </a:lnTo>
                  <a:lnTo>
                    <a:pt x="1277" y="1332"/>
                  </a:lnTo>
                  <a:lnTo>
                    <a:pt x="1261" y="1330"/>
                  </a:lnTo>
                  <a:lnTo>
                    <a:pt x="1232" y="1321"/>
                  </a:lnTo>
                  <a:lnTo>
                    <a:pt x="1218" y="1319"/>
                  </a:lnTo>
                  <a:lnTo>
                    <a:pt x="1202" y="1321"/>
                  </a:lnTo>
                  <a:lnTo>
                    <a:pt x="1186" y="1329"/>
                  </a:lnTo>
                  <a:lnTo>
                    <a:pt x="1169" y="1342"/>
                  </a:lnTo>
                  <a:lnTo>
                    <a:pt x="1133" y="1348"/>
                  </a:lnTo>
                  <a:lnTo>
                    <a:pt x="1112" y="1356"/>
                  </a:lnTo>
                  <a:lnTo>
                    <a:pt x="1104" y="1361"/>
                  </a:lnTo>
                  <a:lnTo>
                    <a:pt x="1102" y="1366"/>
                  </a:lnTo>
                  <a:lnTo>
                    <a:pt x="1086" y="1360"/>
                  </a:lnTo>
                  <a:lnTo>
                    <a:pt x="1073" y="1350"/>
                  </a:lnTo>
                  <a:lnTo>
                    <a:pt x="1064" y="1337"/>
                  </a:lnTo>
                  <a:lnTo>
                    <a:pt x="1057" y="1319"/>
                  </a:lnTo>
                  <a:lnTo>
                    <a:pt x="1049" y="1301"/>
                  </a:lnTo>
                  <a:lnTo>
                    <a:pt x="1034" y="1287"/>
                  </a:lnTo>
                  <a:lnTo>
                    <a:pt x="1017" y="1275"/>
                  </a:lnTo>
                  <a:lnTo>
                    <a:pt x="997" y="1265"/>
                  </a:lnTo>
                  <a:lnTo>
                    <a:pt x="953" y="1251"/>
                  </a:lnTo>
                  <a:lnTo>
                    <a:pt x="913" y="1235"/>
                  </a:lnTo>
                  <a:lnTo>
                    <a:pt x="908" y="1220"/>
                  </a:lnTo>
                  <a:lnTo>
                    <a:pt x="900" y="1208"/>
                  </a:lnTo>
                  <a:lnTo>
                    <a:pt x="888" y="1198"/>
                  </a:lnTo>
                  <a:lnTo>
                    <a:pt x="874" y="1193"/>
                  </a:lnTo>
                  <a:lnTo>
                    <a:pt x="843" y="1186"/>
                  </a:lnTo>
                  <a:lnTo>
                    <a:pt x="817" y="1188"/>
                  </a:lnTo>
                  <a:lnTo>
                    <a:pt x="855" y="1167"/>
                  </a:lnTo>
                  <a:lnTo>
                    <a:pt x="845" y="1160"/>
                  </a:lnTo>
                  <a:lnTo>
                    <a:pt x="835" y="1157"/>
                  </a:lnTo>
                  <a:lnTo>
                    <a:pt x="809" y="1151"/>
                  </a:lnTo>
                  <a:lnTo>
                    <a:pt x="783" y="1152"/>
                  </a:lnTo>
                  <a:lnTo>
                    <a:pt x="758" y="1157"/>
                  </a:lnTo>
                  <a:lnTo>
                    <a:pt x="756" y="1164"/>
                  </a:lnTo>
                  <a:lnTo>
                    <a:pt x="758" y="1170"/>
                  </a:lnTo>
                  <a:lnTo>
                    <a:pt x="767" y="1176"/>
                  </a:lnTo>
                  <a:lnTo>
                    <a:pt x="780" y="1180"/>
                  </a:lnTo>
                  <a:lnTo>
                    <a:pt x="785" y="1184"/>
                  </a:lnTo>
                  <a:lnTo>
                    <a:pt x="788" y="1188"/>
                  </a:lnTo>
                  <a:lnTo>
                    <a:pt x="735" y="1168"/>
                  </a:lnTo>
                  <a:lnTo>
                    <a:pt x="722" y="1157"/>
                  </a:lnTo>
                  <a:lnTo>
                    <a:pt x="709" y="1144"/>
                  </a:lnTo>
                  <a:lnTo>
                    <a:pt x="697" y="1128"/>
                  </a:lnTo>
                  <a:lnTo>
                    <a:pt x="685" y="1107"/>
                  </a:lnTo>
                  <a:lnTo>
                    <a:pt x="675" y="1101"/>
                  </a:lnTo>
                  <a:lnTo>
                    <a:pt x="665" y="1097"/>
                  </a:lnTo>
                  <a:lnTo>
                    <a:pt x="639" y="1096"/>
                  </a:lnTo>
                  <a:lnTo>
                    <a:pt x="612" y="1097"/>
                  </a:lnTo>
                  <a:lnTo>
                    <a:pt x="586" y="1096"/>
                  </a:lnTo>
                  <a:lnTo>
                    <a:pt x="584" y="1094"/>
                  </a:lnTo>
                  <a:lnTo>
                    <a:pt x="583" y="1086"/>
                  </a:lnTo>
                  <a:lnTo>
                    <a:pt x="583" y="1060"/>
                  </a:lnTo>
                  <a:lnTo>
                    <a:pt x="584" y="1024"/>
                  </a:lnTo>
                  <a:lnTo>
                    <a:pt x="565" y="896"/>
                  </a:lnTo>
                  <a:lnTo>
                    <a:pt x="573" y="888"/>
                  </a:lnTo>
                  <a:lnTo>
                    <a:pt x="586" y="880"/>
                  </a:lnTo>
                  <a:lnTo>
                    <a:pt x="549" y="777"/>
                  </a:lnTo>
                  <a:lnTo>
                    <a:pt x="545" y="774"/>
                  </a:lnTo>
                  <a:lnTo>
                    <a:pt x="537" y="770"/>
                  </a:lnTo>
                  <a:lnTo>
                    <a:pt x="519" y="762"/>
                  </a:lnTo>
                  <a:lnTo>
                    <a:pt x="510" y="748"/>
                  </a:lnTo>
                  <a:lnTo>
                    <a:pt x="495" y="736"/>
                  </a:lnTo>
                  <a:lnTo>
                    <a:pt x="460" y="710"/>
                  </a:lnTo>
                  <a:lnTo>
                    <a:pt x="439" y="725"/>
                  </a:lnTo>
                  <a:lnTo>
                    <a:pt x="414" y="743"/>
                  </a:lnTo>
                  <a:lnTo>
                    <a:pt x="389" y="760"/>
                  </a:lnTo>
                  <a:lnTo>
                    <a:pt x="369" y="770"/>
                  </a:lnTo>
                  <a:lnTo>
                    <a:pt x="366" y="777"/>
                  </a:lnTo>
                  <a:lnTo>
                    <a:pt x="367" y="783"/>
                  </a:lnTo>
                  <a:lnTo>
                    <a:pt x="377" y="795"/>
                  </a:lnTo>
                  <a:lnTo>
                    <a:pt x="389" y="807"/>
                  </a:lnTo>
                  <a:lnTo>
                    <a:pt x="395" y="813"/>
                  </a:lnTo>
                  <a:lnTo>
                    <a:pt x="397" y="821"/>
                  </a:lnTo>
                  <a:lnTo>
                    <a:pt x="395" y="833"/>
                  </a:lnTo>
                  <a:lnTo>
                    <a:pt x="389" y="840"/>
                  </a:lnTo>
                  <a:lnTo>
                    <a:pt x="383" y="848"/>
                  </a:lnTo>
                  <a:lnTo>
                    <a:pt x="377" y="858"/>
                  </a:lnTo>
                  <a:lnTo>
                    <a:pt x="379" y="874"/>
                  </a:lnTo>
                  <a:lnTo>
                    <a:pt x="387" y="884"/>
                  </a:lnTo>
                  <a:lnTo>
                    <a:pt x="397" y="888"/>
                  </a:lnTo>
                  <a:lnTo>
                    <a:pt x="413" y="892"/>
                  </a:lnTo>
                  <a:lnTo>
                    <a:pt x="401" y="903"/>
                  </a:lnTo>
                  <a:lnTo>
                    <a:pt x="389" y="919"/>
                  </a:lnTo>
                  <a:lnTo>
                    <a:pt x="340" y="957"/>
                  </a:lnTo>
                  <a:lnTo>
                    <a:pt x="308" y="999"/>
                  </a:lnTo>
                  <a:lnTo>
                    <a:pt x="288" y="1013"/>
                  </a:lnTo>
                  <a:lnTo>
                    <a:pt x="257" y="1028"/>
                  </a:lnTo>
                  <a:lnTo>
                    <a:pt x="225" y="1046"/>
                  </a:lnTo>
                  <a:lnTo>
                    <a:pt x="214" y="1055"/>
                  </a:lnTo>
                  <a:lnTo>
                    <a:pt x="209" y="1065"/>
                  </a:lnTo>
                  <a:lnTo>
                    <a:pt x="101" y="1115"/>
                  </a:lnTo>
                  <a:lnTo>
                    <a:pt x="89" y="1135"/>
                  </a:lnTo>
                  <a:lnTo>
                    <a:pt x="69" y="1178"/>
                  </a:lnTo>
                  <a:lnTo>
                    <a:pt x="45" y="1224"/>
                  </a:lnTo>
                  <a:lnTo>
                    <a:pt x="37" y="1240"/>
                  </a:lnTo>
                  <a:lnTo>
                    <a:pt x="32" y="1245"/>
                  </a:lnTo>
                  <a:lnTo>
                    <a:pt x="0" y="1232"/>
                  </a:lnTo>
                  <a:lnTo>
                    <a:pt x="5" y="1200"/>
                  </a:lnTo>
                  <a:lnTo>
                    <a:pt x="16" y="1167"/>
                  </a:lnTo>
                  <a:lnTo>
                    <a:pt x="32" y="1128"/>
                  </a:lnTo>
                  <a:lnTo>
                    <a:pt x="45" y="1086"/>
                  </a:lnTo>
                  <a:lnTo>
                    <a:pt x="58" y="1046"/>
                  </a:lnTo>
                  <a:lnTo>
                    <a:pt x="79" y="999"/>
                  </a:lnTo>
                  <a:lnTo>
                    <a:pt x="113" y="947"/>
                  </a:lnTo>
                  <a:lnTo>
                    <a:pt x="157" y="892"/>
                  </a:lnTo>
                  <a:lnTo>
                    <a:pt x="206" y="825"/>
                  </a:lnTo>
                  <a:lnTo>
                    <a:pt x="207" y="809"/>
                  </a:lnTo>
                  <a:lnTo>
                    <a:pt x="204" y="791"/>
                  </a:lnTo>
                  <a:lnTo>
                    <a:pt x="197" y="772"/>
                  </a:lnTo>
                  <a:lnTo>
                    <a:pt x="196" y="752"/>
                  </a:lnTo>
                  <a:lnTo>
                    <a:pt x="262" y="670"/>
                  </a:lnTo>
                  <a:lnTo>
                    <a:pt x="265" y="576"/>
                  </a:lnTo>
                  <a:lnTo>
                    <a:pt x="286" y="557"/>
                  </a:lnTo>
                  <a:lnTo>
                    <a:pt x="306" y="533"/>
                  </a:lnTo>
                  <a:lnTo>
                    <a:pt x="314" y="521"/>
                  </a:lnTo>
                  <a:lnTo>
                    <a:pt x="322" y="505"/>
                  </a:lnTo>
                  <a:lnTo>
                    <a:pt x="326" y="490"/>
                  </a:lnTo>
                  <a:lnTo>
                    <a:pt x="328" y="469"/>
                  </a:lnTo>
                  <a:lnTo>
                    <a:pt x="406" y="357"/>
                  </a:lnTo>
                  <a:lnTo>
                    <a:pt x="424" y="349"/>
                  </a:lnTo>
                  <a:lnTo>
                    <a:pt x="448" y="338"/>
                  </a:lnTo>
                  <a:lnTo>
                    <a:pt x="474" y="330"/>
                  </a:lnTo>
                  <a:lnTo>
                    <a:pt x="484" y="330"/>
                  </a:lnTo>
                  <a:lnTo>
                    <a:pt x="494" y="332"/>
                  </a:lnTo>
                  <a:lnTo>
                    <a:pt x="492" y="346"/>
                  </a:lnTo>
                  <a:lnTo>
                    <a:pt x="494" y="353"/>
                  </a:lnTo>
                  <a:lnTo>
                    <a:pt x="497" y="364"/>
                  </a:lnTo>
                  <a:lnTo>
                    <a:pt x="553" y="332"/>
                  </a:lnTo>
                  <a:lnTo>
                    <a:pt x="578" y="332"/>
                  </a:lnTo>
                  <a:lnTo>
                    <a:pt x="604" y="330"/>
                  </a:lnTo>
                  <a:lnTo>
                    <a:pt x="630" y="322"/>
                  </a:lnTo>
                  <a:lnTo>
                    <a:pt x="641" y="314"/>
                  </a:lnTo>
                  <a:lnTo>
                    <a:pt x="654" y="304"/>
                  </a:lnTo>
                  <a:lnTo>
                    <a:pt x="657" y="247"/>
                  </a:lnTo>
                  <a:lnTo>
                    <a:pt x="652" y="233"/>
                  </a:lnTo>
                  <a:lnTo>
                    <a:pt x="638" y="220"/>
                  </a:lnTo>
                  <a:lnTo>
                    <a:pt x="659" y="191"/>
                  </a:lnTo>
                  <a:lnTo>
                    <a:pt x="683" y="164"/>
                  </a:lnTo>
                  <a:lnTo>
                    <a:pt x="703" y="136"/>
                  </a:lnTo>
                  <a:lnTo>
                    <a:pt x="711" y="123"/>
                  </a:lnTo>
                  <a:lnTo>
                    <a:pt x="719" y="105"/>
                  </a:lnTo>
                  <a:lnTo>
                    <a:pt x="722" y="115"/>
                  </a:lnTo>
                  <a:lnTo>
                    <a:pt x="733" y="124"/>
                  </a:lnTo>
                  <a:lnTo>
                    <a:pt x="751" y="139"/>
                  </a:lnTo>
                  <a:lnTo>
                    <a:pt x="770" y="142"/>
                  </a:lnTo>
                  <a:lnTo>
                    <a:pt x="782" y="148"/>
                  </a:lnTo>
                  <a:lnTo>
                    <a:pt x="793" y="154"/>
                  </a:lnTo>
                  <a:lnTo>
                    <a:pt x="817" y="152"/>
                  </a:lnTo>
                  <a:lnTo>
                    <a:pt x="825" y="146"/>
                  </a:lnTo>
                  <a:lnTo>
                    <a:pt x="835" y="140"/>
                  </a:lnTo>
                  <a:lnTo>
                    <a:pt x="845" y="134"/>
                  </a:lnTo>
                  <a:lnTo>
                    <a:pt x="847" y="131"/>
                  </a:lnTo>
                  <a:lnTo>
                    <a:pt x="847" y="126"/>
                  </a:lnTo>
                  <a:lnTo>
                    <a:pt x="863" y="131"/>
                  </a:lnTo>
                  <a:lnTo>
                    <a:pt x="884" y="140"/>
                  </a:lnTo>
                  <a:lnTo>
                    <a:pt x="952" y="99"/>
                  </a:lnTo>
                  <a:lnTo>
                    <a:pt x="981" y="95"/>
                  </a:lnTo>
                  <a:lnTo>
                    <a:pt x="1013" y="92"/>
                  </a:lnTo>
                  <a:lnTo>
                    <a:pt x="1044" y="92"/>
                  </a:lnTo>
                  <a:lnTo>
                    <a:pt x="1078" y="97"/>
                  </a:lnTo>
                  <a:lnTo>
                    <a:pt x="1110" y="105"/>
                  </a:lnTo>
                  <a:lnTo>
                    <a:pt x="1139" y="116"/>
                  </a:lnTo>
                  <a:lnTo>
                    <a:pt x="1167" y="132"/>
                  </a:lnTo>
                  <a:lnTo>
                    <a:pt x="1191" y="154"/>
                  </a:lnTo>
                  <a:lnTo>
                    <a:pt x="1204" y="168"/>
                  </a:lnTo>
                  <a:lnTo>
                    <a:pt x="1210" y="176"/>
                  </a:lnTo>
                  <a:lnTo>
                    <a:pt x="1216" y="188"/>
                  </a:lnTo>
                  <a:lnTo>
                    <a:pt x="1216" y="204"/>
                  </a:lnTo>
                  <a:lnTo>
                    <a:pt x="1225" y="215"/>
                  </a:lnTo>
                  <a:lnTo>
                    <a:pt x="1250" y="243"/>
                  </a:lnTo>
                  <a:lnTo>
                    <a:pt x="1261" y="241"/>
                  </a:lnTo>
                  <a:lnTo>
                    <a:pt x="1269" y="239"/>
                  </a:lnTo>
                  <a:lnTo>
                    <a:pt x="1274" y="243"/>
                  </a:lnTo>
                  <a:lnTo>
                    <a:pt x="1283" y="254"/>
                  </a:lnTo>
                  <a:lnTo>
                    <a:pt x="1387" y="285"/>
                  </a:lnTo>
                  <a:lnTo>
                    <a:pt x="1394" y="278"/>
                  </a:lnTo>
                  <a:lnTo>
                    <a:pt x="1394" y="269"/>
                  </a:lnTo>
                  <a:lnTo>
                    <a:pt x="1392" y="259"/>
                  </a:lnTo>
                  <a:lnTo>
                    <a:pt x="1392" y="247"/>
                  </a:lnTo>
                  <a:lnTo>
                    <a:pt x="1408" y="249"/>
                  </a:lnTo>
                  <a:lnTo>
                    <a:pt x="1421" y="252"/>
                  </a:lnTo>
                  <a:lnTo>
                    <a:pt x="1437" y="254"/>
                  </a:lnTo>
                  <a:lnTo>
                    <a:pt x="1466" y="257"/>
                  </a:lnTo>
                  <a:lnTo>
                    <a:pt x="1468" y="278"/>
                  </a:lnTo>
                  <a:lnTo>
                    <a:pt x="1528" y="278"/>
                  </a:lnTo>
                  <a:lnTo>
                    <a:pt x="1555" y="254"/>
                  </a:lnTo>
                  <a:lnTo>
                    <a:pt x="1573" y="239"/>
                  </a:lnTo>
                  <a:lnTo>
                    <a:pt x="1587" y="221"/>
                  </a:lnTo>
                  <a:lnTo>
                    <a:pt x="1597" y="213"/>
                  </a:lnTo>
                  <a:lnTo>
                    <a:pt x="1615" y="202"/>
                  </a:lnTo>
                  <a:lnTo>
                    <a:pt x="1704" y="160"/>
                  </a:lnTo>
                  <a:lnTo>
                    <a:pt x="1711" y="154"/>
                  </a:lnTo>
                  <a:lnTo>
                    <a:pt x="1719" y="140"/>
                  </a:lnTo>
                  <a:lnTo>
                    <a:pt x="1725" y="123"/>
                  </a:lnTo>
                  <a:lnTo>
                    <a:pt x="1729" y="105"/>
                  </a:lnTo>
                  <a:lnTo>
                    <a:pt x="1763" y="55"/>
                  </a:lnTo>
                  <a:lnTo>
                    <a:pt x="1779" y="58"/>
                  </a:lnTo>
                  <a:lnTo>
                    <a:pt x="1790" y="63"/>
                  </a:lnTo>
                  <a:lnTo>
                    <a:pt x="1810" y="71"/>
                  </a:lnTo>
                  <a:lnTo>
                    <a:pt x="1842" y="77"/>
                  </a:lnTo>
                  <a:lnTo>
                    <a:pt x="1858" y="76"/>
                  </a:lnTo>
                  <a:lnTo>
                    <a:pt x="1869" y="69"/>
                  </a:lnTo>
                  <a:lnTo>
                    <a:pt x="1884" y="60"/>
                  </a:lnTo>
                  <a:lnTo>
                    <a:pt x="1900" y="47"/>
                  </a:lnTo>
                  <a:lnTo>
                    <a:pt x="1942" y="47"/>
                  </a:lnTo>
                  <a:lnTo>
                    <a:pt x="1978" y="42"/>
                  </a:lnTo>
                  <a:lnTo>
                    <a:pt x="2007" y="32"/>
                  </a:lnTo>
                  <a:lnTo>
                    <a:pt x="2031" y="19"/>
                  </a:lnTo>
                  <a:lnTo>
                    <a:pt x="2061" y="3"/>
                  </a:lnTo>
                  <a:lnTo>
                    <a:pt x="2069" y="0"/>
                  </a:lnTo>
                  <a:lnTo>
                    <a:pt x="2070" y="4"/>
                  </a:lnTo>
                  <a:close/>
                </a:path>
              </a:pathLst>
            </a:custGeom>
            <a:blipFill rotWithShape="0">
              <a:blip r:embed="rId8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1556640" y="1082520"/>
              <a:ext cx="720" cy="720"/>
            </a:xfrm>
            <a:custGeom>
              <a:avLst/>
              <a:gdLst/>
              <a:ahLst/>
              <a:rect l="l" t="t" r="r" b="b"/>
              <a:pathLst>
                <a:path w="8" h="8">
                  <a:moveTo>
                    <a:pt x="8" y="8"/>
                  </a:moveTo>
                  <a:lnTo>
                    <a:pt x="8" y="0"/>
                  </a:lnTo>
                  <a:lnTo>
                    <a:pt x="0" y="0"/>
                  </a:lnTo>
                  <a:lnTo>
                    <a:pt x="8" y="8"/>
                  </a:lnTo>
                  <a:close/>
                </a:path>
              </a:pathLst>
            </a:custGeom>
            <a:blipFill rotWithShape="0">
              <a:blip r:embed="rId81"/>
              <a:srcRect/>
              <a:tile tx="0" ty="0" sx="100000" sy="100000" algn="ctr"/>
            </a:blip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253" name=""/>
            <p:cNvSpPr/>
            <p:nvPr/>
          </p:nvSpPr>
          <p:spPr>
            <a:xfrm>
              <a:off x="1556640" y="1114920"/>
              <a:ext cx="720" cy="720"/>
            </a:xfrm>
            <a:custGeom>
              <a:avLst/>
              <a:gdLst/>
              <a:ahLst/>
              <a:rect l="l" t="t" r="r" b="b"/>
              <a:pathLst>
                <a:path w="5" h="4">
                  <a:moveTo>
                    <a:pt x="5" y="4"/>
                  </a:moveTo>
                  <a:lnTo>
                    <a:pt x="5" y="2"/>
                  </a:lnTo>
                  <a:lnTo>
                    <a:pt x="0" y="0"/>
                  </a:lnTo>
                  <a:lnTo>
                    <a:pt x="5" y="4"/>
                  </a:lnTo>
                  <a:close/>
                </a:path>
              </a:pathLst>
            </a:custGeom>
            <a:blipFill rotWithShape="0">
              <a:blip r:embed="rId82"/>
              <a:srcRect/>
              <a:tile tx="0" ty="0" sx="100000" sy="100000" algn="ctr"/>
            </a:blip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254" name=""/>
            <p:cNvSpPr/>
            <p:nvPr/>
          </p:nvSpPr>
          <p:spPr>
            <a:xfrm>
              <a:off x="1490040" y="1330560"/>
              <a:ext cx="286200" cy="209880"/>
            </a:xfrm>
            <a:custGeom>
              <a:avLst/>
              <a:gdLst/>
              <a:ahLst/>
              <a:rect l="l" t="t" r="r" b="b"/>
              <a:pathLst>
                <a:path w="2230" h="1809">
                  <a:moveTo>
                    <a:pt x="1911" y="152"/>
                  </a:moveTo>
                  <a:lnTo>
                    <a:pt x="1925" y="158"/>
                  </a:lnTo>
                  <a:lnTo>
                    <a:pt x="1952" y="160"/>
                  </a:lnTo>
                  <a:lnTo>
                    <a:pt x="1965" y="156"/>
                  </a:lnTo>
                  <a:lnTo>
                    <a:pt x="1976" y="148"/>
                  </a:lnTo>
                  <a:lnTo>
                    <a:pt x="1982" y="136"/>
                  </a:lnTo>
                  <a:lnTo>
                    <a:pt x="1982" y="119"/>
                  </a:lnTo>
                  <a:lnTo>
                    <a:pt x="2012" y="57"/>
                  </a:lnTo>
                  <a:lnTo>
                    <a:pt x="2014" y="61"/>
                  </a:lnTo>
                  <a:lnTo>
                    <a:pt x="2020" y="67"/>
                  </a:lnTo>
                  <a:lnTo>
                    <a:pt x="2025" y="67"/>
                  </a:lnTo>
                  <a:lnTo>
                    <a:pt x="2036" y="65"/>
                  </a:lnTo>
                  <a:lnTo>
                    <a:pt x="2069" y="49"/>
                  </a:lnTo>
                  <a:lnTo>
                    <a:pt x="2101" y="65"/>
                  </a:lnTo>
                  <a:lnTo>
                    <a:pt x="2110" y="67"/>
                  </a:lnTo>
                  <a:lnTo>
                    <a:pt x="2117" y="67"/>
                  </a:lnTo>
                  <a:lnTo>
                    <a:pt x="2122" y="61"/>
                  </a:lnTo>
                  <a:lnTo>
                    <a:pt x="2124" y="57"/>
                  </a:lnTo>
                  <a:lnTo>
                    <a:pt x="2154" y="119"/>
                  </a:lnTo>
                  <a:lnTo>
                    <a:pt x="2148" y="258"/>
                  </a:lnTo>
                  <a:lnTo>
                    <a:pt x="2128" y="255"/>
                  </a:lnTo>
                  <a:lnTo>
                    <a:pt x="2118" y="258"/>
                  </a:lnTo>
                  <a:lnTo>
                    <a:pt x="2118" y="266"/>
                  </a:lnTo>
                  <a:lnTo>
                    <a:pt x="2122" y="276"/>
                  </a:lnTo>
                  <a:lnTo>
                    <a:pt x="2140" y="302"/>
                  </a:lnTo>
                  <a:lnTo>
                    <a:pt x="2154" y="318"/>
                  </a:lnTo>
                  <a:lnTo>
                    <a:pt x="2151" y="341"/>
                  </a:lnTo>
                  <a:lnTo>
                    <a:pt x="2146" y="351"/>
                  </a:lnTo>
                  <a:lnTo>
                    <a:pt x="2117" y="367"/>
                  </a:lnTo>
                  <a:lnTo>
                    <a:pt x="2073" y="448"/>
                  </a:lnTo>
                  <a:lnTo>
                    <a:pt x="2069" y="503"/>
                  </a:lnTo>
                  <a:lnTo>
                    <a:pt x="2158" y="671"/>
                  </a:lnTo>
                  <a:lnTo>
                    <a:pt x="2175" y="692"/>
                  </a:lnTo>
                  <a:lnTo>
                    <a:pt x="2193" y="708"/>
                  </a:lnTo>
                  <a:lnTo>
                    <a:pt x="2211" y="726"/>
                  </a:lnTo>
                  <a:lnTo>
                    <a:pt x="2230" y="754"/>
                  </a:lnTo>
                  <a:lnTo>
                    <a:pt x="2230" y="836"/>
                  </a:lnTo>
                  <a:lnTo>
                    <a:pt x="2217" y="859"/>
                  </a:lnTo>
                  <a:lnTo>
                    <a:pt x="2199" y="882"/>
                  </a:lnTo>
                  <a:lnTo>
                    <a:pt x="2166" y="929"/>
                  </a:lnTo>
                  <a:lnTo>
                    <a:pt x="2154" y="1174"/>
                  </a:lnTo>
                  <a:lnTo>
                    <a:pt x="2144" y="1172"/>
                  </a:lnTo>
                  <a:lnTo>
                    <a:pt x="2135" y="1174"/>
                  </a:lnTo>
                  <a:lnTo>
                    <a:pt x="2128" y="1178"/>
                  </a:lnTo>
                  <a:lnTo>
                    <a:pt x="2122" y="1186"/>
                  </a:lnTo>
                  <a:lnTo>
                    <a:pt x="2114" y="1207"/>
                  </a:lnTo>
                  <a:lnTo>
                    <a:pt x="2112" y="1231"/>
                  </a:lnTo>
                  <a:lnTo>
                    <a:pt x="2112" y="1278"/>
                  </a:lnTo>
                  <a:lnTo>
                    <a:pt x="2117" y="1291"/>
                  </a:lnTo>
                  <a:lnTo>
                    <a:pt x="2154" y="1293"/>
                  </a:lnTo>
                  <a:lnTo>
                    <a:pt x="2142" y="1302"/>
                  </a:lnTo>
                  <a:lnTo>
                    <a:pt x="2132" y="1316"/>
                  </a:lnTo>
                  <a:lnTo>
                    <a:pt x="2114" y="1341"/>
                  </a:lnTo>
                  <a:lnTo>
                    <a:pt x="2096" y="1369"/>
                  </a:lnTo>
                  <a:lnTo>
                    <a:pt x="2085" y="1379"/>
                  </a:lnTo>
                  <a:lnTo>
                    <a:pt x="2069" y="1385"/>
                  </a:lnTo>
                  <a:lnTo>
                    <a:pt x="2033" y="1430"/>
                  </a:lnTo>
                  <a:lnTo>
                    <a:pt x="2014" y="1453"/>
                  </a:lnTo>
                  <a:lnTo>
                    <a:pt x="2000" y="1466"/>
                  </a:lnTo>
                  <a:lnTo>
                    <a:pt x="1982" y="1490"/>
                  </a:lnTo>
                  <a:lnTo>
                    <a:pt x="1960" y="1519"/>
                  </a:lnTo>
                  <a:lnTo>
                    <a:pt x="1933" y="1545"/>
                  </a:lnTo>
                  <a:lnTo>
                    <a:pt x="1903" y="1566"/>
                  </a:lnTo>
                  <a:lnTo>
                    <a:pt x="1871" y="1589"/>
                  </a:lnTo>
                  <a:lnTo>
                    <a:pt x="1834" y="1610"/>
                  </a:lnTo>
                  <a:lnTo>
                    <a:pt x="1793" y="1631"/>
                  </a:lnTo>
                  <a:lnTo>
                    <a:pt x="1748" y="1652"/>
                  </a:lnTo>
                  <a:lnTo>
                    <a:pt x="1704" y="1667"/>
                  </a:lnTo>
                  <a:lnTo>
                    <a:pt x="1628" y="1691"/>
                  </a:lnTo>
                  <a:lnTo>
                    <a:pt x="1605" y="1694"/>
                  </a:lnTo>
                  <a:lnTo>
                    <a:pt x="1597" y="1694"/>
                  </a:lnTo>
                  <a:lnTo>
                    <a:pt x="1586" y="1704"/>
                  </a:lnTo>
                  <a:lnTo>
                    <a:pt x="1570" y="1720"/>
                  </a:lnTo>
                  <a:lnTo>
                    <a:pt x="1530" y="1760"/>
                  </a:lnTo>
                  <a:lnTo>
                    <a:pt x="1508" y="1782"/>
                  </a:lnTo>
                  <a:lnTo>
                    <a:pt x="1489" y="1798"/>
                  </a:lnTo>
                  <a:lnTo>
                    <a:pt x="1471" y="1807"/>
                  </a:lnTo>
                  <a:lnTo>
                    <a:pt x="1461" y="1809"/>
                  </a:lnTo>
                  <a:lnTo>
                    <a:pt x="1455" y="1807"/>
                  </a:lnTo>
                  <a:lnTo>
                    <a:pt x="1436" y="1793"/>
                  </a:lnTo>
                  <a:lnTo>
                    <a:pt x="1421" y="1772"/>
                  </a:lnTo>
                  <a:lnTo>
                    <a:pt x="1398" y="1722"/>
                  </a:lnTo>
                  <a:lnTo>
                    <a:pt x="1384" y="1699"/>
                  </a:lnTo>
                  <a:lnTo>
                    <a:pt x="1368" y="1677"/>
                  </a:lnTo>
                  <a:lnTo>
                    <a:pt x="1350" y="1662"/>
                  </a:lnTo>
                  <a:lnTo>
                    <a:pt x="1339" y="1655"/>
                  </a:lnTo>
                  <a:lnTo>
                    <a:pt x="1324" y="1654"/>
                  </a:lnTo>
                  <a:lnTo>
                    <a:pt x="1319" y="1638"/>
                  </a:lnTo>
                  <a:lnTo>
                    <a:pt x="1303" y="1622"/>
                  </a:lnTo>
                  <a:lnTo>
                    <a:pt x="1282" y="1604"/>
                  </a:lnTo>
                  <a:lnTo>
                    <a:pt x="1258" y="1586"/>
                  </a:lnTo>
                  <a:lnTo>
                    <a:pt x="1209" y="1561"/>
                  </a:lnTo>
                  <a:lnTo>
                    <a:pt x="1183" y="1547"/>
                  </a:lnTo>
                  <a:lnTo>
                    <a:pt x="1047" y="1401"/>
                  </a:lnTo>
                  <a:lnTo>
                    <a:pt x="1042" y="1348"/>
                  </a:lnTo>
                  <a:lnTo>
                    <a:pt x="1041" y="1322"/>
                  </a:lnTo>
                  <a:lnTo>
                    <a:pt x="1042" y="1314"/>
                  </a:lnTo>
                  <a:lnTo>
                    <a:pt x="1047" y="1306"/>
                  </a:lnTo>
                  <a:lnTo>
                    <a:pt x="1068" y="1283"/>
                  </a:lnTo>
                  <a:lnTo>
                    <a:pt x="979" y="1107"/>
                  </a:lnTo>
                  <a:lnTo>
                    <a:pt x="900" y="1024"/>
                  </a:lnTo>
                  <a:lnTo>
                    <a:pt x="908" y="1008"/>
                  </a:lnTo>
                  <a:lnTo>
                    <a:pt x="913" y="995"/>
                  </a:lnTo>
                  <a:lnTo>
                    <a:pt x="910" y="979"/>
                  </a:lnTo>
                  <a:lnTo>
                    <a:pt x="903" y="964"/>
                  </a:lnTo>
                  <a:lnTo>
                    <a:pt x="892" y="951"/>
                  </a:lnTo>
                  <a:lnTo>
                    <a:pt x="879" y="937"/>
                  </a:lnTo>
                  <a:lnTo>
                    <a:pt x="843" y="914"/>
                  </a:lnTo>
                  <a:lnTo>
                    <a:pt x="806" y="893"/>
                  </a:lnTo>
                  <a:lnTo>
                    <a:pt x="770" y="878"/>
                  </a:lnTo>
                  <a:lnTo>
                    <a:pt x="727" y="864"/>
                  </a:lnTo>
                  <a:lnTo>
                    <a:pt x="696" y="874"/>
                  </a:lnTo>
                  <a:lnTo>
                    <a:pt x="675" y="880"/>
                  </a:lnTo>
                  <a:lnTo>
                    <a:pt x="664" y="888"/>
                  </a:lnTo>
                  <a:lnTo>
                    <a:pt x="591" y="862"/>
                  </a:lnTo>
                  <a:lnTo>
                    <a:pt x="557" y="852"/>
                  </a:lnTo>
                  <a:lnTo>
                    <a:pt x="541" y="852"/>
                  </a:lnTo>
                  <a:lnTo>
                    <a:pt x="528" y="852"/>
                  </a:lnTo>
                  <a:lnTo>
                    <a:pt x="504" y="859"/>
                  </a:lnTo>
                  <a:lnTo>
                    <a:pt x="480" y="868"/>
                  </a:lnTo>
                  <a:lnTo>
                    <a:pt x="458" y="888"/>
                  </a:lnTo>
                  <a:lnTo>
                    <a:pt x="437" y="914"/>
                  </a:lnTo>
                  <a:lnTo>
                    <a:pt x="400" y="917"/>
                  </a:lnTo>
                  <a:lnTo>
                    <a:pt x="361" y="917"/>
                  </a:lnTo>
                  <a:lnTo>
                    <a:pt x="324" y="914"/>
                  </a:lnTo>
                  <a:lnTo>
                    <a:pt x="288" y="906"/>
                  </a:lnTo>
                  <a:lnTo>
                    <a:pt x="255" y="898"/>
                  </a:lnTo>
                  <a:lnTo>
                    <a:pt x="223" y="886"/>
                  </a:lnTo>
                  <a:lnTo>
                    <a:pt x="167" y="856"/>
                  </a:lnTo>
                  <a:lnTo>
                    <a:pt x="103" y="799"/>
                  </a:lnTo>
                  <a:lnTo>
                    <a:pt x="78" y="770"/>
                  </a:lnTo>
                  <a:lnTo>
                    <a:pt x="54" y="742"/>
                  </a:lnTo>
                  <a:lnTo>
                    <a:pt x="36" y="715"/>
                  </a:lnTo>
                  <a:lnTo>
                    <a:pt x="21" y="687"/>
                  </a:lnTo>
                  <a:lnTo>
                    <a:pt x="8" y="657"/>
                  </a:lnTo>
                  <a:lnTo>
                    <a:pt x="0" y="626"/>
                  </a:lnTo>
                  <a:lnTo>
                    <a:pt x="13" y="553"/>
                  </a:lnTo>
                  <a:lnTo>
                    <a:pt x="22" y="490"/>
                  </a:lnTo>
                  <a:lnTo>
                    <a:pt x="8" y="456"/>
                  </a:lnTo>
                  <a:lnTo>
                    <a:pt x="5" y="426"/>
                  </a:lnTo>
                  <a:lnTo>
                    <a:pt x="8" y="401"/>
                  </a:lnTo>
                  <a:lnTo>
                    <a:pt x="18" y="377"/>
                  </a:lnTo>
                  <a:lnTo>
                    <a:pt x="34" y="357"/>
                  </a:lnTo>
                  <a:lnTo>
                    <a:pt x="54" y="339"/>
                  </a:lnTo>
                  <a:lnTo>
                    <a:pt x="102" y="305"/>
                  </a:lnTo>
                  <a:lnTo>
                    <a:pt x="198" y="207"/>
                  </a:lnTo>
                  <a:lnTo>
                    <a:pt x="214" y="202"/>
                  </a:lnTo>
                  <a:lnTo>
                    <a:pt x="230" y="185"/>
                  </a:lnTo>
                  <a:lnTo>
                    <a:pt x="235" y="176"/>
                  </a:lnTo>
                  <a:lnTo>
                    <a:pt x="239" y="161"/>
                  </a:lnTo>
                  <a:lnTo>
                    <a:pt x="241" y="148"/>
                  </a:lnTo>
                  <a:lnTo>
                    <a:pt x="241" y="129"/>
                  </a:lnTo>
                  <a:lnTo>
                    <a:pt x="259" y="134"/>
                  </a:lnTo>
                  <a:lnTo>
                    <a:pt x="293" y="148"/>
                  </a:lnTo>
                  <a:lnTo>
                    <a:pt x="330" y="158"/>
                  </a:lnTo>
                  <a:lnTo>
                    <a:pt x="343" y="158"/>
                  </a:lnTo>
                  <a:lnTo>
                    <a:pt x="356" y="153"/>
                  </a:lnTo>
                  <a:lnTo>
                    <a:pt x="367" y="153"/>
                  </a:lnTo>
                  <a:lnTo>
                    <a:pt x="383" y="150"/>
                  </a:lnTo>
                  <a:lnTo>
                    <a:pt x="413" y="136"/>
                  </a:lnTo>
                  <a:lnTo>
                    <a:pt x="437" y="124"/>
                  </a:lnTo>
                  <a:lnTo>
                    <a:pt x="445" y="122"/>
                  </a:lnTo>
                  <a:lnTo>
                    <a:pt x="450" y="124"/>
                  </a:lnTo>
                  <a:lnTo>
                    <a:pt x="486" y="124"/>
                  </a:lnTo>
                  <a:lnTo>
                    <a:pt x="508" y="121"/>
                  </a:lnTo>
                  <a:lnTo>
                    <a:pt x="528" y="116"/>
                  </a:lnTo>
                  <a:lnTo>
                    <a:pt x="537" y="111"/>
                  </a:lnTo>
                  <a:lnTo>
                    <a:pt x="552" y="93"/>
                  </a:lnTo>
                  <a:lnTo>
                    <a:pt x="575" y="72"/>
                  </a:lnTo>
                  <a:lnTo>
                    <a:pt x="615" y="41"/>
                  </a:lnTo>
                  <a:lnTo>
                    <a:pt x="620" y="38"/>
                  </a:lnTo>
                  <a:lnTo>
                    <a:pt x="615" y="41"/>
                  </a:lnTo>
                  <a:lnTo>
                    <a:pt x="652" y="35"/>
                  </a:lnTo>
                  <a:lnTo>
                    <a:pt x="672" y="27"/>
                  </a:lnTo>
                  <a:lnTo>
                    <a:pt x="691" y="16"/>
                  </a:lnTo>
                  <a:lnTo>
                    <a:pt x="707" y="8"/>
                  </a:lnTo>
                  <a:lnTo>
                    <a:pt x="723" y="4"/>
                  </a:lnTo>
                  <a:lnTo>
                    <a:pt x="741" y="4"/>
                  </a:lnTo>
                  <a:lnTo>
                    <a:pt x="759" y="6"/>
                  </a:lnTo>
                  <a:lnTo>
                    <a:pt x="790" y="20"/>
                  </a:lnTo>
                  <a:lnTo>
                    <a:pt x="816" y="38"/>
                  </a:lnTo>
                  <a:lnTo>
                    <a:pt x="817" y="57"/>
                  </a:lnTo>
                  <a:lnTo>
                    <a:pt x="816" y="59"/>
                  </a:lnTo>
                  <a:lnTo>
                    <a:pt x="853" y="105"/>
                  </a:lnTo>
                  <a:lnTo>
                    <a:pt x="1026" y="85"/>
                  </a:lnTo>
                  <a:lnTo>
                    <a:pt x="1033" y="71"/>
                  </a:lnTo>
                  <a:lnTo>
                    <a:pt x="1044" y="57"/>
                  </a:lnTo>
                  <a:lnTo>
                    <a:pt x="1058" y="48"/>
                  </a:lnTo>
                  <a:lnTo>
                    <a:pt x="1076" y="38"/>
                  </a:lnTo>
                  <a:lnTo>
                    <a:pt x="1115" y="22"/>
                  </a:lnTo>
                  <a:lnTo>
                    <a:pt x="1159" y="12"/>
                  </a:lnTo>
                  <a:lnTo>
                    <a:pt x="1201" y="6"/>
                  </a:lnTo>
                  <a:lnTo>
                    <a:pt x="1238" y="2"/>
                  </a:lnTo>
                  <a:lnTo>
                    <a:pt x="1274" y="0"/>
                  </a:lnTo>
                  <a:lnTo>
                    <a:pt x="1282" y="16"/>
                  </a:lnTo>
                  <a:lnTo>
                    <a:pt x="1295" y="27"/>
                  </a:lnTo>
                  <a:lnTo>
                    <a:pt x="1311" y="43"/>
                  </a:lnTo>
                  <a:lnTo>
                    <a:pt x="1323" y="65"/>
                  </a:lnTo>
                  <a:lnTo>
                    <a:pt x="1331" y="69"/>
                  </a:lnTo>
                  <a:lnTo>
                    <a:pt x="1342" y="71"/>
                  </a:lnTo>
                  <a:lnTo>
                    <a:pt x="1376" y="69"/>
                  </a:lnTo>
                  <a:lnTo>
                    <a:pt x="1410" y="67"/>
                  </a:lnTo>
                  <a:lnTo>
                    <a:pt x="1436" y="65"/>
                  </a:lnTo>
                  <a:lnTo>
                    <a:pt x="1461" y="75"/>
                  </a:lnTo>
                  <a:lnTo>
                    <a:pt x="1489" y="83"/>
                  </a:lnTo>
                  <a:lnTo>
                    <a:pt x="1546" y="95"/>
                  </a:lnTo>
                  <a:lnTo>
                    <a:pt x="1575" y="101"/>
                  </a:lnTo>
                  <a:lnTo>
                    <a:pt x="1604" y="108"/>
                  </a:lnTo>
                  <a:lnTo>
                    <a:pt x="1631" y="121"/>
                  </a:lnTo>
                  <a:lnTo>
                    <a:pt x="1656" y="138"/>
                  </a:lnTo>
                  <a:lnTo>
                    <a:pt x="1706" y="145"/>
                  </a:lnTo>
                  <a:lnTo>
                    <a:pt x="1753" y="153"/>
                  </a:lnTo>
                  <a:lnTo>
                    <a:pt x="1797" y="158"/>
                  </a:lnTo>
                  <a:lnTo>
                    <a:pt x="1814" y="156"/>
                  </a:lnTo>
                  <a:lnTo>
                    <a:pt x="1832" y="148"/>
                  </a:lnTo>
                  <a:lnTo>
                    <a:pt x="1834" y="158"/>
                  </a:lnTo>
                  <a:lnTo>
                    <a:pt x="1838" y="161"/>
                  </a:lnTo>
                  <a:lnTo>
                    <a:pt x="1845" y="163"/>
                  </a:lnTo>
                  <a:lnTo>
                    <a:pt x="1856" y="166"/>
                  </a:lnTo>
                  <a:lnTo>
                    <a:pt x="1869" y="166"/>
                  </a:lnTo>
                  <a:lnTo>
                    <a:pt x="1887" y="160"/>
                  </a:lnTo>
                  <a:lnTo>
                    <a:pt x="1911" y="152"/>
                  </a:lnTo>
                  <a:close/>
                </a:path>
              </a:pathLst>
            </a:custGeom>
            <a:blipFill rotWithShape="0">
              <a:blip r:embed="rId8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1569240" y="1335240"/>
              <a:ext cx="720" cy="720"/>
            </a:xfrm>
            <a:custGeom>
              <a:avLst/>
              <a:gdLst/>
              <a:ahLst/>
              <a:rect l="l" t="t" r="r" b="b"/>
              <a:pathLst>
                <a:path w="5" h="3">
                  <a:moveTo>
                    <a:pt x="0" y="3"/>
                  </a:moveTo>
                  <a:lnTo>
                    <a:pt x="5" y="0"/>
                  </a:lnTo>
                  <a:lnTo>
                    <a:pt x="0" y="3"/>
                  </a:lnTo>
                  <a:lnTo>
                    <a:pt x="0" y="3"/>
                  </a:lnTo>
                  <a:close/>
                </a:path>
              </a:pathLst>
            </a:custGeom>
            <a:blipFill rotWithShape="0">
              <a:blip r:embed="rId84"/>
              <a:srcRect/>
              <a:tile tx="0" ty="0" sx="100000" sy="100000" algn="ctr"/>
            </a:blip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256" name=""/>
            <p:cNvSpPr/>
            <p:nvPr/>
          </p:nvSpPr>
          <p:spPr>
            <a:xfrm>
              <a:off x="1517760" y="1071360"/>
              <a:ext cx="297360" cy="275760"/>
            </a:xfrm>
            <a:custGeom>
              <a:avLst/>
              <a:gdLst/>
              <a:ahLst/>
              <a:rect l="l" t="t" r="r" b="b"/>
              <a:pathLst>
                <a:path w="2318" h="2383">
                  <a:moveTo>
                    <a:pt x="1352" y="144"/>
                  </a:moveTo>
                  <a:lnTo>
                    <a:pt x="1340" y="154"/>
                  </a:lnTo>
                  <a:lnTo>
                    <a:pt x="1336" y="162"/>
                  </a:lnTo>
                  <a:lnTo>
                    <a:pt x="1336" y="172"/>
                  </a:lnTo>
                  <a:lnTo>
                    <a:pt x="1340" y="182"/>
                  </a:lnTo>
                  <a:lnTo>
                    <a:pt x="1355" y="198"/>
                  </a:lnTo>
                  <a:lnTo>
                    <a:pt x="1376" y="207"/>
                  </a:lnTo>
                  <a:lnTo>
                    <a:pt x="1478" y="303"/>
                  </a:lnTo>
                  <a:lnTo>
                    <a:pt x="1525" y="199"/>
                  </a:lnTo>
                  <a:lnTo>
                    <a:pt x="1521" y="196"/>
                  </a:lnTo>
                  <a:lnTo>
                    <a:pt x="1517" y="191"/>
                  </a:lnTo>
                  <a:lnTo>
                    <a:pt x="1510" y="191"/>
                  </a:lnTo>
                  <a:lnTo>
                    <a:pt x="1497" y="193"/>
                  </a:lnTo>
                  <a:lnTo>
                    <a:pt x="1488" y="190"/>
                  </a:lnTo>
                  <a:lnTo>
                    <a:pt x="1510" y="172"/>
                  </a:lnTo>
                  <a:lnTo>
                    <a:pt x="1529" y="151"/>
                  </a:lnTo>
                  <a:lnTo>
                    <a:pt x="1552" y="130"/>
                  </a:lnTo>
                  <a:lnTo>
                    <a:pt x="1583" y="112"/>
                  </a:lnTo>
                  <a:lnTo>
                    <a:pt x="1591" y="94"/>
                  </a:lnTo>
                  <a:lnTo>
                    <a:pt x="1596" y="86"/>
                  </a:lnTo>
                  <a:lnTo>
                    <a:pt x="1606" y="79"/>
                  </a:lnTo>
                  <a:lnTo>
                    <a:pt x="1624" y="70"/>
                  </a:lnTo>
                  <a:lnTo>
                    <a:pt x="1624" y="42"/>
                  </a:lnTo>
                  <a:lnTo>
                    <a:pt x="1622" y="24"/>
                  </a:lnTo>
                  <a:lnTo>
                    <a:pt x="1622" y="2"/>
                  </a:lnTo>
                  <a:lnTo>
                    <a:pt x="1625" y="0"/>
                  </a:lnTo>
                  <a:lnTo>
                    <a:pt x="1636" y="0"/>
                  </a:lnTo>
                  <a:lnTo>
                    <a:pt x="1679" y="5"/>
                  </a:lnTo>
                  <a:lnTo>
                    <a:pt x="1683" y="10"/>
                  </a:lnTo>
                  <a:lnTo>
                    <a:pt x="1687" y="16"/>
                  </a:lnTo>
                  <a:lnTo>
                    <a:pt x="1690" y="34"/>
                  </a:lnTo>
                  <a:lnTo>
                    <a:pt x="1690" y="71"/>
                  </a:lnTo>
                  <a:lnTo>
                    <a:pt x="1898" y="188"/>
                  </a:lnTo>
                  <a:lnTo>
                    <a:pt x="1915" y="249"/>
                  </a:lnTo>
                  <a:lnTo>
                    <a:pt x="1931" y="264"/>
                  </a:lnTo>
                  <a:lnTo>
                    <a:pt x="1947" y="282"/>
                  </a:lnTo>
                  <a:lnTo>
                    <a:pt x="1981" y="318"/>
                  </a:lnTo>
                  <a:lnTo>
                    <a:pt x="2054" y="340"/>
                  </a:lnTo>
                  <a:lnTo>
                    <a:pt x="2064" y="337"/>
                  </a:lnTo>
                  <a:lnTo>
                    <a:pt x="2072" y="335"/>
                  </a:lnTo>
                  <a:lnTo>
                    <a:pt x="2083" y="324"/>
                  </a:lnTo>
                  <a:lnTo>
                    <a:pt x="2091" y="310"/>
                  </a:lnTo>
                  <a:lnTo>
                    <a:pt x="2104" y="298"/>
                  </a:lnTo>
                  <a:lnTo>
                    <a:pt x="2242" y="345"/>
                  </a:lnTo>
                  <a:lnTo>
                    <a:pt x="2200" y="448"/>
                  </a:lnTo>
                  <a:lnTo>
                    <a:pt x="2203" y="452"/>
                  </a:lnTo>
                  <a:lnTo>
                    <a:pt x="2204" y="456"/>
                  </a:lnTo>
                  <a:lnTo>
                    <a:pt x="2214" y="456"/>
                  </a:lnTo>
                  <a:lnTo>
                    <a:pt x="2226" y="454"/>
                  </a:lnTo>
                  <a:lnTo>
                    <a:pt x="2237" y="456"/>
                  </a:lnTo>
                  <a:lnTo>
                    <a:pt x="2227" y="476"/>
                  </a:lnTo>
                  <a:lnTo>
                    <a:pt x="2226" y="497"/>
                  </a:lnTo>
                  <a:lnTo>
                    <a:pt x="2226" y="517"/>
                  </a:lnTo>
                  <a:lnTo>
                    <a:pt x="2226" y="539"/>
                  </a:lnTo>
                  <a:lnTo>
                    <a:pt x="2226" y="549"/>
                  </a:lnTo>
                  <a:lnTo>
                    <a:pt x="2230" y="555"/>
                  </a:lnTo>
                  <a:lnTo>
                    <a:pt x="2242" y="559"/>
                  </a:lnTo>
                  <a:lnTo>
                    <a:pt x="2255" y="562"/>
                  </a:lnTo>
                  <a:lnTo>
                    <a:pt x="2273" y="567"/>
                  </a:lnTo>
                  <a:lnTo>
                    <a:pt x="2318" y="656"/>
                  </a:lnTo>
                  <a:lnTo>
                    <a:pt x="2174" y="705"/>
                  </a:lnTo>
                  <a:lnTo>
                    <a:pt x="2171" y="792"/>
                  </a:lnTo>
                  <a:lnTo>
                    <a:pt x="2043" y="853"/>
                  </a:lnTo>
                  <a:lnTo>
                    <a:pt x="2025" y="890"/>
                  </a:lnTo>
                  <a:lnTo>
                    <a:pt x="2009" y="923"/>
                  </a:lnTo>
                  <a:lnTo>
                    <a:pt x="2007" y="938"/>
                  </a:lnTo>
                  <a:lnTo>
                    <a:pt x="2010" y="952"/>
                  </a:lnTo>
                  <a:lnTo>
                    <a:pt x="2020" y="962"/>
                  </a:lnTo>
                  <a:lnTo>
                    <a:pt x="2041" y="971"/>
                  </a:lnTo>
                  <a:lnTo>
                    <a:pt x="2115" y="1072"/>
                  </a:lnTo>
                  <a:lnTo>
                    <a:pt x="2115" y="1156"/>
                  </a:lnTo>
                  <a:lnTo>
                    <a:pt x="2222" y="1295"/>
                  </a:lnTo>
                  <a:lnTo>
                    <a:pt x="2300" y="1368"/>
                  </a:lnTo>
                  <a:lnTo>
                    <a:pt x="2287" y="1370"/>
                  </a:lnTo>
                  <a:lnTo>
                    <a:pt x="2273" y="1376"/>
                  </a:lnTo>
                  <a:lnTo>
                    <a:pt x="2243" y="1397"/>
                  </a:lnTo>
                  <a:lnTo>
                    <a:pt x="2172" y="1460"/>
                  </a:lnTo>
                  <a:lnTo>
                    <a:pt x="2133" y="1496"/>
                  </a:lnTo>
                  <a:lnTo>
                    <a:pt x="2091" y="1525"/>
                  </a:lnTo>
                  <a:lnTo>
                    <a:pt x="2070" y="1538"/>
                  </a:lnTo>
                  <a:lnTo>
                    <a:pt x="2048" y="1546"/>
                  </a:lnTo>
                  <a:lnTo>
                    <a:pt x="2027" y="1551"/>
                  </a:lnTo>
                  <a:lnTo>
                    <a:pt x="2005" y="1553"/>
                  </a:lnTo>
                  <a:lnTo>
                    <a:pt x="1963" y="1538"/>
                  </a:lnTo>
                  <a:lnTo>
                    <a:pt x="1947" y="1528"/>
                  </a:lnTo>
                  <a:lnTo>
                    <a:pt x="1934" y="1514"/>
                  </a:lnTo>
                  <a:lnTo>
                    <a:pt x="1886" y="1538"/>
                  </a:lnTo>
                  <a:lnTo>
                    <a:pt x="1871" y="1548"/>
                  </a:lnTo>
                  <a:lnTo>
                    <a:pt x="1873" y="1551"/>
                  </a:lnTo>
                  <a:lnTo>
                    <a:pt x="1876" y="1557"/>
                  </a:lnTo>
                  <a:lnTo>
                    <a:pt x="1890" y="1579"/>
                  </a:lnTo>
                  <a:lnTo>
                    <a:pt x="1839" y="1583"/>
                  </a:lnTo>
                  <a:lnTo>
                    <a:pt x="1745" y="1745"/>
                  </a:lnTo>
                  <a:lnTo>
                    <a:pt x="1697" y="1770"/>
                  </a:lnTo>
                  <a:lnTo>
                    <a:pt x="1641" y="1800"/>
                  </a:lnTo>
                  <a:lnTo>
                    <a:pt x="1616" y="1815"/>
                  </a:lnTo>
                  <a:lnTo>
                    <a:pt x="1593" y="1836"/>
                  </a:lnTo>
                  <a:lnTo>
                    <a:pt x="1577" y="1859"/>
                  </a:lnTo>
                  <a:lnTo>
                    <a:pt x="1570" y="1871"/>
                  </a:lnTo>
                  <a:lnTo>
                    <a:pt x="1569" y="1885"/>
                  </a:lnTo>
                  <a:lnTo>
                    <a:pt x="1561" y="1899"/>
                  </a:lnTo>
                  <a:lnTo>
                    <a:pt x="1551" y="1909"/>
                  </a:lnTo>
                  <a:lnTo>
                    <a:pt x="1537" y="1914"/>
                  </a:lnTo>
                  <a:lnTo>
                    <a:pt x="1523" y="1918"/>
                  </a:lnTo>
                  <a:lnTo>
                    <a:pt x="1494" y="1926"/>
                  </a:lnTo>
                  <a:lnTo>
                    <a:pt x="1480" y="1934"/>
                  </a:lnTo>
                  <a:lnTo>
                    <a:pt x="1470" y="1944"/>
                  </a:lnTo>
                  <a:lnTo>
                    <a:pt x="1472" y="1957"/>
                  </a:lnTo>
                  <a:lnTo>
                    <a:pt x="1480" y="1967"/>
                  </a:lnTo>
                  <a:lnTo>
                    <a:pt x="1492" y="1974"/>
                  </a:lnTo>
                  <a:lnTo>
                    <a:pt x="1505" y="1975"/>
                  </a:lnTo>
                  <a:lnTo>
                    <a:pt x="1537" y="1977"/>
                  </a:lnTo>
                  <a:lnTo>
                    <a:pt x="1569" y="1980"/>
                  </a:lnTo>
                  <a:lnTo>
                    <a:pt x="1593" y="1974"/>
                  </a:lnTo>
                  <a:lnTo>
                    <a:pt x="1612" y="1964"/>
                  </a:lnTo>
                  <a:lnTo>
                    <a:pt x="1625" y="1949"/>
                  </a:lnTo>
                  <a:lnTo>
                    <a:pt x="1638" y="1934"/>
                  </a:lnTo>
                  <a:lnTo>
                    <a:pt x="1646" y="1914"/>
                  </a:lnTo>
                  <a:lnTo>
                    <a:pt x="1651" y="1894"/>
                  </a:lnTo>
                  <a:lnTo>
                    <a:pt x="1657" y="1849"/>
                  </a:lnTo>
                  <a:lnTo>
                    <a:pt x="1667" y="1836"/>
                  </a:lnTo>
                  <a:lnTo>
                    <a:pt x="1677" y="1828"/>
                  </a:lnTo>
                  <a:lnTo>
                    <a:pt x="1687" y="1828"/>
                  </a:lnTo>
                  <a:lnTo>
                    <a:pt x="1697" y="1829"/>
                  </a:lnTo>
                  <a:lnTo>
                    <a:pt x="1705" y="1837"/>
                  </a:lnTo>
                  <a:lnTo>
                    <a:pt x="1711" y="1845"/>
                  </a:lnTo>
                  <a:lnTo>
                    <a:pt x="1717" y="1862"/>
                  </a:lnTo>
                  <a:lnTo>
                    <a:pt x="1784" y="1901"/>
                  </a:lnTo>
                  <a:lnTo>
                    <a:pt x="1803" y="1917"/>
                  </a:lnTo>
                  <a:lnTo>
                    <a:pt x="1813" y="1934"/>
                  </a:lnTo>
                  <a:lnTo>
                    <a:pt x="1819" y="1959"/>
                  </a:lnTo>
                  <a:lnTo>
                    <a:pt x="1819" y="1991"/>
                  </a:lnTo>
                  <a:lnTo>
                    <a:pt x="1818" y="2098"/>
                  </a:lnTo>
                  <a:lnTo>
                    <a:pt x="1790" y="2153"/>
                  </a:lnTo>
                  <a:lnTo>
                    <a:pt x="1769" y="2205"/>
                  </a:lnTo>
                  <a:lnTo>
                    <a:pt x="1737" y="2321"/>
                  </a:lnTo>
                  <a:lnTo>
                    <a:pt x="1730" y="2335"/>
                  </a:lnTo>
                  <a:lnTo>
                    <a:pt x="1719" y="2351"/>
                  </a:lnTo>
                  <a:lnTo>
                    <a:pt x="1695" y="2383"/>
                  </a:lnTo>
                  <a:lnTo>
                    <a:pt x="1636" y="2359"/>
                  </a:lnTo>
                  <a:lnTo>
                    <a:pt x="1578" y="2336"/>
                  </a:lnTo>
                  <a:lnTo>
                    <a:pt x="1521" y="2321"/>
                  </a:lnTo>
                  <a:lnTo>
                    <a:pt x="1466" y="2309"/>
                  </a:lnTo>
                  <a:lnTo>
                    <a:pt x="1353" y="2295"/>
                  </a:lnTo>
                  <a:lnTo>
                    <a:pt x="1241" y="2281"/>
                  </a:lnTo>
                  <a:lnTo>
                    <a:pt x="1156" y="2215"/>
                  </a:lnTo>
                  <a:lnTo>
                    <a:pt x="1125" y="2190"/>
                  </a:lnTo>
                  <a:lnTo>
                    <a:pt x="1099" y="2166"/>
                  </a:lnTo>
                  <a:lnTo>
                    <a:pt x="1091" y="2161"/>
                  </a:lnTo>
                  <a:lnTo>
                    <a:pt x="1089" y="2153"/>
                  </a:lnTo>
                  <a:lnTo>
                    <a:pt x="1086" y="2135"/>
                  </a:lnTo>
                  <a:lnTo>
                    <a:pt x="1085" y="2119"/>
                  </a:lnTo>
                  <a:lnTo>
                    <a:pt x="1083" y="2114"/>
                  </a:lnTo>
                  <a:lnTo>
                    <a:pt x="1077" y="2108"/>
                  </a:lnTo>
                  <a:lnTo>
                    <a:pt x="1059" y="2100"/>
                  </a:lnTo>
                  <a:lnTo>
                    <a:pt x="1049" y="2094"/>
                  </a:lnTo>
                  <a:lnTo>
                    <a:pt x="1046" y="2085"/>
                  </a:lnTo>
                  <a:lnTo>
                    <a:pt x="1044" y="2080"/>
                  </a:lnTo>
                  <a:lnTo>
                    <a:pt x="1044" y="2066"/>
                  </a:lnTo>
                  <a:lnTo>
                    <a:pt x="1039" y="2058"/>
                  </a:lnTo>
                  <a:lnTo>
                    <a:pt x="1031" y="2053"/>
                  </a:lnTo>
                  <a:lnTo>
                    <a:pt x="1010" y="2054"/>
                  </a:lnTo>
                  <a:lnTo>
                    <a:pt x="996" y="2056"/>
                  </a:lnTo>
                  <a:lnTo>
                    <a:pt x="986" y="2062"/>
                  </a:lnTo>
                  <a:lnTo>
                    <a:pt x="983" y="2070"/>
                  </a:lnTo>
                  <a:lnTo>
                    <a:pt x="971" y="2096"/>
                  </a:lnTo>
                  <a:lnTo>
                    <a:pt x="963" y="2111"/>
                  </a:lnTo>
                  <a:lnTo>
                    <a:pt x="949" y="2129"/>
                  </a:lnTo>
                  <a:lnTo>
                    <a:pt x="937" y="2134"/>
                  </a:lnTo>
                  <a:lnTo>
                    <a:pt x="927" y="2143"/>
                  </a:lnTo>
                  <a:lnTo>
                    <a:pt x="921" y="2150"/>
                  </a:lnTo>
                  <a:lnTo>
                    <a:pt x="918" y="2151"/>
                  </a:lnTo>
                  <a:lnTo>
                    <a:pt x="918" y="2150"/>
                  </a:lnTo>
                  <a:lnTo>
                    <a:pt x="915" y="2103"/>
                  </a:lnTo>
                  <a:lnTo>
                    <a:pt x="915" y="2053"/>
                  </a:lnTo>
                  <a:lnTo>
                    <a:pt x="895" y="2045"/>
                  </a:lnTo>
                  <a:lnTo>
                    <a:pt x="887" y="2038"/>
                  </a:lnTo>
                  <a:lnTo>
                    <a:pt x="887" y="2025"/>
                  </a:lnTo>
                  <a:lnTo>
                    <a:pt x="890" y="1991"/>
                  </a:lnTo>
                  <a:lnTo>
                    <a:pt x="905" y="1980"/>
                  </a:lnTo>
                  <a:lnTo>
                    <a:pt x="921" y="1965"/>
                  </a:lnTo>
                  <a:lnTo>
                    <a:pt x="949" y="1936"/>
                  </a:lnTo>
                  <a:lnTo>
                    <a:pt x="965" y="1922"/>
                  </a:lnTo>
                  <a:lnTo>
                    <a:pt x="984" y="1910"/>
                  </a:lnTo>
                  <a:lnTo>
                    <a:pt x="1008" y="1904"/>
                  </a:lnTo>
                  <a:lnTo>
                    <a:pt x="1039" y="1902"/>
                  </a:lnTo>
                  <a:lnTo>
                    <a:pt x="1026" y="1894"/>
                  </a:lnTo>
                  <a:lnTo>
                    <a:pt x="1014" y="1885"/>
                  </a:lnTo>
                  <a:lnTo>
                    <a:pt x="992" y="1862"/>
                  </a:lnTo>
                  <a:lnTo>
                    <a:pt x="973" y="1837"/>
                  </a:lnTo>
                  <a:lnTo>
                    <a:pt x="960" y="1829"/>
                  </a:lnTo>
                  <a:lnTo>
                    <a:pt x="949" y="1821"/>
                  </a:lnTo>
                  <a:lnTo>
                    <a:pt x="882" y="1878"/>
                  </a:lnTo>
                  <a:lnTo>
                    <a:pt x="872" y="1902"/>
                  </a:lnTo>
                  <a:lnTo>
                    <a:pt x="870" y="1925"/>
                  </a:lnTo>
                  <a:lnTo>
                    <a:pt x="866" y="1941"/>
                  </a:lnTo>
                  <a:lnTo>
                    <a:pt x="860" y="1949"/>
                  </a:lnTo>
                  <a:lnTo>
                    <a:pt x="852" y="1957"/>
                  </a:lnTo>
                  <a:lnTo>
                    <a:pt x="848" y="1982"/>
                  </a:lnTo>
                  <a:lnTo>
                    <a:pt x="850" y="2006"/>
                  </a:lnTo>
                  <a:lnTo>
                    <a:pt x="850" y="2029"/>
                  </a:lnTo>
                  <a:lnTo>
                    <a:pt x="846" y="2038"/>
                  </a:lnTo>
                  <a:lnTo>
                    <a:pt x="842" y="2046"/>
                  </a:lnTo>
                  <a:lnTo>
                    <a:pt x="840" y="2053"/>
                  </a:lnTo>
                  <a:lnTo>
                    <a:pt x="834" y="2056"/>
                  </a:lnTo>
                  <a:lnTo>
                    <a:pt x="814" y="2058"/>
                  </a:lnTo>
                  <a:lnTo>
                    <a:pt x="791" y="2058"/>
                  </a:lnTo>
                  <a:lnTo>
                    <a:pt x="777" y="2061"/>
                  </a:lnTo>
                  <a:lnTo>
                    <a:pt x="777" y="2058"/>
                  </a:lnTo>
                  <a:lnTo>
                    <a:pt x="774" y="2058"/>
                  </a:lnTo>
                  <a:lnTo>
                    <a:pt x="759" y="2058"/>
                  </a:lnTo>
                  <a:lnTo>
                    <a:pt x="708" y="2064"/>
                  </a:lnTo>
                  <a:lnTo>
                    <a:pt x="643" y="2076"/>
                  </a:lnTo>
                  <a:lnTo>
                    <a:pt x="735" y="2098"/>
                  </a:lnTo>
                  <a:lnTo>
                    <a:pt x="782" y="2103"/>
                  </a:lnTo>
                  <a:lnTo>
                    <a:pt x="805" y="2106"/>
                  </a:lnTo>
                  <a:lnTo>
                    <a:pt x="819" y="2108"/>
                  </a:lnTo>
                  <a:lnTo>
                    <a:pt x="829" y="2103"/>
                  </a:lnTo>
                  <a:lnTo>
                    <a:pt x="890" y="2126"/>
                  </a:lnTo>
                  <a:lnTo>
                    <a:pt x="892" y="2132"/>
                  </a:lnTo>
                  <a:lnTo>
                    <a:pt x="890" y="2142"/>
                  </a:lnTo>
                  <a:lnTo>
                    <a:pt x="886" y="2165"/>
                  </a:lnTo>
                  <a:lnTo>
                    <a:pt x="876" y="2187"/>
                  </a:lnTo>
                  <a:lnTo>
                    <a:pt x="868" y="2200"/>
                  </a:lnTo>
                  <a:lnTo>
                    <a:pt x="860" y="2213"/>
                  </a:lnTo>
                  <a:lnTo>
                    <a:pt x="858" y="2226"/>
                  </a:lnTo>
                  <a:lnTo>
                    <a:pt x="854" y="2236"/>
                  </a:lnTo>
                  <a:lnTo>
                    <a:pt x="848" y="2240"/>
                  </a:lnTo>
                  <a:lnTo>
                    <a:pt x="842" y="2242"/>
                  </a:lnTo>
                  <a:lnTo>
                    <a:pt x="837" y="2238"/>
                  </a:lnTo>
                  <a:lnTo>
                    <a:pt x="834" y="2231"/>
                  </a:lnTo>
                  <a:lnTo>
                    <a:pt x="830" y="2210"/>
                  </a:lnTo>
                  <a:lnTo>
                    <a:pt x="830" y="2171"/>
                  </a:lnTo>
                  <a:lnTo>
                    <a:pt x="805" y="2165"/>
                  </a:lnTo>
                  <a:lnTo>
                    <a:pt x="782" y="2163"/>
                  </a:lnTo>
                  <a:lnTo>
                    <a:pt x="774" y="2165"/>
                  </a:lnTo>
                  <a:lnTo>
                    <a:pt x="767" y="2166"/>
                  </a:lnTo>
                  <a:lnTo>
                    <a:pt x="685" y="2165"/>
                  </a:lnTo>
                  <a:lnTo>
                    <a:pt x="572" y="2137"/>
                  </a:lnTo>
                  <a:lnTo>
                    <a:pt x="465" y="2159"/>
                  </a:lnTo>
                  <a:lnTo>
                    <a:pt x="445" y="2165"/>
                  </a:lnTo>
                  <a:lnTo>
                    <a:pt x="437" y="2171"/>
                  </a:lnTo>
                  <a:lnTo>
                    <a:pt x="436" y="2179"/>
                  </a:lnTo>
                  <a:lnTo>
                    <a:pt x="432" y="2190"/>
                  </a:lnTo>
                  <a:lnTo>
                    <a:pt x="416" y="2208"/>
                  </a:lnTo>
                  <a:lnTo>
                    <a:pt x="384" y="2234"/>
                  </a:lnTo>
                  <a:lnTo>
                    <a:pt x="359" y="2232"/>
                  </a:lnTo>
                  <a:lnTo>
                    <a:pt x="351" y="2231"/>
                  </a:lnTo>
                  <a:lnTo>
                    <a:pt x="343" y="2240"/>
                  </a:lnTo>
                  <a:lnTo>
                    <a:pt x="327" y="2265"/>
                  </a:lnTo>
                  <a:lnTo>
                    <a:pt x="341" y="2263"/>
                  </a:lnTo>
                  <a:lnTo>
                    <a:pt x="343" y="2265"/>
                  </a:lnTo>
                  <a:lnTo>
                    <a:pt x="341" y="2270"/>
                  </a:lnTo>
                  <a:lnTo>
                    <a:pt x="308" y="2289"/>
                  </a:lnTo>
                  <a:lnTo>
                    <a:pt x="258" y="2310"/>
                  </a:lnTo>
                  <a:lnTo>
                    <a:pt x="209" y="2325"/>
                  </a:lnTo>
                  <a:lnTo>
                    <a:pt x="173" y="2321"/>
                  </a:lnTo>
                  <a:lnTo>
                    <a:pt x="141" y="2323"/>
                  </a:lnTo>
                  <a:lnTo>
                    <a:pt x="110" y="2328"/>
                  </a:lnTo>
                  <a:lnTo>
                    <a:pt x="84" y="2339"/>
                  </a:lnTo>
                  <a:lnTo>
                    <a:pt x="42" y="2359"/>
                  </a:lnTo>
                  <a:lnTo>
                    <a:pt x="31" y="2364"/>
                  </a:lnTo>
                  <a:lnTo>
                    <a:pt x="27" y="2364"/>
                  </a:lnTo>
                  <a:lnTo>
                    <a:pt x="15" y="2352"/>
                  </a:lnTo>
                  <a:lnTo>
                    <a:pt x="8" y="2341"/>
                  </a:lnTo>
                  <a:lnTo>
                    <a:pt x="2" y="2327"/>
                  </a:lnTo>
                  <a:lnTo>
                    <a:pt x="0" y="2310"/>
                  </a:lnTo>
                  <a:lnTo>
                    <a:pt x="2" y="2279"/>
                  </a:lnTo>
                  <a:lnTo>
                    <a:pt x="13" y="2247"/>
                  </a:lnTo>
                  <a:lnTo>
                    <a:pt x="35" y="2215"/>
                  </a:lnTo>
                  <a:lnTo>
                    <a:pt x="65" y="2182"/>
                  </a:lnTo>
                  <a:lnTo>
                    <a:pt x="102" y="2155"/>
                  </a:lnTo>
                  <a:lnTo>
                    <a:pt x="147" y="2132"/>
                  </a:lnTo>
                  <a:lnTo>
                    <a:pt x="152" y="2126"/>
                  </a:lnTo>
                  <a:lnTo>
                    <a:pt x="165" y="2118"/>
                  </a:lnTo>
                  <a:lnTo>
                    <a:pt x="207" y="2098"/>
                  </a:lnTo>
                  <a:lnTo>
                    <a:pt x="251" y="2076"/>
                  </a:lnTo>
                  <a:lnTo>
                    <a:pt x="275" y="2062"/>
                  </a:lnTo>
                  <a:lnTo>
                    <a:pt x="284" y="2035"/>
                  </a:lnTo>
                  <a:lnTo>
                    <a:pt x="290" y="2017"/>
                  </a:lnTo>
                  <a:lnTo>
                    <a:pt x="292" y="2001"/>
                  </a:lnTo>
                  <a:lnTo>
                    <a:pt x="296" y="1988"/>
                  </a:lnTo>
                  <a:lnTo>
                    <a:pt x="308" y="1974"/>
                  </a:lnTo>
                  <a:lnTo>
                    <a:pt x="325" y="1956"/>
                  </a:lnTo>
                  <a:lnTo>
                    <a:pt x="333" y="1944"/>
                  </a:lnTo>
                  <a:lnTo>
                    <a:pt x="341" y="1932"/>
                  </a:lnTo>
                  <a:lnTo>
                    <a:pt x="337" y="1922"/>
                  </a:lnTo>
                  <a:lnTo>
                    <a:pt x="333" y="1920"/>
                  </a:lnTo>
                  <a:lnTo>
                    <a:pt x="325" y="1920"/>
                  </a:lnTo>
                  <a:lnTo>
                    <a:pt x="325" y="1917"/>
                  </a:lnTo>
                  <a:lnTo>
                    <a:pt x="329" y="1907"/>
                  </a:lnTo>
                  <a:lnTo>
                    <a:pt x="359" y="1855"/>
                  </a:lnTo>
                  <a:lnTo>
                    <a:pt x="387" y="1837"/>
                  </a:lnTo>
                  <a:lnTo>
                    <a:pt x="414" y="1823"/>
                  </a:lnTo>
                  <a:lnTo>
                    <a:pt x="440" y="1810"/>
                  </a:lnTo>
                  <a:lnTo>
                    <a:pt x="461" y="1794"/>
                  </a:lnTo>
                  <a:lnTo>
                    <a:pt x="573" y="1802"/>
                  </a:lnTo>
                  <a:lnTo>
                    <a:pt x="572" y="1797"/>
                  </a:lnTo>
                  <a:lnTo>
                    <a:pt x="573" y="1790"/>
                  </a:lnTo>
                  <a:lnTo>
                    <a:pt x="588" y="1768"/>
                  </a:lnTo>
                  <a:lnTo>
                    <a:pt x="617" y="1732"/>
                  </a:lnTo>
                  <a:lnTo>
                    <a:pt x="620" y="1661"/>
                  </a:lnTo>
                  <a:lnTo>
                    <a:pt x="564" y="1559"/>
                  </a:lnTo>
                  <a:lnTo>
                    <a:pt x="554" y="1561"/>
                  </a:lnTo>
                  <a:lnTo>
                    <a:pt x="549" y="1564"/>
                  </a:lnTo>
                  <a:lnTo>
                    <a:pt x="546" y="1569"/>
                  </a:lnTo>
                  <a:lnTo>
                    <a:pt x="544" y="1575"/>
                  </a:lnTo>
                  <a:lnTo>
                    <a:pt x="549" y="1614"/>
                  </a:lnTo>
                  <a:lnTo>
                    <a:pt x="554" y="1622"/>
                  </a:lnTo>
                  <a:lnTo>
                    <a:pt x="558" y="1629"/>
                  </a:lnTo>
                  <a:lnTo>
                    <a:pt x="564" y="1637"/>
                  </a:lnTo>
                  <a:lnTo>
                    <a:pt x="549" y="1629"/>
                  </a:lnTo>
                  <a:lnTo>
                    <a:pt x="536" y="1630"/>
                  </a:lnTo>
                  <a:lnTo>
                    <a:pt x="531" y="1638"/>
                  </a:lnTo>
                  <a:lnTo>
                    <a:pt x="526" y="1650"/>
                  </a:lnTo>
                  <a:lnTo>
                    <a:pt x="523" y="1679"/>
                  </a:lnTo>
                  <a:lnTo>
                    <a:pt x="521" y="1697"/>
                  </a:lnTo>
                  <a:lnTo>
                    <a:pt x="513" y="1703"/>
                  </a:lnTo>
                  <a:lnTo>
                    <a:pt x="505" y="1703"/>
                  </a:lnTo>
                  <a:lnTo>
                    <a:pt x="491" y="1700"/>
                  </a:lnTo>
                  <a:lnTo>
                    <a:pt x="477" y="1689"/>
                  </a:lnTo>
                  <a:lnTo>
                    <a:pt x="461" y="1684"/>
                  </a:lnTo>
                  <a:lnTo>
                    <a:pt x="447" y="1684"/>
                  </a:lnTo>
                  <a:lnTo>
                    <a:pt x="437" y="1689"/>
                  </a:lnTo>
                  <a:lnTo>
                    <a:pt x="429" y="1701"/>
                  </a:lnTo>
                  <a:lnTo>
                    <a:pt x="424" y="1716"/>
                  </a:lnTo>
                  <a:lnTo>
                    <a:pt x="380" y="1723"/>
                  </a:lnTo>
                  <a:lnTo>
                    <a:pt x="348" y="1684"/>
                  </a:lnTo>
                  <a:lnTo>
                    <a:pt x="348" y="1624"/>
                  </a:lnTo>
                  <a:lnTo>
                    <a:pt x="414" y="1546"/>
                  </a:lnTo>
                  <a:lnTo>
                    <a:pt x="485" y="1363"/>
                  </a:lnTo>
                  <a:lnTo>
                    <a:pt x="518" y="1346"/>
                  </a:lnTo>
                  <a:lnTo>
                    <a:pt x="552" y="1328"/>
                  </a:lnTo>
                  <a:lnTo>
                    <a:pt x="570" y="1323"/>
                  </a:lnTo>
                  <a:lnTo>
                    <a:pt x="589" y="1318"/>
                  </a:lnTo>
                  <a:lnTo>
                    <a:pt x="609" y="1321"/>
                  </a:lnTo>
                  <a:lnTo>
                    <a:pt x="631" y="1328"/>
                  </a:lnTo>
                  <a:lnTo>
                    <a:pt x="698" y="1295"/>
                  </a:lnTo>
                  <a:lnTo>
                    <a:pt x="730" y="1012"/>
                  </a:lnTo>
                  <a:lnTo>
                    <a:pt x="720" y="1001"/>
                  </a:lnTo>
                  <a:lnTo>
                    <a:pt x="714" y="985"/>
                  </a:lnTo>
                  <a:lnTo>
                    <a:pt x="710" y="970"/>
                  </a:lnTo>
                  <a:lnTo>
                    <a:pt x="702" y="955"/>
                  </a:lnTo>
                  <a:lnTo>
                    <a:pt x="665" y="923"/>
                  </a:lnTo>
                  <a:lnTo>
                    <a:pt x="641" y="904"/>
                  </a:lnTo>
                  <a:lnTo>
                    <a:pt x="621" y="894"/>
                  </a:lnTo>
                  <a:lnTo>
                    <a:pt x="633" y="890"/>
                  </a:lnTo>
                  <a:lnTo>
                    <a:pt x="645" y="884"/>
                  </a:lnTo>
                  <a:lnTo>
                    <a:pt x="662" y="873"/>
                  </a:lnTo>
                  <a:lnTo>
                    <a:pt x="657" y="803"/>
                  </a:lnTo>
                  <a:lnTo>
                    <a:pt x="665" y="762"/>
                  </a:lnTo>
                  <a:lnTo>
                    <a:pt x="662" y="729"/>
                  </a:lnTo>
                  <a:lnTo>
                    <a:pt x="654" y="701"/>
                  </a:lnTo>
                  <a:lnTo>
                    <a:pt x="639" y="677"/>
                  </a:lnTo>
                  <a:lnTo>
                    <a:pt x="597" y="632"/>
                  </a:lnTo>
                  <a:lnTo>
                    <a:pt x="576" y="606"/>
                  </a:lnTo>
                  <a:lnTo>
                    <a:pt x="558" y="575"/>
                  </a:lnTo>
                  <a:lnTo>
                    <a:pt x="544" y="578"/>
                  </a:lnTo>
                  <a:lnTo>
                    <a:pt x="536" y="573"/>
                  </a:lnTo>
                  <a:lnTo>
                    <a:pt x="533" y="560"/>
                  </a:lnTo>
                  <a:lnTo>
                    <a:pt x="531" y="544"/>
                  </a:lnTo>
                  <a:lnTo>
                    <a:pt x="526" y="531"/>
                  </a:lnTo>
                  <a:lnTo>
                    <a:pt x="521" y="523"/>
                  </a:lnTo>
                  <a:lnTo>
                    <a:pt x="517" y="520"/>
                  </a:lnTo>
                  <a:lnTo>
                    <a:pt x="513" y="521"/>
                  </a:lnTo>
                  <a:lnTo>
                    <a:pt x="497" y="529"/>
                  </a:lnTo>
                  <a:lnTo>
                    <a:pt x="479" y="521"/>
                  </a:lnTo>
                  <a:lnTo>
                    <a:pt x="455" y="505"/>
                  </a:lnTo>
                  <a:lnTo>
                    <a:pt x="396" y="460"/>
                  </a:lnTo>
                  <a:lnTo>
                    <a:pt x="339" y="413"/>
                  </a:lnTo>
                  <a:lnTo>
                    <a:pt x="308" y="381"/>
                  </a:lnTo>
                  <a:lnTo>
                    <a:pt x="316" y="387"/>
                  </a:lnTo>
                  <a:lnTo>
                    <a:pt x="347" y="352"/>
                  </a:lnTo>
                  <a:lnTo>
                    <a:pt x="351" y="335"/>
                  </a:lnTo>
                  <a:lnTo>
                    <a:pt x="356" y="306"/>
                  </a:lnTo>
                  <a:lnTo>
                    <a:pt x="359" y="292"/>
                  </a:lnTo>
                  <a:lnTo>
                    <a:pt x="356" y="279"/>
                  </a:lnTo>
                  <a:lnTo>
                    <a:pt x="351" y="269"/>
                  </a:lnTo>
                  <a:lnTo>
                    <a:pt x="341" y="263"/>
                  </a:lnTo>
                  <a:lnTo>
                    <a:pt x="348" y="182"/>
                  </a:lnTo>
                  <a:lnTo>
                    <a:pt x="308" y="105"/>
                  </a:lnTo>
                  <a:lnTo>
                    <a:pt x="308" y="97"/>
                  </a:lnTo>
                  <a:lnTo>
                    <a:pt x="348" y="97"/>
                  </a:lnTo>
                  <a:lnTo>
                    <a:pt x="361" y="99"/>
                  </a:lnTo>
                  <a:lnTo>
                    <a:pt x="371" y="102"/>
                  </a:lnTo>
                  <a:lnTo>
                    <a:pt x="379" y="105"/>
                  </a:lnTo>
                  <a:lnTo>
                    <a:pt x="387" y="99"/>
                  </a:lnTo>
                  <a:lnTo>
                    <a:pt x="531" y="130"/>
                  </a:lnTo>
                  <a:lnTo>
                    <a:pt x="536" y="141"/>
                  </a:lnTo>
                  <a:lnTo>
                    <a:pt x="546" y="152"/>
                  </a:lnTo>
                  <a:lnTo>
                    <a:pt x="581" y="178"/>
                  </a:lnTo>
                  <a:lnTo>
                    <a:pt x="617" y="199"/>
                  </a:lnTo>
                  <a:lnTo>
                    <a:pt x="643" y="209"/>
                  </a:lnTo>
                  <a:lnTo>
                    <a:pt x="638" y="225"/>
                  </a:lnTo>
                  <a:lnTo>
                    <a:pt x="638" y="235"/>
                  </a:lnTo>
                  <a:lnTo>
                    <a:pt x="641" y="243"/>
                  </a:lnTo>
                  <a:lnTo>
                    <a:pt x="651" y="249"/>
                  </a:lnTo>
                  <a:lnTo>
                    <a:pt x="680" y="259"/>
                  </a:lnTo>
                  <a:lnTo>
                    <a:pt x="714" y="269"/>
                  </a:lnTo>
                  <a:lnTo>
                    <a:pt x="728" y="267"/>
                  </a:lnTo>
                  <a:lnTo>
                    <a:pt x="740" y="263"/>
                  </a:lnTo>
                  <a:lnTo>
                    <a:pt x="748" y="255"/>
                  </a:lnTo>
                  <a:lnTo>
                    <a:pt x="753" y="241"/>
                  </a:lnTo>
                  <a:lnTo>
                    <a:pt x="868" y="249"/>
                  </a:lnTo>
                  <a:lnTo>
                    <a:pt x="874" y="172"/>
                  </a:lnTo>
                  <a:lnTo>
                    <a:pt x="882" y="190"/>
                  </a:lnTo>
                  <a:lnTo>
                    <a:pt x="886" y="190"/>
                  </a:lnTo>
                  <a:lnTo>
                    <a:pt x="887" y="186"/>
                  </a:lnTo>
                  <a:lnTo>
                    <a:pt x="892" y="166"/>
                  </a:lnTo>
                  <a:lnTo>
                    <a:pt x="894" y="138"/>
                  </a:lnTo>
                  <a:lnTo>
                    <a:pt x="892" y="87"/>
                  </a:lnTo>
                  <a:lnTo>
                    <a:pt x="890" y="75"/>
                  </a:lnTo>
                  <a:lnTo>
                    <a:pt x="886" y="86"/>
                  </a:lnTo>
                  <a:lnTo>
                    <a:pt x="879" y="86"/>
                  </a:lnTo>
                  <a:lnTo>
                    <a:pt x="876" y="83"/>
                  </a:lnTo>
                  <a:lnTo>
                    <a:pt x="876" y="75"/>
                  </a:lnTo>
                  <a:lnTo>
                    <a:pt x="879" y="62"/>
                  </a:lnTo>
                  <a:lnTo>
                    <a:pt x="890" y="50"/>
                  </a:lnTo>
                  <a:lnTo>
                    <a:pt x="903" y="42"/>
                  </a:lnTo>
                  <a:lnTo>
                    <a:pt x="918" y="42"/>
                  </a:lnTo>
                  <a:lnTo>
                    <a:pt x="923" y="44"/>
                  </a:lnTo>
                  <a:lnTo>
                    <a:pt x="929" y="50"/>
                  </a:lnTo>
                  <a:lnTo>
                    <a:pt x="941" y="73"/>
                  </a:lnTo>
                  <a:lnTo>
                    <a:pt x="950" y="89"/>
                  </a:lnTo>
                  <a:lnTo>
                    <a:pt x="960" y="101"/>
                  </a:lnTo>
                  <a:lnTo>
                    <a:pt x="976" y="112"/>
                  </a:lnTo>
                  <a:lnTo>
                    <a:pt x="999" y="120"/>
                  </a:lnTo>
                  <a:lnTo>
                    <a:pt x="1004" y="101"/>
                  </a:lnTo>
                  <a:lnTo>
                    <a:pt x="1014" y="87"/>
                  </a:lnTo>
                  <a:lnTo>
                    <a:pt x="1026" y="78"/>
                  </a:lnTo>
                  <a:lnTo>
                    <a:pt x="1039" y="70"/>
                  </a:lnTo>
                  <a:lnTo>
                    <a:pt x="1071" y="62"/>
                  </a:lnTo>
                  <a:lnTo>
                    <a:pt x="1085" y="57"/>
                  </a:lnTo>
                  <a:lnTo>
                    <a:pt x="1099" y="50"/>
                  </a:lnTo>
                  <a:lnTo>
                    <a:pt x="1093" y="60"/>
                  </a:lnTo>
                  <a:lnTo>
                    <a:pt x="1095" y="71"/>
                  </a:lnTo>
                  <a:lnTo>
                    <a:pt x="1101" y="81"/>
                  </a:lnTo>
                  <a:lnTo>
                    <a:pt x="1109" y="93"/>
                  </a:lnTo>
                  <a:lnTo>
                    <a:pt x="1128" y="112"/>
                  </a:lnTo>
                  <a:lnTo>
                    <a:pt x="1144" y="125"/>
                  </a:lnTo>
                  <a:lnTo>
                    <a:pt x="1269" y="71"/>
                  </a:lnTo>
                  <a:lnTo>
                    <a:pt x="1284" y="36"/>
                  </a:lnTo>
                  <a:lnTo>
                    <a:pt x="1290" y="30"/>
                  </a:lnTo>
                  <a:lnTo>
                    <a:pt x="1300" y="30"/>
                  </a:lnTo>
                  <a:lnTo>
                    <a:pt x="1326" y="42"/>
                  </a:lnTo>
                  <a:lnTo>
                    <a:pt x="1376" y="63"/>
                  </a:lnTo>
                  <a:lnTo>
                    <a:pt x="1387" y="86"/>
                  </a:lnTo>
                  <a:lnTo>
                    <a:pt x="1407" y="117"/>
                  </a:lnTo>
                  <a:lnTo>
                    <a:pt x="1411" y="93"/>
                  </a:lnTo>
                  <a:lnTo>
                    <a:pt x="1415" y="119"/>
                  </a:lnTo>
                  <a:lnTo>
                    <a:pt x="1413" y="120"/>
                  </a:lnTo>
                  <a:lnTo>
                    <a:pt x="1407" y="117"/>
                  </a:lnTo>
                  <a:lnTo>
                    <a:pt x="1403" y="125"/>
                  </a:lnTo>
                  <a:lnTo>
                    <a:pt x="1399" y="133"/>
                  </a:lnTo>
                  <a:lnTo>
                    <a:pt x="1385" y="136"/>
                  </a:lnTo>
                  <a:lnTo>
                    <a:pt x="1368" y="141"/>
                  </a:lnTo>
                  <a:lnTo>
                    <a:pt x="1352" y="144"/>
                  </a:lnTo>
                  <a:close/>
                </a:path>
              </a:pathLst>
            </a:custGeom>
            <a:blipFill rotWithShape="0">
              <a:blip r:embed="rId85"/>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507960" y="1168920"/>
              <a:ext cx="644760" cy="101160"/>
            </a:xfrm>
            <a:custGeom>
              <a:avLst/>
              <a:gdLst/>
              <a:ahLst/>
              <a:rect l="l" t="t" r="r" b="b"/>
              <a:pathLst>
                <a:path w="5036" h="866">
                  <a:moveTo>
                    <a:pt x="772" y="866"/>
                  </a:moveTo>
                  <a:lnTo>
                    <a:pt x="636" y="785"/>
                  </a:lnTo>
                  <a:lnTo>
                    <a:pt x="513" y="702"/>
                  </a:lnTo>
                  <a:lnTo>
                    <a:pt x="406" y="623"/>
                  </a:lnTo>
                  <a:lnTo>
                    <a:pt x="314" y="547"/>
                  </a:lnTo>
                  <a:lnTo>
                    <a:pt x="234" y="477"/>
                  </a:lnTo>
                  <a:lnTo>
                    <a:pt x="171" y="414"/>
                  </a:lnTo>
                  <a:lnTo>
                    <a:pt x="122" y="361"/>
                  </a:lnTo>
                  <a:lnTo>
                    <a:pt x="90" y="319"/>
                  </a:lnTo>
                  <a:lnTo>
                    <a:pt x="45" y="259"/>
                  </a:lnTo>
                  <a:lnTo>
                    <a:pt x="24" y="225"/>
                  </a:lnTo>
                  <a:lnTo>
                    <a:pt x="8" y="189"/>
                  </a:lnTo>
                  <a:lnTo>
                    <a:pt x="1" y="170"/>
                  </a:lnTo>
                  <a:lnTo>
                    <a:pt x="0" y="152"/>
                  </a:lnTo>
                  <a:lnTo>
                    <a:pt x="0" y="134"/>
                  </a:lnTo>
                  <a:lnTo>
                    <a:pt x="1" y="115"/>
                  </a:lnTo>
                  <a:lnTo>
                    <a:pt x="9" y="97"/>
                  </a:lnTo>
                  <a:lnTo>
                    <a:pt x="19" y="76"/>
                  </a:lnTo>
                  <a:lnTo>
                    <a:pt x="33" y="58"/>
                  </a:lnTo>
                  <a:lnTo>
                    <a:pt x="53" y="39"/>
                  </a:lnTo>
                  <a:lnTo>
                    <a:pt x="87" y="13"/>
                  </a:lnTo>
                  <a:lnTo>
                    <a:pt x="108" y="2"/>
                  </a:lnTo>
                  <a:lnTo>
                    <a:pt x="124" y="0"/>
                  </a:lnTo>
                  <a:lnTo>
                    <a:pt x="134" y="3"/>
                  </a:lnTo>
                  <a:lnTo>
                    <a:pt x="144" y="13"/>
                  </a:lnTo>
                  <a:lnTo>
                    <a:pt x="155" y="26"/>
                  </a:lnTo>
                  <a:lnTo>
                    <a:pt x="171" y="34"/>
                  </a:lnTo>
                  <a:lnTo>
                    <a:pt x="199" y="37"/>
                  </a:lnTo>
                  <a:lnTo>
                    <a:pt x="5036" y="37"/>
                  </a:lnTo>
                  <a:lnTo>
                    <a:pt x="4989" y="84"/>
                  </a:lnTo>
                  <a:lnTo>
                    <a:pt x="4944" y="134"/>
                  </a:lnTo>
                  <a:lnTo>
                    <a:pt x="199" y="134"/>
                  </a:lnTo>
                  <a:lnTo>
                    <a:pt x="178" y="132"/>
                  </a:lnTo>
                  <a:lnTo>
                    <a:pt x="153" y="134"/>
                  </a:lnTo>
                  <a:lnTo>
                    <a:pt x="145" y="136"/>
                  </a:lnTo>
                  <a:lnTo>
                    <a:pt x="137" y="139"/>
                  </a:lnTo>
                  <a:lnTo>
                    <a:pt x="134" y="147"/>
                  </a:lnTo>
                  <a:lnTo>
                    <a:pt x="134" y="160"/>
                  </a:lnTo>
                  <a:lnTo>
                    <a:pt x="140" y="175"/>
                  </a:lnTo>
                  <a:lnTo>
                    <a:pt x="148" y="189"/>
                  </a:lnTo>
                  <a:lnTo>
                    <a:pt x="160" y="201"/>
                  </a:lnTo>
                  <a:lnTo>
                    <a:pt x="176" y="211"/>
                  </a:lnTo>
                  <a:lnTo>
                    <a:pt x="191" y="219"/>
                  </a:lnTo>
                  <a:lnTo>
                    <a:pt x="211" y="225"/>
                  </a:lnTo>
                  <a:lnTo>
                    <a:pt x="233" y="228"/>
                  </a:lnTo>
                  <a:lnTo>
                    <a:pt x="257" y="228"/>
                  </a:lnTo>
                  <a:lnTo>
                    <a:pt x="4867" y="228"/>
                  </a:lnTo>
                  <a:lnTo>
                    <a:pt x="4815" y="301"/>
                  </a:lnTo>
                  <a:lnTo>
                    <a:pt x="4772" y="377"/>
                  </a:lnTo>
                  <a:lnTo>
                    <a:pt x="4732" y="453"/>
                  </a:lnTo>
                  <a:lnTo>
                    <a:pt x="4700" y="532"/>
                  </a:lnTo>
                  <a:lnTo>
                    <a:pt x="4669" y="613"/>
                  </a:lnTo>
                  <a:lnTo>
                    <a:pt x="4646" y="696"/>
                  </a:lnTo>
                  <a:lnTo>
                    <a:pt x="4628" y="782"/>
                  </a:lnTo>
                  <a:lnTo>
                    <a:pt x="4614" y="866"/>
                  </a:lnTo>
                  <a:lnTo>
                    <a:pt x="772" y="866"/>
                  </a:lnTo>
                  <a:close/>
                </a:path>
              </a:pathLst>
            </a:custGeom>
            <a:blipFill rotWithShape="0">
              <a:blip r:embed="rId86"/>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631800" y="1277640"/>
              <a:ext cx="929880" cy="375120"/>
            </a:xfrm>
            <a:custGeom>
              <a:avLst/>
              <a:gdLst/>
              <a:ahLst/>
              <a:rect l="l" t="t" r="r" b="b"/>
              <a:pathLst>
                <a:path w="7254" h="3231">
                  <a:moveTo>
                    <a:pt x="201" y="134"/>
                  </a:moveTo>
                  <a:lnTo>
                    <a:pt x="180" y="134"/>
                  </a:lnTo>
                  <a:lnTo>
                    <a:pt x="157" y="134"/>
                  </a:lnTo>
                  <a:lnTo>
                    <a:pt x="147" y="136"/>
                  </a:lnTo>
                  <a:lnTo>
                    <a:pt x="141" y="142"/>
                  </a:lnTo>
                  <a:lnTo>
                    <a:pt x="138" y="150"/>
                  </a:lnTo>
                  <a:lnTo>
                    <a:pt x="138" y="160"/>
                  </a:lnTo>
                  <a:lnTo>
                    <a:pt x="143" y="176"/>
                  </a:lnTo>
                  <a:lnTo>
                    <a:pt x="151" y="189"/>
                  </a:lnTo>
                  <a:lnTo>
                    <a:pt x="162" y="202"/>
                  </a:lnTo>
                  <a:lnTo>
                    <a:pt x="177" y="212"/>
                  </a:lnTo>
                  <a:lnTo>
                    <a:pt x="194" y="220"/>
                  </a:lnTo>
                  <a:lnTo>
                    <a:pt x="214" y="225"/>
                  </a:lnTo>
                  <a:lnTo>
                    <a:pt x="235" y="229"/>
                  </a:lnTo>
                  <a:lnTo>
                    <a:pt x="259" y="231"/>
                  </a:lnTo>
                  <a:lnTo>
                    <a:pt x="3631" y="231"/>
                  </a:lnTo>
                  <a:lnTo>
                    <a:pt x="3636" y="307"/>
                  </a:lnTo>
                  <a:lnTo>
                    <a:pt x="3647" y="385"/>
                  </a:lnTo>
                  <a:lnTo>
                    <a:pt x="3658" y="464"/>
                  </a:lnTo>
                  <a:lnTo>
                    <a:pt x="3674" y="543"/>
                  </a:lnTo>
                  <a:lnTo>
                    <a:pt x="3692" y="621"/>
                  </a:lnTo>
                  <a:lnTo>
                    <a:pt x="3713" y="701"/>
                  </a:lnTo>
                  <a:lnTo>
                    <a:pt x="3739" y="780"/>
                  </a:lnTo>
                  <a:lnTo>
                    <a:pt x="3767" y="859"/>
                  </a:lnTo>
                  <a:lnTo>
                    <a:pt x="3768" y="866"/>
                  </a:lnTo>
                  <a:lnTo>
                    <a:pt x="3823" y="1010"/>
                  </a:lnTo>
                  <a:lnTo>
                    <a:pt x="3887" y="1144"/>
                  </a:lnTo>
                  <a:lnTo>
                    <a:pt x="3953" y="1269"/>
                  </a:lnTo>
                  <a:lnTo>
                    <a:pt x="4023" y="1382"/>
                  </a:lnTo>
                  <a:lnTo>
                    <a:pt x="4089" y="1481"/>
                  </a:lnTo>
                  <a:lnTo>
                    <a:pt x="4160" y="1575"/>
                  </a:lnTo>
                  <a:lnTo>
                    <a:pt x="4231" y="1667"/>
                  </a:lnTo>
                  <a:lnTo>
                    <a:pt x="4306" y="1758"/>
                  </a:lnTo>
                  <a:lnTo>
                    <a:pt x="4382" y="1847"/>
                  </a:lnTo>
                  <a:lnTo>
                    <a:pt x="4463" y="1932"/>
                  </a:lnTo>
                  <a:lnTo>
                    <a:pt x="4547" y="2015"/>
                  </a:lnTo>
                  <a:lnTo>
                    <a:pt x="4631" y="2096"/>
                  </a:lnTo>
                  <a:lnTo>
                    <a:pt x="4718" y="2175"/>
                  </a:lnTo>
                  <a:lnTo>
                    <a:pt x="4807" y="2250"/>
                  </a:lnTo>
                  <a:lnTo>
                    <a:pt x="4900" y="2323"/>
                  </a:lnTo>
                  <a:lnTo>
                    <a:pt x="4994" y="2394"/>
                  </a:lnTo>
                  <a:lnTo>
                    <a:pt x="5089" y="2460"/>
                  </a:lnTo>
                  <a:lnTo>
                    <a:pt x="5188" y="2526"/>
                  </a:lnTo>
                  <a:lnTo>
                    <a:pt x="5288" y="2587"/>
                  </a:lnTo>
                  <a:lnTo>
                    <a:pt x="5390" y="2645"/>
                  </a:lnTo>
                  <a:lnTo>
                    <a:pt x="5495" y="2701"/>
                  </a:lnTo>
                  <a:lnTo>
                    <a:pt x="5602" y="2753"/>
                  </a:lnTo>
                  <a:lnTo>
                    <a:pt x="5711" y="2802"/>
                  </a:lnTo>
                  <a:lnTo>
                    <a:pt x="5819" y="2847"/>
                  </a:lnTo>
                  <a:lnTo>
                    <a:pt x="5932" y="2891"/>
                  </a:lnTo>
                  <a:lnTo>
                    <a:pt x="6044" y="2928"/>
                  </a:lnTo>
                  <a:lnTo>
                    <a:pt x="6159" y="2964"/>
                  </a:lnTo>
                  <a:lnTo>
                    <a:pt x="6275" y="2998"/>
                  </a:lnTo>
                  <a:lnTo>
                    <a:pt x="6394" y="3025"/>
                  </a:lnTo>
                  <a:lnTo>
                    <a:pt x="6512" y="3051"/>
                  </a:lnTo>
                  <a:lnTo>
                    <a:pt x="6635" y="3072"/>
                  </a:lnTo>
                  <a:lnTo>
                    <a:pt x="6755" y="3090"/>
                  </a:lnTo>
                  <a:lnTo>
                    <a:pt x="6879" y="3104"/>
                  </a:lnTo>
                  <a:lnTo>
                    <a:pt x="7004" y="3114"/>
                  </a:lnTo>
                  <a:lnTo>
                    <a:pt x="7128" y="3119"/>
                  </a:lnTo>
                  <a:lnTo>
                    <a:pt x="7254" y="3122"/>
                  </a:lnTo>
                  <a:lnTo>
                    <a:pt x="7254" y="3231"/>
                  </a:lnTo>
                  <a:lnTo>
                    <a:pt x="7124" y="3229"/>
                  </a:lnTo>
                  <a:lnTo>
                    <a:pt x="6996" y="3223"/>
                  </a:lnTo>
                  <a:lnTo>
                    <a:pt x="6868" y="3213"/>
                  </a:lnTo>
                  <a:lnTo>
                    <a:pt x="6741" y="3198"/>
                  </a:lnTo>
                  <a:lnTo>
                    <a:pt x="6617" y="3181"/>
                  </a:lnTo>
                  <a:lnTo>
                    <a:pt x="6492" y="3158"/>
                  </a:lnTo>
                  <a:lnTo>
                    <a:pt x="6369" y="3132"/>
                  </a:lnTo>
                  <a:lnTo>
                    <a:pt x="6248" y="3104"/>
                  </a:lnTo>
                  <a:lnTo>
                    <a:pt x="6128" y="3070"/>
                  </a:lnTo>
                  <a:lnTo>
                    <a:pt x="6010" y="3033"/>
                  </a:lnTo>
                  <a:lnTo>
                    <a:pt x="5894" y="2993"/>
                  </a:lnTo>
                  <a:lnTo>
                    <a:pt x="5780" y="2950"/>
                  </a:lnTo>
                  <a:lnTo>
                    <a:pt x="5665" y="2902"/>
                  </a:lnTo>
                  <a:lnTo>
                    <a:pt x="5555" y="2852"/>
                  </a:lnTo>
                  <a:lnTo>
                    <a:pt x="5446" y="2798"/>
                  </a:lnTo>
                  <a:lnTo>
                    <a:pt x="5338" y="2740"/>
                  </a:lnTo>
                  <a:lnTo>
                    <a:pt x="5233" y="2682"/>
                  </a:lnTo>
                  <a:lnTo>
                    <a:pt x="5131" y="2619"/>
                  </a:lnTo>
                  <a:lnTo>
                    <a:pt x="5028" y="2551"/>
                  </a:lnTo>
                  <a:lnTo>
                    <a:pt x="4929" y="2483"/>
                  </a:lnTo>
                  <a:lnTo>
                    <a:pt x="4832" y="2410"/>
                  </a:lnTo>
                  <a:lnTo>
                    <a:pt x="4738" y="2334"/>
                  </a:lnTo>
                  <a:lnTo>
                    <a:pt x="4645" y="2258"/>
                  </a:lnTo>
                  <a:lnTo>
                    <a:pt x="4556" y="2177"/>
                  </a:lnTo>
                  <a:lnTo>
                    <a:pt x="4469" y="2094"/>
                  </a:lnTo>
                  <a:lnTo>
                    <a:pt x="4385" y="2009"/>
                  </a:lnTo>
                  <a:lnTo>
                    <a:pt x="4301" y="1920"/>
                  </a:lnTo>
                  <a:lnTo>
                    <a:pt x="4223" y="1829"/>
                  </a:lnTo>
                  <a:lnTo>
                    <a:pt x="4145" y="1737"/>
                  </a:lnTo>
                  <a:lnTo>
                    <a:pt x="4071" y="1640"/>
                  </a:lnTo>
                  <a:lnTo>
                    <a:pt x="4000" y="1544"/>
                  </a:lnTo>
                  <a:lnTo>
                    <a:pt x="3930" y="1442"/>
                  </a:lnTo>
                  <a:lnTo>
                    <a:pt x="3891" y="1382"/>
                  </a:lnTo>
                  <a:lnTo>
                    <a:pt x="3854" y="1316"/>
                  </a:lnTo>
                  <a:lnTo>
                    <a:pt x="3815" y="1249"/>
                  </a:lnTo>
                  <a:lnTo>
                    <a:pt x="3780" y="1178"/>
                  </a:lnTo>
                  <a:lnTo>
                    <a:pt x="3744" y="1103"/>
                  </a:lnTo>
                  <a:lnTo>
                    <a:pt x="3713" y="1028"/>
                  </a:lnTo>
                  <a:lnTo>
                    <a:pt x="3681" y="950"/>
                  </a:lnTo>
                  <a:lnTo>
                    <a:pt x="3652" y="866"/>
                  </a:lnTo>
                  <a:lnTo>
                    <a:pt x="774" y="866"/>
                  </a:lnTo>
                  <a:lnTo>
                    <a:pt x="638" y="785"/>
                  </a:lnTo>
                  <a:lnTo>
                    <a:pt x="516" y="704"/>
                  </a:lnTo>
                  <a:lnTo>
                    <a:pt x="410" y="623"/>
                  </a:lnTo>
                  <a:lnTo>
                    <a:pt x="314" y="549"/>
                  </a:lnTo>
                  <a:lnTo>
                    <a:pt x="235" y="477"/>
                  </a:lnTo>
                  <a:lnTo>
                    <a:pt x="172" y="414"/>
                  </a:lnTo>
                  <a:lnTo>
                    <a:pt x="125" y="361"/>
                  </a:lnTo>
                  <a:lnTo>
                    <a:pt x="91" y="322"/>
                  </a:lnTo>
                  <a:lnTo>
                    <a:pt x="46" y="259"/>
                  </a:lnTo>
                  <a:lnTo>
                    <a:pt x="26" y="225"/>
                  </a:lnTo>
                  <a:lnTo>
                    <a:pt x="10" y="189"/>
                  </a:lnTo>
                  <a:lnTo>
                    <a:pt x="5" y="171"/>
                  </a:lnTo>
                  <a:lnTo>
                    <a:pt x="0" y="152"/>
                  </a:lnTo>
                  <a:lnTo>
                    <a:pt x="0" y="134"/>
                  </a:lnTo>
                  <a:lnTo>
                    <a:pt x="5" y="116"/>
                  </a:lnTo>
                  <a:lnTo>
                    <a:pt x="10" y="97"/>
                  </a:lnTo>
                  <a:lnTo>
                    <a:pt x="23" y="79"/>
                  </a:lnTo>
                  <a:lnTo>
                    <a:pt x="36" y="59"/>
                  </a:lnTo>
                  <a:lnTo>
                    <a:pt x="56" y="42"/>
                  </a:lnTo>
                  <a:lnTo>
                    <a:pt x="89" y="14"/>
                  </a:lnTo>
                  <a:lnTo>
                    <a:pt x="112" y="3"/>
                  </a:lnTo>
                  <a:lnTo>
                    <a:pt x="125" y="0"/>
                  </a:lnTo>
                  <a:lnTo>
                    <a:pt x="138" y="6"/>
                  </a:lnTo>
                  <a:lnTo>
                    <a:pt x="145" y="16"/>
                  </a:lnTo>
                  <a:lnTo>
                    <a:pt x="157" y="26"/>
                  </a:lnTo>
                  <a:lnTo>
                    <a:pt x="175" y="35"/>
                  </a:lnTo>
                  <a:lnTo>
                    <a:pt x="202" y="37"/>
                  </a:lnTo>
                  <a:lnTo>
                    <a:pt x="3632" y="37"/>
                  </a:lnTo>
                  <a:lnTo>
                    <a:pt x="3629" y="134"/>
                  </a:lnTo>
                  <a:lnTo>
                    <a:pt x="201" y="134"/>
                  </a:lnTo>
                  <a:close/>
                </a:path>
              </a:pathLst>
            </a:custGeom>
            <a:blipFill rotWithShape="0">
              <a:blip r:embed="rId87"/>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1562040" y="723240"/>
              <a:ext cx="1181160" cy="900360"/>
            </a:xfrm>
            <a:custGeom>
              <a:avLst/>
              <a:gdLst/>
              <a:ahLst/>
              <a:rect l="l" t="t" r="r" b="b"/>
              <a:pathLst>
                <a:path w="9213" h="7761">
                  <a:moveTo>
                    <a:pt x="0" y="7664"/>
                  </a:moveTo>
                  <a:lnTo>
                    <a:pt x="0" y="7761"/>
                  </a:lnTo>
                  <a:lnTo>
                    <a:pt x="120" y="7759"/>
                  </a:lnTo>
                  <a:lnTo>
                    <a:pt x="241" y="7753"/>
                  </a:lnTo>
                  <a:lnTo>
                    <a:pt x="361" y="7743"/>
                  </a:lnTo>
                  <a:lnTo>
                    <a:pt x="479" y="7729"/>
                  </a:lnTo>
                  <a:lnTo>
                    <a:pt x="598" y="7714"/>
                  </a:lnTo>
                  <a:lnTo>
                    <a:pt x="714" y="7691"/>
                  </a:lnTo>
                  <a:lnTo>
                    <a:pt x="829" y="7667"/>
                  </a:lnTo>
                  <a:lnTo>
                    <a:pt x="944" y="7640"/>
                  </a:lnTo>
                  <a:lnTo>
                    <a:pt x="1056" y="7609"/>
                  </a:lnTo>
                  <a:lnTo>
                    <a:pt x="1167" y="7575"/>
                  </a:lnTo>
                  <a:lnTo>
                    <a:pt x="1277" y="7536"/>
                  </a:lnTo>
                  <a:lnTo>
                    <a:pt x="1384" y="7497"/>
                  </a:lnTo>
                  <a:lnTo>
                    <a:pt x="1491" y="7450"/>
                  </a:lnTo>
                  <a:lnTo>
                    <a:pt x="1595" y="7403"/>
                  </a:lnTo>
                  <a:lnTo>
                    <a:pt x="1698" y="7353"/>
                  </a:lnTo>
                  <a:lnTo>
                    <a:pt x="1800" y="7299"/>
                  </a:lnTo>
                  <a:lnTo>
                    <a:pt x="1899" y="7241"/>
                  </a:lnTo>
                  <a:lnTo>
                    <a:pt x="1996" y="7183"/>
                  </a:lnTo>
                  <a:lnTo>
                    <a:pt x="2090" y="7121"/>
                  </a:lnTo>
                  <a:lnTo>
                    <a:pt x="2185" y="7057"/>
                  </a:lnTo>
                  <a:lnTo>
                    <a:pt x="2276" y="6987"/>
                  </a:lnTo>
                  <a:lnTo>
                    <a:pt x="2365" y="6918"/>
                  </a:lnTo>
                  <a:lnTo>
                    <a:pt x="2451" y="6843"/>
                  </a:lnTo>
                  <a:lnTo>
                    <a:pt x="2536" y="6768"/>
                  </a:lnTo>
                  <a:lnTo>
                    <a:pt x="2617" y="6689"/>
                  </a:lnTo>
                  <a:lnTo>
                    <a:pt x="2698" y="6610"/>
                  </a:lnTo>
                  <a:lnTo>
                    <a:pt x="2775" y="6527"/>
                  </a:lnTo>
                  <a:lnTo>
                    <a:pt x="2850" y="6440"/>
                  </a:lnTo>
                  <a:lnTo>
                    <a:pt x="2920" y="6354"/>
                  </a:lnTo>
                  <a:lnTo>
                    <a:pt x="2992" y="6263"/>
                  </a:lnTo>
                  <a:lnTo>
                    <a:pt x="3059" y="6173"/>
                  </a:lnTo>
                  <a:lnTo>
                    <a:pt x="3122" y="6077"/>
                  </a:lnTo>
                  <a:lnTo>
                    <a:pt x="3161" y="6019"/>
                  </a:lnTo>
                  <a:lnTo>
                    <a:pt x="3200" y="5953"/>
                  </a:lnTo>
                  <a:lnTo>
                    <a:pt x="3234" y="5886"/>
                  </a:lnTo>
                  <a:lnTo>
                    <a:pt x="3270" y="5815"/>
                  </a:lnTo>
                  <a:lnTo>
                    <a:pt x="3304" y="5742"/>
                  </a:lnTo>
                  <a:lnTo>
                    <a:pt x="3336" y="5665"/>
                  </a:lnTo>
                  <a:lnTo>
                    <a:pt x="3363" y="5587"/>
                  </a:lnTo>
                  <a:lnTo>
                    <a:pt x="3391" y="5506"/>
                  </a:lnTo>
                  <a:lnTo>
                    <a:pt x="3414" y="5422"/>
                  </a:lnTo>
                  <a:lnTo>
                    <a:pt x="3435" y="5338"/>
                  </a:lnTo>
                  <a:lnTo>
                    <a:pt x="3452" y="5253"/>
                  </a:lnTo>
                  <a:lnTo>
                    <a:pt x="3466" y="5166"/>
                  </a:lnTo>
                  <a:lnTo>
                    <a:pt x="3474" y="5079"/>
                  </a:lnTo>
                  <a:lnTo>
                    <a:pt x="3480" y="4990"/>
                  </a:lnTo>
                  <a:lnTo>
                    <a:pt x="3482" y="4902"/>
                  </a:lnTo>
                  <a:lnTo>
                    <a:pt x="3477" y="4815"/>
                  </a:lnTo>
                  <a:lnTo>
                    <a:pt x="3467" y="4726"/>
                  </a:lnTo>
                  <a:lnTo>
                    <a:pt x="3454" y="4639"/>
                  </a:lnTo>
                  <a:lnTo>
                    <a:pt x="3435" y="4554"/>
                  </a:lnTo>
                  <a:lnTo>
                    <a:pt x="3409" y="4470"/>
                  </a:lnTo>
                  <a:lnTo>
                    <a:pt x="3375" y="4384"/>
                  </a:lnTo>
                  <a:lnTo>
                    <a:pt x="3338" y="4303"/>
                  </a:lnTo>
                  <a:lnTo>
                    <a:pt x="3292" y="4222"/>
                  </a:lnTo>
                  <a:lnTo>
                    <a:pt x="3239" y="4146"/>
                  </a:lnTo>
                  <a:lnTo>
                    <a:pt x="3179" y="4070"/>
                  </a:lnTo>
                  <a:lnTo>
                    <a:pt x="3113" y="3999"/>
                  </a:lnTo>
                  <a:lnTo>
                    <a:pt x="3037" y="3931"/>
                  </a:lnTo>
                  <a:lnTo>
                    <a:pt x="2954" y="3866"/>
                  </a:lnTo>
                  <a:lnTo>
                    <a:pt x="2864" y="3803"/>
                  </a:lnTo>
                  <a:lnTo>
                    <a:pt x="2763" y="3745"/>
                  </a:lnTo>
                  <a:lnTo>
                    <a:pt x="2653" y="3692"/>
                  </a:lnTo>
                  <a:lnTo>
                    <a:pt x="2535" y="3643"/>
                  </a:lnTo>
                  <a:lnTo>
                    <a:pt x="2664" y="3434"/>
                  </a:lnTo>
                  <a:lnTo>
                    <a:pt x="2775" y="3258"/>
                  </a:lnTo>
                  <a:lnTo>
                    <a:pt x="2913" y="3045"/>
                  </a:lnTo>
                  <a:lnTo>
                    <a:pt x="9014" y="3045"/>
                  </a:lnTo>
                  <a:lnTo>
                    <a:pt x="9035" y="3042"/>
                  </a:lnTo>
                  <a:lnTo>
                    <a:pt x="9057" y="3045"/>
                  </a:lnTo>
                  <a:lnTo>
                    <a:pt x="9067" y="3047"/>
                  </a:lnTo>
                  <a:lnTo>
                    <a:pt x="9075" y="3050"/>
                  </a:lnTo>
                  <a:lnTo>
                    <a:pt x="9079" y="3058"/>
                  </a:lnTo>
                  <a:lnTo>
                    <a:pt x="9079" y="3070"/>
                  </a:lnTo>
                  <a:lnTo>
                    <a:pt x="9072" y="3086"/>
                  </a:lnTo>
                  <a:lnTo>
                    <a:pt x="9063" y="3100"/>
                  </a:lnTo>
                  <a:lnTo>
                    <a:pt x="9053" y="3112"/>
                  </a:lnTo>
                  <a:lnTo>
                    <a:pt x="9037" y="3122"/>
                  </a:lnTo>
                  <a:lnTo>
                    <a:pt x="9022" y="3130"/>
                  </a:lnTo>
                  <a:lnTo>
                    <a:pt x="9001" y="3136"/>
                  </a:lnTo>
                  <a:lnTo>
                    <a:pt x="8980" y="3139"/>
                  </a:lnTo>
                  <a:lnTo>
                    <a:pt x="8956" y="3139"/>
                  </a:lnTo>
                  <a:lnTo>
                    <a:pt x="2967" y="3139"/>
                  </a:lnTo>
                  <a:lnTo>
                    <a:pt x="2698" y="3562"/>
                  </a:lnTo>
                  <a:lnTo>
                    <a:pt x="2799" y="3611"/>
                  </a:lnTo>
                  <a:lnTo>
                    <a:pt x="2893" y="3662"/>
                  </a:lnTo>
                  <a:lnTo>
                    <a:pt x="2985" y="3717"/>
                  </a:lnTo>
                  <a:lnTo>
                    <a:pt x="3067" y="3777"/>
                  </a:lnTo>
                  <a:lnTo>
                    <a:pt x="8441" y="3777"/>
                  </a:lnTo>
                  <a:lnTo>
                    <a:pt x="8577" y="3696"/>
                  </a:lnTo>
                  <a:lnTo>
                    <a:pt x="8700" y="3613"/>
                  </a:lnTo>
                  <a:lnTo>
                    <a:pt x="8807" y="3534"/>
                  </a:lnTo>
                  <a:lnTo>
                    <a:pt x="8899" y="3457"/>
                  </a:lnTo>
                  <a:lnTo>
                    <a:pt x="8978" y="3386"/>
                  </a:lnTo>
                  <a:lnTo>
                    <a:pt x="9041" y="3325"/>
                  </a:lnTo>
                  <a:lnTo>
                    <a:pt x="9090" y="3272"/>
                  </a:lnTo>
                  <a:lnTo>
                    <a:pt x="9122" y="3230"/>
                  </a:lnTo>
                  <a:lnTo>
                    <a:pt x="9168" y="3169"/>
                  </a:lnTo>
                  <a:lnTo>
                    <a:pt x="9189" y="3133"/>
                  </a:lnTo>
                  <a:lnTo>
                    <a:pt x="9205" y="3097"/>
                  </a:lnTo>
                  <a:lnTo>
                    <a:pt x="9213" y="3063"/>
                  </a:lnTo>
                  <a:lnTo>
                    <a:pt x="9213" y="3045"/>
                  </a:lnTo>
                  <a:lnTo>
                    <a:pt x="9211" y="3025"/>
                  </a:lnTo>
                  <a:lnTo>
                    <a:pt x="9203" y="3007"/>
                  </a:lnTo>
                  <a:lnTo>
                    <a:pt x="9193" y="2987"/>
                  </a:lnTo>
                  <a:lnTo>
                    <a:pt x="9179" y="2969"/>
                  </a:lnTo>
                  <a:lnTo>
                    <a:pt x="9160" y="2950"/>
                  </a:lnTo>
                  <a:lnTo>
                    <a:pt x="9126" y="2924"/>
                  </a:lnTo>
                  <a:lnTo>
                    <a:pt x="9105" y="2911"/>
                  </a:lnTo>
                  <a:lnTo>
                    <a:pt x="9088" y="2908"/>
                  </a:lnTo>
                  <a:lnTo>
                    <a:pt x="9079" y="2914"/>
                  </a:lnTo>
                  <a:lnTo>
                    <a:pt x="9069" y="2924"/>
                  </a:lnTo>
                  <a:lnTo>
                    <a:pt x="9057" y="2937"/>
                  </a:lnTo>
                  <a:lnTo>
                    <a:pt x="9041" y="2944"/>
                  </a:lnTo>
                  <a:lnTo>
                    <a:pt x="9014" y="2948"/>
                  </a:lnTo>
                  <a:lnTo>
                    <a:pt x="3852" y="2948"/>
                  </a:lnTo>
                  <a:lnTo>
                    <a:pt x="3807" y="2790"/>
                  </a:lnTo>
                  <a:lnTo>
                    <a:pt x="3754" y="2636"/>
                  </a:lnTo>
                  <a:lnTo>
                    <a:pt x="3697" y="2484"/>
                  </a:lnTo>
                  <a:lnTo>
                    <a:pt x="3632" y="2336"/>
                  </a:lnTo>
                  <a:lnTo>
                    <a:pt x="3561" y="2191"/>
                  </a:lnTo>
                  <a:lnTo>
                    <a:pt x="3485" y="2048"/>
                  </a:lnTo>
                  <a:lnTo>
                    <a:pt x="3404" y="1908"/>
                  </a:lnTo>
                  <a:lnTo>
                    <a:pt x="3318" y="1773"/>
                  </a:lnTo>
                  <a:lnTo>
                    <a:pt x="3225" y="1642"/>
                  </a:lnTo>
                  <a:lnTo>
                    <a:pt x="3129" y="1514"/>
                  </a:lnTo>
                  <a:lnTo>
                    <a:pt x="3025" y="1391"/>
                  </a:lnTo>
                  <a:lnTo>
                    <a:pt x="2919" y="1271"/>
                  </a:lnTo>
                  <a:lnTo>
                    <a:pt x="2808" y="1156"/>
                  </a:lnTo>
                  <a:lnTo>
                    <a:pt x="2692" y="1046"/>
                  </a:lnTo>
                  <a:lnTo>
                    <a:pt x="2572" y="939"/>
                  </a:lnTo>
                  <a:lnTo>
                    <a:pt x="2447" y="839"/>
                  </a:lnTo>
                  <a:lnTo>
                    <a:pt x="2319" y="742"/>
                  </a:lnTo>
                  <a:lnTo>
                    <a:pt x="2185" y="651"/>
                  </a:lnTo>
                  <a:lnTo>
                    <a:pt x="2049" y="567"/>
                  </a:lnTo>
                  <a:lnTo>
                    <a:pt x="1908" y="486"/>
                  </a:lnTo>
                  <a:lnTo>
                    <a:pt x="1766" y="410"/>
                  </a:lnTo>
                  <a:lnTo>
                    <a:pt x="1619" y="342"/>
                  </a:lnTo>
                  <a:lnTo>
                    <a:pt x="1468" y="279"/>
                  </a:lnTo>
                  <a:lnTo>
                    <a:pt x="1316" y="221"/>
                  </a:lnTo>
                  <a:lnTo>
                    <a:pt x="1161" y="169"/>
                  </a:lnTo>
                  <a:lnTo>
                    <a:pt x="1001" y="127"/>
                  </a:lnTo>
                  <a:lnTo>
                    <a:pt x="840" y="86"/>
                  </a:lnTo>
                  <a:lnTo>
                    <a:pt x="677" y="55"/>
                  </a:lnTo>
                  <a:lnTo>
                    <a:pt x="509" y="31"/>
                  </a:lnTo>
                  <a:lnTo>
                    <a:pt x="342" y="14"/>
                  </a:lnTo>
                  <a:lnTo>
                    <a:pt x="172" y="2"/>
                  </a:lnTo>
                  <a:lnTo>
                    <a:pt x="0" y="0"/>
                  </a:lnTo>
                  <a:lnTo>
                    <a:pt x="0" y="111"/>
                  </a:lnTo>
                  <a:lnTo>
                    <a:pt x="165" y="112"/>
                  </a:lnTo>
                  <a:lnTo>
                    <a:pt x="329" y="122"/>
                  </a:lnTo>
                  <a:lnTo>
                    <a:pt x="494" y="140"/>
                  </a:lnTo>
                  <a:lnTo>
                    <a:pt x="653" y="164"/>
                  </a:lnTo>
                  <a:lnTo>
                    <a:pt x="811" y="193"/>
                  </a:lnTo>
                  <a:lnTo>
                    <a:pt x="968" y="231"/>
                  </a:lnTo>
                  <a:lnTo>
                    <a:pt x="1122" y="274"/>
                  </a:lnTo>
                  <a:lnTo>
                    <a:pt x="1273" y="321"/>
                  </a:lnTo>
                  <a:lnTo>
                    <a:pt x="1421" y="376"/>
                  </a:lnTo>
                  <a:lnTo>
                    <a:pt x="1567" y="438"/>
                  </a:lnTo>
                  <a:lnTo>
                    <a:pt x="1709" y="505"/>
                  </a:lnTo>
                  <a:lnTo>
                    <a:pt x="1847" y="577"/>
                  </a:lnTo>
                  <a:lnTo>
                    <a:pt x="1983" y="653"/>
                  </a:lnTo>
                  <a:lnTo>
                    <a:pt x="2116" y="736"/>
                  </a:lnTo>
                  <a:lnTo>
                    <a:pt x="2244" y="825"/>
                  </a:lnTo>
                  <a:lnTo>
                    <a:pt x="2368" y="915"/>
                  </a:lnTo>
                  <a:lnTo>
                    <a:pt x="2488" y="1014"/>
                  </a:lnTo>
                  <a:lnTo>
                    <a:pt x="2605" y="1114"/>
                  </a:lnTo>
                  <a:lnTo>
                    <a:pt x="2718" y="1221"/>
                  </a:lnTo>
                  <a:lnTo>
                    <a:pt x="2826" y="1331"/>
                  </a:lnTo>
                  <a:lnTo>
                    <a:pt x="2931" y="1448"/>
                  </a:lnTo>
                  <a:lnTo>
                    <a:pt x="3030" y="1567"/>
                  </a:lnTo>
                  <a:lnTo>
                    <a:pt x="3124" y="1689"/>
                  </a:lnTo>
                  <a:lnTo>
                    <a:pt x="3213" y="1815"/>
                  </a:lnTo>
                  <a:lnTo>
                    <a:pt x="3297" y="1946"/>
                  </a:lnTo>
                  <a:lnTo>
                    <a:pt x="3378" y="2079"/>
                  </a:lnTo>
                  <a:lnTo>
                    <a:pt x="3452" y="2218"/>
                  </a:lnTo>
                  <a:lnTo>
                    <a:pt x="3521" y="2358"/>
                  </a:lnTo>
                  <a:lnTo>
                    <a:pt x="3584" y="2500"/>
                  </a:lnTo>
                  <a:lnTo>
                    <a:pt x="3642" y="2649"/>
                  </a:lnTo>
                  <a:lnTo>
                    <a:pt x="3695" y="2796"/>
                  </a:lnTo>
                  <a:lnTo>
                    <a:pt x="3740" y="2948"/>
                  </a:lnTo>
                  <a:lnTo>
                    <a:pt x="2931" y="2948"/>
                  </a:lnTo>
                  <a:lnTo>
                    <a:pt x="2889" y="2835"/>
                  </a:lnTo>
                  <a:lnTo>
                    <a:pt x="2842" y="2727"/>
                  </a:lnTo>
                  <a:lnTo>
                    <a:pt x="2792" y="2618"/>
                  </a:lnTo>
                  <a:lnTo>
                    <a:pt x="2737" y="2514"/>
                  </a:lnTo>
                  <a:lnTo>
                    <a:pt x="2679" y="2411"/>
                  </a:lnTo>
                  <a:lnTo>
                    <a:pt x="2617" y="2311"/>
                  </a:lnTo>
                  <a:lnTo>
                    <a:pt x="2551" y="2214"/>
                  </a:lnTo>
                  <a:lnTo>
                    <a:pt x="2483" y="2119"/>
                  </a:lnTo>
                  <a:lnTo>
                    <a:pt x="2410" y="2027"/>
                  </a:lnTo>
                  <a:lnTo>
                    <a:pt x="2333" y="1938"/>
                  </a:lnTo>
                  <a:lnTo>
                    <a:pt x="2253" y="1851"/>
                  </a:lnTo>
                  <a:lnTo>
                    <a:pt x="2171" y="1766"/>
                  </a:lnTo>
                  <a:lnTo>
                    <a:pt x="2086" y="1687"/>
                  </a:lnTo>
                  <a:lnTo>
                    <a:pt x="1997" y="1610"/>
                  </a:lnTo>
                  <a:lnTo>
                    <a:pt x="1905" y="1535"/>
                  </a:lnTo>
                  <a:lnTo>
                    <a:pt x="1812" y="1466"/>
                  </a:lnTo>
                  <a:lnTo>
                    <a:pt x="1713" y="1399"/>
                  </a:lnTo>
                  <a:lnTo>
                    <a:pt x="1614" y="1336"/>
                  </a:lnTo>
                  <a:lnTo>
                    <a:pt x="1512" y="1276"/>
                  </a:lnTo>
                  <a:lnTo>
                    <a:pt x="1407" y="1221"/>
                  </a:lnTo>
                  <a:lnTo>
                    <a:pt x="1300" y="1168"/>
                  </a:lnTo>
                  <a:lnTo>
                    <a:pt x="1192" y="1121"/>
                  </a:lnTo>
                  <a:lnTo>
                    <a:pt x="1080" y="1077"/>
                  </a:lnTo>
                  <a:lnTo>
                    <a:pt x="967" y="1038"/>
                  </a:lnTo>
                  <a:lnTo>
                    <a:pt x="853" y="1002"/>
                  </a:lnTo>
                  <a:lnTo>
                    <a:pt x="734" y="973"/>
                  </a:lnTo>
                  <a:lnTo>
                    <a:pt x="615" y="946"/>
                  </a:lnTo>
                  <a:lnTo>
                    <a:pt x="495" y="923"/>
                  </a:lnTo>
                  <a:lnTo>
                    <a:pt x="373" y="907"/>
                  </a:lnTo>
                  <a:lnTo>
                    <a:pt x="251" y="894"/>
                  </a:lnTo>
                  <a:lnTo>
                    <a:pt x="125" y="888"/>
                  </a:lnTo>
                  <a:lnTo>
                    <a:pt x="0" y="886"/>
                  </a:lnTo>
                  <a:lnTo>
                    <a:pt x="0" y="996"/>
                  </a:lnTo>
                  <a:lnTo>
                    <a:pt x="120" y="996"/>
                  </a:lnTo>
                  <a:lnTo>
                    <a:pt x="241" y="1004"/>
                  </a:lnTo>
                  <a:lnTo>
                    <a:pt x="361" y="1016"/>
                  </a:lnTo>
                  <a:lnTo>
                    <a:pt x="479" y="1032"/>
                  </a:lnTo>
                  <a:lnTo>
                    <a:pt x="596" y="1054"/>
                  </a:lnTo>
                  <a:lnTo>
                    <a:pt x="711" y="1079"/>
                  </a:lnTo>
                  <a:lnTo>
                    <a:pt x="824" y="1109"/>
                  </a:lnTo>
                  <a:lnTo>
                    <a:pt x="936" y="1142"/>
                  </a:lnTo>
                  <a:lnTo>
                    <a:pt x="1044" y="1182"/>
                  </a:lnTo>
                  <a:lnTo>
                    <a:pt x="1153" y="1223"/>
                  </a:lnTo>
                  <a:lnTo>
                    <a:pt x="1258" y="1271"/>
                  </a:lnTo>
                  <a:lnTo>
                    <a:pt x="1362" y="1320"/>
                  </a:lnTo>
                  <a:lnTo>
                    <a:pt x="1462" y="1373"/>
                  </a:lnTo>
                  <a:lnTo>
                    <a:pt x="1561" y="1433"/>
                  </a:lnTo>
                  <a:lnTo>
                    <a:pt x="1658" y="1493"/>
                  </a:lnTo>
                  <a:lnTo>
                    <a:pt x="1750" y="1556"/>
                  </a:lnTo>
                  <a:lnTo>
                    <a:pt x="1842" y="1626"/>
                  </a:lnTo>
                  <a:lnTo>
                    <a:pt x="1930" y="1697"/>
                  </a:lnTo>
                  <a:lnTo>
                    <a:pt x="2017" y="1772"/>
                  </a:lnTo>
                  <a:lnTo>
                    <a:pt x="2100" y="1849"/>
                  </a:lnTo>
                  <a:lnTo>
                    <a:pt x="2179" y="1930"/>
                  </a:lnTo>
                  <a:lnTo>
                    <a:pt x="2256" y="2014"/>
                  </a:lnTo>
                  <a:lnTo>
                    <a:pt x="2329" y="2102"/>
                  </a:lnTo>
                  <a:lnTo>
                    <a:pt x="2398" y="2191"/>
                  </a:lnTo>
                  <a:lnTo>
                    <a:pt x="2465" y="2283"/>
                  </a:lnTo>
                  <a:lnTo>
                    <a:pt x="2528" y="2377"/>
                  </a:lnTo>
                  <a:lnTo>
                    <a:pt x="2590" y="2474"/>
                  </a:lnTo>
                  <a:lnTo>
                    <a:pt x="2645" y="2573"/>
                  </a:lnTo>
                  <a:lnTo>
                    <a:pt x="2698" y="2676"/>
                  </a:lnTo>
                  <a:lnTo>
                    <a:pt x="2745" y="2780"/>
                  </a:lnTo>
                  <a:lnTo>
                    <a:pt x="2791" y="2887"/>
                  </a:lnTo>
                  <a:lnTo>
                    <a:pt x="2832" y="2993"/>
                  </a:lnTo>
                  <a:lnTo>
                    <a:pt x="2671" y="3244"/>
                  </a:lnTo>
                  <a:lnTo>
                    <a:pt x="2551" y="3429"/>
                  </a:lnTo>
                  <a:lnTo>
                    <a:pt x="2422" y="3643"/>
                  </a:lnTo>
                  <a:lnTo>
                    <a:pt x="2392" y="3694"/>
                  </a:lnTo>
                  <a:lnTo>
                    <a:pt x="2496" y="3733"/>
                  </a:lnTo>
                  <a:lnTo>
                    <a:pt x="2595" y="3777"/>
                  </a:lnTo>
                  <a:lnTo>
                    <a:pt x="2688" y="3824"/>
                  </a:lnTo>
                  <a:lnTo>
                    <a:pt x="2775" y="3876"/>
                  </a:lnTo>
                  <a:lnTo>
                    <a:pt x="716" y="3876"/>
                  </a:lnTo>
                  <a:lnTo>
                    <a:pt x="724" y="3929"/>
                  </a:lnTo>
                  <a:lnTo>
                    <a:pt x="727" y="3984"/>
                  </a:lnTo>
                  <a:lnTo>
                    <a:pt x="2927" y="3984"/>
                  </a:lnTo>
                  <a:lnTo>
                    <a:pt x="3004" y="4051"/>
                  </a:lnTo>
                  <a:lnTo>
                    <a:pt x="2996" y="4203"/>
                  </a:lnTo>
                  <a:lnTo>
                    <a:pt x="2982" y="4355"/>
                  </a:lnTo>
                  <a:lnTo>
                    <a:pt x="2962" y="4503"/>
                  </a:lnTo>
                  <a:lnTo>
                    <a:pt x="2933" y="4648"/>
                  </a:lnTo>
                  <a:lnTo>
                    <a:pt x="2899" y="4791"/>
                  </a:lnTo>
                  <a:lnTo>
                    <a:pt x="2856" y="4933"/>
                  </a:lnTo>
                  <a:lnTo>
                    <a:pt x="2808" y="5069"/>
                  </a:lnTo>
                  <a:lnTo>
                    <a:pt x="2753" y="5203"/>
                  </a:lnTo>
                  <a:lnTo>
                    <a:pt x="2692" y="5336"/>
                  </a:lnTo>
                  <a:lnTo>
                    <a:pt x="2625" y="5462"/>
                  </a:lnTo>
                  <a:lnTo>
                    <a:pt x="2551" y="5587"/>
                  </a:lnTo>
                  <a:lnTo>
                    <a:pt x="2475" y="5707"/>
                  </a:lnTo>
                  <a:lnTo>
                    <a:pt x="2391" y="5823"/>
                  </a:lnTo>
                  <a:lnTo>
                    <a:pt x="2302" y="5933"/>
                  </a:lnTo>
                  <a:lnTo>
                    <a:pt x="2206" y="6040"/>
                  </a:lnTo>
                  <a:lnTo>
                    <a:pt x="2108" y="6142"/>
                  </a:lnTo>
                  <a:lnTo>
                    <a:pt x="2004" y="6241"/>
                  </a:lnTo>
                  <a:lnTo>
                    <a:pt x="1894" y="6333"/>
                  </a:lnTo>
                  <a:lnTo>
                    <a:pt x="1782" y="6421"/>
                  </a:lnTo>
                  <a:lnTo>
                    <a:pt x="1666" y="6503"/>
                  </a:lnTo>
                  <a:lnTo>
                    <a:pt x="1543" y="6581"/>
                  </a:lnTo>
                  <a:lnTo>
                    <a:pt x="1419" y="6652"/>
                  </a:lnTo>
                  <a:lnTo>
                    <a:pt x="1290" y="6717"/>
                  </a:lnTo>
                  <a:lnTo>
                    <a:pt x="1159" y="6776"/>
                  </a:lnTo>
                  <a:lnTo>
                    <a:pt x="1023" y="6830"/>
                  </a:lnTo>
                  <a:lnTo>
                    <a:pt x="884" y="6874"/>
                  </a:lnTo>
                  <a:lnTo>
                    <a:pt x="742" y="6914"/>
                  </a:lnTo>
                  <a:lnTo>
                    <a:pt x="598" y="6948"/>
                  </a:lnTo>
                  <a:lnTo>
                    <a:pt x="452" y="6973"/>
                  </a:lnTo>
                  <a:lnTo>
                    <a:pt x="304" y="6991"/>
                  </a:lnTo>
                  <a:lnTo>
                    <a:pt x="152" y="7003"/>
                  </a:lnTo>
                  <a:lnTo>
                    <a:pt x="0" y="7007"/>
                  </a:lnTo>
                  <a:lnTo>
                    <a:pt x="0" y="7117"/>
                  </a:lnTo>
                  <a:lnTo>
                    <a:pt x="154" y="7113"/>
                  </a:lnTo>
                  <a:lnTo>
                    <a:pt x="308" y="7102"/>
                  </a:lnTo>
                  <a:lnTo>
                    <a:pt x="458" y="7084"/>
                  </a:lnTo>
                  <a:lnTo>
                    <a:pt x="607" y="7058"/>
                  </a:lnTo>
                  <a:lnTo>
                    <a:pt x="754" y="7024"/>
                  </a:lnTo>
                  <a:lnTo>
                    <a:pt x="898" y="6985"/>
                  </a:lnTo>
                  <a:lnTo>
                    <a:pt x="1038" y="6940"/>
                  </a:lnTo>
                  <a:lnTo>
                    <a:pt x="1177" y="6887"/>
                  </a:lnTo>
                  <a:lnTo>
                    <a:pt x="1311" y="6827"/>
                  </a:lnTo>
                  <a:lnTo>
                    <a:pt x="1441" y="6764"/>
                  </a:lnTo>
                  <a:lnTo>
                    <a:pt x="1569" y="6693"/>
                  </a:lnTo>
                  <a:lnTo>
                    <a:pt x="1693" y="6616"/>
                  </a:lnTo>
                  <a:lnTo>
                    <a:pt x="1812" y="6535"/>
                  </a:lnTo>
                  <a:lnTo>
                    <a:pt x="1928" y="6448"/>
                  </a:lnTo>
                  <a:lnTo>
                    <a:pt x="2041" y="6356"/>
                  </a:lnTo>
                  <a:lnTo>
                    <a:pt x="2148" y="6257"/>
                  </a:lnTo>
                  <a:lnTo>
                    <a:pt x="2250" y="6157"/>
                  </a:lnTo>
                  <a:lnTo>
                    <a:pt x="2347" y="6048"/>
                  </a:lnTo>
                  <a:lnTo>
                    <a:pt x="2439" y="5938"/>
                  </a:lnTo>
                  <a:lnTo>
                    <a:pt x="2527" y="5821"/>
                  </a:lnTo>
                  <a:lnTo>
                    <a:pt x="2609" y="5702"/>
                  </a:lnTo>
                  <a:lnTo>
                    <a:pt x="2686" y="5579"/>
                  </a:lnTo>
                  <a:lnTo>
                    <a:pt x="2757" y="5450"/>
                  </a:lnTo>
                  <a:lnTo>
                    <a:pt x="2823" y="5320"/>
                  </a:lnTo>
                  <a:lnTo>
                    <a:pt x="2880" y="5185"/>
                  </a:lnTo>
                  <a:lnTo>
                    <a:pt x="2933" y="5048"/>
                  </a:lnTo>
                  <a:lnTo>
                    <a:pt x="2980" y="4907"/>
                  </a:lnTo>
                  <a:lnTo>
                    <a:pt x="3019" y="4763"/>
                  </a:lnTo>
                  <a:lnTo>
                    <a:pt x="3053" y="4617"/>
                  </a:lnTo>
                  <a:lnTo>
                    <a:pt x="3079" y="4470"/>
                  </a:lnTo>
                  <a:lnTo>
                    <a:pt x="3097" y="4318"/>
                  </a:lnTo>
                  <a:lnTo>
                    <a:pt x="3108" y="4166"/>
                  </a:lnTo>
                  <a:lnTo>
                    <a:pt x="3148" y="4213"/>
                  </a:lnTo>
                  <a:lnTo>
                    <a:pt x="3184" y="4264"/>
                  </a:lnTo>
                  <a:lnTo>
                    <a:pt x="3215" y="4316"/>
                  </a:lnTo>
                  <a:lnTo>
                    <a:pt x="3245" y="4366"/>
                  </a:lnTo>
                  <a:lnTo>
                    <a:pt x="3273" y="4420"/>
                  </a:lnTo>
                  <a:lnTo>
                    <a:pt x="3296" y="4475"/>
                  </a:lnTo>
                  <a:lnTo>
                    <a:pt x="3315" y="4530"/>
                  </a:lnTo>
                  <a:lnTo>
                    <a:pt x="3336" y="4586"/>
                  </a:lnTo>
                  <a:lnTo>
                    <a:pt x="3351" y="4643"/>
                  </a:lnTo>
                  <a:lnTo>
                    <a:pt x="3363" y="4700"/>
                  </a:lnTo>
                  <a:lnTo>
                    <a:pt x="3373" y="4760"/>
                  </a:lnTo>
                  <a:lnTo>
                    <a:pt x="3381" y="4818"/>
                  </a:lnTo>
                  <a:lnTo>
                    <a:pt x="3389" y="4936"/>
                  </a:lnTo>
                  <a:lnTo>
                    <a:pt x="3389" y="4998"/>
                  </a:lnTo>
                  <a:lnTo>
                    <a:pt x="3386" y="5057"/>
                  </a:lnTo>
                  <a:lnTo>
                    <a:pt x="3375" y="5179"/>
                  </a:lnTo>
                  <a:lnTo>
                    <a:pt x="3354" y="5304"/>
                  </a:lnTo>
                  <a:lnTo>
                    <a:pt x="3323" y="5426"/>
                  </a:lnTo>
                  <a:lnTo>
                    <a:pt x="3284" y="5548"/>
                  </a:lnTo>
                  <a:lnTo>
                    <a:pt x="3237" y="5671"/>
                  </a:lnTo>
                  <a:lnTo>
                    <a:pt x="3179" y="5791"/>
                  </a:lnTo>
                  <a:lnTo>
                    <a:pt x="3114" y="5909"/>
                  </a:lnTo>
                  <a:lnTo>
                    <a:pt x="3043" y="6024"/>
                  </a:lnTo>
                  <a:lnTo>
                    <a:pt x="2980" y="6116"/>
                  </a:lnTo>
                  <a:lnTo>
                    <a:pt x="2915" y="6205"/>
                  </a:lnTo>
                  <a:lnTo>
                    <a:pt x="2848" y="6294"/>
                  </a:lnTo>
                  <a:lnTo>
                    <a:pt x="2776" y="6380"/>
                  </a:lnTo>
                  <a:lnTo>
                    <a:pt x="2703" y="6462"/>
                  </a:lnTo>
                  <a:lnTo>
                    <a:pt x="2629" y="6543"/>
                  </a:lnTo>
                  <a:lnTo>
                    <a:pt x="2550" y="6623"/>
                  </a:lnTo>
                  <a:lnTo>
                    <a:pt x="2470" y="6697"/>
                  </a:lnTo>
                  <a:lnTo>
                    <a:pt x="2388" y="6772"/>
                  </a:lnTo>
                  <a:lnTo>
                    <a:pt x="2303" y="6843"/>
                  </a:lnTo>
                  <a:lnTo>
                    <a:pt x="2216" y="6912"/>
                  </a:lnTo>
                  <a:lnTo>
                    <a:pt x="2127" y="6977"/>
                  </a:lnTo>
                  <a:lnTo>
                    <a:pt x="2037" y="7040"/>
                  </a:lnTo>
                  <a:lnTo>
                    <a:pt x="1944" y="7102"/>
                  </a:lnTo>
                  <a:lnTo>
                    <a:pt x="1849" y="7160"/>
                  </a:lnTo>
                  <a:lnTo>
                    <a:pt x="1753" y="7216"/>
                  </a:lnTo>
                  <a:lnTo>
                    <a:pt x="1654" y="7267"/>
                  </a:lnTo>
                  <a:lnTo>
                    <a:pt x="1554" y="7317"/>
                  </a:lnTo>
                  <a:lnTo>
                    <a:pt x="1452" y="7364"/>
                  </a:lnTo>
                  <a:lnTo>
                    <a:pt x="1348" y="7405"/>
                  </a:lnTo>
                  <a:lnTo>
                    <a:pt x="1243" y="7447"/>
                  </a:lnTo>
                  <a:lnTo>
                    <a:pt x="1137" y="7482"/>
                  </a:lnTo>
                  <a:lnTo>
                    <a:pt x="1028" y="7518"/>
                  </a:lnTo>
                  <a:lnTo>
                    <a:pt x="920" y="7547"/>
                  </a:lnTo>
                  <a:lnTo>
                    <a:pt x="809" y="7575"/>
                  </a:lnTo>
                  <a:lnTo>
                    <a:pt x="696" y="7599"/>
                  </a:lnTo>
                  <a:lnTo>
                    <a:pt x="583" y="7618"/>
                  </a:lnTo>
                  <a:lnTo>
                    <a:pt x="468" y="7635"/>
                  </a:lnTo>
                  <a:lnTo>
                    <a:pt x="351" y="7648"/>
                  </a:lnTo>
                  <a:lnTo>
                    <a:pt x="235" y="7658"/>
                  </a:lnTo>
                  <a:lnTo>
                    <a:pt x="118" y="7662"/>
                  </a:lnTo>
                  <a:lnTo>
                    <a:pt x="0" y="7664"/>
                  </a:lnTo>
                  <a:close/>
                </a:path>
              </a:pathLst>
            </a:custGeom>
            <a:blipFill rotWithShape="0">
              <a:blip r:embed="rId88"/>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380880" y="723240"/>
              <a:ext cx="1181160" cy="900360"/>
            </a:xfrm>
            <a:custGeom>
              <a:avLst/>
              <a:gdLst/>
              <a:ahLst/>
              <a:rect l="l" t="t" r="r" b="b"/>
              <a:pathLst>
                <a:path w="9219" h="7762">
                  <a:moveTo>
                    <a:pt x="9219" y="112"/>
                  </a:moveTo>
                  <a:lnTo>
                    <a:pt x="9219" y="1"/>
                  </a:lnTo>
                  <a:lnTo>
                    <a:pt x="9217" y="0"/>
                  </a:lnTo>
                  <a:lnTo>
                    <a:pt x="9046" y="3"/>
                  </a:lnTo>
                  <a:lnTo>
                    <a:pt x="8876" y="15"/>
                  </a:lnTo>
                  <a:lnTo>
                    <a:pt x="8706" y="32"/>
                  </a:lnTo>
                  <a:lnTo>
                    <a:pt x="8540" y="56"/>
                  </a:lnTo>
                  <a:lnTo>
                    <a:pt x="8376" y="87"/>
                  </a:lnTo>
                  <a:lnTo>
                    <a:pt x="8214" y="128"/>
                  </a:lnTo>
                  <a:lnTo>
                    <a:pt x="8057" y="170"/>
                  </a:lnTo>
                  <a:lnTo>
                    <a:pt x="7900" y="222"/>
                  </a:lnTo>
                  <a:lnTo>
                    <a:pt x="7746" y="280"/>
                  </a:lnTo>
                  <a:lnTo>
                    <a:pt x="7596" y="343"/>
                  </a:lnTo>
                  <a:lnTo>
                    <a:pt x="7450" y="411"/>
                  </a:lnTo>
                  <a:lnTo>
                    <a:pt x="7306" y="487"/>
                  </a:lnTo>
                  <a:lnTo>
                    <a:pt x="7167" y="568"/>
                  </a:lnTo>
                  <a:lnTo>
                    <a:pt x="7031" y="652"/>
                  </a:lnTo>
                  <a:lnTo>
                    <a:pt x="6898" y="743"/>
                  </a:lnTo>
                  <a:lnTo>
                    <a:pt x="6770" y="840"/>
                  </a:lnTo>
                  <a:lnTo>
                    <a:pt x="6646" y="940"/>
                  </a:lnTo>
                  <a:lnTo>
                    <a:pt x="6525" y="1047"/>
                  </a:lnTo>
                  <a:lnTo>
                    <a:pt x="6408" y="1157"/>
                  </a:lnTo>
                  <a:lnTo>
                    <a:pt x="6298" y="1272"/>
                  </a:lnTo>
                  <a:lnTo>
                    <a:pt x="6189" y="1392"/>
                  </a:lnTo>
                  <a:lnTo>
                    <a:pt x="6089" y="1515"/>
                  </a:lnTo>
                  <a:lnTo>
                    <a:pt x="5990" y="1643"/>
                  </a:lnTo>
                  <a:lnTo>
                    <a:pt x="5899" y="1774"/>
                  </a:lnTo>
                  <a:lnTo>
                    <a:pt x="5812" y="1909"/>
                  </a:lnTo>
                  <a:lnTo>
                    <a:pt x="5731" y="2049"/>
                  </a:lnTo>
                  <a:lnTo>
                    <a:pt x="5655" y="2192"/>
                  </a:lnTo>
                  <a:lnTo>
                    <a:pt x="5586" y="2337"/>
                  </a:lnTo>
                  <a:lnTo>
                    <a:pt x="5521" y="2485"/>
                  </a:lnTo>
                  <a:lnTo>
                    <a:pt x="5461" y="2637"/>
                  </a:lnTo>
                  <a:lnTo>
                    <a:pt x="5409" y="2791"/>
                  </a:lnTo>
                  <a:lnTo>
                    <a:pt x="5362" y="2949"/>
                  </a:lnTo>
                  <a:lnTo>
                    <a:pt x="199" y="2949"/>
                  </a:lnTo>
                  <a:lnTo>
                    <a:pt x="173" y="2945"/>
                  </a:lnTo>
                  <a:lnTo>
                    <a:pt x="156" y="2938"/>
                  </a:lnTo>
                  <a:lnTo>
                    <a:pt x="144" y="2925"/>
                  </a:lnTo>
                  <a:lnTo>
                    <a:pt x="134" y="2915"/>
                  </a:lnTo>
                  <a:lnTo>
                    <a:pt x="125" y="2909"/>
                  </a:lnTo>
                  <a:lnTo>
                    <a:pt x="110" y="2912"/>
                  </a:lnTo>
                  <a:lnTo>
                    <a:pt x="89" y="2925"/>
                  </a:lnTo>
                  <a:lnTo>
                    <a:pt x="55" y="2951"/>
                  </a:lnTo>
                  <a:lnTo>
                    <a:pt x="36" y="2970"/>
                  </a:lnTo>
                  <a:lnTo>
                    <a:pt x="20" y="2988"/>
                  </a:lnTo>
                  <a:lnTo>
                    <a:pt x="10" y="3008"/>
                  </a:lnTo>
                  <a:lnTo>
                    <a:pt x="5" y="3026"/>
                  </a:lnTo>
                  <a:lnTo>
                    <a:pt x="0" y="3046"/>
                  </a:lnTo>
                  <a:lnTo>
                    <a:pt x="0" y="3064"/>
                  </a:lnTo>
                  <a:lnTo>
                    <a:pt x="5" y="3082"/>
                  </a:lnTo>
                  <a:lnTo>
                    <a:pt x="8" y="3098"/>
                  </a:lnTo>
                  <a:lnTo>
                    <a:pt x="24" y="3134"/>
                  </a:lnTo>
                  <a:lnTo>
                    <a:pt x="45" y="3170"/>
                  </a:lnTo>
                  <a:lnTo>
                    <a:pt x="91" y="3231"/>
                  </a:lnTo>
                  <a:lnTo>
                    <a:pt x="125" y="3273"/>
                  </a:lnTo>
                  <a:lnTo>
                    <a:pt x="172" y="3326"/>
                  </a:lnTo>
                  <a:lnTo>
                    <a:pt x="235" y="3387"/>
                  </a:lnTo>
                  <a:lnTo>
                    <a:pt x="314" y="3458"/>
                  </a:lnTo>
                  <a:lnTo>
                    <a:pt x="406" y="3535"/>
                  </a:lnTo>
                  <a:lnTo>
                    <a:pt x="515" y="3614"/>
                  </a:lnTo>
                  <a:lnTo>
                    <a:pt x="638" y="3697"/>
                  </a:lnTo>
                  <a:lnTo>
                    <a:pt x="774" y="3778"/>
                  </a:lnTo>
                  <a:lnTo>
                    <a:pt x="1340" y="3778"/>
                  </a:lnTo>
                  <a:lnTo>
                    <a:pt x="2423" y="3780"/>
                  </a:lnTo>
                  <a:lnTo>
                    <a:pt x="4028" y="3780"/>
                  </a:lnTo>
                  <a:lnTo>
                    <a:pt x="5023" y="3780"/>
                  </a:lnTo>
                  <a:lnTo>
                    <a:pt x="6150" y="3778"/>
                  </a:lnTo>
                  <a:lnTo>
                    <a:pt x="6233" y="3718"/>
                  </a:lnTo>
                  <a:lnTo>
                    <a:pt x="6322" y="3663"/>
                  </a:lnTo>
                  <a:lnTo>
                    <a:pt x="6419" y="3612"/>
                  </a:lnTo>
                  <a:lnTo>
                    <a:pt x="6519" y="3563"/>
                  </a:lnTo>
                  <a:lnTo>
                    <a:pt x="6251" y="3140"/>
                  </a:lnTo>
                  <a:lnTo>
                    <a:pt x="259" y="3140"/>
                  </a:lnTo>
                  <a:lnTo>
                    <a:pt x="235" y="3140"/>
                  </a:lnTo>
                  <a:lnTo>
                    <a:pt x="213" y="3137"/>
                  </a:lnTo>
                  <a:lnTo>
                    <a:pt x="194" y="3131"/>
                  </a:lnTo>
                  <a:lnTo>
                    <a:pt x="176" y="3123"/>
                  </a:lnTo>
                  <a:lnTo>
                    <a:pt x="162" y="3113"/>
                  </a:lnTo>
                  <a:lnTo>
                    <a:pt x="150" y="3101"/>
                  </a:lnTo>
                  <a:lnTo>
                    <a:pt x="142" y="3087"/>
                  </a:lnTo>
                  <a:lnTo>
                    <a:pt x="136" y="3071"/>
                  </a:lnTo>
                  <a:lnTo>
                    <a:pt x="136" y="3059"/>
                  </a:lnTo>
                  <a:lnTo>
                    <a:pt x="141" y="3051"/>
                  </a:lnTo>
                  <a:lnTo>
                    <a:pt x="146" y="3048"/>
                  </a:lnTo>
                  <a:lnTo>
                    <a:pt x="156" y="3046"/>
                  </a:lnTo>
                  <a:lnTo>
                    <a:pt x="180" y="3043"/>
                  </a:lnTo>
                  <a:lnTo>
                    <a:pt x="199" y="3046"/>
                  </a:lnTo>
                  <a:lnTo>
                    <a:pt x="6302" y="3046"/>
                  </a:lnTo>
                  <a:lnTo>
                    <a:pt x="6440" y="3259"/>
                  </a:lnTo>
                  <a:lnTo>
                    <a:pt x="6552" y="3435"/>
                  </a:lnTo>
                  <a:lnTo>
                    <a:pt x="6681" y="3644"/>
                  </a:lnTo>
                  <a:lnTo>
                    <a:pt x="6563" y="3693"/>
                  </a:lnTo>
                  <a:lnTo>
                    <a:pt x="6453" y="3746"/>
                  </a:lnTo>
                  <a:lnTo>
                    <a:pt x="6353" y="3804"/>
                  </a:lnTo>
                  <a:lnTo>
                    <a:pt x="6262" y="3867"/>
                  </a:lnTo>
                  <a:lnTo>
                    <a:pt x="6178" y="3932"/>
                  </a:lnTo>
                  <a:lnTo>
                    <a:pt x="6102" y="4000"/>
                  </a:lnTo>
                  <a:lnTo>
                    <a:pt x="6036" y="4071"/>
                  </a:lnTo>
                  <a:lnTo>
                    <a:pt x="5976" y="4147"/>
                  </a:lnTo>
                  <a:lnTo>
                    <a:pt x="5925" y="4223"/>
                  </a:lnTo>
                  <a:lnTo>
                    <a:pt x="5880" y="4304"/>
                  </a:lnTo>
                  <a:lnTo>
                    <a:pt x="5840" y="4385"/>
                  </a:lnTo>
                  <a:lnTo>
                    <a:pt x="5809" y="4471"/>
                  </a:lnTo>
                  <a:lnTo>
                    <a:pt x="5783" y="4555"/>
                  </a:lnTo>
                  <a:lnTo>
                    <a:pt x="5763" y="4640"/>
                  </a:lnTo>
                  <a:lnTo>
                    <a:pt x="5749" y="4727"/>
                  </a:lnTo>
                  <a:lnTo>
                    <a:pt x="5739" y="4816"/>
                  </a:lnTo>
                  <a:lnTo>
                    <a:pt x="5736" y="4903"/>
                  </a:lnTo>
                  <a:lnTo>
                    <a:pt x="5736" y="4991"/>
                  </a:lnTo>
                  <a:lnTo>
                    <a:pt x="5741" y="5080"/>
                  </a:lnTo>
                  <a:lnTo>
                    <a:pt x="5751" y="5167"/>
                  </a:lnTo>
                  <a:lnTo>
                    <a:pt x="5765" y="5254"/>
                  </a:lnTo>
                  <a:lnTo>
                    <a:pt x="5783" y="5339"/>
                  </a:lnTo>
                  <a:lnTo>
                    <a:pt x="5803" y="5423"/>
                  </a:lnTo>
                  <a:lnTo>
                    <a:pt x="5827" y="5507"/>
                  </a:lnTo>
                  <a:lnTo>
                    <a:pt x="5851" y="5588"/>
                  </a:lnTo>
                  <a:lnTo>
                    <a:pt x="5882" y="5666"/>
                  </a:lnTo>
                  <a:lnTo>
                    <a:pt x="5913" y="5743"/>
                  </a:lnTo>
                  <a:lnTo>
                    <a:pt x="5947" y="5816"/>
                  </a:lnTo>
                  <a:lnTo>
                    <a:pt x="5980" y="5887"/>
                  </a:lnTo>
                  <a:lnTo>
                    <a:pt x="6018" y="5954"/>
                  </a:lnTo>
                  <a:lnTo>
                    <a:pt x="6055" y="6020"/>
                  </a:lnTo>
                  <a:lnTo>
                    <a:pt x="6092" y="6078"/>
                  </a:lnTo>
                  <a:lnTo>
                    <a:pt x="6158" y="6174"/>
                  </a:lnTo>
                  <a:lnTo>
                    <a:pt x="6225" y="6264"/>
                  </a:lnTo>
                  <a:lnTo>
                    <a:pt x="6294" y="6355"/>
                  </a:lnTo>
                  <a:lnTo>
                    <a:pt x="6367" y="6441"/>
                  </a:lnTo>
                  <a:lnTo>
                    <a:pt x="6442" y="6528"/>
                  </a:lnTo>
                  <a:lnTo>
                    <a:pt x="6519" y="6611"/>
                  </a:lnTo>
                  <a:lnTo>
                    <a:pt x="6597" y="6690"/>
                  </a:lnTo>
                  <a:lnTo>
                    <a:pt x="6681" y="6769"/>
                  </a:lnTo>
                  <a:lnTo>
                    <a:pt x="6766" y="6844"/>
                  </a:lnTo>
                  <a:lnTo>
                    <a:pt x="6853" y="6919"/>
                  </a:lnTo>
                  <a:lnTo>
                    <a:pt x="6942" y="6988"/>
                  </a:lnTo>
                  <a:lnTo>
                    <a:pt x="7032" y="7058"/>
                  </a:lnTo>
                  <a:lnTo>
                    <a:pt x="7125" y="7122"/>
                  </a:lnTo>
                  <a:lnTo>
                    <a:pt x="7222" y="7184"/>
                  </a:lnTo>
                  <a:lnTo>
                    <a:pt x="7319" y="7242"/>
                  </a:lnTo>
                  <a:lnTo>
                    <a:pt x="7416" y="7300"/>
                  </a:lnTo>
                  <a:lnTo>
                    <a:pt x="7518" y="7354"/>
                  </a:lnTo>
                  <a:lnTo>
                    <a:pt x="7620" y="7404"/>
                  </a:lnTo>
                  <a:lnTo>
                    <a:pt x="7725" y="7451"/>
                  </a:lnTo>
                  <a:lnTo>
                    <a:pt x="7832" y="7498"/>
                  </a:lnTo>
                  <a:lnTo>
                    <a:pt x="7940" y="7537"/>
                  </a:lnTo>
                  <a:lnTo>
                    <a:pt x="8049" y="7576"/>
                  </a:lnTo>
                  <a:lnTo>
                    <a:pt x="8161" y="7610"/>
                  </a:lnTo>
                  <a:lnTo>
                    <a:pt x="8272" y="7641"/>
                  </a:lnTo>
                  <a:lnTo>
                    <a:pt x="8386" y="7668"/>
                  </a:lnTo>
                  <a:lnTo>
                    <a:pt x="8502" y="7692"/>
                  </a:lnTo>
                  <a:lnTo>
                    <a:pt x="8619" y="7715"/>
                  </a:lnTo>
                  <a:lnTo>
                    <a:pt x="8735" y="7730"/>
                  </a:lnTo>
                  <a:lnTo>
                    <a:pt x="8854" y="7744"/>
                  </a:lnTo>
                  <a:lnTo>
                    <a:pt x="8975" y="7754"/>
                  </a:lnTo>
                  <a:lnTo>
                    <a:pt x="9095" y="7760"/>
                  </a:lnTo>
                  <a:lnTo>
                    <a:pt x="9217" y="7762"/>
                  </a:lnTo>
                  <a:lnTo>
                    <a:pt x="9219" y="7762"/>
                  </a:lnTo>
                  <a:lnTo>
                    <a:pt x="9219" y="7665"/>
                  </a:lnTo>
                  <a:lnTo>
                    <a:pt x="9217" y="7665"/>
                  </a:lnTo>
                  <a:lnTo>
                    <a:pt x="9098" y="7663"/>
                  </a:lnTo>
                  <a:lnTo>
                    <a:pt x="8980" y="7659"/>
                  </a:lnTo>
                  <a:lnTo>
                    <a:pt x="8863" y="7649"/>
                  </a:lnTo>
                  <a:lnTo>
                    <a:pt x="8747" y="7636"/>
                  </a:lnTo>
                  <a:lnTo>
                    <a:pt x="8633" y="7619"/>
                  </a:lnTo>
                  <a:lnTo>
                    <a:pt x="8520" y="7600"/>
                  </a:lnTo>
                  <a:lnTo>
                    <a:pt x="8408" y="7576"/>
                  </a:lnTo>
                  <a:lnTo>
                    <a:pt x="8297" y="7548"/>
                  </a:lnTo>
                  <a:lnTo>
                    <a:pt x="8187" y="7519"/>
                  </a:lnTo>
                  <a:lnTo>
                    <a:pt x="8080" y="7483"/>
                  </a:lnTo>
                  <a:lnTo>
                    <a:pt x="7971" y="7448"/>
                  </a:lnTo>
                  <a:lnTo>
                    <a:pt x="7866" y="7406"/>
                  </a:lnTo>
                  <a:lnTo>
                    <a:pt x="7764" y="7365"/>
                  </a:lnTo>
                  <a:lnTo>
                    <a:pt x="7662" y="7318"/>
                  </a:lnTo>
                  <a:lnTo>
                    <a:pt x="7562" y="7268"/>
                  </a:lnTo>
                  <a:lnTo>
                    <a:pt x="7463" y="7217"/>
                  </a:lnTo>
                  <a:lnTo>
                    <a:pt x="7368" y="7161"/>
                  </a:lnTo>
                  <a:lnTo>
                    <a:pt x="7272" y="7103"/>
                  </a:lnTo>
                  <a:lnTo>
                    <a:pt x="7178" y="7041"/>
                  </a:lnTo>
                  <a:lnTo>
                    <a:pt x="7088" y="6978"/>
                  </a:lnTo>
                  <a:lnTo>
                    <a:pt x="6999" y="6913"/>
                  </a:lnTo>
                  <a:lnTo>
                    <a:pt x="6914" y="6844"/>
                  </a:lnTo>
                  <a:lnTo>
                    <a:pt x="6829" y="6773"/>
                  </a:lnTo>
                  <a:lnTo>
                    <a:pt x="6746" y="6698"/>
                  </a:lnTo>
                  <a:lnTo>
                    <a:pt x="6665" y="6624"/>
                  </a:lnTo>
                  <a:lnTo>
                    <a:pt x="6588" y="6544"/>
                  </a:lnTo>
                  <a:lnTo>
                    <a:pt x="6513" y="6463"/>
                  </a:lnTo>
                  <a:lnTo>
                    <a:pt x="6440" y="6381"/>
                  </a:lnTo>
                  <a:lnTo>
                    <a:pt x="6369" y="6295"/>
                  </a:lnTo>
                  <a:lnTo>
                    <a:pt x="6302" y="6206"/>
                  </a:lnTo>
                  <a:lnTo>
                    <a:pt x="6236" y="6117"/>
                  </a:lnTo>
                  <a:lnTo>
                    <a:pt x="6173" y="6025"/>
                  </a:lnTo>
                  <a:lnTo>
                    <a:pt x="6100" y="5910"/>
                  </a:lnTo>
                  <a:lnTo>
                    <a:pt x="6037" y="5792"/>
                  </a:lnTo>
                  <a:lnTo>
                    <a:pt x="5980" y="5672"/>
                  </a:lnTo>
                  <a:lnTo>
                    <a:pt x="5932" y="5549"/>
                  </a:lnTo>
                  <a:lnTo>
                    <a:pt x="5893" y="5427"/>
                  </a:lnTo>
                  <a:lnTo>
                    <a:pt x="5862" y="5303"/>
                  </a:lnTo>
                  <a:lnTo>
                    <a:pt x="5842" y="5180"/>
                  </a:lnTo>
                  <a:lnTo>
                    <a:pt x="5828" y="5058"/>
                  </a:lnTo>
                  <a:lnTo>
                    <a:pt x="5827" y="4937"/>
                  </a:lnTo>
                  <a:lnTo>
                    <a:pt x="5830" y="4879"/>
                  </a:lnTo>
                  <a:lnTo>
                    <a:pt x="5835" y="4817"/>
                  </a:lnTo>
                  <a:lnTo>
                    <a:pt x="5842" y="4761"/>
                  </a:lnTo>
                  <a:lnTo>
                    <a:pt x="5854" y="4701"/>
                  </a:lnTo>
                  <a:lnTo>
                    <a:pt x="5866" y="4644"/>
                  </a:lnTo>
                  <a:lnTo>
                    <a:pt x="5882" y="4587"/>
                  </a:lnTo>
                  <a:lnTo>
                    <a:pt x="5899" y="4529"/>
                  </a:lnTo>
                  <a:lnTo>
                    <a:pt x="5921" y="4474"/>
                  </a:lnTo>
                  <a:lnTo>
                    <a:pt x="5945" y="4421"/>
                  </a:lnTo>
                  <a:lnTo>
                    <a:pt x="5972" y="4367"/>
                  </a:lnTo>
                  <a:lnTo>
                    <a:pt x="6002" y="4314"/>
                  </a:lnTo>
                  <a:lnTo>
                    <a:pt x="6034" y="4263"/>
                  </a:lnTo>
                  <a:lnTo>
                    <a:pt x="6069" y="4214"/>
                  </a:lnTo>
                  <a:lnTo>
                    <a:pt x="6108" y="4165"/>
                  </a:lnTo>
                  <a:lnTo>
                    <a:pt x="6118" y="4319"/>
                  </a:lnTo>
                  <a:lnTo>
                    <a:pt x="6138" y="4468"/>
                  </a:lnTo>
                  <a:lnTo>
                    <a:pt x="6164" y="4618"/>
                  </a:lnTo>
                  <a:lnTo>
                    <a:pt x="6197" y="4764"/>
                  </a:lnTo>
                  <a:lnTo>
                    <a:pt x="6236" y="4908"/>
                  </a:lnTo>
                  <a:lnTo>
                    <a:pt x="6285" y="5049"/>
                  </a:lnTo>
                  <a:lnTo>
                    <a:pt x="6335" y="5186"/>
                  </a:lnTo>
                  <a:lnTo>
                    <a:pt x="6395" y="5321"/>
                  </a:lnTo>
                  <a:lnTo>
                    <a:pt x="6460" y="5451"/>
                  </a:lnTo>
                  <a:lnTo>
                    <a:pt x="6531" y="5580"/>
                  </a:lnTo>
                  <a:lnTo>
                    <a:pt x="6608" y="5701"/>
                  </a:lnTo>
                  <a:lnTo>
                    <a:pt x="6691" y="5822"/>
                  </a:lnTo>
                  <a:lnTo>
                    <a:pt x="6777" y="5939"/>
                  </a:lnTo>
                  <a:lnTo>
                    <a:pt x="6871" y="6049"/>
                  </a:lnTo>
                  <a:lnTo>
                    <a:pt x="6968" y="6156"/>
                  </a:lnTo>
                  <a:lnTo>
                    <a:pt x="7070" y="6258"/>
                  </a:lnTo>
                  <a:lnTo>
                    <a:pt x="7178" y="6357"/>
                  </a:lnTo>
                  <a:lnTo>
                    <a:pt x="7288" y="6447"/>
                  </a:lnTo>
                  <a:lnTo>
                    <a:pt x="7405" y="6536"/>
                  </a:lnTo>
                  <a:lnTo>
                    <a:pt x="7526" y="6617"/>
                  </a:lnTo>
                  <a:lnTo>
                    <a:pt x="7648" y="6694"/>
                  </a:lnTo>
                  <a:lnTo>
                    <a:pt x="7776" y="6765"/>
                  </a:lnTo>
                  <a:lnTo>
                    <a:pt x="7907" y="6828"/>
                  </a:lnTo>
                  <a:lnTo>
                    <a:pt x="8043" y="6888"/>
                  </a:lnTo>
                  <a:lnTo>
                    <a:pt x="8179" y="6941"/>
                  </a:lnTo>
                  <a:lnTo>
                    <a:pt x="8321" y="6986"/>
                  </a:lnTo>
                  <a:lnTo>
                    <a:pt x="8463" y="7025"/>
                  </a:lnTo>
                  <a:lnTo>
                    <a:pt x="8609" y="7059"/>
                  </a:lnTo>
                  <a:lnTo>
                    <a:pt x="8759" y="7085"/>
                  </a:lnTo>
                  <a:lnTo>
                    <a:pt x="8909" y="7103"/>
                  </a:lnTo>
                  <a:lnTo>
                    <a:pt x="9064" y="7114"/>
                  </a:lnTo>
                  <a:lnTo>
                    <a:pt x="9217" y="7118"/>
                  </a:lnTo>
                  <a:lnTo>
                    <a:pt x="9219" y="7118"/>
                  </a:lnTo>
                  <a:lnTo>
                    <a:pt x="9219" y="7008"/>
                  </a:lnTo>
                  <a:lnTo>
                    <a:pt x="9217" y="7008"/>
                  </a:lnTo>
                  <a:lnTo>
                    <a:pt x="9065" y="7004"/>
                  </a:lnTo>
                  <a:lnTo>
                    <a:pt x="8913" y="6992"/>
                  </a:lnTo>
                  <a:lnTo>
                    <a:pt x="8765" y="6974"/>
                  </a:lnTo>
                  <a:lnTo>
                    <a:pt x="8619" y="6949"/>
                  </a:lnTo>
                  <a:lnTo>
                    <a:pt x="8475" y="6915"/>
                  </a:lnTo>
                  <a:lnTo>
                    <a:pt x="8332" y="6875"/>
                  </a:lnTo>
                  <a:lnTo>
                    <a:pt x="8195" y="6831"/>
                  </a:lnTo>
                  <a:lnTo>
                    <a:pt x="8060" y="6777"/>
                  </a:lnTo>
                  <a:lnTo>
                    <a:pt x="7928" y="6718"/>
                  </a:lnTo>
                  <a:lnTo>
                    <a:pt x="7800" y="6653"/>
                  </a:lnTo>
                  <a:lnTo>
                    <a:pt x="7674" y="6582"/>
                  </a:lnTo>
                  <a:lnTo>
                    <a:pt x="7554" y="6504"/>
                  </a:lnTo>
                  <a:lnTo>
                    <a:pt x="7437" y="6422"/>
                  </a:lnTo>
                  <a:lnTo>
                    <a:pt x="7322" y="6334"/>
                  </a:lnTo>
                  <a:lnTo>
                    <a:pt x="7214" y="6242"/>
                  </a:lnTo>
                  <a:lnTo>
                    <a:pt x="7112" y="6143"/>
                  </a:lnTo>
                  <a:lnTo>
                    <a:pt x="7010" y="6041"/>
                  </a:lnTo>
                  <a:lnTo>
                    <a:pt x="6916" y="5934"/>
                  </a:lnTo>
                  <a:lnTo>
                    <a:pt x="6827" y="5824"/>
                  </a:lnTo>
                  <a:lnTo>
                    <a:pt x="6744" y="5708"/>
                  </a:lnTo>
                  <a:lnTo>
                    <a:pt x="6665" y="5588"/>
                  </a:lnTo>
                  <a:lnTo>
                    <a:pt x="6592" y="5463"/>
                  </a:lnTo>
                  <a:lnTo>
                    <a:pt x="6525" y="5337"/>
                  </a:lnTo>
                  <a:lnTo>
                    <a:pt x="6464" y="5204"/>
                  </a:lnTo>
                  <a:lnTo>
                    <a:pt x="6408" y="5070"/>
                  </a:lnTo>
                  <a:lnTo>
                    <a:pt x="6359" y="4934"/>
                  </a:lnTo>
                  <a:lnTo>
                    <a:pt x="6317" y="4792"/>
                  </a:lnTo>
                  <a:lnTo>
                    <a:pt x="6282" y="4649"/>
                  </a:lnTo>
                  <a:lnTo>
                    <a:pt x="6254" y="4504"/>
                  </a:lnTo>
                  <a:lnTo>
                    <a:pt x="6233" y="4356"/>
                  </a:lnTo>
                  <a:lnTo>
                    <a:pt x="6219" y="4204"/>
                  </a:lnTo>
                  <a:lnTo>
                    <a:pt x="6213" y="4052"/>
                  </a:lnTo>
                  <a:lnTo>
                    <a:pt x="6288" y="3985"/>
                  </a:lnTo>
                  <a:lnTo>
                    <a:pt x="8489" y="3985"/>
                  </a:lnTo>
                  <a:lnTo>
                    <a:pt x="8493" y="3930"/>
                  </a:lnTo>
                  <a:lnTo>
                    <a:pt x="8501" y="3877"/>
                  </a:lnTo>
                  <a:lnTo>
                    <a:pt x="6442" y="3877"/>
                  </a:lnTo>
                  <a:lnTo>
                    <a:pt x="6529" y="3825"/>
                  </a:lnTo>
                  <a:lnTo>
                    <a:pt x="6622" y="3778"/>
                  </a:lnTo>
                  <a:lnTo>
                    <a:pt x="6720" y="3734"/>
                  </a:lnTo>
                  <a:lnTo>
                    <a:pt x="6825" y="3695"/>
                  </a:lnTo>
                  <a:lnTo>
                    <a:pt x="6793" y="3644"/>
                  </a:lnTo>
                  <a:lnTo>
                    <a:pt x="6663" y="3432"/>
                  </a:lnTo>
                  <a:lnTo>
                    <a:pt x="6547" y="3247"/>
                  </a:lnTo>
                  <a:lnTo>
                    <a:pt x="6385" y="2996"/>
                  </a:lnTo>
                  <a:lnTo>
                    <a:pt x="6426" y="2888"/>
                  </a:lnTo>
                  <a:lnTo>
                    <a:pt x="6469" y="2781"/>
                  </a:lnTo>
                  <a:lnTo>
                    <a:pt x="6519" y="2679"/>
                  </a:lnTo>
                  <a:lnTo>
                    <a:pt x="6573" y="2576"/>
                  </a:lnTo>
                  <a:lnTo>
                    <a:pt x="6628" y="2475"/>
                  </a:lnTo>
                  <a:lnTo>
                    <a:pt x="6689" y="2378"/>
                  </a:lnTo>
                  <a:lnTo>
                    <a:pt x="6752" y="2284"/>
                  </a:lnTo>
                  <a:lnTo>
                    <a:pt x="6819" y="2192"/>
                  </a:lnTo>
                  <a:lnTo>
                    <a:pt x="6888" y="2103"/>
                  </a:lnTo>
                  <a:lnTo>
                    <a:pt x="6961" y="2015"/>
                  </a:lnTo>
                  <a:lnTo>
                    <a:pt x="7038" y="1933"/>
                  </a:lnTo>
                  <a:lnTo>
                    <a:pt x="7119" y="1852"/>
                  </a:lnTo>
                  <a:lnTo>
                    <a:pt x="7202" y="1773"/>
                  </a:lnTo>
                  <a:lnTo>
                    <a:pt x="7287" y="1698"/>
                  </a:lnTo>
                  <a:lnTo>
                    <a:pt x="7376" y="1627"/>
                  </a:lnTo>
                  <a:lnTo>
                    <a:pt x="7466" y="1560"/>
                  </a:lnTo>
                  <a:lnTo>
                    <a:pt x="7559" y="1494"/>
                  </a:lnTo>
                  <a:lnTo>
                    <a:pt x="7656" y="1434"/>
                  </a:lnTo>
                  <a:lnTo>
                    <a:pt x="7754" y="1376"/>
                  </a:lnTo>
                  <a:lnTo>
                    <a:pt x="7857" y="1321"/>
                  </a:lnTo>
                  <a:lnTo>
                    <a:pt x="7960" y="1272"/>
                  </a:lnTo>
                  <a:lnTo>
                    <a:pt x="8064" y="1224"/>
                  </a:lnTo>
                  <a:lnTo>
                    <a:pt x="8172" y="1183"/>
                  </a:lnTo>
                  <a:lnTo>
                    <a:pt x="8282" y="1143"/>
                  </a:lnTo>
                  <a:lnTo>
                    <a:pt x="8394" y="1110"/>
                  </a:lnTo>
                  <a:lnTo>
                    <a:pt x="8507" y="1080"/>
                  </a:lnTo>
                  <a:lnTo>
                    <a:pt x="8621" y="1055"/>
                  </a:lnTo>
                  <a:lnTo>
                    <a:pt x="8737" y="1033"/>
                  </a:lnTo>
                  <a:lnTo>
                    <a:pt x="8855" y="1017"/>
                  </a:lnTo>
                  <a:lnTo>
                    <a:pt x="8975" y="1005"/>
                  </a:lnTo>
                  <a:lnTo>
                    <a:pt x="9096" y="997"/>
                  </a:lnTo>
                  <a:lnTo>
                    <a:pt x="9217" y="995"/>
                  </a:lnTo>
                  <a:lnTo>
                    <a:pt x="9219" y="997"/>
                  </a:lnTo>
                  <a:lnTo>
                    <a:pt x="9219" y="887"/>
                  </a:lnTo>
                  <a:lnTo>
                    <a:pt x="9217" y="885"/>
                  </a:lnTo>
                  <a:lnTo>
                    <a:pt x="9091" y="889"/>
                  </a:lnTo>
                  <a:lnTo>
                    <a:pt x="8967" y="895"/>
                  </a:lnTo>
                  <a:lnTo>
                    <a:pt x="8844" y="908"/>
                  </a:lnTo>
                  <a:lnTo>
                    <a:pt x="8722" y="924"/>
                  </a:lnTo>
                  <a:lnTo>
                    <a:pt x="8601" y="947"/>
                  </a:lnTo>
                  <a:lnTo>
                    <a:pt x="8483" y="974"/>
                  </a:lnTo>
                  <a:lnTo>
                    <a:pt x="8366" y="1003"/>
                  </a:lnTo>
                  <a:lnTo>
                    <a:pt x="8250" y="1039"/>
                  </a:lnTo>
                  <a:lnTo>
                    <a:pt x="8138" y="1078"/>
                  </a:lnTo>
                  <a:lnTo>
                    <a:pt x="8027" y="1122"/>
                  </a:lnTo>
                  <a:lnTo>
                    <a:pt x="7916" y="1169"/>
                  </a:lnTo>
                  <a:lnTo>
                    <a:pt x="7810" y="1222"/>
                  </a:lnTo>
                  <a:lnTo>
                    <a:pt x="7706" y="1277"/>
                  </a:lnTo>
                  <a:lnTo>
                    <a:pt x="7602" y="1337"/>
                  </a:lnTo>
                  <a:lnTo>
                    <a:pt x="7504" y="1400"/>
                  </a:lnTo>
                  <a:lnTo>
                    <a:pt x="7407" y="1467"/>
                  </a:lnTo>
                  <a:lnTo>
                    <a:pt x="7313" y="1536"/>
                  </a:lnTo>
                  <a:lnTo>
                    <a:pt x="7222" y="1611"/>
                  </a:lnTo>
                  <a:lnTo>
                    <a:pt x="7133" y="1688"/>
                  </a:lnTo>
                  <a:lnTo>
                    <a:pt x="7046" y="1767"/>
                  </a:lnTo>
                  <a:lnTo>
                    <a:pt x="6963" y="1852"/>
                  </a:lnTo>
                  <a:lnTo>
                    <a:pt x="6884" y="1936"/>
                  </a:lnTo>
                  <a:lnTo>
                    <a:pt x="6809" y="2028"/>
                  </a:lnTo>
                  <a:lnTo>
                    <a:pt x="6736" y="2120"/>
                  </a:lnTo>
                  <a:lnTo>
                    <a:pt x="6667" y="2215"/>
                  </a:lnTo>
                  <a:lnTo>
                    <a:pt x="6600" y="2312"/>
                  </a:lnTo>
                  <a:lnTo>
                    <a:pt x="6539" y="2412"/>
                  </a:lnTo>
                  <a:lnTo>
                    <a:pt x="6479" y="2515"/>
                  </a:lnTo>
                  <a:lnTo>
                    <a:pt x="6424" y="2619"/>
                  </a:lnTo>
                  <a:lnTo>
                    <a:pt x="6375" y="2728"/>
                  </a:lnTo>
                  <a:lnTo>
                    <a:pt x="6327" y="2836"/>
                  </a:lnTo>
                  <a:lnTo>
                    <a:pt x="6285" y="2949"/>
                  </a:lnTo>
                  <a:lnTo>
                    <a:pt x="5479" y="2949"/>
                  </a:lnTo>
                  <a:lnTo>
                    <a:pt x="5524" y="2797"/>
                  </a:lnTo>
                  <a:lnTo>
                    <a:pt x="5576" y="2650"/>
                  </a:lnTo>
                  <a:lnTo>
                    <a:pt x="5633" y="2501"/>
                  </a:lnTo>
                  <a:lnTo>
                    <a:pt x="5696" y="2359"/>
                  </a:lnTo>
                  <a:lnTo>
                    <a:pt x="5765" y="2219"/>
                  </a:lnTo>
                  <a:lnTo>
                    <a:pt x="5838" y="2080"/>
                  </a:lnTo>
                  <a:lnTo>
                    <a:pt x="5919" y="1947"/>
                  </a:lnTo>
                  <a:lnTo>
                    <a:pt x="6003" y="1816"/>
                  </a:lnTo>
                  <a:lnTo>
                    <a:pt x="6092" y="1690"/>
                  </a:lnTo>
                  <a:lnTo>
                    <a:pt x="6188" y="1568"/>
                  </a:lnTo>
                  <a:lnTo>
                    <a:pt x="6286" y="1449"/>
                  </a:lnTo>
                  <a:lnTo>
                    <a:pt x="6390" y="1332"/>
                  </a:lnTo>
                  <a:lnTo>
                    <a:pt x="6497" y="1222"/>
                  </a:lnTo>
                  <a:lnTo>
                    <a:pt x="6612" y="1115"/>
                  </a:lnTo>
                  <a:lnTo>
                    <a:pt x="6728" y="1015"/>
                  </a:lnTo>
                  <a:lnTo>
                    <a:pt x="6848" y="916"/>
                  </a:lnTo>
                  <a:lnTo>
                    <a:pt x="6973" y="826"/>
                  </a:lnTo>
                  <a:lnTo>
                    <a:pt x="7101" y="737"/>
                  </a:lnTo>
                  <a:lnTo>
                    <a:pt x="7233" y="654"/>
                  </a:lnTo>
                  <a:lnTo>
                    <a:pt x="7369" y="578"/>
                  </a:lnTo>
                  <a:lnTo>
                    <a:pt x="7508" y="506"/>
                  </a:lnTo>
                  <a:lnTo>
                    <a:pt x="7649" y="439"/>
                  </a:lnTo>
                  <a:lnTo>
                    <a:pt x="7796" y="377"/>
                  </a:lnTo>
                  <a:lnTo>
                    <a:pt x="7944" y="322"/>
                  </a:lnTo>
                  <a:lnTo>
                    <a:pt x="8094" y="275"/>
                  </a:lnTo>
                  <a:lnTo>
                    <a:pt x="8248" y="232"/>
                  </a:lnTo>
                  <a:lnTo>
                    <a:pt x="8404" y="194"/>
                  </a:lnTo>
                  <a:lnTo>
                    <a:pt x="8562" y="165"/>
                  </a:lnTo>
                  <a:lnTo>
                    <a:pt x="8724" y="141"/>
                  </a:lnTo>
                  <a:lnTo>
                    <a:pt x="8886" y="123"/>
                  </a:lnTo>
                  <a:lnTo>
                    <a:pt x="9051" y="113"/>
                  </a:lnTo>
                  <a:lnTo>
                    <a:pt x="9217" y="110"/>
                  </a:lnTo>
                  <a:lnTo>
                    <a:pt x="9219" y="112"/>
                  </a:lnTo>
                  <a:close/>
                </a:path>
              </a:pathLst>
            </a:custGeom>
            <a:blipFill rotWithShape="0">
              <a:blip r:embed="rId8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1971000" y="1168920"/>
              <a:ext cx="645840" cy="101160"/>
            </a:xfrm>
            <a:custGeom>
              <a:avLst/>
              <a:gdLst/>
              <a:ahLst/>
              <a:rect l="l" t="t" r="r" b="b"/>
              <a:pathLst>
                <a:path w="5039" h="866">
                  <a:moveTo>
                    <a:pt x="4268" y="866"/>
                  </a:moveTo>
                  <a:lnTo>
                    <a:pt x="4401" y="785"/>
                  </a:lnTo>
                  <a:lnTo>
                    <a:pt x="4524" y="704"/>
                  </a:lnTo>
                  <a:lnTo>
                    <a:pt x="4632" y="623"/>
                  </a:lnTo>
                  <a:lnTo>
                    <a:pt x="4725" y="547"/>
                  </a:lnTo>
                  <a:lnTo>
                    <a:pt x="4804" y="477"/>
                  </a:lnTo>
                  <a:lnTo>
                    <a:pt x="4867" y="414"/>
                  </a:lnTo>
                  <a:lnTo>
                    <a:pt x="4914" y="361"/>
                  </a:lnTo>
                  <a:lnTo>
                    <a:pt x="4948" y="319"/>
                  </a:lnTo>
                  <a:lnTo>
                    <a:pt x="4994" y="259"/>
                  </a:lnTo>
                  <a:lnTo>
                    <a:pt x="5016" y="225"/>
                  </a:lnTo>
                  <a:lnTo>
                    <a:pt x="5031" y="189"/>
                  </a:lnTo>
                  <a:lnTo>
                    <a:pt x="5035" y="171"/>
                  </a:lnTo>
                  <a:lnTo>
                    <a:pt x="5039" y="152"/>
                  </a:lnTo>
                  <a:lnTo>
                    <a:pt x="5039" y="134"/>
                  </a:lnTo>
                  <a:lnTo>
                    <a:pt x="5035" y="115"/>
                  </a:lnTo>
                  <a:lnTo>
                    <a:pt x="5029" y="97"/>
                  </a:lnTo>
                  <a:lnTo>
                    <a:pt x="5019" y="76"/>
                  </a:lnTo>
                  <a:lnTo>
                    <a:pt x="5003" y="58"/>
                  </a:lnTo>
                  <a:lnTo>
                    <a:pt x="4984" y="42"/>
                  </a:lnTo>
                  <a:lnTo>
                    <a:pt x="4953" y="13"/>
                  </a:lnTo>
                  <a:lnTo>
                    <a:pt x="4929" y="2"/>
                  </a:lnTo>
                  <a:lnTo>
                    <a:pt x="4914" y="0"/>
                  </a:lnTo>
                  <a:lnTo>
                    <a:pt x="4905" y="3"/>
                  </a:lnTo>
                  <a:lnTo>
                    <a:pt x="4895" y="13"/>
                  </a:lnTo>
                  <a:lnTo>
                    <a:pt x="4883" y="26"/>
                  </a:lnTo>
                  <a:lnTo>
                    <a:pt x="4865" y="34"/>
                  </a:lnTo>
                  <a:lnTo>
                    <a:pt x="4840" y="37"/>
                  </a:lnTo>
                  <a:lnTo>
                    <a:pt x="0" y="37"/>
                  </a:lnTo>
                  <a:lnTo>
                    <a:pt x="50" y="84"/>
                  </a:lnTo>
                  <a:lnTo>
                    <a:pt x="95" y="134"/>
                  </a:lnTo>
                  <a:lnTo>
                    <a:pt x="4840" y="134"/>
                  </a:lnTo>
                  <a:lnTo>
                    <a:pt x="4862" y="132"/>
                  </a:lnTo>
                  <a:lnTo>
                    <a:pt x="4883" y="134"/>
                  </a:lnTo>
                  <a:lnTo>
                    <a:pt x="4893" y="136"/>
                  </a:lnTo>
                  <a:lnTo>
                    <a:pt x="4901" y="142"/>
                  </a:lnTo>
                  <a:lnTo>
                    <a:pt x="4905" y="147"/>
                  </a:lnTo>
                  <a:lnTo>
                    <a:pt x="4903" y="160"/>
                  </a:lnTo>
                  <a:lnTo>
                    <a:pt x="4898" y="175"/>
                  </a:lnTo>
                  <a:lnTo>
                    <a:pt x="4890" y="189"/>
                  </a:lnTo>
                  <a:lnTo>
                    <a:pt x="4877" y="201"/>
                  </a:lnTo>
                  <a:lnTo>
                    <a:pt x="4864" y="211"/>
                  </a:lnTo>
                  <a:lnTo>
                    <a:pt x="4846" y="219"/>
                  </a:lnTo>
                  <a:lnTo>
                    <a:pt x="4828" y="225"/>
                  </a:lnTo>
                  <a:lnTo>
                    <a:pt x="4806" y="228"/>
                  </a:lnTo>
                  <a:lnTo>
                    <a:pt x="4781" y="228"/>
                  </a:lnTo>
                  <a:lnTo>
                    <a:pt x="172" y="228"/>
                  </a:lnTo>
                  <a:lnTo>
                    <a:pt x="222" y="301"/>
                  </a:lnTo>
                  <a:lnTo>
                    <a:pt x="267" y="377"/>
                  </a:lnTo>
                  <a:lnTo>
                    <a:pt x="306" y="453"/>
                  </a:lnTo>
                  <a:lnTo>
                    <a:pt x="340" y="532"/>
                  </a:lnTo>
                  <a:lnTo>
                    <a:pt x="368" y="613"/>
                  </a:lnTo>
                  <a:lnTo>
                    <a:pt x="392" y="696"/>
                  </a:lnTo>
                  <a:lnTo>
                    <a:pt x="411" y="782"/>
                  </a:lnTo>
                  <a:lnTo>
                    <a:pt x="424" y="866"/>
                  </a:lnTo>
                  <a:lnTo>
                    <a:pt x="4268" y="866"/>
                  </a:lnTo>
                  <a:close/>
                </a:path>
              </a:pathLst>
            </a:custGeom>
            <a:blipFill rotWithShape="0">
              <a:blip r:embed="rId9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1562040" y="1277640"/>
              <a:ext cx="929880" cy="375120"/>
            </a:xfrm>
            <a:custGeom>
              <a:avLst/>
              <a:gdLst/>
              <a:ahLst/>
              <a:rect l="l" t="t" r="r" b="b"/>
              <a:pathLst>
                <a:path w="7253" h="3231">
                  <a:moveTo>
                    <a:pt x="6996" y="231"/>
                  </a:moveTo>
                  <a:lnTo>
                    <a:pt x="7020" y="229"/>
                  </a:lnTo>
                  <a:lnTo>
                    <a:pt x="7042" y="225"/>
                  </a:lnTo>
                  <a:lnTo>
                    <a:pt x="7062" y="220"/>
                  </a:lnTo>
                  <a:lnTo>
                    <a:pt x="7077" y="212"/>
                  </a:lnTo>
                  <a:lnTo>
                    <a:pt x="7093" y="202"/>
                  </a:lnTo>
                  <a:lnTo>
                    <a:pt x="7103" y="189"/>
                  </a:lnTo>
                  <a:lnTo>
                    <a:pt x="7113" y="176"/>
                  </a:lnTo>
                  <a:lnTo>
                    <a:pt x="7119" y="160"/>
                  </a:lnTo>
                  <a:lnTo>
                    <a:pt x="7119" y="150"/>
                  </a:lnTo>
                  <a:lnTo>
                    <a:pt x="7114" y="142"/>
                  </a:lnTo>
                  <a:lnTo>
                    <a:pt x="7107" y="136"/>
                  </a:lnTo>
                  <a:lnTo>
                    <a:pt x="7098" y="134"/>
                  </a:lnTo>
                  <a:lnTo>
                    <a:pt x="7075" y="134"/>
                  </a:lnTo>
                  <a:lnTo>
                    <a:pt x="7054" y="134"/>
                  </a:lnTo>
                  <a:lnTo>
                    <a:pt x="3628" y="134"/>
                  </a:lnTo>
                  <a:lnTo>
                    <a:pt x="3623" y="37"/>
                  </a:lnTo>
                  <a:lnTo>
                    <a:pt x="7054" y="37"/>
                  </a:lnTo>
                  <a:lnTo>
                    <a:pt x="7080" y="35"/>
                  </a:lnTo>
                  <a:lnTo>
                    <a:pt x="7098" y="26"/>
                  </a:lnTo>
                  <a:lnTo>
                    <a:pt x="7109" y="16"/>
                  </a:lnTo>
                  <a:lnTo>
                    <a:pt x="7119" y="6"/>
                  </a:lnTo>
                  <a:lnTo>
                    <a:pt x="7129" y="0"/>
                  </a:lnTo>
                  <a:lnTo>
                    <a:pt x="7145" y="3"/>
                  </a:lnTo>
                  <a:lnTo>
                    <a:pt x="7166" y="14"/>
                  </a:lnTo>
                  <a:lnTo>
                    <a:pt x="7200" y="42"/>
                  </a:lnTo>
                  <a:lnTo>
                    <a:pt x="7219" y="59"/>
                  </a:lnTo>
                  <a:lnTo>
                    <a:pt x="7234" y="79"/>
                  </a:lnTo>
                  <a:lnTo>
                    <a:pt x="7243" y="97"/>
                  </a:lnTo>
                  <a:lnTo>
                    <a:pt x="7252" y="116"/>
                  </a:lnTo>
                  <a:lnTo>
                    <a:pt x="7253" y="134"/>
                  </a:lnTo>
                  <a:lnTo>
                    <a:pt x="7253" y="152"/>
                  </a:lnTo>
                  <a:lnTo>
                    <a:pt x="7245" y="189"/>
                  </a:lnTo>
                  <a:lnTo>
                    <a:pt x="7229" y="225"/>
                  </a:lnTo>
                  <a:lnTo>
                    <a:pt x="7208" y="259"/>
                  </a:lnTo>
                  <a:lnTo>
                    <a:pt x="7163" y="322"/>
                  </a:lnTo>
                  <a:lnTo>
                    <a:pt x="7131" y="361"/>
                  </a:lnTo>
                  <a:lnTo>
                    <a:pt x="7082" y="414"/>
                  </a:lnTo>
                  <a:lnTo>
                    <a:pt x="7019" y="477"/>
                  </a:lnTo>
                  <a:lnTo>
                    <a:pt x="6939" y="549"/>
                  </a:lnTo>
                  <a:lnTo>
                    <a:pt x="6847" y="623"/>
                  </a:lnTo>
                  <a:lnTo>
                    <a:pt x="6738" y="704"/>
                  </a:lnTo>
                  <a:lnTo>
                    <a:pt x="6617" y="785"/>
                  </a:lnTo>
                  <a:lnTo>
                    <a:pt x="6551" y="827"/>
                  </a:lnTo>
                  <a:lnTo>
                    <a:pt x="6481" y="866"/>
                  </a:lnTo>
                  <a:lnTo>
                    <a:pt x="3602" y="866"/>
                  </a:lnTo>
                  <a:lnTo>
                    <a:pt x="3574" y="950"/>
                  </a:lnTo>
                  <a:lnTo>
                    <a:pt x="3542" y="1028"/>
                  </a:lnTo>
                  <a:lnTo>
                    <a:pt x="3509" y="1103"/>
                  </a:lnTo>
                  <a:lnTo>
                    <a:pt x="3476" y="1178"/>
                  </a:lnTo>
                  <a:lnTo>
                    <a:pt x="3403" y="1316"/>
                  </a:lnTo>
                  <a:lnTo>
                    <a:pt x="3324" y="1442"/>
                  </a:lnTo>
                  <a:lnTo>
                    <a:pt x="3257" y="1544"/>
                  </a:lnTo>
                  <a:lnTo>
                    <a:pt x="3184" y="1640"/>
                  </a:lnTo>
                  <a:lnTo>
                    <a:pt x="3110" y="1737"/>
                  </a:lnTo>
                  <a:lnTo>
                    <a:pt x="3034" y="1829"/>
                  </a:lnTo>
                  <a:lnTo>
                    <a:pt x="2954" y="1920"/>
                  </a:lnTo>
                  <a:lnTo>
                    <a:pt x="2872" y="2009"/>
                  </a:lnTo>
                  <a:lnTo>
                    <a:pt x="2786" y="2094"/>
                  </a:lnTo>
                  <a:lnTo>
                    <a:pt x="2700" y="2177"/>
                  </a:lnTo>
                  <a:lnTo>
                    <a:pt x="2610" y="2258"/>
                  </a:lnTo>
                  <a:lnTo>
                    <a:pt x="2516" y="2334"/>
                  </a:lnTo>
                  <a:lnTo>
                    <a:pt x="2424" y="2410"/>
                  </a:lnTo>
                  <a:lnTo>
                    <a:pt x="2325" y="2483"/>
                  </a:lnTo>
                  <a:lnTo>
                    <a:pt x="2226" y="2551"/>
                  </a:lnTo>
                  <a:lnTo>
                    <a:pt x="2126" y="2619"/>
                  </a:lnTo>
                  <a:lnTo>
                    <a:pt x="2022" y="2682"/>
                  </a:lnTo>
                  <a:lnTo>
                    <a:pt x="1917" y="2740"/>
                  </a:lnTo>
                  <a:lnTo>
                    <a:pt x="1810" y="2798"/>
                  </a:lnTo>
                  <a:lnTo>
                    <a:pt x="1700" y="2852"/>
                  </a:lnTo>
                  <a:lnTo>
                    <a:pt x="1589" y="2902"/>
                  </a:lnTo>
                  <a:lnTo>
                    <a:pt x="1477" y="2950"/>
                  </a:lnTo>
                  <a:lnTo>
                    <a:pt x="1362" y="2993"/>
                  </a:lnTo>
                  <a:lnTo>
                    <a:pt x="1245" y="3033"/>
                  </a:lnTo>
                  <a:lnTo>
                    <a:pt x="1127" y="3070"/>
                  </a:lnTo>
                  <a:lnTo>
                    <a:pt x="1006" y="3104"/>
                  </a:lnTo>
                  <a:lnTo>
                    <a:pt x="886" y="3132"/>
                  </a:lnTo>
                  <a:lnTo>
                    <a:pt x="763" y="3158"/>
                  </a:lnTo>
                  <a:lnTo>
                    <a:pt x="640" y="3181"/>
                  </a:lnTo>
                  <a:lnTo>
                    <a:pt x="513" y="3198"/>
                  </a:lnTo>
                  <a:lnTo>
                    <a:pt x="387" y="3213"/>
                  </a:lnTo>
                  <a:lnTo>
                    <a:pt x="261" y="3223"/>
                  </a:lnTo>
                  <a:lnTo>
                    <a:pt x="130" y="3229"/>
                  </a:lnTo>
                  <a:lnTo>
                    <a:pt x="0" y="3231"/>
                  </a:lnTo>
                  <a:lnTo>
                    <a:pt x="0" y="3122"/>
                  </a:lnTo>
                  <a:lnTo>
                    <a:pt x="127" y="3119"/>
                  </a:lnTo>
                  <a:lnTo>
                    <a:pt x="253" y="3114"/>
                  </a:lnTo>
                  <a:lnTo>
                    <a:pt x="376" y="3104"/>
                  </a:lnTo>
                  <a:lnTo>
                    <a:pt x="499" y="3090"/>
                  </a:lnTo>
                  <a:lnTo>
                    <a:pt x="622" y="3072"/>
                  </a:lnTo>
                  <a:lnTo>
                    <a:pt x="742" y="3051"/>
                  </a:lnTo>
                  <a:lnTo>
                    <a:pt x="862" y="3025"/>
                  </a:lnTo>
                  <a:lnTo>
                    <a:pt x="978" y="2998"/>
                  </a:lnTo>
                  <a:lnTo>
                    <a:pt x="1095" y="2964"/>
                  </a:lnTo>
                  <a:lnTo>
                    <a:pt x="1210" y="2928"/>
                  </a:lnTo>
                  <a:lnTo>
                    <a:pt x="1324" y="2891"/>
                  </a:lnTo>
                  <a:lnTo>
                    <a:pt x="1435" y="2847"/>
                  </a:lnTo>
                  <a:lnTo>
                    <a:pt x="1545" y="2802"/>
                  </a:lnTo>
                  <a:lnTo>
                    <a:pt x="1653" y="2753"/>
                  </a:lnTo>
                  <a:lnTo>
                    <a:pt x="1760" y="2701"/>
                  </a:lnTo>
                  <a:lnTo>
                    <a:pt x="1863" y="2645"/>
                  </a:lnTo>
                  <a:lnTo>
                    <a:pt x="1966" y="2587"/>
                  </a:lnTo>
                  <a:lnTo>
                    <a:pt x="2066" y="2526"/>
                  </a:lnTo>
                  <a:lnTo>
                    <a:pt x="2165" y="2460"/>
                  </a:lnTo>
                  <a:lnTo>
                    <a:pt x="2262" y="2394"/>
                  </a:lnTo>
                  <a:lnTo>
                    <a:pt x="2357" y="2323"/>
                  </a:lnTo>
                  <a:lnTo>
                    <a:pt x="2448" y="2250"/>
                  </a:lnTo>
                  <a:lnTo>
                    <a:pt x="2538" y="2175"/>
                  </a:lnTo>
                  <a:lnTo>
                    <a:pt x="2625" y="2096"/>
                  </a:lnTo>
                  <a:lnTo>
                    <a:pt x="2710" y="2015"/>
                  </a:lnTo>
                  <a:lnTo>
                    <a:pt x="2793" y="1932"/>
                  </a:lnTo>
                  <a:lnTo>
                    <a:pt x="2872" y="1847"/>
                  </a:lnTo>
                  <a:lnTo>
                    <a:pt x="2951" y="1758"/>
                  </a:lnTo>
                  <a:lnTo>
                    <a:pt x="3026" y="1667"/>
                  </a:lnTo>
                  <a:lnTo>
                    <a:pt x="3097" y="1575"/>
                  </a:lnTo>
                  <a:lnTo>
                    <a:pt x="3166" y="1481"/>
                  </a:lnTo>
                  <a:lnTo>
                    <a:pt x="3233" y="1382"/>
                  </a:lnTo>
                  <a:lnTo>
                    <a:pt x="3302" y="1269"/>
                  </a:lnTo>
                  <a:lnTo>
                    <a:pt x="3369" y="1144"/>
                  </a:lnTo>
                  <a:lnTo>
                    <a:pt x="3430" y="1010"/>
                  </a:lnTo>
                  <a:lnTo>
                    <a:pt x="3485" y="866"/>
                  </a:lnTo>
                  <a:lnTo>
                    <a:pt x="3487" y="862"/>
                  </a:lnTo>
                  <a:lnTo>
                    <a:pt x="3515" y="782"/>
                  </a:lnTo>
                  <a:lnTo>
                    <a:pt x="3541" y="702"/>
                  </a:lnTo>
                  <a:lnTo>
                    <a:pt x="3563" y="621"/>
                  </a:lnTo>
                  <a:lnTo>
                    <a:pt x="3582" y="543"/>
                  </a:lnTo>
                  <a:lnTo>
                    <a:pt x="3598" y="464"/>
                  </a:lnTo>
                  <a:lnTo>
                    <a:pt x="3610" y="385"/>
                  </a:lnTo>
                  <a:lnTo>
                    <a:pt x="3620" y="307"/>
                  </a:lnTo>
                  <a:lnTo>
                    <a:pt x="3623" y="231"/>
                  </a:lnTo>
                  <a:lnTo>
                    <a:pt x="6996" y="231"/>
                  </a:lnTo>
                  <a:close/>
                </a:path>
              </a:pathLst>
            </a:custGeom>
            <a:blipFill rotWithShape="0">
              <a:blip r:embed="rId9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748800" y="1470600"/>
              <a:ext cx="80640" cy="130680"/>
            </a:xfrm>
            <a:custGeom>
              <a:avLst/>
              <a:gdLst/>
              <a:ahLst/>
              <a:rect l="l" t="t" r="r" b="b"/>
              <a:pathLst>
                <a:path w="636" h="1132">
                  <a:moveTo>
                    <a:pt x="0" y="991"/>
                  </a:moveTo>
                  <a:lnTo>
                    <a:pt x="0" y="1132"/>
                  </a:lnTo>
                  <a:lnTo>
                    <a:pt x="636" y="818"/>
                  </a:lnTo>
                  <a:lnTo>
                    <a:pt x="238" y="0"/>
                  </a:lnTo>
                  <a:lnTo>
                    <a:pt x="0" y="115"/>
                  </a:lnTo>
                  <a:lnTo>
                    <a:pt x="0" y="240"/>
                  </a:lnTo>
                  <a:lnTo>
                    <a:pt x="177" y="151"/>
                  </a:lnTo>
                  <a:lnTo>
                    <a:pt x="482" y="747"/>
                  </a:lnTo>
                  <a:lnTo>
                    <a:pt x="0" y="991"/>
                  </a:lnTo>
                  <a:close/>
                </a:path>
              </a:pathLst>
            </a:custGeom>
            <a:blipFill rotWithShape="0">
              <a:blip r:embed="rId9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655560" y="1483920"/>
              <a:ext cx="93240" cy="137160"/>
            </a:xfrm>
            <a:custGeom>
              <a:avLst/>
              <a:gdLst/>
              <a:ahLst/>
              <a:rect l="l" t="t" r="r" b="b"/>
              <a:pathLst>
                <a:path w="725" h="1180">
                  <a:moveTo>
                    <a:pt x="725" y="125"/>
                  </a:moveTo>
                  <a:lnTo>
                    <a:pt x="725" y="0"/>
                  </a:lnTo>
                  <a:lnTo>
                    <a:pt x="0" y="353"/>
                  </a:lnTo>
                  <a:lnTo>
                    <a:pt x="49" y="450"/>
                  </a:lnTo>
                  <a:lnTo>
                    <a:pt x="123" y="436"/>
                  </a:lnTo>
                  <a:lnTo>
                    <a:pt x="416" y="1034"/>
                  </a:lnTo>
                  <a:lnTo>
                    <a:pt x="351" y="1090"/>
                  </a:lnTo>
                  <a:lnTo>
                    <a:pt x="392" y="1180"/>
                  </a:lnTo>
                  <a:lnTo>
                    <a:pt x="725" y="1017"/>
                  </a:lnTo>
                  <a:lnTo>
                    <a:pt x="725" y="876"/>
                  </a:lnTo>
                  <a:lnTo>
                    <a:pt x="520" y="981"/>
                  </a:lnTo>
                  <a:lnTo>
                    <a:pt x="238" y="373"/>
                  </a:lnTo>
                  <a:lnTo>
                    <a:pt x="725" y="125"/>
                  </a:lnTo>
                  <a:close/>
                </a:path>
              </a:pathLst>
            </a:custGeom>
            <a:blipFill rotWithShape="0">
              <a:blip r:embed="rId9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694440" y="1499400"/>
              <a:ext cx="102240" cy="90720"/>
            </a:xfrm>
            <a:custGeom>
              <a:avLst/>
              <a:gdLst/>
              <a:ahLst/>
              <a:rect l="l" t="t" r="r" b="b"/>
              <a:pathLst>
                <a:path w="797" h="782">
                  <a:moveTo>
                    <a:pt x="0" y="247"/>
                  </a:moveTo>
                  <a:lnTo>
                    <a:pt x="76" y="193"/>
                  </a:lnTo>
                  <a:lnTo>
                    <a:pt x="196" y="421"/>
                  </a:lnTo>
                  <a:lnTo>
                    <a:pt x="348" y="351"/>
                  </a:lnTo>
                  <a:lnTo>
                    <a:pt x="264" y="168"/>
                  </a:lnTo>
                  <a:lnTo>
                    <a:pt x="358" y="123"/>
                  </a:lnTo>
                  <a:lnTo>
                    <a:pt x="450" y="280"/>
                  </a:lnTo>
                  <a:lnTo>
                    <a:pt x="554" y="251"/>
                  </a:lnTo>
                  <a:lnTo>
                    <a:pt x="450" y="44"/>
                  </a:lnTo>
                  <a:lnTo>
                    <a:pt x="550" y="0"/>
                  </a:lnTo>
                  <a:lnTo>
                    <a:pt x="797" y="488"/>
                  </a:lnTo>
                  <a:lnTo>
                    <a:pt x="714" y="544"/>
                  </a:lnTo>
                  <a:lnTo>
                    <a:pt x="605" y="371"/>
                  </a:lnTo>
                  <a:lnTo>
                    <a:pt x="502" y="405"/>
                  </a:lnTo>
                  <a:lnTo>
                    <a:pt x="586" y="570"/>
                  </a:lnTo>
                  <a:lnTo>
                    <a:pt x="515" y="624"/>
                  </a:lnTo>
                  <a:lnTo>
                    <a:pt x="394" y="476"/>
                  </a:lnTo>
                  <a:lnTo>
                    <a:pt x="272" y="517"/>
                  </a:lnTo>
                  <a:lnTo>
                    <a:pt x="351" y="711"/>
                  </a:lnTo>
                  <a:lnTo>
                    <a:pt x="337" y="768"/>
                  </a:lnTo>
                  <a:lnTo>
                    <a:pt x="267" y="782"/>
                  </a:lnTo>
                  <a:lnTo>
                    <a:pt x="0" y="247"/>
                  </a:lnTo>
                  <a:close/>
                </a:path>
              </a:pathLst>
            </a:custGeom>
            <a:blipFill rotWithShape="0">
              <a:blip r:embed="rId94"/>
              <a:srcRect/>
              <a:stretch/>
            </a:blip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266" name=""/>
            <p:cNvSpPr/>
            <p:nvPr/>
          </p:nvSpPr>
          <p:spPr>
            <a:xfrm>
              <a:off x="736560" y="1559880"/>
              <a:ext cx="15120" cy="12600"/>
            </a:xfrm>
            <a:custGeom>
              <a:avLst/>
              <a:gdLst/>
              <a:ahLst/>
              <a:rect l="l" t="t" r="r" b="b"/>
              <a:pathLst>
                <a:path w="122" h="115">
                  <a:moveTo>
                    <a:pt x="1" y="42"/>
                  </a:moveTo>
                  <a:lnTo>
                    <a:pt x="0" y="86"/>
                  </a:lnTo>
                  <a:lnTo>
                    <a:pt x="69" y="115"/>
                  </a:lnTo>
                  <a:lnTo>
                    <a:pt x="122" y="36"/>
                  </a:lnTo>
                  <a:lnTo>
                    <a:pt x="87" y="8"/>
                  </a:lnTo>
                  <a:lnTo>
                    <a:pt x="55" y="0"/>
                  </a:lnTo>
                  <a:lnTo>
                    <a:pt x="1" y="42"/>
                  </a:lnTo>
                  <a:close/>
                </a:path>
              </a:pathLst>
            </a:custGeom>
            <a:blipFill rotWithShape="0">
              <a:blip r:embed="rId95"/>
              <a:srcRect/>
              <a:stretch/>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267" name=""/>
            <p:cNvSpPr/>
            <p:nvPr/>
          </p:nvSpPr>
          <p:spPr>
            <a:xfrm>
              <a:off x="731520" y="1592280"/>
              <a:ext cx="134280" cy="83520"/>
            </a:xfrm>
            <a:custGeom>
              <a:avLst/>
              <a:gdLst/>
              <a:ahLst/>
              <a:rect l="l" t="t" r="r" b="b"/>
              <a:pathLst>
                <a:path w="1047" h="718">
                  <a:moveTo>
                    <a:pt x="0" y="670"/>
                  </a:moveTo>
                  <a:lnTo>
                    <a:pt x="7" y="606"/>
                  </a:lnTo>
                  <a:lnTo>
                    <a:pt x="369" y="314"/>
                  </a:lnTo>
                  <a:lnTo>
                    <a:pt x="742" y="12"/>
                  </a:lnTo>
                  <a:lnTo>
                    <a:pt x="759" y="4"/>
                  </a:lnTo>
                  <a:lnTo>
                    <a:pt x="781" y="0"/>
                  </a:lnTo>
                  <a:lnTo>
                    <a:pt x="795" y="3"/>
                  </a:lnTo>
                  <a:lnTo>
                    <a:pt x="806" y="6"/>
                  </a:lnTo>
                  <a:lnTo>
                    <a:pt x="821" y="12"/>
                  </a:lnTo>
                  <a:lnTo>
                    <a:pt x="832" y="24"/>
                  </a:lnTo>
                  <a:lnTo>
                    <a:pt x="952" y="174"/>
                  </a:lnTo>
                  <a:lnTo>
                    <a:pt x="1047" y="296"/>
                  </a:lnTo>
                  <a:lnTo>
                    <a:pt x="717" y="406"/>
                  </a:lnTo>
                  <a:lnTo>
                    <a:pt x="690" y="419"/>
                  </a:lnTo>
                  <a:lnTo>
                    <a:pt x="670" y="437"/>
                  </a:lnTo>
                  <a:lnTo>
                    <a:pt x="657" y="456"/>
                  </a:lnTo>
                  <a:lnTo>
                    <a:pt x="645" y="484"/>
                  </a:lnTo>
                  <a:lnTo>
                    <a:pt x="631" y="518"/>
                  </a:lnTo>
                  <a:lnTo>
                    <a:pt x="607" y="558"/>
                  </a:lnTo>
                  <a:lnTo>
                    <a:pt x="591" y="582"/>
                  </a:lnTo>
                  <a:lnTo>
                    <a:pt x="570" y="606"/>
                  </a:lnTo>
                  <a:lnTo>
                    <a:pt x="546" y="630"/>
                  </a:lnTo>
                  <a:lnTo>
                    <a:pt x="515" y="654"/>
                  </a:lnTo>
                  <a:lnTo>
                    <a:pt x="460" y="693"/>
                  </a:lnTo>
                  <a:lnTo>
                    <a:pt x="436" y="707"/>
                  </a:lnTo>
                  <a:lnTo>
                    <a:pt x="416" y="715"/>
                  </a:lnTo>
                  <a:lnTo>
                    <a:pt x="398" y="718"/>
                  </a:lnTo>
                  <a:lnTo>
                    <a:pt x="382" y="718"/>
                  </a:lnTo>
                  <a:lnTo>
                    <a:pt x="364" y="712"/>
                  </a:lnTo>
                  <a:lnTo>
                    <a:pt x="345" y="702"/>
                  </a:lnTo>
                  <a:lnTo>
                    <a:pt x="309" y="678"/>
                  </a:lnTo>
                  <a:lnTo>
                    <a:pt x="284" y="655"/>
                  </a:lnTo>
                  <a:lnTo>
                    <a:pt x="264" y="634"/>
                  </a:lnTo>
                  <a:lnTo>
                    <a:pt x="321" y="531"/>
                  </a:lnTo>
                  <a:lnTo>
                    <a:pt x="327" y="541"/>
                  </a:lnTo>
                  <a:lnTo>
                    <a:pt x="345" y="563"/>
                  </a:lnTo>
                  <a:lnTo>
                    <a:pt x="369" y="584"/>
                  </a:lnTo>
                  <a:lnTo>
                    <a:pt x="382" y="594"/>
                  </a:lnTo>
                  <a:lnTo>
                    <a:pt x="398" y="598"/>
                  </a:lnTo>
                  <a:lnTo>
                    <a:pt x="428" y="598"/>
                  </a:lnTo>
                  <a:lnTo>
                    <a:pt x="455" y="592"/>
                  </a:lnTo>
                  <a:lnTo>
                    <a:pt x="481" y="581"/>
                  </a:lnTo>
                  <a:lnTo>
                    <a:pt x="499" y="565"/>
                  </a:lnTo>
                  <a:lnTo>
                    <a:pt x="510" y="543"/>
                  </a:lnTo>
                  <a:lnTo>
                    <a:pt x="518" y="513"/>
                  </a:lnTo>
                  <a:lnTo>
                    <a:pt x="526" y="482"/>
                  </a:lnTo>
                  <a:lnTo>
                    <a:pt x="536" y="450"/>
                  </a:lnTo>
                  <a:lnTo>
                    <a:pt x="544" y="421"/>
                  </a:lnTo>
                  <a:lnTo>
                    <a:pt x="554" y="391"/>
                  </a:lnTo>
                  <a:lnTo>
                    <a:pt x="562" y="377"/>
                  </a:lnTo>
                  <a:lnTo>
                    <a:pt x="573" y="364"/>
                  </a:lnTo>
                  <a:lnTo>
                    <a:pt x="591" y="351"/>
                  </a:lnTo>
                  <a:lnTo>
                    <a:pt x="617" y="341"/>
                  </a:lnTo>
                  <a:lnTo>
                    <a:pt x="774" y="283"/>
                  </a:lnTo>
                  <a:lnTo>
                    <a:pt x="871" y="243"/>
                  </a:lnTo>
                  <a:lnTo>
                    <a:pt x="783" y="126"/>
                  </a:lnTo>
                  <a:lnTo>
                    <a:pt x="73" y="710"/>
                  </a:lnTo>
                  <a:lnTo>
                    <a:pt x="0" y="670"/>
                  </a:lnTo>
                  <a:close/>
                </a:path>
              </a:pathLst>
            </a:custGeom>
            <a:blipFill rotWithShape="0">
              <a:blip r:embed="rId96"/>
              <a:srcRect/>
              <a:stretch/>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68" name=""/>
            <p:cNvSpPr/>
            <p:nvPr/>
          </p:nvSpPr>
          <p:spPr>
            <a:xfrm>
              <a:off x="765360" y="1671480"/>
              <a:ext cx="52920" cy="21960"/>
            </a:xfrm>
            <a:custGeom>
              <a:avLst/>
              <a:gdLst/>
              <a:ahLst/>
              <a:rect l="l" t="t" r="r" b="b"/>
              <a:pathLst>
                <a:path w="422" h="193">
                  <a:moveTo>
                    <a:pt x="0" y="89"/>
                  </a:moveTo>
                  <a:lnTo>
                    <a:pt x="47" y="87"/>
                  </a:lnTo>
                  <a:lnTo>
                    <a:pt x="99" y="83"/>
                  </a:lnTo>
                  <a:lnTo>
                    <a:pt x="160" y="77"/>
                  </a:lnTo>
                  <a:lnTo>
                    <a:pt x="221" y="67"/>
                  </a:lnTo>
                  <a:lnTo>
                    <a:pt x="280" y="51"/>
                  </a:lnTo>
                  <a:lnTo>
                    <a:pt x="306" y="39"/>
                  </a:lnTo>
                  <a:lnTo>
                    <a:pt x="330" y="28"/>
                  </a:lnTo>
                  <a:lnTo>
                    <a:pt x="348" y="14"/>
                  </a:lnTo>
                  <a:lnTo>
                    <a:pt x="361" y="0"/>
                  </a:lnTo>
                  <a:lnTo>
                    <a:pt x="387" y="38"/>
                  </a:lnTo>
                  <a:lnTo>
                    <a:pt x="406" y="67"/>
                  </a:lnTo>
                  <a:lnTo>
                    <a:pt x="422" y="96"/>
                  </a:lnTo>
                  <a:lnTo>
                    <a:pt x="377" y="138"/>
                  </a:lnTo>
                  <a:lnTo>
                    <a:pt x="3" y="193"/>
                  </a:lnTo>
                  <a:lnTo>
                    <a:pt x="0" y="89"/>
                  </a:lnTo>
                  <a:close/>
                </a:path>
              </a:pathLst>
            </a:custGeom>
            <a:blipFill rotWithShape="0">
              <a:blip r:embed="rId97"/>
              <a:srcRect/>
              <a:stretch/>
            </a:blip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269" name=""/>
            <p:cNvSpPr/>
            <p:nvPr/>
          </p:nvSpPr>
          <p:spPr>
            <a:xfrm>
              <a:off x="769320" y="1644480"/>
              <a:ext cx="113760" cy="82440"/>
            </a:xfrm>
            <a:custGeom>
              <a:avLst/>
              <a:gdLst/>
              <a:ahLst/>
              <a:rect l="l" t="t" r="r" b="b"/>
              <a:pathLst>
                <a:path w="888" h="719">
                  <a:moveTo>
                    <a:pt x="66" y="488"/>
                  </a:moveTo>
                  <a:lnTo>
                    <a:pt x="89" y="507"/>
                  </a:lnTo>
                  <a:lnTo>
                    <a:pt x="131" y="545"/>
                  </a:lnTo>
                  <a:lnTo>
                    <a:pt x="141" y="551"/>
                  </a:lnTo>
                  <a:lnTo>
                    <a:pt x="152" y="553"/>
                  </a:lnTo>
                  <a:lnTo>
                    <a:pt x="166" y="551"/>
                  </a:lnTo>
                  <a:lnTo>
                    <a:pt x="182" y="546"/>
                  </a:lnTo>
                  <a:lnTo>
                    <a:pt x="212" y="531"/>
                  </a:lnTo>
                  <a:lnTo>
                    <a:pt x="241" y="512"/>
                  </a:lnTo>
                  <a:lnTo>
                    <a:pt x="304" y="464"/>
                  </a:lnTo>
                  <a:lnTo>
                    <a:pt x="409" y="383"/>
                  </a:lnTo>
                  <a:lnTo>
                    <a:pt x="549" y="272"/>
                  </a:lnTo>
                  <a:lnTo>
                    <a:pt x="395" y="77"/>
                  </a:lnTo>
                  <a:lnTo>
                    <a:pt x="468" y="0"/>
                  </a:lnTo>
                  <a:lnTo>
                    <a:pt x="662" y="225"/>
                  </a:lnTo>
                  <a:lnTo>
                    <a:pt x="798" y="387"/>
                  </a:lnTo>
                  <a:lnTo>
                    <a:pt x="869" y="472"/>
                  </a:lnTo>
                  <a:lnTo>
                    <a:pt x="882" y="494"/>
                  </a:lnTo>
                  <a:lnTo>
                    <a:pt x="888" y="519"/>
                  </a:lnTo>
                  <a:lnTo>
                    <a:pt x="888" y="543"/>
                  </a:lnTo>
                  <a:lnTo>
                    <a:pt x="882" y="564"/>
                  </a:lnTo>
                  <a:lnTo>
                    <a:pt x="867" y="593"/>
                  </a:lnTo>
                  <a:lnTo>
                    <a:pt x="861" y="598"/>
                  </a:lnTo>
                  <a:lnTo>
                    <a:pt x="801" y="575"/>
                  </a:lnTo>
                  <a:lnTo>
                    <a:pt x="623" y="371"/>
                  </a:lnTo>
                  <a:lnTo>
                    <a:pt x="447" y="517"/>
                  </a:lnTo>
                  <a:lnTo>
                    <a:pt x="317" y="625"/>
                  </a:lnTo>
                  <a:lnTo>
                    <a:pt x="231" y="690"/>
                  </a:lnTo>
                  <a:lnTo>
                    <a:pt x="214" y="703"/>
                  </a:lnTo>
                  <a:lnTo>
                    <a:pt x="194" y="711"/>
                  </a:lnTo>
                  <a:lnTo>
                    <a:pt x="176" y="716"/>
                  </a:lnTo>
                  <a:lnTo>
                    <a:pt x="158" y="719"/>
                  </a:lnTo>
                  <a:lnTo>
                    <a:pt x="141" y="719"/>
                  </a:lnTo>
                  <a:lnTo>
                    <a:pt x="125" y="713"/>
                  </a:lnTo>
                  <a:lnTo>
                    <a:pt x="111" y="705"/>
                  </a:lnTo>
                  <a:lnTo>
                    <a:pt x="99" y="695"/>
                  </a:lnTo>
                  <a:lnTo>
                    <a:pt x="38" y="627"/>
                  </a:lnTo>
                  <a:lnTo>
                    <a:pt x="0" y="586"/>
                  </a:lnTo>
                  <a:lnTo>
                    <a:pt x="66" y="488"/>
                  </a:lnTo>
                  <a:close/>
                </a:path>
              </a:pathLst>
            </a:custGeom>
            <a:blipFill rotWithShape="0">
              <a:blip r:embed="rId98"/>
              <a:srcRect/>
              <a:stretch/>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270" name=""/>
            <p:cNvSpPr/>
            <p:nvPr/>
          </p:nvSpPr>
          <p:spPr>
            <a:xfrm>
              <a:off x="816480" y="1702800"/>
              <a:ext cx="28800" cy="46080"/>
            </a:xfrm>
            <a:custGeom>
              <a:avLst/>
              <a:gdLst/>
              <a:ahLst/>
              <a:rect l="l" t="t" r="r" b="b"/>
              <a:pathLst>
                <a:path w="229" h="399">
                  <a:moveTo>
                    <a:pt x="126" y="0"/>
                  </a:moveTo>
                  <a:lnTo>
                    <a:pt x="0" y="363"/>
                  </a:lnTo>
                  <a:lnTo>
                    <a:pt x="118" y="399"/>
                  </a:lnTo>
                  <a:lnTo>
                    <a:pt x="229" y="42"/>
                  </a:lnTo>
                  <a:lnTo>
                    <a:pt x="126" y="0"/>
                  </a:lnTo>
                  <a:close/>
                </a:path>
              </a:pathLst>
            </a:custGeom>
            <a:blipFill rotWithShape="0">
              <a:blip r:embed="rId99"/>
              <a:srcRect/>
              <a:stretch/>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71" name=""/>
            <p:cNvSpPr/>
            <p:nvPr/>
          </p:nvSpPr>
          <p:spPr>
            <a:xfrm>
              <a:off x="855360" y="1632240"/>
              <a:ext cx="51120" cy="51480"/>
            </a:xfrm>
            <a:custGeom>
              <a:avLst/>
              <a:gdLst/>
              <a:ahLst/>
              <a:rect l="l" t="t" r="r" b="b"/>
              <a:pathLst>
                <a:path w="397" h="450">
                  <a:moveTo>
                    <a:pt x="0" y="81"/>
                  </a:moveTo>
                  <a:lnTo>
                    <a:pt x="57" y="0"/>
                  </a:lnTo>
                  <a:lnTo>
                    <a:pt x="85" y="0"/>
                  </a:lnTo>
                  <a:lnTo>
                    <a:pt x="397" y="374"/>
                  </a:lnTo>
                  <a:lnTo>
                    <a:pt x="394" y="419"/>
                  </a:lnTo>
                  <a:lnTo>
                    <a:pt x="334" y="450"/>
                  </a:lnTo>
                  <a:lnTo>
                    <a:pt x="277" y="427"/>
                  </a:lnTo>
                  <a:lnTo>
                    <a:pt x="0" y="81"/>
                  </a:lnTo>
                  <a:close/>
                </a:path>
              </a:pathLst>
            </a:custGeom>
            <a:blipFill rotWithShape="0">
              <a:blip r:embed="rId100"/>
              <a:srcRect/>
              <a:stretch/>
            </a:blipFill>
            <a:ln w="0">
              <a:noFill/>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sp>
          <p:nvSpPr>
            <p:cNvPr id="272" name=""/>
            <p:cNvSpPr/>
            <p:nvPr/>
          </p:nvSpPr>
          <p:spPr>
            <a:xfrm>
              <a:off x="1092240" y="1840320"/>
              <a:ext cx="14400" cy="19440"/>
            </a:xfrm>
            <a:custGeom>
              <a:avLst/>
              <a:gdLst/>
              <a:ahLst/>
              <a:rect l="l" t="t" r="r" b="b"/>
              <a:pathLst>
                <a:path w="113" h="165">
                  <a:moveTo>
                    <a:pt x="0" y="3"/>
                  </a:moveTo>
                  <a:lnTo>
                    <a:pt x="13" y="149"/>
                  </a:lnTo>
                  <a:lnTo>
                    <a:pt x="109" y="165"/>
                  </a:lnTo>
                  <a:lnTo>
                    <a:pt x="113" y="0"/>
                  </a:lnTo>
                  <a:lnTo>
                    <a:pt x="0" y="3"/>
                  </a:lnTo>
                  <a:close/>
                </a:path>
              </a:pathLst>
            </a:custGeom>
            <a:blipFill rotWithShape="0">
              <a:blip r:embed="rId101"/>
              <a:srcRect/>
              <a:stretch/>
            </a:blip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273" name=""/>
            <p:cNvSpPr/>
            <p:nvPr/>
          </p:nvSpPr>
          <p:spPr>
            <a:xfrm>
              <a:off x="1033920" y="1870920"/>
              <a:ext cx="61560" cy="92520"/>
            </a:xfrm>
            <a:custGeom>
              <a:avLst/>
              <a:gdLst/>
              <a:ahLst/>
              <a:rect l="l" t="t" r="r" b="b"/>
              <a:pathLst>
                <a:path w="484" h="797">
                  <a:moveTo>
                    <a:pt x="0" y="324"/>
                  </a:moveTo>
                  <a:lnTo>
                    <a:pt x="0" y="475"/>
                  </a:lnTo>
                  <a:lnTo>
                    <a:pt x="22" y="460"/>
                  </a:lnTo>
                  <a:lnTo>
                    <a:pt x="66" y="424"/>
                  </a:lnTo>
                  <a:lnTo>
                    <a:pt x="105" y="382"/>
                  </a:lnTo>
                  <a:lnTo>
                    <a:pt x="140" y="339"/>
                  </a:lnTo>
                  <a:lnTo>
                    <a:pt x="174" y="295"/>
                  </a:lnTo>
                  <a:lnTo>
                    <a:pt x="225" y="217"/>
                  </a:lnTo>
                  <a:lnTo>
                    <a:pt x="257" y="172"/>
                  </a:lnTo>
                  <a:lnTo>
                    <a:pt x="267" y="162"/>
                  </a:lnTo>
                  <a:lnTo>
                    <a:pt x="276" y="156"/>
                  </a:lnTo>
                  <a:lnTo>
                    <a:pt x="284" y="154"/>
                  </a:lnTo>
                  <a:lnTo>
                    <a:pt x="291" y="156"/>
                  </a:lnTo>
                  <a:lnTo>
                    <a:pt x="306" y="165"/>
                  </a:lnTo>
                  <a:lnTo>
                    <a:pt x="322" y="180"/>
                  </a:lnTo>
                  <a:lnTo>
                    <a:pt x="336" y="191"/>
                  </a:lnTo>
                  <a:lnTo>
                    <a:pt x="343" y="203"/>
                  </a:lnTo>
                  <a:lnTo>
                    <a:pt x="341" y="219"/>
                  </a:lnTo>
                  <a:lnTo>
                    <a:pt x="333" y="235"/>
                  </a:lnTo>
                  <a:lnTo>
                    <a:pt x="118" y="544"/>
                  </a:lnTo>
                  <a:lnTo>
                    <a:pt x="98" y="578"/>
                  </a:lnTo>
                  <a:lnTo>
                    <a:pt x="89" y="609"/>
                  </a:lnTo>
                  <a:lnTo>
                    <a:pt x="87" y="641"/>
                  </a:lnTo>
                  <a:lnTo>
                    <a:pt x="95" y="672"/>
                  </a:lnTo>
                  <a:lnTo>
                    <a:pt x="108" y="700"/>
                  </a:lnTo>
                  <a:lnTo>
                    <a:pt x="131" y="727"/>
                  </a:lnTo>
                  <a:lnTo>
                    <a:pt x="158" y="753"/>
                  </a:lnTo>
                  <a:lnTo>
                    <a:pt x="192" y="779"/>
                  </a:lnTo>
                  <a:lnTo>
                    <a:pt x="211" y="789"/>
                  </a:lnTo>
                  <a:lnTo>
                    <a:pt x="229" y="795"/>
                  </a:lnTo>
                  <a:lnTo>
                    <a:pt x="244" y="797"/>
                  </a:lnTo>
                  <a:lnTo>
                    <a:pt x="262" y="797"/>
                  </a:lnTo>
                  <a:lnTo>
                    <a:pt x="292" y="789"/>
                  </a:lnTo>
                  <a:lnTo>
                    <a:pt x="320" y="773"/>
                  </a:lnTo>
                  <a:lnTo>
                    <a:pt x="343" y="755"/>
                  </a:lnTo>
                  <a:lnTo>
                    <a:pt x="361" y="738"/>
                  </a:lnTo>
                  <a:lnTo>
                    <a:pt x="375" y="718"/>
                  </a:lnTo>
                  <a:lnTo>
                    <a:pt x="294" y="633"/>
                  </a:lnTo>
                  <a:lnTo>
                    <a:pt x="268" y="653"/>
                  </a:lnTo>
                  <a:lnTo>
                    <a:pt x="257" y="661"/>
                  </a:lnTo>
                  <a:lnTo>
                    <a:pt x="247" y="661"/>
                  </a:lnTo>
                  <a:lnTo>
                    <a:pt x="237" y="659"/>
                  </a:lnTo>
                  <a:lnTo>
                    <a:pt x="231" y="653"/>
                  </a:lnTo>
                  <a:lnTo>
                    <a:pt x="225" y="643"/>
                  </a:lnTo>
                  <a:lnTo>
                    <a:pt x="225" y="630"/>
                  </a:lnTo>
                  <a:lnTo>
                    <a:pt x="229" y="614"/>
                  </a:lnTo>
                  <a:lnTo>
                    <a:pt x="237" y="598"/>
                  </a:lnTo>
                  <a:lnTo>
                    <a:pt x="346" y="424"/>
                  </a:lnTo>
                  <a:lnTo>
                    <a:pt x="459" y="238"/>
                  </a:lnTo>
                  <a:lnTo>
                    <a:pt x="472" y="217"/>
                  </a:lnTo>
                  <a:lnTo>
                    <a:pt x="477" y="198"/>
                  </a:lnTo>
                  <a:lnTo>
                    <a:pt x="484" y="164"/>
                  </a:lnTo>
                  <a:lnTo>
                    <a:pt x="482" y="146"/>
                  </a:lnTo>
                  <a:lnTo>
                    <a:pt x="480" y="138"/>
                  </a:lnTo>
                  <a:lnTo>
                    <a:pt x="225" y="0"/>
                  </a:lnTo>
                  <a:lnTo>
                    <a:pt x="122" y="154"/>
                  </a:lnTo>
                  <a:lnTo>
                    <a:pt x="43" y="268"/>
                  </a:lnTo>
                  <a:lnTo>
                    <a:pt x="0" y="324"/>
                  </a:lnTo>
                  <a:close/>
                </a:path>
              </a:pathLst>
            </a:custGeom>
            <a:blipFill rotWithShape="0">
              <a:blip r:embed="rId102"/>
              <a:srcRect/>
              <a:stretch/>
            </a:blipFill>
            <a:ln w="0">
              <a:noFill/>
            </a:ln>
          </p:spPr>
          <p:style>
            <a:lnRef idx="0"/>
            <a:fillRef idx="0"/>
            <a:effectRef idx="0"/>
            <a:fontRef idx="minor"/>
          </p:style>
          <p:txBody>
            <a:bodyPr lIns="90000" rIns="90000" anchor="t">
              <a:noAutofit/>
            </a:bodyPr>
            <a:p>
              <a:endParaRPr b="0" lang="en-US" sz="2400" spc="-1" strike="noStrike">
                <a:solidFill>
                  <a:srgbClr val="ffffff"/>
                </a:solidFill>
                <a:latin typeface="Times New Roman"/>
              </a:endParaRPr>
            </a:p>
          </p:txBody>
        </p:sp>
        <p:sp>
          <p:nvSpPr>
            <p:cNvPr id="274" name=""/>
            <p:cNvSpPr/>
            <p:nvPr/>
          </p:nvSpPr>
          <p:spPr>
            <a:xfrm>
              <a:off x="1033920" y="1811520"/>
              <a:ext cx="94320" cy="77760"/>
            </a:xfrm>
            <a:custGeom>
              <a:avLst/>
              <a:gdLst/>
              <a:ahLst/>
              <a:rect l="l" t="t" r="r" b="b"/>
              <a:pathLst>
                <a:path w="738" h="676">
                  <a:moveTo>
                    <a:pt x="0" y="477"/>
                  </a:moveTo>
                  <a:lnTo>
                    <a:pt x="0" y="657"/>
                  </a:lnTo>
                  <a:lnTo>
                    <a:pt x="195" y="377"/>
                  </a:lnTo>
                  <a:lnTo>
                    <a:pt x="446" y="534"/>
                  </a:lnTo>
                  <a:lnTo>
                    <a:pt x="655" y="665"/>
                  </a:lnTo>
                  <a:lnTo>
                    <a:pt x="679" y="675"/>
                  </a:lnTo>
                  <a:lnTo>
                    <a:pt x="687" y="676"/>
                  </a:lnTo>
                  <a:lnTo>
                    <a:pt x="697" y="675"/>
                  </a:lnTo>
                  <a:lnTo>
                    <a:pt x="705" y="668"/>
                  </a:lnTo>
                  <a:lnTo>
                    <a:pt x="710" y="660"/>
                  </a:lnTo>
                  <a:lnTo>
                    <a:pt x="728" y="637"/>
                  </a:lnTo>
                  <a:lnTo>
                    <a:pt x="738" y="610"/>
                  </a:lnTo>
                  <a:lnTo>
                    <a:pt x="738" y="599"/>
                  </a:lnTo>
                  <a:lnTo>
                    <a:pt x="736" y="592"/>
                  </a:lnTo>
                  <a:lnTo>
                    <a:pt x="720" y="574"/>
                  </a:lnTo>
                  <a:lnTo>
                    <a:pt x="694" y="556"/>
                  </a:lnTo>
                  <a:lnTo>
                    <a:pt x="257" y="270"/>
                  </a:lnTo>
                  <a:lnTo>
                    <a:pt x="260" y="251"/>
                  </a:lnTo>
                  <a:lnTo>
                    <a:pt x="260" y="233"/>
                  </a:lnTo>
                  <a:lnTo>
                    <a:pt x="259" y="217"/>
                  </a:lnTo>
                  <a:lnTo>
                    <a:pt x="252" y="202"/>
                  </a:lnTo>
                  <a:lnTo>
                    <a:pt x="237" y="178"/>
                  </a:lnTo>
                  <a:lnTo>
                    <a:pt x="217" y="157"/>
                  </a:lnTo>
                  <a:lnTo>
                    <a:pt x="179" y="132"/>
                  </a:lnTo>
                  <a:lnTo>
                    <a:pt x="225" y="57"/>
                  </a:lnTo>
                  <a:lnTo>
                    <a:pt x="134" y="0"/>
                  </a:lnTo>
                  <a:lnTo>
                    <a:pt x="77" y="71"/>
                  </a:lnTo>
                  <a:lnTo>
                    <a:pt x="0" y="27"/>
                  </a:lnTo>
                  <a:lnTo>
                    <a:pt x="0" y="207"/>
                  </a:lnTo>
                  <a:lnTo>
                    <a:pt x="26" y="170"/>
                  </a:lnTo>
                  <a:lnTo>
                    <a:pt x="51" y="179"/>
                  </a:lnTo>
                  <a:lnTo>
                    <a:pt x="79" y="193"/>
                  </a:lnTo>
                  <a:lnTo>
                    <a:pt x="111" y="215"/>
                  </a:lnTo>
                  <a:lnTo>
                    <a:pt x="114" y="235"/>
                  </a:lnTo>
                  <a:lnTo>
                    <a:pt x="114" y="256"/>
                  </a:lnTo>
                  <a:lnTo>
                    <a:pt x="111" y="276"/>
                  </a:lnTo>
                  <a:lnTo>
                    <a:pt x="100" y="301"/>
                  </a:lnTo>
                  <a:lnTo>
                    <a:pt x="66" y="369"/>
                  </a:lnTo>
                  <a:lnTo>
                    <a:pt x="6" y="471"/>
                  </a:lnTo>
                  <a:lnTo>
                    <a:pt x="0" y="477"/>
                  </a:lnTo>
                  <a:close/>
                </a:path>
              </a:pathLst>
            </a:custGeom>
            <a:blipFill rotWithShape="0">
              <a:blip r:embed="rId103"/>
              <a:srcRect/>
              <a:stretch/>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275" name=""/>
            <p:cNvSpPr/>
            <p:nvPr/>
          </p:nvSpPr>
          <p:spPr>
            <a:xfrm>
              <a:off x="959040" y="1812240"/>
              <a:ext cx="74520" cy="124920"/>
            </a:xfrm>
            <a:custGeom>
              <a:avLst/>
              <a:gdLst/>
              <a:ahLst/>
              <a:rect l="l" t="t" r="r" b="b"/>
              <a:pathLst>
                <a:path w="585" h="1076">
                  <a:moveTo>
                    <a:pt x="585" y="196"/>
                  </a:moveTo>
                  <a:lnTo>
                    <a:pt x="585" y="16"/>
                  </a:lnTo>
                  <a:lnTo>
                    <a:pt x="562" y="0"/>
                  </a:lnTo>
                  <a:lnTo>
                    <a:pt x="539" y="44"/>
                  </a:lnTo>
                  <a:lnTo>
                    <a:pt x="435" y="235"/>
                  </a:lnTo>
                  <a:lnTo>
                    <a:pt x="384" y="324"/>
                  </a:lnTo>
                  <a:lnTo>
                    <a:pt x="319" y="280"/>
                  </a:lnTo>
                  <a:lnTo>
                    <a:pt x="298" y="272"/>
                  </a:lnTo>
                  <a:lnTo>
                    <a:pt x="293" y="271"/>
                  </a:lnTo>
                  <a:lnTo>
                    <a:pt x="287" y="272"/>
                  </a:lnTo>
                  <a:lnTo>
                    <a:pt x="275" y="288"/>
                  </a:lnTo>
                  <a:lnTo>
                    <a:pt x="258" y="320"/>
                  </a:lnTo>
                  <a:lnTo>
                    <a:pt x="248" y="340"/>
                  </a:lnTo>
                  <a:lnTo>
                    <a:pt x="243" y="353"/>
                  </a:lnTo>
                  <a:lnTo>
                    <a:pt x="243" y="364"/>
                  </a:lnTo>
                  <a:lnTo>
                    <a:pt x="248" y="374"/>
                  </a:lnTo>
                  <a:lnTo>
                    <a:pt x="258" y="379"/>
                  </a:lnTo>
                  <a:lnTo>
                    <a:pt x="271" y="387"/>
                  </a:lnTo>
                  <a:lnTo>
                    <a:pt x="311" y="405"/>
                  </a:lnTo>
                  <a:lnTo>
                    <a:pt x="321" y="413"/>
                  </a:lnTo>
                  <a:lnTo>
                    <a:pt x="264" y="482"/>
                  </a:lnTo>
                  <a:lnTo>
                    <a:pt x="208" y="543"/>
                  </a:lnTo>
                  <a:lnTo>
                    <a:pt x="153" y="596"/>
                  </a:lnTo>
                  <a:lnTo>
                    <a:pt x="105" y="640"/>
                  </a:lnTo>
                  <a:lnTo>
                    <a:pt x="31" y="699"/>
                  </a:lnTo>
                  <a:lnTo>
                    <a:pt x="0" y="719"/>
                  </a:lnTo>
                  <a:lnTo>
                    <a:pt x="18" y="746"/>
                  </a:lnTo>
                  <a:lnTo>
                    <a:pt x="42" y="777"/>
                  </a:lnTo>
                  <a:lnTo>
                    <a:pt x="78" y="824"/>
                  </a:lnTo>
                  <a:lnTo>
                    <a:pt x="154" y="756"/>
                  </a:lnTo>
                  <a:lnTo>
                    <a:pt x="233" y="680"/>
                  </a:lnTo>
                  <a:lnTo>
                    <a:pt x="311" y="593"/>
                  </a:lnTo>
                  <a:lnTo>
                    <a:pt x="384" y="500"/>
                  </a:lnTo>
                  <a:lnTo>
                    <a:pt x="408" y="466"/>
                  </a:lnTo>
                  <a:lnTo>
                    <a:pt x="476" y="515"/>
                  </a:lnTo>
                  <a:lnTo>
                    <a:pt x="528" y="559"/>
                  </a:lnTo>
                  <a:lnTo>
                    <a:pt x="458" y="656"/>
                  </a:lnTo>
                  <a:lnTo>
                    <a:pt x="397" y="738"/>
                  </a:lnTo>
                  <a:lnTo>
                    <a:pt x="334" y="816"/>
                  </a:lnTo>
                  <a:lnTo>
                    <a:pt x="235" y="819"/>
                  </a:lnTo>
                  <a:lnTo>
                    <a:pt x="228" y="923"/>
                  </a:lnTo>
                  <a:lnTo>
                    <a:pt x="330" y="968"/>
                  </a:lnTo>
                  <a:lnTo>
                    <a:pt x="376" y="957"/>
                  </a:lnTo>
                  <a:lnTo>
                    <a:pt x="411" y="1049"/>
                  </a:lnTo>
                  <a:lnTo>
                    <a:pt x="468" y="1076"/>
                  </a:lnTo>
                  <a:lnTo>
                    <a:pt x="473" y="1070"/>
                  </a:lnTo>
                  <a:lnTo>
                    <a:pt x="492" y="1051"/>
                  </a:lnTo>
                  <a:lnTo>
                    <a:pt x="536" y="1013"/>
                  </a:lnTo>
                  <a:lnTo>
                    <a:pt x="585" y="975"/>
                  </a:lnTo>
                  <a:lnTo>
                    <a:pt x="585" y="824"/>
                  </a:lnTo>
                  <a:lnTo>
                    <a:pt x="573" y="842"/>
                  </a:lnTo>
                  <a:lnTo>
                    <a:pt x="557" y="857"/>
                  </a:lnTo>
                  <a:lnTo>
                    <a:pt x="536" y="874"/>
                  </a:lnTo>
                  <a:lnTo>
                    <a:pt x="491" y="905"/>
                  </a:lnTo>
                  <a:lnTo>
                    <a:pt x="435" y="934"/>
                  </a:lnTo>
                  <a:lnTo>
                    <a:pt x="427" y="876"/>
                  </a:lnTo>
                  <a:lnTo>
                    <a:pt x="585" y="646"/>
                  </a:lnTo>
                  <a:lnTo>
                    <a:pt x="585" y="466"/>
                  </a:lnTo>
                  <a:lnTo>
                    <a:pt x="585" y="468"/>
                  </a:lnTo>
                  <a:lnTo>
                    <a:pt x="466" y="382"/>
                  </a:lnTo>
                  <a:lnTo>
                    <a:pt x="465" y="382"/>
                  </a:lnTo>
                  <a:lnTo>
                    <a:pt x="565" y="230"/>
                  </a:lnTo>
                  <a:lnTo>
                    <a:pt x="585" y="196"/>
                  </a:lnTo>
                  <a:close/>
                </a:path>
              </a:pathLst>
            </a:custGeom>
            <a:blipFill rotWithShape="0">
              <a:blip r:embed="rId104"/>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1025640" y="1839240"/>
              <a:ext cx="15120" cy="17640"/>
            </a:xfrm>
            <a:custGeom>
              <a:avLst/>
              <a:gdLst/>
              <a:ahLst/>
              <a:rect l="l" t="t" r="r" b="b"/>
              <a:pathLst>
                <a:path w="121" h="145">
                  <a:moveTo>
                    <a:pt x="81" y="0"/>
                  </a:moveTo>
                  <a:lnTo>
                    <a:pt x="121" y="33"/>
                  </a:lnTo>
                  <a:lnTo>
                    <a:pt x="118" y="51"/>
                  </a:lnTo>
                  <a:lnTo>
                    <a:pt x="108" y="84"/>
                  </a:lnTo>
                  <a:lnTo>
                    <a:pt x="98" y="105"/>
                  </a:lnTo>
                  <a:lnTo>
                    <a:pt x="81" y="124"/>
                  </a:lnTo>
                  <a:lnTo>
                    <a:pt x="61" y="145"/>
                  </a:lnTo>
                  <a:lnTo>
                    <a:pt x="0" y="102"/>
                  </a:lnTo>
                  <a:lnTo>
                    <a:pt x="81" y="0"/>
                  </a:lnTo>
                  <a:close/>
                </a:path>
              </a:pathLst>
            </a:custGeom>
            <a:blipFill rotWithShape="0">
              <a:blip r:embed="rId105"/>
              <a:srcRect/>
              <a:stretch/>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77" name=""/>
            <p:cNvSpPr/>
            <p:nvPr/>
          </p:nvSpPr>
          <p:spPr>
            <a:xfrm>
              <a:off x="999000" y="1874520"/>
              <a:ext cx="17280" cy="19440"/>
            </a:xfrm>
            <a:custGeom>
              <a:avLst/>
              <a:gdLst/>
              <a:ahLst/>
              <a:rect l="l" t="t" r="r" b="b"/>
              <a:pathLst>
                <a:path w="139" h="163">
                  <a:moveTo>
                    <a:pt x="65" y="0"/>
                  </a:moveTo>
                  <a:lnTo>
                    <a:pt x="139" y="9"/>
                  </a:lnTo>
                  <a:lnTo>
                    <a:pt x="109" y="163"/>
                  </a:lnTo>
                  <a:lnTo>
                    <a:pt x="0" y="163"/>
                  </a:lnTo>
                  <a:lnTo>
                    <a:pt x="65" y="0"/>
                  </a:lnTo>
                  <a:close/>
                </a:path>
              </a:pathLst>
            </a:custGeom>
            <a:blipFill rotWithShape="0">
              <a:blip r:embed="rId106"/>
              <a:srcRect/>
              <a:stretch/>
            </a:blip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278" name=""/>
            <p:cNvSpPr/>
            <p:nvPr/>
          </p:nvSpPr>
          <p:spPr>
            <a:xfrm>
              <a:off x="1131120" y="1891440"/>
              <a:ext cx="77760" cy="87120"/>
            </a:xfrm>
            <a:custGeom>
              <a:avLst/>
              <a:gdLst/>
              <a:ahLst/>
              <a:rect l="l" t="t" r="r" b="b"/>
              <a:pathLst>
                <a:path w="610" h="750">
                  <a:moveTo>
                    <a:pt x="565" y="120"/>
                  </a:moveTo>
                  <a:lnTo>
                    <a:pt x="476" y="0"/>
                  </a:lnTo>
                  <a:lnTo>
                    <a:pt x="454" y="26"/>
                  </a:lnTo>
                  <a:lnTo>
                    <a:pt x="400" y="83"/>
                  </a:lnTo>
                  <a:lnTo>
                    <a:pt x="369" y="115"/>
                  </a:lnTo>
                  <a:lnTo>
                    <a:pt x="337" y="144"/>
                  </a:lnTo>
                  <a:lnTo>
                    <a:pt x="308" y="168"/>
                  </a:lnTo>
                  <a:lnTo>
                    <a:pt x="280" y="182"/>
                  </a:lnTo>
                  <a:lnTo>
                    <a:pt x="213" y="201"/>
                  </a:lnTo>
                  <a:lnTo>
                    <a:pt x="191" y="207"/>
                  </a:lnTo>
                  <a:lnTo>
                    <a:pt x="130" y="248"/>
                  </a:lnTo>
                  <a:lnTo>
                    <a:pt x="134" y="356"/>
                  </a:lnTo>
                  <a:lnTo>
                    <a:pt x="285" y="415"/>
                  </a:lnTo>
                  <a:lnTo>
                    <a:pt x="274" y="424"/>
                  </a:lnTo>
                  <a:lnTo>
                    <a:pt x="246" y="450"/>
                  </a:lnTo>
                  <a:lnTo>
                    <a:pt x="227" y="464"/>
                  </a:lnTo>
                  <a:lnTo>
                    <a:pt x="203" y="478"/>
                  </a:lnTo>
                  <a:lnTo>
                    <a:pt x="175" y="489"/>
                  </a:lnTo>
                  <a:lnTo>
                    <a:pt x="146" y="500"/>
                  </a:lnTo>
                  <a:lnTo>
                    <a:pt x="96" y="510"/>
                  </a:lnTo>
                  <a:lnTo>
                    <a:pt x="62" y="520"/>
                  </a:lnTo>
                  <a:lnTo>
                    <a:pt x="49" y="528"/>
                  </a:lnTo>
                  <a:lnTo>
                    <a:pt x="37" y="537"/>
                  </a:lnTo>
                  <a:lnTo>
                    <a:pt x="28" y="549"/>
                  </a:lnTo>
                  <a:lnTo>
                    <a:pt x="15" y="567"/>
                  </a:lnTo>
                  <a:lnTo>
                    <a:pt x="2" y="601"/>
                  </a:lnTo>
                  <a:lnTo>
                    <a:pt x="0" y="612"/>
                  </a:lnTo>
                  <a:lnTo>
                    <a:pt x="2" y="622"/>
                  </a:lnTo>
                  <a:lnTo>
                    <a:pt x="8" y="630"/>
                  </a:lnTo>
                  <a:lnTo>
                    <a:pt x="15" y="640"/>
                  </a:lnTo>
                  <a:lnTo>
                    <a:pt x="41" y="657"/>
                  </a:lnTo>
                  <a:lnTo>
                    <a:pt x="89" y="683"/>
                  </a:lnTo>
                  <a:lnTo>
                    <a:pt x="159" y="711"/>
                  </a:lnTo>
                  <a:lnTo>
                    <a:pt x="233" y="737"/>
                  </a:lnTo>
                  <a:lnTo>
                    <a:pt x="290" y="750"/>
                  </a:lnTo>
                  <a:lnTo>
                    <a:pt x="311" y="750"/>
                  </a:lnTo>
                  <a:lnTo>
                    <a:pt x="335" y="748"/>
                  </a:lnTo>
                  <a:lnTo>
                    <a:pt x="358" y="740"/>
                  </a:lnTo>
                  <a:lnTo>
                    <a:pt x="377" y="730"/>
                  </a:lnTo>
                  <a:lnTo>
                    <a:pt x="390" y="721"/>
                  </a:lnTo>
                  <a:lnTo>
                    <a:pt x="397" y="706"/>
                  </a:lnTo>
                  <a:lnTo>
                    <a:pt x="397" y="701"/>
                  </a:lnTo>
                  <a:lnTo>
                    <a:pt x="392" y="695"/>
                  </a:lnTo>
                  <a:lnTo>
                    <a:pt x="379" y="681"/>
                  </a:lnTo>
                  <a:lnTo>
                    <a:pt x="310" y="643"/>
                  </a:lnTo>
                  <a:lnTo>
                    <a:pt x="261" y="620"/>
                  </a:lnTo>
                  <a:lnTo>
                    <a:pt x="248" y="614"/>
                  </a:lnTo>
                  <a:lnTo>
                    <a:pt x="238" y="606"/>
                  </a:lnTo>
                  <a:lnTo>
                    <a:pt x="233" y="598"/>
                  </a:lnTo>
                  <a:lnTo>
                    <a:pt x="229" y="586"/>
                  </a:lnTo>
                  <a:lnTo>
                    <a:pt x="229" y="576"/>
                  </a:lnTo>
                  <a:lnTo>
                    <a:pt x="235" y="567"/>
                  </a:lnTo>
                  <a:lnTo>
                    <a:pt x="245" y="559"/>
                  </a:lnTo>
                  <a:lnTo>
                    <a:pt x="261" y="551"/>
                  </a:lnTo>
                  <a:lnTo>
                    <a:pt x="290" y="537"/>
                  </a:lnTo>
                  <a:lnTo>
                    <a:pt x="335" y="513"/>
                  </a:lnTo>
                  <a:lnTo>
                    <a:pt x="454" y="444"/>
                  </a:lnTo>
                  <a:lnTo>
                    <a:pt x="610" y="348"/>
                  </a:lnTo>
                  <a:lnTo>
                    <a:pt x="541" y="259"/>
                  </a:lnTo>
                  <a:lnTo>
                    <a:pt x="379" y="356"/>
                  </a:lnTo>
                  <a:lnTo>
                    <a:pt x="276" y="282"/>
                  </a:lnTo>
                  <a:lnTo>
                    <a:pt x="565" y="120"/>
                  </a:lnTo>
                  <a:close/>
                </a:path>
              </a:pathLst>
            </a:custGeom>
            <a:blipFill rotWithShape="0">
              <a:blip r:embed="rId107"/>
              <a:srcRect/>
              <a:stretch/>
            </a:blip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79" name=""/>
            <p:cNvSpPr/>
            <p:nvPr/>
          </p:nvSpPr>
          <p:spPr>
            <a:xfrm>
              <a:off x="1116720" y="1975680"/>
              <a:ext cx="50040" cy="23040"/>
            </a:xfrm>
            <a:custGeom>
              <a:avLst/>
              <a:gdLst/>
              <a:ahLst/>
              <a:rect l="l" t="t" r="r" b="b"/>
              <a:pathLst>
                <a:path w="388" h="199">
                  <a:moveTo>
                    <a:pt x="3" y="0"/>
                  </a:moveTo>
                  <a:lnTo>
                    <a:pt x="94" y="39"/>
                  </a:lnTo>
                  <a:lnTo>
                    <a:pt x="173" y="70"/>
                  </a:lnTo>
                  <a:lnTo>
                    <a:pt x="210" y="81"/>
                  </a:lnTo>
                  <a:lnTo>
                    <a:pt x="242" y="89"/>
                  </a:lnTo>
                  <a:lnTo>
                    <a:pt x="298" y="96"/>
                  </a:lnTo>
                  <a:lnTo>
                    <a:pt x="345" y="93"/>
                  </a:lnTo>
                  <a:lnTo>
                    <a:pt x="388" y="89"/>
                  </a:lnTo>
                  <a:lnTo>
                    <a:pt x="377" y="199"/>
                  </a:lnTo>
                  <a:lnTo>
                    <a:pt x="330" y="198"/>
                  </a:lnTo>
                  <a:lnTo>
                    <a:pt x="262" y="191"/>
                  </a:lnTo>
                  <a:lnTo>
                    <a:pt x="228" y="186"/>
                  </a:lnTo>
                  <a:lnTo>
                    <a:pt x="202" y="178"/>
                  </a:lnTo>
                  <a:lnTo>
                    <a:pt x="161" y="167"/>
                  </a:lnTo>
                  <a:lnTo>
                    <a:pt x="116" y="159"/>
                  </a:lnTo>
                  <a:lnTo>
                    <a:pt x="39" y="151"/>
                  </a:lnTo>
                  <a:lnTo>
                    <a:pt x="8" y="144"/>
                  </a:lnTo>
                  <a:lnTo>
                    <a:pt x="0" y="143"/>
                  </a:lnTo>
                  <a:lnTo>
                    <a:pt x="3" y="0"/>
                  </a:lnTo>
                  <a:close/>
                </a:path>
              </a:pathLst>
            </a:custGeom>
            <a:blipFill rotWithShape="0">
              <a:blip r:embed="rId108"/>
              <a:srcRect/>
              <a:stretch/>
            </a:blip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80" name=""/>
            <p:cNvSpPr/>
            <p:nvPr/>
          </p:nvSpPr>
          <p:spPr>
            <a:xfrm>
              <a:off x="1239840" y="2036160"/>
              <a:ext cx="1080" cy="4320"/>
            </a:xfrm>
            <a:custGeom>
              <a:avLst/>
              <a:gdLst/>
              <a:ahLst/>
              <a:rect l="l" t="t" r="r" b="b"/>
              <a:pathLst>
                <a:path w="8" h="37">
                  <a:moveTo>
                    <a:pt x="0" y="0"/>
                  </a:moveTo>
                  <a:lnTo>
                    <a:pt x="0" y="37"/>
                  </a:lnTo>
                  <a:lnTo>
                    <a:pt x="3" y="34"/>
                  </a:lnTo>
                  <a:lnTo>
                    <a:pt x="8" y="16"/>
                  </a:lnTo>
                  <a:lnTo>
                    <a:pt x="6" y="8"/>
                  </a:lnTo>
                  <a:lnTo>
                    <a:pt x="1" y="0"/>
                  </a:lnTo>
                  <a:lnTo>
                    <a:pt x="0" y="0"/>
                  </a:lnTo>
                  <a:close/>
                </a:path>
              </a:pathLst>
            </a:custGeom>
            <a:blipFill rotWithShape="0">
              <a:blip r:embed="rId109"/>
              <a:srcRect/>
              <a:tile tx="0" ty="0" sx="100000" sy="100000" algn="ctr"/>
            </a:blip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281" name=""/>
            <p:cNvSpPr/>
            <p:nvPr/>
          </p:nvSpPr>
          <p:spPr>
            <a:xfrm>
              <a:off x="1239840" y="1918440"/>
              <a:ext cx="39960" cy="91440"/>
            </a:xfrm>
            <a:custGeom>
              <a:avLst/>
              <a:gdLst/>
              <a:ahLst/>
              <a:rect l="l" t="t" r="r" b="b"/>
              <a:pathLst>
                <a:path w="315" h="792">
                  <a:moveTo>
                    <a:pt x="0" y="491"/>
                  </a:moveTo>
                  <a:lnTo>
                    <a:pt x="0" y="792"/>
                  </a:lnTo>
                  <a:lnTo>
                    <a:pt x="315" y="136"/>
                  </a:lnTo>
                  <a:lnTo>
                    <a:pt x="0" y="0"/>
                  </a:lnTo>
                  <a:lnTo>
                    <a:pt x="0" y="112"/>
                  </a:lnTo>
                  <a:lnTo>
                    <a:pt x="154" y="175"/>
                  </a:lnTo>
                  <a:lnTo>
                    <a:pt x="84" y="347"/>
                  </a:lnTo>
                  <a:lnTo>
                    <a:pt x="0" y="314"/>
                  </a:lnTo>
                  <a:lnTo>
                    <a:pt x="0" y="423"/>
                  </a:lnTo>
                  <a:lnTo>
                    <a:pt x="31" y="432"/>
                  </a:lnTo>
                  <a:lnTo>
                    <a:pt x="0" y="491"/>
                  </a:lnTo>
                  <a:close/>
                </a:path>
              </a:pathLst>
            </a:custGeom>
            <a:blipFill rotWithShape="0">
              <a:blip r:embed="rId110"/>
              <a:srcRect/>
              <a:stretch/>
            </a:blip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282" name=""/>
            <p:cNvSpPr/>
            <p:nvPr/>
          </p:nvSpPr>
          <p:spPr>
            <a:xfrm>
              <a:off x="1208160" y="1910880"/>
              <a:ext cx="31320" cy="58320"/>
            </a:xfrm>
            <a:custGeom>
              <a:avLst/>
              <a:gdLst/>
              <a:ahLst/>
              <a:rect l="l" t="t" r="r" b="b"/>
              <a:pathLst>
                <a:path w="245" h="503">
                  <a:moveTo>
                    <a:pt x="245" y="175"/>
                  </a:moveTo>
                  <a:lnTo>
                    <a:pt x="245" y="63"/>
                  </a:lnTo>
                  <a:lnTo>
                    <a:pt x="107" y="0"/>
                  </a:lnTo>
                  <a:lnTo>
                    <a:pt x="0" y="231"/>
                  </a:lnTo>
                  <a:lnTo>
                    <a:pt x="0" y="503"/>
                  </a:lnTo>
                  <a:lnTo>
                    <a:pt x="47" y="415"/>
                  </a:lnTo>
                  <a:lnTo>
                    <a:pt x="245" y="486"/>
                  </a:lnTo>
                  <a:lnTo>
                    <a:pt x="245" y="377"/>
                  </a:lnTo>
                  <a:lnTo>
                    <a:pt x="89" y="312"/>
                  </a:lnTo>
                  <a:lnTo>
                    <a:pt x="170" y="142"/>
                  </a:lnTo>
                  <a:lnTo>
                    <a:pt x="245" y="175"/>
                  </a:lnTo>
                  <a:close/>
                </a:path>
              </a:pathLst>
            </a:custGeom>
            <a:blipFill rotWithShape="0">
              <a:blip r:embed="rId111"/>
              <a:srcRect/>
              <a:stretch/>
            </a:blip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283" name=""/>
            <p:cNvSpPr/>
            <p:nvPr/>
          </p:nvSpPr>
          <p:spPr>
            <a:xfrm>
              <a:off x="1208160" y="1974960"/>
              <a:ext cx="31320" cy="69120"/>
            </a:xfrm>
            <a:custGeom>
              <a:avLst/>
              <a:gdLst/>
              <a:ahLst/>
              <a:rect l="l" t="t" r="r" b="b"/>
              <a:pathLst>
                <a:path w="246" h="599">
                  <a:moveTo>
                    <a:pt x="245" y="301"/>
                  </a:moveTo>
                  <a:lnTo>
                    <a:pt x="245" y="0"/>
                  </a:lnTo>
                  <a:lnTo>
                    <a:pt x="182" y="125"/>
                  </a:lnTo>
                  <a:lnTo>
                    <a:pt x="0" y="45"/>
                  </a:lnTo>
                  <a:lnTo>
                    <a:pt x="0" y="170"/>
                  </a:lnTo>
                  <a:lnTo>
                    <a:pt x="149" y="233"/>
                  </a:lnTo>
                  <a:lnTo>
                    <a:pt x="65" y="399"/>
                  </a:lnTo>
                  <a:lnTo>
                    <a:pt x="29" y="399"/>
                  </a:lnTo>
                  <a:lnTo>
                    <a:pt x="0" y="395"/>
                  </a:lnTo>
                  <a:lnTo>
                    <a:pt x="0" y="524"/>
                  </a:lnTo>
                  <a:lnTo>
                    <a:pt x="36" y="539"/>
                  </a:lnTo>
                  <a:lnTo>
                    <a:pt x="146" y="591"/>
                  </a:lnTo>
                  <a:lnTo>
                    <a:pt x="177" y="599"/>
                  </a:lnTo>
                  <a:lnTo>
                    <a:pt x="203" y="597"/>
                  </a:lnTo>
                  <a:lnTo>
                    <a:pt x="225" y="589"/>
                  </a:lnTo>
                  <a:lnTo>
                    <a:pt x="238" y="575"/>
                  </a:lnTo>
                  <a:lnTo>
                    <a:pt x="245" y="563"/>
                  </a:lnTo>
                  <a:lnTo>
                    <a:pt x="246" y="526"/>
                  </a:lnTo>
                  <a:lnTo>
                    <a:pt x="238" y="518"/>
                  </a:lnTo>
                  <a:lnTo>
                    <a:pt x="227" y="510"/>
                  </a:lnTo>
                  <a:lnTo>
                    <a:pt x="162" y="476"/>
                  </a:lnTo>
                  <a:lnTo>
                    <a:pt x="245" y="301"/>
                  </a:lnTo>
                  <a:close/>
                </a:path>
              </a:pathLst>
            </a:custGeom>
            <a:blipFill rotWithShape="0">
              <a:blip r:embed="rId112"/>
              <a:srcRect/>
              <a:stretch/>
            </a:blip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284" name=""/>
            <p:cNvSpPr/>
            <p:nvPr/>
          </p:nvSpPr>
          <p:spPr>
            <a:xfrm>
              <a:off x="1151640" y="1937520"/>
              <a:ext cx="56160" cy="98280"/>
            </a:xfrm>
            <a:custGeom>
              <a:avLst/>
              <a:gdLst/>
              <a:ahLst/>
              <a:rect l="l" t="t" r="r" b="b"/>
              <a:pathLst>
                <a:path w="443" h="847">
                  <a:moveTo>
                    <a:pt x="443" y="272"/>
                  </a:moveTo>
                  <a:lnTo>
                    <a:pt x="443" y="0"/>
                  </a:lnTo>
                  <a:lnTo>
                    <a:pt x="178" y="588"/>
                  </a:lnTo>
                  <a:lnTo>
                    <a:pt x="56" y="528"/>
                  </a:lnTo>
                  <a:lnTo>
                    <a:pt x="0" y="625"/>
                  </a:lnTo>
                  <a:lnTo>
                    <a:pt x="277" y="763"/>
                  </a:lnTo>
                  <a:lnTo>
                    <a:pt x="443" y="847"/>
                  </a:lnTo>
                  <a:lnTo>
                    <a:pt x="443" y="718"/>
                  </a:lnTo>
                  <a:lnTo>
                    <a:pt x="439" y="716"/>
                  </a:lnTo>
                  <a:lnTo>
                    <a:pt x="401" y="703"/>
                  </a:lnTo>
                  <a:lnTo>
                    <a:pt x="384" y="692"/>
                  </a:lnTo>
                  <a:lnTo>
                    <a:pt x="364" y="677"/>
                  </a:lnTo>
                  <a:lnTo>
                    <a:pt x="327" y="645"/>
                  </a:lnTo>
                  <a:lnTo>
                    <a:pt x="289" y="606"/>
                  </a:lnTo>
                  <a:lnTo>
                    <a:pt x="354" y="452"/>
                  </a:lnTo>
                  <a:lnTo>
                    <a:pt x="443" y="493"/>
                  </a:lnTo>
                  <a:lnTo>
                    <a:pt x="443" y="368"/>
                  </a:lnTo>
                  <a:lnTo>
                    <a:pt x="406" y="349"/>
                  </a:lnTo>
                  <a:lnTo>
                    <a:pt x="443" y="272"/>
                  </a:lnTo>
                  <a:close/>
                </a:path>
              </a:pathLst>
            </a:custGeom>
            <a:blipFill rotWithShape="0">
              <a:blip r:embed="rId11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1295280" y="1945080"/>
              <a:ext cx="70560" cy="87120"/>
            </a:xfrm>
            <a:custGeom>
              <a:avLst/>
              <a:gdLst/>
              <a:ahLst/>
              <a:rect l="l" t="t" r="r" b="b"/>
              <a:pathLst>
                <a:path w="550" h="756">
                  <a:moveTo>
                    <a:pt x="328" y="0"/>
                  </a:moveTo>
                  <a:lnTo>
                    <a:pt x="286" y="97"/>
                  </a:lnTo>
                  <a:lnTo>
                    <a:pt x="234" y="207"/>
                  </a:lnTo>
                  <a:lnTo>
                    <a:pt x="226" y="215"/>
                  </a:lnTo>
                  <a:lnTo>
                    <a:pt x="213" y="227"/>
                  </a:lnTo>
                  <a:lnTo>
                    <a:pt x="176" y="248"/>
                  </a:lnTo>
                  <a:lnTo>
                    <a:pt x="100" y="288"/>
                  </a:lnTo>
                  <a:lnTo>
                    <a:pt x="77" y="302"/>
                  </a:lnTo>
                  <a:lnTo>
                    <a:pt x="55" y="319"/>
                  </a:lnTo>
                  <a:lnTo>
                    <a:pt x="47" y="329"/>
                  </a:lnTo>
                  <a:lnTo>
                    <a:pt x="41" y="342"/>
                  </a:lnTo>
                  <a:lnTo>
                    <a:pt x="37" y="353"/>
                  </a:lnTo>
                  <a:lnTo>
                    <a:pt x="40" y="365"/>
                  </a:lnTo>
                  <a:lnTo>
                    <a:pt x="58" y="420"/>
                  </a:lnTo>
                  <a:lnTo>
                    <a:pt x="67" y="446"/>
                  </a:lnTo>
                  <a:lnTo>
                    <a:pt x="213" y="442"/>
                  </a:lnTo>
                  <a:lnTo>
                    <a:pt x="239" y="446"/>
                  </a:lnTo>
                  <a:lnTo>
                    <a:pt x="247" y="450"/>
                  </a:lnTo>
                  <a:lnTo>
                    <a:pt x="250" y="455"/>
                  </a:lnTo>
                  <a:lnTo>
                    <a:pt x="252" y="462"/>
                  </a:lnTo>
                  <a:lnTo>
                    <a:pt x="250" y="470"/>
                  </a:lnTo>
                  <a:lnTo>
                    <a:pt x="239" y="491"/>
                  </a:lnTo>
                  <a:lnTo>
                    <a:pt x="225" y="505"/>
                  </a:lnTo>
                  <a:lnTo>
                    <a:pt x="203" y="519"/>
                  </a:lnTo>
                  <a:lnTo>
                    <a:pt x="148" y="549"/>
                  </a:lnTo>
                  <a:lnTo>
                    <a:pt x="90" y="575"/>
                  </a:lnTo>
                  <a:lnTo>
                    <a:pt x="51" y="590"/>
                  </a:lnTo>
                  <a:lnTo>
                    <a:pt x="27" y="600"/>
                  </a:lnTo>
                  <a:lnTo>
                    <a:pt x="17" y="606"/>
                  </a:lnTo>
                  <a:lnTo>
                    <a:pt x="9" y="614"/>
                  </a:lnTo>
                  <a:lnTo>
                    <a:pt x="4" y="625"/>
                  </a:lnTo>
                  <a:lnTo>
                    <a:pt x="0" y="640"/>
                  </a:lnTo>
                  <a:lnTo>
                    <a:pt x="1" y="657"/>
                  </a:lnTo>
                  <a:lnTo>
                    <a:pt x="8" y="679"/>
                  </a:lnTo>
                  <a:lnTo>
                    <a:pt x="22" y="714"/>
                  </a:lnTo>
                  <a:lnTo>
                    <a:pt x="27" y="722"/>
                  </a:lnTo>
                  <a:lnTo>
                    <a:pt x="37" y="729"/>
                  </a:lnTo>
                  <a:lnTo>
                    <a:pt x="69" y="732"/>
                  </a:lnTo>
                  <a:lnTo>
                    <a:pt x="121" y="734"/>
                  </a:lnTo>
                  <a:lnTo>
                    <a:pt x="304" y="748"/>
                  </a:lnTo>
                  <a:lnTo>
                    <a:pt x="420" y="756"/>
                  </a:lnTo>
                  <a:lnTo>
                    <a:pt x="424" y="667"/>
                  </a:lnTo>
                  <a:lnTo>
                    <a:pt x="375" y="661"/>
                  </a:lnTo>
                  <a:lnTo>
                    <a:pt x="331" y="656"/>
                  </a:lnTo>
                  <a:lnTo>
                    <a:pt x="290" y="645"/>
                  </a:lnTo>
                  <a:lnTo>
                    <a:pt x="262" y="635"/>
                  </a:lnTo>
                  <a:lnTo>
                    <a:pt x="250" y="632"/>
                  </a:lnTo>
                  <a:lnTo>
                    <a:pt x="244" y="624"/>
                  </a:lnTo>
                  <a:lnTo>
                    <a:pt x="242" y="616"/>
                  </a:lnTo>
                  <a:lnTo>
                    <a:pt x="247" y="606"/>
                  </a:lnTo>
                  <a:lnTo>
                    <a:pt x="257" y="594"/>
                  </a:lnTo>
                  <a:lnTo>
                    <a:pt x="274" y="580"/>
                  </a:lnTo>
                  <a:lnTo>
                    <a:pt x="331" y="536"/>
                  </a:lnTo>
                  <a:lnTo>
                    <a:pt x="404" y="476"/>
                  </a:lnTo>
                  <a:lnTo>
                    <a:pt x="514" y="379"/>
                  </a:lnTo>
                  <a:lnTo>
                    <a:pt x="545" y="347"/>
                  </a:lnTo>
                  <a:lnTo>
                    <a:pt x="550" y="337"/>
                  </a:lnTo>
                  <a:lnTo>
                    <a:pt x="547" y="326"/>
                  </a:lnTo>
                  <a:lnTo>
                    <a:pt x="527" y="300"/>
                  </a:lnTo>
                  <a:lnTo>
                    <a:pt x="513" y="284"/>
                  </a:lnTo>
                  <a:lnTo>
                    <a:pt x="495" y="271"/>
                  </a:lnTo>
                  <a:lnTo>
                    <a:pt x="472" y="258"/>
                  </a:lnTo>
                  <a:lnTo>
                    <a:pt x="446" y="248"/>
                  </a:lnTo>
                  <a:lnTo>
                    <a:pt x="419" y="294"/>
                  </a:lnTo>
                  <a:lnTo>
                    <a:pt x="401" y="329"/>
                  </a:lnTo>
                  <a:lnTo>
                    <a:pt x="388" y="361"/>
                  </a:lnTo>
                  <a:lnTo>
                    <a:pt x="378" y="365"/>
                  </a:lnTo>
                  <a:lnTo>
                    <a:pt x="351" y="369"/>
                  </a:lnTo>
                  <a:lnTo>
                    <a:pt x="333" y="369"/>
                  </a:lnTo>
                  <a:lnTo>
                    <a:pt x="314" y="369"/>
                  </a:lnTo>
                  <a:lnTo>
                    <a:pt x="292" y="363"/>
                  </a:lnTo>
                  <a:lnTo>
                    <a:pt x="270" y="353"/>
                  </a:lnTo>
                  <a:lnTo>
                    <a:pt x="252" y="342"/>
                  </a:lnTo>
                  <a:lnTo>
                    <a:pt x="242" y="329"/>
                  </a:lnTo>
                  <a:lnTo>
                    <a:pt x="236" y="319"/>
                  </a:lnTo>
                  <a:lnTo>
                    <a:pt x="236" y="310"/>
                  </a:lnTo>
                  <a:lnTo>
                    <a:pt x="241" y="300"/>
                  </a:lnTo>
                  <a:lnTo>
                    <a:pt x="249" y="290"/>
                  </a:lnTo>
                  <a:lnTo>
                    <a:pt x="270" y="272"/>
                  </a:lnTo>
                  <a:lnTo>
                    <a:pt x="378" y="180"/>
                  </a:lnTo>
                  <a:lnTo>
                    <a:pt x="461" y="104"/>
                  </a:lnTo>
                  <a:lnTo>
                    <a:pt x="328" y="0"/>
                  </a:lnTo>
                  <a:close/>
                </a:path>
              </a:pathLst>
            </a:custGeom>
            <a:blipFill rotWithShape="0">
              <a:blip r:embed="rId114"/>
              <a:srcRect/>
              <a:stretch/>
            </a:blip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86" name=""/>
            <p:cNvSpPr/>
            <p:nvPr/>
          </p:nvSpPr>
          <p:spPr>
            <a:xfrm>
              <a:off x="1396800" y="1967400"/>
              <a:ext cx="39960" cy="71280"/>
            </a:xfrm>
            <a:custGeom>
              <a:avLst/>
              <a:gdLst/>
              <a:ahLst/>
              <a:rect l="l" t="t" r="r" b="b"/>
              <a:pathLst>
                <a:path w="310" h="614">
                  <a:moveTo>
                    <a:pt x="0" y="481"/>
                  </a:moveTo>
                  <a:lnTo>
                    <a:pt x="0" y="583"/>
                  </a:lnTo>
                  <a:lnTo>
                    <a:pt x="159" y="614"/>
                  </a:lnTo>
                  <a:lnTo>
                    <a:pt x="310" y="73"/>
                  </a:lnTo>
                  <a:lnTo>
                    <a:pt x="0" y="0"/>
                  </a:lnTo>
                  <a:lnTo>
                    <a:pt x="0" y="119"/>
                  </a:lnTo>
                  <a:lnTo>
                    <a:pt x="156" y="154"/>
                  </a:lnTo>
                  <a:lnTo>
                    <a:pt x="87" y="504"/>
                  </a:lnTo>
                  <a:lnTo>
                    <a:pt x="0" y="481"/>
                  </a:lnTo>
                  <a:close/>
                </a:path>
              </a:pathLst>
            </a:custGeom>
            <a:blipFill rotWithShape="0">
              <a:blip r:embed="rId115"/>
              <a:srcRect/>
              <a:stretch/>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287" name=""/>
            <p:cNvSpPr/>
            <p:nvPr/>
          </p:nvSpPr>
          <p:spPr>
            <a:xfrm>
              <a:off x="1357920" y="1962720"/>
              <a:ext cx="38880" cy="72360"/>
            </a:xfrm>
            <a:custGeom>
              <a:avLst/>
              <a:gdLst/>
              <a:ahLst/>
              <a:rect l="l" t="t" r="r" b="b"/>
              <a:pathLst>
                <a:path w="307" h="624">
                  <a:moveTo>
                    <a:pt x="307" y="160"/>
                  </a:moveTo>
                  <a:lnTo>
                    <a:pt x="307" y="41"/>
                  </a:lnTo>
                  <a:lnTo>
                    <a:pt x="146" y="0"/>
                  </a:lnTo>
                  <a:lnTo>
                    <a:pt x="0" y="556"/>
                  </a:lnTo>
                  <a:lnTo>
                    <a:pt x="307" y="624"/>
                  </a:lnTo>
                  <a:lnTo>
                    <a:pt x="307" y="522"/>
                  </a:lnTo>
                  <a:lnTo>
                    <a:pt x="151" y="480"/>
                  </a:lnTo>
                  <a:lnTo>
                    <a:pt x="222" y="138"/>
                  </a:lnTo>
                  <a:lnTo>
                    <a:pt x="307" y="160"/>
                  </a:lnTo>
                  <a:close/>
                </a:path>
              </a:pathLst>
            </a:custGeom>
            <a:blipFill rotWithShape="0">
              <a:blip r:embed="rId116"/>
              <a:srcRect/>
              <a:stretch/>
            </a:blip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88" name=""/>
            <p:cNvSpPr/>
            <p:nvPr/>
          </p:nvSpPr>
          <p:spPr>
            <a:xfrm>
              <a:off x="1383480" y="2045520"/>
              <a:ext cx="31320" cy="40680"/>
            </a:xfrm>
            <a:custGeom>
              <a:avLst/>
              <a:gdLst/>
              <a:ahLst/>
              <a:rect l="l" t="t" r="r" b="b"/>
              <a:pathLst>
                <a:path w="252" h="358">
                  <a:moveTo>
                    <a:pt x="0" y="37"/>
                  </a:moveTo>
                  <a:lnTo>
                    <a:pt x="130" y="0"/>
                  </a:lnTo>
                  <a:lnTo>
                    <a:pt x="252" y="296"/>
                  </a:lnTo>
                  <a:lnTo>
                    <a:pt x="122" y="358"/>
                  </a:lnTo>
                  <a:lnTo>
                    <a:pt x="0" y="37"/>
                  </a:lnTo>
                  <a:close/>
                </a:path>
              </a:pathLst>
            </a:custGeom>
            <a:blipFill rotWithShape="0">
              <a:blip r:embed="rId117"/>
              <a:srcRect/>
              <a:stretch/>
            </a:blip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89" name=""/>
            <p:cNvSpPr/>
            <p:nvPr/>
          </p:nvSpPr>
          <p:spPr>
            <a:xfrm>
              <a:off x="1286280" y="2039760"/>
              <a:ext cx="92160" cy="36000"/>
            </a:xfrm>
            <a:custGeom>
              <a:avLst/>
              <a:gdLst/>
              <a:ahLst/>
              <a:rect l="l" t="t" r="r" b="b"/>
              <a:pathLst>
                <a:path w="722" h="316">
                  <a:moveTo>
                    <a:pt x="722" y="92"/>
                  </a:moveTo>
                  <a:lnTo>
                    <a:pt x="434" y="316"/>
                  </a:lnTo>
                  <a:lnTo>
                    <a:pt x="354" y="223"/>
                  </a:lnTo>
                  <a:lnTo>
                    <a:pt x="388" y="189"/>
                  </a:lnTo>
                  <a:lnTo>
                    <a:pt x="401" y="173"/>
                  </a:lnTo>
                  <a:lnTo>
                    <a:pt x="403" y="165"/>
                  </a:lnTo>
                  <a:lnTo>
                    <a:pt x="401" y="157"/>
                  </a:lnTo>
                  <a:lnTo>
                    <a:pt x="396" y="152"/>
                  </a:lnTo>
                  <a:lnTo>
                    <a:pt x="388" y="146"/>
                  </a:lnTo>
                  <a:lnTo>
                    <a:pt x="379" y="142"/>
                  </a:lnTo>
                  <a:lnTo>
                    <a:pt x="363" y="142"/>
                  </a:lnTo>
                  <a:lnTo>
                    <a:pt x="0" y="154"/>
                  </a:lnTo>
                  <a:lnTo>
                    <a:pt x="0" y="12"/>
                  </a:lnTo>
                  <a:lnTo>
                    <a:pt x="140" y="36"/>
                  </a:lnTo>
                  <a:lnTo>
                    <a:pt x="249" y="53"/>
                  </a:lnTo>
                  <a:lnTo>
                    <a:pt x="323" y="61"/>
                  </a:lnTo>
                  <a:lnTo>
                    <a:pt x="367" y="57"/>
                  </a:lnTo>
                  <a:lnTo>
                    <a:pt x="408" y="52"/>
                  </a:lnTo>
                  <a:lnTo>
                    <a:pt x="450" y="44"/>
                  </a:lnTo>
                  <a:lnTo>
                    <a:pt x="450" y="65"/>
                  </a:lnTo>
                  <a:lnTo>
                    <a:pt x="453" y="83"/>
                  </a:lnTo>
                  <a:lnTo>
                    <a:pt x="458" y="100"/>
                  </a:lnTo>
                  <a:lnTo>
                    <a:pt x="466" y="115"/>
                  </a:lnTo>
                  <a:lnTo>
                    <a:pt x="471" y="120"/>
                  </a:lnTo>
                  <a:lnTo>
                    <a:pt x="479" y="123"/>
                  </a:lnTo>
                  <a:lnTo>
                    <a:pt x="489" y="120"/>
                  </a:lnTo>
                  <a:lnTo>
                    <a:pt x="503" y="117"/>
                  </a:lnTo>
                  <a:lnTo>
                    <a:pt x="519" y="105"/>
                  </a:lnTo>
                  <a:lnTo>
                    <a:pt x="539" y="89"/>
                  </a:lnTo>
                  <a:lnTo>
                    <a:pt x="576" y="53"/>
                  </a:lnTo>
                  <a:lnTo>
                    <a:pt x="604" y="24"/>
                  </a:lnTo>
                  <a:lnTo>
                    <a:pt x="623" y="0"/>
                  </a:lnTo>
                  <a:lnTo>
                    <a:pt x="722" y="92"/>
                  </a:lnTo>
                  <a:close/>
                </a:path>
              </a:pathLst>
            </a:custGeom>
            <a:blipFill rotWithShape="0">
              <a:blip r:embed="rId118"/>
              <a:srcRect/>
              <a:stretch/>
            </a:blip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290" name=""/>
            <p:cNvSpPr/>
            <p:nvPr/>
          </p:nvSpPr>
          <p:spPr>
            <a:xfrm>
              <a:off x="1752480" y="1635120"/>
              <a:ext cx="609840" cy="426960"/>
            </a:xfrm>
            <a:custGeom>
              <a:avLst/>
              <a:gdLst/>
              <a:ahLst/>
              <a:rect l="l" t="t" r="r" b="b"/>
              <a:pathLst>
                <a:path w="4761" h="3674">
                  <a:moveTo>
                    <a:pt x="57" y="2940"/>
                  </a:moveTo>
                  <a:lnTo>
                    <a:pt x="0" y="2871"/>
                  </a:lnTo>
                  <a:lnTo>
                    <a:pt x="166" y="2628"/>
                  </a:lnTo>
                  <a:lnTo>
                    <a:pt x="352" y="2877"/>
                  </a:lnTo>
                  <a:lnTo>
                    <a:pt x="547" y="3131"/>
                  </a:lnTo>
                  <a:lnTo>
                    <a:pt x="776" y="3428"/>
                  </a:lnTo>
                  <a:lnTo>
                    <a:pt x="971" y="3366"/>
                  </a:lnTo>
                  <a:lnTo>
                    <a:pt x="1159" y="3300"/>
                  </a:lnTo>
                  <a:lnTo>
                    <a:pt x="1346" y="3225"/>
                  </a:lnTo>
                  <a:lnTo>
                    <a:pt x="1535" y="3140"/>
                  </a:lnTo>
                  <a:lnTo>
                    <a:pt x="1734" y="3041"/>
                  </a:lnTo>
                  <a:lnTo>
                    <a:pt x="1944" y="2931"/>
                  </a:lnTo>
                  <a:lnTo>
                    <a:pt x="2171" y="2803"/>
                  </a:lnTo>
                  <a:lnTo>
                    <a:pt x="2420" y="2657"/>
                  </a:lnTo>
                  <a:lnTo>
                    <a:pt x="2550" y="2576"/>
                  </a:lnTo>
                  <a:lnTo>
                    <a:pt x="2679" y="2489"/>
                  </a:lnTo>
                  <a:lnTo>
                    <a:pt x="2805" y="2398"/>
                  </a:lnTo>
                  <a:lnTo>
                    <a:pt x="2927" y="2303"/>
                  </a:lnTo>
                  <a:lnTo>
                    <a:pt x="3048" y="2204"/>
                  </a:lnTo>
                  <a:lnTo>
                    <a:pt x="3163" y="2105"/>
                  </a:lnTo>
                  <a:lnTo>
                    <a:pt x="3275" y="2005"/>
                  </a:lnTo>
                  <a:lnTo>
                    <a:pt x="3383" y="1904"/>
                  </a:lnTo>
                  <a:lnTo>
                    <a:pt x="3485" y="1806"/>
                  </a:lnTo>
                  <a:lnTo>
                    <a:pt x="3582" y="1709"/>
                  </a:lnTo>
                  <a:lnTo>
                    <a:pt x="3758" y="1524"/>
                  </a:lnTo>
                  <a:lnTo>
                    <a:pt x="3906" y="1360"/>
                  </a:lnTo>
                  <a:lnTo>
                    <a:pt x="4024" y="1221"/>
                  </a:lnTo>
                  <a:lnTo>
                    <a:pt x="4123" y="1101"/>
                  </a:lnTo>
                  <a:lnTo>
                    <a:pt x="4218" y="973"/>
                  </a:lnTo>
                  <a:lnTo>
                    <a:pt x="4089" y="1085"/>
                  </a:lnTo>
                  <a:lnTo>
                    <a:pt x="3916" y="959"/>
                  </a:lnTo>
                  <a:lnTo>
                    <a:pt x="3306" y="1585"/>
                  </a:lnTo>
                  <a:lnTo>
                    <a:pt x="3132" y="1524"/>
                  </a:lnTo>
                  <a:lnTo>
                    <a:pt x="3163" y="1113"/>
                  </a:lnTo>
                  <a:lnTo>
                    <a:pt x="3186" y="813"/>
                  </a:lnTo>
                  <a:lnTo>
                    <a:pt x="3194" y="700"/>
                  </a:lnTo>
                  <a:lnTo>
                    <a:pt x="3195" y="637"/>
                  </a:lnTo>
                  <a:lnTo>
                    <a:pt x="3197" y="612"/>
                  </a:lnTo>
                  <a:lnTo>
                    <a:pt x="3202" y="598"/>
                  </a:lnTo>
                  <a:lnTo>
                    <a:pt x="3207" y="595"/>
                  </a:lnTo>
                  <a:lnTo>
                    <a:pt x="3215" y="596"/>
                  </a:lnTo>
                  <a:lnTo>
                    <a:pt x="3223" y="606"/>
                  </a:lnTo>
                  <a:lnTo>
                    <a:pt x="3229" y="619"/>
                  </a:lnTo>
                  <a:lnTo>
                    <a:pt x="3233" y="635"/>
                  </a:lnTo>
                  <a:lnTo>
                    <a:pt x="3237" y="655"/>
                  </a:lnTo>
                  <a:lnTo>
                    <a:pt x="3249" y="837"/>
                  </a:lnTo>
                  <a:lnTo>
                    <a:pt x="3267" y="985"/>
                  </a:lnTo>
                  <a:lnTo>
                    <a:pt x="3286" y="1098"/>
                  </a:lnTo>
                  <a:lnTo>
                    <a:pt x="3310" y="1182"/>
                  </a:lnTo>
                  <a:lnTo>
                    <a:pt x="3332" y="1242"/>
                  </a:lnTo>
                  <a:lnTo>
                    <a:pt x="3349" y="1279"/>
                  </a:lnTo>
                  <a:lnTo>
                    <a:pt x="3364" y="1299"/>
                  </a:lnTo>
                  <a:lnTo>
                    <a:pt x="3367" y="1304"/>
                  </a:lnTo>
                  <a:lnTo>
                    <a:pt x="3924" y="724"/>
                  </a:lnTo>
                  <a:lnTo>
                    <a:pt x="4222" y="965"/>
                  </a:lnTo>
                  <a:lnTo>
                    <a:pt x="4293" y="867"/>
                  </a:lnTo>
                  <a:lnTo>
                    <a:pt x="4356" y="770"/>
                  </a:lnTo>
                  <a:lnTo>
                    <a:pt x="4464" y="598"/>
                  </a:lnTo>
                  <a:lnTo>
                    <a:pt x="4565" y="431"/>
                  </a:lnTo>
                  <a:lnTo>
                    <a:pt x="4354" y="219"/>
                  </a:lnTo>
                  <a:lnTo>
                    <a:pt x="4212" y="334"/>
                  </a:lnTo>
                  <a:lnTo>
                    <a:pt x="4167" y="257"/>
                  </a:lnTo>
                  <a:lnTo>
                    <a:pt x="4370" y="0"/>
                  </a:lnTo>
                  <a:lnTo>
                    <a:pt x="4508" y="174"/>
                  </a:lnTo>
                  <a:lnTo>
                    <a:pt x="4636" y="336"/>
                  </a:lnTo>
                  <a:lnTo>
                    <a:pt x="4761" y="499"/>
                  </a:lnTo>
                  <a:lnTo>
                    <a:pt x="4605" y="740"/>
                  </a:lnTo>
                  <a:lnTo>
                    <a:pt x="4451" y="965"/>
                  </a:lnTo>
                  <a:lnTo>
                    <a:pt x="4296" y="1179"/>
                  </a:lnTo>
                  <a:lnTo>
                    <a:pt x="4139" y="1380"/>
                  </a:lnTo>
                  <a:lnTo>
                    <a:pt x="3977" y="1574"/>
                  </a:lnTo>
                  <a:lnTo>
                    <a:pt x="3806" y="1767"/>
                  </a:lnTo>
                  <a:lnTo>
                    <a:pt x="3624" y="1954"/>
                  </a:lnTo>
                  <a:lnTo>
                    <a:pt x="3428" y="2145"/>
                  </a:lnTo>
                  <a:lnTo>
                    <a:pt x="3328" y="2238"/>
                  </a:lnTo>
                  <a:lnTo>
                    <a:pt x="3228" y="2327"/>
                  </a:lnTo>
                  <a:lnTo>
                    <a:pt x="3124" y="2411"/>
                  </a:lnTo>
                  <a:lnTo>
                    <a:pt x="3024" y="2492"/>
                  </a:lnTo>
                  <a:lnTo>
                    <a:pt x="2923" y="2568"/>
                  </a:lnTo>
                  <a:lnTo>
                    <a:pt x="2823" y="2641"/>
                  </a:lnTo>
                  <a:lnTo>
                    <a:pt x="2724" y="2709"/>
                  </a:lnTo>
                  <a:lnTo>
                    <a:pt x="2623" y="2775"/>
                  </a:lnTo>
                  <a:lnTo>
                    <a:pt x="2524" y="2838"/>
                  </a:lnTo>
                  <a:lnTo>
                    <a:pt x="2425" y="2898"/>
                  </a:lnTo>
                  <a:lnTo>
                    <a:pt x="2231" y="3011"/>
                  </a:lnTo>
                  <a:lnTo>
                    <a:pt x="2037" y="3115"/>
                  </a:lnTo>
                  <a:lnTo>
                    <a:pt x="1847" y="3217"/>
                  </a:lnTo>
                  <a:lnTo>
                    <a:pt x="1753" y="3264"/>
                  </a:lnTo>
                  <a:lnTo>
                    <a:pt x="1656" y="3311"/>
                  </a:lnTo>
                  <a:lnTo>
                    <a:pt x="1460" y="3398"/>
                  </a:lnTo>
                  <a:lnTo>
                    <a:pt x="1269" y="3475"/>
                  </a:lnTo>
                  <a:lnTo>
                    <a:pt x="1091" y="3542"/>
                  </a:lnTo>
                  <a:lnTo>
                    <a:pt x="939" y="3598"/>
                  </a:lnTo>
                  <a:lnTo>
                    <a:pt x="819" y="3638"/>
                  </a:lnTo>
                  <a:lnTo>
                    <a:pt x="711" y="3674"/>
                  </a:lnTo>
                  <a:lnTo>
                    <a:pt x="122" y="2887"/>
                  </a:lnTo>
                  <a:lnTo>
                    <a:pt x="57" y="2940"/>
                  </a:lnTo>
                  <a:close/>
                </a:path>
              </a:pathLst>
            </a:custGeom>
            <a:blipFill rotWithShape="0">
              <a:blip r:embed="rId11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1" name="PlaceHolder 2"/>
          <p:cNvSpPr>
            <a:spLocks noGrp="1"/>
          </p:cNvSpPr>
          <p:nvPr>
            <p:ph type="title"/>
          </p:nvPr>
        </p:nvSpPr>
        <p:spPr>
          <a:xfrm>
            <a:off x="1828800" y="762120"/>
            <a:ext cx="68580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ession 1:  The Nature of the Problem</a:t>
            </a:r>
            <a:endParaRPr b="0" lang="en-US" sz="4400" spc="-1" strike="noStrike">
              <a:solidFill>
                <a:srgbClr val="ffff00"/>
              </a:solidFill>
              <a:latin typeface="Times New Roman"/>
            </a:endParaRPr>
          </a:p>
        </p:txBody>
      </p:sp>
      <p:pic>
        <p:nvPicPr>
          <p:cNvPr id="292" name="" descr=""/>
          <p:cNvPicPr/>
          <p:nvPr/>
        </p:nvPicPr>
        <p:blipFill>
          <a:blip r:embed="rId120"/>
          <a:stretch/>
        </p:blipFill>
        <p:spPr>
          <a:xfrm>
            <a:off x="1219320" y="914400"/>
            <a:ext cx="6705360" cy="50292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9"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ircraft Noise Assessment</a:t>
            </a:r>
            <a:endParaRPr b="0" lang="en-US" sz="3600" spc="-1" strike="noStrike">
              <a:solidFill>
                <a:srgbClr val="ffffff"/>
              </a:solidFill>
              <a:latin typeface="Times New Roman"/>
            </a:endParaRPr>
          </a:p>
        </p:txBody>
      </p:sp>
      <p:sp>
        <p:nvSpPr>
          <p:cNvPr id="510" name="PlaceHolder 1"/>
          <p:cNvSpPr>
            <a:spLocks noGrp="1"/>
          </p:cNvSpPr>
          <p:nvPr>
            <p:ph/>
          </p:nvPr>
        </p:nvSpPr>
        <p:spPr>
          <a:xfrm>
            <a:off x="609480" y="1523880"/>
            <a:ext cx="7772400" cy="47246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Concerns to addres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health and welfar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land use compatibility</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vironmental degradation</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Desired characteristics</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pplicable to above concern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imple to understand and us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relates to community/environmental noise</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figure of merit’</a:t>
            </a:r>
            <a:endParaRPr b="0" lang="en-US" sz="24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ccounts for magnitude, frequency of occurrence, and time of day</a:t>
            </a:r>
            <a:endParaRPr b="0" lang="en-US" sz="2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11" name=""/>
          <p:cNvGrpSpPr/>
          <p:nvPr/>
        </p:nvGrpSpPr>
        <p:grpSpPr>
          <a:xfrm>
            <a:off x="0" y="457200"/>
            <a:ext cx="9143280" cy="6141960"/>
            <a:chOff x="0" y="457200"/>
            <a:chExt cx="9143280" cy="6141960"/>
          </a:xfrm>
        </p:grpSpPr>
        <p:grpSp>
          <p:nvGrpSpPr>
            <p:cNvPr id="512" name=""/>
            <p:cNvGrpSpPr/>
            <p:nvPr/>
          </p:nvGrpSpPr>
          <p:grpSpPr>
            <a:xfrm>
              <a:off x="0" y="457200"/>
              <a:ext cx="9143280" cy="6141960"/>
              <a:chOff x="0" y="457200"/>
              <a:chExt cx="9143280" cy="6141960"/>
            </a:xfrm>
          </p:grpSpPr>
          <p:sp>
            <p:nvSpPr>
              <p:cNvPr id="513" name=""/>
              <p:cNvSpPr/>
              <p:nvPr/>
            </p:nvSpPr>
            <p:spPr>
              <a:xfrm>
                <a:off x="0" y="457200"/>
                <a:ext cx="9143280" cy="6141960"/>
              </a:xfrm>
              <a:custGeom>
                <a:avLst/>
                <a:gdLst/>
                <a:ahLst/>
                <a:rect l="l" t="t" r="r" b="b"/>
                <a:pathLst>
                  <a:path w="5566" h="3869">
                    <a:moveTo>
                      <a:pt x="5566" y="3869"/>
                    </a:moveTo>
                    <a:lnTo>
                      <a:pt x="5566" y="3451"/>
                    </a:lnTo>
                    <a:lnTo>
                      <a:pt x="5566" y="3020"/>
                    </a:lnTo>
                    <a:lnTo>
                      <a:pt x="5566" y="2596"/>
                    </a:lnTo>
                    <a:lnTo>
                      <a:pt x="5566" y="2174"/>
                    </a:lnTo>
                    <a:lnTo>
                      <a:pt x="5566" y="1748"/>
                    </a:lnTo>
                    <a:lnTo>
                      <a:pt x="5566" y="1325"/>
                    </a:lnTo>
                    <a:lnTo>
                      <a:pt x="5566" y="899"/>
                    </a:lnTo>
                    <a:lnTo>
                      <a:pt x="5566" y="473"/>
                    </a:lnTo>
                    <a:lnTo>
                      <a:pt x="5566" y="330"/>
                    </a:lnTo>
                    <a:lnTo>
                      <a:pt x="5566" y="0"/>
                    </a:lnTo>
                    <a:lnTo>
                      <a:pt x="0" y="0"/>
                    </a:lnTo>
                    <a:lnTo>
                      <a:pt x="0" y="330"/>
                    </a:lnTo>
                    <a:lnTo>
                      <a:pt x="0" y="473"/>
                    </a:lnTo>
                    <a:lnTo>
                      <a:pt x="0" y="899"/>
                    </a:lnTo>
                    <a:lnTo>
                      <a:pt x="0" y="1325"/>
                    </a:lnTo>
                    <a:lnTo>
                      <a:pt x="0" y="1748"/>
                    </a:lnTo>
                    <a:lnTo>
                      <a:pt x="0" y="2174"/>
                    </a:lnTo>
                    <a:lnTo>
                      <a:pt x="0" y="2596"/>
                    </a:lnTo>
                    <a:lnTo>
                      <a:pt x="0" y="3020"/>
                    </a:lnTo>
                    <a:lnTo>
                      <a:pt x="0" y="3451"/>
                    </a:lnTo>
                    <a:lnTo>
                      <a:pt x="0" y="3869"/>
                    </a:lnTo>
                    <a:lnTo>
                      <a:pt x="5566" y="3869"/>
                    </a:lnTo>
                    <a:close/>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a:off x="9081360" y="5262480"/>
                <a:ext cx="6192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5" name=""/>
              <p:cNvSpPr/>
              <p:nvPr/>
            </p:nvSpPr>
            <p:spPr>
              <a:xfrm>
                <a:off x="9081360" y="5262480"/>
                <a:ext cx="6192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6" name=""/>
              <p:cNvSpPr/>
              <p:nvPr/>
            </p:nvSpPr>
            <p:spPr>
              <a:xfrm flipH="1">
                <a:off x="8221320" y="4584600"/>
                <a:ext cx="10836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7" name=""/>
              <p:cNvSpPr/>
              <p:nvPr/>
            </p:nvSpPr>
            <p:spPr>
              <a:xfrm flipH="1">
                <a:off x="8221320" y="4584600"/>
                <a:ext cx="10836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18" name=""/>
              <p:cNvSpPr/>
              <p:nvPr/>
            </p:nvSpPr>
            <p:spPr>
              <a:xfrm flipH="1">
                <a:off x="7705800" y="2563920"/>
                <a:ext cx="2854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19" name=""/>
              <p:cNvSpPr/>
              <p:nvPr/>
            </p:nvSpPr>
            <p:spPr>
              <a:xfrm flipH="1">
                <a:off x="7705800" y="2563920"/>
                <a:ext cx="2854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20" name=""/>
              <p:cNvSpPr/>
              <p:nvPr/>
            </p:nvSpPr>
            <p:spPr>
              <a:xfrm flipH="1">
                <a:off x="2278440" y="1884240"/>
                <a:ext cx="835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1" name=""/>
              <p:cNvSpPr/>
              <p:nvPr/>
            </p:nvSpPr>
            <p:spPr>
              <a:xfrm flipH="1">
                <a:off x="2278440" y="1884240"/>
                <a:ext cx="835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2" name=""/>
              <p:cNvSpPr/>
              <p:nvPr/>
            </p:nvSpPr>
            <p:spPr>
              <a:xfrm flipH="1">
                <a:off x="2040120" y="1884240"/>
                <a:ext cx="1144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3" name=""/>
              <p:cNvSpPr/>
              <p:nvPr/>
            </p:nvSpPr>
            <p:spPr>
              <a:xfrm flipH="1">
                <a:off x="2040120" y="1884240"/>
                <a:ext cx="1144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4" name=""/>
              <p:cNvSpPr/>
              <p:nvPr/>
            </p:nvSpPr>
            <p:spPr>
              <a:xfrm flipH="1">
                <a:off x="1811880" y="1884240"/>
                <a:ext cx="1951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5" name=""/>
              <p:cNvSpPr/>
              <p:nvPr/>
            </p:nvSpPr>
            <p:spPr>
              <a:xfrm flipH="1">
                <a:off x="1811880" y="1884240"/>
                <a:ext cx="1951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6" name=""/>
              <p:cNvSpPr/>
              <p:nvPr/>
            </p:nvSpPr>
            <p:spPr>
              <a:xfrm>
                <a:off x="0" y="1206360"/>
                <a:ext cx="913716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7" name=""/>
              <p:cNvSpPr/>
              <p:nvPr/>
            </p:nvSpPr>
            <p:spPr>
              <a:xfrm>
                <a:off x="0" y="1206360"/>
                <a:ext cx="913716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8" name=""/>
              <p:cNvSpPr/>
              <p:nvPr/>
            </p:nvSpPr>
            <p:spPr>
              <a:xfrm>
                <a:off x="0" y="1214280"/>
                <a:ext cx="91432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29" name=""/>
              <p:cNvSpPr/>
              <p:nvPr/>
            </p:nvSpPr>
            <p:spPr>
              <a:xfrm>
                <a:off x="0" y="1214280"/>
                <a:ext cx="91432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30" name=""/>
              <p:cNvSpPr/>
              <p:nvPr/>
            </p:nvSpPr>
            <p:spPr>
              <a:xfrm flipH="1">
                <a:off x="0" y="5938920"/>
                <a:ext cx="91432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1" name=""/>
              <p:cNvSpPr/>
              <p:nvPr/>
            </p:nvSpPr>
            <p:spPr>
              <a:xfrm flipH="1">
                <a:off x="0" y="5938920"/>
                <a:ext cx="91432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2" name=""/>
              <p:cNvSpPr/>
              <p:nvPr/>
            </p:nvSpPr>
            <p:spPr>
              <a:xfrm>
                <a:off x="2880" y="5262480"/>
                <a:ext cx="19220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3" name=""/>
              <p:cNvSpPr/>
              <p:nvPr/>
            </p:nvSpPr>
            <p:spPr>
              <a:xfrm>
                <a:off x="2880" y="5262480"/>
                <a:ext cx="19220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4" name=""/>
              <p:cNvSpPr/>
              <p:nvPr/>
            </p:nvSpPr>
            <p:spPr>
              <a:xfrm>
                <a:off x="2390040" y="5262480"/>
                <a:ext cx="560160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5" name=""/>
              <p:cNvSpPr/>
              <p:nvPr/>
            </p:nvSpPr>
            <p:spPr>
              <a:xfrm>
                <a:off x="2390040" y="5262480"/>
                <a:ext cx="560160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6" name=""/>
              <p:cNvSpPr/>
              <p:nvPr/>
            </p:nvSpPr>
            <p:spPr>
              <a:xfrm>
                <a:off x="8396280" y="5262480"/>
                <a:ext cx="65700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7" name=""/>
              <p:cNvSpPr/>
              <p:nvPr/>
            </p:nvSpPr>
            <p:spPr>
              <a:xfrm>
                <a:off x="8396280" y="5262480"/>
                <a:ext cx="65700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38" name=""/>
              <p:cNvSpPr/>
              <p:nvPr/>
            </p:nvSpPr>
            <p:spPr>
              <a:xfrm>
                <a:off x="2880" y="4584600"/>
                <a:ext cx="18745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39" name=""/>
              <p:cNvSpPr/>
              <p:nvPr/>
            </p:nvSpPr>
            <p:spPr>
              <a:xfrm>
                <a:off x="2880" y="4584600"/>
                <a:ext cx="18745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0" name=""/>
              <p:cNvSpPr/>
              <p:nvPr/>
            </p:nvSpPr>
            <p:spPr>
              <a:xfrm>
                <a:off x="2851560" y="4584600"/>
                <a:ext cx="15094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1" name=""/>
              <p:cNvSpPr/>
              <p:nvPr/>
            </p:nvSpPr>
            <p:spPr>
              <a:xfrm>
                <a:off x="2851560" y="4584600"/>
                <a:ext cx="15094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2" name=""/>
              <p:cNvSpPr/>
              <p:nvPr/>
            </p:nvSpPr>
            <p:spPr>
              <a:xfrm>
                <a:off x="5217120" y="4584600"/>
                <a:ext cx="1558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3" name=""/>
              <p:cNvSpPr/>
              <p:nvPr/>
            </p:nvSpPr>
            <p:spPr>
              <a:xfrm>
                <a:off x="5217120" y="4584600"/>
                <a:ext cx="1558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4" name=""/>
              <p:cNvSpPr/>
              <p:nvPr/>
            </p:nvSpPr>
            <p:spPr>
              <a:xfrm>
                <a:off x="5563800" y="4587840"/>
                <a:ext cx="22208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5" name=""/>
              <p:cNvSpPr/>
              <p:nvPr/>
            </p:nvSpPr>
            <p:spPr>
              <a:xfrm>
                <a:off x="5563800" y="4587840"/>
                <a:ext cx="22208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46" name=""/>
              <p:cNvSpPr/>
              <p:nvPr/>
            </p:nvSpPr>
            <p:spPr>
              <a:xfrm>
                <a:off x="8438760" y="4584600"/>
                <a:ext cx="7045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7" name=""/>
              <p:cNvSpPr/>
              <p:nvPr/>
            </p:nvSpPr>
            <p:spPr>
              <a:xfrm>
                <a:off x="8438760" y="4584600"/>
                <a:ext cx="7045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8" name=""/>
              <p:cNvSpPr/>
              <p:nvPr/>
            </p:nvSpPr>
            <p:spPr>
              <a:xfrm>
                <a:off x="2880" y="3914640"/>
                <a:ext cx="162144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49" name=""/>
              <p:cNvSpPr/>
              <p:nvPr/>
            </p:nvSpPr>
            <p:spPr>
              <a:xfrm>
                <a:off x="2880" y="3914640"/>
                <a:ext cx="162144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0" name=""/>
              <p:cNvSpPr/>
              <p:nvPr/>
            </p:nvSpPr>
            <p:spPr>
              <a:xfrm>
                <a:off x="2465640" y="3914640"/>
                <a:ext cx="18100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1" name=""/>
              <p:cNvSpPr/>
              <p:nvPr/>
            </p:nvSpPr>
            <p:spPr>
              <a:xfrm>
                <a:off x="2465640" y="3914640"/>
                <a:ext cx="18100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2" name=""/>
              <p:cNvSpPr/>
              <p:nvPr/>
            </p:nvSpPr>
            <p:spPr>
              <a:xfrm>
                <a:off x="5460480" y="3914640"/>
                <a:ext cx="159156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3" name=""/>
              <p:cNvSpPr/>
              <p:nvPr/>
            </p:nvSpPr>
            <p:spPr>
              <a:xfrm>
                <a:off x="5460480" y="3914640"/>
                <a:ext cx="159156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4" name=""/>
              <p:cNvSpPr/>
              <p:nvPr/>
            </p:nvSpPr>
            <p:spPr>
              <a:xfrm>
                <a:off x="7157520" y="3914640"/>
                <a:ext cx="457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5" name=""/>
              <p:cNvSpPr/>
              <p:nvPr/>
            </p:nvSpPr>
            <p:spPr>
              <a:xfrm>
                <a:off x="7157520" y="3914640"/>
                <a:ext cx="457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6" name=""/>
              <p:cNvSpPr/>
              <p:nvPr/>
            </p:nvSpPr>
            <p:spPr>
              <a:xfrm>
                <a:off x="7265880" y="3914640"/>
                <a:ext cx="2707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7" name=""/>
              <p:cNvSpPr/>
              <p:nvPr/>
            </p:nvSpPr>
            <p:spPr>
              <a:xfrm>
                <a:off x="7265880" y="3914640"/>
                <a:ext cx="2707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8" name=""/>
              <p:cNvSpPr/>
              <p:nvPr/>
            </p:nvSpPr>
            <p:spPr>
              <a:xfrm>
                <a:off x="7720560" y="3914640"/>
                <a:ext cx="14227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9" name=""/>
              <p:cNvSpPr/>
              <p:nvPr/>
            </p:nvSpPr>
            <p:spPr>
              <a:xfrm>
                <a:off x="7720560" y="3914640"/>
                <a:ext cx="14227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0" name=""/>
              <p:cNvSpPr/>
              <p:nvPr/>
            </p:nvSpPr>
            <p:spPr>
              <a:xfrm>
                <a:off x="0" y="3238560"/>
                <a:ext cx="8474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1" name=""/>
              <p:cNvSpPr/>
              <p:nvPr/>
            </p:nvSpPr>
            <p:spPr>
              <a:xfrm>
                <a:off x="0" y="3238560"/>
                <a:ext cx="8474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2" name=""/>
              <p:cNvSpPr/>
              <p:nvPr/>
            </p:nvSpPr>
            <p:spPr>
              <a:xfrm>
                <a:off x="1111680" y="3238560"/>
                <a:ext cx="17712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3" name=""/>
              <p:cNvSpPr/>
              <p:nvPr/>
            </p:nvSpPr>
            <p:spPr>
              <a:xfrm>
                <a:off x="1111680" y="3238560"/>
                <a:ext cx="17712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4" name=""/>
              <p:cNvSpPr/>
              <p:nvPr/>
            </p:nvSpPr>
            <p:spPr>
              <a:xfrm>
                <a:off x="1392840" y="3238560"/>
                <a:ext cx="2642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5" name=""/>
              <p:cNvSpPr/>
              <p:nvPr/>
            </p:nvSpPr>
            <p:spPr>
              <a:xfrm>
                <a:off x="1392840" y="3238560"/>
                <a:ext cx="2642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6" name=""/>
              <p:cNvSpPr/>
              <p:nvPr/>
            </p:nvSpPr>
            <p:spPr>
              <a:xfrm>
                <a:off x="1740960" y="3238560"/>
                <a:ext cx="174276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7" name=""/>
              <p:cNvSpPr/>
              <p:nvPr/>
            </p:nvSpPr>
            <p:spPr>
              <a:xfrm>
                <a:off x="1740960" y="3238560"/>
                <a:ext cx="174276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8" name=""/>
              <p:cNvSpPr/>
              <p:nvPr/>
            </p:nvSpPr>
            <p:spPr>
              <a:xfrm>
                <a:off x="5846400" y="3238560"/>
                <a:ext cx="2656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69" name=""/>
              <p:cNvSpPr/>
              <p:nvPr/>
            </p:nvSpPr>
            <p:spPr>
              <a:xfrm>
                <a:off x="5846400" y="3238560"/>
                <a:ext cx="2656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0" name=""/>
              <p:cNvSpPr/>
              <p:nvPr/>
            </p:nvSpPr>
            <p:spPr>
              <a:xfrm>
                <a:off x="7449840" y="3235320"/>
                <a:ext cx="16934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1" name=""/>
              <p:cNvSpPr/>
              <p:nvPr/>
            </p:nvSpPr>
            <p:spPr>
              <a:xfrm>
                <a:off x="7449840" y="3235320"/>
                <a:ext cx="16934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2" name=""/>
              <p:cNvSpPr/>
              <p:nvPr/>
            </p:nvSpPr>
            <p:spPr>
              <a:xfrm flipH="1">
                <a:off x="0" y="2563920"/>
                <a:ext cx="5234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3" name=""/>
              <p:cNvSpPr/>
              <p:nvPr/>
            </p:nvSpPr>
            <p:spPr>
              <a:xfrm flipH="1">
                <a:off x="0" y="2563920"/>
                <a:ext cx="5234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4" name=""/>
              <p:cNvSpPr/>
              <p:nvPr/>
            </p:nvSpPr>
            <p:spPr>
              <a:xfrm flipH="1">
                <a:off x="2003760" y="2563920"/>
                <a:ext cx="17146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5" name=""/>
              <p:cNvSpPr/>
              <p:nvPr/>
            </p:nvSpPr>
            <p:spPr>
              <a:xfrm flipH="1">
                <a:off x="2003760" y="2563920"/>
                <a:ext cx="17146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6" name=""/>
              <p:cNvSpPr/>
              <p:nvPr/>
            </p:nvSpPr>
            <p:spPr>
              <a:xfrm>
                <a:off x="4023000" y="2563920"/>
                <a:ext cx="3070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7" name=""/>
              <p:cNvSpPr/>
              <p:nvPr/>
            </p:nvSpPr>
            <p:spPr>
              <a:xfrm>
                <a:off x="4023000" y="2563920"/>
                <a:ext cx="3070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8" name=""/>
              <p:cNvSpPr/>
              <p:nvPr/>
            </p:nvSpPr>
            <p:spPr>
              <a:xfrm flipH="1">
                <a:off x="8037720" y="2563920"/>
                <a:ext cx="110232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79" name=""/>
              <p:cNvSpPr/>
              <p:nvPr/>
            </p:nvSpPr>
            <p:spPr>
              <a:xfrm flipH="1">
                <a:off x="8037720" y="2563920"/>
                <a:ext cx="110232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0" name=""/>
              <p:cNvSpPr/>
              <p:nvPr/>
            </p:nvSpPr>
            <p:spPr>
              <a:xfrm>
                <a:off x="2982960" y="1884240"/>
                <a:ext cx="11185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81" name=""/>
              <p:cNvSpPr/>
              <p:nvPr/>
            </p:nvSpPr>
            <p:spPr>
              <a:xfrm>
                <a:off x="2982960" y="1884240"/>
                <a:ext cx="11185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82" name=""/>
              <p:cNvSpPr/>
              <p:nvPr/>
            </p:nvSpPr>
            <p:spPr>
              <a:xfrm>
                <a:off x="8308800" y="1884240"/>
                <a:ext cx="8344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83" name=""/>
              <p:cNvSpPr/>
              <p:nvPr/>
            </p:nvSpPr>
            <p:spPr>
              <a:xfrm>
                <a:off x="8308800" y="1884240"/>
                <a:ext cx="8344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84" name=""/>
              <p:cNvSpPr/>
              <p:nvPr/>
            </p:nvSpPr>
            <p:spPr>
              <a:xfrm flipH="1">
                <a:off x="2440800" y="1884240"/>
                <a:ext cx="40356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85" name=""/>
              <p:cNvSpPr/>
              <p:nvPr/>
            </p:nvSpPr>
            <p:spPr>
              <a:xfrm flipH="1">
                <a:off x="2440800" y="1884240"/>
                <a:ext cx="40356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86" name=""/>
              <p:cNvSpPr/>
              <p:nvPr/>
            </p:nvSpPr>
            <p:spPr>
              <a:xfrm>
                <a:off x="1479960" y="3157560"/>
                <a:ext cx="331920" cy="122040"/>
              </a:xfrm>
              <a:custGeom>
                <a:avLst/>
                <a:gdLst/>
                <a:ahLst/>
                <a:rect l="l" t="t" r="r" b="b"/>
                <a:pathLst>
                  <a:path w="202" h="77">
                    <a:moveTo>
                      <a:pt x="3" y="22"/>
                    </a:moveTo>
                    <a:lnTo>
                      <a:pt x="62" y="16"/>
                    </a:lnTo>
                    <a:lnTo>
                      <a:pt x="125" y="66"/>
                    </a:lnTo>
                    <a:lnTo>
                      <a:pt x="126" y="66"/>
                    </a:lnTo>
                    <a:lnTo>
                      <a:pt x="128" y="73"/>
                    </a:lnTo>
                    <a:lnTo>
                      <a:pt x="136" y="77"/>
                    </a:lnTo>
                    <a:lnTo>
                      <a:pt x="202" y="77"/>
                    </a:lnTo>
                    <a:lnTo>
                      <a:pt x="174" y="64"/>
                    </a:lnTo>
                    <a:lnTo>
                      <a:pt x="95" y="13"/>
                    </a:lnTo>
                    <a:lnTo>
                      <a:pt x="62" y="13"/>
                    </a:lnTo>
                    <a:lnTo>
                      <a:pt x="27" y="0"/>
                    </a:lnTo>
                    <a:lnTo>
                      <a:pt x="16" y="13"/>
                    </a:lnTo>
                    <a:lnTo>
                      <a:pt x="0" y="2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a:off x="1479960" y="3157560"/>
                <a:ext cx="331920" cy="122040"/>
              </a:xfrm>
              <a:custGeom>
                <a:avLst/>
                <a:gdLst/>
                <a:ahLst/>
                <a:rect l="l" t="t" r="r" b="b"/>
                <a:pathLst>
                  <a:path w="202" h="77">
                    <a:moveTo>
                      <a:pt x="3" y="22"/>
                    </a:moveTo>
                    <a:lnTo>
                      <a:pt x="62" y="16"/>
                    </a:lnTo>
                    <a:lnTo>
                      <a:pt x="125" y="66"/>
                    </a:lnTo>
                    <a:lnTo>
                      <a:pt x="126" y="66"/>
                    </a:lnTo>
                    <a:lnTo>
                      <a:pt x="128" y="73"/>
                    </a:lnTo>
                    <a:lnTo>
                      <a:pt x="136" y="77"/>
                    </a:lnTo>
                    <a:lnTo>
                      <a:pt x="202" y="77"/>
                    </a:lnTo>
                    <a:lnTo>
                      <a:pt x="174" y="64"/>
                    </a:lnTo>
                    <a:lnTo>
                      <a:pt x="95" y="13"/>
                    </a:lnTo>
                    <a:lnTo>
                      <a:pt x="62" y="13"/>
                    </a:lnTo>
                    <a:lnTo>
                      <a:pt x="27" y="0"/>
                    </a:lnTo>
                    <a:lnTo>
                      <a:pt x="16" y="13"/>
                    </a:lnTo>
                    <a:lnTo>
                      <a:pt x="0" y="2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1667160" y="3343320"/>
                <a:ext cx="61920" cy="29880"/>
              </a:xfrm>
              <a:custGeom>
                <a:avLst/>
                <a:gdLst/>
                <a:ahLst/>
                <a:rect l="l" t="t" r="r" b="b"/>
                <a:pathLst>
                  <a:path w="38" h="19">
                    <a:moveTo>
                      <a:pt x="0" y="0"/>
                    </a:moveTo>
                    <a:lnTo>
                      <a:pt x="14" y="19"/>
                    </a:lnTo>
                    <a:lnTo>
                      <a:pt x="38" y="19"/>
                    </a:lnTo>
                    <a:lnTo>
                      <a:pt x="31" y="9"/>
                    </a:lnTo>
                    <a:lnTo>
                      <a:pt x="29" y="0"/>
                    </a:lnTo>
                    <a:lnTo>
                      <a:pt x="12" y="0"/>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589" name=""/>
              <p:cNvSpPr/>
              <p:nvPr/>
            </p:nvSpPr>
            <p:spPr>
              <a:xfrm>
                <a:off x="1667160" y="3343320"/>
                <a:ext cx="61920" cy="29880"/>
              </a:xfrm>
              <a:custGeom>
                <a:avLst/>
                <a:gdLst/>
                <a:ahLst/>
                <a:rect l="l" t="t" r="r" b="b"/>
                <a:pathLst>
                  <a:path w="38" h="19">
                    <a:moveTo>
                      <a:pt x="0" y="0"/>
                    </a:moveTo>
                    <a:lnTo>
                      <a:pt x="14" y="19"/>
                    </a:lnTo>
                    <a:lnTo>
                      <a:pt x="38" y="19"/>
                    </a:lnTo>
                    <a:lnTo>
                      <a:pt x="31" y="9"/>
                    </a:lnTo>
                    <a:lnTo>
                      <a:pt x="29" y="0"/>
                    </a:lnTo>
                    <a:lnTo>
                      <a:pt x="12" y="0"/>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590" name=""/>
              <p:cNvSpPr/>
              <p:nvPr/>
            </p:nvSpPr>
            <p:spPr>
              <a:xfrm>
                <a:off x="1794960" y="3279600"/>
                <a:ext cx="180720" cy="93600"/>
              </a:xfrm>
              <a:custGeom>
                <a:avLst/>
                <a:gdLst/>
                <a:ahLst/>
                <a:rect l="l" t="t" r="r" b="b"/>
                <a:pathLst>
                  <a:path w="110" h="59">
                    <a:moveTo>
                      <a:pt x="24" y="0"/>
                    </a:moveTo>
                    <a:lnTo>
                      <a:pt x="24" y="46"/>
                    </a:lnTo>
                    <a:lnTo>
                      <a:pt x="0" y="48"/>
                    </a:lnTo>
                    <a:lnTo>
                      <a:pt x="4" y="49"/>
                    </a:lnTo>
                    <a:lnTo>
                      <a:pt x="21" y="49"/>
                    </a:lnTo>
                    <a:lnTo>
                      <a:pt x="48" y="59"/>
                    </a:lnTo>
                    <a:lnTo>
                      <a:pt x="57" y="44"/>
                    </a:lnTo>
                    <a:lnTo>
                      <a:pt x="61" y="42"/>
                    </a:lnTo>
                    <a:lnTo>
                      <a:pt x="105" y="40"/>
                    </a:lnTo>
                    <a:lnTo>
                      <a:pt x="110" y="33"/>
                    </a:lnTo>
                    <a:lnTo>
                      <a:pt x="88" y="14"/>
                    </a:lnTo>
                    <a:lnTo>
                      <a:pt x="61" y="0"/>
                    </a:lnTo>
                    <a:lnTo>
                      <a:pt x="24"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1" name=""/>
              <p:cNvSpPr/>
              <p:nvPr/>
            </p:nvSpPr>
            <p:spPr>
              <a:xfrm>
                <a:off x="1794960" y="3279600"/>
                <a:ext cx="180720" cy="93600"/>
              </a:xfrm>
              <a:custGeom>
                <a:avLst/>
                <a:gdLst/>
                <a:ahLst/>
                <a:rect l="l" t="t" r="r" b="b"/>
                <a:pathLst>
                  <a:path w="110" h="59">
                    <a:moveTo>
                      <a:pt x="24" y="0"/>
                    </a:moveTo>
                    <a:lnTo>
                      <a:pt x="24" y="46"/>
                    </a:lnTo>
                    <a:lnTo>
                      <a:pt x="0" y="48"/>
                    </a:lnTo>
                    <a:lnTo>
                      <a:pt x="4" y="49"/>
                    </a:lnTo>
                    <a:lnTo>
                      <a:pt x="21" y="49"/>
                    </a:lnTo>
                    <a:lnTo>
                      <a:pt x="48" y="59"/>
                    </a:lnTo>
                    <a:lnTo>
                      <a:pt x="57" y="44"/>
                    </a:lnTo>
                    <a:lnTo>
                      <a:pt x="61" y="42"/>
                    </a:lnTo>
                    <a:lnTo>
                      <a:pt x="105" y="40"/>
                    </a:lnTo>
                    <a:lnTo>
                      <a:pt x="110" y="33"/>
                    </a:lnTo>
                    <a:lnTo>
                      <a:pt x="88" y="14"/>
                    </a:lnTo>
                    <a:lnTo>
                      <a:pt x="61" y="0"/>
                    </a:lnTo>
                    <a:lnTo>
                      <a:pt x="24"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2" name=""/>
              <p:cNvSpPr/>
              <p:nvPr/>
            </p:nvSpPr>
            <p:spPr>
              <a:xfrm>
                <a:off x="0" y="1311120"/>
                <a:ext cx="3766680" cy="2401920"/>
              </a:xfrm>
              <a:custGeom>
                <a:avLst/>
                <a:gdLst/>
                <a:ahLst/>
                <a:rect l="l" t="t" r="r" b="b"/>
                <a:pathLst>
                  <a:path w="2293" h="1513">
                    <a:moveTo>
                      <a:pt x="1005" y="1508"/>
                    </a:moveTo>
                    <a:lnTo>
                      <a:pt x="976" y="1480"/>
                    </a:lnTo>
                    <a:lnTo>
                      <a:pt x="945" y="1513"/>
                    </a:lnTo>
                    <a:lnTo>
                      <a:pt x="914" y="1491"/>
                    </a:lnTo>
                    <a:lnTo>
                      <a:pt x="906" y="1482"/>
                    </a:lnTo>
                    <a:lnTo>
                      <a:pt x="859" y="1464"/>
                    </a:lnTo>
                    <a:lnTo>
                      <a:pt x="820" y="1394"/>
                    </a:lnTo>
                    <a:lnTo>
                      <a:pt x="789" y="1381"/>
                    </a:lnTo>
                    <a:lnTo>
                      <a:pt x="761" y="1376"/>
                    </a:lnTo>
                    <a:lnTo>
                      <a:pt x="750" y="1372"/>
                    </a:lnTo>
                    <a:lnTo>
                      <a:pt x="727" y="1350"/>
                    </a:lnTo>
                    <a:lnTo>
                      <a:pt x="703" y="1326"/>
                    </a:lnTo>
                    <a:lnTo>
                      <a:pt x="613" y="1337"/>
                    </a:lnTo>
                    <a:lnTo>
                      <a:pt x="517" y="1251"/>
                    </a:lnTo>
                    <a:lnTo>
                      <a:pt x="517" y="1229"/>
                    </a:lnTo>
                    <a:lnTo>
                      <a:pt x="517" y="1194"/>
                    </a:lnTo>
                    <a:lnTo>
                      <a:pt x="420" y="1003"/>
                    </a:lnTo>
                    <a:lnTo>
                      <a:pt x="413" y="1027"/>
                    </a:lnTo>
                    <a:lnTo>
                      <a:pt x="411" y="1038"/>
                    </a:lnTo>
                    <a:lnTo>
                      <a:pt x="413" y="1056"/>
                    </a:lnTo>
                    <a:lnTo>
                      <a:pt x="431" y="1102"/>
                    </a:lnTo>
                    <a:lnTo>
                      <a:pt x="446" y="1146"/>
                    </a:lnTo>
                    <a:lnTo>
                      <a:pt x="462" y="1176"/>
                    </a:lnTo>
                    <a:lnTo>
                      <a:pt x="409" y="1135"/>
                    </a:lnTo>
                    <a:lnTo>
                      <a:pt x="409" y="1111"/>
                    </a:lnTo>
                    <a:lnTo>
                      <a:pt x="374" y="1078"/>
                    </a:lnTo>
                    <a:lnTo>
                      <a:pt x="383" y="1067"/>
                    </a:lnTo>
                    <a:lnTo>
                      <a:pt x="367" y="948"/>
                    </a:lnTo>
                    <a:lnTo>
                      <a:pt x="332" y="935"/>
                    </a:lnTo>
                    <a:lnTo>
                      <a:pt x="327" y="924"/>
                    </a:lnTo>
                    <a:lnTo>
                      <a:pt x="323" y="831"/>
                    </a:lnTo>
                    <a:lnTo>
                      <a:pt x="319" y="792"/>
                    </a:lnTo>
                    <a:lnTo>
                      <a:pt x="319" y="787"/>
                    </a:lnTo>
                    <a:lnTo>
                      <a:pt x="396" y="677"/>
                    </a:lnTo>
                    <a:lnTo>
                      <a:pt x="394" y="631"/>
                    </a:lnTo>
                    <a:lnTo>
                      <a:pt x="411" y="651"/>
                    </a:lnTo>
                    <a:lnTo>
                      <a:pt x="416" y="660"/>
                    </a:lnTo>
                    <a:lnTo>
                      <a:pt x="427" y="651"/>
                    </a:lnTo>
                    <a:lnTo>
                      <a:pt x="435" y="633"/>
                    </a:lnTo>
                    <a:lnTo>
                      <a:pt x="429" y="618"/>
                    </a:lnTo>
                    <a:lnTo>
                      <a:pt x="422" y="598"/>
                    </a:lnTo>
                    <a:lnTo>
                      <a:pt x="407" y="581"/>
                    </a:lnTo>
                    <a:lnTo>
                      <a:pt x="393" y="581"/>
                    </a:lnTo>
                    <a:lnTo>
                      <a:pt x="389" y="563"/>
                    </a:lnTo>
                    <a:lnTo>
                      <a:pt x="402" y="557"/>
                    </a:lnTo>
                    <a:lnTo>
                      <a:pt x="404" y="499"/>
                    </a:lnTo>
                    <a:lnTo>
                      <a:pt x="411" y="489"/>
                    </a:lnTo>
                    <a:lnTo>
                      <a:pt x="393" y="407"/>
                    </a:lnTo>
                    <a:lnTo>
                      <a:pt x="358" y="414"/>
                    </a:lnTo>
                    <a:lnTo>
                      <a:pt x="251" y="361"/>
                    </a:lnTo>
                    <a:lnTo>
                      <a:pt x="248" y="372"/>
                    </a:lnTo>
                    <a:lnTo>
                      <a:pt x="229" y="389"/>
                    </a:lnTo>
                    <a:lnTo>
                      <a:pt x="205" y="398"/>
                    </a:lnTo>
                    <a:lnTo>
                      <a:pt x="185" y="403"/>
                    </a:lnTo>
                    <a:lnTo>
                      <a:pt x="161" y="411"/>
                    </a:lnTo>
                    <a:lnTo>
                      <a:pt x="161" y="398"/>
                    </a:lnTo>
                    <a:lnTo>
                      <a:pt x="165" y="389"/>
                    </a:lnTo>
                    <a:lnTo>
                      <a:pt x="205" y="367"/>
                    </a:lnTo>
                    <a:lnTo>
                      <a:pt x="185" y="367"/>
                    </a:lnTo>
                    <a:lnTo>
                      <a:pt x="174" y="374"/>
                    </a:lnTo>
                    <a:lnTo>
                      <a:pt x="161" y="387"/>
                    </a:lnTo>
                    <a:lnTo>
                      <a:pt x="117" y="407"/>
                    </a:lnTo>
                    <a:lnTo>
                      <a:pt x="114" y="422"/>
                    </a:lnTo>
                    <a:lnTo>
                      <a:pt x="108" y="438"/>
                    </a:lnTo>
                    <a:lnTo>
                      <a:pt x="88" y="445"/>
                    </a:lnTo>
                    <a:lnTo>
                      <a:pt x="70" y="445"/>
                    </a:lnTo>
                    <a:lnTo>
                      <a:pt x="86" y="442"/>
                    </a:lnTo>
                    <a:lnTo>
                      <a:pt x="97" y="436"/>
                    </a:lnTo>
                    <a:lnTo>
                      <a:pt x="108" y="425"/>
                    </a:lnTo>
                    <a:lnTo>
                      <a:pt x="108" y="414"/>
                    </a:lnTo>
                    <a:lnTo>
                      <a:pt x="0" y="475"/>
                    </a:lnTo>
                    <a:lnTo>
                      <a:pt x="0" y="352"/>
                    </a:lnTo>
                    <a:lnTo>
                      <a:pt x="37" y="337"/>
                    </a:lnTo>
                    <a:lnTo>
                      <a:pt x="84" y="335"/>
                    </a:lnTo>
                    <a:lnTo>
                      <a:pt x="108" y="301"/>
                    </a:lnTo>
                    <a:lnTo>
                      <a:pt x="90" y="306"/>
                    </a:lnTo>
                    <a:lnTo>
                      <a:pt x="72" y="306"/>
                    </a:lnTo>
                    <a:lnTo>
                      <a:pt x="61" y="299"/>
                    </a:lnTo>
                    <a:lnTo>
                      <a:pt x="62" y="279"/>
                    </a:lnTo>
                    <a:lnTo>
                      <a:pt x="90" y="275"/>
                    </a:lnTo>
                    <a:lnTo>
                      <a:pt x="105" y="268"/>
                    </a:lnTo>
                    <a:lnTo>
                      <a:pt x="112" y="266"/>
                    </a:lnTo>
                    <a:lnTo>
                      <a:pt x="114" y="275"/>
                    </a:lnTo>
                    <a:lnTo>
                      <a:pt x="132" y="275"/>
                    </a:lnTo>
                    <a:lnTo>
                      <a:pt x="141" y="266"/>
                    </a:lnTo>
                    <a:lnTo>
                      <a:pt x="154" y="268"/>
                    </a:lnTo>
                    <a:lnTo>
                      <a:pt x="143" y="258"/>
                    </a:lnTo>
                    <a:lnTo>
                      <a:pt x="149" y="227"/>
                    </a:lnTo>
                    <a:lnTo>
                      <a:pt x="297" y="185"/>
                    </a:lnTo>
                    <a:lnTo>
                      <a:pt x="607" y="220"/>
                    </a:lnTo>
                    <a:lnTo>
                      <a:pt x="745" y="211"/>
                    </a:lnTo>
                    <a:lnTo>
                      <a:pt x="926" y="258"/>
                    </a:lnTo>
                    <a:lnTo>
                      <a:pt x="980" y="227"/>
                    </a:lnTo>
                    <a:lnTo>
                      <a:pt x="996" y="227"/>
                    </a:lnTo>
                    <a:lnTo>
                      <a:pt x="996" y="240"/>
                    </a:lnTo>
                    <a:lnTo>
                      <a:pt x="996" y="247"/>
                    </a:lnTo>
                    <a:lnTo>
                      <a:pt x="1093" y="249"/>
                    </a:lnTo>
                    <a:lnTo>
                      <a:pt x="1093" y="233"/>
                    </a:lnTo>
                    <a:lnTo>
                      <a:pt x="1106" y="220"/>
                    </a:lnTo>
                    <a:lnTo>
                      <a:pt x="1125" y="214"/>
                    </a:lnTo>
                    <a:lnTo>
                      <a:pt x="1147" y="238"/>
                    </a:lnTo>
                    <a:lnTo>
                      <a:pt x="1161" y="201"/>
                    </a:lnTo>
                    <a:lnTo>
                      <a:pt x="1128" y="190"/>
                    </a:lnTo>
                    <a:lnTo>
                      <a:pt x="1114" y="178"/>
                    </a:lnTo>
                    <a:lnTo>
                      <a:pt x="1110" y="172"/>
                    </a:lnTo>
                    <a:lnTo>
                      <a:pt x="1103" y="156"/>
                    </a:lnTo>
                    <a:lnTo>
                      <a:pt x="1156" y="135"/>
                    </a:lnTo>
                    <a:lnTo>
                      <a:pt x="1147" y="117"/>
                    </a:lnTo>
                    <a:lnTo>
                      <a:pt x="1141" y="104"/>
                    </a:lnTo>
                    <a:lnTo>
                      <a:pt x="1147" y="75"/>
                    </a:lnTo>
                    <a:lnTo>
                      <a:pt x="1044" y="82"/>
                    </a:lnTo>
                    <a:lnTo>
                      <a:pt x="1000" y="108"/>
                    </a:lnTo>
                    <a:lnTo>
                      <a:pt x="1114" y="121"/>
                    </a:lnTo>
                    <a:lnTo>
                      <a:pt x="1009" y="139"/>
                    </a:lnTo>
                    <a:lnTo>
                      <a:pt x="899" y="108"/>
                    </a:lnTo>
                    <a:lnTo>
                      <a:pt x="985" y="64"/>
                    </a:lnTo>
                    <a:lnTo>
                      <a:pt x="1714" y="0"/>
                    </a:lnTo>
                    <a:lnTo>
                      <a:pt x="1858" y="29"/>
                    </a:lnTo>
                    <a:lnTo>
                      <a:pt x="1985" y="3"/>
                    </a:lnTo>
                    <a:lnTo>
                      <a:pt x="2165" y="3"/>
                    </a:lnTo>
                    <a:lnTo>
                      <a:pt x="2293" y="2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3" name=""/>
              <p:cNvSpPr/>
              <p:nvPr/>
            </p:nvSpPr>
            <p:spPr>
              <a:xfrm>
                <a:off x="0" y="1311120"/>
                <a:ext cx="3766680" cy="2401920"/>
              </a:xfrm>
              <a:custGeom>
                <a:avLst/>
                <a:gdLst/>
                <a:ahLst/>
                <a:rect l="l" t="t" r="r" b="b"/>
                <a:pathLst>
                  <a:path w="2293" h="1513">
                    <a:moveTo>
                      <a:pt x="1005" y="1508"/>
                    </a:moveTo>
                    <a:lnTo>
                      <a:pt x="976" y="1480"/>
                    </a:lnTo>
                    <a:lnTo>
                      <a:pt x="945" y="1513"/>
                    </a:lnTo>
                    <a:lnTo>
                      <a:pt x="914" y="1491"/>
                    </a:lnTo>
                    <a:lnTo>
                      <a:pt x="906" y="1482"/>
                    </a:lnTo>
                    <a:lnTo>
                      <a:pt x="859" y="1464"/>
                    </a:lnTo>
                    <a:lnTo>
                      <a:pt x="820" y="1394"/>
                    </a:lnTo>
                    <a:lnTo>
                      <a:pt x="789" y="1381"/>
                    </a:lnTo>
                    <a:lnTo>
                      <a:pt x="761" y="1376"/>
                    </a:lnTo>
                    <a:lnTo>
                      <a:pt x="750" y="1372"/>
                    </a:lnTo>
                    <a:lnTo>
                      <a:pt x="727" y="1350"/>
                    </a:lnTo>
                    <a:lnTo>
                      <a:pt x="703" y="1326"/>
                    </a:lnTo>
                    <a:lnTo>
                      <a:pt x="613" y="1337"/>
                    </a:lnTo>
                    <a:lnTo>
                      <a:pt x="517" y="1251"/>
                    </a:lnTo>
                    <a:lnTo>
                      <a:pt x="517" y="1229"/>
                    </a:lnTo>
                    <a:lnTo>
                      <a:pt x="517" y="1194"/>
                    </a:lnTo>
                    <a:lnTo>
                      <a:pt x="420" y="1003"/>
                    </a:lnTo>
                    <a:lnTo>
                      <a:pt x="413" y="1027"/>
                    </a:lnTo>
                    <a:lnTo>
                      <a:pt x="411" y="1038"/>
                    </a:lnTo>
                    <a:lnTo>
                      <a:pt x="413" y="1056"/>
                    </a:lnTo>
                    <a:lnTo>
                      <a:pt x="431" y="1102"/>
                    </a:lnTo>
                    <a:lnTo>
                      <a:pt x="446" y="1146"/>
                    </a:lnTo>
                    <a:lnTo>
                      <a:pt x="462" y="1176"/>
                    </a:lnTo>
                    <a:lnTo>
                      <a:pt x="409" y="1135"/>
                    </a:lnTo>
                    <a:lnTo>
                      <a:pt x="409" y="1111"/>
                    </a:lnTo>
                    <a:lnTo>
                      <a:pt x="374" y="1078"/>
                    </a:lnTo>
                    <a:lnTo>
                      <a:pt x="383" y="1067"/>
                    </a:lnTo>
                    <a:lnTo>
                      <a:pt x="367" y="948"/>
                    </a:lnTo>
                    <a:lnTo>
                      <a:pt x="332" y="935"/>
                    </a:lnTo>
                    <a:lnTo>
                      <a:pt x="327" y="924"/>
                    </a:lnTo>
                    <a:lnTo>
                      <a:pt x="323" y="831"/>
                    </a:lnTo>
                    <a:lnTo>
                      <a:pt x="319" y="792"/>
                    </a:lnTo>
                    <a:lnTo>
                      <a:pt x="319" y="787"/>
                    </a:lnTo>
                    <a:lnTo>
                      <a:pt x="396" y="677"/>
                    </a:lnTo>
                    <a:lnTo>
                      <a:pt x="394" y="631"/>
                    </a:lnTo>
                    <a:lnTo>
                      <a:pt x="411" y="651"/>
                    </a:lnTo>
                    <a:lnTo>
                      <a:pt x="416" y="660"/>
                    </a:lnTo>
                    <a:lnTo>
                      <a:pt x="427" y="651"/>
                    </a:lnTo>
                    <a:lnTo>
                      <a:pt x="435" y="633"/>
                    </a:lnTo>
                    <a:lnTo>
                      <a:pt x="429" y="618"/>
                    </a:lnTo>
                    <a:lnTo>
                      <a:pt x="422" y="598"/>
                    </a:lnTo>
                    <a:lnTo>
                      <a:pt x="407" y="581"/>
                    </a:lnTo>
                    <a:lnTo>
                      <a:pt x="393" y="581"/>
                    </a:lnTo>
                    <a:lnTo>
                      <a:pt x="389" y="563"/>
                    </a:lnTo>
                    <a:lnTo>
                      <a:pt x="402" y="557"/>
                    </a:lnTo>
                    <a:lnTo>
                      <a:pt x="404" y="499"/>
                    </a:lnTo>
                    <a:lnTo>
                      <a:pt x="411" y="489"/>
                    </a:lnTo>
                    <a:lnTo>
                      <a:pt x="393" y="407"/>
                    </a:lnTo>
                    <a:lnTo>
                      <a:pt x="358" y="414"/>
                    </a:lnTo>
                    <a:lnTo>
                      <a:pt x="251" y="361"/>
                    </a:lnTo>
                    <a:lnTo>
                      <a:pt x="248" y="372"/>
                    </a:lnTo>
                    <a:lnTo>
                      <a:pt x="229" y="389"/>
                    </a:lnTo>
                    <a:lnTo>
                      <a:pt x="205" y="398"/>
                    </a:lnTo>
                    <a:lnTo>
                      <a:pt x="185" y="403"/>
                    </a:lnTo>
                    <a:lnTo>
                      <a:pt x="161" y="411"/>
                    </a:lnTo>
                    <a:lnTo>
                      <a:pt x="161" y="398"/>
                    </a:lnTo>
                    <a:lnTo>
                      <a:pt x="165" y="389"/>
                    </a:lnTo>
                    <a:lnTo>
                      <a:pt x="205" y="367"/>
                    </a:lnTo>
                    <a:lnTo>
                      <a:pt x="185" y="367"/>
                    </a:lnTo>
                    <a:lnTo>
                      <a:pt x="174" y="374"/>
                    </a:lnTo>
                    <a:lnTo>
                      <a:pt x="161" y="387"/>
                    </a:lnTo>
                    <a:lnTo>
                      <a:pt x="117" y="407"/>
                    </a:lnTo>
                    <a:lnTo>
                      <a:pt x="114" y="422"/>
                    </a:lnTo>
                    <a:lnTo>
                      <a:pt x="108" y="438"/>
                    </a:lnTo>
                    <a:lnTo>
                      <a:pt x="88" y="445"/>
                    </a:lnTo>
                    <a:lnTo>
                      <a:pt x="70" y="445"/>
                    </a:lnTo>
                    <a:lnTo>
                      <a:pt x="86" y="442"/>
                    </a:lnTo>
                    <a:lnTo>
                      <a:pt x="97" y="436"/>
                    </a:lnTo>
                    <a:lnTo>
                      <a:pt x="108" y="425"/>
                    </a:lnTo>
                    <a:lnTo>
                      <a:pt x="108" y="414"/>
                    </a:lnTo>
                    <a:lnTo>
                      <a:pt x="0" y="475"/>
                    </a:lnTo>
                    <a:lnTo>
                      <a:pt x="0" y="352"/>
                    </a:lnTo>
                    <a:lnTo>
                      <a:pt x="37" y="337"/>
                    </a:lnTo>
                    <a:lnTo>
                      <a:pt x="84" y="335"/>
                    </a:lnTo>
                    <a:lnTo>
                      <a:pt x="108" y="301"/>
                    </a:lnTo>
                    <a:lnTo>
                      <a:pt x="90" y="306"/>
                    </a:lnTo>
                    <a:lnTo>
                      <a:pt x="72" y="306"/>
                    </a:lnTo>
                    <a:lnTo>
                      <a:pt x="61" y="299"/>
                    </a:lnTo>
                    <a:lnTo>
                      <a:pt x="62" y="279"/>
                    </a:lnTo>
                    <a:lnTo>
                      <a:pt x="90" y="275"/>
                    </a:lnTo>
                    <a:lnTo>
                      <a:pt x="105" y="268"/>
                    </a:lnTo>
                    <a:lnTo>
                      <a:pt x="112" y="266"/>
                    </a:lnTo>
                    <a:lnTo>
                      <a:pt x="114" y="275"/>
                    </a:lnTo>
                    <a:lnTo>
                      <a:pt x="132" y="275"/>
                    </a:lnTo>
                    <a:lnTo>
                      <a:pt x="141" y="266"/>
                    </a:lnTo>
                    <a:lnTo>
                      <a:pt x="154" y="268"/>
                    </a:lnTo>
                    <a:lnTo>
                      <a:pt x="143" y="258"/>
                    </a:lnTo>
                    <a:lnTo>
                      <a:pt x="149" y="227"/>
                    </a:lnTo>
                    <a:lnTo>
                      <a:pt x="297" y="185"/>
                    </a:lnTo>
                    <a:lnTo>
                      <a:pt x="607" y="220"/>
                    </a:lnTo>
                    <a:lnTo>
                      <a:pt x="745" y="211"/>
                    </a:lnTo>
                    <a:lnTo>
                      <a:pt x="926" y="258"/>
                    </a:lnTo>
                    <a:lnTo>
                      <a:pt x="980" y="227"/>
                    </a:lnTo>
                    <a:lnTo>
                      <a:pt x="996" y="227"/>
                    </a:lnTo>
                    <a:lnTo>
                      <a:pt x="996" y="240"/>
                    </a:lnTo>
                    <a:lnTo>
                      <a:pt x="996" y="247"/>
                    </a:lnTo>
                    <a:lnTo>
                      <a:pt x="1093" y="249"/>
                    </a:lnTo>
                    <a:lnTo>
                      <a:pt x="1093" y="233"/>
                    </a:lnTo>
                    <a:lnTo>
                      <a:pt x="1106" y="220"/>
                    </a:lnTo>
                    <a:lnTo>
                      <a:pt x="1125" y="214"/>
                    </a:lnTo>
                    <a:lnTo>
                      <a:pt x="1147" y="238"/>
                    </a:lnTo>
                    <a:lnTo>
                      <a:pt x="1161" y="201"/>
                    </a:lnTo>
                    <a:lnTo>
                      <a:pt x="1128" y="190"/>
                    </a:lnTo>
                    <a:lnTo>
                      <a:pt x="1114" y="178"/>
                    </a:lnTo>
                    <a:lnTo>
                      <a:pt x="1110" y="172"/>
                    </a:lnTo>
                    <a:lnTo>
                      <a:pt x="1103" y="156"/>
                    </a:lnTo>
                    <a:lnTo>
                      <a:pt x="1156" y="135"/>
                    </a:lnTo>
                    <a:lnTo>
                      <a:pt x="1147" y="117"/>
                    </a:lnTo>
                    <a:lnTo>
                      <a:pt x="1141" y="104"/>
                    </a:lnTo>
                    <a:lnTo>
                      <a:pt x="1147" y="75"/>
                    </a:lnTo>
                    <a:lnTo>
                      <a:pt x="1044" y="82"/>
                    </a:lnTo>
                    <a:lnTo>
                      <a:pt x="1000" y="108"/>
                    </a:lnTo>
                    <a:lnTo>
                      <a:pt x="1114" y="121"/>
                    </a:lnTo>
                    <a:lnTo>
                      <a:pt x="1009" y="139"/>
                    </a:lnTo>
                    <a:lnTo>
                      <a:pt x="899" y="108"/>
                    </a:lnTo>
                    <a:lnTo>
                      <a:pt x="985" y="64"/>
                    </a:lnTo>
                    <a:lnTo>
                      <a:pt x="1714" y="0"/>
                    </a:lnTo>
                    <a:lnTo>
                      <a:pt x="1858" y="29"/>
                    </a:lnTo>
                    <a:lnTo>
                      <a:pt x="1985" y="3"/>
                    </a:lnTo>
                    <a:lnTo>
                      <a:pt x="2165" y="3"/>
                    </a:lnTo>
                    <a:lnTo>
                      <a:pt x="2293" y="2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a:off x="1292400" y="1535040"/>
                <a:ext cx="466200" cy="142920"/>
              </a:xfrm>
              <a:custGeom>
                <a:avLst/>
                <a:gdLst/>
                <a:ahLst/>
                <a:rect l="l" t="t" r="r" b="b"/>
                <a:pathLst>
                  <a:path w="284" h="90">
                    <a:moveTo>
                      <a:pt x="193" y="86"/>
                    </a:moveTo>
                    <a:lnTo>
                      <a:pt x="95" y="90"/>
                    </a:lnTo>
                    <a:lnTo>
                      <a:pt x="70" y="37"/>
                    </a:lnTo>
                    <a:lnTo>
                      <a:pt x="0" y="37"/>
                    </a:lnTo>
                    <a:lnTo>
                      <a:pt x="42" y="0"/>
                    </a:lnTo>
                    <a:lnTo>
                      <a:pt x="253" y="7"/>
                    </a:lnTo>
                    <a:lnTo>
                      <a:pt x="284" y="62"/>
                    </a:lnTo>
                    <a:lnTo>
                      <a:pt x="283" y="75"/>
                    </a:lnTo>
                    <a:lnTo>
                      <a:pt x="273" y="81"/>
                    </a:lnTo>
                    <a:lnTo>
                      <a:pt x="257" y="79"/>
                    </a:lnTo>
                    <a:lnTo>
                      <a:pt x="237" y="71"/>
                    </a:lnTo>
                    <a:lnTo>
                      <a:pt x="209" y="86"/>
                    </a:lnTo>
                    <a:lnTo>
                      <a:pt x="193" y="9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1292400" y="1535040"/>
                <a:ext cx="466200" cy="142920"/>
              </a:xfrm>
              <a:custGeom>
                <a:avLst/>
                <a:gdLst/>
                <a:ahLst/>
                <a:rect l="l" t="t" r="r" b="b"/>
                <a:pathLst>
                  <a:path w="284" h="90">
                    <a:moveTo>
                      <a:pt x="193" y="86"/>
                    </a:moveTo>
                    <a:lnTo>
                      <a:pt x="95" y="90"/>
                    </a:lnTo>
                    <a:lnTo>
                      <a:pt x="70" y="37"/>
                    </a:lnTo>
                    <a:lnTo>
                      <a:pt x="0" y="37"/>
                    </a:lnTo>
                    <a:lnTo>
                      <a:pt x="42" y="0"/>
                    </a:lnTo>
                    <a:lnTo>
                      <a:pt x="253" y="7"/>
                    </a:lnTo>
                    <a:lnTo>
                      <a:pt x="284" y="62"/>
                    </a:lnTo>
                    <a:lnTo>
                      <a:pt x="283" y="75"/>
                    </a:lnTo>
                    <a:lnTo>
                      <a:pt x="273" y="81"/>
                    </a:lnTo>
                    <a:lnTo>
                      <a:pt x="257" y="79"/>
                    </a:lnTo>
                    <a:lnTo>
                      <a:pt x="237" y="71"/>
                    </a:lnTo>
                    <a:lnTo>
                      <a:pt x="209" y="86"/>
                    </a:lnTo>
                    <a:lnTo>
                      <a:pt x="193" y="9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a:off x="1964520" y="1441440"/>
                <a:ext cx="175680" cy="257040"/>
              </a:xfrm>
              <a:custGeom>
                <a:avLst/>
                <a:gdLst/>
                <a:ahLst/>
                <a:rect l="l" t="t" r="r" b="b"/>
                <a:pathLst>
                  <a:path w="107" h="162">
                    <a:moveTo>
                      <a:pt x="59" y="0"/>
                    </a:moveTo>
                    <a:lnTo>
                      <a:pt x="24" y="0"/>
                    </a:lnTo>
                    <a:lnTo>
                      <a:pt x="7" y="41"/>
                    </a:lnTo>
                    <a:lnTo>
                      <a:pt x="52" y="30"/>
                    </a:lnTo>
                    <a:lnTo>
                      <a:pt x="72" y="70"/>
                    </a:lnTo>
                    <a:lnTo>
                      <a:pt x="59" y="83"/>
                    </a:lnTo>
                    <a:lnTo>
                      <a:pt x="0" y="105"/>
                    </a:lnTo>
                    <a:lnTo>
                      <a:pt x="26" y="158"/>
                    </a:lnTo>
                    <a:lnTo>
                      <a:pt x="64" y="162"/>
                    </a:lnTo>
                    <a:lnTo>
                      <a:pt x="97" y="118"/>
                    </a:lnTo>
                    <a:lnTo>
                      <a:pt x="77" y="94"/>
                    </a:lnTo>
                    <a:lnTo>
                      <a:pt x="107" y="53"/>
                    </a:lnTo>
                    <a:lnTo>
                      <a:pt x="96" y="53"/>
                    </a:lnTo>
                    <a:lnTo>
                      <a:pt x="77" y="17"/>
                    </a:lnTo>
                    <a:lnTo>
                      <a:pt x="55" y="26"/>
                    </a:lnTo>
                    <a:lnTo>
                      <a:pt x="59"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1964520" y="1441440"/>
                <a:ext cx="175680" cy="257040"/>
              </a:xfrm>
              <a:custGeom>
                <a:avLst/>
                <a:gdLst/>
                <a:ahLst/>
                <a:rect l="l" t="t" r="r" b="b"/>
                <a:pathLst>
                  <a:path w="107" h="162">
                    <a:moveTo>
                      <a:pt x="59" y="0"/>
                    </a:moveTo>
                    <a:lnTo>
                      <a:pt x="24" y="0"/>
                    </a:lnTo>
                    <a:lnTo>
                      <a:pt x="7" y="41"/>
                    </a:lnTo>
                    <a:lnTo>
                      <a:pt x="52" y="30"/>
                    </a:lnTo>
                    <a:lnTo>
                      <a:pt x="72" y="70"/>
                    </a:lnTo>
                    <a:lnTo>
                      <a:pt x="59" y="83"/>
                    </a:lnTo>
                    <a:lnTo>
                      <a:pt x="0" y="105"/>
                    </a:lnTo>
                    <a:lnTo>
                      <a:pt x="26" y="158"/>
                    </a:lnTo>
                    <a:lnTo>
                      <a:pt x="64" y="162"/>
                    </a:lnTo>
                    <a:lnTo>
                      <a:pt x="97" y="118"/>
                    </a:lnTo>
                    <a:lnTo>
                      <a:pt x="77" y="94"/>
                    </a:lnTo>
                    <a:lnTo>
                      <a:pt x="107" y="53"/>
                    </a:lnTo>
                    <a:lnTo>
                      <a:pt x="96" y="53"/>
                    </a:lnTo>
                    <a:lnTo>
                      <a:pt x="77" y="17"/>
                    </a:lnTo>
                    <a:lnTo>
                      <a:pt x="55" y="26"/>
                    </a:lnTo>
                    <a:lnTo>
                      <a:pt x="59"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a:off x="3448080" y="1747800"/>
                <a:ext cx="255960" cy="90360"/>
              </a:xfrm>
              <a:custGeom>
                <a:avLst/>
                <a:gdLst/>
                <a:ahLst/>
                <a:rect l="l" t="t" r="r" b="b"/>
                <a:pathLst>
                  <a:path w="156" h="57">
                    <a:moveTo>
                      <a:pt x="47" y="7"/>
                    </a:moveTo>
                    <a:lnTo>
                      <a:pt x="141" y="4"/>
                    </a:lnTo>
                    <a:lnTo>
                      <a:pt x="156" y="18"/>
                    </a:lnTo>
                    <a:lnTo>
                      <a:pt x="148" y="42"/>
                    </a:lnTo>
                    <a:lnTo>
                      <a:pt x="106" y="48"/>
                    </a:lnTo>
                    <a:lnTo>
                      <a:pt x="62" y="57"/>
                    </a:lnTo>
                    <a:lnTo>
                      <a:pt x="46" y="57"/>
                    </a:lnTo>
                    <a:lnTo>
                      <a:pt x="13" y="51"/>
                    </a:lnTo>
                    <a:lnTo>
                      <a:pt x="0" y="27"/>
                    </a:lnTo>
                    <a:lnTo>
                      <a:pt x="9" y="27"/>
                    </a:lnTo>
                    <a:lnTo>
                      <a:pt x="18" y="18"/>
                    </a:lnTo>
                    <a:lnTo>
                      <a:pt x="18" y="4"/>
                    </a:lnTo>
                    <a:lnTo>
                      <a:pt x="36" y="0"/>
                    </a:lnTo>
                    <a:lnTo>
                      <a:pt x="47" y="7"/>
                    </a:lnTo>
                  </a:path>
                </a:pathLst>
              </a:custGeom>
              <a:solidFill>
                <a:srgbClr val="000080">
                  <a:alpha val="50000"/>
                </a:srgbClr>
              </a:solidFill>
              <a:ln w="0">
                <a:solidFill>
                  <a:srgbClr val="0000ff"/>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99" name=""/>
              <p:cNvSpPr/>
              <p:nvPr/>
            </p:nvSpPr>
            <p:spPr>
              <a:xfrm>
                <a:off x="3448080" y="1747800"/>
                <a:ext cx="255960" cy="90360"/>
              </a:xfrm>
              <a:custGeom>
                <a:avLst/>
                <a:gdLst/>
                <a:ahLst/>
                <a:rect l="l" t="t" r="r" b="b"/>
                <a:pathLst>
                  <a:path w="156" h="57">
                    <a:moveTo>
                      <a:pt x="47" y="7"/>
                    </a:moveTo>
                    <a:lnTo>
                      <a:pt x="141" y="4"/>
                    </a:lnTo>
                    <a:lnTo>
                      <a:pt x="156" y="18"/>
                    </a:lnTo>
                    <a:lnTo>
                      <a:pt x="148" y="42"/>
                    </a:lnTo>
                    <a:lnTo>
                      <a:pt x="106" y="48"/>
                    </a:lnTo>
                    <a:lnTo>
                      <a:pt x="62" y="57"/>
                    </a:lnTo>
                    <a:lnTo>
                      <a:pt x="46" y="57"/>
                    </a:lnTo>
                    <a:lnTo>
                      <a:pt x="13" y="51"/>
                    </a:lnTo>
                    <a:lnTo>
                      <a:pt x="0" y="27"/>
                    </a:lnTo>
                    <a:lnTo>
                      <a:pt x="9" y="27"/>
                    </a:lnTo>
                    <a:lnTo>
                      <a:pt x="18" y="18"/>
                    </a:lnTo>
                    <a:lnTo>
                      <a:pt x="18" y="4"/>
                    </a:lnTo>
                    <a:lnTo>
                      <a:pt x="36" y="0"/>
                    </a:lnTo>
                    <a:lnTo>
                      <a:pt x="47" y="7"/>
                    </a:lnTo>
                  </a:path>
                </a:pathLst>
              </a:custGeom>
              <a:solidFill>
                <a:srgbClr val="000080">
                  <a:alpha val="50000"/>
                </a:srgbClr>
              </a:solidFill>
              <a:ln w="0">
                <a:solidFill>
                  <a:srgbClr val="0000ff"/>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00" name=""/>
              <p:cNvSpPr/>
              <p:nvPr/>
            </p:nvSpPr>
            <p:spPr>
              <a:xfrm>
                <a:off x="3701160" y="1946160"/>
                <a:ext cx="4161240" cy="2038320"/>
              </a:xfrm>
              <a:custGeom>
                <a:avLst/>
                <a:gdLst/>
                <a:ahLst/>
                <a:rect l="l" t="t" r="r" b="b"/>
                <a:pathLst>
                  <a:path w="2533" h="1284">
                    <a:moveTo>
                      <a:pt x="442" y="5"/>
                    </a:moveTo>
                    <a:lnTo>
                      <a:pt x="477" y="5"/>
                    </a:lnTo>
                    <a:lnTo>
                      <a:pt x="512" y="3"/>
                    </a:lnTo>
                    <a:lnTo>
                      <a:pt x="530" y="22"/>
                    </a:lnTo>
                    <a:lnTo>
                      <a:pt x="581" y="1"/>
                    </a:lnTo>
                    <a:lnTo>
                      <a:pt x="602" y="0"/>
                    </a:lnTo>
                    <a:lnTo>
                      <a:pt x="570" y="14"/>
                    </a:lnTo>
                    <a:lnTo>
                      <a:pt x="550" y="45"/>
                    </a:lnTo>
                    <a:lnTo>
                      <a:pt x="547" y="75"/>
                    </a:lnTo>
                    <a:lnTo>
                      <a:pt x="512" y="45"/>
                    </a:lnTo>
                    <a:lnTo>
                      <a:pt x="508" y="73"/>
                    </a:lnTo>
                    <a:lnTo>
                      <a:pt x="515" y="101"/>
                    </a:lnTo>
                    <a:lnTo>
                      <a:pt x="521" y="108"/>
                    </a:lnTo>
                    <a:lnTo>
                      <a:pt x="523" y="108"/>
                    </a:lnTo>
                    <a:lnTo>
                      <a:pt x="394" y="121"/>
                    </a:lnTo>
                    <a:lnTo>
                      <a:pt x="361" y="121"/>
                    </a:lnTo>
                    <a:lnTo>
                      <a:pt x="328" y="126"/>
                    </a:lnTo>
                    <a:lnTo>
                      <a:pt x="317" y="121"/>
                    </a:lnTo>
                    <a:lnTo>
                      <a:pt x="297" y="126"/>
                    </a:lnTo>
                    <a:lnTo>
                      <a:pt x="277" y="135"/>
                    </a:lnTo>
                    <a:lnTo>
                      <a:pt x="260" y="137"/>
                    </a:lnTo>
                    <a:lnTo>
                      <a:pt x="246" y="143"/>
                    </a:lnTo>
                    <a:lnTo>
                      <a:pt x="207" y="187"/>
                    </a:lnTo>
                    <a:lnTo>
                      <a:pt x="95" y="242"/>
                    </a:lnTo>
                    <a:lnTo>
                      <a:pt x="139" y="278"/>
                    </a:lnTo>
                    <a:lnTo>
                      <a:pt x="137" y="350"/>
                    </a:lnTo>
                    <a:lnTo>
                      <a:pt x="18" y="328"/>
                    </a:lnTo>
                    <a:lnTo>
                      <a:pt x="13" y="357"/>
                    </a:lnTo>
                    <a:lnTo>
                      <a:pt x="7" y="392"/>
                    </a:lnTo>
                    <a:lnTo>
                      <a:pt x="0" y="447"/>
                    </a:lnTo>
                    <a:lnTo>
                      <a:pt x="48" y="497"/>
                    </a:lnTo>
                    <a:lnTo>
                      <a:pt x="62" y="510"/>
                    </a:lnTo>
                    <a:lnTo>
                      <a:pt x="148" y="477"/>
                    </a:lnTo>
                    <a:lnTo>
                      <a:pt x="193" y="392"/>
                    </a:lnTo>
                    <a:lnTo>
                      <a:pt x="218" y="346"/>
                    </a:lnTo>
                    <a:lnTo>
                      <a:pt x="275" y="346"/>
                    </a:lnTo>
                    <a:lnTo>
                      <a:pt x="281" y="341"/>
                    </a:lnTo>
                    <a:lnTo>
                      <a:pt x="281" y="324"/>
                    </a:lnTo>
                    <a:lnTo>
                      <a:pt x="308" y="328"/>
                    </a:lnTo>
                    <a:lnTo>
                      <a:pt x="392" y="392"/>
                    </a:lnTo>
                    <a:lnTo>
                      <a:pt x="437" y="427"/>
                    </a:lnTo>
                    <a:lnTo>
                      <a:pt x="438" y="444"/>
                    </a:lnTo>
                    <a:lnTo>
                      <a:pt x="427" y="464"/>
                    </a:lnTo>
                    <a:lnTo>
                      <a:pt x="442" y="473"/>
                    </a:lnTo>
                    <a:lnTo>
                      <a:pt x="466" y="453"/>
                    </a:lnTo>
                    <a:lnTo>
                      <a:pt x="466" y="422"/>
                    </a:lnTo>
                    <a:lnTo>
                      <a:pt x="486" y="416"/>
                    </a:lnTo>
                    <a:lnTo>
                      <a:pt x="460" y="392"/>
                    </a:lnTo>
                    <a:lnTo>
                      <a:pt x="372" y="321"/>
                    </a:lnTo>
                    <a:lnTo>
                      <a:pt x="415" y="311"/>
                    </a:lnTo>
                    <a:lnTo>
                      <a:pt x="442" y="348"/>
                    </a:lnTo>
                    <a:lnTo>
                      <a:pt x="484" y="374"/>
                    </a:lnTo>
                    <a:lnTo>
                      <a:pt x="495" y="392"/>
                    </a:lnTo>
                    <a:lnTo>
                      <a:pt x="504" y="412"/>
                    </a:lnTo>
                    <a:lnTo>
                      <a:pt x="537" y="444"/>
                    </a:lnTo>
                    <a:lnTo>
                      <a:pt x="556" y="500"/>
                    </a:lnTo>
                    <a:lnTo>
                      <a:pt x="585" y="521"/>
                    </a:lnTo>
                    <a:lnTo>
                      <a:pt x="581" y="486"/>
                    </a:lnTo>
                    <a:lnTo>
                      <a:pt x="603" y="469"/>
                    </a:lnTo>
                    <a:lnTo>
                      <a:pt x="576" y="416"/>
                    </a:lnTo>
                    <a:lnTo>
                      <a:pt x="609" y="405"/>
                    </a:lnTo>
                    <a:lnTo>
                      <a:pt x="642" y="409"/>
                    </a:lnTo>
                    <a:lnTo>
                      <a:pt x="635" y="442"/>
                    </a:lnTo>
                    <a:lnTo>
                      <a:pt x="638" y="473"/>
                    </a:lnTo>
                    <a:lnTo>
                      <a:pt x="657" y="499"/>
                    </a:lnTo>
                    <a:lnTo>
                      <a:pt x="660" y="502"/>
                    </a:lnTo>
                    <a:lnTo>
                      <a:pt x="659" y="504"/>
                    </a:lnTo>
                    <a:lnTo>
                      <a:pt x="805" y="497"/>
                    </a:lnTo>
                    <a:lnTo>
                      <a:pt x="805" y="609"/>
                    </a:lnTo>
                    <a:lnTo>
                      <a:pt x="816" y="627"/>
                    </a:lnTo>
                    <a:lnTo>
                      <a:pt x="833" y="647"/>
                    </a:lnTo>
                    <a:lnTo>
                      <a:pt x="827" y="678"/>
                    </a:lnTo>
                    <a:lnTo>
                      <a:pt x="880" y="776"/>
                    </a:lnTo>
                    <a:lnTo>
                      <a:pt x="908" y="798"/>
                    </a:lnTo>
                    <a:lnTo>
                      <a:pt x="915" y="840"/>
                    </a:lnTo>
                    <a:lnTo>
                      <a:pt x="948" y="897"/>
                    </a:lnTo>
                    <a:lnTo>
                      <a:pt x="983" y="939"/>
                    </a:lnTo>
                    <a:lnTo>
                      <a:pt x="983" y="968"/>
                    </a:lnTo>
                    <a:lnTo>
                      <a:pt x="1011" y="1016"/>
                    </a:lnTo>
                    <a:lnTo>
                      <a:pt x="1163" y="965"/>
                    </a:lnTo>
                    <a:lnTo>
                      <a:pt x="1187" y="944"/>
                    </a:lnTo>
                    <a:lnTo>
                      <a:pt x="1209" y="924"/>
                    </a:lnTo>
                    <a:lnTo>
                      <a:pt x="1295" y="869"/>
                    </a:lnTo>
                    <a:lnTo>
                      <a:pt x="1301" y="829"/>
                    </a:lnTo>
                    <a:lnTo>
                      <a:pt x="1306" y="809"/>
                    </a:lnTo>
                    <a:lnTo>
                      <a:pt x="1247" y="772"/>
                    </a:lnTo>
                    <a:lnTo>
                      <a:pt x="1218" y="732"/>
                    </a:lnTo>
                    <a:lnTo>
                      <a:pt x="1181" y="770"/>
                    </a:lnTo>
                    <a:lnTo>
                      <a:pt x="1135" y="755"/>
                    </a:lnTo>
                    <a:lnTo>
                      <a:pt x="1068" y="667"/>
                    </a:lnTo>
                    <a:lnTo>
                      <a:pt x="1066" y="627"/>
                    </a:lnTo>
                    <a:lnTo>
                      <a:pt x="1178" y="724"/>
                    </a:lnTo>
                    <a:lnTo>
                      <a:pt x="1235" y="710"/>
                    </a:lnTo>
                    <a:lnTo>
                      <a:pt x="1253" y="743"/>
                    </a:lnTo>
                    <a:lnTo>
                      <a:pt x="1354" y="743"/>
                    </a:lnTo>
                    <a:lnTo>
                      <a:pt x="1409" y="743"/>
                    </a:lnTo>
                    <a:lnTo>
                      <a:pt x="1446" y="787"/>
                    </a:lnTo>
                    <a:lnTo>
                      <a:pt x="1480" y="829"/>
                    </a:lnTo>
                    <a:lnTo>
                      <a:pt x="1501" y="849"/>
                    </a:lnTo>
                    <a:lnTo>
                      <a:pt x="1541" y="818"/>
                    </a:lnTo>
                    <a:lnTo>
                      <a:pt x="1561" y="946"/>
                    </a:lnTo>
                    <a:lnTo>
                      <a:pt x="1662" y="1120"/>
                    </a:lnTo>
                    <a:lnTo>
                      <a:pt x="1693" y="1091"/>
                    </a:lnTo>
                    <a:lnTo>
                      <a:pt x="1708" y="1053"/>
                    </a:lnTo>
                    <a:lnTo>
                      <a:pt x="1710" y="946"/>
                    </a:lnTo>
                    <a:lnTo>
                      <a:pt x="1886" y="805"/>
                    </a:lnTo>
                    <a:lnTo>
                      <a:pt x="1965" y="913"/>
                    </a:lnTo>
                    <a:lnTo>
                      <a:pt x="1952" y="959"/>
                    </a:lnTo>
                    <a:lnTo>
                      <a:pt x="2011" y="943"/>
                    </a:lnTo>
                    <a:lnTo>
                      <a:pt x="2055" y="999"/>
                    </a:lnTo>
                    <a:lnTo>
                      <a:pt x="2060" y="1126"/>
                    </a:lnTo>
                    <a:lnTo>
                      <a:pt x="2110" y="1181"/>
                    </a:lnTo>
                    <a:lnTo>
                      <a:pt x="2110" y="1210"/>
                    </a:lnTo>
                    <a:lnTo>
                      <a:pt x="2143" y="1249"/>
                    </a:lnTo>
                    <a:lnTo>
                      <a:pt x="2176" y="1284"/>
                    </a:lnTo>
                    <a:lnTo>
                      <a:pt x="2170" y="1249"/>
                    </a:lnTo>
                    <a:lnTo>
                      <a:pt x="2167" y="1225"/>
                    </a:lnTo>
                    <a:lnTo>
                      <a:pt x="2170" y="1192"/>
                    </a:lnTo>
                    <a:lnTo>
                      <a:pt x="2100" y="1124"/>
                    </a:lnTo>
                    <a:lnTo>
                      <a:pt x="2089" y="1016"/>
                    </a:lnTo>
                    <a:lnTo>
                      <a:pt x="2134" y="1049"/>
                    </a:lnTo>
                    <a:lnTo>
                      <a:pt x="2141" y="1069"/>
                    </a:lnTo>
                    <a:lnTo>
                      <a:pt x="2156" y="1082"/>
                    </a:lnTo>
                    <a:lnTo>
                      <a:pt x="2174" y="1089"/>
                    </a:lnTo>
                    <a:lnTo>
                      <a:pt x="2190" y="1089"/>
                    </a:lnTo>
                    <a:lnTo>
                      <a:pt x="2190" y="1117"/>
                    </a:lnTo>
                    <a:lnTo>
                      <a:pt x="2260" y="1082"/>
                    </a:lnTo>
                    <a:lnTo>
                      <a:pt x="2238" y="959"/>
                    </a:lnTo>
                    <a:lnTo>
                      <a:pt x="2190" y="915"/>
                    </a:lnTo>
                    <a:lnTo>
                      <a:pt x="2190" y="847"/>
                    </a:lnTo>
                    <a:lnTo>
                      <a:pt x="2212" y="829"/>
                    </a:lnTo>
                    <a:lnTo>
                      <a:pt x="2236" y="838"/>
                    </a:lnTo>
                    <a:lnTo>
                      <a:pt x="2245" y="862"/>
                    </a:lnTo>
                    <a:lnTo>
                      <a:pt x="2218" y="882"/>
                    </a:lnTo>
                    <a:lnTo>
                      <a:pt x="2236" y="906"/>
                    </a:lnTo>
                    <a:lnTo>
                      <a:pt x="2255" y="878"/>
                    </a:lnTo>
                    <a:lnTo>
                      <a:pt x="2251" y="867"/>
                    </a:lnTo>
                    <a:lnTo>
                      <a:pt x="2262" y="829"/>
                    </a:lnTo>
                    <a:lnTo>
                      <a:pt x="2262" y="820"/>
                    </a:lnTo>
                    <a:lnTo>
                      <a:pt x="2409" y="754"/>
                    </a:lnTo>
                    <a:lnTo>
                      <a:pt x="2429" y="671"/>
                    </a:lnTo>
                    <a:lnTo>
                      <a:pt x="2333" y="530"/>
                    </a:lnTo>
                    <a:lnTo>
                      <a:pt x="2363" y="478"/>
                    </a:lnTo>
                    <a:lnTo>
                      <a:pt x="2306" y="491"/>
                    </a:lnTo>
                    <a:lnTo>
                      <a:pt x="2260" y="458"/>
                    </a:lnTo>
                    <a:lnTo>
                      <a:pt x="2300" y="400"/>
                    </a:lnTo>
                    <a:lnTo>
                      <a:pt x="2319" y="409"/>
                    </a:lnTo>
                    <a:lnTo>
                      <a:pt x="2315" y="455"/>
                    </a:lnTo>
                    <a:lnTo>
                      <a:pt x="2332" y="458"/>
                    </a:lnTo>
                    <a:lnTo>
                      <a:pt x="2370" y="442"/>
                    </a:lnTo>
                    <a:lnTo>
                      <a:pt x="2394" y="477"/>
                    </a:lnTo>
                    <a:lnTo>
                      <a:pt x="2414" y="489"/>
                    </a:lnTo>
                    <a:lnTo>
                      <a:pt x="2456" y="546"/>
                    </a:lnTo>
                    <a:lnTo>
                      <a:pt x="2510" y="535"/>
                    </a:lnTo>
                    <a:lnTo>
                      <a:pt x="2434" y="449"/>
                    </a:lnTo>
                    <a:lnTo>
                      <a:pt x="2438" y="363"/>
                    </a:lnTo>
                    <a:lnTo>
                      <a:pt x="2522" y="348"/>
                    </a:lnTo>
                    <a:lnTo>
                      <a:pt x="2533" y="271"/>
                    </a:lnTo>
                    <a:lnTo>
                      <a:pt x="2478" y="17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a:off x="3701160" y="1946160"/>
                <a:ext cx="4161240" cy="2038320"/>
              </a:xfrm>
              <a:custGeom>
                <a:avLst/>
                <a:gdLst/>
                <a:ahLst/>
                <a:rect l="l" t="t" r="r" b="b"/>
                <a:pathLst>
                  <a:path w="2533" h="1284">
                    <a:moveTo>
                      <a:pt x="442" y="5"/>
                    </a:moveTo>
                    <a:lnTo>
                      <a:pt x="477" y="5"/>
                    </a:lnTo>
                    <a:lnTo>
                      <a:pt x="512" y="3"/>
                    </a:lnTo>
                    <a:lnTo>
                      <a:pt x="530" y="22"/>
                    </a:lnTo>
                    <a:lnTo>
                      <a:pt x="581" y="1"/>
                    </a:lnTo>
                    <a:lnTo>
                      <a:pt x="602" y="0"/>
                    </a:lnTo>
                    <a:lnTo>
                      <a:pt x="570" y="14"/>
                    </a:lnTo>
                    <a:lnTo>
                      <a:pt x="550" y="45"/>
                    </a:lnTo>
                    <a:lnTo>
                      <a:pt x="547" y="75"/>
                    </a:lnTo>
                    <a:lnTo>
                      <a:pt x="512" y="45"/>
                    </a:lnTo>
                    <a:lnTo>
                      <a:pt x="508" y="73"/>
                    </a:lnTo>
                    <a:lnTo>
                      <a:pt x="515" y="101"/>
                    </a:lnTo>
                    <a:lnTo>
                      <a:pt x="521" y="108"/>
                    </a:lnTo>
                    <a:lnTo>
                      <a:pt x="523" y="108"/>
                    </a:lnTo>
                    <a:lnTo>
                      <a:pt x="394" y="121"/>
                    </a:lnTo>
                    <a:lnTo>
                      <a:pt x="361" y="121"/>
                    </a:lnTo>
                    <a:lnTo>
                      <a:pt x="328" y="126"/>
                    </a:lnTo>
                    <a:lnTo>
                      <a:pt x="317" y="121"/>
                    </a:lnTo>
                    <a:lnTo>
                      <a:pt x="297" y="126"/>
                    </a:lnTo>
                    <a:lnTo>
                      <a:pt x="277" y="135"/>
                    </a:lnTo>
                    <a:lnTo>
                      <a:pt x="260" y="137"/>
                    </a:lnTo>
                    <a:lnTo>
                      <a:pt x="246" y="143"/>
                    </a:lnTo>
                    <a:lnTo>
                      <a:pt x="207" y="187"/>
                    </a:lnTo>
                    <a:lnTo>
                      <a:pt x="95" y="242"/>
                    </a:lnTo>
                    <a:lnTo>
                      <a:pt x="139" y="278"/>
                    </a:lnTo>
                    <a:lnTo>
                      <a:pt x="137" y="350"/>
                    </a:lnTo>
                    <a:lnTo>
                      <a:pt x="18" y="328"/>
                    </a:lnTo>
                    <a:lnTo>
                      <a:pt x="13" y="357"/>
                    </a:lnTo>
                    <a:lnTo>
                      <a:pt x="7" y="392"/>
                    </a:lnTo>
                    <a:lnTo>
                      <a:pt x="0" y="447"/>
                    </a:lnTo>
                    <a:lnTo>
                      <a:pt x="48" y="497"/>
                    </a:lnTo>
                    <a:lnTo>
                      <a:pt x="62" y="510"/>
                    </a:lnTo>
                    <a:lnTo>
                      <a:pt x="148" y="477"/>
                    </a:lnTo>
                    <a:lnTo>
                      <a:pt x="193" y="392"/>
                    </a:lnTo>
                    <a:lnTo>
                      <a:pt x="218" y="346"/>
                    </a:lnTo>
                    <a:lnTo>
                      <a:pt x="275" y="346"/>
                    </a:lnTo>
                    <a:lnTo>
                      <a:pt x="281" y="341"/>
                    </a:lnTo>
                    <a:lnTo>
                      <a:pt x="281" y="324"/>
                    </a:lnTo>
                    <a:lnTo>
                      <a:pt x="308" y="328"/>
                    </a:lnTo>
                    <a:lnTo>
                      <a:pt x="392" y="392"/>
                    </a:lnTo>
                    <a:lnTo>
                      <a:pt x="437" y="427"/>
                    </a:lnTo>
                    <a:lnTo>
                      <a:pt x="438" y="444"/>
                    </a:lnTo>
                    <a:lnTo>
                      <a:pt x="427" y="464"/>
                    </a:lnTo>
                    <a:lnTo>
                      <a:pt x="442" y="473"/>
                    </a:lnTo>
                    <a:lnTo>
                      <a:pt x="466" y="453"/>
                    </a:lnTo>
                    <a:lnTo>
                      <a:pt x="466" y="422"/>
                    </a:lnTo>
                    <a:lnTo>
                      <a:pt x="486" y="416"/>
                    </a:lnTo>
                    <a:lnTo>
                      <a:pt x="460" y="392"/>
                    </a:lnTo>
                    <a:lnTo>
                      <a:pt x="372" y="321"/>
                    </a:lnTo>
                    <a:lnTo>
                      <a:pt x="415" y="311"/>
                    </a:lnTo>
                    <a:lnTo>
                      <a:pt x="442" y="348"/>
                    </a:lnTo>
                    <a:lnTo>
                      <a:pt x="484" y="374"/>
                    </a:lnTo>
                    <a:lnTo>
                      <a:pt x="495" y="392"/>
                    </a:lnTo>
                    <a:lnTo>
                      <a:pt x="504" y="412"/>
                    </a:lnTo>
                    <a:lnTo>
                      <a:pt x="537" y="444"/>
                    </a:lnTo>
                    <a:lnTo>
                      <a:pt x="556" y="500"/>
                    </a:lnTo>
                    <a:lnTo>
                      <a:pt x="585" y="521"/>
                    </a:lnTo>
                    <a:lnTo>
                      <a:pt x="581" y="486"/>
                    </a:lnTo>
                    <a:lnTo>
                      <a:pt x="603" y="469"/>
                    </a:lnTo>
                    <a:lnTo>
                      <a:pt x="576" y="416"/>
                    </a:lnTo>
                    <a:lnTo>
                      <a:pt x="609" y="405"/>
                    </a:lnTo>
                    <a:lnTo>
                      <a:pt x="642" y="409"/>
                    </a:lnTo>
                    <a:lnTo>
                      <a:pt x="635" y="442"/>
                    </a:lnTo>
                    <a:lnTo>
                      <a:pt x="638" y="473"/>
                    </a:lnTo>
                    <a:lnTo>
                      <a:pt x="657" y="499"/>
                    </a:lnTo>
                    <a:lnTo>
                      <a:pt x="660" y="502"/>
                    </a:lnTo>
                    <a:lnTo>
                      <a:pt x="659" y="504"/>
                    </a:lnTo>
                    <a:lnTo>
                      <a:pt x="805" y="497"/>
                    </a:lnTo>
                    <a:lnTo>
                      <a:pt x="805" y="609"/>
                    </a:lnTo>
                    <a:lnTo>
                      <a:pt x="816" y="627"/>
                    </a:lnTo>
                    <a:lnTo>
                      <a:pt x="833" y="647"/>
                    </a:lnTo>
                    <a:lnTo>
                      <a:pt x="827" y="678"/>
                    </a:lnTo>
                    <a:lnTo>
                      <a:pt x="880" y="776"/>
                    </a:lnTo>
                    <a:lnTo>
                      <a:pt x="908" y="798"/>
                    </a:lnTo>
                    <a:lnTo>
                      <a:pt x="915" y="840"/>
                    </a:lnTo>
                    <a:lnTo>
                      <a:pt x="948" y="897"/>
                    </a:lnTo>
                    <a:lnTo>
                      <a:pt x="983" y="939"/>
                    </a:lnTo>
                    <a:lnTo>
                      <a:pt x="983" y="968"/>
                    </a:lnTo>
                    <a:lnTo>
                      <a:pt x="1011" y="1016"/>
                    </a:lnTo>
                    <a:lnTo>
                      <a:pt x="1163" y="965"/>
                    </a:lnTo>
                    <a:lnTo>
                      <a:pt x="1187" y="944"/>
                    </a:lnTo>
                    <a:lnTo>
                      <a:pt x="1209" y="924"/>
                    </a:lnTo>
                    <a:lnTo>
                      <a:pt x="1295" y="869"/>
                    </a:lnTo>
                    <a:lnTo>
                      <a:pt x="1301" y="829"/>
                    </a:lnTo>
                    <a:lnTo>
                      <a:pt x="1306" y="809"/>
                    </a:lnTo>
                    <a:lnTo>
                      <a:pt x="1247" y="772"/>
                    </a:lnTo>
                    <a:lnTo>
                      <a:pt x="1218" y="732"/>
                    </a:lnTo>
                    <a:lnTo>
                      <a:pt x="1181" y="770"/>
                    </a:lnTo>
                    <a:lnTo>
                      <a:pt x="1135" y="755"/>
                    </a:lnTo>
                    <a:lnTo>
                      <a:pt x="1068" y="667"/>
                    </a:lnTo>
                    <a:lnTo>
                      <a:pt x="1066" y="627"/>
                    </a:lnTo>
                    <a:lnTo>
                      <a:pt x="1178" y="724"/>
                    </a:lnTo>
                    <a:lnTo>
                      <a:pt x="1235" y="710"/>
                    </a:lnTo>
                    <a:lnTo>
                      <a:pt x="1253" y="743"/>
                    </a:lnTo>
                    <a:lnTo>
                      <a:pt x="1354" y="743"/>
                    </a:lnTo>
                    <a:lnTo>
                      <a:pt x="1409" y="743"/>
                    </a:lnTo>
                    <a:lnTo>
                      <a:pt x="1446" y="787"/>
                    </a:lnTo>
                    <a:lnTo>
                      <a:pt x="1480" y="829"/>
                    </a:lnTo>
                    <a:lnTo>
                      <a:pt x="1501" y="849"/>
                    </a:lnTo>
                    <a:lnTo>
                      <a:pt x="1541" y="818"/>
                    </a:lnTo>
                    <a:lnTo>
                      <a:pt x="1561" y="946"/>
                    </a:lnTo>
                    <a:lnTo>
                      <a:pt x="1662" y="1120"/>
                    </a:lnTo>
                    <a:lnTo>
                      <a:pt x="1693" y="1091"/>
                    </a:lnTo>
                    <a:lnTo>
                      <a:pt x="1708" y="1053"/>
                    </a:lnTo>
                    <a:lnTo>
                      <a:pt x="1710" y="946"/>
                    </a:lnTo>
                    <a:lnTo>
                      <a:pt x="1886" y="805"/>
                    </a:lnTo>
                    <a:lnTo>
                      <a:pt x="1965" y="913"/>
                    </a:lnTo>
                    <a:lnTo>
                      <a:pt x="1952" y="959"/>
                    </a:lnTo>
                    <a:lnTo>
                      <a:pt x="2011" y="943"/>
                    </a:lnTo>
                    <a:lnTo>
                      <a:pt x="2055" y="999"/>
                    </a:lnTo>
                    <a:lnTo>
                      <a:pt x="2060" y="1126"/>
                    </a:lnTo>
                    <a:lnTo>
                      <a:pt x="2110" y="1181"/>
                    </a:lnTo>
                    <a:lnTo>
                      <a:pt x="2110" y="1210"/>
                    </a:lnTo>
                    <a:lnTo>
                      <a:pt x="2143" y="1249"/>
                    </a:lnTo>
                    <a:lnTo>
                      <a:pt x="2176" y="1284"/>
                    </a:lnTo>
                    <a:lnTo>
                      <a:pt x="2170" y="1249"/>
                    </a:lnTo>
                    <a:lnTo>
                      <a:pt x="2167" y="1225"/>
                    </a:lnTo>
                    <a:lnTo>
                      <a:pt x="2170" y="1192"/>
                    </a:lnTo>
                    <a:lnTo>
                      <a:pt x="2100" y="1124"/>
                    </a:lnTo>
                    <a:lnTo>
                      <a:pt x="2089" y="1016"/>
                    </a:lnTo>
                    <a:lnTo>
                      <a:pt x="2134" y="1049"/>
                    </a:lnTo>
                    <a:lnTo>
                      <a:pt x="2141" y="1069"/>
                    </a:lnTo>
                    <a:lnTo>
                      <a:pt x="2156" y="1082"/>
                    </a:lnTo>
                    <a:lnTo>
                      <a:pt x="2174" y="1089"/>
                    </a:lnTo>
                    <a:lnTo>
                      <a:pt x="2190" y="1089"/>
                    </a:lnTo>
                    <a:lnTo>
                      <a:pt x="2190" y="1117"/>
                    </a:lnTo>
                    <a:lnTo>
                      <a:pt x="2260" y="1082"/>
                    </a:lnTo>
                    <a:lnTo>
                      <a:pt x="2238" y="959"/>
                    </a:lnTo>
                    <a:lnTo>
                      <a:pt x="2190" y="915"/>
                    </a:lnTo>
                    <a:lnTo>
                      <a:pt x="2190" y="847"/>
                    </a:lnTo>
                    <a:lnTo>
                      <a:pt x="2212" y="829"/>
                    </a:lnTo>
                    <a:lnTo>
                      <a:pt x="2236" y="838"/>
                    </a:lnTo>
                    <a:lnTo>
                      <a:pt x="2245" y="862"/>
                    </a:lnTo>
                    <a:lnTo>
                      <a:pt x="2218" y="882"/>
                    </a:lnTo>
                    <a:lnTo>
                      <a:pt x="2236" y="906"/>
                    </a:lnTo>
                    <a:lnTo>
                      <a:pt x="2255" y="878"/>
                    </a:lnTo>
                    <a:lnTo>
                      <a:pt x="2251" y="867"/>
                    </a:lnTo>
                    <a:lnTo>
                      <a:pt x="2262" y="829"/>
                    </a:lnTo>
                    <a:lnTo>
                      <a:pt x="2262" y="820"/>
                    </a:lnTo>
                    <a:lnTo>
                      <a:pt x="2409" y="754"/>
                    </a:lnTo>
                    <a:lnTo>
                      <a:pt x="2429" y="671"/>
                    </a:lnTo>
                    <a:lnTo>
                      <a:pt x="2333" y="530"/>
                    </a:lnTo>
                    <a:lnTo>
                      <a:pt x="2363" y="478"/>
                    </a:lnTo>
                    <a:lnTo>
                      <a:pt x="2306" y="491"/>
                    </a:lnTo>
                    <a:lnTo>
                      <a:pt x="2260" y="458"/>
                    </a:lnTo>
                    <a:lnTo>
                      <a:pt x="2300" y="400"/>
                    </a:lnTo>
                    <a:lnTo>
                      <a:pt x="2319" y="409"/>
                    </a:lnTo>
                    <a:lnTo>
                      <a:pt x="2315" y="455"/>
                    </a:lnTo>
                    <a:lnTo>
                      <a:pt x="2332" y="458"/>
                    </a:lnTo>
                    <a:lnTo>
                      <a:pt x="2370" y="442"/>
                    </a:lnTo>
                    <a:lnTo>
                      <a:pt x="2394" y="477"/>
                    </a:lnTo>
                    <a:lnTo>
                      <a:pt x="2414" y="489"/>
                    </a:lnTo>
                    <a:lnTo>
                      <a:pt x="2456" y="546"/>
                    </a:lnTo>
                    <a:lnTo>
                      <a:pt x="2510" y="535"/>
                    </a:lnTo>
                    <a:lnTo>
                      <a:pt x="2434" y="449"/>
                    </a:lnTo>
                    <a:lnTo>
                      <a:pt x="2438" y="363"/>
                    </a:lnTo>
                    <a:lnTo>
                      <a:pt x="2522" y="348"/>
                    </a:lnTo>
                    <a:lnTo>
                      <a:pt x="2533" y="271"/>
                    </a:lnTo>
                    <a:lnTo>
                      <a:pt x="2478" y="17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3477600" y="2743200"/>
                <a:ext cx="2127240" cy="2487600"/>
              </a:xfrm>
              <a:custGeom>
                <a:avLst/>
                <a:gdLst/>
                <a:ahLst/>
                <a:rect l="l" t="t" r="r" b="b"/>
                <a:pathLst>
                  <a:path w="1295" h="1567">
                    <a:moveTo>
                      <a:pt x="486" y="703"/>
                    </a:moveTo>
                    <a:lnTo>
                      <a:pt x="486" y="747"/>
                    </a:lnTo>
                    <a:lnTo>
                      <a:pt x="486" y="782"/>
                    </a:lnTo>
                    <a:lnTo>
                      <a:pt x="486" y="848"/>
                    </a:lnTo>
                    <a:lnTo>
                      <a:pt x="539" y="905"/>
                    </a:lnTo>
                    <a:lnTo>
                      <a:pt x="554" y="936"/>
                    </a:lnTo>
                    <a:lnTo>
                      <a:pt x="560" y="951"/>
                    </a:lnTo>
                    <a:lnTo>
                      <a:pt x="560" y="1081"/>
                    </a:lnTo>
                    <a:lnTo>
                      <a:pt x="525" y="1112"/>
                    </a:lnTo>
                    <a:lnTo>
                      <a:pt x="543" y="1180"/>
                    </a:lnTo>
                    <a:lnTo>
                      <a:pt x="549" y="1187"/>
                    </a:lnTo>
                    <a:lnTo>
                      <a:pt x="624" y="1459"/>
                    </a:lnTo>
                    <a:lnTo>
                      <a:pt x="659" y="1567"/>
                    </a:lnTo>
                    <a:lnTo>
                      <a:pt x="818" y="1556"/>
                    </a:lnTo>
                    <a:lnTo>
                      <a:pt x="932" y="1424"/>
                    </a:lnTo>
                    <a:lnTo>
                      <a:pt x="945" y="1402"/>
                    </a:lnTo>
                    <a:lnTo>
                      <a:pt x="945" y="1389"/>
                    </a:lnTo>
                    <a:lnTo>
                      <a:pt x="945" y="1356"/>
                    </a:lnTo>
                    <a:lnTo>
                      <a:pt x="991" y="1325"/>
                    </a:lnTo>
                    <a:lnTo>
                      <a:pt x="980" y="1222"/>
                    </a:lnTo>
                    <a:lnTo>
                      <a:pt x="1035" y="1180"/>
                    </a:lnTo>
                    <a:lnTo>
                      <a:pt x="1081" y="1143"/>
                    </a:lnTo>
                    <a:lnTo>
                      <a:pt x="1081" y="1037"/>
                    </a:lnTo>
                    <a:lnTo>
                      <a:pt x="1079" y="886"/>
                    </a:lnTo>
                    <a:lnTo>
                      <a:pt x="1138" y="817"/>
                    </a:lnTo>
                    <a:lnTo>
                      <a:pt x="1196" y="747"/>
                    </a:lnTo>
                    <a:lnTo>
                      <a:pt x="1220" y="719"/>
                    </a:lnTo>
                    <a:lnTo>
                      <a:pt x="1295" y="576"/>
                    </a:lnTo>
                    <a:lnTo>
                      <a:pt x="1295" y="540"/>
                    </a:lnTo>
                    <a:lnTo>
                      <a:pt x="1165" y="596"/>
                    </a:lnTo>
                    <a:lnTo>
                      <a:pt x="1031" y="411"/>
                    </a:lnTo>
                    <a:lnTo>
                      <a:pt x="998" y="351"/>
                    </a:lnTo>
                    <a:lnTo>
                      <a:pt x="996" y="329"/>
                    </a:lnTo>
                    <a:lnTo>
                      <a:pt x="991" y="308"/>
                    </a:lnTo>
                    <a:lnTo>
                      <a:pt x="980" y="297"/>
                    </a:lnTo>
                    <a:lnTo>
                      <a:pt x="961" y="288"/>
                    </a:lnTo>
                    <a:lnTo>
                      <a:pt x="914" y="186"/>
                    </a:lnTo>
                    <a:lnTo>
                      <a:pt x="941" y="195"/>
                    </a:lnTo>
                    <a:lnTo>
                      <a:pt x="963" y="175"/>
                    </a:lnTo>
                    <a:lnTo>
                      <a:pt x="969" y="145"/>
                    </a:lnTo>
                    <a:lnTo>
                      <a:pt x="952" y="125"/>
                    </a:lnTo>
                    <a:lnTo>
                      <a:pt x="750" y="110"/>
                    </a:lnTo>
                    <a:lnTo>
                      <a:pt x="662" y="105"/>
                    </a:lnTo>
                    <a:lnTo>
                      <a:pt x="651" y="140"/>
                    </a:lnTo>
                    <a:lnTo>
                      <a:pt x="508" y="77"/>
                    </a:lnTo>
                    <a:lnTo>
                      <a:pt x="490" y="0"/>
                    </a:lnTo>
                    <a:lnTo>
                      <a:pt x="455" y="6"/>
                    </a:lnTo>
                    <a:lnTo>
                      <a:pt x="262" y="28"/>
                    </a:lnTo>
                    <a:lnTo>
                      <a:pt x="202" y="28"/>
                    </a:lnTo>
                    <a:lnTo>
                      <a:pt x="88" y="195"/>
                    </a:lnTo>
                    <a:lnTo>
                      <a:pt x="2" y="316"/>
                    </a:lnTo>
                    <a:lnTo>
                      <a:pt x="4" y="327"/>
                    </a:lnTo>
                    <a:lnTo>
                      <a:pt x="9" y="352"/>
                    </a:lnTo>
                    <a:lnTo>
                      <a:pt x="22" y="433"/>
                    </a:lnTo>
                    <a:lnTo>
                      <a:pt x="0" y="501"/>
                    </a:lnTo>
                    <a:lnTo>
                      <a:pt x="44" y="562"/>
                    </a:lnTo>
                    <a:lnTo>
                      <a:pt x="94" y="624"/>
                    </a:lnTo>
                    <a:lnTo>
                      <a:pt x="130" y="675"/>
                    </a:lnTo>
                    <a:lnTo>
                      <a:pt x="158" y="716"/>
                    </a:lnTo>
                    <a:lnTo>
                      <a:pt x="202" y="703"/>
                    </a:lnTo>
                    <a:lnTo>
                      <a:pt x="273" y="694"/>
                    </a:lnTo>
                    <a:lnTo>
                      <a:pt x="319" y="685"/>
                    </a:lnTo>
                    <a:lnTo>
                      <a:pt x="352" y="681"/>
                    </a:lnTo>
                    <a:lnTo>
                      <a:pt x="376" y="677"/>
                    </a:lnTo>
                    <a:lnTo>
                      <a:pt x="404" y="675"/>
                    </a:lnTo>
                    <a:lnTo>
                      <a:pt x="439" y="719"/>
                    </a:lnTo>
                    <a:lnTo>
                      <a:pt x="486" y="703"/>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a:off x="3477600" y="2743200"/>
                <a:ext cx="2127240" cy="2487600"/>
              </a:xfrm>
              <a:custGeom>
                <a:avLst/>
                <a:gdLst/>
                <a:ahLst/>
                <a:rect l="l" t="t" r="r" b="b"/>
                <a:pathLst>
                  <a:path w="1295" h="1567">
                    <a:moveTo>
                      <a:pt x="486" y="703"/>
                    </a:moveTo>
                    <a:lnTo>
                      <a:pt x="486" y="747"/>
                    </a:lnTo>
                    <a:lnTo>
                      <a:pt x="486" y="782"/>
                    </a:lnTo>
                    <a:lnTo>
                      <a:pt x="486" y="848"/>
                    </a:lnTo>
                    <a:lnTo>
                      <a:pt x="539" y="905"/>
                    </a:lnTo>
                    <a:lnTo>
                      <a:pt x="554" y="936"/>
                    </a:lnTo>
                    <a:lnTo>
                      <a:pt x="560" y="951"/>
                    </a:lnTo>
                    <a:lnTo>
                      <a:pt x="560" y="1081"/>
                    </a:lnTo>
                    <a:lnTo>
                      <a:pt x="525" y="1112"/>
                    </a:lnTo>
                    <a:lnTo>
                      <a:pt x="543" y="1180"/>
                    </a:lnTo>
                    <a:lnTo>
                      <a:pt x="549" y="1187"/>
                    </a:lnTo>
                    <a:lnTo>
                      <a:pt x="624" y="1459"/>
                    </a:lnTo>
                    <a:lnTo>
                      <a:pt x="659" y="1567"/>
                    </a:lnTo>
                    <a:lnTo>
                      <a:pt x="818" y="1556"/>
                    </a:lnTo>
                    <a:lnTo>
                      <a:pt x="932" y="1424"/>
                    </a:lnTo>
                    <a:lnTo>
                      <a:pt x="945" y="1402"/>
                    </a:lnTo>
                    <a:lnTo>
                      <a:pt x="945" y="1389"/>
                    </a:lnTo>
                    <a:lnTo>
                      <a:pt x="945" y="1356"/>
                    </a:lnTo>
                    <a:lnTo>
                      <a:pt x="991" y="1325"/>
                    </a:lnTo>
                    <a:lnTo>
                      <a:pt x="980" y="1222"/>
                    </a:lnTo>
                    <a:lnTo>
                      <a:pt x="1035" y="1180"/>
                    </a:lnTo>
                    <a:lnTo>
                      <a:pt x="1081" y="1143"/>
                    </a:lnTo>
                    <a:lnTo>
                      <a:pt x="1081" y="1037"/>
                    </a:lnTo>
                    <a:lnTo>
                      <a:pt x="1079" y="886"/>
                    </a:lnTo>
                    <a:lnTo>
                      <a:pt x="1138" y="817"/>
                    </a:lnTo>
                    <a:lnTo>
                      <a:pt x="1196" y="747"/>
                    </a:lnTo>
                    <a:lnTo>
                      <a:pt x="1220" y="719"/>
                    </a:lnTo>
                    <a:lnTo>
                      <a:pt x="1295" y="576"/>
                    </a:lnTo>
                    <a:lnTo>
                      <a:pt x="1295" y="540"/>
                    </a:lnTo>
                    <a:lnTo>
                      <a:pt x="1165" y="596"/>
                    </a:lnTo>
                    <a:lnTo>
                      <a:pt x="1031" y="411"/>
                    </a:lnTo>
                    <a:lnTo>
                      <a:pt x="998" y="351"/>
                    </a:lnTo>
                    <a:lnTo>
                      <a:pt x="996" y="329"/>
                    </a:lnTo>
                    <a:lnTo>
                      <a:pt x="991" y="308"/>
                    </a:lnTo>
                    <a:lnTo>
                      <a:pt x="980" y="297"/>
                    </a:lnTo>
                    <a:lnTo>
                      <a:pt x="961" y="288"/>
                    </a:lnTo>
                    <a:lnTo>
                      <a:pt x="914" y="186"/>
                    </a:lnTo>
                    <a:lnTo>
                      <a:pt x="941" y="195"/>
                    </a:lnTo>
                    <a:lnTo>
                      <a:pt x="963" y="175"/>
                    </a:lnTo>
                    <a:lnTo>
                      <a:pt x="969" y="145"/>
                    </a:lnTo>
                    <a:lnTo>
                      <a:pt x="952" y="125"/>
                    </a:lnTo>
                    <a:lnTo>
                      <a:pt x="750" y="110"/>
                    </a:lnTo>
                    <a:lnTo>
                      <a:pt x="662" y="105"/>
                    </a:lnTo>
                    <a:lnTo>
                      <a:pt x="651" y="140"/>
                    </a:lnTo>
                    <a:lnTo>
                      <a:pt x="508" y="77"/>
                    </a:lnTo>
                    <a:lnTo>
                      <a:pt x="490" y="0"/>
                    </a:lnTo>
                    <a:lnTo>
                      <a:pt x="455" y="6"/>
                    </a:lnTo>
                    <a:lnTo>
                      <a:pt x="262" y="28"/>
                    </a:lnTo>
                    <a:lnTo>
                      <a:pt x="202" y="28"/>
                    </a:lnTo>
                    <a:lnTo>
                      <a:pt x="88" y="195"/>
                    </a:lnTo>
                    <a:lnTo>
                      <a:pt x="2" y="316"/>
                    </a:lnTo>
                    <a:lnTo>
                      <a:pt x="4" y="327"/>
                    </a:lnTo>
                    <a:lnTo>
                      <a:pt x="9" y="352"/>
                    </a:lnTo>
                    <a:lnTo>
                      <a:pt x="22" y="433"/>
                    </a:lnTo>
                    <a:lnTo>
                      <a:pt x="0" y="501"/>
                    </a:lnTo>
                    <a:lnTo>
                      <a:pt x="44" y="562"/>
                    </a:lnTo>
                    <a:lnTo>
                      <a:pt x="94" y="624"/>
                    </a:lnTo>
                    <a:lnTo>
                      <a:pt x="130" y="675"/>
                    </a:lnTo>
                    <a:lnTo>
                      <a:pt x="158" y="716"/>
                    </a:lnTo>
                    <a:lnTo>
                      <a:pt x="202" y="703"/>
                    </a:lnTo>
                    <a:lnTo>
                      <a:pt x="273" y="694"/>
                    </a:lnTo>
                    <a:lnTo>
                      <a:pt x="319" y="685"/>
                    </a:lnTo>
                    <a:lnTo>
                      <a:pt x="352" y="681"/>
                    </a:lnTo>
                    <a:lnTo>
                      <a:pt x="376" y="677"/>
                    </a:lnTo>
                    <a:lnTo>
                      <a:pt x="404" y="675"/>
                    </a:lnTo>
                    <a:lnTo>
                      <a:pt x="439" y="719"/>
                    </a:lnTo>
                    <a:lnTo>
                      <a:pt x="486" y="703"/>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5358600" y="4414680"/>
                <a:ext cx="231480" cy="495360"/>
              </a:xfrm>
              <a:custGeom>
                <a:avLst/>
                <a:gdLst/>
                <a:ahLst/>
                <a:rect l="l" t="t" r="r" b="b"/>
                <a:pathLst>
                  <a:path w="141" h="312">
                    <a:moveTo>
                      <a:pt x="82" y="68"/>
                    </a:moveTo>
                    <a:lnTo>
                      <a:pt x="114" y="0"/>
                    </a:lnTo>
                    <a:lnTo>
                      <a:pt x="141" y="52"/>
                    </a:lnTo>
                    <a:lnTo>
                      <a:pt x="119" y="127"/>
                    </a:lnTo>
                    <a:lnTo>
                      <a:pt x="70" y="288"/>
                    </a:lnTo>
                    <a:lnTo>
                      <a:pt x="16" y="312"/>
                    </a:lnTo>
                    <a:lnTo>
                      <a:pt x="0" y="288"/>
                    </a:lnTo>
                    <a:lnTo>
                      <a:pt x="9" y="127"/>
                    </a:lnTo>
                    <a:lnTo>
                      <a:pt x="11" y="88"/>
                    </a:lnTo>
                    <a:lnTo>
                      <a:pt x="81" y="6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a:off x="5358600" y="4414680"/>
                <a:ext cx="231480" cy="495360"/>
              </a:xfrm>
              <a:custGeom>
                <a:avLst/>
                <a:gdLst/>
                <a:ahLst/>
                <a:rect l="l" t="t" r="r" b="b"/>
                <a:pathLst>
                  <a:path w="141" h="312">
                    <a:moveTo>
                      <a:pt x="82" y="68"/>
                    </a:moveTo>
                    <a:lnTo>
                      <a:pt x="114" y="0"/>
                    </a:lnTo>
                    <a:lnTo>
                      <a:pt x="141" y="52"/>
                    </a:lnTo>
                    <a:lnTo>
                      <a:pt x="119" y="127"/>
                    </a:lnTo>
                    <a:lnTo>
                      <a:pt x="70" y="288"/>
                    </a:lnTo>
                    <a:lnTo>
                      <a:pt x="16" y="312"/>
                    </a:lnTo>
                    <a:lnTo>
                      <a:pt x="0" y="288"/>
                    </a:lnTo>
                    <a:lnTo>
                      <a:pt x="9" y="127"/>
                    </a:lnTo>
                    <a:lnTo>
                      <a:pt x="11" y="88"/>
                    </a:lnTo>
                    <a:lnTo>
                      <a:pt x="81" y="6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a:off x="5018400" y="1357200"/>
                <a:ext cx="198720" cy="66600"/>
              </a:xfrm>
              <a:custGeom>
                <a:avLst/>
                <a:gdLst/>
                <a:ahLst/>
                <a:rect l="l" t="t" r="r" b="b"/>
                <a:pathLst>
                  <a:path w="121" h="42">
                    <a:moveTo>
                      <a:pt x="0" y="29"/>
                    </a:moveTo>
                    <a:lnTo>
                      <a:pt x="42" y="0"/>
                    </a:lnTo>
                    <a:lnTo>
                      <a:pt x="64" y="4"/>
                    </a:lnTo>
                    <a:lnTo>
                      <a:pt x="121" y="11"/>
                    </a:lnTo>
                    <a:lnTo>
                      <a:pt x="86" y="42"/>
                    </a:lnTo>
                    <a:lnTo>
                      <a:pt x="34" y="42"/>
                    </a:lnTo>
                    <a:lnTo>
                      <a:pt x="25" y="29"/>
                    </a:lnTo>
                    <a:lnTo>
                      <a:pt x="5" y="29"/>
                    </a:lnTo>
                  </a:path>
                </a:pathLst>
              </a:custGeom>
              <a:solidFill>
                <a:srgbClr val="000080">
                  <a:alpha val="50000"/>
                </a:srgbClr>
              </a:solidFill>
              <a:ln w="0">
                <a:solidFill>
                  <a:srgbClr val="0000f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7" name=""/>
              <p:cNvSpPr/>
              <p:nvPr/>
            </p:nvSpPr>
            <p:spPr>
              <a:xfrm>
                <a:off x="5018400" y="1357200"/>
                <a:ext cx="198720" cy="66600"/>
              </a:xfrm>
              <a:custGeom>
                <a:avLst/>
                <a:gdLst/>
                <a:ahLst/>
                <a:rect l="l" t="t" r="r" b="b"/>
                <a:pathLst>
                  <a:path w="121" h="42">
                    <a:moveTo>
                      <a:pt x="0" y="29"/>
                    </a:moveTo>
                    <a:lnTo>
                      <a:pt x="42" y="0"/>
                    </a:lnTo>
                    <a:lnTo>
                      <a:pt x="64" y="4"/>
                    </a:lnTo>
                    <a:lnTo>
                      <a:pt x="121" y="11"/>
                    </a:lnTo>
                    <a:lnTo>
                      <a:pt x="86" y="42"/>
                    </a:lnTo>
                    <a:lnTo>
                      <a:pt x="34" y="42"/>
                    </a:lnTo>
                    <a:lnTo>
                      <a:pt x="25" y="29"/>
                    </a:lnTo>
                    <a:lnTo>
                      <a:pt x="5" y="29"/>
                    </a:lnTo>
                  </a:path>
                </a:pathLst>
              </a:custGeom>
              <a:solidFill>
                <a:srgbClr val="000080">
                  <a:alpha val="50000"/>
                </a:srgbClr>
              </a:solidFill>
              <a:ln w="0">
                <a:solidFill>
                  <a:srgbClr val="0000f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08" name=""/>
              <p:cNvSpPr/>
              <p:nvPr/>
            </p:nvSpPr>
            <p:spPr>
              <a:xfrm>
                <a:off x="5105520" y="1482840"/>
                <a:ext cx="321840" cy="150480"/>
              </a:xfrm>
              <a:custGeom>
                <a:avLst/>
                <a:gdLst/>
                <a:ahLst/>
                <a:rect l="l" t="t" r="r" b="b"/>
                <a:pathLst>
                  <a:path w="196" h="95">
                    <a:moveTo>
                      <a:pt x="82" y="95"/>
                    </a:moveTo>
                    <a:lnTo>
                      <a:pt x="22" y="90"/>
                    </a:lnTo>
                    <a:lnTo>
                      <a:pt x="3" y="77"/>
                    </a:lnTo>
                    <a:lnTo>
                      <a:pt x="0" y="57"/>
                    </a:lnTo>
                    <a:lnTo>
                      <a:pt x="13" y="38"/>
                    </a:lnTo>
                    <a:lnTo>
                      <a:pt x="33" y="27"/>
                    </a:lnTo>
                    <a:lnTo>
                      <a:pt x="59" y="18"/>
                    </a:lnTo>
                    <a:lnTo>
                      <a:pt x="196" y="0"/>
                    </a:lnTo>
                    <a:lnTo>
                      <a:pt x="123" y="31"/>
                    </a:lnTo>
                    <a:lnTo>
                      <a:pt x="73" y="53"/>
                    </a:lnTo>
                    <a:lnTo>
                      <a:pt x="62" y="64"/>
                    </a:lnTo>
                    <a:lnTo>
                      <a:pt x="66" y="79"/>
                    </a:lnTo>
                    <a:lnTo>
                      <a:pt x="82" y="9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
              <p:cNvSpPr/>
              <p:nvPr/>
            </p:nvSpPr>
            <p:spPr>
              <a:xfrm>
                <a:off x="5105520" y="1482840"/>
                <a:ext cx="321840" cy="150480"/>
              </a:xfrm>
              <a:custGeom>
                <a:avLst/>
                <a:gdLst/>
                <a:ahLst/>
                <a:rect l="l" t="t" r="r" b="b"/>
                <a:pathLst>
                  <a:path w="196" h="95">
                    <a:moveTo>
                      <a:pt x="82" y="95"/>
                    </a:moveTo>
                    <a:lnTo>
                      <a:pt x="22" y="90"/>
                    </a:lnTo>
                    <a:lnTo>
                      <a:pt x="3" y="77"/>
                    </a:lnTo>
                    <a:lnTo>
                      <a:pt x="0" y="57"/>
                    </a:lnTo>
                    <a:lnTo>
                      <a:pt x="13" y="38"/>
                    </a:lnTo>
                    <a:lnTo>
                      <a:pt x="33" y="27"/>
                    </a:lnTo>
                    <a:lnTo>
                      <a:pt x="59" y="18"/>
                    </a:lnTo>
                    <a:lnTo>
                      <a:pt x="196" y="0"/>
                    </a:lnTo>
                    <a:lnTo>
                      <a:pt x="123" y="31"/>
                    </a:lnTo>
                    <a:lnTo>
                      <a:pt x="73" y="53"/>
                    </a:lnTo>
                    <a:lnTo>
                      <a:pt x="62" y="64"/>
                    </a:lnTo>
                    <a:lnTo>
                      <a:pt x="66" y="79"/>
                    </a:lnTo>
                    <a:lnTo>
                      <a:pt x="82" y="9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0" name=""/>
              <p:cNvSpPr/>
              <p:nvPr/>
            </p:nvSpPr>
            <p:spPr>
              <a:xfrm>
                <a:off x="3817440" y="1985760"/>
                <a:ext cx="178920" cy="279360"/>
              </a:xfrm>
              <a:custGeom>
                <a:avLst/>
                <a:gdLst/>
                <a:ahLst/>
                <a:rect l="l" t="t" r="r" b="b"/>
                <a:pathLst>
                  <a:path w="109" h="176">
                    <a:moveTo>
                      <a:pt x="0" y="68"/>
                    </a:moveTo>
                    <a:lnTo>
                      <a:pt x="0" y="0"/>
                    </a:lnTo>
                    <a:lnTo>
                      <a:pt x="39" y="9"/>
                    </a:lnTo>
                    <a:lnTo>
                      <a:pt x="48" y="19"/>
                    </a:lnTo>
                    <a:lnTo>
                      <a:pt x="48" y="53"/>
                    </a:lnTo>
                    <a:lnTo>
                      <a:pt x="92" y="110"/>
                    </a:lnTo>
                    <a:lnTo>
                      <a:pt x="109" y="112"/>
                    </a:lnTo>
                    <a:lnTo>
                      <a:pt x="98" y="156"/>
                    </a:lnTo>
                    <a:lnTo>
                      <a:pt x="57" y="156"/>
                    </a:lnTo>
                    <a:lnTo>
                      <a:pt x="2" y="176"/>
                    </a:lnTo>
                    <a:lnTo>
                      <a:pt x="32" y="103"/>
                    </a:lnTo>
                    <a:lnTo>
                      <a:pt x="0" y="6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a:off x="3817440" y="1985760"/>
                <a:ext cx="178920" cy="279360"/>
              </a:xfrm>
              <a:custGeom>
                <a:avLst/>
                <a:gdLst/>
                <a:ahLst/>
                <a:rect l="l" t="t" r="r" b="b"/>
                <a:pathLst>
                  <a:path w="109" h="176">
                    <a:moveTo>
                      <a:pt x="0" y="68"/>
                    </a:moveTo>
                    <a:lnTo>
                      <a:pt x="0" y="0"/>
                    </a:lnTo>
                    <a:lnTo>
                      <a:pt x="39" y="9"/>
                    </a:lnTo>
                    <a:lnTo>
                      <a:pt x="48" y="19"/>
                    </a:lnTo>
                    <a:lnTo>
                      <a:pt x="48" y="53"/>
                    </a:lnTo>
                    <a:lnTo>
                      <a:pt x="92" y="110"/>
                    </a:lnTo>
                    <a:lnTo>
                      <a:pt x="109" y="112"/>
                    </a:lnTo>
                    <a:lnTo>
                      <a:pt x="98" y="156"/>
                    </a:lnTo>
                    <a:lnTo>
                      <a:pt x="57" y="156"/>
                    </a:lnTo>
                    <a:lnTo>
                      <a:pt x="2" y="176"/>
                    </a:lnTo>
                    <a:lnTo>
                      <a:pt x="32" y="103"/>
                    </a:lnTo>
                    <a:lnTo>
                      <a:pt x="0" y="6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a:off x="4348080" y="2685960"/>
                <a:ext cx="48960" cy="66600"/>
              </a:xfrm>
              <a:custGeom>
                <a:avLst/>
                <a:gdLst/>
                <a:ahLst/>
                <a:rect l="l" t="t" r="r" b="b"/>
                <a:pathLst>
                  <a:path w="30" h="42">
                    <a:moveTo>
                      <a:pt x="30" y="0"/>
                    </a:moveTo>
                    <a:lnTo>
                      <a:pt x="0" y="14"/>
                    </a:lnTo>
                    <a:lnTo>
                      <a:pt x="26" y="42"/>
                    </a:lnTo>
                    <a:lnTo>
                      <a:pt x="30" y="3"/>
                    </a:lnTo>
                  </a:path>
                </a:pathLst>
              </a:custGeom>
              <a:solidFill>
                <a:srgbClr val="000080">
                  <a:alpha val="50000"/>
                </a:srgbClr>
              </a:solidFill>
              <a:ln w="0">
                <a:solidFill>
                  <a:srgbClr val="0000f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3" name=""/>
              <p:cNvSpPr/>
              <p:nvPr/>
            </p:nvSpPr>
            <p:spPr>
              <a:xfrm>
                <a:off x="4348080" y="2685960"/>
                <a:ext cx="48960" cy="66600"/>
              </a:xfrm>
              <a:custGeom>
                <a:avLst/>
                <a:gdLst/>
                <a:ahLst/>
                <a:rect l="l" t="t" r="r" b="b"/>
                <a:pathLst>
                  <a:path w="30" h="42">
                    <a:moveTo>
                      <a:pt x="30" y="0"/>
                    </a:moveTo>
                    <a:lnTo>
                      <a:pt x="0" y="14"/>
                    </a:lnTo>
                    <a:lnTo>
                      <a:pt x="26" y="42"/>
                    </a:lnTo>
                    <a:lnTo>
                      <a:pt x="30" y="3"/>
                    </a:lnTo>
                  </a:path>
                </a:pathLst>
              </a:custGeom>
              <a:solidFill>
                <a:srgbClr val="000080">
                  <a:alpha val="50000"/>
                </a:srgbClr>
              </a:solidFill>
              <a:ln w="0">
                <a:solidFill>
                  <a:srgbClr val="0000f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14" name=""/>
              <p:cNvSpPr/>
              <p:nvPr/>
            </p:nvSpPr>
            <p:spPr>
              <a:xfrm>
                <a:off x="7992000" y="2475000"/>
                <a:ext cx="132840" cy="142560"/>
              </a:xfrm>
              <a:custGeom>
                <a:avLst/>
                <a:gdLst/>
                <a:ahLst/>
                <a:rect l="l" t="t" r="r" b="b"/>
                <a:pathLst>
                  <a:path w="81" h="90">
                    <a:moveTo>
                      <a:pt x="81" y="21"/>
                    </a:moveTo>
                    <a:lnTo>
                      <a:pt x="81" y="11"/>
                    </a:lnTo>
                    <a:lnTo>
                      <a:pt x="11" y="0"/>
                    </a:lnTo>
                    <a:lnTo>
                      <a:pt x="0" y="0"/>
                    </a:lnTo>
                    <a:lnTo>
                      <a:pt x="0" y="67"/>
                    </a:lnTo>
                    <a:lnTo>
                      <a:pt x="35" y="90"/>
                    </a:lnTo>
                    <a:lnTo>
                      <a:pt x="28" y="65"/>
                    </a:lnTo>
                    <a:lnTo>
                      <a:pt x="28" y="59"/>
                    </a:lnTo>
                    <a:lnTo>
                      <a:pt x="28" y="43"/>
                    </a:lnTo>
                    <a:lnTo>
                      <a:pt x="52" y="43"/>
                    </a:lnTo>
                    <a:lnTo>
                      <a:pt x="70" y="43"/>
                    </a:lnTo>
                    <a:lnTo>
                      <a:pt x="81" y="2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a:off x="7992000" y="2475000"/>
                <a:ext cx="132840" cy="142560"/>
              </a:xfrm>
              <a:custGeom>
                <a:avLst/>
                <a:gdLst/>
                <a:ahLst/>
                <a:rect l="l" t="t" r="r" b="b"/>
                <a:pathLst>
                  <a:path w="81" h="90">
                    <a:moveTo>
                      <a:pt x="81" y="21"/>
                    </a:moveTo>
                    <a:lnTo>
                      <a:pt x="81" y="11"/>
                    </a:lnTo>
                    <a:lnTo>
                      <a:pt x="11" y="0"/>
                    </a:lnTo>
                    <a:lnTo>
                      <a:pt x="0" y="0"/>
                    </a:lnTo>
                    <a:lnTo>
                      <a:pt x="0" y="67"/>
                    </a:lnTo>
                    <a:lnTo>
                      <a:pt x="35" y="90"/>
                    </a:lnTo>
                    <a:lnTo>
                      <a:pt x="28" y="65"/>
                    </a:lnTo>
                    <a:lnTo>
                      <a:pt x="28" y="59"/>
                    </a:lnTo>
                    <a:lnTo>
                      <a:pt x="28" y="43"/>
                    </a:lnTo>
                    <a:lnTo>
                      <a:pt x="52" y="43"/>
                    </a:lnTo>
                    <a:lnTo>
                      <a:pt x="70" y="43"/>
                    </a:lnTo>
                    <a:lnTo>
                      <a:pt x="81" y="2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
              <p:cNvSpPr/>
              <p:nvPr/>
            </p:nvSpPr>
            <p:spPr>
              <a:xfrm>
                <a:off x="7847280" y="2617560"/>
                <a:ext cx="307080" cy="338400"/>
              </a:xfrm>
              <a:custGeom>
                <a:avLst/>
                <a:gdLst/>
                <a:ahLst/>
                <a:rect l="l" t="t" r="r" b="b"/>
                <a:pathLst>
                  <a:path w="187" h="213">
                    <a:moveTo>
                      <a:pt x="125" y="0"/>
                    </a:moveTo>
                    <a:lnTo>
                      <a:pt x="131" y="26"/>
                    </a:lnTo>
                    <a:lnTo>
                      <a:pt x="87" y="101"/>
                    </a:lnTo>
                    <a:lnTo>
                      <a:pt x="37" y="112"/>
                    </a:lnTo>
                    <a:lnTo>
                      <a:pt x="0" y="145"/>
                    </a:lnTo>
                    <a:lnTo>
                      <a:pt x="19" y="213"/>
                    </a:lnTo>
                    <a:lnTo>
                      <a:pt x="44" y="210"/>
                    </a:lnTo>
                    <a:lnTo>
                      <a:pt x="44" y="160"/>
                    </a:lnTo>
                    <a:lnTo>
                      <a:pt x="64" y="145"/>
                    </a:lnTo>
                    <a:lnTo>
                      <a:pt x="94" y="138"/>
                    </a:lnTo>
                    <a:lnTo>
                      <a:pt x="107" y="147"/>
                    </a:lnTo>
                    <a:lnTo>
                      <a:pt x="187" y="105"/>
                    </a:lnTo>
                    <a:lnTo>
                      <a:pt x="158" y="19"/>
                    </a:lnTo>
                    <a:lnTo>
                      <a:pt x="123"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
              <p:cNvSpPr/>
              <p:nvPr/>
            </p:nvSpPr>
            <p:spPr>
              <a:xfrm>
                <a:off x="7847280" y="2617560"/>
                <a:ext cx="307080" cy="338400"/>
              </a:xfrm>
              <a:custGeom>
                <a:avLst/>
                <a:gdLst/>
                <a:ahLst/>
                <a:rect l="l" t="t" r="r" b="b"/>
                <a:pathLst>
                  <a:path w="187" h="213">
                    <a:moveTo>
                      <a:pt x="125" y="0"/>
                    </a:moveTo>
                    <a:lnTo>
                      <a:pt x="131" y="26"/>
                    </a:lnTo>
                    <a:lnTo>
                      <a:pt x="87" y="101"/>
                    </a:lnTo>
                    <a:lnTo>
                      <a:pt x="37" y="112"/>
                    </a:lnTo>
                    <a:lnTo>
                      <a:pt x="0" y="145"/>
                    </a:lnTo>
                    <a:lnTo>
                      <a:pt x="19" y="213"/>
                    </a:lnTo>
                    <a:lnTo>
                      <a:pt x="44" y="210"/>
                    </a:lnTo>
                    <a:lnTo>
                      <a:pt x="44" y="160"/>
                    </a:lnTo>
                    <a:lnTo>
                      <a:pt x="64" y="145"/>
                    </a:lnTo>
                    <a:lnTo>
                      <a:pt x="94" y="138"/>
                    </a:lnTo>
                    <a:lnTo>
                      <a:pt x="107" y="147"/>
                    </a:lnTo>
                    <a:lnTo>
                      <a:pt x="187" y="105"/>
                    </a:lnTo>
                    <a:lnTo>
                      <a:pt x="158" y="19"/>
                    </a:lnTo>
                    <a:lnTo>
                      <a:pt x="123"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a:off x="4185720" y="1392120"/>
                <a:ext cx="343080" cy="142920"/>
              </a:xfrm>
              <a:custGeom>
                <a:avLst/>
                <a:gdLst/>
                <a:ahLst/>
                <a:rect l="l" t="t" r="r" b="b"/>
                <a:pathLst>
                  <a:path w="209" h="90">
                    <a:moveTo>
                      <a:pt x="39" y="17"/>
                    </a:moveTo>
                    <a:lnTo>
                      <a:pt x="68" y="9"/>
                    </a:lnTo>
                    <a:lnTo>
                      <a:pt x="103" y="0"/>
                    </a:lnTo>
                    <a:lnTo>
                      <a:pt x="110" y="9"/>
                    </a:lnTo>
                    <a:lnTo>
                      <a:pt x="138" y="4"/>
                    </a:lnTo>
                    <a:lnTo>
                      <a:pt x="149" y="20"/>
                    </a:lnTo>
                    <a:lnTo>
                      <a:pt x="178" y="24"/>
                    </a:lnTo>
                    <a:lnTo>
                      <a:pt x="209" y="20"/>
                    </a:lnTo>
                    <a:lnTo>
                      <a:pt x="198" y="40"/>
                    </a:lnTo>
                    <a:lnTo>
                      <a:pt x="167" y="46"/>
                    </a:lnTo>
                    <a:lnTo>
                      <a:pt x="164" y="75"/>
                    </a:lnTo>
                    <a:lnTo>
                      <a:pt x="131" y="75"/>
                    </a:lnTo>
                    <a:lnTo>
                      <a:pt x="136" y="55"/>
                    </a:lnTo>
                    <a:lnTo>
                      <a:pt x="156" y="46"/>
                    </a:lnTo>
                    <a:lnTo>
                      <a:pt x="160" y="31"/>
                    </a:lnTo>
                    <a:lnTo>
                      <a:pt x="118" y="31"/>
                    </a:lnTo>
                    <a:lnTo>
                      <a:pt x="99" y="46"/>
                    </a:lnTo>
                    <a:lnTo>
                      <a:pt x="86" y="66"/>
                    </a:lnTo>
                    <a:lnTo>
                      <a:pt x="83" y="90"/>
                    </a:lnTo>
                    <a:lnTo>
                      <a:pt x="42" y="59"/>
                    </a:lnTo>
                    <a:lnTo>
                      <a:pt x="48" y="39"/>
                    </a:lnTo>
                    <a:lnTo>
                      <a:pt x="59" y="24"/>
                    </a:lnTo>
                    <a:lnTo>
                      <a:pt x="41" y="26"/>
                    </a:lnTo>
                    <a:lnTo>
                      <a:pt x="0" y="15"/>
                    </a:lnTo>
                    <a:lnTo>
                      <a:pt x="35" y="1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a:off x="4185720" y="1392120"/>
                <a:ext cx="343080" cy="142920"/>
              </a:xfrm>
              <a:custGeom>
                <a:avLst/>
                <a:gdLst/>
                <a:ahLst/>
                <a:rect l="l" t="t" r="r" b="b"/>
                <a:pathLst>
                  <a:path w="209" h="90">
                    <a:moveTo>
                      <a:pt x="39" y="17"/>
                    </a:moveTo>
                    <a:lnTo>
                      <a:pt x="68" y="9"/>
                    </a:lnTo>
                    <a:lnTo>
                      <a:pt x="103" y="0"/>
                    </a:lnTo>
                    <a:lnTo>
                      <a:pt x="110" y="9"/>
                    </a:lnTo>
                    <a:lnTo>
                      <a:pt x="138" y="4"/>
                    </a:lnTo>
                    <a:lnTo>
                      <a:pt x="149" y="20"/>
                    </a:lnTo>
                    <a:lnTo>
                      <a:pt x="178" y="24"/>
                    </a:lnTo>
                    <a:lnTo>
                      <a:pt x="209" y="20"/>
                    </a:lnTo>
                    <a:lnTo>
                      <a:pt x="198" y="40"/>
                    </a:lnTo>
                    <a:lnTo>
                      <a:pt x="167" y="46"/>
                    </a:lnTo>
                    <a:lnTo>
                      <a:pt x="164" y="75"/>
                    </a:lnTo>
                    <a:lnTo>
                      <a:pt x="131" y="75"/>
                    </a:lnTo>
                    <a:lnTo>
                      <a:pt x="136" y="55"/>
                    </a:lnTo>
                    <a:lnTo>
                      <a:pt x="156" y="46"/>
                    </a:lnTo>
                    <a:lnTo>
                      <a:pt x="160" y="31"/>
                    </a:lnTo>
                    <a:lnTo>
                      <a:pt x="118" y="31"/>
                    </a:lnTo>
                    <a:lnTo>
                      <a:pt x="99" y="46"/>
                    </a:lnTo>
                    <a:lnTo>
                      <a:pt x="86" y="66"/>
                    </a:lnTo>
                    <a:lnTo>
                      <a:pt x="83" y="90"/>
                    </a:lnTo>
                    <a:lnTo>
                      <a:pt x="42" y="59"/>
                    </a:lnTo>
                    <a:lnTo>
                      <a:pt x="48" y="39"/>
                    </a:lnTo>
                    <a:lnTo>
                      <a:pt x="59" y="24"/>
                    </a:lnTo>
                    <a:lnTo>
                      <a:pt x="41" y="26"/>
                    </a:lnTo>
                    <a:lnTo>
                      <a:pt x="0" y="15"/>
                    </a:lnTo>
                    <a:lnTo>
                      <a:pt x="35" y="1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a:off x="3730320" y="2103480"/>
                <a:ext cx="87120" cy="115920"/>
              </a:xfrm>
              <a:custGeom>
                <a:avLst/>
                <a:gdLst/>
                <a:ahLst/>
                <a:rect l="l" t="t" r="r" b="b"/>
                <a:pathLst>
                  <a:path w="53" h="73">
                    <a:moveTo>
                      <a:pt x="52" y="0"/>
                    </a:moveTo>
                    <a:lnTo>
                      <a:pt x="53" y="53"/>
                    </a:lnTo>
                    <a:lnTo>
                      <a:pt x="0" y="73"/>
                    </a:lnTo>
                    <a:lnTo>
                      <a:pt x="0" y="16"/>
                    </a:lnTo>
                    <a:lnTo>
                      <a:pt x="52"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a:off x="3730320" y="2103480"/>
                <a:ext cx="87120" cy="115920"/>
              </a:xfrm>
              <a:custGeom>
                <a:avLst/>
                <a:gdLst/>
                <a:ahLst/>
                <a:rect l="l" t="t" r="r" b="b"/>
                <a:pathLst>
                  <a:path w="53" h="73">
                    <a:moveTo>
                      <a:pt x="52" y="0"/>
                    </a:moveTo>
                    <a:lnTo>
                      <a:pt x="53" y="53"/>
                    </a:lnTo>
                    <a:lnTo>
                      <a:pt x="0" y="73"/>
                    </a:lnTo>
                    <a:lnTo>
                      <a:pt x="0" y="16"/>
                    </a:lnTo>
                    <a:lnTo>
                      <a:pt x="52"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a:off x="4200120" y="2016000"/>
                <a:ext cx="39240" cy="54000"/>
              </a:xfrm>
              <a:custGeom>
                <a:avLst/>
                <a:gdLst/>
                <a:ahLst/>
                <a:rect l="l" t="t" r="r" b="b"/>
                <a:pathLst>
                  <a:path w="24" h="34">
                    <a:moveTo>
                      <a:pt x="0" y="12"/>
                    </a:moveTo>
                    <a:lnTo>
                      <a:pt x="24" y="0"/>
                    </a:lnTo>
                    <a:lnTo>
                      <a:pt x="24" y="31"/>
                    </a:lnTo>
                    <a:lnTo>
                      <a:pt x="0" y="34"/>
                    </a:lnTo>
                    <a:lnTo>
                      <a:pt x="0" y="14"/>
                    </a:lnTo>
                  </a:path>
                </a:pathLst>
              </a:custGeom>
              <a:solidFill>
                <a:srgbClr val="000080">
                  <a:alpha val="50000"/>
                </a:srgbClr>
              </a:solidFill>
              <a:ln w="0">
                <a:solidFill>
                  <a:srgbClr val="0000ff"/>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23" name=""/>
              <p:cNvSpPr/>
              <p:nvPr/>
            </p:nvSpPr>
            <p:spPr>
              <a:xfrm>
                <a:off x="4200120" y="2016000"/>
                <a:ext cx="39240" cy="54000"/>
              </a:xfrm>
              <a:custGeom>
                <a:avLst/>
                <a:gdLst/>
                <a:ahLst/>
                <a:rect l="l" t="t" r="r" b="b"/>
                <a:pathLst>
                  <a:path w="24" h="34">
                    <a:moveTo>
                      <a:pt x="0" y="12"/>
                    </a:moveTo>
                    <a:lnTo>
                      <a:pt x="24" y="0"/>
                    </a:lnTo>
                    <a:lnTo>
                      <a:pt x="24" y="31"/>
                    </a:lnTo>
                    <a:lnTo>
                      <a:pt x="0" y="34"/>
                    </a:lnTo>
                    <a:lnTo>
                      <a:pt x="0" y="14"/>
                    </a:lnTo>
                  </a:path>
                </a:pathLst>
              </a:custGeom>
              <a:solidFill>
                <a:srgbClr val="000080">
                  <a:alpha val="50000"/>
                </a:srgbClr>
              </a:solidFill>
              <a:ln w="0">
                <a:solidFill>
                  <a:srgbClr val="0000ff"/>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624" name=""/>
              <p:cNvSpPr/>
              <p:nvPr/>
            </p:nvSpPr>
            <p:spPr>
              <a:xfrm>
                <a:off x="6988320" y="3814560"/>
                <a:ext cx="364680" cy="420840"/>
              </a:xfrm>
              <a:custGeom>
                <a:avLst/>
                <a:gdLst/>
                <a:ahLst/>
                <a:rect l="l" t="t" r="r" b="b"/>
                <a:pathLst>
                  <a:path w="222" h="265">
                    <a:moveTo>
                      <a:pt x="0" y="0"/>
                    </a:moveTo>
                    <a:lnTo>
                      <a:pt x="68" y="15"/>
                    </a:lnTo>
                    <a:lnTo>
                      <a:pt x="109" y="72"/>
                    </a:lnTo>
                    <a:lnTo>
                      <a:pt x="197" y="189"/>
                    </a:lnTo>
                    <a:lnTo>
                      <a:pt x="200" y="176"/>
                    </a:lnTo>
                    <a:lnTo>
                      <a:pt x="221" y="175"/>
                    </a:lnTo>
                    <a:lnTo>
                      <a:pt x="222" y="186"/>
                    </a:lnTo>
                    <a:lnTo>
                      <a:pt x="211" y="221"/>
                    </a:lnTo>
                    <a:lnTo>
                      <a:pt x="211" y="259"/>
                    </a:lnTo>
                    <a:lnTo>
                      <a:pt x="191" y="265"/>
                    </a:lnTo>
                    <a:lnTo>
                      <a:pt x="173" y="261"/>
                    </a:lnTo>
                    <a:lnTo>
                      <a:pt x="50" y="72"/>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5" name=""/>
              <p:cNvSpPr/>
              <p:nvPr/>
            </p:nvSpPr>
            <p:spPr>
              <a:xfrm>
                <a:off x="6988320" y="3814560"/>
                <a:ext cx="364680" cy="420840"/>
              </a:xfrm>
              <a:custGeom>
                <a:avLst/>
                <a:gdLst/>
                <a:ahLst/>
                <a:rect l="l" t="t" r="r" b="b"/>
                <a:pathLst>
                  <a:path w="222" h="265">
                    <a:moveTo>
                      <a:pt x="0" y="0"/>
                    </a:moveTo>
                    <a:lnTo>
                      <a:pt x="68" y="15"/>
                    </a:lnTo>
                    <a:lnTo>
                      <a:pt x="109" y="72"/>
                    </a:lnTo>
                    <a:lnTo>
                      <a:pt x="197" y="189"/>
                    </a:lnTo>
                    <a:lnTo>
                      <a:pt x="200" y="176"/>
                    </a:lnTo>
                    <a:lnTo>
                      <a:pt x="221" y="175"/>
                    </a:lnTo>
                    <a:lnTo>
                      <a:pt x="222" y="186"/>
                    </a:lnTo>
                    <a:lnTo>
                      <a:pt x="211" y="221"/>
                    </a:lnTo>
                    <a:lnTo>
                      <a:pt x="211" y="259"/>
                    </a:lnTo>
                    <a:lnTo>
                      <a:pt x="191" y="265"/>
                    </a:lnTo>
                    <a:lnTo>
                      <a:pt x="173" y="261"/>
                    </a:lnTo>
                    <a:lnTo>
                      <a:pt x="50" y="72"/>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6" name=""/>
              <p:cNvSpPr/>
              <p:nvPr/>
            </p:nvSpPr>
            <p:spPr>
              <a:xfrm>
                <a:off x="7684560" y="3622680"/>
                <a:ext cx="60840" cy="90360"/>
              </a:xfrm>
              <a:custGeom>
                <a:avLst/>
                <a:gdLst/>
                <a:ahLst/>
                <a:rect l="l" t="t" r="r" b="b"/>
                <a:pathLst>
                  <a:path w="37" h="57">
                    <a:moveTo>
                      <a:pt x="0" y="57"/>
                    </a:moveTo>
                    <a:lnTo>
                      <a:pt x="20" y="0"/>
                    </a:lnTo>
                    <a:lnTo>
                      <a:pt x="37" y="0"/>
                    </a:lnTo>
                    <a:lnTo>
                      <a:pt x="4" y="53"/>
                    </a:lnTo>
                  </a:path>
                </a:pathLst>
              </a:custGeom>
              <a:solidFill>
                <a:srgbClr val="000080">
                  <a:alpha val="50000"/>
                </a:srgbClr>
              </a:solidFill>
              <a:ln w="0">
                <a:solidFill>
                  <a:srgbClr val="0000ff"/>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27" name=""/>
              <p:cNvSpPr/>
              <p:nvPr/>
            </p:nvSpPr>
            <p:spPr>
              <a:xfrm>
                <a:off x="7684560" y="3622680"/>
                <a:ext cx="60840" cy="90360"/>
              </a:xfrm>
              <a:custGeom>
                <a:avLst/>
                <a:gdLst/>
                <a:ahLst/>
                <a:rect l="l" t="t" r="r" b="b"/>
                <a:pathLst>
                  <a:path w="37" h="57">
                    <a:moveTo>
                      <a:pt x="0" y="57"/>
                    </a:moveTo>
                    <a:lnTo>
                      <a:pt x="20" y="0"/>
                    </a:lnTo>
                    <a:lnTo>
                      <a:pt x="37" y="0"/>
                    </a:lnTo>
                    <a:lnTo>
                      <a:pt x="4" y="53"/>
                    </a:lnTo>
                  </a:path>
                </a:pathLst>
              </a:custGeom>
              <a:solidFill>
                <a:srgbClr val="000080">
                  <a:alpha val="50000"/>
                </a:srgbClr>
              </a:solidFill>
              <a:ln w="0">
                <a:solidFill>
                  <a:srgbClr val="0000ff"/>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28" name=""/>
              <p:cNvSpPr/>
              <p:nvPr/>
            </p:nvSpPr>
            <p:spPr>
              <a:xfrm>
                <a:off x="7717680" y="3373200"/>
                <a:ext cx="139320" cy="206640"/>
              </a:xfrm>
              <a:custGeom>
                <a:avLst/>
                <a:gdLst/>
                <a:ahLst/>
                <a:rect l="l" t="t" r="r" b="b"/>
                <a:pathLst>
                  <a:path w="85" h="130">
                    <a:moveTo>
                      <a:pt x="17" y="0"/>
                    </a:moveTo>
                    <a:lnTo>
                      <a:pt x="50" y="16"/>
                    </a:lnTo>
                    <a:lnTo>
                      <a:pt x="50" y="78"/>
                    </a:lnTo>
                    <a:lnTo>
                      <a:pt x="85" y="95"/>
                    </a:lnTo>
                    <a:lnTo>
                      <a:pt x="85" y="130"/>
                    </a:lnTo>
                    <a:lnTo>
                      <a:pt x="68" y="115"/>
                    </a:lnTo>
                    <a:lnTo>
                      <a:pt x="41" y="115"/>
                    </a:lnTo>
                    <a:lnTo>
                      <a:pt x="0" y="69"/>
                    </a:lnTo>
                    <a:lnTo>
                      <a:pt x="11"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a:off x="7717680" y="3373200"/>
                <a:ext cx="139320" cy="206640"/>
              </a:xfrm>
              <a:custGeom>
                <a:avLst/>
                <a:gdLst/>
                <a:ahLst/>
                <a:rect l="l" t="t" r="r" b="b"/>
                <a:pathLst>
                  <a:path w="85" h="130">
                    <a:moveTo>
                      <a:pt x="17" y="0"/>
                    </a:moveTo>
                    <a:lnTo>
                      <a:pt x="50" y="16"/>
                    </a:lnTo>
                    <a:lnTo>
                      <a:pt x="50" y="78"/>
                    </a:lnTo>
                    <a:lnTo>
                      <a:pt x="85" y="95"/>
                    </a:lnTo>
                    <a:lnTo>
                      <a:pt x="85" y="130"/>
                    </a:lnTo>
                    <a:lnTo>
                      <a:pt x="68" y="115"/>
                    </a:lnTo>
                    <a:lnTo>
                      <a:pt x="41" y="115"/>
                    </a:lnTo>
                    <a:lnTo>
                      <a:pt x="0" y="69"/>
                    </a:lnTo>
                    <a:lnTo>
                      <a:pt x="11"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a:off x="7862400" y="3583080"/>
                <a:ext cx="52200" cy="115560"/>
              </a:xfrm>
              <a:custGeom>
                <a:avLst/>
                <a:gdLst/>
                <a:ahLst/>
                <a:rect l="l" t="t" r="r" b="b"/>
                <a:pathLst>
                  <a:path w="32" h="73">
                    <a:moveTo>
                      <a:pt x="0" y="0"/>
                    </a:moveTo>
                    <a:lnTo>
                      <a:pt x="32" y="9"/>
                    </a:lnTo>
                    <a:lnTo>
                      <a:pt x="32" y="33"/>
                    </a:lnTo>
                    <a:lnTo>
                      <a:pt x="13" y="73"/>
                    </a:lnTo>
                    <a:lnTo>
                      <a:pt x="21" y="34"/>
                    </a:lnTo>
                    <a:lnTo>
                      <a:pt x="15" y="18"/>
                    </a:lnTo>
                    <a:lnTo>
                      <a:pt x="0" y="3"/>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a:off x="7862400" y="3583080"/>
                <a:ext cx="52200" cy="115560"/>
              </a:xfrm>
              <a:custGeom>
                <a:avLst/>
                <a:gdLst/>
                <a:ahLst/>
                <a:rect l="l" t="t" r="r" b="b"/>
                <a:pathLst>
                  <a:path w="32" h="73">
                    <a:moveTo>
                      <a:pt x="0" y="0"/>
                    </a:moveTo>
                    <a:lnTo>
                      <a:pt x="32" y="9"/>
                    </a:lnTo>
                    <a:lnTo>
                      <a:pt x="32" y="33"/>
                    </a:lnTo>
                    <a:lnTo>
                      <a:pt x="13" y="73"/>
                    </a:lnTo>
                    <a:lnTo>
                      <a:pt x="21" y="34"/>
                    </a:lnTo>
                    <a:lnTo>
                      <a:pt x="15" y="18"/>
                    </a:lnTo>
                    <a:lnTo>
                      <a:pt x="0" y="3"/>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a:off x="7806240" y="3593880"/>
                <a:ext cx="50400" cy="84240"/>
              </a:xfrm>
              <a:custGeom>
                <a:avLst/>
                <a:gdLst/>
                <a:ahLst/>
                <a:rect l="l" t="t" r="r" b="b"/>
                <a:pathLst>
                  <a:path w="31" h="53">
                    <a:moveTo>
                      <a:pt x="23" y="0"/>
                    </a:moveTo>
                    <a:lnTo>
                      <a:pt x="0" y="22"/>
                    </a:lnTo>
                    <a:lnTo>
                      <a:pt x="18" y="53"/>
                    </a:lnTo>
                    <a:lnTo>
                      <a:pt x="31" y="44"/>
                    </a:lnTo>
                    <a:lnTo>
                      <a:pt x="25" y="26"/>
                    </a:lnTo>
                    <a:lnTo>
                      <a:pt x="23" y="0"/>
                    </a:lnTo>
                  </a:path>
                </a:pathLst>
              </a:custGeom>
              <a:solidFill>
                <a:srgbClr val="000080">
                  <a:alpha val="50000"/>
                </a:srgbClr>
              </a:solidFill>
              <a:ln w="0">
                <a:solidFill>
                  <a:srgbClr val="0000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3" name=""/>
              <p:cNvSpPr/>
              <p:nvPr/>
            </p:nvSpPr>
            <p:spPr>
              <a:xfrm>
                <a:off x="7806240" y="3593880"/>
                <a:ext cx="50400" cy="84240"/>
              </a:xfrm>
              <a:custGeom>
                <a:avLst/>
                <a:gdLst/>
                <a:ahLst/>
                <a:rect l="l" t="t" r="r" b="b"/>
                <a:pathLst>
                  <a:path w="31" h="53">
                    <a:moveTo>
                      <a:pt x="23" y="0"/>
                    </a:moveTo>
                    <a:lnTo>
                      <a:pt x="0" y="22"/>
                    </a:lnTo>
                    <a:lnTo>
                      <a:pt x="18" y="53"/>
                    </a:lnTo>
                    <a:lnTo>
                      <a:pt x="31" y="44"/>
                    </a:lnTo>
                    <a:lnTo>
                      <a:pt x="25" y="26"/>
                    </a:lnTo>
                    <a:lnTo>
                      <a:pt x="23" y="0"/>
                    </a:lnTo>
                  </a:path>
                </a:pathLst>
              </a:custGeom>
              <a:solidFill>
                <a:srgbClr val="000080">
                  <a:alpha val="50000"/>
                </a:srgbClr>
              </a:solidFill>
              <a:ln w="0">
                <a:solidFill>
                  <a:srgbClr val="0000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34" name=""/>
              <p:cNvSpPr/>
              <p:nvPr/>
            </p:nvSpPr>
            <p:spPr>
              <a:xfrm>
                <a:off x="7842600" y="3716280"/>
                <a:ext cx="129600" cy="98280"/>
              </a:xfrm>
              <a:custGeom>
                <a:avLst/>
                <a:gdLst/>
                <a:ahLst/>
                <a:rect l="l" t="t" r="r" b="b"/>
                <a:pathLst>
                  <a:path w="79" h="62">
                    <a:moveTo>
                      <a:pt x="9" y="7"/>
                    </a:moveTo>
                    <a:lnTo>
                      <a:pt x="3" y="20"/>
                    </a:lnTo>
                    <a:lnTo>
                      <a:pt x="0" y="33"/>
                    </a:lnTo>
                    <a:lnTo>
                      <a:pt x="31" y="29"/>
                    </a:lnTo>
                    <a:lnTo>
                      <a:pt x="38" y="62"/>
                    </a:lnTo>
                    <a:lnTo>
                      <a:pt x="58" y="62"/>
                    </a:lnTo>
                    <a:lnTo>
                      <a:pt x="58" y="29"/>
                    </a:lnTo>
                    <a:lnTo>
                      <a:pt x="79" y="28"/>
                    </a:lnTo>
                    <a:lnTo>
                      <a:pt x="66" y="0"/>
                    </a:lnTo>
                    <a:lnTo>
                      <a:pt x="38" y="9"/>
                    </a:lnTo>
                    <a:lnTo>
                      <a:pt x="12" y="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5" name=""/>
              <p:cNvSpPr/>
              <p:nvPr/>
            </p:nvSpPr>
            <p:spPr>
              <a:xfrm>
                <a:off x="7842600" y="3716280"/>
                <a:ext cx="129600" cy="98280"/>
              </a:xfrm>
              <a:custGeom>
                <a:avLst/>
                <a:gdLst/>
                <a:ahLst/>
                <a:rect l="l" t="t" r="r" b="b"/>
                <a:pathLst>
                  <a:path w="79" h="62">
                    <a:moveTo>
                      <a:pt x="9" y="7"/>
                    </a:moveTo>
                    <a:lnTo>
                      <a:pt x="3" y="20"/>
                    </a:lnTo>
                    <a:lnTo>
                      <a:pt x="0" y="33"/>
                    </a:lnTo>
                    <a:lnTo>
                      <a:pt x="31" y="29"/>
                    </a:lnTo>
                    <a:lnTo>
                      <a:pt x="38" y="62"/>
                    </a:lnTo>
                    <a:lnTo>
                      <a:pt x="58" y="62"/>
                    </a:lnTo>
                    <a:lnTo>
                      <a:pt x="58" y="29"/>
                    </a:lnTo>
                    <a:lnTo>
                      <a:pt x="79" y="28"/>
                    </a:lnTo>
                    <a:lnTo>
                      <a:pt x="66" y="0"/>
                    </a:lnTo>
                    <a:lnTo>
                      <a:pt x="38" y="9"/>
                    </a:lnTo>
                    <a:lnTo>
                      <a:pt x="12" y="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a:off x="7417080" y="3762360"/>
                <a:ext cx="336600" cy="420480"/>
              </a:xfrm>
              <a:custGeom>
                <a:avLst/>
                <a:gdLst/>
                <a:ahLst/>
                <a:rect l="l" t="t" r="r" b="b"/>
                <a:pathLst>
                  <a:path w="205" h="265">
                    <a:moveTo>
                      <a:pt x="205" y="52"/>
                    </a:moveTo>
                    <a:lnTo>
                      <a:pt x="176" y="2"/>
                    </a:lnTo>
                    <a:lnTo>
                      <a:pt x="150" y="0"/>
                    </a:lnTo>
                    <a:lnTo>
                      <a:pt x="66" y="105"/>
                    </a:lnTo>
                    <a:lnTo>
                      <a:pt x="38" y="138"/>
                    </a:lnTo>
                    <a:lnTo>
                      <a:pt x="27" y="121"/>
                    </a:lnTo>
                    <a:lnTo>
                      <a:pt x="9" y="125"/>
                    </a:lnTo>
                    <a:lnTo>
                      <a:pt x="0" y="140"/>
                    </a:lnTo>
                    <a:lnTo>
                      <a:pt x="0" y="162"/>
                    </a:lnTo>
                    <a:lnTo>
                      <a:pt x="31" y="209"/>
                    </a:lnTo>
                    <a:lnTo>
                      <a:pt x="27" y="243"/>
                    </a:lnTo>
                    <a:lnTo>
                      <a:pt x="125" y="265"/>
                    </a:lnTo>
                    <a:lnTo>
                      <a:pt x="180" y="143"/>
                    </a:lnTo>
                    <a:lnTo>
                      <a:pt x="172" y="120"/>
                    </a:lnTo>
                    <a:lnTo>
                      <a:pt x="178" y="105"/>
                    </a:lnTo>
                    <a:lnTo>
                      <a:pt x="205" y="5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a:off x="7417080" y="3762360"/>
                <a:ext cx="336600" cy="420480"/>
              </a:xfrm>
              <a:custGeom>
                <a:avLst/>
                <a:gdLst/>
                <a:ahLst/>
                <a:rect l="l" t="t" r="r" b="b"/>
                <a:pathLst>
                  <a:path w="205" h="265">
                    <a:moveTo>
                      <a:pt x="205" y="52"/>
                    </a:moveTo>
                    <a:lnTo>
                      <a:pt x="176" y="2"/>
                    </a:lnTo>
                    <a:lnTo>
                      <a:pt x="150" y="0"/>
                    </a:lnTo>
                    <a:lnTo>
                      <a:pt x="66" y="105"/>
                    </a:lnTo>
                    <a:lnTo>
                      <a:pt x="38" y="138"/>
                    </a:lnTo>
                    <a:lnTo>
                      <a:pt x="27" y="121"/>
                    </a:lnTo>
                    <a:lnTo>
                      <a:pt x="9" y="125"/>
                    </a:lnTo>
                    <a:lnTo>
                      <a:pt x="0" y="140"/>
                    </a:lnTo>
                    <a:lnTo>
                      <a:pt x="0" y="162"/>
                    </a:lnTo>
                    <a:lnTo>
                      <a:pt x="31" y="209"/>
                    </a:lnTo>
                    <a:lnTo>
                      <a:pt x="27" y="243"/>
                    </a:lnTo>
                    <a:lnTo>
                      <a:pt x="125" y="265"/>
                    </a:lnTo>
                    <a:lnTo>
                      <a:pt x="180" y="143"/>
                    </a:lnTo>
                    <a:lnTo>
                      <a:pt x="172" y="120"/>
                    </a:lnTo>
                    <a:lnTo>
                      <a:pt x="178" y="105"/>
                    </a:lnTo>
                    <a:lnTo>
                      <a:pt x="205" y="5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a:off x="7365960" y="4406760"/>
                <a:ext cx="1261440" cy="1001880"/>
              </a:xfrm>
              <a:custGeom>
                <a:avLst/>
                <a:gdLst/>
                <a:ahLst/>
                <a:rect l="l" t="t" r="r" b="b"/>
                <a:pathLst>
                  <a:path w="768" h="631">
                    <a:moveTo>
                      <a:pt x="152" y="519"/>
                    </a:moveTo>
                    <a:lnTo>
                      <a:pt x="35" y="537"/>
                    </a:lnTo>
                    <a:lnTo>
                      <a:pt x="0" y="502"/>
                    </a:lnTo>
                    <a:lnTo>
                      <a:pt x="31" y="479"/>
                    </a:lnTo>
                    <a:lnTo>
                      <a:pt x="14" y="323"/>
                    </a:lnTo>
                    <a:lnTo>
                      <a:pt x="79" y="240"/>
                    </a:lnTo>
                    <a:lnTo>
                      <a:pt x="198" y="196"/>
                    </a:lnTo>
                    <a:lnTo>
                      <a:pt x="222" y="132"/>
                    </a:lnTo>
                    <a:lnTo>
                      <a:pt x="224" y="119"/>
                    </a:lnTo>
                    <a:lnTo>
                      <a:pt x="249" y="119"/>
                    </a:lnTo>
                    <a:lnTo>
                      <a:pt x="304" y="66"/>
                    </a:lnTo>
                    <a:lnTo>
                      <a:pt x="345" y="97"/>
                    </a:lnTo>
                    <a:lnTo>
                      <a:pt x="435" y="0"/>
                    </a:lnTo>
                    <a:lnTo>
                      <a:pt x="545" y="24"/>
                    </a:lnTo>
                    <a:lnTo>
                      <a:pt x="515" y="62"/>
                    </a:lnTo>
                    <a:lnTo>
                      <a:pt x="491" y="80"/>
                    </a:lnTo>
                    <a:lnTo>
                      <a:pt x="548" y="143"/>
                    </a:lnTo>
                    <a:lnTo>
                      <a:pt x="548" y="159"/>
                    </a:lnTo>
                    <a:lnTo>
                      <a:pt x="592" y="112"/>
                    </a:lnTo>
                    <a:lnTo>
                      <a:pt x="603" y="24"/>
                    </a:lnTo>
                    <a:lnTo>
                      <a:pt x="627" y="5"/>
                    </a:lnTo>
                    <a:lnTo>
                      <a:pt x="633" y="80"/>
                    </a:lnTo>
                    <a:lnTo>
                      <a:pt x="653" y="93"/>
                    </a:lnTo>
                    <a:lnTo>
                      <a:pt x="657" y="132"/>
                    </a:lnTo>
                    <a:lnTo>
                      <a:pt x="660" y="172"/>
                    </a:lnTo>
                    <a:lnTo>
                      <a:pt x="715" y="198"/>
                    </a:lnTo>
                    <a:lnTo>
                      <a:pt x="734" y="280"/>
                    </a:lnTo>
                    <a:lnTo>
                      <a:pt x="768" y="312"/>
                    </a:lnTo>
                    <a:lnTo>
                      <a:pt x="723" y="444"/>
                    </a:lnTo>
                    <a:lnTo>
                      <a:pt x="611" y="556"/>
                    </a:lnTo>
                    <a:lnTo>
                      <a:pt x="574" y="590"/>
                    </a:lnTo>
                    <a:lnTo>
                      <a:pt x="574" y="603"/>
                    </a:lnTo>
                    <a:lnTo>
                      <a:pt x="508" y="631"/>
                    </a:lnTo>
                    <a:lnTo>
                      <a:pt x="495" y="613"/>
                    </a:lnTo>
                    <a:lnTo>
                      <a:pt x="460" y="625"/>
                    </a:lnTo>
                    <a:lnTo>
                      <a:pt x="409" y="618"/>
                    </a:lnTo>
                    <a:lnTo>
                      <a:pt x="394" y="607"/>
                    </a:lnTo>
                    <a:lnTo>
                      <a:pt x="394" y="590"/>
                    </a:lnTo>
                    <a:lnTo>
                      <a:pt x="394" y="572"/>
                    </a:lnTo>
                    <a:lnTo>
                      <a:pt x="385" y="565"/>
                    </a:lnTo>
                    <a:lnTo>
                      <a:pt x="385" y="556"/>
                    </a:lnTo>
                    <a:lnTo>
                      <a:pt x="385" y="543"/>
                    </a:lnTo>
                    <a:lnTo>
                      <a:pt x="394" y="508"/>
                    </a:lnTo>
                    <a:lnTo>
                      <a:pt x="369" y="519"/>
                    </a:lnTo>
                    <a:lnTo>
                      <a:pt x="356" y="532"/>
                    </a:lnTo>
                    <a:lnTo>
                      <a:pt x="356" y="515"/>
                    </a:lnTo>
                    <a:lnTo>
                      <a:pt x="356" y="469"/>
                    </a:lnTo>
                    <a:lnTo>
                      <a:pt x="337" y="469"/>
                    </a:lnTo>
                    <a:lnTo>
                      <a:pt x="319" y="466"/>
                    </a:lnTo>
                    <a:lnTo>
                      <a:pt x="255" y="469"/>
                    </a:lnTo>
                    <a:lnTo>
                      <a:pt x="240" y="484"/>
                    </a:lnTo>
                    <a:lnTo>
                      <a:pt x="236" y="475"/>
                    </a:lnTo>
                    <a:lnTo>
                      <a:pt x="198" y="479"/>
                    </a:lnTo>
                    <a:lnTo>
                      <a:pt x="161" y="495"/>
                    </a:lnTo>
                    <a:lnTo>
                      <a:pt x="152" y="512"/>
                    </a:lnTo>
                    <a:lnTo>
                      <a:pt x="152" y="51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a:off x="7365960" y="4406760"/>
                <a:ext cx="1261440" cy="1001880"/>
              </a:xfrm>
              <a:custGeom>
                <a:avLst/>
                <a:gdLst/>
                <a:ahLst/>
                <a:rect l="l" t="t" r="r" b="b"/>
                <a:pathLst>
                  <a:path w="768" h="631">
                    <a:moveTo>
                      <a:pt x="152" y="519"/>
                    </a:moveTo>
                    <a:lnTo>
                      <a:pt x="35" y="537"/>
                    </a:lnTo>
                    <a:lnTo>
                      <a:pt x="0" y="502"/>
                    </a:lnTo>
                    <a:lnTo>
                      <a:pt x="31" y="479"/>
                    </a:lnTo>
                    <a:lnTo>
                      <a:pt x="14" y="323"/>
                    </a:lnTo>
                    <a:lnTo>
                      <a:pt x="79" y="240"/>
                    </a:lnTo>
                    <a:lnTo>
                      <a:pt x="198" y="196"/>
                    </a:lnTo>
                    <a:lnTo>
                      <a:pt x="222" y="132"/>
                    </a:lnTo>
                    <a:lnTo>
                      <a:pt x="224" y="119"/>
                    </a:lnTo>
                    <a:lnTo>
                      <a:pt x="249" y="119"/>
                    </a:lnTo>
                    <a:lnTo>
                      <a:pt x="304" y="66"/>
                    </a:lnTo>
                    <a:lnTo>
                      <a:pt x="345" y="97"/>
                    </a:lnTo>
                    <a:lnTo>
                      <a:pt x="435" y="0"/>
                    </a:lnTo>
                    <a:lnTo>
                      <a:pt x="545" y="24"/>
                    </a:lnTo>
                    <a:lnTo>
                      <a:pt x="515" y="62"/>
                    </a:lnTo>
                    <a:lnTo>
                      <a:pt x="491" y="80"/>
                    </a:lnTo>
                    <a:lnTo>
                      <a:pt x="548" y="143"/>
                    </a:lnTo>
                    <a:lnTo>
                      <a:pt x="548" y="159"/>
                    </a:lnTo>
                    <a:lnTo>
                      <a:pt x="592" y="112"/>
                    </a:lnTo>
                    <a:lnTo>
                      <a:pt x="603" y="24"/>
                    </a:lnTo>
                    <a:lnTo>
                      <a:pt x="627" y="5"/>
                    </a:lnTo>
                    <a:lnTo>
                      <a:pt x="633" y="80"/>
                    </a:lnTo>
                    <a:lnTo>
                      <a:pt x="653" y="93"/>
                    </a:lnTo>
                    <a:lnTo>
                      <a:pt x="657" y="132"/>
                    </a:lnTo>
                    <a:lnTo>
                      <a:pt x="660" y="172"/>
                    </a:lnTo>
                    <a:lnTo>
                      <a:pt x="715" y="198"/>
                    </a:lnTo>
                    <a:lnTo>
                      <a:pt x="734" y="280"/>
                    </a:lnTo>
                    <a:lnTo>
                      <a:pt x="768" y="312"/>
                    </a:lnTo>
                    <a:lnTo>
                      <a:pt x="723" y="444"/>
                    </a:lnTo>
                    <a:lnTo>
                      <a:pt x="611" y="556"/>
                    </a:lnTo>
                    <a:lnTo>
                      <a:pt x="574" y="590"/>
                    </a:lnTo>
                    <a:lnTo>
                      <a:pt x="574" y="603"/>
                    </a:lnTo>
                    <a:lnTo>
                      <a:pt x="508" y="631"/>
                    </a:lnTo>
                    <a:lnTo>
                      <a:pt x="495" y="613"/>
                    </a:lnTo>
                    <a:lnTo>
                      <a:pt x="460" y="625"/>
                    </a:lnTo>
                    <a:lnTo>
                      <a:pt x="409" y="618"/>
                    </a:lnTo>
                    <a:lnTo>
                      <a:pt x="394" y="607"/>
                    </a:lnTo>
                    <a:lnTo>
                      <a:pt x="394" y="590"/>
                    </a:lnTo>
                    <a:lnTo>
                      <a:pt x="394" y="572"/>
                    </a:lnTo>
                    <a:lnTo>
                      <a:pt x="385" y="565"/>
                    </a:lnTo>
                    <a:lnTo>
                      <a:pt x="385" y="556"/>
                    </a:lnTo>
                    <a:lnTo>
                      <a:pt x="385" y="543"/>
                    </a:lnTo>
                    <a:lnTo>
                      <a:pt x="394" y="508"/>
                    </a:lnTo>
                    <a:lnTo>
                      <a:pt x="369" y="519"/>
                    </a:lnTo>
                    <a:lnTo>
                      <a:pt x="356" y="532"/>
                    </a:lnTo>
                    <a:lnTo>
                      <a:pt x="356" y="515"/>
                    </a:lnTo>
                    <a:lnTo>
                      <a:pt x="356" y="469"/>
                    </a:lnTo>
                    <a:lnTo>
                      <a:pt x="337" y="469"/>
                    </a:lnTo>
                    <a:lnTo>
                      <a:pt x="319" y="466"/>
                    </a:lnTo>
                    <a:lnTo>
                      <a:pt x="255" y="469"/>
                    </a:lnTo>
                    <a:lnTo>
                      <a:pt x="240" y="484"/>
                    </a:lnTo>
                    <a:lnTo>
                      <a:pt x="236" y="475"/>
                    </a:lnTo>
                    <a:lnTo>
                      <a:pt x="198" y="479"/>
                    </a:lnTo>
                    <a:lnTo>
                      <a:pt x="161" y="495"/>
                    </a:lnTo>
                    <a:lnTo>
                      <a:pt x="152" y="512"/>
                    </a:lnTo>
                    <a:lnTo>
                      <a:pt x="152" y="51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 name=""/>
              <p:cNvSpPr/>
              <p:nvPr/>
            </p:nvSpPr>
            <p:spPr>
              <a:xfrm>
                <a:off x="8103600" y="4054320"/>
                <a:ext cx="724320" cy="335160"/>
              </a:xfrm>
              <a:custGeom>
                <a:avLst/>
                <a:gdLst/>
                <a:ahLst/>
                <a:rect l="l" t="t" r="r" b="b"/>
                <a:pathLst>
                  <a:path w="441" h="211">
                    <a:moveTo>
                      <a:pt x="0" y="16"/>
                    </a:moveTo>
                    <a:lnTo>
                      <a:pt x="35" y="25"/>
                    </a:lnTo>
                    <a:lnTo>
                      <a:pt x="42" y="38"/>
                    </a:lnTo>
                    <a:lnTo>
                      <a:pt x="24" y="57"/>
                    </a:lnTo>
                    <a:lnTo>
                      <a:pt x="42" y="86"/>
                    </a:lnTo>
                    <a:lnTo>
                      <a:pt x="66" y="73"/>
                    </a:lnTo>
                    <a:lnTo>
                      <a:pt x="143" y="117"/>
                    </a:lnTo>
                    <a:lnTo>
                      <a:pt x="138" y="165"/>
                    </a:lnTo>
                    <a:lnTo>
                      <a:pt x="151" y="163"/>
                    </a:lnTo>
                    <a:lnTo>
                      <a:pt x="193" y="196"/>
                    </a:lnTo>
                    <a:lnTo>
                      <a:pt x="204" y="189"/>
                    </a:lnTo>
                    <a:lnTo>
                      <a:pt x="217" y="192"/>
                    </a:lnTo>
                    <a:lnTo>
                      <a:pt x="253" y="163"/>
                    </a:lnTo>
                    <a:lnTo>
                      <a:pt x="270" y="165"/>
                    </a:lnTo>
                    <a:lnTo>
                      <a:pt x="336" y="211"/>
                    </a:lnTo>
                    <a:lnTo>
                      <a:pt x="374" y="207"/>
                    </a:lnTo>
                    <a:lnTo>
                      <a:pt x="319" y="148"/>
                    </a:lnTo>
                    <a:lnTo>
                      <a:pt x="327" y="119"/>
                    </a:lnTo>
                    <a:lnTo>
                      <a:pt x="420" y="117"/>
                    </a:lnTo>
                    <a:lnTo>
                      <a:pt x="441" y="79"/>
                    </a:lnTo>
                    <a:lnTo>
                      <a:pt x="382" y="44"/>
                    </a:lnTo>
                    <a:lnTo>
                      <a:pt x="422" y="73"/>
                    </a:lnTo>
                    <a:lnTo>
                      <a:pt x="420" y="95"/>
                    </a:lnTo>
                    <a:lnTo>
                      <a:pt x="318" y="106"/>
                    </a:lnTo>
                    <a:lnTo>
                      <a:pt x="217" y="49"/>
                    </a:lnTo>
                    <a:lnTo>
                      <a:pt x="141" y="0"/>
                    </a:lnTo>
                    <a:lnTo>
                      <a:pt x="72" y="47"/>
                    </a:lnTo>
                    <a:lnTo>
                      <a:pt x="55" y="9"/>
                    </a:lnTo>
                    <a:lnTo>
                      <a:pt x="0" y="1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 name=""/>
              <p:cNvSpPr/>
              <p:nvPr/>
            </p:nvSpPr>
            <p:spPr>
              <a:xfrm>
                <a:off x="8103600" y="4054320"/>
                <a:ext cx="724320" cy="335160"/>
              </a:xfrm>
              <a:custGeom>
                <a:avLst/>
                <a:gdLst/>
                <a:ahLst/>
                <a:rect l="l" t="t" r="r" b="b"/>
                <a:pathLst>
                  <a:path w="441" h="211">
                    <a:moveTo>
                      <a:pt x="0" y="16"/>
                    </a:moveTo>
                    <a:lnTo>
                      <a:pt x="35" y="25"/>
                    </a:lnTo>
                    <a:lnTo>
                      <a:pt x="42" y="38"/>
                    </a:lnTo>
                    <a:lnTo>
                      <a:pt x="24" y="57"/>
                    </a:lnTo>
                    <a:lnTo>
                      <a:pt x="42" y="86"/>
                    </a:lnTo>
                    <a:lnTo>
                      <a:pt x="66" y="73"/>
                    </a:lnTo>
                    <a:lnTo>
                      <a:pt x="143" y="117"/>
                    </a:lnTo>
                    <a:lnTo>
                      <a:pt x="138" y="165"/>
                    </a:lnTo>
                    <a:lnTo>
                      <a:pt x="151" y="163"/>
                    </a:lnTo>
                    <a:lnTo>
                      <a:pt x="193" y="196"/>
                    </a:lnTo>
                    <a:lnTo>
                      <a:pt x="204" y="189"/>
                    </a:lnTo>
                    <a:lnTo>
                      <a:pt x="217" y="192"/>
                    </a:lnTo>
                    <a:lnTo>
                      <a:pt x="253" y="163"/>
                    </a:lnTo>
                    <a:lnTo>
                      <a:pt x="270" y="165"/>
                    </a:lnTo>
                    <a:lnTo>
                      <a:pt x="336" y="211"/>
                    </a:lnTo>
                    <a:lnTo>
                      <a:pt x="374" y="207"/>
                    </a:lnTo>
                    <a:lnTo>
                      <a:pt x="319" y="148"/>
                    </a:lnTo>
                    <a:lnTo>
                      <a:pt x="327" y="119"/>
                    </a:lnTo>
                    <a:lnTo>
                      <a:pt x="420" y="117"/>
                    </a:lnTo>
                    <a:lnTo>
                      <a:pt x="441" y="79"/>
                    </a:lnTo>
                    <a:lnTo>
                      <a:pt x="382" y="44"/>
                    </a:lnTo>
                    <a:lnTo>
                      <a:pt x="422" y="73"/>
                    </a:lnTo>
                    <a:lnTo>
                      <a:pt x="420" y="95"/>
                    </a:lnTo>
                    <a:lnTo>
                      <a:pt x="318" y="106"/>
                    </a:lnTo>
                    <a:lnTo>
                      <a:pt x="217" y="49"/>
                    </a:lnTo>
                    <a:lnTo>
                      <a:pt x="141" y="0"/>
                    </a:lnTo>
                    <a:lnTo>
                      <a:pt x="72" y="47"/>
                    </a:lnTo>
                    <a:lnTo>
                      <a:pt x="55" y="9"/>
                    </a:lnTo>
                    <a:lnTo>
                      <a:pt x="0" y="1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 name=""/>
              <p:cNvSpPr/>
              <p:nvPr/>
            </p:nvSpPr>
            <p:spPr>
              <a:xfrm>
                <a:off x="8601480" y="5394240"/>
                <a:ext cx="325080" cy="266760"/>
              </a:xfrm>
              <a:custGeom>
                <a:avLst/>
                <a:gdLst/>
                <a:ahLst/>
                <a:rect l="l" t="t" r="r" b="b"/>
                <a:pathLst>
                  <a:path w="198" h="168">
                    <a:moveTo>
                      <a:pt x="75" y="88"/>
                    </a:moveTo>
                    <a:lnTo>
                      <a:pt x="15" y="106"/>
                    </a:lnTo>
                    <a:lnTo>
                      <a:pt x="4" y="115"/>
                    </a:lnTo>
                    <a:lnTo>
                      <a:pt x="0" y="168"/>
                    </a:lnTo>
                    <a:lnTo>
                      <a:pt x="110" y="97"/>
                    </a:lnTo>
                    <a:lnTo>
                      <a:pt x="114" y="88"/>
                    </a:lnTo>
                    <a:lnTo>
                      <a:pt x="121" y="82"/>
                    </a:lnTo>
                    <a:lnTo>
                      <a:pt x="141" y="82"/>
                    </a:lnTo>
                    <a:lnTo>
                      <a:pt x="198" y="40"/>
                    </a:lnTo>
                    <a:lnTo>
                      <a:pt x="174" y="35"/>
                    </a:lnTo>
                    <a:lnTo>
                      <a:pt x="163" y="0"/>
                    </a:lnTo>
                    <a:lnTo>
                      <a:pt x="75" y="8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 name=""/>
              <p:cNvSpPr/>
              <p:nvPr/>
            </p:nvSpPr>
            <p:spPr>
              <a:xfrm>
                <a:off x="8601480" y="5394240"/>
                <a:ext cx="325080" cy="266760"/>
              </a:xfrm>
              <a:custGeom>
                <a:avLst/>
                <a:gdLst/>
                <a:ahLst/>
                <a:rect l="l" t="t" r="r" b="b"/>
                <a:pathLst>
                  <a:path w="198" h="168">
                    <a:moveTo>
                      <a:pt x="75" y="88"/>
                    </a:moveTo>
                    <a:lnTo>
                      <a:pt x="15" y="106"/>
                    </a:lnTo>
                    <a:lnTo>
                      <a:pt x="4" y="115"/>
                    </a:lnTo>
                    <a:lnTo>
                      <a:pt x="0" y="168"/>
                    </a:lnTo>
                    <a:lnTo>
                      <a:pt x="110" y="97"/>
                    </a:lnTo>
                    <a:lnTo>
                      <a:pt x="114" y="88"/>
                    </a:lnTo>
                    <a:lnTo>
                      <a:pt x="121" y="82"/>
                    </a:lnTo>
                    <a:lnTo>
                      <a:pt x="141" y="82"/>
                    </a:lnTo>
                    <a:lnTo>
                      <a:pt x="198" y="40"/>
                    </a:lnTo>
                    <a:lnTo>
                      <a:pt x="174" y="35"/>
                    </a:lnTo>
                    <a:lnTo>
                      <a:pt x="163" y="0"/>
                    </a:lnTo>
                    <a:lnTo>
                      <a:pt x="75" y="8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 name=""/>
              <p:cNvSpPr/>
              <p:nvPr/>
            </p:nvSpPr>
            <p:spPr>
              <a:xfrm>
                <a:off x="8938080" y="5172120"/>
                <a:ext cx="205200" cy="274680"/>
              </a:xfrm>
              <a:custGeom>
                <a:avLst/>
                <a:gdLst/>
                <a:ahLst/>
                <a:rect l="l" t="t" r="r" b="b"/>
                <a:pathLst>
                  <a:path w="125" h="173">
                    <a:moveTo>
                      <a:pt x="0" y="173"/>
                    </a:moveTo>
                    <a:lnTo>
                      <a:pt x="22" y="153"/>
                    </a:lnTo>
                    <a:lnTo>
                      <a:pt x="24" y="121"/>
                    </a:lnTo>
                    <a:lnTo>
                      <a:pt x="21" y="116"/>
                    </a:lnTo>
                    <a:lnTo>
                      <a:pt x="10" y="114"/>
                    </a:lnTo>
                    <a:lnTo>
                      <a:pt x="54" y="74"/>
                    </a:lnTo>
                    <a:lnTo>
                      <a:pt x="72" y="57"/>
                    </a:lnTo>
                    <a:lnTo>
                      <a:pt x="54" y="2"/>
                    </a:lnTo>
                    <a:lnTo>
                      <a:pt x="57" y="0"/>
                    </a:lnTo>
                    <a:lnTo>
                      <a:pt x="88" y="61"/>
                    </a:lnTo>
                    <a:lnTo>
                      <a:pt x="125" y="75"/>
                    </a:lnTo>
                    <a:lnTo>
                      <a:pt x="116" y="92"/>
                    </a:lnTo>
                    <a:lnTo>
                      <a:pt x="116" y="108"/>
                    </a:lnTo>
                    <a:lnTo>
                      <a:pt x="125" y="125"/>
                    </a:lnTo>
                    <a:lnTo>
                      <a:pt x="87" y="129"/>
                    </a:lnTo>
                    <a:lnTo>
                      <a:pt x="65" y="125"/>
                    </a:lnTo>
                    <a:lnTo>
                      <a:pt x="48" y="147"/>
                    </a:lnTo>
                    <a:lnTo>
                      <a:pt x="26" y="162"/>
                    </a:lnTo>
                    <a:lnTo>
                      <a:pt x="4" y="17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a:off x="8938080" y="5172120"/>
                <a:ext cx="205200" cy="274680"/>
              </a:xfrm>
              <a:custGeom>
                <a:avLst/>
                <a:gdLst/>
                <a:ahLst/>
                <a:rect l="l" t="t" r="r" b="b"/>
                <a:pathLst>
                  <a:path w="125" h="173">
                    <a:moveTo>
                      <a:pt x="0" y="173"/>
                    </a:moveTo>
                    <a:lnTo>
                      <a:pt x="22" y="153"/>
                    </a:lnTo>
                    <a:lnTo>
                      <a:pt x="24" y="121"/>
                    </a:lnTo>
                    <a:lnTo>
                      <a:pt x="21" y="116"/>
                    </a:lnTo>
                    <a:lnTo>
                      <a:pt x="10" y="114"/>
                    </a:lnTo>
                    <a:lnTo>
                      <a:pt x="54" y="74"/>
                    </a:lnTo>
                    <a:lnTo>
                      <a:pt x="72" y="57"/>
                    </a:lnTo>
                    <a:lnTo>
                      <a:pt x="54" y="2"/>
                    </a:lnTo>
                    <a:lnTo>
                      <a:pt x="57" y="0"/>
                    </a:lnTo>
                    <a:lnTo>
                      <a:pt x="88" y="61"/>
                    </a:lnTo>
                    <a:lnTo>
                      <a:pt x="125" y="75"/>
                    </a:lnTo>
                    <a:lnTo>
                      <a:pt x="116" y="92"/>
                    </a:lnTo>
                    <a:lnTo>
                      <a:pt x="116" y="108"/>
                    </a:lnTo>
                    <a:lnTo>
                      <a:pt x="125" y="125"/>
                    </a:lnTo>
                    <a:lnTo>
                      <a:pt x="87" y="129"/>
                    </a:lnTo>
                    <a:lnTo>
                      <a:pt x="65" y="125"/>
                    </a:lnTo>
                    <a:lnTo>
                      <a:pt x="48" y="147"/>
                    </a:lnTo>
                    <a:lnTo>
                      <a:pt x="26" y="162"/>
                    </a:lnTo>
                    <a:lnTo>
                      <a:pt x="4" y="17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 name=""/>
              <p:cNvSpPr/>
              <p:nvPr/>
            </p:nvSpPr>
            <p:spPr>
              <a:xfrm>
                <a:off x="8077320" y="5449680"/>
                <a:ext cx="101880" cy="95400"/>
              </a:xfrm>
              <a:custGeom>
                <a:avLst/>
                <a:gdLst/>
                <a:ahLst/>
                <a:rect l="l" t="t" r="r" b="b"/>
                <a:pathLst>
                  <a:path w="62" h="60">
                    <a:moveTo>
                      <a:pt x="9" y="0"/>
                    </a:moveTo>
                    <a:lnTo>
                      <a:pt x="0" y="31"/>
                    </a:lnTo>
                    <a:lnTo>
                      <a:pt x="11" y="49"/>
                    </a:lnTo>
                    <a:lnTo>
                      <a:pt x="35" y="60"/>
                    </a:lnTo>
                    <a:lnTo>
                      <a:pt x="51" y="47"/>
                    </a:lnTo>
                    <a:lnTo>
                      <a:pt x="55" y="40"/>
                    </a:lnTo>
                    <a:lnTo>
                      <a:pt x="60" y="29"/>
                    </a:lnTo>
                    <a:lnTo>
                      <a:pt x="62" y="5"/>
                    </a:lnTo>
                    <a:lnTo>
                      <a:pt x="31" y="29"/>
                    </a:lnTo>
                    <a:lnTo>
                      <a:pt x="9" y="3"/>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 name=""/>
              <p:cNvSpPr/>
              <p:nvPr/>
            </p:nvSpPr>
            <p:spPr>
              <a:xfrm>
                <a:off x="8077320" y="5449680"/>
                <a:ext cx="101880" cy="95400"/>
              </a:xfrm>
              <a:custGeom>
                <a:avLst/>
                <a:gdLst/>
                <a:ahLst/>
                <a:rect l="l" t="t" r="r" b="b"/>
                <a:pathLst>
                  <a:path w="62" h="60">
                    <a:moveTo>
                      <a:pt x="9" y="0"/>
                    </a:moveTo>
                    <a:lnTo>
                      <a:pt x="0" y="31"/>
                    </a:lnTo>
                    <a:lnTo>
                      <a:pt x="11" y="49"/>
                    </a:lnTo>
                    <a:lnTo>
                      <a:pt x="35" y="60"/>
                    </a:lnTo>
                    <a:lnTo>
                      <a:pt x="51" y="47"/>
                    </a:lnTo>
                    <a:lnTo>
                      <a:pt x="55" y="40"/>
                    </a:lnTo>
                    <a:lnTo>
                      <a:pt x="60" y="29"/>
                    </a:lnTo>
                    <a:lnTo>
                      <a:pt x="62" y="5"/>
                    </a:lnTo>
                    <a:lnTo>
                      <a:pt x="31" y="29"/>
                    </a:lnTo>
                    <a:lnTo>
                      <a:pt x="9" y="3"/>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a:off x="7712640" y="3970440"/>
                <a:ext cx="249840" cy="290520"/>
              </a:xfrm>
              <a:custGeom>
                <a:avLst/>
                <a:gdLst/>
                <a:ahLst/>
                <a:rect l="l" t="t" r="r" b="b"/>
                <a:pathLst>
                  <a:path w="152" h="183">
                    <a:moveTo>
                      <a:pt x="49" y="0"/>
                    </a:moveTo>
                    <a:lnTo>
                      <a:pt x="0" y="102"/>
                    </a:lnTo>
                    <a:lnTo>
                      <a:pt x="25" y="123"/>
                    </a:lnTo>
                    <a:lnTo>
                      <a:pt x="20" y="183"/>
                    </a:lnTo>
                    <a:lnTo>
                      <a:pt x="27" y="183"/>
                    </a:lnTo>
                    <a:lnTo>
                      <a:pt x="44" y="117"/>
                    </a:lnTo>
                    <a:lnTo>
                      <a:pt x="73" y="146"/>
                    </a:lnTo>
                    <a:lnTo>
                      <a:pt x="79" y="139"/>
                    </a:lnTo>
                    <a:lnTo>
                      <a:pt x="64" y="88"/>
                    </a:lnTo>
                    <a:lnTo>
                      <a:pt x="95" y="53"/>
                    </a:lnTo>
                    <a:lnTo>
                      <a:pt x="64" y="62"/>
                    </a:lnTo>
                    <a:lnTo>
                      <a:pt x="40" y="34"/>
                    </a:lnTo>
                    <a:lnTo>
                      <a:pt x="53" y="14"/>
                    </a:lnTo>
                    <a:lnTo>
                      <a:pt x="113" y="25"/>
                    </a:lnTo>
                    <a:lnTo>
                      <a:pt x="137" y="22"/>
                    </a:lnTo>
                    <a:lnTo>
                      <a:pt x="152" y="0"/>
                    </a:lnTo>
                    <a:lnTo>
                      <a:pt x="137" y="5"/>
                    </a:lnTo>
                    <a:lnTo>
                      <a:pt x="49"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
              <p:cNvSpPr/>
              <p:nvPr/>
            </p:nvSpPr>
            <p:spPr>
              <a:xfrm>
                <a:off x="7712640" y="3970440"/>
                <a:ext cx="249840" cy="290520"/>
              </a:xfrm>
              <a:custGeom>
                <a:avLst/>
                <a:gdLst/>
                <a:ahLst/>
                <a:rect l="l" t="t" r="r" b="b"/>
                <a:pathLst>
                  <a:path w="152" h="183">
                    <a:moveTo>
                      <a:pt x="49" y="0"/>
                    </a:moveTo>
                    <a:lnTo>
                      <a:pt x="0" y="102"/>
                    </a:lnTo>
                    <a:lnTo>
                      <a:pt x="25" y="123"/>
                    </a:lnTo>
                    <a:lnTo>
                      <a:pt x="20" y="183"/>
                    </a:lnTo>
                    <a:lnTo>
                      <a:pt x="27" y="183"/>
                    </a:lnTo>
                    <a:lnTo>
                      <a:pt x="44" y="117"/>
                    </a:lnTo>
                    <a:lnTo>
                      <a:pt x="73" y="146"/>
                    </a:lnTo>
                    <a:lnTo>
                      <a:pt x="79" y="139"/>
                    </a:lnTo>
                    <a:lnTo>
                      <a:pt x="64" y="88"/>
                    </a:lnTo>
                    <a:lnTo>
                      <a:pt x="95" y="53"/>
                    </a:lnTo>
                    <a:lnTo>
                      <a:pt x="64" y="62"/>
                    </a:lnTo>
                    <a:lnTo>
                      <a:pt x="40" y="34"/>
                    </a:lnTo>
                    <a:lnTo>
                      <a:pt x="53" y="14"/>
                    </a:lnTo>
                    <a:lnTo>
                      <a:pt x="113" y="25"/>
                    </a:lnTo>
                    <a:lnTo>
                      <a:pt x="137" y="22"/>
                    </a:lnTo>
                    <a:lnTo>
                      <a:pt x="152" y="0"/>
                    </a:lnTo>
                    <a:lnTo>
                      <a:pt x="137" y="5"/>
                    </a:lnTo>
                    <a:lnTo>
                      <a:pt x="49"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7333200" y="4235400"/>
                <a:ext cx="289080" cy="92160"/>
              </a:xfrm>
              <a:custGeom>
                <a:avLst/>
                <a:gdLst/>
                <a:ahLst/>
                <a:rect l="l" t="t" r="r" b="b"/>
                <a:pathLst>
                  <a:path w="176" h="58">
                    <a:moveTo>
                      <a:pt x="1" y="0"/>
                    </a:moveTo>
                    <a:lnTo>
                      <a:pt x="0" y="12"/>
                    </a:lnTo>
                    <a:lnTo>
                      <a:pt x="7" y="29"/>
                    </a:lnTo>
                    <a:lnTo>
                      <a:pt x="176" y="58"/>
                    </a:lnTo>
                    <a:lnTo>
                      <a:pt x="124" y="9"/>
                    </a:lnTo>
                    <a:lnTo>
                      <a:pt x="119" y="5"/>
                    </a:lnTo>
                    <a:lnTo>
                      <a:pt x="113" y="18"/>
                    </a:lnTo>
                    <a:lnTo>
                      <a:pt x="1" y="0"/>
                    </a:lnTo>
                  </a:path>
                </a:pathLst>
              </a:custGeom>
              <a:solidFill>
                <a:srgbClr val="000080">
                  <a:alpha val="50000"/>
                </a:srgbClr>
              </a:solidFill>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1" name=""/>
              <p:cNvSpPr/>
              <p:nvPr/>
            </p:nvSpPr>
            <p:spPr>
              <a:xfrm>
                <a:off x="7333200" y="4235400"/>
                <a:ext cx="289080" cy="92160"/>
              </a:xfrm>
              <a:custGeom>
                <a:avLst/>
                <a:gdLst/>
                <a:ahLst/>
                <a:rect l="l" t="t" r="r" b="b"/>
                <a:pathLst>
                  <a:path w="176" h="58">
                    <a:moveTo>
                      <a:pt x="1" y="0"/>
                    </a:moveTo>
                    <a:lnTo>
                      <a:pt x="0" y="12"/>
                    </a:lnTo>
                    <a:lnTo>
                      <a:pt x="7" y="29"/>
                    </a:lnTo>
                    <a:lnTo>
                      <a:pt x="176" y="58"/>
                    </a:lnTo>
                    <a:lnTo>
                      <a:pt x="124" y="9"/>
                    </a:lnTo>
                    <a:lnTo>
                      <a:pt x="119" y="5"/>
                    </a:lnTo>
                    <a:lnTo>
                      <a:pt x="113" y="18"/>
                    </a:lnTo>
                    <a:lnTo>
                      <a:pt x="1" y="0"/>
                    </a:lnTo>
                  </a:path>
                </a:pathLst>
              </a:custGeom>
              <a:solidFill>
                <a:srgbClr val="000080">
                  <a:alpha val="50000"/>
                </a:srgbClr>
              </a:solidFill>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52" name=""/>
              <p:cNvSpPr/>
              <p:nvPr/>
            </p:nvSpPr>
            <p:spPr>
              <a:xfrm>
                <a:off x="7648560" y="4306680"/>
                <a:ext cx="82080" cy="33480"/>
              </a:xfrm>
              <a:custGeom>
                <a:avLst/>
                <a:gdLst/>
                <a:ahLst/>
                <a:rect l="l" t="t" r="r" b="b"/>
                <a:pathLst>
                  <a:path w="50" h="21">
                    <a:moveTo>
                      <a:pt x="0" y="13"/>
                    </a:moveTo>
                    <a:lnTo>
                      <a:pt x="50" y="0"/>
                    </a:lnTo>
                    <a:lnTo>
                      <a:pt x="46" y="21"/>
                    </a:lnTo>
                    <a:lnTo>
                      <a:pt x="0" y="15"/>
                    </a:lnTo>
                  </a:path>
                </a:pathLst>
              </a:custGeom>
              <a:solidFill>
                <a:srgbClr val="000080">
                  <a:alpha val="50000"/>
                </a:srgbClr>
              </a:solidFill>
              <a:ln w="0">
                <a:solidFill>
                  <a:srgbClr val="0000ff"/>
                </a:solid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53" name=""/>
              <p:cNvSpPr/>
              <p:nvPr/>
            </p:nvSpPr>
            <p:spPr>
              <a:xfrm>
                <a:off x="7648560" y="4306680"/>
                <a:ext cx="82080" cy="33480"/>
              </a:xfrm>
              <a:custGeom>
                <a:avLst/>
                <a:gdLst/>
                <a:ahLst/>
                <a:rect l="l" t="t" r="r" b="b"/>
                <a:pathLst>
                  <a:path w="50" h="21">
                    <a:moveTo>
                      <a:pt x="0" y="13"/>
                    </a:moveTo>
                    <a:lnTo>
                      <a:pt x="50" y="0"/>
                    </a:lnTo>
                    <a:lnTo>
                      <a:pt x="46" y="21"/>
                    </a:lnTo>
                    <a:lnTo>
                      <a:pt x="0" y="15"/>
                    </a:lnTo>
                  </a:path>
                </a:pathLst>
              </a:custGeom>
              <a:solidFill>
                <a:srgbClr val="000080">
                  <a:alpha val="50000"/>
                </a:srgbClr>
              </a:solidFill>
              <a:ln w="0">
                <a:solidFill>
                  <a:srgbClr val="0000ff"/>
                </a:solid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654" name=""/>
              <p:cNvSpPr/>
              <p:nvPr/>
            </p:nvSpPr>
            <p:spPr>
              <a:xfrm>
                <a:off x="7754040" y="4362480"/>
                <a:ext cx="52200" cy="38160"/>
              </a:xfrm>
              <a:custGeom>
                <a:avLst/>
                <a:gdLst/>
                <a:ahLst/>
                <a:rect l="l" t="t" r="r" b="b"/>
                <a:pathLst>
                  <a:path w="32" h="24">
                    <a:moveTo>
                      <a:pt x="0" y="0"/>
                    </a:moveTo>
                    <a:lnTo>
                      <a:pt x="32" y="24"/>
                    </a:lnTo>
                    <a:lnTo>
                      <a:pt x="32" y="13"/>
                    </a:lnTo>
                    <a:lnTo>
                      <a:pt x="24" y="2"/>
                    </a:lnTo>
                    <a:lnTo>
                      <a:pt x="2" y="2"/>
                    </a:lnTo>
                  </a:path>
                </a:pathLst>
              </a:custGeom>
              <a:solidFill>
                <a:srgbClr val="000080">
                  <a:alpha val="50000"/>
                </a:srgbClr>
              </a:solidFill>
              <a:ln w="0">
                <a:solidFill>
                  <a:srgbClr val="0000ff"/>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5" name=""/>
              <p:cNvSpPr/>
              <p:nvPr/>
            </p:nvSpPr>
            <p:spPr>
              <a:xfrm>
                <a:off x="7754040" y="4362480"/>
                <a:ext cx="52200" cy="38160"/>
              </a:xfrm>
              <a:custGeom>
                <a:avLst/>
                <a:gdLst/>
                <a:ahLst/>
                <a:rect l="l" t="t" r="r" b="b"/>
                <a:pathLst>
                  <a:path w="32" h="24">
                    <a:moveTo>
                      <a:pt x="0" y="0"/>
                    </a:moveTo>
                    <a:lnTo>
                      <a:pt x="32" y="24"/>
                    </a:lnTo>
                    <a:lnTo>
                      <a:pt x="32" y="13"/>
                    </a:lnTo>
                    <a:lnTo>
                      <a:pt x="24" y="2"/>
                    </a:lnTo>
                    <a:lnTo>
                      <a:pt x="2" y="2"/>
                    </a:lnTo>
                  </a:path>
                </a:pathLst>
              </a:custGeom>
              <a:solidFill>
                <a:srgbClr val="000080">
                  <a:alpha val="50000"/>
                </a:srgbClr>
              </a:solidFill>
              <a:ln w="0">
                <a:solidFill>
                  <a:srgbClr val="0000ff"/>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56" name=""/>
              <p:cNvSpPr/>
              <p:nvPr/>
            </p:nvSpPr>
            <p:spPr>
              <a:xfrm>
                <a:off x="7778520" y="4305240"/>
                <a:ext cx="78480" cy="25560"/>
              </a:xfrm>
              <a:custGeom>
                <a:avLst/>
                <a:gdLst/>
                <a:ahLst/>
                <a:rect l="l" t="t" r="r" b="b"/>
                <a:pathLst>
                  <a:path w="48" h="16">
                    <a:moveTo>
                      <a:pt x="0" y="0"/>
                    </a:moveTo>
                    <a:lnTo>
                      <a:pt x="26" y="9"/>
                    </a:lnTo>
                    <a:lnTo>
                      <a:pt x="48" y="1"/>
                    </a:lnTo>
                    <a:lnTo>
                      <a:pt x="33" y="16"/>
                    </a:lnTo>
                    <a:lnTo>
                      <a:pt x="2" y="16"/>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7" name=""/>
              <p:cNvSpPr/>
              <p:nvPr/>
            </p:nvSpPr>
            <p:spPr>
              <a:xfrm>
                <a:off x="7778520" y="4305240"/>
                <a:ext cx="78480" cy="25560"/>
              </a:xfrm>
              <a:custGeom>
                <a:avLst/>
                <a:gdLst/>
                <a:ahLst/>
                <a:rect l="l" t="t" r="r" b="b"/>
                <a:pathLst>
                  <a:path w="48" h="16">
                    <a:moveTo>
                      <a:pt x="0" y="0"/>
                    </a:moveTo>
                    <a:lnTo>
                      <a:pt x="26" y="9"/>
                    </a:lnTo>
                    <a:lnTo>
                      <a:pt x="48" y="1"/>
                    </a:lnTo>
                    <a:lnTo>
                      <a:pt x="33" y="16"/>
                    </a:lnTo>
                    <a:lnTo>
                      <a:pt x="2" y="16"/>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658" name=""/>
              <p:cNvSpPr/>
              <p:nvPr/>
            </p:nvSpPr>
            <p:spPr>
              <a:xfrm>
                <a:off x="7860240" y="4305240"/>
                <a:ext cx="116280" cy="77760"/>
              </a:xfrm>
              <a:custGeom>
                <a:avLst/>
                <a:gdLst/>
                <a:ahLst/>
                <a:rect l="l" t="t" r="r" b="b"/>
                <a:pathLst>
                  <a:path w="71" h="49">
                    <a:moveTo>
                      <a:pt x="0" y="45"/>
                    </a:moveTo>
                    <a:lnTo>
                      <a:pt x="5" y="25"/>
                    </a:lnTo>
                    <a:lnTo>
                      <a:pt x="23" y="9"/>
                    </a:lnTo>
                    <a:lnTo>
                      <a:pt x="47" y="0"/>
                    </a:lnTo>
                    <a:lnTo>
                      <a:pt x="71" y="7"/>
                    </a:lnTo>
                    <a:lnTo>
                      <a:pt x="0" y="49"/>
                    </a:lnTo>
                  </a:path>
                </a:pathLst>
              </a:custGeom>
              <a:solidFill>
                <a:srgbClr val="000080">
                  <a:alpha val="50000"/>
                </a:srgbClr>
              </a:solidFill>
              <a:ln w="0">
                <a:solidFill>
                  <a:srgbClr val="0000ff"/>
                </a:solid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59" name=""/>
              <p:cNvSpPr/>
              <p:nvPr/>
            </p:nvSpPr>
            <p:spPr>
              <a:xfrm>
                <a:off x="7860240" y="4305240"/>
                <a:ext cx="116280" cy="77760"/>
              </a:xfrm>
              <a:custGeom>
                <a:avLst/>
                <a:gdLst/>
                <a:ahLst/>
                <a:rect l="l" t="t" r="r" b="b"/>
                <a:pathLst>
                  <a:path w="71" h="49">
                    <a:moveTo>
                      <a:pt x="0" y="45"/>
                    </a:moveTo>
                    <a:lnTo>
                      <a:pt x="5" y="25"/>
                    </a:lnTo>
                    <a:lnTo>
                      <a:pt x="23" y="9"/>
                    </a:lnTo>
                    <a:lnTo>
                      <a:pt x="47" y="0"/>
                    </a:lnTo>
                    <a:lnTo>
                      <a:pt x="71" y="7"/>
                    </a:lnTo>
                    <a:lnTo>
                      <a:pt x="0" y="49"/>
                    </a:lnTo>
                  </a:path>
                </a:pathLst>
              </a:custGeom>
              <a:solidFill>
                <a:srgbClr val="000080">
                  <a:alpha val="50000"/>
                </a:srgbClr>
              </a:solidFill>
              <a:ln w="0">
                <a:solidFill>
                  <a:srgbClr val="0000ff"/>
                </a:solid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0" name=""/>
              <p:cNvSpPr/>
              <p:nvPr/>
            </p:nvSpPr>
            <p:spPr>
              <a:xfrm>
                <a:off x="5810400" y="1350720"/>
                <a:ext cx="195480" cy="114480"/>
              </a:xfrm>
              <a:custGeom>
                <a:avLst/>
                <a:gdLst/>
                <a:ahLst/>
                <a:rect l="l" t="t" r="r" b="b"/>
                <a:pathLst>
                  <a:path w="119" h="72">
                    <a:moveTo>
                      <a:pt x="2" y="19"/>
                    </a:moveTo>
                    <a:lnTo>
                      <a:pt x="0" y="65"/>
                    </a:lnTo>
                    <a:lnTo>
                      <a:pt x="22" y="72"/>
                    </a:lnTo>
                    <a:lnTo>
                      <a:pt x="22" y="59"/>
                    </a:lnTo>
                    <a:lnTo>
                      <a:pt x="119" y="63"/>
                    </a:lnTo>
                    <a:lnTo>
                      <a:pt x="81" y="11"/>
                    </a:lnTo>
                    <a:lnTo>
                      <a:pt x="61" y="0"/>
                    </a:lnTo>
                    <a:lnTo>
                      <a:pt x="61" y="13"/>
                    </a:lnTo>
                    <a:lnTo>
                      <a:pt x="2" y="1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a:off x="5810400" y="1350720"/>
                <a:ext cx="195480" cy="114480"/>
              </a:xfrm>
              <a:custGeom>
                <a:avLst/>
                <a:gdLst/>
                <a:ahLst/>
                <a:rect l="l" t="t" r="r" b="b"/>
                <a:pathLst>
                  <a:path w="119" h="72">
                    <a:moveTo>
                      <a:pt x="2" y="19"/>
                    </a:moveTo>
                    <a:lnTo>
                      <a:pt x="0" y="65"/>
                    </a:lnTo>
                    <a:lnTo>
                      <a:pt x="22" y="72"/>
                    </a:lnTo>
                    <a:lnTo>
                      <a:pt x="22" y="59"/>
                    </a:lnTo>
                    <a:lnTo>
                      <a:pt x="119" y="63"/>
                    </a:lnTo>
                    <a:lnTo>
                      <a:pt x="81" y="11"/>
                    </a:lnTo>
                    <a:lnTo>
                      <a:pt x="61" y="0"/>
                    </a:lnTo>
                    <a:lnTo>
                      <a:pt x="61" y="13"/>
                    </a:lnTo>
                    <a:lnTo>
                      <a:pt x="2" y="1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a:off x="6015600" y="1430280"/>
                <a:ext cx="108360" cy="66600"/>
              </a:xfrm>
              <a:custGeom>
                <a:avLst/>
                <a:gdLst/>
                <a:ahLst/>
                <a:rect l="l" t="t" r="r" b="b"/>
                <a:pathLst>
                  <a:path w="66" h="42">
                    <a:moveTo>
                      <a:pt x="24" y="42"/>
                    </a:moveTo>
                    <a:lnTo>
                      <a:pt x="24" y="33"/>
                    </a:lnTo>
                    <a:lnTo>
                      <a:pt x="0" y="15"/>
                    </a:lnTo>
                    <a:lnTo>
                      <a:pt x="48" y="0"/>
                    </a:lnTo>
                    <a:lnTo>
                      <a:pt x="66" y="22"/>
                    </a:lnTo>
                    <a:lnTo>
                      <a:pt x="24" y="42"/>
                    </a:lnTo>
                  </a:path>
                </a:pathLst>
              </a:custGeom>
              <a:solidFill>
                <a:srgbClr val="000080">
                  <a:alpha val="50000"/>
                </a:srgbClr>
              </a:solidFill>
              <a:ln w="0">
                <a:solidFill>
                  <a:srgbClr val="0000f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3" name=""/>
              <p:cNvSpPr/>
              <p:nvPr/>
            </p:nvSpPr>
            <p:spPr>
              <a:xfrm>
                <a:off x="6015600" y="1430280"/>
                <a:ext cx="108360" cy="66600"/>
              </a:xfrm>
              <a:custGeom>
                <a:avLst/>
                <a:gdLst/>
                <a:ahLst/>
                <a:rect l="l" t="t" r="r" b="b"/>
                <a:pathLst>
                  <a:path w="66" h="42">
                    <a:moveTo>
                      <a:pt x="24" y="42"/>
                    </a:moveTo>
                    <a:lnTo>
                      <a:pt x="24" y="33"/>
                    </a:lnTo>
                    <a:lnTo>
                      <a:pt x="0" y="15"/>
                    </a:lnTo>
                    <a:lnTo>
                      <a:pt x="48" y="0"/>
                    </a:lnTo>
                    <a:lnTo>
                      <a:pt x="66" y="22"/>
                    </a:lnTo>
                    <a:lnTo>
                      <a:pt x="24" y="42"/>
                    </a:lnTo>
                  </a:path>
                </a:pathLst>
              </a:custGeom>
              <a:solidFill>
                <a:srgbClr val="000080">
                  <a:alpha val="50000"/>
                </a:srgbClr>
              </a:solidFill>
              <a:ln w="0">
                <a:solidFill>
                  <a:srgbClr val="0000f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664" name=""/>
              <p:cNvSpPr/>
              <p:nvPr/>
            </p:nvSpPr>
            <p:spPr>
              <a:xfrm>
                <a:off x="6896160" y="1517760"/>
                <a:ext cx="155880" cy="77760"/>
              </a:xfrm>
              <a:custGeom>
                <a:avLst/>
                <a:gdLst/>
                <a:ahLst/>
                <a:rect l="l" t="t" r="r" b="b"/>
                <a:pathLst>
                  <a:path w="95" h="49">
                    <a:moveTo>
                      <a:pt x="95" y="15"/>
                    </a:moveTo>
                    <a:lnTo>
                      <a:pt x="23" y="49"/>
                    </a:lnTo>
                    <a:lnTo>
                      <a:pt x="0" y="0"/>
                    </a:lnTo>
                    <a:lnTo>
                      <a:pt x="95" y="15"/>
                    </a:lnTo>
                  </a:path>
                </a:pathLst>
              </a:custGeom>
              <a:solidFill>
                <a:srgbClr val="000080">
                  <a:alpha val="50000"/>
                </a:srgbClr>
              </a:solidFill>
              <a:ln w="0">
                <a:solidFill>
                  <a:srgbClr val="0000ff"/>
                </a:solid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5" name=""/>
              <p:cNvSpPr/>
              <p:nvPr/>
            </p:nvSpPr>
            <p:spPr>
              <a:xfrm>
                <a:off x="6896160" y="1517760"/>
                <a:ext cx="155880" cy="77760"/>
              </a:xfrm>
              <a:custGeom>
                <a:avLst/>
                <a:gdLst/>
                <a:ahLst/>
                <a:rect l="l" t="t" r="r" b="b"/>
                <a:pathLst>
                  <a:path w="95" h="49">
                    <a:moveTo>
                      <a:pt x="95" y="15"/>
                    </a:moveTo>
                    <a:lnTo>
                      <a:pt x="23" y="49"/>
                    </a:lnTo>
                    <a:lnTo>
                      <a:pt x="0" y="0"/>
                    </a:lnTo>
                    <a:lnTo>
                      <a:pt x="95" y="15"/>
                    </a:lnTo>
                  </a:path>
                </a:pathLst>
              </a:custGeom>
              <a:solidFill>
                <a:srgbClr val="000080">
                  <a:alpha val="50000"/>
                </a:srgbClr>
              </a:solidFill>
              <a:ln w="0">
                <a:solidFill>
                  <a:srgbClr val="0000ff"/>
                </a:solid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666" name=""/>
              <p:cNvSpPr/>
              <p:nvPr/>
            </p:nvSpPr>
            <p:spPr>
              <a:xfrm>
                <a:off x="1898640" y="3929040"/>
                <a:ext cx="62280" cy="69840"/>
              </a:xfrm>
              <a:custGeom>
                <a:avLst/>
                <a:gdLst/>
                <a:ahLst/>
                <a:rect l="l" t="t" r="r" b="b"/>
                <a:pathLst>
                  <a:path w="38" h="44">
                    <a:moveTo>
                      <a:pt x="38" y="4"/>
                    </a:moveTo>
                    <a:lnTo>
                      <a:pt x="18" y="0"/>
                    </a:lnTo>
                    <a:lnTo>
                      <a:pt x="5" y="13"/>
                    </a:lnTo>
                    <a:lnTo>
                      <a:pt x="0" y="26"/>
                    </a:lnTo>
                    <a:lnTo>
                      <a:pt x="7" y="44"/>
                    </a:lnTo>
                  </a:path>
                </a:pathLst>
              </a:custGeom>
              <a:solidFill>
                <a:srgbClr val="000080">
                  <a:alpha val="50000"/>
                </a:srgbClr>
              </a:solidFill>
              <a:ln w="0">
                <a:solidFill>
                  <a:srgbClr val="0000ff"/>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67" name=""/>
              <p:cNvSpPr/>
              <p:nvPr/>
            </p:nvSpPr>
            <p:spPr>
              <a:xfrm>
                <a:off x="1898640" y="3929040"/>
                <a:ext cx="62280" cy="69840"/>
              </a:xfrm>
              <a:custGeom>
                <a:avLst/>
                <a:gdLst/>
                <a:ahLst/>
                <a:rect l="l" t="t" r="r" b="b"/>
                <a:pathLst>
                  <a:path w="38" h="44">
                    <a:moveTo>
                      <a:pt x="38" y="4"/>
                    </a:moveTo>
                    <a:lnTo>
                      <a:pt x="18" y="0"/>
                    </a:lnTo>
                    <a:lnTo>
                      <a:pt x="5" y="13"/>
                    </a:lnTo>
                    <a:lnTo>
                      <a:pt x="0" y="26"/>
                    </a:lnTo>
                    <a:lnTo>
                      <a:pt x="7" y="44"/>
                    </a:lnTo>
                  </a:path>
                </a:pathLst>
              </a:custGeom>
              <a:solidFill>
                <a:srgbClr val="000080">
                  <a:alpha val="50000"/>
                </a:srgbClr>
              </a:solidFill>
              <a:ln w="0">
                <a:solidFill>
                  <a:srgbClr val="0000ff"/>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668" name=""/>
              <p:cNvSpPr/>
              <p:nvPr/>
            </p:nvSpPr>
            <p:spPr>
              <a:xfrm flipH="1" flipV="1">
                <a:off x="1627920" y="3911040"/>
                <a:ext cx="282240" cy="87480"/>
              </a:xfrm>
              <a:prstGeom prst="line">
                <a:avLst/>
              </a:prstGeom>
              <a:ln w="0">
                <a:solidFill>
                  <a:srgbClr val="0000ff"/>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69" name=""/>
              <p:cNvSpPr/>
              <p:nvPr/>
            </p:nvSpPr>
            <p:spPr>
              <a:xfrm flipH="1" flipV="1">
                <a:off x="1627920" y="3911040"/>
                <a:ext cx="282240" cy="87480"/>
              </a:xfrm>
              <a:prstGeom prst="line">
                <a:avLst/>
              </a:prstGeom>
              <a:ln w="0">
                <a:solidFill>
                  <a:srgbClr val="0000ff"/>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670" name=""/>
              <p:cNvSpPr/>
              <p:nvPr/>
            </p:nvSpPr>
            <p:spPr>
              <a:xfrm>
                <a:off x="2268360" y="3792600"/>
                <a:ext cx="36360" cy="98280"/>
              </a:xfrm>
              <a:custGeom>
                <a:avLst/>
                <a:gdLst/>
                <a:ahLst/>
                <a:rect l="l" t="t" r="r" b="b"/>
                <a:pathLst>
                  <a:path w="22" h="62">
                    <a:moveTo>
                      <a:pt x="22" y="0"/>
                    </a:moveTo>
                    <a:lnTo>
                      <a:pt x="0" y="40"/>
                    </a:lnTo>
                    <a:lnTo>
                      <a:pt x="10" y="6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2268360" y="3792600"/>
                <a:ext cx="36360" cy="98280"/>
              </a:xfrm>
              <a:custGeom>
                <a:avLst/>
                <a:gdLst/>
                <a:ahLst/>
                <a:rect l="l" t="t" r="r" b="b"/>
                <a:pathLst>
                  <a:path w="22" h="62">
                    <a:moveTo>
                      <a:pt x="22" y="0"/>
                    </a:moveTo>
                    <a:lnTo>
                      <a:pt x="0" y="40"/>
                    </a:lnTo>
                    <a:lnTo>
                      <a:pt x="10" y="6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2" name=""/>
              <p:cNvSpPr/>
              <p:nvPr/>
            </p:nvSpPr>
            <p:spPr>
              <a:xfrm>
                <a:off x="1961280" y="3792600"/>
                <a:ext cx="323640" cy="185760"/>
              </a:xfrm>
              <a:custGeom>
                <a:avLst/>
                <a:gdLst/>
                <a:ahLst/>
                <a:rect l="l" t="t" r="r" b="b"/>
                <a:pathLst>
                  <a:path w="197" h="117">
                    <a:moveTo>
                      <a:pt x="197" y="62"/>
                    </a:moveTo>
                    <a:lnTo>
                      <a:pt x="147" y="86"/>
                    </a:lnTo>
                    <a:lnTo>
                      <a:pt x="145" y="0"/>
                    </a:lnTo>
                    <a:lnTo>
                      <a:pt x="44" y="42"/>
                    </a:lnTo>
                    <a:lnTo>
                      <a:pt x="72" y="88"/>
                    </a:lnTo>
                    <a:lnTo>
                      <a:pt x="32" y="117"/>
                    </a:lnTo>
                    <a:lnTo>
                      <a:pt x="0" y="9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3" name=""/>
              <p:cNvSpPr/>
              <p:nvPr/>
            </p:nvSpPr>
            <p:spPr>
              <a:xfrm>
                <a:off x="1961280" y="3792600"/>
                <a:ext cx="323640" cy="185760"/>
              </a:xfrm>
              <a:custGeom>
                <a:avLst/>
                <a:gdLst/>
                <a:ahLst/>
                <a:rect l="l" t="t" r="r" b="b"/>
                <a:pathLst>
                  <a:path w="197" h="117">
                    <a:moveTo>
                      <a:pt x="197" y="62"/>
                    </a:moveTo>
                    <a:lnTo>
                      <a:pt x="147" y="86"/>
                    </a:lnTo>
                    <a:lnTo>
                      <a:pt x="145" y="0"/>
                    </a:lnTo>
                    <a:lnTo>
                      <a:pt x="44" y="42"/>
                    </a:lnTo>
                    <a:lnTo>
                      <a:pt x="72" y="88"/>
                    </a:lnTo>
                    <a:lnTo>
                      <a:pt x="32" y="117"/>
                    </a:lnTo>
                    <a:lnTo>
                      <a:pt x="0" y="9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 name=""/>
              <p:cNvSpPr/>
              <p:nvPr/>
            </p:nvSpPr>
            <p:spPr>
              <a:xfrm>
                <a:off x="1537200" y="4076640"/>
                <a:ext cx="257760" cy="114120"/>
              </a:xfrm>
              <a:custGeom>
                <a:avLst/>
                <a:gdLst/>
                <a:ahLst/>
                <a:rect l="l" t="t" r="r" b="b"/>
                <a:pathLst>
                  <a:path w="157" h="72">
                    <a:moveTo>
                      <a:pt x="0" y="0"/>
                    </a:moveTo>
                    <a:lnTo>
                      <a:pt x="64" y="72"/>
                    </a:lnTo>
                    <a:lnTo>
                      <a:pt x="157" y="6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a:off x="1537200" y="4076640"/>
                <a:ext cx="257760" cy="114120"/>
              </a:xfrm>
              <a:custGeom>
                <a:avLst/>
                <a:gdLst/>
                <a:ahLst/>
                <a:rect l="l" t="t" r="r" b="b"/>
                <a:pathLst>
                  <a:path w="157" h="72">
                    <a:moveTo>
                      <a:pt x="0" y="0"/>
                    </a:moveTo>
                    <a:lnTo>
                      <a:pt x="64" y="72"/>
                    </a:lnTo>
                    <a:lnTo>
                      <a:pt x="157" y="6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6" name=""/>
              <p:cNvSpPr/>
              <p:nvPr/>
            </p:nvSpPr>
            <p:spPr>
              <a:xfrm>
                <a:off x="1794960" y="3998880"/>
                <a:ext cx="114840" cy="174600"/>
              </a:xfrm>
              <a:custGeom>
                <a:avLst/>
                <a:gdLst/>
                <a:ahLst/>
                <a:rect l="l" t="t" r="r" b="b"/>
                <a:pathLst>
                  <a:path w="70" h="110">
                    <a:moveTo>
                      <a:pt x="0" y="110"/>
                    </a:moveTo>
                    <a:lnTo>
                      <a:pt x="55" y="106"/>
                    </a:lnTo>
                    <a:lnTo>
                      <a:pt x="68" y="99"/>
                    </a:lnTo>
                    <a:lnTo>
                      <a:pt x="7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7" name=""/>
              <p:cNvSpPr/>
              <p:nvPr/>
            </p:nvSpPr>
            <p:spPr>
              <a:xfrm>
                <a:off x="1794960" y="3998880"/>
                <a:ext cx="114840" cy="174600"/>
              </a:xfrm>
              <a:custGeom>
                <a:avLst/>
                <a:gdLst/>
                <a:ahLst/>
                <a:rect l="l" t="t" r="r" b="b"/>
                <a:pathLst>
                  <a:path w="70" h="110">
                    <a:moveTo>
                      <a:pt x="0" y="110"/>
                    </a:moveTo>
                    <a:lnTo>
                      <a:pt x="55" y="106"/>
                    </a:lnTo>
                    <a:lnTo>
                      <a:pt x="68" y="99"/>
                    </a:lnTo>
                    <a:lnTo>
                      <a:pt x="7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8" name=""/>
              <p:cNvSpPr/>
              <p:nvPr/>
            </p:nvSpPr>
            <p:spPr>
              <a:xfrm>
                <a:off x="1794960" y="4173480"/>
                <a:ext cx="114840" cy="201600"/>
              </a:xfrm>
              <a:custGeom>
                <a:avLst/>
                <a:gdLst/>
                <a:ahLst/>
                <a:rect l="l" t="t" r="r" b="b"/>
                <a:pathLst>
                  <a:path w="70" h="127">
                    <a:moveTo>
                      <a:pt x="0" y="0"/>
                    </a:moveTo>
                    <a:lnTo>
                      <a:pt x="0" y="35"/>
                    </a:lnTo>
                    <a:lnTo>
                      <a:pt x="0" y="70"/>
                    </a:lnTo>
                    <a:lnTo>
                      <a:pt x="70" y="12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1794960" y="4173480"/>
                <a:ext cx="114840" cy="201600"/>
              </a:xfrm>
              <a:custGeom>
                <a:avLst/>
                <a:gdLst/>
                <a:ahLst/>
                <a:rect l="l" t="t" r="r" b="b"/>
                <a:pathLst>
                  <a:path w="70" h="127">
                    <a:moveTo>
                      <a:pt x="0" y="0"/>
                    </a:moveTo>
                    <a:lnTo>
                      <a:pt x="0" y="35"/>
                    </a:lnTo>
                    <a:lnTo>
                      <a:pt x="0" y="70"/>
                    </a:lnTo>
                    <a:lnTo>
                      <a:pt x="70" y="12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0" name=""/>
              <p:cNvSpPr/>
              <p:nvPr/>
            </p:nvSpPr>
            <p:spPr>
              <a:xfrm>
                <a:off x="1884240" y="4375080"/>
                <a:ext cx="32760" cy="231840"/>
              </a:xfrm>
              <a:custGeom>
                <a:avLst/>
                <a:gdLst/>
                <a:ahLst/>
                <a:rect l="l" t="t" r="r" b="b"/>
                <a:pathLst>
                  <a:path w="20" h="146">
                    <a:moveTo>
                      <a:pt x="16" y="0"/>
                    </a:moveTo>
                    <a:lnTo>
                      <a:pt x="20" y="130"/>
                    </a:lnTo>
                    <a:lnTo>
                      <a:pt x="0" y="14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1" name=""/>
              <p:cNvSpPr/>
              <p:nvPr/>
            </p:nvSpPr>
            <p:spPr>
              <a:xfrm>
                <a:off x="1884240" y="4375080"/>
                <a:ext cx="32760" cy="231840"/>
              </a:xfrm>
              <a:custGeom>
                <a:avLst/>
                <a:gdLst/>
                <a:ahLst/>
                <a:rect l="l" t="t" r="r" b="b"/>
                <a:pathLst>
                  <a:path w="20" h="146">
                    <a:moveTo>
                      <a:pt x="16" y="0"/>
                    </a:moveTo>
                    <a:lnTo>
                      <a:pt x="20" y="130"/>
                    </a:lnTo>
                    <a:lnTo>
                      <a:pt x="0" y="14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2" name=""/>
              <p:cNvSpPr/>
              <p:nvPr/>
            </p:nvSpPr>
            <p:spPr>
              <a:xfrm>
                <a:off x="1910160" y="4306680"/>
                <a:ext cx="364680" cy="352440"/>
              </a:xfrm>
              <a:custGeom>
                <a:avLst/>
                <a:gdLst/>
                <a:ahLst/>
                <a:rect l="l" t="t" r="r" b="b"/>
                <a:pathLst>
                  <a:path w="222" h="222">
                    <a:moveTo>
                      <a:pt x="0" y="43"/>
                    </a:moveTo>
                    <a:lnTo>
                      <a:pt x="57" y="8"/>
                    </a:lnTo>
                    <a:lnTo>
                      <a:pt x="72" y="0"/>
                    </a:lnTo>
                    <a:lnTo>
                      <a:pt x="75" y="61"/>
                    </a:lnTo>
                    <a:lnTo>
                      <a:pt x="218" y="156"/>
                    </a:lnTo>
                    <a:lnTo>
                      <a:pt x="222" y="22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3" name=""/>
              <p:cNvSpPr/>
              <p:nvPr/>
            </p:nvSpPr>
            <p:spPr>
              <a:xfrm>
                <a:off x="1910160" y="4306680"/>
                <a:ext cx="364680" cy="352440"/>
              </a:xfrm>
              <a:custGeom>
                <a:avLst/>
                <a:gdLst/>
                <a:ahLst/>
                <a:rect l="l" t="t" r="r" b="b"/>
                <a:pathLst>
                  <a:path w="222" h="222">
                    <a:moveTo>
                      <a:pt x="0" y="43"/>
                    </a:moveTo>
                    <a:lnTo>
                      <a:pt x="57" y="8"/>
                    </a:lnTo>
                    <a:lnTo>
                      <a:pt x="72" y="0"/>
                    </a:lnTo>
                    <a:lnTo>
                      <a:pt x="75" y="61"/>
                    </a:lnTo>
                    <a:lnTo>
                      <a:pt x="218" y="156"/>
                    </a:lnTo>
                    <a:lnTo>
                      <a:pt x="222" y="22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2176560" y="4659120"/>
                <a:ext cx="98280" cy="142920"/>
              </a:xfrm>
              <a:custGeom>
                <a:avLst/>
                <a:gdLst/>
                <a:ahLst/>
                <a:rect l="l" t="t" r="r" b="b"/>
                <a:pathLst>
                  <a:path w="60" h="90">
                    <a:moveTo>
                      <a:pt x="60" y="0"/>
                    </a:moveTo>
                    <a:lnTo>
                      <a:pt x="16" y="0"/>
                    </a:lnTo>
                    <a:lnTo>
                      <a:pt x="9" y="50"/>
                    </a:lnTo>
                    <a:lnTo>
                      <a:pt x="0" y="9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5" name=""/>
              <p:cNvSpPr/>
              <p:nvPr/>
            </p:nvSpPr>
            <p:spPr>
              <a:xfrm>
                <a:off x="2176560" y="4659120"/>
                <a:ext cx="98280" cy="142920"/>
              </a:xfrm>
              <a:custGeom>
                <a:avLst/>
                <a:gdLst/>
                <a:ahLst/>
                <a:rect l="l" t="t" r="r" b="b"/>
                <a:pathLst>
                  <a:path w="60" h="90">
                    <a:moveTo>
                      <a:pt x="60" y="0"/>
                    </a:moveTo>
                    <a:lnTo>
                      <a:pt x="16" y="0"/>
                    </a:lnTo>
                    <a:lnTo>
                      <a:pt x="9" y="50"/>
                    </a:lnTo>
                    <a:lnTo>
                      <a:pt x="0" y="9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6" name=""/>
              <p:cNvSpPr/>
              <p:nvPr/>
            </p:nvSpPr>
            <p:spPr>
              <a:xfrm>
                <a:off x="1917000" y="4581360"/>
                <a:ext cx="273960" cy="185760"/>
              </a:xfrm>
              <a:custGeom>
                <a:avLst/>
                <a:gdLst/>
                <a:ahLst/>
                <a:rect l="l" t="t" r="r" b="b"/>
                <a:pathLst>
                  <a:path w="167" h="117">
                    <a:moveTo>
                      <a:pt x="167" y="99"/>
                    </a:moveTo>
                    <a:lnTo>
                      <a:pt x="53" y="117"/>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1917000" y="4581360"/>
                <a:ext cx="273960" cy="185760"/>
              </a:xfrm>
              <a:custGeom>
                <a:avLst/>
                <a:gdLst/>
                <a:ahLst/>
                <a:rect l="l" t="t" r="r" b="b"/>
                <a:pathLst>
                  <a:path w="167" h="117">
                    <a:moveTo>
                      <a:pt x="167" y="99"/>
                    </a:moveTo>
                    <a:lnTo>
                      <a:pt x="53" y="117"/>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
              <p:cNvSpPr/>
              <p:nvPr/>
            </p:nvSpPr>
            <p:spPr>
              <a:xfrm>
                <a:off x="2284920" y="3806640"/>
                <a:ext cx="77040" cy="84240"/>
              </a:xfrm>
              <a:custGeom>
                <a:avLst/>
                <a:gdLst/>
                <a:ahLst/>
                <a:rect l="l" t="t" r="r" b="b"/>
                <a:pathLst>
                  <a:path w="47" h="53">
                    <a:moveTo>
                      <a:pt x="0" y="53"/>
                    </a:moveTo>
                    <a:lnTo>
                      <a:pt x="44" y="49"/>
                    </a:lnTo>
                    <a:lnTo>
                      <a:pt x="47" y="0"/>
                    </a:lnTo>
                  </a:path>
                </a:pathLst>
              </a:custGeom>
              <a:solidFill>
                <a:srgbClr val="000080">
                  <a:alpha val="50000"/>
                </a:srgbClr>
              </a:solidFill>
              <a:ln w="0">
                <a:solidFill>
                  <a:srgbClr val="0000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89" name=""/>
              <p:cNvSpPr/>
              <p:nvPr/>
            </p:nvSpPr>
            <p:spPr>
              <a:xfrm>
                <a:off x="2284920" y="3806640"/>
                <a:ext cx="77040" cy="84240"/>
              </a:xfrm>
              <a:custGeom>
                <a:avLst/>
                <a:gdLst/>
                <a:ahLst/>
                <a:rect l="l" t="t" r="r" b="b"/>
                <a:pathLst>
                  <a:path w="47" h="53">
                    <a:moveTo>
                      <a:pt x="0" y="53"/>
                    </a:moveTo>
                    <a:lnTo>
                      <a:pt x="44" y="49"/>
                    </a:lnTo>
                    <a:lnTo>
                      <a:pt x="47" y="0"/>
                    </a:lnTo>
                  </a:path>
                </a:pathLst>
              </a:custGeom>
              <a:solidFill>
                <a:srgbClr val="000080">
                  <a:alpha val="50000"/>
                </a:srgbClr>
              </a:solidFill>
              <a:ln w="0">
                <a:solidFill>
                  <a:srgbClr val="0000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90" name=""/>
              <p:cNvSpPr/>
              <p:nvPr/>
            </p:nvSpPr>
            <p:spPr>
              <a:xfrm>
                <a:off x="2357280" y="3884400"/>
                <a:ext cx="98280" cy="38160"/>
              </a:xfrm>
              <a:custGeom>
                <a:avLst/>
                <a:gdLst/>
                <a:ahLst/>
                <a:rect l="l" t="t" r="r" b="b"/>
                <a:pathLst>
                  <a:path w="60" h="24">
                    <a:moveTo>
                      <a:pt x="60" y="10"/>
                    </a:moveTo>
                    <a:lnTo>
                      <a:pt x="25" y="24"/>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91" name=""/>
              <p:cNvSpPr/>
              <p:nvPr/>
            </p:nvSpPr>
            <p:spPr>
              <a:xfrm>
                <a:off x="2357280" y="3884400"/>
                <a:ext cx="98280" cy="38160"/>
              </a:xfrm>
              <a:custGeom>
                <a:avLst/>
                <a:gdLst/>
                <a:ahLst/>
                <a:rect l="l" t="t" r="r" b="b"/>
                <a:pathLst>
                  <a:path w="60" h="24">
                    <a:moveTo>
                      <a:pt x="60" y="10"/>
                    </a:moveTo>
                    <a:lnTo>
                      <a:pt x="25" y="24"/>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692" name=""/>
              <p:cNvSpPr/>
              <p:nvPr/>
            </p:nvSpPr>
            <p:spPr>
              <a:xfrm>
                <a:off x="1976040" y="4767120"/>
                <a:ext cx="244440" cy="1011240"/>
              </a:xfrm>
              <a:custGeom>
                <a:avLst/>
                <a:gdLst/>
                <a:ahLst/>
                <a:rect l="l" t="t" r="r" b="b"/>
                <a:pathLst>
                  <a:path w="149" h="637">
                    <a:moveTo>
                      <a:pt x="17" y="0"/>
                    </a:moveTo>
                    <a:lnTo>
                      <a:pt x="0" y="154"/>
                    </a:lnTo>
                    <a:lnTo>
                      <a:pt x="28" y="248"/>
                    </a:lnTo>
                    <a:lnTo>
                      <a:pt x="12" y="312"/>
                    </a:lnTo>
                    <a:lnTo>
                      <a:pt x="50" y="576"/>
                    </a:lnTo>
                    <a:lnTo>
                      <a:pt x="78" y="585"/>
                    </a:lnTo>
                    <a:lnTo>
                      <a:pt x="100" y="637"/>
                    </a:lnTo>
                    <a:lnTo>
                      <a:pt x="149" y="63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a:off x="1976040" y="4767120"/>
                <a:ext cx="244440" cy="1011240"/>
              </a:xfrm>
              <a:custGeom>
                <a:avLst/>
                <a:gdLst/>
                <a:ahLst/>
                <a:rect l="l" t="t" r="r" b="b"/>
                <a:pathLst>
                  <a:path w="149" h="637">
                    <a:moveTo>
                      <a:pt x="17" y="0"/>
                    </a:moveTo>
                    <a:lnTo>
                      <a:pt x="0" y="154"/>
                    </a:lnTo>
                    <a:lnTo>
                      <a:pt x="28" y="248"/>
                    </a:lnTo>
                    <a:lnTo>
                      <a:pt x="12" y="312"/>
                    </a:lnTo>
                    <a:lnTo>
                      <a:pt x="50" y="576"/>
                    </a:lnTo>
                    <a:lnTo>
                      <a:pt x="78" y="585"/>
                    </a:lnTo>
                    <a:lnTo>
                      <a:pt x="100" y="637"/>
                    </a:lnTo>
                    <a:lnTo>
                      <a:pt x="149" y="63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2321280" y="4871880"/>
                <a:ext cx="173880" cy="303480"/>
              </a:xfrm>
              <a:custGeom>
                <a:avLst/>
                <a:gdLst/>
                <a:ahLst/>
                <a:rect l="l" t="t" r="r" b="b"/>
                <a:pathLst>
                  <a:path w="106" h="191">
                    <a:moveTo>
                      <a:pt x="29" y="191"/>
                    </a:moveTo>
                    <a:lnTo>
                      <a:pt x="0" y="182"/>
                    </a:lnTo>
                    <a:lnTo>
                      <a:pt x="9" y="110"/>
                    </a:lnTo>
                    <a:lnTo>
                      <a:pt x="22" y="98"/>
                    </a:lnTo>
                    <a:lnTo>
                      <a:pt x="64" y="33"/>
                    </a:lnTo>
                    <a:lnTo>
                      <a:pt x="102" y="30"/>
                    </a:lnTo>
                    <a:lnTo>
                      <a:pt x="106" y="0"/>
                    </a:lnTo>
                    <a:lnTo>
                      <a:pt x="4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a:off x="2321280" y="4871880"/>
                <a:ext cx="173880" cy="303480"/>
              </a:xfrm>
              <a:custGeom>
                <a:avLst/>
                <a:gdLst/>
                <a:ahLst/>
                <a:rect l="l" t="t" r="r" b="b"/>
                <a:pathLst>
                  <a:path w="106" h="191">
                    <a:moveTo>
                      <a:pt x="29" y="191"/>
                    </a:moveTo>
                    <a:lnTo>
                      <a:pt x="0" y="182"/>
                    </a:lnTo>
                    <a:lnTo>
                      <a:pt x="9" y="110"/>
                    </a:lnTo>
                    <a:lnTo>
                      <a:pt x="22" y="98"/>
                    </a:lnTo>
                    <a:lnTo>
                      <a:pt x="64" y="33"/>
                    </a:lnTo>
                    <a:lnTo>
                      <a:pt x="102" y="30"/>
                    </a:lnTo>
                    <a:lnTo>
                      <a:pt x="106" y="0"/>
                    </a:lnTo>
                    <a:lnTo>
                      <a:pt x="4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H="1" flipV="1">
                <a:off x="2357280" y="5027040"/>
                <a:ext cx="149040" cy="63720"/>
              </a:xfrm>
              <a:prstGeom prst="line">
                <a:avLst/>
              </a:prstGeom>
              <a:ln w="0">
                <a:solidFill>
                  <a:srgbClr val="0000ff"/>
                </a:solid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97" name=""/>
              <p:cNvSpPr/>
              <p:nvPr/>
            </p:nvSpPr>
            <p:spPr>
              <a:xfrm flipH="1" flipV="1">
                <a:off x="2357280" y="5027040"/>
                <a:ext cx="149040" cy="63720"/>
              </a:xfrm>
              <a:prstGeom prst="line">
                <a:avLst/>
              </a:prstGeom>
              <a:ln w="0">
                <a:solidFill>
                  <a:srgbClr val="0000ff"/>
                </a:solid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698" name=""/>
              <p:cNvSpPr/>
              <p:nvPr/>
            </p:nvSpPr>
            <p:spPr>
              <a:xfrm>
                <a:off x="2176560" y="4659120"/>
                <a:ext cx="216720" cy="250920"/>
              </a:xfrm>
              <a:custGeom>
                <a:avLst/>
                <a:gdLst/>
                <a:ahLst/>
                <a:rect l="l" t="t" r="r" b="b"/>
                <a:pathLst>
                  <a:path w="132" h="158">
                    <a:moveTo>
                      <a:pt x="0" y="90"/>
                    </a:moveTo>
                    <a:lnTo>
                      <a:pt x="12" y="99"/>
                    </a:lnTo>
                    <a:lnTo>
                      <a:pt x="88" y="105"/>
                    </a:lnTo>
                    <a:lnTo>
                      <a:pt x="62" y="158"/>
                    </a:lnTo>
                    <a:lnTo>
                      <a:pt x="119" y="154"/>
                    </a:lnTo>
                    <a:lnTo>
                      <a:pt x="128" y="134"/>
                    </a:lnTo>
                    <a:lnTo>
                      <a:pt x="132" y="77"/>
                    </a:lnTo>
                    <a:lnTo>
                      <a:pt x="106" y="46"/>
                    </a:lnTo>
                    <a:lnTo>
                      <a:pt x="66" y="44"/>
                    </a:lnTo>
                    <a:lnTo>
                      <a:pt x="6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2176560" y="4659120"/>
                <a:ext cx="216720" cy="250920"/>
              </a:xfrm>
              <a:custGeom>
                <a:avLst/>
                <a:gdLst/>
                <a:ahLst/>
                <a:rect l="l" t="t" r="r" b="b"/>
                <a:pathLst>
                  <a:path w="132" h="158">
                    <a:moveTo>
                      <a:pt x="0" y="90"/>
                    </a:moveTo>
                    <a:lnTo>
                      <a:pt x="12" y="99"/>
                    </a:lnTo>
                    <a:lnTo>
                      <a:pt x="88" y="105"/>
                    </a:lnTo>
                    <a:lnTo>
                      <a:pt x="62" y="158"/>
                    </a:lnTo>
                    <a:lnTo>
                      <a:pt x="119" y="154"/>
                    </a:lnTo>
                    <a:lnTo>
                      <a:pt x="128" y="134"/>
                    </a:lnTo>
                    <a:lnTo>
                      <a:pt x="132" y="77"/>
                    </a:lnTo>
                    <a:lnTo>
                      <a:pt x="106" y="46"/>
                    </a:lnTo>
                    <a:lnTo>
                      <a:pt x="66" y="44"/>
                    </a:lnTo>
                    <a:lnTo>
                      <a:pt x="6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flipH="1" flipV="1">
                <a:off x="2220480" y="5775120"/>
                <a:ext cx="47160" cy="84240"/>
              </a:xfrm>
              <a:prstGeom prst="line">
                <a:avLst/>
              </a:prstGeom>
              <a:ln w="0">
                <a:solidFill>
                  <a:srgbClr val="0000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1" name=""/>
              <p:cNvSpPr/>
              <p:nvPr/>
            </p:nvSpPr>
            <p:spPr>
              <a:xfrm flipH="1" flipV="1">
                <a:off x="2220480" y="5775120"/>
                <a:ext cx="47160" cy="84240"/>
              </a:xfrm>
              <a:prstGeom prst="line">
                <a:avLst/>
              </a:prstGeom>
              <a:ln w="0">
                <a:solidFill>
                  <a:srgbClr val="0000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2" name=""/>
              <p:cNvSpPr/>
              <p:nvPr/>
            </p:nvSpPr>
            <p:spPr>
              <a:xfrm>
                <a:off x="701280" y="2295360"/>
                <a:ext cx="74700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03" name=""/>
              <p:cNvSpPr/>
              <p:nvPr/>
            </p:nvSpPr>
            <p:spPr>
              <a:xfrm>
                <a:off x="701280" y="2295360"/>
                <a:ext cx="74700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04" name=""/>
              <p:cNvSpPr/>
              <p:nvPr/>
            </p:nvSpPr>
            <p:spPr>
              <a:xfrm flipV="1">
                <a:off x="1296000" y="3427200"/>
                <a:ext cx="50760" cy="76320"/>
              </a:xfrm>
              <a:prstGeom prst="line">
                <a:avLst/>
              </a:prstGeom>
              <a:ln w="0">
                <a:solidFill>
                  <a:srgbClr val="0000ff"/>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05" name=""/>
              <p:cNvSpPr/>
              <p:nvPr/>
            </p:nvSpPr>
            <p:spPr>
              <a:xfrm flipV="1">
                <a:off x="1296000" y="3427200"/>
                <a:ext cx="50760" cy="76320"/>
              </a:xfrm>
              <a:prstGeom prst="line">
                <a:avLst/>
              </a:prstGeom>
              <a:ln w="0">
                <a:solidFill>
                  <a:srgbClr val="0000ff"/>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706" name=""/>
              <p:cNvSpPr/>
              <p:nvPr/>
            </p:nvSpPr>
            <p:spPr>
              <a:xfrm>
                <a:off x="1448640" y="2289240"/>
                <a:ext cx="742320" cy="198360"/>
              </a:xfrm>
              <a:custGeom>
                <a:avLst/>
                <a:gdLst/>
                <a:ahLst/>
                <a:rect l="l" t="t" r="r" b="b"/>
                <a:pathLst>
                  <a:path w="452" h="125">
                    <a:moveTo>
                      <a:pt x="452" y="97"/>
                    </a:moveTo>
                    <a:lnTo>
                      <a:pt x="452" y="40"/>
                    </a:lnTo>
                    <a:lnTo>
                      <a:pt x="433" y="29"/>
                    </a:lnTo>
                    <a:lnTo>
                      <a:pt x="375" y="97"/>
                    </a:lnTo>
                    <a:lnTo>
                      <a:pt x="303" y="101"/>
                    </a:lnTo>
                    <a:lnTo>
                      <a:pt x="299" y="112"/>
                    </a:lnTo>
                    <a:lnTo>
                      <a:pt x="237" y="114"/>
                    </a:lnTo>
                    <a:lnTo>
                      <a:pt x="230" y="125"/>
                    </a:lnTo>
                    <a:lnTo>
                      <a:pt x="186" y="125"/>
                    </a:lnTo>
                    <a:lnTo>
                      <a:pt x="189" y="114"/>
                    </a:lnTo>
                    <a:lnTo>
                      <a:pt x="202" y="101"/>
                    </a:lnTo>
                    <a:lnTo>
                      <a:pt x="228" y="86"/>
                    </a:lnTo>
                    <a:lnTo>
                      <a:pt x="221" y="75"/>
                    </a:lnTo>
                    <a:lnTo>
                      <a:pt x="210" y="70"/>
                    </a:lnTo>
                    <a:lnTo>
                      <a:pt x="189" y="66"/>
                    </a:lnTo>
                    <a:lnTo>
                      <a:pt x="171" y="70"/>
                    </a:lnTo>
                    <a:lnTo>
                      <a:pt x="155" y="57"/>
                    </a:lnTo>
                    <a:lnTo>
                      <a:pt x="156" y="35"/>
                    </a:lnTo>
                    <a:lnTo>
                      <a:pt x="151" y="0"/>
                    </a:lnTo>
                    <a:lnTo>
                      <a:pt x="120" y="15"/>
                    </a:lnTo>
                    <a:lnTo>
                      <a:pt x="94" y="26"/>
                    </a:lnTo>
                    <a:lnTo>
                      <a:pt x="0" y="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a:off x="1448640" y="2289240"/>
                <a:ext cx="742320" cy="198360"/>
              </a:xfrm>
              <a:custGeom>
                <a:avLst/>
                <a:gdLst/>
                <a:ahLst/>
                <a:rect l="l" t="t" r="r" b="b"/>
                <a:pathLst>
                  <a:path w="452" h="125">
                    <a:moveTo>
                      <a:pt x="452" y="97"/>
                    </a:moveTo>
                    <a:lnTo>
                      <a:pt x="452" y="40"/>
                    </a:lnTo>
                    <a:lnTo>
                      <a:pt x="433" y="29"/>
                    </a:lnTo>
                    <a:lnTo>
                      <a:pt x="375" y="97"/>
                    </a:lnTo>
                    <a:lnTo>
                      <a:pt x="303" y="101"/>
                    </a:lnTo>
                    <a:lnTo>
                      <a:pt x="299" y="112"/>
                    </a:lnTo>
                    <a:lnTo>
                      <a:pt x="237" y="114"/>
                    </a:lnTo>
                    <a:lnTo>
                      <a:pt x="230" y="125"/>
                    </a:lnTo>
                    <a:lnTo>
                      <a:pt x="186" y="125"/>
                    </a:lnTo>
                    <a:lnTo>
                      <a:pt x="189" y="114"/>
                    </a:lnTo>
                    <a:lnTo>
                      <a:pt x="202" y="101"/>
                    </a:lnTo>
                    <a:lnTo>
                      <a:pt x="228" y="86"/>
                    </a:lnTo>
                    <a:lnTo>
                      <a:pt x="221" y="75"/>
                    </a:lnTo>
                    <a:lnTo>
                      <a:pt x="210" y="70"/>
                    </a:lnTo>
                    <a:lnTo>
                      <a:pt x="189" y="66"/>
                    </a:lnTo>
                    <a:lnTo>
                      <a:pt x="171" y="70"/>
                    </a:lnTo>
                    <a:lnTo>
                      <a:pt x="155" y="57"/>
                    </a:lnTo>
                    <a:lnTo>
                      <a:pt x="156" y="35"/>
                    </a:lnTo>
                    <a:lnTo>
                      <a:pt x="151" y="0"/>
                    </a:lnTo>
                    <a:lnTo>
                      <a:pt x="120" y="15"/>
                    </a:lnTo>
                    <a:lnTo>
                      <a:pt x="94" y="26"/>
                    </a:lnTo>
                    <a:lnTo>
                      <a:pt x="0" y="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flipH="1">
                <a:off x="1501200" y="3649680"/>
                <a:ext cx="11520" cy="28440"/>
              </a:xfrm>
              <a:prstGeom prst="line">
                <a:avLst/>
              </a:prstGeom>
              <a:ln w="0">
                <a:solidFill>
                  <a:srgbClr val="0000ff"/>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09" name=""/>
              <p:cNvSpPr/>
              <p:nvPr/>
            </p:nvSpPr>
            <p:spPr>
              <a:xfrm flipH="1">
                <a:off x="1501200" y="3649680"/>
                <a:ext cx="11520" cy="28440"/>
              </a:xfrm>
              <a:prstGeom prst="line">
                <a:avLst/>
              </a:prstGeom>
              <a:ln w="0">
                <a:solidFill>
                  <a:srgbClr val="0000ff"/>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10" name=""/>
              <p:cNvSpPr/>
              <p:nvPr/>
            </p:nvSpPr>
            <p:spPr>
              <a:xfrm flipV="1">
                <a:off x="1346760" y="3468600"/>
                <a:ext cx="132840" cy="55440"/>
              </a:xfrm>
              <a:prstGeom prst="line">
                <a:avLst/>
              </a:prstGeom>
              <a:ln w="0">
                <a:solidFill>
                  <a:srgbClr val="0000ff"/>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11" name=""/>
              <p:cNvSpPr/>
              <p:nvPr/>
            </p:nvSpPr>
            <p:spPr>
              <a:xfrm flipV="1">
                <a:off x="1346760" y="3468600"/>
                <a:ext cx="132840" cy="55440"/>
              </a:xfrm>
              <a:prstGeom prst="line">
                <a:avLst/>
              </a:prstGeom>
              <a:ln w="0">
                <a:solidFill>
                  <a:srgbClr val="0000ff"/>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712" name=""/>
              <p:cNvSpPr/>
              <p:nvPr/>
            </p:nvSpPr>
            <p:spPr>
              <a:xfrm>
                <a:off x="1410840" y="3622680"/>
                <a:ext cx="68760" cy="12600"/>
              </a:xfrm>
              <a:custGeom>
                <a:avLst/>
                <a:gdLst/>
                <a:ahLst/>
                <a:rect l="l" t="t" r="r" b="b"/>
                <a:pathLst>
                  <a:path w="42" h="8">
                    <a:moveTo>
                      <a:pt x="42" y="0"/>
                    </a:moveTo>
                    <a:lnTo>
                      <a:pt x="16" y="0"/>
                    </a:lnTo>
                    <a:lnTo>
                      <a:pt x="7" y="4"/>
                    </a:lnTo>
                    <a:lnTo>
                      <a:pt x="0" y="8"/>
                    </a:lnTo>
                  </a:path>
                </a:pathLst>
              </a:custGeom>
              <a:solidFill>
                <a:srgbClr val="000080">
                  <a:alpha val="50000"/>
                </a:srgbClr>
              </a:solidFill>
              <a:ln w="0">
                <a:solidFill>
                  <a:srgbClr val="0000ff"/>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grpSp>
          <p:nvGrpSpPr>
            <p:cNvPr id="713" name=""/>
            <p:cNvGrpSpPr/>
            <p:nvPr/>
          </p:nvGrpSpPr>
          <p:grpSpPr>
            <a:xfrm>
              <a:off x="6120" y="1622520"/>
              <a:ext cx="8453880" cy="3436920"/>
              <a:chOff x="6120" y="1622520"/>
              <a:chExt cx="8453880" cy="3436920"/>
            </a:xfrm>
          </p:grpSpPr>
          <p:sp>
            <p:nvSpPr>
              <p:cNvPr id="714" name=""/>
              <p:cNvSpPr/>
              <p:nvPr/>
            </p:nvSpPr>
            <p:spPr>
              <a:xfrm>
                <a:off x="1410840" y="3622680"/>
                <a:ext cx="68760" cy="12600"/>
              </a:xfrm>
              <a:custGeom>
                <a:avLst/>
                <a:gdLst/>
                <a:ahLst/>
                <a:rect l="l" t="t" r="r" b="b"/>
                <a:pathLst>
                  <a:path w="42" h="8">
                    <a:moveTo>
                      <a:pt x="42" y="0"/>
                    </a:moveTo>
                    <a:lnTo>
                      <a:pt x="16" y="0"/>
                    </a:lnTo>
                    <a:lnTo>
                      <a:pt x="7" y="4"/>
                    </a:lnTo>
                    <a:lnTo>
                      <a:pt x="0" y="8"/>
                    </a:lnTo>
                  </a:path>
                </a:pathLst>
              </a:custGeom>
              <a:solidFill>
                <a:srgbClr val="000080">
                  <a:alpha val="50000"/>
                </a:srgbClr>
              </a:solidFill>
              <a:ln w="0">
                <a:solidFill>
                  <a:srgbClr val="0000ff"/>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715" name=""/>
              <p:cNvSpPr/>
              <p:nvPr/>
            </p:nvSpPr>
            <p:spPr>
              <a:xfrm>
                <a:off x="6120" y="1701720"/>
                <a:ext cx="54360" cy="52560"/>
              </a:xfrm>
              <a:custGeom>
                <a:avLst/>
                <a:gdLst/>
                <a:ahLst/>
                <a:rect l="l" t="t" r="r" b="b"/>
                <a:pathLst>
                  <a:path w="33" h="33">
                    <a:moveTo>
                      <a:pt x="0" y="0"/>
                    </a:moveTo>
                    <a:lnTo>
                      <a:pt x="33" y="20"/>
                    </a:lnTo>
                    <a:lnTo>
                      <a:pt x="0" y="33"/>
                    </a:lnTo>
                  </a:path>
                </a:pathLst>
              </a:custGeom>
              <a:solidFill>
                <a:srgbClr val="000080">
                  <a:alpha val="50000"/>
                </a:srgbClr>
              </a:solidFill>
              <a:ln w="0">
                <a:solidFill>
                  <a:srgbClr val="0000ff"/>
                </a:solid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16" name=""/>
              <p:cNvSpPr/>
              <p:nvPr/>
            </p:nvSpPr>
            <p:spPr>
              <a:xfrm>
                <a:off x="6120" y="1701720"/>
                <a:ext cx="54360" cy="52560"/>
              </a:xfrm>
              <a:custGeom>
                <a:avLst/>
                <a:gdLst/>
                <a:ahLst/>
                <a:rect l="l" t="t" r="r" b="b"/>
                <a:pathLst>
                  <a:path w="33" h="33">
                    <a:moveTo>
                      <a:pt x="0" y="0"/>
                    </a:moveTo>
                    <a:lnTo>
                      <a:pt x="33" y="20"/>
                    </a:lnTo>
                    <a:lnTo>
                      <a:pt x="0" y="33"/>
                    </a:lnTo>
                  </a:path>
                </a:pathLst>
              </a:custGeom>
              <a:solidFill>
                <a:srgbClr val="000080">
                  <a:alpha val="50000"/>
                </a:srgbClr>
              </a:solidFill>
              <a:ln w="0">
                <a:solidFill>
                  <a:srgbClr val="0000ff"/>
                </a:solid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717" name=""/>
              <p:cNvSpPr/>
              <p:nvPr/>
            </p:nvSpPr>
            <p:spPr>
              <a:xfrm>
                <a:off x="3513600" y="3430440"/>
                <a:ext cx="175680" cy="198360"/>
              </a:xfrm>
              <a:custGeom>
                <a:avLst/>
                <a:gdLst/>
                <a:ahLst/>
                <a:rect l="l" t="t" r="r" b="b"/>
                <a:pathLst>
                  <a:path w="107" h="125">
                    <a:moveTo>
                      <a:pt x="0" y="0"/>
                    </a:moveTo>
                    <a:lnTo>
                      <a:pt x="37" y="15"/>
                    </a:lnTo>
                    <a:lnTo>
                      <a:pt x="57" y="46"/>
                    </a:lnTo>
                    <a:lnTo>
                      <a:pt x="107" y="12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a:off x="3513600" y="3430440"/>
                <a:ext cx="175680" cy="198360"/>
              </a:xfrm>
              <a:custGeom>
                <a:avLst/>
                <a:gdLst/>
                <a:ahLst/>
                <a:rect l="l" t="t" r="r" b="b"/>
                <a:pathLst>
                  <a:path w="107" h="125">
                    <a:moveTo>
                      <a:pt x="0" y="0"/>
                    </a:moveTo>
                    <a:lnTo>
                      <a:pt x="37" y="15"/>
                    </a:lnTo>
                    <a:lnTo>
                      <a:pt x="57" y="46"/>
                    </a:lnTo>
                    <a:lnTo>
                      <a:pt x="107" y="12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a:off x="3632040" y="3672000"/>
                <a:ext cx="144360" cy="79200"/>
              </a:xfrm>
              <a:custGeom>
                <a:avLst/>
                <a:gdLst/>
                <a:ahLst/>
                <a:rect l="l" t="t" r="r" b="b"/>
                <a:pathLst>
                  <a:path w="88" h="50">
                    <a:moveTo>
                      <a:pt x="88" y="50"/>
                    </a:moveTo>
                    <a:lnTo>
                      <a:pt x="68" y="45"/>
                    </a:lnTo>
                    <a:lnTo>
                      <a:pt x="46" y="35"/>
                    </a:lnTo>
                    <a:lnTo>
                      <a:pt x="14" y="0"/>
                    </a:lnTo>
                    <a:lnTo>
                      <a:pt x="0" y="39"/>
                    </a:lnTo>
                  </a:path>
                </a:pathLst>
              </a:custGeom>
              <a:solidFill>
                <a:srgbClr val="000080">
                  <a:alpha val="50000"/>
                </a:srgbClr>
              </a:solidFill>
              <a:ln w="0">
                <a:solidFill>
                  <a:srgbClr val="0000ff"/>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20" name=""/>
              <p:cNvSpPr/>
              <p:nvPr/>
            </p:nvSpPr>
            <p:spPr>
              <a:xfrm>
                <a:off x="3632040" y="3672000"/>
                <a:ext cx="144360" cy="79200"/>
              </a:xfrm>
              <a:custGeom>
                <a:avLst/>
                <a:gdLst/>
                <a:ahLst/>
                <a:rect l="l" t="t" r="r" b="b"/>
                <a:pathLst>
                  <a:path w="88" h="50">
                    <a:moveTo>
                      <a:pt x="88" y="50"/>
                    </a:moveTo>
                    <a:lnTo>
                      <a:pt x="68" y="45"/>
                    </a:lnTo>
                    <a:lnTo>
                      <a:pt x="46" y="35"/>
                    </a:lnTo>
                    <a:lnTo>
                      <a:pt x="14" y="0"/>
                    </a:lnTo>
                    <a:lnTo>
                      <a:pt x="0" y="39"/>
                    </a:lnTo>
                  </a:path>
                </a:pathLst>
              </a:custGeom>
              <a:solidFill>
                <a:srgbClr val="000080">
                  <a:alpha val="50000"/>
                </a:srgbClr>
              </a:solidFill>
              <a:ln w="0">
                <a:solidFill>
                  <a:srgbClr val="0000ff"/>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721" name=""/>
              <p:cNvSpPr/>
              <p:nvPr/>
            </p:nvSpPr>
            <p:spPr>
              <a:xfrm flipH="1">
                <a:off x="3690360" y="3727440"/>
                <a:ext cx="16200" cy="87120"/>
              </a:xfrm>
              <a:prstGeom prst="line">
                <a:avLst/>
              </a:prstGeom>
              <a:ln w="0">
                <a:solidFill>
                  <a:srgbClr val="0000ff"/>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2" name=""/>
              <p:cNvSpPr/>
              <p:nvPr/>
            </p:nvSpPr>
            <p:spPr>
              <a:xfrm flipH="1">
                <a:off x="3690360" y="3727440"/>
                <a:ext cx="16200" cy="87120"/>
              </a:xfrm>
              <a:prstGeom prst="line">
                <a:avLst/>
              </a:prstGeom>
              <a:ln w="0">
                <a:solidFill>
                  <a:srgbClr val="0000ff"/>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723" name=""/>
              <p:cNvSpPr/>
              <p:nvPr/>
            </p:nvSpPr>
            <p:spPr>
              <a:xfrm>
                <a:off x="3492360" y="3056040"/>
                <a:ext cx="229680" cy="245880"/>
              </a:xfrm>
              <a:custGeom>
                <a:avLst/>
                <a:gdLst/>
                <a:ahLst/>
                <a:rect l="l" t="t" r="r" b="b"/>
                <a:pathLst>
                  <a:path w="140" h="155">
                    <a:moveTo>
                      <a:pt x="140" y="0"/>
                    </a:moveTo>
                    <a:lnTo>
                      <a:pt x="132" y="33"/>
                    </a:lnTo>
                    <a:lnTo>
                      <a:pt x="85" y="33"/>
                    </a:lnTo>
                    <a:lnTo>
                      <a:pt x="79" y="42"/>
                    </a:lnTo>
                    <a:lnTo>
                      <a:pt x="77" y="99"/>
                    </a:lnTo>
                    <a:lnTo>
                      <a:pt x="63" y="99"/>
                    </a:lnTo>
                    <a:lnTo>
                      <a:pt x="65" y="148"/>
                    </a:lnTo>
                    <a:lnTo>
                      <a:pt x="0" y="15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3492360" y="3056040"/>
                <a:ext cx="229680" cy="245880"/>
              </a:xfrm>
              <a:custGeom>
                <a:avLst/>
                <a:gdLst/>
                <a:ahLst/>
                <a:rect l="l" t="t" r="r" b="b"/>
                <a:pathLst>
                  <a:path w="140" h="155">
                    <a:moveTo>
                      <a:pt x="140" y="0"/>
                    </a:moveTo>
                    <a:lnTo>
                      <a:pt x="132" y="33"/>
                    </a:lnTo>
                    <a:lnTo>
                      <a:pt x="85" y="33"/>
                    </a:lnTo>
                    <a:lnTo>
                      <a:pt x="79" y="42"/>
                    </a:lnTo>
                    <a:lnTo>
                      <a:pt x="77" y="99"/>
                    </a:lnTo>
                    <a:lnTo>
                      <a:pt x="63" y="99"/>
                    </a:lnTo>
                    <a:lnTo>
                      <a:pt x="65" y="148"/>
                    </a:lnTo>
                    <a:lnTo>
                      <a:pt x="0" y="15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a:off x="4655160" y="1646280"/>
                <a:ext cx="30960" cy="90360"/>
              </a:xfrm>
              <a:prstGeom prst="line">
                <a:avLst/>
              </a:prstGeom>
              <a:ln w="0">
                <a:solidFill>
                  <a:srgbClr val="0000ff"/>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26" name=""/>
              <p:cNvSpPr/>
              <p:nvPr/>
            </p:nvSpPr>
            <p:spPr>
              <a:xfrm>
                <a:off x="4655160" y="1646280"/>
                <a:ext cx="30960" cy="90360"/>
              </a:xfrm>
              <a:prstGeom prst="line">
                <a:avLst/>
              </a:prstGeom>
              <a:ln w="0">
                <a:solidFill>
                  <a:srgbClr val="0000ff"/>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27" name=""/>
              <p:cNvSpPr/>
              <p:nvPr/>
            </p:nvSpPr>
            <p:spPr>
              <a:xfrm>
                <a:off x="3621960" y="2787480"/>
                <a:ext cx="303840" cy="268560"/>
              </a:xfrm>
              <a:custGeom>
                <a:avLst/>
                <a:gdLst/>
                <a:ahLst/>
                <a:rect l="l" t="t" r="r" b="b"/>
                <a:pathLst>
                  <a:path w="185" h="169">
                    <a:moveTo>
                      <a:pt x="174" y="0"/>
                    </a:moveTo>
                    <a:lnTo>
                      <a:pt x="114" y="0"/>
                    </a:lnTo>
                    <a:lnTo>
                      <a:pt x="0" y="167"/>
                    </a:lnTo>
                    <a:lnTo>
                      <a:pt x="61" y="169"/>
                    </a:lnTo>
                    <a:lnTo>
                      <a:pt x="185" y="77"/>
                    </a:lnTo>
                    <a:lnTo>
                      <a:pt x="174"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a:off x="3621960" y="2787480"/>
                <a:ext cx="303840" cy="268560"/>
              </a:xfrm>
              <a:custGeom>
                <a:avLst/>
                <a:gdLst/>
                <a:ahLst/>
                <a:rect l="l" t="t" r="r" b="b"/>
                <a:pathLst>
                  <a:path w="185" h="169">
                    <a:moveTo>
                      <a:pt x="174" y="0"/>
                    </a:moveTo>
                    <a:lnTo>
                      <a:pt x="114" y="0"/>
                    </a:lnTo>
                    <a:lnTo>
                      <a:pt x="0" y="167"/>
                    </a:lnTo>
                    <a:lnTo>
                      <a:pt x="61" y="169"/>
                    </a:lnTo>
                    <a:lnTo>
                      <a:pt x="185" y="77"/>
                    </a:lnTo>
                    <a:lnTo>
                      <a:pt x="174"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a:off x="3907800" y="2743200"/>
                <a:ext cx="403920" cy="253800"/>
              </a:xfrm>
              <a:custGeom>
                <a:avLst/>
                <a:gdLst/>
                <a:ahLst/>
                <a:rect l="l" t="t" r="r" b="b"/>
                <a:pathLst>
                  <a:path w="246" h="160">
                    <a:moveTo>
                      <a:pt x="0" y="28"/>
                    </a:moveTo>
                    <a:lnTo>
                      <a:pt x="193" y="6"/>
                    </a:lnTo>
                    <a:lnTo>
                      <a:pt x="193" y="66"/>
                    </a:lnTo>
                    <a:lnTo>
                      <a:pt x="171" y="107"/>
                    </a:lnTo>
                    <a:lnTo>
                      <a:pt x="219" y="160"/>
                    </a:lnTo>
                    <a:lnTo>
                      <a:pt x="211" y="116"/>
                    </a:lnTo>
                    <a:lnTo>
                      <a:pt x="246" y="77"/>
                    </a:lnTo>
                    <a:lnTo>
                      <a:pt x="228" y="0"/>
                    </a:lnTo>
                    <a:lnTo>
                      <a:pt x="193" y="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a:off x="3907800" y="2743200"/>
                <a:ext cx="403920" cy="253800"/>
              </a:xfrm>
              <a:custGeom>
                <a:avLst/>
                <a:gdLst/>
                <a:ahLst/>
                <a:rect l="l" t="t" r="r" b="b"/>
                <a:pathLst>
                  <a:path w="246" h="160">
                    <a:moveTo>
                      <a:pt x="0" y="28"/>
                    </a:moveTo>
                    <a:lnTo>
                      <a:pt x="193" y="6"/>
                    </a:lnTo>
                    <a:lnTo>
                      <a:pt x="193" y="66"/>
                    </a:lnTo>
                    <a:lnTo>
                      <a:pt x="171" y="107"/>
                    </a:lnTo>
                    <a:lnTo>
                      <a:pt x="219" y="160"/>
                    </a:lnTo>
                    <a:lnTo>
                      <a:pt x="211" y="116"/>
                    </a:lnTo>
                    <a:lnTo>
                      <a:pt x="246" y="77"/>
                    </a:lnTo>
                    <a:lnTo>
                      <a:pt x="228" y="0"/>
                    </a:lnTo>
                    <a:lnTo>
                      <a:pt x="193" y="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a:off x="4375800" y="2917800"/>
                <a:ext cx="346680" cy="358560"/>
              </a:xfrm>
              <a:custGeom>
                <a:avLst/>
                <a:gdLst/>
                <a:ahLst/>
                <a:rect l="l" t="t" r="r" b="b"/>
                <a:pathLst>
                  <a:path w="211" h="226">
                    <a:moveTo>
                      <a:pt x="203" y="0"/>
                    </a:moveTo>
                    <a:lnTo>
                      <a:pt x="211" y="219"/>
                    </a:lnTo>
                    <a:lnTo>
                      <a:pt x="202" y="226"/>
                    </a:lnTo>
                    <a:lnTo>
                      <a:pt x="0" y="16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2" name=""/>
              <p:cNvSpPr/>
              <p:nvPr/>
            </p:nvSpPr>
            <p:spPr>
              <a:xfrm>
                <a:off x="4375800" y="2917800"/>
                <a:ext cx="346680" cy="358560"/>
              </a:xfrm>
              <a:custGeom>
                <a:avLst/>
                <a:gdLst/>
                <a:ahLst/>
                <a:rect l="l" t="t" r="r" b="b"/>
                <a:pathLst>
                  <a:path w="211" h="226">
                    <a:moveTo>
                      <a:pt x="203" y="0"/>
                    </a:moveTo>
                    <a:lnTo>
                      <a:pt x="211" y="219"/>
                    </a:lnTo>
                    <a:lnTo>
                      <a:pt x="202" y="226"/>
                    </a:lnTo>
                    <a:lnTo>
                      <a:pt x="0" y="16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a:off x="4267440" y="2997000"/>
                <a:ext cx="108360" cy="181080"/>
              </a:xfrm>
              <a:custGeom>
                <a:avLst/>
                <a:gdLst/>
                <a:ahLst/>
                <a:rect l="l" t="t" r="r" b="b"/>
                <a:pathLst>
                  <a:path w="66" h="114">
                    <a:moveTo>
                      <a:pt x="66" y="114"/>
                    </a:moveTo>
                    <a:lnTo>
                      <a:pt x="16" y="62"/>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a:off x="4267440" y="2997000"/>
                <a:ext cx="108360" cy="181080"/>
              </a:xfrm>
              <a:custGeom>
                <a:avLst/>
                <a:gdLst/>
                <a:ahLst/>
                <a:rect l="l" t="t" r="r" b="b"/>
                <a:pathLst>
                  <a:path w="66" h="114">
                    <a:moveTo>
                      <a:pt x="66" y="114"/>
                    </a:moveTo>
                    <a:lnTo>
                      <a:pt x="16" y="62"/>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flipH="1">
                <a:off x="4123080" y="3178080"/>
                <a:ext cx="252720" cy="1746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6" name=""/>
              <p:cNvSpPr/>
              <p:nvPr/>
            </p:nvSpPr>
            <p:spPr>
              <a:xfrm flipH="1">
                <a:off x="4123080" y="3178080"/>
                <a:ext cx="252720" cy="1746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 name=""/>
              <p:cNvSpPr/>
              <p:nvPr/>
            </p:nvSpPr>
            <p:spPr>
              <a:xfrm flipH="1" flipV="1">
                <a:off x="3798720" y="3115800"/>
                <a:ext cx="323640" cy="236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flipH="1" flipV="1">
                <a:off x="3798720" y="3115800"/>
                <a:ext cx="323640" cy="236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a:off x="3606840" y="3116160"/>
                <a:ext cx="191880" cy="390600"/>
              </a:xfrm>
              <a:custGeom>
                <a:avLst/>
                <a:gdLst/>
                <a:ahLst/>
                <a:rect l="l" t="t" r="r" b="b"/>
                <a:pathLst>
                  <a:path w="117" h="246">
                    <a:moveTo>
                      <a:pt x="117" y="0"/>
                    </a:moveTo>
                    <a:lnTo>
                      <a:pt x="88" y="29"/>
                    </a:lnTo>
                    <a:lnTo>
                      <a:pt x="114" y="246"/>
                    </a:lnTo>
                    <a:lnTo>
                      <a:pt x="0" y="24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0" name=""/>
              <p:cNvSpPr/>
              <p:nvPr/>
            </p:nvSpPr>
            <p:spPr>
              <a:xfrm>
                <a:off x="3606840" y="3116160"/>
                <a:ext cx="191880" cy="390600"/>
              </a:xfrm>
              <a:custGeom>
                <a:avLst/>
                <a:gdLst/>
                <a:ahLst/>
                <a:rect l="l" t="t" r="r" b="b"/>
                <a:pathLst>
                  <a:path w="117" h="246">
                    <a:moveTo>
                      <a:pt x="117" y="0"/>
                    </a:moveTo>
                    <a:lnTo>
                      <a:pt x="88" y="29"/>
                    </a:lnTo>
                    <a:lnTo>
                      <a:pt x="114" y="246"/>
                    </a:lnTo>
                    <a:lnTo>
                      <a:pt x="0" y="24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1" name=""/>
              <p:cNvSpPr/>
              <p:nvPr/>
            </p:nvSpPr>
            <p:spPr>
              <a:xfrm>
                <a:off x="3549600" y="3619440"/>
                <a:ext cx="259560" cy="239760"/>
              </a:xfrm>
              <a:custGeom>
                <a:avLst/>
                <a:gdLst/>
                <a:ahLst/>
                <a:rect l="l" t="t" r="r" b="b"/>
                <a:pathLst>
                  <a:path w="158" h="151">
                    <a:moveTo>
                      <a:pt x="0" y="10"/>
                    </a:moveTo>
                    <a:lnTo>
                      <a:pt x="85" y="6"/>
                    </a:lnTo>
                    <a:lnTo>
                      <a:pt x="123" y="0"/>
                    </a:lnTo>
                    <a:lnTo>
                      <a:pt x="132" y="48"/>
                    </a:lnTo>
                    <a:lnTo>
                      <a:pt x="140" y="83"/>
                    </a:lnTo>
                    <a:lnTo>
                      <a:pt x="158" y="15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a:off x="3549600" y="3619440"/>
                <a:ext cx="259560" cy="239760"/>
              </a:xfrm>
              <a:custGeom>
                <a:avLst/>
                <a:gdLst/>
                <a:ahLst/>
                <a:rect l="l" t="t" r="r" b="b"/>
                <a:pathLst>
                  <a:path w="158" h="151">
                    <a:moveTo>
                      <a:pt x="0" y="10"/>
                    </a:moveTo>
                    <a:lnTo>
                      <a:pt x="85" y="6"/>
                    </a:lnTo>
                    <a:lnTo>
                      <a:pt x="123" y="0"/>
                    </a:lnTo>
                    <a:lnTo>
                      <a:pt x="132" y="48"/>
                    </a:lnTo>
                    <a:lnTo>
                      <a:pt x="140" y="83"/>
                    </a:lnTo>
                    <a:lnTo>
                      <a:pt x="158" y="15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a:off x="3838680" y="3352680"/>
                <a:ext cx="292320" cy="366840"/>
              </a:xfrm>
              <a:custGeom>
                <a:avLst/>
                <a:gdLst/>
                <a:ahLst/>
                <a:rect l="l" t="t" r="r" b="b"/>
                <a:pathLst>
                  <a:path w="178" h="231">
                    <a:moveTo>
                      <a:pt x="173" y="0"/>
                    </a:moveTo>
                    <a:lnTo>
                      <a:pt x="178" y="40"/>
                    </a:lnTo>
                    <a:lnTo>
                      <a:pt x="118" y="62"/>
                    </a:lnTo>
                    <a:lnTo>
                      <a:pt x="41" y="90"/>
                    </a:lnTo>
                    <a:lnTo>
                      <a:pt x="42" y="128"/>
                    </a:lnTo>
                    <a:lnTo>
                      <a:pt x="11" y="143"/>
                    </a:lnTo>
                    <a:lnTo>
                      <a:pt x="0" y="23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a:off x="3838680" y="3352680"/>
                <a:ext cx="292320" cy="366840"/>
              </a:xfrm>
              <a:custGeom>
                <a:avLst/>
                <a:gdLst/>
                <a:ahLst/>
                <a:rect l="l" t="t" r="r" b="b"/>
                <a:pathLst>
                  <a:path w="178" h="231">
                    <a:moveTo>
                      <a:pt x="173" y="0"/>
                    </a:moveTo>
                    <a:lnTo>
                      <a:pt x="178" y="40"/>
                    </a:lnTo>
                    <a:lnTo>
                      <a:pt x="118" y="62"/>
                    </a:lnTo>
                    <a:lnTo>
                      <a:pt x="41" y="90"/>
                    </a:lnTo>
                    <a:lnTo>
                      <a:pt x="42" y="128"/>
                    </a:lnTo>
                    <a:lnTo>
                      <a:pt x="11" y="143"/>
                    </a:lnTo>
                    <a:lnTo>
                      <a:pt x="0" y="23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3766320" y="3695760"/>
                <a:ext cx="72000" cy="23760"/>
              </a:xfrm>
              <a:prstGeom prst="line">
                <a:avLst/>
              </a:prstGeom>
              <a:ln w="0">
                <a:solidFill>
                  <a:srgbClr val="0000ff"/>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6" name=""/>
              <p:cNvSpPr/>
              <p:nvPr/>
            </p:nvSpPr>
            <p:spPr>
              <a:xfrm>
                <a:off x="3766320" y="3695760"/>
                <a:ext cx="72000" cy="23760"/>
              </a:xfrm>
              <a:prstGeom prst="line">
                <a:avLst/>
              </a:prstGeom>
              <a:ln w="0">
                <a:solidFill>
                  <a:srgbClr val="0000ff"/>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747" name=""/>
              <p:cNvSpPr/>
              <p:nvPr/>
            </p:nvSpPr>
            <p:spPr>
              <a:xfrm>
                <a:off x="4011120" y="3451320"/>
                <a:ext cx="62280" cy="372960"/>
              </a:xfrm>
              <a:custGeom>
                <a:avLst/>
                <a:gdLst/>
                <a:ahLst/>
                <a:rect l="l" t="t" r="r" b="b"/>
                <a:pathLst>
                  <a:path w="38" h="235">
                    <a:moveTo>
                      <a:pt x="13" y="0"/>
                    </a:moveTo>
                    <a:lnTo>
                      <a:pt x="38" y="84"/>
                    </a:lnTo>
                    <a:lnTo>
                      <a:pt x="0" y="106"/>
                    </a:lnTo>
                    <a:lnTo>
                      <a:pt x="0" y="125"/>
                    </a:lnTo>
                    <a:lnTo>
                      <a:pt x="27" y="23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a:off x="4011120" y="3451320"/>
                <a:ext cx="62280" cy="372960"/>
              </a:xfrm>
              <a:custGeom>
                <a:avLst/>
                <a:gdLst/>
                <a:ahLst/>
                <a:rect l="l" t="t" r="r" b="b"/>
                <a:pathLst>
                  <a:path w="38" h="235">
                    <a:moveTo>
                      <a:pt x="13" y="0"/>
                    </a:moveTo>
                    <a:lnTo>
                      <a:pt x="38" y="84"/>
                    </a:lnTo>
                    <a:lnTo>
                      <a:pt x="0" y="106"/>
                    </a:lnTo>
                    <a:lnTo>
                      <a:pt x="0" y="125"/>
                    </a:lnTo>
                    <a:lnTo>
                      <a:pt x="27" y="23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flipH="1">
                <a:off x="3953520" y="3649680"/>
                <a:ext cx="57240" cy="28440"/>
              </a:xfrm>
              <a:prstGeom prst="line">
                <a:avLst/>
              </a:prstGeom>
              <a:ln w="0">
                <a:solidFill>
                  <a:srgbClr val="0000ff"/>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50" name=""/>
              <p:cNvSpPr/>
              <p:nvPr/>
            </p:nvSpPr>
            <p:spPr>
              <a:xfrm flipH="1">
                <a:off x="3953520" y="3649680"/>
                <a:ext cx="57240" cy="28440"/>
              </a:xfrm>
              <a:prstGeom prst="line">
                <a:avLst/>
              </a:prstGeom>
              <a:ln w="0">
                <a:solidFill>
                  <a:srgbClr val="0000ff"/>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751" name=""/>
              <p:cNvSpPr/>
              <p:nvPr/>
            </p:nvSpPr>
            <p:spPr>
              <a:xfrm>
                <a:off x="3953880" y="3678120"/>
                <a:ext cx="47520" cy="1522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a:off x="3953880" y="3678120"/>
                <a:ext cx="47520" cy="1522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a:off x="3889800" y="3678120"/>
                <a:ext cx="63720" cy="166680"/>
              </a:xfrm>
              <a:custGeom>
                <a:avLst/>
                <a:gdLst/>
                <a:ahLst/>
                <a:rect l="l" t="t" r="r" b="b"/>
                <a:pathLst>
                  <a:path w="39" h="105">
                    <a:moveTo>
                      <a:pt x="39" y="0"/>
                    </a:moveTo>
                    <a:lnTo>
                      <a:pt x="0" y="17"/>
                    </a:lnTo>
                    <a:lnTo>
                      <a:pt x="10" y="35"/>
                    </a:lnTo>
                    <a:lnTo>
                      <a:pt x="24" y="10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3889800" y="3678120"/>
                <a:ext cx="63720" cy="166680"/>
              </a:xfrm>
              <a:custGeom>
                <a:avLst/>
                <a:gdLst/>
                <a:ahLst/>
                <a:rect l="l" t="t" r="r" b="b"/>
                <a:pathLst>
                  <a:path w="39" h="105">
                    <a:moveTo>
                      <a:pt x="39" y="0"/>
                    </a:moveTo>
                    <a:lnTo>
                      <a:pt x="0" y="17"/>
                    </a:lnTo>
                    <a:lnTo>
                      <a:pt x="10" y="35"/>
                    </a:lnTo>
                    <a:lnTo>
                      <a:pt x="24" y="10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flipH="1" flipV="1">
                <a:off x="3838320" y="3719160"/>
                <a:ext cx="67320" cy="14040"/>
              </a:xfrm>
              <a:prstGeom prst="line">
                <a:avLst/>
              </a:prstGeom>
              <a:ln w="0">
                <a:solidFill>
                  <a:srgbClr val="0000ff"/>
                </a:solid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56" name=""/>
              <p:cNvSpPr/>
              <p:nvPr/>
            </p:nvSpPr>
            <p:spPr>
              <a:xfrm flipH="1" flipV="1">
                <a:off x="3838320" y="3719160"/>
                <a:ext cx="67320" cy="14040"/>
              </a:xfrm>
              <a:prstGeom prst="line">
                <a:avLst/>
              </a:prstGeom>
              <a:ln w="0">
                <a:solidFill>
                  <a:srgbClr val="0000ff"/>
                </a:solid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57" name=""/>
              <p:cNvSpPr/>
              <p:nvPr/>
            </p:nvSpPr>
            <p:spPr>
              <a:xfrm>
                <a:off x="4055400" y="3527280"/>
                <a:ext cx="417240" cy="331920"/>
              </a:xfrm>
              <a:custGeom>
                <a:avLst/>
                <a:gdLst/>
                <a:ahLst/>
                <a:rect l="l" t="t" r="r" b="b"/>
                <a:pathLst>
                  <a:path w="254" h="209">
                    <a:moveTo>
                      <a:pt x="24" y="181"/>
                    </a:moveTo>
                    <a:lnTo>
                      <a:pt x="0" y="95"/>
                    </a:lnTo>
                    <a:lnTo>
                      <a:pt x="19" y="31"/>
                    </a:lnTo>
                    <a:lnTo>
                      <a:pt x="55" y="0"/>
                    </a:lnTo>
                    <a:lnTo>
                      <a:pt x="254" y="5"/>
                    </a:lnTo>
                    <a:lnTo>
                      <a:pt x="184" y="169"/>
                    </a:lnTo>
                    <a:lnTo>
                      <a:pt x="143" y="169"/>
                    </a:lnTo>
                    <a:lnTo>
                      <a:pt x="134" y="20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a:off x="4055400" y="3527280"/>
                <a:ext cx="417240" cy="331920"/>
              </a:xfrm>
              <a:custGeom>
                <a:avLst/>
                <a:gdLst/>
                <a:ahLst/>
                <a:rect l="l" t="t" r="r" b="b"/>
                <a:pathLst>
                  <a:path w="254" h="209">
                    <a:moveTo>
                      <a:pt x="24" y="181"/>
                    </a:moveTo>
                    <a:lnTo>
                      <a:pt x="0" y="95"/>
                    </a:lnTo>
                    <a:lnTo>
                      <a:pt x="19" y="31"/>
                    </a:lnTo>
                    <a:lnTo>
                      <a:pt x="55" y="0"/>
                    </a:lnTo>
                    <a:lnTo>
                      <a:pt x="254" y="5"/>
                    </a:lnTo>
                    <a:lnTo>
                      <a:pt x="184" y="169"/>
                    </a:lnTo>
                    <a:lnTo>
                      <a:pt x="143" y="169"/>
                    </a:lnTo>
                    <a:lnTo>
                      <a:pt x="134" y="20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flipV="1">
                <a:off x="4073760" y="3583080"/>
                <a:ext cx="612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0" name=""/>
              <p:cNvSpPr/>
              <p:nvPr/>
            </p:nvSpPr>
            <p:spPr>
              <a:xfrm flipV="1">
                <a:off x="4073760" y="3583080"/>
                <a:ext cx="612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61" name=""/>
              <p:cNvSpPr/>
              <p:nvPr/>
            </p:nvSpPr>
            <p:spPr>
              <a:xfrm>
                <a:off x="4275720" y="3952800"/>
                <a:ext cx="190440" cy="227160"/>
              </a:xfrm>
              <a:custGeom>
                <a:avLst/>
                <a:gdLst/>
                <a:ahLst/>
                <a:rect l="l" t="t" r="r" b="b"/>
                <a:pathLst>
                  <a:path w="116" h="143">
                    <a:moveTo>
                      <a:pt x="53" y="143"/>
                    </a:moveTo>
                    <a:lnTo>
                      <a:pt x="77" y="108"/>
                    </a:lnTo>
                    <a:lnTo>
                      <a:pt x="116" y="100"/>
                    </a:lnTo>
                    <a:lnTo>
                      <a:pt x="116" y="0"/>
                    </a:lnTo>
                    <a:lnTo>
                      <a:pt x="26" y="11"/>
                    </a:lnTo>
                    <a:lnTo>
                      <a:pt x="0" y="2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a:off x="4275720" y="3952800"/>
                <a:ext cx="190440" cy="227160"/>
              </a:xfrm>
              <a:custGeom>
                <a:avLst/>
                <a:gdLst/>
                <a:ahLst/>
                <a:rect l="l" t="t" r="r" b="b"/>
                <a:pathLst>
                  <a:path w="116" h="143">
                    <a:moveTo>
                      <a:pt x="53" y="143"/>
                    </a:moveTo>
                    <a:lnTo>
                      <a:pt x="77" y="108"/>
                    </a:lnTo>
                    <a:lnTo>
                      <a:pt x="116" y="100"/>
                    </a:lnTo>
                    <a:lnTo>
                      <a:pt x="116" y="0"/>
                    </a:lnTo>
                    <a:lnTo>
                      <a:pt x="26" y="11"/>
                    </a:lnTo>
                    <a:lnTo>
                      <a:pt x="0" y="2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a:off x="4466520" y="3276360"/>
                <a:ext cx="249480" cy="684360"/>
              </a:xfrm>
              <a:custGeom>
                <a:avLst/>
                <a:gdLst/>
                <a:ahLst/>
                <a:rect l="l" t="t" r="r" b="b"/>
                <a:pathLst>
                  <a:path w="152" h="431">
                    <a:moveTo>
                      <a:pt x="147" y="0"/>
                    </a:moveTo>
                    <a:lnTo>
                      <a:pt x="152" y="138"/>
                    </a:lnTo>
                    <a:lnTo>
                      <a:pt x="143" y="156"/>
                    </a:lnTo>
                    <a:lnTo>
                      <a:pt x="143" y="211"/>
                    </a:lnTo>
                    <a:lnTo>
                      <a:pt x="27" y="264"/>
                    </a:lnTo>
                    <a:lnTo>
                      <a:pt x="49" y="367"/>
                    </a:lnTo>
                    <a:lnTo>
                      <a:pt x="62" y="376"/>
                    </a:lnTo>
                    <a:lnTo>
                      <a:pt x="73" y="422"/>
                    </a:lnTo>
                    <a:lnTo>
                      <a:pt x="62" y="431"/>
                    </a:lnTo>
                    <a:lnTo>
                      <a:pt x="35" y="418"/>
                    </a:lnTo>
                    <a:lnTo>
                      <a:pt x="0" y="42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4466520" y="3276360"/>
                <a:ext cx="249480" cy="684360"/>
              </a:xfrm>
              <a:custGeom>
                <a:avLst/>
                <a:gdLst/>
                <a:ahLst/>
                <a:rect l="l" t="t" r="r" b="b"/>
                <a:pathLst>
                  <a:path w="152" h="431">
                    <a:moveTo>
                      <a:pt x="147" y="0"/>
                    </a:moveTo>
                    <a:lnTo>
                      <a:pt x="152" y="138"/>
                    </a:lnTo>
                    <a:lnTo>
                      <a:pt x="143" y="156"/>
                    </a:lnTo>
                    <a:lnTo>
                      <a:pt x="143" y="211"/>
                    </a:lnTo>
                    <a:lnTo>
                      <a:pt x="27" y="264"/>
                    </a:lnTo>
                    <a:lnTo>
                      <a:pt x="49" y="367"/>
                    </a:lnTo>
                    <a:lnTo>
                      <a:pt x="62" y="376"/>
                    </a:lnTo>
                    <a:lnTo>
                      <a:pt x="73" y="422"/>
                    </a:lnTo>
                    <a:lnTo>
                      <a:pt x="62" y="431"/>
                    </a:lnTo>
                    <a:lnTo>
                      <a:pt x="35" y="418"/>
                    </a:lnTo>
                    <a:lnTo>
                      <a:pt x="0" y="42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a:off x="4397040" y="3844800"/>
                <a:ext cx="274320" cy="384120"/>
              </a:xfrm>
              <a:custGeom>
                <a:avLst/>
                <a:gdLst/>
                <a:ahLst/>
                <a:rect l="l" t="t" r="r" b="b"/>
                <a:pathLst>
                  <a:path w="167" h="242">
                    <a:moveTo>
                      <a:pt x="91" y="9"/>
                    </a:moveTo>
                    <a:lnTo>
                      <a:pt x="150" y="0"/>
                    </a:lnTo>
                    <a:lnTo>
                      <a:pt x="163" y="9"/>
                    </a:lnTo>
                    <a:lnTo>
                      <a:pt x="167" y="25"/>
                    </a:lnTo>
                    <a:lnTo>
                      <a:pt x="91" y="211"/>
                    </a:lnTo>
                    <a:lnTo>
                      <a:pt x="0" y="24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a:off x="4397040" y="3844800"/>
                <a:ext cx="274320" cy="384120"/>
              </a:xfrm>
              <a:custGeom>
                <a:avLst/>
                <a:gdLst/>
                <a:ahLst/>
                <a:rect l="l" t="t" r="r" b="b"/>
                <a:pathLst>
                  <a:path w="167" h="242">
                    <a:moveTo>
                      <a:pt x="91" y="9"/>
                    </a:moveTo>
                    <a:lnTo>
                      <a:pt x="150" y="0"/>
                    </a:lnTo>
                    <a:lnTo>
                      <a:pt x="163" y="9"/>
                    </a:lnTo>
                    <a:lnTo>
                      <a:pt x="167" y="25"/>
                    </a:lnTo>
                    <a:lnTo>
                      <a:pt x="91" y="211"/>
                    </a:lnTo>
                    <a:lnTo>
                      <a:pt x="0" y="24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4397040" y="3611520"/>
                <a:ext cx="574920" cy="868320"/>
              </a:xfrm>
              <a:custGeom>
                <a:avLst/>
                <a:gdLst/>
                <a:ahLst/>
                <a:rect l="l" t="t" r="r" b="b"/>
                <a:pathLst>
                  <a:path w="350" h="547">
                    <a:moveTo>
                      <a:pt x="0" y="404"/>
                    </a:moveTo>
                    <a:lnTo>
                      <a:pt x="79" y="405"/>
                    </a:lnTo>
                    <a:lnTo>
                      <a:pt x="84" y="437"/>
                    </a:lnTo>
                    <a:lnTo>
                      <a:pt x="110" y="437"/>
                    </a:lnTo>
                    <a:lnTo>
                      <a:pt x="134" y="404"/>
                    </a:lnTo>
                    <a:lnTo>
                      <a:pt x="172" y="409"/>
                    </a:lnTo>
                    <a:lnTo>
                      <a:pt x="172" y="488"/>
                    </a:lnTo>
                    <a:lnTo>
                      <a:pt x="332" y="547"/>
                    </a:lnTo>
                    <a:lnTo>
                      <a:pt x="332" y="503"/>
                    </a:lnTo>
                    <a:lnTo>
                      <a:pt x="328" y="503"/>
                    </a:lnTo>
                    <a:lnTo>
                      <a:pt x="313" y="492"/>
                    </a:lnTo>
                    <a:lnTo>
                      <a:pt x="299" y="460"/>
                    </a:lnTo>
                    <a:lnTo>
                      <a:pt x="299" y="449"/>
                    </a:lnTo>
                    <a:lnTo>
                      <a:pt x="350" y="444"/>
                    </a:lnTo>
                    <a:lnTo>
                      <a:pt x="323" y="383"/>
                    </a:lnTo>
                    <a:lnTo>
                      <a:pt x="339" y="286"/>
                    </a:lnTo>
                    <a:lnTo>
                      <a:pt x="332" y="264"/>
                    </a:lnTo>
                    <a:lnTo>
                      <a:pt x="350" y="244"/>
                    </a:lnTo>
                    <a:lnTo>
                      <a:pt x="343" y="180"/>
                    </a:lnTo>
                    <a:lnTo>
                      <a:pt x="339" y="163"/>
                    </a:lnTo>
                    <a:lnTo>
                      <a:pt x="319" y="163"/>
                    </a:lnTo>
                    <a:lnTo>
                      <a:pt x="290" y="130"/>
                    </a:lnTo>
                    <a:lnTo>
                      <a:pt x="185"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a:off x="4397040" y="3611520"/>
                <a:ext cx="574920" cy="868320"/>
              </a:xfrm>
              <a:custGeom>
                <a:avLst/>
                <a:gdLst/>
                <a:ahLst/>
                <a:rect l="l" t="t" r="r" b="b"/>
                <a:pathLst>
                  <a:path w="350" h="547">
                    <a:moveTo>
                      <a:pt x="0" y="404"/>
                    </a:moveTo>
                    <a:lnTo>
                      <a:pt x="79" y="405"/>
                    </a:lnTo>
                    <a:lnTo>
                      <a:pt x="84" y="437"/>
                    </a:lnTo>
                    <a:lnTo>
                      <a:pt x="110" y="437"/>
                    </a:lnTo>
                    <a:lnTo>
                      <a:pt x="134" y="404"/>
                    </a:lnTo>
                    <a:lnTo>
                      <a:pt x="172" y="409"/>
                    </a:lnTo>
                    <a:lnTo>
                      <a:pt x="172" y="488"/>
                    </a:lnTo>
                    <a:lnTo>
                      <a:pt x="332" y="547"/>
                    </a:lnTo>
                    <a:lnTo>
                      <a:pt x="332" y="503"/>
                    </a:lnTo>
                    <a:lnTo>
                      <a:pt x="328" y="503"/>
                    </a:lnTo>
                    <a:lnTo>
                      <a:pt x="313" y="492"/>
                    </a:lnTo>
                    <a:lnTo>
                      <a:pt x="299" y="460"/>
                    </a:lnTo>
                    <a:lnTo>
                      <a:pt x="299" y="449"/>
                    </a:lnTo>
                    <a:lnTo>
                      <a:pt x="350" y="444"/>
                    </a:lnTo>
                    <a:lnTo>
                      <a:pt x="323" y="383"/>
                    </a:lnTo>
                    <a:lnTo>
                      <a:pt x="339" y="286"/>
                    </a:lnTo>
                    <a:lnTo>
                      <a:pt x="332" y="264"/>
                    </a:lnTo>
                    <a:lnTo>
                      <a:pt x="350" y="244"/>
                    </a:lnTo>
                    <a:lnTo>
                      <a:pt x="343" y="180"/>
                    </a:lnTo>
                    <a:lnTo>
                      <a:pt x="339" y="163"/>
                    </a:lnTo>
                    <a:lnTo>
                      <a:pt x="319" y="163"/>
                    </a:lnTo>
                    <a:lnTo>
                      <a:pt x="290" y="130"/>
                    </a:lnTo>
                    <a:lnTo>
                      <a:pt x="185"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a:off x="4953960" y="3870360"/>
                <a:ext cx="180360" cy="195120"/>
              </a:xfrm>
              <a:custGeom>
                <a:avLst/>
                <a:gdLst/>
                <a:ahLst/>
                <a:rect l="l" t="t" r="r" b="b"/>
                <a:pathLst>
                  <a:path w="110" h="123">
                    <a:moveTo>
                      <a:pt x="0" y="123"/>
                    </a:moveTo>
                    <a:lnTo>
                      <a:pt x="73" y="121"/>
                    </a:lnTo>
                    <a:lnTo>
                      <a:pt x="110" y="70"/>
                    </a:lnTo>
                    <a:lnTo>
                      <a:pt x="110" y="0"/>
                    </a:lnTo>
                    <a:lnTo>
                      <a:pt x="2" y="1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
              <p:cNvSpPr/>
              <p:nvPr/>
            </p:nvSpPr>
            <p:spPr>
              <a:xfrm>
                <a:off x="4953960" y="3870360"/>
                <a:ext cx="180360" cy="195120"/>
              </a:xfrm>
              <a:custGeom>
                <a:avLst/>
                <a:gdLst/>
                <a:ahLst/>
                <a:rect l="l" t="t" r="r" b="b"/>
                <a:pathLst>
                  <a:path w="110" h="123">
                    <a:moveTo>
                      <a:pt x="0" y="123"/>
                    </a:moveTo>
                    <a:lnTo>
                      <a:pt x="73" y="121"/>
                    </a:lnTo>
                    <a:lnTo>
                      <a:pt x="110" y="70"/>
                    </a:lnTo>
                    <a:lnTo>
                      <a:pt x="110" y="0"/>
                    </a:lnTo>
                    <a:lnTo>
                      <a:pt x="2" y="1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a:off x="5074200" y="3395520"/>
                <a:ext cx="96840" cy="474840"/>
              </a:xfrm>
              <a:custGeom>
                <a:avLst/>
                <a:gdLst/>
                <a:ahLst/>
                <a:rect l="l" t="t" r="r" b="b"/>
                <a:pathLst>
                  <a:path w="59" h="299">
                    <a:moveTo>
                      <a:pt x="41" y="299"/>
                    </a:moveTo>
                    <a:lnTo>
                      <a:pt x="0" y="217"/>
                    </a:lnTo>
                    <a:lnTo>
                      <a:pt x="59"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a:off x="5074200" y="3395520"/>
                <a:ext cx="96840" cy="474840"/>
              </a:xfrm>
              <a:custGeom>
                <a:avLst/>
                <a:gdLst/>
                <a:ahLst/>
                <a:rect l="l" t="t" r="r" b="b"/>
                <a:pathLst>
                  <a:path w="59" h="299">
                    <a:moveTo>
                      <a:pt x="41" y="299"/>
                    </a:moveTo>
                    <a:lnTo>
                      <a:pt x="0" y="217"/>
                    </a:lnTo>
                    <a:lnTo>
                      <a:pt x="59"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5134680" y="3689280"/>
                <a:ext cx="374760" cy="195120"/>
              </a:xfrm>
              <a:custGeom>
                <a:avLst/>
                <a:gdLst/>
                <a:ahLst/>
                <a:rect l="l" t="t" r="r" b="b"/>
                <a:pathLst>
                  <a:path w="228" h="123">
                    <a:moveTo>
                      <a:pt x="156" y="0"/>
                    </a:moveTo>
                    <a:lnTo>
                      <a:pt x="162" y="19"/>
                    </a:lnTo>
                    <a:lnTo>
                      <a:pt x="228" y="24"/>
                    </a:lnTo>
                    <a:lnTo>
                      <a:pt x="130" y="123"/>
                    </a:lnTo>
                    <a:lnTo>
                      <a:pt x="0" y="11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5134680" y="3689280"/>
                <a:ext cx="374760" cy="195120"/>
              </a:xfrm>
              <a:custGeom>
                <a:avLst/>
                <a:gdLst/>
                <a:ahLst/>
                <a:rect l="l" t="t" r="r" b="b"/>
                <a:pathLst>
                  <a:path w="228" h="123">
                    <a:moveTo>
                      <a:pt x="156" y="0"/>
                    </a:moveTo>
                    <a:lnTo>
                      <a:pt x="162" y="19"/>
                    </a:lnTo>
                    <a:lnTo>
                      <a:pt x="228" y="24"/>
                    </a:lnTo>
                    <a:lnTo>
                      <a:pt x="130" y="123"/>
                    </a:lnTo>
                    <a:lnTo>
                      <a:pt x="0" y="11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4379400" y="4421160"/>
                <a:ext cx="379440" cy="223920"/>
              </a:xfrm>
              <a:custGeom>
                <a:avLst/>
                <a:gdLst/>
                <a:ahLst/>
                <a:rect l="l" t="t" r="r" b="b"/>
                <a:pathLst>
                  <a:path w="231" h="141">
                    <a:moveTo>
                      <a:pt x="0" y="130"/>
                    </a:moveTo>
                    <a:lnTo>
                      <a:pt x="172" y="141"/>
                    </a:lnTo>
                    <a:lnTo>
                      <a:pt x="200" y="134"/>
                    </a:lnTo>
                    <a:lnTo>
                      <a:pt x="183" y="117"/>
                    </a:lnTo>
                    <a:lnTo>
                      <a:pt x="183" y="35"/>
                    </a:lnTo>
                    <a:lnTo>
                      <a:pt x="225" y="31"/>
                    </a:lnTo>
                    <a:lnTo>
                      <a:pt x="231"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6" name=""/>
              <p:cNvSpPr/>
              <p:nvPr/>
            </p:nvSpPr>
            <p:spPr>
              <a:xfrm>
                <a:off x="4379400" y="4421160"/>
                <a:ext cx="379440" cy="223920"/>
              </a:xfrm>
              <a:custGeom>
                <a:avLst/>
                <a:gdLst/>
                <a:ahLst/>
                <a:rect l="l" t="t" r="r" b="b"/>
                <a:pathLst>
                  <a:path w="231" h="141">
                    <a:moveTo>
                      <a:pt x="0" y="130"/>
                    </a:moveTo>
                    <a:lnTo>
                      <a:pt x="172" y="141"/>
                    </a:lnTo>
                    <a:lnTo>
                      <a:pt x="200" y="134"/>
                    </a:lnTo>
                    <a:lnTo>
                      <a:pt x="183" y="117"/>
                    </a:lnTo>
                    <a:lnTo>
                      <a:pt x="183" y="35"/>
                    </a:lnTo>
                    <a:lnTo>
                      <a:pt x="225" y="31"/>
                    </a:lnTo>
                    <a:lnTo>
                      <a:pt x="231"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7" name=""/>
              <p:cNvSpPr/>
              <p:nvPr/>
            </p:nvSpPr>
            <p:spPr>
              <a:xfrm>
                <a:off x="4502520" y="4645080"/>
                <a:ext cx="158760" cy="414360"/>
              </a:xfrm>
              <a:custGeom>
                <a:avLst/>
                <a:gdLst/>
                <a:ahLst/>
                <a:rect l="l" t="t" r="r" b="b"/>
                <a:pathLst>
                  <a:path w="97" h="261">
                    <a:moveTo>
                      <a:pt x="0" y="261"/>
                    </a:moveTo>
                    <a:lnTo>
                      <a:pt x="53" y="252"/>
                    </a:lnTo>
                    <a:lnTo>
                      <a:pt x="62" y="191"/>
                    </a:lnTo>
                    <a:lnTo>
                      <a:pt x="70" y="101"/>
                    </a:lnTo>
                    <a:lnTo>
                      <a:pt x="97" y="86"/>
                    </a:lnTo>
                    <a:lnTo>
                      <a:pt x="97"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4502520" y="4645080"/>
                <a:ext cx="158760" cy="414360"/>
              </a:xfrm>
              <a:custGeom>
                <a:avLst/>
                <a:gdLst/>
                <a:ahLst/>
                <a:rect l="l" t="t" r="r" b="b"/>
                <a:pathLst>
                  <a:path w="97" h="261">
                    <a:moveTo>
                      <a:pt x="0" y="261"/>
                    </a:moveTo>
                    <a:lnTo>
                      <a:pt x="53" y="252"/>
                    </a:lnTo>
                    <a:lnTo>
                      <a:pt x="62" y="191"/>
                    </a:lnTo>
                    <a:lnTo>
                      <a:pt x="70" y="101"/>
                    </a:lnTo>
                    <a:lnTo>
                      <a:pt x="97" y="86"/>
                    </a:lnTo>
                    <a:lnTo>
                      <a:pt x="97"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a:off x="4604400" y="4654440"/>
                <a:ext cx="289080" cy="343080"/>
              </a:xfrm>
              <a:custGeom>
                <a:avLst/>
                <a:gdLst/>
                <a:ahLst/>
                <a:rect l="l" t="t" r="r" b="b"/>
                <a:pathLst>
                  <a:path w="176" h="216">
                    <a:moveTo>
                      <a:pt x="0" y="185"/>
                    </a:moveTo>
                    <a:lnTo>
                      <a:pt x="59" y="216"/>
                    </a:lnTo>
                    <a:lnTo>
                      <a:pt x="85" y="161"/>
                    </a:lnTo>
                    <a:lnTo>
                      <a:pt x="109" y="163"/>
                    </a:lnTo>
                    <a:lnTo>
                      <a:pt x="176" y="91"/>
                    </a:lnTo>
                    <a:lnTo>
                      <a:pt x="112"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a:off x="4604400" y="4654440"/>
                <a:ext cx="289080" cy="343080"/>
              </a:xfrm>
              <a:custGeom>
                <a:avLst/>
                <a:gdLst/>
                <a:ahLst/>
                <a:rect l="l" t="t" r="r" b="b"/>
                <a:pathLst>
                  <a:path w="176" h="216">
                    <a:moveTo>
                      <a:pt x="0" y="185"/>
                    </a:moveTo>
                    <a:lnTo>
                      <a:pt x="59" y="216"/>
                    </a:lnTo>
                    <a:lnTo>
                      <a:pt x="85" y="161"/>
                    </a:lnTo>
                    <a:lnTo>
                      <a:pt x="109" y="163"/>
                    </a:lnTo>
                    <a:lnTo>
                      <a:pt x="176" y="91"/>
                    </a:lnTo>
                    <a:lnTo>
                      <a:pt x="112"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4893480" y="4798800"/>
                <a:ext cx="856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2" name=""/>
              <p:cNvSpPr/>
              <p:nvPr/>
            </p:nvSpPr>
            <p:spPr>
              <a:xfrm>
                <a:off x="4893480" y="4798800"/>
                <a:ext cx="856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83" name=""/>
              <p:cNvSpPr/>
              <p:nvPr/>
            </p:nvSpPr>
            <p:spPr>
              <a:xfrm>
                <a:off x="4979160" y="4798800"/>
                <a:ext cx="44280" cy="166680"/>
              </a:xfrm>
              <a:custGeom>
                <a:avLst/>
                <a:gdLst/>
                <a:ahLst/>
                <a:rect l="l" t="t" r="r" b="b"/>
                <a:pathLst>
                  <a:path w="27" h="105">
                    <a:moveTo>
                      <a:pt x="0" y="0"/>
                    </a:moveTo>
                    <a:lnTo>
                      <a:pt x="18" y="70"/>
                    </a:lnTo>
                    <a:lnTo>
                      <a:pt x="20" y="76"/>
                    </a:lnTo>
                    <a:lnTo>
                      <a:pt x="14" y="96"/>
                    </a:lnTo>
                    <a:lnTo>
                      <a:pt x="27" y="10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a:off x="4979160" y="4798800"/>
                <a:ext cx="44280" cy="166680"/>
              </a:xfrm>
              <a:custGeom>
                <a:avLst/>
                <a:gdLst/>
                <a:ahLst/>
                <a:rect l="l" t="t" r="r" b="b"/>
                <a:pathLst>
                  <a:path w="27" h="105">
                    <a:moveTo>
                      <a:pt x="0" y="0"/>
                    </a:moveTo>
                    <a:lnTo>
                      <a:pt x="18" y="70"/>
                    </a:lnTo>
                    <a:lnTo>
                      <a:pt x="20" y="76"/>
                    </a:lnTo>
                    <a:lnTo>
                      <a:pt x="14" y="96"/>
                    </a:lnTo>
                    <a:lnTo>
                      <a:pt x="27" y="10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4942800" y="4575240"/>
                <a:ext cx="86760" cy="223560"/>
              </a:xfrm>
              <a:custGeom>
                <a:avLst/>
                <a:gdLst/>
                <a:ahLst/>
                <a:rect l="l" t="t" r="r" b="b"/>
                <a:pathLst>
                  <a:path w="53" h="141">
                    <a:moveTo>
                      <a:pt x="22" y="141"/>
                    </a:moveTo>
                    <a:lnTo>
                      <a:pt x="53" y="96"/>
                    </a:lnTo>
                    <a:lnTo>
                      <a:pt x="53" y="9"/>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a:off x="4942800" y="4575240"/>
                <a:ext cx="86760" cy="223560"/>
              </a:xfrm>
              <a:custGeom>
                <a:avLst/>
                <a:gdLst/>
                <a:ahLst/>
                <a:rect l="l" t="t" r="r" b="b"/>
                <a:pathLst>
                  <a:path w="53" h="141">
                    <a:moveTo>
                      <a:pt x="22" y="141"/>
                    </a:moveTo>
                    <a:lnTo>
                      <a:pt x="53" y="96"/>
                    </a:lnTo>
                    <a:lnTo>
                      <a:pt x="53" y="9"/>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a:off x="4707720" y="4511520"/>
                <a:ext cx="348120" cy="165240"/>
              </a:xfrm>
              <a:custGeom>
                <a:avLst/>
                <a:gdLst/>
                <a:ahLst/>
                <a:rect l="l" t="t" r="r" b="b"/>
                <a:pathLst>
                  <a:path w="212" h="104">
                    <a:moveTo>
                      <a:pt x="0" y="77"/>
                    </a:moveTo>
                    <a:lnTo>
                      <a:pt x="49" y="90"/>
                    </a:lnTo>
                    <a:lnTo>
                      <a:pt x="84" y="104"/>
                    </a:lnTo>
                    <a:lnTo>
                      <a:pt x="143" y="40"/>
                    </a:lnTo>
                    <a:lnTo>
                      <a:pt x="212"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a:off x="4707720" y="4511520"/>
                <a:ext cx="348120" cy="165240"/>
              </a:xfrm>
              <a:custGeom>
                <a:avLst/>
                <a:gdLst/>
                <a:ahLst/>
                <a:rect l="l" t="t" r="r" b="b"/>
                <a:pathLst>
                  <a:path w="212" h="104">
                    <a:moveTo>
                      <a:pt x="0" y="77"/>
                    </a:moveTo>
                    <a:lnTo>
                      <a:pt x="49" y="90"/>
                    </a:lnTo>
                    <a:lnTo>
                      <a:pt x="84" y="104"/>
                    </a:lnTo>
                    <a:lnTo>
                      <a:pt x="143" y="40"/>
                    </a:lnTo>
                    <a:lnTo>
                      <a:pt x="212"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a:off x="5029920" y="4330800"/>
                <a:ext cx="104760" cy="261720"/>
              </a:xfrm>
              <a:custGeom>
                <a:avLst/>
                <a:gdLst/>
                <a:ahLst/>
                <a:rect l="l" t="t" r="r" b="b"/>
                <a:pathLst>
                  <a:path w="64" h="165">
                    <a:moveTo>
                      <a:pt x="0" y="95"/>
                    </a:moveTo>
                    <a:lnTo>
                      <a:pt x="16" y="0"/>
                    </a:lnTo>
                    <a:lnTo>
                      <a:pt x="31" y="7"/>
                    </a:lnTo>
                    <a:lnTo>
                      <a:pt x="35" y="46"/>
                    </a:lnTo>
                    <a:lnTo>
                      <a:pt x="42" y="94"/>
                    </a:lnTo>
                    <a:lnTo>
                      <a:pt x="64" y="112"/>
                    </a:lnTo>
                    <a:lnTo>
                      <a:pt x="59" y="165"/>
                    </a:lnTo>
                    <a:lnTo>
                      <a:pt x="38" y="163"/>
                    </a:lnTo>
                    <a:lnTo>
                      <a:pt x="35" y="134"/>
                    </a:lnTo>
                    <a:lnTo>
                      <a:pt x="24" y="128"/>
                    </a:lnTo>
                    <a:lnTo>
                      <a:pt x="16" y="114"/>
                    </a:lnTo>
                    <a:lnTo>
                      <a:pt x="7" y="108"/>
                    </a:lnTo>
                    <a:lnTo>
                      <a:pt x="0" y="9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a:off x="5029920" y="4330800"/>
                <a:ext cx="104760" cy="261720"/>
              </a:xfrm>
              <a:custGeom>
                <a:avLst/>
                <a:gdLst/>
                <a:ahLst/>
                <a:rect l="l" t="t" r="r" b="b"/>
                <a:pathLst>
                  <a:path w="64" h="165">
                    <a:moveTo>
                      <a:pt x="0" y="95"/>
                    </a:moveTo>
                    <a:lnTo>
                      <a:pt x="16" y="0"/>
                    </a:lnTo>
                    <a:lnTo>
                      <a:pt x="31" y="7"/>
                    </a:lnTo>
                    <a:lnTo>
                      <a:pt x="35" y="46"/>
                    </a:lnTo>
                    <a:lnTo>
                      <a:pt x="42" y="94"/>
                    </a:lnTo>
                    <a:lnTo>
                      <a:pt x="64" y="112"/>
                    </a:lnTo>
                    <a:lnTo>
                      <a:pt x="59" y="165"/>
                    </a:lnTo>
                    <a:lnTo>
                      <a:pt x="38" y="163"/>
                    </a:lnTo>
                    <a:lnTo>
                      <a:pt x="35" y="134"/>
                    </a:lnTo>
                    <a:lnTo>
                      <a:pt x="24" y="128"/>
                    </a:lnTo>
                    <a:lnTo>
                      <a:pt x="16" y="114"/>
                    </a:lnTo>
                    <a:lnTo>
                      <a:pt x="7" y="108"/>
                    </a:lnTo>
                    <a:lnTo>
                      <a:pt x="0" y="9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flipV="1">
                <a:off x="5087520" y="4382640"/>
                <a:ext cx="165600" cy="20520"/>
              </a:xfrm>
              <a:prstGeom prst="line">
                <a:avLst/>
              </a:prstGeom>
              <a:ln w="0">
                <a:solidFill>
                  <a:srgbClr val="0000ff"/>
                </a:solid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92" name=""/>
              <p:cNvSpPr/>
              <p:nvPr/>
            </p:nvSpPr>
            <p:spPr>
              <a:xfrm flipV="1">
                <a:off x="5087520" y="4382640"/>
                <a:ext cx="165600" cy="20520"/>
              </a:xfrm>
              <a:prstGeom prst="line">
                <a:avLst/>
              </a:prstGeom>
              <a:ln w="0">
                <a:solidFill>
                  <a:srgbClr val="0000ff"/>
                </a:solid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93" name=""/>
              <p:cNvSpPr/>
              <p:nvPr/>
            </p:nvSpPr>
            <p:spPr>
              <a:xfrm>
                <a:off x="4975560" y="4319640"/>
                <a:ext cx="80280" cy="11160"/>
              </a:xfrm>
              <a:prstGeom prst="line">
                <a:avLst/>
              </a:prstGeom>
              <a:ln w="0">
                <a:solidFill>
                  <a:srgbClr val="0000ff"/>
                </a:solid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4" name=""/>
              <p:cNvSpPr/>
              <p:nvPr/>
            </p:nvSpPr>
            <p:spPr>
              <a:xfrm>
                <a:off x="4975560" y="4319640"/>
                <a:ext cx="80280" cy="11160"/>
              </a:xfrm>
              <a:prstGeom prst="line">
                <a:avLst/>
              </a:prstGeom>
              <a:ln w="0">
                <a:solidFill>
                  <a:srgbClr val="0000ff"/>
                </a:solid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95" name=""/>
              <p:cNvSpPr/>
              <p:nvPr/>
            </p:nvSpPr>
            <p:spPr>
              <a:xfrm flipH="1">
                <a:off x="4664520" y="3817800"/>
                <a:ext cx="208440" cy="41400"/>
              </a:xfrm>
              <a:prstGeom prst="line">
                <a:avLst/>
              </a:prstGeom>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796" name=""/>
              <p:cNvSpPr/>
              <p:nvPr/>
            </p:nvSpPr>
            <p:spPr>
              <a:xfrm flipH="1">
                <a:off x="4664520" y="3817800"/>
                <a:ext cx="208440" cy="41400"/>
              </a:xfrm>
              <a:prstGeom prst="line">
                <a:avLst/>
              </a:prstGeom>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797" name=""/>
              <p:cNvSpPr/>
              <p:nvPr/>
            </p:nvSpPr>
            <p:spPr>
              <a:xfrm flipH="1" flipV="1">
                <a:off x="3722040" y="3055680"/>
                <a:ext cx="77040" cy="60120"/>
              </a:xfrm>
              <a:prstGeom prst="line">
                <a:avLst/>
              </a:prstGeom>
              <a:ln w="0">
                <a:solidFill>
                  <a:srgbClr val="0000ff"/>
                </a:solid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98" name=""/>
              <p:cNvSpPr/>
              <p:nvPr/>
            </p:nvSpPr>
            <p:spPr>
              <a:xfrm flipH="1" flipV="1">
                <a:off x="3722040" y="3055680"/>
                <a:ext cx="77040" cy="60120"/>
              </a:xfrm>
              <a:prstGeom prst="line">
                <a:avLst/>
              </a:prstGeom>
              <a:ln w="0">
                <a:solidFill>
                  <a:srgbClr val="0000ff"/>
                </a:solid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799" name=""/>
              <p:cNvSpPr/>
              <p:nvPr/>
            </p:nvSpPr>
            <p:spPr>
              <a:xfrm>
                <a:off x="4397040" y="1677960"/>
                <a:ext cx="123120" cy="276120"/>
              </a:xfrm>
              <a:custGeom>
                <a:avLst/>
                <a:gdLst/>
                <a:ahLst/>
                <a:rect l="l" t="t" r="r" b="b"/>
                <a:pathLst>
                  <a:path w="75" h="174">
                    <a:moveTo>
                      <a:pt x="18" y="174"/>
                    </a:moveTo>
                    <a:lnTo>
                      <a:pt x="0" y="137"/>
                    </a:lnTo>
                    <a:lnTo>
                      <a:pt x="75" y="62"/>
                    </a:lnTo>
                    <a:lnTo>
                      <a:pt x="44" y="7"/>
                    </a:lnTo>
                    <a:lnTo>
                      <a:pt x="22"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a:off x="4397040" y="1677960"/>
                <a:ext cx="123120" cy="276120"/>
              </a:xfrm>
              <a:custGeom>
                <a:avLst/>
                <a:gdLst/>
                <a:ahLst/>
                <a:rect l="l" t="t" r="r" b="b"/>
                <a:pathLst>
                  <a:path w="75" h="174">
                    <a:moveTo>
                      <a:pt x="18" y="174"/>
                    </a:moveTo>
                    <a:lnTo>
                      <a:pt x="0" y="137"/>
                    </a:lnTo>
                    <a:lnTo>
                      <a:pt x="75" y="62"/>
                    </a:lnTo>
                    <a:lnTo>
                      <a:pt x="44" y="7"/>
                    </a:lnTo>
                    <a:lnTo>
                      <a:pt x="22"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4469760" y="1622520"/>
                <a:ext cx="111240" cy="79200"/>
              </a:xfrm>
              <a:custGeom>
                <a:avLst/>
                <a:gdLst/>
                <a:ahLst/>
                <a:rect l="l" t="t" r="r" b="b"/>
                <a:pathLst>
                  <a:path w="68" h="50">
                    <a:moveTo>
                      <a:pt x="68" y="0"/>
                    </a:moveTo>
                    <a:lnTo>
                      <a:pt x="62" y="50"/>
                    </a:lnTo>
                    <a:lnTo>
                      <a:pt x="0" y="42"/>
                    </a:lnTo>
                  </a:path>
                </a:pathLst>
              </a:custGeom>
              <a:solidFill>
                <a:srgbClr val="000080">
                  <a:alpha val="50000"/>
                </a:srgbClr>
              </a:solidFill>
              <a:ln w="0">
                <a:solidFill>
                  <a:srgbClr val="0000ff"/>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02" name=""/>
              <p:cNvSpPr/>
              <p:nvPr/>
            </p:nvSpPr>
            <p:spPr>
              <a:xfrm>
                <a:off x="4469760" y="1622520"/>
                <a:ext cx="111240" cy="79200"/>
              </a:xfrm>
              <a:custGeom>
                <a:avLst/>
                <a:gdLst/>
                <a:ahLst/>
                <a:rect l="l" t="t" r="r" b="b"/>
                <a:pathLst>
                  <a:path w="68" h="50">
                    <a:moveTo>
                      <a:pt x="68" y="0"/>
                    </a:moveTo>
                    <a:lnTo>
                      <a:pt x="62" y="50"/>
                    </a:lnTo>
                    <a:lnTo>
                      <a:pt x="0" y="42"/>
                    </a:lnTo>
                  </a:path>
                </a:pathLst>
              </a:custGeom>
              <a:solidFill>
                <a:srgbClr val="000080">
                  <a:alpha val="50000"/>
                </a:srgbClr>
              </a:solidFill>
              <a:ln w="0">
                <a:solidFill>
                  <a:srgbClr val="0000ff"/>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03" name=""/>
              <p:cNvSpPr/>
              <p:nvPr/>
            </p:nvSpPr>
            <p:spPr>
              <a:xfrm>
                <a:off x="4041000" y="2243160"/>
                <a:ext cx="132840" cy="217440"/>
              </a:xfrm>
              <a:custGeom>
                <a:avLst/>
                <a:gdLst/>
                <a:ahLst/>
                <a:rect l="l" t="t" r="r" b="b"/>
                <a:pathLst>
                  <a:path w="81" h="137">
                    <a:moveTo>
                      <a:pt x="74" y="137"/>
                    </a:moveTo>
                    <a:lnTo>
                      <a:pt x="77" y="93"/>
                    </a:lnTo>
                    <a:lnTo>
                      <a:pt x="66" y="95"/>
                    </a:lnTo>
                    <a:lnTo>
                      <a:pt x="52" y="88"/>
                    </a:lnTo>
                    <a:lnTo>
                      <a:pt x="81" y="55"/>
                    </a:lnTo>
                    <a:lnTo>
                      <a:pt x="59" y="24"/>
                    </a:lnTo>
                    <a:lnTo>
                      <a:pt x="44" y="33"/>
                    </a:lnTo>
                    <a:lnTo>
                      <a:pt x="17" y="29"/>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4041000" y="2243160"/>
                <a:ext cx="132840" cy="217440"/>
              </a:xfrm>
              <a:custGeom>
                <a:avLst/>
                <a:gdLst/>
                <a:ahLst/>
                <a:rect l="l" t="t" r="r" b="b"/>
                <a:pathLst>
                  <a:path w="81" h="137">
                    <a:moveTo>
                      <a:pt x="74" y="137"/>
                    </a:moveTo>
                    <a:lnTo>
                      <a:pt x="77" y="93"/>
                    </a:lnTo>
                    <a:lnTo>
                      <a:pt x="66" y="95"/>
                    </a:lnTo>
                    <a:lnTo>
                      <a:pt x="52" y="88"/>
                    </a:lnTo>
                    <a:lnTo>
                      <a:pt x="81" y="55"/>
                    </a:lnTo>
                    <a:lnTo>
                      <a:pt x="59" y="24"/>
                    </a:lnTo>
                    <a:lnTo>
                      <a:pt x="44" y="33"/>
                    </a:lnTo>
                    <a:lnTo>
                      <a:pt x="17" y="29"/>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
              <p:cNvSpPr/>
              <p:nvPr/>
            </p:nvSpPr>
            <p:spPr>
              <a:xfrm>
                <a:off x="4041000" y="2160360"/>
                <a:ext cx="114480" cy="120960"/>
              </a:xfrm>
              <a:custGeom>
                <a:avLst/>
                <a:gdLst/>
                <a:ahLst/>
                <a:rect l="l" t="t" r="r" b="b"/>
                <a:pathLst>
                  <a:path w="70" h="76">
                    <a:moveTo>
                      <a:pt x="0" y="52"/>
                    </a:moveTo>
                    <a:lnTo>
                      <a:pt x="39" y="8"/>
                    </a:lnTo>
                    <a:lnTo>
                      <a:pt x="53" y="2"/>
                    </a:lnTo>
                    <a:lnTo>
                      <a:pt x="70" y="0"/>
                    </a:lnTo>
                    <a:lnTo>
                      <a:pt x="66" y="52"/>
                    </a:lnTo>
                    <a:lnTo>
                      <a:pt x="59" y="63"/>
                    </a:lnTo>
                    <a:lnTo>
                      <a:pt x="61" y="7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a:off x="4041000" y="2160360"/>
                <a:ext cx="114480" cy="120960"/>
              </a:xfrm>
              <a:custGeom>
                <a:avLst/>
                <a:gdLst/>
                <a:ahLst/>
                <a:rect l="l" t="t" r="r" b="b"/>
                <a:pathLst>
                  <a:path w="70" h="76">
                    <a:moveTo>
                      <a:pt x="0" y="52"/>
                    </a:moveTo>
                    <a:lnTo>
                      <a:pt x="39" y="8"/>
                    </a:lnTo>
                    <a:lnTo>
                      <a:pt x="53" y="2"/>
                    </a:lnTo>
                    <a:lnTo>
                      <a:pt x="70" y="0"/>
                    </a:lnTo>
                    <a:lnTo>
                      <a:pt x="66" y="52"/>
                    </a:lnTo>
                    <a:lnTo>
                      <a:pt x="59" y="63"/>
                    </a:lnTo>
                    <a:lnTo>
                      <a:pt x="61" y="7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4239720" y="2138400"/>
                <a:ext cx="147600" cy="160200"/>
              </a:xfrm>
              <a:custGeom>
                <a:avLst/>
                <a:gdLst/>
                <a:ahLst/>
                <a:rect l="l" t="t" r="r" b="b"/>
                <a:pathLst>
                  <a:path w="90" h="101">
                    <a:moveTo>
                      <a:pt x="0" y="5"/>
                    </a:moveTo>
                    <a:lnTo>
                      <a:pt x="6" y="82"/>
                    </a:lnTo>
                    <a:lnTo>
                      <a:pt x="48" y="101"/>
                    </a:lnTo>
                    <a:lnTo>
                      <a:pt x="90" y="69"/>
                    </a:lnTo>
                    <a:lnTo>
                      <a:pt x="66"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4239720" y="2138400"/>
                <a:ext cx="147600" cy="160200"/>
              </a:xfrm>
              <a:custGeom>
                <a:avLst/>
                <a:gdLst/>
                <a:ahLst/>
                <a:rect l="l" t="t" r="r" b="b"/>
                <a:pathLst>
                  <a:path w="90" h="101">
                    <a:moveTo>
                      <a:pt x="0" y="5"/>
                    </a:moveTo>
                    <a:lnTo>
                      <a:pt x="6" y="82"/>
                    </a:lnTo>
                    <a:lnTo>
                      <a:pt x="48" y="101"/>
                    </a:lnTo>
                    <a:lnTo>
                      <a:pt x="90" y="69"/>
                    </a:lnTo>
                    <a:lnTo>
                      <a:pt x="66"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a:off x="4336560" y="2117520"/>
                <a:ext cx="336600" cy="273240"/>
              </a:xfrm>
              <a:custGeom>
                <a:avLst/>
                <a:gdLst/>
                <a:ahLst/>
                <a:rect l="l" t="t" r="r" b="b"/>
                <a:pathLst>
                  <a:path w="205" h="172">
                    <a:moveTo>
                      <a:pt x="7" y="13"/>
                    </a:moveTo>
                    <a:lnTo>
                      <a:pt x="136" y="0"/>
                    </a:lnTo>
                    <a:lnTo>
                      <a:pt x="150" y="7"/>
                    </a:lnTo>
                    <a:lnTo>
                      <a:pt x="178" y="5"/>
                    </a:lnTo>
                    <a:lnTo>
                      <a:pt x="205" y="70"/>
                    </a:lnTo>
                    <a:lnTo>
                      <a:pt x="200" y="79"/>
                    </a:lnTo>
                    <a:lnTo>
                      <a:pt x="163" y="172"/>
                    </a:lnTo>
                    <a:lnTo>
                      <a:pt x="152" y="158"/>
                    </a:lnTo>
                    <a:lnTo>
                      <a:pt x="0" y="10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a:off x="4336560" y="2117520"/>
                <a:ext cx="336600" cy="273240"/>
              </a:xfrm>
              <a:custGeom>
                <a:avLst/>
                <a:gdLst/>
                <a:ahLst/>
                <a:rect l="l" t="t" r="r" b="b"/>
                <a:pathLst>
                  <a:path w="205" h="172">
                    <a:moveTo>
                      <a:pt x="7" y="13"/>
                    </a:moveTo>
                    <a:lnTo>
                      <a:pt x="136" y="0"/>
                    </a:lnTo>
                    <a:lnTo>
                      <a:pt x="150" y="7"/>
                    </a:lnTo>
                    <a:lnTo>
                      <a:pt x="178" y="5"/>
                    </a:lnTo>
                    <a:lnTo>
                      <a:pt x="205" y="70"/>
                    </a:lnTo>
                    <a:lnTo>
                      <a:pt x="200" y="79"/>
                    </a:lnTo>
                    <a:lnTo>
                      <a:pt x="163" y="172"/>
                    </a:lnTo>
                    <a:lnTo>
                      <a:pt x="152" y="158"/>
                    </a:lnTo>
                    <a:lnTo>
                      <a:pt x="0" y="10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4254480" y="2298600"/>
                <a:ext cx="81720" cy="60480"/>
              </a:xfrm>
              <a:custGeom>
                <a:avLst/>
                <a:gdLst/>
                <a:ahLst/>
                <a:rect l="l" t="t" r="r" b="b"/>
                <a:pathLst>
                  <a:path w="50" h="38">
                    <a:moveTo>
                      <a:pt x="39" y="0"/>
                    </a:moveTo>
                    <a:lnTo>
                      <a:pt x="50" y="33"/>
                    </a:lnTo>
                    <a:lnTo>
                      <a:pt x="0" y="38"/>
                    </a:lnTo>
                  </a:path>
                </a:pathLst>
              </a:custGeom>
              <a:solidFill>
                <a:srgbClr val="000080">
                  <a:alpha val="50000"/>
                </a:srgbClr>
              </a:solidFill>
              <a:ln w="0">
                <a:solidFill>
                  <a:srgbClr val="0000ff"/>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12" name=""/>
              <p:cNvSpPr/>
              <p:nvPr/>
            </p:nvSpPr>
            <p:spPr>
              <a:xfrm>
                <a:off x="4254480" y="2298600"/>
                <a:ext cx="81720" cy="60480"/>
              </a:xfrm>
              <a:custGeom>
                <a:avLst/>
                <a:gdLst/>
                <a:ahLst/>
                <a:rect l="l" t="t" r="r" b="b"/>
                <a:pathLst>
                  <a:path w="50" h="38">
                    <a:moveTo>
                      <a:pt x="39" y="0"/>
                    </a:moveTo>
                    <a:lnTo>
                      <a:pt x="50" y="33"/>
                    </a:lnTo>
                    <a:lnTo>
                      <a:pt x="0" y="38"/>
                    </a:lnTo>
                  </a:path>
                </a:pathLst>
              </a:custGeom>
              <a:solidFill>
                <a:srgbClr val="000080">
                  <a:alpha val="50000"/>
                </a:srgbClr>
              </a:solidFill>
              <a:ln w="0">
                <a:solidFill>
                  <a:srgbClr val="0000ff"/>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13" name=""/>
              <p:cNvSpPr/>
              <p:nvPr/>
            </p:nvSpPr>
            <p:spPr>
              <a:xfrm>
                <a:off x="4173840" y="2330280"/>
                <a:ext cx="78480" cy="28800"/>
              </a:xfrm>
              <a:custGeom>
                <a:avLst/>
                <a:gdLst/>
                <a:ahLst/>
                <a:rect l="l" t="t" r="r" b="b"/>
                <a:pathLst>
                  <a:path w="48" h="18">
                    <a:moveTo>
                      <a:pt x="48" y="18"/>
                    </a:moveTo>
                    <a:lnTo>
                      <a:pt x="38" y="0"/>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814" name=""/>
              <p:cNvSpPr/>
              <p:nvPr/>
            </p:nvSpPr>
            <p:spPr>
              <a:xfrm>
                <a:off x="4173840" y="2330280"/>
                <a:ext cx="78480" cy="28800"/>
              </a:xfrm>
              <a:custGeom>
                <a:avLst/>
                <a:gdLst/>
                <a:ahLst/>
                <a:rect l="l" t="t" r="r" b="b"/>
                <a:pathLst>
                  <a:path w="48" h="18">
                    <a:moveTo>
                      <a:pt x="48" y="18"/>
                    </a:moveTo>
                    <a:lnTo>
                      <a:pt x="38" y="0"/>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815" name=""/>
              <p:cNvSpPr/>
              <p:nvPr/>
            </p:nvSpPr>
            <p:spPr>
              <a:xfrm>
                <a:off x="4167360" y="2359080"/>
                <a:ext cx="84960" cy="31680"/>
              </a:xfrm>
              <a:custGeom>
                <a:avLst/>
                <a:gdLst/>
                <a:ahLst/>
                <a:rect l="l" t="t" r="r" b="b"/>
                <a:pathLst>
                  <a:path w="52" h="20">
                    <a:moveTo>
                      <a:pt x="52" y="0"/>
                    </a:moveTo>
                    <a:lnTo>
                      <a:pt x="46" y="17"/>
                    </a:lnTo>
                    <a:lnTo>
                      <a:pt x="0" y="20"/>
                    </a:lnTo>
                  </a:path>
                </a:pathLst>
              </a:custGeom>
              <a:solidFill>
                <a:srgbClr val="000080">
                  <a:alpha val="50000"/>
                </a:srgbClr>
              </a:solidFill>
              <a:ln w="0">
                <a:solidFill>
                  <a:srgbClr val="0000ff"/>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16" name=""/>
              <p:cNvSpPr/>
              <p:nvPr/>
            </p:nvSpPr>
            <p:spPr>
              <a:xfrm>
                <a:off x="4167360" y="2359080"/>
                <a:ext cx="84960" cy="31680"/>
              </a:xfrm>
              <a:custGeom>
                <a:avLst/>
                <a:gdLst/>
                <a:ahLst/>
                <a:rect l="l" t="t" r="r" b="b"/>
                <a:pathLst>
                  <a:path w="52" h="20">
                    <a:moveTo>
                      <a:pt x="52" y="0"/>
                    </a:moveTo>
                    <a:lnTo>
                      <a:pt x="46" y="17"/>
                    </a:lnTo>
                    <a:lnTo>
                      <a:pt x="0" y="20"/>
                    </a:lnTo>
                  </a:path>
                </a:pathLst>
              </a:custGeom>
              <a:solidFill>
                <a:srgbClr val="000080">
                  <a:alpha val="50000"/>
                </a:srgbClr>
              </a:solidFill>
              <a:ln w="0">
                <a:solidFill>
                  <a:srgbClr val="0000ff"/>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817" name=""/>
              <p:cNvSpPr/>
              <p:nvPr/>
            </p:nvSpPr>
            <p:spPr>
              <a:xfrm>
                <a:off x="4242960" y="2344680"/>
                <a:ext cx="175680" cy="95400"/>
              </a:xfrm>
              <a:custGeom>
                <a:avLst/>
                <a:gdLst/>
                <a:ahLst/>
                <a:rect l="l" t="t" r="r" b="b"/>
                <a:pathLst>
                  <a:path w="107" h="60">
                    <a:moveTo>
                      <a:pt x="0" y="26"/>
                    </a:moveTo>
                    <a:lnTo>
                      <a:pt x="26" y="49"/>
                    </a:lnTo>
                    <a:lnTo>
                      <a:pt x="59" y="26"/>
                    </a:lnTo>
                    <a:lnTo>
                      <a:pt x="85" y="60"/>
                    </a:lnTo>
                    <a:lnTo>
                      <a:pt x="107" y="44"/>
                    </a:lnTo>
                    <a:lnTo>
                      <a:pt x="88" y="4"/>
                    </a:lnTo>
                    <a:lnTo>
                      <a:pt x="77" y="0"/>
                    </a:lnTo>
                    <a:lnTo>
                      <a:pt x="57" y="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4242960" y="2344680"/>
                <a:ext cx="175680" cy="95400"/>
              </a:xfrm>
              <a:custGeom>
                <a:avLst/>
                <a:gdLst/>
                <a:ahLst/>
                <a:rect l="l" t="t" r="r" b="b"/>
                <a:pathLst>
                  <a:path w="107" h="60">
                    <a:moveTo>
                      <a:pt x="0" y="26"/>
                    </a:moveTo>
                    <a:lnTo>
                      <a:pt x="26" y="49"/>
                    </a:lnTo>
                    <a:lnTo>
                      <a:pt x="59" y="26"/>
                    </a:lnTo>
                    <a:lnTo>
                      <a:pt x="85" y="60"/>
                    </a:lnTo>
                    <a:lnTo>
                      <a:pt x="107" y="44"/>
                    </a:lnTo>
                    <a:lnTo>
                      <a:pt x="88" y="4"/>
                    </a:lnTo>
                    <a:lnTo>
                      <a:pt x="77" y="0"/>
                    </a:lnTo>
                    <a:lnTo>
                      <a:pt x="57" y="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
              <p:cNvSpPr/>
              <p:nvPr/>
            </p:nvSpPr>
            <p:spPr>
              <a:xfrm>
                <a:off x="4499280" y="2530440"/>
                <a:ext cx="100080" cy="120600"/>
              </a:xfrm>
              <a:custGeom>
                <a:avLst/>
                <a:gdLst/>
                <a:ahLst/>
                <a:rect l="l" t="t" r="r" b="b"/>
                <a:pathLst>
                  <a:path w="61" h="76">
                    <a:moveTo>
                      <a:pt x="51" y="76"/>
                    </a:moveTo>
                    <a:lnTo>
                      <a:pt x="53" y="54"/>
                    </a:lnTo>
                    <a:lnTo>
                      <a:pt x="61" y="35"/>
                    </a:lnTo>
                    <a:lnTo>
                      <a:pt x="28" y="0"/>
                    </a:lnTo>
                    <a:lnTo>
                      <a:pt x="0" y="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0" name=""/>
              <p:cNvSpPr/>
              <p:nvPr/>
            </p:nvSpPr>
            <p:spPr>
              <a:xfrm>
                <a:off x="4499280" y="2530440"/>
                <a:ext cx="100080" cy="120600"/>
              </a:xfrm>
              <a:custGeom>
                <a:avLst/>
                <a:gdLst/>
                <a:ahLst/>
                <a:rect l="l" t="t" r="r" b="b"/>
                <a:pathLst>
                  <a:path w="61" h="76">
                    <a:moveTo>
                      <a:pt x="51" y="76"/>
                    </a:moveTo>
                    <a:lnTo>
                      <a:pt x="53" y="54"/>
                    </a:lnTo>
                    <a:lnTo>
                      <a:pt x="61" y="35"/>
                    </a:lnTo>
                    <a:lnTo>
                      <a:pt x="28" y="0"/>
                    </a:lnTo>
                    <a:lnTo>
                      <a:pt x="0" y="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4510800" y="2487600"/>
                <a:ext cx="118080" cy="98280"/>
              </a:xfrm>
              <a:custGeom>
                <a:avLst/>
                <a:gdLst/>
                <a:ahLst/>
                <a:rect l="l" t="t" r="r" b="b"/>
                <a:pathLst>
                  <a:path w="72" h="62">
                    <a:moveTo>
                      <a:pt x="54" y="62"/>
                    </a:moveTo>
                    <a:lnTo>
                      <a:pt x="59" y="55"/>
                    </a:lnTo>
                    <a:lnTo>
                      <a:pt x="72" y="48"/>
                    </a:lnTo>
                    <a:lnTo>
                      <a:pt x="50" y="13"/>
                    </a:lnTo>
                    <a:lnTo>
                      <a:pt x="28" y="0"/>
                    </a:lnTo>
                    <a:lnTo>
                      <a:pt x="11" y="2"/>
                    </a:lnTo>
                    <a:lnTo>
                      <a:pt x="0" y="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4510800" y="2487600"/>
                <a:ext cx="118080" cy="98280"/>
              </a:xfrm>
              <a:custGeom>
                <a:avLst/>
                <a:gdLst/>
                <a:ahLst/>
                <a:rect l="l" t="t" r="r" b="b"/>
                <a:pathLst>
                  <a:path w="72" h="62">
                    <a:moveTo>
                      <a:pt x="54" y="62"/>
                    </a:moveTo>
                    <a:lnTo>
                      <a:pt x="59" y="55"/>
                    </a:lnTo>
                    <a:lnTo>
                      <a:pt x="72" y="48"/>
                    </a:lnTo>
                    <a:lnTo>
                      <a:pt x="50" y="13"/>
                    </a:lnTo>
                    <a:lnTo>
                      <a:pt x="28" y="0"/>
                    </a:lnTo>
                    <a:lnTo>
                      <a:pt x="11" y="2"/>
                    </a:lnTo>
                    <a:lnTo>
                      <a:pt x="0" y="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3722040" y="2512800"/>
                <a:ext cx="80280" cy="222480"/>
              </a:xfrm>
              <a:custGeom>
                <a:avLst/>
                <a:gdLst/>
                <a:ahLst/>
                <a:rect l="l" t="t" r="r" b="b"/>
                <a:pathLst>
                  <a:path w="49" h="140">
                    <a:moveTo>
                      <a:pt x="35" y="140"/>
                    </a:moveTo>
                    <a:lnTo>
                      <a:pt x="49" y="15"/>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
              <p:cNvSpPr/>
              <p:nvPr/>
            </p:nvSpPr>
            <p:spPr>
              <a:xfrm>
                <a:off x="3722040" y="2512800"/>
                <a:ext cx="80280" cy="222480"/>
              </a:xfrm>
              <a:custGeom>
                <a:avLst/>
                <a:gdLst/>
                <a:ahLst/>
                <a:rect l="l" t="t" r="r" b="b"/>
                <a:pathLst>
                  <a:path w="49" h="140">
                    <a:moveTo>
                      <a:pt x="35" y="140"/>
                    </a:moveTo>
                    <a:lnTo>
                      <a:pt x="49" y="15"/>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5" name=""/>
              <p:cNvSpPr/>
              <p:nvPr/>
            </p:nvSpPr>
            <p:spPr>
              <a:xfrm>
                <a:off x="4664880" y="2243160"/>
                <a:ext cx="42840" cy="12996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4664880" y="2243160"/>
                <a:ext cx="42840" cy="12996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a:off x="4707720" y="2373120"/>
                <a:ext cx="80280" cy="73080"/>
              </a:xfrm>
              <a:custGeom>
                <a:avLst/>
                <a:gdLst/>
                <a:ahLst/>
                <a:rect l="l" t="t" r="r" b="b"/>
                <a:pathLst>
                  <a:path w="49" h="46">
                    <a:moveTo>
                      <a:pt x="49" y="46"/>
                    </a:moveTo>
                    <a:lnTo>
                      <a:pt x="38" y="35"/>
                    </a:lnTo>
                    <a:lnTo>
                      <a:pt x="34" y="20"/>
                    </a:lnTo>
                    <a:lnTo>
                      <a:pt x="22" y="4"/>
                    </a:lnTo>
                    <a:lnTo>
                      <a:pt x="5" y="0"/>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28" name=""/>
              <p:cNvSpPr/>
              <p:nvPr/>
            </p:nvSpPr>
            <p:spPr>
              <a:xfrm>
                <a:off x="4707720" y="2373120"/>
                <a:ext cx="80280" cy="73080"/>
              </a:xfrm>
              <a:custGeom>
                <a:avLst/>
                <a:gdLst/>
                <a:ahLst/>
                <a:rect l="l" t="t" r="r" b="b"/>
                <a:pathLst>
                  <a:path w="49" h="46">
                    <a:moveTo>
                      <a:pt x="49" y="46"/>
                    </a:moveTo>
                    <a:lnTo>
                      <a:pt x="38" y="35"/>
                    </a:lnTo>
                    <a:lnTo>
                      <a:pt x="34" y="20"/>
                    </a:lnTo>
                    <a:lnTo>
                      <a:pt x="22" y="4"/>
                    </a:lnTo>
                    <a:lnTo>
                      <a:pt x="5" y="0"/>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829" name=""/>
              <p:cNvSpPr/>
              <p:nvPr/>
            </p:nvSpPr>
            <p:spPr>
              <a:xfrm>
                <a:off x="4459680" y="2373120"/>
                <a:ext cx="248040" cy="82800"/>
              </a:xfrm>
              <a:custGeom>
                <a:avLst/>
                <a:gdLst/>
                <a:ahLst/>
                <a:rect l="l" t="t" r="r" b="b"/>
                <a:pathLst>
                  <a:path w="151" h="52">
                    <a:moveTo>
                      <a:pt x="151" y="0"/>
                    </a:moveTo>
                    <a:lnTo>
                      <a:pt x="88" y="11"/>
                    </a:lnTo>
                    <a:lnTo>
                      <a:pt x="50" y="8"/>
                    </a:lnTo>
                    <a:lnTo>
                      <a:pt x="0" y="52"/>
                    </a:lnTo>
                  </a:path>
                </a:pathLst>
              </a:custGeom>
              <a:solidFill>
                <a:srgbClr val="000080">
                  <a:alpha val="50000"/>
                </a:srgbClr>
              </a:solidFill>
              <a:ln w="0">
                <a:solidFill>
                  <a:srgbClr val="0000ff"/>
                </a:solid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830" name=""/>
              <p:cNvSpPr/>
              <p:nvPr/>
            </p:nvSpPr>
            <p:spPr>
              <a:xfrm>
                <a:off x="4459680" y="2373120"/>
                <a:ext cx="248040" cy="82800"/>
              </a:xfrm>
              <a:custGeom>
                <a:avLst/>
                <a:gdLst/>
                <a:ahLst/>
                <a:rect l="l" t="t" r="r" b="b"/>
                <a:pathLst>
                  <a:path w="151" h="52">
                    <a:moveTo>
                      <a:pt x="151" y="0"/>
                    </a:moveTo>
                    <a:lnTo>
                      <a:pt x="88" y="11"/>
                    </a:lnTo>
                    <a:lnTo>
                      <a:pt x="50" y="8"/>
                    </a:lnTo>
                    <a:lnTo>
                      <a:pt x="0" y="52"/>
                    </a:lnTo>
                  </a:path>
                </a:pathLst>
              </a:custGeom>
              <a:solidFill>
                <a:srgbClr val="000080">
                  <a:alpha val="50000"/>
                </a:srgbClr>
              </a:solidFill>
              <a:ln w="0">
                <a:solidFill>
                  <a:srgbClr val="0000ff"/>
                </a:solid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831" name=""/>
              <p:cNvSpPr/>
              <p:nvPr/>
            </p:nvSpPr>
            <p:spPr>
              <a:xfrm>
                <a:off x="4628880" y="2467080"/>
                <a:ext cx="154440" cy="37800"/>
              </a:xfrm>
              <a:custGeom>
                <a:avLst/>
                <a:gdLst/>
                <a:ahLst/>
                <a:rect l="l" t="t" r="r" b="b"/>
                <a:pathLst>
                  <a:path w="94" h="24">
                    <a:moveTo>
                      <a:pt x="0" y="13"/>
                    </a:moveTo>
                    <a:lnTo>
                      <a:pt x="11" y="24"/>
                    </a:lnTo>
                    <a:lnTo>
                      <a:pt x="60" y="0"/>
                    </a:lnTo>
                    <a:lnTo>
                      <a:pt x="94" y="7"/>
                    </a:lnTo>
                  </a:path>
                </a:pathLst>
              </a:custGeom>
              <a:solidFill>
                <a:srgbClr val="000080">
                  <a:alpha val="50000"/>
                </a:srgbClr>
              </a:solidFill>
              <a:ln w="0">
                <a:solidFill>
                  <a:srgbClr val="0000ff"/>
                </a:solid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32" name=""/>
              <p:cNvSpPr/>
              <p:nvPr/>
            </p:nvSpPr>
            <p:spPr>
              <a:xfrm>
                <a:off x="4628880" y="2467080"/>
                <a:ext cx="154440" cy="37800"/>
              </a:xfrm>
              <a:custGeom>
                <a:avLst/>
                <a:gdLst/>
                <a:ahLst/>
                <a:rect l="l" t="t" r="r" b="b"/>
                <a:pathLst>
                  <a:path w="94" h="24">
                    <a:moveTo>
                      <a:pt x="0" y="13"/>
                    </a:moveTo>
                    <a:lnTo>
                      <a:pt x="11" y="24"/>
                    </a:lnTo>
                    <a:lnTo>
                      <a:pt x="60" y="0"/>
                    </a:lnTo>
                    <a:lnTo>
                      <a:pt x="94" y="7"/>
                    </a:lnTo>
                  </a:path>
                </a:pathLst>
              </a:custGeom>
              <a:solidFill>
                <a:srgbClr val="000080">
                  <a:alpha val="50000"/>
                </a:srgbClr>
              </a:solidFill>
              <a:ln w="0">
                <a:solidFill>
                  <a:srgbClr val="0000ff"/>
                </a:solid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833" name=""/>
              <p:cNvSpPr/>
              <p:nvPr/>
            </p:nvSpPr>
            <p:spPr>
              <a:xfrm>
                <a:off x="4780080" y="2386080"/>
                <a:ext cx="54000" cy="168120"/>
              </a:xfrm>
              <a:custGeom>
                <a:avLst/>
                <a:gdLst/>
                <a:ahLst/>
                <a:rect l="l" t="t" r="r" b="b"/>
                <a:pathLst>
                  <a:path w="33" h="106">
                    <a:moveTo>
                      <a:pt x="33" y="0"/>
                    </a:moveTo>
                    <a:lnTo>
                      <a:pt x="9" y="33"/>
                    </a:lnTo>
                    <a:lnTo>
                      <a:pt x="5" y="38"/>
                    </a:lnTo>
                    <a:lnTo>
                      <a:pt x="2" y="58"/>
                    </a:lnTo>
                    <a:lnTo>
                      <a:pt x="0" y="73"/>
                    </a:lnTo>
                    <a:lnTo>
                      <a:pt x="2" y="10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4" name=""/>
              <p:cNvSpPr/>
              <p:nvPr/>
            </p:nvSpPr>
            <p:spPr>
              <a:xfrm>
                <a:off x="4780080" y="2386080"/>
                <a:ext cx="54000" cy="168120"/>
              </a:xfrm>
              <a:custGeom>
                <a:avLst/>
                <a:gdLst/>
                <a:ahLst/>
                <a:rect l="l" t="t" r="r" b="b"/>
                <a:pathLst>
                  <a:path w="33" h="106">
                    <a:moveTo>
                      <a:pt x="33" y="0"/>
                    </a:moveTo>
                    <a:lnTo>
                      <a:pt x="9" y="33"/>
                    </a:lnTo>
                    <a:lnTo>
                      <a:pt x="5" y="38"/>
                    </a:lnTo>
                    <a:lnTo>
                      <a:pt x="2" y="58"/>
                    </a:lnTo>
                    <a:lnTo>
                      <a:pt x="0" y="73"/>
                    </a:lnTo>
                    <a:lnTo>
                      <a:pt x="2" y="10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5" name=""/>
              <p:cNvSpPr/>
              <p:nvPr/>
            </p:nvSpPr>
            <p:spPr>
              <a:xfrm>
                <a:off x="4834080" y="2352600"/>
                <a:ext cx="333720" cy="233280"/>
              </a:xfrm>
              <a:custGeom>
                <a:avLst/>
                <a:gdLst/>
                <a:ahLst/>
                <a:rect l="l" t="t" r="r" b="b"/>
                <a:pathLst>
                  <a:path w="203" h="147">
                    <a:moveTo>
                      <a:pt x="0" y="21"/>
                    </a:moveTo>
                    <a:lnTo>
                      <a:pt x="33" y="50"/>
                    </a:lnTo>
                    <a:lnTo>
                      <a:pt x="53" y="79"/>
                    </a:lnTo>
                    <a:lnTo>
                      <a:pt x="95" y="55"/>
                    </a:lnTo>
                    <a:lnTo>
                      <a:pt x="68" y="26"/>
                    </a:lnTo>
                    <a:lnTo>
                      <a:pt x="143" y="0"/>
                    </a:lnTo>
                    <a:lnTo>
                      <a:pt x="115" y="72"/>
                    </a:lnTo>
                    <a:lnTo>
                      <a:pt x="203" y="109"/>
                    </a:lnTo>
                    <a:lnTo>
                      <a:pt x="194" y="14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a:off x="4834080" y="2352600"/>
                <a:ext cx="333720" cy="233280"/>
              </a:xfrm>
              <a:custGeom>
                <a:avLst/>
                <a:gdLst/>
                <a:ahLst/>
                <a:rect l="l" t="t" r="r" b="b"/>
                <a:pathLst>
                  <a:path w="203" h="147">
                    <a:moveTo>
                      <a:pt x="0" y="21"/>
                    </a:moveTo>
                    <a:lnTo>
                      <a:pt x="33" y="50"/>
                    </a:lnTo>
                    <a:lnTo>
                      <a:pt x="53" y="79"/>
                    </a:lnTo>
                    <a:lnTo>
                      <a:pt x="95" y="55"/>
                    </a:lnTo>
                    <a:lnTo>
                      <a:pt x="68" y="26"/>
                    </a:lnTo>
                    <a:lnTo>
                      <a:pt x="143" y="0"/>
                    </a:lnTo>
                    <a:lnTo>
                      <a:pt x="115" y="72"/>
                    </a:lnTo>
                    <a:lnTo>
                      <a:pt x="203" y="109"/>
                    </a:lnTo>
                    <a:lnTo>
                      <a:pt x="194" y="14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a:off x="4785120" y="2539800"/>
                <a:ext cx="367920" cy="46080"/>
              </a:xfrm>
              <a:custGeom>
                <a:avLst/>
                <a:gdLst/>
                <a:ahLst/>
                <a:rect l="l" t="t" r="r" b="b"/>
                <a:pathLst>
                  <a:path w="224" h="29">
                    <a:moveTo>
                      <a:pt x="224" y="29"/>
                    </a:moveTo>
                    <a:lnTo>
                      <a:pt x="149" y="7"/>
                    </a:lnTo>
                    <a:lnTo>
                      <a:pt x="74" y="0"/>
                    </a:lnTo>
                    <a:lnTo>
                      <a:pt x="22" y="9"/>
                    </a:lnTo>
                    <a:lnTo>
                      <a:pt x="0" y="9"/>
                    </a:lnTo>
                  </a:path>
                </a:pathLst>
              </a:custGeom>
              <a:solidFill>
                <a:srgbClr val="000080">
                  <a:alpha val="50000"/>
                </a:srgbClr>
              </a:solidFill>
              <a:ln w="0">
                <a:solidFill>
                  <a:srgbClr val="0000ff"/>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38" name=""/>
              <p:cNvSpPr/>
              <p:nvPr/>
            </p:nvSpPr>
            <p:spPr>
              <a:xfrm>
                <a:off x="4785120" y="2539800"/>
                <a:ext cx="367920" cy="46080"/>
              </a:xfrm>
              <a:custGeom>
                <a:avLst/>
                <a:gdLst/>
                <a:ahLst/>
                <a:rect l="l" t="t" r="r" b="b"/>
                <a:pathLst>
                  <a:path w="224" h="29">
                    <a:moveTo>
                      <a:pt x="224" y="29"/>
                    </a:moveTo>
                    <a:lnTo>
                      <a:pt x="149" y="7"/>
                    </a:lnTo>
                    <a:lnTo>
                      <a:pt x="74" y="0"/>
                    </a:lnTo>
                    <a:lnTo>
                      <a:pt x="22" y="9"/>
                    </a:lnTo>
                    <a:lnTo>
                      <a:pt x="0" y="9"/>
                    </a:lnTo>
                  </a:path>
                </a:pathLst>
              </a:custGeom>
              <a:solidFill>
                <a:srgbClr val="000080">
                  <a:alpha val="50000"/>
                </a:srgbClr>
              </a:solidFill>
              <a:ln w="0">
                <a:solidFill>
                  <a:srgbClr val="0000ff"/>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39" name=""/>
              <p:cNvSpPr/>
              <p:nvPr/>
            </p:nvSpPr>
            <p:spPr>
              <a:xfrm flipH="1">
                <a:off x="4755240" y="2554200"/>
                <a:ext cx="29160" cy="41400"/>
              </a:xfrm>
              <a:prstGeom prst="line">
                <a:avLst/>
              </a:prstGeom>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840" name=""/>
              <p:cNvSpPr/>
              <p:nvPr/>
            </p:nvSpPr>
            <p:spPr>
              <a:xfrm flipH="1">
                <a:off x="4755240" y="2554200"/>
                <a:ext cx="29160" cy="41400"/>
              </a:xfrm>
              <a:prstGeom prst="line">
                <a:avLst/>
              </a:prstGeom>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841" name=""/>
              <p:cNvSpPr/>
              <p:nvPr/>
            </p:nvSpPr>
            <p:spPr>
              <a:xfrm>
                <a:off x="5023440" y="2693880"/>
                <a:ext cx="154080" cy="219240"/>
              </a:xfrm>
              <a:custGeom>
                <a:avLst/>
                <a:gdLst/>
                <a:ahLst/>
                <a:rect l="l" t="t" r="r" b="b"/>
                <a:pathLst>
                  <a:path w="94" h="138">
                    <a:moveTo>
                      <a:pt x="4" y="26"/>
                    </a:moveTo>
                    <a:lnTo>
                      <a:pt x="94" y="0"/>
                    </a:lnTo>
                    <a:lnTo>
                      <a:pt x="94" y="51"/>
                    </a:lnTo>
                    <a:lnTo>
                      <a:pt x="52" y="92"/>
                    </a:lnTo>
                    <a:lnTo>
                      <a:pt x="0" y="138"/>
                    </a:lnTo>
                    <a:lnTo>
                      <a:pt x="0" y="2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5023440" y="2693880"/>
                <a:ext cx="154080" cy="219240"/>
              </a:xfrm>
              <a:custGeom>
                <a:avLst/>
                <a:gdLst/>
                <a:ahLst/>
                <a:rect l="l" t="t" r="r" b="b"/>
                <a:pathLst>
                  <a:path w="94" h="138">
                    <a:moveTo>
                      <a:pt x="4" y="26"/>
                    </a:moveTo>
                    <a:lnTo>
                      <a:pt x="94" y="0"/>
                    </a:lnTo>
                    <a:lnTo>
                      <a:pt x="94" y="51"/>
                    </a:lnTo>
                    <a:lnTo>
                      <a:pt x="52" y="92"/>
                    </a:lnTo>
                    <a:lnTo>
                      <a:pt x="0" y="138"/>
                    </a:lnTo>
                    <a:lnTo>
                      <a:pt x="0" y="2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3" name=""/>
              <p:cNvSpPr/>
              <p:nvPr/>
            </p:nvSpPr>
            <p:spPr>
              <a:xfrm>
                <a:off x="5069160" y="2840040"/>
                <a:ext cx="57240" cy="142920"/>
              </a:xfrm>
              <a:custGeom>
                <a:avLst/>
                <a:gdLst/>
                <a:ahLst/>
                <a:rect l="l" t="t" r="r" b="b"/>
                <a:pathLst>
                  <a:path w="35" h="90">
                    <a:moveTo>
                      <a:pt x="24" y="0"/>
                    </a:moveTo>
                    <a:lnTo>
                      <a:pt x="27" y="11"/>
                    </a:lnTo>
                    <a:lnTo>
                      <a:pt x="29" y="20"/>
                    </a:lnTo>
                    <a:lnTo>
                      <a:pt x="24" y="31"/>
                    </a:lnTo>
                    <a:lnTo>
                      <a:pt x="27" y="40"/>
                    </a:lnTo>
                    <a:lnTo>
                      <a:pt x="35" y="55"/>
                    </a:lnTo>
                    <a:lnTo>
                      <a:pt x="35" y="77"/>
                    </a:lnTo>
                    <a:lnTo>
                      <a:pt x="16" y="90"/>
                    </a:lnTo>
                    <a:lnTo>
                      <a:pt x="0" y="8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a:off x="5069160" y="2840040"/>
                <a:ext cx="57240" cy="142920"/>
              </a:xfrm>
              <a:custGeom>
                <a:avLst/>
                <a:gdLst/>
                <a:ahLst/>
                <a:rect l="l" t="t" r="r" b="b"/>
                <a:pathLst>
                  <a:path w="35" h="90">
                    <a:moveTo>
                      <a:pt x="24" y="0"/>
                    </a:moveTo>
                    <a:lnTo>
                      <a:pt x="27" y="11"/>
                    </a:lnTo>
                    <a:lnTo>
                      <a:pt x="29" y="20"/>
                    </a:lnTo>
                    <a:lnTo>
                      <a:pt x="24" y="31"/>
                    </a:lnTo>
                    <a:lnTo>
                      <a:pt x="27" y="40"/>
                    </a:lnTo>
                    <a:lnTo>
                      <a:pt x="35" y="55"/>
                    </a:lnTo>
                    <a:lnTo>
                      <a:pt x="35" y="77"/>
                    </a:lnTo>
                    <a:lnTo>
                      <a:pt x="16" y="90"/>
                    </a:lnTo>
                    <a:lnTo>
                      <a:pt x="0" y="8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
              <p:cNvSpPr/>
              <p:nvPr/>
            </p:nvSpPr>
            <p:spPr>
              <a:xfrm>
                <a:off x="5113440" y="2651040"/>
                <a:ext cx="341280" cy="353880"/>
              </a:xfrm>
              <a:custGeom>
                <a:avLst/>
                <a:gdLst/>
                <a:ahLst/>
                <a:rect l="l" t="t" r="r" b="b"/>
                <a:pathLst>
                  <a:path w="208" h="223">
                    <a:moveTo>
                      <a:pt x="0" y="130"/>
                    </a:moveTo>
                    <a:lnTo>
                      <a:pt x="116" y="174"/>
                    </a:lnTo>
                    <a:lnTo>
                      <a:pt x="143" y="174"/>
                    </a:lnTo>
                    <a:lnTo>
                      <a:pt x="176" y="218"/>
                    </a:lnTo>
                    <a:lnTo>
                      <a:pt x="208" y="223"/>
                    </a:lnTo>
                    <a:lnTo>
                      <a:pt x="206" y="183"/>
                    </a:lnTo>
                    <a:lnTo>
                      <a:pt x="151" y="139"/>
                    </a:lnTo>
                    <a:lnTo>
                      <a:pt x="143" y="126"/>
                    </a:lnTo>
                    <a:lnTo>
                      <a:pt x="143" y="106"/>
                    </a:lnTo>
                    <a:lnTo>
                      <a:pt x="151" y="84"/>
                    </a:lnTo>
                    <a:lnTo>
                      <a:pt x="132" y="44"/>
                    </a:lnTo>
                    <a:lnTo>
                      <a:pt x="103" y="44"/>
                    </a:lnTo>
                    <a:lnTo>
                      <a:pt x="94" y="11"/>
                    </a:lnTo>
                    <a:lnTo>
                      <a:pt x="57" y="0"/>
                    </a:lnTo>
                    <a:lnTo>
                      <a:pt x="61" y="14"/>
                    </a:lnTo>
                    <a:lnTo>
                      <a:pt x="39" y="2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a:off x="5113440" y="2651040"/>
                <a:ext cx="341280" cy="353880"/>
              </a:xfrm>
              <a:custGeom>
                <a:avLst/>
                <a:gdLst/>
                <a:ahLst/>
                <a:rect l="l" t="t" r="r" b="b"/>
                <a:pathLst>
                  <a:path w="208" h="223">
                    <a:moveTo>
                      <a:pt x="0" y="130"/>
                    </a:moveTo>
                    <a:lnTo>
                      <a:pt x="116" y="174"/>
                    </a:lnTo>
                    <a:lnTo>
                      <a:pt x="143" y="174"/>
                    </a:lnTo>
                    <a:lnTo>
                      <a:pt x="176" y="218"/>
                    </a:lnTo>
                    <a:lnTo>
                      <a:pt x="208" y="223"/>
                    </a:lnTo>
                    <a:lnTo>
                      <a:pt x="206" y="183"/>
                    </a:lnTo>
                    <a:lnTo>
                      <a:pt x="151" y="139"/>
                    </a:lnTo>
                    <a:lnTo>
                      <a:pt x="143" y="126"/>
                    </a:lnTo>
                    <a:lnTo>
                      <a:pt x="143" y="106"/>
                    </a:lnTo>
                    <a:lnTo>
                      <a:pt x="151" y="84"/>
                    </a:lnTo>
                    <a:lnTo>
                      <a:pt x="132" y="44"/>
                    </a:lnTo>
                    <a:lnTo>
                      <a:pt x="103" y="44"/>
                    </a:lnTo>
                    <a:lnTo>
                      <a:pt x="94" y="11"/>
                    </a:lnTo>
                    <a:lnTo>
                      <a:pt x="57" y="0"/>
                    </a:lnTo>
                    <a:lnTo>
                      <a:pt x="61" y="14"/>
                    </a:lnTo>
                    <a:lnTo>
                      <a:pt x="39" y="2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7" name=""/>
              <p:cNvSpPr/>
              <p:nvPr/>
            </p:nvSpPr>
            <p:spPr>
              <a:xfrm>
                <a:off x="5268240" y="2647800"/>
                <a:ext cx="610920" cy="360360"/>
              </a:xfrm>
              <a:custGeom>
                <a:avLst/>
                <a:gdLst/>
                <a:ahLst/>
                <a:rect l="l" t="t" r="r" b="b"/>
                <a:pathLst>
                  <a:path w="372" h="227">
                    <a:moveTo>
                      <a:pt x="0" y="13"/>
                    </a:moveTo>
                    <a:lnTo>
                      <a:pt x="26" y="5"/>
                    </a:lnTo>
                    <a:lnTo>
                      <a:pt x="66" y="0"/>
                    </a:lnTo>
                    <a:lnTo>
                      <a:pt x="66" y="9"/>
                    </a:lnTo>
                    <a:lnTo>
                      <a:pt x="82" y="51"/>
                    </a:lnTo>
                    <a:lnTo>
                      <a:pt x="167" y="53"/>
                    </a:lnTo>
                    <a:lnTo>
                      <a:pt x="187" y="55"/>
                    </a:lnTo>
                    <a:lnTo>
                      <a:pt x="220" y="36"/>
                    </a:lnTo>
                    <a:lnTo>
                      <a:pt x="352" y="73"/>
                    </a:lnTo>
                    <a:lnTo>
                      <a:pt x="339" y="141"/>
                    </a:lnTo>
                    <a:lnTo>
                      <a:pt x="372" y="165"/>
                    </a:lnTo>
                    <a:lnTo>
                      <a:pt x="363" y="22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8" name=""/>
              <p:cNvSpPr/>
              <p:nvPr/>
            </p:nvSpPr>
            <p:spPr>
              <a:xfrm>
                <a:off x="5268240" y="2647800"/>
                <a:ext cx="610920" cy="360360"/>
              </a:xfrm>
              <a:custGeom>
                <a:avLst/>
                <a:gdLst/>
                <a:ahLst/>
                <a:rect l="l" t="t" r="r" b="b"/>
                <a:pathLst>
                  <a:path w="372" h="227">
                    <a:moveTo>
                      <a:pt x="0" y="13"/>
                    </a:moveTo>
                    <a:lnTo>
                      <a:pt x="26" y="5"/>
                    </a:lnTo>
                    <a:lnTo>
                      <a:pt x="66" y="0"/>
                    </a:lnTo>
                    <a:lnTo>
                      <a:pt x="66" y="9"/>
                    </a:lnTo>
                    <a:lnTo>
                      <a:pt x="82" y="51"/>
                    </a:lnTo>
                    <a:lnTo>
                      <a:pt x="167" y="53"/>
                    </a:lnTo>
                    <a:lnTo>
                      <a:pt x="187" y="55"/>
                    </a:lnTo>
                    <a:lnTo>
                      <a:pt x="220" y="36"/>
                    </a:lnTo>
                    <a:lnTo>
                      <a:pt x="352" y="73"/>
                    </a:lnTo>
                    <a:lnTo>
                      <a:pt x="339" y="141"/>
                    </a:lnTo>
                    <a:lnTo>
                      <a:pt x="372" y="165"/>
                    </a:lnTo>
                    <a:lnTo>
                      <a:pt x="363" y="22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9" name=""/>
              <p:cNvSpPr/>
              <p:nvPr/>
            </p:nvSpPr>
            <p:spPr>
              <a:xfrm>
                <a:off x="5286240" y="2341440"/>
                <a:ext cx="261000" cy="390600"/>
              </a:xfrm>
              <a:custGeom>
                <a:avLst/>
                <a:gdLst/>
                <a:ahLst/>
                <a:rect l="l" t="t" r="r" b="b"/>
                <a:pathLst>
                  <a:path w="159" h="246">
                    <a:moveTo>
                      <a:pt x="156" y="246"/>
                    </a:moveTo>
                    <a:lnTo>
                      <a:pt x="130" y="154"/>
                    </a:lnTo>
                    <a:lnTo>
                      <a:pt x="159" y="147"/>
                    </a:lnTo>
                    <a:lnTo>
                      <a:pt x="143" y="119"/>
                    </a:lnTo>
                    <a:lnTo>
                      <a:pt x="123" y="140"/>
                    </a:lnTo>
                    <a:lnTo>
                      <a:pt x="81" y="70"/>
                    </a:lnTo>
                    <a:lnTo>
                      <a:pt x="125" y="70"/>
                    </a:lnTo>
                    <a:lnTo>
                      <a:pt x="115" y="28"/>
                    </a:lnTo>
                    <a:lnTo>
                      <a:pt x="60" y="0"/>
                    </a:lnTo>
                    <a:lnTo>
                      <a:pt x="24" y="29"/>
                    </a:lnTo>
                    <a:lnTo>
                      <a:pt x="0" y="66"/>
                    </a:lnTo>
                    <a:lnTo>
                      <a:pt x="0" y="81"/>
                    </a:lnTo>
                    <a:lnTo>
                      <a:pt x="71" y="173"/>
                    </a:lnTo>
                    <a:lnTo>
                      <a:pt x="60" y="20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a:off x="5286240" y="2341440"/>
                <a:ext cx="261000" cy="390600"/>
              </a:xfrm>
              <a:custGeom>
                <a:avLst/>
                <a:gdLst/>
                <a:ahLst/>
                <a:rect l="l" t="t" r="r" b="b"/>
                <a:pathLst>
                  <a:path w="159" h="246">
                    <a:moveTo>
                      <a:pt x="156" y="246"/>
                    </a:moveTo>
                    <a:lnTo>
                      <a:pt x="130" y="154"/>
                    </a:lnTo>
                    <a:lnTo>
                      <a:pt x="159" y="147"/>
                    </a:lnTo>
                    <a:lnTo>
                      <a:pt x="143" y="119"/>
                    </a:lnTo>
                    <a:lnTo>
                      <a:pt x="123" y="140"/>
                    </a:lnTo>
                    <a:lnTo>
                      <a:pt x="81" y="70"/>
                    </a:lnTo>
                    <a:lnTo>
                      <a:pt x="125" y="70"/>
                    </a:lnTo>
                    <a:lnTo>
                      <a:pt x="115" y="28"/>
                    </a:lnTo>
                    <a:lnTo>
                      <a:pt x="60" y="0"/>
                    </a:lnTo>
                    <a:lnTo>
                      <a:pt x="24" y="29"/>
                    </a:lnTo>
                    <a:lnTo>
                      <a:pt x="0" y="66"/>
                    </a:lnTo>
                    <a:lnTo>
                      <a:pt x="0" y="81"/>
                    </a:lnTo>
                    <a:lnTo>
                      <a:pt x="71" y="173"/>
                    </a:lnTo>
                    <a:lnTo>
                      <a:pt x="60" y="20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1" name=""/>
              <p:cNvSpPr/>
              <p:nvPr/>
            </p:nvSpPr>
            <p:spPr>
              <a:xfrm>
                <a:off x="5641200" y="2379600"/>
                <a:ext cx="84960" cy="115920"/>
              </a:xfrm>
              <a:custGeom>
                <a:avLst/>
                <a:gdLst/>
                <a:ahLst/>
                <a:rect l="l" t="t" r="r" b="b"/>
                <a:pathLst>
                  <a:path w="52" h="73">
                    <a:moveTo>
                      <a:pt x="4" y="73"/>
                    </a:moveTo>
                    <a:lnTo>
                      <a:pt x="0" y="22"/>
                    </a:lnTo>
                    <a:lnTo>
                      <a:pt x="21" y="7"/>
                    </a:lnTo>
                    <a:lnTo>
                      <a:pt x="43" y="0"/>
                    </a:lnTo>
                    <a:lnTo>
                      <a:pt x="52" y="46"/>
                    </a:lnTo>
                    <a:lnTo>
                      <a:pt x="41" y="73"/>
                    </a:lnTo>
                    <a:lnTo>
                      <a:pt x="4" y="73"/>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2" name=""/>
              <p:cNvSpPr/>
              <p:nvPr/>
            </p:nvSpPr>
            <p:spPr>
              <a:xfrm>
                <a:off x="5641200" y="2379600"/>
                <a:ext cx="84960" cy="115920"/>
              </a:xfrm>
              <a:custGeom>
                <a:avLst/>
                <a:gdLst/>
                <a:ahLst/>
                <a:rect l="l" t="t" r="r" b="b"/>
                <a:pathLst>
                  <a:path w="52" h="73">
                    <a:moveTo>
                      <a:pt x="4" y="73"/>
                    </a:moveTo>
                    <a:lnTo>
                      <a:pt x="0" y="22"/>
                    </a:lnTo>
                    <a:lnTo>
                      <a:pt x="21" y="7"/>
                    </a:lnTo>
                    <a:lnTo>
                      <a:pt x="43" y="0"/>
                    </a:lnTo>
                    <a:lnTo>
                      <a:pt x="52" y="46"/>
                    </a:lnTo>
                    <a:lnTo>
                      <a:pt x="41" y="73"/>
                    </a:lnTo>
                    <a:lnTo>
                      <a:pt x="4" y="73"/>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3" name=""/>
              <p:cNvSpPr/>
              <p:nvPr/>
            </p:nvSpPr>
            <p:spPr>
              <a:xfrm>
                <a:off x="4628880" y="2554200"/>
                <a:ext cx="72000" cy="34920"/>
              </a:xfrm>
              <a:custGeom>
                <a:avLst/>
                <a:gdLst/>
                <a:ahLst/>
                <a:rect l="l" t="t" r="r" b="b"/>
                <a:pathLst>
                  <a:path w="44" h="22">
                    <a:moveTo>
                      <a:pt x="44" y="22"/>
                    </a:moveTo>
                    <a:lnTo>
                      <a:pt x="35" y="0"/>
                    </a:lnTo>
                    <a:lnTo>
                      <a:pt x="0" y="6"/>
                    </a:lnTo>
                  </a:path>
                </a:pathLst>
              </a:custGeom>
              <a:solidFill>
                <a:srgbClr val="000080">
                  <a:alpha val="50000"/>
                </a:srgbClr>
              </a:solidFill>
              <a:ln w="0">
                <a:solidFill>
                  <a:srgbClr val="0000ff"/>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54" name=""/>
              <p:cNvSpPr/>
              <p:nvPr/>
            </p:nvSpPr>
            <p:spPr>
              <a:xfrm>
                <a:off x="4628880" y="2554200"/>
                <a:ext cx="72000" cy="34920"/>
              </a:xfrm>
              <a:custGeom>
                <a:avLst/>
                <a:gdLst/>
                <a:ahLst/>
                <a:rect l="l" t="t" r="r" b="b"/>
                <a:pathLst>
                  <a:path w="44" h="22">
                    <a:moveTo>
                      <a:pt x="44" y="22"/>
                    </a:moveTo>
                    <a:lnTo>
                      <a:pt x="35" y="0"/>
                    </a:lnTo>
                    <a:lnTo>
                      <a:pt x="0" y="6"/>
                    </a:lnTo>
                  </a:path>
                </a:pathLst>
              </a:custGeom>
              <a:solidFill>
                <a:srgbClr val="000080">
                  <a:alpha val="50000"/>
                </a:srgbClr>
              </a:solidFill>
              <a:ln w="0">
                <a:solidFill>
                  <a:srgbClr val="0000ff"/>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855" name=""/>
              <p:cNvSpPr/>
              <p:nvPr/>
            </p:nvSpPr>
            <p:spPr>
              <a:xfrm>
                <a:off x="5853240" y="2647800"/>
                <a:ext cx="273960" cy="363600"/>
              </a:xfrm>
              <a:custGeom>
                <a:avLst/>
                <a:gdLst/>
                <a:ahLst/>
                <a:rect l="l" t="t" r="r" b="b"/>
                <a:pathLst>
                  <a:path w="167" h="229">
                    <a:moveTo>
                      <a:pt x="0" y="73"/>
                    </a:moveTo>
                    <a:lnTo>
                      <a:pt x="25" y="49"/>
                    </a:lnTo>
                    <a:lnTo>
                      <a:pt x="40" y="46"/>
                    </a:lnTo>
                    <a:lnTo>
                      <a:pt x="99" y="49"/>
                    </a:lnTo>
                    <a:lnTo>
                      <a:pt x="117" y="0"/>
                    </a:lnTo>
                    <a:lnTo>
                      <a:pt x="156" y="27"/>
                    </a:lnTo>
                    <a:lnTo>
                      <a:pt x="167" y="73"/>
                    </a:lnTo>
                    <a:lnTo>
                      <a:pt x="158" y="84"/>
                    </a:lnTo>
                    <a:lnTo>
                      <a:pt x="128" y="84"/>
                    </a:lnTo>
                    <a:lnTo>
                      <a:pt x="123" y="117"/>
                    </a:lnTo>
                    <a:lnTo>
                      <a:pt x="123" y="181"/>
                    </a:lnTo>
                    <a:lnTo>
                      <a:pt x="93" y="181"/>
                    </a:lnTo>
                    <a:lnTo>
                      <a:pt x="88" y="220"/>
                    </a:lnTo>
                    <a:lnTo>
                      <a:pt x="7" y="22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5853240" y="2647800"/>
                <a:ext cx="273960" cy="363600"/>
              </a:xfrm>
              <a:custGeom>
                <a:avLst/>
                <a:gdLst/>
                <a:ahLst/>
                <a:rect l="l" t="t" r="r" b="b"/>
                <a:pathLst>
                  <a:path w="167" h="229">
                    <a:moveTo>
                      <a:pt x="0" y="73"/>
                    </a:moveTo>
                    <a:lnTo>
                      <a:pt x="25" y="49"/>
                    </a:lnTo>
                    <a:lnTo>
                      <a:pt x="40" y="46"/>
                    </a:lnTo>
                    <a:lnTo>
                      <a:pt x="99" y="49"/>
                    </a:lnTo>
                    <a:lnTo>
                      <a:pt x="117" y="0"/>
                    </a:lnTo>
                    <a:lnTo>
                      <a:pt x="156" y="27"/>
                    </a:lnTo>
                    <a:lnTo>
                      <a:pt x="167" y="73"/>
                    </a:lnTo>
                    <a:lnTo>
                      <a:pt x="158" y="84"/>
                    </a:lnTo>
                    <a:lnTo>
                      <a:pt x="128" y="84"/>
                    </a:lnTo>
                    <a:lnTo>
                      <a:pt x="123" y="117"/>
                    </a:lnTo>
                    <a:lnTo>
                      <a:pt x="123" y="181"/>
                    </a:lnTo>
                    <a:lnTo>
                      <a:pt x="93" y="181"/>
                    </a:lnTo>
                    <a:lnTo>
                      <a:pt x="88" y="220"/>
                    </a:lnTo>
                    <a:lnTo>
                      <a:pt x="7" y="22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7" name=""/>
              <p:cNvSpPr/>
              <p:nvPr/>
            </p:nvSpPr>
            <p:spPr>
              <a:xfrm flipH="1">
                <a:off x="5557320" y="3144600"/>
                <a:ext cx="7920" cy="68400"/>
              </a:xfrm>
              <a:prstGeom prst="line">
                <a:avLst/>
              </a:prstGeom>
              <a:ln w="0">
                <a:solidFill>
                  <a:srgbClr val="0000ff"/>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858" name=""/>
              <p:cNvSpPr/>
              <p:nvPr/>
            </p:nvSpPr>
            <p:spPr>
              <a:xfrm flipH="1">
                <a:off x="5557320" y="3144600"/>
                <a:ext cx="7920" cy="68400"/>
              </a:xfrm>
              <a:prstGeom prst="line">
                <a:avLst/>
              </a:prstGeom>
              <a:ln w="0">
                <a:solidFill>
                  <a:srgbClr val="0000ff"/>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859" name=""/>
              <p:cNvSpPr/>
              <p:nvPr/>
            </p:nvSpPr>
            <p:spPr>
              <a:xfrm>
                <a:off x="5557320" y="3171600"/>
                <a:ext cx="191880" cy="60480"/>
              </a:xfrm>
              <a:custGeom>
                <a:avLst/>
                <a:gdLst/>
                <a:ahLst/>
                <a:rect l="l" t="t" r="r" b="b"/>
                <a:pathLst>
                  <a:path w="117" h="38">
                    <a:moveTo>
                      <a:pt x="0" y="26"/>
                    </a:moveTo>
                    <a:lnTo>
                      <a:pt x="64" y="38"/>
                    </a:lnTo>
                    <a:lnTo>
                      <a:pt x="117" y="0"/>
                    </a:lnTo>
                  </a:path>
                </a:pathLst>
              </a:custGeom>
              <a:solidFill>
                <a:srgbClr val="000080">
                  <a:alpha val="50000"/>
                </a:srgbClr>
              </a:solidFill>
              <a:ln w="0">
                <a:solidFill>
                  <a:srgbClr val="0000ff"/>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60" name=""/>
              <p:cNvSpPr/>
              <p:nvPr/>
            </p:nvSpPr>
            <p:spPr>
              <a:xfrm>
                <a:off x="5557320" y="3171600"/>
                <a:ext cx="191880" cy="60480"/>
              </a:xfrm>
              <a:custGeom>
                <a:avLst/>
                <a:gdLst/>
                <a:ahLst/>
                <a:rect l="l" t="t" r="r" b="b"/>
                <a:pathLst>
                  <a:path w="117" h="38">
                    <a:moveTo>
                      <a:pt x="0" y="26"/>
                    </a:moveTo>
                    <a:lnTo>
                      <a:pt x="64" y="38"/>
                    </a:lnTo>
                    <a:lnTo>
                      <a:pt x="117" y="0"/>
                    </a:lnTo>
                  </a:path>
                </a:pathLst>
              </a:custGeom>
              <a:solidFill>
                <a:srgbClr val="000080">
                  <a:alpha val="50000"/>
                </a:srgbClr>
              </a:solidFill>
              <a:ln w="0">
                <a:solidFill>
                  <a:srgbClr val="0000ff"/>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861" name=""/>
              <p:cNvSpPr/>
              <p:nvPr/>
            </p:nvSpPr>
            <p:spPr>
              <a:xfrm>
                <a:off x="5864400" y="3008160"/>
                <a:ext cx="69120" cy="117720"/>
              </a:xfrm>
              <a:custGeom>
                <a:avLst/>
                <a:gdLst/>
                <a:ahLst/>
                <a:rect l="l" t="t" r="r" b="b"/>
                <a:pathLst>
                  <a:path w="42" h="74">
                    <a:moveTo>
                      <a:pt x="37" y="74"/>
                    </a:moveTo>
                    <a:lnTo>
                      <a:pt x="42" y="46"/>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5864400" y="3008160"/>
                <a:ext cx="69120" cy="117720"/>
              </a:xfrm>
              <a:custGeom>
                <a:avLst/>
                <a:gdLst/>
                <a:ahLst/>
                <a:rect l="l" t="t" r="r" b="b"/>
                <a:pathLst>
                  <a:path w="42" h="74">
                    <a:moveTo>
                      <a:pt x="37" y="74"/>
                    </a:moveTo>
                    <a:lnTo>
                      <a:pt x="42" y="46"/>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3" name=""/>
              <p:cNvSpPr/>
              <p:nvPr/>
            </p:nvSpPr>
            <p:spPr>
              <a:xfrm>
                <a:off x="6076080" y="2825640"/>
                <a:ext cx="1184400" cy="785880"/>
              </a:xfrm>
              <a:custGeom>
                <a:avLst/>
                <a:gdLst/>
                <a:ahLst/>
                <a:rect l="l" t="t" r="r" b="b"/>
                <a:pathLst>
                  <a:path w="721" h="495">
                    <a:moveTo>
                      <a:pt x="0" y="233"/>
                    </a:moveTo>
                    <a:lnTo>
                      <a:pt x="23" y="220"/>
                    </a:lnTo>
                    <a:lnTo>
                      <a:pt x="11" y="172"/>
                    </a:lnTo>
                    <a:lnTo>
                      <a:pt x="36" y="170"/>
                    </a:lnTo>
                    <a:lnTo>
                      <a:pt x="104" y="73"/>
                    </a:lnTo>
                    <a:lnTo>
                      <a:pt x="88" y="12"/>
                    </a:lnTo>
                    <a:lnTo>
                      <a:pt x="139" y="33"/>
                    </a:lnTo>
                    <a:lnTo>
                      <a:pt x="165" y="0"/>
                    </a:lnTo>
                    <a:lnTo>
                      <a:pt x="192" y="12"/>
                    </a:lnTo>
                    <a:lnTo>
                      <a:pt x="165" y="80"/>
                    </a:lnTo>
                    <a:lnTo>
                      <a:pt x="196" y="93"/>
                    </a:lnTo>
                    <a:lnTo>
                      <a:pt x="383" y="159"/>
                    </a:lnTo>
                    <a:lnTo>
                      <a:pt x="412" y="167"/>
                    </a:lnTo>
                    <a:lnTo>
                      <a:pt x="541" y="115"/>
                    </a:lnTo>
                    <a:lnTo>
                      <a:pt x="563" y="143"/>
                    </a:lnTo>
                    <a:lnTo>
                      <a:pt x="555" y="187"/>
                    </a:lnTo>
                    <a:lnTo>
                      <a:pt x="555" y="194"/>
                    </a:lnTo>
                    <a:lnTo>
                      <a:pt x="579" y="209"/>
                    </a:lnTo>
                    <a:lnTo>
                      <a:pt x="579" y="244"/>
                    </a:lnTo>
                    <a:lnTo>
                      <a:pt x="585" y="255"/>
                    </a:lnTo>
                    <a:lnTo>
                      <a:pt x="623" y="266"/>
                    </a:lnTo>
                    <a:lnTo>
                      <a:pt x="632" y="284"/>
                    </a:lnTo>
                    <a:lnTo>
                      <a:pt x="632" y="341"/>
                    </a:lnTo>
                    <a:lnTo>
                      <a:pt x="658" y="359"/>
                    </a:lnTo>
                    <a:lnTo>
                      <a:pt x="693" y="341"/>
                    </a:lnTo>
                    <a:lnTo>
                      <a:pt x="721" y="427"/>
                    </a:lnTo>
                    <a:lnTo>
                      <a:pt x="704" y="436"/>
                    </a:lnTo>
                    <a:lnTo>
                      <a:pt x="688" y="445"/>
                    </a:lnTo>
                    <a:lnTo>
                      <a:pt x="688" y="469"/>
                    </a:lnTo>
                    <a:lnTo>
                      <a:pt x="688" y="49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a:off x="6076080" y="2825640"/>
                <a:ext cx="1184400" cy="785880"/>
              </a:xfrm>
              <a:custGeom>
                <a:avLst/>
                <a:gdLst/>
                <a:ahLst/>
                <a:rect l="l" t="t" r="r" b="b"/>
                <a:pathLst>
                  <a:path w="721" h="495">
                    <a:moveTo>
                      <a:pt x="0" y="233"/>
                    </a:moveTo>
                    <a:lnTo>
                      <a:pt x="23" y="220"/>
                    </a:lnTo>
                    <a:lnTo>
                      <a:pt x="11" y="172"/>
                    </a:lnTo>
                    <a:lnTo>
                      <a:pt x="36" y="170"/>
                    </a:lnTo>
                    <a:lnTo>
                      <a:pt x="104" y="73"/>
                    </a:lnTo>
                    <a:lnTo>
                      <a:pt x="88" y="12"/>
                    </a:lnTo>
                    <a:lnTo>
                      <a:pt x="139" y="33"/>
                    </a:lnTo>
                    <a:lnTo>
                      <a:pt x="165" y="0"/>
                    </a:lnTo>
                    <a:lnTo>
                      <a:pt x="192" y="12"/>
                    </a:lnTo>
                    <a:lnTo>
                      <a:pt x="165" y="80"/>
                    </a:lnTo>
                    <a:lnTo>
                      <a:pt x="196" y="93"/>
                    </a:lnTo>
                    <a:lnTo>
                      <a:pt x="383" y="159"/>
                    </a:lnTo>
                    <a:lnTo>
                      <a:pt x="412" y="167"/>
                    </a:lnTo>
                    <a:lnTo>
                      <a:pt x="541" y="115"/>
                    </a:lnTo>
                    <a:lnTo>
                      <a:pt x="563" y="143"/>
                    </a:lnTo>
                    <a:lnTo>
                      <a:pt x="555" y="187"/>
                    </a:lnTo>
                    <a:lnTo>
                      <a:pt x="555" y="194"/>
                    </a:lnTo>
                    <a:lnTo>
                      <a:pt x="579" y="209"/>
                    </a:lnTo>
                    <a:lnTo>
                      <a:pt x="579" y="244"/>
                    </a:lnTo>
                    <a:lnTo>
                      <a:pt x="585" y="255"/>
                    </a:lnTo>
                    <a:lnTo>
                      <a:pt x="623" y="266"/>
                    </a:lnTo>
                    <a:lnTo>
                      <a:pt x="632" y="284"/>
                    </a:lnTo>
                    <a:lnTo>
                      <a:pt x="632" y="341"/>
                    </a:lnTo>
                    <a:lnTo>
                      <a:pt x="658" y="359"/>
                    </a:lnTo>
                    <a:lnTo>
                      <a:pt x="693" y="341"/>
                    </a:lnTo>
                    <a:lnTo>
                      <a:pt x="721" y="427"/>
                    </a:lnTo>
                    <a:lnTo>
                      <a:pt x="704" y="436"/>
                    </a:lnTo>
                    <a:lnTo>
                      <a:pt x="688" y="445"/>
                    </a:lnTo>
                    <a:lnTo>
                      <a:pt x="688" y="469"/>
                    </a:lnTo>
                    <a:lnTo>
                      <a:pt x="688" y="49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6391800" y="2973240"/>
                <a:ext cx="313560" cy="160560"/>
              </a:xfrm>
              <a:custGeom>
                <a:avLst/>
                <a:gdLst/>
                <a:ahLst/>
                <a:rect l="l" t="t" r="r" b="b"/>
                <a:pathLst>
                  <a:path w="191" h="101">
                    <a:moveTo>
                      <a:pt x="191" y="66"/>
                    </a:moveTo>
                    <a:lnTo>
                      <a:pt x="178" y="101"/>
                    </a:lnTo>
                    <a:lnTo>
                      <a:pt x="0" y="37"/>
                    </a:lnTo>
                    <a:lnTo>
                      <a:pt x="4"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6391800" y="2973240"/>
                <a:ext cx="313560" cy="160560"/>
              </a:xfrm>
              <a:custGeom>
                <a:avLst/>
                <a:gdLst/>
                <a:ahLst/>
                <a:rect l="l" t="t" r="r" b="b"/>
                <a:pathLst>
                  <a:path w="191" h="101">
                    <a:moveTo>
                      <a:pt x="191" y="66"/>
                    </a:moveTo>
                    <a:lnTo>
                      <a:pt x="178" y="101"/>
                    </a:lnTo>
                    <a:lnTo>
                      <a:pt x="0" y="37"/>
                    </a:lnTo>
                    <a:lnTo>
                      <a:pt x="4"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7" name=""/>
              <p:cNvSpPr/>
              <p:nvPr/>
            </p:nvSpPr>
            <p:spPr>
              <a:xfrm>
                <a:off x="6095880" y="2233440"/>
                <a:ext cx="1302480" cy="457200"/>
              </a:xfrm>
              <a:custGeom>
                <a:avLst/>
                <a:gdLst/>
                <a:ahLst/>
                <a:rect l="l" t="t" r="r" b="b"/>
                <a:pathLst>
                  <a:path w="793" h="288">
                    <a:moveTo>
                      <a:pt x="8" y="288"/>
                    </a:moveTo>
                    <a:lnTo>
                      <a:pt x="0" y="246"/>
                    </a:lnTo>
                    <a:lnTo>
                      <a:pt x="107" y="211"/>
                    </a:lnTo>
                    <a:lnTo>
                      <a:pt x="83" y="140"/>
                    </a:lnTo>
                    <a:lnTo>
                      <a:pt x="131" y="141"/>
                    </a:lnTo>
                    <a:lnTo>
                      <a:pt x="127" y="97"/>
                    </a:lnTo>
                    <a:lnTo>
                      <a:pt x="166" y="110"/>
                    </a:lnTo>
                    <a:lnTo>
                      <a:pt x="162" y="66"/>
                    </a:lnTo>
                    <a:lnTo>
                      <a:pt x="202" y="48"/>
                    </a:lnTo>
                    <a:lnTo>
                      <a:pt x="243" y="74"/>
                    </a:lnTo>
                    <a:lnTo>
                      <a:pt x="263" y="125"/>
                    </a:lnTo>
                    <a:lnTo>
                      <a:pt x="292" y="176"/>
                    </a:lnTo>
                    <a:lnTo>
                      <a:pt x="364" y="162"/>
                    </a:lnTo>
                    <a:lnTo>
                      <a:pt x="393" y="211"/>
                    </a:lnTo>
                    <a:lnTo>
                      <a:pt x="626" y="211"/>
                    </a:lnTo>
                    <a:lnTo>
                      <a:pt x="661" y="169"/>
                    </a:lnTo>
                    <a:lnTo>
                      <a:pt x="652" y="143"/>
                    </a:lnTo>
                    <a:lnTo>
                      <a:pt x="666" y="158"/>
                    </a:lnTo>
                    <a:lnTo>
                      <a:pt x="692" y="125"/>
                    </a:lnTo>
                    <a:lnTo>
                      <a:pt x="793" y="129"/>
                    </a:lnTo>
                    <a:lnTo>
                      <a:pt x="771" y="105"/>
                    </a:lnTo>
                    <a:lnTo>
                      <a:pt x="749" y="75"/>
                    </a:lnTo>
                    <a:lnTo>
                      <a:pt x="712" y="79"/>
                    </a:lnTo>
                    <a:lnTo>
                      <a:pt x="670" y="85"/>
                    </a:lnTo>
                    <a:lnTo>
                      <a:pt x="661" y="31"/>
                    </a:lnTo>
                    <a:lnTo>
                      <a:pt x="582" y="41"/>
                    </a:lnTo>
                    <a:lnTo>
                      <a:pt x="507" y="50"/>
                    </a:lnTo>
                    <a:lnTo>
                      <a:pt x="455" y="26"/>
                    </a:lnTo>
                    <a:lnTo>
                      <a:pt x="404" y="39"/>
                    </a:lnTo>
                    <a:lnTo>
                      <a:pt x="373" y="0"/>
                    </a:lnTo>
                    <a:lnTo>
                      <a:pt x="331" y="0"/>
                    </a:lnTo>
                    <a:lnTo>
                      <a:pt x="323" y="0"/>
                    </a:lnTo>
                    <a:lnTo>
                      <a:pt x="323" y="39"/>
                    </a:lnTo>
                    <a:lnTo>
                      <a:pt x="303" y="39"/>
                    </a:lnTo>
                    <a:lnTo>
                      <a:pt x="277" y="35"/>
                    </a:lnTo>
                    <a:lnTo>
                      <a:pt x="259" y="26"/>
                    </a:lnTo>
                    <a:lnTo>
                      <a:pt x="243" y="19"/>
                    </a:lnTo>
                    <a:lnTo>
                      <a:pt x="202" y="4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6095880" y="2233440"/>
                <a:ext cx="1302480" cy="457200"/>
              </a:xfrm>
              <a:custGeom>
                <a:avLst/>
                <a:gdLst/>
                <a:ahLst/>
                <a:rect l="l" t="t" r="r" b="b"/>
                <a:pathLst>
                  <a:path w="793" h="288">
                    <a:moveTo>
                      <a:pt x="8" y="288"/>
                    </a:moveTo>
                    <a:lnTo>
                      <a:pt x="0" y="246"/>
                    </a:lnTo>
                    <a:lnTo>
                      <a:pt x="107" y="211"/>
                    </a:lnTo>
                    <a:lnTo>
                      <a:pt x="83" y="140"/>
                    </a:lnTo>
                    <a:lnTo>
                      <a:pt x="131" y="141"/>
                    </a:lnTo>
                    <a:lnTo>
                      <a:pt x="127" y="97"/>
                    </a:lnTo>
                    <a:lnTo>
                      <a:pt x="166" y="110"/>
                    </a:lnTo>
                    <a:lnTo>
                      <a:pt x="162" y="66"/>
                    </a:lnTo>
                    <a:lnTo>
                      <a:pt x="202" y="48"/>
                    </a:lnTo>
                    <a:lnTo>
                      <a:pt x="243" y="74"/>
                    </a:lnTo>
                    <a:lnTo>
                      <a:pt x="263" y="125"/>
                    </a:lnTo>
                    <a:lnTo>
                      <a:pt x="292" y="176"/>
                    </a:lnTo>
                    <a:lnTo>
                      <a:pt x="364" y="162"/>
                    </a:lnTo>
                    <a:lnTo>
                      <a:pt x="393" y="211"/>
                    </a:lnTo>
                    <a:lnTo>
                      <a:pt x="626" y="211"/>
                    </a:lnTo>
                    <a:lnTo>
                      <a:pt x="661" y="169"/>
                    </a:lnTo>
                    <a:lnTo>
                      <a:pt x="652" y="143"/>
                    </a:lnTo>
                    <a:lnTo>
                      <a:pt x="666" y="158"/>
                    </a:lnTo>
                    <a:lnTo>
                      <a:pt x="692" y="125"/>
                    </a:lnTo>
                    <a:lnTo>
                      <a:pt x="793" y="129"/>
                    </a:lnTo>
                    <a:lnTo>
                      <a:pt x="771" y="105"/>
                    </a:lnTo>
                    <a:lnTo>
                      <a:pt x="749" y="75"/>
                    </a:lnTo>
                    <a:lnTo>
                      <a:pt x="712" y="79"/>
                    </a:lnTo>
                    <a:lnTo>
                      <a:pt x="670" y="85"/>
                    </a:lnTo>
                    <a:lnTo>
                      <a:pt x="661" y="31"/>
                    </a:lnTo>
                    <a:lnTo>
                      <a:pt x="582" y="41"/>
                    </a:lnTo>
                    <a:lnTo>
                      <a:pt x="507" y="50"/>
                    </a:lnTo>
                    <a:lnTo>
                      <a:pt x="455" y="26"/>
                    </a:lnTo>
                    <a:lnTo>
                      <a:pt x="404" y="39"/>
                    </a:lnTo>
                    <a:lnTo>
                      <a:pt x="373" y="0"/>
                    </a:lnTo>
                    <a:lnTo>
                      <a:pt x="331" y="0"/>
                    </a:lnTo>
                    <a:lnTo>
                      <a:pt x="323" y="0"/>
                    </a:lnTo>
                    <a:lnTo>
                      <a:pt x="323" y="39"/>
                    </a:lnTo>
                    <a:lnTo>
                      <a:pt x="303" y="39"/>
                    </a:lnTo>
                    <a:lnTo>
                      <a:pt x="277" y="35"/>
                    </a:lnTo>
                    <a:lnTo>
                      <a:pt x="259" y="26"/>
                    </a:lnTo>
                    <a:lnTo>
                      <a:pt x="243" y="19"/>
                    </a:lnTo>
                    <a:lnTo>
                      <a:pt x="202" y="4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6509880" y="3692520"/>
                <a:ext cx="44280" cy="104760"/>
              </a:xfrm>
              <a:custGeom>
                <a:avLst/>
                <a:gdLst/>
                <a:ahLst/>
                <a:rect l="l" t="t" r="r" b="b"/>
                <a:pathLst>
                  <a:path w="27" h="66">
                    <a:moveTo>
                      <a:pt x="2" y="0"/>
                    </a:moveTo>
                    <a:lnTo>
                      <a:pt x="0" y="35"/>
                    </a:lnTo>
                    <a:lnTo>
                      <a:pt x="5" y="66"/>
                    </a:lnTo>
                    <a:lnTo>
                      <a:pt x="27" y="55"/>
                    </a:lnTo>
                    <a:lnTo>
                      <a:pt x="18" y="33"/>
                    </a:lnTo>
                    <a:lnTo>
                      <a:pt x="5"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0" name=""/>
              <p:cNvSpPr/>
              <p:nvPr/>
            </p:nvSpPr>
            <p:spPr>
              <a:xfrm>
                <a:off x="6509880" y="3692520"/>
                <a:ext cx="44280" cy="104760"/>
              </a:xfrm>
              <a:custGeom>
                <a:avLst/>
                <a:gdLst/>
                <a:ahLst/>
                <a:rect l="l" t="t" r="r" b="b"/>
                <a:pathLst>
                  <a:path w="27" h="66">
                    <a:moveTo>
                      <a:pt x="2" y="0"/>
                    </a:moveTo>
                    <a:lnTo>
                      <a:pt x="0" y="35"/>
                    </a:lnTo>
                    <a:lnTo>
                      <a:pt x="5" y="66"/>
                    </a:lnTo>
                    <a:lnTo>
                      <a:pt x="27" y="55"/>
                    </a:lnTo>
                    <a:lnTo>
                      <a:pt x="18" y="33"/>
                    </a:lnTo>
                    <a:lnTo>
                      <a:pt x="5"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1" name=""/>
              <p:cNvSpPr/>
              <p:nvPr/>
            </p:nvSpPr>
            <p:spPr>
              <a:xfrm>
                <a:off x="7166880" y="2152440"/>
                <a:ext cx="599760" cy="360360"/>
              </a:xfrm>
              <a:custGeom>
                <a:avLst/>
                <a:gdLst/>
                <a:ahLst/>
                <a:rect l="l" t="t" r="r" b="b"/>
                <a:pathLst>
                  <a:path w="365" h="227">
                    <a:moveTo>
                      <a:pt x="9" y="82"/>
                    </a:moveTo>
                    <a:lnTo>
                      <a:pt x="9" y="49"/>
                    </a:lnTo>
                    <a:lnTo>
                      <a:pt x="0" y="22"/>
                    </a:lnTo>
                    <a:lnTo>
                      <a:pt x="73" y="0"/>
                    </a:lnTo>
                    <a:lnTo>
                      <a:pt x="135" y="57"/>
                    </a:lnTo>
                    <a:lnTo>
                      <a:pt x="183" y="112"/>
                    </a:lnTo>
                    <a:lnTo>
                      <a:pt x="201" y="125"/>
                    </a:lnTo>
                    <a:lnTo>
                      <a:pt x="273" y="121"/>
                    </a:lnTo>
                    <a:lnTo>
                      <a:pt x="301" y="167"/>
                    </a:lnTo>
                    <a:lnTo>
                      <a:pt x="339" y="115"/>
                    </a:lnTo>
                    <a:lnTo>
                      <a:pt x="357" y="156"/>
                    </a:lnTo>
                    <a:lnTo>
                      <a:pt x="365" y="194"/>
                    </a:lnTo>
                    <a:lnTo>
                      <a:pt x="324" y="181"/>
                    </a:lnTo>
                    <a:lnTo>
                      <a:pt x="328" y="22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a:off x="7166880" y="2152440"/>
                <a:ext cx="599760" cy="360360"/>
              </a:xfrm>
              <a:custGeom>
                <a:avLst/>
                <a:gdLst/>
                <a:ahLst/>
                <a:rect l="l" t="t" r="r" b="b"/>
                <a:pathLst>
                  <a:path w="365" h="227">
                    <a:moveTo>
                      <a:pt x="9" y="82"/>
                    </a:moveTo>
                    <a:lnTo>
                      <a:pt x="9" y="49"/>
                    </a:lnTo>
                    <a:lnTo>
                      <a:pt x="0" y="22"/>
                    </a:lnTo>
                    <a:lnTo>
                      <a:pt x="73" y="0"/>
                    </a:lnTo>
                    <a:lnTo>
                      <a:pt x="135" y="57"/>
                    </a:lnTo>
                    <a:lnTo>
                      <a:pt x="183" y="112"/>
                    </a:lnTo>
                    <a:lnTo>
                      <a:pt x="201" y="125"/>
                    </a:lnTo>
                    <a:lnTo>
                      <a:pt x="273" y="121"/>
                    </a:lnTo>
                    <a:lnTo>
                      <a:pt x="301" y="167"/>
                    </a:lnTo>
                    <a:lnTo>
                      <a:pt x="339" y="115"/>
                    </a:lnTo>
                    <a:lnTo>
                      <a:pt x="357" y="156"/>
                    </a:lnTo>
                    <a:lnTo>
                      <a:pt x="365" y="194"/>
                    </a:lnTo>
                    <a:lnTo>
                      <a:pt x="324" y="181"/>
                    </a:lnTo>
                    <a:lnTo>
                      <a:pt x="328" y="22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7260840" y="3503520"/>
                <a:ext cx="77040" cy="171360"/>
              </a:xfrm>
              <a:custGeom>
                <a:avLst/>
                <a:gdLst/>
                <a:ahLst/>
                <a:rect l="l" t="t" r="r" b="b"/>
                <a:pathLst>
                  <a:path w="47" h="108">
                    <a:moveTo>
                      <a:pt x="23" y="108"/>
                    </a:moveTo>
                    <a:lnTo>
                      <a:pt x="42" y="92"/>
                    </a:lnTo>
                    <a:lnTo>
                      <a:pt x="45" y="64"/>
                    </a:lnTo>
                    <a:lnTo>
                      <a:pt x="47" y="22"/>
                    </a:lnTo>
                    <a:lnTo>
                      <a:pt x="31" y="9"/>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4" name=""/>
              <p:cNvSpPr/>
              <p:nvPr/>
            </p:nvSpPr>
            <p:spPr>
              <a:xfrm>
                <a:off x="7260840" y="3503520"/>
                <a:ext cx="77040" cy="171360"/>
              </a:xfrm>
              <a:custGeom>
                <a:avLst/>
                <a:gdLst/>
                <a:ahLst/>
                <a:rect l="l" t="t" r="r" b="b"/>
                <a:pathLst>
                  <a:path w="47" h="108">
                    <a:moveTo>
                      <a:pt x="23" y="108"/>
                    </a:moveTo>
                    <a:lnTo>
                      <a:pt x="42" y="92"/>
                    </a:lnTo>
                    <a:lnTo>
                      <a:pt x="45" y="64"/>
                    </a:lnTo>
                    <a:lnTo>
                      <a:pt x="47" y="22"/>
                    </a:lnTo>
                    <a:lnTo>
                      <a:pt x="31" y="9"/>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7114680" y="3206520"/>
                <a:ext cx="183960" cy="84240"/>
              </a:xfrm>
              <a:custGeom>
                <a:avLst/>
                <a:gdLst/>
                <a:ahLst/>
                <a:rect l="l" t="t" r="r" b="b"/>
                <a:pathLst>
                  <a:path w="112" h="53">
                    <a:moveTo>
                      <a:pt x="0" y="44"/>
                    </a:moveTo>
                    <a:lnTo>
                      <a:pt x="10" y="35"/>
                    </a:lnTo>
                    <a:lnTo>
                      <a:pt x="17" y="24"/>
                    </a:lnTo>
                    <a:lnTo>
                      <a:pt x="32" y="0"/>
                    </a:lnTo>
                    <a:lnTo>
                      <a:pt x="81" y="0"/>
                    </a:lnTo>
                    <a:lnTo>
                      <a:pt x="112" y="53"/>
                    </a:lnTo>
                  </a:path>
                </a:pathLst>
              </a:custGeom>
              <a:solidFill>
                <a:srgbClr val="000080">
                  <a:alpha val="50000"/>
                </a:srgbClr>
              </a:solidFill>
              <a:ln w="0">
                <a:solidFill>
                  <a:srgbClr val="0000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76" name=""/>
              <p:cNvSpPr/>
              <p:nvPr/>
            </p:nvSpPr>
            <p:spPr>
              <a:xfrm>
                <a:off x="7114680" y="3206520"/>
                <a:ext cx="183960" cy="84240"/>
              </a:xfrm>
              <a:custGeom>
                <a:avLst/>
                <a:gdLst/>
                <a:ahLst/>
                <a:rect l="l" t="t" r="r" b="b"/>
                <a:pathLst>
                  <a:path w="112" h="53">
                    <a:moveTo>
                      <a:pt x="0" y="44"/>
                    </a:moveTo>
                    <a:lnTo>
                      <a:pt x="10" y="35"/>
                    </a:lnTo>
                    <a:lnTo>
                      <a:pt x="17" y="24"/>
                    </a:lnTo>
                    <a:lnTo>
                      <a:pt x="32" y="0"/>
                    </a:lnTo>
                    <a:lnTo>
                      <a:pt x="81" y="0"/>
                    </a:lnTo>
                    <a:lnTo>
                      <a:pt x="112" y="53"/>
                    </a:lnTo>
                  </a:path>
                </a:pathLst>
              </a:custGeom>
              <a:solidFill>
                <a:srgbClr val="000080">
                  <a:alpha val="50000"/>
                </a:srgbClr>
              </a:solidFill>
              <a:ln w="0">
                <a:solidFill>
                  <a:srgbClr val="0000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77" name=""/>
              <p:cNvSpPr/>
              <p:nvPr/>
            </p:nvSpPr>
            <p:spPr>
              <a:xfrm>
                <a:off x="5258160" y="3343320"/>
                <a:ext cx="215280" cy="108000"/>
              </a:xfrm>
              <a:custGeom>
                <a:avLst/>
                <a:gdLst/>
                <a:ahLst/>
                <a:rect l="l" t="t" r="r" b="b"/>
                <a:pathLst>
                  <a:path w="131" h="68">
                    <a:moveTo>
                      <a:pt x="0" y="17"/>
                    </a:moveTo>
                    <a:lnTo>
                      <a:pt x="19" y="6"/>
                    </a:lnTo>
                    <a:lnTo>
                      <a:pt x="39" y="0"/>
                    </a:lnTo>
                    <a:lnTo>
                      <a:pt x="63" y="26"/>
                    </a:lnTo>
                    <a:lnTo>
                      <a:pt x="88" y="30"/>
                    </a:lnTo>
                    <a:lnTo>
                      <a:pt x="110" y="35"/>
                    </a:lnTo>
                    <a:lnTo>
                      <a:pt x="131" y="6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8" name=""/>
              <p:cNvSpPr/>
              <p:nvPr/>
            </p:nvSpPr>
            <p:spPr>
              <a:xfrm>
                <a:off x="5258160" y="3343320"/>
                <a:ext cx="215280" cy="108000"/>
              </a:xfrm>
              <a:custGeom>
                <a:avLst/>
                <a:gdLst/>
                <a:ahLst/>
                <a:rect l="l" t="t" r="r" b="b"/>
                <a:pathLst>
                  <a:path w="131" h="68">
                    <a:moveTo>
                      <a:pt x="0" y="17"/>
                    </a:moveTo>
                    <a:lnTo>
                      <a:pt x="19" y="6"/>
                    </a:lnTo>
                    <a:lnTo>
                      <a:pt x="39" y="0"/>
                    </a:lnTo>
                    <a:lnTo>
                      <a:pt x="63" y="26"/>
                    </a:lnTo>
                    <a:lnTo>
                      <a:pt x="88" y="30"/>
                    </a:lnTo>
                    <a:lnTo>
                      <a:pt x="110" y="35"/>
                    </a:lnTo>
                    <a:lnTo>
                      <a:pt x="131" y="6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9" name=""/>
              <p:cNvSpPr/>
              <p:nvPr/>
            </p:nvSpPr>
            <p:spPr>
              <a:xfrm>
                <a:off x="5361840" y="3171600"/>
                <a:ext cx="387720" cy="387360"/>
              </a:xfrm>
              <a:custGeom>
                <a:avLst/>
                <a:gdLst/>
                <a:ahLst/>
                <a:rect l="l" t="t" r="r" b="b"/>
                <a:pathLst>
                  <a:path w="236" h="244">
                    <a:moveTo>
                      <a:pt x="0" y="244"/>
                    </a:moveTo>
                    <a:lnTo>
                      <a:pt x="66" y="176"/>
                    </a:lnTo>
                    <a:lnTo>
                      <a:pt x="123" y="127"/>
                    </a:lnTo>
                    <a:lnTo>
                      <a:pt x="137" y="125"/>
                    </a:lnTo>
                    <a:lnTo>
                      <a:pt x="178" y="125"/>
                    </a:lnTo>
                    <a:lnTo>
                      <a:pt x="235" y="71"/>
                    </a:lnTo>
                    <a:lnTo>
                      <a:pt x="236"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5361840" y="3171600"/>
                <a:ext cx="387720" cy="387360"/>
              </a:xfrm>
              <a:custGeom>
                <a:avLst/>
                <a:gdLst/>
                <a:ahLst/>
                <a:rect l="l" t="t" r="r" b="b"/>
                <a:pathLst>
                  <a:path w="236" h="244">
                    <a:moveTo>
                      <a:pt x="0" y="244"/>
                    </a:moveTo>
                    <a:lnTo>
                      <a:pt x="66" y="176"/>
                    </a:lnTo>
                    <a:lnTo>
                      <a:pt x="123" y="127"/>
                    </a:lnTo>
                    <a:lnTo>
                      <a:pt x="137" y="125"/>
                    </a:lnTo>
                    <a:lnTo>
                      <a:pt x="178" y="125"/>
                    </a:lnTo>
                    <a:lnTo>
                      <a:pt x="235" y="71"/>
                    </a:lnTo>
                    <a:lnTo>
                      <a:pt x="236"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1" name=""/>
              <p:cNvSpPr/>
              <p:nvPr/>
            </p:nvSpPr>
            <p:spPr>
              <a:xfrm>
                <a:off x="5654160" y="3370320"/>
                <a:ext cx="32760" cy="42840"/>
              </a:xfrm>
              <a:prstGeom prst="line">
                <a:avLst/>
              </a:prstGeom>
              <a:ln w="0">
                <a:solidFill>
                  <a:srgbClr val="0000ff"/>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82" name=""/>
              <p:cNvSpPr/>
              <p:nvPr/>
            </p:nvSpPr>
            <p:spPr>
              <a:xfrm>
                <a:off x="5654160" y="3370320"/>
                <a:ext cx="32760" cy="42840"/>
              </a:xfrm>
              <a:prstGeom prst="line">
                <a:avLst/>
              </a:prstGeom>
              <a:ln w="0">
                <a:solidFill>
                  <a:srgbClr val="0000ff"/>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883" name=""/>
              <p:cNvSpPr/>
              <p:nvPr/>
            </p:nvSpPr>
            <p:spPr>
              <a:xfrm>
                <a:off x="7479360" y="3844800"/>
                <a:ext cx="269280" cy="154080"/>
              </a:xfrm>
              <a:custGeom>
                <a:avLst/>
                <a:gdLst/>
                <a:ahLst/>
                <a:rect l="l" t="t" r="r" b="b"/>
                <a:pathLst>
                  <a:path w="164" h="97">
                    <a:moveTo>
                      <a:pt x="164" y="0"/>
                    </a:moveTo>
                    <a:lnTo>
                      <a:pt x="94" y="36"/>
                    </a:lnTo>
                    <a:lnTo>
                      <a:pt x="92" y="88"/>
                    </a:lnTo>
                    <a:lnTo>
                      <a:pt x="10" y="97"/>
                    </a:lnTo>
                    <a:lnTo>
                      <a:pt x="0" y="8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a:off x="7479360" y="3844800"/>
                <a:ext cx="269280" cy="154080"/>
              </a:xfrm>
              <a:custGeom>
                <a:avLst/>
                <a:gdLst/>
                <a:ahLst/>
                <a:rect l="l" t="t" r="r" b="b"/>
                <a:pathLst>
                  <a:path w="164" h="97">
                    <a:moveTo>
                      <a:pt x="164" y="0"/>
                    </a:moveTo>
                    <a:lnTo>
                      <a:pt x="94" y="36"/>
                    </a:lnTo>
                    <a:lnTo>
                      <a:pt x="92" y="88"/>
                    </a:lnTo>
                    <a:lnTo>
                      <a:pt x="10" y="97"/>
                    </a:lnTo>
                    <a:lnTo>
                      <a:pt x="0" y="8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5" name=""/>
              <p:cNvSpPr/>
              <p:nvPr/>
            </p:nvSpPr>
            <p:spPr>
              <a:xfrm>
                <a:off x="4254480" y="1677960"/>
                <a:ext cx="178920" cy="299880"/>
              </a:xfrm>
              <a:custGeom>
                <a:avLst/>
                <a:gdLst/>
                <a:ahLst/>
                <a:rect l="l" t="t" r="r" b="b"/>
                <a:pathLst>
                  <a:path w="109" h="189">
                    <a:moveTo>
                      <a:pt x="6" y="189"/>
                    </a:moveTo>
                    <a:lnTo>
                      <a:pt x="10" y="180"/>
                    </a:lnTo>
                    <a:lnTo>
                      <a:pt x="0" y="108"/>
                    </a:lnTo>
                    <a:lnTo>
                      <a:pt x="109"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a:off x="4254480" y="1677960"/>
                <a:ext cx="178920" cy="299880"/>
              </a:xfrm>
              <a:custGeom>
                <a:avLst/>
                <a:gdLst/>
                <a:ahLst/>
                <a:rect l="l" t="t" r="r" b="b"/>
                <a:pathLst>
                  <a:path w="109" h="189">
                    <a:moveTo>
                      <a:pt x="6" y="189"/>
                    </a:moveTo>
                    <a:lnTo>
                      <a:pt x="10" y="180"/>
                    </a:lnTo>
                    <a:lnTo>
                      <a:pt x="0" y="108"/>
                    </a:lnTo>
                    <a:lnTo>
                      <a:pt x="109"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7" name=""/>
              <p:cNvSpPr/>
              <p:nvPr/>
            </p:nvSpPr>
            <p:spPr>
              <a:xfrm>
                <a:off x="4686480" y="1736640"/>
                <a:ext cx="57240" cy="209520"/>
              </a:xfrm>
              <a:custGeom>
                <a:avLst/>
                <a:gdLst/>
                <a:ahLst/>
                <a:rect l="l" t="t" r="r" b="b"/>
                <a:pathLst>
                  <a:path w="35" h="132">
                    <a:moveTo>
                      <a:pt x="0" y="0"/>
                    </a:moveTo>
                    <a:lnTo>
                      <a:pt x="5" y="18"/>
                    </a:lnTo>
                    <a:lnTo>
                      <a:pt x="13" y="25"/>
                    </a:lnTo>
                    <a:lnTo>
                      <a:pt x="25" y="31"/>
                    </a:lnTo>
                    <a:lnTo>
                      <a:pt x="31" y="42"/>
                    </a:lnTo>
                    <a:lnTo>
                      <a:pt x="35" y="128"/>
                    </a:lnTo>
                    <a:lnTo>
                      <a:pt x="3" y="13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8" name=""/>
              <p:cNvSpPr/>
              <p:nvPr/>
            </p:nvSpPr>
            <p:spPr>
              <a:xfrm>
                <a:off x="4686480" y="1736640"/>
                <a:ext cx="57240" cy="209520"/>
              </a:xfrm>
              <a:custGeom>
                <a:avLst/>
                <a:gdLst/>
                <a:ahLst/>
                <a:rect l="l" t="t" r="r" b="b"/>
                <a:pathLst>
                  <a:path w="35" h="132">
                    <a:moveTo>
                      <a:pt x="0" y="0"/>
                    </a:moveTo>
                    <a:lnTo>
                      <a:pt x="5" y="18"/>
                    </a:lnTo>
                    <a:lnTo>
                      <a:pt x="13" y="25"/>
                    </a:lnTo>
                    <a:lnTo>
                      <a:pt x="25" y="31"/>
                    </a:lnTo>
                    <a:lnTo>
                      <a:pt x="31" y="42"/>
                    </a:lnTo>
                    <a:lnTo>
                      <a:pt x="35" y="128"/>
                    </a:lnTo>
                    <a:lnTo>
                      <a:pt x="3" y="13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9" name=""/>
              <p:cNvSpPr/>
              <p:nvPr/>
            </p:nvSpPr>
            <p:spPr>
              <a:xfrm>
                <a:off x="4510800" y="1776240"/>
                <a:ext cx="70200" cy="174600"/>
              </a:xfrm>
              <a:custGeom>
                <a:avLst/>
                <a:gdLst/>
                <a:ahLst/>
                <a:rect l="l" t="t" r="r" b="b"/>
                <a:pathLst>
                  <a:path w="43" h="110">
                    <a:moveTo>
                      <a:pt x="19" y="110"/>
                    </a:moveTo>
                    <a:lnTo>
                      <a:pt x="13" y="94"/>
                    </a:lnTo>
                    <a:lnTo>
                      <a:pt x="0" y="64"/>
                    </a:lnTo>
                    <a:lnTo>
                      <a:pt x="6" y="53"/>
                    </a:lnTo>
                    <a:lnTo>
                      <a:pt x="43" y="17"/>
                    </a:lnTo>
                    <a:lnTo>
                      <a:pt x="21" y="15"/>
                    </a:lnTo>
                    <a:lnTo>
                      <a:pt x="6"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0" name=""/>
              <p:cNvSpPr/>
              <p:nvPr/>
            </p:nvSpPr>
            <p:spPr>
              <a:xfrm>
                <a:off x="4510800" y="1776240"/>
                <a:ext cx="70200" cy="174600"/>
              </a:xfrm>
              <a:custGeom>
                <a:avLst/>
                <a:gdLst/>
                <a:ahLst/>
                <a:rect l="l" t="t" r="r" b="b"/>
                <a:pathLst>
                  <a:path w="43" h="110">
                    <a:moveTo>
                      <a:pt x="19" y="110"/>
                    </a:moveTo>
                    <a:lnTo>
                      <a:pt x="13" y="94"/>
                    </a:lnTo>
                    <a:lnTo>
                      <a:pt x="0" y="64"/>
                    </a:lnTo>
                    <a:lnTo>
                      <a:pt x="6" y="53"/>
                    </a:lnTo>
                    <a:lnTo>
                      <a:pt x="43" y="17"/>
                    </a:lnTo>
                    <a:lnTo>
                      <a:pt x="21" y="15"/>
                    </a:lnTo>
                    <a:lnTo>
                      <a:pt x="6"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1" name=""/>
              <p:cNvSpPr/>
              <p:nvPr/>
            </p:nvSpPr>
            <p:spPr>
              <a:xfrm>
                <a:off x="7594200" y="2522520"/>
                <a:ext cx="111600" cy="125280"/>
              </a:xfrm>
              <a:custGeom>
                <a:avLst/>
                <a:gdLst/>
                <a:ahLst/>
                <a:rect l="l" t="t" r="r" b="b"/>
                <a:pathLst>
                  <a:path w="68" h="79">
                    <a:moveTo>
                      <a:pt x="0" y="79"/>
                    </a:moveTo>
                    <a:lnTo>
                      <a:pt x="33" y="18"/>
                    </a:lnTo>
                    <a:lnTo>
                      <a:pt x="68"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2" name=""/>
              <p:cNvSpPr/>
              <p:nvPr/>
            </p:nvSpPr>
            <p:spPr>
              <a:xfrm>
                <a:off x="7594200" y="2522520"/>
                <a:ext cx="111600" cy="125280"/>
              </a:xfrm>
              <a:custGeom>
                <a:avLst/>
                <a:gdLst/>
                <a:ahLst/>
                <a:rect l="l" t="t" r="r" b="b"/>
                <a:pathLst>
                  <a:path w="68" h="79">
                    <a:moveTo>
                      <a:pt x="0" y="79"/>
                    </a:moveTo>
                    <a:lnTo>
                      <a:pt x="33" y="18"/>
                    </a:lnTo>
                    <a:lnTo>
                      <a:pt x="68"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3" name=""/>
              <p:cNvSpPr/>
              <p:nvPr/>
            </p:nvSpPr>
            <p:spPr>
              <a:xfrm flipV="1">
                <a:off x="5348520" y="3884040"/>
                <a:ext cx="1440" cy="1558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4" name=""/>
              <p:cNvSpPr/>
              <p:nvPr/>
            </p:nvSpPr>
            <p:spPr>
              <a:xfrm flipV="1">
                <a:off x="5348520" y="3884040"/>
                <a:ext cx="1440" cy="1558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5" name=""/>
              <p:cNvSpPr/>
              <p:nvPr/>
            </p:nvSpPr>
            <p:spPr>
              <a:xfrm flipH="1" flipV="1">
                <a:off x="5074200" y="4061880"/>
                <a:ext cx="175680" cy="87480"/>
              </a:xfrm>
              <a:prstGeom prst="line">
                <a:avLst/>
              </a:prstGeom>
              <a:ln w="0">
                <a:solidFill>
                  <a:srgbClr val="0000ff"/>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96" name=""/>
              <p:cNvSpPr/>
              <p:nvPr/>
            </p:nvSpPr>
            <p:spPr>
              <a:xfrm flipH="1" flipV="1">
                <a:off x="5074200" y="4061880"/>
                <a:ext cx="175680" cy="87480"/>
              </a:xfrm>
              <a:prstGeom prst="line">
                <a:avLst/>
              </a:prstGeom>
              <a:ln w="0">
                <a:solidFill>
                  <a:srgbClr val="0000ff"/>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97" name=""/>
              <p:cNvSpPr/>
              <p:nvPr/>
            </p:nvSpPr>
            <p:spPr>
              <a:xfrm>
                <a:off x="4418640" y="2414520"/>
                <a:ext cx="37440" cy="41400"/>
              </a:xfrm>
              <a:prstGeom prst="line">
                <a:avLst/>
              </a:prstGeom>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898" name=""/>
              <p:cNvSpPr/>
              <p:nvPr/>
            </p:nvSpPr>
            <p:spPr>
              <a:xfrm>
                <a:off x="4418640" y="2414520"/>
                <a:ext cx="37440" cy="41400"/>
              </a:xfrm>
              <a:prstGeom prst="line">
                <a:avLst/>
              </a:prstGeom>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899" name=""/>
              <p:cNvSpPr/>
              <p:nvPr/>
            </p:nvSpPr>
            <p:spPr>
              <a:xfrm>
                <a:off x="4456440" y="2455920"/>
                <a:ext cx="54360" cy="39600"/>
              </a:xfrm>
              <a:prstGeom prst="line">
                <a:avLst/>
              </a:prstGeom>
              <a:ln w="0">
                <a:solidFill>
                  <a:srgbClr val="0000ff"/>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900" name=""/>
              <p:cNvSpPr/>
              <p:nvPr/>
            </p:nvSpPr>
            <p:spPr>
              <a:xfrm>
                <a:off x="4456440" y="2455920"/>
                <a:ext cx="54360" cy="39600"/>
              </a:xfrm>
              <a:prstGeom prst="line">
                <a:avLst/>
              </a:prstGeom>
              <a:ln w="0">
                <a:solidFill>
                  <a:srgbClr val="0000ff"/>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901" name=""/>
              <p:cNvSpPr/>
              <p:nvPr/>
            </p:nvSpPr>
            <p:spPr>
              <a:xfrm flipH="1">
                <a:off x="8438400" y="4132080"/>
                <a:ext cx="21600" cy="2224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2" name=""/>
              <p:cNvSpPr/>
              <p:nvPr/>
            </p:nvSpPr>
            <p:spPr>
              <a:xfrm flipH="1">
                <a:off x="8438400" y="4132080"/>
                <a:ext cx="21600" cy="2224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3" name=""/>
              <p:cNvSpPr/>
              <p:nvPr/>
            </p:nvSpPr>
            <p:spPr>
              <a:xfrm>
                <a:off x="4528800" y="2477880"/>
                <a:ext cx="100080" cy="30240"/>
              </a:xfrm>
              <a:custGeom>
                <a:avLst/>
                <a:gdLst/>
                <a:ahLst/>
                <a:rect l="l" t="t" r="r" b="b"/>
                <a:pathLst>
                  <a:path w="61" h="19">
                    <a:moveTo>
                      <a:pt x="39" y="19"/>
                    </a:moveTo>
                    <a:lnTo>
                      <a:pt x="59" y="15"/>
                    </a:lnTo>
                    <a:lnTo>
                      <a:pt x="61" y="6"/>
                    </a:lnTo>
                    <a:lnTo>
                      <a:pt x="57" y="2"/>
                    </a:lnTo>
                    <a:lnTo>
                      <a:pt x="48" y="2"/>
                    </a:lnTo>
                    <a:lnTo>
                      <a:pt x="4" y="0"/>
                    </a:lnTo>
                    <a:lnTo>
                      <a:pt x="0" y="8"/>
                    </a:lnTo>
                  </a:path>
                </a:pathLst>
              </a:custGeom>
              <a:solidFill>
                <a:srgbClr val="000080">
                  <a:alpha val="50000"/>
                </a:srgbClr>
              </a:solidFill>
              <a:ln w="0">
                <a:solidFill>
                  <a:srgbClr val="0000ff"/>
                </a:solid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04" name=""/>
              <p:cNvSpPr/>
              <p:nvPr/>
            </p:nvSpPr>
            <p:spPr>
              <a:xfrm>
                <a:off x="4528800" y="2477880"/>
                <a:ext cx="100080" cy="30240"/>
              </a:xfrm>
              <a:custGeom>
                <a:avLst/>
                <a:gdLst/>
                <a:ahLst/>
                <a:rect l="l" t="t" r="r" b="b"/>
                <a:pathLst>
                  <a:path w="61" h="19">
                    <a:moveTo>
                      <a:pt x="39" y="19"/>
                    </a:moveTo>
                    <a:lnTo>
                      <a:pt x="59" y="15"/>
                    </a:lnTo>
                    <a:lnTo>
                      <a:pt x="61" y="6"/>
                    </a:lnTo>
                    <a:lnTo>
                      <a:pt x="57" y="2"/>
                    </a:lnTo>
                    <a:lnTo>
                      <a:pt x="48" y="2"/>
                    </a:lnTo>
                    <a:lnTo>
                      <a:pt x="4" y="0"/>
                    </a:lnTo>
                    <a:lnTo>
                      <a:pt x="0" y="8"/>
                    </a:lnTo>
                  </a:path>
                </a:pathLst>
              </a:custGeom>
              <a:solidFill>
                <a:srgbClr val="000080">
                  <a:alpha val="50000"/>
                </a:srgbClr>
              </a:solidFill>
              <a:ln w="0">
                <a:solidFill>
                  <a:srgbClr val="0000ff"/>
                </a:solid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905" name=""/>
              <p:cNvSpPr/>
              <p:nvPr/>
            </p:nvSpPr>
            <p:spPr>
              <a:xfrm flipH="1">
                <a:off x="4495680" y="2495520"/>
                <a:ext cx="14760" cy="44280"/>
              </a:xfrm>
              <a:prstGeom prst="line">
                <a:avLst/>
              </a:prstGeom>
              <a:ln w="0">
                <a:solidFill>
                  <a:srgbClr val="0000ff"/>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06" name=""/>
              <p:cNvSpPr/>
              <p:nvPr/>
            </p:nvSpPr>
            <p:spPr>
              <a:xfrm flipH="1">
                <a:off x="4495680" y="2495520"/>
                <a:ext cx="14760" cy="44280"/>
              </a:xfrm>
              <a:prstGeom prst="line">
                <a:avLst/>
              </a:prstGeom>
              <a:ln w="0">
                <a:solidFill>
                  <a:srgbClr val="0000ff"/>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907" name=""/>
              <p:cNvSpPr/>
              <p:nvPr/>
            </p:nvSpPr>
            <p:spPr>
              <a:xfrm>
                <a:off x="1982160" y="1785960"/>
                <a:ext cx="136080" cy="112680"/>
              </a:xfrm>
              <a:custGeom>
                <a:avLst/>
                <a:gdLst/>
                <a:ahLst/>
                <a:rect l="l" t="t" r="r" b="b"/>
                <a:pathLst>
                  <a:path w="83" h="71">
                    <a:moveTo>
                      <a:pt x="46" y="0"/>
                    </a:moveTo>
                    <a:lnTo>
                      <a:pt x="83" y="31"/>
                    </a:lnTo>
                    <a:lnTo>
                      <a:pt x="20" y="71"/>
                    </a:lnTo>
                    <a:lnTo>
                      <a:pt x="0" y="29"/>
                    </a:lnTo>
                    <a:lnTo>
                      <a:pt x="46"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8" name=""/>
              <p:cNvSpPr/>
              <p:nvPr/>
            </p:nvSpPr>
            <p:spPr>
              <a:xfrm>
                <a:off x="1982160" y="1785960"/>
                <a:ext cx="136080" cy="112680"/>
              </a:xfrm>
              <a:custGeom>
                <a:avLst/>
                <a:gdLst/>
                <a:ahLst/>
                <a:rect l="l" t="t" r="r" b="b"/>
                <a:pathLst>
                  <a:path w="83" h="71">
                    <a:moveTo>
                      <a:pt x="46" y="0"/>
                    </a:moveTo>
                    <a:lnTo>
                      <a:pt x="83" y="31"/>
                    </a:lnTo>
                    <a:lnTo>
                      <a:pt x="20" y="71"/>
                    </a:lnTo>
                    <a:lnTo>
                      <a:pt x="0" y="29"/>
                    </a:lnTo>
                    <a:lnTo>
                      <a:pt x="46"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9" name=""/>
              <p:cNvSpPr/>
              <p:nvPr/>
            </p:nvSpPr>
            <p:spPr>
              <a:xfrm>
                <a:off x="1205280" y="3373200"/>
                <a:ext cx="155880" cy="88920"/>
              </a:xfrm>
              <a:custGeom>
                <a:avLst/>
                <a:gdLst/>
                <a:ahLst/>
                <a:rect l="l" t="t" r="r" b="b"/>
                <a:pathLst>
                  <a:path w="95" h="56">
                    <a:moveTo>
                      <a:pt x="95" y="0"/>
                    </a:moveTo>
                    <a:lnTo>
                      <a:pt x="35" y="3"/>
                    </a:lnTo>
                    <a:lnTo>
                      <a:pt x="37" y="36"/>
                    </a:lnTo>
                    <a:lnTo>
                      <a:pt x="18" y="36"/>
                    </a:lnTo>
                    <a:lnTo>
                      <a:pt x="0" y="56"/>
                    </a:lnTo>
                  </a:path>
                </a:pathLst>
              </a:custGeom>
              <a:solidFill>
                <a:srgbClr val="000080">
                  <a:alpha val="50000"/>
                </a:srgbClr>
              </a:solidFill>
              <a:ln w="0">
                <a:solidFill>
                  <a:srgbClr val="0000ff"/>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910" name=""/>
              <p:cNvSpPr/>
              <p:nvPr/>
            </p:nvSpPr>
            <p:spPr>
              <a:xfrm>
                <a:off x="1205280" y="3373200"/>
                <a:ext cx="155880" cy="88920"/>
              </a:xfrm>
              <a:custGeom>
                <a:avLst/>
                <a:gdLst/>
                <a:ahLst/>
                <a:rect l="l" t="t" r="r" b="b"/>
                <a:pathLst>
                  <a:path w="95" h="56">
                    <a:moveTo>
                      <a:pt x="95" y="0"/>
                    </a:moveTo>
                    <a:lnTo>
                      <a:pt x="35" y="3"/>
                    </a:lnTo>
                    <a:lnTo>
                      <a:pt x="37" y="36"/>
                    </a:lnTo>
                    <a:lnTo>
                      <a:pt x="18" y="36"/>
                    </a:lnTo>
                    <a:lnTo>
                      <a:pt x="0" y="56"/>
                    </a:lnTo>
                  </a:path>
                </a:pathLst>
              </a:custGeom>
              <a:solidFill>
                <a:srgbClr val="000080">
                  <a:alpha val="50000"/>
                </a:srgbClr>
              </a:solidFill>
              <a:ln w="0">
                <a:solidFill>
                  <a:srgbClr val="0000ff"/>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911" name=""/>
              <p:cNvSpPr/>
              <p:nvPr/>
            </p:nvSpPr>
            <p:spPr>
              <a:xfrm flipV="1">
                <a:off x="1650240" y="3677760"/>
                <a:ext cx="18000" cy="27000"/>
              </a:xfrm>
              <a:prstGeom prst="line">
                <a:avLst/>
              </a:prstGeom>
              <a:ln w="0">
                <a:solidFill>
                  <a:srgbClr val="0000f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12" name=""/>
              <p:cNvSpPr/>
              <p:nvPr/>
            </p:nvSpPr>
            <p:spPr>
              <a:xfrm flipV="1">
                <a:off x="1650240" y="3677760"/>
                <a:ext cx="18000" cy="27000"/>
              </a:xfrm>
              <a:prstGeom prst="line">
                <a:avLst/>
              </a:prstGeom>
              <a:ln w="0">
                <a:solidFill>
                  <a:srgbClr val="0000f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913" name=""/>
              <p:cNvSpPr/>
              <p:nvPr/>
            </p:nvSpPr>
            <p:spPr>
              <a:xfrm>
                <a:off x="1811520" y="3566880"/>
                <a:ext cx="162360" cy="362160"/>
              </a:xfrm>
              <a:custGeom>
                <a:avLst/>
                <a:gdLst/>
                <a:ahLst/>
                <a:rect l="l" t="t" r="r" b="b"/>
                <a:pathLst>
                  <a:path w="99" h="228">
                    <a:moveTo>
                      <a:pt x="14" y="0"/>
                    </a:moveTo>
                    <a:lnTo>
                      <a:pt x="0" y="88"/>
                    </a:lnTo>
                    <a:lnTo>
                      <a:pt x="99" y="127"/>
                    </a:lnTo>
                    <a:lnTo>
                      <a:pt x="88" y="22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4" name=""/>
            <p:cNvSpPr/>
            <p:nvPr/>
          </p:nvSpPr>
          <p:spPr>
            <a:xfrm>
              <a:off x="1811880" y="3566880"/>
              <a:ext cx="162360" cy="362160"/>
            </a:xfrm>
            <a:custGeom>
              <a:avLst/>
              <a:gdLst/>
              <a:ahLst/>
              <a:rect l="l" t="t" r="r" b="b"/>
              <a:pathLst>
                <a:path w="99" h="228">
                  <a:moveTo>
                    <a:pt x="14" y="0"/>
                  </a:moveTo>
                  <a:lnTo>
                    <a:pt x="0" y="88"/>
                  </a:lnTo>
                  <a:lnTo>
                    <a:pt x="99" y="127"/>
                  </a:lnTo>
                  <a:lnTo>
                    <a:pt x="88" y="22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a:off x="605880" y="2813040"/>
              <a:ext cx="498960" cy="264960"/>
            </a:xfrm>
            <a:custGeom>
              <a:avLst/>
              <a:gdLst/>
              <a:ahLst/>
              <a:rect l="l" t="t" r="r" b="b"/>
              <a:pathLst>
                <a:path w="304" h="167">
                  <a:moveTo>
                    <a:pt x="304" y="167"/>
                  </a:moveTo>
                  <a:lnTo>
                    <a:pt x="225" y="79"/>
                  </a:lnTo>
                  <a:lnTo>
                    <a:pt x="218" y="103"/>
                  </a:lnTo>
                  <a:lnTo>
                    <a:pt x="211" y="103"/>
                  </a:lnTo>
                  <a:lnTo>
                    <a:pt x="200" y="94"/>
                  </a:lnTo>
                  <a:lnTo>
                    <a:pt x="200" y="66"/>
                  </a:lnTo>
                  <a:lnTo>
                    <a:pt x="150" y="46"/>
                  </a:lnTo>
                  <a:lnTo>
                    <a:pt x="143" y="66"/>
                  </a:lnTo>
                  <a:lnTo>
                    <a:pt x="119" y="63"/>
                  </a:lnTo>
                  <a:lnTo>
                    <a:pt x="79" y="33"/>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a:off x="605880" y="2813040"/>
              <a:ext cx="498960" cy="264960"/>
            </a:xfrm>
            <a:custGeom>
              <a:avLst/>
              <a:gdLst/>
              <a:ahLst/>
              <a:rect l="l" t="t" r="r" b="b"/>
              <a:pathLst>
                <a:path w="304" h="167">
                  <a:moveTo>
                    <a:pt x="304" y="167"/>
                  </a:moveTo>
                  <a:lnTo>
                    <a:pt x="225" y="79"/>
                  </a:lnTo>
                  <a:lnTo>
                    <a:pt x="218" y="103"/>
                  </a:lnTo>
                  <a:lnTo>
                    <a:pt x="211" y="103"/>
                  </a:lnTo>
                  <a:lnTo>
                    <a:pt x="200" y="94"/>
                  </a:lnTo>
                  <a:lnTo>
                    <a:pt x="200" y="66"/>
                  </a:lnTo>
                  <a:lnTo>
                    <a:pt x="150" y="46"/>
                  </a:lnTo>
                  <a:lnTo>
                    <a:pt x="143" y="66"/>
                  </a:lnTo>
                  <a:lnTo>
                    <a:pt x="119" y="63"/>
                  </a:lnTo>
                  <a:lnTo>
                    <a:pt x="79" y="33"/>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7" name=""/>
            <p:cNvSpPr/>
            <p:nvPr/>
          </p:nvSpPr>
          <p:spPr>
            <a:xfrm>
              <a:off x="1519560" y="3566880"/>
              <a:ext cx="1437120" cy="2292480"/>
            </a:xfrm>
            <a:custGeom>
              <a:avLst/>
              <a:gdLst/>
              <a:ahLst/>
              <a:rect l="l" t="t" r="r" b="b"/>
              <a:pathLst>
                <a:path w="875" h="1444">
                  <a:moveTo>
                    <a:pt x="91" y="70"/>
                  </a:moveTo>
                  <a:lnTo>
                    <a:pt x="99" y="61"/>
                  </a:lnTo>
                  <a:lnTo>
                    <a:pt x="189" y="0"/>
                  </a:lnTo>
                  <a:lnTo>
                    <a:pt x="374" y="32"/>
                  </a:lnTo>
                  <a:lnTo>
                    <a:pt x="478" y="142"/>
                  </a:lnTo>
                  <a:lnTo>
                    <a:pt x="513" y="151"/>
                  </a:lnTo>
                  <a:lnTo>
                    <a:pt x="556" y="158"/>
                  </a:lnTo>
                  <a:lnTo>
                    <a:pt x="570" y="210"/>
                  </a:lnTo>
                  <a:lnTo>
                    <a:pt x="578" y="228"/>
                  </a:lnTo>
                  <a:lnTo>
                    <a:pt x="587" y="259"/>
                  </a:lnTo>
                  <a:lnTo>
                    <a:pt x="702" y="332"/>
                  </a:lnTo>
                  <a:lnTo>
                    <a:pt x="754" y="323"/>
                  </a:lnTo>
                  <a:lnTo>
                    <a:pt x="871" y="386"/>
                  </a:lnTo>
                  <a:lnTo>
                    <a:pt x="875" y="466"/>
                  </a:lnTo>
                  <a:lnTo>
                    <a:pt x="814" y="558"/>
                  </a:lnTo>
                  <a:lnTo>
                    <a:pt x="818" y="617"/>
                  </a:lnTo>
                  <a:lnTo>
                    <a:pt x="801" y="661"/>
                  </a:lnTo>
                  <a:lnTo>
                    <a:pt x="761" y="769"/>
                  </a:lnTo>
                  <a:lnTo>
                    <a:pt x="642" y="813"/>
                  </a:lnTo>
                  <a:lnTo>
                    <a:pt x="656" y="888"/>
                  </a:lnTo>
                  <a:lnTo>
                    <a:pt x="601" y="960"/>
                  </a:lnTo>
                  <a:lnTo>
                    <a:pt x="556" y="1019"/>
                  </a:lnTo>
                  <a:lnTo>
                    <a:pt x="517" y="1013"/>
                  </a:lnTo>
                  <a:lnTo>
                    <a:pt x="528" y="1037"/>
                  </a:lnTo>
                  <a:lnTo>
                    <a:pt x="534" y="1061"/>
                  </a:lnTo>
                  <a:lnTo>
                    <a:pt x="517" y="1085"/>
                  </a:lnTo>
                  <a:lnTo>
                    <a:pt x="510" y="1092"/>
                  </a:lnTo>
                  <a:lnTo>
                    <a:pt x="478" y="1119"/>
                  </a:lnTo>
                  <a:lnTo>
                    <a:pt x="440" y="1147"/>
                  </a:lnTo>
                  <a:lnTo>
                    <a:pt x="427" y="1391"/>
                  </a:lnTo>
                  <a:lnTo>
                    <a:pt x="462" y="1409"/>
                  </a:lnTo>
                  <a:lnTo>
                    <a:pt x="497" y="1431"/>
                  </a:lnTo>
                  <a:lnTo>
                    <a:pt x="456" y="1444"/>
                  </a:lnTo>
                  <a:lnTo>
                    <a:pt x="381" y="1435"/>
                  </a:lnTo>
                  <a:lnTo>
                    <a:pt x="308" y="1358"/>
                  </a:lnTo>
                  <a:lnTo>
                    <a:pt x="256" y="1169"/>
                  </a:lnTo>
                  <a:lnTo>
                    <a:pt x="249" y="1085"/>
                  </a:lnTo>
                  <a:lnTo>
                    <a:pt x="222" y="661"/>
                  </a:lnTo>
                  <a:lnTo>
                    <a:pt x="222" y="655"/>
                  </a:lnTo>
                  <a:lnTo>
                    <a:pt x="211" y="630"/>
                  </a:lnTo>
                  <a:lnTo>
                    <a:pt x="134" y="602"/>
                  </a:lnTo>
                  <a:lnTo>
                    <a:pt x="95" y="525"/>
                  </a:lnTo>
                  <a:lnTo>
                    <a:pt x="58" y="474"/>
                  </a:lnTo>
                  <a:lnTo>
                    <a:pt x="20" y="428"/>
                  </a:lnTo>
                  <a:lnTo>
                    <a:pt x="11" y="417"/>
                  </a:lnTo>
                  <a:lnTo>
                    <a:pt x="0" y="408"/>
                  </a:lnTo>
                  <a:lnTo>
                    <a:pt x="11" y="316"/>
                  </a:lnTo>
                  <a:lnTo>
                    <a:pt x="7" y="272"/>
                  </a:lnTo>
                  <a:lnTo>
                    <a:pt x="53" y="228"/>
                  </a:lnTo>
                  <a:lnTo>
                    <a:pt x="66" y="217"/>
                  </a:lnTo>
                  <a:lnTo>
                    <a:pt x="80" y="8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a:off x="1519560" y="3566880"/>
              <a:ext cx="1437120" cy="2292480"/>
            </a:xfrm>
            <a:custGeom>
              <a:avLst/>
              <a:gdLst/>
              <a:ahLst/>
              <a:rect l="l" t="t" r="r" b="b"/>
              <a:pathLst>
                <a:path w="875" h="1444">
                  <a:moveTo>
                    <a:pt x="91" y="70"/>
                  </a:moveTo>
                  <a:lnTo>
                    <a:pt x="99" y="61"/>
                  </a:lnTo>
                  <a:lnTo>
                    <a:pt x="189" y="0"/>
                  </a:lnTo>
                  <a:lnTo>
                    <a:pt x="374" y="32"/>
                  </a:lnTo>
                  <a:lnTo>
                    <a:pt x="478" y="142"/>
                  </a:lnTo>
                  <a:lnTo>
                    <a:pt x="513" y="151"/>
                  </a:lnTo>
                  <a:lnTo>
                    <a:pt x="556" y="158"/>
                  </a:lnTo>
                  <a:lnTo>
                    <a:pt x="570" y="210"/>
                  </a:lnTo>
                  <a:lnTo>
                    <a:pt x="578" y="228"/>
                  </a:lnTo>
                  <a:lnTo>
                    <a:pt x="587" y="259"/>
                  </a:lnTo>
                  <a:lnTo>
                    <a:pt x="702" y="332"/>
                  </a:lnTo>
                  <a:lnTo>
                    <a:pt x="754" y="323"/>
                  </a:lnTo>
                  <a:lnTo>
                    <a:pt x="871" y="386"/>
                  </a:lnTo>
                  <a:lnTo>
                    <a:pt x="875" y="466"/>
                  </a:lnTo>
                  <a:lnTo>
                    <a:pt x="814" y="558"/>
                  </a:lnTo>
                  <a:lnTo>
                    <a:pt x="818" y="617"/>
                  </a:lnTo>
                  <a:lnTo>
                    <a:pt x="801" y="661"/>
                  </a:lnTo>
                  <a:lnTo>
                    <a:pt x="761" y="769"/>
                  </a:lnTo>
                  <a:lnTo>
                    <a:pt x="642" y="813"/>
                  </a:lnTo>
                  <a:lnTo>
                    <a:pt x="656" y="888"/>
                  </a:lnTo>
                  <a:lnTo>
                    <a:pt x="601" y="960"/>
                  </a:lnTo>
                  <a:lnTo>
                    <a:pt x="556" y="1019"/>
                  </a:lnTo>
                  <a:lnTo>
                    <a:pt x="517" y="1013"/>
                  </a:lnTo>
                  <a:lnTo>
                    <a:pt x="528" y="1037"/>
                  </a:lnTo>
                  <a:lnTo>
                    <a:pt x="534" y="1061"/>
                  </a:lnTo>
                  <a:lnTo>
                    <a:pt x="517" y="1085"/>
                  </a:lnTo>
                  <a:lnTo>
                    <a:pt x="510" y="1092"/>
                  </a:lnTo>
                  <a:lnTo>
                    <a:pt x="478" y="1119"/>
                  </a:lnTo>
                  <a:lnTo>
                    <a:pt x="440" y="1147"/>
                  </a:lnTo>
                  <a:lnTo>
                    <a:pt x="427" y="1391"/>
                  </a:lnTo>
                  <a:lnTo>
                    <a:pt x="462" y="1409"/>
                  </a:lnTo>
                  <a:lnTo>
                    <a:pt x="497" y="1431"/>
                  </a:lnTo>
                  <a:lnTo>
                    <a:pt x="456" y="1444"/>
                  </a:lnTo>
                  <a:lnTo>
                    <a:pt x="381" y="1435"/>
                  </a:lnTo>
                  <a:lnTo>
                    <a:pt x="308" y="1358"/>
                  </a:lnTo>
                  <a:lnTo>
                    <a:pt x="256" y="1169"/>
                  </a:lnTo>
                  <a:lnTo>
                    <a:pt x="249" y="1085"/>
                  </a:lnTo>
                  <a:lnTo>
                    <a:pt x="222" y="661"/>
                  </a:lnTo>
                  <a:lnTo>
                    <a:pt x="222" y="655"/>
                  </a:lnTo>
                  <a:lnTo>
                    <a:pt x="211" y="630"/>
                  </a:lnTo>
                  <a:lnTo>
                    <a:pt x="134" y="602"/>
                  </a:lnTo>
                  <a:lnTo>
                    <a:pt x="95" y="525"/>
                  </a:lnTo>
                  <a:lnTo>
                    <a:pt x="58" y="474"/>
                  </a:lnTo>
                  <a:lnTo>
                    <a:pt x="20" y="428"/>
                  </a:lnTo>
                  <a:lnTo>
                    <a:pt x="11" y="417"/>
                  </a:lnTo>
                  <a:lnTo>
                    <a:pt x="0" y="408"/>
                  </a:lnTo>
                  <a:lnTo>
                    <a:pt x="11" y="316"/>
                  </a:lnTo>
                  <a:lnTo>
                    <a:pt x="7" y="272"/>
                  </a:lnTo>
                  <a:lnTo>
                    <a:pt x="53" y="228"/>
                  </a:lnTo>
                  <a:lnTo>
                    <a:pt x="66" y="217"/>
                  </a:lnTo>
                  <a:lnTo>
                    <a:pt x="80" y="8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a:off x="1105200" y="1357200"/>
              <a:ext cx="2661480" cy="2320920"/>
            </a:xfrm>
            <a:custGeom>
              <a:avLst/>
              <a:gdLst/>
              <a:ahLst/>
              <a:rect l="l" t="t" r="r" b="b"/>
              <a:pathLst>
                <a:path w="1620" h="1462">
                  <a:moveTo>
                    <a:pt x="342" y="1462"/>
                  </a:moveTo>
                  <a:lnTo>
                    <a:pt x="303" y="1440"/>
                  </a:lnTo>
                  <a:lnTo>
                    <a:pt x="277" y="1453"/>
                  </a:lnTo>
                  <a:lnTo>
                    <a:pt x="263" y="1453"/>
                  </a:lnTo>
                  <a:lnTo>
                    <a:pt x="248" y="1444"/>
                  </a:lnTo>
                  <a:lnTo>
                    <a:pt x="241" y="1435"/>
                  </a:lnTo>
                  <a:lnTo>
                    <a:pt x="228" y="1427"/>
                  </a:lnTo>
                  <a:lnTo>
                    <a:pt x="228" y="1301"/>
                  </a:lnTo>
                  <a:lnTo>
                    <a:pt x="147" y="1304"/>
                  </a:lnTo>
                  <a:lnTo>
                    <a:pt x="153" y="1264"/>
                  </a:lnTo>
                  <a:lnTo>
                    <a:pt x="169" y="1200"/>
                  </a:lnTo>
                  <a:lnTo>
                    <a:pt x="180" y="1161"/>
                  </a:lnTo>
                  <a:lnTo>
                    <a:pt x="116" y="1165"/>
                  </a:lnTo>
                  <a:lnTo>
                    <a:pt x="110" y="1200"/>
                  </a:lnTo>
                  <a:lnTo>
                    <a:pt x="101" y="1225"/>
                  </a:lnTo>
                  <a:lnTo>
                    <a:pt x="83" y="1244"/>
                  </a:lnTo>
                  <a:lnTo>
                    <a:pt x="50" y="1251"/>
                  </a:lnTo>
                  <a:lnTo>
                    <a:pt x="19" y="1238"/>
                  </a:lnTo>
                  <a:lnTo>
                    <a:pt x="2" y="1209"/>
                  </a:lnTo>
                  <a:lnTo>
                    <a:pt x="2" y="1200"/>
                  </a:lnTo>
                  <a:lnTo>
                    <a:pt x="0" y="1086"/>
                  </a:lnTo>
                  <a:lnTo>
                    <a:pt x="52" y="1022"/>
                  </a:lnTo>
                  <a:lnTo>
                    <a:pt x="171" y="1024"/>
                  </a:lnTo>
                  <a:lnTo>
                    <a:pt x="169" y="1011"/>
                  </a:lnTo>
                  <a:lnTo>
                    <a:pt x="160" y="998"/>
                  </a:lnTo>
                  <a:lnTo>
                    <a:pt x="228" y="998"/>
                  </a:lnTo>
                  <a:lnTo>
                    <a:pt x="261" y="1000"/>
                  </a:lnTo>
                  <a:lnTo>
                    <a:pt x="272" y="987"/>
                  </a:lnTo>
                  <a:lnTo>
                    <a:pt x="303" y="1099"/>
                  </a:lnTo>
                  <a:lnTo>
                    <a:pt x="332" y="1092"/>
                  </a:lnTo>
                  <a:lnTo>
                    <a:pt x="323" y="958"/>
                  </a:lnTo>
                  <a:lnTo>
                    <a:pt x="452" y="895"/>
                  </a:lnTo>
                  <a:lnTo>
                    <a:pt x="455" y="842"/>
                  </a:lnTo>
                  <a:lnTo>
                    <a:pt x="543" y="763"/>
                  </a:lnTo>
                  <a:lnTo>
                    <a:pt x="622" y="692"/>
                  </a:lnTo>
                  <a:lnTo>
                    <a:pt x="661" y="684"/>
                  </a:lnTo>
                  <a:lnTo>
                    <a:pt x="789" y="668"/>
                  </a:lnTo>
                  <a:lnTo>
                    <a:pt x="708" y="572"/>
                  </a:lnTo>
                  <a:lnTo>
                    <a:pt x="804" y="572"/>
                  </a:lnTo>
                  <a:lnTo>
                    <a:pt x="806" y="637"/>
                  </a:lnTo>
                  <a:lnTo>
                    <a:pt x="908" y="646"/>
                  </a:lnTo>
                  <a:lnTo>
                    <a:pt x="881" y="561"/>
                  </a:lnTo>
                  <a:lnTo>
                    <a:pt x="896" y="494"/>
                  </a:lnTo>
                  <a:lnTo>
                    <a:pt x="835" y="464"/>
                  </a:lnTo>
                  <a:lnTo>
                    <a:pt x="800" y="347"/>
                  </a:lnTo>
                  <a:lnTo>
                    <a:pt x="769" y="376"/>
                  </a:lnTo>
                  <a:lnTo>
                    <a:pt x="743" y="394"/>
                  </a:lnTo>
                  <a:lnTo>
                    <a:pt x="743" y="363"/>
                  </a:lnTo>
                  <a:lnTo>
                    <a:pt x="718" y="338"/>
                  </a:lnTo>
                  <a:lnTo>
                    <a:pt x="705" y="325"/>
                  </a:lnTo>
                  <a:lnTo>
                    <a:pt x="661" y="316"/>
                  </a:lnTo>
                  <a:lnTo>
                    <a:pt x="661" y="281"/>
                  </a:lnTo>
                  <a:lnTo>
                    <a:pt x="639" y="338"/>
                  </a:lnTo>
                  <a:lnTo>
                    <a:pt x="523" y="538"/>
                  </a:lnTo>
                  <a:lnTo>
                    <a:pt x="481" y="538"/>
                  </a:lnTo>
                  <a:lnTo>
                    <a:pt x="481" y="473"/>
                  </a:lnTo>
                  <a:lnTo>
                    <a:pt x="349" y="367"/>
                  </a:lnTo>
                  <a:lnTo>
                    <a:pt x="419" y="338"/>
                  </a:lnTo>
                  <a:lnTo>
                    <a:pt x="527" y="288"/>
                  </a:lnTo>
                  <a:lnTo>
                    <a:pt x="578" y="264"/>
                  </a:lnTo>
                  <a:lnTo>
                    <a:pt x="639" y="240"/>
                  </a:lnTo>
                  <a:lnTo>
                    <a:pt x="653" y="228"/>
                  </a:lnTo>
                  <a:lnTo>
                    <a:pt x="653" y="202"/>
                  </a:lnTo>
                  <a:lnTo>
                    <a:pt x="670" y="178"/>
                  </a:lnTo>
                  <a:lnTo>
                    <a:pt x="740" y="196"/>
                  </a:lnTo>
                  <a:lnTo>
                    <a:pt x="740" y="257"/>
                  </a:lnTo>
                  <a:lnTo>
                    <a:pt x="705" y="272"/>
                  </a:lnTo>
                  <a:lnTo>
                    <a:pt x="681" y="279"/>
                  </a:lnTo>
                  <a:lnTo>
                    <a:pt x="705" y="279"/>
                  </a:lnTo>
                  <a:lnTo>
                    <a:pt x="723" y="297"/>
                  </a:lnTo>
                  <a:lnTo>
                    <a:pt x="743" y="316"/>
                  </a:lnTo>
                  <a:lnTo>
                    <a:pt x="767" y="332"/>
                  </a:lnTo>
                  <a:lnTo>
                    <a:pt x="773" y="338"/>
                  </a:lnTo>
                  <a:lnTo>
                    <a:pt x="789" y="345"/>
                  </a:lnTo>
                  <a:lnTo>
                    <a:pt x="800" y="347"/>
                  </a:lnTo>
                  <a:lnTo>
                    <a:pt x="811" y="338"/>
                  </a:lnTo>
                  <a:lnTo>
                    <a:pt x="839" y="301"/>
                  </a:lnTo>
                  <a:lnTo>
                    <a:pt x="872" y="279"/>
                  </a:lnTo>
                  <a:lnTo>
                    <a:pt x="923" y="257"/>
                  </a:lnTo>
                  <a:lnTo>
                    <a:pt x="901" y="220"/>
                  </a:lnTo>
                  <a:lnTo>
                    <a:pt x="866" y="196"/>
                  </a:lnTo>
                  <a:lnTo>
                    <a:pt x="875" y="172"/>
                  </a:lnTo>
                  <a:lnTo>
                    <a:pt x="822" y="152"/>
                  </a:lnTo>
                  <a:lnTo>
                    <a:pt x="776" y="149"/>
                  </a:lnTo>
                  <a:lnTo>
                    <a:pt x="762" y="110"/>
                  </a:lnTo>
                  <a:lnTo>
                    <a:pt x="908" y="13"/>
                  </a:lnTo>
                  <a:lnTo>
                    <a:pt x="1000" y="31"/>
                  </a:lnTo>
                  <a:lnTo>
                    <a:pt x="875" y="62"/>
                  </a:lnTo>
                  <a:lnTo>
                    <a:pt x="998" y="106"/>
                  </a:lnTo>
                  <a:lnTo>
                    <a:pt x="1057" y="106"/>
                  </a:lnTo>
                  <a:lnTo>
                    <a:pt x="1033" y="272"/>
                  </a:lnTo>
                  <a:lnTo>
                    <a:pt x="1061" y="338"/>
                  </a:lnTo>
                  <a:lnTo>
                    <a:pt x="1068" y="350"/>
                  </a:lnTo>
                  <a:lnTo>
                    <a:pt x="1121" y="350"/>
                  </a:lnTo>
                  <a:lnTo>
                    <a:pt x="1140" y="338"/>
                  </a:lnTo>
                  <a:lnTo>
                    <a:pt x="1198" y="283"/>
                  </a:lnTo>
                  <a:lnTo>
                    <a:pt x="1473" y="189"/>
                  </a:lnTo>
                  <a:lnTo>
                    <a:pt x="162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a:off x="1105200" y="1357200"/>
              <a:ext cx="2661480" cy="2320920"/>
            </a:xfrm>
            <a:custGeom>
              <a:avLst/>
              <a:gdLst/>
              <a:ahLst/>
              <a:rect l="l" t="t" r="r" b="b"/>
              <a:pathLst>
                <a:path w="1620" h="1462">
                  <a:moveTo>
                    <a:pt x="342" y="1462"/>
                  </a:moveTo>
                  <a:lnTo>
                    <a:pt x="303" y="1440"/>
                  </a:lnTo>
                  <a:lnTo>
                    <a:pt x="277" y="1453"/>
                  </a:lnTo>
                  <a:lnTo>
                    <a:pt x="263" y="1453"/>
                  </a:lnTo>
                  <a:lnTo>
                    <a:pt x="248" y="1444"/>
                  </a:lnTo>
                  <a:lnTo>
                    <a:pt x="241" y="1435"/>
                  </a:lnTo>
                  <a:lnTo>
                    <a:pt x="228" y="1427"/>
                  </a:lnTo>
                  <a:lnTo>
                    <a:pt x="228" y="1301"/>
                  </a:lnTo>
                  <a:lnTo>
                    <a:pt x="147" y="1304"/>
                  </a:lnTo>
                  <a:lnTo>
                    <a:pt x="153" y="1264"/>
                  </a:lnTo>
                  <a:lnTo>
                    <a:pt x="169" y="1200"/>
                  </a:lnTo>
                  <a:lnTo>
                    <a:pt x="180" y="1161"/>
                  </a:lnTo>
                  <a:lnTo>
                    <a:pt x="116" y="1165"/>
                  </a:lnTo>
                  <a:lnTo>
                    <a:pt x="110" y="1200"/>
                  </a:lnTo>
                  <a:lnTo>
                    <a:pt x="101" y="1225"/>
                  </a:lnTo>
                  <a:lnTo>
                    <a:pt x="83" y="1244"/>
                  </a:lnTo>
                  <a:lnTo>
                    <a:pt x="50" y="1251"/>
                  </a:lnTo>
                  <a:lnTo>
                    <a:pt x="19" y="1238"/>
                  </a:lnTo>
                  <a:lnTo>
                    <a:pt x="2" y="1209"/>
                  </a:lnTo>
                  <a:lnTo>
                    <a:pt x="2" y="1200"/>
                  </a:lnTo>
                  <a:lnTo>
                    <a:pt x="0" y="1086"/>
                  </a:lnTo>
                  <a:lnTo>
                    <a:pt x="52" y="1022"/>
                  </a:lnTo>
                  <a:lnTo>
                    <a:pt x="171" y="1024"/>
                  </a:lnTo>
                  <a:lnTo>
                    <a:pt x="169" y="1011"/>
                  </a:lnTo>
                  <a:lnTo>
                    <a:pt x="160" y="998"/>
                  </a:lnTo>
                  <a:lnTo>
                    <a:pt x="228" y="998"/>
                  </a:lnTo>
                  <a:lnTo>
                    <a:pt x="261" y="1000"/>
                  </a:lnTo>
                  <a:lnTo>
                    <a:pt x="272" y="987"/>
                  </a:lnTo>
                  <a:lnTo>
                    <a:pt x="303" y="1099"/>
                  </a:lnTo>
                  <a:lnTo>
                    <a:pt x="332" y="1092"/>
                  </a:lnTo>
                  <a:lnTo>
                    <a:pt x="323" y="958"/>
                  </a:lnTo>
                  <a:lnTo>
                    <a:pt x="452" y="895"/>
                  </a:lnTo>
                  <a:lnTo>
                    <a:pt x="455" y="842"/>
                  </a:lnTo>
                  <a:lnTo>
                    <a:pt x="543" y="763"/>
                  </a:lnTo>
                  <a:lnTo>
                    <a:pt x="622" y="692"/>
                  </a:lnTo>
                  <a:lnTo>
                    <a:pt x="661" y="684"/>
                  </a:lnTo>
                  <a:lnTo>
                    <a:pt x="789" y="668"/>
                  </a:lnTo>
                  <a:lnTo>
                    <a:pt x="708" y="572"/>
                  </a:lnTo>
                  <a:lnTo>
                    <a:pt x="804" y="572"/>
                  </a:lnTo>
                  <a:lnTo>
                    <a:pt x="806" y="637"/>
                  </a:lnTo>
                  <a:lnTo>
                    <a:pt x="908" y="646"/>
                  </a:lnTo>
                  <a:lnTo>
                    <a:pt x="881" y="561"/>
                  </a:lnTo>
                  <a:lnTo>
                    <a:pt x="896" y="494"/>
                  </a:lnTo>
                  <a:lnTo>
                    <a:pt x="835" y="464"/>
                  </a:lnTo>
                  <a:lnTo>
                    <a:pt x="800" y="347"/>
                  </a:lnTo>
                  <a:lnTo>
                    <a:pt x="769" y="376"/>
                  </a:lnTo>
                  <a:lnTo>
                    <a:pt x="743" y="394"/>
                  </a:lnTo>
                  <a:lnTo>
                    <a:pt x="743" y="363"/>
                  </a:lnTo>
                  <a:lnTo>
                    <a:pt x="718" y="338"/>
                  </a:lnTo>
                  <a:lnTo>
                    <a:pt x="705" y="325"/>
                  </a:lnTo>
                  <a:lnTo>
                    <a:pt x="661" y="316"/>
                  </a:lnTo>
                  <a:lnTo>
                    <a:pt x="661" y="281"/>
                  </a:lnTo>
                  <a:lnTo>
                    <a:pt x="639" y="338"/>
                  </a:lnTo>
                  <a:lnTo>
                    <a:pt x="523" y="538"/>
                  </a:lnTo>
                  <a:lnTo>
                    <a:pt x="481" y="538"/>
                  </a:lnTo>
                  <a:lnTo>
                    <a:pt x="481" y="473"/>
                  </a:lnTo>
                  <a:lnTo>
                    <a:pt x="349" y="367"/>
                  </a:lnTo>
                  <a:lnTo>
                    <a:pt x="419" y="338"/>
                  </a:lnTo>
                  <a:lnTo>
                    <a:pt x="527" y="288"/>
                  </a:lnTo>
                  <a:lnTo>
                    <a:pt x="578" y="264"/>
                  </a:lnTo>
                  <a:lnTo>
                    <a:pt x="639" y="240"/>
                  </a:lnTo>
                  <a:lnTo>
                    <a:pt x="653" y="228"/>
                  </a:lnTo>
                  <a:lnTo>
                    <a:pt x="653" y="202"/>
                  </a:lnTo>
                  <a:lnTo>
                    <a:pt x="670" y="178"/>
                  </a:lnTo>
                  <a:lnTo>
                    <a:pt x="740" y="196"/>
                  </a:lnTo>
                  <a:lnTo>
                    <a:pt x="740" y="257"/>
                  </a:lnTo>
                  <a:lnTo>
                    <a:pt x="705" y="272"/>
                  </a:lnTo>
                  <a:lnTo>
                    <a:pt x="681" y="279"/>
                  </a:lnTo>
                  <a:lnTo>
                    <a:pt x="705" y="279"/>
                  </a:lnTo>
                  <a:lnTo>
                    <a:pt x="723" y="297"/>
                  </a:lnTo>
                  <a:lnTo>
                    <a:pt x="743" y="316"/>
                  </a:lnTo>
                  <a:lnTo>
                    <a:pt x="767" y="332"/>
                  </a:lnTo>
                  <a:lnTo>
                    <a:pt x="773" y="338"/>
                  </a:lnTo>
                  <a:lnTo>
                    <a:pt x="789" y="345"/>
                  </a:lnTo>
                  <a:lnTo>
                    <a:pt x="800" y="347"/>
                  </a:lnTo>
                  <a:lnTo>
                    <a:pt x="811" y="338"/>
                  </a:lnTo>
                  <a:lnTo>
                    <a:pt x="839" y="301"/>
                  </a:lnTo>
                  <a:lnTo>
                    <a:pt x="872" y="279"/>
                  </a:lnTo>
                  <a:lnTo>
                    <a:pt x="923" y="257"/>
                  </a:lnTo>
                  <a:lnTo>
                    <a:pt x="901" y="220"/>
                  </a:lnTo>
                  <a:lnTo>
                    <a:pt x="866" y="196"/>
                  </a:lnTo>
                  <a:lnTo>
                    <a:pt x="875" y="172"/>
                  </a:lnTo>
                  <a:lnTo>
                    <a:pt x="822" y="152"/>
                  </a:lnTo>
                  <a:lnTo>
                    <a:pt x="776" y="149"/>
                  </a:lnTo>
                  <a:lnTo>
                    <a:pt x="762" y="110"/>
                  </a:lnTo>
                  <a:lnTo>
                    <a:pt x="908" y="13"/>
                  </a:lnTo>
                  <a:lnTo>
                    <a:pt x="1000" y="31"/>
                  </a:lnTo>
                  <a:lnTo>
                    <a:pt x="875" y="62"/>
                  </a:lnTo>
                  <a:lnTo>
                    <a:pt x="998" y="106"/>
                  </a:lnTo>
                  <a:lnTo>
                    <a:pt x="1057" y="106"/>
                  </a:lnTo>
                  <a:lnTo>
                    <a:pt x="1033" y="272"/>
                  </a:lnTo>
                  <a:lnTo>
                    <a:pt x="1061" y="338"/>
                  </a:lnTo>
                  <a:lnTo>
                    <a:pt x="1068" y="350"/>
                  </a:lnTo>
                  <a:lnTo>
                    <a:pt x="1121" y="350"/>
                  </a:lnTo>
                  <a:lnTo>
                    <a:pt x="1140" y="338"/>
                  </a:lnTo>
                  <a:lnTo>
                    <a:pt x="1198" y="283"/>
                  </a:lnTo>
                  <a:lnTo>
                    <a:pt x="1473" y="189"/>
                  </a:lnTo>
                  <a:lnTo>
                    <a:pt x="162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a:off x="7790400" y="2160360"/>
              <a:ext cx="201600" cy="295560"/>
            </a:xfrm>
            <a:custGeom>
              <a:avLst/>
              <a:gdLst/>
              <a:ahLst/>
              <a:rect l="l" t="t" r="r" b="b"/>
              <a:pathLst>
                <a:path w="123" h="186">
                  <a:moveTo>
                    <a:pt x="2" y="2"/>
                  </a:moveTo>
                  <a:lnTo>
                    <a:pt x="111" y="186"/>
                  </a:lnTo>
                  <a:lnTo>
                    <a:pt x="123" y="180"/>
                  </a:lnTo>
                  <a:lnTo>
                    <a:pt x="98" y="98"/>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a:off x="7790400" y="2160360"/>
              <a:ext cx="201600" cy="295560"/>
            </a:xfrm>
            <a:custGeom>
              <a:avLst/>
              <a:gdLst/>
              <a:ahLst/>
              <a:rect l="l" t="t" r="r" b="b"/>
              <a:pathLst>
                <a:path w="123" h="186">
                  <a:moveTo>
                    <a:pt x="2" y="2"/>
                  </a:moveTo>
                  <a:lnTo>
                    <a:pt x="111" y="186"/>
                  </a:lnTo>
                  <a:lnTo>
                    <a:pt x="123" y="180"/>
                  </a:lnTo>
                  <a:lnTo>
                    <a:pt x="98" y="98"/>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a:off x="4098600" y="1473120"/>
              <a:ext cx="4222080" cy="801720"/>
            </a:xfrm>
            <a:custGeom>
              <a:avLst/>
              <a:gdLst/>
              <a:ahLst/>
              <a:rect l="l" t="t" r="r" b="b"/>
              <a:pathLst>
                <a:path w="2570" h="505">
                  <a:moveTo>
                    <a:pt x="2236" y="468"/>
                  </a:moveTo>
                  <a:lnTo>
                    <a:pt x="2136" y="384"/>
                  </a:lnTo>
                  <a:lnTo>
                    <a:pt x="2145" y="332"/>
                  </a:lnTo>
                  <a:lnTo>
                    <a:pt x="2282" y="340"/>
                  </a:lnTo>
                  <a:lnTo>
                    <a:pt x="2301" y="356"/>
                  </a:lnTo>
                  <a:lnTo>
                    <a:pt x="2313" y="353"/>
                  </a:lnTo>
                  <a:lnTo>
                    <a:pt x="2312" y="320"/>
                  </a:lnTo>
                  <a:lnTo>
                    <a:pt x="2313" y="303"/>
                  </a:lnTo>
                  <a:lnTo>
                    <a:pt x="2326" y="288"/>
                  </a:lnTo>
                  <a:lnTo>
                    <a:pt x="2326" y="270"/>
                  </a:lnTo>
                  <a:lnTo>
                    <a:pt x="2345" y="265"/>
                  </a:lnTo>
                  <a:lnTo>
                    <a:pt x="2367" y="270"/>
                  </a:lnTo>
                  <a:lnTo>
                    <a:pt x="2363" y="305"/>
                  </a:lnTo>
                  <a:lnTo>
                    <a:pt x="2369" y="320"/>
                  </a:lnTo>
                  <a:lnTo>
                    <a:pt x="2389" y="320"/>
                  </a:lnTo>
                  <a:lnTo>
                    <a:pt x="2398" y="294"/>
                  </a:lnTo>
                  <a:lnTo>
                    <a:pt x="2398" y="265"/>
                  </a:lnTo>
                  <a:lnTo>
                    <a:pt x="2418" y="296"/>
                  </a:lnTo>
                  <a:lnTo>
                    <a:pt x="2418" y="323"/>
                  </a:lnTo>
                  <a:lnTo>
                    <a:pt x="2411" y="343"/>
                  </a:lnTo>
                  <a:lnTo>
                    <a:pt x="2376" y="356"/>
                  </a:lnTo>
                  <a:lnTo>
                    <a:pt x="2519" y="505"/>
                  </a:lnTo>
                  <a:lnTo>
                    <a:pt x="2508" y="428"/>
                  </a:lnTo>
                  <a:lnTo>
                    <a:pt x="2524" y="426"/>
                  </a:lnTo>
                  <a:lnTo>
                    <a:pt x="2541" y="435"/>
                  </a:lnTo>
                  <a:lnTo>
                    <a:pt x="2493" y="356"/>
                  </a:lnTo>
                  <a:lnTo>
                    <a:pt x="2469" y="356"/>
                  </a:lnTo>
                  <a:lnTo>
                    <a:pt x="2462" y="312"/>
                  </a:lnTo>
                  <a:lnTo>
                    <a:pt x="2499" y="303"/>
                  </a:lnTo>
                  <a:lnTo>
                    <a:pt x="2537" y="320"/>
                  </a:lnTo>
                  <a:lnTo>
                    <a:pt x="2552" y="309"/>
                  </a:lnTo>
                  <a:lnTo>
                    <a:pt x="2548" y="288"/>
                  </a:lnTo>
                  <a:lnTo>
                    <a:pt x="2548" y="266"/>
                  </a:lnTo>
                  <a:lnTo>
                    <a:pt x="2570" y="268"/>
                  </a:lnTo>
                  <a:lnTo>
                    <a:pt x="2565" y="265"/>
                  </a:lnTo>
                  <a:lnTo>
                    <a:pt x="2556" y="250"/>
                  </a:lnTo>
                  <a:lnTo>
                    <a:pt x="2532" y="239"/>
                  </a:lnTo>
                  <a:lnTo>
                    <a:pt x="2561" y="230"/>
                  </a:lnTo>
                  <a:lnTo>
                    <a:pt x="2405" y="138"/>
                  </a:lnTo>
                  <a:lnTo>
                    <a:pt x="2313" y="123"/>
                  </a:lnTo>
                  <a:lnTo>
                    <a:pt x="2145" y="138"/>
                  </a:lnTo>
                  <a:lnTo>
                    <a:pt x="2082" y="96"/>
                  </a:lnTo>
                  <a:lnTo>
                    <a:pt x="1980" y="101"/>
                  </a:lnTo>
                  <a:lnTo>
                    <a:pt x="1789" y="59"/>
                  </a:lnTo>
                  <a:lnTo>
                    <a:pt x="1798" y="112"/>
                  </a:lnTo>
                  <a:lnTo>
                    <a:pt x="1655" y="92"/>
                  </a:lnTo>
                  <a:lnTo>
                    <a:pt x="1638" y="65"/>
                  </a:lnTo>
                  <a:lnTo>
                    <a:pt x="1378" y="77"/>
                  </a:lnTo>
                  <a:lnTo>
                    <a:pt x="1398" y="50"/>
                  </a:lnTo>
                  <a:lnTo>
                    <a:pt x="1352" y="15"/>
                  </a:lnTo>
                  <a:lnTo>
                    <a:pt x="1299" y="24"/>
                  </a:lnTo>
                  <a:lnTo>
                    <a:pt x="1264" y="0"/>
                  </a:lnTo>
                  <a:lnTo>
                    <a:pt x="1187" y="15"/>
                  </a:lnTo>
                  <a:lnTo>
                    <a:pt x="1073" y="37"/>
                  </a:lnTo>
                  <a:lnTo>
                    <a:pt x="1077" y="65"/>
                  </a:lnTo>
                  <a:lnTo>
                    <a:pt x="857" y="66"/>
                  </a:lnTo>
                  <a:lnTo>
                    <a:pt x="857" y="99"/>
                  </a:lnTo>
                  <a:lnTo>
                    <a:pt x="893" y="156"/>
                  </a:lnTo>
                  <a:lnTo>
                    <a:pt x="888" y="162"/>
                  </a:lnTo>
                  <a:lnTo>
                    <a:pt x="794" y="129"/>
                  </a:lnTo>
                  <a:lnTo>
                    <a:pt x="679" y="142"/>
                  </a:lnTo>
                  <a:lnTo>
                    <a:pt x="576" y="177"/>
                  </a:lnTo>
                  <a:lnTo>
                    <a:pt x="574" y="144"/>
                  </a:lnTo>
                  <a:lnTo>
                    <a:pt x="527" y="136"/>
                  </a:lnTo>
                  <a:lnTo>
                    <a:pt x="543" y="186"/>
                  </a:lnTo>
                  <a:lnTo>
                    <a:pt x="505" y="191"/>
                  </a:lnTo>
                  <a:lnTo>
                    <a:pt x="510" y="156"/>
                  </a:lnTo>
                  <a:lnTo>
                    <a:pt x="339" y="109"/>
                  </a:lnTo>
                  <a:lnTo>
                    <a:pt x="294" y="94"/>
                  </a:lnTo>
                  <a:lnTo>
                    <a:pt x="204" y="129"/>
                  </a:lnTo>
                  <a:lnTo>
                    <a:pt x="145" y="136"/>
                  </a:lnTo>
                  <a:lnTo>
                    <a:pt x="68" y="235"/>
                  </a:lnTo>
                  <a:lnTo>
                    <a:pt x="0" y="265"/>
                  </a:lnTo>
                  <a:lnTo>
                    <a:pt x="11" y="336"/>
                  </a:lnTo>
                  <a:lnTo>
                    <a:pt x="18" y="338"/>
                  </a:lnTo>
                  <a:lnTo>
                    <a:pt x="95" y="305"/>
                  </a:lnTo>
                  <a:lnTo>
                    <a:pt x="101" y="316"/>
                  </a:lnTo>
                  <a:lnTo>
                    <a:pt x="125" y="386"/>
                  </a:lnTo>
                  <a:lnTo>
                    <a:pt x="185" y="375"/>
                  </a:lnTo>
                  <a:lnTo>
                    <a:pt x="200" y="303"/>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a:off x="4098600" y="1473120"/>
              <a:ext cx="4222080" cy="801720"/>
            </a:xfrm>
            <a:custGeom>
              <a:avLst/>
              <a:gdLst/>
              <a:ahLst/>
              <a:rect l="l" t="t" r="r" b="b"/>
              <a:pathLst>
                <a:path w="2570" h="505">
                  <a:moveTo>
                    <a:pt x="2236" y="468"/>
                  </a:moveTo>
                  <a:lnTo>
                    <a:pt x="2136" y="384"/>
                  </a:lnTo>
                  <a:lnTo>
                    <a:pt x="2145" y="332"/>
                  </a:lnTo>
                  <a:lnTo>
                    <a:pt x="2282" y="340"/>
                  </a:lnTo>
                  <a:lnTo>
                    <a:pt x="2301" y="356"/>
                  </a:lnTo>
                  <a:lnTo>
                    <a:pt x="2313" y="353"/>
                  </a:lnTo>
                  <a:lnTo>
                    <a:pt x="2312" y="320"/>
                  </a:lnTo>
                  <a:lnTo>
                    <a:pt x="2313" y="303"/>
                  </a:lnTo>
                  <a:lnTo>
                    <a:pt x="2326" y="288"/>
                  </a:lnTo>
                  <a:lnTo>
                    <a:pt x="2326" y="270"/>
                  </a:lnTo>
                  <a:lnTo>
                    <a:pt x="2345" y="265"/>
                  </a:lnTo>
                  <a:lnTo>
                    <a:pt x="2367" y="270"/>
                  </a:lnTo>
                  <a:lnTo>
                    <a:pt x="2363" y="305"/>
                  </a:lnTo>
                  <a:lnTo>
                    <a:pt x="2369" y="320"/>
                  </a:lnTo>
                  <a:lnTo>
                    <a:pt x="2389" y="320"/>
                  </a:lnTo>
                  <a:lnTo>
                    <a:pt x="2398" y="294"/>
                  </a:lnTo>
                  <a:lnTo>
                    <a:pt x="2398" y="265"/>
                  </a:lnTo>
                  <a:lnTo>
                    <a:pt x="2418" y="296"/>
                  </a:lnTo>
                  <a:lnTo>
                    <a:pt x="2418" y="323"/>
                  </a:lnTo>
                  <a:lnTo>
                    <a:pt x="2411" y="343"/>
                  </a:lnTo>
                  <a:lnTo>
                    <a:pt x="2376" y="356"/>
                  </a:lnTo>
                  <a:lnTo>
                    <a:pt x="2519" y="505"/>
                  </a:lnTo>
                  <a:lnTo>
                    <a:pt x="2508" y="428"/>
                  </a:lnTo>
                  <a:lnTo>
                    <a:pt x="2524" y="426"/>
                  </a:lnTo>
                  <a:lnTo>
                    <a:pt x="2541" y="435"/>
                  </a:lnTo>
                  <a:lnTo>
                    <a:pt x="2493" y="356"/>
                  </a:lnTo>
                  <a:lnTo>
                    <a:pt x="2469" y="356"/>
                  </a:lnTo>
                  <a:lnTo>
                    <a:pt x="2462" y="312"/>
                  </a:lnTo>
                  <a:lnTo>
                    <a:pt x="2499" y="303"/>
                  </a:lnTo>
                  <a:lnTo>
                    <a:pt x="2537" y="320"/>
                  </a:lnTo>
                  <a:lnTo>
                    <a:pt x="2552" y="309"/>
                  </a:lnTo>
                  <a:lnTo>
                    <a:pt x="2548" y="288"/>
                  </a:lnTo>
                  <a:lnTo>
                    <a:pt x="2548" y="266"/>
                  </a:lnTo>
                  <a:lnTo>
                    <a:pt x="2570" y="268"/>
                  </a:lnTo>
                  <a:lnTo>
                    <a:pt x="2565" y="265"/>
                  </a:lnTo>
                  <a:lnTo>
                    <a:pt x="2556" y="250"/>
                  </a:lnTo>
                  <a:lnTo>
                    <a:pt x="2532" y="239"/>
                  </a:lnTo>
                  <a:lnTo>
                    <a:pt x="2561" y="230"/>
                  </a:lnTo>
                  <a:lnTo>
                    <a:pt x="2405" y="138"/>
                  </a:lnTo>
                  <a:lnTo>
                    <a:pt x="2313" y="123"/>
                  </a:lnTo>
                  <a:lnTo>
                    <a:pt x="2145" y="138"/>
                  </a:lnTo>
                  <a:lnTo>
                    <a:pt x="2082" y="96"/>
                  </a:lnTo>
                  <a:lnTo>
                    <a:pt x="1980" y="101"/>
                  </a:lnTo>
                  <a:lnTo>
                    <a:pt x="1789" y="59"/>
                  </a:lnTo>
                  <a:lnTo>
                    <a:pt x="1798" y="112"/>
                  </a:lnTo>
                  <a:lnTo>
                    <a:pt x="1655" y="92"/>
                  </a:lnTo>
                  <a:lnTo>
                    <a:pt x="1638" y="65"/>
                  </a:lnTo>
                  <a:lnTo>
                    <a:pt x="1378" y="77"/>
                  </a:lnTo>
                  <a:lnTo>
                    <a:pt x="1398" y="50"/>
                  </a:lnTo>
                  <a:lnTo>
                    <a:pt x="1352" y="15"/>
                  </a:lnTo>
                  <a:lnTo>
                    <a:pt x="1299" y="24"/>
                  </a:lnTo>
                  <a:lnTo>
                    <a:pt x="1264" y="0"/>
                  </a:lnTo>
                  <a:lnTo>
                    <a:pt x="1187" y="15"/>
                  </a:lnTo>
                  <a:lnTo>
                    <a:pt x="1073" y="37"/>
                  </a:lnTo>
                  <a:lnTo>
                    <a:pt x="1077" y="65"/>
                  </a:lnTo>
                  <a:lnTo>
                    <a:pt x="857" y="66"/>
                  </a:lnTo>
                  <a:lnTo>
                    <a:pt x="857" y="99"/>
                  </a:lnTo>
                  <a:lnTo>
                    <a:pt x="893" y="156"/>
                  </a:lnTo>
                  <a:lnTo>
                    <a:pt x="888" y="162"/>
                  </a:lnTo>
                  <a:lnTo>
                    <a:pt x="794" y="129"/>
                  </a:lnTo>
                  <a:lnTo>
                    <a:pt x="679" y="142"/>
                  </a:lnTo>
                  <a:lnTo>
                    <a:pt x="576" y="177"/>
                  </a:lnTo>
                  <a:lnTo>
                    <a:pt x="574" y="144"/>
                  </a:lnTo>
                  <a:lnTo>
                    <a:pt x="527" y="136"/>
                  </a:lnTo>
                  <a:lnTo>
                    <a:pt x="543" y="186"/>
                  </a:lnTo>
                  <a:lnTo>
                    <a:pt x="505" y="191"/>
                  </a:lnTo>
                  <a:lnTo>
                    <a:pt x="510" y="156"/>
                  </a:lnTo>
                  <a:lnTo>
                    <a:pt x="339" y="109"/>
                  </a:lnTo>
                  <a:lnTo>
                    <a:pt x="294" y="94"/>
                  </a:lnTo>
                  <a:lnTo>
                    <a:pt x="204" y="129"/>
                  </a:lnTo>
                  <a:lnTo>
                    <a:pt x="145" y="136"/>
                  </a:lnTo>
                  <a:lnTo>
                    <a:pt x="68" y="235"/>
                  </a:lnTo>
                  <a:lnTo>
                    <a:pt x="0" y="265"/>
                  </a:lnTo>
                  <a:lnTo>
                    <a:pt x="11" y="336"/>
                  </a:lnTo>
                  <a:lnTo>
                    <a:pt x="18" y="338"/>
                  </a:lnTo>
                  <a:lnTo>
                    <a:pt x="95" y="305"/>
                  </a:lnTo>
                  <a:lnTo>
                    <a:pt x="101" y="316"/>
                  </a:lnTo>
                  <a:lnTo>
                    <a:pt x="125" y="386"/>
                  </a:lnTo>
                  <a:lnTo>
                    <a:pt x="185" y="375"/>
                  </a:lnTo>
                  <a:lnTo>
                    <a:pt x="200" y="303"/>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5" name=""/>
            <p:cNvSpPr/>
            <p:nvPr/>
          </p:nvSpPr>
          <p:spPr>
            <a:xfrm>
              <a:off x="1064160" y="6145200"/>
              <a:ext cx="1756080" cy="453960"/>
            </a:xfrm>
            <a:custGeom>
              <a:avLst/>
              <a:gdLst/>
              <a:ahLst/>
              <a:rect l="l" t="t" r="r" b="b"/>
              <a:pathLst>
                <a:path w="1069" h="286">
                  <a:moveTo>
                    <a:pt x="0" y="187"/>
                  </a:moveTo>
                  <a:lnTo>
                    <a:pt x="58" y="187"/>
                  </a:lnTo>
                  <a:lnTo>
                    <a:pt x="108" y="191"/>
                  </a:lnTo>
                  <a:lnTo>
                    <a:pt x="108" y="167"/>
                  </a:lnTo>
                  <a:lnTo>
                    <a:pt x="442" y="143"/>
                  </a:lnTo>
                  <a:lnTo>
                    <a:pt x="568" y="167"/>
                  </a:lnTo>
                  <a:lnTo>
                    <a:pt x="522" y="149"/>
                  </a:lnTo>
                  <a:lnTo>
                    <a:pt x="500" y="127"/>
                  </a:lnTo>
                  <a:lnTo>
                    <a:pt x="506" y="123"/>
                  </a:lnTo>
                  <a:lnTo>
                    <a:pt x="574" y="127"/>
                  </a:lnTo>
                  <a:lnTo>
                    <a:pt x="561" y="143"/>
                  </a:lnTo>
                  <a:lnTo>
                    <a:pt x="730" y="143"/>
                  </a:lnTo>
                  <a:lnTo>
                    <a:pt x="743" y="134"/>
                  </a:lnTo>
                  <a:lnTo>
                    <a:pt x="779" y="134"/>
                  </a:lnTo>
                  <a:lnTo>
                    <a:pt x="792" y="147"/>
                  </a:lnTo>
                  <a:lnTo>
                    <a:pt x="856" y="141"/>
                  </a:lnTo>
                  <a:lnTo>
                    <a:pt x="853" y="125"/>
                  </a:lnTo>
                  <a:lnTo>
                    <a:pt x="844" y="106"/>
                  </a:lnTo>
                  <a:lnTo>
                    <a:pt x="838" y="105"/>
                  </a:lnTo>
                  <a:lnTo>
                    <a:pt x="844" y="128"/>
                  </a:lnTo>
                  <a:lnTo>
                    <a:pt x="833" y="132"/>
                  </a:lnTo>
                  <a:lnTo>
                    <a:pt x="823" y="117"/>
                  </a:lnTo>
                  <a:lnTo>
                    <a:pt x="812" y="128"/>
                  </a:lnTo>
                  <a:lnTo>
                    <a:pt x="801" y="114"/>
                  </a:lnTo>
                  <a:lnTo>
                    <a:pt x="812" y="99"/>
                  </a:lnTo>
                  <a:lnTo>
                    <a:pt x="801" y="77"/>
                  </a:lnTo>
                  <a:lnTo>
                    <a:pt x="823" y="77"/>
                  </a:lnTo>
                  <a:lnTo>
                    <a:pt x="900" y="4"/>
                  </a:lnTo>
                  <a:lnTo>
                    <a:pt x="939" y="0"/>
                  </a:lnTo>
                  <a:lnTo>
                    <a:pt x="882" y="77"/>
                  </a:lnTo>
                  <a:lnTo>
                    <a:pt x="972" y="156"/>
                  </a:lnTo>
                  <a:lnTo>
                    <a:pt x="935" y="205"/>
                  </a:lnTo>
                  <a:lnTo>
                    <a:pt x="779" y="202"/>
                  </a:lnTo>
                  <a:lnTo>
                    <a:pt x="946" y="277"/>
                  </a:lnTo>
                  <a:lnTo>
                    <a:pt x="979" y="266"/>
                  </a:lnTo>
                  <a:lnTo>
                    <a:pt x="1069" y="286"/>
                  </a:lnTo>
                  <a:lnTo>
                    <a:pt x="231" y="286"/>
                  </a:lnTo>
                  <a:lnTo>
                    <a:pt x="194" y="275"/>
                  </a:lnTo>
                  <a:lnTo>
                    <a:pt x="148" y="249"/>
                  </a:lnTo>
                  <a:lnTo>
                    <a:pt x="187" y="237"/>
                  </a:lnTo>
                  <a:lnTo>
                    <a:pt x="222" y="231"/>
                  </a:lnTo>
                  <a:lnTo>
                    <a:pt x="49" y="226"/>
                  </a:lnTo>
                  <a:lnTo>
                    <a:pt x="0" y="18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6" name=""/>
            <p:cNvSpPr/>
            <p:nvPr/>
          </p:nvSpPr>
          <p:spPr>
            <a:xfrm>
              <a:off x="1064160" y="6145200"/>
              <a:ext cx="1756080" cy="453960"/>
            </a:xfrm>
            <a:custGeom>
              <a:avLst/>
              <a:gdLst/>
              <a:ahLst/>
              <a:rect l="l" t="t" r="r" b="b"/>
              <a:pathLst>
                <a:path w="1069" h="286">
                  <a:moveTo>
                    <a:pt x="0" y="187"/>
                  </a:moveTo>
                  <a:lnTo>
                    <a:pt x="58" y="187"/>
                  </a:lnTo>
                  <a:lnTo>
                    <a:pt x="108" y="191"/>
                  </a:lnTo>
                  <a:lnTo>
                    <a:pt x="108" y="167"/>
                  </a:lnTo>
                  <a:lnTo>
                    <a:pt x="442" y="143"/>
                  </a:lnTo>
                  <a:lnTo>
                    <a:pt x="568" y="167"/>
                  </a:lnTo>
                  <a:lnTo>
                    <a:pt x="522" y="149"/>
                  </a:lnTo>
                  <a:lnTo>
                    <a:pt x="500" y="127"/>
                  </a:lnTo>
                  <a:lnTo>
                    <a:pt x="506" y="123"/>
                  </a:lnTo>
                  <a:lnTo>
                    <a:pt x="574" y="127"/>
                  </a:lnTo>
                  <a:lnTo>
                    <a:pt x="561" y="143"/>
                  </a:lnTo>
                  <a:lnTo>
                    <a:pt x="730" y="143"/>
                  </a:lnTo>
                  <a:lnTo>
                    <a:pt x="743" y="134"/>
                  </a:lnTo>
                  <a:lnTo>
                    <a:pt x="779" y="134"/>
                  </a:lnTo>
                  <a:lnTo>
                    <a:pt x="792" y="147"/>
                  </a:lnTo>
                  <a:lnTo>
                    <a:pt x="856" y="141"/>
                  </a:lnTo>
                  <a:lnTo>
                    <a:pt x="853" y="125"/>
                  </a:lnTo>
                  <a:lnTo>
                    <a:pt x="844" y="106"/>
                  </a:lnTo>
                  <a:lnTo>
                    <a:pt x="838" y="105"/>
                  </a:lnTo>
                  <a:lnTo>
                    <a:pt x="844" y="128"/>
                  </a:lnTo>
                  <a:lnTo>
                    <a:pt x="833" y="132"/>
                  </a:lnTo>
                  <a:lnTo>
                    <a:pt x="823" y="117"/>
                  </a:lnTo>
                  <a:lnTo>
                    <a:pt x="812" y="128"/>
                  </a:lnTo>
                  <a:lnTo>
                    <a:pt x="801" y="114"/>
                  </a:lnTo>
                  <a:lnTo>
                    <a:pt x="812" y="99"/>
                  </a:lnTo>
                  <a:lnTo>
                    <a:pt x="801" y="77"/>
                  </a:lnTo>
                  <a:lnTo>
                    <a:pt x="823" y="77"/>
                  </a:lnTo>
                  <a:lnTo>
                    <a:pt x="900" y="4"/>
                  </a:lnTo>
                  <a:lnTo>
                    <a:pt x="939" y="0"/>
                  </a:lnTo>
                  <a:lnTo>
                    <a:pt x="882" y="77"/>
                  </a:lnTo>
                  <a:lnTo>
                    <a:pt x="972" y="156"/>
                  </a:lnTo>
                  <a:lnTo>
                    <a:pt x="935" y="205"/>
                  </a:lnTo>
                  <a:lnTo>
                    <a:pt x="779" y="202"/>
                  </a:lnTo>
                  <a:lnTo>
                    <a:pt x="946" y="277"/>
                  </a:lnTo>
                  <a:lnTo>
                    <a:pt x="979" y="266"/>
                  </a:lnTo>
                  <a:lnTo>
                    <a:pt x="1069" y="286"/>
                  </a:lnTo>
                  <a:lnTo>
                    <a:pt x="231" y="286"/>
                  </a:lnTo>
                  <a:lnTo>
                    <a:pt x="194" y="275"/>
                  </a:lnTo>
                  <a:lnTo>
                    <a:pt x="148" y="249"/>
                  </a:lnTo>
                  <a:lnTo>
                    <a:pt x="187" y="237"/>
                  </a:lnTo>
                  <a:lnTo>
                    <a:pt x="222" y="231"/>
                  </a:lnTo>
                  <a:lnTo>
                    <a:pt x="49" y="226"/>
                  </a:lnTo>
                  <a:lnTo>
                    <a:pt x="0" y="18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7" name=""/>
            <p:cNvSpPr/>
            <p:nvPr/>
          </p:nvSpPr>
          <p:spPr>
            <a:xfrm>
              <a:off x="2878200" y="6253200"/>
              <a:ext cx="3839040" cy="345960"/>
            </a:xfrm>
            <a:custGeom>
              <a:avLst/>
              <a:gdLst/>
              <a:ahLst/>
              <a:rect l="l" t="t" r="r" b="b"/>
              <a:pathLst>
                <a:path w="2337" h="218">
                  <a:moveTo>
                    <a:pt x="48" y="198"/>
                  </a:moveTo>
                  <a:lnTo>
                    <a:pt x="0" y="218"/>
                  </a:lnTo>
                  <a:lnTo>
                    <a:pt x="2013" y="218"/>
                  </a:lnTo>
                  <a:lnTo>
                    <a:pt x="2047" y="185"/>
                  </a:lnTo>
                  <a:lnTo>
                    <a:pt x="2130" y="185"/>
                  </a:lnTo>
                  <a:lnTo>
                    <a:pt x="2123" y="172"/>
                  </a:lnTo>
                  <a:lnTo>
                    <a:pt x="2192" y="128"/>
                  </a:lnTo>
                  <a:lnTo>
                    <a:pt x="2213" y="132"/>
                  </a:lnTo>
                  <a:lnTo>
                    <a:pt x="2277" y="108"/>
                  </a:lnTo>
                  <a:lnTo>
                    <a:pt x="2313" y="112"/>
                  </a:lnTo>
                  <a:lnTo>
                    <a:pt x="2337" y="88"/>
                  </a:lnTo>
                  <a:lnTo>
                    <a:pt x="2302" y="75"/>
                  </a:lnTo>
                  <a:lnTo>
                    <a:pt x="2268" y="75"/>
                  </a:lnTo>
                  <a:lnTo>
                    <a:pt x="2258" y="46"/>
                  </a:lnTo>
                  <a:lnTo>
                    <a:pt x="2158" y="49"/>
                  </a:lnTo>
                  <a:lnTo>
                    <a:pt x="2137" y="20"/>
                  </a:lnTo>
                  <a:lnTo>
                    <a:pt x="1978" y="0"/>
                  </a:lnTo>
                  <a:lnTo>
                    <a:pt x="1969" y="11"/>
                  </a:lnTo>
                  <a:lnTo>
                    <a:pt x="1836" y="31"/>
                  </a:lnTo>
                  <a:lnTo>
                    <a:pt x="1814" y="16"/>
                  </a:lnTo>
                  <a:lnTo>
                    <a:pt x="1792" y="5"/>
                  </a:lnTo>
                  <a:lnTo>
                    <a:pt x="1750" y="20"/>
                  </a:lnTo>
                  <a:lnTo>
                    <a:pt x="1721" y="35"/>
                  </a:lnTo>
                  <a:lnTo>
                    <a:pt x="1708" y="16"/>
                  </a:lnTo>
                  <a:lnTo>
                    <a:pt x="1391" y="15"/>
                  </a:lnTo>
                  <a:lnTo>
                    <a:pt x="1328" y="70"/>
                  </a:lnTo>
                  <a:lnTo>
                    <a:pt x="1312" y="62"/>
                  </a:lnTo>
                  <a:lnTo>
                    <a:pt x="1249" y="123"/>
                  </a:lnTo>
                  <a:lnTo>
                    <a:pt x="1238" y="112"/>
                  </a:lnTo>
                  <a:lnTo>
                    <a:pt x="1268" y="35"/>
                  </a:lnTo>
                  <a:lnTo>
                    <a:pt x="1125" y="40"/>
                  </a:lnTo>
                  <a:lnTo>
                    <a:pt x="1117" y="11"/>
                  </a:lnTo>
                  <a:lnTo>
                    <a:pt x="1106" y="5"/>
                  </a:lnTo>
                  <a:lnTo>
                    <a:pt x="930" y="40"/>
                  </a:lnTo>
                  <a:lnTo>
                    <a:pt x="906" y="75"/>
                  </a:lnTo>
                  <a:lnTo>
                    <a:pt x="884" y="49"/>
                  </a:lnTo>
                  <a:lnTo>
                    <a:pt x="692" y="75"/>
                  </a:lnTo>
                  <a:lnTo>
                    <a:pt x="411" y="75"/>
                  </a:lnTo>
                  <a:lnTo>
                    <a:pt x="156" y="156"/>
                  </a:lnTo>
                  <a:lnTo>
                    <a:pt x="172" y="185"/>
                  </a:lnTo>
                  <a:lnTo>
                    <a:pt x="200" y="165"/>
                  </a:lnTo>
                  <a:lnTo>
                    <a:pt x="198" y="200"/>
                  </a:lnTo>
                  <a:lnTo>
                    <a:pt x="86" y="209"/>
                  </a:lnTo>
                  <a:lnTo>
                    <a:pt x="48" y="19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8" name=""/>
            <p:cNvSpPr/>
            <p:nvPr/>
          </p:nvSpPr>
          <p:spPr>
            <a:xfrm>
              <a:off x="2878200" y="6253200"/>
              <a:ext cx="3839040" cy="345960"/>
            </a:xfrm>
            <a:custGeom>
              <a:avLst/>
              <a:gdLst/>
              <a:ahLst/>
              <a:rect l="l" t="t" r="r" b="b"/>
              <a:pathLst>
                <a:path w="2337" h="218">
                  <a:moveTo>
                    <a:pt x="48" y="198"/>
                  </a:moveTo>
                  <a:lnTo>
                    <a:pt x="0" y="218"/>
                  </a:lnTo>
                  <a:lnTo>
                    <a:pt x="2013" y="218"/>
                  </a:lnTo>
                  <a:lnTo>
                    <a:pt x="2047" y="185"/>
                  </a:lnTo>
                  <a:lnTo>
                    <a:pt x="2130" y="185"/>
                  </a:lnTo>
                  <a:lnTo>
                    <a:pt x="2123" y="172"/>
                  </a:lnTo>
                  <a:lnTo>
                    <a:pt x="2192" y="128"/>
                  </a:lnTo>
                  <a:lnTo>
                    <a:pt x="2213" y="132"/>
                  </a:lnTo>
                  <a:lnTo>
                    <a:pt x="2277" y="108"/>
                  </a:lnTo>
                  <a:lnTo>
                    <a:pt x="2313" y="112"/>
                  </a:lnTo>
                  <a:lnTo>
                    <a:pt x="2337" y="88"/>
                  </a:lnTo>
                  <a:lnTo>
                    <a:pt x="2302" y="75"/>
                  </a:lnTo>
                  <a:lnTo>
                    <a:pt x="2268" y="75"/>
                  </a:lnTo>
                  <a:lnTo>
                    <a:pt x="2258" y="46"/>
                  </a:lnTo>
                  <a:lnTo>
                    <a:pt x="2158" y="49"/>
                  </a:lnTo>
                  <a:lnTo>
                    <a:pt x="2137" y="20"/>
                  </a:lnTo>
                  <a:lnTo>
                    <a:pt x="1978" y="0"/>
                  </a:lnTo>
                  <a:lnTo>
                    <a:pt x="1969" y="11"/>
                  </a:lnTo>
                  <a:lnTo>
                    <a:pt x="1836" y="31"/>
                  </a:lnTo>
                  <a:lnTo>
                    <a:pt x="1814" y="16"/>
                  </a:lnTo>
                  <a:lnTo>
                    <a:pt x="1792" y="5"/>
                  </a:lnTo>
                  <a:lnTo>
                    <a:pt x="1750" y="20"/>
                  </a:lnTo>
                  <a:lnTo>
                    <a:pt x="1721" y="35"/>
                  </a:lnTo>
                  <a:lnTo>
                    <a:pt x="1708" y="16"/>
                  </a:lnTo>
                  <a:lnTo>
                    <a:pt x="1391" y="15"/>
                  </a:lnTo>
                  <a:lnTo>
                    <a:pt x="1328" y="70"/>
                  </a:lnTo>
                  <a:lnTo>
                    <a:pt x="1312" y="62"/>
                  </a:lnTo>
                  <a:lnTo>
                    <a:pt x="1249" y="123"/>
                  </a:lnTo>
                  <a:lnTo>
                    <a:pt x="1238" y="112"/>
                  </a:lnTo>
                  <a:lnTo>
                    <a:pt x="1268" y="35"/>
                  </a:lnTo>
                  <a:lnTo>
                    <a:pt x="1125" y="40"/>
                  </a:lnTo>
                  <a:lnTo>
                    <a:pt x="1117" y="11"/>
                  </a:lnTo>
                  <a:lnTo>
                    <a:pt x="1106" y="5"/>
                  </a:lnTo>
                  <a:lnTo>
                    <a:pt x="930" y="40"/>
                  </a:lnTo>
                  <a:lnTo>
                    <a:pt x="906" y="75"/>
                  </a:lnTo>
                  <a:lnTo>
                    <a:pt x="884" y="49"/>
                  </a:lnTo>
                  <a:lnTo>
                    <a:pt x="692" y="75"/>
                  </a:lnTo>
                  <a:lnTo>
                    <a:pt x="411" y="75"/>
                  </a:lnTo>
                  <a:lnTo>
                    <a:pt x="156" y="156"/>
                  </a:lnTo>
                  <a:lnTo>
                    <a:pt x="172" y="185"/>
                  </a:lnTo>
                  <a:lnTo>
                    <a:pt x="200" y="165"/>
                  </a:lnTo>
                  <a:lnTo>
                    <a:pt x="198" y="200"/>
                  </a:lnTo>
                  <a:lnTo>
                    <a:pt x="86" y="209"/>
                  </a:lnTo>
                  <a:lnTo>
                    <a:pt x="48" y="19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9" name=""/>
            <p:cNvSpPr/>
            <p:nvPr/>
          </p:nvSpPr>
          <p:spPr>
            <a:xfrm>
              <a:off x="2682720" y="6503760"/>
              <a:ext cx="77040" cy="39960"/>
            </a:xfrm>
            <a:custGeom>
              <a:avLst/>
              <a:gdLst/>
              <a:ahLst/>
              <a:rect l="l" t="t" r="r" b="b"/>
              <a:pathLst>
                <a:path w="47" h="25">
                  <a:moveTo>
                    <a:pt x="24" y="7"/>
                  </a:moveTo>
                  <a:lnTo>
                    <a:pt x="0" y="5"/>
                  </a:lnTo>
                  <a:lnTo>
                    <a:pt x="5" y="20"/>
                  </a:lnTo>
                  <a:lnTo>
                    <a:pt x="29" y="20"/>
                  </a:lnTo>
                  <a:lnTo>
                    <a:pt x="47" y="25"/>
                  </a:lnTo>
                  <a:lnTo>
                    <a:pt x="47" y="0"/>
                  </a:lnTo>
                  <a:lnTo>
                    <a:pt x="24" y="7"/>
                  </a:lnTo>
                </a:path>
              </a:pathLst>
            </a:custGeom>
            <a:solidFill>
              <a:srgbClr val="000080">
                <a:alpha val="50000"/>
              </a:srgbClr>
            </a:solidFill>
            <a:ln w="0">
              <a:solidFill>
                <a:srgbClr val="0000ff"/>
              </a:solid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930" name=""/>
            <p:cNvSpPr/>
            <p:nvPr/>
          </p:nvSpPr>
          <p:spPr>
            <a:xfrm>
              <a:off x="2682720" y="6503760"/>
              <a:ext cx="77040" cy="39960"/>
            </a:xfrm>
            <a:custGeom>
              <a:avLst/>
              <a:gdLst/>
              <a:ahLst/>
              <a:rect l="l" t="t" r="r" b="b"/>
              <a:pathLst>
                <a:path w="47" h="25">
                  <a:moveTo>
                    <a:pt x="24" y="7"/>
                  </a:moveTo>
                  <a:lnTo>
                    <a:pt x="0" y="5"/>
                  </a:lnTo>
                  <a:lnTo>
                    <a:pt x="5" y="20"/>
                  </a:lnTo>
                  <a:lnTo>
                    <a:pt x="29" y="20"/>
                  </a:lnTo>
                  <a:lnTo>
                    <a:pt x="47" y="25"/>
                  </a:lnTo>
                  <a:lnTo>
                    <a:pt x="47" y="0"/>
                  </a:lnTo>
                  <a:lnTo>
                    <a:pt x="24" y="7"/>
                  </a:lnTo>
                </a:path>
              </a:pathLst>
            </a:custGeom>
            <a:solidFill>
              <a:srgbClr val="000080">
                <a:alpha val="50000"/>
              </a:srgbClr>
            </a:solidFill>
            <a:ln w="0">
              <a:solidFill>
                <a:srgbClr val="0000ff"/>
              </a:solid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931" name=""/>
            <p:cNvSpPr/>
            <p:nvPr/>
          </p:nvSpPr>
          <p:spPr>
            <a:xfrm>
              <a:off x="2859840" y="6470640"/>
              <a:ext cx="141120" cy="96840"/>
            </a:xfrm>
            <a:custGeom>
              <a:avLst/>
              <a:gdLst/>
              <a:ahLst/>
              <a:rect l="l" t="t" r="r" b="b"/>
              <a:pathLst>
                <a:path w="86" h="61">
                  <a:moveTo>
                    <a:pt x="53" y="59"/>
                  </a:moveTo>
                  <a:lnTo>
                    <a:pt x="4" y="33"/>
                  </a:lnTo>
                  <a:lnTo>
                    <a:pt x="0" y="8"/>
                  </a:lnTo>
                  <a:lnTo>
                    <a:pt x="33" y="2"/>
                  </a:lnTo>
                  <a:lnTo>
                    <a:pt x="68" y="0"/>
                  </a:lnTo>
                  <a:lnTo>
                    <a:pt x="70" y="15"/>
                  </a:lnTo>
                  <a:lnTo>
                    <a:pt x="83" y="11"/>
                  </a:lnTo>
                  <a:lnTo>
                    <a:pt x="86" y="33"/>
                  </a:lnTo>
                  <a:lnTo>
                    <a:pt x="53" y="6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a:off x="2859840" y="6470640"/>
              <a:ext cx="141120" cy="96840"/>
            </a:xfrm>
            <a:custGeom>
              <a:avLst/>
              <a:gdLst/>
              <a:ahLst/>
              <a:rect l="l" t="t" r="r" b="b"/>
              <a:pathLst>
                <a:path w="86" h="61">
                  <a:moveTo>
                    <a:pt x="53" y="59"/>
                  </a:moveTo>
                  <a:lnTo>
                    <a:pt x="4" y="33"/>
                  </a:lnTo>
                  <a:lnTo>
                    <a:pt x="0" y="8"/>
                  </a:lnTo>
                  <a:lnTo>
                    <a:pt x="33" y="2"/>
                  </a:lnTo>
                  <a:lnTo>
                    <a:pt x="68" y="0"/>
                  </a:lnTo>
                  <a:lnTo>
                    <a:pt x="70" y="15"/>
                  </a:lnTo>
                  <a:lnTo>
                    <a:pt x="83" y="11"/>
                  </a:lnTo>
                  <a:lnTo>
                    <a:pt x="86" y="33"/>
                  </a:lnTo>
                  <a:lnTo>
                    <a:pt x="53" y="6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33" name=""/>
          <p:cNvSpPr/>
          <p:nvPr/>
        </p:nvSpPr>
        <p:spPr>
          <a:xfrm>
            <a:off x="609480" y="30492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ircraft Noise Assessment</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Metrics</a:t>
            </a:r>
            <a:endParaRPr b="0" lang="en-US" sz="2800" spc="-1" strike="noStrike">
              <a:solidFill>
                <a:srgbClr val="ffffff"/>
              </a:solidFill>
              <a:latin typeface="Times New Roman"/>
            </a:endParaRPr>
          </a:p>
        </p:txBody>
      </p:sp>
      <p:graphicFrame>
        <p:nvGraphicFramePr>
          <p:cNvPr id="934" name=""/>
          <p:cNvGraphicFramePr/>
          <p:nvPr/>
        </p:nvGraphicFramePr>
        <p:xfrm>
          <a:off x="380880" y="1752480"/>
          <a:ext cx="8381880" cy="4861080"/>
        </p:xfrm>
        <a:graphic>
          <a:graphicData uri="http://schemas.openxmlformats.org/drawingml/2006/table">
            <a:tbl>
              <a:tblPr/>
              <a:tblGrid>
                <a:gridCol w="4191120"/>
                <a:gridCol w="4190760"/>
              </a:tblGrid>
              <a:tr h="4100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Method</a:t>
                      </a:r>
                      <a:endParaRPr b="0" lang="en-US" sz="1800" spc="-1" strike="noStrike">
                        <a:solidFill>
                          <a:srgbClr val="ffffff"/>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Basic Noise Measure</a:t>
                      </a:r>
                      <a:endParaRPr b="0" lang="en-US" sz="1800" spc="-1" strike="noStrike">
                        <a:solidFill>
                          <a:srgbClr val="ffffff"/>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ommunity Noise Equivalent Level (CNEL)</a:t>
                      </a:r>
                      <a:endParaRPr b="0" lang="en-US" sz="1800" spc="-1" strike="noStrike">
                        <a:solidFill>
                          <a:srgbClr val="ffffff"/>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Sound Exposure Level (SEL)</a:t>
                      </a:r>
                      <a:endParaRPr b="0" lang="en-US" sz="1800" spc="-1" strike="noStrike">
                        <a:solidFill>
                          <a:srgbClr val="ffffff"/>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noFill/>
                  </a:tcPr>
                </a:tc>
              </a:tr>
              <a:tr h="410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Day Night Evening Noise Level (DNEL)</a:t>
                      </a:r>
                      <a:endParaRPr b="0" lang="en-US" sz="1800" spc="-1" strike="noStrike">
                        <a:solidFill>
                          <a:srgbClr val="ffffff"/>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SEL</a:t>
                      </a:r>
                      <a:endParaRPr b="0" lang="en-US" sz="1800" spc="-1" strike="noStrike">
                        <a:solidFill>
                          <a:srgbClr val="ffffff"/>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noFill/>
                  </a:tcPr>
                </a:tc>
              </a:tr>
              <a:tr h="411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Day Night Sound Level (DNL)</a:t>
                      </a:r>
                      <a:endParaRPr b="0" lang="en-US" sz="1800" spc="-1" strike="noStrike">
                        <a:solidFill>
                          <a:srgbClr val="ffffff"/>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SEL</a:t>
                      </a:r>
                      <a:endParaRPr b="0" lang="en-US" sz="1800" spc="-1" strike="noStrike">
                        <a:solidFill>
                          <a:srgbClr val="ffffff"/>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Equivalent (Continuous) Sound Level (Leq)</a:t>
                      </a:r>
                      <a:endParaRPr b="0" lang="en-US" sz="1800" spc="-1" strike="noStrike">
                        <a:solidFill>
                          <a:srgbClr val="ffffff"/>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SEL</a:t>
                      </a:r>
                      <a:endParaRPr b="0" lang="en-US" sz="1800" spc="-1" strike="noStrike">
                        <a:solidFill>
                          <a:srgbClr val="ffffff"/>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noFill/>
                  </a:tcPr>
                </a:tc>
              </a:tr>
              <a:tr h="410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KOSTEN</a:t>
                      </a:r>
                      <a:endParaRPr b="0" lang="en-US" sz="1800" spc="-1" strike="noStrike">
                        <a:solidFill>
                          <a:srgbClr val="ffffff"/>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weighted Sound Pressure Level (AL)</a:t>
                      </a:r>
                      <a:endParaRPr b="0" lang="en-US" sz="1800" spc="-1" strike="noStrike">
                        <a:solidFill>
                          <a:srgbClr val="ffffff"/>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noFill/>
                  </a:tcPr>
                </a:tc>
              </a:tr>
              <a:tr h="410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Noise and Number Index (NNI)</a:t>
                      </a:r>
                      <a:endParaRPr b="0" lang="en-US" sz="1800" spc="-1" strike="noStrike">
                        <a:solidFill>
                          <a:srgbClr val="ffffff"/>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Perceived Noise Level (PNL)</a:t>
                      </a:r>
                      <a:endParaRPr b="0" lang="en-US" sz="1800" spc="-1" strike="noStrike">
                        <a:solidFill>
                          <a:srgbClr val="ffffff"/>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noFill/>
                  </a:tcPr>
                </a:tc>
              </a:tr>
              <a:tr h="471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Noise Exposure Forecast (NEF)</a:t>
                      </a:r>
                      <a:endParaRPr b="0" lang="en-US" sz="1800" spc="-1" strike="noStrike">
                        <a:solidFill>
                          <a:srgbClr val="ffffff"/>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Effective Perceived Noise Level (EPNL)</a:t>
                      </a:r>
                      <a:endParaRPr b="0" lang="en-US" sz="1800" spc="-1" strike="noStrike">
                        <a:solidFill>
                          <a:srgbClr val="ffffff"/>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noFill/>
                  </a:tcPr>
                </a:tc>
              </a:tr>
              <a:tr h="4100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Psophic Index (IP)</a:t>
                      </a:r>
                      <a:endParaRPr b="0" lang="en-US" sz="1800" spc="-1" strike="noStrike">
                        <a:solidFill>
                          <a:srgbClr val="ffffff"/>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PNL</a:t>
                      </a:r>
                      <a:endParaRPr b="0" lang="en-US" sz="1800" spc="-1" strike="noStrike">
                        <a:solidFill>
                          <a:srgbClr val="ffffff"/>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Weighted Effective Continuous Perceived Noise Level (WECPNL)</a:t>
                      </a:r>
                      <a:endParaRPr b="0" lang="en-US" sz="1800" spc="-1" strike="noStrike">
                        <a:solidFill>
                          <a:srgbClr val="ffffff"/>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EPNL or AL</a:t>
                      </a:r>
                      <a:endParaRPr b="0" lang="en-US" sz="1800" spc="-1" strike="noStrike">
                        <a:solidFill>
                          <a:srgbClr val="ffffff"/>
                        </a:solidFill>
                        <a:latin typeface="Times New Roman"/>
                      </a:endParaRPr>
                    </a:p>
                  </a:txBody>
                  <a:tcPr anchor="t" marL="90000" marR="90000">
                    <a:lnL w="5760">
                      <a:solidFill>
                        <a:srgbClr val="ff9900"/>
                      </a:solidFill>
                    </a:lnL>
                    <a:lnR w="5760">
                      <a:solidFill>
                        <a:srgbClr val="ff9900"/>
                      </a:solidFill>
                    </a:lnR>
                    <a:lnT w="5760">
                      <a:solidFill>
                        <a:srgbClr val="ff9900"/>
                      </a:solidFill>
                    </a:lnT>
                    <a:lnB w="5760">
                      <a:solidFill>
                        <a:srgbClr val="ff9900"/>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35" name=""/>
          <p:cNvGrpSpPr/>
          <p:nvPr/>
        </p:nvGrpSpPr>
        <p:grpSpPr>
          <a:xfrm>
            <a:off x="0" y="457200"/>
            <a:ext cx="9143280" cy="6141960"/>
            <a:chOff x="0" y="457200"/>
            <a:chExt cx="9143280" cy="6141960"/>
          </a:xfrm>
        </p:grpSpPr>
        <p:grpSp>
          <p:nvGrpSpPr>
            <p:cNvPr id="936" name=""/>
            <p:cNvGrpSpPr/>
            <p:nvPr/>
          </p:nvGrpSpPr>
          <p:grpSpPr>
            <a:xfrm>
              <a:off x="0" y="457200"/>
              <a:ext cx="9143280" cy="6141960"/>
              <a:chOff x="0" y="457200"/>
              <a:chExt cx="9143280" cy="6141960"/>
            </a:xfrm>
          </p:grpSpPr>
          <p:sp>
            <p:nvSpPr>
              <p:cNvPr id="937" name=""/>
              <p:cNvSpPr/>
              <p:nvPr/>
            </p:nvSpPr>
            <p:spPr>
              <a:xfrm>
                <a:off x="0" y="457200"/>
                <a:ext cx="9143280" cy="6141960"/>
              </a:xfrm>
              <a:custGeom>
                <a:avLst/>
                <a:gdLst/>
                <a:ahLst/>
                <a:rect l="l" t="t" r="r" b="b"/>
                <a:pathLst>
                  <a:path w="5566" h="3869">
                    <a:moveTo>
                      <a:pt x="5566" y="3869"/>
                    </a:moveTo>
                    <a:lnTo>
                      <a:pt x="5566" y="3451"/>
                    </a:lnTo>
                    <a:lnTo>
                      <a:pt x="5566" y="3020"/>
                    </a:lnTo>
                    <a:lnTo>
                      <a:pt x="5566" y="2596"/>
                    </a:lnTo>
                    <a:lnTo>
                      <a:pt x="5566" y="2174"/>
                    </a:lnTo>
                    <a:lnTo>
                      <a:pt x="5566" y="1748"/>
                    </a:lnTo>
                    <a:lnTo>
                      <a:pt x="5566" y="1325"/>
                    </a:lnTo>
                    <a:lnTo>
                      <a:pt x="5566" y="899"/>
                    </a:lnTo>
                    <a:lnTo>
                      <a:pt x="5566" y="473"/>
                    </a:lnTo>
                    <a:lnTo>
                      <a:pt x="5566" y="330"/>
                    </a:lnTo>
                    <a:lnTo>
                      <a:pt x="5566" y="0"/>
                    </a:lnTo>
                    <a:lnTo>
                      <a:pt x="0" y="0"/>
                    </a:lnTo>
                    <a:lnTo>
                      <a:pt x="0" y="330"/>
                    </a:lnTo>
                    <a:lnTo>
                      <a:pt x="0" y="473"/>
                    </a:lnTo>
                    <a:lnTo>
                      <a:pt x="0" y="899"/>
                    </a:lnTo>
                    <a:lnTo>
                      <a:pt x="0" y="1325"/>
                    </a:lnTo>
                    <a:lnTo>
                      <a:pt x="0" y="1748"/>
                    </a:lnTo>
                    <a:lnTo>
                      <a:pt x="0" y="2174"/>
                    </a:lnTo>
                    <a:lnTo>
                      <a:pt x="0" y="2596"/>
                    </a:lnTo>
                    <a:lnTo>
                      <a:pt x="0" y="3020"/>
                    </a:lnTo>
                    <a:lnTo>
                      <a:pt x="0" y="3451"/>
                    </a:lnTo>
                    <a:lnTo>
                      <a:pt x="0" y="3869"/>
                    </a:lnTo>
                    <a:lnTo>
                      <a:pt x="5566" y="3869"/>
                    </a:lnTo>
                    <a:close/>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a:off x="9081360" y="5262480"/>
                <a:ext cx="6192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39" name=""/>
              <p:cNvSpPr/>
              <p:nvPr/>
            </p:nvSpPr>
            <p:spPr>
              <a:xfrm>
                <a:off x="9081360" y="5262480"/>
                <a:ext cx="6192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0" name=""/>
              <p:cNvSpPr/>
              <p:nvPr/>
            </p:nvSpPr>
            <p:spPr>
              <a:xfrm flipH="1">
                <a:off x="8221320" y="4584600"/>
                <a:ext cx="10836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1" name=""/>
              <p:cNvSpPr/>
              <p:nvPr/>
            </p:nvSpPr>
            <p:spPr>
              <a:xfrm flipH="1">
                <a:off x="8221320" y="4584600"/>
                <a:ext cx="10836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2" name=""/>
              <p:cNvSpPr/>
              <p:nvPr/>
            </p:nvSpPr>
            <p:spPr>
              <a:xfrm flipH="1">
                <a:off x="7705800" y="2563920"/>
                <a:ext cx="2854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3" name=""/>
              <p:cNvSpPr/>
              <p:nvPr/>
            </p:nvSpPr>
            <p:spPr>
              <a:xfrm flipH="1">
                <a:off x="7705800" y="2563920"/>
                <a:ext cx="2854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44" name=""/>
              <p:cNvSpPr/>
              <p:nvPr/>
            </p:nvSpPr>
            <p:spPr>
              <a:xfrm flipH="1">
                <a:off x="2278440" y="1884240"/>
                <a:ext cx="835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5" name=""/>
              <p:cNvSpPr/>
              <p:nvPr/>
            </p:nvSpPr>
            <p:spPr>
              <a:xfrm flipH="1">
                <a:off x="2278440" y="1884240"/>
                <a:ext cx="835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6" name=""/>
              <p:cNvSpPr/>
              <p:nvPr/>
            </p:nvSpPr>
            <p:spPr>
              <a:xfrm flipH="1">
                <a:off x="2040120" y="1884240"/>
                <a:ext cx="1144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7" name=""/>
              <p:cNvSpPr/>
              <p:nvPr/>
            </p:nvSpPr>
            <p:spPr>
              <a:xfrm flipH="1">
                <a:off x="2040120" y="1884240"/>
                <a:ext cx="1144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8" name=""/>
              <p:cNvSpPr/>
              <p:nvPr/>
            </p:nvSpPr>
            <p:spPr>
              <a:xfrm flipH="1">
                <a:off x="1811880" y="1884240"/>
                <a:ext cx="1951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49" name=""/>
              <p:cNvSpPr/>
              <p:nvPr/>
            </p:nvSpPr>
            <p:spPr>
              <a:xfrm flipH="1">
                <a:off x="1811880" y="1884240"/>
                <a:ext cx="1951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50" name=""/>
              <p:cNvSpPr/>
              <p:nvPr/>
            </p:nvSpPr>
            <p:spPr>
              <a:xfrm>
                <a:off x="0" y="1206360"/>
                <a:ext cx="913716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51" name=""/>
              <p:cNvSpPr/>
              <p:nvPr/>
            </p:nvSpPr>
            <p:spPr>
              <a:xfrm>
                <a:off x="0" y="1206360"/>
                <a:ext cx="913716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52" name=""/>
              <p:cNvSpPr/>
              <p:nvPr/>
            </p:nvSpPr>
            <p:spPr>
              <a:xfrm>
                <a:off x="0" y="1214280"/>
                <a:ext cx="91432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53" name=""/>
              <p:cNvSpPr/>
              <p:nvPr/>
            </p:nvSpPr>
            <p:spPr>
              <a:xfrm>
                <a:off x="0" y="1214280"/>
                <a:ext cx="91432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54" name=""/>
              <p:cNvSpPr/>
              <p:nvPr/>
            </p:nvSpPr>
            <p:spPr>
              <a:xfrm flipH="1">
                <a:off x="0" y="5938920"/>
                <a:ext cx="91432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5" name=""/>
              <p:cNvSpPr/>
              <p:nvPr/>
            </p:nvSpPr>
            <p:spPr>
              <a:xfrm flipH="1">
                <a:off x="0" y="5938920"/>
                <a:ext cx="91432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6" name=""/>
              <p:cNvSpPr/>
              <p:nvPr/>
            </p:nvSpPr>
            <p:spPr>
              <a:xfrm>
                <a:off x="2880" y="5262480"/>
                <a:ext cx="19220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7" name=""/>
              <p:cNvSpPr/>
              <p:nvPr/>
            </p:nvSpPr>
            <p:spPr>
              <a:xfrm>
                <a:off x="2880" y="5262480"/>
                <a:ext cx="19220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8" name=""/>
              <p:cNvSpPr/>
              <p:nvPr/>
            </p:nvSpPr>
            <p:spPr>
              <a:xfrm>
                <a:off x="2390040" y="5262480"/>
                <a:ext cx="560160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59" name=""/>
              <p:cNvSpPr/>
              <p:nvPr/>
            </p:nvSpPr>
            <p:spPr>
              <a:xfrm>
                <a:off x="2390040" y="5262480"/>
                <a:ext cx="560160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0" name=""/>
              <p:cNvSpPr/>
              <p:nvPr/>
            </p:nvSpPr>
            <p:spPr>
              <a:xfrm>
                <a:off x="8396280" y="5262480"/>
                <a:ext cx="65700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1" name=""/>
              <p:cNvSpPr/>
              <p:nvPr/>
            </p:nvSpPr>
            <p:spPr>
              <a:xfrm>
                <a:off x="8396280" y="5262480"/>
                <a:ext cx="65700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2" name=""/>
              <p:cNvSpPr/>
              <p:nvPr/>
            </p:nvSpPr>
            <p:spPr>
              <a:xfrm>
                <a:off x="2880" y="4584600"/>
                <a:ext cx="18745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63" name=""/>
              <p:cNvSpPr/>
              <p:nvPr/>
            </p:nvSpPr>
            <p:spPr>
              <a:xfrm>
                <a:off x="2880" y="4584600"/>
                <a:ext cx="18745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64" name=""/>
              <p:cNvSpPr/>
              <p:nvPr/>
            </p:nvSpPr>
            <p:spPr>
              <a:xfrm>
                <a:off x="2851560" y="4584600"/>
                <a:ext cx="15094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65" name=""/>
              <p:cNvSpPr/>
              <p:nvPr/>
            </p:nvSpPr>
            <p:spPr>
              <a:xfrm>
                <a:off x="2851560" y="4584600"/>
                <a:ext cx="15094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66" name=""/>
              <p:cNvSpPr/>
              <p:nvPr/>
            </p:nvSpPr>
            <p:spPr>
              <a:xfrm>
                <a:off x="5217120" y="4584600"/>
                <a:ext cx="1558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67" name=""/>
              <p:cNvSpPr/>
              <p:nvPr/>
            </p:nvSpPr>
            <p:spPr>
              <a:xfrm>
                <a:off x="5217120" y="4584600"/>
                <a:ext cx="1558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68" name=""/>
              <p:cNvSpPr/>
              <p:nvPr/>
            </p:nvSpPr>
            <p:spPr>
              <a:xfrm>
                <a:off x="5563800" y="4587840"/>
                <a:ext cx="22208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69" name=""/>
              <p:cNvSpPr/>
              <p:nvPr/>
            </p:nvSpPr>
            <p:spPr>
              <a:xfrm>
                <a:off x="5563800" y="4587840"/>
                <a:ext cx="22208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70" name=""/>
              <p:cNvSpPr/>
              <p:nvPr/>
            </p:nvSpPr>
            <p:spPr>
              <a:xfrm>
                <a:off x="8438760" y="4584600"/>
                <a:ext cx="7045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71" name=""/>
              <p:cNvSpPr/>
              <p:nvPr/>
            </p:nvSpPr>
            <p:spPr>
              <a:xfrm>
                <a:off x="8438760" y="4584600"/>
                <a:ext cx="7045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72" name=""/>
              <p:cNvSpPr/>
              <p:nvPr/>
            </p:nvSpPr>
            <p:spPr>
              <a:xfrm>
                <a:off x="2880" y="3914640"/>
                <a:ext cx="162144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73" name=""/>
              <p:cNvSpPr/>
              <p:nvPr/>
            </p:nvSpPr>
            <p:spPr>
              <a:xfrm>
                <a:off x="2880" y="3914640"/>
                <a:ext cx="162144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74" name=""/>
              <p:cNvSpPr/>
              <p:nvPr/>
            </p:nvSpPr>
            <p:spPr>
              <a:xfrm>
                <a:off x="2465640" y="3914640"/>
                <a:ext cx="18100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75" name=""/>
              <p:cNvSpPr/>
              <p:nvPr/>
            </p:nvSpPr>
            <p:spPr>
              <a:xfrm>
                <a:off x="2465640" y="3914640"/>
                <a:ext cx="18100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76" name=""/>
              <p:cNvSpPr/>
              <p:nvPr/>
            </p:nvSpPr>
            <p:spPr>
              <a:xfrm>
                <a:off x="5460480" y="3914640"/>
                <a:ext cx="159156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77" name=""/>
              <p:cNvSpPr/>
              <p:nvPr/>
            </p:nvSpPr>
            <p:spPr>
              <a:xfrm>
                <a:off x="5460480" y="3914640"/>
                <a:ext cx="159156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78" name=""/>
              <p:cNvSpPr/>
              <p:nvPr/>
            </p:nvSpPr>
            <p:spPr>
              <a:xfrm>
                <a:off x="7157520" y="3914640"/>
                <a:ext cx="457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79" name=""/>
              <p:cNvSpPr/>
              <p:nvPr/>
            </p:nvSpPr>
            <p:spPr>
              <a:xfrm>
                <a:off x="7157520" y="3914640"/>
                <a:ext cx="457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0" name=""/>
              <p:cNvSpPr/>
              <p:nvPr/>
            </p:nvSpPr>
            <p:spPr>
              <a:xfrm>
                <a:off x="7265880" y="3914640"/>
                <a:ext cx="2707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1" name=""/>
              <p:cNvSpPr/>
              <p:nvPr/>
            </p:nvSpPr>
            <p:spPr>
              <a:xfrm>
                <a:off x="7265880" y="3914640"/>
                <a:ext cx="2707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2" name=""/>
              <p:cNvSpPr/>
              <p:nvPr/>
            </p:nvSpPr>
            <p:spPr>
              <a:xfrm>
                <a:off x="7720560" y="3914640"/>
                <a:ext cx="14227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3" name=""/>
              <p:cNvSpPr/>
              <p:nvPr/>
            </p:nvSpPr>
            <p:spPr>
              <a:xfrm>
                <a:off x="7720560" y="3914640"/>
                <a:ext cx="14227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4" name=""/>
              <p:cNvSpPr/>
              <p:nvPr/>
            </p:nvSpPr>
            <p:spPr>
              <a:xfrm>
                <a:off x="0" y="3238560"/>
                <a:ext cx="8474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85" name=""/>
              <p:cNvSpPr/>
              <p:nvPr/>
            </p:nvSpPr>
            <p:spPr>
              <a:xfrm>
                <a:off x="0" y="3238560"/>
                <a:ext cx="8474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86" name=""/>
              <p:cNvSpPr/>
              <p:nvPr/>
            </p:nvSpPr>
            <p:spPr>
              <a:xfrm>
                <a:off x="1111680" y="3238560"/>
                <a:ext cx="17712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87" name=""/>
              <p:cNvSpPr/>
              <p:nvPr/>
            </p:nvSpPr>
            <p:spPr>
              <a:xfrm>
                <a:off x="1111680" y="3238560"/>
                <a:ext cx="17712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88" name=""/>
              <p:cNvSpPr/>
              <p:nvPr/>
            </p:nvSpPr>
            <p:spPr>
              <a:xfrm>
                <a:off x="1392840" y="3238560"/>
                <a:ext cx="2642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89" name=""/>
              <p:cNvSpPr/>
              <p:nvPr/>
            </p:nvSpPr>
            <p:spPr>
              <a:xfrm>
                <a:off x="1392840" y="3238560"/>
                <a:ext cx="2642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0" name=""/>
              <p:cNvSpPr/>
              <p:nvPr/>
            </p:nvSpPr>
            <p:spPr>
              <a:xfrm>
                <a:off x="1740960" y="3238560"/>
                <a:ext cx="174276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1" name=""/>
              <p:cNvSpPr/>
              <p:nvPr/>
            </p:nvSpPr>
            <p:spPr>
              <a:xfrm>
                <a:off x="1740960" y="3238560"/>
                <a:ext cx="174276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2" name=""/>
              <p:cNvSpPr/>
              <p:nvPr/>
            </p:nvSpPr>
            <p:spPr>
              <a:xfrm>
                <a:off x="5846400" y="3238560"/>
                <a:ext cx="2656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3" name=""/>
              <p:cNvSpPr/>
              <p:nvPr/>
            </p:nvSpPr>
            <p:spPr>
              <a:xfrm>
                <a:off x="5846400" y="3238560"/>
                <a:ext cx="2656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4" name=""/>
              <p:cNvSpPr/>
              <p:nvPr/>
            </p:nvSpPr>
            <p:spPr>
              <a:xfrm>
                <a:off x="7449840" y="3235320"/>
                <a:ext cx="16934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5" name=""/>
              <p:cNvSpPr/>
              <p:nvPr/>
            </p:nvSpPr>
            <p:spPr>
              <a:xfrm>
                <a:off x="7449840" y="3235320"/>
                <a:ext cx="16934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6" name=""/>
              <p:cNvSpPr/>
              <p:nvPr/>
            </p:nvSpPr>
            <p:spPr>
              <a:xfrm flipH="1">
                <a:off x="0" y="2563920"/>
                <a:ext cx="5234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7" name=""/>
              <p:cNvSpPr/>
              <p:nvPr/>
            </p:nvSpPr>
            <p:spPr>
              <a:xfrm flipH="1">
                <a:off x="0" y="2563920"/>
                <a:ext cx="52344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8" name=""/>
              <p:cNvSpPr/>
              <p:nvPr/>
            </p:nvSpPr>
            <p:spPr>
              <a:xfrm flipH="1">
                <a:off x="2003760" y="2563920"/>
                <a:ext cx="17146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99" name=""/>
              <p:cNvSpPr/>
              <p:nvPr/>
            </p:nvSpPr>
            <p:spPr>
              <a:xfrm flipH="1">
                <a:off x="2003760" y="2563920"/>
                <a:ext cx="17146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0" name=""/>
              <p:cNvSpPr/>
              <p:nvPr/>
            </p:nvSpPr>
            <p:spPr>
              <a:xfrm>
                <a:off x="4023000" y="2563920"/>
                <a:ext cx="3070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1" name=""/>
              <p:cNvSpPr/>
              <p:nvPr/>
            </p:nvSpPr>
            <p:spPr>
              <a:xfrm>
                <a:off x="4023000" y="2563920"/>
                <a:ext cx="30708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2" name=""/>
              <p:cNvSpPr/>
              <p:nvPr/>
            </p:nvSpPr>
            <p:spPr>
              <a:xfrm flipH="1">
                <a:off x="8037720" y="2563920"/>
                <a:ext cx="110232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3" name=""/>
              <p:cNvSpPr/>
              <p:nvPr/>
            </p:nvSpPr>
            <p:spPr>
              <a:xfrm flipH="1">
                <a:off x="8037720" y="2563920"/>
                <a:ext cx="110232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04" name=""/>
              <p:cNvSpPr/>
              <p:nvPr/>
            </p:nvSpPr>
            <p:spPr>
              <a:xfrm>
                <a:off x="2982960" y="1884240"/>
                <a:ext cx="11185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05" name=""/>
              <p:cNvSpPr/>
              <p:nvPr/>
            </p:nvSpPr>
            <p:spPr>
              <a:xfrm>
                <a:off x="2982960" y="1884240"/>
                <a:ext cx="111852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06" name=""/>
              <p:cNvSpPr/>
              <p:nvPr/>
            </p:nvSpPr>
            <p:spPr>
              <a:xfrm>
                <a:off x="8308800" y="1884240"/>
                <a:ext cx="8344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07" name=""/>
              <p:cNvSpPr/>
              <p:nvPr/>
            </p:nvSpPr>
            <p:spPr>
              <a:xfrm>
                <a:off x="8308800" y="1884240"/>
                <a:ext cx="8344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08" name=""/>
              <p:cNvSpPr/>
              <p:nvPr/>
            </p:nvSpPr>
            <p:spPr>
              <a:xfrm flipH="1">
                <a:off x="2440800" y="1884240"/>
                <a:ext cx="40356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09" name=""/>
              <p:cNvSpPr/>
              <p:nvPr/>
            </p:nvSpPr>
            <p:spPr>
              <a:xfrm flipH="1">
                <a:off x="2440800" y="1884240"/>
                <a:ext cx="40356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010" name=""/>
              <p:cNvSpPr/>
              <p:nvPr/>
            </p:nvSpPr>
            <p:spPr>
              <a:xfrm>
                <a:off x="1479960" y="3157560"/>
                <a:ext cx="331920" cy="122040"/>
              </a:xfrm>
              <a:custGeom>
                <a:avLst/>
                <a:gdLst/>
                <a:ahLst/>
                <a:rect l="l" t="t" r="r" b="b"/>
                <a:pathLst>
                  <a:path w="202" h="77">
                    <a:moveTo>
                      <a:pt x="3" y="22"/>
                    </a:moveTo>
                    <a:lnTo>
                      <a:pt x="62" y="16"/>
                    </a:lnTo>
                    <a:lnTo>
                      <a:pt x="125" y="66"/>
                    </a:lnTo>
                    <a:lnTo>
                      <a:pt x="126" y="66"/>
                    </a:lnTo>
                    <a:lnTo>
                      <a:pt x="128" y="73"/>
                    </a:lnTo>
                    <a:lnTo>
                      <a:pt x="136" y="77"/>
                    </a:lnTo>
                    <a:lnTo>
                      <a:pt x="202" y="77"/>
                    </a:lnTo>
                    <a:lnTo>
                      <a:pt x="174" y="64"/>
                    </a:lnTo>
                    <a:lnTo>
                      <a:pt x="95" y="13"/>
                    </a:lnTo>
                    <a:lnTo>
                      <a:pt x="62" y="13"/>
                    </a:lnTo>
                    <a:lnTo>
                      <a:pt x="27" y="0"/>
                    </a:lnTo>
                    <a:lnTo>
                      <a:pt x="16" y="13"/>
                    </a:lnTo>
                    <a:lnTo>
                      <a:pt x="0" y="2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1" name=""/>
              <p:cNvSpPr/>
              <p:nvPr/>
            </p:nvSpPr>
            <p:spPr>
              <a:xfrm>
                <a:off x="1479960" y="3157560"/>
                <a:ext cx="331920" cy="122040"/>
              </a:xfrm>
              <a:custGeom>
                <a:avLst/>
                <a:gdLst/>
                <a:ahLst/>
                <a:rect l="l" t="t" r="r" b="b"/>
                <a:pathLst>
                  <a:path w="202" h="77">
                    <a:moveTo>
                      <a:pt x="3" y="22"/>
                    </a:moveTo>
                    <a:lnTo>
                      <a:pt x="62" y="16"/>
                    </a:lnTo>
                    <a:lnTo>
                      <a:pt x="125" y="66"/>
                    </a:lnTo>
                    <a:lnTo>
                      <a:pt x="126" y="66"/>
                    </a:lnTo>
                    <a:lnTo>
                      <a:pt x="128" y="73"/>
                    </a:lnTo>
                    <a:lnTo>
                      <a:pt x="136" y="77"/>
                    </a:lnTo>
                    <a:lnTo>
                      <a:pt x="202" y="77"/>
                    </a:lnTo>
                    <a:lnTo>
                      <a:pt x="174" y="64"/>
                    </a:lnTo>
                    <a:lnTo>
                      <a:pt x="95" y="13"/>
                    </a:lnTo>
                    <a:lnTo>
                      <a:pt x="62" y="13"/>
                    </a:lnTo>
                    <a:lnTo>
                      <a:pt x="27" y="0"/>
                    </a:lnTo>
                    <a:lnTo>
                      <a:pt x="16" y="13"/>
                    </a:lnTo>
                    <a:lnTo>
                      <a:pt x="0" y="2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2" name=""/>
              <p:cNvSpPr/>
              <p:nvPr/>
            </p:nvSpPr>
            <p:spPr>
              <a:xfrm>
                <a:off x="1667160" y="3343320"/>
                <a:ext cx="61920" cy="29880"/>
              </a:xfrm>
              <a:custGeom>
                <a:avLst/>
                <a:gdLst/>
                <a:ahLst/>
                <a:rect l="l" t="t" r="r" b="b"/>
                <a:pathLst>
                  <a:path w="38" h="19">
                    <a:moveTo>
                      <a:pt x="0" y="0"/>
                    </a:moveTo>
                    <a:lnTo>
                      <a:pt x="14" y="19"/>
                    </a:lnTo>
                    <a:lnTo>
                      <a:pt x="38" y="19"/>
                    </a:lnTo>
                    <a:lnTo>
                      <a:pt x="31" y="9"/>
                    </a:lnTo>
                    <a:lnTo>
                      <a:pt x="29" y="0"/>
                    </a:lnTo>
                    <a:lnTo>
                      <a:pt x="12" y="0"/>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013" name=""/>
              <p:cNvSpPr/>
              <p:nvPr/>
            </p:nvSpPr>
            <p:spPr>
              <a:xfrm>
                <a:off x="1667160" y="3343320"/>
                <a:ext cx="61920" cy="29880"/>
              </a:xfrm>
              <a:custGeom>
                <a:avLst/>
                <a:gdLst/>
                <a:ahLst/>
                <a:rect l="l" t="t" r="r" b="b"/>
                <a:pathLst>
                  <a:path w="38" h="19">
                    <a:moveTo>
                      <a:pt x="0" y="0"/>
                    </a:moveTo>
                    <a:lnTo>
                      <a:pt x="14" y="19"/>
                    </a:lnTo>
                    <a:lnTo>
                      <a:pt x="38" y="19"/>
                    </a:lnTo>
                    <a:lnTo>
                      <a:pt x="31" y="9"/>
                    </a:lnTo>
                    <a:lnTo>
                      <a:pt x="29" y="0"/>
                    </a:lnTo>
                    <a:lnTo>
                      <a:pt x="12" y="0"/>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014" name=""/>
              <p:cNvSpPr/>
              <p:nvPr/>
            </p:nvSpPr>
            <p:spPr>
              <a:xfrm>
                <a:off x="1794960" y="3279600"/>
                <a:ext cx="180720" cy="93600"/>
              </a:xfrm>
              <a:custGeom>
                <a:avLst/>
                <a:gdLst/>
                <a:ahLst/>
                <a:rect l="l" t="t" r="r" b="b"/>
                <a:pathLst>
                  <a:path w="110" h="59">
                    <a:moveTo>
                      <a:pt x="24" y="0"/>
                    </a:moveTo>
                    <a:lnTo>
                      <a:pt x="24" y="46"/>
                    </a:lnTo>
                    <a:lnTo>
                      <a:pt x="0" y="48"/>
                    </a:lnTo>
                    <a:lnTo>
                      <a:pt x="4" y="49"/>
                    </a:lnTo>
                    <a:lnTo>
                      <a:pt x="21" y="49"/>
                    </a:lnTo>
                    <a:lnTo>
                      <a:pt x="48" y="59"/>
                    </a:lnTo>
                    <a:lnTo>
                      <a:pt x="57" y="44"/>
                    </a:lnTo>
                    <a:lnTo>
                      <a:pt x="61" y="42"/>
                    </a:lnTo>
                    <a:lnTo>
                      <a:pt x="105" y="40"/>
                    </a:lnTo>
                    <a:lnTo>
                      <a:pt x="110" y="33"/>
                    </a:lnTo>
                    <a:lnTo>
                      <a:pt x="88" y="14"/>
                    </a:lnTo>
                    <a:lnTo>
                      <a:pt x="61" y="0"/>
                    </a:lnTo>
                    <a:lnTo>
                      <a:pt x="24"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a:off x="1794960" y="3279600"/>
                <a:ext cx="180720" cy="93600"/>
              </a:xfrm>
              <a:custGeom>
                <a:avLst/>
                <a:gdLst/>
                <a:ahLst/>
                <a:rect l="l" t="t" r="r" b="b"/>
                <a:pathLst>
                  <a:path w="110" h="59">
                    <a:moveTo>
                      <a:pt x="24" y="0"/>
                    </a:moveTo>
                    <a:lnTo>
                      <a:pt x="24" y="46"/>
                    </a:lnTo>
                    <a:lnTo>
                      <a:pt x="0" y="48"/>
                    </a:lnTo>
                    <a:lnTo>
                      <a:pt x="4" y="49"/>
                    </a:lnTo>
                    <a:lnTo>
                      <a:pt x="21" y="49"/>
                    </a:lnTo>
                    <a:lnTo>
                      <a:pt x="48" y="59"/>
                    </a:lnTo>
                    <a:lnTo>
                      <a:pt x="57" y="44"/>
                    </a:lnTo>
                    <a:lnTo>
                      <a:pt x="61" y="42"/>
                    </a:lnTo>
                    <a:lnTo>
                      <a:pt x="105" y="40"/>
                    </a:lnTo>
                    <a:lnTo>
                      <a:pt x="110" y="33"/>
                    </a:lnTo>
                    <a:lnTo>
                      <a:pt x="88" y="14"/>
                    </a:lnTo>
                    <a:lnTo>
                      <a:pt x="61" y="0"/>
                    </a:lnTo>
                    <a:lnTo>
                      <a:pt x="24"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a:off x="0" y="1311120"/>
                <a:ext cx="3766680" cy="2401920"/>
              </a:xfrm>
              <a:custGeom>
                <a:avLst/>
                <a:gdLst/>
                <a:ahLst/>
                <a:rect l="l" t="t" r="r" b="b"/>
                <a:pathLst>
                  <a:path w="2293" h="1513">
                    <a:moveTo>
                      <a:pt x="1005" y="1508"/>
                    </a:moveTo>
                    <a:lnTo>
                      <a:pt x="976" y="1480"/>
                    </a:lnTo>
                    <a:lnTo>
                      <a:pt x="945" y="1513"/>
                    </a:lnTo>
                    <a:lnTo>
                      <a:pt x="914" y="1491"/>
                    </a:lnTo>
                    <a:lnTo>
                      <a:pt x="906" y="1482"/>
                    </a:lnTo>
                    <a:lnTo>
                      <a:pt x="859" y="1464"/>
                    </a:lnTo>
                    <a:lnTo>
                      <a:pt x="820" y="1394"/>
                    </a:lnTo>
                    <a:lnTo>
                      <a:pt x="789" y="1381"/>
                    </a:lnTo>
                    <a:lnTo>
                      <a:pt x="761" y="1376"/>
                    </a:lnTo>
                    <a:lnTo>
                      <a:pt x="750" y="1372"/>
                    </a:lnTo>
                    <a:lnTo>
                      <a:pt x="727" y="1350"/>
                    </a:lnTo>
                    <a:lnTo>
                      <a:pt x="703" y="1326"/>
                    </a:lnTo>
                    <a:lnTo>
                      <a:pt x="613" y="1337"/>
                    </a:lnTo>
                    <a:lnTo>
                      <a:pt x="517" y="1251"/>
                    </a:lnTo>
                    <a:lnTo>
                      <a:pt x="517" y="1229"/>
                    </a:lnTo>
                    <a:lnTo>
                      <a:pt x="517" y="1194"/>
                    </a:lnTo>
                    <a:lnTo>
                      <a:pt x="420" y="1003"/>
                    </a:lnTo>
                    <a:lnTo>
                      <a:pt x="413" y="1027"/>
                    </a:lnTo>
                    <a:lnTo>
                      <a:pt x="411" y="1038"/>
                    </a:lnTo>
                    <a:lnTo>
                      <a:pt x="413" y="1056"/>
                    </a:lnTo>
                    <a:lnTo>
                      <a:pt x="431" y="1102"/>
                    </a:lnTo>
                    <a:lnTo>
                      <a:pt x="446" y="1146"/>
                    </a:lnTo>
                    <a:lnTo>
                      <a:pt x="462" y="1176"/>
                    </a:lnTo>
                    <a:lnTo>
                      <a:pt x="409" y="1135"/>
                    </a:lnTo>
                    <a:lnTo>
                      <a:pt x="409" y="1111"/>
                    </a:lnTo>
                    <a:lnTo>
                      <a:pt x="374" y="1078"/>
                    </a:lnTo>
                    <a:lnTo>
                      <a:pt x="383" y="1067"/>
                    </a:lnTo>
                    <a:lnTo>
                      <a:pt x="367" y="948"/>
                    </a:lnTo>
                    <a:lnTo>
                      <a:pt x="332" y="935"/>
                    </a:lnTo>
                    <a:lnTo>
                      <a:pt x="327" y="924"/>
                    </a:lnTo>
                    <a:lnTo>
                      <a:pt x="323" y="831"/>
                    </a:lnTo>
                    <a:lnTo>
                      <a:pt x="319" y="792"/>
                    </a:lnTo>
                    <a:lnTo>
                      <a:pt x="319" y="787"/>
                    </a:lnTo>
                    <a:lnTo>
                      <a:pt x="396" y="677"/>
                    </a:lnTo>
                    <a:lnTo>
                      <a:pt x="394" y="631"/>
                    </a:lnTo>
                    <a:lnTo>
                      <a:pt x="411" y="651"/>
                    </a:lnTo>
                    <a:lnTo>
                      <a:pt x="416" y="660"/>
                    </a:lnTo>
                    <a:lnTo>
                      <a:pt x="427" y="651"/>
                    </a:lnTo>
                    <a:lnTo>
                      <a:pt x="435" y="633"/>
                    </a:lnTo>
                    <a:lnTo>
                      <a:pt x="429" y="618"/>
                    </a:lnTo>
                    <a:lnTo>
                      <a:pt x="422" y="598"/>
                    </a:lnTo>
                    <a:lnTo>
                      <a:pt x="407" y="581"/>
                    </a:lnTo>
                    <a:lnTo>
                      <a:pt x="393" y="581"/>
                    </a:lnTo>
                    <a:lnTo>
                      <a:pt x="389" y="563"/>
                    </a:lnTo>
                    <a:lnTo>
                      <a:pt x="402" y="557"/>
                    </a:lnTo>
                    <a:lnTo>
                      <a:pt x="404" y="499"/>
                    </a:lnTo>
                    <a:lnTo>
                      <a:pt x="411" y="489"/>
                    </a:lnTo>
                    <a:lnTo>
                      <a:pt x="393" y="407"/>
                    </a:lnTo>
                    <a:lnTo>
                      <a:pt x="358" y="414"/>
                    </a:lnTo>
                    <a:lnTo>
                      <a:pt x="251" y="361"/>
                    </a:lnTo>
                    <a:lnTo>
                      <a:pt x="248" y="372"/>
                    </a:lnTo>
                    <a:lnTo>
                      <a:pt x="229" y="389"/>
                    </a:lnTo>
                    <a:lnTo>
                      <a:pt x="205" y="398"/>
                    </a:lnTo>
                    <a:lnTo>
                      <a:pt x="185" y="403"/>
                    </a:lnTo>
                    <a:lnTo>
                      <a:pt x="161" y="411"/>
                    </a:lnTo>
                    <a:lnTo>
                      <a:pt x="161" y="398"/>
                    </a:lnTo>
                    <a:lnTo>
                      <a:pt x="165" y="389"/>
                    </a:lnTo>
                    <a:lnTo>
                      <a:pt x="205" y="367"/>
                    </a:lnTo>
                    <a:lnTo>
                      <a:pt x="185" y="367"/>
                    </a:lnTo>
                    <a:lnTo>
                      <a:pt x="174" y="374"/>
                    </a:lnTo>
                    <a:lnTo>
                      <a:pt x="161" y="387"/>
                    </a:lnTo>
                    <a:lnTo>
                      <a:pt x="117" y="407"/>
                    </a:lnTo>
                    <a:lnTo>
                      <a:pt x="114" y="422"/>
                    </a:lnTo>
                    <a:lnTo>
                      <a:pt x="108" y="438"/>
                    </a:lnTo>
                    <a:lnTo>
                      <a:pt x="88" y="445"/>
                    </a:lnTo>
                    <a:lnTo>
                      <a:pt x="70" y="445"/>
                    </a:lnTo>
                    <a:lnTo>
                      <a:pt x="86" y="442"/>
                    </a:lnTo>
                    <a:lnTo>
                      <a:pt x="97" y="436"/>
                    </a:lnTo>
                    <a:lnTo>
                      <a:pt x="108" y="425"/>
                    </a:lnTo>
                    <a:lnTo>
                      <a:pt x="108" y="414"/>
                    </a:lnTo>
                    <a:lnTo>
                      <a:pt x="0" y="475"/>
                    </a:lnTo>
                    <a:lnTo>
                      <a:pt x="0" y="352"/>
                    </a:lnTo>
                    <a:lnTo>
                      <a:pt x="37" y="337"/>
                    </a:lnTo>
                    <a:lnTo>
                      <a:pt x="84" y="335"/>
                    </a:lnTo>
                    <a:lnTo>
                      <a:pt x="108" y="301"/>
                    </a:lnTo>
                    <a:lnTo>
                      <a:pt x="90" y="306"/>
                    </a:lnTo>
                    <a:lnTo>
                      <a:pt x="72" y="306"/>
                    </a:lnTo>
                    <a:lnTo>
                      <a:pt x="61" y="299"/>
                    </a:lnTo>
                    <a:lnTo>
                      <a:pt x="62" y="279"/>
                    </a:lnTo>
                    <a:lnTo>
                      <a:pt x="90" y="275"/>
                    </a:lnTo>
                    <a:lnTo>
                      <a:pt x="105" y="268"/>
                    </a:lnTo>
                    <a:lnTo>
                      <a:pt x="112" y="266"/>
                    </a:lnTo>
                    <a:lnTo>
                      <a:pt x="114" y="275"/>
                    </a:lnTo>
                    <a:lnTo>
                      <a:pt x="132" y="275"/>
                    </a:lnTo>
                    <a:lnTo>
                      <a:pt x="141" y="266"/>
                    </a:lnTo>
                    <a:lnTo>
                      <a:pt x="154" y="268"/>
                    </a:lnTo>
                    <a:lnTo>
                      <a:pt x="143" y="258"/>
                    </a:lnTo>
                    <a:lnTo>
                      <a:pt x="149" y="227"/>
                    </a:lnTo>
                    <a:lnTo>
                      <a:pt x="297" y="185"/>
                    </a:lnTo>
                    <a:lnTo>
                      <a:pt x="607" y="220"/>
                    </a:lnTo>
                    <a:lnTo>
                      <a:pt x="745" y="211"/>
                    </a:lnTo>
                    <a:lnTo>
                      <a:pt x="926" y="258"/>
                    </a:lnTo>
                    <a:lnTo>
                      <a:pt x="980" y="227"/>
                    </a:lnTo>
                    <a:lnTo>
                      <a:pt x="996" y="227"/>
                    </a:lnTo>
                    <a:lnTo>
                      <a:pt x="996" y="240"/>
                    </a:lnTo>
                    <a:lnTo>
                      <a:pt x="996" y="247"/>
                    </a:lnTo>
                    <a:lnTo>
                      <a:pt x="1093" y="249"/>
                    </a:lnTo>
                    <a:lnTo>
                      <a:pt x="1093" y="233"/>
                    </a:lnTo>
                    <a:lnTo>
                      <a:pt x="1106" y="220"/>
                    </a:lnTo>
                    <a:lnTo>
                      <a:pt x="1125" y="214"/>
                    </a:lnTo>
                    <a:lnTo>
                      <a:pt x="1147" y="238"/>
                    </a:lnTo>
                    <a:lnTo>
                      <a:pt x="1161" y="201"/>
                    </a:lnTo>
                    <a:lnTo>
                      <a:pt x="1128" y="190"/>
                    </a:lnTo>
                    <a:lnTo>
                      <a:pt x="1114" y="178"/>
                    </a:lnTo>
                    <a:lnTo>
                      <a:pt x="1110" y="172"/>
                    </a:lnTo>
                    <a:lnTo>
                      <a:pt x="1103" y="156"/>
                    </a:lnTo>
                    <a:lnTo>
                      <a:pt x="1156" y="135"/>
                    </a:lnTo>
                    <a:lnTo>
                      <a:pt x="1147" y="117"/>
                    </a:lnTo>
                    <a:lnTo>
                      <a:pt x="1141" y="104"/>
                    </a:lnTo>
                    <a:lnTo>
                      <a:pt x="1147" y="75"/>
                    </a:lnTo>
                    <a:lnTo>
                      <a:pt x="1044" y="82"/>
                    </a:lnTo>
                    <a:lnTo>
                      <a:pt x="1000" y="108"/>
                    </a:lnTo>
                    <a:lnTo>
                      <a:pt x="1114" y="121"/>
                    </a:lnTo>
                    <a:lnTo>
                      <a:pt x="1009" y="139"/>
                    </a:lnTo>
                    <a:lnTo>
                      <a:pt x="899" y="108"/>
                    </a:lnTo>
                    <a:lnTo>
                      <a:pt x="985" y="64"/>
                    </a:lnTo>
                    <a:lnTo>
                      <a:pt x="1714" y="0"/>
                    </a:lnTo>
                    <a:lnTo>
                      <a:pt x="1858" y="29"/>
                    </a:lnTo>
                    <a:lnTo>
                      <a:pt x="1985" y="3"/>
                    </a:lnTo>
                    <a:lnTo>
                      <a:pt x="2165" y="3"/>
                    </a:lnTo>
                    <a:lnTo>
                      <a:pt x="2293" y="2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a:off x="0" y="1311120"/>
                <a:ext cx="3766680" cy="2401920"/>
              </a:xfrm>
              <a:custGeom>
                <a:avLst/>
                <a:gdLst/>
                <a:ahLst/>
                <a:rect l="l" t="t" r="r" b="b"/>
                <a:pathLst>
                  <a:path w="2293" h="1513">
                    <a:moveTo>
                      <a:pt x="1005" y="1508"/>
                    </a:moveTo>
                    <a:lnTo>
                      <a:pt x="976" y="1480"/>
                    </a:lnTo>
                    <a:lnTo>
                      <a:pt x="945" y="1513"/>
                    </a:lnTo>
                    <a:lnTo>
                      <a:pt x="914" y="1491"/>
                    </a:lnTo>
                    <a:lnTo>
                      <a:pt x="906" y="1482"/>
                    </a:lnTo>
                    <a:lnTo>
                      <a:pt x="859" y="1464"/>
                    </a:lnTo>
                    <a:lnTo>
                      <a:pt x="820" y="1394"/>
                    </a:lnTo>
                    <a:lnTo>
                      <a:pt x="789" y="1381"/>
                    </a:lnTo>
                    <a:lnTo>
                      <a:pt x="761" y="1376"/>
                    </a:lnTo>
                    <a:lnTo>
                      <a:pt x="750" y="1372"/>
                    </a:lnTo>
                    <a:lnTo>
                      <a:pt x="727" y="1350"/>
                    </a:lnTo>
                    <a:lnTo>
                      <a:pt x="703" y="1326"/>
                    </a:lnTo>
                    <a:lnTo>
                      <a:pt x="613" y="1337"/>
                    </a:lnTo>
                    <a:lnTo>
                      <a:pt x="517" y="1251"/>
                    </a:lnTo>
                    <a:lnTo>
                      <a:pt x="517" y="1229"/>
                    </a:lnTo>
                    <a:lnTo>
                      <a:pt x="517" y="1194"/>
                    </a:lnTo>
                    <a:lnTo>
                      <a:pt x="420" y="1003"/>
                    </a:lnTo>
                    <a:lnTo>
                      <a:pt x="413" y="1027"/>
                    </a:lnTo>
                    <a:lnTo>
                      <a:pt x="411" y="1038"/>
                    </a:lnTo>
                    <a:lnTo>
                      <a:pt x="413" y="1056"/>
                    </a:lnTo>
                    <a:lnTo>
                      <a:pt x="431" y="1102"/>
                    </a:lnTo>
                    <a:lnTo>
                      <a:pt x="446" y="1146"/>
                    </a:lnTo>
                    <a:lnTo>
                      <a:pt x="462" y="1176"/>
                    </a:lnTo>
                    <a:lnTo>
                      <a:pt x="409" y="1135"/>
                    </a:lnTo>
                    <a:lnTo>
                      <a:pt x="409" y="1111"/>
                    </a:lnTo>
                    <a:lnTo>
                      <a:pt x="374" y="1078"/>
                    </a:lnTo>
                    <a:lnTo>
                      <a:pt x="383" y="1067"/>
                    </a:lnTo>
                    <a:lnTo>
                      <a:pt x="367" y="948"/>
                    </a:lnTo>
                    <a:lnTo>
                      <a:pt x="332" y="935"/>
                    </a:lnTo>
                    <a:lnTo>
                      <a:pt x="327" y="924"/>
                    </a:lnTo>
                    <a:lnTo>
                      <a:pt x="323" y="831"/>
                    </a:lnTo>
                    <a:lnTo>
                      <a:pt x="319" y="792"/>
                    </a:lnTo>
                    <a:lnTo>
                      <a:pt x="319" y="787"/>
                    </a:lnTo>
                    <a:lnTo>
                      <a:pt x="396" y="677"/>
                    </a:lnTo>
                    <a:lnTo>
                      <a:pt x="394" y="631"/>
                    </a:lnTo>
                    <a:lnTo>
                      <a:pt x="411" y="651"/>
                    </a:lnTo>
                    <a:lnTo>
                      <a:pt x="416" y="660"/>
                    </a:lnTo>
                    <a:lnTo>
                      <a:pt x="427" y="651"/>
                    </a:lnTo>
                    <a:lnTo>
                      <a:pt x="435" y="633"/>
                    </a:lnTo>
                    <a:lnTo>
                      <a:pt x="429" y="618"/>
                    </a:lnTo>
                    <a:lnTo>
                      <a:pt x="422" y="598"/>
                    </a:lnTo>
                    <a:lnTo>
                      <a:pt x="407" y="581"/>
                    </a:lnTo>
                    <a:lnTo>
                      <a:pt x="393" y="581"/>
                    </a:lnTo>
                    <a:lnTo>
                      <a:pt x="389" y="563"/>
                    </a:lnTo>
                    <a:lnTo>
                      <a:pt x="402" y="557"/>
                    </a:lnTo>
                    <a:lnTo>
                      <a:pt x="404" y="499"/>
                    </a:lnTo>
                    <a:lnTo>
                      <a:pt x="411" y="489"/>
                    </a:lnTo>
                    <a:lnTo>
                      <a:pt x="393" y="407"/>
                    </a:lnTo>
                    <a:lnTo>
                      <a:pt x="358" y="414"/>
                    </a:lnTo>
                    <a:lnTo>
                      <a:pt x="251" y="361"/>
                    </a:lnTo>
                    <a:lnTo>
                      <a:pt x="248" y="372"/>
                    </a:lnTo>
                    <a:lnTo>
                      <a:pt x="229" y="389"/>
                    </a:lnTo>
                    <a:lnTo>
                      <a:pt x="205" y="398"/>
                    </a:lnTo>
                    <a:lnTo>
                      <a:pt x="185" y="403"/>
                    </a:lnTo>
                    <a:lnTo>
                      <a:pt x="161" y="411"/>
                    </a:lnTo>
                    <a:lnTo>
                      <a:pt x="161" y="398"/>
                    </a:lnTo>
                    <a:lnTo>
                      <a:pt x="165" y="389"/>
                    </a:lnTo>
                    <a:lnTo>
                      <a:pt x="205" y="367"/>
                    </a:lnTo>
                    <a:lnTo>
                      <a:pt x="185" y="367"/>
                    </a:lnTo>
                    <a:lnTo>
                      <a:pt x="174" y="374"/>
                    </a:lnTo>
                    <a:lnTo>
                      <a:pt x="161" y="387"/>
                    </a:lnTo>
                    <a:lnTo>
                      <a:pt x="117" y="407"/>
                    </a:lnTo>
                    <a:lnTo>
                      <a:pt x="114" y="422"/>
                    </a:lnTo>
                    <a:lnTo>
                      <a:pt x="108" y="438"/>
                    </a:lnTo>
                    <a:lnTo>
                      <a:pt x="88" y="445"/>
                    </a:lnTo>
                    <a:lnTo>
                      <a:pt x="70" y="445"/>
                    </a:lnTo>
                    <a:lnTo>
                      <a:pt x="86" y="442"/>
                    </a:lnTo>
                    <a:lnTo>
                      <a:pt x="97" y="436"/>
                    </a:lnTo>
                    <a:lnTo>
                      <a:pt x="108" y="425"/>
                    </a:lnTo>
                    <a:lnTo>
                      <a:pt x="108" y="414"/>
                    </a:lnTo>
                    <a:lnTo>
                      <a:pt x="0" y="475"/>
                    </a:lnTo>
                    <a:lnTo>
                      <a:pt x="0" y="352"/>
                    </a:lnTo>
                    <a:lnTo>
                      <a:pt x="37" y="337"/>
                    </a:lnTo>
                    <a:lnTo>
                      <a:pt x="84" y="335"/>
                    </a:lnTo>
                    <a:lnTo>
                      <a:pt x="108" y="301"/>
                    </a:lnTo>
                    <a:lnTo>
                      <a:pt x="90" y="306"/>
                    </a:lnTo>
                    <a:lnTo>
                      <a:pt x="72" y="306"/>
                    </a:lnTo>
                    <a:lnTo>
                      <a:pt x="61" y="299"/>
                    </a:lnTo>
                    <a:lnTo>
                      <a:pt x="62" y="279"/>
                    </a:lnTo>
                    <a:lnTo>
                      <a:pt x="90" y="275"/>
                    </a:lnTo>
                    <a:lnTo>
                      <a:pt x="105" y="268"/>
                    </a:lnTo>
                    <a:lnTo>
                      <a:pt x="112" y="266"/>
                    </a:lnTo>
                    <a:lnTo>
                      <a:pt x="114" y="275"/>
                    </a:lnTo>
                    <a:lnTo>
                      <a:pt x="132" y="275"/>
                    </a:lnTo>
                    <a:lnTo>
                      <a:pt x="141" y="266"/>
                    </a:lnTo>
                    <a:lnTo>
                      <a:pt x="154" y="268"/>
                    </a:lnTo>
                    <a:lnTo>
                      <a:pt x="143" y="258"/>
                    </a:lnTo>
                    <a:lnTo>
                      <a:pt x="149" y="227"/>
                    </a:lnTo>
                    <a:lnTo>
                      <a:pt x="297" y="185"/>
                    </a:lnTo>
                    <a:lnTo>
                      <a:pt x="607" y="220"/>
                    </a:lnTo>
                    <a:lnTo>
                      <a:pt x="745" y="211"/>
                    </a:lnTo>
                    <a:lnTo>
                      <a:pt x="926" y="258"/>
                    </a:lnTo>
                    <a:lnTo>
                      <a:pt x="980" y="227"/>
                    </a:lnTo>
                    <a:lnTo>
                      <a:pt x="996" y="227"/>
                    </a:lnTo>
                    <a:lnTo>
                      <a:pt x="996" y="240"/>
                    </a:lnTo>
                    <a:lnTo>
                      <a:pt x="996" y="247"/>
                    </a:lnTo>
                    <a:lnTo>
                      <a:pt x="1093" y="249"/>
                    </a:lnTo>
                    <a:lnTo>
                      <a:pt x="1093" y="233"/>
                    </a:lnTo>
                    <a:lnTo>
                      <a:pt x="1106" y="220"/>
                    </a:lnTo>
                    <a:lnTo>
                      <a:pt x="1125" y="214"/>
                    </a:lnTo>
                    <a:lnTo>
                      <a:pt x="1147" y="238"/>
                    </a:lnTo>
                    <a:lnTo>
                      <a:pt x="1161" y="201"/>
                    </a:lnTo>
                    <a:lnTo>
                      <a:pt x="1128" y="190"/>
                    </a:lnTo>
                    <a:lnTo>
                      <a:pt x="1114" y="178"/>
                    </a:lnTo>
                    <a:lnTo>
                      <a:pt x="1110" y="172"/>
                    </a:lnTo>
                    <a:lnTo>
                      <a:pt x="1103" y="156"/>
                    </a:lnTo>
                    <a:lnTo>
                      <a:pt x="1156" y="135"/>
                    </a:lnTo>
                    <a:lnTo>
                      <a:pt x="1147" y="117"/>
                    </a:lnTo>
                    <a:lnTo>
                      <a:pt x="1141" y="104"/>
                    </a:lnTo>
                    <a:lnTo>
                      <a:pt x="1147" y="75"/>
                    </a:lnTo>
                    <a:lnTo>
                      <a:pt x="1044" y="82"/>
                    </a:lnTo>
                    <a:lnTo>
                      <a:pt x="1000" y="108"/>
                    </a:lnTo>
                    <a:lnTo>
                      <a:pt x="1114" y="121"/>
                    </a:lnTo>
                    <a:lnTo>
                      <a:pt x="1009" y="139"/>
                    </a:lnTo>
                    <a:lnTo>
                      <a:pt x="899" y="108"/>
                    </a:lnTo>
                    <a:lnTo>
                      <a:pt x="985" y="64"/>
                    </a:lnTo>
                    <a:lnTo>
                      <a:pt x="1714" y="0"/>
                    </a:lnTo>
                    <a:lnTo>
                      <a:pt x="1858" y="29"/>
                    </a:lnTo>
                    <a:lnTo>
                      <a:pt x="1985" y="3"/>
                    </a:lnTo>
                    <a:lnTo>
                      <a:pt x="2165" y="3"/>
                    </a:lnTo>
                    <a:lnTo>
                      <a:pt x="2293" y="2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a:off x="1292400" y="1535040"/>
                <a:ext cx="466200" cy="142920"/>
              </a:xfrm>
              <a:custGeom>
                <a:avLst/>
                <a:gdLst/>
                <a:ahLst/>
                <a:rect l="l" t="t" r="r" b="b"/>
                <a:pathLst>
                  <a:path w="284" h="90">
                    <a:moveTo>
                      <a:pt x="193" y="86"/>
                    </a:moveTo>
                    <a:lnTo>
                      <a:pt x="95" y="90"/>
                    </a:lnTo>
                    <a:lnTo>
                      <a:pt x="70" y="37"/>
                    </a:lnTo>
                    <a:lnTo>
                      <a:pt x="0" y="37"/>
                    </a:lnTo>
                    <a:lnTo>
                      <a:pt x="42" y="0"/>
                    </a:lnTo>
                    <a:lnTo>
                      <a:pt x="253" y="7"/>
                    </a:lnTo>
                    <a:lnTo>
                      <a:pt x="284" y="62"/>
                    </a:lnTo>
                    <a:lnTo>
                      <a:pt x="283" y="75"/>
                    </a:lnTo>
                    <a:lnTo>
                      <a:pt x="273" y="81"/>
                    </a:lnTo>
                    <a:lnTo>
                      <a:pt x="257" y="79"/>
                    </a:lnTo>
                    <a:lnTo>
                      <a:pt x="237" y="71"/>
                    </a:lnTo>
                    <a:lnTo>
                      <a:pt x="209" y="86"/>
                    </a:lnTo>
                    <a:lnTo>
                      <a:pt x="193" y="9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9" name=""/>
              <p:cNvSpPr/>
              <p:nvPr/>
            </p:nvSpPr>
            <p:spPr>
              <a:xfrm>
                <a:off x="1292400" y="1535040"/>
                <a:ext cx="466200" cy="142920"/>
              </a:xfrm>
              <a:custGeom>
                <a:avLst/>
                <a:gdLst/>
                <a:ahLst/>
                <a:rect l="l" t="t" r="r" b="b"/>
                <a:pathLst>
                  <a:path w="284" h="90">
                    <a:moveTo>
                      <a:pt x="193" y="86"/>
                    </a:moveTo>
                    <a:lnTo>
                      <a:pt x="95" y="90"/>
                    </a:lnTo>
                    <a:lnTo>
                      <a:pt x="70" y="37"/>
                    </a:lnTo>
                    <a:lnTo>
                      <a:pt x="0" y="37"/>
                    </a:lnTo>
                    <a:lnTo>
                      <a:pt x="42" y="0"/>
                    </a:lnTo>
                    <a:lnTo>
                      <a:pt x="253" y="7"/>
                    </a:lnTo>
                    <a:lnTo>
                      <a:pt x="284" y="62"/>
                    </a:lnTo>
                    <a:lnTo>
                      <a:pt x="283" y="75"/>
                    </a:lnTo>
                    <a:lnTo>
                      <a:pt x="273" y="81"/>
                    </a:lnTo>
                    <a:lnTo>
                      <a:pt x="257" y="79"/>
                    </a:lnTo>
                    <a:lnTo>
                      <a:pt x="237" y="71"/>
                    </a:lnTo>
                    <a:lnTo>
                      <a:pt x="209" y="86"/>
                    </a:lnTo>
                    <a:lnTo>
                      <a:pt x="193" y="9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a:off x="1964520" y="1441440"/>
                <a:ext cx="175680" cy="257040"/>
              </a:xfrm>
              <a:custGeom>
                <a:avLst/>
                <a:gdLst/>
                <a:ahLst/>
                <a:rect l="l" t="t" r="r" b="b"/>
                <a:pathLst>
                  <a:path w="107" h="162">
                    <a:moveTo>
                      <a:pt x="59" y="0"/>
                    </a:moveTo>
                    <a:lnTo>
                      <a:pt x="24" y="0"/>
                    </a:lnTo>
                    <a:lnTo>
                      <a:pt x="7" y="41"/>
                    </a:lnTo>
                    <a:lnTo>
                      <a:pt x="52" y="30"/>
                    </a:lnTo>
                    <a:lnTo>
                      <a:pt x="72" y="70"/>
                    </a:lnTo>
                    <a:lnTo>
                      <a:pt x="59" y="83"/>
                    </a:lnTo>
                    <a:lnTo>
                      <a:pt x="0" y="105"/>
                    </a:lnTo>
                    <a:lnTo>
                      <a:pt x="26" y="158"/>
                    </a:lnTo>
                    <a:lnTo>
                      <a:pt x="64" y="162"/>
                    </a:lnTo>
                    <a:lnTo>
                      <a:pt x="97" y="118"/>
                    </a:lnTo>
                    <a:lnTo>
                      <a:pt x="77" y="94"/>
                    </a:lnTo>
                    <a:lnTo>
                      <a:pt x="107" y="53"/>
                    </a:lnTo>
                    <a:lnTo>
                      <a:pt x="96" y="53"/>
                    </a:lnTo>
                    <a:lnTo>
                      <a:pt x="77" y="17"/>
                    </a:lnTo>
                    <a:lnTo>
                      <a:pt x="55" y="26"/>
                    </a:lnTo>
                    <a:lnTo>
                      <a:pt x="59"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a:off x="1964520" y="1441440"/>
                <a:ext cx="175680" cy="257040"/>
              </a:xfrm>
              <a:custGeom>
                <a:avLst/>
                <a:gdLst/>
                <a:ahLst/>
                <a:rect l="l" t="t" r="r" b="b"/>
                <a:pathLst>
                  <a:path w="107" h="162">
                    <a:moveTo>
                      <a:pt x="59" y="0"/>
                    </a:moveTo>
                    <a:lnTo>
                      <a:pt x="24" y="0"/>
                    </a:lnTo>
                    <a:lnTo>
                      <a:pt x="7" y="41"/>
                    </a:lnTo>
                    <a:lnTo>
                      <a:pt x="52" y="30"/>
                    </a:lnTo>
                    <a:lnTo>
                      <a:pt x="72" y="70"/>
                    </a:lnTo>
                    <a:lnTo>
                      <a:pt x="59" y="83"/>
                    </a:lnTo>
                    <a:lnTo>
                      <a:pt x="0" y="105"/>
                    </a:lnTo>
                    <a:lnTo>
                      <a:pt x="26" y="158"/>
                    </a:lnTo>
                    <a:lnTo>
                      <a:pt x="64" y="162"/>
                    </a:lnTo>
                    <a:lnTo>
                      <a:pt x="97" y="118"/>
                    </a:lnTo>
                    <a:lnTo>
                      <a:pt x="77" y="94"/>
                    </a:lnTo>
                    <a:lnTo>
                      <a:pt x="107" y="53"/>
                    </a:lnTo>
                    <a:lnTo>
                      <a:pt x="96" y="53"/>
                    </a:lnTo>
                    <a:lnTo>
                      <a:pt x="77" y="17"/>
                    </a:lnTo>
                    <a:lnTo>
                      <a:pt x="55" y="26"/>
                    </a:lnTo>
                    <a:lnTo>
                      <a:pt x="59"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2" name=""/>
              <p:cNvSpPr/>
              <p:nvPr/>
            </p:nvSpPr>
            <p:spPr>
              <a:xfrm>
                <a:off x="3448080" y="1747800"/>
                <a:ext cx="255960" cy="90360"/>
              </a:xfrm>
              <a:custGeom>
                <a:avLst/>
                <a:gdLst/>
                <a:ahLst/>
                <a:rect l="l" t="t" r="r" b="b"/>
                <a:pathLst>
                  <a:path w="156" h="57">
                    <a:moveTo>
                      <a:pt x="47" y="7"/>
                    </a:moveTo>
                    <a:lnTo>
                      <a:pt x="141" y="4"/>
                    </a:lnTo>
                    <a:lnTo>
                      <a:pt x="156" y="18"/>
                    </a:lnTo>
                    <a:lnTo>
                      <a:pt x="148" y="42"/>
                    </a:lnTo>
                    <a:lnTo>
                      <a:pt x="106" y="48"/>
                    </a:lnTo>
                    <a:lnTo>
                      <a:pt x="62" y="57"/>
                    </a:lnTo>
                    <a:lnTo>
                      <a:pt x="46" y="57"/>
                    </a:lnTo>
                    <a:lnTo>
                      <a:pt x="13" y="51"/>
                    </a:lnTo>
                    <a:lnTo>
                      <a:pt x="0" y="27"/>
                    </a:lnTo>
                    <a:lnTo>
                      <a:pt x="9" y="27"/>
                    </a:lnTo>
                    <a:lnTo>
                      <a:pt x="18" y="18"/>
                    </a:lnTo>
                    <a:lnTo>
                      <a:pt x="18" y="4"/>
                    </a:lnTo>
                    <a:lnTo>
                      <a:pt x="36" y="0"/>
                    </a:lnTo>
                    <a:lnTo>
                      <a:pt x="47" y="7"/>
                    </a:lnTo>
                  </a:path>
                </a:pathLst>
              </a:custGeom>
              <a:solidFill>
                <a:srgbClr val="000080">
                  <a:alpha val="50000"/>
                </a:srgbClr>
              </a:solidFill>
              <a:ln w="0">
                <a:solidFill>
                  <a:srgbClr val="0000ff"/>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023" name=""/>
              <p:cNvSpPr/>
              <p:nvPr/>
            </p:nvSpPr>
            <p:spPr>
              <a:xfrm>
                <a:off x="3448080" y="1747800"/>
                <a:ext cx="255960" cy="90360"/>
              </a:xfrm>
              <a:custGeom>
                <a:avLst/>
                <a:gdLst/>
                <a:ahLst/>
                <a:rect l="l" t="t" r="r" b="b"/>
                <a:pathLst>
                  <a:path w="156" h="57">
                    <a:moveTo>
                      <a:pt x="47" y="7"/>
                    </a:moveTo>
                    <a:lnTo>
                      <a:pt x="141" y="4"/>
                    </a:lnTo>
                    <a:lnTo>
                      <a:pt x="156" y="18"/>
                    </a:lnTo>
                    <a:lnTo>
                      <a:pt x="148" y="42"/>
                    </a:lnTo>
                    <a:lnTo>
                      <a:pt x="106" y="48"/>
                    </a:lnTo>
                    <a:lnTo>
                      <a:pt x="62" y="57"/>
                    </a:lnTo>
                    <a:lnTo>
                      <a:pt x="46" y="57"/>
                    </a:lnTo>
                    <a:lnTo>
                      <a:pt x="13" y="51"/>
                    </a:lnTo>
                    <a:lnTo>
                      <a:pt x="0" y="27"/>
                    </a:lnTo>
                    <a:lnTo>
                      <a:pt x="9" y="27"/>
                    </a:lnTo>
                    <a:lnTo>
                      <a:pt x="18" y="18"/>
                    </a:lnTo>
                    <a:lnTo>
                      <a:pt x="18" y="4"/>
                    </a:lnTo>
                    <a:lnTo>
                      <a:pt x="36" y="0"/>
                    </a:lnTo>
                    <a:lnTo>
                      <a:pt x="47" y="7"/>
                    </a:lnTo>
                  </a:path>
                </a:pathLst>
              </a:custGeom>
              <a:solidFill>
                <a:srgbClr val="000080">
                  <a:alpha val="50000"/>
                </a:srgbClr>
              </a:solidFill>
              <a:ln w="0">
                <a:solidFill>
                  <a:srgbClr val="0000ff"/>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024" name=""/>
              <p:cNvSpPr/>
              <p:nvPr/>
            </p:nvSpPr>
            <p:spPr>
              <a:xfrm>
                <a:off x="3701160" y="1946160"/>
                <a:ext cx="4161240" cy="2038320"/>
              </a:xfrm>
              <a:custGeom>
                <a:avLst/>
                <a:gdLst/>
                <a:ahLst/>
                <a:rect l="l" t="t" r="r" b="b"/>
                <a:pathLst>
                  <a:path w="2533" h="1284">
                    <a:moveTo>
                      <a:pt x="442" y="5"/>
                    </a:moveTo>
                    <a:lnTo>
                      <a:pt x="477" y="5"/>
                    </a:lnTo>
                    <a:lnTo>
                      <a:pt x="512" y="3"/>
                    </a:lnTo>
                    <a:lnTo>
                      <a:pt x="530" y="22"/>
                    </a:lnTo>
                    <a:lnTo>
                      <a:pt x="581" y="1"/>
                    </a:lnTo>
                    <a:lnTo>
                      <a:pt x="602" y="0"/>
                    </a:lnTo>
                    <a:lnTo>
                      <a:pt x="570" y="14"/>
                    </a:lnTo>
                    <a:lnTo>
                      <a:pt x="550" y="45"/>
                    </a:lnTo>
                    <a:lnTo>
                      <a:pt x="547" y="75"/>
                    </a:lnTo>
                    <a:lnTo>
                      <a:pt x="512" y="45"/>
                    </a:lnTo>
                    <a:lnTo>
                      <a:pt x="508" y="73"/>
                    </a:lnTo>
                    <a:lnTo>
                      <a:pt x="515" y="101"/>
                    </a:lnTo>
                    <a:lnTo>
                      <a:pt x="521" y="108"/>
                    </a:lnTo>
                    <a:lnTo>
                      <a:pt x="523" y="108"/>
                    </a:lnTo>
                    <a:lnTo>
                      <a:pt x="394" y="121"/>
                    </a:lnTo>
                    <a:lnTo>
                      <a:pt x="361" y="121"/>
                    </a:lnTo>
                    <a:lnTo>
                      <a:pt x="328" y="126"/>
                    </a:lnTo>
                    <a:lnTo>
                      <a:pt x="317" y="121"/>
                    </a:lnTo>
                    <a:lnTo>
                      <a:pt x="297" y="126"/>
                    </a:lnTo>
                    <a:lnTo>
                      <a:pt x="277" y="135"/>
                    </a:lnTo>
                    <a:lnTo>
                      <a:pt x="260" y="137"/>
                    </a:lnTo>
                    <a:lnTo>
                      <a:pt x="246" y="143"/>
                    </a:lnTo>
                    <a:lnTo>
                      <a:pt x="207" y="187"/>
                    </a:lnTo>
                    <a:lnTo>
                      <a:pt x="95" y="242"/>
                    </a:lnTo>
                    <a:lnTo>
                      <a:pt x="139" y="278"/>
                    </a:lnTo>
                    <a:lnTo>
                      <a:pt x="137" y="350"/>
                    </a:lnTo>
                    <a:lnTo>
                      <a:pt x="18" y="328"/>
                    </a:lnTo>
                    <a:lnTo>
                      <a:pt x="13" y="357"/>
                    </a:lnTo>
                    <a:lnTo>
                      <a:pt x="7" y="392"/>
                    </a:lnTo>
                    <a:lnTo>
                      <a:pt x="0" y="447"/>
                    </a:lnTo>
                    <a:lnTo>
                      <a:pt x="48" y="497"/>
                    </a:lnTo>
                    <a:lnTo>
                      <a:pt x="62" y="510"/>
                    </a:lnTo>
                    <a:lnTo>
                      <a:pt x="148" y="477"/>
                    </a:lnTo>
                    <a:lnTo>
                      <a:pt x="193" y="392"/>
                    </a:lnTo>
                    <a:lnTo>
                      <a:pt x="218" y="346"/>
                    </a:lnTo>
                    <a:lnTo>
                      <a:pt x="275" y="346"/>
                    </a:lnTo>
                    <a:lnTo>
                      <a:pt x="281" y="341"/>
                    </a:lnTo>
                    <a:lnTo>
                      <a:pt x="281" y="324"/>
                    </a:lnTo>
                    <a:lnTo>
                      <a:pt x="308" y="328"/>
                    </a:lnTo>
                    <a:lnTo>
                      <a:pt x="392" y="392"/>
                    </a:lnTo>
                    <a:lnTo>
                      <a:pt x="437" y="427"/>
                    </a:lnTo>
                    <a:lnTo>
                      <a:pt x="438" y="444"/>
                    </a:lnTo>
                    <a:lnTo>
                      <a:pt x="427" y="464"/>
                    </a:lnTo>
                    <a:lnTo>
                      <a:pt x="442" y="473"/>
                    </a:lnTo>
                    <a:lnTo>
                      <a:pt x="466" y="453"/>
                    </a:lnTo>
                    <a:lnTo>
                      <a:pt x="466" y="422"/>
                    </a:lnTo>
                    <a:lnTo>
                      <a:pt x="486" y="416"/>
                    </a:lnTo>
                    <a:lnTo>
                      <a:pt x="460" y="392"/>
                    </a:lnTo>
                    <a:lnTo>
                      <a:pt x="372" y="321"/>
                    </a:lnTo>
                    <a:lnTo>
                      <a:pt x="415" y="311"/>
                    </a:lnTo>
                    <a:lnTo>
                      <a:pt x="442" y="348"/>
                    </a:lnTo>
                    <a:lnTo>
                      <a:pt x="484" y="374"/>
                    </a:lnTo>
                    <a:lnTo>
                      <a:pt x="495" y="392"/>
                    </a:lnTo>
                    <a:lnTo>
                      <a:pt x="504" y="412"/>
                    </a:lnTo>
                    <a:lnTo>
                      <a:pt x="537" y="444"/>
                    </a:lnTo>
                    <a:lnTo>
                      <a:pt x="556" y="500"/>
                    </a:lnTo>
                    <a:lnTo>
                      <a:pt x="585" y="521"/>
                    </a:lnTo>
                    <a:lnTo>
                      <a:pt x="581" y="486"/>
                    </a:lnTo>
                    <a:lnTo>
                      <a:pt x="603" y="469"/>
                    </a:lnTo>
                    <a:lnTo>
                      <a:pt x="576" y="416"/>
                    </a:lnTo>
                    <a:lnTo>
                      <a:pt x="609" y="405"/>
                    </a:lnTo>
                    <a:lnTo>
                      <a:pt x="642" y="409"/>
                    </a:lnTo>
                    <a:lnTo>
                      <a:pt x="635" y="442"/>
                    </a:lnTo>
                    <a:lnTo>
                      <a:pt x="638" y="473"/>
                    </a:lnTo>
                    <a:lnTo>
                      <a:pt x="657" y="499"/>
                    </a:lnTo>
                    <a:lnTo>
                      <a:pt x="660" y="502"/>
                    </a:lnTo>
                    <a:lnTo>
                      <a:pt x="659" y="504"/>
                    </a:lnTo>
                    <a:lnTo>
                      <a:pt x="805" y="497"/>
                    </a:lnTo>
                    <a:lnTo>
                      <a:pt x="805" y="609"/>
                    </a:lnTo>
                    <a:lnTo>
                      <a:pt x="816" y="627"/>
                    </a:lnTo>
                    <a:lnTo>
                      <a:pt x="833" y="647"/>
                    </a:lnTo>
                    <a:lnTo>
                      <a:pt x="827" y="678"/>
                    </a:lnTo>
                    <a:lnTo>
                      <a:pt x="880" y="776"/>
                    </a:lnTo>
                    <a:lnTo>
                      <a:pt x="908" y="798"/>
                    </a:lnTo>
                    <a:lnTo>
                      <a:pt x="915" y="840"/>
                    </a:lnTo>
                    <a:lnTo>
                      <a:pt x="948" y="897"/>
                    </a:lnTo>
                    <a:lnTo>
                      <a:pt x="983" y="939"/>
                    </a:lnTo>
                    <a:lnTo>
                      <a:pt x="983" y="968"/>
                    </a:lnTo>
                    <a:lnTo>
                      <a:pt x="1011" y="1016"/>
                    </a:lnTo>
                    <a:lnTo>
                      <a:pt x="1163" y="965"/>
                    </a:lnTo>
                    <a:lnTo>
                      <a:pt x="1187" y="944"/>
                    </a:lnTo>
                    <a:lnTo>
                      <a:pt x="1209" y="924"/>
                    </a:lnTo>
                    <a:lnTo>
                      <a:pt x="1295" y="869"/>
                    </a:lnTo>
                    <a:lnTo>
                      <a:pt x="1301" y="829"/>
                    </a:lnTo>
                    <a:lnTo>
                      <a:pt x="1306" y="809"/>
                    </a:lnTo>
                    <a:lnTo>
                      <a:pt x="1247" y="772"/>
                    </a:lnTo>
                    <a:lnTo>
                      <a:pt x="1218" y="732"/>
                    </a:lnTo>
                    <a:lnTo>
                      <a:pt x="1181" y="770"/>
                    </a:lnTo>
                    <a:lnTo>
                      <a:pt x="1135" y="755"/>
                    </a:lnTo>
                    <a:lnTo>
                      <a:pt x="1068" y="667"/>
                    </a:lnTo>
                    <a:lnTo>
                      <a:pt x="1066" y="627"/>
                    </a:lnTo>
                    <a:lnTo>
                      <a:pt x="1178" y="724"/>
                    </a:lnTo>
                    <a:lnTo>
                      <a:pt x="1235" y="710"/>
                    </a:lnTo>
                    <a:lnTo>
                      <a:pt x="1253" y="743"/>
                    </a:lnTo>
                    <a:lnTo>
                      <a:pt x="1354" y="743"/>
                    </a:lnTo>
                    <a:lnTo>
                      <a:pt x="1409" y="743"/>
                    </a:lnTo>
                    <a:lnTo>
                      <a:pt x="1446" y="787"/>
                    </a:lnTo>
                    <a:lnTo>
                      <a:pt x="1480" y="829"/>
                    </a:lnTo>
                    <a:lnTo>
                      <a:pt x="1501" y="849"/>
                    </a:lnTo>
                    <a:lnTo>
                      <a:pt x="1541" y="818"/>
                    </a:lnTo>
                    <a:lnTo>
                      <a:pt x="1561" y="946"/>
                    </a:lnTo>
                    <a:lnTo>
                      <a:pt x="1662" y="1120"/>
                    </a:lnTo>
                    <a:lnTo>
                      <a:pt x="1693" y="1091"/>
                    </a:lnTo>
                    <a:lnTo>
                      <a:pt x="1708" y="1053"/>
                    </a:lnTo>
                    <a:lnTo>
                      <a:pt x="1710" y="946"/>
                    </a:lnTo>
                    <a:lnTo>
                      <a:pt x="1886" y="805"/>
                    </a:lnTo>
                    <a:lnTo>
                      <a:pt x="1965" y="913"/>
                    </a:lnTo>
                    <a:lnTo>
                      <a:pt x="1952" y="959"/>
                    </a:lnTo>
                    <a:lnTo>
                      <a:pt x="2011" y="943"/>
                    </a:lnTo>
                    <a:lnTo>
                      <a:pt x="2055" y="999"/>
                    </a:lnTo>
                    <a:lnTo>
                      <a:pt x="2060" y="1126"/>
                    </a:lnTo>
                    <a:lnTo>
                      <a:pt x="2110" y="1181"/>
                    </a:lnTo>
                    <a:lnTo>
                      <a:pt x="2110" y="1210"/>
                    </a:lnTo>
                    <a:lnTo>
                      <a:pt x="2143" y="1249"/>
                    </a:lnTo>
                    <a:lnTo>
                      <a:pt x="2176" y="1284"/>
                    </a:lnTo>
                    <a:lnTo>
                      <a:pt x="2170" y="1249"/>
                    </a:lnTo>
                    <a:lnTo>
                      <a:pt x="2167" y="1225"/>
                    </a:lnTo>
                    <a:lnTo>
                      <a:pt x="2170" y="1192"/>
                    </a:lnTo>
                    <a:lnTo>
                      <a:pt x="2100" y="1124"/>
                    </a:lnTo>
                    <a:lnTo>
                      <a:pt x="2089" y="1016"/>
                    </a:lnTo>
                    <a:lnTo>
                      <a:pt x="2134" y="1049"/>
                    </a:lnTo>
                    <a:lnTo>
                      <a:pt x="2141" y="1069"/>
                    </a:lnTo>
                    <a:lnTo>
                      <a:pt x="2156" y="1082"/>
                    </a:lnTo>
                    <a:lnTo>
                      <a:pt x="2174" y="1089"/>
                    </a:lnTo>
                    <a:lnTo>
                      <a:pt x="2190" y="1089"/>
                    </a:lnTo>
                    <a:lnTo>
                      <a:pt x="2190" y="1117"/>
                    </a:lnTo>
                    <a:lnTo>
                      <a:pt x="2260" y="1082"/>
                    </a:lnTo>
                    <a:lnTo>
                      <a:pt x="2238" y="959"/>
                    </a:lnTo>
                    <a:lnTo>
                      <a:pt x="2190" y="915"/>
                    </a:lnTo>
                    <a:lnTo>
                      <a:pt x="2190" y="847"/>
                    </a:lnTo>
                    <a:lnTo>
                      <a:pt x="2212" y="829"/>
                    </a:lnTo>
                    <a:lnTo>
                      <a:pt x="2236" y="838"/>
                    </a:lnTo>
                    <a:lnTo>
                      <a:pt x="2245" y="862"/>
                    </a:lnTo>
                    <a:lnTo>
                      <a:pt x="2218" y="882"/>
                    </a:lnTo>
                    <a:lnTo>
                      <a:pt x="2236" y="906"/>
                    </a:lnTo>
                    <a:lnTo>
                      <a:pt x="2255" y="878"/>
                    </a:lnTo>
                    <a:lnTo>
                      <a:pt x="2251" y="867"/>
                    </a:lnTo>
                    <a:lnTo>
                      <a:pt x="2262" y="829"/>
                    </a:lnTo>
                    <a:lnTo>
                      <a:pt x="2262" y="820"/>
                    </a:lnTo>
                    <a:lnTo>
                      <a:pt x="2409" y="754"/>
                    </a:lnTo>
                    <a:lnTo>
                      <a:pt x="2429" y="671"/>
                    </a:lnTo>
                    <a:lnTo>
                      <a:pt x="2333" y="530"/>
                    </a:lnTo>
                    <a:lnTo>
                      <a:pt x="2363" y="478"/>
                    </a:lnTo>
                    <a:lnTo>
                      <a:pt x="2306" y="491"/>
                    </a:lnTo>
                    <a:lnTo>
                      <a:pt x="2260" y="458"/>
                    </a:lnTo>
                    <a:lnTo>
                      <a:pt x="2300" y="400"/>
                    </a:lnTo>
                    <a:lnTo>
                      <a:pt x="2319" y="409"/>
                    </a:lnTo>
                    <a:lnTo>
                      <a:pt x="2315" y="455"/>
                    </a:lnTo>
                    <a:lnTo>
                      <a:pt x="2332" y="458"/>
                    </a:lnTo>
                    <a:lnTo>
                      <a:pt x="2370" y="442"/>
                    </a:lnTo>
                    <a:lnTo>
                      <a:pt x="2394" y="477"/>
                    </a:lnTo>
                    <a:lnTo>
                      <a:pt x="2414" y="489"/>
                    </a:lnTo>
                    <a:lnTo>
                      <a:pt x="2456" y="546"/>
                    </a:lnTo>
                    <a:lnTo>
                      <a:pt x="2510" y="535"/>
                    </a:lnTo>
                    <a:lnTo>
                      <a:pt x="2434" y="449"/>
                    </a:lnTo>
                    <a:lnTo>
                      <a:pt x="2438" y="363"/>
                    </a:lnTo>
                    <a:lnTo>
                      <a:pt x="2522" y="348"/>
                    </a:lnTo>
                    <a:lnTo>
                      <a:pt x="2533" y="271"/>
                    </a:lnTo>
                    <a:lnTo>
                      <a:pt x="2478" y="17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5" name=""/>
              <p:cNvSpPr/>
              <p:nvPr/>
            </p:nvSpPr>
            <p:spPr>
              <a:xfrm>
                <a:off x="3701160" y="1946160"/>
                <a:ext cx="4161240" cy="2038320"/>
              </a:xfrm>
              <a:custGeom>
                <a:avLst/>
                <a:gdLst/>
                <a:ahLst/>
                <a:rect l="l" t="t" r="r" b="b"/>
                <a:pathLst>
                  <a:path w="2533" h="1284">
                    <a:moveTo>
                      <a:pt x="442" y="5"/>
                    </a:moveTo>
                    <a:lnTo>
                      <a:pt x="477" y="5"/>
                    </a:lnTo>
                    <a:lnTo>
                      <a:pt x="512" y="3"/>
                    </a:lnTo>
                    <a:lnTo>
                      <a:pt x="530" y="22"/>
                    </a:lnTo>
                    <a:lnTo>
                      <a:pt x="581" y="1"/>
                    </a:lnTo>
                    <a:lnTo>
                      <a:pt x="602" y="0"/>
                    </a:lnTo>
                    <a:lnTo>
                      <a:pt x="570" y="14"/>
                    </a:lnTo>
                    <a:lnTo>
                      <a:pt x="550" y="45"/>
                    </a:lnTo>
                    <a:lnTo>
                      <a:pt x="547" y="75"/>
                    </a:lnTo>
                    <a:lnTo>
                      <a:pt x="512" y="45"/>
                    </a:lnTo>
                    <a:lnTo>
                      <a:pt x="508" y="73"/>
                    </a:lnTo>
                    <a:lnTo>
                      <a:pt x="515" y="101"/>
                    </a:lnTo>
                    <a:lnTo>
                      <a:pt x="521" y="108"/>
                    </a:lnTo>
                    <a:lnTo>
                      <a:pt x="523" y="108"/>
                    </a:lnTo>
                    <a:lnTo>
                      <a:pt x="394" y="121"/>
                    </a:lnTo>
                    <a:lnTo>
                      <a:pt x="361" y="121"/>
                    </a:lnTo>
                    <a:lnTo>
                      <a:pt x="328" y="126"/>
                    </a:lnTo>
                    <a:lnTo>
                      <a:pt x="317" y="121"/>
                    </a:lnTo>
                    <a:lnTo>
                      <a:pt x="297" y="126"/>
                    </a:lnTo>
                    <a:lnTo>
                      <a:pt x="277" y="135"/>
                    </a:lnTo>
                    <a:lnTo>
                      <a:pt x="260" y="137"/>
                    </a:lnTo>
                    <a:lnTo>
                      <a:pt x="246" y="143"/>
                    </a:lnTo>
                    <a:lnTo>
                      <a:pt x="207" y="187"/>
                    </a:lnTo>
                    <a:lnTo>
                      <a:pt x="95" y="242"/>
                    </a:lnTo>
                    <a:lnTo>
                      <a:pt x="139" y="278"/>
                    </a:lnTo>
                    <a:lnTo>
                      <a:pt x="137" y="350"/>
                    </a:lnTo>
                    <a:lnTo>
                      <a:pt x="18" y="328"/>
                    </a:lnTo>
                    <a:lnTo>
                      <a:pt x="13" y="357"/>
                    </a:lnTo>
                    <a:lnTo>
                      <a:pt x="7" y="392"/>
                    </a:lnTo>
                    <a:lnTo>
                      <a:pt x="0" y="447"/>
                    </a:lnTo>
                    <a:lnTo>
                      <a:pt x="48" y="497"/>
                    </a:lnTo>
                    <a:lnTo>
                      <a:pt x="62" y="510"/>
                    </a:lnTo>
                    <a:lnTo>
                      <a:pt x="148" y="477"/>
                    </a:lnTo>
                    <a:lnTo>
                      <a:pt x="193" y="392"/>
                    </a:lnTo>
                    <a:lnTo>
                      <a:pt x="218" y="346"/>
                    </a:lnTo>
                    <a:lnTo>
                      <a:pt x="275" y="346"/>
                    </a:lnTo>
                    <a:lnTo>
                      <a:pt x="281" y="341"/>
                    </a:lnTo>
                    <a:lnTo>
                      <a:pt x="281" y="324"/>
                    </a:lnTo>
                    <a:lnTo>
                      <a:pt x="308" y="328"/>
                    </a:lnTo>
                    <a:lnTo>
                      <a:pt x="392" y="392"/>
                    </a:lnTo>
                    <a:lnTo>
                      <a:pt x="437" y="427"/>
                    </a:lnTo>
                    <a:lnTo>
                      <a:pt x="438" y="444"/>
                    </a:lnTo>
                    <a:lnTo>
                      <a:pt x="427" y="464"/>
                    </a:lnTo>
                    <a:lnTo>
                      <a:pt x="442" y="473"/>
                    </a:lnTo>
                    <a:lnTo>
                      <a:pt x="466" y="453"/>
                    </a:lnTo>
                    <a:lnTo>
                      <a:pt x="466" y="422"/>
                    </a:lnTo>
                    <a:lnTo>
                      <a:pt x="486" y="416"/>
                    </a:lnTo>
                    <a:lnTo>
                      <a:pt x="460" y="392"/>
                    </a:lnTo>
                    <a:lnTo>
                      <a:pt x="372" y="321"/>
                    </a:lnTo>
                    <a:lnTo>
                      <a:pt x="415" y="311"/>
                    </a:lnTo>
                    <a:lnTo>
                      <a:pt x="442" y="348"/>
                    </a:lnTo>
                    <a:lnTo>
                      <a:pt x="484" y="374"/>
                    </a:lnTo>
                    <a:lnTo>
                      <a:pt x="495" y="392"/>
                    </a:lnTo>
                    <a:lnTo>
                      <a:pt x="504" y="412"/>
                    </a:lnTo>
                    <a:lnTo>
                      <a:pt x="537" y="444"/>
                    </a:lnTo>
                    <a:lnTo>
                      <a:pt x="556" y="500"/>
                    </a:lnTo>
                    <a:lnTo>
                      <a:pt x="585" y="521"/>
                    </a:lnTo>
                    <a:lnTo>
                      <a:pt x="581" y="486"/>
                    </a:lnTo>
                    <a:lnTo>
                      <a:pt x="603" y="469"/>
                    </a:lnTo>
                    <a:lnTo>
                      <a:pt x="576" y="416"/>
                    </a:lnTo>
                    <a:lnTo>
                      <a:pt x="609" y="405"/>
                    </a:lnTo>
                    <a:lnTo>
                      <a:pt x="642" y="409"/>
                    </a:lnTo>
                    <a:lnTo>
                      <a:pt x="635" y="442"/>
                    </a:lnTo>
                    <a:lnTo>
                      <a:pt x="638" y="473"/>
                    </a:lnTo>
                    <a:lnTo>
                      <a:pt x="657" y="499"/>
                    </a:lnTo>
                    <a:lnTo>
                      <a:pt x="660" y="502"/>
                    </a:lnTo>
                    <a:lnTo>
                      <a:pt x="659" y="504"/>
                    </a:lnTo>
                    <a:lnTo>
                      <a:pt x="805" y="497"/>
                    </a:lnTo>
                    <a:lnTo>
                      <a:pt x="805" y="609"/>
                    </a:lnTo>
                    <a:lnTo>
                      <a:pt x="816" y="627"/>
                    </a:lnTo>
                    <a:lnTo>
                      <a:pt x="833" y="647"/>
                    </a:lnTo>
                    <a:lnTo>
                      <a:pt x="827" y="678"/>
                    </a:lnTo>
                    <a:lnTo>
                      <a:pt x="880" y="776"/>
                    </a:lnTo>
                    <a:lnTo>
                      <a:pt x="908" y="798"/>
                    </a:lnTo>
                    <a:lnTo>
                      <a:pt x="915" y="840"/>
                    </a:lnTo>
                    <a:lnTo>
                      <a:pt x="948" y="897"/>
                    </a:lnTo>
                    <a:lnTo>
                      <a:pt x="983" y="939"/>
                    </a:lnTo>
                    <a:lnTo>
                      <a:pt x="983" y="968"/>
                    </a:lnTo>
                    <a:lnTo>
                      <a:pt x="1011" y="1016"/>
                    </a:lnTo>
                    <a:lnTo>
                      <a:pt x="1163" y="965"/>
                    </a:lnTo>
                    <a:lnTo>
                      <a:pt x="1187" y="944"/>
                    </a:lnTo>
                    <a:lnTo>
                      <a:pt x="1209" y="924"/>
                    </a:lnTo>
                    <a:lnTo>
                      <a:pt x="1295" y="869"/>
                    </a:lnTo>
                    <a:lnTo>
                      <a:pt x="1301" y="829"/>
                    </a:lnTo>
                    <a:lnTo>
                      <a:pt x="1306" y="809"/>
                    </a:lnTo>
                    <a:lnTo>
                      <a:pt x="1247" y="772"/>
                    </a:lnTo>
                    <a:lnTo>
                      <a:pt x="1218" y="732"/>
                    </a:lnTo>
                    <a:lnTo>
                      <a:pt x="1181" y="770"/>
                    </a:lnTo>
                    <a:lnTo>
                      <a:pt x="1135" y="755"/>
                    </a:lnTo>
                    <a:lnTo>
                      <a:pt x="1068" y="667"/>
                    </a:lnTo>
                    <a:lnTo>
                      <a:pt x="1066" y="627"/>
                    </a:lnTo>
                    <a:lnTo>
                      <a:pt x="1178" y="724"/>
                    </a:lnTo>
                    <a:lnTo>
                      <a:pt x="1235" y="710"/>
                    </a:lnTo>
                    <a:lnTo>
                      <a:pt x="1253" y="743"/>
                    </a:lnTo>
                    <a:lnTo>
                      <a:pt x="1354" y="743"/>
                    </a:lnTo>
                    <a:lnTo>
                      <a:pt x="1409" y="743"/>
                    </a:lnTo>
                    <a:lnTo>
                      <a:pt x="1446" y="787"/>
                    </a:lnTo>
                    <a:lnTo>
                      <a:pt x="1480" y="829"/>
                    </a:lnTo>
                    <a:lnTo>
                      <a:pt x="1501" y="849"/>
                    </a:lnTo>
                    <a:lnTo>
                      <a:pt x="1541" y="818"/>
                    </a:lnTo>
                    <a:lnTo>
                      <a:pt x="1561" y="946"/>
                    </a:lnTo>
                    <a:lnTo>
                      <a:pt x="1662" y="1120"/>
                    </a:lnTo>
                    <a:lnTo>
                      <a:pt x="1693" y="1091"/>
                    </a:lnTo>
                    <a:lnTo>
                      <a:pt x="1708" y="1053"/>
                    </a:lnTo>
                    <a:lnTo>
                      <a:pt x="1710" y="946"/>
                    </a:lnTo>
                    <a:lnTo>
                      <a:pt x="1886" y="805"/>
                    </a:lnTo>
                    <a:lnTo>
                      <a:pt x="1965" y="913"/>
                    </a:lnTo>
                    <a:lnTo>
                      <a:pt x="1952" y="959"/>
                    </a:lnTo>
                    <a:lnTo>
                      <a:pt x="2011" y="943"/>
                    </a:lnTo>
                    <a:lnTo>
                      <a:pt x="2055" y="999"/>
                    </a:lnTo>
                    <a:lnTo>
                      <a:pt x="2060" y="1126"/>
                    </a:lnTo>
                    <a:lnTo>
                      <a:pt x="2110" y="1181"/>
                    </a:lnTo>
                    <a:lnTo>
                      <a:pt x="2110" y="1210"/>
                    </a:lnTo>
                    <a:lnTo>
                      <a:pt x="2143" y="1249"/>
                    </a:lnTo>
                    <a:lnTo>
                      <a:pt x="2176" y="1284"/>
                    </a:lnTo>
                    <a:lnTo>
                      <a:pt x="2170" y="1249"/>
                    </a:lnTo>
                    <a:lnTo>
                      <a:pt x="2167" y="1225"/>
                    </a:lnTo>
                    <a:lnTo>
                      <a:pt x="2170" y="1192"/>
                    </a:lnTo>
                    <a:lnTo>
                      <a:pt x="2100" y="1124"/>
                    </a:lnTo>
                    <a:lnTo>
                      <a:pt x="2089" y="1016"/>
                    </a:lnTo>
                    <a:lnTo>
                      <a:pt x="2134" y="1049"/>
                    </a:lnTo>
                    <a:lnTo>
                      <a:pt x="2141" y="1069"/>
                    </a:lnTo>
                    <a:lnTo>
                      <a:pt x="2156" y="1082"/>
                    </a:lnTo>
                    <a:lnTo>
                      <a:pt x="2174" y="1089"/>
                    </a:lnTo>
                    <a:lnTo>
                      <a:pt x="2190" y="1089"/>
                    </a:lnTo>
                    <a:lnTo>
                      <a:pt x="2190" y="1117"/>
                    </a:lnTo>
                    <a:lnTo>
                      <a:pt x="2260" y="1082"/>
                    </a:lnTo>
                    <a:lnTo>
                      <a:pt x="2238" y="959"/>
                    </a:lnTo>
                    <a:lnTo>
                      <a:pt x="2190" y="915"/>
                    </a:lnTo>
                    <a:lnTo>
                      <a:pt x="2190" y="847"/>
                    </a:lnTo>
                    <a:lnTo>
                      <a:pt x="2212" y="829"/>
                    </a:lnTo>
                    <a:lnTo>
                      <a:pt x="2236" y="838"/>
                    </a:lnTo>
                    <a:lnTo>
                      <a:pt x="2245" y="862"/>
                    </a:lnTo>
                    <a:lnTo>
                      <a:pt x="2218" y="882"/>
                    </a:lnTo>
                    <a:lnTo>
                      <a:pt x="2236" y="906"/>
                    </a:lnTo>
                    <a:lnTo>
                      <a:pt x="2255" y="878"/>
                    </a:lnTo>
                    <a:lnTo>
                      <a:pt x="2251" y="867"/>
                    </a:lnTo>
                    <a:lnTo>
                      <a:pt x="2262" y="829"/>
                    </a:lnTo>
                    <a:lnTo>
                      <a:pt x="2262" y="820"/>
                    </a:lnTo>
                    <a:lnTo>
                      <a:pt x="2409" y="754"/>
                    </a:lnTo>
                    <a:lnTo>
                      <a:pt x="2429" y="671"/>
                    </a:lnTo>
                    <a:lnTo>
                      <a:pt x="2333" y="530"/>
                    </a:lnTo>
                    <a:lnTo>
                      <a:pt x="2363" y="478"/>
                    </a:lnTo>
                    <a:lnTo>
                      <a:pt x="2306" y="491"/>
                    </a:lnTo>
                    <a:lnTo>
                      <a:pt x="2260" y="458"/>
                    </a:lnTo>
                    <a:lnTo>
                      <a:pt x="2300" y="400"/>
                    </a:lnTo>
                    <a:lnTo>
                      <a:pt x="2319" y="409"/>
                    </a:lnTo>
                    <a:lnTo>
                      <a:pt x="2315" y="455"/>
                    </a:lnTo>
                    <a:lnTo>
                      <a:pt x="2332" y="458"/>
                    </a:lnTo>
                    <a:lnTo>
                      <a:pt x="2370" y="442"/>
                    </a:lnTo>
                    <a:lnTo>
                      <a:pt x="2394" y="477"/>
                    </a:lnTo>
                    <a:lnTo>
                      <a:pt x="2414" y="489"/>
                    </a:lnTo>
                    <a:lnTo>
                      <a:pt x="2456" y="546"/>
                    </a:lnTo>
                    <a:lnTo>
                      <a:pt x="2510" y="535"/>
                    </a:lnTo>
                    <a:lnTo>
                      <a:pt x="2434" y="449"/>
                    </a:lnTo>
                    <a:lnTo>
                      <a:pt x="2438" y="363"/>
                    </a:lnTo>
                    <a:lnTo>
                      <a:pt x="2522" y="348"/>
                    </a:lnTo>
                    <a:lnTo>
                      <a:pt x="2533" y="271"/>
                    </a:lnTo>
                    <a:lnTo>
                      <a:pt x="2478" y="17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a:off x="3477600" y="2743200"/>
                <a:ext cx="2127240" cy="2487600"/>
              </a:xfrm>
              <a:custGeom>
                <a:avLst/>
                <a:gdLst/>
                <a:ahLst/>
                <a:rect l="l" t="t" r="r" b="b"/>
                <a:pathLst>
                  <a:path w="1295" h="1567">
                    <a:moveTo>
                      <a:pt x="486" y="703"/>
                    </a:moveTo>
                    <a:lnTo>
                      <a:pt x="486" y="747"/>
                    </a:lnTo>
                    <a:lnTo>
                      <a:pt x="486" y="782"/>
                    </a:lnTo>
                    <a:lnTo>
                      <a:pt x="486" y="848"/>
                    </a:lnTo>
                    <a:lnTo>
                      <a:pt x="539" y="905"/>
                    </a:lnTo>
                    <a:lnTo>
                      <a:pt x="554" y="936"/>
                    </a:lnTo>
                    <a:lnTo>
                      <a:pt x="560" y="951"/>
                    </a:lnTo>
                    <a:lnTo>
                      <a:pt x="560" y="1081"/>
                    </a:lnTo>
                    <a:lnTo>
                      <a:pt x="525" y="1112"/>
                    </a:lnTo>
                    <a:lnTo>
                      <a:pt x="543" y="1180"/>
                    </a:lnTo>
                    <a:lnTo>
                      <a:pt x="549" y="1187"/>
                    </a:lnTo>
                    <a:lnTo>
                      <a:pt x="624" y="1459"/>
                    </a:lnTo>
                    <a:lnTo>
                      <a:pt x="659" y="1567"/>
                    </a:lnTo>
                    <a:lnTo>
                      <a:pt x="818" y="1556"/>
                    </a:lnTo>
                    <a:lnTo>
                      <a:pt x="932" y="1424"/>
                    </a:lnTo>
                    <a:lnTo>
                      <a:pt x="945" y="1402"/>
                    </a:lnTo>
                    <a:lnTo>
                      <a:pt x="945" y="1389"/>
                    </a:lnTo>
                    <a:lnTo>
                      <a:pt x="945" y="1356"/>
                    </a:lnTo>
                    <a:lnTo>
                      <a:pt x="991" y="1325"/>
                    </a:lnTo>
                    <a:lnTo>
                      <a:pt x="980" y="1222"/>
                    </a:lnTo>
                    <a:lnTo>
                      <a:pt x="1035" y="1180"/>
                    </a:lnTo>
                    <a:lnTo>
                      <a:pt x="1081" y="1143"/>
                    </a:lnTo>
                    <a:lnTo>
                      <a:pt x="1081" y="1037"/>
                    </a:lnTo>
                    <a:lnTo>
                      <a:pt x="1079" y="886"/>
                    </a:lnTo>
                    <a:lnTo>
                      <a:pt x="1138" y="817"/>
                    </a:lnTo>
                    <a:lnTo>
                      <a:pt x="1196" y="747"/>
                    </a:lnTo>
                    <a:lnTo>
                      <a:pt x="1220" y="719"/>
                    </a:lnTo>
                    <a:lnTo>
                      <a:pt x="1295" y="576"/>
                    </a:lnTo>
                    <a:lnTo>
                      <a:pt x="1295" y="540"/>
                    </a:lnTo>
                    <a:lnTo>
                      <a:pt x="1165" y="596"/>
                    </a:lnTo>
                    <a:lnTo>
                      <a:pt x="1031" y="411"/>
                    </a:lnTo>
                    <a:lnTo>
                      <a:pt x="998" y="351"/>
                    </a:lnTo>
                    <a:lnTo>
                      <a:pt x="996" y="329"/>
                    </a:lnTo>
                    <a:lnTo>
                      <a:pt x="991" y="308"/>
                    </a:lnTo>
                    <a:lnTo>
                      <a:pt x="980" y="297"/>
                    </a:lnTo>
                    <a:lnTo>
                      <a:pt x="961" y="288"/>
                    </a:lnTo>
                    <a:lnTo>
                      <a:pt x="914" y="186"/>
                    </a:lnTo>
                    <a:lnTo>
                      <a:pt x="941" y="195"/>
                    </a:lnTo>
                    <a:lnTo>
                      <a:pt x="963" y="175"/>
                    </a:lnTo>
                    <a:lnTo>
                      <a:pt x="969" y="145"/>
                    </a:lnTo>
                    <a:lnTo>
                      <a:pt x="952" y="125"/>
                    </a:lnTo>
                    <a:lnTo>
                      <a:pt x="750" y="110"/>
                    </a:lnTo>
                    <a:lnTo>
                      <a:pt x="662" y="105"/>
                    </a:lnTo>
                    <a:lnTo>
                      <a:pt x="651" y="140"/>
                    </a:lnTo>
                    <a:lnTo>
                      <a:pt x="508" y="77"/>
                    </a:lnTo>
                    <a:lnTo>
                      <a:pt x="490" y="0"/>
                    </a:lnTo>
                    <a:lnTo>
                      <a:pt x="455" y="6"/>
                    </a:lnTo>
                    <a:lnTo>
                      <a:pt x="262" y="28"/>
                    </a:lnTo>
                    <a:lnTo>
                      <a:pt x="202" y="28"/>
                    </a:lnTo>
                    <a:lnTo>
                      <a:pt x="88" y="195"/>
                    </a:lnTo>
                    <a:lnTo>
                      <a:pt x="2" y="316"/>
                    </a:lnTo>
                    <a:lnTo>
                      <a:pt x="4" y="327"/>
                    </a:lnTo>
                    <a:lnTo>
                      <a:pt x="9" y="352"/>
                    </a:lnTo>
                    <a:lnTo>
                      <a:pt x="22" y="433"/>
                    </a:lnTo>
                    <a:lnTo>
                      <a:pt x="0" y="501"/>
                    </a:lnTo>
                    <a:lnTo>
                      <a:pt x="44" y="562"/>
                    </a:lnTo>
                    <a:lnTo>
                      <a:pt x="94" y="624"/>
                    </a:lnTo>
                    <a:lnTo>
                      <a:pt x="130" y="675"/>
                    </a:lnTo>
                    <a:lnTo>
                      <a:pt x="158" y="716"/>
                    </a:lnTo>
                    <a:lnTo>
                      <a:pt x="202" y="703"/>
                    </a:lnTo>
                    <a:lnTo>
                      <a:pt x="273" y="694"/>
                    </a:lnTo>
                    <a:lnTo>
                      <a:pt x="319" y="685"/>
                    </a:lnTo>
                    <a:lnTo>
                      <a:pt x="352" y="681"/>
                    </a:lnTo>
                    <a:lnTo>
                      <a:pt x="376" y="677"/>
                    </a:lnTo>
                    <a:lnTo>
                      <a:pt x="404" y="675"/>
                    </a:lnTo>
                    <a:lnTo>
                      <a:pt x="439" y="719"/>
                    </a:lnTo>
                    <a:lnTo>
                      <a:pt x="486" y="703"/>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a:off x="3477600" y="2743200"/>
                <a:ext cx="2127240" cy="2487600"/>
              </a:xfrm>
              <a:custGeom>
                <a:avLst/>
                <a:gdLst/>
                <a:ahLst/>
                <a:rect l="l" t="t" r="r" b="b"/>
                <a:pathLst>
                  <a:path w="1295" h="1567">
                    <a:moveTo>
                      <a:pt x="486" y="703"/>
                    </a:moveTo>
                    <a:lnTo>
                      <a:pt x="486" y="747"/>
                    </a:lnTo>
                    <a:lnTo>
                      <a:pt x="486" y="782"/>
                    </a:lnTo>
                    <a:lnTo>
                      <a:pt x="486" y="848"/>
                    </a:lnTo>
                    <a:lnTo>
                      <a:pt x="539" y="905"/>
                    </a:lnTo>
                    <a:lnTo>
                      <a:pt x="554" y="936"/>
                    </a:lnTo>
                    <a:lnTo>
                      <a:pt x="560" y="951"/>
                    </a:lnTo>
                    <a:lnTo>
                      <a:pt x="560" y="1081"/>
                    </a:lnTo>
                    <a:lnTo>
                      <a:pt x="525" y="1112"/>
                    </a:lnTo>
                    <a:lnTo>
                      <a:pt x="543" y="1180"/>
                    </a:lnTo>
                    <a:lnTo>
                      <a:pt x="549" y="1187"/>
                    </a:lnTo>
                    <a:lnTo>
                      <a:pt x="624" y="1459"/>
                    </a:lnTo>
                    <a:lnTo>
                      <a:pt x="659" y="1567"/>
                    </a:lnTo>
                    <a:lnTo>
                      <a:pt x="818" y="1556"/>
                    </a:lnTo>
                    <a:lnTo>
                      <a:pt x="932" y="1424"/>
                    </a:lnTo>
                    <a:lnTo>
                      <a:pt x="945" y="1402"/>
                    </a:lnTo>
                    <a:lnTo>
                      <a:pt x="945" y="1389"/>
                    </a:lnTo>
                    <a:lnTo>
                      <a:pt x="945" y="1356"/>
                    </a:lnTo>
                    <a:lnTo>
                      <a:pt x="991" y="1325"/>
                    </a:lnTo>
                    <a:lnTo>
                      <a:pt x="980" y="1222"/>
                    </a:lnTo>
                    <a:lnTo>
                      <a:pt x="1035" y="1180"/>
                    </a:lnTo>
                    <a:lnTo>
                      <a:pt x="1081" y="1143"/>
                    </a:lnTo>
                    <a:lnTo>
                      <a:pt x="1081" y="1037"/>
                    </a:lnTo>
                    <a:lnTo>
                      <a:pt x="1079" y="886"/>
                    </a:lnTo>
                    <a:lnTo>
                      <a:pt x="1138" y="817"/>
                    </a:lnTo>
                    <a:lnTo>
                      <a:pt x="1196" y="747"/>
                    </a:lnTo>
                    <a:lnTo>
                      <a:pt x="1220" y="719"/>
                    </a:lnTo>
                    <a:lnTo>
                      <a:pt x="1295" y="576"/>
                    </a:lnTo>
                    <a:lnTo>
                      <a:pt x="1295" y="540"/>
                    </a:lnTo>
                    <a:lnTo>
                      <a:pt x="1165" y="596"/>
                    </a:lnTo>
                    <a:lnTo>
                      <a:pt x="1031" y="411"/>
                    </a:lnTo>
                    <a:lnTo>
                      <a:pt x="998" y="351"/>
                    </a:lnTo>
                    <a:lnTo>
                      <a:pt x="996" y="329"/>
                    </a:lnTo>
                    <a:lnTo>
                      <a:pt x="991" y="308"/>
                    </a:lnTo>
                    <a:lnTo>
                      <a:pt x="980" y="297"/>
                    </a:lnTo>
                    <a:lnTo>
                      <a:pt x="961" y="288"/>
                    </a:lnTo>
                    <a:lnTo>
                      <a:pt x="914" y="186"/>
                    </a:lnTo>
                    <a:lnTo>
                      <a:pt x="941" y="195"/>
                    </a:lnTo>
                    <a:lnTo>
                      <a:pt x="963" y="175"/>
                    </a:lnTo>
                    <a:lnTo>
                      <a:pt x="969" y="145"/>
                    </a:lnTo>
                    <a:lnTo>
                      <a:pt x="952" y="125"/>
                    </a:lnTo>
                    <a:lnTo>
                      <a:pt x="750" y="110"/>
                    </a:lnTo>
                    <a:lnTo>
                      <a:pt x="662" y="105"/>
                    </a:lnTo>
                    <a:lnTo>
                      <a:pt x="651" y="140"/>
                    </a:lnTo>
                    <a:lnTo>
                      <a:pt x="508" y="77"/>
                    </a:lnTo>
                    <a:lnTo>
                      <a:pt x="490" y="0"/>
                    </a:lnTo>
                    <a:lnTo>
                      <a:pt x="455" y="6"/>
                    </a:lnTo>
                    <a:lnTo>
                      <a:pt x="262" y="28"/>
                    </a:lnTo>
                    <a:lnTo>
                      <a:pt x="202" y="28"/>
                    </a:lnTo>
                    <a:lnTo>
                      <a:pt x="88" y="195"/>
                    </a:lnTo>
                    <a:lnTo>
                      <a:pt x="2" y="316"/>
                    </a:lnTo>
                    <a:lnTo>
                      <a:pt x="4" y="327"/>
                    </a:lnTo>
                    <a:lnTo>
                      <a:pt x="9" y="352"/>
                    </a:lnTo>
                    <a:lnTo>
                      <a:pt x="22" y="433"/>
                    </a:lnTo>
                    <a:lnTo>
                      <a:pt x="0" y="501"/>
                    </a:lnTo>
                    <a:lnTo>
                      <a:pt x="44" y="562"/>
                    </a:lnTo>
                    <a:lnTo>
                      <a:pt x="94" y="624"/>
                    </a:lnTo>
                    <a:lnTo>
                      <a:pt x="130" y="675"/>
                    </a:lnTo>
                    <a:lnTo>
                      <a:pt x="158" y="716"/>
                    </a:lnTo>
                    <a:lnTo>
                      <a:pt x="202" y="703"/>
                    </a:lnTo>
                    <a:lnTo>
                      <a:pt x="273" y="694"/>
                    </a:lnTo>
                    <a:lnTo>
                      <a:pt x="319" y="685"/>
                    </a:lnTo>
                    <a:lnTo>
                      <a:pt x="352" y="681"/>
                    </a:lnTo>
                    <a:lnTo>
                      <a:pt x="376" y="677"/>
                    </a:lnTo>
                    <a:lnTo>
                      <a:pt x="404" y="675"/>
                    </a:lnTo>
                    <a:lnTo>
                      <a:pt x="439" y="719"/>
                    </a:lnTo>
                    <a:lnTo>
                      <a:pt x="486" y="703"/>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8" name=""/>
              <p:cNvSpPr/>
              <p:nvPr/>
            </p:nvSpPr>
            <p:spPr>
              <a:xfrm>
                <a:off x="5358600" y="4414680"/>
                <a:ext cx="231480" cy="495360"/>
              </a:xfrm>
              <a:custGeom>
                <a:avLst/>
                <a:gdLst/>
                <a:ahLst/>
                <a:rect l="l" t="t" r="r" b="b"/>
                <a:pathLst>
                  <a:path w="141" h="312">
                    <a:moveTo>
                      <a:pt x="82" y="68"/>
                    </a:moveTo>
                    <a:lnTo>
                      <a:pt x="114" y="0"/>
                    </a:lnTo>
                    <a:lnTo>
                      <a:pt x="141" y="52"/>
                    </a:lnTo>
                    <a:lnTo>
                      <a:pt x="119" y="127"/>
                    </a:lnTo>
                    <a:lnTo>
                      <a:pt x="70" y="288"/>
                    </a:lnTo>
                    <a:lnTo>
                      <a:pt x="16" y="312"/>
                    </a:lnTo>
                    <a:lnTo>
                      <a:pt x="0" y="288"/>
                    </a:lnTo>
                    <a:lnTo>
                      <a:pt x="9" y="127"/>
                    </a:lnTo>
                    <a:lnTo>
                      <a:pt x="11" y="88"/>
                    </a:lnTo>
                    <a:lnTo>
                      <a:pt x="81" y="6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9" name=""/>
              <p:cNvSpPr/>
              <p:nvPr/>
            </p:nvSpPr>
            <p:spPr>
              <a:xfrm>
                <a:off x="5358600" y="4414680"/>
                <a:ext cx="231480" cy="495360"/>
              </a:xfrm>
              <a:custGeom>
                <a:avLst/>
                <a:gdLst/>
                <a:ahLst/>
                <a:rect l="l" t="t" r="r" b="b"/>
                <a:pathLst>
                  <a:path w="141" h="312">
                    <a:moveTo>
                      <a:pt x="82" y="68"/>
                    </a:moveTo>
                    <a:lnTo>
                      <a:pt x="114" y="0"/>
                    </a:lnTo>
                    <a:lnTo>
                      <a:pt x="141" y="52"/>
                    </a:lnTo>
                    <a:lnTo>
                      <a:pt x="119" y="127"/>
                    </a:lnTo>
                    <a:lnTo>
                      <a:pt x="70" y="288"/>
                    </a:lnTo>
                    <a:lnTo>
                      <a:pt x="16" y="312"/>
                    </a:lnTo>
                    <a:lnTo>
                      <a:pt x="0" y="288"/>
                    </a:lnTo>
                    <a:lnTo>
                      <a:pt x="9" y="127"/>
                    </a:lnTo>
                    <a:lnTo>
                      <a:pt x="11" y="88"/>
                    </a:lnTo>
                    <a:lnTo>
                      <a:pt x="81" y="6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0" name=""/>
              <p:cNvSpPr/>
              <p:nvPr/>
            </p:nvSpPr>
            <p:spPr>
              <a:xfrm>
                <a:off x="5018400" y="1357200"/>
                <a:ext cx="198720" cy="66600"/>
              </a:xfrm>
              <a:custGeom>
                <a:avLst/>
                <a:gdLst/>
                <a:ahLst/>
                <a:rect l="l" t="t" r="r" b="b"/>
                <a:pathLst>
                  <a:path w="121" h="42">
                    <a:moveTo>
                      <a:pt x="0" y="29"/>
                    </a:moveTo>
                    <a:lnTo>
                      <a:pt x="42" y="0"/>
                    </a:lnTo>
                    <a:lnTo>
                      <a:pt x="64" y="4"/>
                    </a:lnTo>
                    <a:lnTo>
                      <a:pt x="121" y="11"/>
                    </a:lnTo>
                    <a:lnTo>
                      <a:pt x="86" y="42"/>
                    </a:lnTo>
                    <a:lnTo>
                      <a:pt x="34" y="42"/>
                    </a:lnTo>
                    <a:lnTo>
                      <a:pt x="25" y="29"/>
                    </a:lnTo>
                    <a:lnTo>
                      <a:pt x="5" y="29"/>
                    </a:lnTo>
                  </a:path>
                </a:pathLst>
              </a:custGeom>
              <a:solidFill>
                <a:srgbClr val="000080">
                  <a:alpha val="50000"/>
                </a:srgbClr>
              </a:solidFill>
              <a:ln w="0">
                <a:solidFill>
                  <a:srgbClr val="0000f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1" name=""/>
              <p:cNvSpPr/>
              <p:nvPr/>
            </p:nvSpPr>
            <p:spPr>
              <a:xfrm>
                <a:off x="5018400" y="1357200"/>
                <a:ext cx="198720" cy="66600"/>
              </a:xfrm>
              <a:custGeom>
                <a:avLst/>
                <a:gdLst/>
                <a:ahLst/>
                <a:rect l="l" t="t" r="r" b="b"/>
                <a:pathLst>
                  <a:path w="121" h="42">
                    <a:moveTo>
                      <a:pt x="0" y="29"/>
                    </a:moveTo>
                    <a:lnTo>
                      <a:pt x="42" y="0"/>
                    </a:lnTo>
                    <a:lnTo>
                      <a:pt x="64" y="4"/>
                    </a:lnTo>
                    <a:lnTo>
                      <a:pt x="121" y="11"/>
                    </a:lnTo>
                    <a:lnTo>
                      <a:pt x="86" y="42"/>
                    </a:lnTo>
                    <a:lnTo>
                      <a:pt x="34" y="42"/>
                    </a:lnTo>
                    <a:lnTo>
                      <a:pt x="25" y="29"/>
                    </a:lnTo>
                    <a:lnTo>
                      <a:pt x="5" y="29"/>
                    </a:lnTo>
                  </a:path>
                </a:pathLst>
              </a:custGeom>
              <a:solidFill>
                <a:srgbClr val="000080">
                  <a:alpha val="50000"/>
                </a:srgbClr>
              </a:solidFill>
              <a:ln w="0">
                <a:solidFill>
                  <a:srgbClr val="0000f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2" name=""/>
              <p:cNvSpPr/>
              <p:nvPr/>
            </p:nvSpPr>
            <p:spPr>
              <a:xfrm>
                <a:off x="5105520" y="1482840"/>
                <a:ext cx="321840" cy="150480"/>
              </a:xfrm>
              <a:custGeom>
                <a:avLst/>
                <a:gdLst/>
                <a:ahLst/>
                <a:rect l="l" t="t" r="r" b="b"/>
                <a:pathLst>
                  <a:path w="196" h="95">
                    <a:moveTo>
                      <a:pt x="82" y="95"/>
                    </a:moveTo>
                    <a:lnTo>
                      <a:pt x="22" y="90"/>
                    </a:lnTo>
                    <a:lnTo>
                      <a:pt x="3" y="77"/>
                    </a:lnTo>
                    <a:lnTo>
                      <a:pt x="0" y="57"/>
                    </a:lnTo>
                    <a:lnTo>
                      <a:pt x="13" y="38"/>
                    </a:lnTo>
                    <a:lnTo>
                      <a:pt x="33" y="27"/>
                    </a:lnTo>
                    <a:lnTo>
                      <a:pt x="59" y="18"/>
                    </a:lnTo>
                    <a:lnTo>
                      <a:pt x="196" y="0"/>
                    </a:lnTo>
                    <a:lnTo>
                      <a:pt x="123" y="31"/>
                    </a:lnTo>
                    <a:lnTo>
                      <a:pt x="73" y="53"/>
                    </a:lnTo>
                    <a:lnTo>
                      <a:pt x="62" y="64"/>
                    </a:lnTo>
                    <a:lnTo>
                      <a:pt x="66" y="79"/>
                    </a:lnTo>
                    <a:lnTo>
                      <a:pt x="82" y="9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5105520" y="1482840"/>
                <a:ext cx="321840" cy="150480"/>
              </a:xfrm>
              <a:custGeom>
                <a:avLst/>
                <a:gdLst/>
                <a:ahLst/>
                <a:rect l="l" t="t" r="r" b="b"/>
                <a:pathLst>
                  <a:path w="196" h="95">
                    <a:moveTo>
                      <a:pt x="82" y="95"/>
                    </a:moveTo>
                    <a:lnTo>
                      <a:pt x="22" y="90"/>
                    </a:lnTo>
                    <a:lnTo>
                      <a:pt x="3" y="77"/>
                    </a:lnTo>
                    <a:lnTo>
                      <a:pt x="0" y="57"/>
                    </a:lnTo>
                    <a:lnTo>
                      <a:pt x="13" y="38"/>
                    </a:lnTo>
                    <a:lnTo>
                      <a:pt x="33" y="27"/>
                    </a:lnTo>
                    <a:lnTo>
                      <a:pt x="59" y="18"/>
                    </a:lnTo>
                    <a:lnTo>
                      <a:pt x="196" y="0"/>
                    </a:lnTo>
                    <a:lnTo>
                      <a:pt x="123" y="31"/>
                    </a:lnTo>
                    <a:lnTo>
                      <a:pt x="73" y="53"/>
                    </a:lnTo>
                    <a:lnTo>
                      <a:pt x="62" y="64"/>
                    </a:lnTo>
                    <a:lnTo>
                      <a:pt x="66" y="79"/>
                    </a:lnTo>
                    <a:lnTo>
                      <a:pt x="82" y="9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4" name=""/>
              <p:cNvSpPr/>
              <p:nvPr/>
            </p:nvSpPr>
            <p:spPr>
              <a:xfrm>
                <a:off x="3817440" y="1985760"/>
                <a:ext cx="178920" cy="279360"/>
              </a:xfrm>
              <a:custGeom>
                <a:avLst/>
                <a:gdLst/>
                <a:ahLst/>
                <a:rect l="l" t="t" r="r" b="b"/>
                <a:pathLst>
                  <a:path w="109" h="176">
                    <a:moveTo>
                      <a:pt x="0" y="68"/>
                    </a:moveTo>
                    <a:lnTo>
                      <a:pt x="0" y="0"/>
                    </a:lnTo>
                    <a:lnTo>
                      <a:pt x="39" y="9"/>
                    </a:lnTo>
                    <a:lnTo>
                      <a:pt x="48" y="19"/>
                    </a:lnTo>
                    <a:lnTo>
                      <a:pt x="48" y="53"/>
                    </a:lnTo>
                    <a:lnTo>
                      <a:pt x="92" y="110"/>
                    </a:lnTo>
                    <a:lnTo>
                      <a:pt x="109" y="112"/>
                    </a:lnTo>
                    <a:lnTo>
                      <a:pt x="98" y="156"/>
                    </a:lnTo>
                    <a:lnTo>
                      <a:pt x="57" y="156"/>
                    </a:lnTo>
                    <a:lnTo>
                      <a:pt x="2" y="176"/>
                    </a:lnTo>
                    <a:lnTo>
                      <a:pt x="32" y="103"/>
                    </a:lnTo>
                    <a:lnTo>
                      <a:pt x="0" y="6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5" name=""/>
              <p:cNvSpPr/>
              <p:nvPr/>
            </p:nvSpPr>
            <p:spPr>
              <a:xfrm>
                <a:off x="3817440" y="1985760"/>
                <a:ext cx="178920" cy="279360"/>
              </a:xfrm>
              <a:custGeom>
                <a:avLst/>
                <a:gdLst/>
                <a:ahLst/>
                <a:rect l="l" t="t" r="r" b="b"/>
                <a:pathLst>
                  <a:path w="109" h="176">
                    <a:moveTo>
                      <a:pt x="0" y="68"/>
                    </a:moveTo>
                    <a:lnTo>
                      <a:pt x="0" y="0"/>
                    </a:lnTo>
                    <a:lnTo>
                      <a:pt x="39" y="9"/>
                    </a:lnTo>
                    <a:lnTo>
                      <a:pt x="48" y="19"/>
                    </a:lnTo>
                    <a:lnTo>
                      <a:pt x="48" y="53"/>
                    </a:lnTo>
                    <a:lnTo>
                      <a:pt x="92" y="110"/>
                    </a:lnTo>
                    <a:lnTo>
                      <a:pt x="109" y="112"/>
                    </a:lnTo>
                    <a:lnTo>
                      <a:pt x="98" y="156"/>
                    </a:lnTo>
                    <a:lnTo>
                      <a:pt x="57" y="156"/>
                    </a:lnTo>
                    <a:lnTo>
                      <a:pt x="2" y="176"/>
                    </a:lnTo>
                    <a:lnTo>
                      <a:pt x="32" y="103"/>
                    </a:lnTo>
                    <a:lnTo>
                      <a:pt x="0" y="6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6" name=""/>
              <p:cNvSpPr/>
              <p:nvPr/>
            </p:nvSpPr>
            <p:spPr>
              <a:xfrm>
                <a:off x="4348080" y="2685960"/>
                <a:ext cx="48960" cy="66600"/>
              </a:xfrm>
              <a:custGeom>
                <a:avLst/>
                <a:gdLst/>
                <a:ahLst/>
                <a:rect l="l" t="t" r="r" b="b"/>
                <a:pathLst>
                  <a:path w="30" h="42">
                    <a:moveTo>
                      <a:pt x="30" y="0"/>
                    </a:moveTo>
                    <a:lnTo>
                      <a:pt x="0" y="14"/>
                    </a:lnTo>
                    <a:lnTo>
                      <a:pt x="26" y="42"/>
                    </a:lnTo>
                    <a:lnTo>
                      <a:pt x="30" y="3"/>
                    </a:lnTo>
                  </a:path>
                </a:pathLst>
              </a:custGeom>
              <a:solidFill>
                <a:srgbClr val="000080">
                  <a:alpha val="50000"/>
                </a:srgbClr>
              </a:solidFill>
              <a:ln w="0">
                <a:solidFill>
                  <a:srgbClr val="0000f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7" name=""/>
              <p:cNvSpPr/>
              <p:nvPr/>
            </p:nvSpPr>
            <p:spPr>
              <a:xfrm>
                <a:off x="4348080" y="2685960"/>
                <a:ext cx="48960" cy="66600"/>
              </a:xfrm>
              <a:custGeom>
                <a:avLst/>
                <a:gdLst/>
                <a:ahLst/>
                <a:rect l="l" t="t" r="r" b="b"/>
                <a:pathLst>
                  <a:path w="30" h="42">
                    <a:moveTo>
                      <a:pt x="30" y="0"/>
                    </a:moveTo>
                    <a:lnTo>
                      <a:pt x="0" y="14"/>
                    </a:lnTo>
                    <a:lnTo>
                      <a:pt x="26" y="42"/>
                    </a:lnTo>
                    <a:lnTo>
                      <a:pt x="30" y="3"/>
                    </a:lnTo>
                  </a:path>
                </a:pathLst>
              </a:custGeom>
              <a:solidFill>
                <a:srgbClr val="000080">
                  <a:alpha val="50000"/>
                </a:srgbClr>
              </a:solidFill>
              <a:ln w="0">
                <a:solidFill>
                  <a:srgbClr val="0000f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38" name=""/>
              <p:cNvSpPr/>
              <p:nvPr/>
            </p:nvSpPr>
            <p:spPr>
              <a:xfrm>
                <a:off x="7992000" y="2475000"/>
                <a:ext cx="132840" cy="142560"/>
              </a:xfrm>
              <a:custGeom>
                <a:avLst/>
                <a:gdLst/>
                <a:ahLst/>
                <a:rect l="l" t="t" r="r" b="b"/>
                <a:pathLst>
                  <a:path w="81" h="90">
                    <a:moveTo>
                      <a:pt x="81" y="21"/>
                    </a:moveTo>
                    <a:lnTo>
                      <a:pt x="81" y="11"/>
                    </a:lnTo>
                    <a:lnTo>
                      <a:pt x="11" y="0"/>
                    </a:lnTo>
                    <a:lnTo>
                      <a:pt x="0" y="0"/>
                    </a:lnTo>
                    <a:lnTo>
                      <a:pt x="0" y="67"/>
                    </a:lnTo>
                    <a:lnTo>
                      <a:pt x="35" y="90"/>
                    </a:lnTo>
                    <a:lnTo>
                      <a:pt x="28" y="65"/>
                    </a:lnTo>
                    <a:lnTo>
                      <a:pt x="28" y="59"/>
                    </a:lnTo>
                    <a:lnTo>
                      <a:pt x="28" y="43"/>
                    </a:lnTo>
                    <a:lnTo>
                      <a:pt x="52" y="43"/>
                    </a:lnTo>
                    <a:lnTo>
                      <a:pt x="70" y="43"/>
                    </a:lnTo>
                    <a:lnTo>
                      <a:pt x="81" y="2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7992000" y="2475000"/>
                <a:ext cx="132840" cy="142560"/>
              </a:xfrm>
              <a:custGeom>
                <a:avLst/>
                <a:gdLst/>
                <a:ahLst/>
                <a:rect l="l" t="t" r="r" b="b"/>
                <a:pathLst>
                  <a:path w="81" h="90">
                    <a:moveTo>
                      <a:pt x="81" y="21"/>
                    </a:moveTo>
                    <a:lnTo>
                      <a:pt x="81" y="11"/>
                    </a:lnTo>
                    <a:lnTo>
                      <a:pt x="11" y="0"/>
                    </a:lnTo>
                    <a:lnTo>
                      <a:pt x="0" y="0"/>
                    </a:lnTo>
                    <a:lnTo>
                      <a:pt x="0" y="67"/>
                    </a:lnTo>
                    <a:lnTo>
                      <a:pt x="35" y="90"/>
                    </a:lnTo>
                    <a:lnTo>
                      <a:pt x="28" y="65"/>
                    </a:lnTo>
                    <a:lnTo>
                      <a:pt x="28" y="59"/>
                    </a:lnTo>
                    <a:lnTo>
                      <a:pt x="28" y="43"/>
                    </a:lnTo>
                    <a:lnTo>
                      <a:pt x="52" y="43"/>
                    </a:lnTo>
                    <a:lnTo>
                      <a:pt x="70" y="43"/>
                    </a:lnTo>
                    <a:lnTo>
                      <a:pt x="81" y="2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0" name=""/>
              <p:cNvSpPr/>
              <p:nvPr/>
            </p:nvSpPr>
            <p:spPr>
              <a:xfrm>
                <a:off x="7847280" y="2617560"/>
                <a:ext cx="307080" cy="338400"/>
              </a:xfrm>
              <a:custGeom>
                <a:avLst/>
                <a:gdLst/>
                <a:ahLst/>
                <a:rect l="l" t="t" r="r" b="b"/>
                <a:pathLst>
                  <a:path w="187" h="213">
                    <a:moveTo>
                      <a:pt x="125" y="0"/>
                    </a:moveTo>
                    <a:lnTo>
                      <a:pt x="131" y="26"/>
                    </a:lnTo>
                    <a:lnTo>
                      <a:pt x="87" y="101"/>
                    </a:lnTo>
                    <a:lnTo>
                      <a:pt x="37" y="112"/>
                    </a:lnTo>
                    <a:lnTo>
                      <a:pt x="0" y="145"/>
                    </a:lnTo>
                    <a:lnTo>
                      <a:pt x="19" y="213"/>
                    </a:lnTo>
                    <a:lnTo>
                      <a:pt x="44" y="210"/>
                    </a:lnTo>
                    <a:lnTo>
                      <a:pt x="44" y="160"/>
                    </a:lnTo>
                    <a:lnTo>
                      <a:pt x="64" y="145"/>
                    </a:lnTo>
                    <a:lnTo>
                      <a:pt x="94" y="138"/>
                    </a:lnTo>
                    <a:lnTo>
                      <a:pt x="107" y="147"/>
                    </a:lnTo>
                    <a:lnTo>
                      <a:pt x="187" y="105"/>
                    </a:lnTo>
                    <a:lnTo>
                      <a:pt x="158" y="19"/>
                    </a:lnTo>
                    <a:lnTo>
                      <a:pt x="123"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1" name=""/>
              <p:cNvSpPr/>
              <p:nvPr/>
            </p:nvSpPr>
            <p:spPr>
              <a:xfrm>
                <a:off x="7847280" y="2617560"/>
                <a:ext cx="307080" cy="338400"/>
              </a:xfrm>
              <a:custGeom>
                <a:avLst/>
                <a:gdLst/>
                <a:ahLst/>
                <a:rect l="l" t="t" r="r" b="b"/>
                <a:pathLst>
                  <a:path w="187" h="213">
                    <a:moveTo>
                      <a:pt x="125" y="0"/>
                    </a:moveTo>
                    <a:lnTo>
                      <a:pt x="131" y="26"/>
                    </a:lnTo>
                    <a:lnTo>
                      <a:pt x="87" y="101"/>
                    </a:lnTo>
                    <a:lnTo>
                      <a:pt x="37" y="112"/>
                    </a:lnTo>
                    <a:lnTo>
                      <a:pt x="0" y="145"/>
                    </a:lnTo>
                    <a:lnTo>
                      <a:pt x="19" y="213"/>
                    </a:lnTo>
                    <a:lnTo>
                      <a:pt x="44" y="210"/>
                    </a:lnTo>
                    <a:lnTo>
                      <a:pt x="44" y="160"/>
                    </a:lnTo>
                    <a:lnTo>
                      <a:pt x="64" y="145"/>
                    </a:lnTo>
                    <a:lnTo>
                      <a:pt x="94" y="138"/>
                    </a:lnTo>
                    <a:lnTo>
                      <a:pt x="107" y="147"/>
                    </a:lnTo>
                    <a:lnTo>
                      <a:pt x="187" y="105"/>
                    </a:lnTo>
                    <a:lnTo>
                      <a:pt x="158" y="19"/>
                    </a:lnTo>
                    <a:lnTo>
                      <a:pt x="123"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a:off x="4185720" y="1392120"/>
                <a:ext cx="343080" cy="142920"/>
              </a:xfrm>
              <a:custGeom>
                <a:avLst/>
                <a:gdLst/>
                <a:ahLst/>
                <a:rect l="l" t="t" r="r" b="b"/>
                <a:pathLst>
                  <a:path w="209" h="90">
                    <a:moveTo>
                      <a:pt x="39" y="17"/>
                    </a:moveTo>
                    <a:lnTo>
                      <a:pt x="68" y="9"/>
                    </a:lnTo>
                    <a:lnTo>
                      <a:pt x="103" y="0"/>
                    </a:lnTo>
                    <a:lnTo>
                      <a:pt x="110" y="9"/>
                    </a:lnTo>
                    <a:lnTo>
                      <a:pt x="138" y="4"/>
                    </a:lnTo>
                    <a:lnTo>
                      <a:pt x="149" y="20"/>
                    </a:lnTo>
                    <a:lnTo>
                      <a:pt x="178" y="24"/>
                    </a:lnTo>
                    <a:lnTo>
                      <a:pt x="209" y="20"/>
                    </a:lnTo>
                    <a:lnTo>
                      <a:pt x="198" y="40"/>
                    </a:lnTo>
                    <a:lnTo>
                      <a:pt x="167" y="46"/>
                    </a:lnTo>
                    <a:lnTo>
                      <a:pt x="164" y="75"/>
                    </a:lnTo>
                    <a:lnTo>
                      <a:pt x="131" y="75"/>
                    </a:lnTo>
                    <a:lnTo>
                      <a:pt x="136" y="55"/>
                    </a:lnTo>
                    <a:lnTo>
                      <a:pt x="156" y="46"/>
                    </a:lnTo>
                    <a:lnTo>
                      <a:pt x="160" y="31"/>
                    </a:lnTo>
                    <a:lnTo>
                      <a:pt x="118" y="31"/>
                    </a:lnTo>
                    <a:lnTo>
                      <a:pt x="99" y="46"/>
                    </a:lnTo>
                    <a:lnTo>
                      <a:pt x="86" y="66"/>
                    </a:lnTo>
                    <a:lnTo>
                      <a:pt x="83" y="90"/>
                    </a:lnTo>
                    <a:lnTo>
                      <a:pt x="42" y="59"/>
                    </a:lnTo>
                    <a:lnTo>
                      <a:pt x="48" y="39"/>
                    </a:lnTo>
                    <a:lnTo>
                      <a:pt x="59" y="24"/>
                    </a:lnTo>
                    <a:lnTo>
                      <a:pt x="41" y="26"/>
                    </a:lnTo>
                    <a:lnTo>
                      <a:pt x="0" y="15"/>
                    </a:lnTo>
                    <a:lnTo>
                      <a:pt x="35" y="1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3" name=""/>
              <p:cNvSpPr/>
              <p:nvPr/>
            </p:nvSpPr>
            <p:spPr>
              <a:xfrm>
                <a:off x="4185720" y="1392120"/>
                <a:ext cx="343080" cy="142920"/>
              </a:xfrm>
              <a:custGeom>
                <a:avLst/>
                <a:gdLst/>
                <a:ahLst/>
                <a:rect l="l" t="t" r="r" b="b"/>
                <a:pathLst>
                  <a:path w="209" h="90">
                    <a:moveTo>
                      <a:pt x="39" y="17"/>
                    </a:moveTo>
                    <a:lnTo>
                      <a:pt x="68" y="9"/>
                    </a:lnTo>
                    <a:lnTo>
                      <a:pt x="103" y="0"/>
                    </a:lnTo>
                    <a:lnTo>
                      <a:pt x="110" y="9"/>
                    </a:lnTo>
                    <a:lnTo>
                      <a:pt x="138" y="4"/>
                    </a:lnTo>
                    <a:lnTo>
                      <a:pt x="149" y="20"/>
                    </a:lnTo>
                    <a:lnTo>
                      <a:pt x="178" y="24"/>
                    </a:lnTo>
                    <a:lnTo>
                      <a:pt x="209" y="20"/>
                    </a:lnTo>
                    <a:lnTo>
                      <a:pt x="198" y="40"/>
                    </a:lnTo>
                    <a:lnTo>
                      <a:pt x="167" y="46"/>
                    </a:lnTo>
                    <a:lnTo>
                      <a:pt x="164" y="75"/>
                    </a:lnTo>
                    <a:lnTo>
                      <a:pt x="131" y="75"/>
                    </a:lnTo>
                    <a:lnTo>
                      <a:pt x="136" y="55"/>
                    </a:lnTo>
                    <a:lnTo>
                      <a:pt x="156" y="46"/>
                    </a:lnTo>
                    <a:lnTo>
                      <a:pt x="160" y="31"/>
                    </a:lnTo>
                    <a:lnTo>
                      <a:pt x="118" y="31"/>
                    </a:lnTo>
                    <a:lnTo>
                      <a:pt x="99" y="46"/>
                    </a:lnTo>
                    <a:lnTo>
                      <a:pt x="86" y="66"/>
                    </a:lnTo>
                    <a:lnTo>
                      <a:pt x="83" y="90"/>
                    </a:lnTo>
                    <a:lnTo>
                      <a:pt x="42" y="59"/>
                    </a:lnTo>
                    <a:lnTo>
                      <a:pt x="48" y="39"/>
                    </a:lnTo>
                    <a:lnTo>
                      <a:pt x="59" y="24"/>
                    </a:lnTo>
                    <a:lnTo>
                      <a:pt x="41" y="26"/>
                    </a:lnTo>
                    <a:lnTo>
                      <a:pt x="0" y="15"/>
                    </a:lnTo>
                    <a:lnTo>
                      <a:pt x="35" y="1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4" name=""/>
              <p:cNvSpPr/>
              <p:nvPr/>
            </p:nvSpPr>
            <p:spPr>
              <a:xfrm>
                <a:off x="3730320" y="2103480"/>
                <a:ext cx="87120" cy="115920"/>
              </a:xfrm>
              <a:custGeom>
                <a:avLst/>
                <a:gdLst/>
                <a:ahLst/>
                <a:rect l="l" t="t" r="r" b="b"/>
                <a:pathLst>
                  <a:path w="53" h="73">
                    <a:moveTo>
                      <a:pt x="52" y="0"/>
                    </a:moveTo>
                    <a:lnTo>
                      <a:pt x="53" y="53"/>
                    </a:lnTo>
                    <a:lnTo>
                      <a:pt x="0" y="73"/>
                    </a:lnTo>
                    <a:lnTo>
                      <a:pt x="0" y="16"/>
                    </a:lnTo>
                    <a:lnTo>
                      <a:pt x="52"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5" name=""/>
              <p:cNvSpPr/>
              <p:nvPr/>
            </p:nvSpPr>
            <p:spPr>
              <a:xfrm>
                <a:off x="3730320" y="2103480"/>
                <a:ext cx="87120" cy="115920"/>
              </a:xfrm>
              <a:custGeom>
                <a:avLst/>
                <a:gdLst/>
                <a:ahLst/>
                <a:rect l="l" t="t" r="r" b="b"/>
                <a:pathLst>
                  <a:path w="53" h="73">
                    <a:moveTo>
                      <a:pt x="52" y="0"/>
                    </a:moveTo>
                    <a:lnTo>
                      <a:pt x="53" y="53"/>
                    </a:lnTo>
                    <a:lnTo>
                      <a:pt x="0" y="73"/>
                    </a:lnTo>
                    <a:lnTo>
                      <a:pt x="0" y="16"/>
                    </a:lnTo>
                    <a:lnTo>
                      <a:pt x="52"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4200120" y="2016000"/>
                <a:ext cx="39240" cy="54000"/>
              </a:xfrm>
              <a:custGeom>
                <a:avLst/>
                <a:gdLst/>
                <a:ahLst/>
                <a:rect l="l" t="t" r="r" b="b"/>
                <a:pathLst>
                  <a:path w="24" h="34">
                    <a:moveTo>
                      <a:pt x="0" y="12"/>
                    </a:moveTo>
                    <a:lnTo>
                      <a:pt x="24" y="0"/>
                    </a:lnTo>
                    <a:lnTo>
                      <a:pt x="24" y="31"/>
                    </a:lnTo>
                    <a:lnTo>
                      <a:pt x="0" y="34"/>
                    </a:lnTo>
                    <a:lnTo>
                      <a:pt x="0" y="14"/>
                    </a:lnTo>
                  </a:path>
                </a:pathLst>
              </a:custGeom>
              <a:solidFill>
                <a:srgbClr val="000080">
                  <a:alpha val="50000"/>
                </a:srgbClr>
              </a:solidFill>
              <a:ln w="0">
                <a:solidFill>
                  <a:srgbClr val="0000ff"/>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047" name=""/>
              <p:cNvSpPr/>
              <p:nvPr/>
            </p:nvSpPr>
            <p:spPr>
              <a:xfrm>
                <a:off x="4200120" y="2016000"/>
                <a:ext cx="39240" cy="54000"/>
              </a:xfrm>
              <a:custGeom>
                <a:avLst/>
                <a:gdLst/>
                <a:ahLst/>
                <a:rect l="l" t="t" r="r" b="b"/>
                <a:pathLst>
                  <a:path w="24" h="34">
                    <a:moveTo>
                      <a:pt x="0" y="12"/>
                    </a:moveTo>
                    <a:lnTo>
                      <a:pt x="24" y="0"/>
                    </a:lnTo>
                    <a:lnTo>
                      <a:pt x="24" y="31"/>
                    </a:lnTo>
                    <a:lnTo>
                      <a:pt x="0" y="34"/>
                    </a:lnTo>
                    <a:lnTo>
                      <a:pt x="0" y="14"/>
                    </a:lnTo>
                  </a:path>
                </a:pathLst>
              </a:custGeom>
              <a:solidFill>
                <a:srgbClr val="000080">
                  <a:alpha val="50000"/>
                </a:srgbClr>
              </a:solidFill>
              <a:ln w="0">
                <a:solidFill>
                  <a:srgbClr val="0000ff"/>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048" name=""/>
              <p:cNvSpPr/>
              <p:nvPr/>
            </p:nvSpPr>
            <p:spPr>
              <a:xfrm>
                <a:off x="6988320" y="3814560"/>
                <a:ext cx="364680" cy="420840"/>
              </a:xfrm>
              <a:custGeom>
                <a:avLst/>
                <a:gdLst/>
                <a:ahLst/>
                <a:rect l="l" t="t" r="r" b="b"/>
                <a:pathLst>
                  <a:path w="222" h="265">
                    <a:moveTo>
                      <a:pt x="0" y="0"/>
                    </a:moveTo>
                    <a:lnTo>
                      <a:pt x="68" y="15"/>
                    </a:lnTo>
                    <a:lnTo>
                      <a:pt x="109" y="72"/>
                    </a:lnTo>
                    <a:lnTo>
                      <a:pt x="197" y="189"/>
                    </a:lnTo>
                    <a:lnTo>
                      <a:pt x="200" y="176"/>
                    </a:lnTo>
                    <a:lnTo>
                      <a:pt x="221" y="175"/>
                    </a:lnTo>
                    <a:lnTo>
                      <a:pt x="222" y="186"/>
                    </a:lnTo>
                    <a:lnTo>
                      <a:pt x="211" y="221"/>
                    </a:lnTo>
                    <a:lnTo>
                      <a:pt x="211" y="259"/>
                    </a:lnTo>
                    <a:lnTo>
                      <a:pt x="191" y="265"/>
                    </a:lnTo>
                    <a:lnTo>
                      <a:pt x="173" y="261"/>
                    </a:lnTo>
                    <a:lnTo>
                      <a:pt x="50" y="72"/>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6988320" y="3814560"/>
                <a:ext cx="364680" cy="420840"/>
              </a:xfrm>
              <a:custGeom>
                <a:avLst/>
                <a:gdLst/>
                <a:ahLst/>
                <a:rect l="l" t="t" r="r" b="b"/>
                <a:pathLst>
                  <a:path w="222" h="265">
                    <a:moveTo>
                      <a:pt x="0" y="0"/>
                    </a:moveTo>
                    <a:lnTo>
                      <a:pt x="68" y="15"/>
                    </a:lnTo>
                    <a:lnTo>
                      <a:pt x="109" y="72"/>
                    </a:lnTo>
                    <a:lnTo>
                      <a:pt x="197" y="189"/>
                    </a:lnTo>
                    <a:lnTo>
                      <a:pt x="200" y="176"/>
                    </a:lnTo>
                    <a:lnTo>
                      <a:pt x="221" y="175"/>
                    </a:lnTo>
                    <a:lnTo>
                      <a:pt x="222" y="186"/>
                    </a:lnTo>
                    <a:lnTo>
                      <a:pt x="211" y="221"/>
                    </a:lnTo>
                    <a:lnTo>
                      <a:pt x="211" y="259"/>
                    </a:lnTo>
                    <a:lnTo>
                      <a:pt x="191" y="265"/>
                    </a:lnTo>
                    <a:lnTo>
                      <a:pt x="173" y="261"/>
                    </a:lnTo>
                    <a:lnTo>
                      <a:pt x="50" y="72"/>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0" name=""/>
              <p:cNvSpPr/>
              <p:nvPr/>
            </p:nvSpPr>
            <p:spPr>
              <a:xfrm>
                <a:off x="7684560" y="3622680"/>
                <a:ext cx="60840" cy="90360"/>
              </a:xfrm>
              <a:custGeom>
                <a:avLst/>
                <a:gdLst/>
                <a:ahLst/>
                <a:rect l="l" t="t" r="r" b="b"/>
                <a:pathLst>
                  <a:path w="37" h="57">
                    <a:moveTo>
                      <a:pt x="0" y="57"/>
                    </a:moveTo>
                    <a:lnTo>
                      <a:pt x="20" y="0"/>
                    </a:lnTo>
                    <a:lnTo>
                      <a:pt x="37" y="0"/>
                    </a:lnTo>
                    <a:lnTo>
                      <a:pt x="4" y="53"/>
                    </a:lnTo>
                  </a:path>
                </a:pathLst>
              </a:custGeom>
              <a:solidFill>
                <a:srgbClr val="000080">
                  <a:alpha val="50000"/>
                </a:srgbClr>
              </a:solidFill>
              <a:ln w="0">
                <a:solidFill>
                  <a:srgbClr val="0000ff"/>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051" name=""/>
              <p:cNvSpPr/>
              <p:nvPr/>
            </p:nvSpPr>
            <p:spPr>
              <a:xfrm>
                <a:off x="7684560" y="3622680"/>
                <a:ext cx="60840" cy="90360"/>
              </a:xfrm>
              <a:custGeom>
                <a:avLst/>
                <a:gdLst/>
                <a:ahLst/>
                <a:rect l="l" t="t" r="r" b="b"/>
                <a:pathLst>
                  <a:path w="37" h="57">
                    <a:moveTo>
                      <a:pt x="0" y="57"/>
                    </a:moveTo>
                    <a:lnTo>
                      <a:pt x="20" y="0"/>
                    </a:lnTo>
                    <a:lnTo>
                      <a:pt x="37" y="0"/>
                    </a:lnTo>
                    <a:lnTo>
                      <a:pt x="4" y="53"/>
                    </a:lnTo>
                  </a:path>
                </a:pathLst>
              </a:custGeom>
              <a:solidFill>
                <a:srgbClr val="000080">
                  <a:alpha val="50000"/>
                </a:srgbClr>
              </a:solidFill>
              <a:ln w="0">
                <a:solidFill>
                  <a:srgbClr val="0000ff"/>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052" name=""/>
              <p:cNvSpPr/>
              <p:nvPr/>
            </p:nvSpPr>
            <p:spPr>
              <a:xfrm>
                <a:off x="7717680" y="3373200"/>
                <a:ext cx="139320" cy="206640"/>
              </a:xfrm>
              <a:custGeom>
                <a:avLst/>
                <a:gdLst/>
                <a:ahLst/>
                <a:rect l="l" t="t" r="r" b="b"/>
                <a:pathLst>
                  <a:path w="85" h="130">
                    <a:moveTo>
                      <a:pt x="17" y="0"/>
                    </a:moveTo>
                    <a:lnTo>
                      <a:pt x="50" y="16"/>
                    </a:lnTo>
                    <a:lnTo>
                      <a:pt x="50" y="78"/>
                    </a:lnTo>
                    <a:lnTo>
                      <a:pt x="85" y="95"/>
                    </a:lnTo>
                    <a:lnTo>
                      <a:pt x="85" y="130"/>
                    </a:lnTo>
                    <a:lnTo>
                      <a:pt x="68" y="115"/>
                    </a:lnTo>
                    <a:lnTo>
                      <a:pt x="41" y="115"/>
                    </a:lnTo>
                    <a:lnTo>
                      <a:pt x="0" y="69"/>
                    </a:lnTo>
                    <a:lnTo>
                      <a:pt x="11"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a:off x="7717680" y="3373200"/>
                <a:ext cx="139320" cy="206640"/>
              </a:xfrm>
              <a:custGeom>
                <a:avLst/>
                <a:gdLst/>
                <a:ahLst/>
                <a:rect l="l" t="t" r="r" b="b"/>
                <a:pathLst>
                  <a:path w="85" h="130">
                    <a:moveTo>
                      <a:pt x="17" y="0"/>
                    </a:moveTo>
                    <a:lnTo>
                      <a:pt x="50" y="16"/>
                    </a:lnTo>
                    <a:lnTo>
                      <a:pt x="50" y="78"/>
                    </a:lnTo>
                    <a:lnTo>
                      <a:pt x="85" y="95"/>
                    </a:lnTo>
                    <a:lnTo>
                      <a:pt x="85" y="130"/>
                    </a:lnTo>
                    <a:lnTo>
                      <a:pt x="68" y="115"/>
                    </a:lnTo>
                    <a:lnTo>
                      <a:pt x="41" y="115"/>
                    </a:lnTo>
                    <a:lnTo>
                      <a:pt x="0" y="69"/>
                    </a:lnTo>
                    <a:lnTo>
                      <a:pt x="11"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a:off x="7862400" y="3583080"/>
                <a:ext cx="52200" cy="115560"/>
              </a:xfrm>
              <a:custGeom>
                <a:avLst/>
                <a:gdLst/>
                <a:ahLst/>
                <a:rect l="l" t="t" r="r" b="b"/>
                <a:pathLst>
                  <a:path w="32" h="73">
                    <a:moveTo>
                      <a:pt x="0" y="0"/>
                    </a:moveTo>
                    <a:lnTo>
                      <a:pt x="32" y="9"/>
                    </a:lnTo>
                    <a:lnTo>
                      <a:pt x="32" y="33"/>
                    </a:lnTo>
                    <a:lnTo>
                      <a:pt x="13" y="73"/>
                    </a:lnTo>
                    <a:lnTo>
                      <a:pt x="21" y="34"/>
                    </a:lnTo>
                    <a:lnTo>
                      <a:pt x="15" y="18"/>
                    </a:lnTo>
                    <a:lnTo>
                      <a:pt x="0" y="3"/>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a:off x="7862400" y="3583080"/>
                <a:ext cx="52200" cy="115560"/>
              </a:xfrm>
              <a:custGeom>
                <a:avLst/>
                <a:gdLst/>
                <a:ahLst/>
                <a:rect l="l" t="t" r="r" b="b"/>
                <a:pathLst>
                  <a:path w="32" h="73">
                    <a:moveTo>
                      <a:pt x="0" y="0"/>
                    </a:moveTo>
                    <a:lnTo>
                      <a:pt x="32" y="9"/>
                    </a:lnTo>
                    <a:lnTo>
                      <a:pt x="32" y="33"/>
                    </a:lnTo>
                    <a:lnTo>
                      <a:pt x="13" y="73"/>
                    </a:lnTo>
                    <a:lnTo>
                      <a:pt x="21" y="34"/>
                    </a:lnTo>
                    <a:lnTo>
                      <a:pt x="15" y="18"/>
                    </a:lnTo>
                    <a:lnTo>
                      <a:pt x="0" y="3"/>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6" name=""/>
              <p:cNvSpPr/>
              <p:nvPr/>
            </p:nvSpPr>
            <p:spPr>
              <a:xfrm>
                <a:off x="7806240" y="3593880"/>
                <a:ext cx="50400" cy="84240"/>
              </a:xfrm>
              <a:custGeom>
                <a:avLst/>
                <a:gdLst/>
                <a:ahLst/>
                <a:rect l="l" t="t" r="r" b="b"/>
                <a:pathLst>
                  <a:path w="31" h="53">
                    <a:moveTo>
                      <a:pt x="23" y="0"/>
                    </a:moveTo>
                    <a:lnTo>
                      <a:pt x="0" y="22"/>
                    </a:lnTo>
                    <a:lnTo>
                      <a:pt x="18" y="53"/>
                    </a:lnTo>
                    <a:lnTo>
                      <a:pt x="31" y="44"/>
                    </a:lnTo>
                    <a:lnTo>
                      <a:pt x="25" y="26"/>
                    </a:lnTo>
                    <a:lnTo>
                      <a:pt x="23" y="0"/>
                    </a:lnTo>
                  </a:path>
                </a:pathLst>
              </a:custGeom>
              <a:solidFill>
                <a:srgbClr val="000080">
                  <a:alpha val="50000"/>
                </a:srgbClr>
              </a:solidFill>
              <a:ln w="0">
                <a:solidFill>
                  <a:srgbClr val="0000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057" name=""/>
              <p:cNvSpPr/>
              <p:nvPr/>
            </p:nvSpPr>
            <p:spPr>
              <a:xfrm>
                <a:off x="7806240" y="3593880"/>
                <a:ext cx="50400" cy="84240"/>
              </a:xfrm>
              <a:custGeom>
                <a:avLst/>
                <a:gdLst/>
                <a:ahLst/>
                <a:rect l="l" t="t" r="r" b="b"/>
                <a:pathLst>
                  <a:path w="31" h="53">
                    <a:moveTo>
                      <a:pt x="23" y="0"/>
                    </a:moveTo>
                    <a:lnTo>
                      <a:pt x="0" y="22"/>
                    </a:lnTo>
                    <a:lnTo>
                      <a:pt x="18" y="53"/>
                    </a:lnTo>
                    <a:lnTo>
                      <a:pt x="31" y="44"/>
                    </a:lnTo>
                    <a:lnTo>
                      <a:pt x="25" y="26"/>
                    </a:lnTo>
                    <a:lnTo>
                      <a:pt x="23" y="0"/>
                    </a:lnTo>
                  </a:path>
                </a:pathLst>
              </a:custGeom>
              <a:solidFill>
                <a:srgbClr val="000080">
                  <a:alpha val="50000"/>
                </a:srgbClr>
              </a:solidFill>
              <a:ln w="0">
                <a:solidFill>
                  <a:srgbClr val="0000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058" name=""/>
              <p:cNvSpPr/>
              <p:nvPr/>
            </p:nvSpPr>
            <p:spPr>
              <a:xfrm>
                <a:off x="7842600" y="3716280"/>
                <a:ext cx="129600" cy="98280"/>
              </a:xfrm>
              <a:custGeom>
                <a:avLst/>
                <a:gdLst/>
                <a:ahLst/>
                <a:rect l="l" t="t" r="r" b="b"/>
                <a:pathLst>
                  <a:path w="79" h="62">
                    <a:moveTo>
                      <a:pt x="9" y="7"/>
                    </a:moveTo>
                    <a:lnTo>
                      <a:pt x="3" y="20"/>
                    </a:lnTo>
                    <a:lnTo>
                      <a:pt x="0" y="33"/>
                    </a:lnTo>
                    <a:lnTo>
                      <a:pt x="31" y="29"/>
                    </a:lnTo>
                    <a:lnTo>
                      <a:pt x="38" y="62"/>
                    </a:lnTo>
                    <a:lnTo>
                      <a:pt x="58" y="62"/>
                    </a:lnTo>
                    <a:lnTo>
                      <a:pt x="58" y="29"/>
                    </a:lnTo>
                    <a:lnTo>
                      <a:pt x="79" y="28"/>
                    </a:lnTo>
                    <a:lnTo>
                      <a:pt x="66" y="0"/>
                    </a:lnTo>
                    <a:lnTo>
                      <a:pt x="38" y="9"/>
                    </a:lnTo>
                    <a:lnTo>
                      <a:pt x="12" y="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9" name=""/>
              <p:cNvSpPr/>
              <p:nvPr/>
            </p:nvSpPr>
            <p:spPr>
              <a:xfrm>
                <a:off x="7842600" y="3716280"/>
                <a:ext cx="129600" cy="98280"/>
              </a:xfrm>
              <a:custGeom>
                <a:avLst/>
                <a:gdLst/>
                <a:ahLst/>
                <a:rect l="l" t="t" r="r" b="b"/>
                <a:pathLst>
                  <a:path w="79" h="62">
                    <a:moveTo>
                      <a:pt x="9" y="7"/>
                    </a:moveTo>
                    <a:lnTo>
                      <a:pt x="3" y="20"/>
                    </a:lnTo>
                    <a:lnTo>
                      <a:pt x="0" y="33"/>
                    </a:lnTo>
                    <a:lnTo>
                      <a:pt x="31" y="29"/>
                    </a:lnTo>
                    <a:lnTo>
                      <a:pt x="38" y="62"/>
                    </a:lnTo>
                    <a:lnTo>
                      <a:pt x="58" y="62"/>
                    </a:lnTo>
                    <a:lnTo>
                      <a:pt x="58" y="29"/>
                    </a:lnTo>
                    <a:lnTo>
                      <a:pt x="79" y="28"/>
                    </a:lnTo>
                    <a:lnTo>
                      <a:pt x="66" y="0"/>
                    </a:lnTo>
                    <a:lnTo>
                      <a:pt x="38" y="9"/>
                    </a:lnTo>
                    <a:lnTo>
                      <a:pt x="12" y="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0" name=""/>
              <p:cNvSpPr/>
              <p:nvPr/>
            </p:nvSpPr>
            <p:spPr>
              <a:xfrm>
                <a:off x="7417080" y="3762360"/>
                <a:ext cx="336600" cy="420480"/>
              </a:xfrm>
              <a:custGeom>
                <a:avLst/>
                <a:gdLst/>
                <a:ahLst/>
                <a:rect l="l" t="t" r="r" b="b"/>
                <a:pathLst>
                  <a:path w="205" h="265">
                    <a:moveTo>
                      <a:pt x="205" y="52"/>
                    </a:moveTo>
                    <a:lnTo>
                      <a:pt x="176" y="2"/>
                    </a:lnTo>
                    <a:lnTo>
                      <a:pt x="150" y="0"/>
                    </a:lnTo>
                    <a:lnTo>
                      <a:pt x="66" y="105"/>
                    </a:lnTo>
                    <a:lnTo>
                      <a:pt x="38" y="138"/>
                    </a:lnTo>
                    <a:lnTo>
                      <a:pt x="27" y="121"/>
                    </a:lnTo>
                    <a:lnTo>
                      <a:pt x="9" y="125"/>
                    </a:lnTo>
                    <a:lnTo>
                      <a:pt x="0" y="140"/>
                    </a:lnTo>
                    <a:lnTo>
                      <a:pt x="0" y="162"/>
                    </a:lnTo>
                    <a:lnTo>
                      <a:pt x="31" y="209"/>
                    </a:lnTo>
                    <a:lnTo>
                      <a:pt x="27" y="243"/>
                    </a:lnTo>
                    <a:lnTo>
                      <a:pt x="125" y="265"/>
                    </a:lnTo>
                    <a:lnTo>
                      <a:pt x="180" y="143"/>
                    </a:lnTo>
                    <a:lnTo>
                      <a:pt x="172" y="120"/>
                    </a:lnTo>
                    <a:lnTo>
                      <a:pt x="178" y="105"/>
                    </a:lnTo>
                    <a:lnTo>
                      <a:pt x="205" y="5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a:off x="7417080" y="3762360"/>
                <a:ext cx="336600" cy="420480"/>
              </a:xfrm>
              <a:custGeom>
                <a:avLst/>
                <a:gdLst/>
                <a:ahLst/>
                <a:rect l="l" t="t" r="r" b="b"/>
                <a:pathLst>
                  <a:path w="205" h="265">
                    <a:moveTo>
                      <a:pt x="205" y="52"/>
                    </a:moveTo>
                    <a:lnTo>
                      <a:pt x="176" y="2"/>
                    </a:lnTo>
                    <a:lnTo>
                      <a:pt x="150" y="0"/>
                    </a:lnTo>
                    <a:lnTo>
                      <a:pt x="66" y="105"/>
                    </a:lnTo>
                    <a:lnTo>
                      <a:pt x="38" y="138"/>
                    </a:lnTo>
                    <a:lnTo>
                      <a:pt x="27" y="121"/>
                    </a:lnTo>
                    <a:lnTo>
                      <a:pt x="9" y="125"/>
                    </a:lnTo>
                    <a:lnTo>
                      <a:pt x="0" y="140"/>
                    </a:lnTo>
                    <a:lnTo>
                      <a:pt x="0" y="162"/>
                    </a:lnTo>
                    <a:lnTo>
                      <a:pt x="31" y="209"/>
                    </a:lnTo>
                    <a:lnTo>
                      <a:pt x="27" y="243"/>
                    </a:lnTo>
                    <a:lnTo>
                      <a:pt x="125" y="265"/>
                    </a:lnTo>
                    <a:lnTo>
                      <a:pt x="180" y="143"/>
                    </a:lnTo>
                    <a:lnTo>
                      <a:pt x="172" y="120"/>
                    </a:lnTo>
                    <a:lnTo>
                      <a:pt x="178" y="105"/>
                    </a:lnTo>
                    <a:lnTo>
                      <a:pt x="205" y="5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a:off x="7365960" y="4406760"/>
                <a:ext cx="1261440" cy="1001880"/>
              </a:xfrm>
              <a:custGeom>
                <a:avLst/>
                <a:gdLst/>
                <a:ahLst/>
                <a:rect l="l" t="t" r="r" b="b"/>
                <a:pathLst>
                  <a:path w="768" h="631">
                    <a:moveTo>
                      <a:pt x="152" y="519"/>
                    </a:moveTo>
                    <a:lnTo>
                      <a:pt x="35" y="537"/>
                    </a:lnTo>
                    <a:lnTo>
                      <a:pt x="0" y="502"/>
                    </a:lnTo>
                    <a:lnTo>
                      <a:pt x="31" y="479"/>
                    </a:lnTo>
                    <a:lnTo>
                      <a:pt x="14" y="323"/>
                    </a:lnTo>
                    <a:lnTo>
                      <a:pt x="79" y="240"/>
                    </a:lnTo>
                    <a:lnTo>
                      <a:pt x="198" y="196"/>
                    </a:lnTo>
                    <a:lnTo>
                      <a:pt x="222" y="132"/>
                    </a:lnTo>
                    <a:lnTo>
                      <a:pt x="224" y="119"/>
                    </a:lnTo>
                    <a:lnTo>
                      <a:pt x="249" y="119"/>
                    </a:lnTo>
                    <a:lnTo>
                      <a:pt x="304" y="66"/>
                    </a:lnTo>
                    <a:lnTo>
                      <a:pt x="345" y="97"/>
                    </a:lnTo>
                    <a:lnTo>
                      <a:pt x="435" y="0"/>
                    </a:lnTo>
                    <a:lnTo>
                      <a:pt x="545" y="24"/>
                    </a:lnTo>
                    <a:lnTo>
                      <a:pt x="515" y="62"/>
                    </a:lnTo>
                    <a:lnTo>
                      <a:pt x="491" y="80"/>
                    </a:lnTo>
                    <a:lnTo>
                      <a:pt x="548" y="143"/>
                    </a:lnTo>
                    <a:lnTo>
                      <a:pt x="548" y="159"/>
                    </a:lnTo>
                    <a:lnTo>
                      <a:pt x="592" y="112"/>
                    </a:lnTo>
                    <a:lnTo>
                      <a:pt x="603" y="24"/>
                    </a:lnTo>
                    <a:lnTo>
                      <a:pt x="627" y="5"/>
                    </a:lnTo>
                    <a:lnTo>
                      <a:pt x="633" y="80"/>
                    </a:lnTo>
                    <a:lnTo>
                      <a:pt x="653" y="93"/>
                    </a:lnTo>
                    <a:lnTo>
                      <a:pt x="657" y="132"/>
                    </a:lnTo>
                    <a:lnTo>
                      <a:pt x="660" y="172"/>
                    </a:lnTo>
                    <a:lnTo>
                      <a:pt x="715" y="198"/>
                    </a:lnTo>
                    <a:lnTo>
                      <a:pt x="734" y="280"/>
                    </a:lnTo>
                    <a:lnTo>
                      <a:pt x="768" y="312"/>
                    </a:lnTo>
                    <a:lnTo>
                      <a:pt x="723" y="444"/>
                    </a:lnTo>
                    <a:lnTo>
                      <a:pt x="611" y="556"/>
                    </a:lnTo>
                    <a:lnTo>
                      <a:pt x="574" y="590"/>
                    </a:lnTo>
                    <a:lnTo>
                      <a:pt x="574" y="603"/>
                    </a:lnTo>
                    <a:lnTo>
                      <a:pt x="508" y="631"/>
                    </a:lnTo>
                    <a:lnTo>
                      <a:pt x="495" y="613"/>
                    </a:lnTo>
                    <a:lnTo>
                      <a:pt x="460" y="625"/>
                    </a:lnTo>
                    <a:lnTo>
                      <a:pt x="409" y="618"/>
                    </a:lnTo>
                    <a:lnTo>
                      <a:pt x="394" y="607"/>
                    </a:lnTo>
                    <a:lnTo>
                      <a:pt x="394" y="590"/>
                    </a:lnTo>
                    <a:lnTo>
                      <a:pt x="394" y="572"/>
                    </a:lnTo>
                    <a:lnTo>
                      <a:pt x="385" y="565"/>
                    </a:lnTo>
                    <a:lnTo>
                      <a:pt x="385" y="556"/>
                    </a:lnTo>
                    <a:lnTo>
                      <a:pt x="385" y="543"/>
                    </a:lnTo>
                    <a:lnTo>
                      <a:pt x="394" y="508"/>
                    </a:lnTo>
                    <a:lnTo>
                      <a:pt x="369" y="519"/>
                    </a:lnTo>
                    <a:lnTo>
                      <a:pt x="356" y="532"/>
                    </a:lnTo>
                    <a:lnTo>
                      <a:pt x="356" y="515"/>
                    </a:lnTo>
                    <a:lnTo>
                      <a:pt x="356" y="469"/>
                    </a:lnTo>
                    <a:lnTo>
                      <a:pt x="337" y="469"/>
                    </a:lnTo>
                    <a:lnTo>
                      <a:pt x="319" y="466"/>
                    </a:lnTo>
                    <a:lnTo>
                      <a:pt x="255" y="469"/>
                    </a:lnTo>
                    <a:lnTo>
                      <a:pt x="240" y="484"/>
                    </a:lnTo>
                    <a:lnTo>
                      <a:pt x="236" y="475"/>
                    </a:lnTo>
                    <a:lnTo>
                      <a:pt x="198" y="479"/>
                    </a:lnTo>
                    <a:lnTo>
                      <a:pt x="161" y="495"/>
                    </a:lnTo>
                    <a:lnTo>
                      <a:pt x="152" y="512"/>
                    </a:lnTo>
                    <a:lnTo>
                      <a:pt x="152" y="51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a:off x="7365960" y="4406760"/>
                <a:ext cx="1261440" cy="1001880"/>
              </a:xfrm>
              <a:custGeom>
                <a:avLst/>
                <a:gdLst/>
                <a:ahLst/>
                <a:rect l="l" t="t" r="r" b="b"/>
                <a:pathLst>
                  <a:path w="768" h="631">
                    <a:moveTo>
                      <a:pt x="152" y="519"/>
                    </a:moveTo>
                    <a:lnTo>
                      <a:pt x="35" y="537"/>
                    </a:lnTo>
                    <a:lnTo>
                      <a:pt x="0" y="502"/>
                    </a:lnTo>
                    <a:lnTo>
                      <a:pt x="31" y="479"/>
                    </a:lnTo>
                    <a:lnTo>
                      <a:pt x="14" y="323"/>
                    </a:lnTo>
                    <a:lnTo>
                      <a:pt x="79" y="240"/>
                    </a:lnTo>
                    <a:lnTo>
                      <a:pt x="198" y="196"/>
                    </a:lnTo>
                    <a:lnTo>
                      <a:pt x="222" y="132"/>
                    </a:lnTo>
                    <a:lnTo>
                      <a:pt x="224" y="119"/>
                    </a:lnTo>
                    <a:lnTo>
                      <a:pt x="249" y="119"/>
                    </a:lnTo>
                    <a:lnTo>
                      <a:pt x="304" y="66"/>
                    </a:lnTo>
                    <a:lnTo>
                      <a:pt x="345" y="97"/>
                    </a:lnTo>
                    <a:lnTo>
                      <a:pt x="435" y="0"/>
                    </a:lnTo>
                    <a:lnTo>
                      <a:pt x="545" y="24"/>
                    </a:lnTo>
                    <a:lnTo>
                      <a:pt x="515" y="62"/>
                    </a:lnTo>
                    <a:lnTo>
                      <a:pt x="491" y="80"/>
                    </a:lnTo>
                    <a:lnTo>
                      <a:pt x="548" y="143"/>
                    </a:lnTo>
                    <a:lnTo>
                      <a:pt x="548" y="159"/>
                    </a:lnTo>
                    <a:lnTo>
                      <a:pt x="592" y="112"/>
                    </a:lnTo>
                    <a:lnTo>
                      <a:pt x="603" y="24"/>
                    </a:lnTo>
                    <a:lnTo>
                      <a:pt x="627" y="5"/>
                    </a:lnTo>
                    <a:lnTo>
                      <a:pt x="633" y="80"/>
                    </a:lnTo>
                    <a:lnTo>
                      <a:pt x="653" y="93"/>
                    </a:lnTo>
                    <a:lnTo>
                      <a:pt x="657" y="132"/>
                    </a:lnTo>
                    <a:lnTo>
                      <a:pt x="660" y="172"/>
                    </a:lnTo>
                    <a:lnTo>
                      <a:pt x="715" y="198"/>
                    </a:lnTo>
                    <a:lnTo>
                      <a:pt x="734" y="280"/>
                    </a:lnTo>
                    <a:lnTo>
                      <a:pt x="768" y="312"/>
                    </a:lnTo>
                    <a:lnTo>
                      <a:pt x="723" y="444"/>
                    </a:lnTo>
                    <a:lnTo>
                      <a:pt x="611" y="556"/>
                    </a:lnTo>
                    <a:lnTo>
                      <a:pt x="574" y="590"/>
                    </a:lnTo>
                    <a:lnTo>
                      <a:pt x="574" y="603"/>
                    </a:lnTo>
                    <a:lnTo>
                      <a:pt x="508" y="631"/>
                    </a:lnTo>
                    <a:lnTo>
                      <a:pt x="495" y="613"/>
                    </a:lnTo>
                    <a:lnTo>
                      <a:pt x="460" y="625"/>
                    </a:lnTo>
                    <a:lnTo>
                      <a:pt x="409" y="618"/>
                    </a:lnTo>
                    <a:lnTo>
                      <a:pt x="394" y="607"/>
                    </a:lnTo>
                    <a:lnTo>
                      <a:pt x="394" y="590"/>
                    </a:lnTo>
                    <a:lnTo>
                      <a:pt x="394" y="572"/>
                    </a:lnTo>
                    <a:lnTo>
                      <a:pt x="385" y="565"/>
                    </a:lnTo>
                    <a:lnTo>
                      <a:pt x="385" y="556"/>
                    </a:lnTo>
                    <a:lnTo>
                      <a:pt x="385" y="543"/>
                    </a:lnTo>
                    <a:lnTo>
                      <a:pt x="394" y="508"/>
                    </a:lnTo>
                    <a:lnTo>
                      <a:pt x="369" y="519"/>
                    </a:lnTo>
                    <a:lnTo>
                      <a:pt x="356" y="532"/>
                    </a:lnTo>
                    <a:lnTo>
                      <a:pt x="356" y="515"/>
                    </a:lnTo>
                    <a:lnTo>
                      <a:pt x="356" y="469"/>
                    </a:lnTo>
                    <a:lnTo>
                      <a:pt x="337" y="469"/>
                    </a:lnTo>
                    <a:lnTo>
                      <a:pt x="319" y="466"/>
                    </a:lnTo>
                    <a:lnTo>
                      <a:pt x="255" y="469"/>
                    </a:lnTo>
                    <a:lnTo>
                      <a:pt x="240" y="484"/>
                    </a:lnTo>
                    <a:lnTo>
                      <a:pt x="236" y="475"/>
                    </a:lnTo>
                    <a:lnTo>
                      <a:pt x="198" y="479"/>
                    </a:lnTo>
                    <a:lnTo>
                      <a:pt x="161" y="495"/>
                    </a:lnTo>
                    <a:lnTo>
                      <a:pt x="152" y="512"/>
                    </a:lnTo>
                    <a:lnTo>
                      <a:pt x="152" y="51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a:off x="8103600" y="4054320"/>
                <a:ext cx="724320" cy="335160"/>
              </a:xfrm>
              <a:custGeom>
                <a:avLst/>
                <a:gdLst/>
                <a:ahLst/>
                <a:rect l="l" t="t" r="r" b="b"/>
                <a:pathLst>
                  <a:path w="441" h="211">
                    <a:moveTo>
                      <a:pt x="0" y="16"/>
                    </a:moveTo>
                    <a:lnTo>
                      <a:pt x="35" y="25"/>
                    </a:lnTo>
                    <a:lnTo>
                      <a:pt x="42" y="38"/>
                    </a:lnTo>
                    <a:lnTo>
                      <a:pt x="24" y="57"/>
                    </a:lnTo>
                    <a:lnTo>
                      <a:pt x="42" y="86"/>
                    </a:lnTo>
                    <a:lnTo>
                      <a:pt x="66" y="73"/>
                    </a:lnTo>
                    <a:lnTo>
                      <a:pt x="143" y="117"/>
                    </a:lnTo>
                    <a:lnTo>
                      <a:pt x="138" y="165"/>
                    </a:lnTo>
                    <a:lnTo>
                      <a:pt x="151" y="163"/>
                    </a:lnTo>
                    <a:lnTo>
                      <a:pt x="193" y="196"/>
                    </a:lnTo>
                    <a:lnTo>
                      <a:pt x="204" y="189"/>
                    </a:lnTo>
                    <a:lnTo>
                      <a:pt x="217" y="192"/>
                    </a:lnTo>
                    <a:lnTo>
                      <a:pt x="253" y="163"/>
                    </a:lnTo>
                    <a:lnTo>
                      <a:pt x="270" y="165"/>
                    </a:lnTo>
                    <a:lnTo>
                      <a:pt x="336" y="211"/>
                    </a:lnTo>
                    <a:lnTo>
                      <a:pt x="374" y="207"/>
                    </a:lnTo>
                    <a:lnTo>
                      <a:pt x="319" y="148"/>
                    </a:lnTo>
                    <a:lnTo>
                      <a:pt x="327" y="119"/>
                    </a:lnTo>
                    <a:lnTo>
                      <a:pt x="420" y="117"/>
                    </a:lnTo>
                    <a:lnTo>
                      <a:pt x="441" y="79"/>
                    </a:lnTo>
                    <a:lnTo>
                      <a:pt x="382" y="44"/>
                    </a:lnTo>
                    <a:lnTo>
                      <a:pt x="422" y="73"/>
                    </a:lnTo>
                    <a:lnTo>
                      <a:pt x="420" y="95"/>
                    </a:lnTo>
                    <a:lnTo>
                      <a:pt x="318" y="106"/>
                    </a:lnTo>
                    <a:lnTo>
                      <a:pt x="217" y="49"/>
                    </a:lnTo>
                    <a:lnTo>
                      <a:pt x="141" y="0"/>
                    </a:lnTo>
                    <a:lnTo>
                      <a:pt x="72" y="47"/>
                    </a:lnTo>
                    <a:lnTo>
                      <a:pt x="55" y="9"/>
                    </a:lnTo>
                    <a:lnTo>
                      <a:pt x="0" y="1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5" name=""/>
              <p:cNvSpPr/>
              <p:nvPr/>
            </p:nvSpPr>
            <p:spPr>
              <a:xfrm>
                <a:off x="8103600" y="4054320"/>
                <a:ext cx="724320" cy="335160"/>
              </a:xfrm>
              <a:custGeom>
                <a:avLst/>
                <a:gdLst/>
                <a:ahLst/>
                <a:rect l="l" t="t" r="r" b="b"/>
                <a:pathLst>
                  <a:path w="441" h="211">
                    <a:moveTo>
                      <a:pt x="0" y="16"/>
                    </a:moveTo>
                    <a:lnTo>
                      <a:pt x="35" y="25"/>
                    </a:lnTo>
                    <a:lnTo>
                      <a:pt x="42" y="38"/>
                    </a:lnTo>
                    <a:lnTo>
                      <a:pt x="24" y="57"/>
                    </a:lnTo>
                    <a:lnTo>
                      <a:pt x="42" y="86"/>
                    </a:lnTo>
                    <a:lnTo>
                      <a:pt x="66" y="73"/>
                    </a:lnTo>
                    <a:lnTo>
                      <a:pt x="143" y="117"/>
                    </a:lnTo>
                    <a:lnTo>
                      <a:pt x="138" y="165"/>
                    </a:lnTo>
                    <a:lnTo>
                      <a:pt x="151" y="163"/>
                    </a:lnTo>
                    <a:lnTo>
                      <a:pt x="193" y="196"/>
                    </a:lnTo>
                    <a:lnTo>
                      <a:pt x="204" y="189"/>
                    </a:lnTo>
                    <a:lnTo>
                      <a:pt x="217" y="192"/>
                    </a:lnTo>
                    <a:lnTo>
                      <a:pt x="253" y="163"/>
                    </a:lnTo>
                    <a:lnTo>
                      <a:pt x="270" y="165"/>
                    </a:lnTo>
                    <a:lnTo>
                      <a:pt x="336" y="211"/>
                    </a:lnTo>
                    <a:lnTo>
                      <a:pt x="374" y="207"/>
                    </a:lnTo>
                    <a:lnTo>
                      <a:pt x="319" y="148"/>
                    </a:lnTo>
                    <a:lnTo>
                      <a:pt x="327" y="119"/>
                    </a:lnTo>
                    <a:lnTo>
                      <a:pt x="420" y="117"/>
                    </a:lnTo>
                    <a:lnTo>
                      <a:pt x="441" y="79"/>
                    </a:lnTo>
                    <a:lnTo>
                      <a:pt x="382" y="44"/>
                    </a:lnTo>
                    <a:lnTo>
                      <a:pt x="422" y="73"/>
                    </a:lnTo>
                    <a:lnTo>
                      <a:pt x="420" y="95"/>
                    </a:lnTo>
                    <a:lnTo>
                      <a:pt x="318" y="106"/>
                    </a:lnTo>
                    <a:lnTo>
                      <a:pt x="217" y="49"/>
                    </a:lnTo>
                    <a:lnTo>
                      <a:pt x="141" y="0"/>
                    </a:lnTo>
                    <a:lnTo>
                      <a:pt x="72" y="47"/>
                    </a:lnTo>
                    <a:lnTo>
                      <a:pt x="55" y="9"/>
                    </a:lnTo>
                    <a:lnTo>
                      <a:pt x="0" y="1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6" name=""/>
              <p:cNvSpPr/>
              <p:nvPr/>
            </p:nvSpPr>
            <p:spPr>
              <a:xfrm>
                <a:off x="8601480" y="5394240"/>
                <a:ext cx="325080" cy="266760"/>
              </a:xfrm>
              <a:custGeom>
                <a:avLst/>
                <a:gdLst/>
                <a:ahLst/>
                <a:rect l="l" t="t" r="r" b="b"/>
                <a:pathLst>
                  <a:path w="198" h="168">
                    <a:moveTo>
                      <a:pt x="75" y="88"/>
                    </a:moveTo>
                    <a:lnTo>
                      <a:pt x="15" y="106"/>
                    </a:lnTo>
                    <a:lnTo>
                      <a:pt x="4" y="115"/>
                    </a:lnTo>
                    <a:lnTo>
                      <a:pt x="0" y="168"/>
                    </a:lnTo>
                    <a:lnTo>
                      <a:pt x="110" y="97"/>
                    </a:lnTo>
                    <a:lnTo>
                      <a:pt x="114" y="88"/>
                    </a:lnTo>
                    <a:lnTo>
                      <a:pt x="121" y="82"/>
                    </a:lnTo>
                    <a:lnTo>
                      <a:pt x="141" y="82"/>
                    </a:lnTo>
                    <a:lnTo>
                      <a:pt x="198" y="40"/>
                    </a:lnTo>
                    <a:lnTo>
                      <a:pt x="174" y="35"/>
                    </a:lnTo>
                    <a:lnTo>
                      <a:pt x="163" y="0"/>
                    </a:lnTo>
                    <a:lnTo>
                      <a:pt x="75" y="8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
              <p:cNvSpPr/>
              <p:nvPr/>
            </p:nvSpPr>
            <p:spPr>
              <a:xfrm>
                <a:off x="8601480" y="5394240"/>
                <a:ext cx="325080" cy="266760"/>
              </a:xfrm>
              <a:custGeom>
                <a:avLst/>
                <a:gdLst/>
                <a:ahLst/>
                <a:rect l="l" t="t" r="r" b="b"/>
                <a:pathLst>
                  <a:path w="198" h="168">
                    <a:moveTo>
                      <a:pt x="75" y="88"/>
                    </a:moveTo>
                    <a:lnTo>
                      <a:pt x="15" y="106"/>
                    </a:lnTo>
                    <a:lnTo>
                      <a:pt x="4" y="115"/>
                    </a:lnTo>
                    <a:lnTo>
                      <a:pt x="0" y="168"/>
                    </a:lnTo>
                    <a:lnTo>
                      <a:pt x="110" y="97"/>
                    </a:lnTo>
                    <a:lnTo>
                      <a:pt x="114" y="88"/>
                    </a:lnTo>
                    <a:lnTo>
                      <a:pt x="121" y="82"/>
                    </a:lnTo>
                    <a:lnTo>
                      <a:pt x="141" y="82"/>
                    </a:lnTo>
                    <a:lnTo>
                      <a:pt x="198" y="40"/>
                    </a:lnTo>
                    <a:lnTo>
                      <a:pt x="174" y="35"/>
                    </a:lnTo>
                    <a:lnTo>
                      <a:pt x="163" y="0"/>
                    </a:lnTo>
                    <a:lnTo>
                      <a:pt x="75" y="8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8" name=""/>
              <p:cNvSpPr/>
              <p:nvPr/>
            </p:nvSpPr>
            <p:spPr>
              <a:xfrm>
                <a:off x="8938080" y="5172120"/>
                <a:ext cx="205200" cy="274680"/>
              </a:xfrm>
              <a:custGeom>
                <a:avLst/>
                <a:gdLst/>
                <a:ahLst/>
                <a:rect l="l" t="t" r="r" b="b"/>
                <a:pathLst>
                  <a:path w="125" h="173">
                    <a:moveTo>
                      <a:pt x="0" y="173"/>
                    </a:moveTo>
                    <a:lnTo>
                      <a:pt x="22" y="153"/>
                    </a:lnTo>
                    <a:lnTo>
                      <a:pt x="24" y="121"/>
                    </a:lnTo>
                    <a:lnTo>
                      <a:pt x="21" y="116"/>
                    </a:lnTo>
                    <a:lnTo>
                      <a:pt x="10" y="114"/>
                    </a:lnTo>
                    <a:lnTo>
                      <a:pt x="54" y="74"/>
                    </a:lnTo>
                    <a:lnTo>
                      <a:pt x="72" y="57"/>
                    </a:lnTo>
                    <a:lnTo>
                      <a:pt x="54" y="2"/>
                    </a:lnTo>
                    <a:lnTo>
                      <a:pt x="57" y="0"/>
                    </a:lnTo>
                    <a:lnTo>
                      <a:pt x="88" y="61"/>
                    </a:lnTo>
                    <a:lnTo>
                      <a:pt x="125" y="75"/>
                    </a:lnTo>
                    <a:lnTo>
                      <a:pt x="116" y="92"/>
                    </a:lnTo>
                    <a:lnTo>
                      <a:pt x="116" y="108"/>
                    </a:lnTo>
                    <a:lnTo>
                      <a:pt x="125" y="125"/>
                    </a:lnTo>
                    <a:lnTo>
                      <a:pt x="87" y="129"/>
                    </a:lnTo>
                    <a:lnTo>
                      <a:pt x="65" y="125"/>
                    </a:lnTo>
                    <a:lnTo>
                      <a:pt x="48" y="147"/>
                    </a:lnTo>
                    <a:lnTo>
                      <a:pt x="26" y="162"/>
                    </a:lnTo>
                    <a:lnTo>
                      <a:pt x="4" y="17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9" name=""/>
              <p:cNvSpPr/>
              <p:nvPr/>
            </p:nvSpPr>
            <p:spPr>
              <a:xfrm>
                <a:off x="8938080" y="5172120"/>
                <a:ext cx="205200" cy="274680"/>
              </a:xfrm>
              <a:custGeom>
                <a:avLst/>
                <a:gdLst/>
                <a:ahLst/>
                <a:rect l="l" t="t" r="r" b="b"/>
                <a:pathLst>
                  <a:path w="125" h="173">
                    <a:moveTo>
                      <a:pt x="0" y="173"/>
                    </a:moveTo>
                    <a:lnTo>
                      <a:pt x="22" y="153"/>
                    </a:lnTo>
                    <a:lnTo>
                      <a:pt x="24" y="121"/>
                    </a:lnTo>
                    <a:lnTo>
                      <a:pt x="21" y="116"/>
                    </a:lnTo>
                    <a:lnTo>
                      <a:pt x="10" y="114"/>
                    </a:lnTo>
                    <a:lnTo>
                      <a:pt x="54" y="74"/>
                    </a:lnTo>
                    <a:lnTo>
                      <a:pt x="72" y="57"/>
                    </a:lnTo>
                    <a:lnTo>
                      <a:pt x="54" y="2"/>
                    </a:lnTo>
                    <a:lnTo>
                      <a:pt x="57" y="0"/>
                    </a:lnTo>
                    <a:lnTo>
                      <a:pt x="88" y="61"/>
                    </a:lnTo>
                    <a:lnTo>
                      <a:pt x="125" y="75"/>
                    </a:lnTo>
                    <a:lnTo>
                      <a:pt x="116" y="92"/>
                    </a:lnTo>
                    <a:lnTo>
                      <a:pt x="116" y="108"/>
                    </a:lnTo>
                    <a:lnTo>
                      <a:pt x="125" y="125"/>
                    </a:lnTo>
                    <a:lnTo>
                      <a:pt x="87" y="129"/>
                    </a:lnTo>
                    <a:lnTo>
                      <a:pt x="65" y="125"/>
                    </a:lnTo>
                    <a:lnTo>
                      <a:pt x="48" y="147"/>
                    </a:lnTo>
                    <a:lnTo>
                      <a:pt x="26" y="162"/>
                    </a:lnTo>
                    <a:lnTo>
                      <a:pt x="4" y="17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0" name=""/>
              <p:cNvSpPr/>
              <p:nvPr/>
            </p:nvSpPr>
            <p:spPr>
              <a:xfrm>
                <a:off x="8077320" y="5449680"/>
                <a:ext cx="101880" cy="95400"/>
              </a:xfrm>
              <a:custGeom>
                <a:avLst/>
                <a:gdLst/>
                <a:ahLst/>
                <a:rect l="l" t="t" r="r" b="b"/>
                <a:pathLst>
                  <a:path w="62" h="60">
                    <a:moveTo>
                      <a:pt x="9" y="0"/>
                    </a:moveTo>
                    <a:lnTo>
                      <a:pt x="0" y="31"/>
                    </a:lnTo>
                    <a:lnTo>
                      <a:pt x="11" y="49"/>
                    </a:lnTo>
                    <a:lnTo>
                      <a:pt x="35" y="60"/>
                    </a:lnTo>
                    <a:lnTo>
                      <a:pt x="51" y="47"/>
                    </a:lnTo>
                    <a:lnTo>
                      <a:pt x="55" y="40"/>
                    </a:lnTo>
                    <a:lnTo>
                      <a:pt x="60" y="29"/>
                    </a:lnTo>
                    <a:lnTo>
                      <a:pt x="62" y="5"/>
                    </a:lnTo>
                    <a:lnTo>
                      <a:pt x="31" y="29"/>
                    </a:lnTo>
                    <a:lnTo>
                      <a:pt x="9" y="3"/>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1" name=""/>
              <p:cNvSpPr/>
              <p:nvPr/>
            </p:nvSpPr>
            <p:spPr>
              <a:xfrm>
                <a:off x="8077320" y="5449680"/>
                <a:ext cx="101880" cy="95400"/>
              </a:xfrm>
              <a:custGeom>
                <a:avLst/>
                <a:gdLst/>
                <a:ahLst/>
                <a:rect l="l" t="t" r="r" b="b"/>
                <a:pathLst>
                  <a:path w="62" h="60">
                    <a:moveTo>
                      <a:pt x="9" y="0"/>
                    </a:moveTo>
                    <a:lnTo>
                      <a:pt x="0" y="31"/>
                    </a:lnTo>
                    <a:lnTo>
                      <a:pt x="11" y="49"/>
                    </a:lnTo>
                    <a:lnTo>
                      <a:pt x="35" y="60"/>
                    </a:lnTo>
                    <a:lnTo>
                      <a:pt x="51" y="47"/>
                    </a:lnTo>
                    <a:lnTo>
                      <a:pt x="55" y="40"/>
                    </a:lnTo>
                    <a:lnTo>
                      <a:pt x="60" y="29"/>
                    </a:lnTo>
                    <a:lnTo>
                      <a:pt x="62" y="5"/>
                    </a:lnTo>
                    <a:lnTo>
                      <a:pt x="31" y="29"/>
                    </a:lnTo>
                    <a:lnTo>
                      <a:pt x="9" y="3"/>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2" name=""/>
              <p:cNvSpPr/>
              <p:nvPr/>
            </p:nvSpPr>
            <p:spPr>
              <a:xfrm>
                <a:off x="7712640" y="3970440"/>
                <a:ext cx="249840" cy="290520"/>
              </a:xfrm>
              <a:custGeom>
                <a:avLst/>
                <a:gdLst/>
                <a:ahLst/>
                <a:rect l="l" t="t" r="r" b="b"/>
                <a:pathLst>
                  <a:path w="152" h="183">
                    <a:moveTo>
                      <a:pt x="49" y="0"/>
                    </a:moveTo>
                    <a:lnTo>
                      <a:pt x="0" y="102"/>
                    </a:lnTo>
                    <a:lnTo>
                      <a:pt x="25" y="123"/>
                    </a:lnTo>
                    <a:lnTo>
                      <a:pt x="20" y="183"/>
                    </a:lnTo>
                    <a:lnTo>
                      <a:pt x="27" y="183"/>
                    </a:lnTo>
                    <a:lnTo>
                      <a:pt x="44" y="117"/>
                    </a:lnTo>
                    <a:lnTo>
                      <a:pt x="73" y="146"/>
                    </a:lnTo>
                    <a:lnTo>
                      <a:pt x="79" y="139"/>
                    </a:lnTo>
                    <a:lnTo>
                      <a:pt x="64" y="88"/>
                    </a:lnTo>
                    <a:lnTo>
                      <a:pt x="95" y="53"/>
                    </a:lnTo>
                    <a:lnTo>
                      <a:pt x="64" y="62"/>
                    </a:lnTo>
                    <a:lnTo>
                      <a:pt x="40" y="34"/>
                    </a:lnTo>
                    <a:lnTo>
                      <a:pt x="53" y="14"/>
                    </a:lnTo>
                    <a:lnTo>
                      <a:pt x="113" y="25"/>
                    </a:lnTo>
                    <a:lnTo>
                      <a:pt x="137" y="22"/>
                    </a:lnTo>
                    <a:lnTo>
                      <a:pt x="152" y="0"/>
                    </a:lnTo>
                    <a:lnTo>
                      <a:pt x="137" y="5"/>
                    </a:lnTo>
                    <a:lnTo>
                      <a:pt x="49"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7712640" y="3970440"/>
                <a:ext cx="249840" cy="290520"/>
              </a:xfrm>
              <a:custGeom>
                <a:avLst/>
                <a:gdLst/>
                <a:ahLst/>
                <a:rect l="l" t="t" r="r" b="b"/>
                <a:pathLst>
                  <a:path w="152" h="183">
                    <a:moveTo>
                      <a:pt x="49" y="0"/>
                    </a:moveTo>
                    <a:lnTo>
                      <a:pt x="0" y="102"/>
                    </a:lnTo>
                    <a:lnTo>
                      <a:pt x="25" y="123"/>
                    </a:lnTo>
                    <a:lnTo>
                      <a:pt x="20" y="183"/>
                    </a:lnTo>
                    <a:lnTo>
                      <a:pt x="27" y="183"/>
                    </a:lnTo>
                    <a:lnTo>
                      <a:pt x="44" y="117"/>
                    </a:lnTo>
                    <a:lnTo>
                      <a:pt x="73" y="146"/>
                    </a:lnTo>
                    <a:lnTo>
                      <a:pt x="79" y="139"/>
                    </a:lnTo>
                    <a:lnTo>
                      <a:pt x="64" y="88"/>
                    </a:lnTo>
                    <a:lnTo>
                      <a:pt x="95" y="53"/>
                    </a:lnTo>
                    <a:lnTo>
                      <a:pt x="64" y="62"/>
                    </a:lnTo>
                    <a:lnTo>
                      <a:pt x="40" y="34"/>
                    </a:lnTo>
                    <a:lnTo>
                      <a:pt x="53" y="14"/>
                    </a:lnTo>
                    <a:lnTo>
                      <a:pt x="113" y="25"/>
                    </a:lnTo>
                    <a:lnTo>
                      <a:pt x="137" y="22"/>
                    </a:lnTo>
                    <a:lnTo>
                      <a:pt x="152" y="0"/>
                    </a:lnTo>
                    <a:lnTo>
                      <a:pt x="137" y="5"/>
                    </a:lnTo>
                    <a:lnTo>
                      <a:pt x="49"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4" name=""/>
              <p:cNvSpPr/>
              <p:nvPr/>
            </p:nvSpPr>
            <p:spPr>
              <a:xfrm>
                <a:off x="7333200" y="4235400"/>
                <a:ext cx="289080" cy="92160"/>
              </a:xfrm>
              <a:custGeom>
                <a:avLst/>
                <a:gdLst/>
                <a:ahLst/>
                <a:rect l="l" t="t" r="r" b="b"/>
                <a:pathLst>
                  <a:path w="176" h="58">
                    <a:moveTo>
                      <a:pt x="1" y="0"/>
                    </a:moveTo>
                    <a:lnTo>
                      <a:pt x="0" y="12"/>
                    </a:lnTo>
                    <a:lnTo>
                      <a:pt x="7" y="29"/>
                    </a:lnTo>
                    <a:lnTo>
                      <a:pt x="176" y="58"/>
                    </a:lnTo>
                    <a:lnTo>
                      <a:pt x="124" y="9"/>
                    </a:lnTo>
                    <a:lnTo>
                      <a:pt x="119" y="5"/>
                    </a:lnTo>
                    <a:lnTo>
                      <a:pt x="113" y="18"/>
                    </a:lnTo>
                    <a:lnTo>
                      <a:pt x="1" y="0"/>
                    </a:lnTo>
                  </a:path>
                </a:pathLst>
              </a:custGeom>
              <a:solidFill>
                <a:srgbClr val="000080">
                  <a:alpha val="50000"/>
                </a:srgbClr>
              </a:solidFill>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5" name=""/>
              <p:cNvSpPr/>
              <p:nvPr/>
            </p:nvSpPr>
            <p:spPr>
              <a:xfrm>
                <a:off x="7333200" y="4235400"/>
                <a:ext cx="289080" cy="92160"/>
              </a:xfrm>
              <a:custGeom>
                <a:avLst/>
                <a:gdLst/>
                <a:ahLst/>
                <a:rect l="l" t="t" r="r" b="b"/>
                <a:pathLst>
                  <a:path w="176" h="58">
                    <a:moveTo>
                      <a:pt x="1" y="0"/>
                    </a:moveTo>
                    <a:lnTo>
                      <a:pt x="0" y="12"/>
                    </a:lnTo>
                    <a:lnTo>
                      <a:pt x="7" y="29"/>
                    </a:lnTo>
                    <a:lnTo>
                      <a:pt x="176" y="58"/>
                    </a:lnTo>
                    <a:lnTo>
                      <a:pt x="124" y="9"/>
                    </a:lnTo>
                    <a:lnTo>
                      <a:pt x="119" y="5"/>
                    </a:lnTo>
                    <a:lnTo>
                      <a:pt x="113" y="18"/>
                    </a:lnTo>
                    <a:lnTo>
                      <a:pt x="1" y="0"/>
                    </a:lnTo>
                  </a:path>
                </a:pathLst>
              </a:custGeom>
              <a:solidFill>
                <a:srgbClr val="000080">
                  <a:alpha val="50000"/>
                </a:srgbClr>
              </a:solidFill>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76" name=""/>
              <p:cNvSpPr/>
              <p:nvPr/>
            </p:nvSpPr>
            <p:spPr>
              <a:xfrm>
                <a:off x="7648560" y="4306680"/>
                <a:ext cx="82080" cy="33480"/>
              </a:xfrm>
              <a:custGeom>
                <a:avLst/>
                <a:gdLst/>
                <a:ahLst/>
                <a:rect l="l" t="t" r="r" b="b"/>
                <a:pathLst>
                  <a:path w="50" h="21">
                    <a:moveTo>
                      <a:pt x="0" y="13"/>
                    </a:moveTo>
                    <a:lnTo>
                      <a:pt x="50" y="0"/>
                    </a:lnTo>
                    <a:lnTo>
                      <a:pt x="46" y="21"/>
                    </a:lnTo>
                    <a:lnTo>
                      <a:pt x="0" y="15"/>
                    </a:lnTo>
                  </a:path>
                </a:pathLst>
              </a:custGeom>
              <a:solidFill>
                <a:srgbClr val="000080">
                  <a:alpha val="50000"/>
                </a:srgbClr>
              </a:solidFill>
              <a:ln w="0">
                <a:solidFill>
                  <a:srgbClr val="0000ff"/>
                </a:solid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077" name=""/>
              <p:cNvSpPr/>
              <p:nvPr/>
            </p:nvSpPr>
            <p:spPr>
              <a:xfrm>
                <a:off x="7648560" y="4306680"/>
                <a:ext cx="82080" cy="33480"/>
              </a:xfrm>
              <a:custGeom>
                <a:avLst/>
                <a:gdLst/>
                <a:ahLst/>
                <a:rect l="l" t="t" r="r" b="b"/>
                <a:pathLst>
                  <a:path w="50" h="21">
                    <a:moveTo>
                      <a:pt x="0" y="13"/>
                    </a:moveTo>
                    <a:lnTo>
                      <a:pt x="50" y="0"/>
                    </a:lnTo>
                    <a:lnTo>
                      <a:pt x="46" y="21"/>
                    </a:lnTo>
                    <a:lnTo>
                      <a:pt x="0" y="15"/>
                    </a:lnTo>
                  </a:path>
                </a:pathLst>
              </a:custGeom>
              <a:solidFill>
                <a:srgbClr val="000080">
                  <a:alpha val="50000"/>
                </a:srgbClr>
              </a:solidFill>
              <a:ln w="0">
                <a:solidFill>
                  <a:srgbClr val="0000ff"/>
                </a:solid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078" name=""/>
              <p:cNvSpPr/>
              <p:nvPr/>
            </p:nvSpPr>
            <p:spPr>
              <a:xfrm>
                <a:off x="7754040" y="4362480"/>
                <a:ext cx="52200" cy="38160"/>
              </a:xfrm>
              <a:custGeom>
                <a:avLst/>
                <a:gdLst/>
                <a:ahLst/>
                <a:rect l="l" t="t" r="r" b="b"/>
                <a:pathLst>
                  <a:path w="32" h="24">
                    <a:moveTo>
                      <a:pt x="0" y="0"/>
                    </a:moveTo>
                    <a:lnTo>
                      <a:pt x="32" y="24"/>
                    </a:lnTo>
                    <a:lnTo>
                      <a:pt x="32" y="13"/>
                    </a:lnTo>
                    <a:lnTo>
                      <a:pt x="24" y="2"/>
                    </a:lnTo>
                    <a:lnTo>
                      <a:pt x="2" y="2"/>
                    </a:lnTo>
                  </a:path>
                </a:pathLst>
              </a:custGeom>
              <a:solidFill>
                <a:srgbClr val="000080">
                  <a:alpha val="50000"/>
                </a:srgbClr>
              </a:solidFill>
              <a:ln w="0">
                <a:solidFill>
                  <a:srgbClr val="0000ff"/>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079" name=""/>
              <p:cNvSpPr/>
              <p:nvPr/>
            </p:nvSpPr>
            <p:spPr>
              <a:xfrm>
                <a:off x="7754040" y="4362480"/>
                <a:ext cx="52200" cy="38160"/>
              </a:xfrm>
              <a:custGeom>
                <a:avLst/>
                <a:gdLst/>
                <a:ahLst/>
                <a:rect l="l" t="t" r="r" b="b"/>
                <a:pathLst>
                  <a:path w="32" h="24">
                    <a:moveTo>
                      <a:pt x="0" y="0"/>
                    </a:moveTo>
                    <a:lnTo>
                      <a:pt x="32" y="24"/>
                    </a:lnTo>
                    <a:lnTo>
                      <a:pt x="32" y="13"/>
                    </a:lnTo>
                    <a:lnTo>
                      <a:pt x="24" y="2"/>
                    </a:lnTo>
                    <a:lnTo>
                      <a:pt x="2" y="2"/>
                    </a:lnTo>
                  </a:path>
                </a:pathLst>
              </a:custGeom>
              <a:solidFill>
                <a:srgbClr val="000080">
                  <a:alpha val="50000"/>
                </a:srgbClr>
              </a:solidFill>
              <a:ln w="0">
                <a:solidFill>
                  <a:srgbClr val="0000ff"/>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080" name=""/>
              <p:cNvSpPr/>
              <p:nvPr/>
            </p:nvSpPr>
            <p:spPr>
              <a:xfrm>
                <a:off x="7778520" y="4305240"/>
                <a:ext cx="78480" cy="25560"/>
              </a:xfrm>
              <a:custGeom>
                <a:avLst/>
                <a:gdLst/>
                <a:ahLst/>
                <a:rect l="l" t="t" r="r" b="b"/>
                <a:pathLst>
                  <a:path w="48" h="16">
                    <a:moveTo>
                      <a:pt x="0" y="0"/>
                    </a:moveTo>
                    <a:lnTo>
                      <a:pt x="26" y="9"/>
                    </a:lnTo>
                    <a:lnTo>
                      <a:pt x="48" y="1"/>
                    </a:lnTo>
                    <a:lnTo>
                      <a:pt x="33" y="16"/>
                    </a:lnTo>
                    <a:lnTo>
                      <a:pt x="2" y="16"/>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81" name=""/>
              <p:cNvSpPr/>
              <p:nvPr/>
            </p:nvSpPr>
            <p:spPr>
              <a:xfrm>
                <a:off x="7778520" y="4305240"/>
                <a:ext cx="78480" cy="25560"/>
              </a:xfrm>
              <a:custGeom>
                <a:avLst/>
                <a:gdLst/>
                <a:ahLst/>
                <a:rect l="l" t="t" r="r" b="b"/>
                <a:pathLst>
                  <a:path w="48" h="16">
                    <a:moveTo>
                      <a:pt x="0" y="0"/>
                    </a:moveTo>
                    <a:lnTo>
                      <a:pt x="26" y="9"/>
                    </a:lnTo>
                    <a:lnTo>
                      <a:pt x="48" y="1"/>
                    </a:lnTo>
                    <a:lnTo>
                      <a:pt x="33" y="16"/>
                    </a:lnTo>
                    <a:lnTo>
                      <a:pt x="2" y="16"/>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082" name=""/>
              <p:cNvSpPr/>
              <p:nvPr/>
            </p:nvSpPr>
            <p:spPr>
              <a:xfrm>
                <a:off x="7860240" y="4305240"/>
                <a:ext cx="116280" cy="77760"/>
              </a:xfrm>
              <a:custGeom>
                <a:avLst/>
                <a:gdLst/>
                <a:ahLst/>
                <a:rect l="l" t="t" r="r" b="b"/>
                <a:pathLst>
                  <a:path w="71" h="49">
                    <a:moveTo>
                      <a:pt x="0" y="45"/>
                    </a:moveTo>
                    <a:lnTo>
                      <a:pt x="5" y="25"/>
                    </a:lnTo>
                    <a:lnTo>
                      <a:pt x="23" y="9"/>
                    </a:lnTo>
                    <a:lnTo>
                      <a:pt x="47" y="0"/>
                    </a:lnTo>
                    <a:lnTo>
                      <a:pt x="71" y="7"/>
                    </a:lnTo>
                    <a:lnTo>
                      <a:pt x="0" y="49"/>
                    </a:lnTo>
                  </a:path>
                </a:pathLst>
              </a:custGeom>
              <a:solidFill>
                <a:srgbClr val="000080">
                  <a:alpha val="50000"/>
                </a:srgbClr>
              </a:solidFill>
              <a:ln w="0">
                <a:solidFill>
                  <a:srgbClr val="0000ff"/>
                </a:solid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83" name=""/>
              <p:cNvSpPr/>
              <p:nvPr/>
            </p:nvSpPr>
            <p:spPr>
              <a:xfrm>
                <a:off x="7860240" y="4305240"/>
                <a:ext cx="116280" cy="77760"/>
              </a:xfrm>
              <a:custGeom>
                <a:avLst/>
                <a:gdLst/>
                <a:ahLst/>
                <a:rect l="l" t="t" r="r" b="b"/>
                <a:pathLst>
                  <a:path w="71" h="49">
                    <a:moveTo>
                      <a:pt x="0" y="45"/>
                    </a:moveTo>
                    <a:lnTo>
                      <a:pt x="5" y="25"/>
                    </a:lnTo>
                    <a:lnTo>
                      <a:pt x="23" y="9"/>
                    </a:lnTo>
                    <a:lnTo>
                      <a:pt x="47" y="0"/>
                    </a:lnTo>
                    <a:lnTo>
                      <a:pt x="71" y="7"/>
                    </a:lnTo>
                    <a:lnTo>
                      <a:pt x="0" y="49"/>
                    </a:lnTo>
                  </a:path>
                </a:pathLst>
              </a:custGeom>
              <a:solidFill>
                <a:srgbClr val="000080">
                  <a:alpha val="50000"/>
                </a:srgbClr>
              </a:solidFill>
              <a:ln w="0">
                <a:solidFill>
                  <a:srgbClr val="0000ff"/>
                </a:solid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84" name=""/>
              <p:cNvSpPr/>
              <p:nvPr/>
            </p:nvSpPr>
            <p:spPr>
              <a:xfrm>
                <a:off x="5810400" y="1350720"/>
                <a:ext cx="195480" cy="114480"/>
              </a:xfrm>
              <a:custGeom>
                <a:avLst/>
                <a:gdLst/>
                <a:ahLst/>
                <a:rect l="l" t="t" r="r" b="b"/>
                <a:pathLst>
                  <a:path w="119" h="72">
                    <a:moveTo>
                      <a:pt x="2" y="19"/>
                    </a:moveTo>
                    <a:lnTo>
                      <a:pt x="0" y="65"/>
                    </a:lnTo>
                    <a:lnTo>
                      <a:pt x="22" y="72"/>
                    </a:lnTo>
                    <a:lnTo>
                      <a:pt x="22" y="59"/>
                    </a:lnTo>
                    <a:lnTo>
                      <a:pt x="119" y="63"/>
                    </a:lnTo>
                    <a:lnTo>
                      <a:pt x="81" y="11"/>
                    </a:lnTo>
                    <a:lnTo>
                      <a:pt x="61" y="0"/>
                    </a:lnTo>
                    <a:lnTo>
                      <a:pt x="61" y="13"/>
                    </a:lnTo>
                    <a:lnTo>
                      <a:pt x="2" y="1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5" name=""/>
              <p:cNvSpPr/>
              <p:nvPr/>
            </p:nvSpPr>
            <p:spPr>
              <a:xfrm>
                <a:off x="5810400" y="1350720"/>
                <a:ext cx="195480" cy="114480"/>
              </a:xfrm>
              <a:custGeom>
                <a:avLst/>
                <a:gdLst/>
                <a:ahLst/>
                <a:rect l="l" t="t" r="r" b="b"/>
                <a:pathLst>
                  <a:path w="119" h="72">
                    <a:moveTo>
                      <a:pt x="2" y="19"/>
                    </a:moveTo>
                    <a:lnTo>
                      <a:pt x="0" y="65"/>
                    </a:lnTo>
                    <a:lnTo>
                      <a:pt x="22" y="72"/>
                    </a:lnTo>
                    <a:lnTo>
                      <a:pt x="22" y="59"/>
                    </a:lnTo>
                    <a:lnTo>
                      <a:pt x="119" y="63"/>
                    </a:lnTo>
                    <a:lnTo>
                      <a:pt x="81" y="11"/>
                    </a:lnTo>
                    <a:lnTo>
                      <a:pt x="61" y="0"/>
                    </a:lnTo>
                    <a:lnTo>
                      <a:pt x="61" y="13"/>
                    </a:lnTo>
                    <a:lnTo>
                      <a:pt x="2" y="1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6" name=""/>
              <p:cNvSpPr/>
              <p:nvPr/>
            </p:nvSpPr>
            <p:spPr>
              <a:xfrm>
                <a:off x="6015600" y="1430280"/>
                <a:ext cx="108360" cy="66600"/>
              </a:xfrm>
              <a:custGeom>
                <a:avLst/>
                <a:gdLst/>
                <a:ahLst/>
                <a:rect l="l" t="t" r="r" b="b"/>
                <a:pathLst>
                  <a:path w="66" h="42">
                    <a:moveTo>
                      <a:pt x="24" y="42"/>
                    </a:moveTo>
                    <a:lnTo>
                      <a:pt x="24" y="33"/>
                    </a:lnTo>
                    <a:lnTo>
                      <a:pt x="0" y="15"/>
                    </a:lnTo>
                    <a:lnTo>
                      <a:pt x="48" y="0"/>
                    </a:lnTo>
                    <a:lnTo>
                      <a:pt x="66" y="22"/>
                    </a:lnTo>
                    <a:lnTo>
                      <a:pt x="24" y="42"/>
                    </a:lnTo>
                  </a:path>
                </a:pathLst>
              </a:custGeom>
              <a:solidFill>
                <a:srgbClr val="000080">
                  <a:alpha val="50000"/>
                </a:srgbClr>
              </a:solidFill>
              <a:ln w="0">
                <a:solidFill>
                  <a:srgbClr val="0000f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87" name=""/>
              <p:cNvSpPr/>
              <p:nvPr/>
            </p:nvSpPr>
            <p:spPr>
              <a:xfrm>
                <a:off x="6015600" y="1430280"/>
                <a:ext cx="108360" cy="66600"/>
              </a:xfrm>
              <a:custGeom>
                <a:avLst/>
                <a:gdLst/>
                <a:ahLst/>
                <a:rect l="l" t="t" r="r" b="b"/>
                <a:pathLst>
                  <a:path w="66" h="42">
                    <a:moveTo>
                      <a:pt x="24" y="42"/>
                    </a:moveTo>
                    <a:lnTo>
                      <a:pt x="24" y="33"/>
                    </a:lnTo>
                    <a:lnTo>
                      <a:pt x="0" y="15"/>
                    </a:lnTo>
                    <a:lnTo>
                      <a:pt x="48" y="0"/>
                    </a:lnTo>
                    <a:lnTo>
                      <a:pt x="66" y="22"/>
                    </a:lnTo>
                    <a:lnTo>
                      <a:pt x="24" y="42"/>
                    </a:lnTo>
                  </a:path>
                </a:pathLst>
              </a:custGeom>
              <a:solidFill>
                <a:srgbClr val="000080">
                  <a:alpha val="50000"/>
                </a:srgbClr>
              </a:solidFill>
              <a:ln w="0">
                <a:solidFill>
                  <a:srgbClr val="0000f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088" name=""/>
              <p:cNvSpPr/>
              <p:nvPr/>
            </p:nvSpPr>
            <p:spPr>
              <a:xfrm>
                <a:off x="6896160" y="1517760"/>
                <a:ext cx="155880" cy="77760"/>
              </a:xfrm>
              <a:custGeom>
                <a:avLst/>
                <a:gdLst/>
                <a:ahLst/>
                <a:rect l="l" t="t" r="r" b="b"/>
                <a:pathLst>
                  <a:path w="95" h="49">
                    <a:moveTo>
                      <a:pt x="95" y="15"/>
                    </a:moveTo>
                    <a:lnTo>
                      <a:pt x="23" y="49"/>
                    </a:lnTo>
                    <a:lnTo>
                      <a:pt x="0" y="0"/>
                    </a:lnTo>
                    <a:lnTo>
                      <a:pt x="95" y="15"/>
                    </a:lnTo>
                  </a:path>
                </a:pathLst>
              </a:custGeom>
              <a:solidFill>
                <a:srgbClr val="000080">
                  <a:alpha val="50000"/>
                </a:srgbClr>
              </a:solidFill>
              <a:ln w="0">
                <a:solidFill>
                  <a:srgbClr val="0000ff"/>
                </a:solid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89" name=""/>
              <p:cNvSpPr/>
              <p:nvPr/>
            </p:nvSpPr>
            <p:spPr>
              <a:xfrm>
                <a:off x="6896160" y="1517760"/>
                <a:ext cx="155880" cy="77760"/>
              </a:xfrm>
              <a:custGeom>
                <a:avLst/>
                <a:gdLst/>
                <a:ahLst/>
                <a:rect l="l" t="t" r="r" b="b"/>
                <a:pathLst>
                  <a:path w="95" h="49">
                    <a:moveTo>
                      <a:pt x="95" y="15"/>
                    </a:moveTo>
                    <a:lnTo>
                      <a:pt x="23" y="49"/>
                    </a:lnTo>
                    <a:lnTo>
                      <a:pt x="0" y="0"/>
                    </a:lnTo>
                    <a:lnTo>
                      <a:pt x="95" y="15"/>
                    </a:lnTo>
                  </a:path>
                </a:pathLst>
              </a:custGeom>
              <a:solidFill>
                <a:srgbClr val="000080">
                  <a:alpha val="50000"/>
                </a:srgbClr>
              </a:solidFill>
              <a:ln w="0">
                <a:solidFill>
                  <a:srgbClr val="0000ff"/>
                </a:solid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090" name=""/>
              <p:cNvSpPr/>
              <p:nvPr/>
            </p:nvSpPr>
            <p:spPr>
              <a:xfrm>
                <a:off x="1898640" y="3929040"/>
                <a:ext cx="62280" cy="69840"/>
              </a:xfrm>
              <a:custGeom>
                <a:avLst/>
                <a:gdLst/>
                <a:ahLst/>
                <a:rect l="l" t="t" r="r" b="b"/>
                <a:pathLst>
                  <a:path w="38" h="44">
                    <a:moveTo>
                      <a:pt x="38" y="4"/>
                    </a:moveTo>
                    <a:lnTo>
                      <a:pt x="18" y="0"/>
                    </a:lnTo>
                    <a:lnTo>
                      <a:pt x="5" y="13"/>
                    </a:lnTo>
                    <a:lnTo>
                      <a:pt x="0" y="26"/>
                    </a:lnTo>
                    <a:lnTo>
                      <a:pt x="7" y="44"/>
                    </a:lnTo>
                  </a:path>
                </a:pathLst>
              </a:custGeom>
              <a:solidFill>
                <a:srgbClr val="000080">
                  <a:alpha val="50000"/>
                </a:srgbClr>
              </a:solidFill>
              <a:ln w="0">
                <a:solidFill>
                  <a:srgbClr val="0000ff"/>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91" name=""/>
              <p:cNvSpPr/>
              <p:nvPr/>
            </p:nvSpPr>
            <p:spPr>
              <a:xfrm>
                <a:off x="1898640" y="3929040"/>
                <a:ext cx="62280" cy="69840"/>
              </a:xfrm>
              <a:custGeom>
                <a:avLst/>
                <a:gdLst/>
                <a:ahLst/>
                <a:rect l="l" t="t" r="r" b="b"/>
                <a:pathLst>
                  <a:path w="38" h="44">
                    <a:moveTo>
                      <a:pt x="38" y="4"/>
                    </a:moveTo>
                    <a:lnTo>
                      <a:pt x="18" y="0"/>
                    </a:lnTo>
                    <a:lnTo>
                      <a:pt x="5" y="13"/>
                    </a:lnTo>
                    <a:lnTo>
                      <a:pt x="0" y="26"/>
                    </a:lnTo>
                    <a:lnTo>
                      <a:pt x="7" y="44"/>
                    </a:lnTo>
                  </a:path>
                </a:pathLst>
              </a:custGeom>
              <a:solidFill>
                <a:srgbClr val="000080">
                  <a:alpha val="50000"/>
                </a:srgbClr>
              </a:solidFill>
              <a:ln w="0">
                <a:solidFill>
                  <a:srgbClr val="0000ff"/>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092" name=""/>
              <p:cNvSpPr/>
              <p:nvPr/>
            </p:nvSpPr>
            <p:spPr>
              <a:xfrm flipH="1" flipV="1">
                <a:off x="1627920" y="3911040"/>
                <a:ext cx="282240" cy="87480"/>
              </a:xfrm>
              <a:prstGeom prst="line">
                <a:avLst/>
              </a:prstGeom>
              <a:ln w="0">
                <a:solidFill>
                  <a:srgbClr val="0000ff"/>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93" name=""/>
              <p:cNvSpPr/>
              <p:nvPr/>
            </p:nvSpPr>
            <p:spPr>
              <a:xfrm flipH="1" flipV="1">
                <a:off x="1627920" y="3911040"/>
                <a:ext cx="282240" cy="87480"/>
              </a:xfrm>
              <a:prstGeom prst="line">
                <a:avLst/>
              </a:prstGeom>
              <a:ln w="0">
                <a:solidFill>
                  <a:srgbClr val="0000ff"/>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94" name=""/>
              <p:cNvSpPr/>
              <p:nvPr/>
            </p:nvSpPr>
            <p:spPr>
              <a:xfrm>
                <a:off x="2268360" y="3792600"/>
                <a:ext cx="36360" cy="98280"/>
              </a:xfrm>
              <a:custGeom>
                <a:avLst/>
                <a:gdLst/>
                <a:ahLst/>
                <a:rect l="l" t="t" r="r" b="b"/>
                <a:pathLst>
                  <a:path w="22" h="62">
                    <a:moveTo>
                      <a:pt x="22" y="0"/>
                    </a:moveTo>
                    <a:lnTo>
                      <a:pt x="0" y="40"/>
                    </a:lnTo>
                    <a:lnTo>
                      <a:pt x="10" y="6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5" name=""/>
              <p:cNvSpPr/>
              <p:nvPr/>
            </p:nvSpPr>
            <p:spPr>
              <a:xfrm>
                <a:off x="2268360" y="3792600"/>
                <a:ext cx="36360" cy="98280"/>
              </a:xfrm>
              <a:custGeom>
                <a:avLst/>
                <a:gdLst/>
                <a:ahLst/>
                <a:rect l="l" t="t" r="r" b="b"/>
                <a:pathLst>
                  <a:path w="22" h="62">
                    <a:moveTo>
                      <a:pt x="22" y="0"/>
                    </a:moveTo>
                    <a:lnTo>
                      <a:pt x="0" y="40"/>
                    </a:lnTo>
                    <a:lnTo>
                      <a:pt x="10" y="6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6" name=""/>
              <p:cNvSpPr/>
              <p:nvPr/>
            </p:nvSpPr>
            <p:spPr>
              <a:xfrm>
                <a:off x="1961280" y="3792600"/>
                <a:ext cx="323640" cy="185760"/>
              </a:xfrm>
              <a:custGeom>
                <a:avLst/>
                <a:gdLst/>
                <a:ahLst/>
                <a:rect l="l" t="t" r="r" b="b"/>
                <a:pathLst>
                  <a:path w="197" h="117">
                    <a:moveTo>
                      <a:pt x="197" y="62"/>
                    </a:moveTo>
                    <a:lnTo>
                      <a:pt x="147" y="86"/>
                    </a:lnTo>
                    <a:lnTo>
                      <a:pt x="145" y="0"/>
                    </a:lnTo>
                    <a:lnTo>
                      <a:pt x="44" y="42"/>
                    </a:lnTo>
                    <a:lnTo>
                      <a:pt x="72" y="88"/>
                    </a:lnTo>
                    <a:lnTo>
                      <a:pt x="32" y="117"/>
                    </a:lnTo>
                    <a:lnTo>
                      <a:pt x="0" y="9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1961280" y="3792600"/>
                <a:ext cx="323640" cy="185760"/>
              </a:xfrm>
              <a:custGeom>
                <a:avLst/>
                <a:gdLst/>
                <a:ahLst/>
                <a:rect l="l" t="t" r="r" b="b"/>
                <a:pathLst>
                  <a:path w="197" h="117">
                    <a:moveTo>
                      <a:pt x="197" y="62"/>
                    </a:moveTo>
                    <a:lnTo>
                      <a:pt x="147" y="86"/>
                    </a:lnTo>
                    <a:lnTo>
                      <a:pt x="145" y="0"/>
                    </a:lnTo>
                    <a:lnTo>
                      <a:pt x="44" y="42"/>
                    </a:lnTo>
                    <a:lnTo>
                      <a:pt x="72" y="88"/>
                    </a:lnTo>
                    <a:lnTo>
                      <a:pt x="32" y="117"/>
                    </a:lnTo>
                    <a:lnTo>
                      <a:pt x="0" y="9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8" name=""/>
              <p:cNvSpPr/>
              <p:nvPr/>
            </p:nvSpPr>
            <p:spPr>
              <a:xfrm>
                <a:off x="1537200" y="4076640"/>
                <a:ext cx="257760" cy="114120"/>
              </a:xfrm>
              <a:custGeom>
                <a:avLst/>
                <a:gdLst/>
                <a:ahLst/>
                <a:rect l="l" t="t" r="r" b="b"/>
                <a:pathLst>
                  <a:path w="157" h="72">
                    <a:moveTo>
                      <a:pt x="0" y="0"/>
                    </a:moveTo>
                    <a:lnTo>
                      <a:pt x="64" y="72"/>
                    </a:lnTo>
                    <a:lnTo>
                      <a:pt x="157" y="6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9" name=""/>
              <p:cNvSpPr/>
              <p:nvPr/>
            </p:nvSpPr>
            <p:spPr>
              <a:xfrm>
                <a:off x="1537200" y="4076640"/>
                <a:ext cx="257760" cy="114120"/>
              </a:xfrm>
              <a:custGeom>
                <a:avLst/>
                <a:gdLst/>
                <a:ahLst/>
                <a:rect l="l" t="t" r="r" b="b"/>
                <a:pathLst>
                  <a:path w="157" h="72">
                    <a:moveTo>
                      <a:pt x="0" y="0"/>
                    </a:moveTo>
                    <a:lnTo>
                      <a:pt x="64" y="72"/>
                    </a:lnTo>
                    <a:lnTo>
                      <a:pt x="157" y="6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0" name=""/>
              <p:cNvSpPr/>
              <p:nvPr/>
            </p:nvSpPr>
            <p:spPr>
              <a:xfrm>
                <a:off x="1794960" y="3998880"/>
                <a:ext cx="114840" cy="174600"/>
              </a:xfrm>
              <a:custGeom>
                <a:avLst/>
                <a:gdLst/>
                <a:ahLst/>
                <a:rect l="l" t="t" r="r" b="b"/>
                <a:pathLst>
                  <a:path w="70" h="110">
                    <a:moveTo>
                      <a:pt x="0" y="110"/>
                    </a:moveTo>
                    <a:lnTo>
                      <a:pt x="55" y="106"/>
                    </a:lnTo>
                    <a:lnTo>
                      <a:pt x="68" y="99"/>
                    </a:lnTo>
                    <a:lnTo>
                      <a:pt x="7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1" name=""/>
              <p:cNvSpPr/>
              <p:nvPr/>
            </p:nvSpPr>
            <p:spPr>
              <a:xfrm>
                <a:off x="1794960" y="3998880"/>
                <a:ext cx="114840" cy="174600"/>
              </a:xfrm>
              <a:custGeom>
                <a:avLst/>
                <a:gdLst/>
                <a:ahLst/>
                <a:rect l="l" t="t" r="r" b="b"/>
                <a:pathLst>
                  <a:path w="70" h="110">
                    <a:moveTo>
                      <a:pt x="0" y="110"/>
                    </a:moveTo>
                    <a:lnTo>
                      <a:pt x="55" y="106"/>
                    </a:lnTo>
                    <a:lnTo>
                      <a:pt x="68" y="99"/>
                    </a:lnTo>
                    <a:lnTo>
                      <a:pt x="7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2" name=""/>
              <p:cNvSpPr/>
              <p:nvPr/>
            </p:nvSpPr>
            <p:spPr>
              <a:xfrm>
                <a:off x="1794960" y="4173480"/>
                <a:ext cx="114840" cy="201600"/>
              </a:xfrm>
              <a:custGeom>
                <a:avLst/>
                <a:gdLst/>
                <a:ahLst/>
                <a:rect l="l" t="t" r="r" b="b"/>
                <a:pathLst>
                  <a:path w="70" h="127">
                    <a:moveTo>
                      <a:pt x="0" y="0"/>
                    </a:moveTo>
                    <a:lnTo>
                      <a:pt x="0" y="35"/>
                    </a:lnTo>
                    <a:lnTo>
                      <a:pt x="0" y="70"/>
                    </a:lnTo>
                    <a:lnTo>
                      <a:pt x="70" y="12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a:off x="1794960" y="4173480"/>
                <a:ext cx="114840" cy="201600"/>
              </a:xfrm>
              <a:custGeom>
                <a:avLst/>
                <a:gdLst/>
                <a:ahLst/>
                <a:rect l="l" t="t" r="r" b="b"/>
                <a:pathLst>
                  <a:path w="70" h="127">
                    <a:moveTo>
                      <a:pt x="0" y="0"/>
                    </a:moveTo>
                    <a:lnTo>
                      <a:pt x="0" y="35"/>
                    </a:lnTo>
                    <a:lnTo>
                      <a:pt x="0" y="70"/>
                    </a:lnTo>
                    <a:lnTo>
                      <a:pt x="70" y="12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1884240" y="4375080"/>
                <a:ext cx="32760" cy="231840"/>
              </a:xfrm>
              <a:custGeom>
                <a:avLst/>
                <a:gdLst/>
                <a:ahLst/>
                <a:rect l="l" t="t" r="r" b="b"/>
                <a:pathLst>
                  <a:path w="20" h="146">
                    <a:moveTo>
                      <a:pt x="16" y="0"/>
                    </a:moveTo>
                    <a:lnTo>
                      <a:pt x="20" y="130"/>
                    </a:lnTo>
                    <a:lnTo>
                      <a:pt x="0" y="14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5" name=""/>
              <p:cNvSpPr/>
              <p:nvPr/>
            </p:nvSpPr>
            <p:spPr>
              <a:xfrm>
                <a:off x="1884240" y="4375080"/>
                <a:ext cx="32760" cy="231840"/>
              </a:xfrm>
              <a:custGeom>
                <a:avLst/>
                <a:gdLst/>
                <a:ahLst/>
                <a:rect l="l" t="t" r="r" b="b"/>
                <a:pathLst>
                  <a:path w="20" h="146">
                    <a:moveTo>
                      <a:pt x="16" y="0"/>
                    </a:moveTo>
                    <a:lnTo>
                      <a:pt x="20" y="130"/>
                    </a:lnTo>
                    <a:lnTo>
                      <a:pt x="0" y="14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6" name=""/>
              <p:cNvSpPr/>
              <p:nvPr/>
            </p:nvSpPr>
            <p:spPr>
              <a:xfrm>
                <a:off x="1910160" y="4306680"/>
                <a:ext cx="364680" cy="352440"/>
              </a:xfrm>
              <a:custGeom>
                <a:avLst/>
                <a:gdLst/>
                <a:ahLst/>
                <a:rect l="l" t="t" r="r" b="b"/>
                <a:pathLst>
                  <a:path w="222" h="222">
                    <a:moveTo>
                      <a:pt x="0" y="43"/>
                    </a:moveTo>
                    <a:lnTo>
                      <a:pt x="57" y="8"/>
                    </a:lnTo>
                    <a:lnTo>
                      <a:pt x="72" y="0"/>
                    </a:lnTo>
                    <a:lnTo>
                      <a:pt x="75" y="61"/>
                    </a:lnTo>
                    <a:lnTo>
                      <a:pt x="218" y="156"/>
                    </a:lnTo>
                    <a:lnTo>
                      <a:pt x="222" y="22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1910160" y="4306680"/>
                <a:ext cx="364680" cy="352440"/>
              </a:xfrm>
              <a:custGeom>
                <a:avLst/>
                <a:gdLst/>
                <a:ahLst/>
                <a:rect l="l" t="t" r="r" b="b"/>
                <a:pathLst>
                  <a:path w="222" h="222">
                    <a:moveTo>
                      <a:pt x="0" y="43"/>
                    </a:moveTo>
                    <a:lnTo>
                      <a:pt x="57" y="8"/>
                    </a:lnTo>
                    <a:lnTo>
                      <a:pt x="72" y="0"/>
                    </a:lnTo>
                    <a:lnTo>
                      <a:pt x="75" y="61"/>
                    </a:lnTo>
                    <a:lnTo>
                      <a:pt x="218" y="156"/>
                    </a:lnTo>
                    <a:lnTo>
                      <a:pt x="222" y="22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8" name=""/>
              <p:cNvSpPr/>
              <p:nvPr/>
            </p:nvSpPr>
            <p:spPr>
              <a:xfrm>
                <a:off x="2176560" y="4659120"/>
                <a:ext cx="98280" cy="142920"/>
              </a:xfrm>
              <a:custGeom>
                <a:avLst/>
                <a:gdLst/>
                <a:ahLst/>
                <a:rect l="l" t="t" r="r" b="b"/>
                <a:pathLst>
                  <a:path w="60" h="90">
                    <a:moveTo>
                      <a:pt x="60" y="0"/>
                    </a:moveTo>
                    <a:lnTo>
                      <a:pt x="16" y="0"/>
                    </a:lnTo>
                    <a:lnTo>
                      <a:pt x="9" y="50"/>
                    </a:lnTo>
                    <a:lnTo>
                      <a:pt x="0" y="9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a:off x="2176560" y="4659120"/>
                <a:ext cx="98280" cy="142920"/>
              </a:xfrm>
              <a:custGeom>
                <a:avLst/>
                <a:gdLst/>
                <a:ahLst/>
                <a:rect l="l" t="t" r="r" b="b"/>
                <a:pathLst>
                  <a:path w="60" h="90">
                    <a:moveTo>
                      <a:pt x="60" y="0"/>
                    </a:moveTo>
                    <a:lnTo>
                      <a:pt x="16" y="0"/>
                    </a:lnTo>
                    <a:lnTo>
                      <a:pt x="9" y="50"/>
                    </a:lnTo>
                    <a:lnTo>
                      <a:pt x="0" y="9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0" name=""/>
              <p:cNvSpPr/>
              <p:nvPr/>
            </p:nvSpPr>
            <p:spPr>
              <a:xfrm>
                <a:off x="1917000" y="4581360"/>
                <a:ext cx="273960" cy="185760"/>
              </a:xfrm>
              <a:custGeom>
                <a:avLst/>
                <a:gdLst/>
                <a:ahLst/>
                <a:rect l="l" t="t" r="r" b="b"/>
                <a:pathLst>
                  <a:path w="167" h="117">
                    <a:moveTo>
                      <a:pt x="167" y="99"/>
                    </a:moveTo>
                    <a:lnTo>
                      <a:pt x="53" y="117"/>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1" name=""/>
              <p:cNvSpPr/>
              <p:nvPr/>
            </p:nvSpPr>
            <p:spPr>
              <a:xfrm>
                <a:off x="1917000" y="4581360"/>
                <a:ext cx="273960" cy="185760"/>
              </a:xfrm>
              <a:custGeom>
                <a:avLst/>
                <a:gdLst/>
                <a:ahLst/>
                <a:rect l="l" t="t" r="r" b="b"/>
                <a:pathLst>
                  <a:path w="167" h="117">
                    <a:moveTo>
                      <a:pt x="167" y="99"/>
                    </a:moveTo>
                    <a:lnTo>
                      <a:pt x="53" y="117"/>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2284920" y="3806640"/>
                <a:ext cx="77040" cy="84240"/>
              </a:xfrm>
              <a:custGeom>
                <a:avLst/>
                <a:gdLst/>
                <a:ahLst/>
                <a:rect l="l" t="t" r="r" b="b"/>
                <a:pathLst>
                  <a:path w="47" h="53">
                    <a:moveTo>
                      <a:pt x="0" y="53"/>
                    </a:moveTo>
                    <a:lnTo>
                      <a:pt x="44" y="49"/>
                    </a:lnTo>
                    <a:lnTo>
                      <a:pt x="47" y="0"/>
                    </a:lnTo>
                  </a:path>
                </a:pathLst>
              </a:custGeom>
              <a:solidFill>
                <a:srgbClr val="000080">
                  <a:alpha val="50000"/>
                </a:srgbClr>
              </a:solidFill>
              <a:ln w="0">
                <a:solidFill>
                  <a:srgbClr val="0000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13" name=""/>
              <p:cNvSpPr/>
              <p:nvPr/>
            </p:nvSpPr>
            <p:spPr>
              <a:xfrm>
                <a:off x="2284920" y="3806640"/>
                <a:ext cx="77040" cy="84240"/>
              </a:xfrm>
              <a:custGeom>
                <a:avLst/>
                <a:gdLst/>
                <a:ahLst/>
                <a:rect l="l" t="t" r="r" b="b"/>
                <a:pathLst>
                  <a:path w="47" h="53">
                    <a:moveTo>
                      <a:pt x="0" y="53"/>
                    </a:moveTo>
                    <a:lnTo>
                      <a:pt x="44" y="49"/>
                    </a:lnTo>
                    <a:lnTo>
                      <a:pt x="47" y="0"/>
                    </a:lnTo>
                  </a:path>
                </a:pathLst>
              </a:custGeom>
              <a:solidFill>
                <a:srgbClr val="000080">
                  <a:alpha val="50000"/>
                </a:srgbClr>
              </a:solidFill>
              <a:ln w="0">
                <a:solidFill>
                  <a:srgbClr val="0000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14" name=""/>
              <p:cNvSpPr/>
              <p:nvPr/>
            </p:nvSpPr>
            <p:spPr>
              <a:xfrm>
                <a:off x="2357280" y="3884400"/>
                <a:ext cx="98280" cy="38160"/>
              </a:xfrm>
              <a:custGeom>
                <a:avLst/>
                <a:gdLst/>
                <a:ahLst/>
                <a:rect l="l" t="t" r="r" b="b"/>
                <a:pathLst>
                  <a:path w="60" h="24">
                    <a:moveTo>
                      <a:pt x="60" y="10"/>
                    </a:moveTo>
                    <a:lnTo>
                      <a:pt x="25" y="24"/>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115" name=""/>
              <p:cNvSpPr/>
              <p:nvPr/>
            </p:nvSpPr>
            <p:spPr>
              <a:xfrm>
                <a:off x="2357280" y="3884400"/>
                <a:ext cx="98280" cy="38160"/>
              </a:xfrm>
              <a:custGeom>
                <a:avLst/>
                <a:gdLst/>
                <a:ahLst/>
                <a:rect l="l" t="t" r="r" b="b"/>
                <a:pathLst>
                  <a:path w="60" h="24">
                    <a:moveTo>
                      <a:pt x="60" y="10"/>
                    </a:moveTo>
                    <a:lnTo>
                      <a:pt x="25" y="24"/>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116" name=""/>
              <p:cNvSpPr/>
              <p:nvPr/>
            </p:nvSpPr>
            <p:spPr>
              <a:xfrm>
                <a:off x="1976040" y="4767120"/>
                <a:ext cx="244440" cy="1011240"/>
              </a:xfrm>
              <a:custGeom>
                <a:avLst/>
                <a:gdLst/>
                <a:ahLst/>
                <a:rect l="l" t="t" r="r" b="b"/>
                <a:pathLst>
                  <a:path w="149" h="637">
                    <a:moveTo>
                      <a:pt x="17" y="0"/>
                    </a:moveTo>
                    <a:lnTo>
                      <a:pt x="0" y="154"/>
                    </a:lnTo>
                    <a:lnTo>
                      <a:pt x="28" y="248"/>
                    </a:lnTo>
                    <a:lnTo>
                      <a:pt x="12" y="312"/>
                    </a:lnTo>
                    <a:lnTo>
                      <a:pt x="50" y="576"/>
                    </a:lnTo>
                    <a:lnTo>
                      <a:pt x="78" y="585"/>
                    </a:lnTo>
                    <a:lnTo>
                      <a:pt x="100" y="637"/>
                    </a:lnTo>
                    <a:lnTo>
                      <a:pt x="149" y="63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7" name=""/>
              <p:cNvSpPr/>
              <p:nvPr/>
            </p:nvSpPr>
            <p:spPr>
              <a:xfrm>
                <a:off x="1976040" y="4767120"/>
                <a:ext cx="244440" cy="1011240"/>
              </a:xfrm>
              <a:custGeom>
                <a:avLst/>
                <a:gdLst/>
                <a:ahLst/>
                <a:rect l="l" t="t" r="r" b="b"/>
                <a:pathLst>
                  <a:path w="149" h="637">
                    <a:moveTo>
                      <a:pt x="17" y="0"/>
                    </a:moveTo>
                    <a:lnTo>
                      <a:pt x="0" y="154"/>
                    </a:lnTo>
                    <a:lnTo>
                      <a:pt x="28" y="248"/>
                    </a:lnTo>
                    <a:lnTo>
                      <a:pt x="12" y="312"/>
                    </a:lnTo>
                    <a:lnTo>
                      <a:pt x="50" y="576"/>
                    </a:lnTo>
                    <a:lnTo>
                      <a:pt x="78" y="585"/>
                    </a:lnTo>
                    <a:lnTo>
                      <a:pt x="100" y="637"/>
                    </a:lnTo>
                    <a:lnTo>
                      <a:pt x="149" y="63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8" name=""/>
              <p:cNvSpPr/>
              <p:nvPr/>
            </p:nvSpPr>
            <p:spPr>
              <a:xfrm>
                <a:off x="2321280" y="4871880"/>
                <a:ext cx="173880" cy="303480"/>
              </a:xfrm>
              <a:custGeom>
                <a:avLst/>
                <a:gdLst/>
                <a:ahLst/>
                <a:rect l="l" t="t" r="r" b="b"/>
                <a:pathLst>
                  <a:path w="106" h="191">
                    <a:moveTo>
                      <a:pt x="29" y="191"/>
                    </a:moveTo>
                    <a:lnTo>
                      <a:pt x="0" y="182"/>
                    </a:lnTo>
                    <a:lnTo>
                      <a:pt x="9" y="110"/>
                    </a:lnTo>
                    <a:lnTo>
                      <a:pt x="22" y="98"/>
                    </a:lnTo>
                    <a:lnTo>
                      <a:pt x="64" y="33"/>
                    </a:lnTo>
                    <a:lnTo>
                      <a:pt x="102" y="30"/>
                    </a:lnTo>
                    <a:lnTo>
                      <a:pt x="106" y="0"/>
                    </a:lnTo>
                    <a:lnTo>
                      <a:pt x="4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9" name=""/>
              <p:cNvSpPr/>
              <p:nvPr/>
            </p:nvSpPr>
            <p:spPr>
              <a:xfrm>
                <a:off x="2321280" y="4871880"/>
                <a:ext cx="173880" cy="303480"/>
              </a:xfrm>
              <a:custGeom>
                <a:avLst/>
                <a:gdLst/>
                <a:ahLst/>
                <a:rect l="l" t="t" r="r" b="b"/>
                <a:pathLst>
                  <a:path w="106" h="191">
                    <a:moveTo>
                      <a:pt x="29" y="191"/>
                    </a:moveTo>
                    <a:lnTo>
                      <a:pt x="0" y="182"/>
                    </a:lnTo>
                    <a:lnTo>
                      <a:pt x="9" y="110"/>
                    </a:lnTo>
                    <a:lnTo>
                      <a:pt x="22" y="98"/>
                    </a:lnTo>
                    <a:lnTo>
                      <a:pt x="64" y="33"/>
                    </a:lnTo>
                    <a:lnTo>
                      <a:pt x="102" y="30"/>
                    </a:lnTo>
                    <a:lnTo>
                      <a:pt x="106" y="0"/>
                    </a:lnTo>
                    <a:lnTo>
                      <a:pt x="4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flipH="1" flipV="1">
                <a:off x="2357280" y="5027040"/>
                <a:ext cx="149040" cy="63720"/>
              </a:xfrm>
              <a:prstGeom prst="line">
                <a:avLst/>
              </a:prstGeom>
              <a:ln w="0">
                <a:solidFill>
                  <a:srgbClr val="0000ff"/>
                </a:solid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121" name=""/>
              <p:cNvSpPr/>
              <p:nvPr/>
            </p:nvSpPr>
            <p:spPr>
              <a:xfrm flipH="1" flipV="1">
                <a:off x="2357280" y="5027040"/>
                <a:ext cx="149040" cy="63720"/>
              </a:xfrm>
              <a:prstGeom prst="line">
                <a:avLst/>
              </a:prstGeom>
              <a:ln w="0">
                <a:solidFill>
                  <a:srgbClr val="0000ff"/>
                </a:solid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122" name=""/>
              <p:cNvSpPr/>
              <p:nvPr/>
            </p:nvSpPr>
            <p:spPr>
              <a:xfrm>
                <a:off x="2176560" y="4659120"/>
                <a:ext cx="216720" cy="250920"/>
              </a:xfrm>
              <a:custGeom>
                <a:avLst/>
                <a:gdLst/>
                <a:ahLst/>
                <a:rect l="l" t="t" r="r" b="b"/>
                <a:pathLst>
                  <a:path w="132" h="158">
                    <a:moveTo>
                      <a:pt x="0" y="90"/>
                    </a:moveTo>
                    <a:lnTo>
                      <a:pt x="12" y="99"/>
                    </a:lnTo>
                    <a:lnTo>
                      <a:pt x="88" y="105"/>
                    </a:lnTo>
                    <a:lnTo>
                      <a:pt x="62" y="158"/>
                    </a:lnTo>
                    <a:lnTo>
                      <a:pt x="119" y="154"/>
                    </a:lnTo>
                    <a:lnTo>
                      <a:pt x="128" y="134"/>
                    </a:lnTo>
                    <a:lnTo>
                      <a:pt x="132" y="77"/>
                    </a:lnTo>
                    <a:lnTo>
                      <a:pt x="106" y="46"/>
                    </a:lnTo>
                    <a:lnTo>
                      <a:pt x="66" y="44"/>
                    </a:lnTo>
                    <a:lnTo>
                      <a:pt x="6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3" name=""/>
              <p:cNvSpPr/>
              <p:nvPr/>
            </p:nvSpPr>
            <p:spPr>
              <a:xfrm>
                <a:off x="2176560" y="4659120"/>
                <a:ext cx="216720" cy="250920"/>
              </a:xfrm>
              <a:custGeom>
                <a:avLst/>
                <a:gdLst/>
                <a:ahLst/>
                <a:rect l="l" t="t" r="r" b="b"/>
                <a:pathLst>
                  <a:path w="132" h="158">
                    <a:moveTo>
                      <a:pt x="0" y="90"/>
                    </a:moveTo>
                    <a:lnTo>
                      <a:pt x="12" y="99"/>
                    </a:lnTo>
                    <a:lnTo>
                      <a:pt x="88" y="105"/>
                    </a:lnTo>
                    <a:lnTo>
                      <a:pt x="62" y="158"/>
                    </a:lnTo>
                    <a:lnTo>
                      <a:pt x="119" y="154"/>
                    </a:lnTo>
                    <a:lnTo>
                      <a:pt x="128" y="134"/>
                    </a:lnTo>
                    <a:lnTo>
                      <a:pt x="132" y="77"/>
                    </a:lnTo>
                    <a:lnTo>
                      <a:pt x="106" y="46"/>
                    </a:lnTo>
                    <a:lnTo>
                      <a:pt x="66" y="44"/>
                    </a:lnTo>
                    <a:lnTo>
                      <a:pt x="6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4" name=""/>
              <p:cNvSpPr/>
              <p:nvPr/>
            </p:nvSpPr>
            <p:spPr>
              <a:xfrm flipH="1" flipV="1">
                <a:off x="2220480" y="5775120"/>
                <a:ext cx="47160" cy="84240"/>
              </a:xfrm>
              <a:prstGeom prst="line">
                <a:avLst/>
              </a:prstGeom>
              <a:ln w="0">
                <a:solidFill>
                  <a:srgbClr val="0000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25" name=""/>
              <p:cNvSpPr/>
              <p:nvPr/>
            </p:nvSpPr>
            <p:spPr>
              <a:xfrm flipH="1" flipV="1">
                <a:off x="2220480" y="5775120"/>
                <a:ext cx="47160" cy="84240"/>
              </a:xfrm>
              <a:prstGeom prst="line">
                <a:avLst/>
              </a:prstGeom>
              <a:ln w="0">
                <a:solidFill>
                  <a:srgbClr val="0000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26" name=""/>
              <p:cNvSpPr/>
              <p:nvPr/>
            </p:nvSpPr>
            <p:spPr>
              <a:xfrm>
                <a:off x="701280" y="2295360"/>
                <a:ext cx="74700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27" name=""/>
              <p:cNvSpPr/>
              <p:nvPr/>
            </p:nvSpPr>
            <p:spPr>
              <a:xfrm>
                <a:off x="701280" y="2295360"/>
                <a:ext cx="74700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128" name=""/>
              <p:cNvSpPr/>
              <p:nvPr/>
            </p:nvSpPr>
            <p:spPr>
              <a:xfrm flipV="1">
                <a:off x="1296000" y="3427200"/>
                <a:ext cx="50760" cy="76320"/>
              </a:xfrm>
              <a:prstGeom prst="line">
                <a:avLst/>
              </a:prstGeom>
              <a:ln w="0">
                <a:solidFill>
                  <a:srgbClr val="0000ff"/>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129" name=""/>
              <p:cNvSpPr/>
              <p:nvPr/>
            </p:nvSpPr>
            <p:spPr>
              <a:xfrm flipV="1">
                <a:off x="1296000" y="3427200"/>
                <a:ext cx="50760" cy="76320"/>
              </a:xfrm>
              <a:prstGeom prst="line">
                <a:avLst/>
              </a:prstGeom>
              <a:ln w="0">
                <a:solidFill>
                  <a:srgbClr val="0000ff"/>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130" name=""/>
              <p:cNvSpPr/>
              <p:nvPr/>
            </p:nvSpPr>
            <p:spPr>
              <a:xfrm>
                <a:off x="1448640" y="2289240"/>
                <a:ext cx="742320" cy="198360"/>
              </a:xfrm>
              <a:custGeom>
                <a:avLst/>
                <a:gdLst/>
                <a:ahLst/>
                <a:rect l="l" t="t" r="r" b="b"/>
                <a:pathLst>
                  <a:path w="452" h="125">
                    <a:moveTo>
                      <a:pt x="452" y="97"/>
                    </a:moveTo>
                    <a:lnTo>
                      <a:pt x="452" y="40"/>
                    </a:lnTo>
                    <a:lnTo>
                      <a:pt x="433" y="29"/>
                    </a:lnTo>
                    <a:lnTo>
                      <a:pt x="375" y="97"/>
                    </a:lnTo>
                    <a:lnTo>
                      <a:pt x="303" y="101"/>
                    </a:lnTo>
                    <a:lnTo>
                      <a:pt x="299" y="112"/>
                    </a:lnTo>
                    <a:lnTo>
                      <a:pt x="237" y="114"/>
                    </a:lnTo>
                    <a:lnTo>
                      <a:pt x="230" y="125"/>
                    </a:lnTo>
                    <a:lnTo>
                      <a:pt x="186" y="125"/>
                    </a:lnTo>
                    <a:lnTo>
                      <a:pt x="189" y="114"/>
                    </a:lnTo>
                    <a:lnTo>
                      <a:pt x="202" y="101"/>
                    </a:lnTo>
                    <a:lnTo>
                      <a:pt x="228" y="86"/>
                    </a:lnTo>
                    <a:lnTo>
                      <a:pt x="221" y="75"/>
                    </a:lnTo>
                    <a:lnTo>
                      <a:pt x="210" y="70"/>
                    </a:lnTo>
                    <a:lnTo>
                      <a:pt x="189" y="66"/>
                    </a:lnTo>
                    <a:lnTo>
                      <a:pt x="171" y="70"/>
                    </a:lnTo>
                    <a:lnTo>
                      <a:pt x="155" y="57"/>
                    </a:lnTo>
                    <a:lnTo>
                      <a:pt x="156" y="35"/>
                    </a:lnTo>
                    <a:lnTo>
                      <a:pt x="151" y="0"/>
                    </a:lnTo>
                    <a:lnTo>
                      <a:pt x="120" y="15"/>
                    </a:lnTo>
                    <a:lnTo>
                      <a:pt x="94" y="26"/>
                    </a:lnTo>
                    <a:lnTo>
                      <a:pt x="0" y="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a:off x="1448640" y="2289240"/>
                <a:ext cx="742320" cy="198360"/>
              </a:xfrm>
              <a:custGeom>
                <a:avLst/>
                <a:gdLst/>
                <a:ahLst/>
                <a:rect l="l" t="t" r="r" b="b"/>
                <a:pathLst>
                  <a:path w="452" h="125">
                    <a:moveTo>
                      <a:pt x="452" y="97"/>
                    </a:moveTo>
                    <a:lnTo>
                      <a:pt x="452" y="40"/>
                    </a:lnTo>
                    <a:lnTo>
                      <a:pt x="433" y="29"/>
                    </a:lnTo>
                    <a:lnTo>
                      <a:pt x="375" y="97"/>
                    </a:lnTo>
                    <a:lnTo>
                      <a:pt x="303" y="101"/>
                    </a:lnTo>
                    <a:lnTo>
                      <a:pt x="299" y="112"/>
                    </a:lnTo>
                    <a:lnTo>
                      <a:pt x="237" y="114"/>
                    </a:lnTo>
                    <a:lnTo>
                      <a:pt x="230" y="125"/>
                    </a:lnTo>
                    <a:lnTo>
                      <a:pt x="186" y="125"/>
                    </a:lnTo>
                    <a:lnTo>
                      <a:pt x="189" y="114"/>
                    </a:lnTo>
                    <a:lnTo>
                      <a:pt x="202" y="101"/>
                    </a:lnTo>
                    <a:lnTo>
                      <a:pt x="228" y="86"/>
                    </a:lnTo>
                    <a:lnTo>
                      <a:pt x="221" y="75"/>
                    </a:lnTo>
                    <a:lnTo>
                      <a:pt x="210" y="70"/>
                    </a:lnTo>
                    <a:lnTo>
                      <a:pt x="189" y="66"/>
                    </a:lnTo>
                    <a:lnTo>
                      <a:pt x="171" y="70"/>
                    </a:lnTo>
                    <a:lnTo>
                      <a:pt x="155" y="57"/>
                    </a:lnTo>
                    <a:lnTo>
                      <a:pt x="156" y="35"/>
                    </a:lnTo>
                    <a:lnTo>
                      <a:pt x="151" y="0"/>
                    </a:lnTo>
                    <a:lnTo>
                      <a:pt x="120" y="15"/>
                    </a:lnTo>
                    <a:lnTo>
                      <a:pt x="94" y="26"/>
                    </a:lnTo>
                    <a:lnTo>
                      <a:pt x="0" y="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2" name=""/>
              <p:cNvSpPr/>
              <p:nvPr/>
            </p:nvSpPr>
            <p:spPr>
              <a:xfrm flipH="1">
                <a:off x="1501200" y="3649680"/>
                <a:ext cx="11520" cy="28440"/>
              </a:xfrm>
              <a:prstGeom prst="line">
                <a:avLst/>
              </a:prstGeom>
              <a:ln w="0">
                <a:solidFill>
                  <a:srgbClr val="0000ff"/>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33" name=""/>
              <p:cNvSpPr/>
              <p:nvPr/>
            </p:nvSpPr>
            <p:spPr>
              <a:xfrm flipH="1">
                <a:off x="1501200" y="3649680"/>
                <a:ext cx="11520" cy="28440"/>
              </a:xfrm>
              <a:prstGeom prst="line">
                <a:avLst/>
              </a:prstGeom>
              <a:ln w="0">
                <a:solidFill>
                  <a:srgbClr val="0000ff"/>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34" name=""/>
              <p:cNvSpPr/>
              <p:nvPr/>
            </p:nvSpPr>
            <p:spPr>
              <a:xfrm flipV="1">
                <a:off x="1346760" y="3468600"/>
                <a:ext cx="132840" cy="55440"/>
              </a:xfrm>
              <a:prstGeom prst="line">
                <a:avLst/>
              </a:prstGeom>
              <a:ln w="0">
                <a:solidFill>
                  <a:srgbClr val="0000ff"/>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135" name=""/>
              <p:cNvSpPr/>
              <p:nvPr/>
            </p:nvSpPr>
            <p:spPr>
              <a:xfrm flipV="1">
                <a:off x="1346760" y="3468600"/>
                <a:ext cx="132840" cy="55440"/>
              </a:xfrm>
              <a:prstGeom prst="line">
                <a:avLst/>
              </a:prstGeom>
              <a:ln w="0">
                <a:solidFill>
                  <a:srgbClr val="0000ff"/>
                </a:solid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136" name=""/>
              <p:cNvSpPr/>
              <p:nvPr/>
            </p:nvSpPr>
            <p:spPr>
              <a:xfrm>
                <a:off x="1410840" y="3622680"/>
                <a:ext cx="68760" cy="12600"/>
              </a:xfrm>
              <a:custGeom>
                <a:avLst/>
                <a:gdLst/>
                <a:ahLst/>
                <a:rect l="l" t="t" r="r" b="b"/>
                <a:pathLst>
                  <a:path w="42" h="8">
                    <a:moveTo>
                      <a:pt x="42" y="0"/>
                    </a:moveTo>
                    <a:lnTo>
                      <a:pt x="16" y="0"/>
                    </a:lnTo>
                    <a:lnTo>
                      <a:pt x="7" y="4"/>
                    </a:lnTo>
                    <a:lnTo>
                      <a:pt x="0" y="8"/>
                    </a:lnTo>
                  </a:path>
                </a:pathLst>
              </a:custGeom>
              <a:solidFill>
                <a:srgbClr val="000080">
                  <a:alpha val="50000"/>
                </a:srgbClr>
              </a:solidFill>
              <a:ln w="0">
                <a:solidFill>
                  <a:srgbClr val="0000ff"/>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grpSp>
          <p:nvGrpSpPr>
            <p:cNvPr id="1137" name=""/>
            <p:cNvGrpSpPr/>
            <p:nvPr/>
          </p:nvGrpSpPr>
          <p:grpSpPr>
            <a:xfrm>
              <a:off x="6120" y="1622520"/>
              <a:ext cx="8453880" cy="3436920"/>
              <a:chOff x="6120" y="1622520"/>
              <a:chExt cx="8453880" cy="3436920"/>
            </a:xfrm>
          </p:grpSpPr>
          <p:sp>
            <p:nvSpPr>
              <p:cNvPr id="1138" name=""/>
              <p:cNvSpPr/>
              <p:nvPr/>
            </p:nvSpPr>
            <p:spPr>
              <a:xfrm>
                <a:off x="1410840" y="3622680"/>
                <a:ext cx="68760" cy="12600"/>
              </a:xfrm>
              <a:custGeom>
                <a:avLst/>
                <a:gdLst/>
                <a:ahLst/>
                <a:rect l="l" t="t" r="r" b="b"/>
                <a:pathLst>
                  <a:path w="42" h="8">
                    <a:moveTo>
                      <a:pt x="42" y="0"/>
                    </a:moveTo>
                    <a:lnTo>
                      <a:pt x="16" y="0"/>
                    </a:lnTo>
                    <a:lnTo>
                      <a:pt x="7" y="4"/>
                    </a:lnTo>
                    <a:lnTo>
                      <a:pt x="0" y="8"/>
                    </a:lnTo>
                  </a:path>
                </a:pathLst>
              </a:custGeom>
              <a:solidFill>
                <a:srgbClr val="000080">
                  <a:alpha val="50000"/>
                </a:srgbClr>
              </a:solidFill>
              <a:ln w="0">
                <a:solidFill>
                  <a:srgbClr val="0000ff"/>
                </a:solid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139" name=""/>
              <p:cNvSpPr/>
              <p:nvPr/>
            </p:nvSpPr>
            <p:spPr>
              <a:xfrm>
                <a:off x="6120" y="1701720"/>
                <a:ext cx="54360" cy="52560"/>
              </a:xfrm>
              <a:custGeom>
                <a:avLst/>
                <a:gdLst/>
                <a:ahLst/>
                <a:rect l="l" t="t" r="r" b="b"/>
                <a:pathLst>
                  <a:path w="33" h="33">
                    <a:moveTo>
                      <a:pt x="0" y="0"/>
                    </a:moveTo>
                    <a:lnTo>
                      <a:pt x="33" y="20"/>
                    </a:lnTo>
                    <a:lnTo>
                      <a:pt x="0" y="33"/>
                    </a:lnTo>
                  </a:path>
                </a:pathLst>
              </a:custGeom>
              <a:solidFill>
                <a:srgbClr val="000080">
                  <a:alpha val="50000"/>
                </a:srgbClr>
              </a:solidFill>
              <a:ln w="0">
                <a:solidFill>
                  <a:srgbClr val="0000ff"/>
                </a:solid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140" name=""/>
              <p:cNvSpPr/>
              <p:nvPr/>
            </p:nvSpPr>
            <p:spPr>
              <a:xfrm>
                <a:off x="6120" y="1701720"/>
                <a:ext cx="54360" cy="52560"/>
              </a:xfrm>
              <a:custGeom>
                <a:avLst/>
                <a:gdLst/>
                <a:ahLst/>
                <a:rect l="l" t="t" r="r" b="b"/>
                <a:pathLst>
                  <a:path w="33" h="33">
                    <a:moveTo>
                      <a:pt x="0" y="0"/>
                    </a:moveTo>
                    <a:lnTo>
                      <a:pt x="33" y="20"/>
                    </a:lnTo>
                    <a:lnTo>
                      <a:pt x="0" y="33"/>
                    </a:lnTo>
                  </a:path>
                </a:pathLst>
              </a:custGeom>
              <a:solidFill>
                <a:srgbClr val="000080">
                  <a:alpha val="50000"/>
                </a:srgbClr>
              </a:solidFill>
              <a:ln w="0">
                <a:solidFill>
                  <a:srgbClr val="0000ff"/>
                </a:solid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141" name=""/>
              <p:cNvSpPr/>
              <p:nvPr/>
            </p:nvSpPr>
            <p:spPr>
              <a:xfrm>
                <a:off x="3513600" y="3430440"/>
                <a:ext cx="175680" cy="198360"/>
              </a:xfrm>
              <a:custGeom>
                <a:avLst/>
                <a:gdLst/>
                <a:ahLst/>
                <a:rect l="l" t="t" r="r" b="b"/>
                <a:pathLst>
                  <a:path w="107" h="125">
                    <a:moveTo>
                      <a:pt x="0" y="0"/>
                    </a:moveTo>
                    <a:lnTo>
                      <a:pt x="37" y="15"/>
                    </a:lnTo>
                    <a:lnTo>
                      <a:pt x="57" y="46"/>
                    </a:lnTo>
                    <a:lnTo>
                      <a:pt x="107" y="12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a:off x="3513600" y="3430440"/>
                <a:ext cx="175680" cy="198360"/>
              </a:xfrm>
              <a:custGeom>
                <a:avLst/>
                <a:gdLst/>
                <a:ahLst/>
                <a:rect l="l" t="t" r="r" b="b"/>
                <a:pathLst>
                  <a:path w="107" h="125">
                    <a:moveTo>
                      <a:pt x="0" y="0"/>
                    </a:moveTo>
                    <a:lnTo>
                      <a:pt x="37" y="15"/>
                    </a:lnTo>
                    <a:lnTo>
                      <a:pt x="57" y="46"/>
                    </a:lnTo>
                    <a:lnTo>
                      <a:pt x="107" y="12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3" name=""/>
              <p:cNvSpPr/>
              <p:nvPr/>
            </p:nvSpPr>
            <p:spPr>
              <a:xfrm>
                <a:off x="3632040" y="3672000"/>
                <a:ext cx="144360" cy="79200"/>
              </a:xfrm>
              <a:custGeom>
                <a:avLst/>
                <a:gdLst/>
                <a:ahLst/>
                <a:rect l="l" t="t" r="r" b="b"/>
                <a:pathLst>
                  <a:path w="88" h="50">
                    <a:moveTo>
                      <a:pt x="88" y="50"/>
                    </a:moveTo>
                    <a:lnTo>
                      <a:pt x="68" y="45"/>
                    </a:lnTo>
                    <a:lnTo>
                      <a:pt x="46" y="35"/>
                    </a:lnTo>
                    <a:lnTo>
                      <a:pt x="14" y="0"/>
                    </a:lnTo>
                    <a:lnTo>
                      <a:pt x="0" y="39"/>
                    </a:lnTo>
                  </a:path>
                </a:pathLst>
              </a:custGeom>
              <a:solidFill>
                <a:srgbClr val="000080">
                  <a:alpha val="50000"/>
                </a:srgbClr>
              </a:solidFill>
              <a:ln w="0">
                <a:solidFill>
                  <a:srgbClr val="0000ff"/>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144" name=""/>
              <p:cNvSpPr/>
              <p:nvPr/>
            </p:nvSpPr>
            <p:spPr>
              <a:xfrm>
                <a:off x="3632040" y="3672000"/>
                <a:ext cx="144360" cy="79200"/>
              </a:xfrm>
              <a:custGeom>
                <a:avLst/>
                <a:gdLst/>
                <a:ahLst/>
                <a:rect l="l" t="t" r="r" b="b"/>
                <a:pathLst>
                  <a:path w="88" h="50">
                    <a:moveTo>
                      <a:pt x="88" y="50"/>
                    </a:moveTo>
                    <a:lnTo>
                      <a:pt x="68" y="45"/>
                    </a:lnTo>
                    <a:lnTo>
                      <a:pt x="46" y="35"/>
                    </a:lnTo>
                    <a:lnTo>
                      <a:pt x="14" y="0"/>
                    </a:lnTo>
                    <a:lnTo>
                      <a:pt x="0" y="39"/>
                    </a:lnTo>
                  </a:path>
                </a:pathLst>
              </a:custGeom>
              <a:solidFill>
                <a:srgbClr val="000080">
                  <a:alpha val="50000"/>
                </a:srgbClr>
              </a:solidFill>
              <a:ln w="0">
                <a:solidFill>
                  <a:srgbClr val="0000ff"/>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145" name=""/>
              <p:cNvSpPr/>
              <p:nvPr/>
            </p:nvSpPr>
            <p:spPr>
              <a:xfrm flipH="1">
                <a:off x="3690360" y="3727440"/>
                <a:ext cx="16200" cy="87120"/>
              </a:xfrm>
              <a:prstGeom prst="line">
                <a:avLst/>
              </a:prstGeom>
              <a:ln w="0">
                <a:solidFill>
                  <a:srgbClr val="0000ff"/>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46" name=""/>
              <p:cNvSpPr/>
              <p:nvPr/>
            </p:nvSpPr>
            <p:spPr>
              <a:xfrm flipH="1">
                <a:off x="3690360" y="3727440"/>
                <a:ext cx="16200" cy="87120"/>
              </a:xfrm>
              <a:prstGeom prst="line">
                <a:avLst/>
              </a:prstGeom>
              <a:ln w="0">
                <a:solidFill>
                  <a:srgbClr val="0000ff"/>
                </a:solid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147" name=""/>
              <p:cNvSpPr/>
              <p:nvPr/>
            </p:nvSpPr>
            <p:spPr>
              <a:xfrm>
                <a:off x="3492360" y="3056040"/>
                <a:ext cx="229680" cy="245880"/>
              </a:xfrm>
              <a:custGeom>
                <a:avLst/>
                <a:gdLst/>
                <a:ahLst/>
                <a:rect l="l" t="t" r="r" b="b"/>
                <a:pathLst>
                  <a:path w="140" h="155">
                    <a:moveTo>
                      <a:pt x="140" y="0"/>
                    </a:moveTo>
                    <a:lnTo>
                      <a:pt x="132" y="33"/>
                    </a:lnTo>
                    <a:lnTo>
                      <a:pt x="85" y="33"/>
                    </a:lnTo>
                    <a:lnTo>
                      <a:pt x="79" y="42"/>
                    </a:lnTo>
                    <a:lnTo>
                      <a:pt x="77" y="99"/>
                    </a:lnTo>
                    <a:lnTo>
                      <a:pt x="63" y="99"/>
                    </a:lnTo>
                    <a:lnTo>
                      <a:pt x="65" y="148"/>
                    </a:lnTo>
                    <a:lnTo>
                      <a:pt x="0" y="15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8" name=""/>
              <p:cNvSpPr/>
              <p:nvPr/>
            </p:nvSpPr>
            <p:spPr>
              <a:xfrm>
                <a:off x="3492360" y="3056040"/>
                <a:ext cx="229680" cy="245880"/>
              </a:xfrm>
              <a:custGeom>
                <a:avLst/>
                <a:gdLst/>
                <a:ahLst/>
                <a:rect l="l" t="t" r="r" b="b"/>
                <a:pathLst>
                  <a:path w="140" h="155">
                    <a:moveTo>
                      <a:pt x="140" y="0"/>
                    </a:moveTo>
                    <a:lnTo>
                      <a:pt x="132" y="33"/>
                    </a:lnTo>
                    <a:lnTo>
                      <a:pt x="85" y="33"/>
                    </a:lnTo>
                    <a:lnTo>
                      <a:pt x="79" y="42"/>
                    </a:lnTo>
                    <a:lnTo>
                      <a:pt x="77" y="99"/>
                    </a:lnTo>
                    <a:lnTo>
                      <a:pt x="63" y="99"/>
                    </a:lnTo>
                    <a:lnTo>
                      <a:pt x="65" y="148"/>
                    </a:lnTo>
                    <a:lnTo>
                      <a:pt x="0" y="15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4655160" y="1646280"/>
                <a:ext cx="30960" cy="90360"/>
              </a:xfrm>
              <a:prstGeom prst="line">
                <a:avLst/>
              </a:prstGeom>
              <a:ln w="0">
                <a:solidFill>
                  <a:srgbClr val="0000ff"/>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50" name=""/>
              <p:cNvSpPr/>
              <p:nvPr/>
            </p:nvSpPr>
            <p:spPr>
              <a:xfrm>
                <a:off x="4655160" y="1646280"/>
                <a:ext cx="30960" cy="90360"/>
              </a:xfrm>
              <a:prstGeom prst="line">
                <a:avLst/>
              </a:prstGeom>
              <a:ln w="0">
                <a:solidFill>
                  <a:srgbClr val="0000ff"/>
                </a:solid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51" name=""/>
              <p:cNvSpPr/>
              <p:nvPr/>
            </p:nvSpPr>
            <p:spPr>
              <a:xfrm>
                <a:off x="3621960" y="2787480"/>
                <a:ext cx="303840" cy="268560"/>
              </a:xfrm>
              <a:custGeom>
                <a:avLst/>
                <a:gdLst/>
                <a:ahLst/>
                <a:rect l="l" t="t" r="r" b="b"/>
                <a:pathLst>
                  <a:path w="185" h="169">
                    <a:moveTo>
                      <a:pt x="174" y="0"/>
                    </a:moveTo>
                    <a:lnTo>
                      <a:pt x="114" y="0"/>
                    </a:lnTo>
                    <a:lnTo>
                      <a:pt x="0" y="167"/>
                    </a:lnTo>
                    <a:lnTo>
                      <a:pt x="61" y="169"/>
                    </a:lnTo>
                    <a:lnTo>
                      <a:pt x="185" y="77"/>
                    </a:lnTo>
                    <a:lnTo>
                      <a:pt x="174"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2" name=""/>
              <p:cNvSpPr/>
              <p:nvPr/>
            </p:nvSpPr>
            <p:spPr>
              <a:xfrm>
                <a:off x="3621960" y="2787480"/>
                <a:ext cx="303840" cy="268560"/>
              </a:xfrm>
              <a:custGeom>
                <a:avLst/>
                <a:gdLst/>
                <a:ahLst/>
                <a:rect l="l" t="t" r="r" b="b"/>
                <a:pathLst>
                  <a:path w="185" h="169">
                    <a:moveTo>
                      <a:pt x="174" y="0"/>
                    </a:moveTo>
                    <a:lnTo>
                      <a:pt x="114" y="0"/>
                    </a:lnTo>
                    <a:lnTo>
                      <a:pt x="0" y="167"/>
                    </a:lnTo>
                    <a:lnTo>
                      <a:pt x="61" y="169"/>
                    </a:lnTo>
                    <a:lnTo>
                      <a:pt x="185" y="77"/>
                    </a:lnTo>
                    <a:lnTo>
                      <a:pt x="174"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3907800" y="2743200"/>
                <a:ext cx="403920" cy="253800"/>
              </a:xfrm>
              <a:custGeom>
                <a:avLst/>
                <a:gdLst/>
                <a:ahLst/>
                <a:rect l="l" t="t" r="r" b="b"/>
                <a:pathLst>
                  <a:path w="246" h="160">
                    <a:moveTo>
                      <a:pt x="0" y="28"/>
                    </a:moveTo>
                    <a:lnTo>
                      <a:pt x="193" y="6"/>
                    </a:lnTo>
                    <a:lnTo>
                      <a:pt x="193" y="66"/>
                    </a:lnTo>
                    <a:lnTo>
                      <a:pt x="171" y="107"/>
                    </a:lnTo>
                    <a:lnTo>
                      <a:pt x="219" y="160"/>
                    </a:lnTo>
                    <a:lnTo>
                      <a:pt x="211" y="116"/>
                    </a:lnTo>
                    <a:lnTo>
                      <a:pt x="246" y="77"/>
                    </a:lnTo>
                    <a:lnTo>
                      <a:pt x="228" y="0"/>
                    </a:lnTo>
                    <a:lnTo>
                      <a:pt x="193" y="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4" name=""/>
              <p:cNvSpPr/>
              <p:nvPr/>
            </p:nvSpPr>
            <p:spPr>
              <a:xfrm>
                <a:off x="3907800" y="2743200"/>
                <a:ext cx="403920" cy="253800"/>
              </a:xfrm>
              <a:custGeom>
                <a:avLst/>
                <a:gdLst/>
                <a:ahLst/>
                <a:rect l="l" t="t" r="r" b="b"/>
                <a:pathLst>
                  <a:path w="246" h="160">
                    <a:moveTo>
                      <a:pt x="0" y="28"/>
                    </a:moveTo>
                    <a:lnTo>
                      <a:pt x="193" y="6"/>
                    </a:lnTo>
                    <a:lnTo>
                      <a:pt x="193" y="66"/>
                    </a:lnTo>
                    <a:lnTo>
                      <a:pt x="171" y="107"/>
                    </a:lnTo>
                    <a:lnTo>
                      <a:pt x="219" y="160"/>
                    </a:lnTo>
                    <a:lnTo>
                      <a:pt x="211" y="116"/>
                    </a:lnTo>
                    <a:lnTo>
                      <a:pt x="246" y="77"/>
                    </a:lnTo>
                    <a:lnTo>
                      <a:pt x="228" y="0"/>
                    </a:lnTo>
                    <a:lnTo>
                      <a:pt x="193" y="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5" name=""/>
              <p:cNvSpPr/>
              <p:nvPr/>
            </p:nvSpPr>
            <p:spPr>
              <a:xfrm>
                <a:off x="4375800" y="2917800"/>
                <a:ext cx="346680" cy="358560"/>
              </a:xfrm>
              <a:custGeom>
                <a:avLst/>
                <a:gdLst/>
                <a:ahLst/>
                <a:rect l="l" t="t" r="r" b="b"/>
                <a:pathLst>
                  <a:path w="211" h="226">
                    <a:moveTo>
                      <a:pt x="203" y="0"/>
                    </a:moveTo>
                    <a:lnTo>
                      <a:pt x="211" y="219"/>
                    </a:lnTo>
                    <a:lnTo>
                      <a:pt x="202" y="226"/>
                    </a:lnTo>
                    <a:lnTo>
                      <a:pt x="0" y="16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4375800" y="2917800"/>
                <a:ext cx="346680" cy="358560"/>
              </a:xfrm>
              <a:custGeom>
                <a:avLst/>
                <a:gdLst/>
                <a:ahLst/>
                <a:rect l="l" t="t" r="r" b="b"/>
                <a:pathLst>
                  <a:path w="211" h="226">
                    <a:moveTo>
                      <a:pt x="203" y="0"/>
                    </a:moveTo>
                    <a:lnTo>
                      <a:pt x="211" y="219"/>
                    </a:lnTo>
                    <a:lnTo>
                      <a:pt x="202" y="226"/>
                    </a:lnTo>
                    <a:lnTo>
                      <a:pt x="0" y="16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4267440" y="2997000"/>
                <a:ext cx="108360" cy="181080"/>
              </a:xfrm>
              <a:custGeom>
                <a:avLst/>
                <a:gdLst/>
                <a:ahLst/>
                <a:rect l="l" t="t" r="r" b="b"/>
                <a:pathLst>
                  <a:path w="66" h="114">
                    <a:moveTo>
                      <a:pt x="66" y="114"/>
                    </a:moveTo>
                    <a:lnTo>
                      <a:pt x="16" y="62"/>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8" name=""/>
              <p:cNvSpPr/>
              <p:nvPr/>
            </p:nvSpPr>
            <p:spPr>
              <a:xfrm>
                <a:off x="4267440" y="2997000"/>
                <a:ext cx="108360" cy="181080"/>
              </a:xfrm>
              <a:custGeom>
                <a:avLst/>
                <a:gdLst/>
                <a:ahLst/>
                <a:rect l="l" t="t" r="r" b="b"/>
                <a:pathLst>
                  <a:path w="66" h="114">
                    <a:moveTo>
                      <a:pt x="66" y="114"/>
                    </a:moveTo>
                    <a:lnTo>
                      <a:pt x="16" y="62"/>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flipH="1">
                <a:off x="4123080" y="3178080"/>
                <a:ext cx="252720" cy="1746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0" name=""/>
              <p:cNvSpPr/>
              <p:nvPr/>
            </p:nvSpPr>
            <p:spPr>
              <a:xfrm flipH="1">
                <a:off x="4123080" y="3178080"/>
                <a:ext cx="252720" cy="17460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1" name=""/>
              <p:cNvSpPr/>
              <p:nvPr/>
            </p:nvSpPr>
            <p:spPr>
              <a:xfrm flipH="1" flipV="1">
                <a:off x="3798720" y="3115800"/>
                <a:ext cx="323640" cy="236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2" name=""/>
              <p:cNvSpPr/>
              <p:nvPr/>
            </p:nvSpPr>
            <p:spPr>
              <a:xfrm flipH="1" flipV="1">
                <a:off x="3798720" y="3115800"/>
                <a:ext cx="323640" cy="23652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3" name=""/>
              <p:cNvSpPr/>
              <p:nvPr/>
            </p:nvSpPr>
            <p:spPr>
              <a:xfrm>
                <a:off x="3606840" y="3116160"/>
                <a:ext cx="191880" cy="390600"/>
              </a:xfrm>
              <a:custGeom>
                <a:avLst/>
                <a:gdLst/>
                <a:ahLst/>
                <a:rect l="l" t="t" r="r" b="b"/>
                <a:pathLst>
                  <a:path w="117" h="246">
                    <a:moveTo>
                      <a:pt x="117" y="0"/>
                    </a:moveTo>
                    <a:lnTo>
                      <a:pt x="88" y="29"/>
                    </a:lnTo>
                    <a:lnTo>
                      <a:pt x="114" y="246"/>
                    </a:lnTo>
                    <a:lnTo>
                      <a:pt x="0" y="24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a:off x="3606840" y="3116160"/>
                <a:ext cx="191880" cy="390600"/>
              </a:xfrm>
              <a:custGeom>
                <a:avLst/>
                <a:gdLst/>
                <a:ahLst/>
                <a:rect l="l" t="t" r="r" b="b"/>
                <a:pathLst>
                  <a:path w="117" h="246">
                    <a:moveTo>
                      <a:pt x="117" y="0"/>
                    </a:moveTo>
                    <a:lnTo>
                      <a:pt x="88" y="29"/>
                    </a:lnTo>
                    <a:lnTo>
                      <a:pt x="114" y="246"/>
                    </a:lnTo>
                    <a:lnTo>
                      <a:pt x="0" y="24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5" name=""/>
              <p:cNvSpPr/>
              <p:nvPr/>
            </p:nvSpPr>
            <p:spPr>
              <a:xfrm>
                <a:off x="3549600" y="3619440"/>
                <a:ext cx="259560" cy="239760"/>
              </a:xfrm>
              <a:custGeom>
                <a:avLst/>
                <a:gdLst/>
                <a:ahLst/>
                <a:rect l="l" t="t" r="r" b="b"/>
                <a:pathLst>
                  <a:path w="158" h="151">
                    <a:moveTo>
                      <a:pt x="0" y="10"/>
                    </a:moveTo>
                    <a:lnTo>
                      <a:pt x="85" y="6"/>
                    </a:lnTo>
                    <a:lnTo>
                      <a:pt x="123" y="0"/>
                    </a:lnTo>
                    <a:lnTo>
                      <a:pt x="132" y="48"/>
                    </a:lnTo>
                    <a:lnTo>
                      <a:pt x="140" y="83"/>
                    </a:lnTo>
                    <a:lnTo>
                      <a:pt x="158" y="15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6" name=""/>
              <p:cNvSpPr/>
              <p:nvPr/>
            </p:nvSpPr>
            <p:spPr>
              <a:xfrm>
                <a:off x="3549600" y="3619440"/>
                <a:ext cx="259560" cy="239760"/>
              </a:xfrm>
              <a:custGeom>
                <a:avLst/>
                <a:gdLst/>
                <a:ahLst/>
                <a:rect l="l" t="t" r="r" b="b"/>
                <a:pathLst>
                  <a:path w="158" h="151">
                    <a:moveTo>
                      <a:pt x="0" y="10"/>
                    </a:moveTo>
                    <a:lnTo>
                      <a:pt x="85" y="6"/>
                    </a:lnTo>
                    <a:lnTo>
                      <a:pt x="123" y="0"/>
                    </a:lnTo>
                    <a:lnTo>
                      <a:pt x="132" y="48"/>
                    </a:lnTo>
                    <a:lnTo>
                      <a:pt x="140" y="83"/>
                    </a:lnTo>
                    <a:lnTo>
                      <a:pt x="158" y="15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7" name=""/>
              <p:cNvSpPr/>
              <p:nvPr/>
            </p:nvSpPr>
            <p:spPr>
              <a:xfrm>
                <a:off x="3838680" y="3352680"/>
                <a:ext cx="292320" cy="366840"/>
              </a:xfrm>
              <a:custGeom>
                <a:avLst/>
                <a:gdLst/>
                <a:ahLst/>
                <a:rect l="l" t="t" r="r" b="b"/>
                <a:pathLst>
                  <a:path w="178" h="231">
                    <a:moveTo>
                      <a:pt x="173" y="0"/>
                    </a:moveTo>
                    <a:lnTo>
                      <a:pt x="178" y="40"/>
                    </a:lnTo>
                    <a:lnTo>
                      <a:pt x="118" y="62"/>
                    </a:lnTo>
                    <a:lnTo>
                      <a:pt x="41" y="90"/>
                    </a:lnTo>
                    <a:lnTo>
                      <a:pt x="42" y="128"/>
                    </a:lnTo>
                    <a:lnTo>
                      <a:pt x="11" y="143"/>
                    </a:lnTo>
                    <a:lnTo>
                      <a:pt x="0" y="23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3838680" y="3352680"/>
                <a:ext cx="292320" cy="366840"/>
              </a:xfrm>
              <a:custGeom>
                <a:avLst/>
                <a:gdLst/>
                <a:ahLst/>
                <a:rect l="l" t="t" r="r" b="b"/>
                <a:pathLst>
                  <a:path w="178" h="231">
                    <a:moveTo>
                      <a:pt x="173" y="0"/>
                    </a:moveTo>
                    <a:lnTo>
                      <a:pt x="178" y="40"/>
                    </a:lnTo>
                    <a:lnTo>
                      <a:pt x="118" y="62"/>
                    </a:lnTo>
                    <a:lnTo>
                      <a:pt x="41" y="90"/>
                    </a:lnTo>
                    <a:lnTo>
                      <a:pt x="42" y="128"/>
                    </a:lnTo>
                    <a:lnTo>
                      <a:pt x="11" y="143"/>
                    </a:lnTo>
                    <a:lnTo>
                      <a:pt x="0" y="23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3766320" y="3695760"/>
                <a:ext cx="72000" cy="23760"/>
              </a:xfrm>
              <a:prstGeom prst="line">
                <a:avLst/>
              </a:prstGeom>
              <a:ln w="0">
                <a:solidFill>
                  <a:srgbClr val="0000ff"/>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70" name=""/>
              <p:cNvSpPr/>
              <p:nvPr/>
            </p:nvSpPr>
            <p:spPr>
              <a:xfrm>
                <a:off x="3766320" y="3695760"/>
                <a:ext cx="72000" cy="23760"/>
              </a:xfrm>
              <a:prstGeom prst="line">
                <a:avLst/>
              </a:prstGeom>
              <a:ln w="0">
                <a:solidFill>
                  <a:srgbClr val="0000ff"/>
                </a:solid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171" name=""/>
              <p:cNvSpPr/>
              <p:nvPr/>
            </p:nvSpPr>
            <p:spPr>
              <a:xfrm>
                <a:off x="4011120" y="3451320"/>
                <a:ext cx="62280" cy="372960"/>
              </a:xfrm>
              <a:custGeom>
                <a:avLst/>
                <a:gdLst/>
                <a:ahLst/>
                <a:rect l="l" t="t" r="r" b="b"/>
                <a:pathLst>
                  <a:path w="38" h="235">
                    <a:moveTo>
                      <a:pt x="13" y="0"/>
                    </a:moveTo>
                    <a:lnTo>
                      <a:pt x="38" y="84"/>
                    </a:lnTo>
                    <a:lnTo>
                      <a:pt x="0" y="106"/>
                    </a:lnTo>
                    <a:lnTo>
                      <a:pt x="0" y="125"/>
                    </a:lnTo>
                    <a:lnTo>
                      <a:pt x="27" y="23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2" name=""/>
              <p:cNvSpPr/>
              <p:nvPr/>
            </p:nvSpPr>
            <p:spPr>
              <a:xfrm>
                <a:off x="4011120" y="3451320"/>
                <a:ext cx="62280" cy="372960"/>
              </a:xfrm>
              <a:custGeom>
                <a:avLst/>
                <a:gdLst/>
                <a:ahLst/>
                <a:rect l="l" t="t" r="r" b="b"/>
                <a:pathLst>
                  <a:path w="38" h="235">
                    <a:moveTo>
                      <a:pt x="13" y="0"/>
                    </a:moveTo>
                    <a:lnTo>
                      <a:pt x="38" y="84"/>
                    </a:lnTo>
                    <a:lnTo>
                      <a:pt x="0" y="106"/>
                    </a:lnTo>
                    <a:lnTo>
                      <a:pt x="0" y="125"/>
                    </a:lnTo>
                    <a:lnTo>
                      <a:pt x="27" y="23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
              <p:cNvSpPr/>
              <p:nvPr/>
            </p:nvSpPr>
            <p:spPr>
              <a:xfrm flipH="1">
                <a:off x="3953520" y="3649680"/>
                <a:ext cx="57240" cy="28440"/>
              </a:xfrm>
              <a:prstGeom prst="line">
                <a:avLst/>
              </a:prstGeom>
              <a:ln w="0">
                <a:solidFill>
                  <a:srgbClr val="0000ff"/>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74" name=""/>
              <p:cNvSpPr/>
              <p:nvPr/>
            </p:nvSpPr>
            <p:spPr>
              <a:xfrm flipH="1">
                <a:off x="3953520" y="3649680"/>
                <a:ext cx="57240" cy="28440"/>
              </a:xfrm>
              <a:prstGeom prst="line">
                <a:avLst/>
              </a:prstGeom>
              <a:ln w="0">
                <a:solidFill>
                  <a:srgbClr val="0000ff"/>
                </a:solid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175" name=""/>
              <p:cNvSpPr/>
              <p:nvPr/>
            </p:nvSpPr>
            <p:spPr>
              <a:xfrm>
                <a:off x="3953880" y="3678120"/>
                <a:ext cx="47520" cy="1522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6" name=""/>
              <p:cNvSpPr/>
              <p:nvPr/>
            </p:nvSpPr>
            <p:spPr>
              <a:xfrm>
                <a:off x="3953880" y="3678120"/>
                <a:ext cx="47520" cy="1522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3889800" y="3678120"/>
                <a:ext cx="63720" cy="166680"/>
              </a:xfrm>
              <a:custGeom>
                <a:avLst/>
                <a:gdLst/>
                <a:ahLst/>
                <a:rect l="l" t="t" r="r" b="b"/>
                <a:pathLst>
                  <a:path w="39" h="105">
                    <a:moveTo>
                      <a:pt x="39" y="0"/>
                    </a:moveTo>
                    <a:lnTo>
                      <a:pt x="0" y="17"/>
                    </a:lnTo>
                    <a:lnTo>
                      <a:pt x="10" y="35"/>
                    </a:lnTo>
                    <a:lnTo>
                      <a:pt x="24" y="10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8" name=""/>
              <p:cNvSpPr/>
              <p:nvPr/>
            </p:nvSpPr>
            <p:spPr>
              <a:xfrm>
                <a:off x="3889800" y="3678120"/>
                <a:ext cx="63720" cy="166680"/>
              </a:xfrm>
              <a:custGeom>
                <a:avLst/>
                <a:gdLst/>
                <a:ahLst/>
                <a:rect l="l" t="t" r="r" b="b"/>
                <a:pathLst>
                  <a:path w="39" h="105">
                    <a:moveTo>
                      <a:pt x="39" y="0"/>
                    </a:moveTo>
                    <a:lnTo>
                      <a:pt x="0" y="17"/>
                    </a:lnTo>
                    <a:lnTo>
                      <a:pt x="10" y="35"/>
                    </a:lnTo>
                    <a:lnTo>
                      <a:pt x="24" y="10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9" name=""/>
              <p:cNvSpPr/>
              <p:nvPr/>
            </p:nvSpPr>
            <p:spPr>
              <a:xfrm flipH="1" flipV="1">
                <a:off x="3838320" y="3719160"/>
                <a:ext cx="67320" cy="14040"/>
              </a:xfrm>
              <a:prstGeom prst="line">
                <a:avLst/>
              </a:prstGeom>
              <a:ln w="0">
                <a:solidFill>
                  <a:srgbClr val="0000ff"/>
                </a:solid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80" name=""/>
              <p:cNvSpPr/>
              <p:nvPr/>
            </p:nvSpPr>
            <p:spPr>
              <a:xfrm flipH="1" flipV="1">
                <a:off x="3838320" y="3719160"/>
                <a:ext cx="67320" cy="14040"/>
              </a:xfrm>
              <a:prstGeom prst="line">
                <a:avLst/>
              </a:prstGeom>
              <a:ln w="0">
                <a:solidFill>
                  <a:srgbClr val="0000ff"/>
                </a:solid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81" name=""/>
              <p:cNvSpPr/>
              <p:nvPr/>
            </p:nvSpPr>
            <p:spPr>
              <a:xfrm>
                <a:off x="4055400" y="3527280"/>
                <a:ext cx="417240" cy="331920"/>
              </a:xfrm>
              <a:custGeom>
                <a:avLst/>
                <a:gdLst/>
                <a:ahLst/>
                <a:rect l="l" t="t" r="r" b="b"/>
                <a:pathLst>
                  <a:path w="254" h="209">
                    <a:moveTo>
                      <a:pt x="24" y="181"/>
                    </a:moveTo>
                    <a:lnTo>
                      <a:pt x="0" y="95"/>
                    </a:lnTo>
                    <a:lnTo>
                      <a:pt x="19" y="31"/>
                    </a:lnTo>
                    <a:lnTo>
                      <a:pt x="55" y="0"/>
                    </a:lnTo>
                    <a:lnTo>
                      <a:pt x="254" y="5"/>
                    </a:lnTo>
                    <a:lnTo>
                      <a:pt x="184" y="169"/>
                    </a:lnTo>
                    <a:lnTo>
                      <a:pt x="143" y="169"/>
                    </a:lnTo>
                    <a:lnTo>
                      <a:pt x="134" y="20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2" name=""/>
              <p:cNvSpPr/>
              <p:nvPr/>
            </p:nvSpPr>
            <p:spPr>
              <a:xfrm>
                <a:off x="4055400" y="3527280"/>
                <a:ext cx="417240" cy="331920"/>
              </a:xfrm>
              <a:custGeom>
                <a:avLst/>
                <a:gdLst/>
                <a:ahLst/>
                <a:rect l="l" t="t" r="r" b="b"/>
                <a:pathLst>
                  <a:path w="254" h="209">
                    <a:moveTo>
                      <a:pt x="24" y="181"/>
                    </a:moveTo>
                    <a:lnTo>
                      <a:pt x="0" y="95"/>
                    </a:lnTo>
                    <a:lnTo>
                      <a:pt x="19" y="31"/>
                    </a:lnTo>
                    <a:lnTo>
                      <a:pt x="55" y="0"/>
                    </a:lnTo>
                    <a:lnTo>
                      <a:pt x="254" y="5"/>
                    </a:lnTo>
                    <a:lnTo>
                      <a:pt x="184" y="169"/>
                    </a:lnTo>
                    <a:lnTo>
                      <a:pt x="143" y="169"/>
                    </a:lnTo>
                    <a:lnTo>
                      <a:pt x="134" y="20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3" name=""/>
              <p:cNvSpPr/>
              <p:nvPr/>
            </p:nvSpPr>
            <p:spPr>
              <a:xfrm flipV="1">
                <a:off x="4073760" y="3583080"/>
                <a:ext cx="612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4" name=""/>
              <p:cNvSpPr/>
              <p:nvPr/>
            </p:nvSpPr>
            <p:spPr>
              <a:xfrm flipV="1">
                <a:off x="4073760" y="3583080"/>
                <a:ext cx="6120" cy="1440"/>
              </a:xfrm>
              <a:prstGeom prst="line">
                <a:avLst/>
              </a:prstGeom>
              <a:ln w="0">
                <a:solidFill>
                  <a:srgbClr val="0000ff"/>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5" name=""/>
              <p:cNvSpPr/>
              <p:nvPr/>
            </p:nvSpPr>
            <p:spPr>
              <a:xfrm>
                <a:off x="4275720" y="3952800"/>
                <a:ext cx="190440" cy="227160"/>
              </a:xfrm>
              <a:custGeom>
                <a:avLst/>
                <a:gdLst/>
                <a:ahLst/>
                <a:rect l="l" t="t" r="r" b="b"/>
                <a:pathLst>
                  <a:path w="116" h="143">
                    <a:moveTo>
                      <a:pt x="53" y="143"/>
                    </a:moveTo>
                    <a:lnTo>
                      <a:pt x="77" y="108"/>
                    </a:lnTo>
                    <a:lnTo>
                      <a:pt x="116" y="100"/>
                    </a:lnTo>
                    <a:lnTo>
                      <a:pt x="116" y="0"/>
                    </a:lnTo>
                    <a:lnTo>
                      <a:pt x="26" y="11"/>
                    </a:lnTo>
                    <a:lnTo>
                      <a:pt x="0" y="2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6" name=""/>
              <p:cNvSpPr/>
              <p:nvPr/>
            </p:nvSpPr>
            <p:spPr>
              <a:xfrm>
                <a:off x="4275720" y="3952800"/>
                <a:ext cx="190440" cy="227160"/>
              </a:xfrm>
              <a:custGeom>
                <a:avLst/>
                <a:gdLst/>
                <a:ahLst/>
                <a:rect l="l" t="t" r="r" b="b"/>
                <a:pathLst>
                  <a:path w="116" h="143">
                    <a:moveTo>
                      <a:pt x="53" y="143"/>
                    </a:moveTo>
                    <a:lnTo>
                      <a:pt x="77" y="108"/>
                    </a:lnTo>
                    <a:lnTo>
                      <a:pt x="116" y="100"/>
                    </a:lnTo>
                    <a:lnTo>
                      <a:pt x="116" y="0"/>
                    </a:lnTo>
                    <a:lnTo>
                      <a:pt x="26" y="11"/>
                    </a:lnTo>
                    <a:lnTo>
                      <a:pt x="0" y="2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7" name=""/>
              <p:cNvSpPr/>
              <p:nvPr/>
            </p:nvSpPr>
            <p:spPr>
              <a:xfrm>
                <a:off x="4466520" y="3276360"/>
                <a:ext cx="249480" cy="684360"/>
              </a:xfrm>
              <a:custGeom>
                <a:avLst/>
                <a:gdLst/>
                <a:ahLst/>
                <a:rect l="l" t="t" r="r" b="b"/>
                <a:pathLst>
                  <a:path w="152" h="431">
                    <a:moveTo>
                      <a:pt x="147" y="0"/>
                    </a:moveTo>
                    <a:lnTo>
                      <a:pt x="152" y="138"/>
                    </a:lnTo>
                    <a:lnTo>
                      <a:pt x="143" y="156"/>
                    </a:lnTo>
                    <a:lnTo>
                      <a:pt x="143" y="211"/>
                    </a:lnTo>
                    <a:lnTo>
                      <a:pt x="27" y="264"/>
                    </a:lnTo>
                    <a:lnTo>
                      <a:pt x="49" y="367"/>
                    </a:lnTo>
                    <a:lnTo>
                      <a:pt x="62" y="376"/>
                    </a:lnTo>
                    <a:lnTo>
                      <a:pt x="73" y="422"/>
                    </a:lnTo>
                    <a:lnTo>
                      <a:pt x="62" y="431"/>
                    </a:lnTo>
                    <a:lnTo>
                      <a:pt x="35" y="418"/>
                    </a:lnTo>
                    <a:lnTo>
                      <a:pt x="0" y="42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8" name=""/>
              <p:cNvSpPr/>
              <p:nvPr/>
            </p:nvSpPr>
            <p:spPr>
              <a:xfrm>
                <a:off x="4466520" y="3276360"/>
                <a:ext cx="249480" cy="684360"/>
              </a:xfrm>
              <a:custGeom>
                <a:avLst/>
                <a:gdLst/>
                <a:ahLst/>
                <a:rect l="l" t="t" r="r" b="b"/>
                <a:pathLst>
                  <a:path w="152" h="431">
                    <a:moveTo>
                      <a:pt x="147" y="0"/>
                    </a:moveTo>
                    <a:lnTo>
                      <a:pt x="152" y="138"/>
                    </a:lnTo>
                    <a:lnTo>
                      <a:pt x="143" y="156"/>
                    </a:lnTo>
                    <a:lnTo>
                      <a:pt x="143" y="211"/>
                    </a:lnTo>
                    <a:lnTo>
                      <a:pt x="27" y="264"/>
                    </a:lnTo>
                    <a:lnTo>
                      <a:pt x="49" y="367"/>
                    </a:lnTo>
                    <a:lnTo>
                      <a:pt x="62" y="376"/>
                    </a:lnTo>
                    <a:lnTo>
                      <a:pt x="73" y="422"/>
                    </a:lnTo>
                    <a:lnTo>
                      <a:pt x="62" y="431"/>
                    </a:lnTo>
                    <a:lnTo>
                      <a:pt x="35" y="418"/>
                    </a:lnTo>
                    <a:lnTo>
                      <a:pt x="0" y="42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9" name=""/>
              <p:cNvSpPr/>
              <p:nvPr/>
            </p:nvSpPr>
            <p:spPr>
              <a:xfrm>
                <a:off x="4397040" y="3844800"/>
                <a:ext cx="274320" cy="384120"/>
              </a:xfrm>
              <a:custGeom>
                <a:avLst/>
                <a:gdLst/>
                <a:ahLst/>
                <a:rect l="l" t="t" r="r" b="b"/>
                <a:pathLst>
                  <a:path w="167" h="242">
                    <a:moveTo>
                      <a:pt x="91" y="9"/>
                    </a:moveTo>
                    <a:lnTo>
                      <a:pt x="150" y="0"/>
                    </a:lnTo>
                    <a:lnTo>
                      <a:pt x="163" y="9"/>
                    </a:lnTo>
                    <a:lnTo>
                      <a:pt x="167" y="25"/>
                    </a:lnTo>
                    <a:lnTo>
                      <a:pt x="91" y="211"/>
                    </a:lnTo>
                    <a:lnTo>
                      <a:pt x="0" y="24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0" name=""/>
              <p:cNvSpPr/>
              <p:nvPr/>
            </p:nvSpPr>
            <p:spPr>
              <a:xfrm>
                <a:off x="4397040" y="3844800"/>
                <a:ext cx="274320" cy="384120"/>
              </a:xfrm>
              <a:custGeom>
                <a:avLst/>
                <a:gdLst/>
                <a:ahLst/>
                <a:rect l="l" t="t" r="r" b="b"/>
                <a:pathLst>
                  <a:path w="167" h="242">
                    <a:moveTo>
                      <a:pt x="91" y="9"/>
                    </a:moveTo>
                    <a:lnTo>
                      <a:pt x="150" y="0"/>
                    </a:lnTo>
                    <a:lnTo>
                      <a:pt x="163" y="9"/>
                    </a:lnTo>
                    <a:lnTo>
                      <a:pt x="167" y="25"/>
                    </a:lnTo>
                    <a:lnTo>
                      <a:pt x="91" y="211"/>
                    </a:lnTo>
                    <a:lnTo>
                      <a:pt x="0" y="24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1" name=""/>
              <p:cNvSpPr/>
              <p:nvPr/>
            </p:nvSpPr>
            <p:spPr>
              <a:xfrm>
                <a:off x="4397040" y="3611520"/>
                <a:ext cx="574920" cy="868320"/>
              </a:xfrm>
              <a:custGeom>
                <a:avLst/>
                <a:gdLst/>
                <a:ahLst/>
                <a:rect l="l" t="t" r="r" b="b"/>
                <a:pathLst>
                  <a:path w="350" h="547">
                    <a:moveTo>
                      <a:pt x="0" y="404"/>
                    </a:moveTo>
                    <a:lnTo>
                      <a:pt x="79" y="405"/>
                    </a:lnTo>
                    <a:lnTo>
                      <a:pt x="84" y="437"/>
                    </a:lnTo>
                    <a:lnTo>
                      <a:pt x="110" y="437"/>
                    </a:lnTo>
                    <a:lnTo>
                      <a:pt x="134" y="404"/>
                    </a:lnTo>
                    <a:lnTo>
                      <a:pt x="172" y="409"/>
                    </a:lnTo>
                    <a:lnTo>
                      <a:pt x="172" y="488"/>
                    </a:lnTo>
                    <a:lnTo>
                      <a:pt x="332" y="547"/>
                    </a:lnTo>
                    <a:lnTo>
                      <a:pt x="332" y="503"/>
                    </a:lnTo>
                    <a:lnTo>
                      <a:pt x="328" y="503"/>
                    </a:lnTo>
                    <a:lnTo>
                      <a:pt x="313" y="492"/>
                    </a:lnTo>
                    <a:lnTo>
                      <a:pt x="299" y="460"/>
                    </a:lnTo>
                    <a:lnTo>
                      <a:pt x="299" y="449"/>
                    </a:lnTo>
                    <a:lnTo>
                      <a:pt x="350" y="444"/>
                    </a:lnTo>
                    <a:lnTo>
                      <a:pt x="323" y="383"/>
                    </a:lnTo>
                    <a:lnTo>
                      <a:pt x="339" y="286"/>
                    </a:lnTo>
                    <a:lnTo>
                      <a:pt x="332" y="264"/>
                    </a:lnTo>
                    <a:lnTo>
                      <a:pt x="350" y="244"/>
                    </a:lnTo>
                    <a:lnTo>
                      <a:pt x="343" y="180"/>
                    </a:lnTo>
                    <a:lnTo>
                      <a:pt x="339" y="163"/>
                    </a:lnTo>
                    <a:lnTo>
                      <a:pt x="319" y="163"/>
                    </a:lnTo>
                    <a:lnTo>
                      <a:pt x="290" y="130"/>
                    </a:lnTo>
                    <a:lnTo>
                      <a:pt x="185"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2" name=""/>
              <p:cNvSpPr/>
              <p:nvPr/>
            </p:nvSpPr>
            <p:spPr>
              <a:xfrm>
                <a:off x="4397040" y="3611520"/>
                <a:ext cx="574920" cy="868320"/>
              </a:xfrm>
              <a:custGeom>
                <a:avLst/>
                <a:gdLst/>
                <a:ahLst/>
                <a:rect l="l" t="t" r="r" b="b"/>
                <a:pathLst>
                  <a:path w="350" h="547">
                    <a:moveTo>
                      <a:pt x="0" y="404"/>
                    </a:moveTo>
                    <a:lnTo>
                      <a:pt x="79" y="405"/>
                    </a:lnTo>
                    <a:lnTo>
                      <a:pt x="84" y="437"/>
                    </a:lnTo>
                    <a:lnTo>
                      <a:pt x="110" y="437"/>
                    </a:lnTo>
                    <a:lnTo>
                      <a:pt x="134" y="404"/>
                    </a:lnTo>
                    <a:lnTo>
                      <a:pt x="172" y="409"/>
                    </a:lnTo>
                    <a:lnTo>
                      <a:pt x="172" y="488"/>
                    </a:lnTo>
                    <a:lnTo>
                      <a:pt x="332" y="547"/>
                    </a:lnTo>
                    <a:lnTo>
                      <a:pt x="332" y="503"/>
                    </a:lnTo>
                    <a:lnTo>
                      <a:pt x="328" y="503"/>
                    </a:lnTo>
                    <a:lnTo>
                      <a:pt x="313" y="492"/>
                    </a:lnTo>
                    <a:lnTo>
                      <a:pt x="299" y="460"/>
                    </a:lnTo>
                    <a:lnTo>
                      <a:pt x="299" y="449"/>
                    </a:lnTo>
                    <a:lnTo>
                      <a:pt x="350" y="444"/>
                    </a:lnTo>
                    <a:lnTo>
                      <a:pt x="323" y="383"/>
                    </a:lnTo>
                    <a:lnTo>
                      <a:pt x="339" y="286"/>
                    </a:lnTo>
                    <a:lnTo>
                      <a:pt x="332" y="264"/>
                    </a:lnTo>
                    <a:lnTo>
                      <a:pt x="350" y="244"/>
                    </a:lnTo>
                    <a:lnTo>
                      <a:pt x="343" y="180"/>
                    </a:lnTo>
                    <a:lnTo>
                      <a:pt x="339" y="163"/>
                    </a:lnTo>
                    <a:lnTo>
                      <a:pt x="319" y="163"/>
                    </a:lnTo>
                    <a:lnTo>
                      <a:pt x="290" y="130"/>
                    </a:lnTo>
                    <a:lnTo>
                      <a:pt x="185"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a:off x="4953960" y="3870360"/>
                <a:ext cx="180360" cy="195120"/>
              </a:xfrm>
              <a:custGeom>
                <a:avLst/>
                <a:gdLst/>
                <a:ahLst/>
                <a:rect l="l" t="t" r="r" b="b"/>
                <a:pathLst>
                  <a:path w="110" h="123">
                    <a:moveTo>
                      <a:pt x="0" y="123"/>
                    </a:moveTo>
                    <a:lnTo>
                      <a:pt x="73" y="121"/>
                    </a:lnTo>
                    <a:lnTo>
                      <a:pt x="110" y="70"/>
                    </a:lnTo>
                    <a:lnTo>
                      <a:pt x="110" y="0"/>
                    </a:lnTo>
                    <a:lnTo>
                      <a:pt x="2" y="1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4" name=""/>
              <p:cNvSpPr/>
              <p:nvPr/>
            </p:nvSpPr>
            <p:spPr>
              <a:xfrm>
                <a:off x="4953960" y="3870360"/>
                <a:ext cx="180360" cy="195120"/>
              </a:xfrm>
              <a:custGeom>
                <a:avLst/>
                <a:gdLst/>
                <a:ahLst/>
                <a:rect l="l" t="t" r="r" b="b"/>
                <a:pathLst>
                  <a:path w="110" h="123">
                    <a:moveTo>
                      <a:pt x="0" y="123"/>
                    </a:moveTo>
                    <a:lnTo>
                      <a:pt x="73" y="121"/>
                    </a:lnTo>
                    <a:lnTo>
                      <a:pt x="110" y="70"/>
                    </a:lnTo>
                    <a:lnTo>
                      <a:pt x="110" y="0"/>
                    </a:lnTo>
                    <a:lnTo>
                      <a:pt x="2" y="1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5" name=""/>
              <p:cNvSpPr/>
              <p:nvPr/>
            </p:nvSpPr>
            <p:spPr>
              <a:xfrm>
                <a:off x="5074200" y="3395520"/>
                <a:ext cx="96840" cy="474840"/>
              </a:xfrm>
              <a:custGeom>
                <a:avLst/>
                <a:gdLst/>
                <a:ahLst/>
                <a:rect l="l" t="t" r="r" b="b"/>
                <a:pathLst>
                  <a:path w="59" h="299">
                    <a:moveTo>
                      <a:pt x="41" y="299"/>
                    </a:moveTo>
                    <a:lnTo>
                      <a:pt x="0" y="217"/>
                    </a:lnTo>
                    <a:lnTo>
                      <a:pt x="59"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5074200" y="3395520"/>
                <a:ext cx="96840" cy="474840"/>
              </a:xfrm>
              <a:custGeom>
                <a:avLst/>
                <a:gdLst/>
                <a:ahLst/>
                <a:rect l="l" t="t" r="r" b="b"/>
                <a:pathLst>
                  <a:path w="59" h="299">
                    <a:moveTo>
                      <a:pt x="41" y="299"/>
                    </a:moveTo>
                    <a:lnTo>
                      <a:pt x="0" y="217"/>
                    </a:lnTo>
                    <a:lnTo>
                      <a:pt x="59"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7" name=""/>
              <p:cNvSpPr/>
              <p:nvPr/>
            </p:nvSpPr>
            <p:spPr>
              <a:xfrm>
                <a:off x="5134680" y="3689280"/>
                <a:ext cx="374760" cy="195120"/>
              </a:xfrm>
              <a:custGeom>
                <a:avLst/>
                <a:gdLst/>
                <a:ahLst/>
                <a:rect l="l" t="t" r="r" b="b"/>
                <a:pathLst>
                  <a:path w="228" h="123">
                    <a:moveTo>
                      <a:pt x="156" y="0"/>
                    </a:moveTo>
                    <a:lnTo>
                      <a:pt x="162" y="19"/>
                    </a:lnTo>
                    <a:lnTo>
                      <a:pt x="228" y="24"/>
                    </a:lnTo>
                    <a:lnTo>
                      <a:pt x="130" y="123"/>
                    </a:lnTo>
                    <a:lnTo>
                      <a:pt x="0" y="11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8" name=""/>
              <p:cNvSpPr/>
              <p:nvPr/>
            </p:nvSpPr>
            <p:spPr>
              <a:xfrm>
                <a:off x="5134680" y="3689280"/>
                <a:ext cx="374760" cy="195120"/>
              </a:xfrm>
              <a:custGeom>
                <a:avLst/>
                <a:gdLst/>
                <a:ahLst/>
                <a:rect l="l" t="t" r="r" b="b"/>
                <a:pathLst>
                  <a:path w="228" h="123">
                    <a:moveTo>
                      <a:pt x="156" y="0"/>
                    </a:moveTo>
                    <a:lnTo>
                      <a:pt x="162" y="19"/>
                    </a:lnTo>
                    <a:lnTo>
                      <a:pt x="228" y="24"/>
                    </a:lnTo>
                    <a:lnTo>
                      <a:pt x="130" y="123"/>
                    </a:lnTo>
                    <a:lnTo>
                      <a:pt x="0" y="11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9" name=""/>
              <p:cNvSpPr/>
              <p:nvPr/>
            </p:nvSpPr>
            <p:spPr>
              <a:xfrm>
                <a:off x="4379400" y="4421160"/>
                <a:ext cx="379440" cy="223920"/>
              </a:xfrm>
              <a:custGeom>
                <a:avLst/>
                <a:gdLst/>
                <a:ahLst/>
                <a:rect l="l" t="t" r="r" b="b"/>
                <a:pathLst>
                  <a:path w="231" h="141">
                    <a:moveTo>
                      <a:pt x="0" y="130"/>
                    </a:moveTo>
                    <a:lnTo>
                      <a:pt x="172" y="141"/>
                    </a:lnTo>
                    <a:lnTo>
                      <a:pt x="200" y="134"/>
                    </a:lnTo>
                    <a:lnTo>
                      <a:pt x="183" y="117"/>
                    </a:lnTo>
                    <a:lnTo>
                      <a:pt x="183" y="35"/>
                    </a:lnTo>
                    <a:lnTo>
                      <a:pt x="225" y="31"/>
                    </a:lnTo>
                    <a:lnTo>
                      <a:pt x="231"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0" name=""/>
              <p:cNvSpPr/>
              <p:nvPr/>
            </p:nvSpPr>
            <p:spPr>
              <a:xfrm>
                <a:off x="4379400" y="4421160"/>
                <a:ext cx="379440" cy="223920"/>
              </a:xfrm>
              <a:custGeom>
                <a:avLst/>
                <a:gdLst/>
                <a:ahLst/>
                <a:rect l="l" t="t" r="r" b="b"/>
                <a:pathLst>
                  <a:path w="231" h="141">
                    <a:moveTo>
                      <a:pt x="0" y="130"/>
                    </a:moveTo>
                    <a:lnTo>
                      <a:pt x="172" y="141"/>
                    </a:lnTo>
                    <a:lnTo>
                      <a:pt x="200" y="134"/>
                    </a:lnTo>
                    <a:lnTo>
                      <a:pt x="183" y="117"/>
                    </a:lnTo>
                    <a:lnTo>
                      <a:pt x="183" y="35"/>
                    </a:lnTo>
                    <a:lnTo>
                      <a:pt x="225" y="31"/>
                    </a:lnTo>
                    <a:lnTo>
                      <a:pt x="231"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1" name=""/>
              <p:cNvSpPr/>
              <p:nvPr/>
            </p:nvSpPr>
            <p:spPr>
              <a:xfrm>
                <a:off x="4502520" y="4645080"/>
                <a:ext cx="158760" cy="414360"/>
              </a:xfrm>
              <a:custGeom>
                <a:avLst/>
                <a:gdLst/>
                <a:ahLst/>
                <a:rect l="l" t="t" r="r" b="b"/>
                <a:pathLst>
                  <a:path w="97" h="261">
                    <a:moveTo>
                      <a:pt x="0" y="261"/>
                    </a:moveTo>
                    <a:lnTo>
                      <a:pt x="53" y="252"/>
                    </a:lnTo>
                    <a:lnTo>
                      <a:pt x="62" y="191"/>
                    </a:lnTo>
                    <a:lnTo>
                      <a:pt x="70" y="101"/>
                    </a:lnTo>
                    <a:lnTo>
                      <a:pt x="97" y="86"/>
                    </a:lnTo>
                    <a:lnTo>
                      <a:pt x="97"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2" name=""/>
              <p:cNvSpPr/>
              <p:nvPr/>
            </p:nvSpPr>
            <p:spPr>
              <a:xfrm>
                <a:off x="4502520" y="4645080"/>
                <a:ext cx="158760" cy="414360"/>
              </a:xfrm>
              <a:custGeom>
                <a:avLst/>
                <a:gdLst/>
                <a:ahLst/>
                <a:rect l="l" t="t" r="r" b="b"/>
                <a:pathLst>
                  <a:path w="97" h="261">
                    <a:moveTo>
                      <a:pt x="0" y="261"/>
                    </a:moveTo>
                    <a:lnTo>
                      <a:pt x="53" y="252"/>
                    </a:lnTo>
                    <a:lnTo>
                      <a:pt x="62" y="191"/>
                    </a:lnTo>
                    <a:lnTo>
                      <a:pt x="70" y="101"/>
                    </a:lnTo>
                    <a:lnTo>
                      <a:pt x="97" y="86"/>
                    </a:lnTo>
                    <a:lnTo>
                      <a:pt x="97"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4604400" y="4654440"/>
                <a:ext cx="289080" cy="343080"/>
              </a:xfrm>
              <a:custGeom>
                <a:avLst/>
                <a:gdLst/>
                <a:ahLst/>
                <a:rect l="l" t="t" r="r" b="b"/>
                <a:pathLst>
                  <a:path w="176" h="216">
                    <a:moveTo>
                      <a:pt x="0" y="185"/>
                    </a:moveTo>
                    <a:lnTo>
                      <a:pt x="59" y="216"/>
                    </a:lnTo>
                    <a:lnTo>
                      <a:pt x="85" y="161"/>
                    </a:lnTo>
                    <a:lnTo>
                      <a:pt x="109" y="163"/>
                    </a:lnTo>
                    <a:lnTo>
                      <a:pt x="176" y="91"/>
                    </a:lnTo>
                    <a:lnTo>
                      <a:pt x="112"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4604400" y="4654440"/>
                <a:ext cx="289080" cy="343080"/>
              </a:xfrm>
              <a:custGeom>
                <a:avLst/>
                <a:gdLst/>
                <a:ahLst/>
                <a:rect l="l" t="t" r="r" b="b"/>
                <a:pathLst>
                  <a:path w="176" h="216">
                    <a:moveTo>
                      <a:pt x="0" y="185"/>
                    </a:moveTo>
                    <a:lnTo>
                      <a:pt x="59" y="216"/>
                    </a:lnTo>
                    <a:lnTo>
                      <a:pt x="85" y="161"/>
                    </a:lnTo>
                    <a:lnTo>
                      <a:pt x="109" y="163"/>
                    </a:lnTo>
                    <a:lnTo>
                      <a:pt x="176" y="91"/>
                    </a:lnTo>
                    <a:lnTo>
                      <a:pt x="112"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5" name=""/>
              <p:cNvSpPr/>
              <p:nvPr/>
            </p:nvSpPr>
            <p:spPr>
              <a:xfrm>
                <a:off x="4893480" y="4798800"/>
                <a:ext cx="856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6" name=""/>
              <p:cNvSpPr/>
              <p:nvPr/>
            </p:nvSpPr>
            <p:spPr>
              <a:xfrm>
                <a:off x="4893480" y="4798800"/>
                <a:ext cx="8568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7" name=""/>
              <p:cNvSpPr/>
              <p:nvPr/>
            </p:nvSpPr>
            <p:spPr>
              <a:xfrm>
                <a:off x="4979160" y="4798800"/>
                <a:ext cx="44280" cy="166680"/>
              </a:xfrm>
              <a:custGeom>
                <a:avLst/>
                <a:gdLst/>
                <a:ahLst/>
                <a:rect l="l" t="t" r="r" b="b"/>
                <a:pathLst>
                  <a:path w="27" h="105">
                    <a:moveTo>
                      <a:pt x="0" y="0"/>
                    </a:moveTo>
                    <a:lnTo>
                      <a:pt x="18" y="70"/>
                    </a:lnTo>
                    <a:lnTo>
                      <a:pt x="20" y="76"/>
                    </a:lnTo>
                    <a:lnTo>
                      <a:pt x="14" y="96"/>
                    </a:lnTo>
                    <a:lnTo>
                      <a:pt x="27" y="10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8" name=""/>
              <p:cNvSpPr/>
              <p:nvPr/>
            </p:nvSpPr>
            <p:spPr>
              <a:xfrm>
                <a:off x="4979160" y="4798800"/>
                <a:ext cx="44280" cy="166680"/>
              </a:xfrm>
              <a:custGeom>
                <a:avLst/>
                <a:gdLst/>
                <a:ahLst/>
                <a:rect l="l" t="t" r="r" b="b"/>
                <a:pathLst>
                  <a:path w="27" h="105">
                    <a:moveTo>
                      <a:pt x="0" y="0"/>
                    </a:moveTo>
                    <a:lnTo>
                      <a:pt x="18" y="70"/>
                    </a:lnTo>
                    <a:lnTo>
                      <a:pt x="20" y="76"/>
                    </a:lnTo>
                    <a:lnTo>
                      <a:pt x="14" y="96"/>
                    </a:lnTo>
                    <a:lnTo>
                      <a:pt x="27" y="10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4942800" y="4575240"/>
                <a:ext cx="86760" cy="223560"/>
              </a:xfrm>
              <a:custGeom>
                <a:avLst/>
                <a:gdLst/>
                <a:ahLst/>
                <a:rect l="l" t="t" r="r" b="b"/>
                <a:pathLst>
                  <a:path w="53" h="141">
                    <a:moveTo>
                      <a:pt x="22" y="141"/>
                    </a:moveTo>
                    <a:lnTo>
                      <a:pt x="53" y="96"/>
                    </a:lnTo>
                    <a:lnTo>
                      <a:pt x="53" y="9"/>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0" name=""/>
              <p:cNvSpPr/>
              <p:nvPr/>
            </p:nvSpPr>
            <p:spPr>
              <a:xfrm>
                <a:off x="4942800" y="4575240"/>
                <a:ext cx="86760" cy="223560"/>
              </a:xfrm>
              <a:custGeom>
                <a:avLst/>
                <a:gdLst/>
                <a:ahLst/>
                <a:rect l="l" t="t" r="r" b="b"/>
                <a:pathLst>
                  <a:path w="53" h="141">
                    <a:moveTo>
                      <a:pt x="22" y="141"/>
                    </a:moveTo>
                    <a:lnTo>
                      <a:pt x="53" y="96"/>
                    </a:lnTo>
                    <a:lnTo>
                      <a:pt x="53" y="9"/>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1" name=""/>
              <p:cNvSpPr/>
              <p:nvPr/>
            </p:nvSpPr>
            <p:spPr>
              <a:xfrm>
                <a:off x="4707720" y="4511520"/>
                <a:ext cx="348120" cy="165240"/>
              </a:xfrm>
              <a:custGeom>
                <a:avLst/>
                <a:gdLst/>
                <a:ahLst/>
                <a:rect l="l" t="t" r="r" b="b"/>
                <a:pathLst>
                  <a:path w="212" h="104">
                    <a:moveTo>
                      <a:pt x="0" y="77"/>
                    </a:moveTo>
                    <a:lnTo>
                      <a:pt x="49" y="90"/>
                    </a:lnTo>
                    <a:lnTo>
                      <a:pt x="84" y="104"/>
                    </a:lnTo>
                    <a:lnTo>
                      <a:pt x="143" y="40"/>
                    </a:lnTo>
                    <a:lnTo>
                      <a:pt x="212"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2" name=""/>
              <p:cNvSpPr/>
              <p:nvPr/>
            </p:nvSpPr>
            <p:spPr>
              <a:xfrm>
                <a:off x="4707720" y="4511520"/>
                <a:ext cx="348120" cy="165240"/>
              </a:xfrm>
              <a:custGeom>
                <a:avLst/>
                <a:gdLst/>
                <a:ahLst/>
                <a:rect l="l" t="t" r="r" b="b"/>
                <a:pathLst>
                  <a:path w="212" h="104">
                    <a:moveTo>
                      <a:pt x="0" y="77"/>
                    </a:moveTo>
                    <a:lnTo>
                      <a:pt x="49" y="90"/>
                    </a:lnTo>
                    <a:lnTo>
                      <a:pt x="84" y="104"/>
                    </a:lnTo>
                    <a:lnTo>
                      <a:pt x="143" y="40"/>
                    </a:lnTo>
                    <a:lnTo>
                      <a:pt x="212"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3" name=""/>
              <p:cNvSpPr/>
              <p:nvPr/>
            </p:nvSpPr>
            <p:spPr>
              <a:xfrm>
                <a:off x="5029920" y="4330800"/>
                <a:ext cx="104760" cy="261720"/>
              </a:xfrm>
              <a:custGeom>
                <a:avLst/>
                <a:gdLst/>
                <a:ahLst/>
                <a:rect l="l" t="t" r="r" b="b"/>
                <a:pathLst>
                  <a:path w="64" h="165">
                    <a:moveTo>
                      <a:pt x="0" y="95"/>
                    </a:moveTo>
                    <a:lnTo>
                      <a:pt x="16" y="0"/>
                    </a:lnTo>
                    <a:lnTo>
                      <a:pt x="31" y="7"/>
                    </a:lnTo>
                    <a:lnTo>
                      <a:pt x="35" y="46"/>
                    </a:lnTo>
                    <a:lnTo>
                      <a:pt x="42" y="94"/>
                    </a:lnTo>
                    <a:lnTo>
                      <a:pt x="64" y="112"/>
                    </a:lnTo>
                    <a:lnTo>
                      <a:pt x="59" y="165"/>
                    </a:lnTo>
                    <a:lnTo>
                      <a:pt x="38" y="163"/>
                    </a:lnTo>
                    <a:lnTo>
                      <a:pt x="35" y="134"/>
                    </a:lnTo>
                    <a:lnTo>
                      <a:pt x="24" y="128"/>
                    </a:lnTo>
                    <a:lnTo>
                      <a:pt x="16" y="114"/>
                    </a:lnTo>
                    <a:lnTo>
                      <a:pt x="7" y="108"/>
                    </a:lnTo>
                    <a:lnTo>
                      <a:pt x="0" y="9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4" name=""/>
              <p:cNvSpPr/>
              <p:nvPr/>
            </p:nvSpPr>
            <p:spPr>
              <a:xfrm>
                <a:off x="5029920" y="4330800"/>
                <a:ext cx="104760" cy="261720"/>
              </a:xfrm>
              <a:custGeom>
                <a:avLst/>
                <a:gdLst/>
                <a:ahLst/>
                <a:rect l="l" t="t" r="r" b="b"/>
                <a:pathLst>
                  <a:path w="64" h="165">
                    <a:moveTo>
                      <a:pt x="0" y="95"/>
                    </a:moveTo>
                    <a:lnTo>
                      <a:pt x="16" y="0"/>
                    </a:lnTo>
                    <a:lnTo>
                      <a:pt x="31" y="7"/>
                    </a:lnTo>
                    <a:lnTo>
                      <a:pt x="35" y="46"/>
                    </a:lnTo>
                    <a:lnTo>
                      <a:pt x="42" y="94"/>
                    </a:lnTo>
                    <a:lnTo>
                      <a:pt x="64" y="112"/>
                    </a:lnTo>
                    <a:lnTo>
                      <a:pt x="59" y="165"/>
                    </a:lnTo>
                    <a:lnTo>
                      <a:pt x="38" y="163"/>
                    </a:lnTo>
                    <a:lnTo>
                      <a:pt x="35" y="134"/>
                    </a:lnTo>
                    <a:lnTo>
                      <a:pt x="24" y="128"/>
                    </a:lnTo>
                    <a:lnTo>
                      <a:pt x="16" y="114"/>
                    </a:lnTo>
                    <a:lnTo>
                      <a:pt x="7" y="108"/>
                    </a:lnTo>
                    <a:lnTo>
                      <a:pt x="0" y="9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5" name=""/>
              <p:cNvSpPr/>
              <p:nvPr/>
            </p:nvSpPr>
            <p:spPr>
              <a:xfrm flipV="1">
                <a:off x="5087520" y="4382640"/>
                <a:ext cx="165600" cy="20520"/>
              </a:xfrm>
              <a:prstGeom prst="line">
                <a:avLst/>
              </a:prstGeom>
              <a:ln w="0">
                <a:solidFill>
                  <a:srgbClr val="0000ff"/>
                </a:solid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16" name=""/>
              <p:cNvSpPr/>
              <p:nvPr/>
            </p:nvSpPr>
            <p:spPr>
              <a:xfrm flipV="1">
                <a:off x="5087520" y="4382640"/>
                <a:ext cx="165600" cy="20520"/>
              </a:xfrm>
              <a:prstGeom prst="line">
                <a:avLst/>
              </a:prstGeom>
              <a:ln w="0">
                <a:solidFill>
                  <a:srgbClr val="0000ff"/>
                </a:solid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17" name=""/>
              <p:cNvSpPr/>
              <p:nvPr/>
            </p:nvSpPr>
            <p:spPr>
              <a:xfrm>
                <a:off x="4975560" y="4319640"/>
                <a:ext cx="80280" cy="11160"/>
              </a:xfrm>
              <a:prstGeom prst="line">
                <a:avLst/>
              </a:prstGeom>
              <a:ln w="0">
                <a:solidFill>
                  <a:srgbClr val="0000ff"/>
                </a:solid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18" name=""/>
              <p:cNvSpPr/>
              <p:nvPr/>
            </p:nvSpPr>
            <p:spPr>
              <a:xfrm>
                <a:off x="4975560" y="4319640"/>
                <a:ext cx="80280" cy="11160"/>
              </a:xfrm>
              <a:prstGeom prst="line">
                <a:avLst/>
              </a:prstGeom>
              <a:ln w="0">
                <a:solidFill>
                  <a:srgbClr val="0000ff"/>
                </a:solid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19" name=""/>
              <p:cNvSpPr/>
              <p:nvPr/>
            </p:nvSpPr>
            <p:spPr>
              <a:xfrm flipH="1">
                <a:off x="4664520" y="3817800"/>
                <a:ext cx="208440" cy="41400"/>
              </a:xfrm>
              <a:prstGeom prst="line">
                <a:avLst/>
              </a:prstGeom>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220" name=""/>
              <p:cNvSpPr/>
              <p:nvPr/>
            </p:nvSpPr>
            <p:spPr>
              <a:xfrm flipH="1">
                <a:off x="4664520" y="3817800"/>
                <a:ext cx="208440" cy="41400"/>
              </a:xfrm>
              <a:prstGeom prst="line">
                <a:avLst/>
              </a:prstGeom>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221" name=""/>
              <p:cNvSpPr/>
              <p:nvPr/>
            </p:nvSpPr>
            <p:spPr>
              <a:xfrm flipH="1" flipV="1">
                <a:off x="3722040" y="3055680"/>
                <a:ext cx="77040" cy="60120"/>
              </a:xfrm>
              <a:prstGeom prst="line">
                <a:avLst/>
              </a:prstGeom>
              <a:ln w="0">
                <a:solidFill>
                  <a:srgbClr val="0000ff"/>
                </a:solid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222" name=""/>
              <p:cNvSpPr/>
              <p:nvPr/>
            </p:nvSpPr>
            <p:spPr>
              <a:xfrm flipH="1" flipV="1">
                <a:off x="3722040" y="3055680"/>
                <a:ext cx="77040" cy="60120"/>
              </a:xfrm>
              <a:prstGeom prst="line">
                <a:avLst/>
              </a:prstGeom>
              <a:ln w="0">
                <a:solidFill>
                  <a:srgbClr val="0000ff"/>
                </a:solid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223" name=""/>
              <p:cNvSpPr/>
              <p:nvPr/>
            </p:nvSpPr>
            <p:spPr>
              <a:xfrm>
                <a:off x="4397040" y="1677960"/>
                <a:ext cx="123120" cy="276120"/>
              </a:xfrm>
              <a:custGeom>
                <a:avLst/>
                <a:gdLst/>
                <a:ahLst/>
                <a:rect l="l" t="t" r="r" b="b"/>
                <a:pathLst>
                  <a:path w="75" h="174">
                    <a:moveTo>
                      <a:pt x="18" y="174"/>
                    </a:moveTo>
                    <a:lnTo>
                      <a:pt x="0" y="137"/>
                    </a:lnTo>
                    <a:lnTo>
                      <a:pt x="75" y="62"/>
                    </a:lnTo>
                    <a:lnTo>
                      <a:pt x="44" y="7"/>
                    </a:lnTo>
                    <a:lnTo>
                      <a:pt x="22"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4" name=""/>
              <p:cNvSpPr/>
              <p:nvPr/>
            </p:nvSpPr>
            <p:spPr>
              <a:xfrm>
                <a:off x="4397040" y="1677960"/>
                <a:ext cx="123120" cy="276120"/>
              </a:xfrm>
              <a:custGeom>
                <a:avLst/>
                <a:gdLst/>
                <a:ahLst/>
                <a:rect l="l" t="t" r="r" b="b"/>
                <a:pathLst>
                  <a:path w="75" h="174">
                    <a:moveTo>
                      <a:pt x="18" y="174"/>
                    </a:moveTo>
                    <a:lnTo>
                      <a:pt x="0" y="137"/>
                    </a:lnTo>
                    <a:lnTo>
                      <a:pt x="75" y="62"/>
                    </a:lnTo>
                    <a:lnTo>
                      <a:pt x="44" y="7"/>
                    </a:lnTo>
                    <a:lnTo>
                      <a:pt x="22"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5" name=""/>
              <p:cNvSpPr/>
              <p:nvPr/>
            </p:nvSpPr>
            <p:spPr>
              <a:xfrm>
                <a:off x="4469760" y="1622520"/>
                <a:ext cx="111240" cy="79200"/>
              </a:xfrm>
              <a:custGeom>
                <a:avLst/>
                <a:gdLst/>
                <a:ahLst/>
                <a:rect l="l" t="t" r="r" b="b"/>
                <a:pathLst>
                  <a:path w="68" h="50">
                    <a:moveTo>
                      <a:pt x="68" y="0"/>
                    </a:moveTo>
                    <a:lnTo>
                      <a:pt x="62" y="50"/>
                    </a:lnTo>
                    <a:lnTo>
                      <a:pt x="0" y="42"/>
                    </a:lnTo>
                  </a:path>
                </a:pathLst>
              </a:custGeom>
              <a:solidFill>
                <a:srgbClr val="000080">
                  <a:alpha val="50000"/>
                </a:srgbClr>
              </a:solidFill>
              <a:ln w="0">
                <a:solidFill>
                  <a:srgbClr val="0000ff"/>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26" name=""/>
              <p:cNvSpPr/>
              <p:nvPr/>
            </p:nvSpPr>
            <p:spPr>
              <a:xfrm>
                <a:off x="4469760" y="1622520"/>
                <a:ext cx="111240" cy="79200"/>
              </a:xfrm>
              <a:custGeom>
                <a:avLst/>
                <a:gdLst/>
                <a:ahLst/>
                <a:rect l="l" t="t" r="r" b="b"/>
                <a:pathLst>
                  <a:path w="68" h="50">
                    <a:moveTo>
                      <a:pt x="68" y="0"/>
                    </a:moveTo>
                    <a:lnTo>
                      <a:pt x="62" y="50"/>
                    </a:lnTo>
                    <a:lnTo>
                      <a:pt x="0" y="42"/>
                    </a:lnTo>
                  </a:path>
                </a:pathLst>
              </a:custGeom>
              <a:solidFill>
                <a:srgbClr val="000080">
                  <a:alpha val="50000"/>
                </a:srgbClr>
              </a:solidFill>
              <a:ln w="0">
                <a:solidFill>
                  <a:srgbClr val="0000ff"/>
                </a:solid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227" name=""/>
              <p:cNvSpPr/>
              <p:nvPr/>
            </p:nvSpPr>
            <p:spPr>
              <a:xfrm>
                <a:off x="4041000" y="2243160"/>
                <a:ext cx="132840" cy="217440"/>
              </a:xfrm>
              <a:custGeom>
                <a:avLst/>
                <a:gdLst/>
                <a:ahLst/>
                <a:rect l="l" t="t" r="r" b="b"/>
                <a:pathLst>
                  <a:path w="81" h="137">
                    <a:moveTo>
                      <a:pt x="74" y="137"/>
                    </a:moveTo>
                    <a:lnTo>
                      <a:pt x="77" y="93"/>
                    </a:lnTo>
                    <a:lnTo>
                      <a:pt x="66" y="95"/>
                    </a:lnTo>
                    <a:lnTo>
                      <a:pt x="52" y="88"/>
                    </a:lnTo>
                    <a:lnTo>
                      <a:pt x="81" y="55"/>
                    </a:lnTo>
                    <a:lnTo>
                      <a:pt x="59" y="24"/>
                    </a:lnTo>
                    <a:lnTo>
                      <a:pt x="44" y="33"/>
                    </a:lnTo>
                    <a:lnTo>
                      <a:pt x="17" y="29"/>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8" name=""/>
              <p:cNvSpPr/>
              <p:nvPr/>
            </p:nvSpPr>
            <p:spPr>
              <a:xfrm>
                <a:off x="4041000" y="2243160"/>
                <a:ext cx="132840" cy="217440"/>
              </a:xfrm>
              <a:custGeom>
                <a:avLst/>
                <a:gdLst/>
                <a:ahLst/>
                <a:rect l="l" t="t" r="r" b="b"/>
                <a:pathLst>
                  <a:path w="81" h="137">
                    <a:moveTo>
                      <a:pt x="74" y="137"/>
                    </a:moveTo>
                    <a:lnTo>
                      <a:pt x="77" y="93"/>
                    </a:lnTo>
                    <a:lnTo>
                      <a:pt x="66" y="95"/>
                    </a:lnTo>
                    <a:lnTo>
                      <a:pt x="52" y="88"/>
                    </a:lnTo>
                    <a:lnTo>
                      <a:pt x="81" y="55"/>
                    </a:lnTo>
                    <a:lnTo>
                      <a:pt x="59" y="24"/>
                    </a:lnTo>
                    <a:lnTo>
                      <a:pt x="44" y="33"/>
                    </a:lnTo>
                    <a:lnTo>
                      <a:pt x="17" y="29"/>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a:off x="4041000" y="2160360"/>
                <a:ext cx="114480" cy="120960"/>
              </a:xfrm>
              <a:custGeom>
                <a:avLst/>
                <a:gdLst/>
                <a:ahLst/>
                <a:rect l="l" t="t" r="r" b="b"/>
                <a:pathLst>
                  <a:path w="70" h="76">
                    <a:moveTo>
                      <a:pt x="0" y="52"/>
                    </a:moveTo>
                    <a:lnTo>
                      <a:pt x="39" y="8"/>
                    </a:lnTo>
                    <a:lnTo>
                      <a:pt x="53" y="2"/>
                    </a:lnTo>
                    <a:lnTo>
                      <a:pt x="70" y="0"/>
                    </a:lnTo>
                    <a:lnTo>
                      <a:pt x="66" y="52"/>
                    </a:lnTo>
                    <a:lnTo>
                      <a:pt x="59" y="63"/>
                    </a:lnTo>
                    <a:lnTo>
                      <a:pt x="61" y="7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0" name=""/>
              <p:cNvSpPr/>
              <p:nvPr/>
            </p:nvSpPr>
            <p:spPr>
              <a:xfrm>
                <a:off x="4041000" y="2160360"/>
                <a:ext cx="114480" cy="120960"/>
              </a:xfrm>
              <a:custGeom>
                <a:avLst/>
                <a:gdLst/>
                <a:ahLst/>
                <a:rect l="l" t="t" r="r" b="b"/>
                <a:pathLst>
                  <a:path w="70" h="76">
                    <a:moveTo>
                      <a:pt x="0" y="52"/>
                    </a:moveTo>
                    <a:lnTo>
                      <a:pt x="39" y="8"/>
                    </a:lnTo>
                    <a:lnTo>
                      <a:pt x="53" y="2"/>
                    </a:lnTo>
                    <a:lnTo>
                      <a:pt x="70" y="0"/>
                    </a:lnTo>
                    <a:lnTo>
                      <a:pt x="66" y="52"/>
                    </a:lnTo>
                    <a:lnTo>
                      <a:pt x="59" y="63"/>
                    </a:lnTo>
                    <a:lnTo>
                      <a:pt x="61" y="7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1" name=""/>
              <p:cNvSpPr/>
              <p:nvPr/>
            </p:nvSpPr>
            <p:spPr>
              <a:xfrm>
                <a:off x="4239720" y="2138400"/>
                <a:ext cx="147600" cy="160200"/>
              </a:xfrm>
              <a:custGeom>
                <a:avLst/>
                <a:gdLst/>
                <a:ahLst/>
                <a:rect l="l" t="t" r="r" b="b"/>
                <a:pathLst>
                  <a:path w="90" h="101">
                    <a:moveTo>
                      <a:pt x="0" y="5"/>
                    </a:moveTo>
                    <a:lnTo>
                      <a:pt x="6" y="82"/>
                    </a:lnTo>
                    <a:lnTo>
                      <a:pt x="48" y="101"/>
                    </a:lnTo>
                    <a:lnTo>
                      <a:pt x="90" y="69"/>
                    </a:lnTo>
                    <a:lnTo>
                      <a:pt x="66"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2" name=""/>
              <p:cNvSpPr/>
              <p:nvPr/>
            </p:nvSpPr>
            <p:spPr>
              <a:xfrm>
                <a:off x="4239720" y="2138400"/>
                <a:ext cx="147600" cy="160200"/>
              </a:xfrm>
              <a:custGeom>
                <a:avLst/>
                <a:gdLst/>
                <a:ahLst/>
                <a:rect l="l" t="t" r="r" b="b"/>
                <a:pathLst>
                  <a:path w="90" h="101">
                    <a:moveTo>
                      <a:pt x="0" y="5"/>
                    </a:moveTo>
                    <a:lnTo>
                      <a:pt x="6" y="82"/>
                    </a:lnTo>
                    <a:lnTo>
                      <a:pt x="48" y="101"/>
                    </a:lnTo>
                    <a:lnTo>
                      <a:pt x="90" y="69"/>
                    </a:lnTo>
                    <a:lnTo>
                      <a:pt x="66"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4336560" y="2117520"/>
                <a:ext cx="336600" cy="273240"/>
              </a:xfrm>
              <a:custGeom>
                <a:avLst/>
                <a:gdLst/>
                <a:ahLst/>
                <a:rect l="l" t="t" r="r" b="b"/>
                <a:pathLst>
                  <a:path w="205" h="172">
                    <a:moveTo>
                      <a:pt x="7" y="13"/>
                    </a:moveTo>
                    <a:lnTo>
                      <a:pt x="136" y="0"/>
                    </a:lnTo>
                    <a:lnTo>
                      <a:pt x="150" y="7"/>
                    </a:lnTo>
                    <a:lnTo>
                      <a:pt x="178" y="5"/>
                    </a:lnTo>
                    <a:lnTo>
                      <a:pt x="205" y="70"/>
                    </a:lnTo>
                    <a:lnTo>
                      <a:pt x="200" y="79"/>
                    </a:lnTo>
                    <a:lnTo>
                      <a:pt x="163" y="172"/>
                    </a:lnTo>
                    <a:lnTo>
                      <a:pt x="152" y="158"/>
                    </a:lnTo>
                    <a:lnTo>
                      <a:pt x="0" y="10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4" name=""/>
              <p:cNvSpPr/>
              <p:nvPr/>
            </p:nvSpPr>
            <p:spPr>
              <a:xfrm>
                <a:off x="4336560" y="2117520"/>
                <a:ext cx="336600" cy="273240"/>
              </a:xfrm>
              <a:custGeom>
                <a:avLst/>
                <a:gdLst/>
                <a:ahLst/>
                <a:rect l="l" t="t" r="r" b="b"/>
                <a:pathLst>
                  <a:path w="205" h="172">
                    <a:moveTo>
                      <a:pt x="7" y="13"/>
                    </a:moveTo>
                    <a:lnTo>
                      <a:pt x="136" y="0"/>
                    </a:lnTo>
                    <a:lnTo>
                      <a:pt x="150" y="7"/>
                    </a:lnTo>
                    <a:lnTo>
                      <a:pt x="178" y="5"/>
                    </a:lnTo>
                    <a:lnTo>
                      <a:pt x="205" y="70"/>
                    </a:lnTo>
                    <a:lnTo>
                      <a:pt x="200" y="79"/>
                    </a:lnTo>
                    <a:lnTo>
                      <a:pt x="163" y="172"/>
                    </a:lnTo>
                    <a:lnTo>
                      <a:pt x="152" y="158"/>
                    </a:lnTo>
                    <a:lnTo>
                      <a:pt x="0" y="10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a:off x="4254480" y="2298600"/>
                <a:ext cx="81720" cy="60480"/>
              </a:xfrm>
              <a:custGeom>
                <a:avLst/>
                <a:gdLst/>
                <a:ahLst/>
                <a:rect l="l" t="t" r="r" b="b"/>
                <a:pathLst>
                  <a:path w="50" h="38">
                    <a:moveTo>
                      <a:pt x="39" y="0"/>
                    </a:moveTo>
                    <a:lnTo>
                      <a:pt x="50" y="33"/>
                    </a:lnTo>
                    <a:lnTo>
                      <a:pt x="0" y="38"/>
                    </a:lnTo>
                  </a:path>
                </a:pathLst>
              </a:custGeom>
              <a:solidFill>
                <a:srgbClr val="000080">
                  <a:alpha val="50000"/>
                </a:srgbClr>
              </a:solidFill>
              <a:ln w="0">
                <a:solidFill>
                  <a:srgbClr val="0000ff"/>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36" name=""/>
              <p:cNvSpPr/>
              <p:nvPr/>
            </p:nvSpPr>
            <p:spPr>
              <a:xfrm>
                <a:off x="4254480" y="2298600"/>
                <a:ext cx="81720" cy="60480"/>
              </a:xfrm>
              <a:custGeom>
                <a:avLst/>
                <a:gdLst/>
                <a:ahLst/>
                <a:rect l="l" t="t" r="r" b="b"/>
                <a:pathLst>
                  <a:path w="50" h="38">
                    <a:moveTo>
                      <a:pt x="39" y="0"/>
                    </a:moveTo>
                    <a:lnTo>
                      <a:pt x="50" y="33"/>
                    </a:lnTo>
                    <a:lnTo>
                      <a:pt x="0" y="38"/>
                    </a:lnTo>
                  </a:path>
                </a:pathLst>
              </a:custGeom>
              <a:solidFill>
                <a:srgbClr val="000080">
                  <a:alpha val="50000"/>
                </a:srgbClr>
              </a:solidFill>
              <a:ln w="0">
                <a:solidFill>
                  <a:srgbClr val="0000ff"/>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37" name=""/>
              <p:cNvSpPr/>
              <p:nvPr/>
            </p:nvSpPr>
            <p:spPr>
              <a:xfrm>
                <a:off x="4173840" y="2330280"/>
                <a:ext cx="78480" cy="28800"/>
              </a:xfrm>
              <a:custGeom>
                <a:avLst/>
                <a:gdLst/>
                <a:ahLst/>
                <a:rect l="l" t="t" r="r" b="b"/>
                <a:pathLst>
                  <a:path w="48" h="18">
                    <a:moveTo>
                      <a:pt x="48" y="18"/>
                    </a:moveTo>
                    <a:lnTo>
                      <a:pt x="38" y="0"/>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238" name=""/>
              <p:cNvSpPr/>
              <p:nvPr/>
            </p:nvSpPr>
            <p:spPr>
              <a:xfrm>
                <a:off x="4173840" y="2330280"/>
                <a:ext cx="78480" cy="28800"/>
              </a:xfrm>
              <a:custGeom>
                <a:avLst/>
                <a:gdLst/>
                <a:ahLst/>
                <a:rect l="l" t="t" r="r" b="b"/>
                <a:pathLst>
                  <a:path w="48" h="18">
                    <a:moveTo>
                      <a:pt x="48" y="18"/>
                    </a:moveTo>
                    <a:lnTo>
                      <a:pt x="38" y="0"/>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239" name=""/>
              <p:cNvSpPr/>
              <p:nvPr/>
            </p:nvSpPr>
            <p:spPr>
              <a:xfrm>
                <a:off x="4167360" y="2359080"/>
                <a:ext cx="84960" cy="31680"/>
              </a:xfrm>
              <a:custGeom>
                <a:avLst/>
                <a:gdLst/>
                <a:ahLst/>
                <a:rect l="l" t="t" r="r" b="b"/>
                <a:pathLst>
                  <a:path w="52" h="20">
                    <a:moveTo>
                      <a:pt x="52" y="0"/>
                    </a:moveTo>
                    <a:lnTo>
                      <a:pt x="46" y="17"/>
                    </a:lnTo>
                    <a:lnTo>
                      <a:pt x="0" y="20"/>
                    </a:lnTo>
                  </a:path>
                </a:pathLst>
              </a:custGeom>
              <a:solidFill>
                <a:srgbClr val="000080">
                  <a:alpha val="50000"/>
                </a:srgbClr>
              </a:solidFill>
              <a:ln w="0">
                <a:solidFill>
                  <a:srgbClr val="0000ff"/>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40" name=""/>
              <p:cNvSpPr/>
              <p:nvPr/>
            </p:nvSpPr>
            <p:spPr>
              <a:xfrm>
                <a:off x="4167360" y="2359080"/>
                <a:ext cx="84960" cy="31680"/>
              </a:xfrm>
              <a:custGeom>
                <a:avLst/>
                <a:gdLst/>
                <a:ahLst/>
                <a:rect l="l" t="t" r="r" b="b"/>
                <a:pathLst>
                  <a:path w="52" h="20">
                    <a:moveTo>
                      <a:pt x="52" y="0"/>
                    </a:moveTo>
                    <a:lnTo>
                      <a:pt x="46" y="17"/>
                    </a:lnTo>
                    <a:lnTo>
                      <a:pt x="0" y="20"/>
                    </a:lnTo>
                  </a:path>
                </a:pathLst>
              </a:custGeom>
              <a:solidFill>
                <a:srgbClr val="000080">
                  <a:alpha val="50000"/>
                </a:srgbClr>
              </a:solidFill>
              <a:ln w="0">
                <a:solidFill>
                  <a:srgbClr val="0000ff"/>
                </a:solid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241" name=""/>
              <p:cNvSpPr/>
              <p:nvPr/>
            </p:nvSpPr>
            <p:spPr>
              <a:xfrm>
                <a:off x="4242960" y="2344680"/>
                <a:ext cx="175680" cy="95400"/>
              </a:xfrm>
              <a:custGeom>
                <a:avLst/>
                <a:gdLst/>
                <a:ahLst/>
                <a:rect l="l" t="t" r="r" b="b"/>
                <a:pathLst>
                  <a:path w="107" h="60">
                    <a:moveTo>
                      <a:pt x="0" y="26"/>
                    </a:moveTo>
                    <a:lnTo>
                      <a:pt x="26" y="49"/>
                    </a:lnTo>
                    <a:lnTo>
                      <a:pt x="59" y="26"/>
                    </a:lnTo>
                    <a:lnTo>
                      <a:pt x="85" y="60"/>
                    </a:lnTo>
                    <a:lnTo>
                      <a:pt x="107" y="44"/>
                    </a:lnTo>
                    <a:lnTo>
                      <a:pt x="88" y="4"/>
                    </a:lnTo>
                    <a:lnTo>
                      <a:pt x="77" y="0"/>
                    </a:lnTo>
                    <a:lnTo>
                      <a:pt x="57" y="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2" name=""/>
              <p:cNvSpPr/>
              <p:nvPr/>
            </p:nvSpPr>
            <p:spPr>
              <a:xfrm>
                <a:off x="4242960" y="2344680"/>
                <a:ext cx="175680" cy="95400"/>
              </a:xfrm>
              <a:custGeom>
                <a:avLst/>
                <a:gdLst/>
                <a:ahLst/>
                <a:rect l="l" t="t" r="r" b="b"/>
                <a:pathLst>
                  <a:path w="107" h="60">
                    <a:moveTo>
                      <a:pt x="0" y="26"/>
                    </a:moveTo>
                    <a:lnTo>
                      <a:pt x="26" y="49"/>
                    </a:lnTo>
                    <a:lnTo>
                      <a:pt x="59" y="26"/>
                    </a:lnTo>
                    <a:lnTo>
                      <a:pt x="85" y="60"/>
                    </a:lnTo>
                    <a:lnTo>
                      <a:pt x="107" y="44"/>
                    </a:lnTo>
                    <a:lnTo>
                      <a:pt x="88" y="4"/>
                    </a:lnTo>
                    <a:lnTo>
                      <a:pt x="77" y="0"/>
                    </a:lnTo>
                    <a:lnTo>
                      <a:pt x="57" y="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3" name=""/>
              <p:cNvSpPr/>
              <p:nvPr/>
            </p:nvSpPr>
            <p:spPr>
              <a:xfrm>
                <a:off x="4499280" y="2530440"/>
                <a:ext cx="100080" cy="120600"/>
              </a:xfrm>
              <a:custGeom>
                <a:avLst/>
                <a:gdLst/>
                <a:ahLst/>
                <a:rect l="l" t="t" r="r" b="b"/>
                <a:pathLst>
                  <a:path w="61" h="76">
                    <a:moveTo>
                      <a:pt x="51" y="76"/>
                    </a:moveTo>
                    <a:lnTo>
                      <a:pt x="53" y="54"/>
                    </a:lnTo>
                    <a:lnTo>
                      <a:pt x="61" y="35"/>
                    </a:lnTo>
                    <a:lnTo>
                      <a:pt x="28" y="0"/>
                    </a:lnTo>
                    <a:lnTo>
                      <a:pt x="0" y="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4" name=""/>
              <p:cNvSpPr/>
              <p:nvPr/>
            </p:nvSpPr>
            <p:spPr>
              <a:xfrm>
                <a:off x="4499280" y="2530440"/>
                <a:ext cx="100080" cy="120600"/>
              </a:xfrm>
              <a:custGeom>
                <a:avLst/>
                <a:gdLst/>
                <a:ahLst/>
                <a:rect l="l" t="t" r="r" b="b"/>
                <a:pathLst>
                  <a:path w="61" h="76">
                    <a:moveTo>
                      <a:pt x="51" y="76"/>
                    </a:moveTo>
                    <a:lnTo>
                      <a:pt x="53" y="54"/>
                    </a:lnTo>
                    <a:lnTo>
                      <a:pt x="61" y="35"/>
                    </a:lnTo>
                    <a:lnTo>
                      <a:pt x="28" y="0"/>
                    </a:lnTo>
                    <a:lnTo>
                      <a:pt x="0" y="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5" name=""/>
              <p:cNvSpPr/>
              <p:nvPr/>
            </p:nvSpPr>
            <p:spPr>
              <a:xfrm>
                <a:off x="4510800" y="2487600"/>
                <a:ext cx="118080" cy="98280"/>
              </a:xfrm>
              <a:custGeom>
                <a:avLst/>
                <a:gdLst/>
                <a:ahLst/>
                <a:rect l="l" t="t" r="r" b="b"/>
                <a:pathLst>
                  <a:path w="72" h="62">
                    <a:moveTo>
                      <a:pt x="54" y="62"/>
                    </a:moveTo>
                    <a:lnTo>
                      <a:pt x="59" y="55"/>
                    </a:lnTo>
                    <a:lnTo>
                      <a:pt x="72" y="48"/>
                    </a:lnTo>
                    <a:lnTo>
                      <a:pt x="50" y="13"/>
                    </a:lnTo>
                    <a:lnTo>
                      <a:pt x="28" y="0"/>
                    </a:lnTo>
                    <a:lnTo>
                      <a:pt x="11" y="2"/>
                    </a:lnTo>
                    <a:lnTo>
                      <a:pt x="0" y="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a:off x="4510800" y="2487600"/>
                <a:ext cx="118080" cy="98280"/>
              </a:xfrm>
              <a:custGeom>
                <a:avLst/>
                <a:gdLst/>
                <a:ahLst/>
                <a:rect l="l" t="t" r="r" b="b"/>
                <a:pathLst>
                  <a:path w="72" h="62">
                    <a:moveTo>
                      <a:pt x="54" y="62"/>
                    </a:moveTo>
                    <a:lnTo>
                      <a:pt x="59" y="55"/>
                    </a:lnTo>
                    <a:lnTo>
                      <a:pt x="72" y="48"/>
                    </a:lnTo>
                    <a:lnTo>
                      <a:pt x="50" y="13"/>
                    </a:lnTo>
                    <a:lnTo>
                      <a:pt x="28" y="0"/>
                    </a:lnTo>
                    <a:lnTo>
                      <a:pt x="11" y="2"/>
                    </a:lnTo>
                    <a:lnTo>
                      <a:pt x="0" y="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7" name=""/>
              <p:cNvSpPr/>
              <p:nvPr/>
            </p:nvSpPr>
            <p:spPr>
              <a:xfrm>
                <a:off x="3722040" y="2512800"/>
                <a:ext cx="80280" cy="222480"/>
              </a:xfrm>
              <a:custGeom>
                <a:avLst/>
                <a:gdLst/>
                <a:ahLst/>
                <a:rect l="l" t="t" r="r" b="b"/>
                <a:pathLst>
                  <a:path w="49" h="140">
                    <a:moveTo>
                      <a:pt x="35" y="140"/>
                    </a:moveTo>
                    <a:lnTo>
                      <a:pt x="49" y="15"/>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8" name=""/>
              <p:cNvSpPr/>
              <p:nvPr/>
            </p:nvSpPr>
            <p:spPr>
              <a:xfrm>
                <a:off x="3722040" y="2512800"/>
                <a:ext cx="80280" cy="222480"/>
              </a:xfrm>
              <a:custGeom>
                <a:avLst/>
                <a:gdLst/>
                <a:ahLst/>
                <a:rect l="l" t="t" r="r" b="b"/>
                <a:pathLst>
                  <a:path w="49" h="140">
                    <a:moveTo>
                      <a:pt x="35" y="140"/>
                    </a:moveTo>
                    <a:lnTo>
                      <a:pt x="49" y="15"/>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9" name=""/>
              <p:cNvSpPr/>
              <p:nvPr/>
            </p:nvSpPr>
            <p:spPr>
              <a:xfrm>
                <a:off x="4664880" y="2243160"/>
                <a:ext cx="42840" cy="12996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0" name=""/>
              <p:cNvSpPr/>
              <p:nvPr/>
            </p:nvSpPr>
            <p:spPr>
              <a:xfrm>
                <a:off x="4664880" y="2243160"/>
                <a:ext cx="42840" cy="12996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1" name=""/>
              <p:cNvSpPr/>
              <p:nvPr/>
            </p:nvSpPr>
            <p:spPr>
              <a:xfrm>
                <a:off x="4707720" y="2373120"/>
                <a:ext cx="80280" cy="73080"/>
              </a:xfrm>
              <a:custGeom>
                <a:avLst/>
                <a:gdLst/>
                <a:ahLst/>
                <a:rect l="l" t="t" r="r" b="b"/>
                <a:pathLst>
                  <a:path w="49" h="46">
                    <a:moveTo>
                      <a:pt x="49" y="46"/>
                    </a:moveTo>
                    <a:lnTo>
                      <a:pt x="38" y="35"/>
                    </a:lnTo>
                    <a:lnTo>
                      <a:pt x="34" y="20"/>
                    </a:lnTo>
                    <a:lnTo>
                      <a:pt x="22" y="4"/>
                    </a:lnTo>
                    <a:lnTo>
                      <a:pt x="5" y="0"/>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52" name=""/>
              <p:cNvSpPr/>
              <p:nvPr/>
            </p:nvSpPr>
            <p:spPr>
              <a:xfrm>
                <a:off x="4707720" y="2373120"/>
                <a:ext cx="80280" cy="73080"/>
              </a:xfrm>
              <a:custGeom>
                <a:avLst/>
                <a:gdLst/>
                <a:ahLst/>
                <a:rect l="l" t="t" r="r" b="b"/>
                <a:pathLst>
                  <a:path w="49" h="46">
                    <a:moveTo>
                      <a:pt x="49" y="46"/>
                    </a:moveTo>
                    <a:lnTo>
                      <a:pt x="38" y="35"/>
                    </a:lnTo>
                    <a:lnTo>
                      <a:pt x="34" y="20"/>
                    </a:lnTo>
                    <a:lnTo>
                      <a:pt x="22" y="4"/>
                    </a:lnTo>
                    <a:lnTo>
                      <a:pt x="5" y="0"/>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253" name=""/>
              <p:cNvSpPr/>
              <p:nvPr/>
            </p:nvSpPr>
            <p:spPr>
              <a:xfrm>
                <a:off x="4459680" y="2373120"/>
                <a:ext cx="248040" cy="82800"/>
              </a:xfrm>
              <a:custGeom>
                <a:avLst/>
                <a:gdLst/>
                <a:ahLst/>
                <a:rect l="l" t="t" r="r" b="b"/>
                <a:pathLst>
                  <a:path w="151" h="52">
                    <a:moveTo>
                      <a:pt x="151" y="0"/>
                    </a:moveTo>
                    <a:lnTo>
                      <a:pt x="88" y="11"/>
                    </a:lnTo>
                    <a:lnTo>
                      <a:pt x="50" y="8"/>
                    </a:lnTo>
                    <a:lnTo>
                      <a:pt x="0" y="52"/>
                    </a:lnTo>
                  </a:path>
                </a:pathLst>
              </a:custGeom>
              <a:solidFill>
                <a:srgbClr val="000080">
                  <a:alpha val="50000"/>
                </a:srgbClr>
              </a:solidFill>
              <a:ln w="0">
                <a:solidFill>
                  <a:srgbClr val="0000ff"/>
                </a:solid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4" name=""/>
              <p:cNvSpPr/>
              <p:nvPr/>
            </p:nvSpPr>
            <p:spPr>
              <a:xfrm>
                <a:off x="4459680" y="2373120"/>
                <a:ext cx="248040" cy="82800"/>
              </a:xfrm>
              <a:custGeom>
                <a:avLst/>
                <a:gdLst/>
                <a:ahLst/>
                <a:rect l="l" t="t" r="r" b="b"/>
                <a:pathLst>
                  <a:path w="151" h="52">
                    <a:moveTo>
                      <a:pt x="151" y="0"/>
                    </a:moveTo>
                    <a:lnTo>
                      <a:pt x="88" y="11"/>
                    </a:lnTo>
                    <a:lnTo>
                      <a:pt x="50" y="8"/>
                    </a:lnTo>
                    <a:lnTo>
                      <a:pt x="0" y="52"/>
                    </a:lnTo>
                  </a:path>
                </a:pathLst>
              </a:custGeom>
              <a:solidFill>
                <a:srgbClr val="000080">
                  <a:alpha val="50000"/>
                </a:srgbClr>
              </a:solidFill>
              <a:ln w="0">
                <a:solidFill>
                  <a:srgbClr val="0000ff"/>
                </a:solid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1255" name=""/>
              <p:cNvSpPr/>
              <p:nvPr/>
            </p:nvSpPr>
            <p:spPr>
              <a:xfrm>
                <a:off x="4628880" y="2467080"/>
                <a:ext cx="154440" cy="37800"/>
              </a:xfrm>
              <a:custGeom>
                <a:avLst/>
                <a:gdLst/>
                <a:ahLst/>
                <a:rect l="l" t="t" r="r" b="b"/>
                <a:pathLst>
                  <a:path w="94" h="24">
                    <a:moveTo>
                      <a:pt x="0" y="13"/>
                    </a:moveTo>
                    <a:lnTo>
                      <a:pt x="11" y="24"/>
                    </a:lnTo>
                    <a:lnTo>
                      <a:pt x="60" y="0"/>
                    </a:lnTo>
                    <a:lnTo>
                      <a:pt x="94" y="7"/>
                    </a:lnTo>
                  </a:path>
                </a:pathLst>
              </a:custGeom>
              <a:solidFill>
                <a:srgbClr val="000080">
                  <a:alpha val="50000"/>
                </a:srgbClr>
              </a:solidFill>
              <a:ln w="0">
                <a:solidFill>
                  <a:srgbClr val="0000ff"/>
                </a:solid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256" name=""/>
              <p:cNvSpPr/>
              <p:nvPr/>
            </p:nvSpPr>
            <p:spPr>
              <a:xfrm>
                <a:off x="4628880" y="2467080"/>
                <a:ext cx="154440" cy="37800"/>
              </a:xfrm>
              <a:custGeom>
                <a:avLst/>
                <a:gdLst/>
                <a:ahLst/>
                <a:rect l="l" t="t" r="r" b="b"/>
                <a:pathLst>
                  <a:path w="94" h="24">
                    <a:moveTo>
                      <a:pt x="0" y="13"/>
                    </a:moveTo>
                    <a:lnTo>
                      <a:pt x="11" y="24"/>
                    </a:lnTo>
                    <a:lnTo>
                      <a:pt x="60" y="0"/>
                    </a:lnTo>
                    <a:lnTo>
                      <a:pt x="94" y="7"/>
                    </a:lnTo>
                  </a:path>
                </a:pathLst>
              </a:custGeom>
              <a:solidFill>
                <a:srgbClr val="000080">
                  <a:alpha val="50000"/>
                </a:srgbClr>
              </a:solidFill>
              <a:ln w="0">
                <a:solidFill>
                  <a:srgbClr val="0000ff"/>
                </a:solid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1257" name=""/>
              <p:cNvSpPr/>
              <p:nvPr/>
            </p:nvSpPr>
            <p:spPr>
              <a:xfrm>
                <a:off x="4780080" y="2386080"/>
                <a:ext cx="54000" cy="168120"/>
              </a:xfrm>
              <a:custGeom>
                <a:avLst/>
                <a:gdLst/>
                <a:ahLst/>
                <a:rect l="l" t="t" r="r" b="b"/>
                <a:pathLst>
                  <a:path w="33" h="106">
                    <a:moveTo>
                      <a:pt x="33" y="0"/>
                    </a:moveTo>
                    <a:lnTo>
                      <a:pt x="9" y="33"/>
                    </a:lnTo>
                    <a:lnTo>
                      <a:pt x="5" y="38"/>
                    </a:lnTo>
                    <a:lnTo>
                      <a:pt x="2" y="58"/>
                    </a:lnTo>
                    <a:lnTo>
                      <a:pt x="0" y="73"/>
                    </a:lnTo>
                    <a:lnTo>
                      <a:pt x="2" y="10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8" name=""/>
              <p:cNvSpPr/>
              <p:nvPr/>
            </p:nvSpPr>
            <p:spPr>
              <a:xfrm>
                <a:off x="4780080" y="2386080"/>
                <a:ext cx="54000" cy="168120"/>
              </a:xfrm>
              <a:custGeom>
                <a:avLst/>
                <a:gdLst/>
                <a:ahLst/>
                <a:rect l="l" t="t" r="r" b="b"/>
                <a:pathLst>
                  <a:path w="33" h="106">
                    <a:moveTo>
                      <a:pt x="33" y="0"/>
                    </a:moveTo>
                    <a:lnTo>
                      <a:pt x="9" y="33"/>
                    </a:lnTo>
                    <a:lnTo>
                      <a:pt x="5" y="38"/>
                    </a:lnTo>
                    <a:lnTo>
                      <a:pt x="2" y="58"/>
                    </a:lnTo>
                    <a:lnTo>
                      <a:pt x="0" y="73"/>
                    </a:lnTo>
                    <a:lnTo>
                      <a:pt x="2" y="10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9" name=""/>
              <p:cNvSpPr/>
              <p:nvPr/>
            </p:nvSpPr>
            <p:spPr>
              <a:xfrm>
                <a:off x="4834080" y="2352600"/>
                <a:ext cx="333720" cy="233280"/>
              </a:xfrm>
              <a:custGeom>
                <a:avLst/>
                <a:gdLst/>
                <a:ahLst/>
                <a:rect l="l" t="t" r="r" b="b"/>
                <a:pathLst>
                  <a:path w="203" h="147">
                    <a:moveTo>
                      <a:pt x="0" y="21"/>
                    </a:moveTo>
                    <a:lnTo>
                      <a:pt x="33" y="50"/>
                    </a:lnTo>
                    <a:lnTo>
                      <a:pt x="53" y="79"/>
                    </a:lnTo>
                    <a:lnTo>
                      <a:pt x="95" y="55"/>
                    </a:lnTo>
                    <a:lnTo>
                      <a:pt x="68" y="26"/>
                    </a:lnTo>
                    <a:lnTo>
                      <a:pt x="143" y="0"/>
                    </a:lnTo>
                    <a:lnTo>
                      <a:pt x="115" y="72"/>
                    </a:lnTo>
                    <a:lnTo>
                      <a:pt x="203" y="109"/>
                    </a:lnTo>
                    <a:lnTo>
                      <a:pt x="194" y="14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0" name=""/>
              <p:cNvSpPr/>
              <p:nvPr/>
            </p:nvSpPr>
            <p:spPr>
              <a:xfrm>
                <a:off x="4834080" y="2352600"/>
                <a:ext cx="333720" cy="233280"/>
              </a:xfrm>
              <a:custGeom>
                <a:avLst/>
                <a:gdLst/>
                <a:ahLst/>
                <a:rect l="l" t="t" r="r" b="b"/>
                <a:pathLst>
                  <a:path w="203" h="147">
                    <a:moveTo>
                      <a:pt x="0" y="21"/>
                    </a:moveTo>
                    <a:lnTo>
                      <a:pt x="33" y="50"/>
                    </a:lnTo>
                    <a:lnTo>
                      <a:pt x="53" y="79"/>
                    </a:lnTo>
                    <a:lnTo>
                      <a:pt x="95" y="55"/>
                    </a:lnTo>
                    <a:lnTo>
                      <a:pt x="68" y="26"/>
                    </a:lnTo>
                    <a:lnTo>
                      <a:pt x="143" y="0"/>
                    </a:lnTo>
                    <a:lnTo>
                      <a:pt x="115" y="72"/>
                    </a:lnTo>
                    <a:lnTo>
                      <a:pt x="203" y="109"/>
                    </a:lnTo>
                    <a:lnTo>
                      <a:pt x="194" y="14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1" name=""/>
              <p:cNvSpPr/>
              <p:nvPr/>
            </p:nvSpPr>
            <p:spPr>
              <a:xfrm>
                <a:off x="4785120" y="2539800"/>
                <a:ext cx="367920" cy="46080"/>
              </a:xfrm>
              <a:custGeom>
                <a:avLst/>
                <a:gdLst/>
                <a:ahLst/>
                <a:rect l="l" t="t" r="r" b="b"/>
                <a:pathLst>
                  <a:path w="224" h="29">
                    <a:moveTo>
                      <a:pt x="224" y="29"/>
                    </a:moveTo>
                    <a:lnTo>
                      <a:pt x="149" y="7"/>
                    </a:lnTo>
                    <a:lnTo>
                      <a:pt x="74" y="0"/>
                    </a:lnTo>
                    <a:lnTo>
                      <a:pt x="22" y="9"/>
                    </a:lnTo>
                    <a:lnTo>
                      <a:pt x="0" y="9"/>
                    </a:lnTo>
                  </a:path>
                </a:pathLst>
              </a:custGeom>
              <a:solidFill>
                <a:srgbClr val="000080">
                  <a:alpha val="50000"/>
                </a:srgbClr>
              </a:solidFill>
              <a:ln w="0">
                <a:solidFill>
                  <a:srgbClr val="0000ff"/>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62" name=""/>
              <p:cNvSpPr/>
              <p:nvPr/>
            </p:nvSpPr>
            <p:spPr>
              <a:xfrm>
                <a:off x="4785120" y="2539800"/>
                <a:ext cx="367920" cy="46080"/>
              </a:xfrm>
              <a:custGeom>
                <a:avLst/>
                <a:gdLst/>
                <a:ahLst/>
                <a:rect l="l" t="t" r="r" b="b"/>
                <a:pathLst>
                  <a:path w="224" h="29">
                    <a:moveTo>
                      <a:pt x="224" y="29"/>
                    </a:moveTo>
                    <a:lnTo>
                      <a:pt x="149" y="7"/>
                    </a:lnTo>
                    <a:lnTo>
                      <a:pt x="74" y="0"/>
                    </a:lnTo>
                    <a:lnTo>
                      <a:pt x="22" y="9"/>
                    </a:lnTo>
                    <a:lnTo>
                      <a:pt x="0" y="9"/>
                    </a:lnTo>
                  </a:path>
                </a:pathLst>
              </a:custGeom>
              <a:solidFill>
                <a:srgbClr val="000080">
                  <a:alpha val="50000"/>
                </a:srgbClr>
              </a:solidFill>
              <a:ln w="0">
                <a:solidFill>
                  <a:srgbClr val="0000ff"/>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63" name=""/>
              <p:cNvSpPr/>
              <p:nvPr/>
            </p:nvSpPr>
            <p:spPr>
              <a:xfrm flipH="1">
                <a:off x="4755240" y="2554200"/>
                <a:ext cx="29160" cy="41400"/>
              </a:xfrm>
              <a:prstGeom prst="line">
                <a:avLst/>
              </a:prstGeom>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264" name=""/>
              <p:cNvSpPr/>
              <p:nvPr/>
            </p:nvSpPr>
            <p:spPr>
              <a:xfrm flipH="1">
                <a:off x="4755240" y="2554200"/>
                <a:ext cx="29160" cy="41400"/>
              </a:xfrm>
              <a:prstGeom prst="line">
                <a:avLst/>
              </a:prstGeom>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265" name=""/>
              <p:cNvSpPr/>
              <p:nvPr/>
            </p:nvSpPr>
            <p:spPr>
              <a:xfrm>
                <a:off x="5023440" y="2693880"/>
                <a:ext cx="154080" cy="219240"/>
              </a:xfrm>
              <a:custGeom>
                <a:avLst/>
                <a:gdLst/>
                <a:ahLst/>
                <a:rect l="l" t="t" r="r" b="b"/>
                <a:pathLst>
                  <a:path w="94" h="138">
                    <a:moveTo>
                      <a:pt x="4" y="26"/>
                    </a:moveTo>
                    <a:lnTo>
                      <a:pt x="94" y="0"/>
                    </a:lnTo>
                    <a:lnTo>
                      <a:pt x="94" y="51"/>
                    </a:lnTo>
                    <a:lnTo>
                      <a:pt x="52" y="92"/>
                    </a:lnTo>
                    <a:lnTo>
                      <a:pt x="0" y="138"/>
                    </a:lnTo>
                    <a:lnTo>
                      <a:pt x="0" y="2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6" name=""/>
              <p:cNvSpPr/>
              <p:nvPr/>
            </p:nvSpPr>
            <p:spPr>
              <a:xfrm>
                <a:off x="5023440" y="2693880"/>
                <a:ext cx="154080" cy="219240"/>
              </a:xfrm>
              <a:custGeom>
                <a:avLst/>
                <a:gdLst/>
                <a:ahLst/>
                <a:rect l="l" t="t" r="r" b="b"/>
                <a:pathLst>
                  <a:path w="94" h="138">
                    <a:moveTo>
                      <a:pt x="4" y="26"/>
                    </a:moveTo>
                    <a:lnTo>
                      <a:pt x="94" y="0"/>
                    </a:lnTo>
                    <a:lnTo>
                      <a:pt x="94" y="51"/>
                    </a:lnTo>
                    <a:lnTo>
                      <a:pt x="52" y="92"/>
                    </a:lnTo>
                    <a:lnTo>
                      <a:pt x="0" y="138"/>
                    </a:lnTo>
                    <a:lnTo>
                      <a:pt x="0" y="2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7" name=""/>
              <p:cNvSpPr/>
              <p:nvPr/>
            </p:nvSpPr>
            <p:spPr>
              <a:xfrm>
                <a:off x="5069160" y="2840040"/>
                <a:ext cx="57240" cy="142920"/>
              </a:xfrm>
              <a:custGeom>
                <a:avLst/>
                <a:gdLst/>
                <a:ahLst/>
                <a:rect l="l" t="t" r="r" b="b"/>
                <a:pathLst>
                  <a:path w="35" h="90">
                    <a:moveTo>
                      <a:pt x="24" y="0"/>
                    </a:moveTo>
                    <a:lnTo>
                      <a:pt x="27" y="11"/>
                    </a:lnTo>
                    <a:lnTo>
                      <a:pt x="29" y="20"/>
                    </a:lnTo>
                    <a:lnTo>
                      <a:pt x="24" y="31"/>
                    </a:lnTo>
                    <a:lnTo>
                      <a:pt x="27" y="40"/>
                    </a:lnTo>
                    <a:lnTo>
                      <a:pt x="35" y="55"/>
                    </a:lnTo>
                    <a:lnTo>
                      <a:pt x="35" y="77"/>
                    </a:lnTo>
                    <a:lnTo>
                      <a:pt x="16" y="90"/>
                    </a:lnTo>
                    <a:lnTo>
                      <a:pt x="0" y="8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8" name=""/>
              <p:cNvSpPr/>
              <p:nvPr/>
            </p:nvSpPr>
            <p:spPr>
              <a:xfrm>
                <a:off x="5069160" y="2840040"/>
                <a:ext cx="57240" cy="142920"/>
              </a:xfrm>
              <a:custGeom>
                <a:avLst/>
                <a:gdLst/>
                <a:ahLst/>
                <a:rect l="l" t="t" r="r" b="b"/>
                <a:pathLst>
                  <a:path w="35" h="90">
                    <a:moveTo>
                      <a:pt x="24" y="0"/>
                    </a:moveTo>
                    <a:lnTo>
                      <a:pt x="27" y="11"/>
                    </a:lnTo>
                    <a:lnTo>
                      <a:pt x="29" y="20"/>
                    </a:lnTo>
                    <a:lnTo>
                      <a:pt x="24" y="31"/>
                    </a:lnTo>
                    <a:lnTo>
                      <a:pt x="27" y="40"/>
                    </a:lnTo>
                    <a:lnTo>
                      <a:pt x="35" y="55"/>
                    </a:lnTo>
                    <a:lnTo>
                      <a:pt x="35" y="77"/>
                    </a:lnTo>
                    <a:lnTo>
                      <a:pt x="16" y="90"/>
                    </a:lnTo>
                    <a:lnTo>
                      <a:pt x="0" y="8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9" name=""/>
              <p:cNvSpPr/>
              <p:nvPr/>
            </p:nvSpPr>
            <p:spPr>
              <a:xfrm>
                <a:off x="5113440" y="2651040"/>
                <a:ext cx="341280" cy="353880"/>
              </a:xfrm>
              <a:custGeom>
                <a:avLst/>
                <a:gdLst/>
                <a:ahLst/>
                <a:rect l="l" t="t" r="r" b="b"/>
                <a:pathLst>
                  <a:path w="208" h="223">
                    <a:moveTo>
                      <a:pt x="0" y="130"/>
                    </a:moveTo>
                    <a:lnTo>
                      <a:pt x="116" y="174"/>
                    </a:lnTo>
                    <a:lnTo>
                      <a:pt x="143" y="174"/>
                    </a:lnTo>
                    <a:lnTo>
                      <a:pt x="176" y="218"/>
                    </a:lnTo>
                    <a:lnTo>
                      <a:pt x="208" y="223"/>
                    </a:lnTo>
                    <a:lnTo>
                      <a:pt x="206" y="183"/>
                    </a:lnTo>
                    <a:lnTo>
                      <a:pt x="151" y="139"/>
                    </a:lnTo>
                    <a:lnTo>
                      <a:pt x="143" y="126"/>
                    </a:lnTo>
                    <a:lnTo>
                      <a:pt x="143" y="106"/>
                    </a:lnTo>
                    <a:lnTo>
                      <a:pt x="151" y="84"/>
                    </a:lnTo>
                    <a:lnTo>
                      <a:pt x="132" y="44"/>
                    </a:lnTo>
                    <a:lnTo>
                      <a:pt x="103" y="44"/>
                    </a:lnTo>
                    <a:lnTo>
                      <a:pt x="94" y="11"/>
                    </a:lnTo>
                    <a:lnTo>
                      <a:pt x="57" y="0"/>
                    </a:lnTo>
                    <a:lnTo>
                      <a:pt x="61" y="14"/>
                    </a:lnTo>
                    <a:lnTo>
                      <a:pt x="39" y="2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0" name=""/>
              <p:cNvSpPr/>
              <p:nvPr/>
            </p:nvSpPr>
            <p:spPr>
              <a:xfrm>
                <a:off x="5113440" y="2651040"/>
                <a:ext cx="341280" cy="353880"/>
              </a:xfrm>
              <a:custGeom>
                <a:avLst/>
                <a:gdLst/>
                <a:ahLst/>
                <a:rect l="l" t="t" r="r" b="b"/>
                <a:pathLst>
                  <a:path w="208" h="223">
                    <a:moveTo>
                      <a:pt x="0" y="130"/>
                    </a:moveTo>
                    <a:lnTo>
                      <a:pt x="116" y="174"/>
                    </a:lnTo>
                    <a:lnTo>
                      <a:pt x="143" y="174"/>
                    </a:lnTo>
                    <a:lnTo>
                      <a:pt x="176" y="218"/>
                    </a:lnTo>
                    <a:lnTo>
                      <a:pt x="208" y="223"/>
                    </a:lnTo>
                    <a:lnTo>
                      <a:pt x="206" y="183"/>
                    </a:lnTo>
                    <a:lnTo>
                      <a:pt x="151" y="139"/>
                    </a:lnTo>
                    <a:lnTo>
                      <a:pt x="143" y="126"/>
                    </a:lnTo>
                    <a:lnTo>
                      <a:pt x="143" y="106"/>
                    </a:lnTo>
                    <a:lnTo>
                      <a:pt x="151" y="84"/>
                    </a:lnTo>
                    <a:lnTo>
                      <a:pt x="132" y="44"/>
                    </a:lnTo>
                    <a:lnTo>
                      <a:pt x="103" y="44"/>
                    </a:lnTo>
                    <a:lnTo>
                      <a:pt x="94" y="11"/>
                    </a:lnTo>
                    <a:lnTo>
                      <a:pt x="57" y="0"/>
                    </a:lnTo>
                    <a:lnTo>
                      <a:pt x="61" y="14"/>
                    </a:lnTo>
                    <a:lnTo>
                      <a:pt x="39" y="2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1" name=""/>
              <p:cNvSpPr/>
              <p:nvPr/>
            </p:nvSpPr>
            <p:spPr>
              <a:xfrm>
                <a:off x="5268240" y="2647800"/>
                <a:ext cx="610920" cy="360360"/>
              </a:xfrm>
              <a:custGeom>
                <a:avLst/>
                <a:gdLst/>
                <a:ahLst/>
                <a:rect l="l" t="t" r="r" b="b"/>
                <a:pathLst>
                  <a:path w="372" h="227">
                    <a:moveTo>
                      <a:pt x="0" y="13"/>
                    </a:moveTo>
                    <a:lnTo>
                      <a:pt x="26" y="5"/>
                    </a:lnTo>
                    <a:lnTo>
                      <a:pt x="66" y="0"/>
                    </a:lnTo>
                    <a:lnTo>
                      <a:pt x="66" y="9"/>
                    </a:lnTo>
                    <a:lnTo>
                      <a:pt x="82" y="51"/>
                    </a:lnTo>
                    <a:lnTo>
                      <a:pt x="167" y="53"/>
                    </a:lnTo>
                    <a:lnTo>
                      <a:pt x="187" y="55"/>
                    </a:lnTo>
                    <a:lnTo>
                      <a:pt x="220" y="36"/>
                    </a:lnTo>
                    <a:lnTo>
                      <a:pt x="352" y="73"/>
                    </a:lnTo>
                    <a:lnTo>
                      <a:pt x="339" y="141"/>
                    </a:lnTo>
                    <a:lnTo>
                      <a:pt x="372" y="165"/>
                    </a:lnTo>
                    <a:lnTo>
                      <a:pt x="363" y="22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2" name=""/>
              <p:cNvSpPr/>
              <p:nvPr/>
            </p:nvSpPr>
            <p:spPr>
              <a:xfrm>
                <a:off x="5268240" y="2647800"/>
                <a:ext cx="610920" cy="360360"/>
              </a:xfrm>
              <a:custGeom>
                <a:avLst/>
                <a:gdLst/>
                <a:ahLst/>
                <a:rect l="l" t="t" r="r" b="b"/>
                <a:pathLst>
                  <a:path w="372" h="227">
                    <a:moveTo>
                      <a:pt x="0" y="13"/>
                    </a:moveTo>
                    <a:lnTo>
                      <a:pt x="26" y="5"/>
                    </a:lnTo>
                    <a:lnTo>
                      <a:pt x="66" y="0"/>
                    </a:lnTo>
                    <a:lnTo>
                      <a:pt x="66" y="9"/>
                    </a:lnTo>
                    <a:lnTo>
                      <a:pt x="82" y="51"/>
                    </a:lnTo>
                    <a:lnTo>
                      <a:pt x="167" y="53"/>
                    </a:lnTo>
                    <a:lnTo>
                      <a:pt x="187" y="55"/>
                    </a:lnTo>
                    <a:lnTo>
                      <a:pt x="220" y="36"/>
                    </a:lnTo>
                    <a:lnTo>
                      <a:pt x="352" y="73"/>
                    </a:lnTo>
                    <a:lnTo>
                      <a:pt x="339" y="141"/>
                    </a:lnTo>
                    <a:lnTo>
                      <a:pt x="372" y="165"/>
                    </a:lnTo>
                    <a:lnTo>
                      <a:pt x="363" y="22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3" name=""/>
              <p:cNvSpPr/>
              <p:nvPr/>
            </p:nvSpPr>
            <p:spPr>
              <a:xfrm>
                <a:off x="5286240" y="2341440"/>
                <a:ext cx="261000" cy="390600"/>
              </a:xfrm>
              <a:custGeom>
                <a:avLst/>
                <a:gdLst/>
                <a:ahLst/>
                <a:rect l="l" t="t" r="r" b="b"/>
                <a:pathLst>
                  <a:path w="159" h="246">
                    <a:moveTo>
                      <a:pt x="156" y="246"/>
                    </a:moveTo>
                    <a:lnTo>
                      <a:pt x="130" y="154"/>
                    </a:lnTo>
                    <a:lnTo>
                      <a:pt x="159" y="147"/>
                    </a:lnTo>
                    <a:lnTo>
                      <a:pt x="143" y="119"/>
                    </a:lnTo>
                    <a:lnTo>
                      <a:pt x="123" y="140"/>
                    </a:lnTo>
                    <a:lnTo>
                      <a:pt x="81" y="70"/>
                    </a:lnTo>
                    <a:lnTo>
                      <a:pt x="125" y="70"/>
                    </a:lnTo>
                    <a:lnTo>
                      <a:pt x="115" y="28"/>
                    </a:lnTo>
                    <a:lnTo>
                      <a:pt x="60" y="0"/>
                    </a:lnTo>
                    <a:lnTo>
                      <a:pt x="24" y="29"/>
                    </a:lnTo>
                    <a:lnTo>
                      <a:pt x="0" y="66"/>
                    </a:lnTo>
                    <a:lnTo>
                      <a:pt x="0" y="81"/>
                    </a:lnTo>
                    <a:lnTo>
                      <a:pt x="71" y="173"/>
                    </a:lnTo>
                    <a:lnTo>
                      <a:pt x="60" y="20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4" name=""/>
              <p:cNvSpPr/>
              <p:nvPr/>
            </p:nvSpPr>
            <p:spPr>
              <a:xfrm>
                <a:off x="5286240" y="2341440"/>
                <a:ext cx="261000" cy="390600"/>
              </a:xfrm>
              <a:custGeom>
                <a:avLst/>
                <a:gdLst/>
                <a:ahLst/>
                <a:rect l="l" t="t" r="r" b="b"/>
                <a:pathLst>
                  <a:path w="159" h="246">
                    <a:moveTo>
                      <a:pt x="156" y="246"/>
                    </a:moveTo>
                    <a:lnTo>
                      <a:pt x="130" y="154"/>
                    </a:lnTo>
                    <a:lnTo>
                      <a:pt x="159" y="147"/>
                    </a:lnTo>
                    <a:lnTo>
                      <a:pt x="143" y="119"/>
                    </a:lnTo>
                    <a:lnTo>
                      <a:pt x="123" y="140"/>
                    </a:lnTo>
                    <a:lnTo>
                      <a:pt x="81" y="70"/>
                    </a:lnTo>
                    <a:lnTo>
                      <a:pt x="125" y="70"/>
                    </a:lnTo>
                    <a:lnTo>
                      <a:pt x="115" y="28"/>
                    </a:lnTo>
                    <a:lnTo>
                      <a:pt x="60" y="0"/>
                    </a:lnTo>
                    <a:lnTo>
                      <a:pt x="24" y="29"/>
                    </a:lnTo>
                    <a:lnTo>
                      <a:pt x="0" y="66"/>
                    </a:lnTo>
                    <a:lnTo>
                      <a:pt x="0" y="81"/>
                    </a:lnTo>
                    <a:lnTo>
                      <a:pt x="71" y="173"/>
                    </a:lnTo>
                    <a:lnTo>
                      <a:pt x="60" y="204"/>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5" name=""/>
              <p:cNvSpPr/>
              <p:nvPr/>
            </p:nvSpPr>
            <p:spPr>
              <a:xfrm>
                <a:off x="5641200" y="2379600"/>
                <a:ext cx="84960" cy="115920"/>
              </a:xfrm>
              <a:custGeom>
                <a:avLst/>
                <a:gdLst/>
                <a:ahLst/>
                <a:rect l="l" t="t" r="r" b="b"/>
                <a:pathLst>
                  <a:path w="52" h="73">
                    <a:moveTo>
                      <a:pt x="4" y="73"/>
                    </a:moveTo>
                    <a:lnTo>
                      <a:pt x="0" y="22"/>
                    </a:lnTo>
                    <a:lnTo>
                      <a:pt x="21" y="7"/>
                    </a:lnTo>
                    <a:lnTo>
                      <a:pt x="43" y="0"/>
                    </a:lnTo>
                    <a:lnTo>
                      <a:pt x="52" y="46"/>
                    </a:lnTo>
                    <a:lnTo>
                      <a:pt x="41" y="73"/>
                    </a:lnTo>
                    <a:lnTo>
                      <a:pt x="4" y="73"/>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6" name=""/>
              <p:cNvSpPr/>
              <p:nvPr/>
            </p:nvSpPr>
            <p:spPr>
              <a:xfrm>
                <a:off x="5641200" y="2379600"/>
                <a:ext cx="84960" cy="115920"/>
              </a:xfrm>
              <a:custGeom>
                <a:avLst/>
                <a:gdLst/>
                <a:ahLst/>
                <a:rect l="l" t="t" r="r" b="b"/>
                <a:pathLst>
                  <a:path w="52" h="73">
                    <a:moveTo>
                      <a:pt x="4" y="73"/>
                    </a:moveTo>
                    <a:lnTo>
                      <a:pt x="0" y="22"/>
                    </a:lnTo>
                    <a:lnTo>
                      <a:pt x="21" y="7"/>
                    </a:lnTo>
                    <a:lnTo>
                      <a:pt x="43" y="0"/>
                    </a:lnTo>
                    <a:lnTo>
                      <a:pt x="52" y="46"/>
                    </a:lnTo>
                    <a:lnTo>
                      <a:pt x="41" y="73"/>
                    </a:lnTo>
                    <a:lnTo>
                      <a:pt x="4" y="73"/>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7" name=""/>
              <p:cNvSpPr/>
              <p:nvPr/>
            </p:nvSpPr>
            <p:spPr>
              <a:xfrm>
                <a:off x="4628880" y="2554200"/>
                <a:ext cx="72000" cy="34920"/>
              </a:xfrm>
              <a:custGeom>
                <a:avLst/>
                <a:gdLst/>
                <a:ahLst/>
                <a:rect l="l" t="t" r="r" b="b"/>
                <a:pathLst>
                  <a:path w="44" h="22">
                    <a:moveTo>
                      <a:pt x="44" y="22"/>
                    </a:moveTo>
                    <a:lnTo>
                      <a:pt x="35" y="0"/>
                    </a:lnTo>
                    <a:lnTo>
                      <a:pt x="0" y="6"/>
                    </a:lnTo>
                  </a:path>
                </a:pathLst>
              </a:custGeom>
              <a:solidFill>
                <a:srgbClr val="000080">
                  <a:alpha val="50000"/>
                </a:srgbClr>
              </a:solidFill>
              <a:ln w="0">
                <a:solidFill>
                  <a:srgbClr val="0000ff"/>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278" name=""/>
              <p:cNvSpPr/>
              <p:nvPr/>
            </p:nvSpPr>
            <p:spPr>
              <a:xfrm>
                <a:off x="4628880" y="2554200"/>
                <a:ext cx="72000" cy="34920"/>
              </a:xfrm>
              <a:custGeom>
                <a:avLst/>
                <a:gdLst/>
                <a:ahLst/>
                <a:rect l="l" t="t" r="r" b="b"/>
                <a:pathLst>
                  <a:path w="44" h="22">
                    <a:moveTo>
                      <a:pt x="44" y="22"/>
                    </a:moveTo>
                    <a:lnTo>
                      <a:pt x="35" y="0"/>
                    </a:lnTo>
                    <a:lnTo>
                      <a:pt x="0" y="6"/>
                    </a:lnTo>
                  </a:path>
                </a:pathLst>
              </a:custGeom>
              <a:solidFill>
                <a:srgbClr val="000080">
                  <a:alpha val="50000"/>
                </a:srgbClr>
              </a:solidFill>
              <a:ln w="0">
                <a:solidFill>
                  <a:srgbClr val="0000ff"/>
                </a:solid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279" name=""/>
              <p:cNvSpPr/>
              <p:nvPr/>
            </p:nvSpPr>
            <p:spPr>
              <a:xfrm>
                <a:off x="5853240" y="2647800"/>
                <a:ext cx="273960" cy="363600"/>
              </a:xfrm>
              <a:custGeom>
                <a:avLst/>
                <a:gdLst/>
                <a:ahLst/>
                <a:rect l="l" t="t" r="r" b="b"/>
                <a:pathLst>
                  <a:path w="167" h="229">
                    <a:moveTo>
                      <a:pt x="0" y="73"/>
                    </a:moveTo>
                    <a:lnTo>
                      <a:pt x="25" y="49"/>
                    </a:lnTo>
                    <a:lnTo>
                      <a:pt x="40" y="46"/>
                    </a:lnTo>
                    <a:lnTo>
                      <a:pt x="99" y="49"/>
                    </a:lnTo>
                    <a:lnTo>
                      <a:pt x="117" y="0"/>
                    </a:lnTo>
                    <a:lnTo>
                      <a:pt x="156" y="27"/>
                    </a:lnTo>
                    <a:lnTo>
                      <a:pt x="167" y="73"/>
                    </a:lnTo>
                    <a:lnTo>
                      <a:pt x="158" y="84"/>
                    </a:lnTo>
                    <a:lnTo>
                      <a:pt x="128" y="84"/>
                    </a:lnTo>
                    <a:lnTo>
                      <a:pt x="123" y="117"/>
                    </a:lnTo>
                    <a:lnTo>
                      <a:pt x="123" y="181"/>
                    </a:lnTo>
                    <a:lnTo>
                      <a:pt x="93" y="181"/>
                    </a:lnTo>
                    <a:lnTo>
                      <a:pt x="88" y="220"/>
                    </a:lnTo>
                    <a:lnTo>
                      <a:pt x="7" y="22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a:off x="5853240" y="2647800"/>
                <a:ext cx="273960" cy="363600"/>
              </a:xfrm>
              <a:custGeom>
                <a:avLst/>
                <a:gdLst/>
                <a:ahLst/>
                <a:rect l="l" t="t" r="r" b="b"/>
                <a:pathLst>
                  <a:path w="167" h="229">
                    <a:moveTo>
                      <a:pt x="0" y="73"/>
                    </a:moveTo>
                    <a:lnTo>
                      <a:pt x="25" y="49"/>
                    </a:lnTo>
                    <a:lnTo>
                      <a:pt x="40" y="46"/>
                    </a:lnTo>
                    <a:lnTo>
                      <a:pt x="99" y="49"/>
                    </a:lnTo>
                    <a:lnTo>
                      <a:pt x="117" y="0"/>
                    </a:lnTo>
                    <a:lnTo>
                      <a:pt x="156" y="27"/>
                    </a:lnTo>
                    <a:lnTo>
                      <a:pt x="167" y="73"/>
                    </a:lnTo>
                    <a:lnTo>
                      <a:pt x="158" y="84"/>
                    </a:lnTo>
                    <a:lnTo>
                      <a:pt x="128" y="84"/>
                    </a:lnTo>
                    <a:lnTo>
                      <a:pt x="123" y="117"/>
                    </a:lnTo>
                    <a:lnTo>
                      <a:pt x="123" y="181"/>
                    </a:lnTo>
                    <a:lnTo>
                      <a:pt x="93" y="181"/>
                    </a:lnTo>
                    <a:lnTo>
                      <a:pt x="88" y="220"/>
                    </a:lnTo>
                    <a:lnTo>
                      <a:pt x="7" y="229"/>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1" name=""/>
              <p:cNvSpPr/>
              <p:nvPr/>
            </p:nvSpPr>
            <p:spPr>
              <a:xfrm flipH="1">
                <a:off x="5557320" y="3144600"/>
                <a:ext cx="7920" cy="68400"/>
              </a:xfrm>
              <a:prstGeom prst="line">
                <a:avLst/>
              </a:prstGeom>
              <a:ln w="0">
                <a:solidFill>
                  <a:srgbClr val="0000ff"/>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82" name=""/>
              <p:cNvSpPr/>
              <p:nvPr/>
            </p:nvSpPr>
            <p:spPr>
              <a:xfrm flipH="1">
                <a:off x="5557320" y="3144600"/>
                <a:ext cx="7920" cy="68400"/>
              </a:xfrm>
              <a:prstGeom prst="line">
                <a:avLst/>
              </a:prstGeom>
              <a:ln w="0">
                <a:solidFill>
                  <a:srgbClr val="0000ff"/>
                </a:solid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283" name=""/>
              <p:cNvSpPr/>
              <p:nvPr/>
            </p:nvSpPr>
            <p:spPr>
              <a:xfrm>
                <a:off x="5557320" y="3171600"/>
                <a:ext cx="191880" cy="60480"/>
              </a:xfrm>
              <a:custGeom>
                <a:avLst/>
                <a:gdLst/>
                <a:ahLst/>
                <a:rect l="l" t="t" r="r" b="b"/>
                <a:pathLst>
                  <a:path w="117" h="38">
                    <a:moveTo>
                      <a:pt x="0" y="26"/>
                    </a:moveTo>
                    <a:lnTo>
                      <a:pt x="64" y="38"/>
                    </a:lnTo>
                    <a:lnTo>
                      <a:pt x="117" y="0"/>
                    </a:lnTo>
                  </a:path>
                </a:pathLst>
              </a:custGeom>
              <a:solidFill>
                <a:srgbClr val="000080">
                  <a:alpha val="50000"/>
                </a:srgbClr>
              </a:solidFill>
              <a:ln w="0">
                <a:solidFill>
                  <a:srgbClr val="0000ff"/>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84" name=""/>
              <p:cNvSpPr/>
              <p:nvPr/>
            </p:nvSpPr>
            <p:spPr>
              <a:xfrm>
                <a:off x="5557320" y="3171600"/>
                <a:ext cx="191880" cy="60480"/>
              </a:xfrm>
              <a:custGeom>
                <a:avLst/>
                <a:gdLst/>
                <a:ahLst/>
                <a:rect l="l" t="t" r="r" b="b"/>
                <a:pathLst>
                  <a:path w="117" h="38">
                    <a:moveTo>
                      <a:pt x="0" y="26"/>
                    </a:moveTo>
                    <a:lnTo>
                      <a:pt x="64" y="38"/>
                    </a:lnTo>
                    <a:lnTo>
                      <a:pt x="117" y="0"/>
                    </a:lnTo>
                  </a:path>
                </a:pathLst>
              </a:custGeom>
              <a:solidFill>
                <a:srgbClr val="000080">
                  <a:alpha val="50000"/>
                </a:srgbClr>
              </a:solidFill>
              <a:ln w="0">
                <a:solidFill>
                  <a:srgbClr val="0000ff"/>
                </a:solid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285" name=""/>
              <p:cNvSpPr/>
              <p:nvPr/>
            </p:nvSpPr>
            <p:spPr>
              <a:xfrm>
                <a:off x="5864400" y="3008160"/>
                <a:ext cx="69120" cy="117720"/>
              </a:xfrm>
              <a:custGeom>
                <a:avLst/>
                <a:gdLst/>
                <a:ahLst/>
                <a:rect l="l" t="t" r="r" b="b"/>
                <a:pathLst>
                  <a:path w="42" h="74">
                    <a:moveTo>
                      <a:pt x="37" y="74"/>
                    </a:moveTo>
                    <a:lnTo>
                      <a:pt x="42" y="46"/>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a:off x="5864400" y="3008160"/>
                <a:ext cx="69120" cy="117720"/>
              </a:xfrm>
              <a:custGeom>
                <a:avLst/>
                <a:gdLst/>
                <a:ahLst/>
                <a:rect l="l" t="t" r="r" b="b"/>
                <a:pathLst>
                  <a:path w="42" h="74">
                    <a:moveTo>
                      <a:pt x="37" y="74"/>
                    </a:moveTo>
                    <a:lnTo>
                      <a:pt x="42" y="46"/>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7" name=""/>
              <p:cNvSpPr/>
              <p:nvPr/>
            </p:nvSpPr>
            <p:spPr>
              <a:xfrm>
                <a:off x="6076080" y="2825640"/>
                <a:ext cx="1184400" cy="785880"/>
              </a:xfrm>
              <a:custGeom>
                <a:avLst/>
                <a:gdLst/>
                <a:ahLst/>
                <a:rect l="l" t="t" r="r" b="b"/>
                <a:pathLst>
                  <a:path w="721" h="495">
                    <a:moveTo>
                      <a:pt x="0" y="233"/>
                    </a:moveTo>
                    <a:lnTo>
                      <a:pt x="23" y="220"/>
                    </a:lnTo>
                    <a:lnTo>
                      <a:pt x="11" y="172"/>
                    </a:lnTo>
                    <a:lnTo>
                      <a:pt x="36" y="170"/>
                    </a:lnTo>
                    <a:lnTo>
                      <a:pt x="104" y="73"/>
                    </a:lnTo>
                    <a:lnTo>
                      <a:pt x="88" y="12"/>
                    </a:lnTo>
                    <a:lnTo>
                      <a:pt x="139" y="33"/>
                    </a:lnTo>
                    <a:lnTo>
                      <a:pt x="165" y="0"/>
                    </a:lnTo>
                    <a:lnTo>
                      <a:pt x="192" y="12"/>
                    </a:lnTo>
                    <a:lnTo>
                      <a:pt x="165" y="80"/>
                    </a:lnTo>
                    <a:lnTo>
                      <a:pt x="196" y="93"/>
                    </a:lnTo>
                    <a:lnTo>
                      <a:pt x="383" y="159"/>
                    </a:lnTo>
                    <a:lnTo>
                      <a:pt x="412" y="167"/>
                    </a:lnTo>
                    <a:lnTo>
                      <a:pt x="541" y="115"/>
                    </a:lnTo>
                    <a:lnTo>
                      <a:pt x="563" y="143"/>
                    </a:lnTo>
                    <a:lnTo>
                      <a:pt x="555" y="187"/>
                    </a:lnTo>
                    <a:lnTo>
                      <a:pt x="555" y="194"/>
                    </a:lnTo>
                    <a:lnTo>
                      <a:pt x="579" y="209"/>
                    </a:lnTo>
                    <a:lnTo>
                      <a:pt x="579" y="244"/>
                    </a:lnTo>
                    <a:lnTo>
                      <a:pt x="585" y="255"/>
                    </a:lnTo>
                    <a:lnTo>
                      <a:pt x="623" y="266"/>
                    </a:lnTo>
                    <a:lnTo>
                      <a:pt x="632" y="284"/>
                    </a:lnTo>
                    <a:lnTo>
                      <a:pt x="632" y="341"/>
                    </a:lnTo>
                    <a:lnTo>
                      <a:pt x="658" y="359"/>
                    </a:lnTo>
                    <a:lnTo>
                      <a:pt x="693" y="341"/>
                    </a:lnTo>
                    <a:lnTo>
                      <a:pt x="721" y="427"/>
                    </a:lnTo>
                    <a:lnTo>
                      <a:pt x="704" y="436"/>
                    </a:lnTo>
                    <a:lnTo>
                      <a:pt x="688" y="445"/>
                    </a:lnTo>
                    <a:lnTo>
                      <a:pt x="688" y="469"/>
                    </a:lnTo>
                    <a:lnTo>
                      <a:pt x="688" y="49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8" name=""/>
              <p:cNvSpPr/>
              <p:nvPr/>
            </p:nvSpPr>
            <p:spPr>
              <a:xfrm>
                <a:off x="6076080" y="2825640"/>
                <a:ext cx="1184400" cy="785880"/>
              </a:xfrm>
              <a:custGeom>
                <a:avLst/>
                <a:gdLst/>
                <a:ahLst/>
                <a:rect l="l" t="t" r="r" b="b"/>
                <a:pathLst>
                  <a:path w="721" h="495">
                    <a:moveTo>
                      <a:pt x="0" y="233"/>
                    </a:moveTo>
                    <a:lnTo>
                      <a:pt x="23" y="220"/>
                    </a:lnTo>
                    <a:lnTo>
                      <a:pt x="11" y="172"/>
                    </a:lnTo>
                    <a:lnTo>
                      <a:pt x="36" y="170"/>
                    </a:lnTo>
                    <a:lnTo>
                      <a:pt x="104" y="73"/>
                    </a:lnTo>
                    <a:lnTo>
                      <a:pt x="88" y="12"/>
                    </a:lnTo>
                    <a:lnTo>
                      <a:pt x="139" y="33"/>
                    </a:lnTo>
                    <a:lnTo>
                      <a:pt x="165" y="0"/>
                    </a:lnTo>
                    <a:lnTo>
                      <a:pt x="192" y="12"/>
                    </a:lnTo>
                    <a:lnTo>
                      <a:pt x="165" y="80"/>
                    </a:lnTo>
                    <a:lnTo>
                      <a:pt x="196" y="93"/>
                    </a:lnTo>
                    <a:lnTo>
                      <a:pt x="383" y="159"/>
                    </a:lnTo>
                    <a:lnTo>
                      <a:pt x="412" y="167"/>
                    </a:lnTo>
                    <a:lnTo>
                      <a:pt x="541" y="115"/>
                    </a:lnTo>
                    <a:lnTo>
                      <a:pt x="563" y="143"/>
                    </a:lnTo>
                    <a:lnTo>
                      <a:pt x="555" y="187"/>
                    </a:lnTo>
                    <a:lnTo>
                      <a:pt x="555" y="194"/>
                    </a:lnTo>
                    <a:lnTo>
                      <a:pt x="579" y="209"/>
                    </a:lnTo>
                    <a:lnTo>
                      <a:pt x="579" y="244"/>
                    </a:lnTo>
                    <a:lnTo>
                      <a:pt x="585" y="255"/>
                    </a:lnTo>
                    <a:lnTo>
                      <a:pt x="623" y="266"/>
                    </a:lnTo>
                    <a:lnTo>
                      <a:pt x="632" y="284"/>
                    </a:lnTo>
                    <a:lnTo>
                      <a:pt x="632" y="341"/>
                    </a:lnTo>
                    <a:lnTo>
                      <a:pt x="658" y="359"/>
                    </a:lnTo>
                    <a:lnTo>
                      <a:pt x="693" y="341"/>
                    </a:lnTo>
                    <a:lnTo>
                      <a:pt x="721" y="427"/>
                    </a:lnTo>
                    <a:lnTo>
                      <a:pt x="704" y="436"/>
                    </a:lnTo>
                    <a:lnTo>
                      <a:pt x="688" y="445"/>
                    </a:lnTo>
                    <a:lnTo>
                      <a:pt x="688" y="469"/>
                    </a:lnTo>
                    <a:lnTo>
                      <a:pt x="688" y="495"/>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6391800" y="2973240"/>
                <a:ext cx="313560" cy="160560"/>
              </a:xfrm>
              <a:custGeom>
                <a:avLst/>
                <a:gdLst/>
                <a:ahLst/>
                <a:rect l="l" t="t" r="r" b="b"/>
                <a:pathLst>
                  <a:path w="191" h="101">
                    <a:moveTo>
                      <a:pt x="191" y="66"/>
                    </a:moveTo>
                    <a:lnTo>
                      <a:pt x="178" y="101"/>
                    </a:lnTo>
                    <a:lnTo>
                      <a:pt x="0" y="37"/>
                    </a:lnTo>
                    <a:lnTo>
                      <a:pt x="4"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a:off x="6391800" y="2973240"/>
                <a:ext cx="313560" cy="160560"/>
              </a:xfrm>
              <a:custGeom>
                <a:avLst/>
                <a:gdLst/>
                <a:ahLst/>
                <a:rect l="l" t="t" r="r" b="b"/>
                <a:pathLst>
                  <a:path w="191" h="101">
                    <a:moveTo>
                      <a:pt x="191" y="66"/>
                    </a:moveTo>
                    <a:lnTo>
                      <a:pt x="178" y="101"/>
                    </a:lnTo>
                    <a:lnTo>
                      <a:pt x="0" y="37"/>
                    </a:lnTo>
                    <a:lnTo>
                      <a:pt x="4"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1" name=""/>
              <p:cNvSpPr/>
              <p:nvPr/>
            </p:nvSpPr>
            <p:spPr>
              <a:xfrm>
                <a:off x="6095880" y="2233440"/>
                <a:ext cx="1302480" cy="457200"/>
              </a:xfrm>
              <a:custGeom>
                <a:avLst/>
                <a:gdLst/>
                <a:ahLst/>
                <a:rect l="l" t="t" r="r" b="b"/>
                <a:pathLst>
                  <a:path w="793" h="288">
                    <a:moveTo>
                      <a:pt x="8" y="288"/>
                    </a:moveTo>
                    <a:lnTo>
                      <a:pt x="0" y="246"/>
                    </a:lnTo>
                    <a:lnTo>
                      <a:pt x="107" y="211"/>
                    </a:lnTo>
                    <a:lnTo>
                      <a:pt x="83" y="140"/>
                    </a:lnTo>
                    <a:lnTo>
                      <a:pt x="131" y="141"/>
                    </a:lnTo>
                    <a:lnTo>
                      <a:pt x="127" y="97"/>
                    </a:lnTo>
                    <a:lnTo>
                      <a:pt x="166" y="110"/>
                    </a:lnTo>
                    <a:lnTo>
                      <a:pt x="162" y="66"/>
                    </a:lnTo>
                    <a:lnTo>
                      <a:pt x="202" y="48"/>
                    </a:lnTo>
                    <a:lnTo>
                      <a:pt x="243" y="74"/>
                    </a:lnTo>
                    <a:lnTo>
                      <a:pt x="263" y="125"/>
                    </a:lnTo>
                    <a:lnTo>
                      <a:pt x="292" y="176"/>
                    </a:lnTo>
                    <a:lnTo>
                      <a:pt x="364" y="162"/>
                    </a:lnTo>
                    <a:lnTo>
                      <a:pt x="393" y="211"/>
                    </a:lnTo>
                    <a:lnTo>
                      <a:pt x="626" y="211"/>
                    </a:lnTo>
                    <a:lnTo>
                      <a:pt x="661" y="169"/>
                    </a:lnTo>
                    <a:lnTo>
                      <a:pt x="652" y="143"/>
                    </a:lnTo>
                    <a:lnTo>
                      <a:pt x="666" y="158"/>
                    </a:lnTo>
                    <a:lnTo>
                      <a:pt x="692" y="125"/>
                    </a:lnTo>
                    <a:lnTo>
                      <a:pt x="793" y="129"/>
                    </a:lnTo>
                    <a:lnTo>
                      <a:pt x="771" y="105"/>
                    </a:lnTo>
                    <a:lnTo>
                      <a:pt x="749" y="75"/>
                    </a:lnTo>
                    <a:lnTo>
                      <a:pt x="712" y="79"/>
                    </a:lnTo>
                    <a:lnTo>
                      <a:pt x="670" y="85"/>
                    </a:lnTo>
                    <a:lnTo>
                      <a:pt x="661" y="31"/>
                    </a:lnTo>
                    <a:lnTo>
                      <a:pt x="582" y="41"/>
                    </a:lnTo>
                    <a:lnTo>
                      <a:pt x="507" y="50"/>
                    </a:lnTo>
                    <a:lnTo>
                      <a:pt x="455" y="26"/>
                    </a:lnTo>
                    <a:lnTo>
                      <a:pt x="404" y="39"/>
                    </a:lnTo>
                    <a:lnTo>
                      <a:pt x="373" y="0"/>
                    </a:lnTo>
                    <a:lnTo>
                      <a:pt x="331" y="0"/>
                    </a:lnTo>
                    <a:lnTo>
                      <a:pt x="323" y="0"/>
                    </a:lnTo>
                    <a:lnTo>
                      <a:pt x="323" y="39"/>
                    </a:lnTo>
                    <a:lnTo>
                      <a:pt x="303" y="39"/>
                    </a:lnTo>
                    <a:lnTo>
                      <a:pt x="277" y="35"/>
                    </a:lnTo>
                    <a:lnTo>
                      <a:pt x="259" y="26"/>
                    </a:lnTo>
                    <a:lnTo>
                      <a:pt x="243" y="19"/>
                    </a:lnTo>
                    <a:lnTo>
                      <a:pt x="202" y="4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2" name=""/>
              <p:cNvSpPr/>
              <p:nvPr/>
            </p:nvSpPr>
            <p:spPr>
              <a:xfrm>
                <a:off x="6095880" y="2233440"/>
                <a:ext cx="1302480" cy="457200"/>
              </a:xfrm>
              <a:custGeom>
                <a:avLst/>
                <a:gdLst/>
                <a:ahLst/>
                <a:rect l="l" t="t" r="r" b="b"/>
                <a:pathLst>
                  <a:path w="793" h="288">
                    <a:moveTo>
                      <a:pt x="8" y="288"/>
                    </a:moveTo>
                    <a:lnTo>
                      <a:pt x="0" y="246"/>
                    </a:lnTo>
                    <a:lnTo>
                      <a:pt x="107" y="211"/>
                    </a:lnTo>
                    <a:lnTo>
                      <a:pt x="83" y="140"/>
                    </a:lnTo>
                    <a:lnTo>
                      <a:pt x="131" y="141"/>
                    </a:lnTo>
                    <a:lnTo>
                      <a:pt x="127" y="97"/>
                    </a:lnTo>
                    <a:lnTo>
                      <a:pt x="166" y="110"/>
                    </a:lnTo>
                    <a:lnTo>
                      <a:pt x="162" y="66"/>
                    </a:lnTo>
                    <a:lnTo>
                      <a:pt x="202" y="48"/>
                    </a:lnTo>
                    <a:lnTo>
                      <a:pt x="243" y="74"/>
                    </a:lnTo>
                    <a:lnTo>
                      <a:pt x="263" y="125"/>
                    </a:lnTo>
                    <a:lnTo>
                      <a:pt x="292" y="176"/>
                    </a:lnTo>
                    <a:lnTo>
                      <a:pt x="364" y="162"/>
                    </a:lnTo>
                    <a:lnTo>
                      <a:pt x="393" y="211"/>
                    </a:lnTo>
                    <a:lnTo>
                      <a:pt x="626" y="211"/>
                    </a:lnTo>
                    <a:lnTo>
                      <a:pt x="661" y="169"/>
                    </a:lnTo>
                    <a:lnTo>
                      <a:pt x="652" y="143"/>
                    </a:lnTo>
                    <a:lnTo>
                      <a:pt x="666" y="158"/>
                    </a:lnTo>
                    <a:lnTo>
                      <a:pt x="692" y="125"/>
                    </a:lnTo>
                    <a:lnTo>
                      <a:pt x="793" y="129"/>
                    </a:lnTo>
                    <a:lnTo>
                      <a:pt x="771" y="105"/>
                    </a:lnTo>
                    <a:lnTo>
                      <a:pt x="749" y="75"/>
                    </a:lnTo>
                    <a:lnTo>
                      <a:pt x="712" y="79"/>
                    </a:lnTo>
                    <a:lnTo>
                      <a:pt x="670" y="85"/>
                    </a:lnTo>
                    <a:lnTo>
                      <a:pt x="661" y="31"/>
                    </a:lnTo>
                    <a:lnTo>
                      <a:pt x="582" y="41"/>
                    </a:lnTo>
                    <a:lnTo>
                      <a:pt x="507" y="50"/>
                    </a:lnTo>
                    <a:lnTo>
                      <a:pt x="455" y="26"/>
                    </a:lnTo>
                    <a:lnTo>
                      <a:pt x="404" y="39"/>
                    </a:lnTo>
                    <a:lnTo>
                      <a:pt x="373" y="0"/>
                    </a:lnTo>
                    <a:lnTo>
                      <a:pt x="331" y="0"/>
                    </a:lnTo>
                    <a:lnTo>
                      <a:pt x="323" y="0"/>
                    </a:lnTo>
                    <a:lnTo>
                      <a:pt x="323" y="39"/>
                    </a:lnTo>
                    <a:lnTo>
                      <a:pt x="303" y="39"/>
                    </a:lnTo>
                    <a:lnTo>
                      <a:pt x="277" y="35"/>
                    </a:lnTo>
                    <a:lnTo>
                      <a:pt x="259" y="26"/>
                    </a:lnTo>
                    <a:lnTo>
                      <a:pt x="243" y="19"/>
                    </a:lnTo>
                    <a:lnTo>
                      <a:pt x="202" y="4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3" name=""/>
              <p:cNvSpPr/>
              <p:nvPr/>
            </p:nvSpPr>
            <p:spPr>
              <a:xfrm>
                <a:off x="6509880" y="3692520"/>
                <a:ext cx="44280" cy="104760"/>
              </a:xfrm>
              <a:custGeom>
                <a:avLst/>
                <a:gdLst/>
                <a:ahLst/>
                <a:rect l="l" t="t" r="r" b="b"/>
                <a:pathLst>
                  <a:path w="27" h="66">
                    <a:moveTo>
                      <a:pt x="2" y="0"/>
                    </a:moveTo>
                    <a:lnTo>
                      <a:pt x="0" y="35"/>
                    </a:lnTo>
                    <a:lnTo>
                      <a:pt x="5" y="66"/>
                    </a:lnTo>
                    <a:lnTo>
                      <a:pt x="27" y="55"/>
                    </a:lnTo>
                    <a:lnTo>
                      <a:pt x="18" y="33"/>
                    </a:lnTo>
                    <a:lnTo>
                      <a:pt x="5"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4" name=""/>
              <p:cNvSpPr/>
              <p:nvPr/>
            </p:nvSpPr>
            <p:spPr>
              <a:xfrm>
                <a:off x="6509880" y="3692520"/>
                <a:ext cx="44280" cy="104760"/>
              </a:xfrm>
              <a:custGeom>
                <a:avLst/>
                <a:gdLst/>
                <a:ahLst/>
                <a:rect l="l" t="t" r="r" b="b"/>
                <a:pathLst>
                  <a:path w="27" h="66">
                    <a:moveTo>
                      <a:pt x="2" y="0"/>
                    </a:moveTo>
                    <a:lnTo>
                      <a:pt x="0" y="35"/>
                    </a:lnTo>
                    <a:lnTo>
                      <a:pt x="5" y="66"/>
                    </a:lnTo>
                    <a:lnTo>
                      <a:pt x="27" y="55"/>
                    </a:lnTo>
                    <a:lnTo>
                      <a:pt x="18" y="33"/>
                    </a:lnTo>
                    <a:lnTo>
                      <a:pt x="5"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5" name=""/>
              <p:cNvSpPr/>
              <p:nvPr/>
            </p:nvSpPr>
            <p:spPr>
              <a:xfrm>
                <a:off x="7166880" y="2152440"/>
                <a:ext cx="599760" cy="360360"/>
              </a:xfrm>
              <a:custGeom>
                <a:avLst/>
                <a:gdLst/>
                <a:ahLst/>
                <a:rect l="l" t="t" r="r" b="b"/>
                <a:pathLst>
                  <a:path w="365" h="227">
                    <a:moveTo>
                      <a:pt x="9" y="82"/>
                    </a:moveTo>
                    <a:lnTo>
                      <a:pt x="9" y="49"/>
                    </a:lnTo>
                    <a:lnTo>
                      <a:pt x="0" y="22"/>
                    </a:lnTo>
                    <a:lnTo>
                      <a:pt x="73" y="0"/>
                    </a:lnTo>
                    <a:lnTo>
                      <a:pt x="135" y="57"/>
                    </a:lnTo>
                    <a:lnTo>
                      <a:pt x="183" y="112"/>
                    </a:lnTo>
                    <a:lnTo>
                      <a:pt x="201" y="125"/>
                    </a:lnTo>
                    <a:lnTo>
                      <a:pt x="273" y="121"/>
                    </a:lnTo>
                    <a:lnTo>
                      <a:pt x="301" y="167"/>
                    </a:lnTo>
                    <a:lnTo>
                      <a:pt x="339" y="115"/>
                    </a:lnTo>
                    <a:lnTo>
                      <a:pt x="357" y="156"/>
                    </a:lnTo>
                    <a:lnTo>
                      <a:pt x="365" y="194"/>
                    </a:lnTo>
                    <a:lnTo>
                      <a:pt x="324" y="181"/>
                    </a:lnTo>
                    <a:lnTo>
                      <a:pt x="328" y="22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6" name=""/>
              <p:cNvSpPr/>
              <p:nvPr/>
            </p:nvSpPr>
            <p:spPr>
              <a:xfrm>
                <a:off x="7166880" y="2152440"/>
                <a:ext cx="599760" cy="360360"/>
              </a:xfrm>
              <a:custGeom>
                <a:avLst/>
                <a:gdLst/>
                <a:ahLst/>
                <a:rect l="l" t="t" r="r" b="b"/>
                <a:pathLst>
                  <a:path w="365" h="227">
                    <a:moveTo>
                      <a:pt x="9" y="82"/>
                    </a:moveTo>
                    <a:lnTo>
                      <a:pt x="9" y="49"/>
                    </a:lnTo>
                    <a:lnTo>
                      <a:pt x="0" y="22"/>
                    </a:lnTo>
                    <a:lnTo>
                      <a:pt x="73" y="0"/>
                    </a:lnTo>
                    <a:lnTo>
                      <a:pt x="135" y="57"/>
                    </a:lnTo>
                    <a:lnTo>
                      <a:pt x="183" y="112"/>
                    </a:lnTo>
                    <a:lnTo>
                      <a:pt x="201" y="125"/>
                    </a:lnTo>
                    <a:lnTo>
                      <a:pt x="273" y="121"/>
                    </a:lnTo>
                    <a:lnTo>
                      <a:pt x="301" y="167"/>
                    </a:lnTo>
                    <a:lnTo>
                      <a:pt x="339" y="115"/>
                    </a:lnTo>
                    <a:lnTo>
                      <a:pt x="357" y="156"/>
                    </a:lnTo>
                    <a:lnTo>
                      <a:pt x="365" y="194"/>
                    </a:lnTo>
                    <a:lnTo>
                      <a:pt x="324" y="181"/>
                    </a:lnTo>
                    <a:lnTo>
                      <a:pt x="328" y="22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7" name=""/>
              <p:cNvSpPr/>
              <p:nvPr/>
            </p:nvSpPr>
            <p:spPr>
              <a:xfrm>
                <a:off x="7260840" y="3503520"/>
                <a:ext cx="77040" cy="171360"/>
              </a:xfrm>
              <a:custGeom>
                <a:avLst/>
                <a:gdLst/>
                <a:ahLst/>
                <a:rect l="l" t="t" r="r" b="b"/>
                <a:pathLst>
                  <a:path w="47" h="108">
                    <a:moveTo>
                      <a:pt x="23" y="108"/>
                    </a:moveTo>
                    <a:lnTo>
                      <a:pt x="42" y="92"/>
                    </a:lnTo>
                    <a:lnTo>
                      <a:pt x="45" y="64"/>
                    </a:lnTo>
                    <a:lnTo>
                      <a:pt x="47" y="22"/>
                    </a:lnTo>
                    <a:lnTo>
                      <a:pt x="31" y="9"/>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8" name=""/>
              <p:cNvSpPr/>
              <p:nvPr/>
            </p:nvSpPr>
            <p:spPr>
              <a:xfrm>
                <a:off x="7260840" y="3503520"/>
                <a:ext cx="77040" cy="171360"/>
              </a:xfrm>
              <a:custGeom>
                <a:avLst/>
                <a:gdLst/>
                <a:ahLst/>
                <a:rect l="l" t="t" r="r" b="b"/>
                <a:pathLst>
                  <a:path w="47" h="108">
                    <a:moveTo>
                      <a:pt x="23" y="108"/>
                    </a:moveTo>
                    <a:lnTo>
                      <a:pt x="42" y="92"/>
                    </a:lnTo>
                    <a:lnTo>
                      <a:pt x="45" y="64"/>
                    </a:lnTo>
                    <a:lnTo>
                      <a:pt x="47" y="22"/>
                    </a:lnTo>
                    <a:lnTo>
                      <a:pt x="31" y="9"/>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7114680" y="3206520"/>
                <a:ext cx="183960" cy="84240"/>
              </a:xfrm>
              <a:custGeom>
                <a:avLst/>
                <a:gdLst/>
                <a:ahLst/>
                <a:rect l="l" t="t" r="r" b="b"/>
                <a:pathLst>
                  <a:path w="112" h="53">
                    <a:moveTo>
                      <a:pt x="0" y="44"/>
                    </a:moveTo>
                    <a:lnTo>
                      <a:pt x="10" y="35"/>
                    </a:lnTo>
                    <a:lnTo>
                      <a:pt x="17" y="24"/>
                    </a:lnTo>
                    <a:lnTo>
                      <a:pt x="32" y="0"/>
                    </a:lnTo>
                    <a:lnTo>
                      <a:pt x="81" y="0"/>
                    </a:lnTo>
                    <a:lnTo>
                      <a:pt x="112" y="53"/>
                    </a:lnTo>
                  </a:path>
                </a:pathLst>
              </a:custGeom>
              <a:solidFill>
                <a:srgbClr val="000080">
                  <a:alpha val="50000"/>
                </a:srgbClr>
              </a:solidFill>
              <a:ln w="0">
                <a:solidFill>
                  <a:srgbClr val="0000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00" name=""/>
              <p:cNvSpPr/>
              <p:nvPr/>
            </p:nvSpPr>
            <p:spPr>
              <a:xfrm>
                <a:off x="7114680" y="3206520"/>
                <a:ext cx="183960" cy="84240"/>
              </a:xfrm>
              <a:custGeom>
                <a:avLst/>
                <a:gdLst/>
                <a:ahLst/>
                <a:rect l="l" t="t" r="r" b="b"/>
                <a:pathLst>
                  <a:path w="112" h="53">
                    <a:moveTo>
                      <a:pt x="0" y="44"/>
                    </a:moveTo>
                    <a:lnTo>
                      <a:pt x="10" y="35"/>
                    </a:lnTo>
                    <a:lnTo>
                      <a:pt x="17" y="24"/>
                    </a:lnTo>
                    <a:lnTo>
                      <a:pt x="32" y="0"/>
                    </a:lnTo>
                    <a:lnTo>
                      <a:pt x="81" y="0"/>
                    </a:lnTo>
                    <a:lnTo>
                      <a:pt x="112" y="53"/>
                    </a:lnTo>
                  </a:path>
                </a:pathLst>
              </a:custGeom>
              <a:solidFill>
                <a:srgbClr val="000080">
                  <a:alpha val="50000"/>
                </a:srgbClr>
              </a:solidFill>
              <a:ln w="0">
                <a:solidFill>
                  <a:srgbClr val="0000ff"/>
                </a:solid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01" name=""/>
              <p:cNvSpPr/>
              <p:nvPr/>
            </p:nvSpPr>
            <p:spPr>
              <a:xfrm>
                <a:off x="5258160" y="3343320"/>
                <a:ext cx="215280" cy="108000"/>
              </a:xfrm>
              <a:custGeom>
                <a:avLst/>
                <a:gdLst/>
                <a:ahLst/>
                <a:rect l="l" t="t" r="r" b="b"/>
                <a:pathLst>
                  <a:path w="131" h="68">
                    <a:moveTo>
                      <a:pt x="0" y="17"/>
                    </a:moveTo>
                    <a:lnTo>
                      <a:pt x="19" y="6"/>
                    </a:lnTo>
                    <a:lnTo>
                      <a:pt x="39" y="0"/>
                    </a:lnTo>
                    <a:lnTo>
                      <a:pt x="63" y="26"/>
                    </a:lnTo>
                    <a:lnTo>
                      <a:pt x="88" y="30"/>
                    </a:lnTo>
                    <a:lnTo>
                      <a:pt x="110" y="35"/>
                    </a:lnTo>
                    <a:lnTo>
                      <a:pt x="131" y="6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5258160" y="3343320"/>
                <a:ext cx="215280" cy="108000"/>
              </a:xfrm>
              <a:custGeom>
                <a:avLst/>
                <a:gdLst/>
                <a:ahLst/>
                <a:rect l="l" t="t" r="r" b="b"/>
                <a:pathLst>
                  <a:path w="131" h="68">
                    <a:moveTo>
                      <a:pt x="0" y="17"/>
                    </a:moveTo>
                    <a:lnTo>
                      <a:pt x="19" y="6"/>
                    </a:lnTo>
                    <a:lnTo>
                      <a:pt x="39" y="0"/>
                    </a:lnTo>
                    <a:lnTo>
                      <a:pt x="63" y="26"/>
                    </a:lnTo>
                    <a:lnTo>
                      <a:pt x="88" y="30"/>
                    </a:lnTo>
                    <a:lnTo>
                      <a:pt x="110" y="35"/>
                    </a:lnTo>
                    <a:lnTo>
                      <a:pt x="131" y="6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3" name=""/>
              <p:cNvSpPr/>
              <p:nvPr/>
            </p:nvSpPr>
            <p:spPr>
              <a:xfrm>
                <a:off x="5361840" y="3171600"/>
                <a:ext cx="387720" cy="387360"/>
              </a:xfrm>
              <a:custGeom>
                <a:avLst/>
                <a:gdLst/>
                <a:ahLst/>
                <a:rect l="l" t="t" r="r" b="b"/>
                <a:pathLst>
                  <a:path w="236" h="244">
                    <a:moveTo>
                      <a:pt x="0" y="244"/>
                    </a:moveTo>
                    <a:lnTo>
                      <a:pt x="66" y="176"/>
                    </a:lnTo>
                    <a:lnTo>
                      <a:pt x="123" y="127"/>
                    </a:lnTo>
                    <a:lnTo>
                      <a:pt x="137" y="125"/>
                    </a:lnTo>
                    <a:lnTo>
                      <a:pt x="178" y="125"/>
                    </a:lnTo>
                    <a:lnTo>
                      <a:pt x="235" y="71"/>
                    </a:lnTo>
                    <a:lnTo>
                      <a:pt x="236"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4" name=""/>
              <p:cNvSpPr/>
              <p:nvPr/>
            </p:nvSpPr>
            <p:spPr>
              <a:xfrm>
                <a:off x="5361840" y="3171600"/>
                <a:ext cx="387720" cy="387360"/>
              </a:xfrm>
              <a:custGeom>
                <a:avLst/>
                <a:gdLst/>
                <a:ahLst/>
                <a:rect l="l" t="t" r="r" b="b"/>
                <a:pathLst>
                  <a:path w="236" h="244">
                    <a:moveTo>
                      <a:pt x="0" y="244"/>
                    </a:moveTo>
                    <a:lnTo>
                      <a:pt x="66" y="176"/>
                    </a:lnTo>
                    <a:lnTo>
                      <a:pt x="123" y="127"/>
                    </a:lnTo>
                    <a:lnTo>
                      <a:pt x="137" y="125"/>
                    </a:lnTo>
                    <a:lnTo>
                      <a:pt x="178" y="125"/>
                    </a:lnTo>
                    <a:lnTo>
                      <a:pt x="235" y="71"/>
                    </a:lnTo>
                    <a:lnTo>
                      <a:pt x="236"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5" name=""/>
              <p:cNvSpPr/>
              <p:nvPr/>
            </p:nvSpPr>
            <p:spPr>
              <a:xfrm>
                <a:off x="5654160" y="3370320"/>
                <a:ext cx="32760" cy="42840"/>
              </a:xfrm>
              <a:prstGeom prst="line">
                <a:avLst/>
              </a:prstGeom>
              <a:ln w="0">
                <a:solidFill>
                  <a:srgbClr val="0000ff"/>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06" name=""/>
              <p:cNvSpPr/>
              <p:nvPr/>
            </p:nvSpPr>
            <p:spPr>
              <a:xfrm>
                <a:off x="5654160" y="3370320"/>
                <a:ext cx="32760" cy="42840"/>
              </a:xfrm>
              <a:prstGeom prst="line">
                <a:avLst/>
              </a:prstGeom>
              <a:ln w="0">
                <a:solidFill>
                  <a:srgbClr val="0000ff"/>
                </a:solid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307" name=""/>
              <p:cNvSpPr/>
              <p:nvPr/>
            </p:nvSpPr>
            <p:spPr>
              <a:xfrm>
                <a:off x="7479360" y="3844800"/>
                <a:ext cx="269280" cy="154080"/>
              </a:xfrm>
              <a:custGeom>
                <a:avLst/>
                <a:gdLst/>
                <a:ahLst/>
                <a:rect l="l" t="t" r="r" b="b"/>
                <a:pathLst>
                  <a:path w="164" h="97">
                    <a:moveTo>
                      <a:pt x="164" y="0"/>
                    </a:moveTo>
                    <a:lnTo>
                      <a:pt x="94" y="36"/>
                    </a:lnTo>
                    <a:lnTo>
                      <a:pt x="92" y="88"/>
                    </a:lnTo>
                    <a:lnTo>
                      <a:pt x="10" y="97"/>
                    </a:lnTo>
                    <a:lnTo>
                      <a:pt x="0" y="8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8" name=""/>
              <p:cNvSpPr/>
              <p:nvPr/>
            </p:nvSpPr>
            <p:spPr>
              <a:xfrm>
                <a:off x="7479360" y="3844800"/>
                <a:ext cx="269280" cy="154080"/>
              </a:xfrm>
              <a:custGeom>
                <a:avLst/>
                <a:gdLst/>
                <a:ahLst/>
                <a:rect l="l" t="t" r="r" b="b"/>
                <a:pathLst>
                  <a:path w="164" h="97">
                    <a:moveTo>
                      <a:pt x="164" y="0"/>
                    </a:moveTo>
                    <a:lnTo>
                      <a:pt x="94" y="36"/>
                    </a:lnTo>
                    <a:lnTo>
                      <a:pt x="92" y="88"/>
                    </a:lnTo>
                    <a:lnTo>
                      <a:pt x="10" y="97"/>
                    </a:lnTo>
                    <a:lnTo>
                      <a:pt x="0" y="86"/>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9" name=""/>
              <p:cNvSpPr/>
              <p:nvPr/>
            </p:nvSpPr>
            <p:spPr>
              <a:xfrm>
                <a:off x="4254480" y="1677960"/>
                <a:ext cx="178920" cy="299880"/>
              </a:xfrm>
              <a:custGeom>
                <a:avLst/>
                <a:gdLst/>
                <a:ahLst/>
                <a:rect l="l" t="t" r="r" b="b"/>
                <a:pathLst>
                  <a:path w="109" h="189">
                    <a:moveTo>
                      <a:pt x="6" y="189"/>
                    </a:moveTo>
                    <a:lnTo>
                      <a:pt x="10" y="180"/>
                    </a:lnTo>
                    <a:lnTo>
                      <a:pt x="0" y="108"/>
                    </a:lnTo>
                    <a:lnTo>
                      <a:pt x="109"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a:off x="4254480" y="1677960"/>
                <a:ext cx="178920" cy="299880"/>
              </a:xfrm>
              <a:custGeom>
                <a:avLst/>
                <a:gdLst/>
                <a:ahLst/>
                <a:rect l="l" t="t" r="r" b="b"/>
                <a:pathLst>
                  <a:path w="109" h="189">
                    <a:moveTo>
                      <a:pt x="6" y="189"/>
                    </a:moveTo>
                    <a:lnTo>
                      <a:pt x="10" y="180"/>
                    </a:lnTo>
                    <a:lnTo>
                      <a:pt x="0" y="108"/>
                    </a:lnTo>
                    <a:lnTo>
                      <a:pt x="109"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1" name=""/>
              <p:cNvSpPr/>
              <p:nvPr/>
            </p:nvSpPr>
            <p:spPr>
              <a:xfrm>
                <a:off x="4686480" y="1736640"/>
                <a:ext cx="57240" cy="209520"/>
              </a:xfrm>
              <a:custGeom>
                <a:avLst/>
                <a:gdLst/>
                <a:ahLst/>
                <a:rect l="l" t="t" r="r" b="b"/>
                <a:pathLst>
                  <a:path w="35" h="132">
                    <a:moveTo>
                      <a:pt x="0" y="0"/>
                    </a:moveTo>
                    <a:lnTo>
                      <a:pt x="5" y="18"/>
                    </a:lnTo>
                    <a:lnTo>
                      <a:pt x="13" y="25"/>
                    </a:lnTo>
                    <a:lnTo>
                      <a:pt x="25" y="31"/>
                    </a:lnTo>
                    <a:lnTo>
                      <a:pt x="31" y="42"/>
                    </a:lnTo>
                    <a:lnTo>
                      <a:pt x="35" y="128"/>
                    </a:lnTo>
                    <a:lnTo>
                      <a:pt x="3" y="13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2" name=""/>
              <p:cNvSpPr/>
              <p:nvPr/>
            </p:nvSpPr>
            <p:spPr>
              <a:xfrm>
                <a:off x="4686480" y="1736640"/>
                <a:ext cx="57240" cy="209520"/>
              </a:xfrm>
              <a:custGeom>
                <a:avLst/>
                <a:gdLst/>
                <a:ahLst/>
                <a:rect l="l" t="t" r="r" b="b"/>
                <a:pathLst>
                  <a:path w="35" h="132">
                    <a:moveTo>
                      <a:pt x="0" y="0"/>
                    </a:moveTo>
                    <a:lnTo>
                      <a:pt x="5" y="18"/>
                    </a:lnTo>
                    <a:lnTo>
                      <a:pt x="13" y="25"/>
                    </a:lnTo>
                    <a:lnTo>
                      <a:pt x="25" y="31"/>
                    </a:lnTo>
                    <a:lnTo>
                      <a:pt x="31" y="42"/>
                    </a:lnTo>
                    <a:lnTo>
                      <a:pt x="35" y="128"/>
                    </a:lnTo>
                    <a:lnTo>
                      <a:pt x="3" y="132"/>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3" name=""/>
              <p:cNvSpPr/>
              <p:nvPr/>
            </p:nvSpPr>
            <p:spPr>
              <a:xfrm>
                <a:off x="4510800" y="1776240"/>
                <a:ext cx="70200" cy="174600"/>
              </a:xfrm>
              <a:custGeom>
                <a:avLst/>
                <a:gdLst/>
                <a:ahLst/>
                <a:rect l="l" t="t" r="r" b="b"/>
                <a:pathLst>
                  <a:path w="43" h="110">
                    <a:moveTo>
                      <a:pt x="19" y="110"/>
                    </a:moveTo>
                    <a:lnTo>
                      <a:pt x="13" y="94"/>
                    </a:lnTo>
                    <a:lnTo>
                      <a:pt x="0" y="64"/>
                    </a:lnTo>
                    <a:lnTo>
                      <a:pt x="6" y="53"/>
                    </a:lnTo>
                    <a:lnTo>
                      <a:pt x="43" y="17"/>
                    </a:lnTo>
                    <a:lnTo>
                      <a:pt x="21" y="15"/>
                    </a:lnTo>
                    <a:lnTo>
                      <a:pt x="6"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4" name=""/>
              <p:cNvSpPr/>
              <p:nvPr/>
            </p:nvSpPr>
            <p:spPr>
              <a:xfrm>
                <a:off x="4510800" y="1776240"/>
                <a:ext cx="70200" cy="174600"/>
              </a:xfrm>
              <a:custGeom>
                <a:avLst/>
                <a:gdLst/>
                <a:ahLst/>
                <a:rect l="l" t="t" r="r" b="b"/>
                <a:pathLst>
                  <a:path w="43" h="110">
                    <a:moveTo>
                      <a:pt x="19" y="110"/>
                    </a:moveTo>
                    <a:lnTo>
                      <a:pt x="13" y="94"/>
                    </a:lnTo>
                    <a:lnTo>
                      <a:pt x="0" y="64"/>
                    </a:lnTo>
                    <a:lnTo>
                      <a:pt x="6" y="53"/>
                    </a:lnTo>
                    <a:lnTo>
                      <a:pt x="43" y="17"/>
                    </a:lnTo>
                    <a:lnTo>
                      <a:pt x="21" y="15"/>
                    </a:lnTo>
                    <a:lnTo>
                      <a:pt x="6"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5" name=""/>
              <p:cNvSpPr/>
              <p:nvPr/>
            </p:nvSpPr>
            <p:spPr>
              <a:xfrm>
                <a:off x="7594200" y="2522520"/>
                <a:ext cx="111600" cy="125280"/>
              </a:xfrm>
              <a:custGeom>
                <a:avLst/>
                <a:gdLst/>
                <a:ahLst/>
                <a:rect l="l" t="t" r="r" b="b"/>
                <a:pathLst>
                  <a:path w="68" h="79">
                    <a:moveTo>
                      <a:pt x="0" y="79"/>
                    </a:moveTo>
                    <a:lnTo>
                      <a:pt x="33" y="18"/>
                    </a:lnTo>
                    <a:lnTo>
                      <a:pt x="68"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
              <p:cNvSpPr/>
              <p:nvPr/>
            </p:nvSpPr>
            <p:spPr>
              <a:xfrm>
                <a:off x="7594200" y="2522520"/>
                <a:ext cx="111600" cy="125280"/>
              </a:xfrm>
              <a:custGeom>
                <a:avLst/>
                <a:gdLst/>
                <a:ahLst/>
                <a:rect l="l" t="t" r="r" b="b"/>
                <a:pathLst>
                  <a:path w="68" h="79">
                    <a:moveTo>
                      <a:pt x="0" y="79"/>
                    </a:moveTo>
                    <a:lnTo>
                      <a:pt x="33" y="18"/>
                    </a:lnTo>
                    <a:lnTo>
                      <a:pt x="68"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7" name=""/>
              <p:cNvSpPr/>
              <p:nvPr/>
            </p:nvSpPr>
            <p:spPr>
              <a:xfrm flipV="1">
                <a:off x="5348520" y="3884040"/>
                <a:ext cx="1440" cy="1558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8" name=""/>
              <p:cNvSpPr/>
              <p:nvPr/>
            </p:nvSpPr>
            <p:spPr>
              <a:xfrm flipV="1">
                <a:off x="5348520" y="3884040"/>
                <a:ext cx="1440" cy="1558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9" name=""/>
              <p:cNvSpPr/>
              <p:nvPr/>
            </p:nvSpPr>
            <p:spPr>
              <a:xfrm flipH="1" flipV="1">
                <a:off x="5074200" y="4061880"/>
                <a:ext cx="175680" cy="87480"/>
              </a:xfrm>
              <a:prstGeom prst="line">
                <a:avLst/>
              </a:prstGeom>
              <a:ln w="0">
                <a:solidFill>
                  <a:srgbClr val="0000ff"/>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20" name=""/>
              <p:cNvSpPr/>
              <p:nvPr/>
            </p:nvSpPr>
            <p:spPr>
              <a:xfrm flipH="1" flipV="1">
                <a:off x="5074200" y="4061880"/>
                <a:ext cx="175680" cy="87480"/>
              </a:xfrm>
              <a:prstGeom prst="line">
                <a:avLst/>
              </a:prstGeom>
              <a:ln w="0">
                <a:solidFill>
                  <a:srgbClr val="0000ff"/>
                </a:solid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21" name=""/>
              <p:cNvSpPr/>
              <p:nvPr/>
            </p:nvSpPr>
            <p:spPr>
              <a:xfrm>
                <a:off x="4418640" y="2414520"/>
                <a:ext cx="37440" cy="41400"/>
              </a:xfrm>
              <a:prstGeom prst="line">
                <a:avLst/>
              </a:prstGeom>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322" name=""/>
              <p:cNvSpPr/>
              <p:nvPr/>
            </p:nvSpPr>
            <p:spPr>
              <a:xfrm>
                <a:off x="4418640" y="2414520"/>
                <a:ext cx="37440" cy="41400"/>
              </a:xfrm>
              <a:prstGeom prst="line">
                <a:avLst/>
              </a:prstGeom>
              <a:ln w="0">
                <a:solidFill>
                  <a:srgbClr val="0000ff"/>
                </a:solid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Times New Roman"/>
                </a:endParaRPr>
              </a:p>
            </p:txBody>
          </p:sp>
          <p:sp>
            <p:nvSpPr>
              <p:cNvPr id="1323" name=""/>
              <p:cNvSpPr/>
              <p:nvPr/>
            </p:nvSpPr>
            <p:spPr>
              <a:xfrm>
                <a:off x="4456440" y="2455920"/>
                <a:ext cx="54360" cy="39600"/>
              </a:xfrm>
              <a:prstGeom prst="line">
                <a:avLst/>
              </a:prstGeom>
              <a:ln w="0">
                <a:solidFill>
                  <a:srgbClr val="0000ff"/>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24" name=""/>
              <p:cNvSpPr/>
              <p:nvPr/>
            </p:nvSpPr>
            <p:spPr>
              <a:xfrm>
                <a:off x="4456440" y="2455920"/>
                <a:ext cx="54360" cy="39600"/>
              </a:xfrm>
              <a:prstGeom prst="line">
                <a:avLst/>
              </a:prstGeom>
              <a:ln w="0">
                <a:solidFill>
                  <a:srgbClr val="0000ff"/>
                </a:solid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25" name=""/>
              <p:cNvSpPr/>
              <p:nvPr/>
            </p:nvSpPr>
            <p:spPr>
              <a:xfrm flipH="1">
                <a:off x="8438400" y="4132080"/>
                <a:ext cx="21600" cy="2224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6" name=""/>
              <p:cNvSpPr/>
              <p:nvPr/>
            </p:nvSpPr>
            <p:spPr>
              <a:xfrm flipH="1">
                <a:off x="8438400" y="4132080"/>
                <a:ext cx="21600" cy="222480"/>
              </a:xfrm>
              <a:prstGeom prst="line">
                <a:avLst/>
              </a:prstGeom>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7" name=""/>
              <p:cNvSpPr/>
              <p:nvPr/>
            </p:nvSpPr>
            <p:spPr>
              <a:xfrm>
                <a:off x="4528800" y="2477880"/>
                <a:ext cx="100080" cy="30240"/>
              </a:xfrm>
              <a:custGeom>
                <a:avLst/>
                <a:gdLst/>
                <a:ahLst/>
                <a:rect l="l" t="t" r="r" b="b"/>
                <a:pathLst>
                  <a:path w="61" h="19">
                    <a:moveTo>
                      <a:pt x="39" y="19"/>
                    </a:moveTo>
                    <a:lnTo>
                      <a:pt x="59" y="15"/>
                    </a:lnTo>
                    <a:lnTo>
                      <a:pt x="61" y="6"/>
                    </a:lnTo>
                    <a:lnTo>
                      <a:pt x="57" y="2"/>
                    </a:lnTo>
                    <a:lnTo>
                      <a:pt x="48" y="2"/>
                    </a:lnTo>
                    <a:lnTo>
                      <a:pt x="4" y="0"/>
                    </a:lnTo>
                    <a:lnTo>
                      <a:pt x="0" y="8"/>
                    </a:lnTo>
                  </a:path>
                </a:pathLst>
              </a:custGeom>
              <a:solidFill>
                <a:srgbClr val="000080">
                  <a:alpha val="50000"/>
                </a:srgbClr>
              </a:solidFill>
              <a:ln w="0">
                <a:solidFill>
                  <a:srgbClr val="0000ff"/>
                </a:solid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328" name=""/>
              <p:cNvSpPr/>
              <p:nvPr/>
            </p:nvSpPr>
            <p:spPr>
              <a:xfrm>
                <a:off x="4528800" y="2477880"/>
                <a:ext cx="100080" cy="30240"/>
              </a:xfrm>
              <a:custGeom>
                <a:avLst/>
                <a:gdLst/>
                <a:ahLst/>
                <a:rect l="l" t="t" r="r" b="b"/>
                <a:pathLst>
                  <a:path w="61" h="19">
                    <a:moveTo>
                      <a:pt x="39" y="19"/>
                    </a:moveTo>
                    <a:lnTo>
                      <a:pt x="59" y="15"/>
                    </a:lnTo>
                    <a:lnTo>
                      <a:pt x="61" y="6"/>
                    </a:lnTo>
                    <a:lnTo>
                      <a:pt x="57" y="2"/>
                    </a:lnTo>
                    <a:lnTo>
                      <a:pt x="48" y="2"/>
                    </a:lnTo>
                    <a:lnTo>
                      <a:pt x="4" y="0"/>
                    </a:lnTo>
                    <a:lnTo>
                      <a:pt x="0" y="8"/>
                    </a:lnTo>
                  </a:path>
                </a:pathLst>
              </a:custGeom>
              <a:solidFill>
                <a:srgbClr val="000080">
                  <a:alpha val="50000"/>
                </a:srgbClr>
              </a:solidFill>
              <a:ln w="0">
                <a:solidFill>
                  <a:srgbClr val="0000ff"/>
                </a:solid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329" name=""/>
              <p:cNvSpPr/>
              <p:nvPr/>
            </p:nvSpPr>
            <p:spPr>
              <a:xfrm flipH="1">
                <a:off x="4495680" y="2495520"/>
                <a:ext cx="14760" cy="44280"/>
              </a:xfrm>
              <a:prstGeom prst="line">
                <a:avLst/>
              </a:prstGeom>
              <a:ln w="0">
                <a:solidFill>
                  <a:srgbClr val="0000ff"/>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330" name=""/>
              <p:cNvSpPr/>
              <p:nvPr/>
            </p:nvSpPr>
            <p:spPr>
              <a:xfrm flipH="1">
                <a:off x="4495680" y="2495520"/>
                <a:ext cx="14760" cy="44280"/>
              </a:xfrm>
              <a:prstGeom prst="line">
                <a:avLst/>
              </a:prstGeom>
              <a:ln w="0">
                <a:solidFill>
                  <a:srgbClr val="0000ff"/>
                </a:solid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331" name=""/>
              <p:cNvSpPr/>
              <p:nvPr/>
            </p:nvSpPr>
            <p:spPr>
              <a:xfrm>
                <a:off x="1982160" y="1785960"/>
                <a:ext cx="136080" cy="112680"/>
              </a:xfrm>
              <a:custGeom>
                <a:avLst/>
                <a:gdLst/>
                <a:ahLst/>
                <a:rect l="l" t="t" r="r" b="b"/>
                <a:pathLst>
                  <a:path w="83" h="71">
                    <a:moveTo>
                      <a:pt x="46" y="0"/>
                    </a:moveTo>
                    <a:lnTo>
                      <a:pt x="83" y="31"/>
                    </a:lnTo>
                    <a:lnTo>
                      <a:pt x="20" y="71"/>
                    </a:lnTo>
                    <a:lnTo>
                      <a:pt x="0" y="29"/>
                    </a:lnTo>
                    <a:lnTo>
                      <a:pt x="46"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2" name=""/>
              <p:cNvSpPr/>
              <p:nvPr/>
            </p:nvSpPr>
            <p:spPr>
              <a:xfrm>
                <a:off x="1982160" y="1785960"/>
                <a:ext cx="136080" cy="112680"/>
              </a:xfrm>
              <a:custGeom>
                <a:avLst/>
                <a:gdLst/>
                <a:ahLst/>
                <a:rect l="l" t="t" r="r" b="b"/>
                <a:pathLst>
                  <a:path w="83" h="71">
                    <a:moveTo>
                      <a:pt x="46" y="0"/>
                    </a:moveTo>
                    <a:lnTo>
                      <a:pt x="83" y="31"/>
                    </a:lnTo>
                    <a:lnTo>
                      <a:pt x="20" y="71"/>
                    </a:lnTo>
                    <a:lnTo>
                      <a:pt x="0" y="29"/>
                    </a:lnTo>
                    <a:lnTo>
                      <a:pt x="46"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1205280" y="3373200"/>
                <a:ext cx="155880" cy="88920"/>
              </a:xfrm>
              <a:custGeom>
                <a:avLst/>
                <a:gdLst/>
                <a:ahLst/>
                <a:rect l="l" t="t" r="r" b="b"/>
                <a:pathLst>
                  <a:path w="95" h="56">
                    <a:moveTo>
                      <a:pt x="95" y="0"/>
                    </a:moveTo>
                    <a:lnTo>
                      <a:pt x="35" y="3"/>
                    </a:lnTo>
                    <a:lnTo>
                      <a:pt x="37" y="36"/>
                    </a:lnTo>
                    <a:lnTo>
                      <a:pt x="18" y="36"/>
                    </a:lnTo>
                    <a:lnTo>
                      <a:pt x="0" y="56"/>
                    </a:lnTo>
                  </a:path>
                </a:pathLst>
              </a:custGeom>
              <a:solidFill>
                <a:srgbClr val="000080">
                  <a:alpha val="50000"/>
                </a:srgbClr>
              </a:solidFill>
              <a:ln w="0">
                <a:solidFill>
                  <a:srgbClr val="0000ff"/>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334" name=""/>
              <p:cNvSpPr/>
              <p:nvPr/>
            </p:nvSpPr>
            <p:spPr>
              <a:xfrm>
                <a:off x="1205280" y="3373200"/>
                <a:ext cx="155880" cy="88920"/>
              </a:xfrm>
              <a:custGeom>
                <a:avLst/>
                <a:gdLst/>
                <a:ahLst/>
                <a:rect l="l" t="t" r="r" b="b"/>
                <a:pathLst>
                  <a:path w="95" h="56">
                    <a:moveTo>
                      <a:pt x="95" y="0"/>
                    </a:moveTo>
                    <a:lnTo>
                      <a:pt x="35" y="3"/>
                    </a:lnTo>
                    <a:lnTo>
                      <a:pt x="37" y="36"/>
                    </a:lnTo>
                    <a:lnTo>
                      <a:pt x="18" y="36"/>
                    </a:lnTo>
                    <a:lnTo>
                      <a:pt x="0" y="56"/>
                    </a:lnTo>
                  </a:path>
                </a:pathLst>
              </a:custGeom>
              <a:solidFill>
                <a:srgbClr val="000080">
                  <a:alpha val="50000"/>
                </a:srgbClr>
              </a:solidFill>
              <a:ln w="0">
                <a:solidFill>
                  <a:srgbClr val="0000ff"/>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335" name=""/>
              <p:cNvSpPr/>
              <p:nvPr/>
            </p:nvSpPr>
            <p:spPr>
              <a:xfrm flipV="1">
                <a:off x="1650240" y="3677760"/>
                <a:ext cx="18000" cy="27000"/>
              </a:xfrm>
              <a:prstGeom prst="line">
                <a:avLst/>
              </a:prstGeom>
              <a:ln w="0">
                <a:solidFill>
                  <a:srgbClr val="0000f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36" name=""/>
              <p:cNvSpPr/>
              <p:nvPr/>
            </p:nvSpPr>
            <p:spPr>
              <a:xfrm flipV="1">
                <a:off x="1650240" y="3677760"/>
                <a:ext cx="18000" cy="27000"/>
              </a:xfrm>
              <a:prstGeom prst="line">
                <a:avLst/>
              </a:prstGeom>
              <a:ln w="0">
                <a:solidFill>
                  <a:srgbClr val="0000ff"/>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337" name=""/>
              <p:cNvSpPr/>
              <p:nvPr/>
            </p:nvSpPr>
            <p:spPr>
              <a:xfrm>
                <a:off x="1811520" y="3566880"/>
                <a:ext cx="162360" cy="362160"/>
              </a:xfrm>
              <a:custGeom>
                <a:avLst/>
                <a:gdLst/>
                <a:ahLst/>
                <a:rect l="l" t="t" r="r" b="b"/>
                <a:pathLst>
                  <a:path w="99" h="228">
                    <a:moveTo>
                      <a:pt x="14" y="0"/>
                    </a:moveTo>
                    <a:lnTo>
                      <a:pt x="0" y="88"/>
                    </a:lnTo>
                    <a:lnTo>
                      <a:pt x="99" y="127"/>
                    </a:lnTo>
                    <a:lnTo>
                      <a:pt x="88" y="22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38" name=""/>
            <p:cNvSpPr/>
            <p:nvPr/>
          </p:nvSpPr>
          <p:spPr>
            <a:xfrm>
              <a:off x="1811880" y="3566880"/>
              <a:ext cx="162360" cy="362160"/>
            </a:xfrm>
            <a:custGeom>
              <a:avLst/>
              <a:gdLst/>
              <a:ahLst/>
              <a:rect l="l" t="t" r="r" b="b"/>
              <a:pathLst>
                <a:path w="99" h="228">
                  <a:moveTo>
                    <a:pt x="14" y="0"/>
                  </a:moveTo>
                  <a:lnTo>
                    <a:pt x="0" y="88"/>
                  </a:lnTo>
                  <a:lnTo>
                    <a:pt x="99" y="127"/>
                  </a:lnTo>
                  <a:lnTo>
                    <a:pt x="88" y="22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9" name=""/>
            <p:cNvSpPr/>
            <p:nvPr/>
          </p:nvSpPr>
          <p:spPr>
            <a:xfrm>
              <a:off x="605880" y="2813040"/>
              <a:ext cx="498960" cy="264960"/>
            </a:xfrm>
            <a:custGeom>
              <a:avLst/>
              <a:gdLst/>
              <a:ahLst/>
              <a:rect l="l" t="t" r="r" b="b"/>
              <a:pathLst>
                <a:path w="304" h="167">
                  <a:moveTo>
                    <a:pt x="304" y="167"/>
                  </a:moveTo>
                  <a:lnTo>
                    <a:pt x="225" y="79"/>
                  </a:lnTo>
                  <a:lnTo>
                    <a:pt x="218" y="103"/>
                  </a:lnTo>
                  <a:lnTo>
                    <a:pt x="211" y="103"/>
                  </a:lnTo>
                  <a:lnTo>
                    <a:pt x="200" y="94"/>
                  </a:lnTo>
                  <a:lnTo>
                    <a:pt x="200" y="66"/>
                  </a:lnTo>
                  <a:lnTo>
                    <a:pt x="150" y="46"/>
                  </a:lnTo>
                  <a:lnTo>
                    <a:pt x="143" y="66"/>
                  </a:lnTo>
                  <a:lnTo>
                    <a:pt x="119" y="63"/>
                  </a:lnTo>
                  <a:lnTo>
                    <a:pt x="79" y="33"/>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0" name=""/>
            <p:cNvSpPr/>
            <p:nvPr/>
          </p:nvSpPr>
          <p:spPr>
            <a:xfrm>
              <a:off x="605880" y="2813040"/>
              <a:ext cx="498960" cy="264960"/>
            </a:xfrm>
            <a:custGeom>
              <a:avLst/>
              <a:gdLst/>
              <a:ahLst/>
              <a:rect l="l" t="t" r="r" b="b"/>
              <a:pathLst>
                <a:path w="304" h="167">
                  <a:moveTo>
                    <a:pt x="304" y="167"/>
                  </a:moveTo>
                  <a:lnTo>
                    <a:pt x="225" y="79"/>
                  </a:lnTo>
                  <a:lnTo>
                    <a:pt x="218" y="103"/>
                  </a:lnTo>
                  <a:lnTo>
                    <a:pt x="211" y="103"/>
                  </a:lnTo>
                  <a:lnTo>
                    <a:pt x="200" y="94"/>
                  </a:lnTo>
                  <a:lnTo>
                    <a:pt x="200" y="66"/>
                  </a:lnTo>
                  <a:lnTo>
                    <a:pt x="150" y="46"/>
                  </a:lnTo>
                  <a:lnTo>
                    <a:pt x="143" y="66"/>
                  </a:lnTo>
                  <a:lnTo>
                    <a:pt x="119" y="63"/>
                  </a:lnTo>
                  <a:lnTo>
                    <a:pt x="79" y="33"/>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1" name=""/>
            <p:cNvSpPr/>
            <p:nvPr/>
          </p:nvSpPr>
          <p:spPr>
            <a:xfrm>
              <a:off x="1519560" y="3566880"/>
              <a:ext cx="1437120" cy="2292480"/>
            </a:xfrm>
            <a:custGeom>
              <a:avLst/>
              <a:gdLst/>
              <a:ahLst/>
              <a:rect l="l" t="t" r="r" b="b"/>
              <a:pathLst>
                <a:path w="875" h="1444">
                  <a:moveTo>
                    <a:pt x="91" y="70"/>
                  </a:moveTo>
                  <a:lnTo>
                    <a:pt x="99" y="61"/>
                  </a:lnTo>
                  <a:lnTo>
                    <a:pt x="189" y="0"/>
                  </a:lnTo>
                  <a:lnTo>
                    <a:pt x="374" y="32"/>
                  </a:lnTo>
                  <a:lnTo>
                    <a:pt x="478" y="142"/>
                  </a:lnTo>
                  <a:lnTo>
                    <a:pt x="513" y="151"/>
                  </a:lnTo>
                  <a:lnTo>
                    <a:pt x="556" y="158"/>
                  </a:lnTo>
                  <a:lnTo>
                    <a:pt x="570" y="210"/>
                  </a:lnTo>
                  <a:lnTo>
                    <a:pt x="578" y="228"/>
                  </a:lnTo>
                  <a:lnTo>
                    <a:pt x="587" y="259"/>
                  </a:lnTo>
                  <a:lnTo>
                    <a:pt x="702" y="332"/>
                  </a:lnTo>
                  <a:lnTo>
                    <a:pt x="754" y="323"/>
                  </a:lnTo>
                  <a:lnTo>
                    <a:pt x="871" y="386"/>
                  </a:lnTo>
                  <a:lnTo>
                    <a:pt x="875" y="466"/>
                  </a:lnTo>
                  <a:lnTo>
                    <a:pt x="814" y="558"/>
                  </a:lnTo>
                  <a:lnTo>
                    <a:pt x="818" y="617"/>
                  </a:lnTo>
                  <a:lnTo>
                    <a:pt x="801" y="661"/>
                  </a:lnTo>
                  <a:lnTo>
                    <a:pt x="761" y="769"/>
                  </a:lnTo>
                  <a:lnTo>
                    <a:pt x="642" y="813"/>
                  </a:lnTo>
                  <a:lnTo>
                    <a:pt x="656" y="888"/>
                  </a:lnTo>
                  <a:lnTo>
                    <a:pt x="601" y="960"/>
                  </a:lnTo>
                  <a:lnTo>
                    <a:pt x="556" y="1019"/>
                  </a:lnTo>
                  <a:lnTo>
                    <a:pt x="517" y="1013"/>
                  </a:lnTo>
                  <a:lnTo>
                    <a:pt x="528" y="1037"/>
                  </a:lnTo>
                  <a:lnTo>
                    <a:pt x="534" y="1061"/>
                  </a:lnTo>
                  <a:lnTo>
                    <a:pt x="517" y="1085"/>
                  </a:lnTo>
                  <a:lnTo>
                    <a:pt x="510" y="1092"/>
                  </a:lnTo>
                  <a:lnTo>
                    <a:pt x="478" y="1119"/>
                  </a:lnTo>
                  <a:lnTo>
                    <a:pt x="440" y="1147"/>
                  </a:lnTo>
                  <a:lnTo>
                    <a:pt x="427" y="1391"/>
                  </a:lnTo>
                  <a:lnTo>
                    <a:pt x="462" y="1409"/>
                  </a:lnTo>
                  <a:lnTo>
                    <a:pt x="497" y="1431"/>
                  </a:lnTo>
                  <a:lnTo>
                    <a:pt x="456" y="1444"/>
                  </a:lnTo>
                  <a:lnTo>
                    <a:pt x="381" y="1435"/>
                  </a:lnTo>
                  <a:lnTo>
                    <a:pt x="308" y="1358"/>
                  </a:lnTo>
                  <a:lnTo>
                    <a:pt x="256" y="1169"/>
                  </a:lnTo>
                  <a:lnTo>
                    <a:pt x="249" y="1085"/>
                  </a:lnTo>
                  <a:lnTo>
                    <a:pt x="222" y="661"/>
                  </a:lnTo>
                  <a:lnTo>
                    <a:pt x="222" y="655"/>
                  </a:lnTo>
                  <a:lnTo>
                    <a:pt x="211" y="630"/>
                  </a:lnTo>
                  <a:lnTo>
                    <a:pt x="134" y="602"/>
                  </a:lnTo>
                  <a:lnTo>
                    <a:pt x="95" y="525"/>
                  </a:lnTo>
                  <a:lnTo>
                    <a:pt x="58" y="474"/>
                  </a:lnTo>
                  <a:lnTo>
                    <a:pt x="20" y="428"/>
                  </a:lnTo>
                  <a:lnTo>
                    <a:pt x="11" y="417"/>
                  </a:lnTo>
                  <a:lnTo>
                    <a:pt x="0" y="408"/>
                  </a:lnTo>
                  <a:lnTo>
                    <a:pt x="11" y="316"/>
                  </a:lnTo>
                  <a:lnTo>
                    <a:pt x="7" y="272"/>
                  </a:lnTo>
                  <a:lnTo>
                    <a:pt x="53" y="228"/>
                  </a:lnTo>
                  <a:lnTo>
                    <a:pt x="66" y="217"/>
                  </a:lnTo>
                  <a:lnTo>
                    <a:pt x="80" y="8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1519560" y="3566880"/>
              <a:ext cx="1437120" cy="2292480"/>
            </a:xfrm>
            <a:custGeom>
              <a:avLst/>
              <a:gdLst/>
              <a:ahLst/>
              <a:rect l="l" t="t" r="r" b="b"/>
              <a:pathLst>
                <a:path w="875" h="1444">
                  <a:moveTo>
                    <a:pt x="91" y="70"/>
                  </a:moveTo>
                  <a:lnTo>
                    <a:pt x="99" y="61"/>
                  </a:lnTo>
                  <a:lnTo>
                    <a:pt x="189" y="0"/>
                  </a:lnTo>
                  <a:lnTo>
                    <a:pt x="374" y="32"/>
                  </a:lnTo>
                  <a:lnTo>
                    <a:pt x="478" y="142"/>
                  </a:lnTo>
                  <a:lnTo>
                    <a:pt x="513" y="151"/>
                  </a:lnTo>
                  <a:lnTo>
                    <a:pt x="556" y="158"/>
                  </a:lnTo>
                  <a:lnTo>
                    <a:pt x="570" y="210"/>
                  </a:lnTo>
                  <a:lnTo>
                    <a:pt x="578" y="228"/>
                  </a:lnTo>
                  <a:lnTo>
                    <a:pt x="587" y="259"/>
                  </a:lnTo>
                  <a:lnTo>
                    <a:pt x="702" y="332"/>
                  </a:lnTo>
                  <a:lnTo>
                    <a:pt x="754" y="323"/>
                  </a:lnTo>
                  <a:lnTo>
                    <a:pt x="871" y="386"/>
                  </a:lnTo>
                  <a:lnTo>
                    <a:pt x="875" y="466"/>
                  </a:lnTo>
                  <a:lnTo>
                    <a:pt x="814" y="558"/>
                  </a:lnTo>
                  <a:lnTo>
                    <a:pt x="818" y="617"/>
                  </a:lnTo>
                  <a:lnTo>
                    <a:pt x="801" y="661"/>
                  </a:lnTo>
                  <a:lnTo>
                    <a:pt x="761" y="769"/>
                  </a:lnTo>
                  <a:lnTo>
                    <a:pt x="642" y="813"/>
                  </a:lnTo>
                  <a:lnTo>
                    <a:pt x="656" y="888"/>
                  </a:lnTo>
                  <a:lnTo>
                    <a:pt x="601" y="960"/>
                  </a:lnTo>
                  <a:lnTo>
                    <a:pt x="556" y="1019"/>
                  </a:lnTo>
                  <a:lnTo>
                    <a:pt x="517" y="1013"/>
                  </a:lnTo>
                  <a:lnTo>
                    <a:pt x="528" y="1037"/>
                  </a:lnTo>
                  <a:lnTo>
                    <a:pt x="534" y="1061"/>
                  </a:lnTo>
                  <a:lnTo>
                    <a:pt x="517" y="1085"/>
                  </a:lnTo>
                  <a:lnTo>
                    <a:pt x="510" y="1092"/>
                  </a:lnTo>
                  <a:lnTo>
                    <a:pt x="478" y="1119"/>
                  </a:lnTo>
                  <a:lnTo>
                    <a:pt x="440" y="1147"/>
                  </a:lnTo>
                  <a:lnTo>
                    <a:pt x="427" y="1391"/>
                  </a:lnTo>
                  <a:lnTo>
                    <a:pt x="462" y="1409"/>
                  </a:lnTo>
                  <a:lnTo>
                    <a:pt x="497" y="1431"/>
                  </a:lnTo>
                  <a:lnTo>
                    <a:pt x="456" y="1444"/>
                  </a:lnTo>
                  <a:lnTo>
                    <a:pt x="381" y="1435"/>
                  </a:lnTo>
                  <a:lnTo>
                    <a:pt x="308" y="1358"/>
                  </a:lnTo>
                  <a:lnTo>
                    <a:pt x="256" y="1169"/>
                  </a:lnTo>
                  <a:lnTo>
                    <a:pt x="249" y="1085"/>
                  </a:lnTo>
                  <a:lnTo>
                    <a:pt x="222" y="661"/>
                  </a:lnTo>
                  <a:lnTo>
                    <a:pt x="222" y="655"/>
                  </a:lnTo>
                  <a:lnTo>
                    <a:pt x="211" y="630"/>
                  </a:lnTo>
                  <a:lnTo>
                    <a:pt x="134" y="602"/>
                  </a:lnTo>
                  <a:lnTo>
                    <a:pt x="95" y="525"/>
                  </a:lnTo>
                  <a:lnTo>
                    <a:pt x="58" y="474"/>
                  </a:lnTo>
                  <a:lnTo>
                    <a:pt x="20" y="428"/>
                  </a:lnTo>
                  <a:lnTo>
                    <a:pt x="11" y="417"/>
                  </a:lnTo>
                  <a:lnTo>
                    <a:pt x="0" y="408"/>
                  </a:lnTo>
                  <a:lnTo>
                    <a:pt x="11" y="316"/>
                  </a:lnTo>
                  <a:lnTo>
                    <a:pt x="7" y="272"/>
                  </a:lnTo>
                  <a:lnTo>
                    <a:pt x="53" y="228"/>
                  </a:lnTo>
                  <a:lnTo>
                    <a:pt x="66" y="217"/>
                  </a:lnTo>
                  <a:lnTo>
                    <a:pt x="80" y="8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3" name=""/>
            <p:cNvSpPr/>
            <p:nvPr/>
          </p:nvSpPr>
          <p:spPr>
            <a:xfrm>
              <a:off x="1105200" y="1357200"/>
              <a:ext cx="2661480" cy="2320920"/>
            </a:xfrm>
            <a:custGeom>
              <a:avLst/>
              <a:gdLst/>
              <a:ahLst/>
              <a:rect l="l" t="t" r="r" b="b"/>
              <a:pathLst>
                <a:path w="1620" h="1462">
                  <a:moveTo>
                    <a:pt x="342" y="1462"/>
                  </a:moveTo>
                  <a:lnTo>
                    <a:pt x="303" y="1440"/>
                  </a:lnTo>
                  <a:lnTo>
                    <a:pt x="277" y="1453"/>
                  </a:lnTo>
                  <a:lnTo>
                    <a:pt x="263" y="1453"/>
                  </a:lnTo>
                  <a:lnTo>
                    <a:pt x="248" y="1444"/>
                  </a:lnTo>
                  <a:lnTo>
                    <a:pt x="241" y="1435"/>
                  </a:lnTo>
                  <a:lnTo>
                    <a:pt x="228" y="1427"/>
                  </a:lnTo>
                  <a:lnTo>
                    <a:pt x="228" y="1301"/>
                  </a:lnTo>
                  <a:lnTo>
                    <a:pt x="147" y="1304"/>
                  </a:lnTo>
                  <a:lnTo>
                    <a:pt x="153" y="1264"/>
                  </a:lnTo>
                  <a:lnTo>
                    <a:pt x="169" y="1200"/>
                  </a:lnTo>
                  <a:lnTo>
                    <a:pt x="180" y="1161"/>
                  </a:lnTo>
                  <a:lnTo>
                    <a:pt x="116" y="1165"/>
                  </a:lnTo>
                  <a:lnTo>
                    <a:pt x="110" y="1200"/>
                  </a:lnTo>
                  <a:lnTo>
                    <a:pt x="101" y="1225"/>
                  </a:lnTo>
                  <a:lnTo>
                    <a:pt x="83" y="1244"/>
                  </a:lnTo>
                  <a:lnTo>
                    <a:pt x="50" y="1251"/>
                  </a:lnTo>
                  <a:lnTo>
                    <a:pt x="19" y="1238"/>
                  </a:lnTo>
                  <a:lnTo>
                    <a:pt x="2" y="1209"/>
                  </a:lnTo>
                  <a:lnTo>
                    <a:pt x="2" y="1200"/>
                  </a:lnTo>
                  <a:lnTo>
                    <a:pt x="0" y="1086"/>
                  </a:lnTo>
                  <a:lnTo>
                    <a:pt x="52" y="1022"/>
                  </a:lnTo>
                  <a:lnTo>
                    <a:pt x="171" y="1024"/>
                  </a:lnTo>
                  <a:lnTo>
                    <a:pt x="169" y="1011"/>
                  </a:lnTo>
                  <a:lnTo>
                    <a:pt x="160" y="998"/>
                  </a:lnTo>
                  <a:lnTo>
                    <a:pt x="228" y="998"/>
                  </a:lnTo>
                  <a:lnTo>
                    <a:pt x="261" y="1000"/>
                  </a:lnTo>
                  <a:lnTo>
                    <a:pt x="272" y="987"/>
                  </a:lnTo>
                  <a:lnTo>
                    <a:pt x="303" y="1099"/>
                  </a:lnTo>
                  <a:lnTo>
                    <a:pt x="332" y="1092"/>
                  </a:lnTo>
                  <a:lnTo>
                    <a:pt x="323" y="958"/>
                  </a:lnTo>
                  <a:lnTo>
                    <a:pt x="452" y="895"/>
                  </a:lnTo>
                  <a:lnTo>
                    <a:pt x="455" y="842"/>
                  </a:lnTo>
                  <a:lnTo>
                    <a:pt x="543" y="763"/>
                  </a:lnTo>
                  <a:lnTo>
                    <a:pt x="622" y="692"/>
                  </a:lnTo>
                  <a:lnTo>
                    <a:pt x="661" y="684"/>
                  </a:lnTo>
                  <a:lnTo>
                    <a:pt x="789" y="668"/>
                  </a:lnTo>
                  <a:lnTo>
                    <a:pt x="708" y="572"/>
                  </a:lnTo>
                  <a:lnTo>
                    <a:pt x="804" y="572"/>
                  </a:lnTo>
                  <a:lnTo>
                    <a:pt x="806" y="637"/>
                  </a:lnTo>
                  <a:lnTo>
                    <a:pt x="908" y="646"/>
                  </a:lnTo>
                  <a:lnTo>
                    <a:pt x="881" y="561"/>
                  </a:lnTo>
                  <a:lnTo>
                    <a:pt x="896" y="494"/>
                  </a:lnTo>
                  <a:lnTo>
                    <a:pt x="835" y="464"/>
                  </a:lnTo>
                  <a:lnTo>
                    <a:pt x="800" y="347"/>
                  </a:lnTo>
                  <a:lnTo>
                    <a:pt x="769" y="376"/>
                  </a:lnTo>
                  <a:lnTo>
                    <a:pt x="743" y="394"/>
                  </a:lnTo>
                  <a:lnTo>
                    <a:pt x="743" y="363"/>
                  </a:lnTo>
                  <a:lnTo>
                    <a:pt x="718" y="338"/>
                  </a:lnTo>
                  <a:lnTo>
                    <a:pt x="705" y="325"/>
                  </a:lnTo>
                  <a:lnTo>
                    <a:pt x="661" y="316"/>
                  </a:lnTo>
                  <a:lnTo>
                    <a:pt x="661" y="281"/>
                  </a:lnTo>
                  <a:lnTo>
                    <a:pt x="639" y="338"/>
                  </a:lnTo>
                  <a:lnTo>
                    <a:pt x="523" y="538"/>
                  </a:lnTo>
                  <a:lnTo>
                    <a:pt x="481" y="538"/>
                  </a:lnTo>
                  <a:lnTo>
                    <a:pt x="481" y="473"/>
                  </a:lnTo>
                  <a:lnTo>
                    <a:pt x="349" y="367"/>
                  </a:lnTo>
                  <a:lnTo>
                    <a:pt x="419" y="338"/>
                  </a:lnTo>
                  <a:lnTo>
                    <a:pt x="527" y="288"/>
                  </a:lnTo>
                  <a:lnTo>
                    <a:pt x="578" y="264"/>
                  </a:lnTo>
                  <a:lnTo>
                    <a:pt x="639" y="240"/>
                  </a:lnTo>
                  <a:lnTo>
                    <a:pt x="653" y="228"/>
                  </a:lnTo>
                  <a:lnTo>
                    <a:pt x="653" y="202"/>
                  </a:lnTo>
                  <a:lnTo>
                    <a:pt x="670" y="178"/>
                  </a:lnTo>
                  <a:lnTo>
                    <a:pt x="740" y="196"/>
                  </a:lnTo>
                  <a:lnTo>
                    <a:pt x="740" y="257"/>
                  </a:lnTo>
                  <a:lnTo>
                    <a:pt x="705" y="272"/>
                  </a:lnTo>
                  <a:lnTo>
                    <a:pt x="681" y="279"/>
                  </a:lnTo>
                  <a:lnTo>
                    <a:pt x="705" y="279"/>
                  </a:lnTo>
                  <a:lnTo>
                    <a:pt x="723" y="297"/>
                  </a:lnTo>
                  <a:lnTo>
                    <a:pt x="743" y="316"/>
                  </a:lnTo>
                  <a:lnTo>
                    <a:pt x="767" y="332"/>
                  </a:lnTo>
                  <a:lnTo>
                    <a:pt x="773" y="338"/>
                  </a:lnTo>
                  <a:lnTo>
                    <a:pt x="789" y="345"/>
                  </a:lnTo>
                  <a:lnTo>
                    <a:pt x="800" y="347"/>
                  </a:lnTo>
                  <a:lnTo>
                    <a:pt x="811" y="338"/>
                  </a:lnTo>
                  <a:lnTo>
                    <a:pt x="839" y="301"/>
                  </a:lnTo>
                  <a:lnTo>
                    <a:pt x="872" y="279"/>
                  </a:lnTo>
                  <a:lnTo>
                    <a:pt x="923" y="257"/>
                  </a:lnTo>
                  <a:lnTo>
                    <a:pt x="901" y="220"/>
                  </a:lnTo>
                  <a:lnTo>
                    <a:pt x="866" y="196"/>
                  </a:lnTo>
                  <a:lnTo>
                    <a:pt x="875" y="172"/>
                  </a:lnTo>
                  <a:lnTo>
                    <a:pt x="822" y="152"/>
                  </a:lnTo>
                  <a:lnTo>
                    <a:pt x="776" y="149"/>
                  </a:lnTo>
                  <a:lnTo>
                    <a:pt x="762" y="110"/>
                  </a:lnTo>
                  <a:lnTo>
                    <a:pt x="908" y="13"/>
                  </a:lnTo>
                  <a:lnTo>
                    <a:pt x="1000" y="31"/>
                  </a:lnTo>
                  <a:lnTo>
                    <a:pt x="875" y="62"/>
                  </a:lnTo>
                  <a:lnTo>
                    <a:pt x="998" y="106"/>
                  </a:lnTo>
                  <a:lnTo>
                    <a:pt x="1057" y="106"/>
                  </a:lnTo>
                  <a:lnTo>
                    <a:pt x="1033" y="272"/>
                  </a:lnTo>
                  <a:lnTo>
                    <a:pt x="1061" y="338"/>
                  </a:lnTo>
                  <a:lnTo>
                    <a:pt x="1068" y="350"/>
                  </a:lnTo>
                  <a:lnTo>
                    <a:pt x="1121" y="350"/>
                  </a:lnTo>
                  <a:lnTo>
                    <a:pt x="1140" y="338"/>
                  </a:lnTo>
                  <a:lnTo>
                    <a:pt x="1198" y="283"/>
                  </a:lnTo>
                  <a:lnTo>
                    <a:pt x="1473" y="189"/>
                  </a:lnTo>
                  <a:lnTo>
                    <a:pt x="162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4" name=""/>
            <p:cNvSpPr/>
            <p:nvPr/>
          </p:nvSpPr>
          <p:spPr>
            <a:xfrm>
              <a:off x="1105200" y="1357200"/>
              <a:ext cx="2661480" cy="2320920"/>
            </a:xfrm>
            <a:custGeom>
              <a:avLst/>
              <a:gdLst/>
              <a:ahLst/>
              <a:rect l="l" t="t" r="r" b="b"/>
              <a:pathLst>
                <a:path w="1620" h="1462">
                  <a:moveTo>
                    <a:pt x="342" y="1462"/>
                  </a:moveTo>
                  <a:lnTo>
                    <a:pt x="303" y="1440"/>
                  </a:lnTo>
                  <a:lnTo>
                    <a:pt x="277" y="1453"/>
                  </a:lnTo>
                  <a:lnTo>
                    <a:pt x="263" y="1453"/>
                  </a:lnTo>
                  <a:lnTo>
                    <a:pt x="248" y="1444"/>
                  </a:lnTo>
                  <a:lnTo>
                    <a:pt x="241" y="1435"/>
                  </a:lnTo>
                  <a:lnTo>
                    <a:pt x="228" y="1427"/>
                  </a:lnTo>
                  <a:lnTo>
                    <a:pt x="228" y="1301"/>
                  </a:lnTo>
                  <a:lnTo>
                    <a:pt x="147" y="1304"/>
                  </a:lnTo>
                  <a:lnTo>
                    <a:pt x="153" y="1264"/>
                  </a:lnTo>
                  <a:lnTo>
                    <a:pt x="169" y="1200"/>
                  </a:lnTo>
                  <a:lnTo>
                    <a:pt x="180" y="1161"/>
                  </a:lnTo>
                  <a:lnTo>
                    <a:pt x="116" y="1165"/>
                  </a:lnTo>
                  <a:lnTo>
                    <a:pt x="110" y="1200"/>
                  </a:lnTo>
                  <a:lnTo>
                    <a:pt x="101" y="1225"/>
                  </a:lnTo>
                  <a:lnTo>
                    <a:pt x="83" y="1244"/>
                  </a:lnTo>
                  <a:lnTo>
                    <a:pt x="50" y="1251"/>
                  </a:lnTo>
                  <a:lnTo>
                    <a:pt x="19" y="1238"/>
                  </a:lnTo>
                  <a:lnTo>
                    <a:pt x="2" y="1209"/>
                  </a:lnTo>
                  <a:lnTo>
                    <a:pt x="2" y="1200"/>
                  </a:lnTo>
                  <a:lnTo>
                    <a:pt x="0" y="1086"/>
                  </a:lnTo>
                  <a:lnTo>
                    <a:pt x="52" y="1022"/>
                  </a:lnTo>
                  <a:lnTo>
                    <a:pt x="171" y="1024"/>
                  </a:lnTo>
                  <a:lnTo>
                    <a:pt x="169" y="1011"/>
                  </a:lnTo>
                  <a:lnTo>
                    <a:pt x="160" y="998"/>
                  </a:lnTo>
                  <a:lnTo>
                    <a:pt x="228" y="998"/>
                  </a:lnTo>
                  <a:lnTo>
                    <a:pt x="261" y="1000"/>
                  </a:lnTo>
                  <a:lnTo>
                    <a:pt x="272" y="987"/>
                  </a:lnTo>
                  <a:lnTo>
                    <a:pt x="303" y="1099"/>
                  </a:lnTo>
                  <a:lnTo>
                    <a:pt x="332" y="1092"/>
                  </a:lnTo>
                  <a:lnTo>
                    <a:pt x="323" y="958"/>
                  </a:lnTo>
                  <a:lnTo>
                    <a:pt x="452" y="895"/>
                  </a:lnTo>
                  <a:lnTo>
                    <a:pt x="455" y="842"/>
                  </a:lnTo>
                  <a:lnTo>
                    <a:pt x="543" y="763"/>
                  </a:lnTo>
                  <a:lnTo>
                    <a:pt x="622" y="692"/>
                  </a:lnTo>
                  <a:lnTo>
                    <a:pt x="661" y="684"/>
                  </a:lnTo>
                  <a:lnTo>
                    <a:pt x="789" y="668"/>
                  </a:lnTo>
                  <a:lnTo>
                    <a:pt x="708" y="572"/>
                  </a:lnTo>
                  <a:lnTo>
                    <a:pt x="804" y="572"/>
                  </a:lnTo>
                  <a:lnTo>
                    <a:pt x="806" y="637"/>
                  </a:lnTo>
                  <a:lnTo>
                    <a:pt x="908" y="646"/>
                  </a:lnTo>
                  <a:lnTo>
                    <a:pt x="881" y="561"/>
                  </a:lnTo>
                  <a:lnTo>
                    <a:pt x="896" y="494"/>
                  </a:lnTo>
                  <a:lnTo>
                    <a:pt x="835" y="464"/>
                  </a:lnTo>
                  <a:lnTo>
                    <a:pt x="800" y="347"/>
                  </a:lnTo>
                  <a:lnTo>
                    <a:pt x="769" y="376"/>
                  </a:lnTo>
                  <a:lnTo>
                    <a:pt x="743" y="394"/>
                  </a:lnTo>
                  <a:lnTo>
                    <a:pt x="743" y="363"/>
                  </a:lnTo>
                  <a:lnTo>
                    <a:pt x="718" y="338"/>
                  </a:lnTo>
                  <a:lnTo>
                    <a:pt x="705" y="325"/>
                  </a:lnTo>
                  <a:lnTo>
                    <a:pt x="661" y="316"/>
                  </a:lnTo>
                  <a:lnTo>
                    <a:pt x="661" y="281"/>
                  </a:lnTo>
                  <a:lnTo>
                    <a:pt x="639" y="338"/>
                  </a:lnTo>
                  <a:lnTo>
                    <a:pt x="523" y="538"/>
                  </a:lnTo>
                  <a:lnTo>
                    <a:pt x="481" y="538"/>
                  </a:lnTo>
                  <a:lnTo>
                    <a:pt x="481" y="473"/>
                  </a:lnTo>
                  <a:lnTo>
                    <a:pt x="349" y="367"/>
                  </a:lnTo>
                  <a:lnTo>
                    <a:pt x="419" y="338"/>
                  </a:lnTo>
                  <a:lnTo>
                    <a:pt x="527" y="288"/>
                  </a:lnTo>
                  <a:lnTo>
                    <a:pt x="578" y="264"/>
                  </a:lnTo>
                  <a:lnTo>
                    <a:pt x="639" y="240"/>
                  </a:lnTo>
                  <a:lnTo>
                    <a:pt x="653" y="228"/>
                  </a:lnTo>
                  <a:lnTo>
                    <a:pt x="653" y="202"/>
                  </a:lnTo>
                  <a:lnTo>
                    <a:pt x="670" y="178"/>
                  </a:lnTo>
                  <a:lnTo>
                    <a:pt x="740" y="196"/>
                  </a:lnTo>
                  <a:lnTo>
                    <a:pt x="740" y="257"/>
                  </a:lnTo>
                  <a:lnTo>
                    <a:pt x="705" y="272"/>
                  </a:lnTo>
                  <a:lnTo>
                    <a:pt x="681" y="279"/>
                  </a:lnTo>
                  <a:lnTo>
                    <a:pt x="705" y="279"/>
                  </a:lnTo>
                  <a:lnTo>
                    <a:pt x="723" y="297"/>
                  </a:lnTo>
                  <a:lnTo>
                    <a:pt x="743" y="316"/>
                  </a:lnTo>
                  <a:lnTo>
                    <a:pt x="767" y="332"/>
                  </a:lnTo>
                  <a:lnTo>
                    <a:pt x="773" y="338"/>
                  </a:lnTo>
                  <a:lnTo>
                    <a:pt x="789" y="345"/>
                  </a:lnTo>
                  <a:lnTo>
                    <a:pt x="800" y="347"/>
                  </a:lnTo>
                  <a:lnTo>
                    <a:pt x="811" y="338"/>
                  </a:lnTo>
                  <a:lnTo>
                    <a:pt x="839" y="301"/>
                  </a:lnTo>
                  <a:lnTo>
                    <a:pt x="872" y="279"/>
                  </a:lnTo>
                  <a:lnTo>
                    <a:pt x="923" y="257"/>
                  </a:lnTo>
                  <a:lnTo>
                    <a:pt x="901" y="220"/>
                  </a:lnTo>
                  <a:lnTo>
                    <a:pt x="866" y="196"/>
                  </a:lnTo>
                  <a:lnTo>
                    <a:pt x="875" y="172"/>
                  </a:lnTo>
                  <a:lnTo>
                    <a:pt x="822" y="152"/>
                  </a:lnTo>
                  <a:lnTo>
                    <a:pt x="776" y="149"/>
                  </a:lnTo>
                  <a:lnTo>
                    <a:pt x="762" y="110"/>
                  </a:lnTo>
                  <a:lnTo>
                    <a:pt x="908" y="13"/>
                  </a:lnTo>
                  <a:lnTo>
                    <a:pt x="1000" y="31"/>
                  </a:lnTo>
                  <a:lnTo>
                    <a:pt x="875" y="62"/>
                  </a:lnTo>
                  <a:lnTo>
                    <a:pt x="998" y="106"/>
                  </a:lnTo>
                  <a:lnTo>
                    <a:pt x="1057" y="106"/>
                  </a:lnTo>
                  <a:lnTo>
                    <a:pt x="1033" y="272"/>
                  </a:lnTo>
                  <a:lnTo>
                    <a:pt x="1061" y="338"/>
                  </a:lnTo>
                  <a:lnTo>
                    <a:pt x="1068" y="350"/>
                  </a:lnTo>
                  <a:lnTo>
                    <a:pt x="1121" y="350"/>
                  </a:lnTo>
                  <a:lnTo>
                    <a:pt x="1140" y="338"/>
                  </a:lnTo>
                  <a:lnTo>
                    <a:pt x="1198" y="283"/>
                  </a:lnTo>
                  <a:lnTo>
                    <a:pt x="1473" y="189"/>
                  </a:lnTo>
                  <a:lnTo>
                    <a:pt x="162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5" name=""/>
            <p:cNvSpPr/>
            <p:nvPr/>
          </p:nvSpPr>
          <p:spPr>
            <a:xfrm>
              <a:off x="7790400" y="2160360"/>
              <a:ext cx="201600" cy="295560"/>
            </a:xfrm>
            <a:custGeom>
              <a:avLst/>
              <a:gdLst/>
              <a:ahLst/>
              <a:rect l="l" t="t" r="r" b="b"/>
              <a:pathLst>
                <a:path w="123" h="186">
                  <a:moveTo>
                    <a:pt x="2" y="2"/>
                  </a:moveTo>
                  <a:lnTo>
                    <a:pt x="111" y="186"/>
                  </a:lnTo>
                  <a:lnTo>
                    <a:pt x="123" y="180"/>
                  </a:lnTo>
                  <a:lnTo>
                    <a:pt x="98" y="98"/>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6" name=""/>
            <p:cNvSpPr/>
            <p:nvPr/>
          </p:nvSpPr>
          <p:spPr>
            <a:xfrm>
              <a:off x="7790400" y="2160360"/>
              <a:ext cx="201600" cy="295560"/>
            </a:xfrm>
            <a:custGeom>
              <a:avLst/>
              <a:gdLst/>
              <a:ahLst/>
              <a:rect l="l" t="t" r="r" b="b"/>
              <a:pathLst>
                <a:path w="123" h="186">
                  <a:moveTo>
                    <a:pt x="2" y="2"/>
                  </a:moveTo>
                  <a:lnTo>
                    <a:pt x="111" y="186"/>
                  </a:lnTo>
                  <a:lnTo>
                    <a:pt x="123" y="180"/>
                  </a:lnTo>
                  <a:lnTo>
                    <a:pt x="98" y="98"/>
                  </a:lnTo>
                  <a:lnTo>
                    <a:pt x="0" y="0"/>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7" name=""/>
            <p:cNvSpPr/>
            <p:nvPr/>
          </p:nvSpPr>
          <p:spPr>
            <a:xfrm>
              <a:off x="4098600" y="1473120"/>
              <a:ext cx="4222080" cy="801720"/>
            </a:xfrm>
            <a:custGeom>
              <a:avLst/>
              <a:gdLst/>
              <a:ahLst/>
              <a:rect l="l" t="t" r="r" b="b"/>
              <a:pathLst>
                <a:path w="2570" h="505">
                  <a:moveTo>
                    <a:pt x="2236" y="468"/>
                  </a:moveTo>
                  <a:lnTo>
                    <a:pt x="2136" y="384"/>
                  </a:lnTo>
                  <a:lnTo>
                    <a:pt x="2145" y="332"/>
                  </a:lnTo>
                  <a:lnTo>
                    <a:pt x="2282" y="340"/>
                  </a:lnTo>
                  <a:lnTo>
                    <a:pt x="2301" y="356"/>
                  </a:lnTo>
                  <a:lnTo>
                    <a:pt x="2313" y="353"/>
                  </a:lnTo>
                  <a:lnTo>
                    <a:pt x="2312" y="320"/>
                  </a:lnTo>
                  <a:lnTo>
                    <a:pt x="2313" y="303"/>
                  </a:lnTo>
                  <a:lnTo>
                    <a:pt x="2326" y="288"/>
                  </a:lnTo>
                  <a:lnTo>
                    <a:pt x="2326" y="270"/>
                  </a:lnTo>
                  <a:lnTo>
                    <a:pt x="2345" y="265"/>
                  </a:lnTo>
                  <a:lnTo>
                    <a:pt x="2367" y="270"/>
                  </a:lnTo>
                  <a:lnTo>
                    <a:pt x="2363" y="305"/>
                  </a:lnTo>
                  <a:lnTo>
                    <a:pt x="2369" y="320"/>
                  </a:lnTo>
                  <a:lnTo>
                    <a:pt x="2389" y="320"/>
                  </a:lnTo>
                  <a:lnTo>
                    <a:pt x="2398" y="294"/>
                  </a:lnTo>
                  <a:lnTo>
                    <a:pt x="2398" y="265"/>
                  </a:lnTo>
                  <a:lnTo>
                    <a:pt x="2418" y="296"/>
                  </a:lnTo>
                  <a:lnTo>
                    <a:pt x="2418" y="323"/>
                  </a:lnTo>
                  <a:lnTo>
                    <a:pt x="2411" y="343"/>
                  </a:lnTo>
                  <a:lnTo>
                    <a:pt x="2376" y="356"/>
                  </a:lnTo>
                  <a:lnTo>
                    <a:pt x="2519" y="505"/>
                  </a:lnTo>
                  <a:lnTo>
                    <a:pt x="2508" y="428"/>
                  </a:lnTo>
                  <a:lnTo>
                    <a:pt x="2524" y="426"/>
                  </a:lnTo>
                  <a:lnTo>
                    <a:pt x="2541" y="435"/>
                  </a:lnTo>
                  <a:lnTo>
                    <a:pt x="2493" y="356"/>
                  </a:lnTo>
                  <a:lnTo>
                    <a:pt x="2469" y="356"/>
                  </a:lnTo>
                  <a:lnTo>
                    <a:pt x="2462" y="312"/>
                  </a:lnTo>
                  <a:lnTo>
                    <a:pt x="2499" y="303"/>
                  </a:lnTo>
                  <a:lnTo>
                    <a:pt x="2537" y="320"/>
                  </a:lnTo>
                  <a:lnTo>
                    <a:pt x="2552" y="309"/>
                  </a:lnTo>
                  <a:lnTo>
                    <a:pt x="2548" y="288"/>
                  </a:lnTo>
                  <a:lnTo>
                    <a:pt x="2548" y="266"/>
                  </a:lnTo>
                  <a:lnTo>
                    <a:pt x="2570" y="268"/>
                  </a:lnTo>
                  <a:lnTo>
                    <a:pt x="2565" y="265"/>
                  </a:lnTo>
                  <a:lnTo>
                    <a:pt x="2556" y="250"/>
                  </a:lnTo>
                  <a:lnTo>
                    <a:pt x="2532" y="239"/>
                  </a:lnTo>
                  <a:lnTo>
                    <a:pt x="2561" y="230"/>
                  </a:lnTo>
                  <a:lnTo>
                    <a:pt x="2405" y="138"/>
                  </a:lnTo>
                  <a:lnTo>
                    <a:pt x="2313" y="123"/>
                  </a:lnTo>
                  <a:lnTo>
                    <a:pt x="2145" y="138"/>
                  </a:lnTo>
                  <a:lnTo>
                    <a:pt x="2082" y="96"/>
                  </a:lnTo>
                  <a:lnTo>
                    <a:pt x="1980" y="101"/>
                  </a:lnTo>
                  <a:lnTo>
                    <a:pt x="1789" y="59"/>
                  </a:lnTo>
                  <a:lnTo>
                    <a:pt x="1798" y="112"/>
                  </a:lnTo>
                  <a:lnTo>
                    <a:pt x="1655" y="92"/>
                  </a:lnTo>
                  <a:lnTo>
                    <a:pt x="1638" y="65"/>
                  </a:lnTo>
                  <a:lnTo>
                    <a:pt x="1378" y="77"/>
                  </a:lnTo>
                  <a:lnTo>
                    <a:pt x="1398" y="50"/>
                  </a:lnTo>
                  <a:lnTo>
                    <a:pt x="1352" y="15"/>
                  </a:lnTo>
                  <a:lnTo>
                    <a:pt x="1299" y="24"/>
                  </a:lnTo>
                  <a:lnTo>
                    <a:pt x="1264" y="0"/>
                  </a:lnTo>
                  <a:lnTo>
                    <a:pt x="1187" y="15"/>
                  </a:lnTo>
                  <a:lnTo>
                    <a:pt x="1073" y="37"/>
                  </a:lnTo>
                  <a:lnTo>
                    <a:pt x="1077" y="65"/>
                  </a:lnTo>
                  <a:lnTo>
                    <a:pt x="857" y="66"/>
                  </a:lnTo>
                  <a:lnTo>
                    <a:pt x="857" y="99"/>
                  </a:lnTo>
                  <a:lnTo>
                    <a:pt x="893" y="156"/>
                  </a:lnTo>
                  <a:lnTo>
                    <a:pt x="888" y="162"/>
                  </a:lnTo>
                  <a:lnTo>
                    <a:pt x="794" y="129"/>
                  </a:lnTo>
                  <a:lnTo>
                    <a:pt x="679" y="142"/>
                  </a:lnTo>
                  <a:lnTo>
                    <a:pt x="576" y="177"/>
                  </a:lnTo>
                  <a:lnTo>
                    <a:pt x="574" y="144"/>
                  </a:lnTo>
                  <a:lnTo>
                    <a:pt x="527" y="136"/>
                  </a:lnTo>
                  <a:lnTo>
                    <a:pt x="543" y="186"/>
                  </a:lnTo>
                  <a:lnTo>
                    <a:pt x="505" y="191"/>
                  </a:lnTo>
                  <a:lnTo>
                    <a:pt x="510" y="156"/>
                  </a:lnTo>
                  <a:lnTo>
                    <a:pt x="339" y="109"/>
                  </a:lnTo>
                  <a:lnTo>
                    <a:pt x="294" y="94"/>
                  </a:lnTo>
                  <a:lnTo>
                    <a:pt x="204" y="129"/>
                  </a:lnTo>
                  <a:lnTo>
                    <a:pt x="145" y="136"/>
                  </a:lnTo>
                  <a:lnTo>
                    <a:pt x="68" y="235"/>
                  </a:lnTo>
                  <a:lnTo>
                    <a:pt x="0" y="265"/>
                  </a:lnTo>
                  <a:lnTo>
                    <a:pt x="11" y="336"/>
                  </a:lnTo>
                  <a:lnTo>
                    <a:pt x="18" y="338"/>
                  </a:lnTo>
                  <a:lnTo>
                    <a:pt x="95" y="305"/>
                  </a:lnTo>
                  <a:lnTo>
                    <a:pt x="101" y="316"/>
                  </a:lnTo>
                  <a:lnTo>
                    <a:pt x="125" y="386"/>
                  </a:lnTo>
                  <a:lnTo>
                    <a:pt x="185" y="375"/>
                  </a:lnTo>
                  <a:lnTo>
                    <a:pt x="200" y="303"/>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8" name=""/>
            <p:cNvSpPr/>
            <p:nvPr/>
          </p:nvSpPr>
          <p:spPr>
            <a:xfrm>
              <a:off x="4098600" y="1473120"/>
              <a:ext cx="4222080" cy="801720"/>
            </a:xfrm>
            <a:custGeom>
              <a:avLst/>
              <a:gdLst/>
              <a:ahLst/>
              <a:rect l="l" t="t" r="r" b="b"/>
              <a:pathLst>
                <a:path w="2570" h="505">
                  <a:moveTo>
                    <a:pt x="2236" y="468"/>
                  </a:moveTo>
                  <a:lnTo>
                    <a:pt x="2136" y="384"/>
                  </a:lnTo>
                  <a:lnTo>
                    <a:pt x="2145" y="332"/>
                  </a:lnTo>
                  <a:lnTo>
                    <a:pt x="2282" y="340"/>
                  </a:lnTo>
                  <a:lnTo>
                    <a:pt x="2301" y="356"/>
                  </a:lnTo>
                  <a:lnTo>
                    <a:pt x="2313" y="353"/>
                  </a:lnTo>
                  <a:lnTo>
                    <a:pt x="2312" y="320"/>
                  </a:lnTo>
                  <a:lnTo>
                    <a:pt x="2313" y="303"/>
                  </a:lnTo>
                  <a:lnTo>
                    <a:pt x="2326" y="288"/>
                  </a:lnTo>
                  <a:lnTo>
                    <a:pt x="2326" y="270"/>
                  </a:lnTo>
                  <a:lnTo>
                    <a:pt x="2345" y="265"/>
                  </a:lnTo>
                  <a:lnTo>
                    <a:pt x="2367" y="270"/>
                  </a:lnTo>
                  <a:lnTo>
                    <a:pt x="2363" y="305"/>
                  </a:lnTo>
                  <a:lnTo>
                    <a:pt x="2369" y="320"/>
                  </a:lnTo>
                  <a:lnTo>
                    <a:pt x="2389" y="320"/>
                  </a:lnTo>
                  <a:lnTo>
                    <a:pt x="2398" y="294"/>
                  </a:lnTo>
                  <a:lnTo>
                    <a:pt x="2398" y="265"/>
                  </a:lnTo>
                  <a:lnTo>
                    <a:pt x="2418" y="296"/>
                  </a:lnTo>
                  <a:lnTo>
                    <a:pt x="2418" y="323"/>
                  </a:lnTo>
                  <a:lnTo>
                    <a:pt x="2411" y="343"/>
                  </a:lnTo>
                  <a:lnTo>
                    <a:pt x="2376" y="356"/>
                  </a:lnTo>
                  <a:lnTo>
                    <a:pt x="2519" y="505"/>
                  </a:lnTo>
                  <a:lnTo>
                    <a:pt x="2508" y="428"/>
                  </a:lnTo>
                  <a:lnTo>
                    <a:pt x="2524" y="426"/>
                  </a:lnTo>
                  <a:lnTo>
                    <a:pt x="2541" y="435"/>
                  </a:lnTo>
                  <a:lnTo>
                    <a:pt x="2493" y="356"/>
                  </a:lnTo>
                  <a:lnTo>
                    <a:pt x="2469" y="356"/>
                  </a:lnTo>
                  <a:lnTo>
                    <a:pt x="2462" y="312"/>
                  </a:lnTo>
                  <a:lnTo>
                    <a:pt x="2499" y="303"/>
                  </a:lnTo>
                  <a:lnTo>
                    <a:pt x="2537" y="320"/>
                  </a:lnTo>
                  <a:lnTo>
                    <a:pt x="2552" y="309"/>
                  </a:lnTo>
                  <a:lnTo>
                    <a:pt x="2548" y="288"/>
                  </a:lnTo>
                  <a:lnTo>
                    <a:pt x="2548" y="266"/>
                  </a:lnTo>
                  <a:lnTo>
                    <a:pt x="2570" y="268"/>
                  </a:lnTo>
                  <a:lnTo>
                    <a:pt x="2565" y="265"/>
                  </a:lnTo>
                  <a:lnTo>
                    <a:pt x="2556" y="250"/>
                  </a:lnTo>
                  <a:lnTo>
                    <a:pt x="2532" y="239"/>
                  </a:lnTo>
                  <a:lnTo>
                    <a:pt x="2561" y="230"/>
                  </a:lnTo>
                  <a:lnTo>
                    <a:pt x="2405" y="138"/>
                  </a:lnTo>
                  <a:lnTo>
                    <a:pt x="2313" y="123"/>
                  </a:lnTo>
                  <a:lnTo>
                    <a:pt x="2145" y="138"/>
                  </a:lnTo>
                  <a:lnTo>
                    <a:pt x="2082" y="96"/>
                  </a:lnTo>
                  <a:lnTo>
                    <a:pt x="1980" y="101"/>
                  </a:lnTo>
                  <a:lnTo>
                    <a:pt x="1789" y="59"/>
                  </a:lnTo>
                  <a:lnTo>
                    <a:pt x="1798" y="112"/>
                  </a:lnTo>
                  <a:lnTo>
                    <a:pt x="1655" y="92"/>
                  </a:lnTo>
                  <a:lnTo>
                    <a:pt x="1638" y="65"/>
                  </a:lnTo>
                  <a:lnTo>
                    <a:pt x="1378" y="77"/>
                  </a:lnTo>
                  <a:lnTo>
                    <a:pt x="1398" y="50"/>
                  </a:lnTo>
                  <a:lnTo>
                    <a:pt x="1352" y="15"/>
                  </a:lnTo>
                  <a:lnTo>
                    <a:pt x="1299" y="24"/>
                  </a:lnTo>
                  <a:lnTo>
                    <a:pt x="1264" y="0"/>
                  </a:lnTo>
                  <a:lnTo>
                    <a:pt x="1187" y="15"/>
                  </a:lnTo>
                  <a:lnTo>
                    <a:pt x="1073" y="37"/>
                  </a:lnTo>
                  <a:lnTo>
                    <a:pt x="1077" y="65"/>
                  </a:lnTo>
                  <a:lnTo>
                    <a:pt x="857" y="66"/>
                  </a:lnTo>
                  <a:lnTo>
                    <a:pt x="857" y="99"/>
                  </a:lnTo>
                  <a:lnTo>
                    <a:pt x="893" y="156"/>
                  </a:lnTo>
                  <a:lnTo>
                    <a:pt x="888" y="162"/>
                  </a:lnTo>
                  <a:lnTo>
                    <a:pt x="794" y="129"/>
                  </a:lnTo>
                  <a:lnTo>
                    <a:pt x="679" y="142"/>
                  </a:lnTo>
                  <a:lnTo>
                    <a:pt x="576" y="177"/>
                  </a:lnTo>
                  <a:lnTo>
                    <a:pt x="574" y="144"/>
                  </a:lnTo>
                  <a:lnTo>
                    <a:pt x="527" y="136"/>
                  </a:lnTo>
                  <a:lnTo>
                    <a:pt x="543" y="186"/>
                  </a:lnTo>
                  <a:lnTo>
                    <a:pt x="505" y="191"/>
                  </a:lnTo>
                  <a:lnTo>
                    <a:pt x="510" y="156"/>
                  </a:lnTo>
                  <a:lnTo>
                    <a:pt x="339" y="109"/>
                  </a:lnTo>
                  <a:lnTo>
                    <a:pt x="294" y="94"/>
                  </a:lnTo>
                  <a:lnTo>
                    <a:pt x="204" y="129"/>
                  </a:lnTo>
                  <a:lnTo>
                    <a:pt x="145" y="136"/>
                  </a:lnTo>
                  <a:lnTo>
                    <a:pt x="68" y="235"/>
                  </a:lnTo>
                  <a:lnTo>
                    <a:pt x="0" y="265"/>
                  </a:lnTo>
                  <a:lnTo>
                    <a:pt x="11" y="336"/>
                  </a:lnTo>
                  <a:lnTo>
                    <a:pt x="18" y="338"/>
                  </a:lnTo>
                  <a:lnTo>
                    <a:pt x="95" y="305"/>
                  </a:lnTo>
                  <a:lnTo>
                    <a:pt x="101" y="316"/>
                  </a:lnTo>
                  <a:lnTo>
                    <a:pt x="125" y="386"/>
                  </a:lnTo>
                  <a:lnTo>
                    <a:pt x="185" y="375"/>
                  </a:lnTo>
                  <a:lnTo>
                    <a:pt x="200" y="303"/>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9" name=""/>
            <p:cNvSpPr/>
            <p:nvPr/>
          </p:nvSpPr>
          <p:spPr>
            <a:xfrm>
              <a:off x="1064160" y="6145200"/>
              <a:ext cx="1756080" cy="453960"/>
            </a:xfrm>
            <a:custGeom>
              <a:avLst/>
              <a:gdLst/>
              <a:ahLst/>
              <a:rect l="l" t="t" r="r" b="b"/>
              <a:pathLst>
                <a:path w="1069" h="286">
                  <a:moveTo>
                    <a:pt x="0" y="187"/>
                  </a:moveTo>
                  <a:lnTo>
                    <a:pt x="58" y="187"/>
                  </a:lnTo>
                  <a:lnTo>
                    <a:pt x="108" y="191"/>
                  </a:lnTo>
                  <a:lnTo>
                    <a:pt x="108" y="167"/>
                  </a:lnTo>
                  <a:lnTo>
                    <a:pt x="442" y="143"/>
                  </a:lnTo>
                  <a:lnTo>
                    <a:pt x="568" y="167"/>
                  </a:lnTo>
                  <a:lnTo>
                    <a:pt x="522" y="149"/>
                  </a:lnTo>
                  <a:lnTo>
                    <a:pt x="500" y="127"/>
                  </a:lnTo>
                  <a:lnTo>
                    <a:pt x="506" y="123"/>
                  </a:lnTo>
                  <a:lnTo>
                    <a:pt x="574" y="127"/>
                  </a:lnTo>
                  <a:lnTo>
                    <a:pt x="561" y="143"/>
                  </a:lnTo>
                  <a:lnTo>
                    <a:pt x="730" y="143"/>
                  </a:lnTo>
                  <a:lnTo>
                    <a:pt x="743" y="134"/>
                  </a:lnTo>
                  <a:lnTo>
                    <a:pt x="779" y="134"/>
                  </a:lnTo>
                  <a:lnTo>
                    <a:pt x="792" y="147"/>
                  </a:lnTo>
                  <a:lnTo>
                    <a:pt x="856" y="141"/>
                  </a:lnTo>
                  <a:lnTo>
                    <a:pt x="853" y="125"/>
                  </a:lnTo>
                  <a:lnTo>
                    <a:pt x="844" y="106"/>
                  </a:lnTo>
                  <a:lnTo>
                    <a:pt x="838" y="105"/>
                  </a:lnTo>
                  <a:lnTo>
                    <a:pt x="844" y="128"/>
                  </a:lnTo>
                  <a:lnTo>
                    <a:pt x="833" y="132"/>
                  </a:lnTo>
                  <a:lnTo>
                    <a:pt x="823" y="117"/>
                  </a:lnTo>
                  <a:lnTo>
                    <a:pt x="812" y="128"/>
                  </a:lnTo>
                  <a:lnTo>
                    <a:pt x="801" y="114"/>
                  </a:lnTo>
                  <a:lnTo>
                    <a:pt x="812" y="99"/>
                  </a:lnTo>
                  <a:lnTo>
                    <a:pt x="801" y="77"/>
                  </a:lnTo>
                  <a:lnTo>
                    <a:pt x="823" y="77"/>
                  </a:lnTo>
                  <a:lnTo>
                    <a:pt x="900" y="4"/>
                  </a:lnTo>
                  <a:lnTo>
                    <a:pt x="939" y="0"/>
                  </a:lnTo>
                  <a:lnTo>
                    <a:pt x="882" y="77"/>
                  </a:lnTo>
                  <a:lnTo>
                    <a:pt x="972" y="156"/>
                  </a:lnTo>
                  <a:lnTo>
                    <a:pt x="935" y="205"/>
                  </a:lnTo>
                  <a:lnTo>
                    <a:pt x="779" y="202"/>
                  </a:lnTo>
                  <a:lnTo>
                    <a:pt x="946" y="277"/>
                  </a:lnTo>
                  <a:lnTo>
                    <a:pt x="979" y="266"/>
                  </a:lnTo>
                  <a:lnTo>
                    <a:pt x="1069" y="286"/>
                  </a:lnTo>
                  <a:lnTo>
                    <a:pt x="231" y="286"/>
                  </a:lnTo>
                  <a:lnTo>
                    <a:pt x="194" y="275"/>
                  </a:lnTo>
                  <a:lnTo>
                    <a:pt x="148" y="249"/>
                  </a:lnTo>
                  <a:lnTo>
                    <a:pt x="187" y="237"/>
                  </a:lnTo>
                  <a:lnTo>
                    <a:pt x="222" y="231"/>
                  </a:lnTo>
                  <a:lnTo>
                    <a:pt x="49" y="226"/>
                  </a:lnTo>
                  <a:lnTo>
                    <a:pt x="0" y="18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0" name=""/>
            <p:cNvSpPr/>
            <p:nvPr/>
          </p:nvSpPr>
          <p:spPr>
            <a:xfrm>
              <a:off x="1064160" y="6145200"/>
              <a:ext cx="1756080" cy="453960"/>
            </a:xfrm>
            <a:custGeom>
              <a:avLst/>
              <a:gdLst/>
              <a:ahLst/>
              <a:rect l="l" t="t" r="r" b="b"/>
              <a:pathLst>
                <a:path w="1069" h="286">
                  <a:moveTo>
                    <a:pt x="0" y="187"/>
                  </a:moveTo>
                  <a:lnTo>
                    <a:pt x="58" y="187"/>
                  </a:lnTo>
                  <a:lnTo>
                    <a:pt x="108" y="191"/>
                  </a:lnTo>
                  <a:lnTo>
                    <a:pt x="108" y="167"/>
                  </a:lnTo>
                  <a:lnTo>
                    <a:pt x="442" y="143"/>
                  </a:lnTo>
                  <a:lnTo>
                    <a:pt x="568" y="167"/>
                  </a:lnTo>
                  <a:lnTo>
                    <a:pt x="522" y="149"/>
                  </a:lnTo>
                  <a:lnTo>
                    <a:pt x="500" y="127"/>
                  </a:lnTo>
                  <a:lnTo>
                    <a:pt x="506" y="123"/>
                  </a:lnTo>
                  <a:lnTo>
                    <a:pt x="574" y="127"/>
                  </a:lnTo>
                  <a:lnTo>
                    <a:pt x="561" y="143"/>
                  </a:lnTo>
                  <a:lnTo>
                    <a:pt x="730" y="143"/>
                  </a:lnTo>
                  <a:lnTo>
                    <a:pt x="743" y="134"/>
                  </a:lnTo>
                  <a:lnTo>
                    <a:pt x="779" y="134"/>
                  </a:lnTo>
                  <a:lnTo>
                    <a:pt x="792" y="147"/>
                  </a:lnTo>
                  <a:lnTo>
                    <a:pt x="856" y="141"/>
                  </a:lnTo>
                  <a:lnTo>
                    <a:pt x="853" y="125"/>
                  </a:lnTo>
                  <a:lnTo>
                    <a:pt x="844" y="106"/>
                  </a:lnTo>
                  <a:lnTo>
                    <a:pt x="838" y="105"/>
                  </a:lnTo>
                  <a:lnTo>
                    <a:pt x="844" y="128"/>
                  </a:lnTo>
                  <a:lnTo>
                    <a:pt x="833" y="132"/>
                  </a:lnTo>
                  <a:lnTo>
                    <a:pt x="823" y="117"/>
                  </a:lnTo>
                  <a:lnTo>
                    <a:pt x="812" y="128"/>
                  </a:lnTo>
                  <a:lnTo>
                    <a:pt x="801" y="114"/>
                  </a:lnTo>
                  <a:lnTo>
                    <a:pt x="812" y="99"/>
                  </a:lnTo>
                  <a:lnTo>
                    <a:pt x="801" y="77"/>
                  </a:lnTo>
                  <a:lnTo>
                    <a:pt x="823" y="77"/>
                  </a:lnTo>
                  <a:lnTo>
                    <a:pt x="900" y="4"/>
                  </a:lnTo>
                  <a:lnTo>
                    <a:pt x="939" y="0"/>
                  </a:lnTo>
                  <a:lnTo>
                    <a:pt x="882" y="77"/>
                  </a:lnTo>
                  <a:lnTo>
                    <a:pt x="972" y="156"/>
                  </a:lnTo>
                  <a:lnTo>
                    <a:pt x="935" y="205"/>
                  </a:lnTo>
                  <a:lnTo>
                    <a:pt x="779" y="202"/>
                  </a:lnTo>
                  <a:lnTo>
                    <a:pt x="946" y="277"/>
                  </a:lnTo>
                  <a:lnTo>
                    <a:pt x="979" y="266"/>
                  </a:lnTo>
                  <a:lnTo>
                    <a:pt x="1069" y="286"/>
                  </a:lnTo>
                  <a:lnTo>
                    <a:pt x="231" y="286"/>
                  </a:lnTo>
                  <a:lnTo>
                    <a:pt x="194" y="275"/>
                  </a:lnTo>
                  <a:lnTo>
                    <a:pt x="148" y="249"/>
                  </a:lnTo>
                  <a:lnTo>
                    <a:pt x="187" y="237"/>
                  </a:lnTo>
                  <a:lnTo>
                    <a:pt x="222" y="231"/>
                  </a:lnTo>
                  <a:lnTo>
                    <a:pt x="49" y="226"/>
                  </a:lnTo>
                  <a:lnTo>
                    <a:pt x="0" y="187"/>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1" name=""/>
            <p:cNvSpPr/>
            <p:nvPr/>
          </p:nvSpPr>
          <p:spPr>
            <a:xfrm>
              <a:off x="2878200" y="6253200"/>
              <a:ext cx="3839040" cy="345960"/>
            </a:xfrm>
            <a:custGeom>
              <a:avLst/>
              <a:gdLst/>
              <a:ahLst/>
              <a:rect l="l" t="t" r="r" b="b"/>
              <a:pathLst>
                <a:path w="2337" h="218">
                  <a:moveTo>
                    <a:pt x="48" y="198"/>
                  </a:moveTo>
                  <a:lnTo>
                    <a:pt x="0" y="218"/>
                  </a:lnTo>
                  <a:lnTo>
                    <a:pt x="2013" y="218"/>
                  </a:lnTo>
                  <a:lnTo>
                    <a:pt x="2047" y="185"/>
                  </a:lnTo>
                  <a:lnTo>
                    <a:pt x="2130" y="185"/>
                  </a:lnTo>
                  <a:lnTo>
                    <a:pt x="2123" y="172"/>
                  </a:lnTo>
                  <a:lnTo>
                    <a:pt x="2192" y="128"/>
                  </a:lnTo>
                  <a:lnTo>
                    <a:pt x="2213" y="132"/>
                  </a:lnTo>
                  <a:lnTo>
                    <a:pt x="2277" y="108"/>
                  </a:lnTo>
                  <a:lnTo>
                    <a:pt x="2313" y="112"/>
                  </a:lnTo>
                  <a:lnTo>
                    <a:pt x="2337" y="88"/>
                  </a:lnTo>
                  <a:lnTo>
                    <a:pt x="2302" y="75"/>
                  </a:lnTo>
                  <a:lnTo>
                    <a:pt x="2268" y="75"/>
                  </a:lnTo>
                  <a:lnTo>
                    <a:pt x="2258" y="46"/>
                  </a:lnTo>
                  <a:lnTo>
                    <a:pt x="2158" y="49"/>
                  </a:lnTo>
                  <a:lnTo>
                    <a:pt x="2137" y="20"/>
                  </a:lnTo>
                  <a:lnTo>
                    <a:pt x="1978" y="0"/>
                  </a:lnTo>
                  <a:lnTo>
                    <a:pt x="1969" y="11"/>
                  </a:lnTo>
                  <a:lnTo>
                    <a:pt x="1836" y="31"/>
                  </a:lnTo>
                  <a:lnTo>
                    <a:pt x="1814" y="16"/>
                  </a:lnTo>
                  <a:lnTo>
                    <a:pt x="1792" y="5"/>
                  </a:lnTo>
                  <a:lnTo>
                    <a:pt x="1750" y="20"/>
                  </a:lnTo>
                  <a:lnTo>
                    <a:pt x="1721" y="35"/>
                  </a:lnTo>
                  <a:lnTo>
                    <a:pt x="1708" y="16"/>
                  </a:lnTo>
                  <a:lnTo>
                    <a:pt x="1391" y="15"/>
                  </a:lnTo>
                  <a:lnTo>
                    <a:pt x="1328" y="70"/>
                  </a:lnTo>
                  <a:lnTo>
                    <a:pt x="1312" y="62"/>
                  </a:lnTo>
                  <a:lnTo>
                    <a:pt x="1249" y="123"/>
                  </a:lnTo>
                  <a:lnTo>
                    <a:pt x="1238" y="112"/>
                  </a:lnTo>
                  <a:lnTo>
                    <a:pt x="1268" y="35"/>
                  </a:lnTo>
                  <a:lnTo>
                    <a:pt x="1125" y="40"/>
                  </a:lnTo>
                  <a:lnTo>
                    <a:pt x="1117" y="11"/>
                  </a:lnTo>
                  <a:lnTo>
                    <a:pt x="1106" y="5"/>
                  </a:lnTo>
                  <a:lnTo>
                    <a:pt x="930" y="40"/>
                  </a:lnTo>
                  <a:lnTo>
                    <a:pt x="906" y="75"/>
                  </a:lnTo>
                  <a:lnTo>
                    <a:pt x="884" y="49"/>
                  </a:lnTo>
                  <a:lnTo>
                    <a:pt x="692" y="75"/>
                  </a:lnTo>
                  <a:lnTo>
                    <a:pt x="411" y="75"/>
                  </a:lnTo>
                  <a:lnTo>
                    <a:pt x="156" y="156"/>
                  </a:lnTo>
                  <a:lnTo>
                    <a:pt x="172" y="185"/>
                  </a:lnTo>
                  <a:lnTo>
                    <a:pt x="200" y="165"/>
                  </a:lnTo>
                  <a:lnTo>
                    <a:pt x="198" y="200"/>
                  </a:lnTo>
                  <a:lnTo>
                    <a:pt x="86" y="209"/>
                  </a:lnTo>
                  <a:lnTo>
                    <a:pt x="48" y="19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2" name=""/>
            <p:cNvSpPr/>
            <p:nvPr/>
          </p:nvSpPr>
          <p:spPr>
            <a:xfrm>
              <a:off x="2878200" y="6253200"/>
              <a:ext cx="3839040" cy="345960"/>
            </a:xfrm>
            <a:custGeom>
              <a:avLst/>
              <a:gdLst/>
              <a:ahLst/>
              <a:rect l="l" t="t" r="r" b="b"/>
              <a:pathLst>
                <a:path w="2337" h="218">
                  <a:moveTo>
                    <a:pt x="48" y="198"/>
                  </a:moveTo>
                  <a:lnTo>
                    <a:pt x="0" y="218"/>
                  </a:lnTo>
                  <a:lnTo>
                    <a:pt x="2013" y="218"/>
                  </a:lnTo>
                  <a:lnTo>
                    <a:pt x="2047" y="185"/>
                  </a:lnTo>
                  <a:lnTo>
                    <a:pt x="2130" y="185"/>
                  </a:lnTo>
                  <a:lnTo>
                    <a:pt x="2123" y="172"/>
                  </a:lnTo>
                  <a:lnTo>
                    <a:pt x="2192" y="128"/>
                  </a:lnTo>
                  <a:lnTo>
                    <a:pt x="2213" y="132"/>
                  </a:lnTo>
                  <a:lnTo>
                    <a:pt x="2277" y="108"/>
                  </a:lnTo>
                  <a:lnTo>
                    <a:pt x="2313" y="112"/>
                  </a:lnTo>
                  <a:lnTo>
                    <a:pt x="2337" y="88"/>
                  </a:lnTo>
                  <a:lnTo>
                    <a:pt x="2302" y="75"/>
                  </a:lnTo>
                  <a:lnTo>
                    <a:pt x="2268" y="75"/>
                  </a:lnTo>
                  <a:lnTo>
                    <a:pt x="2258" y="46"/>
                  </a:lnTo>
                  <a:lnTo>
                    <a:pt x="2158" y="49"/>
                  </a:lnTo>
                  <a:lnTo>
                    <a:pt x="2137" y="20"/>
                  </a:lnTo>
                  <a:lnTo>
                    <a:pt x="1978" y="0"/>
                  </a:lnTo>
                  <a:lnTo>
                    <a:pt x="1969" y="11"/>
                  </a:lnTo>
                  <a:lnTo>
                    <a:pt x="1836" y="31"/>
                  </a:lnTo>
                  <a:lnTo>
                    <a:pt x="1814" y="16"/>
                  </a:lnTo>
                  <a:lnTo>
                    <a:pt x="1792" y="5"/>
                  </a:lnTo>
                  <a:lnTo>
                    <a:pt x="1750" y="20"/>
                  </a:lnTo>
                  <a:lnTo>
                    <a:pt x="1721" y="35"/>
                  </a:lnTo>
                  <a:lnTo>
                    <a:pt x="1708" y="16"/>
                  </a:lnTo>
                  <a:lnTo>
                    <a:pt x="1391" y="15"/>
                  </a:lnTo>
                  <a:lnTo>
                    <a:pt x="1328" y="70"/>
                  </a:lnTo>
                  <a:lnTo>
                    <a:pt x="1312" y="62"/>
                  </a:lnTo>
                  <a:lnTo>
                    <a:pt x="1249" y="123"/>
                  </a:lnTo>
                  <a:lnTo>
                    <a:pt x="1238" y="112"/>
                  </a:lnTo>
                  <a:lnTo>
                    <a:pt x="1268" y="35"/>
                  </a:lnTo>
                  <a:lnTo>
                    <a:pt x="1125" y="40"/>
                  </a:lnTo>
                  <a:lnTo>
                    <a:pt x="1117" y="11"/>
                  </a:lnTo>
                  <a:lnTo>
                    <a:pt x="1106" y="5"/>
                  </a:lnTo>
                  <a:lnTo>
                    <a:pt x="930" y="40"/>
                  </a:lnTo>
                  <a:lnTo>
                    <a:pt x="906" y="75"/>
                  </a:lnTo>
                  <a:lnTo>
                    <a:pt x="884" y="49"/>
                  </a:lnTo>
                  <a:lnTo>
                    <a:pt x="692" y="75"/>
                  </a:lnTo>
                  <a:lnTo>
                    <a:pt x="411" y="75"/>
                  </a:lnTo>
                  <a:lnTo>
                    <a:pt x="156" y="156"/>
                  </a:lnTo>
                  <a:lnTo>
                    <a:pt x="172" y="185"/>
                  </a:lnTo>
                  <a:lnTo>
                    <a:pt x="200" y="165"/>
                  </a:lnTo>
                  <a:lnTo>
                    <a:pt x="198" y="200"/>
                  </a:lnTo>
                  <a:lnTo>
                    <a:pt x="86" y="209"/>
                  </a:lnTo>
                  <a:lnTo>
                    <a:pt x="48" y="198"/>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3" name=""/>
            <p:cNvSpPr/>
            <p:nvPr/>
          </p:nvSpPr>
          <p:spPr>
            <a:xfrm>
              <a:off x="2682720" y="6503760"/>
              <a:ext cx="77040" cy="39960"/>
            </a:xfrm>
            <a:custGeom>
              <a:avLst/>
              <a:gdLst/>
              <a:ahLst/>
              <a:rect l="l" t="t" r="r" b="b"/>
              <a:pathLst>
                <a:path w="47" h="25">
                  <a:moveTo>
                    <a:pt x="24" y="7"/>
                  </a:moveTo>
                  <a:lnTo>
                    <a:pt x="0" y="5"/>
                  </a:lnTo>
                  <a:lnTo>
                    <a:pt x="5" y="20"/>
                  </a:lnTo>
                  <a:lnTo>
                    <a:pt x="29" y="20"/>
                  </a:lnTo>
                  <a:lnTo>
                    <a:pt x="47" y="25"/>
                  </a:lnTo>
                  <a:lnTo>
                    <a:pt x="47" y="0"/>
                  </a:lnTo>
                  <a:lnTo>
                    <a:pt x="24" y="7"/>
                  </a:lnTo>
                </a:path>
              </a:pathLst>
            </a:custGeom>
            <a:solidFill>
              <a:srgbClr val="000080">
                <a:alpha val="50000"/>
              </a:srgbClr>
            </a:solidFill>
            <a:ln w="0">
              <a:solidFill>
                <a:srgbClr val="0000ff"/>
              </a:solid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354" name=""/>
            <p:cNvSpPr/>
            <p:nvPr/>
          </p:nvSpPr>
          <p:spPr>
            <a:xfrm>
              <a:off x="2682720" y="6503760"/>
              <a:ext cx="77040" cy="39960"/>
            </a:xfrm>
            <a:custGeom>
              <a:avLst/>
              <a:gdLst/>
              <a:ahLst/>
              <a:rect l="l" t="t" r="r" b="b"/>
              <a:pathLst>
                <a:path w="47" h="25">
                  <a:moveTo>
                    <a:pt x="24" y="7"/>
                  </a:moveTo>
                  <a:lnTo>
                    <a:pt x="0" y="5"/>
                  </a:lnTo>
                  <a:lnTo>
                    <a:pt x="5" y="20"/>
                  </a:lnTo>
                  <a:lnTo>
                    <a:pt x="29" y="20"/>
                  </a:lnTo>
                  <a:lnTo>
                    <a:pt x="47" y="25"/>
                  </a:lnTo>
                  <a:lnTo>
                    <a:pt x="47" y="0"/>
                  </a:lnTo>
                  <a:lnTo>
                    <a:pt x="24" y="7"/>
                  </a:lnTo>
                </a:path>
              </a:pathLst>
            </a:custGeom>
            <a:solidFill>
              <a:srgbClr val="000080">
                <a:alpha val="50000"/>
              </a:srgbClr>
            </a:solidFill>
            <a:ln w="0">
              <a:solidFill>
                <a:srgbClr val="0000ff"/>
              </a:solid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355" name=""/>
            <p:cNvSpPr/>
            <p:nvPr/>
          </p:nvSpPr>
          <p:spPr>
            <a:xfrm>
              <a:off x="2859840" y="6470640"/>
              <a:ext cx="141120" cy="96840"/>
            </a:xfrm>
            <a:custGeom>
              <a:avLst/>
              <a:gdLst/>
              <a:ahLst/>
              <a:rect l="l" t="t" r="r" b="b"/>
              <a:pathLst>
                <a:path w="86" h="61">
                  <a:moveTo>
                    <a:pt x="53" y="59"/>
                  </a:moveTo>
                  <a:lnTo>
                    <a:pt x="4" y="33"/>
                  </a:lnTo>
                  <a:lnTo>
                    <a:pt x="0" y="8"/>
                  </a:lnTo>
                  <a:lnTo>
                    <a:pt x="33" y="2"/>
                  </a:lnTo>
                  <a:lnTo>
                    <a:pt x="68" y="0"/>
                  </a:lnTo>
                  <a:lnTo>
                    <a:pt x="70" y="15"/>
                  </a:lnTo>
                  <a:lnTo>
                    <a:pt x="83" y="11"/>
                  </a:lnTo>
                  <a:lnTo>
                    <a:pt x="86" y="33"/>
                  </a:lnTo>
                  <a:lnTo>
                    <a:pt x="53" y="6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6" name=""/>
            <p:cNvSpPr/>
            <p:nvPr/>
          </p:nvSpPr>
          <p:spPr>
            <a:xfrm>
              <a:off x="2859840" y="6470640"/>
              <a:ext cx="141120" cy="96840"/>
            </a:xfrm>
            <a:custGeom>
              <a:avLst/>
              <a:gdLst/>
              <a:ahLst/>
              <a:rect l="l" t="t" r="r" b="b"/>
              <a:pathLst>
                <a:path w="86" h="61">
                  <a:moveTo>
                    <a:pt x="53" y="59"/>
                  </a:moveTo>
                  <a:lnTo>
                    <a:pt x="4" y="33"/>
                  </a:lnTo>
                  <a:lnTo>
                    <a:pt x="0" y="8"/>
                  </a:lnTo>
                  <a:lnTo>
                    <a:pt x="33" y="2"/>
                  </a:lnTo>
                  <a:lnTo>
                    <a:pt x="68" y="0"/>
                  </a:lnTo>
                  <a:lnTo>
                    <a:pt x="70" y="15"/>
                  </a:lnTo>
                  <a:lnTo>
                    <a:pt x="83" y="11"/>
                  </a:lnTo>
                  <a:lnTo>
                    <a:pt x="86" y="33"/>
                  </a:lnTo>
                  <a:lnTo>
                    <a:pt x="53" y="61"/>
                  </a:lnTo>
                </a:path>
              </a:pathLst>
            </a:custGeom>
            <a:solidFill>
              <a:srgbClr val="000080">
                <a:alpha val="50000"/>
              </a:srgbClr>
            </a:solidFill>
            <a:ln w="0">
              <a:solidFill>
                <a:srgbClr val="0000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57" name=""/>
          <p:cNvSpPr/>
          <p:nvPr/>
        </p:nvSpPr>
        <p:spPr>
          <a:xfrm>
            <a:off x="609480" y="30492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ircraft Noise Assessment</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Metrics</a:t>
            </a:r>
            <a:endParaRPr b="0" lang="en-US" sz="2800" spc="-1" strike="noStrike">
              <a:solidFill>
                <a:srgbClr val="ffffff"/>
              </a:solidFill>
              <a:latin typeface="Times New Roman"/>
            </a:endParaRPr>
          </a:p>
        </p:txBody>
      </p:sp>
      <p:sp>
        <p:nvSpPr>
          <p:cNvPr id="1358" name=""/>
          <p:cNvSpPr/>
          <p:nvPr/>
        </p:nvSpPr>
        <p:spPr>
          <a:xfrm>
            <a:off x="304920" y="2133720"/>
            <a:ext cx="85518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EP/5 chose </a:t>
            </a:r>
            <a:r>
              <a:rPr b="1" lang="en-US" sz="2800" spc="-1" strike="noStrike">
                <a:solidFill>
                  <a:srgbClr val="ffff00"/>
                </a:solidFill>
                <a:latin typeface="Times New Roman"/>
              </a:rPr>
              <a:t>DNL</a:t>
            </a:r>
            <a:r>
              <a:rPr b="1" lang="en-US" sz="2800" spc="-1" strike="noStrike">
                <a:solidFill>
                  <a:srgbClr val="ffffff"/>
                </a:solidFill>
                <a:latin typeface="Times New Roman"/>
              </a:rPr>
              <a:t> to assess the benefits of new aircraft noise standards and transition strategies with ‘significant’ exposure defined as DNL 55 dB or higher and ‘high’ exposure defined as DNL 65 dB or higher.</a:t>
            </a:r>
            <a:endParaRPr b="0" lang="en-US" sz="2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9" name=""/>
          <p:cNvSpPr/>
          <p:nvPr/>
        </p:nvSpPr>
        <p:spPr>
          <a:xfrm>
            <a:off x="609480" y="304920"/>
            <a:ext cx="777240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ircraft Noise Assessment</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Metrics</a:t>
            </a:r>
            <a:endParaRPr b="0" lang="en-US" sz="2800" spc="-1" strike="noStrike">
              <a:solidFill>
                <a:srgbClr val="ffffff"/>
              </a:solidFill>
              <a:latin typeface="Times New Roman"/>
            </a:endParaRPr>
          </a:p>
        </p:txBody>
      </p:sp>
      <p:sp>
        <p:nvSpPr>
          <p:cNvPr id="1360" name=""/>
          <p:cNvSpPr/>
          <p:nvPr/>
        </p:nvSpPr>
        <p:spPr>
          <a:xfrm>
            <a:off x="304920" y="1371600"/>
            <a:ext cx="8839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ay Night Level (DNL) </a:t>
            </a:r>
            <a:r>
              <a:rPr b="0" lang="en-US" sz="2400" spc="-1" strike="noStrike">
                <a:solidFill>
                  <a:srgbClr val="ffffff"/>
                </a:solidFill>
                <a:latin typeface="Times New Roman"/>
              </a:rPr>
              <a:t>is the energy-averaged sound level measured over a 24-hour period with a 10 dB penalty applied to nighttime events (2200 to 0700 hr) to account for increased annoyance of sound during night hours.</a:t>
            </a:r>
            <a:endParaRPr b="0" lang="en-US" sz="2400" spc="-1" strike="noStrike">
              <a:solidFill>
                <a:srgbClr val="ffffff"/>
              </a:solidFill>
              <a:latin typeface="Times New Roman"/>
            </a:endParaRPr>
          </a:p>
        </p:txBody>
      </p:sp>
      <p:grpSp>
        <p:nvGrpSpPr>
          <p:cNvPr id="1361" name=""/>
          <p:cNvGrpSpPr/>
          <p:nvPr/>
        </p:nvGrpSpPr>
        <p:grpSpPr>
          <a:xfrm>
            <a:off x="380880" y="2873520"/>
            <a:ext cx="8458200" cy="3984480"/>
            <a:chOff x="380880" y="2873520"/>
            <a:chExt cx="8458200" cy="3984480"/>
          </a:xfrm>
        </p:grpSpPr>
        <p:graphicFrame>
          <p:nvGraphicFramePr>
            <p:cNvPr id="1362" name=""/>
            <p:cNvGraphicFramePr/>
            <p:nvPr/>
          </p:nvGraphicFramePr>
          <p:xfrm>
            <a:off x="380880" y="2873520"/>
            <a:ext cx="8458200" cy="3984480"/>
          </p:xfrm>
          <a:graphic>
            <a:graphicData uri="http://schemas.openxmlformats.org/presentationml/2006/ole">
              <p:oleObj progId="Excel.Sheet.12" r:id="rId1" spid="">
                <p:embed/>
                <p:pic>
                  <p:nvPicPr>
                    <p:cNvPr id="1363" name="" descr=""/>
                    <p:cNvPicPr/>
                    <p:nvPr/>
                  </p:nvPicPr>
                  <p:blipFill>
                    <a:blip r:embed="rId2"/>
                    <a:stretch/>
                  </p:blipFill>
                  <p:spPr>
                    <a:xfrm>
                      <a:off x="380880" y="2873520"/>
                      <a:ext cx="8458200" cy="3984480"/>
                    </a:xfrm>
                    <a:prstGeom prst="rect">
                      <a:avLst/>
                    </a:prstGeom>
                    <a:ln w="0">
                      <a:noFill/>
                    </a:ln>
                  </p:spPr>
                </p:pic>
              </p:oleObj>
            </a:graphicData>
          </a:graphic>
        </p:graphicFrame>
        <p:sp>
          <p:nvSpPr>
            <p:cNvPr id="1364" name=""/>
            <p:cNvSpPr/>
            <p:nvPr/>
          </p:nvSpPr>
          <p:spPr>
            <a:xfrm>
              <a:off x="1828440" y="3200400"/>
              <a:ext cx="762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10 dB</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1400" spc="-1" strike="noStrike">
                  <a:solidFill>
                    <a:srgbClr val="ff0000"/>
                  </a:solidFill>
                  <a:latin typeface="Times New Roman"/>
                </a:rPr>
                <a:t>Penalty</a:t>
              </a:r>
              <a:endParaRPr b="0" lang="en-US" sz="1400" spc="-1" strike="noStrike">
                <a:solidFill>
                  <a:srgbClr val="ffffff"/>
                </a:solidFill>
                <a:latin typeface="Times New Roman"/>
              </a:endParaRPr>
            </a:p>
          </p:txBody>
        </p:sp>
        <p:sp>
          <p:nvSpPr>
            <p:cNvPr id="1365" name=""/>
            <p:cNvSpPr/>
            <p:nvPr/>
          </p:nvSpPr>
          <p:spPr>
            <a:xfrm>
              <a:off x="3352680" y="3200400"/>
              <a:ext cx="0" cy="28195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6" name=""/>
            <p:cNvSpPr/>
            <p:nvPr/>
          </p:nvSpPr>
          <p:spPr>
            <a:xfrm>
              <a:off x="7772040" y="3200400"/>
              <a:ext cx="762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10 dB</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1400" spc="-1" strike="noStrike">
                  <a:solidFill>
                    <a:srgbClr val="ff0000"/>
                  </a:solidFill>
                  <a:latin typeface="Times New Roman"/>
                </a:rPr>
                <a:t>Penalty</a:t>
              </a:r>
              <a:endParaRPr b="0" lang="en-US" sz="1400" spc="-1" strike="noStrike">
                <a:solidFill>
                  <a:srgbClr val="ffffff"/>
                </a:solidFill>
                <a:latin typeface="Times New Roman"/>
              </a:endParaRPr>
            </a:p>
          </p:txBody>
        </p:sp>
        <p:sp>
          <p:nvSpPr>
            <p:cNvPr id="1367" name=""/>
            <p:cNvSpPr/>
            <p:nvPr/>
          </p:nvSpPr>
          <p:spPr>
            <a:xfrm>
              <a:off x="7848720" y="3200400"/>
              <a:ext cx="0" cy="281952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68" name=""/>
          <p:cNvGrpSpPr/>
          <p:nvPr/>
        </p:nvGrpSpPr>
        <p:grpSpPr>
          <a:xfrm>
            <a:off x="4648320" y="228600"/>
            <a:ext cx="4267080" cy="3809880"/>
            <a:chOff x="4648320" y="228600"/>
            <a:chExt cx="4267080" cy="3809880"/>
          </a:xfrm>
        </p:grpSpPr>
        <p:pic>
          <p:nvPicPr>
            <p:cNvPr id="1369" name="" descr=""/>
            <p:cNvPicPr/>
            <p:nvPr/>
          </p:nvPicPr>
          <p:blipFill>
            <a:blip r:embed="rId3"/>
            <a:stretch/>
          </p:blipFill>
          <p:spPr>
            <a:xfrm>
              <a:off x="4648320" y="228600"/>
              <a:ext cx="4267080" cy="2917800"/>
            </a:xfrm>
            <a:prstGeom prst="rect">
              <a:avLst/>
            </a:prstGeom>
            <a:ln w="9360">
              <a:solidFill>
                <a:srgbClr val="993300"/>
              </a:solidFill>
              <a:miter/>
            </a:ln>
          </p:spPr>
        </p:pic>
        <p:sp>
          <p:nvSpPr>
            <p:cNvPr id="1370" name=""/>
            <p:cNvSpPr/>
            <p:nvPr/>
          </p:nvSpPr>
          <p:spPr>
            <a:xfrm flipH="1">
              <a:off x="4648320" y="3124080"/>
              <a:ext cx="380880" cy="91440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1" name=""/>
          <p:cNvSpPr/>
          <p:nvPr/>
        </p:nvSpPr>
        <p:spPr>
          <a:xfrm>
            <a:off x="609480" y="22860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ircraft Noise Assessment</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DNL and Annoyance</a:t>
            </a:r>
            <a:endParaRPr b="0" lang="en-US" sz="2800" spc="-1" strike="noStrike">
              <a:solidFill>
                <a:srgbClr val="ffffff"/>
              </a:solidFill>
              <a:latin typeface="Times New Roman"/>
            </a:endParaRPr>
          </a:p>
        </p:txBody>
      </p:sp>
      <p:pic>
        <p:nvPicPr>
          <p:cNvPr id="1372" name="" descr=""/>
          <p:cNvPicPr/>
          <p:nvPr/>
        </p:nvPicPr>
        <p:blipFill>
          <a:blip r:embed="rId1"/>
          <a:stretch/>
        </p:blipFill>
        <p:spPr>
          <a:xfrm>
            <a:off x="609480" y="1542960"/>
            <a:ext cx="7772400" cy="53150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3" name="PlaceHolder 1"/>
          <p:cNvSpPr>
            <a:spLocks noGrp="1"/>
          </p:cNvSpPr>
          <p:nvPr>
            <p:ph/>
          </p:nvPr>
        </p:nvSpPr>
        <p:spPr>
          <a:xfrm>
            <a:off x="609480" y="1904760"/>
            <a:ext cx="77724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Attribute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ircraft noise and performance databas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sound propagation and attenuation algorithm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runway orienta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flight track definition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operations distribu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GIS tie-in (population centroids, geographic features, political boundaries) </a:t>
            </a:r>
            <a:endParaRPr b="0" lang="en-US" sz="2800" spc="-1" strike="noStrike">
              <a:solidFill>
                <a:srgbClr val="ffffff"/>
              </a:solidFill>
              <a:latin typeface="Times New Roman"/>
            </a:endParaRPr>
          </a:p>
        </p:txBody>
      </p:sp>
      <p:sp>
        <p:nvSpPr>
          <p:cNvPr id="1374" name=""/>
          <p:cNvSpPr/>
          <p:nvPr/>
        </p:nvSpPr>
        <p:spPr>
          <a:xfrm>
            <a:off x="609480" y="30492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ircraft Noise Assessment</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Use of Computer Models</a:t>
            </a:r>
            <a:endParaRPr b="0" lang="en-US" sz="2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5" name=""/>
          <p:cNvSpPr/>
          <p:nvPr/>
        </p:nvSpPr>
        <p:spPr>
          <a:xfrm>
            <a:off x="609480" y="30492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ircraft Noise Assessment</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Use of Computer Models</a:t>
            </a:r>
            <a:endParaRPr b="0" lang="en-US" sz="2800" spc="-1" strike="noStrike">
              <a:solidFill>
                <a:srgbClr val="ffffff"/>
              </a:solidFill>
              <a:latin typeface="Times New Roman"/>
            </a:endParaRPr>
          </a:p>
        </p:txBody>
      </p:sp>
      <p:sp>
        <p:nvSpPr>
          <p:cNvPr id="137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CAEP/5 decided to:</a:t>
            </a:r>
            <a:endParaRPr b="0" lang="en-US" sz="2800" spc="-1" strike="noStrike">
              <a:solidFill>
                <a:srgbClr val="ffffff"/>
              </a:solidFill>
              <a:latin typeface="Times New Roman"/>
            </a:endParaRPr>
          </a:p>
          <a:p>
            <a:pPr marL="609480" indent="-6094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itiate the effort to adopt FAA’s Integrated Noise Model (INM) as the noise engine to drive strategic assessments</a:t>
            </a:r>
            <a:endParaRPr b="0" lang="en-US" sz="2800" spc="-1" strike="noStrike">
              <a:solidFill>
                <a:srgbClr val="ffffff"/>
              </a:solidFill>
              <a:latin typeface="Times New Roman"/>
            </a:endParaRPr>
          </a:p>
          <a:p>
            <a:pPr marL="609480" indent="-609480">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velop an ICAO database for noise modeling, building on the principle of the INM database</a:t>
            </a:r>
            <a:endParaRPr b="0" lang="en-US" sz="2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7" name=""/>
          <p:cNvSpPr/>
          <p:nvPr/>
        </p:nvSpPr>
        <p:spPr>
          <a:xfrm>
            <a:off x="609480" y="30492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ircraft Noise Assessment</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Integrated Noise Model</a:t>
            </a:r>
            <a:endParaRPr b="0" lang="en-US" sz="2800" spc="-1" strike="noStrike">
              <a:solidFill>
                <a:srgbClr val="ffffff"/>
              </a:solidFill>
              <a:latin typeface="Times New Roman"/>
            </a:endParaRPr>
          </a:p>
        </p:txBody>
      </p:sp>
      <p:sp>
        <p:nvSpPr>
          <p:cNvPr id="1378" name="PlaceHolder 1"/>
          <p:cNvSpPr>
            <a:spLocks noGrp="1"/>
          </p:cNvSpPr>
          <p:nvPr>
            <p:ph/>
          </p:nvPr>
        </p:nvSpPr>
        <p:spPr>
          <a:xfrm>
            <a:off x="685800" y="1676520"/>
            <a:ext cx="7848720" cy="4876560"/>
          </a:xfrm>
          <a:prstGeom prst="rect">
            <a:avLst/>
          </a:prstGeom>
          <a:noFill/>
          <a:ln w="0">
            <a:noFill/>
          </a:ln>
        </p:spPr>
        <p:txBody>
          <a:bodyPr lIns="92160" rIns="92160" tIns="46080" bIns="46080" anchor="t">
            <a:normAutofit fontScale="97000"/>
          </a:bodyPr>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pable of producing noise contours for a variety of noise metrics</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tensive aircraft noise and performance database</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ide distribution</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vailable in Windows 95, 98 or Windows NT</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er’s Guide and Technical Manual</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eb page for information and model updates</a:t>
            </a:r>
            <a:endParaRPr b="0" lang="en-US" sz="2800" spc="-1" strike="noStrike">
              <a:solidFill>
                <a:srgbClr val="ffffff"/>
              </a:solidFill>
              <a:latin typeface="Times New Roman"/>
            </a:endParaRPr>
          </a:p>
          <a:p>
            <a:pPr lvl="1" marL="720720" indent="-277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http://www.aee.faa.gov/aee-100/inm</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echnical support provided</a:t>
            </a:r>
            <a:endParaRPr b="0" lang="en-US" sz="2800" spc="-1" strike="noStrike">
              <a:solidFill>
                <a:srgbClr val="ffffff"/>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mmercial training courses available</a:t>
            </a:r>
            <a:endParaRPr b="0" lang="en-US" sz="2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9" name=""/>
          <p:cNvSpPr/>
          <p:nvPr/>
        </p:nvSpPr>
        <p:spPr>
          <a:xfrm>
            <a:off x="609480" y="30492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ircraft Noise Assessment</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Integrated Noise Model</a:t>
            </a:r>
            <a:endParaRPr b="0" lang="en-US" sz="2800" spc="-1" strike="noStrike">
              <a:solidFill>
                <a:srgbClr val="ffffff"/>
              </a:solidFill>
              <a:latin typeface="Times New Roman"/>
            </a:endParaRPr>
          </a:p>
        </p:txBody>
      </p:sp>
      <p:pic>
        <p:nvPicPr>
          <p:cNvPr id="1380" name="FIG10_LG" descr=""/>
          <p:cNvPicPr/>
          <p:nvPr/>
        </p:nvPicPr>
        <p:blipFill>
          <a:blip r:embed="rId1"/>
          <a:stretch/>
        </p:blipFill>
        <p:spPr>
          <a:xfrm>
            <a:off x="0" y="1600200"/>
            <a:ext cx="9144000" cy="4765680"/>
          </a:xfrm>
          <a:prstGeom prst="rect">
            <a:avLst/>
          </a:prstGeom>
          <a:ln w="0">
            <a:noFill/>
          </a:ln>
        </p:spPr>
      </p:pic>
      <p:sp>
        <p:nvSpPr>
          <p:cNvPr id="1381" name=""/>
          <p:cNvSpPr/>
          <p:nvPr/>
        </p:nvSpPr>
        <p:spPr>
          <a:xfrm>
            <a:off x="1219320" y="6156360"/>
            <a:ext cx="6449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Integrated Noise Model (INM) produces the noise exposure maps used for land use planning.</a:t>
            </a:r>
            <a:endParaRPr b="0" lang="en-US" sz="20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2" name="PlaceHolder 1"/>
          <p:cNvSpPr>
            <a:spLocks noGrp="1"/>
          </p:cNvSpPr>
          <p:nvPr>
            <p:ph/>
          </p:nvPr>
        </p:nvSpPr>
        <p:spPr>
          <a:xfrm>
            <a:off x="380880" y="1600200"/>
            <a:ext cx="8382240" cy="50292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Premise</a:t>
            </a:r>
            <a:endParaRPr b="0" lang="en-US" sz="2800" spc="-1" strike="noStrike">
              <a:solidFill>
                <a:srgbClr val="ffffff"/>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NewRomanPSMT"/>
                <a:ea typeface="Times New Roman"/>
              </a:rPr>
              <a:t>	</a:t>
            </a:r>
            <a:r>
              <a:rPr b="1" lang="en-US" sz="2400" spc="-1" strike="noStrike">
                <a:solidFill>
                  <a:srgbClr val="ffffff"/>
                </a:solidFill>
                <a:latin typeface="TimesNewRomanPSMT"/>
                <a:ea typeface="Times New Roman"/>
              </a:rPr>
              <a:t>Aircraft noise exposure around an airport depends principally on the volume and mix of aircraft traffic, departure and arrival flight routings, operational practices, and the number and distribution of people living nearby.</a:t>
            </a:r>
            <a:endParaRPr b="0" lang="en-US" sz="24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CAEP experience</a:t>
            </a:r>
            <a:endParaRPr b="0" lang="en-US" sz="2800" spc="-1" strike="noStrike">
              <a:solidFill>
                <a:srgbClr val="ffffff"/>
              </a:solidFill>
              <a:latin typeface="Times New Roman"/>
            </a:endParaRPr>
          </a:p>
          <a:p>
            <a:pPr marL="329040" indent="-329040">
              <a:lnSpc>
                <a:spcPct val="90000"/>
              </a:lnSpc>
              <a:spcBef>
                <a:spcPts val="601"/>
              </a:spcBef>
              <a:buClr>
                <a:srgbClr val="ffffff"/>
              </a:buClr>
              <a:buFont typeface="TimesNewRomanPS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NewRomanPSMT"/>
                <a:ea typeface="Times New Roman"/>
              </a:rPr>
              <a:t>Before CAEP/3, an “average” airport had been used to assess stringency proposals.</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TimesNewRomanPS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NewRomanPSMT"/>
                <a:ea typeface="Times New Roman"/>
              </a:rPr>
              <a:t>At CAEP/3, a small sample (13) of airports was used in the assessment.</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AEP/4 agreed to evaluate a global model which became the Model for Assessing Global Exposure to the Noise of Transport Aircraft (MAGENTA).</a:t>
            </a:r>
            <a:endParaRPr b="0" lang="en-US" sz="2400" spc="-1" strike="noStrike">
              <a:solidFill>
                <a:srgbClr val="ffffff"/>
              </a:solidFill>
              <a:latin typeface="Times New Roman"/>
            </a:endParaRPr>
          </a:p>
        </p:txBody>
      </p:sp>
      <p:sp>
        <p:nvSpPr>
          <p:cNvPr id="1383" name=""/>
          <p:cNvSpPr/>
          <p:nvPr/>
        </p:nvSpPr>
        <p:spPr>
          <a:xfrm>
            <a:off x="609480" y="30492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ircraft Noise Assessment</a:t>
            </a:r>
            <a:endParaRPr b="0" lang="en-US" sz="3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Regional and Global Evaluations</a:t>
            </a: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type="subTitle"/>
          </p:nvPr>
        </p:nvSpPr>
        <p:spPr>
          <a:xfrm>
            <a:off x="1752480" y="4038120"/>
            <a:ext cx="6553440" cy="205740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CAO Environmental Colloquium</a:t>
            </a:r>
            <a:endParaRPr b="0" lang="en-US" sz="2800" spc="-1" strike="noStrike">
              <a:solidFill>
                <a:srgbClr val="ffffff"/>
              </a:solidFill>
              <a:latin typeface="Times New Roman"/>
            </a:endParaRPr>
          </a:p>
          <a:p>
            <a:pPr algn="ctr">
              <a:spcBef>
                <a:spcPts val="700"/>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pril 2001</a:t>
            </a:r>
            <a:endParaRPr b="0" lang="en-US" sz="2800" spc="-1" strike="noStrike">
              <a:solidFill>
                <a:srgbClr val="ffffff"/>
              </a:solidFill>
              <a:latin typeface="Times New Roman"/>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esented by Mr. T. Connor</a:t>
            </a:r>
            <a:endParaRPr b="0" lang="en-US" sz="1800" spc="-1" strike="noStrike">
              <a:solidFill>
                <a:srgbClr val="ffffff"/>
              </a:solidFill>
              <a:latin typeface="Times New Roman"/>
            </a:endParaRPr>
          </a:p>
        </p:txBody>
      </p:sp>
      <p:grpSp>
        <p:nvGrpSpPr>
          <p:cNvPr id="294" name=""/>
          <p:cNvGrpSpPr/>
          <p:nvPr/>
        </p:nvGrpSpPr>
        <p:grpSpPr>
          <a:xfrm>
            <a:off x="380880" y="380880"/>
            <a:ext cx="2362320" cy="1752840"/>
            <a:chOff x="380880" y="380880"/>
            <a:chExt cx="2362320" cy="1752840"/>
          </a:xfrm>
        </p:grpSpPr>
        <p:sp>
          <p:nvSpPr>
            <p:cNvPr id="295" name=""/>
            <p:cNvSpPr/>
            <p:nvPr/>
          </p:nvSpPr>
          <p:spPr>
            <a:xfrm>
              <a:off x="708840" y="844200"/>
              <a:ext cx="134280" cy="70200"/>
            </a:xfrm>
            <a:custGeom>
              <a:avLst/>
              <a:gdLst/>
              <a:ahLst/>
              <a:rect l="l" t="t" r="r" b="b"/>
              <a:pathLst>
                <a:path w="1051" h="604">
                  <a:moveTo>
                    <a:pt x="1051" y="460"/>
                  </a:moveTo>
                  <a:lnTo>
                    <a:pt x="67" y="0"/>
                  </a:lnTo>
                  <a:lnTo>
                    <a:pt x="0" y="144"/>
                  </a:lnTo>
                  <a:lnTo>
                    <a:pt x="985" y="604"/>
                  </a:lnTo>
                  <a:lnTo>
                    <a:pt x="1051" y="460"/>
                  </a:lnTo>
                  <a:close/>
                </a:path>
              </a:pathLst>
            </a:custGeom>
            <a:blipFill rotWithShape="0">
              <a:blip r:embed="rId1"/>
              <a:srcRect/>
              <a:stretch/>
            </a:blip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Times New Roman"/>
              </a:endParaRPr>
            </a:p>
          </p:txBody>
        </p:sp>
        <p:sp>
          <p:nvSpPr>
            <p:cNvPr id="296" name=""/>
            <p:cNvSpPr/>
            <p:nvPr/>
          </p:nvSpPr>
          <p:spPr>
            <a:xfrm>
              <a:off x="764280" y="720360"/>
              <a:ext cx="143640" cy="130680"/>
            </a:xfrm>
            <a:custGeom>
              <a:avLst/>
              <a:gdLst/>
              <a:ahLst/>
              <a:rect l="l" t="t" r="r" b="b"/>
              <a:pathLst>
                <a:path w="1128" h="1123">
                  <a:moveTo>
                    <a:pt x="622" y="3"/>
                  </a:moveTo>
                  <a:lnTo>
                    <a:pt x="574" y="0"/>
                  </a:lnTo>
                  <a:lnTo>
                    <a:pt x="518" y="0"/>
                  </a:lnTo>
                  <a:lnTo>
                    <a:pt x="448" y="10"/>
                  </a:lnTo>
                  <a:lnTo>
                    <a:pt x="411" y="21"/>
                  </a:lnTo>
                  <a:lnTo>
                    <a:pt x="369" y="34"/>
                  </a:lnTo>
                  <a:lnTo>
                    <a:pt x="320" y="53"/>
                  </a:lnTo>
                  <a:lnTo>
                    <a:pt x="275" y="79"/>
                  </a:lnTo>
                  <a:lnTo>
                    <a:pt x="235" y="105"/>
                  </a:lnTo>
                  <a:lnTo>
                    <a:pt x="199" y="134"/>
                  </a:lnTo>
                  <a:lnTo>
                    <a:pt x="166" y="164"/>
                  </a:lnTo>
                  <a:lnTo>
                    <a:pt x="139" y="194"/>
                  </a:lnTo>
                  <a:lnTo>
                    <a:pt x="115" y="223"/>
                  </a:lnTo>
                  <a:lnTo>
                    <a:pt x="95" y="249"/>
                  </a:lnTo>
                  <a:lnTo>
                    <a:pt x="68" y="298"/>
                  </a:lnTo>
                  <a:lnTo>
                    <a:pt x="44" y="348"/>
                  </a:lnTo>
                  <a:lnTo>
                    <a:pt x="24" y="398"/>
                  </a:lnTo>
                  <a:lnTo>
                    <a:pt x="10" y="452"/>
                  </a:lnTo>
                  <a:lnTo>
                    <a:pt x="2" y="505"/>
                  </a:lnTo>
                  <a:lnTo>
                    <a:pt x="0" y="558"/>
                  </a:lnTo>
                  <a:lnTo>
                    <a:pt x="2" y="612"/>
                  </a:lnTo>
                  <a:lnTo>
                    <a:pt x="8" y="665"/>
                  </a:lnTo>
                  <a:lnTo>
                    <a:pt x="22" y="719"/>
                  </a:lnTo>
                  <a:lnTo>
                    <a:pt x="40" y="767"/>
                  </a:lnTo>
                  <a:lnTo>
                    <a:pt x="61" y="817"/>
                  </a:lnTo>
                  <a:lnTo>
                    <a:pt x="89" y="864"/>
                  </a:lnTo>
                  <a:lnTo>
                    <a:pt x="121" y="910"/>
                  </a:lnTo>
                  <a:lnTo>
                    <a:pt x="158" y="952"/>
                  </a:lnTo>
                  <a:lnTo>
                    <a:pt x="199" y="991"/>
                  </a:lnTo>
                  <a:lnTo>
                    <a:pt x="247" y="1026"/>
                  </a:lnTo>
                  <a:lnTo>
                    <a:pt x="296" y="1056"/>
                  </a:lnTo>
                  <a:lnTo>
                    <a:pt x="348" y="1080"/>
                  </a:lnTo>
                  <a:lnTo>
                    <a:pt x="398" y="1097"/>
                  </a:lnTo>
                  <a:lnTo>
                    <a:pt x="452" y="1112"/>
                  </a:lnTo>
                  <a:lnTo>
                    <a:pt x="508" y="1119"/>
                  </a:lnTo>
                  <a:lnTo>
                    <a:pt x="560" y="1123"/>
                  </a:lnTo>
                  <a:lnTo>
                    <a:pt x="616" y="1121"/>
                  </a:lnTo>
                  <a:lnTo>
                    <a:pt x="670" y="1113"/>
                  </a:lnTo>
                  <a:lnTo>
                    <a:pt x="722" y="1101"/>
                  </a:lnTo>
                  <a:lnTo>
                    <a:pt x="774" y="1083"/>
                  </a:lnTo>
                  <a:lnTo>
                    <a:pt x="823" y="1062"/>
                  </a:lnTo>
                  <a:lnTo>
                    <a:pt x="871" y="1036"/>
                  </a:lnTo>
                  <a:lnTo>
                    <a:pt x="916" y="1005"/>
                  </a:lnTo>
                  <a:lnTo>
                    <a:pt x="958" y="968"/>
                  </a:lnTo>
                  <a:lnTo>
                    <a:pt x="995" y="926"/>
                  </a:lnTo>
                  <a:lnTo>
                    <a:pt x="1031" y="880"/>
                  </a:lnTo>
                  <a:lnTo>
                    <a:pt x="1062" y="825"/>
                  </a:lnTo>
                  <a:lnTo>
                    <a:pt x="1091" y="764"/>
                  </a:lnTo>
                  <a:lnTo>
                    <a:pt x="1112" y="697"/>
                  </a:lnTo>
                  <a:lnTo>
                    <a:pt x="1120" y="662"/>
                  </a:lnTo>
                  <a:lnTo>
                    <a:pt x="1125" y="626"/>
                  </a:lnTo>
                  <a:lnTo>
                    <a:pt x="1128" y="589"/>
                  </a:lnTo>
                  <a:lnTo>
                    <a:pt x="1128" y="550"/>
                  </a:lnTo>
                  <a:lnTo>
                    <a:pt x="1125" y="511"/>
                  </a:lnTo>
                  <a:lnTo>
                    <a:pt x="1120" y="472"/>
                  </a:lnTo>
                  <a:lnTo>
                    <a:pt x="1112" y="432"/>
                  </a:lnTo>
                  <a:lnTo>
                    <a:pt x="1099" y="391"/>
                  </a:lnTo>
                  <a:lnTo>
                    <a:pt x="1084" y="351"/>
                  </a:lnTo>
                  <a:lnTo>
                    <a:pt x="1066" y="310"/>
                  </a:lnTo>
                  <a:lnTo>
                    <a:pt x="958" y="472"/>
                  </a:lnTo>
                  <a:lnTo>
                    <a:pt x="965" y="513"/>
                  </a:lnTo>
                  <a:lnTo>
                    <a:pt x="971" y="557"/>
                  </a:lnTo>
                  <a:lnTo>
                    <a:pt x="973" y="600"/>
                  </a:lnTo>
                  <a:lnTo>
                    <a:pt x="969" y="641"/>
                  </a:lnTo>
                  <a:lnTo>
                    <a:pt x="961" y="683"/>
                  </a:lnTo>
                  <a:lnTo>
                    <a:pt x="950" y="722"/>
                  </a:lnTo>
                  <a:lnTo>
                    <a:pt x="932" y="762"/>
                  </a:lnTo>
                  <a:lnTo>
                    <a:pt x="910" y="798"/>
                  </a:lnTo>
                  <a:lnTo>
                    <a:pt x="887" y="829"/>
                  </a:lnTo>
                  <a:lnTo>
                    <a:pt x="859" y="858"/>
                  </a:lnTo>
                  <a:lnTo>
                    <a:pt x="829" y="884"/>
                  </a:lnTo>
                  <a:lnTo>
                    <a:pt x="798" y="906"/>
                  </a:lnTo>
                  <a:lnTo>
                    <a:pt x="764" y="926"/>
                  </a:lnTo>
                  <a:lnTo>
                    <a:pt x="727" y="942"/>
                  </a:lnTo>
                  <a:lnTo>
                    <a:pt x="689" y="953"/>
                  </a:lnTo>
                  <a:lnTo>
                    <a:pt x="652" y="961"/>
                  </a:lnTo>
                  <a:lnTo>
                    <a:pt x="612" y="968"/>
                  </a:lnTo>
                  <a:lnTo>
                    <a:pt x="573" y="969"/>
                  </a:lnTo>
                  <a:lnTo>
                    <a:pt x="531" y="965"/>
                  </a:lnTo>
                  <a:lnTo>
                    <a:pt x="492" y="960"/>
                  </a:lnTo>
                  <a:lnTo>
                    <a:pt x="452" y="950"/>
                  </a:lnTo>
                  <a:lnTo>
                    <a:pt x="413" y="936"/>
                  </a:lnTo>
                  <a:lnTo>
                    <a:pt x="373" y="918"/>
                  </a:lnTo>
                  <a:lnTo>
                    <a:pt x="338" y="894"/>
                  </a:lnTo>
                  <a:lnTo>
                    <a:pt x="302" y="871"/>
                  </a:lnTo>
                  <a:lnTo>
                    <a:pt x="272" y="841"/>
                  </a:lnTo>
                  <a:lnTo>
                    <a:pt x="244" y="811"/>
                  </a:lnTo>
                  <a:lnTo>
                    <a:pt x="221" y="780"/>
                  </a:lnTo>
                  <a:lnTo>
                    <a:pt x="199" y="744"/>
                  </a:lnTo>
                  <a:lnTo>
                    <a:pt x="181" y="709"/>
                  </a:lnTo>
                  <a:lnTo>
                    <a:pt x="168" y="671"/>
                  </a:lnTo>
                  <a:lnTo>
                    <a:pt x="158" y="634"/>
                  </a:lnTo>
                  <a:lnTo>
                    <a:pt x="152" y="594"/>
                  </a:lnTo>
                  <a:lnTo>
                    <a:pt x="150" y="557"/>
                  </a:lnTo>
                  <a:lnTo>
                    <a:pt x="152" y="518"/>
                  </a:lnTo>
                  <a:lnTo>
                    <a:pt x="157" y="478"/>
                  </a:lnTo>
                  <a:lnTo>
                    <a:pt x="166" y="438"/>
                  </a:lnTo>
                  <a:lnTo>
                    <a:pt x="180" y="401"/>
                  </a:lnTo>
                  <a:lnTo>
                    <a:pt x="196" y="364"/>
                  </a:lnTo>
                  <a:lnTo>
                    <a:pt x="217" y="328"/>
                  </a:lnTo>
                  <a:lnTo>
                    <a:pt x="236" y="302"/>
                  </a:lnTo>
                  <a:lnTo>
                    <a:pt x="257" y="278"/>
                  </a:lnTo>
                  <a:lnTo>
                    <a:pt x="301" y="241"/>
                  </a:lnTo>
                  <a:lnTo>
                    <a:pt x="341" y="213"/>
                  </a:lnTo>
                  <a:lnTo>
                    <a:pt x="385" y="191"/>
                  </a:lnTo>
                  <a:lnTo>
                    <a:pt x="427" y="178"/>
                  </a:lnTo>
                  <a:lnTo>
                    <a:pt x="461" y="168"/>
                  </a:lnTo>
                  <a:lnTo>
                    <a:pt x="515" y="160"/>
                  </a:lnTo>
                  <a:lnTo>
                    <a:pt x="622" y="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921240" y="650160"/>
              <a:ext cx="98280" cy="119520"/>
            </a:xfrm>
            <a:custGeom>
              <a:avLst/>
              <a:gdLst/>
              <a:ahLst/>
              <a:rect l="l" t="t" r="r" b="b"/>
              <a:pathLst>
                <a:path w="769" h="1028">
                  <a:moveTo>
                    <a:pt x="0" y="453"/>
                  </a:moveTo>
                  <a:lnTo>
                    <a:pt x="0" y="844"/>
                  </a:lnTo>
                  <a:lnTo>
                    <a:pt x="86" y="1028"/>
                  </a:lnTo>
                  <a:lnTo>
                    <a:pt x="204" y="910"/>
                  </a:lnTo>
                  <a:lnTo>
                    <a:pt x="62" y="597"/>
                  </a:lnTo>
                  <a:lnTo>
                    <a:pt x="338" y="321"/>
                  </a:lnTo>
                  <a:lnTo>
                    <a:pt x="650" y="463"/>
                  </a:lnTo>
                  <a:lnTo>
                    <a:pt x="769" y="343"/>
                  </a:lnTo>
                  <a:lnTo>
                    <a:pt x="0" y="0"/>
                  </a:lnTo>
                  <a:lnTo>
                    <a:pt x="0" y="162"/>
                  </a:lnTo>
                  <a:lnTo>
                    <a:pt x="196" y="258"/>
                  </a:lnTo>
                  <a:lnTo>
                    <a:pt x="0" y="453"/>
                  </a:ln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870840" y="635040"/>
              <a:ext cx="50040" cy="113040"/>
            </a:xfrm>
            <a:custGeom>
              <a:avLst/>
              <a:gdLst/>
              <a:ahLst/>
              <a:rect l="l" t="t" r="r" b="b"/>
              <a:pathLst>
                <a:path w="392" h="977">
                  <a:moveTo>
                    <a:pt x="392" y="295"/>
                  </a:moveTo>
                  <a:lnTo>
                    <a:pt x="392" y="133"/>
                  </a:lnTo>
                  <a:lnTo>
                    <a:pt x="101" y="0"/>
                  </a:lnTo>
                  <a:lnTo>
                    <a:pt x="0" y="101"/>
                  </a:lnTo>
                  <a:lnTo>
                    <a:pt x="392" y="977"/>
                  </a:lnTo>
                  <a:lnTo>
                    <a:pt x="392" y="586"/>
                  </a:lnTo>
                  <a:lnTo>
                    <a:pt x="391" y="588"/>
                  </a:lnTo>
                  <a:lnTo>
                    <a:pt x="195" y="196"/>
                  </a:lnTo>
                  <a:lnTo>
                    <a:pt x="198" y="193"/>
                  </a:lnTo>
                  <a:lnTo>
                    <a:pt x="392" y="295"/>
                  </a:lnTo>
                  <a:close/>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1041120" y="529200"/>
              <a:ext cx="71640" cy="130680"/>
            </a:xfrm>
            <a:custGeom>
              <a:avLst/>
              <a:gdLst/>
              <a:ahLst/>
              <a:rect l="l" t="t" r="r" b="b"/>
              <a:pathLst>
                <a:path w="561" h="1129">
                  <a:moveTo>
                    <a:pt x="0" y="983"/>
                  </a:moveTo>
                  <a:lnTo>
                    <a:pt x="0" y="1129"/>
                  </a:lnTo>
                  <a:lnTo>
                    <a:pt x="20" y="1129"/>
                  </a:lnTo>
                  <a:lnTo>
                    <a:pt x="74" y="1125"/>
                  </a:lnTo>
                  <a:lnTo>
                    <a:pt x="129" y="1114"/>
                  </a:lnTo>
                  <a:lnTo>
                    <a:pt x="182" y="1098"/>
                  </a:lnTo>
                  <a:lnTo>
                    <a:pt x="236" y="1077"/>
                  </a:lnTo>
                  <a:lnTo>
                    <a:pt x="286" y="1048"/>
                  </a:lnTo>
                  <a:lnTo>
                    <a:pt x="336" y="1015"/>
                  </a:lnTo>
                  <a:lnTo>
                    <a:pt x="381" y="978"/>
                  </a:lnTo>
                  <a:lnTo>
                    <a:pt x="422" y="936"/>
                  </a:lnTo>
                  <a:lnTo>
                    <a:pt x="458" y="891"/>
                  </a:lnTo>
                  <a:lnTo>
                    <a:pt x="488" y="844"/>
                  </a:lnTo>
                  <a:lnTo>
                    <a:pt x="513" y="794"/>
                  </a:lnTo>
                  <a:lnTo>
                    <a:pt x="534" y="743"/>
                  </a:lnTo>
                  <a:lnTo>
                    <a:pt x="547" y="691"/>
                  </a:lnTo>
                  <a:lnTo>
                    <a:pt x="557" y="638"/>
                  </a:lnTo>
                  <a:lnTo>
                    <a:pt x="561" y="583"/>
                  </a:lnTo>
                  <a:lnTo>
                    <a:pt x="561" y="530"/>
                  </a:lnTo>
                  <a:lnTo>
                    <a:pt x="555" y="476"/>
                  </a:lnTo>
                  <a:lnTo>
                    <a:pt x="543" y="423"/>
                  </a:lnTo>
                  <a:lnTo>
                    <a:pt x="527" y="371"/>
                  </a:lnTo>
                  <a:lnTo>
                    <a:pt x="508" y="322"/>
                  </a:lnTo>
                  <a:lnTo>
                    <a:pt x="480" y="273"/>
                  </a:lnTo>
                  <a:lnTo>
                    <a:pt x="450" y="227"/>
                  </a:lnTo>
                  <a:lnTo>
                    <a:pt x="412" y="185"/>
                  </a:lnTo>
                  <a:lnTo>
                    <a:pt x="373" y="144"/>
                  </a:lnTo>
                  <a:lnTo>
                    <a:pt x="330" y="109"/>
                  </a:lnTo>
                  <a:lnTo>
                    <a:pt x="284" y="78"/>
                  </a:lnTo>
                  <a:lnTo>
                    <a:pt x="236" y="52"/>
                  </a:lnTo>
                  <a:lnTo>
                    <a:pt x="186" y="33"/>
                  </a:lnTo>
                  <a:lnTo>
                    <a:pt x="132" y="16"/>
                  </a:lnTo>
                  <a:lnTo>
                    <a:pt x="81" y="7"/>
                  </a:lnTo>
                  <a:lnTo>
                    <a:pt x="26" y="0"/>
                  </a:lnTo>
                  <a:lnTo>
                    <a:pt x="0" y="0"/>
                  </a:lnTo>
                  <a:lnTo>
                    <a:pt x="0" y="151"/>
                  </a:lnTo>
                  <a:lnTo>
                    <a:pt x="32" y="153"/>
                  </a:lnTo>
                  <a:lnTo>
                    <a:pt x="71" y="159"/>
                  </a:lnTo>
                  <a:lnTo>
                    <a:pt x="111" y="170"/>
                  </a:lnTo>
                  <a:lnTo>
                    <a:pt x="147" y="185"/>
                  </a:lnTo>
                  <a:lnTo>
                    <a:pt x="182" y="202"/>
                  </a:lnTo>
                  <a:lnTo>
                    <a:pt x="215" y="222"/>
                  </a:lnTo>
                  <a:lnTo>
                    <a:pt x="247" y="245"/>
                  </a:lnTo>
                  <a:lnTo>
                    <a:pt x="275" y="269"/>
                  </a:lnTo>
                  <a:lnTo>
                    <a:pt x="301" y="297"/>
                  </a:lnTo>
                  <a:lnTo>
                    <a:pt x="324" y="324"/>
                  </a:lnTo>
                  <a:lnTo>
                    <a:pt x="341" y="352"/>
                  </a:lnTo>
                  <a:lnTo>
                    <a:pt x="359" y="381"/>
                  </a:lnTo>
                  <a:lnTo>
                    <a:pt x="373" y="413"/>
                  </a:lnTo>
                  <a:lnTo>
                    <a:pt x="387" y="449"/>
                  </a:lnTo>
                  <a:lnTo>
                    <a:pt x="396" y="484"/>
                  </a:lnTo>
                  <a:lnTo>
                    <a:pt x="404" y="522"/>
                  </a:lnTo>
                  <a:lnTo>
                    <a:pt x="409" y="561"/>
                  </a:lnTo>
                  <a:lnTo>
                    <a:pt x="409" y="601"/>
                  </a:lnTo>
                  <a:lnTo>
                    <a:pt x="404" y="640"/>
                  </a:lnTo>
                  <a:lnTo>
                    <a:pt x="396" y="680"/>
                  </a:lnTo>
                  <a:lnTo>
                    <a:pt x="385" y="719"/>
                  </a:lnTo>
                  <a:lnTo>
                    <a:pt x="369" y="758"/>
                  </a:lnTo>
                  <a:lnTo>
                    <a:pt x="348" y="795"/>
                  </a:lnTo>
                  <a:lnTo>
                    <a:pt x="320" y="831"/>
                  </a:lnTo>
                  <a:lnTo>
                    <a:pt x="286" y="867"/>
                  </a:lnTo>
                  <a:lnTo>
                    <a:pt x="249" y="900"/>
                  </a:lnTo>
                  <a:lnTo>
                    <a:pt x="205" y="928"/>
                  </a:lnTo>
                  <a:lnTo>
                    <a:pt x="164" y="950"/>
                  </a:lnTo>
                  <a:lnTo>
                    <a:pt x="121" y="965"/>
                  </a:lnTo>
                  <a:lnTo>
                    <a:pt x="79" y="975"/>
                  </a:lnTo>
                  <a:lnTo>
                    <a:pt x="38" y="981"/>
                  </a:lnTo>
                  <a:lnTo>
                    <a:pt x="0" y="983"/>
                  </a:lnTo>
                  <a:close/>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968400" y="529200"/>
              <a:ext cx="72720" cy="130680"/>
            </a:xfrm>
            <a:custGeom>
              <a:avLst/>
              <a:gdLst/>
              <a:ahLst/>
              <a:rect l="l" t="t" r="r" b="b"/>
              <a:pathLst>
                <a:path w="568" h="1129">
                  <a:moveTo>
                    <a:pt x="568" y="151"/>
                  </a:moveTo>
                  <a:lnTo>
                    <a:pt x="568" y="0"/>
                  </a:lnTo>
                  <a:lnTo>
                    <a:pt x="540" y="0"/>
                  </a:lnTo>
                  <a:lnTo>
                    <a:pt x="485" y="5"/>
                  </a:lnTo>
                  <a:lnTo>
                    <a:pt x="432" y="16"/>
                  </a:lnTo>
                  <a:lnTo>
                    <a:pt x="378" y="33"/>
                  </a:lnTo>
                  <a:lnTo>
                    <a:pt x="325" y="54"/>
                  </a:lnTo>
                  <a:lnTo>
                    <a:pt x="274" y="81"/>
                  </a:lnTo>
                  <a:lnTo>
                    <a:pt x="225" y="115"/>
                  </a:lnTo>
                  <a:lnTo>
                    <a:pt x="178" y="154"/>
                  </a:lnTo>
                  <a:lnTo>
                    <a:pt x="138" y="196"/>
                  </a:lnTo>
                  <a:lnTo>
                    <a:pt x="100" y="241"/>
                  </a:lnTo>
                  <a:lnTo>
                    <a:pt x="71" y="290"/>
                  </a:lnTo>
                  <a:lnTo>
                    <a:pt x="45" y="340"/>
                  </a:lnTo>
                  <a:lnTo>
                    <a:pt x="27" y="392"/>
                  </a:lnTo>
                  <a:lnTo>
                    <a:pt x="12" y="442"/>
                  </a:lnTo>
                  <a:lnTo>
                    <a:pt x="4" y="496"/>
                  </a:lnTo>
                  <a:lnTo>
                    <a:pt x="0" y="551"/>
                  </a:lnTo>
                  <a:lnTo>
                    <a:pt x="0" y="604"/>
                  </a:lnTo>
                  <a:lnTo>
                    <a:pt x="8" y="658"/>
                  </a:lnTo>
                  <a:lnTo>
                    <a:pt x="17" y="711"/>
                  </a:lnTo>
                  <a:lnTo>
                    <a:pt x="35" y="763"/>
                  </a:lnTo>
                  <a:lnTo>
                    <a:pt x="58" y="811"/>
                  </a:lnTo>
                  <a:lnTo>
                    <a:pt x="82" y="861"/>
                  </a:lnTo>
                  <a:lnTo>
                    <a:pt x="113" y="907"/>
                  </a:lnTo>
                  <a:lnTo>
                    <a:pt x="148" y="947"/>
                  </a:lnTo>
                  <a:lnTo>
                    <a:pt x="187" y="988"/>
                  </a:lnTo>
                  <a:lnTo>
                    <a:pt x="231" y="1020"/>
                  </a:lnTo>
                  <a:lnTo>
                    <a:pt x="276" y="1051"/>
                  </a:lnTo>
                  <a:lnTo>
                    <a:pt x="323" y="1077"/>
                  </a:lnTo>
                  <a:lnTo>
                    <a:pt x="373" y="1096"/>
                  </a:lnTo>
                  <a:lnTo>
                    <a:pt x="427" y="1111"/>
                  </a:lnTo>
                  <a:lnTo>
                    <a:pt x="480" y="1124"/>
                  </a:lnTo>
                  <a:lnTo>
                    <a:pt x="532" y="1129"/>
                  </a:lnTo>
                  <a:lnTo>
                    <a:pt x="568" y="1129"/>
                  </a:lnTo>
                  <a:lnTo>
                    <a:pt x="568" y="983"/>
                  </a:lnTo>
                  <a:lnTo>
                    <a:pt x="564" y="983"/>
                  </a:lnTo>
                  <a:lnTo>
                    <a:pt x="525" y="980"/>
                  </a:lnTo>
                  <a:lnTo>
                    <a:pt x="485" y="972"/>
                  </a:lnTo>
                  <a:lnTo>
                    <a:pt x="446" y="960"/>
                  </a:lnTo>
                  <a:lnTo>
                    <a:pt x="411" y="946"/>
                  </a:lnTo>
                  <a:lnTo>
                    <a:pt x="377" y="928"/>
                  </a:lnTo>
                  <a:lnTo>
                    <a:pt x="343" y="908"/>
                  </a:lnTo>
                  <a:lnTo>
                    <a:pt x="314" y="884"/>
                  </a:lnTo>
                  <a:lnTo>
                    <a:pt x="286" y="861"/>
                  </a:lnTo>
                  <a:lnTo>
                    <a:pt x="262" y="837"/>
                  </a:lnTo>
                  <a:lnTo>
                    <a:pt x="241" y="810"/>
                  </a:lnTo>
                  <a:lnTo>
                    <a:pt x="221" y="782"/>
                  </a:lnTo>
                  <a:lnTo>
                    <a:pt x="203" y="753"/>
                  </a:lnTo>
                  <a:lnTo>
                    <a:pt x="189" y="719"/>
                  </a:lnTo>
                  <a:lnTo>
                    <a:pt x="176" y="685"/>
                  </a:lnTo>
                  <a:lnTo>
                    <a:pt x="166" y="648"/>
                  </a:lnTo>
                  <a:lnTo>
                    <a:pt x="158" y="610"/>
                  </a:lnTo>
                  <a:lnTo>
                    <a:pt x="153" y="570"/>
                  </a:lnTo>
                  <a:lnTo>
                    <a:pt x="153" y="531"/>
                  </a:lnTo>
                  <a:lnTo>
                    <a:pt x="156" y="492"/>
                  </a:lnTo>
                  <a:lnTo>
                    <a:pt x="163" y="452"/>
                  </a:lnTo>
                  <a:lnTo>
                    <a:pt x="176" y="413"/>
                  </a:lnTo>
                  <a:lnTo>
                    <a:pt x="192" y="374"/>
                  </a:lnTo>
                  <a:lnTo>
                    <a:pt x="213" y="336"/>
                  </a:lnTo>
                  <a:lnTo>
                    <a:pt x="241" y="298"/>
                  </a:lnTo>
                  <a:lnTo>
                    <a:pt x="274" y="266"/>
                  </a:lnTo>
                  <a:lnTo>
                    <a:pt x="314" y="232"/>
                  </a:lnTo>
                  <a:lnTo>
                    <a:pt x="354" y="204"/>
                  </a:lnTo>
                  <a:lnTo>
                    <a:pt x="394" y="182"/>
                  </a:lnTo>
                  <a:lnTo>
                    <a:pt x="436" y="167"/>
                  </a:lnTo>
                  <a:lnTo>
                    <a:pt x="477" y="157"/>
                  </a:lnTo>
                  <a:lnTo>
                    <a:pt x="519" y="151"/>
                  </a:lnTo>
                  <a:lnTo>
                    <a:pt x="561" y="149"/>
                  </a:lnTo>
                  <a:lnTo>
                    <a:pt x="568" y="151"/>
                  </a:lnTo>
                  <a:close/>
                </a:path>
              </a:pathLst>
            </a:custGeom>
            <a:blipFill rotWithShape="0">
              <a:blip r:embed="rId6"/>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1183680" y="499680"/>
              <a:ext cx="26280" cy="47880"/>
            </a:xfrm>
            <a:custGeom>
              <a:avLst/>
              <a:gdLst/>
              <a:ahLst/>
              <a:rect l="l" t="t" r="r" b="b"/>
              <a:pathLst>
                <a:path w="209" h="419">
                  <a:moveTo>
                    <a:pt x="0" y="330"/>
                  </a:moveTo>
                  <a:lnTo>
                    <a:pt x="0" y="419"/>
                  </a:lnTo>
                  <a:lnTo>
                    <a:pt x="10" y="419"/>
                  </a:lnTo>
                  <a:lnTo>
                    <a:pt x="52" y="413"/>
                  </a:lnTo>
                  <a:lnTo>
                    <a:pt x="91" y="396"/>
                  </a:lnTo>
                  <a:lnTo>
                    <a:pt x="128" y="375"/>
                  </a:lnTo>
                  <a:lnTo>
                    <a:pt x="159" y="346"/>
                  </a:lnTo>
                  <a:lnTo>
                    <a:pt x="182" y="314"/>
                  </a:lnTo>
                  <a:lnTo>
                    <a:pt x="198" y="276"/>
                  </a:lnTo>
                  <a:lnTo>
                    <a:pt x="207" y="237"/>
                  </a:lnTo>
                  <a:lnTo>
                    <a:pt x="209" y="197"/>
                  </a:lnTo>
                  <a:lnTo>
                    <a:pt x="204" y="156"/>
                  </a:lnTo>
                  <a:lnTo>
                    <a:pt x="188" y="116"/>
                  </a:lnTo>
                  <a:lnTo>
                    <a:pt x="167" y="79"/>
                  </a:lnTo>
                  <a:lnTo>
                    <a:pt x="136" y="50"/>
                  </a:lnTo>
                  <a:lnTo>
                    <a:pt x="105" y="26"/>
                  </a:lnTo>
                  <a:lnTo>
                    <a:pt x="68" y="8"/>
                  </a:lnTo>
                  <a:lnTo>
                    <a:pt x="28" y="0"/>
                  </a:lnTo>
                  <a:lnTo>
                    <a:pt x="0" y="0"/>
                  </a:lnTo>
                  <a:lnTo>
                    <a:pt x="0" y="87"/>
                  </a:lnTo>
                  <a:lnTo>
                    <a:pt x="15" y="87"/>
                  </a:lnTo>
                  <a:lnTo>
                    <a:pt x="38" y="93"/>
                  </a:lnTo>
                  <a:lnTo>
                    <a:pt x="58" y="103"/>
                  </a:lnTo>
                  <a:lnTo>
                    <a:pt x="78" y="116"/>
                  </a:lnTo>
                  <a:lnTo>
                    <a:pt x="94" y="134"/>
                  </a:lnTo>
                  <a:lnTo>
                    <a:pt x="105" y="154"/>
                  </a:lnTo>
                  <a:lnTo>
                    <a:pt x="115" y="178"/>
                  </a:lnTo>
                  <a:lnTo>
                    <a:pt x="117" y="202"/>
                  </a:lnTo>
                  <a:lnTo>
                    <a:pt x="117" y="225"/>
                  </a:lnTo>
                  <a:lnTo>
                    <a:pt x="113" y="249"/>
                  </a:lnTo>
                  <a:lnTo>
                    <a:pt x="103" y="270"/>
                  </a:lnTo>
                  <a:lnTo>
                    <a:pt x="91" y="291"/>
                  </a:lnTo>
                  <a:lnTo>
                    <a:pt x="73" y="306"/>
                  </a:lnTo>
                  <a:lnTo>
                    <a:pt x="54" y="320"/>
                  </a:lnTo>
                  <a:lnTo>
                    <a:pt x="31" y="328"/>
                  </a:lnTo>
                  <a:lnTo>
                    <a:pt x="7" y="330"/>
                  </a:lnTo>
                  <a:lnTo>
                    <a:pt x="0" y="330"/>
                  </a:lnTo>
                  <a:close/>
                </a:path>
              </a:pathLst>
            </a:custGeom>
            <a:blipFill rotWithShape="0">
              <a:blip r:embed="rId7"/>
              <a:srcRect/>
              <a:stretch/>
            </a:blip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302" name=""/>
            <p:cNvSpPr/>
            <p:nvPr/>
          </p:nvSpPr>
          <p:spPr>
            <a:xfrm>
              <a:off x="1155960" y="498600"/>
              <a:ext cx="27360" cy="48960"/>
            </a:xfrm>
            <a:custGeom>
              <a:avLst/>
              <a:gdLst/>
              <a:ahLst/>
              <a:rect l="l" t="t" r="r" b="b"/>
              <a:pathLst>
                <a:path w="210" h="421">
                  <a:moveTo>
                    <a:pt x="210" y="89"/>
                  </a:moveTo>
                  <a:lnTo>
                    <a:pt x="210" y="2"/>
                  </a:lnTo>
                  <a:lnTo>
                    <a:pt x="199" y="0"/>
                  </a:lnTo>
                  <a:lnTo>
                    <a:pt x="157" y="6"/>
                  </a:lnTo>
                  <a:lnTo>
                    <a:pt x="118" y="21"/>
                  </a:lnTo>
                  <a:lnTo>
                    <a:pt x="80" y="44"/>
                  </a:lnTo>
                  <a:lnTo>
                    <a:pt x="50" y="73"/>
                  </a:lnTo>
                  <a:lnTo>
                    <a:pt x="27" y="105"/>
                  </a:lnTo>
                  <a:lnTo>
                    <a:pt x="9" y="142"/>
                  </a:lnTo>
                  <a:lnTo>
                    <a:pt x="1" y="180"/>
                  </a:lnTo>
                  <a:lnTo>
                    <a:pt x="0" y="222"/>
                  </a:lnTo>
                  <a:lnTo>
                    <a:pt x="5" y="262"/>
                  </a:lnTo>
                  <a:lnTo>
                    <a:pt x="21" y="303"/>
                  </a:lnTo>
                  <a:lnTo>
                    <a:pt x="42" y="340"/>
                  </a:lnTo>
                  <a:lnTo>
                    <a:pt x="71" y="369"/>
                  </a:lnTo>
                  <a:lnTo>
                    <a:pt x="104" y="393"/>
                  </a:lnTo>
                  <a:lnTo>
                    <a:pt x="142" y="408"/>
                  </a:lnTo>
                  <a:lnTo>
                    <a:pt x="179" y="419"/>
                  </a:lnTo>
                  <a:lnTo>
                    <a:pt x="210" y="421"/>
                  </a:lnTo>
                  <a:lnTo>
                    <a:pt x="210" y="332"/>
                  </a:lnTo>
                  <a:lnTo>
                    <a:pt x="194" y="330"/>
                  </a:lnTo>
                  <a:lnTo>
                    <a:pt x="171" y="324"/>
                  </a:lnTo>
                  <a:lnTo>
                    <a:pt x="149" y="314"/>
                  </a:lnTo>
                  <a:lnTo>
                    <a:pt x="131" y="300"/>
                  </a:lnTo>
                  <a:lnTo>
                    <a:pt x="113" y="282"/>
                  </a:lnTo>
                  <a:lnTo>
                    <a:pt x="102" y="261"/>
                  </a:lnTo>
                  <a:lnTo>
                    <a:pt x="94" y="239"/>
                  </a:lnTo>
                  <a:lnTo>
                    <a:pt x="90" y="215"/>
                  </a:lnTo>
                  <a:lnTo>
                    <a:pt x="90" y="191"/>
                  </a:lnTo>
                  <a:lnTo>
                    <a:pt x="97" y="170"/>
                  </a:lnTo>
                  <a:lnTo>
                    <a:pt x="104" y="149"/>
                  </a:lnTo>
                  <a:lnTo>
                    <a:pt x="118" y="128"/>
                  </a:lnTo>
                  <a:lnTo>
                    <a:pt x="136" y="113"/>
                  </a:lnTo>
                  <a:lnTo>
                    <a:pt x="155" y="99"/>
                  </a:lnTo>
                  <a:lnTo>
                    <a:pt x="179" y="91"/>
                  </a:lnTo>
                  <a:lnTo>
                    <a:pt x="200" y="87"/>
                  </a:lnTo>
                  <a:lnTo>
                    <a:pt x="210" y="89"/>
                  </a:lnTo>
                  <a:close/>
                </a:path>
              </a:pathLst>
            </a:custGeom>
            <a:blipFill rotWithShape="0">
              <a:blip r:embed="rId8"/>
              <a:srcRect/>
              <a:stretch/>
            </a:blip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303" name=""/>
            <p:cNvSpPr/>
            <p:nvPr/>
          </p:nvSpPr>
          <p:spPr>
            <a:xfrm>
              <a:off x="1342440" y="402120"/>
              <a:ext cx="71640" cy="130680"/>
            </a:xfrm>
            <a:custGeom>
              <a:avLst/>
              <a:gdLst/>
              <a:ahLst/>
              <a:rect l="l" t="t" r="r" b="b"/>
              <a:pathLst>
                <a:path w="560" h="1130">
                  <a:moveTo>
                    <a:pt x="0" y="984"/>
                  </a:moveTo>
                  <a:lnTo>
                    <a:pt x="0" y="1130"/>
                  </a:lnTo>
                  <a:lnTo>
                    <a:pt x="26" y="1128"/>
                  </a:lnTo>
                  <a:lnTo>
                    <a:pt x="83" y="1121"/>
                  </a:lnTo>
                  <a:lnTo>
                    <a:pt x="142" y="1110"/>
                  </a:lnTo>
                  <a:lnTo>
                    <a:pt x="199" y="1092"/>
                  </a:lnTo>
                  <a:lnTo>
                    <a:pt x="252" y="1068"/>
                  </a:lnTo>
                  <a:lnTo>
                    <a:pt x="301" y="1039"/>
                  </a:lnTo>
                  <a:lnTo>
                    <a:pt x="348" y="1007"/>
                  </a:lnTo>
                  <a:lnTo>
                    <a:pt x="389" y="971"/>
                  </a:lnTo>
                  <a:lnTo>
                    <a:pt x="426" y="930"/>
                  </a:lnTo>
                  <a:lnTo>
                    <a:pt x="460" y="887"/>
                  </a:lnTo>
                  <a:lnTo>
                    <a:pt x="489" y="841"/>
                  </a:lnTo>
                  <a:lnTo>
                    <a:pt x="513" y="793"/>
                  </a:lnTo>
                  <a:lnTo>
                    <a:pt x="533" y="743"/>
                  </a:lnTo>
                  <a:lnTo>
                    <a:pt x="547" y="691"/>
                  </a:lnTo>
                  <a:lnTo>
                    <a:pt x="557" y="638"/>
                  </a:lnTo>
                  <a:lnTo>
                    <a:pt x="560" y="584"/>
                  </a:lnTo>
                  <a:lnTo>
                    <a:pt x="560" y="529"/>
                  </a:lnTo>
                  <a:lnTo>
                    <a:pt x="555" y="476"/>
                  </a:lnTo>
                  <a:lnTo>
                    <a:pt x="542" y="421"/>
                  </a:lnTo>
                  <a:lnTo>
                    <a:pt x="525" y="367"/>
                  </a:lnTo>
                  <a:lnTo>
                    <a:pt x="503" y="314"/>
                  </a:lnTo>
                  <a:lnTo>
                    <a:pt x="476" y="267"/>
                  </a:lnTo>
                  <a:lnTo>
                    <a:pt x="444" y="222"/>
                  </a:lnTo>
                  <a:lnTo>
                    <a:pt x="411" y="178"/>
                  </a:lnTo>
                  <a:lnTo>
                    <a:pt x="371" y="141"/>
                  </a:lnTo>
                  <a:lnTo>
                    <a:pt x="330" y="107"/>
                  </a:lnTo>
                  <a:lnTo>
                    <a:pt x="285" y="77"/>
                  </a:lnTo>
                  <a:lnTo>
                    <a:pt x="236" y="52"/>
                  </a:lnTo>
                  <a:lnTo>
                    <a:pt x="186" y="32"/>
                  </a:lnTo>
                  <a:lnTo>
                    <a:pt x="134" y="16"/>
                  </a:lnTo>
                  <a:lnTo>
                    <a:pt x="79" y="6"/>
                  </a:lnTo>
                  <a:lnTo>
                    <a:pt x="24" y="0"/>
                  </a:lnTo>
                  <a:lnTo>
                    <a:pt x="0" y="0"/>
                  </a:lnTo>
                  <a:lnTo>
                    <a:pt x="0" y="147"/>
                  </a:lnTo>
                  <a:lnTo>
                    <a:pt x="27" y="147"/>
                  </a:lnTo>
                  <a:lnTo>
                    <a:pt x="69" y="152"/>
                  </a:lnTo>
                  <a:lnTo>
                    <a:pt x="110" y="162"/>
                  </a:lnTo>
                  <a:lnTo>
                    <a:pt x="147" y="176"/>
                  </a:lnTo>
                  <a:lnTo>
                    <a:pt x="186" y="196"/>
                  </a:lnTo>
                  <a:lnTo>
                    <a:pt x="219" y="215"/>
                  </a:lnTo>
                  <a:lnTo>
                    <a:pt x="251" y="241"/>
                  </a:lnTo>
                  <a:lnTo>
                    <a:pt x="278" y="269"/>
                  </a:lnTo>
                  <a:lnTo>
                    <a:pt x="304" y="296"/>
                  </a:lnTo>
                  <a:lnTo>
                    <a:pt x="327" y="328"/>
                  </a:lnTo>
                  <a:lnTo>
                    <a:pt x="348" y="362"/>
                  </a:lnTo>
                  <a:lnTo>
                    <a:pt x="364" y="395"/>
                  </a:lnTo>
                  <a:lnTo>
                    <a:pt x="379" y="429"/>
                  </a:lnTo>
                  <a:lnTo>
                    <a:pt x="390" y="464"/>
                  </a:lnTo>
                  <a:lnTo>
                    <a:pt x="397" y="495"/>
                  </a:lnTo>
                  <a:lnTo>
                    <a:pt x="403" y="529"/>
                  </a:lnTo>
                  <a:lnTo>
                    <a:pt x="405" y="565"/>
                  </a:lnTo>
                  <a:lnTo>
                    <a:pt x="403" y="602"/>
                  </a:lnTo>
                  <a:lnTo>
                    <a:pt x="398" y="639"/>
                  </a:lnTo>
                  <a:lnTo>
                    <a:pt x="390" y="678"/>
                  </a:lnTo>
                  <a:lnTo>
                    <a:pt x="380" y="715"/>
                  </a:lnTo>
                  <a:lnTo>
                    <a:pt x="364" y="751"/>
                  </a:lnTo>
                  <a:lnTo>
                    <a:pt x="348" y="786"/>
                  </a:lnTo>
                  <a:lnTo>
                    <a:pt x="325" y="822"/>
                  </a:lnTo>
                  <a:lnTo>
                    <a:pt x="300" y="853"/>
                  </a:lnTo>
                  <a:lnTo>
                    <a:pt x="270" y="882"/>
                  </a:lnTo>
                  <a:lnTo>
                    <a:pt x="235" y="910"/>
                  </a:lnTo>
                  <a:lnTo>
                    <a:pt x="197" y="934"/>
                  </a:lnTo>
                  <a:lnTo>
                    <a:pt x="154" y="953"/>
                  </a:lnTo>
                  <a:lnTo>
                    <a:pt x="105" y="969"/>
                  </a:lnTo>
                  <a:lnTo>
                    <a:pt x="55" y="979"/>
                  </a:lnTo>
                  <a:lnTo>
                    <a:pt x="8" y="984"/>
                  </a:lnTo>
                  <a:lnTo>
                    <a:pt x="0" y="984"/>
                  </a:lnTo>
                  <a:close/>
                </a:path>
              </a:pathLst>
            </a:custGeom>
            <a:blipFill rotWithShape="0">
              <a:blip r:embed="rId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1269720" y="402120"/>
              <a:ext cx="72720" cy="130680"/>
            </a:xfrm>
            <a:custGeom>
              <a:avLst/>
              <a:gdLst/>
              <a:ahLst/>
              <a:rect l="l" t="t" r="r" b="b"/>
              <a:pathLst>
                <a:path w="568" h="1130">
                  <a:moveTo>
                    <a:pt x="568" y="147"/>
                  </a:moveTo>
                  <a:lnTo>
                    <a:pt x="568" y="0"/>
                  </a:lnTo>
                  <a:lnTo>
                    <a:pt x="534" y="0"/>
                  </a:lnTo>
                  <a:lnTo>
                    <a:pt x="477" y="8"/>
                  </a:lnTo>
                  <a:lnTo>
                    <a:pt x="418" y="21"/>
                  </a:lnTo>
                  <a:lnTo>
                    <a:pt x="361" y="40"/>
                  </a:lnTo>
                  <a:lnTo>
                    <a:pt x="306" y="63"/>
                  </a:lnTo>
                  <a:lnTo>
                    <a:pt x="256" y="92"/>
                  </a:lnTo>
                  <a:lnTo>
                    <a:pt x="210" y="125"/>
                  </a:lnTo>
                  <a:lnTo>
                    <a:pt x="170" y="160"/>
                  </a:lnTo>
                  <a:lnTo>
                    <a:pt x="131" y="202"/>
                  </a:lnTo>
                  <a:lnTo>
                    <a:pt x="98" y="246"/>
                  </a:lnTo>
                  <a:lnTo>
                    <a:pt x="71" y="291"/>
                  </a:lnTo>
                  <a:lnTo>
                    <a:pt x="47" y="340"/>
                  </a:lnTo>
                  <a:lnTo>
                    <a:pt x="27" y="390"/>
                  </a:lnTo>
                  <a:lnTo>
                    <a:pt x="13" y="443"/>
                  </a:lnTo>
                  <a:lnTo>
                    <a:pt x="3" y="495"/>
                  </a:lnTo>
                  <a:lnTo>
                    <a:pt x="0" y="549"/>
                  </a:lnTo>
                  <a:lnTo>
                    <a:pt x="1" y="602"/>
                  </a:lnTo>
                  <a:lnTo>
                    <a:pt x="8" y="657"/>
                  </a:lnTo>
                  <a:lnTo>
                    <a:pt x="19" y="711"/>
                  </a:lnTo>
                  <a:lnTo>
                    <a:pt x="35" y="764"/>
                  </a:lnTo>
                  <a:lnTo>
                    <a:pt x="57" y="814"/>
                  </a:lnTo>
                  <a:lnTo>
                    <a:pt x="84" y="863"/>
                  </a:lnTo>
                  <a:lnTo>
                    <a:pt x="116" y="906"/>
                  </a:lnTo>
                  <a:lnTo>
                    <a:pt x="149" y="948"/>
                  </a:lnTo>
                  <a:lnTo>
                    <a:pt x="189" y="985"/>
                  </a:lnTo>
                  <a:lnTo>
                    <a:pt x="230" y="1021"/>
                  </a:lnTo>
                  <a:lnTo>
                    <a:pt x="275" y="1050"/>
                  </a:lnTo>
                  <a:lnTo>
                    <a:pt x="323" y="1076"/>
                  </a:lnTo>
                  <a:lnTo>
                    <a:pt x="374" y="1096"/>
                  </a:lnTo>
                  <a:lnTo>
                    <a:pt x="426" y="1112"/>
                  </a:lnTo>
                  <a:lnTo>
                    <a:pt x="481" y="1123"/>
                  </a:lnTo>
                  <a:lnTo>
                    <a:pt x="536" y="1130"/>
                  </a:lnTo>
                  <a:lnTo>
                    <a:pt x="568" y="1130"/>
                  </a:lnTo>
                  <a:lnTo>
                    <a:pt x="568" y="984"/>
                  </a:lnTo>
                  <a:lnTo>
                    <a:pt x="531" y="984"/>
                  </a:lnTo>
                  <a:lnTo>
                    <a:pt x="487" y="977"/>
                  </a:lnTo>
                  <a:lnTo>
                    <a:pt x="445" y="966"/>
                  </a:lnTo>
                  <a:lnTo>
                    <a:pt x="408" y="952"/>
                  </a:lnTo>
                  <a:lnTo>
                    <a:pt x="372" y="932"/>
                  </a:lnTo>
                  <a:lnTo>
                    <a:pt x="338" y="910"/>
                  </a:lnTo>
                  <a:lnTo>
                    <a:pt x="307" y="887"/>
                  </a:lnTo>
                  <a:lnTo>
                    <a:pt x="280" y="859"/>
                  </a:lnTo>
                  <a:lnTo>
                    <a:pt x="254" y="829"/>
                  </a:lnTo>
                  <a:lnTo>
                    <a:pt x="230" y="800"/>
                  </a:lnTo>
                  <a:lnTo>
                    <a:pt x="212" y="768"/>
                  </a:lnTo>
                  <a:lnTo>
                    <a:pt x="194" y="735"/>
                  </a:lnTo>
                  <a:lnTo>
                    <a:pt x="181" y="703"/>
                  </a:lnTo>
                  <a:lnTo>
                    <a:pt x="171" y="670"/>
                  </a:lnTo>
                  <a:lnTo>
                    <a:pt x="165" y="638"/>
                  </a:lnTo>
                  <a:lnTo>
                    <a:pt x="160" y="602"/>
                  </a:lnTo>
                  <a:lnTo>
                    <a:pt x="157" y="567"/>
                  </a:lnTo>
                  <a:lnTo>
                    <a:pt x="160" y="529"/>
                  </a:lnTo>
                  <a:lnTo>
                    <a:pt x="163" y="492"/>
                  </a:lnTo>
                  <a:lnTo>
                    <a:pt x="171" y="455"/>
                  </a:lnTo>
                  <a:lnTo>
                    <a:pt x="181" y="417"/>
                  </a:lnTo>
                  <a:lnTo>
                    <a:pt x="194" y="380"/>
                  </a:lnTo>
                  <a:lnTo>
                    <a:pt x="212" y="344"/>
                  </a:lnTo>
                  <a:lnTo>
                    <a:pt x="234" y="310"/>
                  </a:lnTo>
                  <a:lnTo>
                    <a:pt x="262" y="277"/>
                  </a:lnTo>
                  <a:lnTo>
                    <a:pt x="291" y="247"/>
                  </a:lnTo>
                  <a:lnTo>
                    <a:pt x="325" y="220"/>
                  </a:lnTo>
                  <a:lnTo>
                    <a:pt x="364" y="196"/>
                  </a:lnTo>
                  <a:lnTo>
                    <a:pt x="408" y="176"/>
                  </a:lnTo>
                  <a:lnTo>
                    <a:pt x="455" y="160"/>
                  </a:lnTo>
                  <a:lnTo>
                    <a:pt x="505" y="150"/>
                  </a:lnTo>
                  <a:lnTo>
                    <a:pt x="550" y="147"/>
                  </a:lnTo>
                  <a:lnTo>
                    <a:pt x="568" y="147"/>
                  </a:lnTo>
                  <a:close/>
                </a:path>
              </a:pathLst>
            </a:custGeom>
            <a:blipFill rotWithShape="0">
              <a:blip r:embed="rId1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1497240" y="381600"/>
              <a:ext cx="66600" cy="123120"/>
            </a:xfrm>
            <a:custGeom>
              <a:avLst/>
              <a:gdLst/>
              <a:ahLst/>
              <a:rect l="l" t="t" r="r" b="b"/>
              <a:pathLst>
                <a:path w="515" h="1065">
                  <a:moveTo>
                    <a:pt x="0" y="623"/>
                  </a:moveTo>
                  <a:lnTo>
                    <a:pt x="0" y="769"/>
                  </a:lnTo>
                  <a:lnTo>
                    <a:pt x="203" y="756"/>
                  </a:lnTo>
                  <a:lnTo>
                    <a:pt x="345" y="1065"/>
                  </a:lnTo>
                  <a:lnTo>
                    <a:pt x="515" y="1054"/>
                  </a:lnTo>
                  <a:lnTo>
                    <a:pt x="28" y="0"/>
                  </a:lnTo>
                  <a:lnTo>
                    <a:pt x="0" y="2"/>
                  </a:lnTo>
                  <a:lnTo>
                    <a:pt x="0" y="282"/>
                  </a:lnTo>
                  <a:lnTo>
                    <a:pt x="138" y="614"/>
                  </a:lnTo>
                  <a:lnTo>
                    <a:pt x="0" y="623"/>
                  </a:lnTo>
                  <a:close/>
                </a:path>
              </a:pathLst>
            </a:custGeom>
            <a:blipFill rotWithShape="0">
              <a:blip r:embed="rId1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1440000" y="381600"/>
              <a:ext cx="57240" cy="129600"/>
            </a:xfrm>
            <a:custGeom>
              <a:avLst/>
              <a:gdLst/>
              <a:ahLst/>
              <a:rect l="l" t="t" r="r" b="b"/>
              <a:pathLst>
                <a:path w="450" h="1118">
                  <a:moveTo>
                    <a:pt x="450" y="280"/>
                  </a:moveTo>
                  <a:lnTo>
                    <a:pt x="450" y="0"/>
                  </a:lnTo>
                  <a:lnTo>
                    <a:pt x="335" y="8"/>
                  </a:lnTo>
                  <a:lnTo>
                    <a:pt x="0" y="1118"/>
                  </a:lnTo>
                  <a:lnTo>
                    <a:pt x="165" y="1107"/>
                  </a:lnTo>
                  <a:lnTo>
                    <a:pt x="264" y="780"/>
                  </a:lnTo>
                  <a:lnTo>
                    <a:pt x="450" y="767"/>
                  </a:lnTo>
                  <a:lnTo>
                    <a:pt x="450" y="621"/>
                  </a:lnTo>
                  <a:lnTo>
                    <a:pt x="309" y="631"/>
                  </a:lnTo>
                  <a:lnTo>
                    <a:pt x="420" y="207"/>
                  </a:lnTo>
                  <a:lnTo>
                    <a:pt x="422" y="207"/>
                  </a:lnTo>
                  <a:lnTo>
                    <a:pt x="450" y="280"/>
                  </a:lnTo>
                  <a:close/>
                </a:path>
              </a:pathLst>
            </a:custGeom>
            <a:blipFill rotWithShape="0">
              <a:blip r:embed="rId1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1579320" y="380880"/>
              <a:ext cx="138240" cy="130680"/>
            </a:xfrm>
            <a:custGeom>
              <a:avLst/>
              <a:gdLst/>
              <a:ahLst/>
              <a:rect l="l" t="t" r="r" b="b"/>
              <a:pathLst>
                <a:path w="1075" h="1127">
                  <a:moveTo>
                    <a:pt x="1075" y="333"/>
                  </a:moveTo>
                  <a:lnTo>
                    <a:pt x="1056" y="293"/>
                  </a:lnTo>
                  <a:lnTo>
                    <a:pt x="1025" y="243"/>
                  </a:lnTo>
                  <a:lnTo>
                    <a:pt x="1007" y="215"/>
                  </a:lnTo>
                  <a:lnTo>
                    <a:pt x="983" y="188"/>
                  </a:lnTo>
                  <a:lnTo>
                    <a:pt x="955" y="158"/>
                  </a:lnTo>
                  <a:lnTo>
                    <a:pt x="922" y="131"/>
                  </a:lnTo>
                  <a:lnTo>
                    <a:pt x="881" y="99"/>
                  </a:lnTo>
                  <a:lnTo>
                    <a:pt x="837" y="71"/>
                  </a:lnTo>
                  <a:lnTo>
                    <a:pt x="794" y="50"/>
                  </a:lnTo>
                  <a:lnTo>
                    <a:pt x="750" y="34"/>
                  </a:lnTo>
                  <a:lnTo>
                    <a:pt x="708" y="19"/>
                  </a:lnTo>
                  <a:lnTo>
                    <a:pt x="669" y="11"/>
                  </a:lnTo>
                  <a:lnTo>
                    <a:pt x="600" y="2"/>
                  </a:lnTo>
                  <a:lnTo>
                    <a:pt x="543" y="0"/>
                  </a:lnTo>
                  <a:lnTo>
                    <a:pt x="488" y="3"/>
                  </a:lnTo>
                  <a:lnTo>
                    <a:pt x="434" y="14"/>
                  </a:lnTo>
                  <a:lnTo>
                    <a:pt x="381" y="29"/>
                  </a:lnTo>
                  <a:lnTo>
                    <a:pt x="332" y="50"/>
                  </a:lnTo>
                  <a:lnTo>
                    <a:pt x="282" y="73"/>
                  </a:lnTo>
                  <a:lnTo>
                    <a:pt x="237" y="100"/>
                  </a:lnTo>
                  <a:lnTo>
                    <a:pt x="195" y="134"/>
                  </a:lnTo>
                  <a:lnTo>
                    <a:pt x="156" y="172"/>
                  </a:lnTo>
                  <a:lnTo>
                    <a:pt x="120" y="212"/>
                  </a:lnTo>
                  <a:lnTo>
                    <a:pt x="89" y="257"/>
                  </a:lnTo>
                  <a:lnTo>
                    <a:pt x="62" y="302"/>
                  </a:lnTo>
                  <a:lnTo>
                    <a:pt x="40" y="353"/>
                  </a:lnTo>
                  <a:lnTo>
                    <a:pt x="22" y="406"/>
                  </a:lnTo>
                  <a:lnTo>
                    <a:pt x="10" y="461"/>
                  </a:lnTo>
                  <a:lnTo>
                    <a:pt x="2" y="521"/>
                  </a:lnTo>
                  <a:lnTo>
                    <a:pt x="0" y="578"/>
                  </a:lnTo>
                  <a:lnTo>
                    <a:pt x="6" y="633"/>
                  </a:lnTo>
                  <a:lnTo>
                    <a:pt x="15" y="689"/>
                  </a:lnTo>
                  <a:lnTo>
                    <a:pt x="30" y="743"/>
                  </a:lnTo>
                  <a:lnTo>
                    <a:pt x="51" y="793"/>
                  </a:lnTo>
                  <a:lnTo>
                    <a:pt x="75" y="840"/>
                  </a:lnTo>
                  <a:lnTo>
                    <a:pt x="104" y="888"/>
                  </a:lnTo>
                  <a:lnTo>
                    <a:pt x="136" y="929"/>
                  </a:lnTo>
                  <a:lnTo>
                    <a:pt x="174" y="971"/>
                  </a:lnTo>
                  <a:lnTo>
                    <a:pt x="216" y="1007"/>
                  </a:lnTo>
                  <a:lnTo>
                    <a:pt x="258" y="1038"/>
                  </a:lnTo>
                  <a:lnTo>
                    <a:pt x="306" y="1065"/>
                  </a:lnTo>
                  <a:lnTo>
                    <a:pt x="355" y="1089"/>
                  </a:lnTo>
                  <a:lnTo>
                    <a:pt x="407" y="1107"/>
                  </a:lnTo>
                  <a:lnTo>
                    <a:pt x="462" y="1119"/>
                  </a:lnTo>
                  <a:lnTo>
                    <a:pt x="519" y="1127"/>
                  </a:lnTo>
                  <a:lnTo>
                    <a:pt x="585" y="1127"/>
                  </a:lnTo>
                  <a:lnTo>
                    <a:pt x="651" y="1120"/>
                  </a:lnTo>
                  <a:lnTo>
                    <a:pt x="719" y="1105"/>
                  </a:lnTo>
                  <a:lnTo>
                    <a:pt x="787" y="1080"/>
                  </a:lnTo>
                  <a:lnTo>
                    <a:pt x="855" y="1046"/>
                  </a:lnTo>
                  <a:lnTo>
                    <a:pt x="886" y="1024"/>
                  </a:lnTo>
                  <a:lnTo>
                    <a:pt x="918" y="999"/>
                  </a:lnTo>
                  <a:lnTo>
                    <a:pt x="947" y="973"/>
                  </a:lnTo>
                  <a:lnTo>
                    <a:pt x="977" y="942"/>
                  </a:lnTo>
                  <a:lnTo>
                    <a:pt x="1004" y="908"/>
                  </a:lnTo>
                  <a:lnTo>
                    <a:pt x="1030" y="872"/>
                  </a:lnTo>
                  <a:lnTo>
                    <a:pt x="837" y="858"/>
                  </a:lnTo>
                  <a:lnTo>
                    <a:pt x="805" y="888"/>
                  </a:lnTo>
                  <a:lnTo>
                    <a:pt x="770" y="913"/>
                  </a:lnTo>
                  <a:lnTo>
                    <a:pt x="734" y="935"/>
                  </a:lnTo>
                  <a:lnTo>
                    <a:pt x="697" y="953"/>
                  </a:lnTo>
                  <a:lnTo>
                    <a:pt x="656" y="967"/>
                  </a:lnTo>
                  <a:lnTo>
                    <a:pt x="616" y="976"/>
                  </a:lnTo>
                  <a:lnTo>
                    <a:pt x="572" y="981"/>
                  </a:lnTo>
                  <a:lnTo>
                    <a:pt x="531" y="981"/>
                  </a:lnTo>
                  <a:lnTo>
                    <a:pt x="491" y="976"/>
                  </a:lnTo>
                  <a:lnTo>
                    <a:pt x="452" y="967"/>
                  </a:lnTo>
                  <a:lnTo>
                    <a:pt x="417" y="955"/>
                  </a:lnTo>
                  <a:lnTo>
                    <a:pt x="381" y="937"/>
                  </a:lnTo>
                  <a:lnTo>
                    <a:pt x="347" y="918"/>
                  </a:lnTo>
                  <a:lnTo>
                    <a:pt x="316" y="894"/>
                  </a:lnTo>
                  <a:lnTo>
                    <a:pt x="287" y="868"/>
                  </a:lnTo>
                  <a:lnTo>
                    <a:pt x="261" y="838"/>
                  </a:lnTo>
                  <a:lnTo>
                    <a:pt x="235" y="807"/>
                  </a:lnTo>
                  <a:lnTo>
                    <a:pt x="213" y="774"/>
                  </a:lnTo>
                  <a:lnTo>
                    <a:pt x="195" y="736"/>
                  </a:lnTo>
                  <a:lnTo>
                    <a:pt x="182" y="699"/>
                  </a:lnTo>
                  <a:lnTo>
                    <a:pt x="170" y="659"/>
                  </a:lnTo>
                  <a:lnTo>
                    <a:pt x="162" y="618"/>
                  </a:lnTo>
                  <a:lnTo>
                    <a:pt x="161" y="576"/>
                  </a:lnTo>
                  <a:lnTo>
                    <a:pt x="161" y="533"/>
                  </a:lnTo>
                  <a:lnTo>
                    <a:pt x="166" y="492"/>
                  </a:lnTo>
                  <a:lnTo>
                    <a:pt x="174" y="450"/>
                  </a:lnTo>
                  <a:lnTo>
                    <a:pt x="185" y="411"/>
                  </a:lnTo>
                  <a:lnTo>
                    <a:pt x="203" y="372"/>
                  </a:lnTo>
                  <a:lnTo>
                    <a:pt x="221" y="340"/>
                  </a:lnTo>
                  <a:lnTo>
                    <a:pt x="245" y="306"/>
                  </a:lnTo>
                  <a:lnTo>
                    <a:pt x="271" y="277"/>
                  </a:lnTo>
                  <a:lnTo>
                    <a:pt x="298" y="249"/>
                  </a:lnTo>
                  <a:lnTo>
                    <a:pt x="328" y="223"/>
                  </a:lnTo>
                  <a:lnTo>
                    <a:pt x="361" y="201"/>
                  </a:lnTo>
                  <a:lnTo>
                    <a:pt x="395" y="183"/>
                  </a:lnTo>
                  <a:lnTo>
                    <a:pt x="433" y="168"/>
                  </a:lnTo>
                  <a:lnTo>
                    <a:pt x="470" y="156"/>
                  </a:lnTo>
                  <a:lnTo>
                    <a:pt x="509" y="150"/>
                  </a:lnTo>
                  <a:lnTo>
                    <a:pt x="551" y="146"/>
                  </a:lnTo>
                  <a:lnTo>
                    <a:pt x="593" y="146"/>
                  </a:lnTo>
                  <a:lnTo>
                    <a:pt x="624" y="150"/>
                  </a:lnTo>
                  <a:lnTo>
                    <a:pt x="653" y="156"/>
                  </a:lnTo>
                  <a:lnTo>
                    <a:pt x="708" y="173"/>
                  </a:lnTo>
                  <a:lnTo>
                    <a:pt x="755" y="197"/>
                  </a:lnTo>
                  <a:lnTo>
                    <a:pt x="794" y="223"/>
                  </a:lnTo>
                  <a:lnTo>
                    <a:pt x="827" y="251"/>
                  </a:lnTo>
                  <a:lnTo>
                    <a:pt x="852" y="278"/>
                  </a:lnTo>
                  <a:lnTo>
                    <a:pt x="886" y="320"/>
                  </a:lnTo>
                  <a:lnTo>
                    <a:pt x="1075" y="333"/>
                  </a:lnTo>
                  <a:close/>
                </a:path>
              </a:pathLst>
            </a:custGeom>
            <a:blipFill rotWithShape="0">
              <a:blip r:embed="rId1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1733040" y="399240"/>
              <a:ext cx="51120" cy="126000"/>
            </a:xfrm>
            <a:custGeom>
              <a:avLst/>
              <a:gdLst/>
              <a:ahLst/>
              <a:rect l="l" t="t" r="r" b="b"/>
              <a:pathLst>
                <a:path w="398" h="1093">
                  <a:moveTo>
                    <a:pt x="154" y="1093"/>
                  </a:moveTo>
                  <a:lnTo>
                    <a:pt x="398" y="36"/>
                  </a:lnTo>
                  <a:lnTo>
                    <a:pt x="245" y="0"/>
                  </a:lnTo>
                  <a:lnTo>
                    <a:pt x="0" y="1058"/>
                  </a:lnTo>
                  <a:lnTo>
                    <a:pt x="154" y="1093"/>
                  </a:lnTo>
                  <a:close/>
                </a:path>
              </a:pathLst>
            </a:custGeom>
            <a:blipFill rotWithShape="0">
              <a:blip r:embed="rId14"/>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1864440" y="470880"/>
              <a:ext cx="27360" cy="47880"/>
            </a:xfrm>
            <a:custGeom>
              <a:avLst/>
              <a:gdLst/>
              <a:ahLst/>
              <a:rect l="l" t="t" r="r" b="b"/>
              <a:pathLst>
                <a:path w="209" h="417">
                  <a:moveTo>
                    <a:pt x="0" y="330"/>
                  </a:moveTo>
                  <a:lnTo>
                    <a:pt x="0" y="417"/>
                  </a:lnTo>
                  <a:lnTo>
                    <a:pt x="6" y="417"/>
                  </a:lnTo>
                  <a:lnTo>
                    <a:pt x="46" y="412"/>
                  </a:lnTo>
                  <a:lnTo>
                    <a:pt x="83" y="400"/>
                  </a:lnTo>
                  <a:lnTo>
                    <a:pt x="118" y="380"/>
                  </a:lnTo>
                  <a:lnTo>
                    <a:pt x="151" y="353"/>
                  </a:lnTo>
                  <a:lnTo>
                    <a:pt x="176" y="322"/>
                  </a:lnTo>
                  <a:lnTo>
                    <a:pt x="194" y="281"/>
                  </a:lnTo>
                  <a:lnTo>
                    <a:pt x="206" y="241"/>
                  </a:lnTo>
                  <a:lnTo>
                    <a:pt x="209" y="199"/>
                  </a:lnTo>
                  <a:lnTo>
                    <a:pt x="204" y="160"/>
                  </a:lnTo>
                  <a:lnTo>
                    <a:pt x="191" y="121"/>
                  </a:lnTo>
                  <a:lnTo>
                    <a:pt x="170" y="87"/>
                  </a:lnTo>
                  <a:lnTo>
                    <a:pt x="144" y="55"/>
                  </a:lnTo>
                  <a:lnTo>
                    <a:pt x="113" y="31"/>
                  </a:lnTo>
                  <a:lnTo>
                    <a:pt x="73" y="11"/>
                  </a:lnTo>
                  <a:lnTo>
                    <a:pt x="32" y="0"/>
                  </a:lnTo>
                  <a:lnTo>
                    <a:pt x="0" y="0"/>
                  </a:lnTo>
                  <a:lnTo>
                    <a:pt x="0" y="87"/>
                  </a:lnTo>
                  <a:lnTo>
                    <a:pt x="20" y="87"/>
                  </a:lnTo>
                  <a:lnTo>
                    <a:pt x="42" y="92"/>
                  </a:lnTo>
                  <a:lnTo>
                    <a:pt x="63" y="102"/>
                  </a:lnTo>
                  <a:lnTo>
                    <a:pt x="83" y="118"/>
                  </a:lnTo>
                  <a:lnTo>
                    <a:pt x="97" y="136"/>
                  </a:lnTo>
                  <a:lnTo>
                    <a:pt x="109" y="155"/>
                  </a:lnTo>
                  <a:lnTo>
                    <a:pt x="115" y="179"/>
                  </a:lnTo>
                  <a:lnTo>
                    <a:pt x="117" y="201"/>
                  </a:lnTo>
                  <a:lnTo>
                    <a:pt x="117" y="225"/>
                  </a:lnTo>
                  <a:lnTo>
                    <a:pt x="109" y="249"/>
                  </a:lnTo>
                  <a:lnTo>
                    <a:pt x="99" y="270"/>
                  </a:lnTo>
                  <a:lnTo>
                    <a:pt x="83" y="289"/>
                  </a:lnTo>
                  <a:lnTo>
                    <a:pt x="65" y="306"/>
                  </a:lnTo>
                  <a:lnTo>
                    <a:pt x="46" y="317"/>
                  </a:lnTo>
                  <a:lnTo>
                    <a:pt x="24" y="325"/>
                  </a:lnTo>
                  <a:lnTo>
                    <a:pt x="0" y="330"/>
                  </a:lnTo>
                  <a:close/>
                </a:path>
              </a:pathLst>
            </a:custGeom>
            <a:blipFill rotWithShape="0">
              <a:blip r:embed="rId15"/>
              <a:srcRect/>
              <a:stretch/>
            </a:blip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310" name=""/>
            <p:cNvSpPr/>
            <p:nvPr/>
          </p:nvSpPr>
          <p:spPr>
            <a:xfrm>
              <a:off x="1837800" y="470880"/>
              <a:ext cx="26640" cy="47880"/>
            </a:xfrm>
            <a:custGeom>
              <a:avLst/>
              <a:gdLst/>
              <a:ahLst/>
              <a:rect l="l" t="t" r="r" b="b"/>
              <a:pathLst>
                <a:path w="212" h="419">
                  <a:moveTo>
                    <a:pt x="212" y="89"/>
                  </a:moveTo>
                  <a:lnTo>
                    <a:pt x="212" y="2"/>
                  </a:lnTo>
                  <a:lnTo>
                    <a:pt x="202" y="0"/>
                  </a:lnTo>
                  <a:lnTo>
                    <a:pt x="163" y="3"/>
                  </a:lnTo>
                  <a:lnTo>
                    <a:pt x="126" y="18"/>
                  </a:lnTo>
                  <a:lnTo>
                    <a:pt x="90" y="37"/>
                  </a:lnTo>
                  <a:lnTo>
                    <a:pt x="58" y="63"/>
                  </a:lnTo>
                  <a:lnTo>
                    <a:pt x="33" y="94"/>
                  </a:lnTo>
                  <a:lnTo>
                    <a:pt x="15" y="134"/>
                  </a:lnTo>
                  <a:lnTo>
                    <a:pt x="3" y="175"/>
                  </a:lnTo>
                  <a:lnTo>
                    <a:pt x="0" y="217"/>
                  </a:lnTo>
                  <a:lnTo>
                    <a:pt x="5" y="256"/>
                  </a:lnTo>
                  <a:lnTo>
                    <a:pt x="18" y="293"/>
                  </a:lnTo>
                  <a:lnTo>
                    <a:pt x="37" y="329"/>
                  </a:lnTo>
                  <a:lnTo>
                    <a:pt x="65" y="361"/>
                  </a:lnTo>
                  <a:lnTo>
                    <a:pt x="96" y="387"/>
                  </a:lnTo>
                  <a:lnTo>
                    <a:pt x="136" y="404"/>
                  </a:lnTo>
                  <a:lnTo>
                    <a:pt x="177" y="416"/>
                  </a:lnTo>
                  <a:lnTo>
                    <a:pt x="212" y="419"/>
                  </a:lnTo>
                  <a:lnTo>
                    <a:pt x="212" y="332"/>
                  </a:lnTo>
                  <a:lnTo>
                    <a:pt x="212" y="332"/>
                  </a:lnTo>
                  <a:lnTo>
                    <a:pt x="189" y="332"/>
                  </a:lnTo>
                  <a:lnTo>
                    <a:pt x="167" y="324"/>
                  </a:lnTo>
                  <a:lnTo>
                    <a:pt x="146" y="314"/>
                  </a:lnTo>
                  <a:lnTo>
                    <a:pt x="126" y="298"/>
                  </a:lnTo>
                  <a:lnTo>
                    <a:pt x="112" y="280"/>
                  </a:lnTo>
                  <a:lnTo>
                    <a:pt x="102" y="258"/>
                  </a:lnTo>
                  <a:lnTo>
                    <a:pt x="94" y="236"/>
                  </a:lnTo>
                  <a:lnTo>
                    <a:pt x="92" y="212"/>
                  </a:lnTo>
                  <a:lnTo>
                    <a:pt x="94" y="189"/>
                  </a:lnTo>
                  <a:lnTo>
                    <a:pt x="100" y="165"/>
                  </a:lnTo>
                  <a:lnTo>
                    <a:pt x="110" y="144"/>
                  </a:lnTo>
                  <a:lnTo>
                    <a:pt x="126" y="126"/>
                  </a:lnTo>
                  <a:lnTo>
                    <a:pt x="144" y="110"/>
                  </a:lnTo>
                  <a:lnTo>
                    <a:pt x="163" y="99"/>
                  </a:lnTo>
                  <a:lnTo>
                    <a:pt x="185" y="91"/>
                  </a:lnTo>
                  <a:lnTo>
                    <a:pt x="209" y="86"/>
                  </a:lnTo>
                  <a:lnTo>
                    <a:pt x="212" y="89"/>
                  </a:lnTo>
                  <a:close/>
                </a:path>
              </a:pathLst>
            </a:custGeom>
            <a:blipFill rotWithShape="0">
              <a:blip r:embed="rId16"/>
              <a:srcRect/>
              <a:stretch/>
            </a:blip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311" name=""/>
            <p:cNvSpPr/>
            <p:nvPr/>
          </p:nvSpPr>
          <p:spPr>
            <a:xfrm>
              <a:off x="1929960" y="473400"/>
              <a:ext cx="165960" cy="159480"/>
            </a:xfrm>
            <a:custGeom>
              <a:avLst/>
              <a:gdLst/>
              <a:ahLst/>
              <a:rect l="l" t="t" r="r" b="b"/>
              <a:pathLst>
                <a:path w="1298" h="1375">
                  <a:moveTo>
                    <a:pt x="0" y="930"/>
                  </a:moveTo>
                  <a:lnTo>
                    <a:pt x="559" y="0"/>
                  </a:lnTo>
                  <a:lnTo>
                    <a:pt x="695" y="81"/>
                  </a:lnTo>
                  <a:lnTo>
                    <a:pt x="270" y="789"/>
                  </a:lnTo>
                  <a:lnTo>
                    <a:pt x="272" y="792"/>
                  </a:lnTo>
                  <a:lnTo>
                    <a:pt x="1151" y="355"/>
                  </a:lnTo>
                  <a:lnTo>
                    <a:pt x="1298" y="444"/>
                  </a:lnTo>
                  <a:lnTo>
                    <a:pt x="740" y="1375"/>
                  </a:lnTo>
                  <a:lnTo>
                    <a:pt x="604" y="1292"/>
                  </a:lnTo>
                  <a:lnTo>
                    <a:pt x="1036" y="575"/>
                  </a:lnTo>
                  <a:lnTo>
                    <a:pt x="1034" y="572"/>
                  </a:lnTo>
                  <a:lnTo>
                    <a:pt x="140" y="1014"/>
                  </a:lnTo>
                  <a:lnTo>
                    <a:pt x="0" y="930"/>
                  </a:lnTo>
                  <a:close/>
                </a:path>
              </a:pathLst>
            </a:custGeom>
            <a:blipFill rotWithShape="0">
              <a:blip r:embed="rId17"/>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2055240" y="557280"/>
              <a:ext cx="164880" cy="153000"/>
            </a:xfrm>
            <a:custGeom>
              <a:avLst/>
              <a:gdLst/>
              <a:ahLst/>
              <a:rect l="l" t="t" r="r" b="b"/>
              <a:pathLst>
                <a:path w="1287" h="1326">
                  <a:moveTo>
                    <a:pt x="589" y="1326"/>
                  </a:moveTo>
                  <a:lnTo>
                    <a:pt x="617" y="634"/>
                  </a:lnTo>
                  <a:lnTo>
                    <a:pt x="1287" y="494"/>
                  </a:lnTo>
                  <a:lnTo>
                    <a:pt x="1138" y="367"/>
                  </a:lnTo>
                  <a:lnTo>
                    <a:pt x="476" y="515"/>
                  </a:lnTo>
                  <a:lnTo>
                    <a:pt x="474" y="513"/>
                  </a:lnTo>
                  <a:lnTo>
                    <a:pt x="819" y="101"/>
                  </a:lnTo>
                  <a:lnTo>
                    <a:pt x="699" y="0"/>
                  </a:lnTo>
                  <a:lnTo>
                    <a:pt x="0" y="831"/>
                  </a:lnTo>
                  <a:lnTo>
                    <a:pt x="121" y="934"/>
                  </a:lnTo>
                  <a:lnTo>
                    <a:pt x="474" y="513"/>
                  </a:lnTo>
                  <a:lnTo>
                    <a:pt x="476" y="515"/>
                  </a:lnTo>
                  <a:lnTo>
                    <a:pt x="441" y="1200"/>
                  </a:lnTo>
                  <a:lnTo>
                    <a:pt x="589" y="1326"/>
                  </a:lnTo>
                  <a:close/>
                </a:path>
              </a:pathLst>
            </a:custGeom>
            <a:blipFill rotWithShape="0">
              <a:blip r:embed="rId18"/>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2234520" y="666720"/>
              <a:ext cx="51120" cy="101880"/>
            </a:xfrm>
            <a:custGeom>
              <a:avLst/>
              <a:gdLst/>
              <a:ahLst/>
              <a:rect l="l" t="t" r="r" b="b"/>
              <a:pathLst>
                <a:path w="403" h="882">
                  <a:moveTo>
                    <a:pt x="0" y="545"/>
                  </a:moveTo>
                  <a:lnTo>
                    <a:pt x="0" y="882"/>
                  </a:lnTo>
                  <a:lnTo>
                    <a:pt x="403" y="105"/>
                  </a:lnTo>
                  <a:lnTo>
                    <a:pt x="306" y="0"/>
                  </a:lnTo>
                  <a:lnTo>
                    <a:pt x="0" y="118"/>
                  </a:lnTo>
                  <a:lnTo>
                    <a:pt x="0" y="277"/>
                  </a:lnTo>
                  <a:lnTo>
                    <a:pt x="201" y="190"/>
                  </a:lnTo>
                  <a:lnTo>
                    <a:pt x="204" y="192"/>
                  </a:lnTo>
                  <a:lnTo>
                    <a:pt x="0" y="545"/>
                  </a:lnTo>
                  <a:close/>
                </a:path>
              </a:pathLst>
            </a:custGeom>
            <a:blipFill rotWithShape="0">
              <a:blip r:embed="rId1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2135160" y="680760"/>
              <a:ext cx="99360" cy="117720"/>
            </a:xfrm>
            <a:custGeom>
              <a:avLst/>
              <a:gdLst/>
              <a:ahLst/>
              <a:rect l="l" t="t" r="r" b="b"/>
              <a:pathLst>
                <a:path w="777" h="1021">
                  <a:moveTo>
                    <a:pt x="777" y="159"/>
                  </a:moveTo>
                  <a:lnTo>
                    <a:pt x="777" y="0"/>
                  </a:lnTo>
                  <a:lnTo>
                    <a:pt x="0" y="303"/>
                  </a:lnTo>
                  <a:lnTo>
                    <a:pt x="112" y="427"/>
                  </a:lnTo>
                  <a:lnTo>
                    <a:pt x="429" y="303"/>
                  </a:lnTo>
                  <a:lnTo>
                    <a:pt x="693" y="593"/>
                  </a:lnTo>
                  <a:lnTo>
                    <a:pt x="534" y="897"/>
                  </a:lnTo>
                  <a:lnTo>
                    <a:pt x="646" y="1021"/>
                  </a:lnTo>
                  <a:lnTo>
                    <a:pt x="777" y="764"/>
                  </a:lnTo>
                  <a:lnTo>
                    <a:pt x="777" y="427"/>
                  </a:lnTo>
                  <a:lnTo>
                    <a:pt x="764" y="455"/>
                  </a:lnTo>
                  <a:lnTo>
                    <a:pt x="576" y="246"/>
                  </a:lnTo>
                  <a:lnTo>
                    <a:pt x="777" y="159"/>
                  </a:lnTo>
                  <a:close/>
                </a:path>
              </a:pathLst>
            </a:custGeom>
            <a:blipFill rotWithShape="0">
              <a:blip r:embed="rId2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2318400" y="763200"/>
              <a:ext cx="71640" cy="130680"/>
            </a:xfrm>
            <a:custGeom>
              <a:avLst/>
              <a:gdLst/>
              <a:ahLst/>
              <a:rect l="l" t="t" r="r" b="b"/>
              <a:pathLst>
                <a:path w="566" h="1128">
                  <a:moveTo>
                    <a:pt x="0" y="974"/>
                  </a:moveTo>
                  <a:lnTo>
                    <a:pt x="0" y="1128"/>
                  </a:lnTo>
                  <a:lnTo>
                    <a:pt x="32" y="1128"/>
                  </a:lnTo>
                  <a:lnTo>
                    <a:pt x="85" y="1122"/>
                  </a:lnTo>
                  <a:lnTo>
                    <a:pt x="139" y="1112"/>
                  </a:lnTo>
                  <a:lnTo>
                    <a:pt x="192" y="1097"/>
                  </a:lnTo>
                  <a:lnTo>
                    <a:pt x="241" y="1075"/>
                  </a:lnTo>
                  <a:lnTo>
                    <a:pt x="291" y="1049"/>
                  </a:lnTo>
                  <a:lnTo>
                    <a:pt x="338" y="1018"/>
                  </a:lnTo>
                  <a:lnTo>
                    <a:pt x="381" y="982"/>
                  </a:lnTo>
                  <a:lnTo>
                    <a:pt x="421" y="942"/>
                  </a:lnTo>
                  <a:lnTo>
                    <a:pt x="456" y="899"/>
                  </a:lnTo>
                  <a:lnTo>
                    <a:pt x="485" y="854"/>
                  </a:lnTo>
                  <a:lnTo>
                    <a:pt x="511" y="806"/>
                  </a:lnTo>
                  <a:lnTo>
                    <a:pt x="533" y="757"/>
                  </a:lnTo>
                  <a:lnTo>
                    <a:pt x="549" y="706"/>
                  </a:lnTo>
                  <a:lnTo>
                    <a:pt x="561" y="652"/>
                  </a:lnTo>
                  <a:lnTo>
                    <a:pt x="566" y="599"/>
                  </a:lnTo>
                  <a:lnTo>
                    <a:pt x="566" y="544"/>
                  </a:lnTo>
                  <a:lnTo>
                    <a:pt x="563" y="489"/>
                  </a:lnTo>
                  <a:lnTo>
                    <a:pt x="551" y="433"/>
                  </a:lnTo>
                  <a:lnTo>
                    <a:pt x="535" y="380"/>
                  </a:lnTo>
                  <a:lnTo>
                    <a:pt x="513" y="327"/>
                  </a:lnTo>
                  <a:lnTo>
                    <a:pt x="484" y="273"/>
                  </a:lnTo>
                  <a:lnTo>
                    <a:pt x="450" y="223"/>
                  </a:lnTo>
                  <a:lnTo>
                    <a:pt x="412" y="176"/>
                  </a:lnTo>
                  <a:lnTo>
                    <a:pt x="372" y="137"/>
                  </a:lnTo>
                  <a:lnTo>
                    <a:pt x="328" y="102"/>
                  </a:lnTo>
                  <a:lnTo>
                    <a:pt x="281" y="72"/>
                  </a:lnTo>
                  <a:lnTo>
                    <a:pt x="231" y="47"/>
                  </a:lnTo>
                  <a:lnTo>
                    <a:pt x="179" y="27"/>
                  </a:lnTo>
                  <a:lnTo>
                    <a:pt x="129" y="13"/>
                  </a:lnTo>
                  <a:lnTo>
                    <a:pt x="76" y="3"/>
                  </a:lnTo>
                  <a:lnTo>
                    <a:pt x="22" y="0"/>
                  </a:lnTo>
                  <a:lnTo>
                    <a:pt x="0" y="0"/>
                  </a:lnTo>
                  <a:lnTo>
                    <a:pt x="0" y="155"/>
                  </a:lnTo>
                  <a:lnTo>
                    <a:pt x="38" y="155"/>
                  </a:lnTo>
                  <a:lnTo>
                    <a:pt x="77" y="157"/>
                  </a:lnTo>
                  <a:lnTo>
                    <a:pt x="116" y="165"/>
                  </a:lnTo>
                  <a:lnTo>
                    <a:pt x="156" y="176"/>
                  </a:lnTo>
                  <a:lnTo>
                    <a:pt x="194" y="192"/>
                  </a:lnTo>
                  <a:lnTo>
                    <a:pt x="231" y="215"/>
                  </a:lnTo>
                  <a:lnTo>
                    <a:pt x="267" y="238"/>
                  </a:lnTo>
                  <a:lnTo>
                    <a:pt x="300" y="270"/>
                  </a:lnTo>
                  <a:lnTo>
                    <a:pt x="332" y="305"/>
                  </a:lnTo>
                  <a:lnTo>
                    <a:pt x="359" y="349"/>
                  </a:lnTo>
                  <a:lnTo>
                    <a:pt x="383" y="392"/>
                  </a:lnTo>
                  <a:lnTo>
                    <a:pt x="401" y="435"/>
                  </a:lnTo>
                  <a:lnTo>
                    <a:pt x="412" y="479"/>
                  </a:lnTo>
                  <a:lnTo>
                    <a:pt x="419" y="521"/>
                  </a:lnTo>
                  <a:lnTo>
                    <a:pt x="419" y="561"/>
                  </a:lnTo>
                  <a:lnTo>
                    <a:pt x="417" y="603"/>
                  </a:lnTo>
                  <a:lnTo>
                    <a:pt x="409" y="642"/>
                  </a:lnTo>
                  <a:lnTo>
                    <a:pt x="396" y="680"/>
                  </a:lnTo>
                  <a:lnTo>
                    <a:pt x="383" y="717"/>
                  </a:lnTo>
                  <a:lnTo>
                    <a:pt x="365" y="753"/>
                  </a:lnTo>
                  <a:lnTo>
                    <a:pt x="344" y="786"/>
                  </a:lnTo>
                  <a:lnTo>
                    <a:pt x="320" y="816"/>
                  </a:lnTo>
                  <a:lnTo>
                    <a:pt x="294" y="846"/>
                  </a:lnTo>
                  <a:lnTo>
                    <a:pt x="267" y="872"/>
                  </a:lnTo>
                  <a:lnTo>
                    <a:pt x="237" y="895"/>
                  </a:lnTo>
                  <a:lnTo>
                    <a:pt x="207" y="915"/>
                  </a:lnTo>
                  <a:lnTo>
                    <a:pt x="178" y="931"/>
                  </a:lnTo>
                  <a:lnTo>
                    <a:pt x="147" y="945"/>
                  </a:lnTo>
                  <a:lnTo>
                    <a:pt x="113" y="955"/>
                  </a:lnTo>
                  <a:lnTo>
                    <a:pt x="77" y="964"/>
                  </a:lnTo>
                  <a:lnTo>
                    <a:pt x="40" y="971"/>
                  </a:lnTo>
                  <a:lnTo>
                    <a:pt x="3" y="974"/>
                  </a:lnTo>
                  <a:lnTo>
                    <a:pt x="0" y="974"/>
                  </a:lnTo>
                  <a:close/>
                </a:path>
              </a:pathLst>
            </a:custGeom>
            <a:blipFill rotWithShape="0">
              <a:blip r:embed="rId2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2245680" y="763200"/>
              <a:ext cx="72720" cy="130680"/>
            </a:xfrm>
            <a:custGeom>
              <a:avLst/>
              <a:gdLst/>
              <a:ahLst/>
              <a:rect l="l" t="t" r="r" b="b"/>
              <a:pathLst>
                <a:path w="565" h="1128">
                  <a:moveTo>
                    <a:pt x="562" y="155"/>
                  </a:moveTo>
                  <a:lnTo>
                    <a:pt x="562" y="0"/>
                  </a:lnTo>
                  <a:lnTo>
                    <a:pt x="529" y="0"/>
                  </a:lnTo>
                  <a:lnTo>
                    <a:pt x="476" y="5"/>
                  </a:lnTo>
                  <a:lnTo>
                    <a:pt x="422" y="17"/>
                  </a:lnTo>
                  <a:lnTo>
                    <a:pt x="371" y="32"/>
                  </a:lnTo>
                  <a:lnTo>
                    <a:pt x="322" y="53"/>
                  </a:lnTo>
                  <a:lnTo>
                    <a:pt x="272" y="80"/>
                  </a:lnTo>
                  <a:lnTo>
                    <a:pt x="227" y="110"/>
                  </a:lnTo>
                  <a:lnTo>
                    <a:pt x="183" y="145"/>
                  </a:lnTo>
                  <a:lnTo>
                    <a:pt x="146" y="184"/>
                  </a:lnTo>
                  <a:lnTo>
                    <a:pt x="110" y="226"/>
                  </a:lnTo>
                  <a:lnTo>
                    <a:pt x="81" y="272"/>
                  </a:lnTo>
                  <a:lnTo>
                    <a:pt x="55" y="319"/>
                  </a:lnTo>
                  <a:lnTo>
                    <a:pt x="34" y="369"/>
                  </a:lnTo>
                  <a:lnTo>
                    <a:pt x="18" y="419"/>
                  </a:lnTo>
                  <a:lnTo>
                    <a:pt x="6" y="473"/>
                  </a:lnTo>
                  <a:lnTo>
                    <a:pt x="0" y="526"/>
                  </a:lnTo>
                  <a:lnTo>
                    <a:pt x="0" y="581"/>
                  </a:lnTo>
                  <a:lnTo>
                    <a:pt x="3" y="636"/>
                  </a:lnTo>
                  <a:lnTo>
                    <a:pt x="13" y="692"/>
                  </a:lnTo>
                  <a:lnTo>
                    <a:pt x="29" y="747"/>
                  </a:lnTo>
                  <a:lnTo>
                    <a:pt x="51" y="801"/>
                  </a:lnTo>
                  <a:lnTo>
                    <a:pt x="81" y="854"/>
                  </a:lnTo>
                  <a:lnTo>
                    <a:pt x="115" y="903"/>
                  </a:lnTo>
                  <a:lnTo>
                    <a:pt x="150" y="948"/>
                  </a:lnTo>
                  <a:lnTo>
                    <a:pt x="191" y="987"/>
                  </a:lnTo>
                  <a:lnTo>
                    <a:pt x="235" y="1023"/>
                  </a:lnTo>
                  <a:lnTo>
                    <a:pt x="282" y="1053"/>
                  </a:lnTo>
                  <a:lnTo>
                    <a:pt x="332" y="1079"/>
                  </a:lnTo>
                  <a:lnTo>
                    <a:pt x="380" y="1099"/>
                  </a:lnTo>
                  <a:lnTo>
                    <a:pt x="434" y="1112"/>
                  </a:lnTo>
                  <a:lnTo>
                    <a:pt x="487" y="1122"/>
                  </a:lnTo>
                  <a:lnTo>
                    <a:pt x="541" y="1128"/>
                  </a:lnTo>
                  <a:lnTo>
                    <a:pt x="562" y="1128"/>
                  </a:lnTo>
                  <a:lnTo>
                    <a:pt x="565" y="974"/>
                  </a:lnTo>
                  <a:lnTo>
                    <a:pt x="525" y="974"/>
                  </a:lnTo>
                  <a:lnTo>
                    <a:pt x="487" y="971"/>
                  </a:lnTo>
                  <a:lnTo>
                    <a:pt x="448" y="963"/>
                  </a:lnTo>
                  <a:lnTo>
                    <a:pt x="408" y="950"/>
                  </a:lnTo>
                  <a:lnTo>
                    <a:pt x="371" y="935"/>
                  </a:lnTo>
                  <a:lnTo>
                    <a:pt x="333" y="915"/>
                  </a:lnTo>
                  <a:lnTo>
                    <a:pt x="298" y="890"/>
                  </a:lnTo>
                  <a:lnTo>
                    <a:pt x="264" y="858"/>
                  </a:lnTo>
                  <a:lnTo>
                    <a:pt x="233" y="822"/>
                  </a:lnTo>
                  <a:lnTo>
                    <a:pt x="205" y="778"/>
                  </a:lnTo>
                  <a:lnTo>
                    <a:pt x="181" y="735"/>
                  </a:lnTo>
                  <a:lnTo>
                    <a:pt x="163" y="690"/>
                  </a:lnTo>
                  <a:lnTo>
                    <a:pt x="152" y="647"/>
                  </a:lnTo>
                  <a:lnTo>
                    <a:pt x="146" y="603"/>
                  </a:lnTo>
                  <a:lnTo>
                    <a:pt x="146" y="561"/>
                  </a:lnTo>
                  <a:lnTo>
                    <a:pt x="147" y="521"/>
                  </a:lnTo>
                  <a:lnTo>
                    <a:pt x="155" y="481"/>
                  </a:lnTo>
                  <a:lnTo>
                    <a:pt x="168" y="441"/>
                  </a:lnTo>
                  <a:lnTo>
                    <a:pt x="183" y="406"/>
                  </a:lnTo>
                  <a:lnTo>
                    <a:pt x="201" y="370"/>
                  </a:lnTo>
                  <a:lnTo>
                    <a:pt x="223" y="338"/>
                  </a:lnTo>
                  <a:lnTo>
                    <a:pt x="246" y="309"/>
                  </a:lnTo>
                  <a:lnTo>
                    <a:pt x="272" y="281"/>
                  </a:lnTo>
                  <a:lnTo>
                    <a:pt x="298" y="256"/>
                  </a:lnTo>
                  <a:lnTo>
                    <a:pt x="325" y="234"/>
                  </a:lnTo>
                  <a:lnTo>
                    <a:pt x="353" y="215"/>
                  </a:lnTo>
                  <a:lnTo>
                    <a:pt x="382" y="199"/>
                  </a:lnTo>
                  <a:lnTo>
                    <a:pt x="414" y="184"/>
                  </a:lnTo>
                  <a:lnTo>
                    <a:pt x="450" y="173"/>
                  </a:lnTo>
                  <a:lnTo>
                    <a:pt x="485" y="165"/>
                  </a:lnTo>
                  <a:lnTo>
                    <a:pt x="523" y="157"/>
                  </a:lnTo>
                  <a:lnTo>
                    <a:pt x="560" y="155"/>
                  </a:lnTo>
                  <a:lnTo>
                    <a:pt x="562" y="155"/>
                  </a:lnTo>
                  <a:close/>
                </a:path>
              </a:pathLst>
            </a:custGeom>
            <a:blipFill rotWithShape="0">
              <a:blip r:embed="rId2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956880" y="1810440"/>
              <a:ext cx="15120" cy="18360"/>
            </a:xfrm>
            <a:custGeom>
              <a:avLst/>
              <a:gdLst/>
              <a:ahLst/>
              <a:rect l="l" t="t" r="r" b="b"/>
              <a:pathLst>
                <a:path w="120" h="165">
                  <a:moveTo>
                    <a:pt x="0" y="0"/>
                  </a:moveTo>
                  <a:lnTo>
                    <a:pt x="0" y="160"/>
                  </a:lnTo>
                  <a:lnTo>
                    <a:pt x="3" y="160"/>
                  </a:lnTo>
                  <a:lnTo>
                    <a:pt x="39" y="165"/>
                  </a:lnTo>
                  <a:lnTo>
                    <a:pt x="69" y="165"/>
                  </a:lnTo>
                  <a:lnTo>
                    <a:pt x="92" y="162"/>
                  </a:lnTo>
                  <a:lnTo>
                    <a:pt x="107" y="152"/>
                  </a:lnTo>
                  <a:lnTo>
                    <a:pt x="115" y="134"/>
                  </a:lnTo>
                  <a:lnTo>
                    <a:pt x="120" y="110"/>
                  </a:lnTo>
                  <a:lnTo>
                    <a:pt x="118" y="97"/>
                  </a:lnTo>
                  <a:lnTo>
                    <a:pt x="115" y="84"/>
                  </a:lnTo>
                  <a:lnTo>
                    <a:pt x="107" y="73"/>
                  </a:lnTo>
                  <a:lnTo>
                    <a:pt x="95" y="63"/>
                  </a:lnTo>
                  <a:lnTo>
                    <a:pt x="34" y="26"/>
                  </a:lnTo>
                  <a:lnTo>
                    <a:pt x="8" y="5"/>
                  </a:lnTo>
                  <a:lnTo>
                    <a:pt x="0" y="0"/>
                  </a:lnTo>
                  <a:close/>
                </a:path>
              </a:pathLst>
            </a:custGeom>
            <a:blipFill rotWithShape="0">
              <a:blip r:embed="rId23"/>
              <a:srcRect/>
              <a:stretch/>
            </a:blip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318" name=""/>
            <p:cNvSpPr/>
            <p:nvPr/>
          </p:nvSpPr>
          <p:spPr>
            <a:xfrm>
              <a:off x="956880" y="1732680"/>
              <a:ext cx="51120" cy="74160"/>
            </a:xfrm>
            <a:custGeom>
              <a:avLst/>
              <a:gdLst/>
              <a:ahLst/>
              <a:rect l="l" t="t" r="r" b="b"/>
              <a:pathLst>
                <a:path w="398" h="639">
                  <a:moveTo>
                    <a:pt x="0" y="334"/>
                  </a:moveTo>
                  <a:lnTo>
                    <a:pt x="0" y="481"/>
                  </a:lnTo>
                  <a:lnTo>
                    <a:pt x="180" y="639"/>
                  </a:lnTo>
                  <a:lnTo>
                    <a:pt x="398" y="397"/>
                  </a:lnTo>
                  <a:lnTo>
                    <a:pt x="383" y="377"/>
                  </a:lnTo>
                  <a:lnTo>
                    <a:pt x="293" y="270"/>
                  </a:lnTo>
                  <a:lnTo>
                    <a:pt x="241" y="217"/>
                  </a:lnTo>
                  <a:lnTo>
                    <a:pt x="172" y="149"/>
                  </a:lnTo>
                  <a:lnTo>
                    <a:pt x="6" y="2"/>
                  </a:lnTo>
                  <a:lnTo>
                    <a:pt x="0" y="0"/>
                  </a:lnTo>
                  <a:lnTo>
                    <a:pt x="0" y="142"/>
                  </a:lnTo>
                  <a:lnTo>
                    <a:pt x="243" y="363"/>
                  </a:lnTo>
                  <a:lnTo>
                    <a:pt x="146" y="470"/>
                  </a:lnTo>
                  <a:lnTo>
                    <a:pt x="0" y="334"/>
                  </a:lnTo>
                  <a:close/>
                </a:path>
              </a:pathLst>
            </a:custGeom>
            <a:blipFill rotWithShape="0">
              <a:blip r:embed="rId24"/>
              <a:srcRect/>
              <a:stretch/>
            </a:blip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19" name=""/>
            <p:cNvSpPr/>
            <p:nvPr/>
          </p:nvSpPr>
          <p:spPr>
            <a:xfrm>
              <a:off x="930240" y="1712160"/>
              <a:ext cx="26280" cy="36720"/>
            </a:xfrm>
            <a:custGeom>
              <a:avLst/>
              <a:gdLst/>
              <a:ahLst/>
              <a:rect l="l" t="t" r="r" b="b"/>
              <a:pathLst>
                <a:path w="209" h="322">
                  <a:moveTo>
                    <a:pt x="209" y="322"/>
                  </a:moveTo>
                  <a:lnTo>
                    <a:pt x="209" y="180"/>
                  </a:lnTo>
                  <a:lnTo>
                    <a:pt x="5" y="0"/>
                  </a:lnTo>
                  <a:lnTo>
                    <a:pt x="0" y="7"/>
                  </a:lnTo>
                  <a:lnTo>
                    <a:pt x="0" y="239"/>
                  </a:lnTo>
                  <a:lnTo>
                    <a:pt x="59" y="182"/>
                  </a:lnTo>
                  <a:lnTo>
                    <a:pt x="209" y="322"/>
                  </a:lnTo>
                  <a:close/>
                </a:path>
              </a:pathLst>
            </a:custGeom>
            <a:blipFill rotWithShape="0">
              <a:blip r:embed="rId25"/>
              <a:srcRect/>
              <a:stretch/>
            </a:blipFill>
            <a:ln w="0">
              <a:no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320" name=""/>
            <p:cNvSpPr/>
            <p:nvPr/>
          </p:nvSpPr>
          <p:spPr>
            <a:xfrm>
              <a:off x="930240" y="1748520"/>
              <a:ext cx="26280" cy="80280"/>
            </a:xfrm>
            <a:custGeom>
              <a:avLst/>
              <a:gdLst/>
              <a:ahLst/>
              <a:rect l="l" t="t" r="r" b="b"/>
              <a:pathLst>
                <a:path w="209" h="693">
                  <a:moveTo>
                    <a:pt x="209" y="347"/>
                  </a:moveTo>
                  <a:lnTo>
                    <a:pt x="209" y="200"/>
                  </a:lnTo>
                  <a:lnTo>
                    <a:pt x="0" y="0"/>
                  </a:lnTo>
                  <a:lnTo>
                    <a:pt x="0" y="158"/>
                  </a:lnTo>
                  <a:lnTo>
                    <a:pt x="36" y="188"/>
                  </a:lnTo>
                  <a:lnTo>
                    <a:pt x="0" y="239"/>
                  </a:lnTo>
                  <a:lnTo>
                    <a:pt x="0" y="478"/>
                  </a:lnTo>
                  <a:lnTo>
                    <a:pt x="144" y="608"/>
                  </a:lnTo>
                  <a:lnTo>
                    <a:pt x="154" y="617"/>
                  </a:lnTo>
                  <a:lnTo>
                    <a:pt x="160" y="632"/>
                  </a:lnTo>
                  <a:lnTo>
                    <a:pt x="172" y="655"/>
                  </a:lnTo>
                  <a:lnTo>
                    <a:pt x="178" y="667"/>
                  </a:lnTo>
                  <a:lnTo>
                    <a:pt x="185" y="677"/>
                  </a:lnTo>
                  <a:lnTo>
                    <a:pt x="197" y="687"/>
                  </a:lnTo>
                  <a:lnTo>
                    <a:pt x="209" y="693"/>
                  </a:lnTo>
                  <a:lnTo>
                    <a:pt x="209" y="533"/>
                  </a:lnTo>
                  <a:lnTo>
                    <a:pt x="193" y="513"/>
                  </a:lnTo>
                  <a:lnTo>
                    <a:pt x="146" y="465"/>
                  </a:lnTo>
                  <a:lnTo>
                    <a:pt x="52" y="376"/>
                  </a:lnTo>
                  <a:lnTo>
                    <a:pt x="89" y="329"/>
                  </a:lnTo>
                  <a:lnTo>
                    <a:pt x="134" y="276"/>
                  </a:lnTo>
                  <a:lnTo>
                    <a:pt x="209" y="347"/>
                  </a:lnTo>
                  <a:close/>
                </a:path>
              </a:pathLst>
            </a:custGeom>
            <a:blipFill rotWithShape="0">
              <a:blip r:embed="rId26"/>
              <a:srcRect/>
              <a:stretch/>
            </a:blipFill>
            <a:ln w="0">
              <a:noFill/>
            </a:ln>
          </p:spPr>
          <p:style>
            <a:lnRef idx="0"/>
            <a:fillRef idx="0"/>
            <a:effectRef idx="0"/>
            <a:fontRef idx="minor"/>
          </p:style>
          <p:txBody>
            <a:bodyPr lIns="90000" rIns="90000" tIns="33480" bIns="33480" anchor="t">
              <a:noAutofit/>
            </a:bodyPr>
            <a:p>
              <a:endParaRPr b="0" lang="en-US" sz="2400" spc="-1" strike="noStrike">
                <a:solidFill>
                  <a:srgbClr val="ffffff"/>
                </a:solidFill>
                <a:latin typeface="Times New Roman"/>
              </a:endParaRPr>
            </a:p>
          </p:txBody>
        </p:sp>
        <p:sp>
          <p:nvSpPr>
            <p:cNvPr id="321" name=""/>
            <p:cNvSpPr/>
            <p:nvPr/>
          </p:nvSpPr>
          <p:spPr>
            <a:xfrm>
              <a:off x="930240" y="1843920"/>
              <a:ext cx="18360" cy="23040"/>
            </a:xfrm>
            <a:custGeom>
              <a:avLst/>
              <a:gdLst/>
              <a:ahLst/>
              <a:rect l="l" t="t" r="r" b="b"/>
              <a:pathLst>
                <a:path w="140" h="196">
                  <a:moveTo>
                    <a:pt x="0" y="36"/>
                  </a:moveTo>
                  <a:lnTo>
                    <a:pt x="0" y="196"/>
                  </a:lnTo>
                  <a:lnTo>
                    <a:pt x="28" y="193"/>
                  </a:lnTo>
                  <a:lnTo>
                    <a:pt x="65" y="183"/>
                  </a:lnTo>
                  <a:lnTo>
                    <a:pt x="92" y="167"/>
                  </a:lnTo>
                  <a:lnTo>
                    <a:pt x="112" y="151"/>
                  </a:lnTo>
                  <a:lnTo>
                    <a:pt x="126" y="135"/>
                  </a:lnTo>
                  <a:lnTo>
                    <a:pt x="134" y="120"/>
                  </a:lnTo>
                  <a:lnTo>
                    <a:pt x="140" y="105"/>
                  </a:lnTo>
                  <a:lnTo>
                    <a:pt x="92" y="0"/>
                  </a:lnTo>
                  <a:lnTo>
                    <a:pt x="71" y="15"/>
                  </a:lnTo>
                  <a:lnTo>
                    <a:pt x="52" y="24"/>
                  </a:lnTo>
                  <a:lnTo>
                    <a:pt x="28" y="34"/>
                  </a:lnTo>
                  <a:lnTo>
                    <a:pt x="2" y="36"/>
                  </a:lnTo>
                  <a:lnTo>
                    <a:pt x="0" y="36"/>
                  </a:lnTo>
                  <a:close/>
                </a:path>
              </a:pathLst>
            </a:custGeom>
            <a:blipFill rotWithShape="0">
              <a:blip r:embed="rId27"/>
              <a:srcRect/>
              <a:stretch/>
            </a:blip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322" name=""/>
            <p:cNvSpPr/>
            <p:nvPr/>
          </p:nvSpPr>
          <p:spPr>
            <a:xfrm>
              <a:off x="840240" y="1712880"/>
              <a:ext cx="90000" cy="154080"/>
            </a:xfrm>
            <a:custGeom>
              <a:avLst/>
              <a:gdLst/>
              <a:ahLst/>
              <a:rect l="l" t="t" r="r" b="b"/>
              <a:pathLst>
                <a:path w="707" h="1329">
                  <a:moveTo>
                    <a:pt x="705" y="232"/>
                  </a:moveTo>
                  <a:lnTo>
                    <a:pt x="705" y="0"/>
                  </a:lnTo>
                  <a:lnTo>
                    <a:pt x="114" y="635"/>
                  </a:lnTo>
                  <a:lnTo>
                    <a:pt x="38" y="654"/>
                  </a:lnTo>
                  <a:lnTo>
                    <a:pt x="0" y="785"/>
                  </a:lnTo>
                  <a:lnTo>
                    <a:pt x="391" y="869"/>
                  </a:lnTo>
                  <a:lnTo>
                    <a:pt x="438" y="759"/>
                  </a:lnTo>
                  <a:lnTo>
                    <a:pt x="252" y="707"/>
                  </a:lnTo>
                  <a:lnTo>
                    <a:pt x="414" y="526"/>
                  </a:lnTo>
                  <a:lnTo>
                    <a:pt x="608" y="698"/>
                  </a:lnTo>
                  <a:lnTo>
                    <a:pt x="587" y="735"/>
                  </a:lnTo>
                  <a:lnTo>
                    <a:pt x="566" y="780"/>
                  </a:lnTo>
                  <a:lnTo>
                    <a:pt x="551" y="832"/>
                  </a:lnTo>
                  <a:lnTo>
                    <a:pt x="541" y="889"/>
                  </a:lnTo>
                  <a:lnTo>
                    <a:pt x="537" y="944"/>
                  </a:lnTo>
                  <a:lnTo>
                    <a:pt x="539" y="1010"/>
                  </a:lnTo>
                  <a:lnTo>
                    <a:pt x="545" y="1083"/>
                  </a:lnTo>
                  <a:lnTo>
                    <a:pt x="556" y="1156"/>
                  </a:lnTo>
                  <a:lnTo>
                    <a:pt x="566" y="1189"/>
                  </a:lnTo>
                  <a:lnTo>
                    <a:pt x="577" y="1222"/>
                  </a:lnTo>
                  <a:lnTo>
                    <a:pt x="588" y="1250"/>
                  </a:lnTo>
                  <a:lnTo>
                    <a:pt x="605" y="1277"/>
                  </a:lnTo>
                  <a:lnTo>
                    <a:pt x="620" y="1298"/>
                  </a:lnTo>
                  <a:lnTo>
                    <a:pt x="640" y="1316"/>
                  </a:lnTo>
                  <a:lnTo>
                    <a:pt x="661" y="1326"/>
                  </a:lnTo>
                  <a:lnTo>
                    <a:pt x="687" y="1329"/>
                  </a:lnTo>
                  <a:lnTo>
                    <a:pt x="705" y="1329"/>
                  </a:lnTo>
                  <a:lnTo>
                    <a:pt x="707" y="1169"/>
                  </a:lnTo>
                  <a:lnTo>
                    <a:pt x="697" y="1165"/>
                  </a:lnTo>
                  <a:lnTo>
                    <a:pt x="687" y="1159"/>
                  </a:lnTo>
                  <a:lnTo>
                    <a:pt x="679" y="1149"/>
                  </a:lnTo>
                  <a:lnTo>
                    <a:pt x="671" y="1136"/>
                  </a:lnTo>
                  <a:lnTo>
                    <a:pt x="668" y="1117"/>
                  </a:lnTo>
                  <a:lnTo>
                    <a:pt x="668" y="1093"/>
                  </a:lnTo>
                  <a:lnTo>
                    <a:pt x="663" y="1021"/>
                  </a:lnTo>
                  <a:lnTo>
                    <a:pt x="660" y="948"/>
                  </a:lnTo>
                  <a:lnTo>
                    <a:pt x="661" y="911"/>
                  </a:lnTo>
                  <a:lnTo>
                    <a:pt x="669" y="869"/>
                  </a:lnTo>
                  <a:lnTo>
                    <a:pt x="681" y="826"/>
                  </a:lnTo>
                  <a:lnTo>
                    <a:pt x="700" y="779"/>
                  </a:lnTo>
                  <a:lnTo>
                    <a:pt x="705" y="785"/>
                  </a:lnTo>
                  <a:lnTo>
                    <a:pt x="705" y="546"/>
                  </a:lnTo>
                  <a:lnTo>
                    <a:pt x="668" y="603"/>
                  </a:lnTo>
                  <a:lnTo>
                    <a:pt x="490" y="439"/>
                  </a:lnTo>
                  <a:lnTo>
                    <a:pt x="572" y="345"/>
                  </a:lnTo>
                  <a:lnTo>
                    <a:pt x="705" y="465"/>
                  </a:lnTo>
                  <a:lnTo>
                    <a:pt x="705" y="307"/>
                  </a:lnTo>
                  <a:lnTo>
                    <a:pt x="668" y="270"/>
                  </a:lnTo>
                  <a:lnTo>
                    <a:pt x="705" y="232"/>
                  </a:lnTo>
                  <a:close/>
                </a:path>
              </a:pathLst>
            </a:custGeom>
            <a:blipFill rotWithShape="0">
              <a:blip r:embed="rId28"/>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1560960" y="2025000"/>
              <a:ext cx="21240" cy="37800"/>
            </a:xfrm>
            <a:custGeom>
              <a:avLst/>
              <a:gdLst/>
              <a:ahLst/>
              <a:rect l="l" t="t" r="r" b="b"/>
              <a:pathLst>
                <a:path w="164" h="330">
                  <a:moveTo>
                    <a:pt x="0" y="271"/>
                  </a:moveTo>
                  <a:lnTo>
                    <a:pt x="0" y="330"/>
                  </a:lnTo>
                  <a:lnTo>
                    <a:pt x="31" y="329"/>
                  </a:lnTo>
                  <a:lnTo>
                    <a:pt x="63" y="318"/>
                  </a:lnTo>
                  <a:lnTo>
                    <a:pt x="91" y="303"/>
                  </a:lnTo>
                  <a:lnTo>
                    <a:pt x="115" y="282"/>
                  </a:lnTo>
                  <a:lnTo>
                    <a:pt x="136" y="258"/>
                  </a:lnTo>
                  <a:lnTo>
                    <a:pt x="152" y="230"/>
                  </a:lnTo>
                  <a:lnTo>
                    <a:pt x="160" y="198"/>
                  </a:lnTo>
                  <a:lnTo>
                    <a:pt x="164" y="164"/>
                  </a:lnTo>
                  <a:lnTo>
                    <a:pt x="160" y="131"/>
                  </a:lnTo>
                  <a:lnTo>
                    <a:pt x="152" y="101"/>
                  </a:lnTo>
                  <a:lnTo>
                    <a:pt x="136" y="72"/>
                  </a:lnTo>
                  <a:lnTo>
                    <a:pt x="115" y="49"/>
                  </a:lnTo>
                  <a:lnTo>
                    <a:pt x="91" y="28"/>
                  </a:lnTo>
                  <a:lnTo>
                    <a:pt x="63" y="13"/>
                  </a:lnTo>
                  <a:lnTo>
                    <a:pt x="31" y="2"/>
                  </a:lnTo>
                  <a:lnTo>
                    <a:pt x="0" y="0"/>
                  </a:lnTo>
                  <a:lnTo>
                    <a:pt x="0" y="62"/>
                  </a:lnTo>
                  <a:lnTo>
                    <a:pt x="20" y="62"/>
                  </a:lnTo>
                  <a:lnTo>
                    <a:pt x="39" y="68"/>
                  </a:lnTo>
                  <a:lnTo>
                    <a:pt x="57" y="78"/>
                  </a:lnTo>
                  <a:lnTo>
                    <a:pt x="73" y="91"/>
                  </a:lnTo>
                  <a:lnTo>
                    <a:pt x="85" y="107"/>
                  </a:lnTo>
                  <a:lnTo>
                    <a:pt x="94" y="125"/>
                  </a:lnTo>
                  <a:lnTo>
                    <a:pt x="101" y="145"/>
                  </a:lnTo>
                  <a:lnTo>
                    <a:pt x="102" y="164"/>
                  </a:lnTo>
                  <a:lnTo>
                    <a:pt x="101" y="186"/>
                  </a:lnTo>
                  <a:lnTo>
                    <a:pt x="94" y="206"/>
                  </a:lnTo>
                  <a:lnTo>
                    <a:pt x="85" y="224"/>
                  </a:lnTo>
                  <a:lnTo>
                    <a:pt x="73" y="240"/>
                  </a:lnTo>
                  <a:lnTo>
                    <a:pt x="57" y="253"/>
                  </a:lnTo>
                  <a:lnTo>
                    <a:pt x="39" y="261"/>
                  </a:lnTo>
                  <a:lnTo>
                    <a:pt x="20" y="269"/>
                  </a:lnTo>
                  <a:lnTo>
                    <a:pt x="0" y="271"/>
                  </a:lnTo>
                  <a:close/>
                </a:path>
              </a:pathLst>
            </a:custGeom>
            <a:blipFill rotWithShape="0">
              <a:blip r:embed="rId29"/>
              <a:srcRect/>
              <a:stretch/>
            </a:blip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24" name=""/>
            <p:cNvSpPr/>
            <p:nvPr/>
          </p:nvSpPr>
          <p:spPr>
            <a:xfrm>
              <a:off x="1539360" y="2025000"/>
              <a:ext cx="21600" cy="37800"/>
            </a:xfrm>
            <a:custGeom>
              <a:avLst/>
              <a:gdLst/>
              <a:ahLst/>
              <a:rect l="l" t="t" r="r" b="b"/>
              <a:pathLst>
                <a:path w="168" h="331">
                  <a:moveTo>
                    <a:pt x="168" y="63"/>
                  </a:moveTo>
                  <a:lnTo>
                    <a:pt x="168" y="1"/>
                  </a:lnTo>
                  <a:lnTo>
                    <a:pt x="166" y="0"/>
                  </a:lnTo>
                  <a:lnTo>
                    <a:pt x="133" y="3"/>
                  </a:lnTo>
                  <a:lnTo>
                    <a:pt x="100" y="14"/>
                  </a:lnTo>
                  <a:lnTo>
                    <a:pt x="73" y="29"/>
                  </a:lnTo>
                  <a:lnTo>
                    <a:pt x="50" y="50"/>
                  </a:lnTo>
                  <a:lnTo>
                    <a:pt x="28" y="73"/>
                  </a:lnTo>
                  <a:lnTo>
                    <a:pt x="14" y="102"/>
                  </a:lnTo>
                  <a:lnTo>
                    <a:pt x="5" y="132"/>
                  </a:lnTo>
                  <a:lnTo>
                    <a:pt x="0" y="165"/>
                  </a:lnTo>
                  <a:lnTo>
                    <a:pt x="5" y="199"/>
                  </a:lnTo>
                  <a:lnTo>
                    <a:pt x="14" y="231"/>
                  </a:lnTo>
                  <a:lnTo>
                    <a:pt x="28" y="259"/>
                  </a:lnTo>
                  <a:lnTo>
                    <a:pt x="50" y="283"/>
                  </a:lnTo>
                  <a:lnTo>
                    <a:pt x="73" y="304"/>
                  </a:lnTo>
                  <a:lnTo>
                    <a:pt x="100" y="319"/>
                  </a:lnTo>
                  <a:lnTo>
                    <a:pt x="133" y="330"/>
                  </a:lnTo>
                  <a:lnTo>
                    <a:pt x="166" y="331"/>
                  </a:lnTo>
                  <a:lnTo>
                    <a:pt x="168" y="331"/>
                  </a:lnTo>
                  <a:lnTo>
                    <a:pt x="168" y="272"/>
                  </a:lnTo>
                  <a:lnTo>
                    <a:pt x="166" y="272"/>
                  </a:lnTo>
                  <a:lnTo>
                    <a:pt x="144" y="270"/>
                  </a:lnTo>
                  <a:lnTo>
                    <a:pt x="125" y="262"/>
                  </a:lnTo>
                  <a:lnTo>
                    <a:pt x="107" y="254"/>
                  </a:lnTo>
                  <a:lnTo>
                    <a:pt x="91" y="241"/>
                  </a:lnTo>
                  <a:lnTo>
                    <a:pt x="79" y="225"/>
                  </a:lnTo>
                  <a:lnTo>
                    <a:pt x="69" y="207"/>
                  </a:lnTo>
                  <a:lnTo>
                    <a:pt x="63" y="187"/>
                  </a:lnTo>
                  <a:lnTo>
                    <a:pt x="61" y="165"/>
                  </a:lnTo>
                  <a:lnTo>
                    <a:pt x="63" y="146"/>
                  </a:lnTo>
                  <a:lnTo>
                    <a:pt x="69" y="126"/>
                  </a:lnTo>
                  <a:lnTo>
                    <a:pt x="79" y="108"/>
                  </a:lnTo>
                  <a:lnTo>
                    <a:pt x="91" y="92"/>
                  </a:lnTo>
                  <a:lnTo>
                    <a:pt x="107" y="79"/>
                  </a:lnTo>
                  <a:lnTo>
                    <a:pt x="125" y="69"/>
                  </a:lnTo>
                  <a:lnTo>
                    <a:pt x="144" y="63"/>
                  </a:lnTo>
                  <a:lnTo>
                    <a:pt x="166" y="61"/>
                  </a:lnTo>
                  <a:lnTo>
                    <a:pt x="168" y="63"/>
                  </a:lnTo>
                  <a:close/>
                </a:path>
              </a:pathLst>
            </a:custGeom>
            <a:blipFill rotWithShape="0">
              <a:blip r:embed="rId30"/>
              <a:srcRect/>
              <a:stretch/>
            </a:blip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sp>
          <p:nvSpPr>
            <p:cNvPr id="325" name=""/>
            <p:cNvSpPr/>
            <p:nvPr/>
          </p:nvSpPr>
          <p:spPr>
            <a:xfrm>
              <a:off x="1724760" y="2027880"/>
              <a:ext cx="45000" cy="105840"/>
            </a:xfrm>
            <a:custGeom>
              <a:avLst/>
              <a:gdLst/>
              <a:ahLst/>
              <a:rect l="l" t="t" r="r" b="b"/>
              <a:pathLst>
                <a:path w="351" h="911">
                  <a:moveTo>
                    <a:pt x="0" y="814"/>
                  </a:moveTo>
                  <a:lnTo>
                    <a:pt x="0" y="911"/>
                  </a:lnTo>
                  <a:lnTo>
                    <a:pt x="6" y="911"/>
                  </a:lnTo>
                  <a:lnTo>
                    <a:pt x="42" y="905"/>
                  </a:lnTo>
                  <a:lnTo>
                    <a:pt x="89" y="890"/>
                  </a:lnTo>
                  <a:lnTo>
                    <a:pt x="146" y="864"/>
                  </a:lnTo>
                  <a:lnTo>
                    <a:pt x="176" y="846"/>
                  </a:lnTo>
                  <a:lnTo>
                    <a:pt x="205" y="827"/>
                  </a:lnTo>
                  <a:lnTo>
                    <a:pt x="233" y="803"/>
                  </a:lnTo>
                  <a:lnTo>
                    <a:pt x="260" y="777"/>
                  </a:lnTo>
                  <a:lnTo>
                    <a:pt x="286" y="747"/>
                  </a:lnTo>
                  <a:lnTo>
                    <a:pt x="308" y="714"/>
                  </a:lnTo>
                  <a:lnTo>
                    <a:pt x="325" y="680"/>
                  </a:lnTo>
                  <a:lnTo>
                    <a:pt x="340" y="641"/>
                  </a:lnTo>
                  <a:lnTo>
                    <a:pt x="348" y="599"/>
                  </a:lnTo>
                  <a:lnTo>
                    <a:pt x="351" y="553"/>
                  </a:lnTo>
                  <a:lnTo>
                    <a:pt x="349" y="506"/>
                  </a:lnTo>
                  <a:lnTo>
                    <a:pt x="343" y="459"/>
                  </a:lnTo>
                  <a:lnTo>
                    <a:pt x="333" y="412"/>
                  </a:lnTo>
                  <a:lnTo>
                    <a:pt x="320" y="362"/>
                  </a:lnTo>
                  <a:lnTo>
                    <a:pt x="304" y="315"/>
                  </a:lnTo>
                  <a:lnTo>
                    <a:pt x="284" y="270"/>
                  </a:lnTo>
                  <a:lnTo>
                    <a:pt x="262" y="225"/>
                  </a:lnTo>
                  <a:lnTo>
                    <a:pt x="239" y="183"/>
                  </a:lnTo>
                  <a:lnTo>
                    <a:pt x="212" y="144"/>
                  </a:lnTo>
                  <a:lnTo>
                    <a:pt x="184" y="108"/>
                  </a:lnTo>
                  <a:lnTo>
                    <a:pt x="154" y="76"/>
                  </a:lnTo>
                  <a:lnTo>
                    <a:pt x="123" y="51"/>
                  </a:lnTo>
                  <a:lnTo>
                    <a:pt x="89" y="27"/>
                  </a:lnTo>
                  <a:lnTo>
                    <a:pt x="55" y="11"/>
                  </a:lnTo>
                  <a:lnTo>
                    <a:pt x="19" y="1"/>
                  </a:lnTo>
                  <a:lnTo>
                    <a:pt x="0" y="0"/>
                  </a:lnTo>
                  <a:lnTo>
                    <a:pt x="0" y="202"/>
                  </a:lnTo>
                  <a:lnTo>
                    <a:pt x="14" y="205"/>
                  </a:lnTo>
                  <a:lnTo>
                    <a:pt x="34" y="215"/>
                  </a:lnTo>
                  <a:lnTo>
                    <a:pt x="53" y="228"/>
                  </a:lnTo>
                  <a:lnTo>
                    <a:pt x="73" y="248"/>
                  </a:lnTo>
                  <a:lnTo>
                    <a:pt x="92" y="275"/>
                  </a:lnTo>
                  <a:lnTo>
                    <a:pt x="113" y="311"/>
                  </a:lnTo>
                  <a:lnTo>
                    <a:pt x="132" y="354"/>
                  </a:lnTo>
                  <a:lnTo>
                    <a:pt x="110" y="370"/>
                  </a:lnTo>
                  <a:lnTo>
                    <a:pt x="87" y="385"/>
                  </a:lnTo>
                  <a:lnTo>
                    <a:pt x="42" y="401"/>
                  </a:lnTo>
                  <a:lnTo>
                    <a:pt x="0" y="412"/>
                  </a:lnTo>
                  <a:lnTo>
                    <a:pt x="0" y="526"/>
                  </a:lnTo>
                  <a:lnTo>
                    <a:pt x="34" y="518"/>
                  </a:lnTo>
                  <a:lnTo>
                    <a:pt x="91" y="503"/>
                  </a:lnTo>
                  <a:lnTo>
                    <a:pt x="134" y="487"/>
                  </a:lnTo>
                  <a:lnTo>
                    <a:pt x="171" y="473"/>
                  </a:lnTo>
                  <a:lnTo>
                    <a:pt x="186" y="516"/>
                  </a:lnTo>
                  <a:lnTo>
                    <a:pt x="194" y="560"/>
                  </a:lnTo>
                  <a:lnTo>
                    <a:pt x="197" y="607"/>
                  </a:lnTo>
                  <a:lnTo>
                    <a:pt x="196" y="631"/>
                  </a:lnTo>
                  <a:lnTo>
                    <a:pt x="191" y="652"/>
                  </a:lnTo>
                  <a:lnTo>
                    <a:pt x="184" y="676"/>
                  </a:lnTo>
                  <a:lnTo>
                    <a:pt x="171" y="700"/>
                  </a:lnTo>
                  <a:lnTo>
                    <a:pt x="158" y="722"/>
                  </a:lnTo>
                  <a:lnTo>
                    <a:pt x="139" y="743"/>
                  </a:lnTo>
                  <a:lnTo>
                    <a:pt x="116" y="761"/>
                  </a:lnTo>
                  <a:lnTo>
                    <a:pt x="91" y="777"/>
                  </a:lnTo>
                  <a:lnTo>
                    <a:pt x="29" y="804"/>
                  </a:lnTo>
                  <a:lnTo>
                    <a:pt x="0" y="814"/>
                  </a:lnTo>
                  <a:close/>
                </a:path>
              </a:pathLst>
            </a:custGeom>
            <a:blipFill rotWithShape="0">
              <a:blip r:embed="rId3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1693080" y="2027880"/>
              <a:ext cx="31680" cy="63720"/>
            </a:xfrm>
            <a:custGeom>
              <a:avLst/>
              <a:gdLst/>
              <a:ahLst/>
              <a:rect l="l" t="t" r="r" b="b"/>
              <a:pathLst>
                <a:path w="253" h="550">
                  <a:moveTo>
                    <a:pt x="253" y="204"/>
                  </a:moveTo>
                  <a:lnTo>
                    <a:pt x="253" y="2"/>
                  </a:lnTo>
                  <a:lnTo>
                    <a:pt x="240" y="0"/>
                  </a:lnTo>
                  <a:lnTo>
                    <a:pt x="206" y="3"/>
                  </a:lnTo>
                  <a:lnTo>
                    <a:pt x="174" y="15"/>
                  </a:lnTo>
                  <a:lnTo>
                    <a:pt x="144" y="31"/>
                  </a:lnTo>
                  <a:lnTo>
                    <a:pt x="117" y="55"/>
                  </a:lnTo>
                  <a:lnTo>
                    <a:pt x="93" y="84"/>
                  </a:lnTo>
                  <a:lnTo>
                    <a:pt x="71" y="116"/>
                  </a:lnTo>
                  <a:lnTo>
                    <a:pt x="54" y="154"/>
                  </a:lnTo>
                  <a:lnTo>
                    <a:pt x="36" y="193"/>
                  </a:lnTo>
                  <a:lnTo>
                    <a:pt x="24" y="235"/>
                  </a:lnTo>
                  <a:lnTo>
                    <a:pt x="15" y="280"/>
                  </a:lnTo>
                  <a:lnTo>
                    <a:pt x="7" y="325"/>
                  </a:lnTo>
                  <a:lnTo>
                    <a:pt x="2" y="371"/>
                  </a:lnTo>
                  <a:lnTo>
                    <a:pt x="0" y="416"/>
                  </a:lnTo>
                  <a:lnTo>
                    <a:pt x="2" y="461"/>
                  </a:lnTo>
                  <a:lnTo>
                    <a:pt x="7" y="502"/>
                  </a:lnTo>
                  <a:lnTo>
                    <a:pt x="16" y="544"/>
                  </a:lnTo>
                  <a:lnTo>
                    <a:pt x="50" y="547"/>
                  </a:lnTo>
                  <a:lnTo>
                    <a:pt x="86" y="550"/>
                  </a:lnTo>
                  <a:lnTo>
                    <a:pt x="154" y="546"/>
                  </a:lnTo>
                  <a:lnTo>
                    <a:pt x="224" y="534"/>
                  </a:lnTo>
                  <a:lnTo>
                    <a:pt x="253" y="528"/>
                  </a:lnTo>
                  <a:lnTo>
                    <a:pt x="253" y="414"/>
                  </a:lnTo>
                  <a:lnTo>
                    <a:pt x="251" y="414"/>
                  </a:lnTo>
                  <a:lnTo>
                    <a:pt x="208" y="418"/>
                  </a:lnTo>
                  <a:lnTo>
                    <a:pt x="172" y="418"/>
                  </a:lnTo>
                  <a:lnTo>
                    <a:pt x="143" y="414"/>
                  </a:lnTo>
                  <a:lnTo>
                    <a:pt x="117" y="410"/>
                  </a:lnTo>
                  <a:lnTo>
                    <a:pt x="119" y="376"/>
                  </a:lnTo>
                  <a:lnTo>
                    <a:pt x="123" y="340"/>
                  </a:lnTo>
                  <a:lnTo>
                    <a:pt x="128" y="301"/>
                  </a:lnTo>
                  <a:lnTo>
                    <a:pt x="143" y="262"/>
                  </a:lnTo>
                  <a:lnTo>
                    <a:pt x="151" y="244"/>
                  </a:lnTo>
                  <a:lnTo>
                    <a:pt x="162" y="228"/>
                  </a:lnTo>
                  <a:lnTo>
                    <a:pt x="174" y="214"/>
                  </a:lnTo>
                  <a:lnTo>
                    <a:pt x="190" y="204"/>
                  </a:lnTo>
                  <a:lnTo>
                    <a:pt x="206" y="201"/>
                  </a:lnTo>
                  <a:lnTo>
                    <a:pt x="227" y="199"/>
                  </a:lnTo>
                  <a:lnTo>
                    <a:pt x="248" y="201"/>
                  </a:lnTo>
                  <a:lnTo>
                    <a:pt x="253" y="204"/>
                  </a:lnTo>
                  <a:close/>
                </a:path>
              </a:pathLst>
            </a:custGeom>
            <a:blipFill rotWithShape="0">
              <a:blip r:embed="rId32"/>
              <a:srcRect/>
              <a:stretch/>
            </a:blip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327" name=""/>
            <p:cNvSpPr/>
            <p:nvPr/>
          </p:nvSpPr>
          <p:spPr>
            <a:xfrm>
              <a:off x="1698120" y="2122560"/>
              <a:ext cx="26640" cy="10800"/>
            </a:xfrm>
            <a:custGeom>
              <a:avLst/>
              <a:gdLst/>
              <a:ahLst/>
              <a:rect l="l" t="t" r="r" b="b"/>
              <a:pathLst>
                <a:path w="211" h="97">
                  <a:moveTo>
                    <a:pt x="211" y="97"/>
                  </a:moveTo>
                  <a:lnTo>
                    <a:pt x="211" y="0"/>
                  </a:lnTo>
                  <a:lnTo>
                    <a:pt x="174" y="13"/>
                  </a:lnTo>
                  <a:lnTo>
                    <a:pt x="109" y="22"/>
                  </a:lnTo>
                  <a:lnTo>
                    <a:pt x="78" y="22"/>
                  </a:lnTo>
                  <a:lnTo>
                    <a:pt x="55" y="21"/>
                  </a:lnTo>
                  <a:lnTo>
                    <a:pt x="36" y="18"/>
                  </a:lnTo>
                  <a:lnTo>
                    <a:pt x="20" y="18"/>
                  </a:lnTo>
                  <a:lnTo>
                    <a:pt x="10" y="21"/>
                  </a:lnTo>
                  <a:lnTo>
                    <a:pt x="4" y="24"/>
                  </a:lnTo>
                  <a:lnTo>
                    <a:pt x="0" y="28"/>
                  </a:lnTo>
                  <a:lnTo>
                    <a:pt x="2" y="34"/>
                  </a:lnTo>
                  <a:lnTo>
                    <a:pt x="8" y="40"/>
                  </a:lnTo>
                  <a:lnTo>
                    <a:pt x="20" y="44"/>
                  </a:lnTo>
                  <a:lnTo>
                    <a:pt x="104" y="76"/>
                  </a:lnTo>
                  <a:lnTo>
                    <a:pt x="162" y="91"/>
                  </a:lnTo>
                  <a:lnTo>
                    <a:pt x="190" y="95"/>
                  </a:lnTo>
                  <a:lnTo>
                    <a:pt x="211" y="97"/>
                  </a:lnTo>
                  <a:close/>
                </a:path>
              </a:pathLst>
            </a:custGeom>
            <a:blipFill rotWithShape="0">
              <a:blip r:embed="rId33"/>
              <a:srcRect/>
              <a:stretch/>
            </a:blip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28" name=""/>
            <p:cNvSpPr/>
            <p:nvPr/>
          </p:nvSpPr>
          <p:spPr>
            <a:xfrm>
              <a:off x="2337120" y="1747440"/>
              <a:ext cx="31320" cy="27720"/>
            </a:xfrm>
            <a:custGeom>
              <a:avLst/>
              <a:gdLst/>
              <a:ahLst/>
              <a:rect l="l" t="t" r="r" b="b"/>
              <a:pathLst>
                <a:path w="243" h="242">
                  <a:moveTo>
                    <a:pt x="0" y="121"/>
                  </a:moveTo>
                  <a:lnTo>
                    <a:pt x="2" y="96"/>
                  </a:lnTo>
                  <a:lnTo>
                    <a:pt x="8" y="74"/>
                  </a:lnTo>
                  <a:lnTo>
                    <a:pt x="20" y="53"/>
                  </a:lnTo>
                  <a:lnTo>
                    <a:pt x="36" y="35"/>
                  </a:lnTo>
                  <a:lnTo>
                    <a:pt x="54" y="21"/>
                  </a:lnTo>
                  <a:lnTo>
                    <a:pt x="73" y="9"/>
                  </a:lnTo>
                  <a:lnTo>
                    <a:pt x="97" y="3"/>
                  </a:lnTo>
                  <a:lnTo>
                    <a:pt x="120" y="0"/>
                  </a:lnTo>
                  <a:lnTo>
                    <a:pt x="144" y="3"/>
                  </a:lnTo>
                  <a:lnTo>
                    <a:pt x="168" y="9"/>
                  </a:lnTo>
                  <a:lnTo>
                    <a:pt x="188" y="21"/>
                  </a:lnTo>
                  <a:lnTo>
                    <a:pt x="207" y="35"/>
                  </a:lnTo>
                  <a:lnTo>
                    <a:pt x="222" y="53"/>
                  </a:lnTo>
                  <a:lnTo>
                    <a:pt x="233" y="74"/>
                  </a:lnTo>
                  <a:lnTo>
                    <a:pt x="239" y="96"/>
                  </a:lnTo>
                  <a:lnTo>
                    <a:pt x="243" y="121"/>
                  </a:lnTo>
                  <a:lnTo>
                    <a:pt x="239" y="145"/>
                  </a:lnTo>
                  <a:lnTo>
                    <a:pt x="233" y="168"/>
                  </a:lnTo>
                  <a:lnTo>
                    <a:pt x="222" y="189"/>
                  </a:lnTo>
                  <a:lnTo>
                    <a:pt x="207" y="207"/>
                  </a:lnTo>
                  <a:lnTo>
                    <a:pt x="188" y="222"/>
                  </a:lnTo>
                  <a:lnTo>
                    <a:pt x="168" y="233"/>
                  </a:lnTo>
                  <a:lnTo>
                    <a:pt x="144" y="240"/>
                  </a:lnTo>
                  <a:lnTo>
                    <a:pt x="120" y="242"/>
                  </a:lnTo>
                  <a:lnTo>
                    <a:pt x="97" y="240"/>
                  </a:lnTo>
                  <a:lnTo>
                    <a:pt x="73" y="233"/>
                  </a:lnTo>
                  <a:lnTo>
                    <a:pt x="54" y="222"/>
                  </a:lnTo>
                  <a:lnTo>
                    <a:pt x="36" y="207"/>
                  </a:lnTo>
                  <a:lnTo>
                    <a:pt x="20" y="189"/>
                  </a:lnTo>
                  <a:lnTo>
                    <a:pt x="8" y="168"/>
                  </a:lnTo>
                  <a:lnTo>
                    <a:pt x="2" y="145"/>
                  </a:lnTo>
                  <a:lnTo>
                    <a:pt x="0" y="121"/>
                  </a:lnTo>
                  <a:close/>
                </a:path>
              </a:pathLst>
            </a:custGeom>
            <a:blipFill rotWithShape="0">
              <a:blip r:embed="rId34"/>
              <a:srcRect/>
              <a:stretch/>
            </a:blip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329" name=""/>
            <p:cNvSpPr/>
            <p:nvPr/>
          </p:nvSpPr>
          <p:spPr>
            <a:xfrm>
              <a:off x="2365920" y="1713960"/>
              <a:ext cx="30600" cy="28440"/>
            </a:xfrm>
            <a:custGeom>
              <a:avLst/>
              <a:gdLst/>
              <a:ahLst/>
              <a:rect l="l" t="t" r="r" b="b"/>
              <a:pathLst>
                <a:path w="243" h="243">
                  <a:moveTo>
                    <a:pt x="0" y="123"/>
                  </a:moveTo>
                  <a:lnTo>
                    <a:pt x="2" y="97"/>
                  </a:lnTo>
                  <a:lnTo>
                    <a:pt x="10" y="75"/>
                  </a:lnTo>
                  <a:lnTo>
                    <a:pt x="20" y="53"/>
                  </a:lnTo>
                  <a:lnTo>
                    <a:pt x="36" y="36"/>
                  </a:lnTo>
                  <a:lnTo>
                    <a:pt x="54" y="21"/>
                  </a:lnTo>
                  <a:lnTo>
                    <a:pt x="73" y="10"/>
                  </a:lnTo>
                  <a:lnTo>
                    <a:pt x="97" y="3"/>
                  </a:lnTo>
                  <a:lnTo>
                    <a:pt x="120" y="0"/>
                  </a:lnTo>
                  <a:lnTo>
                    <a:pt x="146" y="3"/>
                  </a:lnTo>
                  <a:lnTo>
                    <a:pt x="169" y="10"/>
                  </a:lnTo>
                  <a:lnTo>
                    <a:pt x="190" y="21"/>
                  </a:lnTo>
                  <a:lnTo>
                    <a:pt x="208" y="36"/>
                  </a:lnTo>
                  <a:lnTo>
                    <a:pt x="221" y="53"/>
                  </a:lnTo>
                  <a:lnTo>
                    <a:pt x="233" y="75"/>
                  </a:lnTo>
                  <a:lnTo>
                    <a:pt x="239" y="97"/>
                  </a:lnTo>
                  <a:lnTo>
                    <a:pt x="243" y="123"/>
                  </a:lnTo>
                  <a:lnTo>
                    <a:pt x="239" y="146"/>
                  </a:lnTo>
                  <a:lnTo>
                    <a:pt x="233" y="170"/>
                  </a:lnTo>
                  <a:lnTo>
                    <a:pt x="221" y="189"/>
                  </a:lnTo>
                  <a:lnTo>
                    <a:pt x="208" y="207"/>
                  </a:lnTo>
                  <a:lnTo>
                    <a:pt x="190" y="223"/>
                  </a:lnTo>
                  <a:lnTo>
                    <a:pt x="169" y="235"/>
                  </a:lnTo>
                  <a:lnTo>
                    <a:pt x="146" y="241"/>
                  </a:lnTo>
                  <a:lnTo>
                    <a:pt x="120" y="243"/>
                  </a:lnTo>
                  <a:lnTo>
                    <a:pt x="97" y="241"/>
                  </a:lnTo>
                  <a:lnTo>
                    <a:pt x="73" y="235"/>
                  </a:lnTo>
                  <a:lnTo>
                    <a:pt x="54" y="223"/>
                  </a:lnTo>
                  <a:lnTo>
                    <a:pt x="36" y="207"/>
                  </a:lnTo>
                  <a:lnTo>
                    <a:pt x="20" y="189"/>
                  </a:lnTo>
                  <a:lnTo>
                    <a:pt x="10" y="170"/>
                  </a:lnTo>
                  <a:lnTo>
                    <a:pt x="2" y="146"/>
                  </a:lnTo>
                  <a:lnTo>
                    <a:pt x="0" y="123"/>
                  </a:lnTo>
                  <a:close/>
                </a:path>
              </a:pathLst>
            </a:custGeom>
            <a:blipFill rotWithShape="0">
              <a:blip r:embed="rId35"/>
              <a:srcRect/>
              <a:stretch/>
            </a:blip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30" name=""/>
            <p:cNvSpPr/>
            <p:nvPr/>
          </p:nvSpPr>
          <p:spPr>
            <a:xfrm>
              <a:off x="2393280" y="1642320"/>
              <a:ext cx="1080" cy="720"/>
            </a:xfrm>
            <a:custGeom>
              <a:avLst/>
              <a:gdLst/>
              <a:ahLst/>
              <a:rect l="l" t="t" r="r" b="b"/>
              <a:pathLst>
                <a:path w="3" h="0">
                  <a:moveTo>
                    <a:pt x="0" y="0"/>
                  </a:moveTo>
                  <a:lnTo>
                    <a:pt x="2" y="0"/>
                  </a:lnTo>
                  <a:lnTo>
                    <a:pt x="3" y="0"/>
                  </a:lnTo>
                  <a:lnTo>
                    <a:pt x="2" y="0"/>
                  </a:lnTo>
                  <a:lnTo>
                    <a:pt x="0" y="0"/>
                  </a:lnTo>
                  <a:close/>
                </a:path>
              </a:pathLst>
            </a:custGeom>
            <a:blipFill rotWithShape="0">
              <a:blip r:embed="rId36"/>
              <a:srcRect/>
              <a:tile tx="0" ty="0" sx="100000" sy="100000" algn="ctr"/>
            </a:blip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331" name=""/>
            <p:cNvSpPr/>
            <p:nvPr/>
          </p:nvSpPr>
          <p:spPr>
            <a:xfrm>
              <a:off x="2287800" y="1528200"/>
              <a:ext cx="117720" cy="113760"/>
            </a:xfrm>
            <a:custGeom>
              <a:avLst/>
              <a:gdLst/>
              <a:ahLst/>
              <a:rect l="l" t="t" r="r" b="b"/>
              <a:pathLst>
                <a:path w="921" h="982">
                  <a:moveTo>
                    <a:pt x="0" y="244"/>
                  </a:moveTo>
                  <a:lnTo>
                    <a:pt x="48" y="144"/>
                  </a:lnTo>
                  <a:lnTo>
                    <a:pt x="86" y="61"/>
                  </a:lnTo>
                  <a:lnTo>
                    <a:pt x="111" y="0"/>
                  </a:lnTo>
                  <a:lnTo>
                    <a:pt x="298" y="186"/>
                  </a:lnTo>
                  <a:lnTo>
                    <a:pt x="571" y="459"/>
                  </a:lnTo>
                  <a:lnTo>
                    <a:pt x="921" y="817"/>
                  </a:lnTo>
                  <a:lnTo>
                    <a:pt x="822" y="982"/>
                  </a:lnTo>
                  <a:lnTo>
                    <a:pt x="147" y="268"/>
                  </a:lnTo>
                  <a:lnTo>
                    <a:pt x="76" y="330"/>
                  </a:lnTo>
                  <a:lnTo>
                    <a:pt x="0" y="244"/>
                  </a:lnTo>
                  <a:close/>
                </a:path>
              </a:pathLst>
            </a:custGeom>
            <a:blipFill rotWithShape="0">
              <a:blip r:embed="rId37"/>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1554840" y="1272240"/>
              <a:ext cx="14400" cy="348840"/>
            </a:xfrm>
            <a:custGeom>
              <a:avLst/>
              <a:gdLst/>
              <a:ahLst/>
              <a:rect l="l" t="t" r="r" b="b"/>
              <a:pathLst>
                <a:path w="108" h="3004">
                  <a:moveTo>
                    <a:pt x="108" y="0"/>
                  </a:moveTo>
                  <a:lnTo>
                    <a:pt x="108" y="3004"/>
                  </a:lnTo>
                  <a:lnTo>
                    <a:pt x="0" y="3004"/>
                  </a:lnTo>
                  <a:lnTo>
                    <a:pt x="0" y="0"/>
                  </a:lnTo>
                  <a:lnTo>
                    <a:pt x="53" y="3"/>
                  </a:lnTo>
                  <a:lnTo>
                    <a:pt x="108" y="0"/>
                  </a:lnTo>
                  <a:close/>
                </a:path>
              </a:pathLst>
            </a:custGeom>
            <a:blipFill rotWithShape="0">
              <a:blip r:embed="rId38"/>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1624320" y="1241280"/>
              <a:ext cx="278640" cy="253440"/>
            </a:xfrm>
            <a:custGeom>
              <a:avLst/>
              <a:gdLst/>
              <a:ahLst/>
              <a:rect l="l" t="t" r="r" b="b"/>
              <a:pathLst>
                <a:path w="2180" h="2181">
                  <a:moveTo>
                    <a:pt x="76" y="0"/>
                  </a:moveTo>
                  <a:lnTo>
                    <a:pt x="2180" y="2101"/>
                  </a:lnTo>
                  <a:lnTo>
                    <a:pt x="2103" y="2181"/>
                  </a:lnTo>
                  <a:lnTo>
                    <a:pt x="0" y="79"/>
                  </a:lnTo>
                  <a:lnTo>
                    <a:pt x="39" y="42"/>
                  </a:lnTo>
                  <a:lnTo>
                    <a:pt x="76" y="0"/>
                  </a:lnTo>
                  <a:close/>
                </a:path>
              </a:pathLst>
            </a:custGeom>
            <a:blipFill rotWithShape="0">
              <a:blip r:embed="rId3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1622520" y="862560"/>
              <a:ext cx="297360" cy="269280"/>
            </a:xfrm>
            <a:custGeom>
              <a:avLst/>
              <a:gdLst/>
              <a:ahLst/>
              <a:rect l="l" t="t" r="r" b="b"/>
              <a:pathLst>
                <a:path w="2321" h="2318">
                  <a:moveTo>
                    <a:pt x="0" y="2242"/>
                  </a:moveTo>
                  <a:lnTo>
                    <a:pt x="2244" y="0"/>
                  </a:lnTo>
                  <a:lnTo>
                    <a:pt x="2321" y="76"/>
                  </a:lnTo>
                  <a:lnTo>
                    <a:pt x="78" y="2318"/>
                  </a:lnTo>
                  <a:lnTo>
                    <a:pt x="41" y="2279"/>
                  </a:lnTo>
                  <a:lnTo>
                    <a:pt x="0" y="2242"/>
                  </a:lnTo>
                  <a:close/>
                </a:path>
              </a:pathLst>
            </a:custGeom>
            <a:blipFill rotWithShape="0">
              <a:blip r:embed="rId4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1554840" y="726120"/>
              <a:ext cx="14400" cy="376560"/>
            </a:xfrm>
            <a:custGeom>
              <a:avLst/>
              <a:gdLst/>
              <a:ahLst/>
              <a:rect l="l" t="t" r="r" b="b"/>
              <a:pathLst>
                <a:path w="108" h="3252">
                  <a:moveTo>
                    <a:pt x="0" y="3252"/>
                  </a:moveTo>
                  <a:lnTo>
                    <a:pt x="0" y="0"/>
                  </a:lnTo>
                  <a:lnTo>
                    <a:pt x="108" y="0"/>
                  </a:lnTo>
                  <a:lnTo>
                    <a:pt x="108" y="3252"/>
                  </a:lnTo>
                  <a:lnTo>
                    <a:pt x="53" y="3247"/>
                  </a:lnTo>
                  <a:lnTo>
                    <a:pt x="0" y="3252"/>
                  </a:lnTo>
                  <a:close/>
                </a:path>
              </a:pathLst>
            </a:custGeom>
            <a:blipFill rotWithShape="0">
              <a:blip r:embed="rId4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1204920" y="862560"/>
              <a:ext cx="297360" cy="269280"/>
            </a:xfrm>
            <a:custGeom>
              <a:avLst/>
              <a:gdLst/>
              <a:ahLst/>
              <a:rect l="l" t="t" r="r" b="b"/>
              <a:pathLst>
                <a:path w="2322" h="2321">
                  <a:moveTo>
                    <a:pt x="2243" y="2321"/>
                  </a:moveTo>
                  <a:lnTo>
                    <a:pt x="0" y="78"/>
                  </a:lnTo>
                  <a:lnTo>
                    <a:pt x="78" y="0"/>
                  </a:lnTo>
                  <a:lnTo>
                    <a:pt x="2322" y="2244"/>
                  </a:lnTo>
                  <a:lnTo>
                    <a:pt x="2282" y="2281"/>
                  </a:lnTo>
                  <a:lnTo>
                    <a:pt x="2243" y="2321"/>
                  </a:lnTo>
                  <a:close/>
                </a:path>
              </a:pathLst>
            </a:custGeom>
            <a:blipFill rotWithShape="0">
              <a:blip r:embed="rId4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1221480" y="1242360"/>
              <a:ext cx="278640" cy="252360"/>
            </a:xfrm>
            <a:custGeom>
              <a:avLst/>
              <a:gdLst/>
              <a:ahLst/>
              <a:rect l="l" t="t" r="r" b="b"/>
              <a:pathLst>
                <a:path w="2177" h="2177">
                  <a:moveTo>
                    <a:pt x="0" y="2099"/>
                  </a:moveTo>
                  <a:lnTo>
                    <a:pt x="2102" y="0"/>
                  </a:lnTo>
                  <a:lnTo>
                    <a:pt x="2136" y="42"/>
                  </a:lnTo>
                  <a:lnTo>
                    <a:pt x="2177" y="79"/>
                  </a:lnTo>
                  <a:lnTo>
                    <a:pt x="76" y="2177"/>
                  </a:lnTo>
                  <a:lnTo>
                    <a:pt x="0" y="2099"/>
                  </a:lnTo>
                  <a:close/>
                </a:path>
              </a:pathLst>
            </a:custGeom>
            <a:blipFill rotWithShape="0">
              <a:blip r:embed="rId4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1468800" y="1103040"/>
              <a:ext cx="186480" cy="169560"/>
            </a:xfrm>
            <a:custGeom>
              <a:avLst/>
              <a:gdLst/>
              <a:ahLst/>
              <a:rect l="l" t="t" r="r" b="b"/>
              <a:pathLst>
                <a:path w="1457" h="1463">
                  <a:moveTo>
                    <a:pt x="728" y="0"/>
                  </a:moveTo>
                  <a:lnTo>
                    <a:pt x="876" y="14"/>
                  </a:lnTo>
                  <a:lnTo>
                    <a:pt x="945" y="32"/>
                  </a:lnTo>
                  <a:lnTo>
                    <a:pt x="1012" y="58"/>
                  </a:lnTo>
                  <a:lnTo>
                    <a:pt x="1077" y="87"/>
                  </a:lnTo>
                  <a:lnTo>
                    <a:pt x="1137" y="125"/>
                  </a:lnTo>
                  <a:lnTo>
                    <a:pt x="1243" y="215"/>
                  </a:lnTo>
                  <a:lnTo>
                    <a:pt x="1334" y="322"/>
                  </a:lnTo>
                  <a:lnTo>
                    <a:pt x="1399" y="447"/>
                  </a:lnTo>
                  <a:lnTo>
                    <a:pt x="1425" y="513"/>
                  </a:lnTo>
                  <a:lnTo>
                    <a:pt x="1442" y="583"/>
                  </a:lnTo>
                  <a:lnTo>
                    <a:pt x="1452" y="656"/>
                  </a:lnTo>
                  <a:lnTo>
                    <a:pt x="1457" y="730"/>
                  </a:lnTo>
                  <a:lnTo>
                    <a:pt x="1442" y="879"/>
                  </a:lnTo>
                  <a:lnTo>
                    <a:pt x="1399" y="1015"/>
                  </a:lnTo>
                  <a:lnTo>
                    <a:pt x="1334" y="1139"/>
                  </a:lnTo>
                  <a:lnTo>
                    <a:pt x="1243" y="1248"/>
                  </a:lnTo>
                  <a:lnTo>
                    <a:pt x="1137" y="1337"/>
                  </a:lnTo>
                  <a:lnTo>
                    <a:pt x="1012" y="1405"/>
                  </a:lnTo>
                  <a:lnTo>
                    <a:pt x="876" y="1447"/>
                  </a:lnTo>
                  <a:lnTo>
                    <a:pt x="728" y="1463"/>
                  </a:lnTo>
                  <a:lnTo>
                    <a:pt x="582" y="1447"/>
                  </a:lnTo>
                  <a:lnTo>
                    <a:pt x="444" y="1405"/>
                  </a:lnTo>
                  <a:lnTo>
                    <a:pt x="321" y="1337"/>
                  </a:lnTo>
                  <a:lnTo>
                    <a:pt x="213" y="1248"/>
                  </a:lnTo>
                  <a:lnTo>
                    <a:pt x="125" y="1139"/>
                  </a:lnTo>
                  <a:lnTo>
                    <a:pt x="57" y="1015"/>
                  </a:lnTo>
                  <a:lnTo>
                    <a:pt x="13" y="879"/>
                  </a:lnTo>
                  <a:lnTo>
                    <a:pt x="0" y="730"/>
                  </a:lnTo>
                  <a:lnTo>
                    <a:pt x="4" y="656"/>
                  </a:lnTo>
                  <a:lnTo>
                    <a:pt x="13" y="583"/>
                  </a:lnTo>
                  <a:lnTo>
                    <a:pt x="33" y="513"/>
                  </a:lnTo>
                  <a:lnTo>
                    <a:pt x="57" y="447"/>
                  </a:lnTo>
                  <a:lnTo>
                    <a:pt x="125" y="322"/>
                  </a:lnTo>
                  <a:lnTo>
                    <a:pt x="213" y="215"/>
                  </a:lnTo>
                  <a:lnTo>
                    <a:pt x="321" y="125"/>
                  </a:lnTo>
                  <a:lnTo>
                    <a:pt x="381" y="87"/>
                  </a:lnTo>
                  <a:lnTo>
                    <a:pt x="444" y="58"/>
                  </a:lnTo>
                  <a:lnTo>
                    <a:pt x="513" y="32"/>
                  </a:lnTo>
                  <a:lnTo>
                    <a:pt x="582" y="14"/>
                  </a:lnTo>
                  <a:lnTo>
                    <a:pt x="654" y="5"/>
                  </a:lnTo>
                  <a:lnTo>
                    <a:pt x="728" y="0"/>
                  </a:lnTo>
                  <a:close/>
                </a:path>
              </a:pathLst>
            </a:custGeom>
            <a:blipFill rotWithShape="0">
              <a:blip r:embed="rId44"/>
              <a:srcRect/>
              <a:stretch/>
            </a:blip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1468800" y="1103040"/>
              <a:ext cx="186480" cy="169560"/>
            </a:xfrm>
            <a:custGeom>
              <a:avLst/>
              <a:gdLst/>
              <a:ahLst/>
              <a:rect l="l" t="t" r="r" b="b"/>
              <a:pathLst>
                <a:path w="1457" h="1463">
                  <a:moveTo>
                    <a:pt x="728" y="0"/>
                  </a:moveTo>
                  <a:lnTo>
                    <a:pt x="876" y="14"/>
                  </a:lnTo>
                  <a:lnTo>
                    <a:pt x="945" y="32"/>
                  </a:lnTo>
                  <a:lnTo>
                    <a:pt x="1012" y="58"/>
                  </a:lnTo>
                  <a:lnTo>
                    <a:pt x="1077" y="87"/>
                  </a:lnTo>
                  <a:lnTo>
                    <a:pt x="1137" y="125"/>
                  </a:lnTo>
                  <a:lnTo>
                    <a:pt x="1243" y="215"/>
                  </a:lnTo>
                  <a:lnTo>
                    <a:pt x="1334" y="322"/>
                  </a:lnTo>
                  <a:lnTo>
                    <a:pt x="1399" y="447"/>
                  </a:lnTo>
                  <a:lnTo>
                    <a:pt x="1425" y="513"/>
                  </a:lnTo>
                  <a:lnTo>
                    <a:pt x="1442" y="583"/>
                  </a:lnTo>
                  <a:lnTo>
                    <a:pt x="1452" y="656"/>
                  </a:lnTo>
                  <a:lnTo>
                    <a:pt x="1457" y="730"/>
                  </a:lnTo>
                  <a:lnTo>
                    <a:pt x="1442" y="879"/>
                  </a:lnTo>
                  <a:lnTo>
                    <a:pt x="1399" y="1015"/>
                  </a:lnTo>
                  <a:lnTo>
                    <a:pt x="1334" y="1139"/>
                  </a:lnTo>
                  <a:lnTo>
                    <a:pt x="1243" y="1248"/>
                  </a:lnTo>
                  <a:lnTo>
                    <a:pt x="1137" y="1337"/>
                  </a:lnTo>
                  <a:lnTo>
                    <a:pt x="1012" y="1405"/>
                  </a:lnTo>
                  <a:lnTo>
                    <a:pt x="876" y="1447"/>
                  </a:lnTo>
                  <a:lnTo>
                    <a:pt x="728" y="1463"/>
                  </a:lnTo>
                  <a:lnTo>
                    <a:pt x="582" y="1447"/>
                  </a:lnTo>
                  <a:lnTo>
                    <a:pt x="444" y="1405"/>
                  </a:lnTo>
                  <a:lnTo>
                    <a:pt x="321" y="1337"/>
                  </a:lnTo>
                  <a:lnTo>
                    <a:pt x="213" y="1248"/>
                  </a:lnTo>
                  <a:lnTo>
                    <a:pt x="125" y="1139"/>
                  </a:lnTo>
                  <a:lnTo>
                    <a:pt x="57" y="1015"/>
                  </a:lnTo>
                  <a:lnTo>
                    <a:pt x="13" y="879"/>
                  </a:lnTo>
                  <a:lnTo>
                    <a:pt x="0" y="730"/>
                  </a:lnTo>
                  <a:lnTo>
                    <a:pt x="4" y="656"/>
                  </a:lnTo>
                  <a:lnTo>
                    <a:pt x="13" y="583"/>
                  </a:lnTo>
                  <a:lnTo>
                    <a:pt x="33" y="513"/>
                  </a:lnTo>
                  <a:lnTo>
                    <a:pt x="57" y="447"/>
                  </a:lnTo>
                  <a:lnTo>
                    <a:pt x="125" y="322"/>
                  </a:lnTo>
                  <a:lnTo>
                    <a:pt x="213" y="215"/>
                  </a:lnTo>
                  <a:lnTo>
                    <a:pt x="321" y="125"/>
                  </a:lnTo>
                  <a:lnTo>
                    <a:pt x="381" y="87"/>
                  </a:lnTo>
                  <a:lnTo>
                    <a:pt x="444" y="58"/>
                  </a:lnTo>
                  <a:lnTo>
                    <a:pt x="513" y="32"/>
                  </a:lnTo>
                  <a:lnTo>
                    <a:pt x="582" y="14"/>
                  </a:lnTo>
                  <a:lnTo>
                    <a:pt x="654" y="5"/>
                  </a:lnTo>
                  <a:lnTo>
                    <a:pt x="728" y="0"/>
                  </a:lnTo>
                </a:path>
              </a:pathLst>
            </a:custGeom>
            <a:blipFill rotWithShape="0">
              <a:blip r:embed="rId45"/>
              <a:srcRect/>
              <a:stretch/>
            </a:blip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1562040" y="1001880"/>
              <a:ext cx="205920" cy="372240"/>
            </a:xfrm>
            <a:custGeom>
              <a:avLst/>
              <a:gdLst/>
              <a:ahLst/>
              <a:rect l="l" t="t" r="r" b="b"/>
              <a:pathLst>
                <a:path w="1609" h="3213">
                  <a:moveTo>
                    <a:pt x="0" y="3103"/>
                  </a:moveTo>
                  <a:lnTo>
                    <a:pt x="0" y="3213"/>
                  </a:lnTo>
                  <a:lnTo>
                    <a:pt x="81" y="3211"/>
                  </a:lnTo>
                  <a:lnTo>
                    <a:pt x="164" y="3205"/>
                  </a:lnTo>
                  <a:lnTo>
                    <a:pt x="245" y="3195"/>
                  </a:lnTo>
                  <a:lnTo>
                    <a:pt x="324" y="3179"/>
                  </a:lnTo>
                  <a:lnTo>
                    <a:pt x="400" y="3161"/>
                  </a:lnTo>
                  <a:lnTo>
                    <a:pt x="478" y="3140"/>
                  </a:lnTo>
                  <a:lnTo>
                    <a:pt x="552" y="3116"/>
                  </a:lnTo>
                  <a:lnTo>
                    <a:pt x="625" y="3087"/>
                  </a:lnTo>
                  <a:lnTo>
                    <a:pt x="696" y="3055"/>
                  </a:lnTo>
                  <a:lnTo>
                    <a:pt x="766" y="3019"/>
                  </a:lnTo>
                  <a:lnTo>
                    <a:pt x="832" y="2980"/>
                  </a:lnTo>
                  <a:lnTo>
                    <a:pt x="898" y="2939"/>
                  </a:lnTo>
                  <a:lnTo>
                    <a:pt x="961" y="2894"/>
                  </a:lnTo>
                  <a:lnTo>
                    <a:pt x="1023" y="2846"/>
                  </a:lnTo>
                  <a:lnTo>
                    <a:pt x="1081" y="2795"/>
                  </a:lnTo>
                  <a:lnTo>
                    <a:pt x="1137" y="2742"/>
                  </a:lnTo>
                  <a:lnTo>
                    <a:pt x="1190" y="2685"/>
                  </a:lnTo>
                  <a:lnTo>
                    <a:pt x="1242" y="2627"/>
                  </a:lnTo>
                  <a:lnTo>
                    <a:pt x="1289" y="2567"/>
                  </a:lnTo>
                  <a:lnTo>
                    <a:pt x="1332" y="2504"/>
                  </a:lnTo>
                  <a:lnTo>
                    <a:pt x="1376" y="2439"/>
                  </a:lnTo>
                  <a:lnTo>
                    <a:pt x="1413" y="2370"/>
                  </a:lnTo>
                  <a:lnTo>
                    <a:pt x="1449" y="2301"/>
                  </a:lnTo>
                  <a:lnTo>
                    <a:pt x="1483" y="2230"/>
                  </a:lnTo>
                  <a:lnTo>
                    <a:pt x="1510" y="2157"/>
                  </a:lnTo>
                  <a:lnTo>
                    <a:pt x="1536" y="2083"/>
                  </a:lnTo>
                  <a:lnTo>
                    <a:pt x="1557" y="2007"/>
                  </a:lnTo>
                  <a:lnTo>
                    <a:pt x="1575" y="1928"/>
                  </a:lnTo>
                  <a:lnTo>
                    <a:pt x="1588" y="1850"/>
                  </a:lnTo>
                  <a:lnTo>
                    <a:pt x="1599" y="1769"/>
                  </a:lnTo>
                  <a:lnTo>
                    <a:pt x="1606" y="1688"/>
                  </a:lnTo>
                  <a:lnTo>
                    <a:pt x="1609" y="1604"/>
                  </a:lnTo>
                  <a:lnTo>
                    <a:pt x="1606" y="1521"/>
                  </a:lnTo>
                  <a:lnTo>
                    <a:pt x="1599" y="1441"/>
                  </a:lnTo>
                  <a:lnTo>
                    <a:pt x="1588" y="1360"/>
                  </a:lnTo>
                  <a:lnTo>
                    <a:pt x="1575" y="1281"/>
                  </a:lnTo>
                  <a:lnTo>
                    <a:pt x="1557" y="1202"/>
                  </a:lnTo>
                  <a:lnTo>
                    <a:pt x="1536" y="1128"/>
                  </a:lnTo>
                  <a:lnTo>
                    <a:pt x="1510" y="1052"/>
                  </a:lnTo>
                  <a:lnTo>
                    <a:pt x="1483" y="979"/>
                  </a:lnTo>
                  <a:lnTo>
                    <a:pt x="1449" y="908"/>
                  </a:lnTo>
                  <a:lnTo>
                    <a:pt x="1413" y="840"/>
                  </a:lnTo>
                  <a:lnTo>
                    <a:pt x="1376" y="772"/>
                  </a:lnTo>
                  <a:lnTo>
                    <a:pt x="1332" y="707"/>
                  </a:lnTo>
                  <a:lnTo>
                    <a:pt x="1289" y="644"/>
                  </a:lnTo>
                  <a:lnTo>
                    <a:pt x="1242" y="582"/>
                  </a:lnTo>
                  <a:lnTo>
                    <a:pt x="1190" y="526"/>
                  </a:lnTo>
                  <a:lnTo>
                    <a:pt x="1137" y="470"/>
                  </a:lnTo>
                  <a:lnTo>
                    <a:pt x="1081" y="417"/>
                  </a:lnTo>
                  <a:lnTo>
                    <a:pt x="1023" y="365"/>
                  </a:lnTo>
                  <a:lnTo>
                    <a:pt x="961" y="318"/>
                  </a:lnTo>
                  <a:lnTo>
                    <a:pt x="898" y="273"/>
                  </a:lnTo>
                  <a:lnTo>
                    <a:pt x="832" y="231"/>
                  </a:lnTo>
                  <a:lnTo>
                    <a:pt x="766" y="192"/>
                  </a:lnTo>
                  <a:lnTo>
                    <a:pt x="696" y="158"/>
                  </a:lnTo>
                  <a:lnTo>
                    <a:pt x="625" y="124"/>
                  </a:lnTo>
                  <a:lnTo>
                    <a:pt x="552" y="97"/>
                  </a:lnTo>
                  <a:lnTo>
                    <a:pt x="478" y="71"/>
                  </a:lnTo>
                  <a:lnTo>
                    <a:pt x="400" y="50"/>
                  </a:lnTo>
                  <a:lnTo>
                    <a:pt x="324" y="32"/>
                  </a:lnTo>
                  <a:lnTo>
                    <a:pt x="245" y="18"/>
                  </a:lnTo>
                  <a:lnTo>
                    <a:pt x="164" y="6"/>
                  </a:lnTo>
                  <a:lnTo>
                    <a:pt x="81" y="0"/>
                  </a:lnTo>
                  <a:lnTo>
                    <a:pt x="0" y="0"/>
                  </a:lnTo>
                  <a:lnTo>
                    <a:pt x="0" y="111"/>
                  </a:lnTo>
                  <a:lnTo>
                    <a:pt x="75" y="111"/>
                  </a:lnTo>
                  <a:lnTo>
                    <a:pt x="152" y="116"/>
                  </a:lnTo>
                  <a:lnTo>
                    <a:pt x="227" y="126"/>
                  </a:lnTo>
                  <a:lnTo>
                    <a:pt x="302" y="139"/>
                  </a:lnTo>
                  <a:lnTo>
                    <a:pt x="373" y="157"/>
                  </a:lnTo>
                  <a:lnTo>
                    <a:pt x="444" y="176"/>
                  </a:lnTo>
                  <a:lnTo>
                    <a:pt x="515" y="200"/>
                  </a:lnTo>
                  <a:lnTo>
                    <a:pt x="583" y="225"/>
                  </a:lnTo>
                  <a:lnTo>
                    <a:pt x="649" y="257"/>
                  </a:lnTo>
                  <a:lnTo>
                    <a:pt x="714" y="288"/>
                  </a:lnTo>
                  <a:lnTo>
                    <a:pt x="776" y="326"/>
                  </a:lnTo>
                  <a:lnTo>
                    <a:pt x="837" y="364"/>
                  </a:lnTo>
                  <a:lnTo>
                    <a:pt x="896" y="405"/>
                  </a:lnTo>
                  <a:lnTo>
                    <a:pt x="953" y="450"/>
                  </a:lnTo>
                  <a:lnTo>
                    <a:pt x="1007" y="498"/>
                  </a:lnTo>
                  <a:lnTo>
                    <a:pt x="1060" y="547"/>
                  </a:lnTo>
                  <a:lnTo>
                    <a:pt x="1109" y="598"/>
                  </a:lnTo>
                  <a:lnTo>
                    <a:pt x="1156" y="654"/>
                  </a:lnTo>
                  <a:lnTo>
                    <a:pt x="1200" y="709"/>
                  </a:lnTo>
                  <a:lnTo>
                    <a:pt x="1242" y="768"/>
                  </a:lnTo>
                  <a:lnTo>
                    <a:pt x="1281" y="829"/>
                  </a:lnTo>
                  <a:lnTo>
                    <a:pt x="1316" y="892"/>
                  </a:lnTo>
                  <a:lnTo>
                    <a:pt x="1350" y="955"/>
                  </a:lnTo>
                  <a:lnTo>
                    <a:pt x="1379" y="1023"/>
                  </a:lnTo>
                  <a:lnTo>
                    <a:pt x="1407" y="1089"/>
                  </a:lnTo>
                  <a:lnTo>
                    <a:pt x="1431" y="1159"/>
                  </a:lnTo>
                  <a:lnTo>
                    <a:pt x="1451" y="1230"/>
                  </a:lnTo>
                  <a:lnTo>
                    <a:pt x="1468" y="1303"/>
                  </a:lnTo>
                  <a:lnTo>
                    <a:pt x="1480" y="1376"/>
                  </a:lnTo>
                  <a:lnTo>
                    <a:pt x="1491" y="1450"/>
                  </a:lnTo>
                  <a:lnTo>
                    <a:pt x="1496" y="1528"/>
                  </a:lnTo>
                  <a:lnTo>
                    <a:pt x="1498" y="1604"/>
                  </a:lnTo>
                  <a:lnTo>
                    <a:pt x="1496" y="1682"/>
                  </a:lnTo>
                  <a:lnTo>
                    <a:pt x="1491" y="1756"/>
                  </a:lnTo>
                  <a:lnTo>
                    <a:pt x="1480" y="1832"/>
                  </a:lnTo>
                  <a:lnTo>
                    <a:pt x="1468" y="1907"/>
                  </a:lnTo>
                  <a:lnTo>
                    <a:pt x="1451" y="1979"/>
                  </a:lnTo>
                  <a:lnTo>
                    <a:pt x="1431" y="2051"/>
                  </a:lnTo>
                  <a:lnTo>
                    <a:pt x="1407" y="2120"/>
                  </a:lnTo>
                  <a:lnTo>
                    <a:pt x="1379" y="2188"/>
                  </a:lnTo>
                  <a:lnTo>
                    <a:pt x="1350" y="2253"/>
                  </a:lnTo>
                  <a:lnTo>
                    <a:pt x="1316" y="2319"/>
                  </a:lnTo>
                  <a:lnTo>
                    <a:pt x="1281" y="2382"/>
                  </a:lnTo>
                  <a:lnTo>
                    <a:pt x="1242" y="2444"/>
                  </a:lnTo>
                  <a:lnTo>
                    <a:pt x="1200" y="2501"/>
                  </a:lnTo>
                  <a:lnTo>
                    <a:pt x="1156" y="2557"/>
                  </a:lnTo>
                  <a:lnTo>
                    <a:pt x="1109" y="2613"/>
                  </a:lnTo>
                  <a:lnTo>
                    <a:pt x="1060" y="2664"/>
                  </a:lnTo>
                  <a:lnTo>
                    <a:pt x="1007" y="2714"/>
                  </a:lnTo>
                  <a:lnTo>
                    <a:pt x="953" y="2761"/>
                  </a:lnTo>
                  <a:lnTo>
                    <a:pt x="896" y="2807"/>
                  </a:lnTo>
                  <a:lnTo>
                    <a:pt x="837" y="2847"/>
                  </a:lnTo>
                  <a:lnTo>
                    <a:pt x="776" y="2887"/>
                  </a:lnTo>
                  <a:lnTo>
                    <a:pt x="714" y="2923"/>
                  </a:lnTo>
                  <a:lnTo>
                    <a:pt x="649" y="2957"/>
                  </a:lnTo>
                  <a:lnTo>
                    <a:pt x="583" y="2986"/>
                  </a:lnTo>
                  <a:lnTo>
                    <a:pt x="515" y="3012"/>
                  </a:lnTo>
                  <a:lnTo>
                    <a:pt x="444" y="3035"/>
                  </a:lnTo>
                  <a:lnTo>
                    <a:pt x="373" y="3057"/>
                  </a:lnTo>
                  <a:lnTo>
                    <a:pt x="302" y="3072"/>
                  </a:lnTo>
                  <a:lnTo>
                    <a:pt x="227" y="3087"/>
                  </a:lnTo>
                  <a:lnTo>
                    <a:pt x="152" y="3095"/>
                  </a:lnTo>
                  <a:lnTo>
                    <a:pt x="75" y="3100"/>
                  </a:lnTo>
                  <a:lnTo>
                    <a:pt x="0" y="3103"/>
                  </a:lnTo>
                  <a:close/>
                </a:path>
              </a:pathLst>
            </a:custGeom>
            <a:blipFill rotWithShape="0">
              <a:blip r:embed="rId46"/>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1355760" y="1000800"/>
              <a:ext cx="205920" cy="372960"/>
            </a:xfrm>
            <a:custGeom>
              <a:avLst/>
              <a:gdLst/>
              <a:ahLst/>
              <a:rect l="l" t="t" r="r" b="b"/>
              <a:pathLst>
                <a:path w="1610" h="3215">
                  <a:moveTo>
                    <a:pt x="1610" y="113"/>
                  </a:moveTo>
                  <a:lnTo>
                    <a:pt x="1610" y="2"/>
                  </a:lnTo>
                  <a:lnTo>
                    <a:pt x="1608" y="0"/>
                  </a:lnTo>
                  <a:lnTo>
                    <a:pt x="1525" y="2"/>
                  </a:lnTo>
                  <a:lnTo>
                    <a:pt x="1444" y="8"/>
                  </a:lnTo>
                  <a:lnTo>
                    <a:pt x="1363" y="20"/>
                  </a:lnTo>
                  <a:lnTo>
                    <a:pt x="1285" y="34"/>
                  </a:lnTo>
                  <a:lnTo>
                    <a:pt x="1206" y="52"/>
                  </a:lnTo>
                  <a:lnTo>
                    <a:pt x="1131" y="73"/>
                  </a:lnTo>
                  <a:lnTo>
                    <a:pt x="1055" y="99"/>
                  </a:lnTo>
                  <a:lnTo>
                    <a:pt x="982" y="126"/>
                  </a:lnTo>
                  <a:lnTo>
                    <a:pt x="911" y="160"/>
                  </a:lnTo>
                  <a:lnTo>
                    <a:pt x="840" y="194"/>
                  </a:lnTo>
                  <a:lnTo>
                    <a:pt x="773" y="233"/>
                  </a:lnTo>
                  <a:lnTo>
                    <a:pt x="708" y="275"/>
                  </a:lnTo>
                  <a:lnTo>
                    <a:pt x="645" y="320"/>
                  </a:lnTo>
                  <a:lnTo>
                    <a:pt x="586" y="367"/>
                  </a:lnTo>
                  <a:lnTo>
                    <a:pt x="526" y="419"/>
                  </a:lnTo>
                  <a:lnTo>
                    <a:pt x="471" y="472"/>
                  </a:lnTo>
                  <a:lnTo>
                    <a:pt x="418" y="528"/>
                  </a:lnTo>
                  <a:lnTo>
                    <a:pt x="367" y="584"/>
                  </a:lnTo>
                  <a:lnTo>
                    <a:pt x="319" y="646"/>
                  </a:lnTo>
                  <a:lnTo>
                    <a:pt x="273" y="709"/>
                  </a:lnTo>
                  <a:lnTo>
                    <a:pt x="233" y="774"/>
                  </a:lnTo>
                  <a:lnTo>
                    <a:pt x="193" y="842"/>
                  </a:lnTo>
                  <a:lnTo>
                    <a:pt x="157" y="910"/>
                  </a:lnTo>
                  <a:lnTo>
                    <a:pt x="126" y="981"/>
                  </a:lnTo>
                  <a:lnTo>
                    <a:pt x="97" y="1054"/>
                  </a:lnTo>
                  <a:lnTo>
                    <a:pt x="73" y="1130"/>
                  </a:lnTo>
                  <a:lnTo>
                    <a:pt x="50" y="1204"/>
                  </a:lnTo>
                  <a:lnTo>
                    <a:pt x="32" y="1283"/>
                  </a:lnTo>
                  <a:lnTo>
                    <a:pt x="17" y="1362"/>
                  </a:lnTo>
                  <a:lnTo>
                    <a:pt x="8" y="1443"/>
                  </a:lnTo>
                  <a:lnTo>
                    <a:pt x="1" y="1523"/>
                  </a:lnTo>
                  <a:lnTo>
                    <a:pt x="0" y="1606"/>
                  </a:lnTo>
                  <a:lnTo>
                    <a:pt x="1" y="1690"/>
                  </a:lnTo>
                  <a:lnTo>
                    <a:pt x="8" y="1771"/>
                  </a:lnTo>
                  <a:lnTo>
                    <a:pt x="17" y="1852"/>
                  </a:lnTo>
                  <a:lnTo>
                    <a:pt x="32" y="1930"/>
                  </a:lnTo>
                  <a:lnTo>
                    <a:pt x="50" y="2009"/>
                  </a:lnTo>
                  <a:lnTo>
                    <a:pt x="73" y="2085"/>
                  </a:lnTo>
                  <a:lnTo>
                    <a:pt x="97" y="2159"/>
                  </a:lnTo>
                  <a:lnTo>
                    <a:pt x="126" y="2232"/>
                  </a:lnTo>
                  <a:lnTo>
                    <a:pt x="157" y="2303"/>
                  </a:lnTo>
                  <a:lnTo>
                    <a:pt x="193" y="2372"/>
                  </a:lnTo>
                  <a:lnTo>
                    <a:pt x="233" y="2441"/>
                  </a:lnTo>
                  <a:lnTo>
                    <a:pt x="273" y="2506"/>
                  </a:lnTo>
                  <a:lnTo>
                    <a:pt x="319" y="2569"/>
                  </a:lnTo>
                  <a:lnTo>
                    <a:pt x="367" y="2629"/>
                  </a:lnTo>
                  <a:lnTo>
                    <a:pt x="418" y="2687"/>
                  </a:lnTo>
                  <a:lnTo>
                    <a:pt x="471" y="2744"/>
                  </a:lnTo>
                  <a:lnTo>
                    <a:pt x="526" y="2797"/>
                  </a:lnTo>
                  <a:lnTo>
                    <a:pt x="584" y="2848"/>
                  </a:lnTo>
                  <a:lnTo>
                    <a:pt x="645" y="2896"/>
                  </a:lnTo>
                  <a:lnTo>
                    <a:pt x="708" y="2941"/>
                  </a:lnTo>
                  <a:lnTo>
                    <a:pt x="773" y="2982"/>
                  </a:lnTo>
                  <a:lnTo>
                    <a:pt x="840" y="3021"/>
                  </a:lnTo>
                  <a:lnTo>
                    <a:pt x="911" y="3057"/>
                  </a:lnTo>
                  <a:lnTo>
                    <a:pt x="982" y="3089"/>
                  </a:lnTo>
                  <a:lnTo>
                    <a:pt x="1055" y="3118"/>
                  </a:lnTo>
                  <a:lnTo>
                    <a:pt x="1131" y="3142"/>
                  </a:lnTo>
                  <a:lnTo>
                    <a:pt x="1206" y="3163"/>
                  </a:lnTo>
                  <a:lnTo>
                    <a:pt x="1285" y="3181"/>
                  </a:lnTo>
                  <a:lnTo>
                    <a:pt x="1363" y="3197"/>
                  </a:lnTo>
                  <a:lnTo>
                    <a:pt x="1444" y="3207"/>
                  </a:lnTo>
                  <a:lnTo>
                    <a:pt x="1525" y="3213"/>
                  </a:lnTo>
                  <a:lnTo>
                    <a:pt x="1608" y="3215"/>
                  </a:lnTo>
                  <a:lnTo>
                    <a:pt x="1610" y="3215"/>
                  </a:lnTo>
                  <a:lnTo>
                    <a:pt x="1610" y="3105"/>
                  </a:lnTo>
                  <a:lnTo>
                    <a:pt x="1608" y="3105"/>
                  </a:lnTo>
                  <a:lnTo>
                    <a:pt x="1531" y="3102"/>
                  </a:lnTo>
                  <a:lnTo>
                    <a:pt x="1456" y="3097"/>
                  </a:lnTo>
                  <a:lnTo>
                    <a:pt x="1379" y="3089"/>
                  </a:lnTo>
                  <a:lnTo>
                    <a:pt x="1306" y="3074"/>
                  </a:lnTo>
                  <a:lnTo>
                    <a:pt x="1233" y="3059"/>
                  </a:lnTo>
                  <a:lnTo>
                    <a:pt x="1162" y="3037"/>
                  </a:lnTo>
                  <a:lnTo>
                    <a:pt x="1093" y="3014"/>
                  </a:lnTo>
                  <a:lnTo>
                    <a:pt x="1024" y="2988"/>
                  </a:lnTo>
                  <a:lnTo>
                    <a:pt x="958" y="2959"/>
                  </a:lnTo>
                  <a:lnTo>
                    <a:pt x="893" y="2925"/>
                  </a:lnTo>
                  <a:lnTo>
                    <a:pt x="830" y="2889"/>
                  </a:lnTo>
                  <a:lnTo>
                    <a:pt x="769" y="2849"/>
                  </a:lnTo>
                  <a:lnTo>
                    <a:pt x="712" y="2809"/>
                  </a:lnTo>
                  <a:lnTo>
                    <a:pt x="655" y="2763"/>
                  </a:lnTo>
                  <a:lnTo>
                    <a:pt x="600" y="2716"/>
                  </a:lnTo>
                  <a:lnTo>
                    <a:pt x="548" y="2666"/>
                  </a:lnTo>
                  <a:lnTo>
                    <a:pt x="498" y="2615"/>
                  </a:lnTo>
                  <a:lnTo>
                    <a:pt x="451" y="2559"/>
                  </a:lnTo>
                  <a:lnTo>
                    <a:pt x="406" y="2503"/>
                  </a:lnTo>
                  <a:lnTo>
                    <a:pt x="364" y="2446"/>
                  </a:lnTo>
                  <a:lnTo>
                    <a:pt x="325" y="2384"/>
                  </a:lnTo>
                  <a:lnTo>
                    <a:pt x="290" y="2321"/>
                  </a:lnTo>
                  <a:lnTo>
                    <a:pt x="256" y="2255"/>
                  </a:lnTo>
                  <a:lnTo>
                    <a:pt x="226" y="2190"/>
                  </a:lnTo>
                  <a:lnTo>
                    <a:pt x="201" y="2122"/>
                  </a:lnTo>
                  <a:lnTo>
                    <a:pt x="178" y="2053"/>
                  </a:lnTo>
                  <a:lnTo>
                    <a:pt x="155" y="1981"/>
                  </a:lnTo>
                  <a:lnTo>
                    <a:pt x="139" y="1909"/>
                  </a:lnTo>
                  <a:lnTo>
                    <a:pt x="126" y="1834"/>
                  </a:lnTo>
                  <a:lnTo>
                    <a:pt x="116" y="1758"/>
                  </a:lnTo>
                  <a:lnTo>
                    <a:pt x="112" y="1684"/>
                  </a:lnTo>
                  <a:lnTo>
                    <a:pt x="110" y="1606"/>
                  </a:lnTo>
                  <a:lnTo>
                    <a:pt x="112" y="1530"/>
                  </a:lnTo>
                  <a:lnTo>
                    <a:pt x="116" y="1452"/>
                  </a:lnTo>
                  <a:lnTo>
                    <a:pt x="126" y="1378"/>
                  </a:lnTo>
                  <a:lnTo>
                    <a:pt x="139" y="1305"/>
                  </a:lnTo>
                  <a:lnTo>
                    <a:pt x="155" y="1232"/>
                  </a:lnTo>
                  <a:lnTo>
                    <a:pt x="178" y="1161"/>
                  </a:lnTo>
                  <a:lnTo>
                    <a:pt x="201" y="1091"/>
                  </a:lnTo>
                  <a:lnTo>
                    <a:pt x="226" y="1025"/>
                  </a:lnTo>
                  <a:lnTo>
                    <a:pt x="256" y="957"/>
                  </a:lnTo>
                  <a:lnTo>
                    <a:pt x="290" y="894"/>
                  </a:lnTo>
                  <a:lnTo>
                    <a:pt x="325" y="831"/>
                  </a:lnTo>
                  <a:lnTo>
                    <a:pt x="364" y="770"/>
                  </a:lnTo>
                  <a:lnTo>
                    <a:pt x="406" y="711"/>
                  </a:lnTo>
                  <a:lnTo>
                    <a:pt x="451" y="656"/>
                  </a:lnTo>
                  <a:lnTo>
                    <a:pt x="498" y="600"/>
                  </a:lnTo>
                  <a:lnTo>
                    <a:pt x="548" y="549"/>
                  </a:lnTo>
                  <a:lnTo>
                    <a:pt x="600" y="500"/>
                  </a:lnTo>
                  <a:lnTo>
                    <a:pt x="655" y="452"/>
                  </a:lnTo>
                  <a:lnTo>
                    <a:pt x="712" y="407"/>
                  </a:lnTo>
                  <a:lnTo>
                    <a:pt x="769" y="366"/>
                  </a:lnTo>
                  <a:lnTo>
                    <a:pt x="830" y="328"/>
                  </a:lnTo>
                  <a:lnTo>
                    <a:pt x="893" y="290"/>
                  </a:lnTo>
                  <a:lnTo>
                    <a:pt x="958" y="259"/>
                  </a:lnTo>
                  <a:lnTo>
                    <a:pt x="1024" y="227"/>
                  </a:lnTo>
                  <a:lnTo>
                    <a:pt x="1093" y="202"/>
                  </a:lnTo>
                  <a:lnTo>
                    <a:pt x="1162" y="178"/>
                  </a:lnTo>
                  <a:lnTo>
                    <a:pt x="1233" y="159"/>
                  </a:lnTo>
                  <a:lnTo>
                    <a:pt x="1306" y="141"/>
                  </a:lnTo>
                  <a:lnTo>
                    <a:pt x="1379" y="128"/>
                  </a:lnTo>
                  <a:lnTo>
                    <a:pt x="1456" y="118"/>
                  </a:lnTo>
                  <a:lnTo>
                    <a:pt x="1531" y="113"/>
                  </a:lnTo>
                  <a:lnTo>
                    <a:pt x="1608" y="110"/>
                  </a:lnTo>
                  <a:lnTo>
                    <a:pt x="1610" y="113"/>
                  </a:lnTo>
                  <a:close/>
                </a:path>
              </a:pathLst>
            </a:custGeom>
            <a:blipFill rotWithShape="0">
              <a:blip r:embed="rId47"/>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1562040" y="912600"/>
              <a:ext cx="303120" cy="550440"/>
            </a:xfrm>
            <a:custGeom>
              <a:avLst/>
              <a:gdLst/>
              <a:ahLst/>
              <a:rect l="l" t="t" r="r" b="b"/>
              <a:pathLst>
                <a:path w="2366" h="4738">
                  <a:moveTo>
                    <a:pt x="0" y="4627"/>
                  </a:moveTo>
                  <a:lnTo>
                    <a:pt x="0" y="4738"/>
                  </a:lnTo>
                  <a:lnTo>
                    <a:pt x="120" y="4733"/>
                  </a:lnTo>
                  <a:lnTo>
                    <a:pt x="241" y="4724"/>
                  </a:lnTo>
                  <a:lnTo>
                    <a:pt x="359" y="4710"/>
                  </a:lnTo>
                  <a:lnTo>
                    <a:pt x="476" y="4688"/>
                  </a:lnTo>
                  <a:lnTo>
                    <a:pt x="590" y="4662"/>
                  </a:lnTo>
                  <a:lnTo>
                    <a:pt x="703" y="4631"/>
                  </a:lnTo>
                  <a:lnTo>
                    <a:pt x="813" y="4594"/>
                  </a:lnTo>
                  <a:lnTo>
                    <a:pt x="921" y="4550"/>
                  </a:lnTo>
                  <a:lnTo>
                    <a:pt x="1026" y="4503"/>
                  </a:lnTo>
                  <a:lnTo>
                    <a:pt x="1127" y="4450"/>
                  </a:lnTo>
                  <a:lnTo>
                    <a:pt x="1227" y="4392"/>
                  </a:lnTo>
                  <a:lnTo>
                    <a:pt x="1322" y="4331"/>
                  </a:lnTo>
                  <a:lnTo>
                    <a:pt x="1415" y="4266"/>
                  </a:lnTo>
                  <a:lnTo>
                    <a:pt x="1506" y="4194"/>
                  </a:lnTo>
                  <a:lnTo>
                    <a:pt x="1591" y="4120"/>
                  </a:lnTo>
                  <a:lnTo>
                    <a:pt x="1674" y="4041"/>
                  </a:lnTo>
                  <a:lnTo>
                    <a:pt x="1753" y="3958"/>
                  </a:lnTo>
                  <a:lnTo>
                    <a:pt x="1826" y="3873"/>
                  </a:lnTo>
                  <a:lnTo>
                    <a:pt x="1897" y="3783"/>
                  </a:lnTo>
                  <a:lnTo>
                    <a:pt x="1964" y="3689"/>
                  </a:lnTo>
                  <a:lnTo>
                    <a:pt x="2025" y="3595"/>
                  </a:lnTo>
                  <a:lnTo>
                    <a:pt x="2082" y="3495"/>
                  </a:lnTo>
                  <a:lnTo>
                    <a:pt x="2133" y="3391"/>
                  </a:lnTo>
                  <a:lnTo>
                    <a:pt x="2181" y="3287"/>
                  </a:lnTo>
                  <a:lnTo>
                    <a:pt x="2224" y="3181"/>
                  </a:lnTo>
                  <a:lnTo>
                    <a:pt x="2262" y="3070"/>
                  </a:lnTo>
                  <a:lnTo>
                    <a:pt x="2294" y="2957"/>
                  </a:lnTo>
                  <a:lnTo>
                    <a:pt x="2319" y="2844"/>
                  </a:lnTo>
                  <a:lnTo>
                    <a:pt x="2341" y="2724"/>
                  </a:lnTo>
                  <a:lnTo>
                    <a:pt x="2355" y="2606"/>
                  </a:lnTo>
                  <a:lnTo>
                    <a:pt x="2365" y="2486"/>
                  </a:lnTo>
                  <a:lnTo>
                    <a:pt x="2366" y="2365"/>
                  </a:lnTo>
                  <a:lnTo>
                    <a:pt x="2365" y="2243"/>
                  </a:lnTo>
                  <a:lnTo>
                    <a:pt x="2355" y="2123"/>
                  </a:lnTo>
                  <a:lnTo>
                    <a:pt x="2341" y="2004"/>
                  </a:lnTo>
                  <a:lnTo>
                    <a:pt x="2319" y="1889"/>
                  </a:lnTo>
                  <a:lnTo>
                    <a:pt x="2294" y="1774"/>
                  </a:lnTo>
                  <a:lnTo>
                    <a:pt x="2262" y="1661"/>
                  </a:lnTo>
                  <a:lnTo>
                    <a:pt x="2224" y="1551"/>
                  </a:lnTo>
                  <a:lnTo>
                    <a:pt x="2181" y="1442"/>
                  </a:lnTo>
                  <a:lnTo>
                    <a:pt x="2133" y="1337"/>
                  </a:lnTo>
                  <a:lnTo>
                    <a:pt x="2082" y="1237"/>
                  </a:lnTo>
                  <a:lnTo>
                    <a:pt x="2025" y="1136"/>
                  </a:lnTo>
                  <a:lnTo>
                    <a:pt x="1964" y="1042"/>
                  </a:lnTo>
                  <a:lnTo>
                    <a:pt x="1897" y="949"/>
                  </a:lnTo>
                  <a:lnTo>
                    <a:pt x="1826" y="858"/>
                  </a:lnTo>
                  <a:lnTo>
                    <a:pt x="1753" y="773"/>
                  </a:lnTo>
                  <a:lnTo>
                    <a:pt x="1674" y="691"/>
                  </a:lnTo>
                  <a:lnTo>
                    <a:pt x="1591" y="612"/>
                  </a:lnTo>
                  <a:lnTo>
                    <a:pt x="1506" y="539"/>
                  </a:lnTo>
                  <a:lnTo>
                    <a:pt x="1415" y="468"/>
                  </a:lnTo>
                  <a:lnTo>
                    <a:pt x="1322" y="400"/>
                  </a:lnTo>
                  <a:lnTo>
                    <a:pt x="1227" y="340"/>
                  </a:lnTo>
                  <a:lnTo>
                    <a:pt x="1127" y="282"/>
                  </a:lnTo>
                  <a:lnTo>
                    <a:pt x="1026" y="231"/>
                  </a:lnTo>
                  <a:lnTo>
                    <a:pt x="921" y="183"/>
                  </a:lnTo>
                  <a:lnTo>
                    <a:pt x="813" y="139"/>
                  </a:lnTo>
                  <a:lnTo>
                    <a:pt x="703" y="102"/>
                  </a:lnTo>
                  <a:lnTo>
                    <a:pt x="590" y="71"/>
                  </a:lnTo>
                  <a:lnTo>
                    <a:pt x="476" y="45"/>
                  </a:lnTo>
                  <a:lnTo>
                    <a:pt x="359" y="24"/>
                  </a:lnTo>
                  <a:lnTo>
                    <a:pt x="241" y="10"/>
                  </a:lnTo>
                  <a:lnTo>
                    <a:pt x="120" y="0"/>
                  </a:lnTo>
                  <a:lnTo>
                    <a:pt x="0" y="0"/>
                  </a:lnTo>
                  <a:lnTo>
                    <a:pt x="0" y="108"/>
                  </a:lnTo>
                  <a:lnTo>
                    <a:pt x="115" y="110"/>
                  </a:lnTo>
                  <a:lnTo>
                    <a:pt x="229" y="118"/>
                  </a:lnTo>
                  <a:lnTo>
                    <a:pt x="343" y="132"/>
                  </a:lnTo>
                  <a:lnTo>
                    <a:pt x="454" y="152"/>
                  </a:lnTo>
                  <a:lnTo>
                    <a:pt x="562" y="178"/>
                  </a:lnTo>
                  <a:lnTo>
                    <a:pt x="671" y="209"/>
                  </a:lnTo>
                  <a:lnTo>
                    <a:pt x="776" y="244"/>
                  </a:lnTo>
                  <a:lnTo>
                    <a:pt x="878" y="283"/>
                  </a:lnTo>
                  <a:lnTo>
                    <a:pt x="979" y="330"/>
                  </a:lnTo>
                  <a:lnTo>
                    <a:pt x="1075" y="379"/>
                  </a:lnTo>
                  <a:lnTo>
                    <a:pt x="1170" y="434"/>
                  </a:lnTo>
                  <a:lnTo>
                    <a:pt x="1261" y="493"/>
                  </a:lnTo>
                  <a:lnTo>
                    <a:pt x="1350" y="555"/>
                  </a:lnTo>
                  <a:lnTo>
                    <a:pt x="1434" y="621"/>
                  </a:lnTo>
                  <a:lnTo>
                    <a:pt x="1518" y="693"/>
                  </a:lnTo>
                  <a:lnTo>
                    <a:pt x="1596" y="767"/>
                  </a:lnTo>
                  <a:lnTo>
                    <a:pt x="1672" y="846"/>
                  </a:lnTo>
                  <a:lnTo>
                    <a:pt x="1743" y="929"/>
                  </a:lnTo>
                  <a:lnTo>
                    <a:pt x="1810" y="1015"/>
                  </a:lnTo>
                  <a:lnTo>
                    <a:pt x="1871" y="1102"/>
                  </a:lnTo>
                  <a:lnTo>
                    <a:pt x="1930" y="1193"/>
                  </a:lnTo>
                  <a:lnTo>
                    <a:pt x="1986" y="1288"/>
                  </a:lnTo>
                  <a:lnTo>
                    <a:pt x="2035" y="1385"/>
                  </a:lnTo>
                  <a:lnTo>
                    <a:pt x="2080" y="1486"/>
                  </a:lnTo>
                  <a:lnTo>
                    <a:pt x="2119" y="1588"/>
                  </a:lnTo>
                  <a:lnTo>
                    <a:pt x="2155" y="1693"/>
                  </a:lnTo>
                  <a:lnTo>
                    <a:pt x="2187" y="1801"/>
                  </a:lnTo>
                  <a:lnTo>
                    <a:pt x="2213" y="1910"/>
                  </a:lnTo>
                  <a:lnTo>
                    <a:pt x="2232" y="2020"/>
                  </a:lnTo>
                  <a:lnTo>
                    <a:pt x="2245" y="2135"/>
                  </a:lnTo>
                  <a:lnTo>
                    <a:pt x="2253" y="2250"/>
                  </a:lnTo>
                  <a:lnTo>
                    <a:pt x="2258" y="2365"/>
                  </a:lnTo>
                  <a:lnTo>
                    <a:pt x="2253" y="2482"/>
                  </a:lnTo>
                  <a:lnTo>
                    <a:pt x="2245" y="2596"/>
                  </a:lnTo>
                  <a:lnTo>
                    <a:pt x="2232" y="2709"/>
                  </a:lnTo>
                  <a:lnTo>
                    <a:pt x="2213" y="2820"/>
                  </a:lnTo>
                  <a:lnTo>
                    <a:pt x="2187" y="2930"/>
                  </a:lnTo>
                  <a:lnTo>
                    <a:pt x="2155" y="3037"/>
                  </a:lnTo>
                  <a:lnTo>
                    <a:pt x="2119" y="3143"/>
                  </a:lnTo>
                  <a:lnTo>
                    <a:pt x="2080" y="3246"/>
                  </a:lnTo>
                  <a:lnTo>
                    <a:pt x="2035" y="3344"/>
                  </a:lnTo>
                  <a:lnTo>
                    <a:pt x="1986" y="3443"/>
                  </a:lnTo>
                  <a:lnTo>
                    <a:pt x="1930" y="3538"/>
                  </a:lnTo>
                  <a:lnTo>
                    <a:pt x="1871" y="3629"/>
                  </a:lnTo>
                  <a:lnTo>
                    <a:pt x="1810" y="3718"/>
                  </a:lnTo>
                  <a:lnTo>
                    <a:pt x="1743" y="3804"/>
                  </a:lnTo>
                  <a:lnTo>
                    <a:pt x="1672" y="3885"/>
                  </a:lnTo>
                  <a:lnTo>
                    <a:pt x="1596" y="3964"/>
                  </a:lnTo>
                  <a:lnTo>
                    <a:pt x="1518" y="4039"/>
                  </a:lnTo>
                  <a:lnTo>
                    <a:pt x="1434" y="4110"/>
                  </a:lnTo>
                  <a:lnTo>
                    <a:pt x="1350" y="4178"/>
                  </a:lnTo>
                  <a:lnTo>
                    <a:pt x="1261" y="4241"/>
                  </a:lnTo>
                  <a:lnTo>
                    <a:pt x="1170" y="4299"/>
                  </a:lnTo>
                  <a:lnTo>
                    <a:pt x="1075" y="4354"/>
                  </a:lnTo>
                  <a:lnTo>
                    <a:pt x="979" y="4404"/>
                  </a:lnTo>
                  <a:lnTo>
                    <a:pt x="878" y="4450"/>
                  </a:lnTo>
                  <a:lnTo>
                    <a:pt x="776" y="4489"/>
                  </a:lnTo>
                  <a:lnTo>
                    <a:pt x="671" y="4526"/>
                  </a:lnTo>
                  <a:lnTo>
                    <a:pt x="562" y="4555"/>
                  </a:lnTo>
                  <a:lnTo>
                    <a:pt x="454" y="4581"/>
                  </a:lnTo>
                  <a:lnTo>
                    <a:pt x="343" y="4602"/>
                  </a:lnTo>
                  <a:lnTo>
                    <a:pt x="229" y="4615"/>
                  </a:lnTo>
                  <a:lnTo>
                    <a:pt x="115" y="4625"/>
                  </a:lnTo>
                  <a:lnTo>
                    <a:pt x="0" y="4627"/>
                  </a:lnTo>
                  <a:close/>
                </a:path>
              </a:pathLst>
            </a:custGeom>
            <a:blipFill rotWithShape="0">
              <a:blip r:embed="rId48"/>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1258560" y="912600"/>
              <a:ext cx="303120" cy="550440"/>
            </a:xfrm>
            <a:custGeom>
              <a:avLst/>
              <a:gdLst/>
              <a:ahLst/>
              <a:rect l="l" t="t" r="r" b="b"/>
              <a:pathLst>
                <a:path w="2371" h="4740">
                  <a:moveTo>
                    <a:pt x="2371" y="110"/>
                  </a:moveTo>
                  <a:lnTo>
                    <a:pt x="2371" y="2"/>
                  </a:lnTo>
                  <a:lnTo>
                    <a:pt x="2369" y="0"/>
                  </a:lnTo>
                  <a:lnTo>
                    <a:pt x="2248" y="2"/>
                  </a:lnTo>
                  <a:lnTo>
                    <a:pt x="2128" y="12"/>
                  </a:lnTo>
                  <a:lnTo>
                    <a:pt x="2010" y="26"/>
                  </a:lnTo>
                  <a:lnTo>
                    <a:pt x="1892" y="47"/>
                  </a:lnTo>
                  <a:lnTo>
                    <a:pt x="1777" y="73"/>
                  </a:lnTo>
                  <a:lnTo>
                    <a:pt x="1664" y="104"/>
                  </a:lnTo>
                  <a:lnTo>
                    <a:pt x="1556" y="141"/>
                  </a:lnTo>
                  <a:lnTo>
                    <a:pt x="1447" y="185"/>
                  </a:lnTo>
                  <a:lnTo>
                    <a:pt x="1342" y="233"/>
                  </a:lnTo>
                  <a:lnTo>
                    <a:pt x="1240" y="284"/>
                  </a:lnTo>
                  <a:lnTo>
                    <a:pt x="1141" y="342"/>
                  </a:lnTo>
                  <a:lnTo>
                    <a:pt x="1044" y="402"/>
                  </a:lnTo>
                  <a:lnTo>
                    <a:pt x="952" y="470"/>
                  </a:lnTo>
                  <a:lnTo>
                    <a:pt x="863" y="541"/>
                  </a:lnTo>
                  <a:lnTo>
                    <a:pt x="777" y="614"/>
                  </a:lnTo>
                  <a:lnTo>
                    <a:pt x="696" y="693"/>
                  </a:lnTo>
                  <a:lnTo>
                    <a:pt x="617" y="775"/>
                  </a:lnTo>
                  <a:lnTo>
                    <a:pt x="541" y="860"/>
                  </a:lnTo>
                  <a:lnTo>
                    <a:pt x="473" y="951"/>
                  </a:lnTo>
                  <a:lnTo>
                    <a:pt x="405" y="1044"/>
                  </a:lnTo>
                  <a:lnTo>
                    <a:pt x="345" y="1138"/>
                  </a:lnTo>
                  <a:lnTo>
                    <a:pt x="287" y="1239"/>
                  </a:lnTo>
                  <a:lnTo>
                    <a:pt x="233" y="1339"/>
                  </a:lnTo>
                  <a:lnTo>
                    <a:pt x="186" y="1444"/>
                  </a:lnTo>
                  <a:lnTo>
                    <a:pt x="144" y="1553"/>
                  </a:lnTo>
                  <a:lnTo>
                    <a:pt x="107" y="1663"/>
                  </a:lnTo>
                  <a:lnTo>
                    <a:pt x="76" y="1776"/>
                  </a:lnTo>
                  <a:lnTo>
                    <a:pt x="50" y="1891"/>
                  </a:lnTo>
                  <a:lnTo>
                    <a:pt x="28" y="2006"/>
                  </a:lnTo>
                  <a:lnTo>
                    <a:pt x="13" y="2125"/>
                  </a:lnTo>
                  <a:lnTo>
                    <a:pt x="5" y="2245"/>
                  </a:lnTo>
                  <a:lnTo>
                    <a:pt x="0" y="2367"/>
                  </a:lnTo>
                  <a:lnTo>
                    <a:pt x="5" y="2488"/>
                  </a:lnTo>
                  <a:lnTo>
                    <a:pt x="13" y="2608"/>
                  </a:lnTo>
                  <a:lnTo>
                    <a:pt x="28" y="2729"/>
                  </a:lnTo>
                  <a:lnTo>
                    <a:pt x="50" y="2846"/>
                  </a:lnTo>
                  <a:lnTo>
                    <a:pt x="76" y="2959"/>
                  </a:lnTo>
                  <a:lnTo>
                    <a:pt x="107" y="3072"/>
                  </a:lnTo>
                  <a:lnTo>
                    <a:pt x="144" y="3183"/>
                  </a:lnTo>
                  <a:lnTo>
                    <a:pt x="186" y="3289"/>
                  </a:lnTo>
                  <a:lnTo>
                    <a:pt x="233" y="3393"/>
                  </a:lnTo>
                  <a:lnTo>
                    <a:pt x="287" y="3497"/>
                  </a:lnTo>
                  <a:lnTo>
                    <a:pt x="345" y="3597"/>
                  </a:lnTo>
                  <a:lnTo>
                    <a:pt x="405" y="3691"/>
                  </a:lnTo>
                  <a:lnTo>
                    <a:pt x="473" y="3785"/>
                  </a:lnTo>
                  <a:lnTo>
                    <a:pt x="541" y="3875"/>
                  </a:lnTo>
                  <a:lnTo>
                    <a:pt x="617" y="3960"/>
                  </a:lnTo>
                  <a:lnTo>
                    <a:pt x="696" y="4043"/>
                  </a:lnTo>
                  <a:lnTo>
                    <a:pt x="777" y="4122"/>
                  </a:lnTo>
                  <a:lnTo>
                    <a:pt x="863" y="4196"/>
                  </a:lnTo>
                  <a:lnTo>
                    <a:pt x="952" y="4268"/>
                  </a:lnTo>
                  <a:lnTo>
                    <a:pt x="1044" y="4333"/>
                  </a:lnTo>
                  <a:lnTo>
                    <a:pt x="1141" y="4394"/>
                  </a:lnTo>
                  <a:lnTo>
                    <a:pt x="1240" y="4452"/>
                  </a:lnTo>
                  <a:lnTo>
                    <a:pt x="1342" y="4505"/>
                  </a:lnTo>
                  <a:lnTo>
                    <a:pt x="1447" y="4552"/>
                  </a:lnTo>
                  <a:lnTo>
                    <a:pt x="1556" y="4596"/>
                  </a:lnTo>
                  <a:lnTo>
                    <a:pt x="1664" y="4633"/>
                  </a:lnTo>
                  <a:lnTo>
                    <a:pt x="1777" y="4664"/>
                  </a:lnTo>
                  <a:lnTo>
                    <a:pt x="1892" y="4690"/>
                  </a:lnTo>
                  <a:lnTo>
                    <a:pt x="2007" y="4712"/>
                  </a:lnTo>
                  <a:lnTo>
                    <a:pt x="2128" y="4726"/>
                  </a:lnTo>
                  <a:lnTo>
                    <a:pt x="2248" y="4735"/>
                  </a:lnTo>
                  <a:lnTo>
                    <a:pt x="2369" y="4740"/>
                  </a:lnTo>
                  <a:lnTo>
                    <a:pt x="2371" y="4740"/>
                  </a:lnTo>
                  <a:lnTo>
                    <a:pt x="2371" y="4629"/>
                  </a:lnTo>
                  <a:lnTo>
                    <a:pt x="2369" y="4629"/>
                  </a:lnTo>
                  <a:lnTo>
                    <a:pt x="2253" y="4627"/>
                  </a:lnTo>
                  <a:lnTo>
                    <a:pt x="2138" y="4617"/>
                  </a:lnTo>
                  <a:lnTo>
                    <a:pt x="2025" y="4604"/>
                  </a:lnTo>
                  <a:lnTo>
                    <a:pt x="1915" y="4583"/>
                  </a:lnTo>
                  <a:lnTo>
                    <a:pt x="1805" y="4557"/>
                  </a:lnTo>
                  <a:lnTo>
                    <a:pt x="1698" y="4528"/>
                  </a:lnTo>
                  <a:lnTo>
                    <a:pt x="1593" y="4491"/>
                  </a:lnTo>
                  <a:lnTo>
                    <a:pt x="1491" y="4452"/>
                  </a:lnTo>
                  <a:lnTo>
                    <a:pt x="1390" y="4406"/>
                  </a:lnTo>
                  <a:lnTo>
                    <a:pt x="1293" y="4356"/>
                  </a:lnTo>
                  <a:lnTo>
                    <a:pt x="1198" y="4301"/>
                  </a:lnTo>
                  <a:lnTo>
                    <a:pt x="1106" y="4243"/>
                  </a:lnTo>
                  <a:lnTo>
                    <a:pt x="1017" y="4180"/>
                  </a:lnTo>
                  <a:lnTo>
                    <a:pt x="932" y="4112"/>
                  </a:lnTo>
                  <a:lnTo>
                    <a:pt x="851" y="4041"/>
                  </a:lnTo>
                  <a:lnTo>
                    <a:pt x="772" y="3966"/>
                  </a:lnTo>
                  <a:lnTo>
                    <a:pt x="698" y="3887"/>
                  </a:lnTo>
                  <a:lnTo>
                    <a:pt x="626" y="3806"/>
                  </a:lnTo>
                  <a:lnTo>
                    <a:pt x="559" y="3720"/>
                  </a:lnTo>
                  <a:lnTo>
                    <a:pt x="496" y="3631"/>
                  </a:lnTo>
                  <a:lnTo>
                    <a:pt x="437" y="3540"/>
                  </a:lnTo>
                  <a:lnTo>
                    <a:pt x="384" y="3445"/>
                  </a:lnTo>
                  <a:lnTo>
                    <a:pt x="334" y="3346"/>
                  </a:lnTo>
                  <a:lnTo>
                    <a:pt x="288" y="3248"/>
                  </a:lnTo>
                  <a:lnTo>
                    <a:pt x="248" y="3145"/>
                  </a:lnTo>
                  <a:lnTo>
                    <a:pt x="212" y="3039"/>
                  </a:lnTo>
                  <a:lnTo>
                    <a:pt x="183" y="2932"/>
                  </a:lnTo>
                  <a:lnTo>
                    <a:pt x="157" y="2822"/>
                  </a:lnTo>
                  <a:lnTo>
                    <a:pt x="136" y="2711"/>
                  </a:lnTo>
                  <a:lnTo>
                    <a:pt x="123" y="2598"/>
                  </a:lnTo>
                  <a:lnTo>
                    <a:pt x="113" y="2484"/>
                  </a:lnTo>
                  <a:lnTo>
                    <a:pt x="112" y="2367"/>
                  </a:lnTo>
                  <a:lnTo>
                    <a:pt x="113" y="2252"/>
                  </a:lnTo>
                  <a:lnTo>
                    <a:pt x="123" y="2137"/>
                  </a:lnTo>
                  <a:lnTo>
                    <a:pt x="136" y="2022"/>
                  </a:lnTo>
                  <a:lnTo>
                    <a:pt x="157" y="1912"/>
                  </a:lnTo>
                  <a:lnTo>
                    <a:pt x="183" y="1803"/>
                  </a:lnTo>
                  <a:lnTo>
                    <a:pt x="212" y="1695"/>
                  </a:lnTo>
                  <a:lnTo>
                    <a:pt x="248" y="1590"/>
                  </a:lnTo>
                  <a:lnTo>
                    <a:pt x="288" y="1488"/>
                  </a:lnTo>
                  <a:lnTo>
                    <a:pt x="334" y="1387"/>
                  </a:lnTo>
                  <a:lnTo>
                    <a:pt x="384" y="1290"/>
                  </a:lnTo>
                  <a:lnTo>
                    <a:pt x="437" y="1195"/>
                  </a:lnTo>
                  <a:lnTo>
                    <a:pt x="496" y="1104"/>
                  </a:lnTo>
                  <a:lnTo>
                    <a:pt x="559" y="1017"/>
                  </a:lnTo>
                  <a:lnTo>
                    <a:pt x="626" y="931"/>
                  </a:lnTo>
                  <a:lnTo>
                    <a:pt x="698" y="848"/>
                  </a:lnTo>
                  <a:lnTo>
                    <a:pt x="772" y="769"/>
                  </a:lnTo>
                  <a:lnTo>
                    <a:pt x="851" y="695"/>
                  </a:lnTo>
                  <a:lnTo>
                    <a:pt x="932" y="623"/>
                  </a:lnTo>
                  <a:lnTo>
                    <a:pt x="1017" y="557"/>
                  </a:lnTo>
                  <a:lnTo>
                    <a:pt x="1106" y="495"/>
                  </a:lnTo>
                  <a:lnTo>
                    <a:pt x="1198" y="436"/>
                  </a:lnTo>
                  <a:lnTo>
                    <a:pt x="1293" y="381"/>
                  </a:lnTo>
                  <a:lnTo>
                    <a:pt x="1390" y="332"/>
                  </a:lnTo>
                  <a:lnTo>
                    <a:pt x="1491" y="285"/>
                  </a:lnTo>
                  <a:lnTo>
                    <a:pt x="1593" y="246"/>
                  </a:lnTo>
                  <a:lnTo>
                    <a:pt x="1698" y="211"/>
                  </a:lnTo>
                  <a:lnTo>
                    <a:pt x="1805" y="180"/>
                  </a:lnTo>
                  <a:lnTo>
                    <a:pt x="1915" y="154"/>
                  </a:lnTo>
                  <a:lnTo>
                    <a:pt x="2025" y="134"/>
                  </a:lnTo>
                  <a:lnTo>
                    <a:pt x="2138" y="120"/>
                  </a:lnTo>
                  <a:lnTo>
                    <a:pt x="2253" y="112"/>
                  </a:lnTo>
                  <a:lnTo>
                    <a:pt x="2369" y="109"/>
                  </a:lnTo>
                  <a:lnTo>
                    <a:pt x="2371" y="110"/>
                  </a:lnTo>
                  <a:close/>
                </a:path>
              </a:pathLst>
            </a:custGeom>
            <a:blipFill rotWithShape="0">
              <a:blip r:embed="rId4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1119960" y="1676880"/>
              <a:ext cx="620280" cy="140760"/>
            </a:xfrm>
            <a:custGeom>
              <a:avLst/>
              <a:gdLst/>
              <a:ahLst/>
              <a:rect l="l" t="t" r="r" b="b"/>
              <a:pathLst>
                <a:path w="4839" h="1209">
                  <a:moveTo>
                    <a:pt x="4839" y="1144"/>
                  </a:moveTo>
                  <a:lnTo>
                    <a:pt x="4810" y="1110"/>
                  </a:lnTo>
                  <a:lnTo>
                    <a:pt x="4721" y="1021"/>
                  </a:lnTo>
                  <a:lnTo>
                    <a:pt x="4660" y="960"/>
                  </a:lnTo>
                  <a:lnTo>
                    <a:pt x="4585" y="892"/>
                  </a:lnTo>
                  <a:lnTo>
                    <a:pt x="4500" y="816"/>
                  </a:lnTo>
                  <a:lnTo>
                    <a:pt x="4405" y="738"/>
                  </a:lnTo>
                  <a:lnTo>
                    <a:pt x="4302" y="654"/>
                  </a:lnTo>
                  <a:lnTo>
                    <a:pt x="4190" y="573"/>
                  </a:lnTo>
                  <a:lnTo>
                    <a:pt x="4072" y="492"/>
                  </a:lnTo>
                  <a:lnTo>
                    <a:pt x="3947" y="416"/>
                  </a:lnTo>
                  <a:lnTo>
                    <a:pt x="3817" y="343"/>
                  </a:lnTo>
                  <a:lnTo>
                    <a:pt x="3682" y="280"/>
                  </a:lnTo>
                  <a:lnTo>
                    <a:pt x="3614" y="250"/>
                  </a:lnTo>
                  <a:lnTo>
                    <a:pt x="3545" y="225"/>
                  </a:lnTo>
                  <a:lnTo>
                    <a:pt x="3473" y="201"/>
                  </a:lnTo>
                  <a:lnTo>
                    <a:pt x="3402" y="181"/>
                  </a:lnTo>
                  <a:lnTo>
                    <a:pt x="3162" y="118"/>
                  </a:lnTo>
                  <a:lnTo>
                    <a:pt x="2949" y="68"/>
                  </a:lnTo>
                  <a:lnTo>
                    <a:pt x="2850" y="49"/>
                  </a:lnTo>
                  <a:lnTo>
                    <a:pt x="2755" y="31"/>
                  </a:lnTo>
                  <a:lnTo>
                    <a:pt x="2664" y="18"/>
                  </a:lnTo>
                  <a:lnTo>
                    <a:pt x="2575" y="8"/>
                  </a:lnTo>
                  <a:lnTo>
                    <a:pt x="2487" y="2"/>
                  </a:lnTo>
                  <a:lnTo>
                    <a:pt x="2398" y="0"/>
                  </a:lnTo>
                  <a:lnTo>
                    <a:pt x="2308" y="0"/>
                  </a:lnTo>
                  <a:lnTo>
                    <a:pt x="2214" y="5"/>
                  </a:lnTo>
                  <a:lnTo>
                    <a:pt x="2117" y="15"/>
                  </a:lnTo>
                  <a:lnTo>
                    <a:pt x="2017" y="27"/>
                  </a:lnTo>
                  <a:lnTo>
                    <a:pt x="1910" y="45"/>
                  </a:lnTo>
                  <a:lnTo>
                    <a:pt x="1798" y="66"/>
                  </a:lnTo>
                  <a:lnTo>
                    <a:pt x="1567" y="120"/>
                  </a:lnTo>
                  <a:lnTo>
                    <a:pt x="1340" y="173"/>
                  </a:lnTo>
                  <a:lnTo>
                    <a:pt x="1117" y="222"/>
                  </a:lnTo>
                  <a:lnTo>
                    <a:pt x="1007" y="244"/>
                  </a:lnTo>
                  <a:lnTo>
                    <a:pt x="898" y="262"/>
                  </a:lnTo>
                  <a:lnTo>
                    <a:pt x="791" y="275"/>
                  </a:lnTo>
                  <a:lnTo>
                    <a:pt x="683" y="288"/>
                  </a:lnTo>
                  <a:lnTo>
                    <a:pt x="576" y="291"/>
                  </a:lnTo>
                  <a:lnTo>
                    <a:pt x="472" y="291"/>
                  </a:lnTo>
                  <a:lnTo>
                    <a:pt x="367" y="283"/>
                  </a:lnTo>
                  <a:lnTo>
                    <a:pt x="264" y="267"/>
                  </a:lnTo>
                  <a:lnTo>
                    <a:pt x="162" y="244"/>
                  </a:lnTo>
                  <a:lnTo>
                    <a:pt x="60" y="212"/>
                  </a:lnTo>
                  <a:lnTo>
                    <a:pt x="27" y="204"/>
                  </a:lnTo>
                  <a:lnTo>
                    <a:pt x="14" y="204"/>
                  </a:lnTo>
                  <a:lnTo>
                    <a:pt x="6" y="209"/>
                  </a:lnTo>
                  <a:lnTo>
                    <a:pt x="0" y="214"/>
                  </a:lnTo>
                  <a:lnTo>
                    <a:pt x="0" y="225"/>
                  </a:lnTo>
                  <a:lnTo>
                    <a:pt x="6" y="236"/>
                  </a:lnTo>
                  <a:lnTo>
                    <a:pt x="19" y="254"/>
                  </a:lnTo>
                  <a:lnTo>
                    <a:pt x="57" y="295"/>
                  </a:lnTo>
                  <a:lnTo>
                    <a:pt x="102" y="345"/>
                  </a:lnTo>
                  <a:lnTo>
                    <a:pt x="160" y="398"/>
                  </a:lnTo>
                  <a:lnTo>
                    <a:pt x="231" y="453"/>
                  </a:lnTo>
                  <a:lnTo>
                    <a:pt x="278" y="481"/>
                  </a:lnTo>
                  <a:lnTo>
                    <a:pt x="345" y="513"/>
                  </a:lnTo>
                  <a:lnTo>
                    <a:pt x="430" y="542"/>
                  </a:lnTo>
                  <a:lnTo>
                    <a:pt x="527" y="573"/>
                  </a:lnTo>
                  <a:lnTo>
                    <a:pt x="634" y="604"/>
                  </a:lnTo>
                  <a:lnTo>
                    <a:pt x="751" y="631"/>
                  </a:lnTo>
                  <a:lnTo>
                    <a:pt x="871" y="654"/>
                  </a:lnTo>
                  <a:lnTo>
                    <a:pt x="995" y="676"/>
                  </a:lnTo>
                  <a:lnTo>
                    <a:pt x="1113" y="693"/>
                  </a:lnTo>
                  <a:lnTo>
                    <a:pt x="1220" y="704"/>
                  </a:lnTo>
                  <a:lnTo>
                    <a:pt x="1324" y="708"/>
                  </a:lnTo>
                  <a:lnTo>
                    <a:pt x="1429" y="704"/>
                  </a:lnTo>
                  <a:lnTo>
                    <a:pt x="1541" y="690"/>
                  </a:lnTo>
                  <a:lnTo>
                    <a:pt x="1667" y="667"/>
                  </a:lnTo>
                  <a:lnTo>
                    <a:pt x="1811" y="628"/>
                  </a:lnTo>
                  <a:lnTo>
                    <a:pt x="1981" y="580"/>
                  </a:lnTo>
                  <a:lnTo>
                    <a:pt x="2151" y="523"/>
                  </a:lnTo>
                  <a:lnTo>
                    <a:pt x="2301" y="468"/>
                  </a:lnTo>
                  <a:lnTo>
                    <a:pt x="2437" y="416"/>
                  </a:lnTo>
                  <a:lnTo>
                    <a:pt x="2568" y="371"/>
                  </a:lnTo>
                  <a:lnTo>
                    <a:pt x="2633" y="351"/>
                  </a:lnTo>
                  <a:lnTo>
                    <a:pt x="2698" y="333"/>
                  </a:lnTo>
                  <a:lnTo>
                    <a:pt x="2766" y="317"/>
                  </a:lnTo>
                  <a:lnTo>
                    <a:pt x="2834" y="303"/>
                  </a:lnTo>
                  <a:lnTo>
                    <a:pt x="2905" y="293"/>
                  </a:lnTo>
                  <a:lnTo>
                    <a:pt x="2983" y="285"/>
                  </a:lnTo>
                  <a:lnTo>
                    <a:pt x="3064" y="280"/>
                  </a:lnTo>
                  <a:lnTo>
                    <a:pt x="3150" y="277"/>
                  </a:lnTo>
                  <a:lnTo>
                    <a:pt x="3240" y="280"/>
                  </a:lnTo>
                  <a:lnTo>
                    <a:pt x="3324" y="285"/>
                  </a:lnTo>
                  <a:lnTo>
                    <a:pt x="3399" y="295"/>
                  </a:lnTo>
                  <a:lnTo>
                    <a:pt x="3472" y="311"/>
                  </a:lnTo>
                  <a:lnTo>
                    <a:pt x="3538" y="333"/>
                  </a:lnTo>
                  <a:lnTo>
                    <a:pt x="3606" y="361"/>
                  </a:lnTo>
                  <a:lnTo>
                    <a:pt x="3675" y="396"/>
                  </a:lnTo>
                  <a:lnTo>
                    <a:pt x="3747" y="442"/>
                  </a:lnTo>
                  <a:lnTo>
                    <a:pt x="3821" y="497"/>
                  </a:lnTo>
                  <a:lnTo>
                    <a:pt x="3900" y="560"/>
                  </a:lnTo>
                  <a:lnTo>
                    <a:pt x="3988" y="636"/>
                  </a:lnTo>
                  <a:lnTo>
                    <a:pt x="4087" y="724"/>
                  </a:lnTo>
                  <a:lnTo>
                    <a:pt x="4318" y="937"/>
                  </a:lnTo>
                  <a:lnTo>
                    <a:pt x="4608" y="1209"/>
                  </a:lnTo>
                  <a:lnTo>
                    <a:pt x="4778" y="1162"/>
                  </a:lnTo>
                  <a:lnTo>
                    <a:pt x="4839" y="1144"/>
                  </a:lnTo>
                  <a:close/>
                </a:path>
              </a:pathLst>
            </a:custGeom>
            <a:blipFill rotWithShape="0">
              <a:blip r:embed="rId5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982800" y="1504080"/>
              <a:ext cx="330840" cy="189360"/>
            </a:xfrm>
            <a:custGeom>
              <a:avLst/>
              <a:gdLst/>
              <a:ahLst/>
              <a:rect l="l" t="t" r="r" b="b"/>
              <a:pathLst>
                <a:path w="2578" h="1626">
                  <a:moveTo>
                    <a:pt x="2414" y="1490"/>
                  </a:moveTo>
                  <a:lnTo>
                    <a:pt x="2335" y="1496"/>
                  </a:lnTo>
                  <a:lnTo>
                    <a:pt x="2225" y="1515"/>
                  </a:lnTo>
                  <a:lnTo>
                    <a:pt x="2092" y="1545"/>
                  </a:lnTo>
                  <a:lnTo>
                    <a:pt x="1955" y="1582"/>
                  </a:lnTo>
                  <a:lnTo>
                    <a:pt x="1885" y="1600"/>
                  </a:lnTo>
                  <a:lnTo>
                    <a:pt x="1819" y="1614"/>
                  </a:lnTo>
                  <a:lnTo>
                    <a:pt x="1749" y="1622"/>
                  </a:lnTo>
                  <a:lnTo>
                    <a:pt x="1678" y="1626"/>
                  </a:lnTo>
                  <a:lnTo>
                    <a:pt x="1607" y="1626"/>
                  </a:lnTo>
                  <a:lnTo>
                    <a:pt x="1529" y="1622"/>
                  </a:lnTo>
                  <a:lnTo>
                    <a:pt x="1362" y="1606"/>
                  </a:lnTo>
                  <a:lnTo>
                    <a:pt x="1173" y="1580"/>
                  </a:lnTo>
                  <a:lnTo>
                    <a:pt x="1071" y="1561"/>
                  </a:lnTo>
                  <a:lnTo>
                    <a:pt x="969" y="1535"/>
                  </a:lnTo>
                  <a:lnTo>
                    <a:pt x="920" y="1517"/>
                  </a:lnTo>
                  <a:lnTo>
                    <a:pt x="869" y="1498"/>
                  </a:lnTo>
                  <a:lnTo>
                    <a:pt x="817" y="1475"/>
                  </a:lnTo>
                  <a:lnTo>
                    <a:pt x="768" y="1448"/>
                  </a:lnTo>
                  <a:lnTo>
                    <a:pt x="717" y="1417"/>
                  </a:lnTo>
                  <a:lnTo>
                    <a:pt x="670" y="1383"/>
                  </a:lnTo>
                  <a:lnTo>
                    <a:pt x="620" y="1341"/>
                  </a:lnTo>
                  <a:lnTo>
                    <a:pt x="574" y="1298"/>
                  </a:lnTo>
                  <a:lnTo>
                    <a:pt x="480" y="1200"/>
                  </a:lnTo>
                  <a:lnTo>
                    <a:pt x="387" y="1095"/>
                  </a:lnTo>
                  <a:lnTo>
                    <a:pt x="299" y="992"/>
                  </a:lnTo>
                  <a:lnTo>
                    <a:pt x="218" y="894"/>
                  </a:lnTo>
                  <a:lnTo>
                    <a:pt x="85" y="730"/>
                  </a:lnTo>
                  <a:lnTo>
                    <a:pt x="18" y="638"/>
                  </a:lnTo>
                  <a:lnTo>
                    <a:pt x="8" y="622"/>
                  </a:lnTo>
                  <a:lnTo>
                    <a:pt x="3" y="606"/>
                  </a:lnTo>
                  <a:lnTo>
                    <a:pt x="0" y="593"/>
                  </a:lnTo>
                  <a:lnTo>
                    <a:pt x="4" y="588"/>
                  </a:lnTo>
                  <a:lnTo>
                    <a:pt x="12" y="588"/>
                  </a:lnTo>
                  <a:lnTo>
                    <a:pt x="24" y="591"/>
                  </a:lnTo>
                  <a:lnTo>
                    <a:pt x="40" y="601"/>
                  </a:lnTo>
                  <a:lnTo>
                    <a:pt x="60" y="619"/>
                  </a:lnTo>
                  <a:lnTo>
                    <a:pt x="87" y="645"/>
                  </a:lnTo>
                  <a:lnTo>
                    <a:pt x="129" y="679"/>
                  </a:lnTo>
                  <a:lnTo>
                    <a:pt x="184" y="719"/>
                  </a:lnTo>
                  <a:lnTo>
                    <a:pt x="255" y="763"/>
                  </a:lnTo>
                  <a:lnTo>
                    <a:pt x="344" y="808"/>
                  </a:lnTo>
                  <a:lnTo>
                    <a:pt x="395" y="832"/>
                  </a:lnTo>
                  <a:lnTo>
                    <a:pt x="450" y="854"/>
                  </a:lnTo>
                  <a:lnTo>
                    <a:pt x="509" y="874"/>
                  </a:lnTo>
                  <a:lnTo>
                    <a:pt x="574" y="894"/>
                  </a:lnTo>
                  <a:lnTo>
                    <a:pt x="646" y="912"/>
                  </a:lnTo>
                  <a:lnTo>
                    <a:pt x="720" y="927"/>
                  </a:lnTo>
                  <a:lnTo>
                    <a:pt x="869" y="957"/>
                  </a:lnTo>
                  <a:lnTo>
                    <a:pt x="1001" y="986"/>
                  </a:lnTo>
                  <a:lnTo>
                    <a:pt x="1123" y="1017"/>
                  </a:lnTo>
                  <a:lnTo>
                    <a:pt x="1238" y="1056"/>
                  </a:lnTo>
                  <a:lnTo>
                    <a:pt x="1348" y="1095"/>
                  </a:lnTo>
                  <a:lnTo>
                    <a:pt x="1463" y="1145"/>
                  </a:lnTo>
                  <a:lnTo>
                    <a:pt x="1581" y="1200"/>
                  </a:lnTo>
                  <a:lnTo>
                    <a:pt x="1707" y="1266"/>
                  </a:lnTo>
                  <a:lnTo>
                    <a:pt x="1772" y="1300"/>
                  </a:lnTo>
                  <a:lnTo>
                    <a:pt x="1842" y="1329"/>
                  </a:lnTo>
                  <a:lnTo>
                    <a:pt x="1913" y="1357"/>
                  </a:lnTo>
                  <a:lnTo>
                    <a:pt x="1987" y="1379"/>
                  </a:lnTo>
                  <a:lnTo>
                    <a:pt x="2067" y="1397"/>
                  </a:lnTo>
                  <a:lnTo>
                    <a:pt x="2146" y="1407"/>
                  </a:lnTo>
                  <a:lnTo>
                    <a:pt x="2228" y="1409"/>
                  </a:lnTo>
                  <a:lnTo>
                    <a:pt x="2311" y="1402"/>
                  </a:lnTo>
                  <a:lnTo>
                    <a:pt x="2236" y="1361"/>
                  </a:lnTo>
                  <a:lnTo>
                    <a:pt x="2175" y="1331"/>
                  </a:lnTo>
                  <a:lnTo>
                    <a:pt x="2078" y="1289"/>
                  </a:lnTo>
                  <a:lnTo>
                    <a:pt x="1994" y="1250"/>
                  </a:lnTo>
                  <a:lnTo>
                    <a:pt x="1948" y="1224"/>
                  </a:lnTo>
                  <a:lnTo>
                    <a:pt x="1897" y="1193"/>
                  </a:lnTo>
                  <a:lnTo>
                    <a:pt x="1840" y="1158"/>
                  </a:lnTo>
                  <a:lnTo>
                    <a:pt x="1786" y="1116"/>
                  </a:lnTo>
                  <a:lnTo>
                    <a:pt x="1733" y="1073"/>
                  </a:lnTo>
                  <a:lnTo>
                    <a:pt x="1682" y="1025"/>
                  </a:lnTo>
                  <a:lnTo>
                    <a:pt x="1631" y="975"/>
                  </a:lnTo>
                  <a:lnTo>
                    <a:pt x="1583" y="917"/>
                  </a:lnTo>
                  <a:lnTo>
                    <a:pt x="1536" y="856"/>
                  </a:lnTo>
                  <a:lnTo>
                    <a:pt x="1492" y="787"/>
                  </a:lnTo>
                  <a:lnTo>
                    <a:pt x="1451" y="714"/>
                  </a:lnTo>
                  <a:lnTo>
                    <a:pt x="1416" y="638"/>
                  </a:lnTo>
                  <a:lnTo>
                    <a:pt x="1385" y="566"/>
                  </a:lnTo>
                  <a:lnTo>
                    <a:pt x="1362" y="493"/>
                  </a:lnTo>
                  <a:lnTo>
                    <a:pt x="1343" y="426"/>
                  </a:lnTo>
                  <a:lnTo>
                    <a:pt x="1327" y="365"/>
                  </a:lnTo>
                  <a:lnTo>
                    <a:pt x="1317" y="311"/>
                  </a:lnTo>
                  <a:lnTo>
                    <a:pt x="1311" y="269"/>
                  </a:lnTo>
                  <a:lnTo>
                    <a:pt x="1307" y="201"/>
                  </a:lnTo>
                  <a:lnTo>
                    <a:pt x="1307" y="146"/>
                  </a:lnTo>
                  <a:lnTo>
                    <a:pt x="1307" y="101"/>
                  </a:lnTo>
                  <a:lnTo>
                    <a:pt x="1303" y="78"/>
                  </a:lnTo>
                  <a:lnTo>
                    <a:pt x="1296" y="60"/>
                  </a:lnTo>
                  <a:lnTo>
                    <a:pt x="1287" y="28"/>
                  </a:lnTo>
                  <a:lnTo>
                    <a:pt x="1287" y="13"/>
                  </a:lnTo>
                  <a:lnTo>
                    <a:pt x="1289" y="5"/>
                  </a:lnTo>
                  <a:lnTo>
                    <a:pt x="1295" y="0"/>
                  </a:lnTo>
                  <a:lnTo>
                    <a:pt x="1304" y="2"/>
                  </a:lnTo>
                  <a:lnTo>
                    <a:pt x="1317" y="10"/>
                  </a:lnTo>
                  <a:lnTo>
                    <a:pt x="1330" y="25"/>
                  </a:lnTo>
                  <a:lnTo>
                    <a:pt x="1377" y="83"/>
                  </a:lnTo>
                  <a:lnTo>
                    <a:pt x="1451" y="159"/>
                  </a:lnTo>
                  <a:lnTo>
                    <a:pt x="1542" y="250"/>
                  </a:lnTo>
                  <a:lnTo>
                    <a:pt x="1594" y="295"/>
                  </a:lnTo>
                  <a:lnTo>
                    <a:pt x="1646" y="341"/>
                  </a:lnTo>
                  <a:lnTo>
                    <a:pt x="1754" y="431"/>
                  </a:lnTo>
                  <a:lnTo>
                    <a:pt x="1808" y="481"/>
                  </a:lnTo>
                  <a:lnTo>
                    <a:pt x="1859" y="534"/>
                  </a:lnTo>
                  <a:lnTo>
                    <a:pt x="1911" y="591"/>
                  </a:lnTo>
                  <a:lnTo>
                    <a:pt x="1958" y="656"/>
                  </a:lnTo>
                  <a:lnTo>
                    <a:pt x="2005" y="727"/>
                  </a:lnTo>
                  <a:lnTo>
                    <a:pt x="2051" y="811"/>
                  </a:lnTo>
                  <a:lnTo>
                    <a:pt x="2123" y="965"/>
                  </a:lnTo>
                  <a:lnTo>
                    <a:pt x="2154" y="1030"/>
                  </a:lnTo>
                  <a:lnTo>
                    <a:pt x="2185" y="1088"/>
                  </a:lnTo>
                  <a:lnTo>
                    <a:pt x="2219" y="1145"/>
                  </a:lnTo>
                  <a:lnTo>
                    <a:pt x="2262" y="1200"/>
                  </a:lnTo>
                  <a:lnTo>
                    <a:pt x="2316" y="1255"/>
                  </a:lnTo>
                  <a:lnTo>
                    <a:pt x="2382" y="1312"/>
                  </a:lnTo>
                  <a:lnTo>
                    <a:pt x="2505" y="1404"/>
                  </a:lnTo>
                  <a:lnTo>
                    <a:pt x="2542" y="1436"/>
                  </a:lnTo>
                  <a:lnTo>
                    <a:pt x="2568" y="1460"/>
                  </a:lnTo>
                  <a:lnTo>
                    <a:pt x="2578" y="1473"/>
                  </a:lnTo>
                  <a:lnTo>
                    <a:pt x="2578" y="1480"/>
                  </a:lnTo>
                  <a:lnTo>
                    <a:pt x="2573" y="1483"/>
                  </a:lnTo>
                  <a:lnTo>
                    <a:pt x="2554" y="1488"/>
                  </a:lnTo>
                  <a:lnTo>
                    <a:pt x="2523" y="1490"/>
                  </a:lnTo>
                  <a:lnTo>
                    <a:pt x="2414" y="1490"/>
                  </a:lnTo>
                  <a:close/>
                </a:path>
              </a:pathLst>
            </a:custGeom>
            <a:blipFill rotWithShape="0">
              <a:blip r:embed="rId5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901440" y="1399320"/>
              <a:ext cx="251280" cy="215280"/>
            </a:xfrm>
            <a:custGeom>
              <a:avLst/>
              <a:gdLst/>
              <a:ahLst/>
              <a:rect l="l" t="t" r="r" b="b"/>
              <a:pathLst>
                <a:path w="1957" h="1859">
                  <a:moveTo>
                    <a:pt x="1883" y="1835"/>
                  </a:moveTo>
                  <a:lnTo>
                    <a:pt x="1547" y="1727"/>
                  </a:lnTo>
                  <a:lnTo>
                    <a:pt x="1298" y="1644"/>
                  </a:lnTo>
                  <a:lnTo>
                    <a:pt x="1091" y="1568"/>
                  </a:lnTo>
                  <a:lnTo>
                    <a:pt x="1002" y="1534"/>
                  </a:lnTo>
                  <a:lnTo>
                    <a:pt x="903" y="1486"/>
                  </a:lnTo>
                  <a:lnTo>
                    <a:pt x="799" y="1429"/>
                  </a:lnTo>
                  <a:lnTo>
                    <a:pt x="746" y="1395"/>
                  </a:lnTo>
                  <a:lnTo>
                    <a:pt x="695" y="1358"/>
                  </a:lnTo>
                  <a:lnTo>
                    <a:pt x="641" y="1318"/>
                  </a:lnTo>
                  <a:lnTo>
                    <a:pt x="590" y="1273"/>
                  </a:lnTo>
                  <a:lnTo>
                    <a:pt x="539" y="1225"/>
                  </a:lnTo>
                  <a:lnTo>
                    <a:pt x="491" y="1172"/>
                  </a:lnTo>
                  <a:lnTo>
                    <a:pt x="445" y="1115"/>
                  </a:lnTo>
                  <a:lnTo>
                    <a:pt x="405" y="1053"/>
                  </a:lnTo>
                  <a:lnTo>
                    <a:pt x="365" y="987"/>
                  </a:lnTo>
                  <a:lnTo>
                    <a:pt x="332" y="916"/>
                  </a:lnTo>
                  <a:lnTo>
                    <a:pt x="211" y="642"/>
                  </a:lnTo>
                  <a:lnTo>
                    <a:pt x="110" y="420"/>
                  </a:lnTo>
                  <a:lnTo>
                    <a:pt x="71" y="328"/>
                  </a:lnTo>
                  <a:lnTo>
                    <a:pt x="39" y="250"/>
                  </a:lnTo>
                  <a:lnTo>
                    <a:pt x="18" y="187"/>
                  </a:lnTo>
                  <a:lnTo>
                    <a:pt x="8" y="140"/>
                  </a:lnTo>
                  <a:lnTo>
                    <a:pt x="0" y="77"/>
                  </a:lnTo>
                  <a:lnTo>
                    <a:pt x="0" y="43"/>
                  </a:lnTo>
                  <a:lnTo>
                    <a:pt x="4" y="25"/>
                  </a:lnTo>
                  <a:lnTo>
                    <a:pt x="8" y="14"/>
                  </a:lnTo>
                  <a:lnTo>
                    <a:pt x="13" y="6"/>
                  </a:lnTo>
                  <a:lnTo>
                    <a:pt x="20" y="0"/>
                  </a:lnTo>
                  <a:lnTo>
                    <a:pt x="28" y="2"/>
                  </a:lnTo>
                  <a:lnTo>
                    <a:pt x="37" y="12"/>
                  </a:lnTo>
                  <a:lnTo>
                    <a:pt x="91" y="90"/>
                  </a:lnTo>
                  <a:lnTo>
                    <a:pt x="209" y="258"/>
                  </a:lnTo>
                  <a:lnTo>
                    <a:pt x="284" y="357"/>
                  </a:lnTo>
                  <a:lnTo>
                    <a:pt x="363" y="454"/>
                  </a:lnTo>
                  <a:lnTo>
                    <a:pt x="442" y="543"/>
                  </a:lnTo>
                  <a:lnTo>
                    <a:pt x="481" y="582"/>
                  </a:lnTo>
                  <a:lnTo>
                    <a:pt x="521" y="616"/>
                  </a:lnTo>
                  <a:lnTo>
                    <a:pt x="598" y="679"/>
                  </a:lnTo>
                  <a:lnTo>
                    <a:pt x="677" y="738"/>
                  </a:lnTo>
                  <a:lnTo>
                    <a:pt x="840" y="852"/>
                  </a:lnTo>
                  <a:lnTo>
                    <a:pt x="992" y="959"/>
                  </a:lnTo>
                  <a:lnTo>
                    <a:pt x="1057" y="1011"/>
                  </a:lnTo>
                  <a:lnTo>
                    <a:pt x="1117" y="1058"/>
                  </a:lnTo>
                  <a:lnTo>
                    <a:pt x="1222" y="1157"/>
                  </a:lnTo>
                  <a:lnTo>
                    <a:pt x="1324" y="1259"/>
                  </a:lnTo>
                  <a:lnTo>
                    <a:pt x="1517" y="1458"/>
                  </a:lnTo>
                  <a:lnTo>
                    <a:pt x="1561" y="1502"/>
                  </a:lnTo>
                  <a:lnTo>
                    <a:pt x="1601" y="1539"/>
                  </a:lnTo>
                  <a:lnTo>
                    <a:pt x="1638" y="1568"/>
                  </a:lnTo>
                  <a:lnTo>
                    <a:pt x="1667" y="1591"/>
                  </a:lnTo>
                  <a:lnTo>
                    <a:pt x="1713" y="1618"/>
                  </a:lnTo>
                  <a:lnTo>
                    <a:pt x="1729" y="1626"/>
                  </a:lnTo>
                  <a:lnTo>
                    <a:pt x="1624" y="1462"/>
                  </a:lnTo>
                  <a:lnTo>
                    <a:pt x="1444" y="1192"/>
                  </a:lnTo>
                  <a:lnTo>
                    <a:pt x="1376" y="1087"/>
                  </a:lnTo>
                  <a:lnTo>
                    <a:pt x="1342" y="1034"/>
                  </a:lnTo>
                  <a:lnTo>
                    <a:pt x="1313" y="979"/>
                  </a:lnTo>
                  <a:lnTo>
                    <a:pt x="1289" y="919"/>
                  </a:lnTo>
                  <a:lnTo>
                    <a:pt x="1269" y="856"/>
                  </a:lnTo>
                  <a:lnTo>
                    <a:pt x="1256" y="789"/>
                  </a:lnTo>
                  <a:lnTo>
                    <a:pt x="1255" y="754"/>
                  </a:lnTo>
                  <a:lnTo>
                    <a:pt x="1253" y="716"/>
                  </a:lnTo>
                  <a:lnTo>
                    <a:pt x="1259" y="361"/>
                  </a:lnTo>
                  <a:lnTo>
                    <a:pt x="1267" y="126"/>
                  </a:lnTo>
                  <a:lnTo>
                    <a:pt x="1271" y="98"/>
                  </a:lnTo>
                  <a:lnTo>
                    <a:pt x="1273" y="89"/>
                  </a:lnTo>
                  <a:lnTo>
                    <a:pt x="1277" y="85"/>
                  </a:lnTo>
                  <a:lnTo>
                    <a:pt x="1282" y="85"/>
                  </a:lnTo>
                  <a:lnTo>
                    <a:pt x="1290" y="89"/>
                  </a:lnTo>
                  <a:lnTo>
                    <a:pt x="1313" y="113"/>
                  </a:lnTo>
                  <a:lnTo>
                    <a:pt x="1358" y="171"/>
                  </a:lnTo>
                  <a:lnTo>
                    <a:pt x="1436" y="274"/>
                  </a:lnTo>
                  <a:lnTo>
                    <a:pt x="1481" y="338"/>
                  </a:lnTo>
                  <a:lnTo>
                    <a:pt x="1528" y="404"/>
                  </a:lnTo>
                  <a:lnTo>
                    <a:pt x="1573" y="477"/>
                  </a:lnTo>
                  <a:lnTo>
                    <a:pt x="1612" y="550"/>
                  </a:lnTo>
                  <a:lnTo>
                    <a:pt x="1650" y="626"/>
                  </a:lnTo>
                  <a:lnTo>
                    <a:pt x="1682" y="702"/>
                  </a:lnTo>
                  <a:lnTo>
                    <a:pt x="1709" y="775"/>
                  </a:lnTo>
                  <a:lnTo>
                    <a:pt x="1732" y="846"/>
                  </a:lnTo>
                  <a:lnTo>
                    <a:pt x="1750" y="912"/>
                  </a:lnTo>
                  <a:lnTo>
                    <a:pt x="1764" y="969"/>
                  </a:lnTo>
                  <a:lnTo>
                    <a:pt x="1772" y="1018"/>
                  </a:lnTo>
                  <a:lnTo>
                    <a:pt x="1774" y="1055"/>
                  </a:lnTo>
                  <a:lnTo>
                    <a:pt x="1776" y="1207"/>
                  </a:lnTo>
                  <a:lnTo>
                    <a:pt x="1782" y="1293"/>
                  </a:lnTo>
                  <a:lnTo>
                    <a:pt x="1794" y="1369"/>
                  </a:lnTo>
                  <a:lnTo>
                    <a:pt x="1821" y="1466"/>
                  </a:lnTo>
                  <a:lnTo>
                    <a:pt x="1861" y="1594"/>
                  </a:lnTo>
                  <a:lnTo>
                    <a:pt x="1904" y="1719"/>
                  </a:lnTo>
                  <a:lnTo>
                    <a:pt x="1938" y="1806"/>
                  </a:lnTo>
                  <a:lnTo>
                    <a:pt x="1955" y="1845"/>
                  </a:lnTo>
                  <a:lnTo>
                    <a:pt x="1957" y="1855"/>
                  </a:lnTo>
                  <a:lnTo>
                    <a:pt x="1954" y="1859"/>
                  </a:lnTo>
                  <a:lnTo>
                    <a:pt x="1944" y="1859"/>
                  </a:lnTo>
                  <a:lnTo>
                    <a:pt x="1930" y="1855"/>
                  </a:lnTo>
                  <a:lnTo>
                    <a:pt x="1883" y="1835"/>
                  </a:lnTo>
                  <a:close/>
                </a:path>
              </a:pathLst>
            </a:custGeom>
            <a:blipFill rotWithShape="0">
              <a:blip r:embed="rId5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921240" y="1388880"/>
              <a:ext cx="114840" cy="93600"/>
            </a:xfrm>
            <a:custGeom>
              <a:avLst/>
              <a:gdLst/>
              <a:ahLst/>
              <a:rect l="l" t="t" r="r" b="b"/>
              <a:pathLst>
                <a:path w="899" h="803">
                  <a:moveTo>
                    <a:pt x="0" y="0"/>
                  </a:moveTo>
                  <a:lnTo>
                    <a:pt x="121" y="134"/>
                  </a:lnTo>
                  <a:lnTo>
                    <a:pt x="236" y="257"/>
                  </a:lnTo>
                  <a:lnTo>
                    <a:pt x="295" y="317"/>
                  </a:lnTo>
                  <a:lnTo>
                    <a:pt x="354" y="373"/>
                  </a:lnTo>
                  <a:lnTo>
                    <a:pt x="484" y="493"/>
                  </a:lnTo>
                  <a:lnTo>
                    <a:pt x="626" y="620"/>
                  </a:lnTo>
                  <a:lnTo>
                    <a:pt x="745" y="726"/>
                  </a:lnTo>
                  <a:lnTo>
                    <a:pt x="806" y="785"/>
                  </a:lnTo>
                  <a:lnTo>
                    <a:pt x="824" y="801"/>
                  </a:lnTo>
                  <a:lnTo>
                    <a:pt x="830" y="803"/>
                  </a:lnTo>
                  <a:lnTo>
                    <a:pt x="835" y="803"/>
                  </a:lnTo>
                  <a:lnTo>
                    <a:pt x="840" y="798"/>
                  </a:lnTo>
                  <a:lnTo>
                    <a:pt x="843" y="788"/>
                  </a:lnTo>
                  <a:lnTo>
                    <a:pt x="848" y="762"/>
                  </a:lnTo>
                  <a:lnTo>
                    <a:pt x="855" y="565"/>
                  </a:lnTo>
                  <a:lnTo>
                    <a:pt x="866" y="422"/>
                  </a:lnTo>
                  <a:lnTo>
                    <a:pt x="879" y="298"/>
                  </a:lnTo>
                  <a:lnTo>
                    <a:pt x="891" y="194"/>
                  </a:lnTo>
                  <a:lnTo>
                    <a:pt x="897" y="99"/>
                  </a:lnTo>
                  <a:lnTo>
                    <a:pt x="899" y="0"/>
                  </a:lnTo>
                  <a:lnTo>
                    <a:pt x="573" y="0"/>
                  </a:lnTo>
                  <a:lnTo>
                    <a:pt x="617" y="115"/>
                  </a:lnTo>
                  <a:lnTo>
                    <a:pt x="650" y="213"/>
                  </a:lnTo>
                  <a:lnTo>
                    <a:pt x="675" y="298"/>
                  </a:lnTo>
                  <a:lnTo>
                    <a:pt x="690" y="359"/>
                  </a:lnTo>
                  <a:lnTo>
                    <a:pt x="696" y="401"/>
                  </a:lnTo>
                  <a:lnTo>
                    <a:pt x="698" y="432"/>
                  </a:lnTo>
                  <a:lnTo>
                    <a:pt x="686" y="421"/>
                  </a:lnTo>
                  <a:lnTo>
                    <a:pt x="659" y="380"/>
                  </a:lnTo>
                  <a:lnTo>
                    <a:pt x="617" y="310"/>
                  </a:lnTo>
                  <a:lnTo>
                    <a:pt x="593" y="259"/>
                  </a:lnTo>
                  <a:lnTo>
                    <a:pt x="567" y="199"/>
                  </a:lnTo>
                  <a:lnTo>
                    <a:pt x="500" y="34"/>
                  </a:lnTo>
                  <a:lnTo>
                    <a:pt x="489" y="0"/>
                  </a:lnTo>
                  <a:lnTo>
                    <a:pt x="0" y="0"/>
                  </a:lnTo>
                  <a:close/>
                </a:path>
              </a:pathLst>
            </a:custGeom>
            <a:blipFill rotWithShape="0">
              <a:blip r:embed="rId5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895680" y="880200"/>
              <a:ext cx="73440" cy="174240"/>
            </a:xfrm>
            <a:custGeom>
              <a:avLst/>
              <a:gdLst/>
              <a:ahLst/>
              <a:rect l="l" t="t" r="r" b="b"/>
              <a:pathLst>
                <a:path w="581" h="1497">
                  <a:moveTo>
                    <a:pt x="0" y="1497"/>
                  </a:moveTo>
                  <a:lnTo>
                    <a:pt x="0" y="1446"/>
                  </a:lnTo>
                  <a:lnTo>
                    <a:pt x="5" y="1385"/>
                  </a:lnTo>
                  <a:lnTo>
                    <a:pt x="10" y="1304"/>
                  </a:lnTo>
                  <a:lnTo>
                    <a:pt x="22" y="1206"/>
                  </a:lnTo>
                  <a:lnTo>
                    <a:pt x="40" y="1093"/>
                  </a:lnTo>
                  <a:lnTo>
                    <a:pt x="68" y="968"/>
                  </a:lnTo>
                  <a:lnTo>
                    <a:pt x="103" y="837"/>
                  </a:lnTo>
                  <a:lnTo>
                    <a:pt x="147" y="706"/>
                  </a:lnTo>
                  <a:lnTo>
                    <a:pt x="192" y="587"/>
                  </a:lnTo>
                  <a:lnTo>
                    <a:pt x="239" y="477"/>
                  </a:lnTo>
                  <a:lnTo>
                    <a:pt x="291" y="374"/>
                  </a:lnTo>
                  <a:lnTo>
                    <a:pt x="343" y="280"/>
                  </a:lnTo>
                  <a:lnTo>
                    <a:pt x="403" y="191"/>
                  </a:lnTo>
                  <a:lnTo>
                    <a:pt x="466" y="105"/>
                  </a:lnTo>
                  <a:lnTo>
                    <a:pt x="536" y="21"/>
                  </a:lnTo>
                  <a:lnTo>
                    <a:pt x="555" y="6"/>
                  </a:lnTo>
                  <a:lnTo>
                    <a:pt x="563" y="1"/>
                  </a:lnTo>
                  <a:lnTo>
                    <a:pt x="571" y="0"/>
                  </a:lnTo>
                  <a:lnTo>
                    <a:pt x="576" y="1"/>
                  </a:lnTo>
                  <a:lnTo>
                    <a:pt x="581" y="9"/>
                  </a:lnTo>
                  <a:lnTo>
                    <a:pt x="581" y="19"/>
                  </a:lnTo>
                  <a:lnTo>
                    <a:pt x="575" y="37"/>
                  </a:lnTo>
                  <a:lnTo>
                    <a:pt x="547" y="108"/>
                  </a:lnTo>
                  <a:lnTo>
                    <a:pt x="528" y="170"/>
                  </a:lnTo>
                  <a:lnTo>
                    <a:pt x="505" y="252"/>
                  </a:lnTo>
                  <a:lnTo>
                    <a:pt x="484" y="353"/>
                  </a:lnTo>
                  <a:lnTo>
                    <a:pt x="466" y="477"/>
                  </a:lnTo>
                  <a:lnTo>
                    <a:pt x="460" y="547"/>
                  </a:lnTo>
                  <a:lnTo>
                    <a:pt x="455" y="623"/>
                  </a:lnTo>
                  <a:lnTo>
                    <a:pt x="450" y="704"/>
                  </a:lnTo>
                  <a:lnTo>
                    <a:pt x="450" y="793"/>
                  </a:lnTo>
                  <a:lnTo>
                    <a:pt x="453" y="1037"/>
                  </a:lnTo>
                  <a:lnTo>
                    <a:pt x="458" y="1140"/>
                  </a:lnTo>
                  <a:lnTo>
                    <a:pt x="464" y="1245"/>
                  </a:lnTo>
                  <a:lnTo>
                    <a:pt x="466" y="1343"/>
                  </a:lnTo>
                  <a:lnTo>
                    <a:pt x="468" y="1497"/>
                  </a:lnTo>
                  <a:lnTo>
                    <a:pt x="0" y="1497"/>
                  </a:lnTo>
                  <a:close/>
                </a:path>
              </a:pathLst>
            </a:custGeom>
            <a:blipFill rotWithShape="0">
              <a:blip r:embed="rId54"/>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974160" y="952920"/>
              <a:ext cx="110520" cy="101880"/>
            </a:xfrm>
            <a:custGeom>
              <a:avLst/>
              <a:gdLst/>
              <a:ahLst/>
              <a:rect l="l" t="t" r="r" b="b"/>
              <a:pathLst>
                <a:path w="866" h="876">
                  <a:moveTo>
                    <a:pt x="0" y="876"/>
                  </a:moveTo>
                  <a:lnTo>
                    <a:pt x="162" y="726"/>
                  </a:lnTo>
                  <a:lnTo>
                    <a:pt x="325" y="569"/>
                  </a:lnTo>
                  <a:lnTo>
                    <a:pt x="416" y="476"/>
                  </a:lnTo>
                  <a:lnTo>
                    <a:pt x="510" y="381"/>
                  </a:lnTo>
                  <a:lnTo>
                    <a:pt x="660" y="221"/>
                  </a:lnTo>
                  <a:lnTo>
                    <a:pt x="748" y="125"/>
                  </a:lnTo>
                  <a:lnTo>
                    <a:pt x="793" y="70"/>
                  </a:lnTo>
                  <a:lnTo>
                    <a:pt x="814" y="34"/>
                  </a:lnTo>
                  <a:lnTo>
                    <a:pt x="824" y="20"/>
                  </a:lnTo>
                  <a:lnTo>
                    <a:pt x="834" y="10"/>
                  </a:lnTo>
                  <a:lnTo>
                    <a:pt x="844" y="2"/>
                  </a:lnTo>
                  <a:lnTo>
                    <a:pt x="853" y="0"/>
                  </a:lnTo>
                  <a:lnTo>
                    <a:pt x="860" y="2"/>
                  </a:lnTo>
                  <a:lnTo>
                    <a:pt x="864" y="10"/>
                  </a:lnTo>
                  <a:lnTo>
                    <a:pt x="866" y="23"/>
                  </a:lnTo>
                  <a:lnTo>
                    <a:pt x="861" y="44"/>
                  </a:lnTo>
                  <a:lnTo>
                    <a:pt x="829" y="154"/>
                  </a:lnTo>
                  <a:lnTo>
                    <a:pt x="757" y="360"/>
                  </a:lnTo>
                  <a:lnTo>
                    <a:pt x="709" y="483"/>
                  </a:lnTo>
                  <a:lnTo>
                    <a:pt x="654" y="614"/>
                  </a:lnTo>
                  <a:lnTo>
                    <a:pt x="594" y="748"/>
                  </a:lnTo>
                  <a:lnTo>
                    <a:pt x="528" y="876"/>
                  </a:lnTo>
                  <a:lnTo>
                    <a:pt x="0" y="876"/>
                  </a:lnTo>
                  <a:close/>
                </a:path>
              </a:pathLst>
            </a:custGeom>
            <a:blipFill rotWithShape="0">
              <a:blip r:embed="rId55"/>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974160" y="786240"/>
              <a:ext cx="177120" cy="239400"/>
            </a:xfrm>
            <a:custGeom>
              <a:avLst/>
              <a:gdLst/>
              <a:ahLst/>
              <a:rect l="l" t="t" r="r" b="b"/>
              <a:pathLst>
                <a:path w="1386" h="2062">
                  <a:moveTo>
                    <a:pt x="0" y="1246"/>
                  </a:moveTo>
                  <a:lnTo>
                    <a:pt x="4" y="1125"/>
                  </a:lnTo>
                  <a:lnTo>
                    <a:pt x="18" y="998"/>
                  </a:lnTo>
                  <a:lnTo>
                    <a:pt x="28" y="932"/>
                  </a:lnTo>
                  <a:lnTo>
                    <a:pt x="42" y="866"/>
                  </a:lnTo>
                  <a:lnTo>
                    <a:pt x="57" y="801"/>
                  </a:lnTo>
                  <a:lnTo>
                    <a:pt x="78" y="736"/>
                  </a:lnTo>
                  <a:lnTo>
                    <a:pt x="101" y="670"/>
                  </a:lnTo>
                  <a:lnTo>
                    <a:pt x="128" y="605"/>
                  </a:lnTo>
                  <a:lnTo>
                    <a:pt x="160" y="542"/>
                  </a:lnTo>
                  <a:lnTo>
                    <a:pt x="196" y="481"/>
                  </a:lnTo>
                  <a:lnTo>
                    <a:pt x="237" y="422"/>
                  </a:lnTo>
                  <a:lnTo>
                    <a:pt x="282" y="364"/>
                  </a:lnTo>
                  <a:lnTo>
                    <a:pt x="332" y="309"/>
                  </a:lnTo>
                  <a:lnTo>
                    <a:pt x="387" y="256"/>
                  </a:lnTo>
                  <a:lnTo>
                    <a:pt x="531" y="128"/>
                  </a:lnTo>
                  <a:lnTo>
                    <a:pt x="624" y="37"/>
                  </a:lnTo>
                  <a:lnTo>
                    <a:pt x="657" y="8"/>
                  </a:lnTo>
                  <a:lnTo>
                    <a:pt x="669" y="1"/>
                  </a:lnTo>
                  <a:lnTo>
                    <a:pt x="679" y="0"/>
                  </a:lnTo>
                  <a:lnTo>
                    <a:pt x="685" y="3"/>
                  </a:lnTo>
                  <a:lnTo>
                    <a:pt x="685" y="13"/>
                  </a:lnTo>
                  <a:lnTo>
                    <a:pt x="679" y="31"/>
                  </a:lnTo>
                  <a:lnTo>
                    <a:pt x="667" y="55"/>
                  </a:lnTo>
                  <a:lnTo>
                    <a:pt x="628" y="132"/>
                  </a:lnTo>
                  <a:lnTo>
                    <a:pt x="601" y="186"/>
                  </a:lnTo>
                  <a:lnTo>
                    <a:pt x="570" y="252"/>
                  </a:lnTo>
                  <a:lnTo>
                    <a:pt x="541" y="331"/>
                  </a:lnTo>
                  <a:lnTo>
                    <a:pt x="510" y="424"/>
                  </a:lnTo>
                  <a:lnTo>
                    <a:pt x="478" y="531"/>
                  </a:lnTo>
                  <a:lnTo>
                    <a:pt x="448" y="655"/>
                  </a:lnTo>
                  <a:lnTo>
                    <a:pt x="393" y="905"/>
                  </a:lnTo>
                  <a:lnTo>
                    <a:pt x="337" y="1134"/>
                  </a:lnTo>
                  <a:lnTo>
                    <a:pt x="279" y="1343"/>
                  </a:lnTo>
                  <a:lnTo>
                    <a:pt x="215" y="1535"/>
                  </a:lnTo>
                  <a:lnTo>
                    <a:pt x="334" y="1318"/>
                  </a:lnTo>
                  <a:lnTo>
                    <a:pt x="384" y="1235"/>
                  </a:lnTo>
                  <a:lnTo>
                    <a:pt x="432" y="1164"/>
                  </a:lnTo>
                  <a:lnTo>
                    <a:pt x="460" y="1130"/>
                  </a:lnTo>
                  <a:lnTo>
                    <a:pt x="492" y="1099"/>
                  </a:lnTo>
                  <a:lnTo>
                    <a:pt x="525" y="1067"/>
                  </a:lnTo>
                  <a:lnTo>
                    <a:pt x="562" y="1036"/>
                  </a:lnTo>
                  <a:lnTo>
                    <a:pt x="654" y="968"/>
                  </a:lnTo>
                  <a:lnTo>
                    <a:pt x="772" y="893"/>
                  </a:lnTo>
                  <a:lnTo>
                    <a:pt x="894" y="814"/>
                  </a:lnTo>
                  <a:lnTo>
                    <a:pt x="1002" y="740"/>
                  </a:lnTo>
                  <a:lnTo>
                    <a:pt x="1093" y="667"/>
                  </a:lnTo>
                  <a:lnTo>
                    <a:pt x="1171" y="599"/>
                  </a:lnTo>
                  <a:lnTo>
                    <a:pt x="1232" y="540"/>
                  </a:lnTo>
                  <a:lnTo>
                    <a:pt x="1281" y="489"/>
                  </a:lnTo>
                  <a:lnTo>
                    <a:pt x="1315" y="445"/>
                  </a:lnTo>
                  <a:lnTo>
                    <a:pt x="1336" y="414"/>
                  </a:lnTo>
                  <a:lnTo>
                    <a:pt x="1350" y="392"/>
                  </a:lnTo>
                  <a:lnTo>
                    <a:pt x="1362" y="379"/>
                  </a:lnTo>
                  <a:lnTo>
                    <a:pt x="1371" y="371"/>
                  </a:lnTo>
                  <a:lnTo>
                    <a:pt x="1379" y="371"/>
                  </a:lnTo>
                  <a:lnTo>
                    <a:pt x="1384" y="377"/>
                  </a:lnTo>
                  <a:lnTo>
                    <a:pt x="1386" y="388"/>
                  </a:lnTo>
                  <a:lnTo>
                    <a:pt x="1384" y="406"/>
                  </a:lnTo>
                  <a:lnTo>
                    <a:pt x="1378" y="427"/>
                  </a:lnTo>
                  <a:lnTo>
                    <a:pt x="1363" y="467"/>
                  </a:lnTo>
                  <a:lnTo>
                    <a:pt x="1339" y="534"/>
                  </a:lnTo>
                  <a:lnTo>
                    <a:pt x="1300" y="623"/>
                  </a:lnTo>
                  <a:lnTo>
                    <a:pt x="1250" y="728"/>
                  </a:lnTo>
                  <a:lnTo>
                    <a:pt x="1185" y="845"/>
                  </a:lnTo>
                  <a:lnTo>
                    <a:pt x="1146" y="903"/>
                  </a:lnTo>
                  <a:lnTo>
                    <a:pt x="1104" y="965"/>
                  </a:lnTo>
                  <a:lnTo>
                    <a:pt x="1059" y="1026"/>
                  </a:lnTo>
                  <a:lnTo>
                    <a:pt x="1007" y="1086"/>
                  </a:lnTo>
                  <a:lnTo>
                    <a:pt x="954" y="1146"/>
                  </a:lnTo>
                  <a:lnTo>
                    <a:pt x="894" y="1203"/>
                  </a:lnTo>
                  <a:lnTo>
                    <a:pt x="772" y="1311"/>
                  </a:lnTo>
                  <a:lnTo>
                    <a:pt x="648" y="1418"/>
                  </a:lnTo>
                  <a:lnTo>
                    <a:pt x="529" y="1521"/>
                  </a:lnTo>
                  <a:lnTo>
                    <a:pt x="415" y="1622"/>
                  </a:lnTo>
                  <a:lnTo>
                    <a:pt x="310" y="1720"/>
                  </a:lnTo>
                  <a:lnTo>
                    <a:pt x="263" y="1769"/>
                  </a:lnTo>
                  <a:lnTo>
                    <a:pt x="217" y="1819"/>
                  </a:lnTo>
                  <a:lnTo>
                    <a:pt x="178" y="1866"/>
                  </a:lnTo>
                  <a:lnTo>
                    <a:pt x="141" y="1915"/>
                  </a:lnTo>
                  <a:lnTo>
                    <a:pt x="109" y="1965"/>
                  </a:lnTo>
                  <a:lnTo>
                    <a:pt x="83" y="2014"/>
                  </a:lnTo>
                  <a:lnTo>
                    <a:pt x="65" y="2046"/>
                  </a:lnTo>
                  <a:lnTo>
                    <a:pt x="55" y="2056"/>
                  </a:lnTo>
                  <a:lnTo>
                    <a:pt x="47" y="2062"/>
                  </a:lnTo>
                  <a:lnTo>
                    <a:pt x="39" y="2059"/>
                  </a:lnTo>
                  <a:lnTo>
                    <a:pt x="34" y="2052"/>
                  </a:lnTo>
                  <a:lnTo>
                    <a:pt x="30" y="2032"/>
                  </a:lnTo>
                  <a:lnTo>
                    <a:pt x="28" y="2001"/>
                  </a:lnTo>
                  <a:lnTo>
                    <a:pt x="12" y="1722"/>
                  </a:lnTo>
                  <a:lnTo>
                    <a:pt x="4" y="1503"/>
                  </a:lnTo>
                  <a:lnTo>
                    <a:pt x="0" y="1379"/>
                  </a:lnTo>
                  <a:lnTo>
                    <a:pt x="0" y="1246"/>
                  </a:lnTo>
                  <a:close/>
                </a:path>
              </a:pathLst>
            </a:custGeom>
            <a:blipFill rotWithShape="0">
              <a:blip r:embed="rId56"/>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1040040" y="738360"/>
              <a:ext cx="156600" cy="145440"/>
            </a:xfrm>
            <a:custGeom>
              <a:avLst/>
              <a:gdLst/>
              <a:ahLst/>
              <a:rect l="l" t="t" r="r" b="b"/>
              <a:pathLst>
                <a:path w="1222" h="1254">
                  <a:moveTo>
                    <a:pt x="8" y="1191"/>
                  </a:moveTo>
                  <a:lnTo>
                    <a:pt x="38" y="1081"/>
                  </a:lnTo>
                  <a:lnTo>
                    <a:pt x="67" y="992"/>
                  </a:lnTo>
                  <a:lnTo>
                    <a:pt x="109" y="891"/>
                  </a:lnTo>
                  <a:lnTo>
                    <a:pt x="162" y="780"/>
                  </a:lnTo>
                  <a:lnTo>
                    <a:pt x="193" y="723"/>
                  </a:lnTo>
                  <a:lnTo>
                    <a:pt x="229" y="667"/>
                  </a:lnTo>
                  <a:lnTo>
                    <a:pt x="269" y="611"/>
                  </a:lnTo>
                  <a:lnTo>
                    <a:pt x="313" y="558"/>
                  </a:lnTo>
                  <a:lnTo>
                    <a:pt x="360" y="506"/>
                  </a:lnTo>
                  <a:lnTo>
                    <a:pt x="413" y="458"/>
                  </a:lnTo>
                  <a:lnTo>
                    <a:pt x="468" y="411"/>
                  </a:lnTo>
                  <a:lnTo>
                    <a:pt x="523" y="369"/>
                  </a:lnTo>
                  <a:lnTo>
                    <a:pt x="640" y="288"/>
                  </a:lnTo>
                  <a:lnTo>
                    <a:pt x="753" y="218"/>
                  </a:lnTo>
                  <a:lnTo>
                    <a:pt x="861" y="159"/>
                  </a:lnTo>
                  <a:lnTo>
                    <a:pt x="960" y="108"/>
                  </a:lnTo>
                  <a:lnTo>
                    <a:pt x="1043" y="68"/>
                  </a:lnTo>
                  <a:lnTo>
                    <a:pt x="1153" y="19"/>
                  </a:lnTo>
                  <a:lnTo>
                    <a:pt x="1179" y="8"/>
                  </a:lnTo>
                  <a:lnTo>
                    <a:pt x="1200" y="1"/>
                  </a:lnTo>
                  <a:lnTo>
                    <a:pt x="1214" y="0"/>
                  </a:lnTo>
                  <a:lnTo>
                    <a:pt x="1222" y="3"/>
                  </a:lnTo>
                  <a:lnTo>
                    <a:pt x="1222" y="11"/>
                  </a:lnTo>
                  <a:lnTo>
                    <a:pt x="1218" y="21"/>
                  </a:lnTo>
                  <a:lnTo>
                    <a:pt x="1206" y="37"/>
                  </a:lnTo>
                  <a:lnTo>
                    <a:pt x="1190" y="53"/>
                  </a:lnTo>
                  <a:lnTo>
                    <a:pt x="1127" y="121"/>
                  </a:lnTo>
                  <a:lnTo>
                    <a:pt x="1027" y="244"/>
                  </a:lnTo>
                  <a:lnTo>
                    <a:pt x="967" y="321"/>
                  </a:lnTo>
                  <a:lnTo>
                    <a:pt x="907" y="404"/>
                  </a:lnTo>
                  <a:lnTo>
                    <a:pt x="845" y="492"/>
                  </a:lnTo>
                  <a:lnTo>
                    <a:pt x="786" y="584"/>
                  </a:lnTo>
                  <a:lnTo>
                    <a:pt x="730" y="670"/>
                  </a:lnTo>
                  <a:lnTo>
                    <a:pt x="677" y="745"/>
                  </a:lnTo>
                  <a:lnTo>
                    <a:pt x="625" y="808"/>
                  </a:lnTo>
                  <a:lnTo>
                    <a:pt x="577" y="864"/>
                  </a:lnTo>
                  <a:lnTo>
                    <a:pt x="528" y="909"/>
                  </a:lnTo>
                  <a:lnTo>
                    <a:pt x="474" y="950"/>
                  </a:lnTo>
                  <a:lnTo>
                    <a:pt x="421" y="984"/>
                  </a:lnTo>
                  <a:lnTo>
                    <a:pt x="361" y="1015"/>
                  </a:lnTo>
                  <a:lnTo>
                    <a:pt x="247" y="1075"/>
                  </a:lnTo>
                  <a:lnTo>
                    <a:pt x="154" y="1132"/>
                  </a:lnTo>
                  <a:lnTo>
                    <a:pt x="85" y="1183"/>
                  </a:lnTo>
                  <a:lnTo>
                    <a:pt x="62" y="1204"/>
                  </a:lnTo>
                  <a:lnTo>
                    <a:pt x="46" y="1225"/>
                  </a:lnTo>
                  <a:lnTo>
                    <a:pt x="34" y="1240"/>
                  </a:lnTo>
                  <a:lnTo>
                    <a:pt x="22" y="1251"/>
                  </a:lnTo>
                  <a:lnTo>
                    <a:pt x="12" y="1254"/>
                  </a:lnTo>
                  <a:lnTo>
                    <a:pt x="7" y="1253"/>
                  </a:lnTo>
                  <a:lnTo>
                    <a:pt x="2" y="1244"/>
                  </a:lnTo>
                  <a:lnTo>
                    <a:pt x="0" y="1233"/>
                  </a:lnTo>
                  <a:lnTo>
                    <a:pt x="2" y="1215"/>
                  </a:lnTo>
                  <a:lnTo>
                    <a:pt x="8" y="1191"/>
                  </a:lnTo>
                  <a:close/>
                </a:path>
              </a:pathLst>
            </a:custGeom>
            <a:blipFill rotWithShape="0">
              <a:blip r:embed="rId57"/>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1383480" y="1676880"/>
              <a:ext cx="621000" cy="140760"/>
            </a:xfrm>
            <a:custGeom>
              <a:avLst/>
              <a:gdLst/>
              <a:ahLst/>
              <a:rect l="l" t="t" r="r" b="b"/>
              <a:pathLst>
                <a:path w="4842" h="1209">
                  <a:moveTo>
                    <a:pt x="0" y="1144"/>
                  </a:moveTo>
                  <a:lnTo>
                    <a:pt x="32" y="1110"/>
                  </a:lnTo>
                  <a:lnTo>
                    <a:pt x="119" y="1021"/>
                  </a:lnTo>
                  <a:lnTo>
                    <a:pt x="182" y="960"/>
                  </a:lnTo>
                  <a:lnTo>
                    <a:pt x="255" y="892"/>
                  </a:lnTo>
                  <a:lnTo>
                    <a:pt x="340" y="816"/>
                  </a:lnTo>
                  <a:lnTo>
                    <a:pt x="434" y="738"/>
                  </a:lnTo>
                  <a:lnTo>
                    <a:pt x="539" y="654"/>
                  </a:lnTo>
                  <a:lnTo>
                    <a:pt x="650" y="573"/>
                  </a:lnTo>
                  <a:lnTo>
                    <a:pt x="769" y="492"/>
                  </a:lnTo>
                  <a:lnTo>
                    <a:pt x="895" y="416"/>
                  </a:lnTo>
                  <a:lnTo>
                    <a:pt x="1025" y="343"/>
                  </a:lnTo>
                  <a:lnTo>
                    <a:pt x="1159" y="280"/>
                  </a:lnTo>
                  <a:lnTo>
                    <a:pt x="1229" y="250"/>
                  </a:lnTo>
                  <a:lnTo>
                    <a:pt x="1297" y="225"/>
                  </a:lnTo>
                  <a:lnTo>
                    <a:pt x="1368" y="201"/>
                  </a:lnTo>
                  <a:lnTo>
                    <a:pt x="1439" y="181"/>
                  </a:lnTo>
                  <a:lnTo>
                    <a:pt x="1680" y="118"/>
                  </a:lnTo>
                  <a:lnTo>
                    <a:pt x="1894" y="68"/>
                  </a:lnTo>
                  <a:lnTo>
                    <a:pt x="1990" y="49"/>
                  </a:lnTo>
                  <a:lnTo>
                    <a:pt x="2085" y="31"/>
                  </a:lnTo>
                  <a:lnTo>
                    <a:pt x="2176" y="18"/>
                  </a:lnTo>
                  <a:lnTo>
                    <a:pt x="2266" y="8"/>
                  </a:lnTo>
                  <a:lnTo>
                    <a:pt x="2355" y="2"/>
                  </a:lnTo>
                  <a:lnTo>
                    <a:pt x="2444" y="0"/>
                  </a:lnTo>
                  <a:lnTo>
                    <a:pt x="2535" y="0"/>
                  </a:lnTo>
                  <a:lnTo>
                    <a:pt x="2627" y="5"/>
                  </a:lnTo>
                  <a:lnTo>
                    <a:pt x="2724" y="15"/>
                  </a:lnTo>
                  <a:lnTo>
                    <a:pt x="2825" y="27"/>
                  </a:lnTo>
                  <a:lnTo>
                    <a:pt x="2930" y="45"/>
                  </a:lnTo>
                  <a:lnTo>
                    <a:pt x="3043" y="66"/>
                  </a:lnTo>
                  <a:lnTo>
                    <a:pt x="3275" y="120"/>
                  </a:lnTo>
                  <a:lnTo>
                    <a:pt x="3501" y="173"/>
                  </a:lnTo>
                  <a:lnTo>
                    <a:pt x="3723" y="222"/>
                  </a:lnTo>
                  <a:lnTo>
                    <a:pt x="3833" y="244"/>
                  </a:lnTo>
                  <a:lnTo>
                    <a:pt x="3942" y="262"/>
                  </a:lnTo>
                  <a:lnTo>
                    <a:pt x="4050" y="275"/>
                  </a:lnTo>
                  <a:lnTo>
                    <a:pt x="4157" y="288"/>
                  </a:lnTo>
                  <a:lnTo>
                    <a:pt x="4264" y="291"/>
                  </a:lnTo>
                  <a:lnTo>
                    <a:pt x="4369" y="291"/>
                  </a:lnTo>
                  <a:lnTo>
                    <a:pt x="4473" y="283"/>
                  </a:lnTo>
                  <a:lnTo>
                    <a:pt x="4578" y="267"/>
                  </a:lnTo>
                  <a:lnTo>
                    <a:pt x="4680" y="244"/>
                  </a:lnTo>
                  <a:lnTo>
                    <a:pt x="4781" y="212"/>
                  </a:lnTo>
                  <a:lnTo>
                    <a:pt x="4814" y="204"/>
                  </a:lnTo>
                  <a:lnTo>
                    <a:pt x="4827" y="204"/>
                  </a:lnTo>
                  <a:lnTo>
                    <a:pt x="4836" y="209"/>
                  </a:lnTo>
                  <a:lnTo>
                    <a:pt x="4842" y="214"/>
                  </a:lnTo>
                  <a:lnTo>
                    <a:pt x="4840" y="225"/>
                  </a:lnTo>
                  <a:lnTo>
                    <a:pt x="4835" y="236"/>
                  </a:lnTo>
                  <a:lnTo>
                    <a:pt x="4822" y="254"/>
                  </a:lnTo>
                  <a:lnTo>
                    <a:pt x="4785" y="295"/>
                  </a:lnTo>
                  <a:lnTo>
                    <a:pt x="4738" y="345"/>
                  </a:lnTo>
                  <a:lnTo>
                    <a:pt x="4680" y="398"/>
                  </a:lnTo>
                  <a:lnTo>
                    <a:pt x="4611" y="453"/>
                  </a:lnTo>
                  <a:lnTo>
                    <a:pt x="4561" y="481"/>
                  </a:lnTo>
                  <a:lnTo>
                    <a:pt x="4495" y="513"/>
                  </a:lnTo>
                  <a:lnTo>
                    <a:pt x="4411" y="542"/>
                  </a:lnTo>
                  <a:lnTo>
                    <a:pt x="4315" y="573"/>
                  </a:lnTo>
                  <a:lnTo>
                    <a:pt x="4208" y="604"/>
                  </a:lnTo>
                  <a:lnTo>
                    <a:pt x="4092" y="631"/>
                  </a:lnTo>
                  <a:lnTo>
                    <a:pt x="3972" y="654"/>
                  </a:lnTo>
                  <a:lnTo>
                    <a:pt x="3847" y="676"/>
                  </a:lnTo>
                  <a:lnTo>
                    <a:pt x="3729" y="693"/>
                  </a:lnTo>
                  <a:lnTo>
                    <a:pt x="3621" y="704"/>
                  </a:lnTo>
                  <a:lnTo>
                    <a:pt x="3517" y="708"/>
                  </a:lnTo>
                  <a:lnTo>
                    <a:pt x="3411" y="704"/>
                  </a:lnTo>
                  <a:lnTo>
                    <a:pt x="3299" y="690"/>
                  </a:lnTo>
                  <a:lnTo>
                    <a:pt x="3174" y="667"/>
                  </a:lnTo>
                  <a:lnTo>
                    <a:pt x="3028" y="628"/>
                  </a:lnTo>
                  <a:lnTo>
                    <a:pt x="2860" y="580"/>
                  </a:lnTo>
                  <a:lnTo>
                    <a:pt x="2690" y="523"/>
                  </a:lnTo>
                  <a:lnTo>
                    <a:pt x="2538" y="468"/>
                  </a:lnTo>
                  <a:lnTo>
                    <a:pt x="2402" y="416"/>
                  </a:lnTo>
                  <a:lnTo>
                    <a:pt x="2273" y="371"/>
                  </a:lnTo>
                  <a:lnTo>
                    <a:pt x="2209" y="351"/>
                  </a:lnTo>
                  <a:lnTo>
                    <a:pt x="2144" y="333"/>
                  </a:lnTo>
                  <a:lnTo>
                    <a:pt x="2077" y="317"/>
                  </a:lnTo>
                  <a:lnTo>
                    <a:pt x="2007" y="303"/>
                  </a:lnTo>
                  <a:lnTo>
                    <a:pt x="1935" y="293"/>
                  </a:lnTo>
                  <a:lnTo>
                    <a:pt x="1860" y="285"/>
                  </a:lnTo>
                  <a:lnTo>
                    <a:pt x="1779" y="280"/>
                  </a:lnTo>
                  <a:lnTo>
                    <a:pt x="1692" y="277"/>
                  </a:lnTo>
                  <a:lnTo>
                    <a:pt x="1601" y="280"/>
                  </a:lnTo>
                  <a:lnTo>
                    <a:pt x="1518" y="285"/>
                  </a:lnTo>
                  <a:lnTo>
                    <a:pt x="1441" y="295"/>
                  </a:lnTo>
                  <a:lnTo>
                    <a:pt x="1370" y="311"/>
                  </a:lnTo>
                  <a:lnTo>
                    <a:pt x="1301" y="333"/>
                  </a:lnTo>
                  <a:lnTo>
                    <a:pt x="1234" y="361"/>
                  </a:lnTo>
                  <a:lnTo>
                    <a:pt x="1167" y="396"/>
                  </a:lnTo>
                  <a:lnTo>
                    <a:pt x="1096" y="442"/>
                  </a:lnTo>
                  <a:lnTo>
                    <a:pt x="1021" y="497"/>
                  </a:lnTo>
                  <a:lnTo>
                    <a:pt x="940" y="560"/>
                  </a:lnTo>
                  <a:lnTo>
                    <a:pt x="851" y="636"/>
                  </a:lnTo>
                  <a:lnTo>
                    <a:pt x="755" y="724"/>
                  </a:lnTo>
                  <a:lnTo>
                    <a:pt x="523" y="937"/>
                  </a:lnTo>
                  <a:lnTo>
                    <a:pt x="233" y="1209"/>
                  </a:lnTo>
                  <a:lnTo>
                    <a:pt x="64" y="1162"/>
                  </a:lnTo>
                  <a:lnTo>
                    <a:pt x="0" y="1144"/>
                  </a:lnTo>
                  <a:close/>
                </a:path>
              </a:pathLst>
            </a:custGeom>
            <a:blipFill rotWithShape="0">
              <a:blip r:embed="rId58"/>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1811160" y="1504080"/>
              <a:ext cx="329760" cy="189360"/>
            </a:xfrm>
            <a:custGeom>
              <a:avLst/>
              <a:gdLst/>
              <a:ahLst/>
              <a:rect l="l" t="t" r="r" b="b"/>
              <a:pathLst>
                <a:path w="2575" h="1626">
                  <a:moveTo>
                    <a:pt x="163" y="1490"/>
                  </a:moveTo>
                  <a:lnTo>
                    <a:pt x="241" y="1496"/>
                  </a:lnTo>
                  <a:lnTo>
                    <a:pt x="353" y="1515"/>
                  </a:lnTo>
                  <a:lnTo>
                    <a:pt x="482" y="1545"/>
                  </a:lnTo>
                  <a:lnTo>
                    <a:pt x="621" y="1582"/>
                  </a:lnTo>
                  <a:lnTo>
                    <a:pt x="690" y="1600"/>
                  </a:lnTo>
                  <a:lnTo>
                    <a:pt x="759" y="1614"/>
                  </a:lnTo>
                  <a:lnTo>
                    <a:pt x="828" y="1622"/>
                  </a:lnTo>
                  <a:lnTo>
                    <a:pt x="897" y="1626"/>
                  </a:lnTo>
                  <a:lnTo>
                    <a:pt x="970" y="1626"/>
                  </a:lnTo>
                  <a:lnTo>
                    <a:pt x="1047" y="1622"/>
                  </a:lnTo>
                  <a:lnTo>
                    <a:pt x="1215" y="1606"/>
                  </a:lnTo>
                  <a:lnTo>
                    <a:pt x="1405" y="1580"/>
                  </a:lnTo>
                  <a:lnTo>
                    <a:pt x="1505" y="1561"/>
                  </a:lnTo>
                  <a:lnTo>
                    <a:pt x="1606" y="1535"/>
                  </a:lnTo>
                  <a:lnTo>
                    <a:pt x="1657" y="1517"/>
                  </a:lnTo>
                  <a:lnTo>
                    <a:pt x="1709" y="1498"/>
                  </a:lnTo>
                  <a:lnTo>
                    <a:pt x="1759" y="1475"/>
                  </a:lnTo>
                  <a:lnTo>
                    <a:pt x="1809" y="1448"/>
                  </a:lnTo>
                  <a:lnTo>
                    <a:pt x="1858" y="1417"/>
                  </a:lnTo>
                  <a:lnTo>
                    <a:pt x="1908" y="1383"/>
                  </a:lnTo>
                  <a:lnTo>
                    <a:pt x="1955" y="1341"/>
                  </a:lnTo>
                  <a:lnTo>
                    <a:pt x="2002" y="1298"/>
                  </a:lnTo>
                  <a:lnTo>
                    <a:pt x="2096" y="1200"/>
                  </a:lnTo>
                  <a:lnTo>
                    <a:pt x="2188" y="1095"/>
                  </a:lnTo>
                  <a:lnTo>
                    <a:pt x="2277" y="992"/>
                  </a:lnTo>
                  <a:lnTo>
                    <a:pt x="2360" y="894"/>
                  </a:lnTo>
                  <a:lnTo>
                    <a:pt x="2492" y="730"/>
                  </a:lnTo>
                  <a:lnTo>
                    <a:pt x="2557" y="638"/>
                  </a:lnTo>
                  <a:lnTo>
                    <a:pt x="2569" y="622"/>
                  </a:lnTo>
                  <a:lnTo>
                    <a:pt x="2575" y="606"/>
                  </a:lnTo>
                  <a:lnTo>
                    <a:pt x="2575" y="593"/>
                  </a:lnTo>
                  <a:lnTo>
                    <a:pt x="2570" y="588"/>
                  </a:lnTo>
                  <a:lnTo>
                    <a:pt x="2565" y="588"/>
                  </a:lnTo>
                  <a:lnTo>
                    <a:pt x="2553" y="591"/>
                  </a:lnTo>
                  <a:lnTo>
                    <a:pt x="2538" y="601"/>
                  </a:lnTo>
                  <a:lnTo>
                    <a:pt x="2517" y="619"/>
                  </a:lnTo>
                  <a:lnTo>
                    <a:pt x="2488" y="645"/>
                  </a:lnTo>
                  <a:lnTo>
                    <a:pt x="2447" y="679"/>
                  </a:lnTo>
                  <a:lnTo>
                    <a:pt x="2391" y="719"/>
                  </a:lnTo>
                  <a:lnTo>
                    <a:pt x="2321" y="763"/>
                  </a:lnTo>
                  <a:lnTo>
                    <a:pt x="2233" y="808"/>
                  </a:lnTo>
                  <a:lnTo>
                    <a:pt x="2182" y="832"/>
                  </a:lnTo>
                  <a:lnTo>
                    <a:pt x="2127" y="854"/>
                  </a:lnTo>
                  <a:lnTo>
                    <a:pt x="2065" y="874"/>
                  </a:lnTo>
                  <a:lnTo>
                    <a:pt x="2000" y="894"/>
                  </a:lnTo>
                  <a:lnTo>
                    <a:pt x="1931" y="912"/>
                  </a:lnTo>
                  <a:lnTo>
                    <a:pt x="1855" y="927"/>
                  </a:lnTo>
                  <a:lnTo>
                    <a:pt x="1709" y="957"/>
                  </a:lnTo>
                  <a:lnTo>
                    <a:pt x="1574" y="986"/>
                  </a:lnTo>
                  <a:lnTo>
                    <a:pt x="1453" y="1017"/>
                  </a:lnTo>
                  <a:lnTo>
                    <a:pt x="1340" y="1056"/>
                  </a:lnTo>
                  <a:lnTo>
                    <a:pt x="1227" y="1095"/>
                  </a:lnTo>
                  <a:lnTo>
                    <a:pt x="1114" y="1145"/>
                  </a:lnTo>
                  <a:lnTo>
                    <a:pt x="995" y="1200"/>
                  </a:lnTo>
                  <a:lnTo>
                    <a:pt x="867" y="1266"/>
                  </a:lnTo>
                  <a:lnTo>
                    <a:pt x="804" y="1300"/>
                  </a:lnTo>
                  <a:lnTo>
                    <a:pt x="735" y="1329"/>
                  </a:lnTo>
                  <a:lnTo>
                    <a:pt x="662" y="1357"/>
                  </a:lnTo>
                  <a:lnTo>
                    <a:pt x="587" y="1379"/>
                  </a:lnTo>
                  <a:lnTo>
                    <a:pt x="510" y="1397"/>
                  </a:lnTo>
                  <a:lnTo>
                    <a:pt x="429" y="1407"/>
                  </a:lnTo>
                  <a:lnTo>
                    <a:pt x="348" y="1409"/>
                  </a:lnTo>
                  <a:lnTo>
                    <a:pt x="265" y="1402"/>
                  </a:lnTo>
                  <a:lnTo>
                    <a:pt x="340" y="1361"/>
                  </a:lnTo>
                  <a:lnTo>
                    <a:pt x="401" y="1331"/>
                  </a:lnTo>
                  <a:lnTo>
                    <a:pt x="498" y="1289"/>
                  </a:lnTo>
                  <a:lnTo>
                    <a:pt x="583" y="1250"/>
                  </a:lnTo>
                  <a:lnTo>
                    <a:pt x="628" y="1224"/>
                  </a:lnTo>
                  <a:lnTo>
                    <a:pt x="680" y="1193"/>
                  </a:lnTo>
                  <a:lnTo>
                    <a:pt x="735" y="1158"/>
                  </a:lnTo>
                  <a:lnTo>
                    <a:pt x="790" y="1116"/>
                  </a:lnTo>
                  <a:lnTo>
                    <a:pt x="843" y="1073"/>
                  </a:lnTo>
                  <a:lnTo>
                    <a:pt x="895" y="1025"/>
                  </a:lnTo>
                  <a:lnTo>
                    <a:pt x="945" y="975"/>
                  </a:lnTo>
                  <a:lnTo>
                    <a:pt x="994" y="917"/>
                  </a:lnTo>
                  <a:lnTo>
                    <a:pt x="1039" y="856"/>
                  </a:lnTo>
                  <a:lnTo>
                    <a:pt x="1084" y="787"/>
                  </a:lnTo>
                  <a:lnTo>
                    <a:pt x="1123" y="714"/>
                  </a:lnTo>
                  <a:lnTo>
                    <a:pt x="1160" y="638"/>
                  </a:lnTo>
                  <a:lnTo>
                    <a:pt x="1189" y="566"/>
                  </a:lnTo>
                  <a:lnTo>
                    <a:pt x="1215" y="493"/>
                  </a:lnTo>
                  <a:lnTo>
                    <a:pt x="1235" y="426"/>
                  </a:lnTo>
                  <a:lnTo>
                    <a:pt x="1251" y="365"/>
                  </a:lnTo>
                  <a:lnTo>
                    <a:pt x="1261" y="311"/>
                  </a:lnTo>
                  <a:lnTo>
                    <a:pt x="1266" y="269"/>
                  </a:lnTo>
                  <a:lnTo>
                    <a:pt x="1270" y="201"/>
                  </a:lnTo>
                  <a:lnTo>
                    <a:pt x="1269" y="146"/>
                  </a:lnTo>
                  <a:lnTo>
                    <a:pt x="1270" y="101"/>
                  </a:lnTo>
                  <a:lnTo>
                    <a:pt x="1274" y="78"/>
                  </a:lnTo>
                  <a:lnTo>
                    <a:pt x="1280" y="60"/>
                  </a:lnTo>
                  <a:lnTo>
                    <a:pt x="1290" y="28"/>
                  </a:lnTo>
                  <a:lnTo>
                    <a:pt x="1290" y="13"/>
                  </a:lnTo>
                  <a:lnTo>
                    <a:pt x="1286" y="5"/>
                  </a:lnTo>
                  <a:lnTo>
                    <a:pt x="1282" y="0"/>
                  </a:lnTo>
                  <a:lnTo>
                    <a:pt x="1272" y="2"/>
                  </a:lnTo>
                  <a:lnTo>
                    <a:pt x="1261" y="10"/>
                  </a:lnTo>
                  <a:lnTo>
                    <a:pt x="1245" y="25"/>
                  </a:lnTo>
                  <a:lnTo>
                    <a:pt x="1197" y="83"/>
                  </a:lnTo>
                  <a:lnTo>
                    <a:pt x="1126" y="159"/>
                  </a:lnTo>
                  <a:lnTo>
                    <a:pt x="1036" y="250"/>
                  </a:lnTo>
                  <a:lnTo>
                    <a:pt x="984" y="295"/>
                  </a:lnTo>
                  <a:lnTo>
                    <a:pt x="931" y="341"/>
                  </a:lnTo>
                  <a:lnTo>
                    <a:pt x="820" y="431"/>
                  </a:lnTo>
                  <a:lnTo>
                    <a:pt x="769" y="481"/>
                  </a:lnTo>
                  <a:lnTo>
                    <a:pt x="715" y="534"/>
                  </a:lnTo>
                  <a:lnTo>
                    <a:pt x="667" y="591"/>
                  </a:lnTo>
                  <a:lnTo>
                    <a:pt x="617" y="656"/>
                  </a:lnTo>
                  <a:lnTo>
                    <a:pt x="571" y="727"/>
                  </a:lnTo>
                  <a:lnTo>
                    <a:pt x="526" y="811"/>
                  </a:lnTo>
                  <a:lnTo>
                    <a:pt x="453" y="965"/>
                  </a:lnTo>
                  <a:lnTo>
                    <a:pt x="424" y="1030"/>
                  </a:lnTo>
                  <a:lnTo>
                    <a:pt x="392" y="1088"/>
                  </a:lnTo>
                  <a:lnTo>
                    <a:pt x="356" y="1145"/>
                  </a:lnTo>
                  <a:lnTo>
                    <a:pt x="315" y="1200"/>
                  </a:lnTo>
                  <a:lnTo>
                    <a:pt x="262" y="1255"/>
                  </a:lnTo>
                  <a:lnTo>
                    <a:pt x="192" y="1312"/>
                  </a:lnTo>
                  <a:lnTo>
                    <a:pt x="72" y="1404"/>
                  </a:lnTo>
                  <a:lnTo>
                    <a:pt x="32" y="1436"/>
                  </a:lnTo>
                  <a:lnTo>
                    <a:pt x="9" y="1460"/>
                  </a:lnTo>
                  <a:lnTo>
                    <a:pt x="0" y="1473"/>
                  </a:lnTo>
                  <a:lnTo>
                    <a:pt x="0" y="1480"/>
                  </a:lnTo>
                  <a:lnTo>
                    <a:pt x="3" y="1483"/>
                  </a:lnTo>
                  <a:lnTo>
                    <a:pt x="21" y="1488"/>
                  </a:lnTo>
                  <a:lnTo>
                    <a:pt x="52" y="1490"/>
                  </a:lnTo>
                  <a:lnTo>
                    <a:pt x="163" y="1490"/>
                  </a:lnTo>
                  <a:close/>
                </a:path>
              </a:pathLst>
            </a:custGeom>
            <a:blipFill rotWithShape="0">
              <a:blip r:embed="rId5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1972080" y="1399320"/>
              <a:ext cx="249840" cy="215280"/>
            </a:xfrm>
            <a:custGeom>
              <a:avLst/>
              <a:gdLst/>
              <a:ahLst/>
              <a:rect l="l" t="t" r="r" b="b"/>
              <a:pathLst>
                <a:path w="1958" h="1859">
                  <a:moveTo>
                    <a:pt x="75" y="1835"/>
                  </a:moveTo>
                  <a:lnTo>
                    <a:pt x="411" y="1727"/>
                  </a:lnTo>
                  <a:lnTo>
                    <a:pt x="657" y="1644"/>
                  </a:lnTo>
                  <a:lnTo>
                    <a:pt x="865" y="1568"/>
                  </a:lnTo>
                  <a:lnTo>
                    <a:pt x="954" y="1534"/>
                  </a:lnTo>
                  <a:lnTo>
                    <a:pt x="1052" y="1486"/>
                  </a:lnTo>
                  <a:lnTo>
                    <a:pt x="1157" y="1429"/>
                  </a:lnTo>
                  <a:lnTo>
                    <a:pt x="1211" y="1395"/>
                  </a:lnTo>
                  <a:lnTo>
                    <a:pt x="1263" y="1358"/>
                  </a:lnTo>
                  <a:lnTo>
                    <a:pt x="1316" y="1318"/>
                  </a:lnTo>
                  <a:lnTo>
                    <a:pt x="1368" y="1273"/>
                  </a:lnTo>
                  <a:lnTo>
                    <a:pt x="1418" y="1225"/>
                  </a:lnTo>
                  <a:lnTo>
                    <a:pt x="1465" y="1172"/>
                  </a:lnTo>
                  <a:lnTo>
                    <a:pt x="1510" y="1115"/>
                  </a:lnTo>
                  <a:lnTo>
                    <a:pt x="1554" y="1053"/>
                  </a:lnTo>
                  <a:lnTo>
                    <a:pt x="1591" y="987"/>
                  </a:lnTo>
                  <a:lnTo>
                    <a:pt x="1627" y="916"/>
                  </a:lnTo>
                  <a:lnTo>
                    <a:pt x="1747" y="642"/>
                  </a:lnTo>
                  <a:lnTo>
                    <a:pt x="1847" y="420"/>
                  </a:lnTo>
                  <a:lnTo>
                    <a:pt x="1886" y="328"/>
                  </a:lnTo>
                  <a:lnTo>
                    <a:pt x="1917" y="250"/>
                  </a:lnTo>
                  <a:lnTo>
                    <a:pt x="1939" y="187"/>
                  </a:lnTo>
                  <a:lnTo>
                    <a:pt x="1950" y="140"/>
                  </a:lnTo>
                  <a:lnTo>
                    <a:pt x="1958" y="77"/>
                  </a:lnTo>
                  <a:lnTo>
                    <a:pt x="1958" y="43"/>
                  </a:lnTo>
                  <a:lnTo>
                    <a:pt x="1954" y="25"/>
                  </a:lnTo>
                  <a:lnTo>
                    <a:pt x="1949" y="14"/>
                  </a:lnTo>
                  <a:lnTo>
                    <a:pt x="1942" y="6"/>
                  </a:lnTo>
                  <a:lnTo>
                    <a:pt x="1936" y="0"/>
                  </a:lnTo>
                  <a:lnTo>
                    <a:pt x="1928" y="2"/>
                  </a:lnTo>
                  <a:lnTo>
                    <a:pt x="1920" y="12"/>
                  </a:lnTo>
                  <a:lnTo>
                    <a:pt x="1868" y="90"/>
                  </a:lnTo>
                  <a:lnTo>
                    <a:pt x="1749" y="258"/>
                  </a:lnTo>
                  <a:lnTo>
                    <a:pt x="1674" y="357"/>
                  </a:lnTo>
                  <a:lnTo>
                    <a:pt x="1595" y="454"/>
                  </a:lnTo>
                  <a:lnTo>
                    <a:pt x="1514" y="543"/>
                  </a:lnTo>
                  <a:lnTo>
                    <a:pt x="1475" y="582"/>
                  </a:lnTo>
                  <a:lnTo>
                    <a:pt x="1437" y="616"/>
                  </a:lnTo>
                  <a:lnTo>
                    <a:pt x="1360" y="679"/>
                  </a:lnTo>
                  <a:lnTo>
                    <a:pt x="1279" y="738"/>
                  </a:lnTo>
                  <a:lnTo>
                    <a:pt x="1117" y="852"/>
                  </a:lnTo>
                  <a:lnTo>
                    <a:pt x="965" y="959"/>
                  </a:lnTo>
                  <a:lnTo>
                    <a:pt x="898" y="1011"/>
                  </a:lnTo>
                  <a:lnTo>
                    <a:pt x="842" y="1058"/>
                  </a:lnTo>
                  <a:lnTo>
                    <a:pt x="737" y="1157"/>
                  </a:lnTo>
                  <a:lnTo>
                    <a:pt x="632" y="1259"/>
                  </a:lnTo>
                  <a:lnTo>
                    <a:pt x="440" y="1458"/>
                  </a:lnTo>
                  <a:lnTo>
                    <a:pt x="397" y="1502"/>
                  </a:lnTo>
                  <a:lnTo>
                    <a:pt x="356" y="1539"/>
                  </a:lnTo>
                  <a:lnTo>
                    <a:pt x="320" y="1568"/>
                  </a:lnTo>
                  <a:lnTo>
                    <a:pt x="288" y="1591"/>
                  </a:lnTo>
                  <a:lnTo>
                    <a:pt x="243" y="1618"/>
                  </a:lnTo>
                  <a:lnTo>
                    <a:pt x="227" y="1626"/>
                  </a:lnTo>
                  <a:lnTo>
                    <a:pt x="334" y="1462"/>
                  </a:lnTo>
                  <a:lnTo>
                    <a:pt x="512" y="1192"/>
                  </a:lnTo>
                  <a:lnTo>
                    <a:pt x="583" y="1087"/>
                  </a:lnTo>
                  <a:lnTo>
                    <a:pt x="614" y="1034"/>
                  </a:lnTo>
                  <a:lnTo>
                    <a:pt x="644" y="979"/>
                  </a:lnTo>
                  <a:lnTo>
                    <a:pt x="669" y="919"/>
                  </a:lnTo>
                  <a:lnTo>
                    <a:pt x="687" y="856"/>
                  </a:lnTo>
                  <a:lnTo>
                    <a:pt x="699" y="789"/>
                  </a:lnTo>
                  <a:lnTo>
                    <a:pt x="703" y="754"/>
                  </a:lnTo>
                  <a:lnTo>
                    <a:pt x="705" y="716"/>
                  </a:lnTo>
                  <a:lnTo>
                    <a:pt x="699" y="361"/>
                  </a:lnTo>
                  <a:lnTo>
                    <a:pt x="691" y="126"/>
                  </a:lnTo>
                  <a:lnTo>
                    <a:pt x="687" y="98"/>
                  </a:lnTo>
                  <a:lnTo>
                    <a:pt x="683" y="89"/>
                  </a:lnTo>
                  <a:lnTo>
                    <a:pt x="680" y="85"/>
                  </a:lnTo>
                  <a:lnTo>
                    <a:pt x="673" y="85"/>
                  </a:lnTo>
                  <a:lnTo>
                    <a:pt x="667" y="89"/>
                  </a:lnTo>
                  <a:lnTo>
                    <a:pt x="646" y="113"/>
                  </a:lnTo>
                  <a:lnTo>
                    <a:pt x="599" y="171"/>
                  </a:lnTo>
                  <a:lnTo>
                    <a:pt x="521" y="274"/>
                  </a:lnTo>
                  <a:lnTo>
                    <a:pt x="476" y="338"/>
                  </a:lnTo>
                  <a:lnTo>
                    <a:pt x="431" y="404"/>
                  </a:lnTo>
                  <a:lnTo>
                    <a:pt x="385" y="477"/>
                  </a:lnTo>
                  <a:lnTo>
                    <a:pt x="344" y="550"/>
                  </a:lnTo>
                  <a:lnTo>
                    <a:pt x="308" y="626"/>
                  </a:lnTo>
                  <a:lnTo>
                    <a:pt x="275" y="702"/>
                  </a:lnTo>
                  <a:lnTo>
                    <a:pt x="249" y="775"/>
                  </a:lnTo>
                  <a:lnTo>
                    <a:pt x="225" y="846"/>
                  </a:lnTo>
                  <a:lnTo>
                    <a:pt x="207" y="912"/>
                  </a:lnTo>
                  <a:lnTo>
                    <a:pt x="194" y="969"/>
                  </a:lnTo>
                  <a:lnTo>
                    <a:pt x="186" y="1018"/>
                  </a:lnTo>
                  <a:lnTo>
                    <a:pt x="183" y="1055"/>
                  </a:lnTo>
                  <a:lnTo>
                    <a:pt x="180" y="1207"/>
                  </a:lnTo>
                  <a:lnTo>
                    <a:pt x="174" y="1293"/>
                  </a:lnTo>
                  <a:lnTo>
                    <a:pt x="162" y="1369"/>
                  </a:lnTo>
                  <a:lnTo>
                    <a:pt x="136" y="1466"/>
                  </a:lnTo>
                  <a:lnTo>
                    <a:pt x="95" y="1594"/>
                  </a:lnTo>
                  <a:lnTo>
                    <a:pt x="54" y="1719"/>
                  </a:lnTo>
                  <a:lnTo>
                    <a:pt x="18" y="1806"/>
                  </a:lnTo>
                  <a:lnTo>
                    <a:pt x="2" y="1845"/>
                  </a:lnTo>
                  <a:lnTo>
                    <a:pt x="0" y="1855"/>
                  </a:lnTo>
                  <a:lnTo>
                    <a:pt x="5" y="1859"/>
                  </a:lnTo>
                  <a:lnTo>
                    <a:pt x="12" y="1859"/>
                  </a:lnTo>
                  <a:lnTo>
                    <a:pt x="28" y="1855"/>
                  </a:lnTo>
                  <a:lnTo>
                    <a:pt x="75" y="1835"/>
                  </a:lnTo>
                  <a:close/>
                </a:path>
              </a:pathLst>
            </a:custGeom>
            <a:blipFill rotWithShape="0">
              <a:blip r:embed="rId6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2089080" y="1388880"/>
              <a:ext cx="114480" cy="93600"/>
            </a:xfrm>
            <a:custGeom>
              <a:avLst/>
              <a:gdLst/>
              <a:ahLst/>
              <a:rect l="l" t="t" r="r" b="b"/>
              <a:pathLst>
                <a:path w="898" h="803">
                  <a:moveTo>
                    <a:pt x="898" y="0"/>
                  </a:moveTo>
                  <a:lnTo>
                    <a:pt x="778" y="134"/>
                  </a:lnTo>
                  <a:lnTo>
                    <a:pt x="663" y="257"/>
                  </a:lnTo>
                  <a:lnTo>
                    <a:pt x="602" y="317"/>
                  </a:lnTo>
                  <a:lnTo>
                    <a:pt x="545" y="373"/>
                  </a:lnTo>
                  <a:lnTo>
                    <a:pt x="414" y="493"/>
                  </a:lnTo>
                  <a:lnTo>
                    <a:pt x="272" y="620"/>
                  </a:lnTo>
                  <a:lnTo>
                    <a:pt x="152" y="726"/>
                  </a:lnTo>
                  <a:lnTo>
                    <a:pt x="92" y="785"/>
                  </a:lnTo>
                  <a:lnTo>
                    <a:pt x="76" y="801"/>
                  </a:lnTo>
                  <a:lnTo>
                    <a:pt x="68" y="803"/>
                  </a:lnTo>
                  <a:lnTo>
                    <a:pt x="63" y="803"/>
                  </a:lnTo>
                  <a:lnTo>
                    <a:pt x="58" y="798"/>
                  </a:lnTo>
                  <a:lnTo>
                    <a:pt x="55" y="788"/>
                  </a:lnTo>
                  <a:lnTo>
                    <a:pt x="52" y="762"/>
                  </a:lnTo>
                  <a:lnTo>
                    <a:pt x="42" y="565"/>
                  </a:lnTo>
                  <a:lnTo>
                    <a:pt x="34" y="422"/>
                  </a:lnTo>
                  <a:lnTo>
                    <a:pt x="20" y="298"/>
                  </a:lnTo>
                  <a:lnTo>
                    <a:pt x="8" y="194"/>
                  </a:lnTo>
                  <a:lnTo>
                    <a:pt x="2" y="99"/>
                  </a:lnTo>
                  <a:lnTo>
                    <a:pt x="0" y="0"/>
                  </a:lnTo>
                  <a:lnTo>
                    <a:pt x="325" y="0"/>
                  </a:lnTo>
                  <a:lnTo>
                    <a:pt x="283" y="115"/>
                  </a:lnTo>
                  <a:lnTo>
                    <a:pt x="249" y="213"/>
                  </a:lnTo>
                  <a:lnTo>
                    <a:pt x="223" y="298"/>
                  </a:lnTo>
                  <a:lnTo>
                    <a:pt x="209" y="359"/>
                  </a:lnTo>
                  <a:lnTo>
                    <a:pt x="204" y="401"/>
                  </a:lnTo>
                  <a:lnTo>
                    <a:pt x="202" y="432"/>
                  </a:lnTo>
                  <a:lnTo>
                    <a:pt x="212" y="421"/>
                  </a:lnTo>
                  <a:lnTo>
                    <a:pt x="239" y="380"/>
                  </a:lnTo>
                  <a:lnTo>
                    <a:pt x="280" y="310"/>
                  </a:lnTo>
                  <a:lnTo>
                    <a:pt x="306" y="259"/>
                  </a:lnTo>
                  <a:lnTo>
                    <a:pt x="332" y="199"/>
                  </a:lnTo>
                  <a:lnTo>
                    <a:pt x="398" y="34"/>
                  </a:lnTo>
                  <a:lnTo>
                    <a:pt x="411" y="0"/>
                  </a:lnTo>
                  <a:lnTo>
                    <a:pt x="898" y="0"/>
                  </a:lnTo>
                  <a:close/>
                </a:path>
              </a:pathLst>
            </a:custGeom>
            <a:blipFill rotWithShape="0">
              <a:blip r:embed="rId6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2154600" y="880200"/>
              <a:ext cx="74520" cy="174240"/>
            </a:xfrm>
            <a:custGeom>
              <a:avLst/>
              <a:gdLst/>
              <a:ahLst/>
              <a:rect l="l" t="t" r="r" b="b"/>
              <a:pathLst>
                <a:path w="578" h="1497">
                  <a:moveTo>
                    <a:pt x="578" y="1497"/>
                  </a:moveTo>
                  <a:lnTo>
                    <a:pt x="578" y="1446"/>
                  </a:lnTo>
                  <a:lnTo>
                    <a:pt x="576" y="1385"/>
                  </a:lnTo>
                  <a:lnTo>
                    <a:pt x="570" y="1304"/>
                  </a:lnTo>
                  <a:lnTo>
                    <a:pt x="558" y="1206"/>
                  </a:lnTo>
                  <a:lnTo>
                    <a:pt x="539" y="1093"/>
                  </a:lnTo>
                  <a:lnTo>
                    <a:pt x="513" y="968"/>
                  </a:lnTo>
                  <a:lnTo>
                    <a:pt x="474" y="837"/>
                  </a:lnTo>
                  <a:lnTo>
                    <a:pt x="432" y="706"/>
                  </a:lnTo>
                  <a:lnTo>
                    <a:pt x="386" y="587"/>
                  </a:lnTo>
                  <a:lnTo>
                    <a:pt x="338" y="477"/>
                  </a:lnTo>
                  <a:lnTo>
                    <a:pt x="289" y="374"/>
                  </a:lnTo>
                  <a:lnTo>
                    <a:pt x="234" y="280"/>
                  </a:lnTo>
                  <a:lnTo>
                    <a:pt x="176" y="191"/>
                  </a:lnTo>
                  <a:lnTo>
                    <a:pt x="112" y="105"/>
                  </a:lnTo>
                  <a:lnTo>
                    <a:pt x="42" y="21"/>
                  </a:lnTo>
                  <a:lnTo>
                    <a:pt x="24" y="6"/>
                  </a:lnTo>
                  <a:lnTo>
                    <a:pt x="15" y="1"/>
                  </a:lnTo>
                  <a:lnTo>
                    <a:pt x="8" y="0"/>
                  </a:lnTo>
                  <a:lnTo>
                    <a:pt x="1" y="1"/>
                  </a:lnTo>
                  <a:lnTo>
                    <a:pt x="0" y="9"/>
                  </a:lnTo>
                  <a:lnTo>
                    <a:pt x="0" y="19"/>
                  </a:lnTo>
                  <a:lnTo>
                    <a:pt x="3" y="37"/>
                  </a:lnTo>
                  <a:lnTo>
                    <a:pt x="31" y="108"/>
                  </a:lnTo>
                  <a:lnTo>
                    <a:pt x="53" y="170"/>
                  </a:lnTo>
                  <a:lnTo>
                    <a:pt x="74" y="252"/>
                  </a:lnTo>
                  <a:lnTo>
                    <a:pt x="94" y="353"/>
                  </a:lnTo>
                  <a:lnTo>
                    <a:pt x="112" y="477"/>
                  </a:lnTo>
                  <a:lnTo>
                    <a:pt x="120" y="547"/>
                  </a:lnTo>
                  <a:lnTo>
                    <a:pt x="123" y="623"/>
                  </a:lnTo>
                  <a:lnTo>
                    <a:pt x="128" y="704"/>
                  </a:lnTo>
                  <a:lnTo>
                    <a:pt x="129" y="793"/>
                  </a:lnTo>
                  <a:lnTo>
                    <a:pt x="126" y="1037"/>
                  </a:lnTo>
                  <a:lnTo>
                    <a:pt x="120" y="1140"/>
                  </a:lnTo>
                  <a:lnTo>
                    <a:pt x="113" y="1245"/>
                  </a:lnTo>
                  <a:lnTo>
                    <a:pt x="112" y="1343"/>
                  </a:lnTo>
                  <a:lnTo>
                    <a:pt x="112" y="1497"/>
                  </a:lnTo>
                  <a:lnTo>
                    <a:pt x="578" y="1497"/>
                  </a:lnTo>
                  <a:close/>
                </a:path>
              </a:pathLst>
            </a:custGeom>
            <a:blipFill rotWithShape="0">
              <a:blip r:embed="rId6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2039760" y="952920"/>
              <a:ext cx="110520" cy="101880"/>
            </a:xfrm>
            <a:custGeom>
              <a:avLst/>
              <a:gdLst/>
              <a:ahLst/>
              <a:rect l="l" t="t" r="r" b="b"/>
              <a:pathLst>
                <a:path w="864" h="876">
                  <a:moveTo>
                    <a:pt x="864" y="876"/>
                  </a:moveTo>
                  <a:lnTo>
                    <a:pt x="704" y="726"/>
                  </a:lnTo>
                  <a:lnTo>
                    <a:pt x="540" y="569"/>
                  </a:lnTo>
                  <a:lnTo>
                    <a:pt x="447" y="476"/>
                  </a:lnTo>
                  <a:lnTo>
                    <a:pt x="354" y="381"/>
                  </a:lnTo>
                  <a:lnTo>
                    <a:pt x="204" y="221"/>
                  </a:lnTo>
                  <a:lnTo>
                    <a:pt x="118" y="125"/>
                  </a:lnTo>
                  <a:lnTo>
                    <a:pt x="73" y="70"/>
                  </a:lnTo>
                  <a:lnTo>
                    <a:pt x="49" y="34"/>
                  </a:lnTo>
                  <a:lnTo>
                    <a:pt x="39" y="20"/>
                  </a:lnTo>
                  <a:lnTo>
                    <a:pt x="29" y="10"/>
                  </a:lnTo>
                  <a:lnTo>
                    <a:pt x="19" y="2"/>
                  </a:lnTo>
                  <a:lnTo>
                    <a:pt x="11" y="0"/>
                  </a:lnTo>
                  <a:lnTo>
                    <a:pt x="3" y="2"/>
                  </a:lnTo>
                  <a:lnTo>
                    <a:pt x="0" y="10"/>
                  </a:lnTo>
                  <a:lnTo>
                    <a:pt x="0" y="23"/>
                  </a:lnTo>
                  <a:lnTo>
                    <a:pt x="3" y="44"/>
                  </a:lnTo>
                  <a:lnTo>
                    <a:pt x="37" y="154"/>
                  </a:lnTo>
                  <a:lnTo>
                    <a:pt x="108" y="360"/>
                  </a:lnTo>
                  <a:lnTo>
                    <a:pt x="155" y="483"/>
                  </a:lnTo>
                  <a:lnTo>
                    <a:pt x="209" y="614"/>
                  </a:lnTo>
                  <a:lnTo>
                    <a:pt x="270" y="748"/>
                  </a:lnTo>
                  <a:lnTo>
                    <a:pt x="337" y="876"/>
                  </a:lnTo>
                  <a:lnTo>
                    <a:pt x="864" y="876"/>
                  </a:lnTo>
                  <a:close/>
                </a:path>
              </a:pathLst>
            </a:custGeom>
            <a:blipFill rotWithShape="0">
              <a:blip r:embed="rId6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1972080" y="786240"/>
              <a:ext cx="177120" cy="239400"/>
            </a:xfrm>
            <a:custGeom>
              <a:avLst/>
              <a:gdLst/>
              <a:ahLst/>
              <a:rect l="l" t="t" r="r" b="b"/>
              <a:pathLst>
                <a:path w="1384" h="2062">
                  <a:moveTo>
                    <a:pt x="1384" y="1246"/>
                  </a:moveTo>
                  <a:lnTo>
                    <a:pt x="1381" y="1125"/>
                  </a:lnTo>
                  <a:lnTo>
                    <a:pt x="1366" y="998"/>
                  </a:lnTo>
                  <a:lnTo>
                    <a:pt x="1357" y="932"/>
                  </a:lnTo>
                  <a:lnTo>
                    <a:pt x="1343" y="866"/>
                  </a:lnTo>
                  <a:lnTo>
                    <a:pt x="1326" y="801"/>
                  </a:lnTo>
                  <a:lnTo>
                    <a:pt x="1306" y="736"/>
                  </a:lnTo>
                  <a:lnTo>
                    <a:pt x="1282" y="670"/>
                  </a:lnTo>
                  <a:lnTo>
                    <a:pt x="1254" y="605"/>
                  </a:lnTo>
                  <a:lnTo>
                    <a:pt x="1222" y="542"/>
                  </a:lnTo>
                  <a:lnTo>
                    <a:pt x="1188" y="481"/>
                  </a:lnTo>
                  <a:lnTo>
                    <a:pt x="1148" y="422"/>
                  </a:lnTo>
                  <a:lnTo>
                    <a:pt x="1102" y="364"/>
                  </a:lnTo>
                  <a:lnTo>
                    <a:pt x="1054" y="309"/>
                  </a:lnTo>
                  <a:lnTo>
                    <a:pt x="997" y="256"/>
                  </a:lnTo>
                  <a:lnTo>
                    <a:pt x="853" y="128"/>
                  </a:lnTo>
                  <a:lnTo>
                    <a:pt x="761" y="37"/>
                  </a:lnTo>
                  <a:lnTo>
                    <a:pt x="727" y="8"/>
                  </a:lnTo>
                  <a:lnTo>
                    <a:pt x="714" y="1"/>
                  </a:lnTo>
                  <a:lnTo>
                    <a:pt x="706" y="0"/>
                  </a:lnTo>
                  <a:lnTo>
                    <a:pt x="700" y="3"/>
                  </a:lnTo>
                  <a:lnTo>
                    <a:pt x="700" y="13"/>
                  </a:lnTo>
                  <a:lnTo>
                    <a:pt x="704" y="31"/>
                  </a:lnTo>
                  <a:lnTo>
                    <a:pt x="716" y="55"/>
                  </a:lnTo>
                  <a:lnTo>
                    <a:pt x="757" y="132"/>
                  </a:lnTo>
                  <a:lnTo>
                    <a:pt x="783" y="186"/>
                  </a:lnTo>
                  <a:lnTo>
                    <a:pt x="813" y="252"/>
                  </a:lnTo>
                  <a:lnTo>
                    <a:pt x="844" y="331"/>
                  </a:lnTo>
                  <a:lnTo>
                    <a:pt x="876" y="424"/>
                  </a:lnTo>
                  <a:lnTo>
                    <a:pt x="905" y="531"/>
                  </a:lnTo>
                  <a:lnTo>
                    <a:pt x="934" y="655"/>
                  </a:lnTo>
                  <a:lnTo>
                    <a:pt x="992" y="905"/>
                  </a:lnTo>
                  <a:lnTo>
                    <a:pt x="1047" y="1134"/>
                  </a:lnTo>
                  <a:lnTo>
                    <a:pt x="1104" y="1343"/>
                  </a:lnTo>
                  <a:lnTo>
                    <a:pt x="1167" y="1535"/>
                  </a:lnTo>
                  <a:lnTo>
                    <a:pt x="1051" y="1318"/>
                  </a:lnTo>
                  <a:lnTo>
                    <a:pt x="1002" y="1235"/>
                  </a:lnTo>
                  <a:lnTo>
                    <a:pt x="950" y="1164"/>
                  </a:lnTo>
                  <a:lnTo>
                    <a:pt x="923" y="1130"/>
                  </a:lnTo>
                  <a:lnTo>
                    <a:pt x="893" y="1099"/>
                  </a:lnTo>
                  <a:lnTo>
                    <a:pt x="860" y="1067"/>
                  </a:lnTo>
                  <a:lnTo>
                    <a:pt x="822" y="1036"/>
                  </a:lnTo>
                  <a:lnTo>
                    <a:pt x="732" y="968"/>
                  </a:lnTo>
                  <a:lnTo>
                    <a:pt x="613" y="893"/>
                  </a:lnTo>
                  <a:lnTo>
                    <a:pt x="489" y="814"/>
                  </a:lnTo>
                  <a:lnTo>
                    <a:pt x="382" y="740"/>
                  </a:lnTo>
                  <a:lnTo>
                    <a:pt x="290" y="667"/>
                  </a:lnTo>
                  <a:lnTo>
                    <a:pt x="214" y="599"/>
                  </a:lnTo>
                  <a:lnTo>
                    <a:pt x="151" y="540"/>
                  </a:lnTo>
                  <a:lnTo>
                    <a:pt x="104" y="489"/>
                  </a:lnTo>
                  <a:lnTo>
                    <a:pt x="70" y="445"/>
                  </a:lnTo>
                  <a:lnTo>
                    <a:pt x="49" y="414"/>
                  </a:lnTo>
                  <a:lnTo>
                    <a:pt x="33" y="392"/>
                  </a:lnTo>
                  <a:lnTo>
                    <a:pt x="21" y="379"/>
                  </a:lnTo>
                  <a:lnTo>
                    <a:pt x="11" y="371"/>
                  </a:lnTo>
                  <a:lnTo>
                    <a:pt x="5" y="371"/>
                  </a:lnTo>
                  <a:lnTo>
                    <a:pt x="0" y="377"/>
                  </a:lnTo>
                  <a:lnTo>
                    <a:pt x="0" y="388"/>
                  </a:lnTo>
                  <a:lnTo>
                    <a:pt x="2" y="406"/>
                  </a:lnTo>
                  <a:lnTo>
                    <a:pt x="7" y="427"/>
                  </a:lnTo>
                  <a:lnTo>
                    <a:pt x="21" y="467"/>
                  </a:lnTo>
                  <a:lnTo>
                    <a:pt x="45" y="534"/>
                  </a:lnTo>
                  <a:lnTo>
                    <a:pt x="82" y="623"/>
                  </a:lnTo>
                  <a:lnTo>
                    <a:pt x="133" y="728"/>
                  </a:lnTo>
                  <a:lnTo>
                    <a:pt x="199" y="845"/>
                  </a:lnTo>
                  <a:lnTo>
                    <a:pt x="238" y="903"/>
                  </a:lnTo>
                  <a:lnTo>
                    <a:pt x="280" y="965"/>
                  </a:lnTo>
                  <a:lnTo>
                    <a:pt x="327" y="1026"/>
                  </a:lnTo>
                  <a:lnTo>
                    <a:pt x="376" y="1086"/>
                  </a:lnTo>
                  <a:lnTo>
                    <a:pt x="432" y="1146"/>
                  </a:lnTo>
                  <a:lnTo>
                    <a:pt x="491" y="1203"/>
                  </a:lnTo>
                  <a:lnTo>
                    <a:pt x="613" y="1311"/>
                  </a:lnTo>
                  <a:lnTo>
                    <a:pt x="735" y="1418"/>
                  </a:lnTo>
                  <a:lnTo>
                    <a:pt x="856" y="1521"/>
                  </a:lnTo>
                  <a:lnTo>
                    <a:pt x="968" y="1622"/>
                  </a:lnTo>
                  <a:lnTo>
                    <a:pt x="1073" y="1720"/>
                  </a:lnTo>
                  <a:lnTo>
                    <a:pt x="1122" y="1769"/>
                  </a:lnTo>
                  <a:lnTo>
                    <a:pt x="1166" y="1819"/>
                  </a:lnTo>
                  <a:lnTo>
                    <a:pt x="1207" y="1866"/>
                  </a:lnTo>
                  <a:lnTo>
                    <a:pt x="1243" y="1915"/>
                  </a:lnTo>
                  <a:lnTo>
                    <a:pt x="1274" y="1965"/>
                  </a:lnTo>
                  <a:lnTo>
                    <a:pt x="1302" y="2014"/>
                  </a:lnTo>
                  <a:lnTo>
                    <a:pt x="1319" y="2046"/>
                  </a:lnTo>
                  <a:lnTo>
                    <a:pt x="1327" y="2056"/>
                  </a:lnTo>
                  <a:lnTo>
                    <a:pt x="1337" y="2062"/>
                  </a:lnTo>
                  <a:lnTo>
                    <a:pt x="1343" y="2059"/>
                  </a:lnTo>
                  <a:lnTo>
                    <a:pt x="1350" y="2052"/>
                  </a:lnTo>
                  <a:lnTo>
                    <a:pt x="1355" y="2032"/>
                  </a:lnTo>
                  <a:lnTo>
                    <a:pt x="1357" y="2001"/>
                  </a:lnTo>
                  <a:lnTo>
                    <a:pt x="1371" y="1722"/>
                  </a:lnTo>
                  <a:lnTo>
                    <a:pt x="1381" y="1503"/>
                  </a:lnTo>
                  <a:lnTo>
                    <a:pt x="1383" y="1379"/>
                  </a:lnTo>
                  <a:lnTo>
                    <a:pt x="1384" y="1246"/>
                  </a:lnTo>
                  <a:close/>
                </a:path>
              </a:pathLst>
            </a:custGeom>
            <a:blipFill rotWithShape="0">
              <a:blip r:embed="rId64"/>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1927080" y="738360"/>
              <a:ext cx="156600" cy="145440"/>
            </a:xfrm>
            <a:custGeom>
              <a:avLst/>
              <a:gdLst/>
              <a:ahLst/>
              <a:rect l="l" t="t" r="r" b="b"/>
              <a:pathLst>
                <a:path w="1223" h="1254">
                  <a:moveTo>
                    <a:pt x="1216" y="1191"/>
                  </a:moveTo>
                  <a:lnTo>
                    <a:pt x="1184" y="1081"/>
                  </a:lnTo>
                  <a:lnTo>
                    <a:pt x="1155" y="992"/>
                  </a:lnTo>
                  <a:lnTo>
                    <a:pt x="1115" y="891"/>
                  </a:lnTo>
                  <a:lnTo>
                    <a:pt x="1061" y="780"/>
                  </a:lnTo>
                  <a:lnTo>
                    <a:pt x="1030" y="723"/>
                  </a:lnTo>
                  <a:lnTo>
                    <a:pt x="995" y="667"/>
                  </a:lnTo>
                  <a:lnTo>
                    <a:pt x="956" y="611"/>
                  </a:lnTo>
                  <a:lnTo>
                    <a:pt x="912" y="558"/>
                  </a:lnTo>
                  <a:lnTo>
                    <a:pt x="862" y="506"/>
                  </a:lnTo>
                  <a:lnTo>
                    <a:pt x="812" y="458"/>
                  </a:lnTo>
                  <a:lnTo>
                    <a:pt x="755" y="411"/>
                  </a:lnTo>
                  <a:lnTo>
                    <a:pt x="699" y="369"/>
                  </a:lnTo>
                  <a:lnTo>
                    <a:pt x="584" y="288"/>
                  </a:lnTo>
                  <a:lnTo>
                    <a:pt x="470" y="218"/>
                  </a:lnTo>
                  <a:lnTo>
                    <a:pt x="363" y="159"/>
                  </a:lnTo>
                  <a:lnTo>
                    <a:pt x="265" y="108"/>
                  </a:lnTo>
                  <a:lnTo>
                    <a:pt x="179" y="68"/>
                  </a:lnTo>
                  <a:lnTo>
                    <a:pt x="71" y="19"/>
                  </a:lnTo>
                  <a:lnTo>
                    <a:pt x="43" y="8"/>
                  </a:lnTo>
                  <a:lnTo>
                    <a:pt x="24" y="1"/>
                  </a:lnTo>
                  <a:lnTo>
                    <a:pt x="9" y="0"/>
                  </a:lnTo>
                  <a:lnTo>
                    <a:pt x="2" y="3"/>
                  </a:lnTo>
                  <a:lnTo>
                    <a:pt x="0" y="11"/>
                  </a:lnTo>
                  <a:lnTo>
                    <a:pt x="6" y="21"/>
                  </a:lnTo>
                  <a:lnTo>
                    <a:pt x="17" y="37"/>
                  </a:lnTo>
                  <a:lnTo>
                    <a:pt x="33" y="53"/>
                  </a:lnTo>
                  <a:lnTo>
                    <a:pt x="96" y="121"/>
                  </a:lnTo>
                  <a:lnTo>
                    <a:pt x="197" y="244"/>
                  </a:lnTo>
                  <a:lnTo>
                    <a:pt x="255" y="321"/>
                  </a:lnTo>
                  <a:lnTo>
                    <a:pt x="316" y="404"/>
                  </a:lnTo>
                  <a:lnTo>
                    <a:pt x="379" y="492"/>
                  </a:lnTo>
                  <a:lnTo>
                    <a:pt x="438" y="584"/>
                  </a:lnTo>
                  <a:lnTo>
                    <a:pt x="493" y="670"/>
                  </a:lnTo>
                  <a:lnTo>
                    <a:pt x="546" y="745"/>
                  </a:lnTo>
                  <a:lnTo>
                    <a:pt x="596" y="808"/>
                  </a:lnTo>
                  <a:lnTo>
                    <a:pt x="645" y="864"/>
                  </a:lnTo>
                  <a:lnTo>
                    <a:pt x="697" y="909"/>
                  </a:lnTo>
                  <a:lnTo>
                    <a:pt x="748" y="950"/>
                  </a:lnTo>
                  <a:lnTo>
                    <a:pt x="804" y="984"/>
                  </a:lnTo>
                  <a:lnTo>
                    <a:pt x="862" y="1015"/>
                  </a:lnTo>
                  <a:lnTo>
                    <a:pt x="977" y="1075"/>
                  </a:lnTo>
                  <a:lnTo>
                    <a:pt x="1069" y="1132"/>
                  </a:lnTo>
                  <a:lnTo>
                    <a:pt x="1137" y="1183"/>
                  </a:lnTo>
                  <a:lnTo>
                    <a:pt x="1160" y="1204"/>
                  </a:lnTo>
                  <a:lnTo>
                    <a:pt x="1178" y="1225"/>
                  </a:lnTo>
                  <a:lnTo>
                    <a:pt x="1190" y="1240"/>
                  </a:lnTo>
                  <a:lnTo>
                    <a:pt x="1202" y="1251"/>
                  </a:lnTo>
                  <a:lnTo>
                    <a:pt x="1210" y="1254"/>
                  </a:lnTo>
                  <a:lnTo>
                    <a:pt x="1218" y="1253"/>
                  </a:lnTo>
                  <a:lnTo>
                    <a:pt x="1221" y="1244"/>
                  </a:lnTo>
                  <a:lnTo>
                    <a:pt x="1223" y="1233"/>
                  </a:lnTo>
                  <a:lnTo>
                    <a:pt x="1221" y="1215"/>
                  </a:lnTo>
                  <a:lnTo>
                    <a:pt x="1216" y="1191"/>
                  </a:lnTo>
                  <a:close/>
                </a:path>
              </a:pathLst>
            </a:custGeom>
            <a:blipFill rotWithShape="0">
              <a:blip r:embed="rId65"/>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a:off x="1125000" y="1221120"/>
              <a:ext cx="264600" cy="214200"/>
            </a:xfrm>
            <a:custGeom>
              <a:avLst/>
              <a:gdLst/>
              <a:ahLst/>
              <a:rect l="l" t="t" r="r" b="b"/>
              <a:pathLst>
                <a:path w="2069" h="1847">
                  <a:moveTo>
                    <a:pt x="1173" y="0"/>
                  </a:moveTo>
                  <a:lnTo>
                    <a:pt x="1350" y="94"/>
                  </a:lnTo>
                  <a:lnTo>
                    <a:pt x="1345" y="101"/>
                  </a:lnTo>
                  <a:lnTo>
                    <a:pt x="1348" y="104"/>
                  </a:lnTo>
                  <a:lnTo>
                    <a:pt x="1376" y="112"/>
                  </a:lnTo>
                  <a:lnTo>
                    <a:pt x="1423" y="120"/>
                  </a:lnTo>
                  <a:lnTo>
                    <a:pt x="1434" y="122"/>
                  </a:lnTo>
                  <a:lnTo>
                    <a:pt x="1444" y="128"/>
                  </a:lnTo>
                  <a:lnTo>
                    <a:pt x="1459" y="146"/>
                  </a:lnTo>
                  <a:lnTo>
                    <a:pt x="1467" y="156"/>
                  </a:lnTo>
                  <a:lnTo>
                    <a:pt x="1476" y="162"/>
                  </a:lnTo>
                  <a:lnTo>
                    <a:pt x="1489" y="164"/>
                  </a:lnTo>
                  <a:lnTo>
                    <a:pt x="1504" y="162"/>
                  </a:lnTo>
                  <a:lnTo>
                    <a:pt x="1591" y="245"/>
                  </a:lnTo>
                  <a:lnTo>
                    <a:pt x="1591" y="296"/>
                  </a:lnTo>
                  <a:lnTo>
                    <a:pt x="1601" y="345"/>
                  </a:lnTo>
                  <a:lnTo>
                    <a:pt x="1621" y="392"/>
                  </a:lnTo>
                  <a:lnTo>
                    <a:pt x="1633" y="412"/>
                  </a:lnTo>
                  <a:lnTo>
                    <a:pt x="1648" y="432"/>
                  </a:lnTo>
                  <a:lnTo>
                    <a:pt x="1648" y="447"/>
                  </a:lnTo>
                  <a:lnTo>
                    <a:pt x="1653" y="462"/>
                  </a:lnTo>
                  <a:lnTo>
                    <a:pt x="1672" y="486"/>
                  </a:lnTo>
                  <a:lnTo>
                    <a:pt x="1684" y="588"/>
                  </a:lnTo>
                  <a:lnTo>
                    <a:pt x="1659" y="583"/>
                  </a:lnTo>
                  <a:lnTo>
                    <a:pt x="1629" y="580"/>
                  </a:lnTo>
                  <a:lnTo>
                    <a:pt x="1625" y="588"/>
                  </a:lnTo>
                  <a:lnTo>
                    <a:pt x="1625" y="598"/>
                  </a:lnTo>
                  <a:lnTo>
                    <a:pt x="1635" y="622"/>
                  </a:lnTo>
                  <a:lnTo>
                    <a:pt x="1646" y="649"/>
                  </a:lnTo>
                  <a:lnTo>
                    <a:pt x="1648" y="662"/>
                  </a:lnTo>
                  <a:lnTo>
                    <a:pt x="1648" y="675"/>
                  </a:lnTo>
                  <a:lnTo>
                    <a:pt x="1656" y="680"/>
                  </a:lnTo>
                  <a:lnTo>
                    <a:pt x="1677" y="700"/>
                  </a:lnTo>
                  <a:lnTo>
                    <a:pt x="1704" y="730"/>
                  </a:lnTo>
                  <a:lnTo>
                    <a:pt x="1706" y="748"/>
                  </a:lnTo>
                  <a:lnTo>
                    <a:pt x="1714" y="769"/>
                  </a:lnTo>
                  <a:lnTo>
                    <a:pt x="1722" y="795"/>
                  </a:lnTo>
                  <a:lnTo>
                    <a:pt x="1725" y="815"/>
                  </a:lnTo>
                  <a:lnTo>
                    <a:pt x="1727" y="824"/>
                  </a:lnTo>
                  <a:lnTo>
                    <a:pt x="1734" y="832"/>
                  </a:lnTo>
                  <a:lnTo>
                    <a:pt x="1742" y="839"/>
                  </a:lnTo>
                  <a:lnTo>
                    <a:pt x="1750" y="848"/>
                  </a:lnTo>
                  <a:lnTo>
                    <a:pt x="1750" y="1109"/>
                  </a:lnTo>
                  <a:lnTo>
                    <a:pt x="1729" y="1128"/>
                  </a:lnTo>
                  <a:lnTo>
                    <a:pt x="1714" y="1146"/>
                  </a:lnTo>
                  <a:lnTo>
                    <a:pt x="1708" y="1156"/>
                  </a:lnTo>
                  <a:lnTo>
                    <a:pt x="1706" y="1166"/>
                  </a:lnTo>
                  <a:lnTo>
                    <a:pt x="1706" y="1177"/>
                  </a:lnTo>
                  <a:lnTo>
                    <a:pt x="1709" y="1192"/>
                  </a:lnTo>
                  <a:lnTo>
                    <a:pt x="1787" y="1225"/>
                  </a:lnTo>
                  <a:lnTo>
                    <a:pt x="1798" y="1235"/>
                  </a:lnTo>
                  <a:lnTo>
                    <a:pt x="1830" y="1263"/>
                  </a:lnTo>
                  <a:lnTo>
                    <a:pt x="1844" y="1274"/>
                  </a:lnTo>
                  <a:lnTo>
                    <a:pt x="1850" y="1282"/>
                  </a:lnTo>
                  <a:lnTo>
                    <a:pt x="1852" y="1289"/>
                  </a:lnTo>
                  <a:lnTo>
                    <a:pt x="1863" y="1294"/>
                  </a:lnTo>
                  <a:lnTo>
                    <a:pt x="1921" y="1308"/>
                  </a:lnTo>
                  <a:lnTo>
                    <a:pt x="1921" y="1321"/>
                  </a:lnTo>
                  <a:lnTo>
                    <a:pt x="1926" y="1329"/>
                  </a:lnTo>
                  <a:lnTo>
                    <a:pt x="1947" y="1352"/>
                  </a:lnTo>
                  <a:lnTo>
                    <a:pt x="2007" y="1493"/>
                  </a:lnTo>
                  <a:lnTo>
                    <a:pt x="2069" y="1545"/>
                  </a:lnTo>
                  <a:lnTo>
                    <a:pt x="2049" y="1549"/>
                  </a:lnTo>
                  <a:lnTo>
                    <a:pt x="2038" y="1556"/>
                  </a:lnTo>
                  <a:lnTo>
                    <a:pt x="2033" y="1569"/>
                  </a:lnTo>
                  <a:lnTo>
                    <a:pt x="2031" y="1585"/>
                  </a:lnTo>
                  <a:lnTo>
                    <a:pt x="2039" y="1622"/>
                  </a:lnTo>
                  <a:lnTo>
                    <a:pt x="2047" y="1666"/>
                  </a:lnTo>
                  <a:lnTo>
                    <a:pt x="2059" y="1667"/>
                  </a:lnTo>
                  <a:lnTo>
                    <a:pt x="2067" y="1671"/>
                  </a:lnTo>
                  <a:lnTo>
                    <a:pt x="2069" y="1677"/>
                  </a:lnTo>
                  <a:lnTo>
                    <a:pt x="2067" y="1685"/>
                  </a:lnTo>
                  <a:lnTo>
                    <a:pt x="2038" y="1734"/>
                  </a:lnTo>
                  <a:lnTo>
                    <a:pt x="2020" y="1748"/>
                  </a:lnTo>
                  <a:lnTo>
                    <a:pt x="2002" y="1760"/>
                  </a:lnTo>
                  <a:lnTo>
                    <a:pt x="1983" y="1766"/>
                  </a:lnTo>
                  <a:lnTo>
                    <a:pt x="1960" y="1771"/>
                  </a:lnTo>
                  <a:lnTo>
                    <a:pt x="1917" y="1776"/>
                  </a:lnTo>
                  <a:lnTo>
                    <a:pt x="1871" y="1776"/>
                  </a:lnTo>
                  <a:lnTo>
                    <a:pt x="1828" y="1778"/>
                  </a:lnTo>
                  <a:lnTo>
                    <a:pt x="1785" y="1786"/>
                  </a:lnTo>
                  <a:lnTo>
                    <a:pt x="1765" y="1792"/>
                  </a:lnTo>
                  <a:lnTo>
                    <a:pt x="1747" y="1803"/>
                  </a:lnTo>
                  <a:lnTo>
                    <a:pt x="1729" y="1817"/>
                  </a:lnTo>
                  <a:lnTo>
                    <a:pt x="1716" y="1835"/>
                  </a:lnTo>
                  <a:lnTo>
                    <a:pt x="1688" y="1843"/>
                  </a:lnTo>
                  <a:lnTo>
                    <a:pt x="1661" y="1847"/>
                  </a:lnTo>
                  <a:lnTo>
                    <a:pt x="1633" y="1847"/>
                  </a:lnTo>
                  <a:lnTo>
                    <a:pt x="1603" y="1843"/>
                  </a:lnTo>
                  <a:lnTo>
                    <a:pt x="1575" y="1836"/>
                  </a:lnTo>
                  <a:lnTo>
                    <a:pt x="1549" y="1829"/>
                  </a:lnTo>
                  <a:lnTo>
                    <a:pt x="1501" y="1805"/>
                  </a:lnTo>
                  <a:lnTo>
                    <a:pt x="1489" y="1799"/>
                  </a:lnTo>
                  <a:lnTo>
                    <a:pt x="1476" y="1787"/>
                  </a:lnTo>
                  <a:lnTo>
                    <a:pt x="1445" y="1754"/>
                  </a:lnTo>
                  <a:lnTo>
                    <a:pt x="1408" y="1705"/>
                  </a:lnTo>
                  <a:lnTo>
                    <a:pt x="1402" y="1705"/>
                  </a:lnTo>
                  <a:lnTo>
                    <a:pt x="1389" y="1698"/>
                  </a:lnTo>
                  <a:lnTo>
                    <a:pt x="1345" y="1675"/>
                  </a:lnTo>
                  <a:lnTo>
                    <a:pt x="1309" y="1651"/>
                  </a:lnTo>
                  <a:lnTo>
                    <a:pt x="1301" y="1643"/>
                  </a:lnTo>
                  <a:lnTo>
                    <a:pt x="1308" y="1643"/>
                  </a:lnTo>
                  <a:lnTo>
                    <a:pt x="1301" y="1645"/>
                  </a:lnTo>
                  <a:lnTo>
                    <a:pt x="1300" y="1650"/>
                  </a:lnTo>
                  <a:lnTo>
                    <a:pt x="1300" y="1658"/>
                  </a:lnTo>
                  <a:lnTo>
                    <a:pt x="1300" y="1667"/>
                  </a:lnTo>
                  <a:lnTo>
                    <a:pt x="1295" y="1677"/>
                  </a:lnTo>
                  <a:lnTo>
                    <a:pt x="1279" y="1667"/>
                  </a:lnTo>
                  <a:lnTo>
                    <a:pt x="1261" y="1659"/>
                  </a:lnTo>
                  <a:lnTo>
                    <a:pt x="1214" y="1643"/>
                  </a:lnTo>
                  <a:lnTo>
                    <a:pt x="1193" y="1655"/>
                  </a:lnTo>
                  <a:lnTo>
                    <a:pt x="1175" y="1667"/>
                  </a:lnTo>
                  <a:lnTo>
                    <a:pt x="1153" y="1679"/>
                  </a:lnTo>
                  <a:lnTo>
                    <a:pt x="1139" y="1681"/>
                  </a:lnTo>
                  <a:lnTo>
                    <a:pt x="1125" y="1682"/>
                  </a:lnTo>
                  <a:lnTo>
                    <a:pt x="1122" y="1687"/>
                  </a:lnTo>
                  <a:lnTo>
                    <a:pt x="1120" y="1690"/>
                  </a:lnTo>
                  <a:lnTo>
                    <a:pt x="1117" y="1703"/>
                  </a:lnTo>
                  <a:lnTo>
                    <a:pt x="1115" y="1705"/>
                  </a:lnTo>
                  <a:lnTo>
                    <a:pt x="1110" y="1703"/>
                  </a:lnTo>
                  <a:lnTo>
                    <a:pt x="1086" y="1671"/>
                  </a:lnTo>
                  <a:lnTo>
                    <a:pt x="1023" y="1594"/>
                  </a:lnTo>
                  <a:lnTo>
                    <a:pt x="910" y="1577"/>
                  </a:lnTo>
                  <a:lnTo>
                    <a:pt x="840" y="1493"/>
                  </a:lnTo>
                  <a:lnTo>
                    <a:pt x="840" y="1417"/>
                  </a:lnTo>
                  <a:lnTo>
                    <a:pt x="832" y="1402"/>
                  </a:lnTo>
                  <a:lnTo>
                    <a:pt x="826" y="1397"/>
                  </a:lnTo>
                  <a:lnTo>
                    <a:pt x="818" y="1391"/>
                  </a:lnTo>
                  <a:lnTo>
                    <a:pt x="706" y="1426"/>
                  </a:lnTo>
                  <a:lnTo>
                    <a:pt x="615" y="1308"/>
                  </a:lnTo>
                  <a:lnTo>
                    <a:pt x="609" y="1284"/>
                  </a:lnTo>
                  <a:lnTo>
                    <a:pt x="599" y="1265"/>
                  </a:lnTo>
                  <a:lnTo>
                    <a:pt x="585" y="1247"/>
                  </a:lnTo>
                  <a:lnTo>
                    <a:pt x="567" y="1232"/>
                  </a:lnTo>
                  <a:lnTo>
                    <a:pt x="529" y="1203"/>
                  </a:lnTo>
                  <a:lnTo>
                    <a:pt x="513" y="1187"/>
                  </a:lnTo>
                  <a:lnTo>
                    <a:pt x="498" y="1169"/>
                  </a:lnTo>
                  <a:lnTo>
                    <a:pt x="455" y="1166"/>
                  </a:lnTo>
                  <a:lnTo>
                    <a:pt x="432" y="1162"/>
                  </a:lnTo>
                  <a:lnTo>
                    <a:pt x="421" y="1158"/>
                  </a:lnTo>
                  <a:lnTo>
                    <a:pt x="405" y="1142"/>
                  </a:lnTo>
                  <a:lnTo>
                    <a:pt x="393" y="1095"/>
                  </a:lnTo>
                  <a:lnTo>
                    <a:pt x="379" y="1085"/>
                  </a:lnTo>
                  <a:lnTo>
                    <a:pt x="364" y="1075"/>
                  </a:lnTo>
                  <a:lnTo>
                    <a:pt x="334" y="1081"/>
                  </a:lnTo>
                  <a:lnTo>
                    <a:pt x="306" y="1083"/>
                  </a:lnTo>
                  <a:lnTo>
                    <a:pt x="279" y="1079"/>
                  </a:lnTo>
                  <a:lnTo>
                    <a:pt x="251" y="1069"/>
                  </a:lnTo>
                  <a:lnTo>
                    <a:pt x="220" y="1044"/>
                  </a:lnTo>
                  <a:lnTo>
                    <a:pt x="194" y="1014"/>
                  </a:lnTo>
                  <a:lnTo>
                    <a:pt x="109" y="984"/>
                  </a:lnTo>
                  <a:lnTo>
                    <a:pt x="97" y="978"/>
                  </a:lnTo>
                  <a:lnTo>
                    <a:pt x="94" y="973"/>
                  </a:lnTo>
                  <a:lnTo>
                    <a:pt x="94" y="959"/>
                  </a:lnTo>
                  <a:lnTo>
                    <a:pt x="94" y="952"/>
                  </a:lnTo>
                  <a:lnTo>
                    <a:pt x="87" y="947"/>
                  </a:lnTo>
                  <a:lnTo>
                    <a:pt x="76" y="945"/>
                  </a:lnTo>
                  <a:lnTo>
                    <a:pt x="54" y="943"/>
                  </a:lnTo>
                  <a:lnTo>
                    <a:pt x="38" y="933"/>
                  </a:lnTo>
                  <a:lnTo>
                    <a:pt x="23" y="920"/>
                  </a:lnTo>
                  <a:lnTo>
                    <a:pt x="8" y="903"/>
                  </a:lnTo>
                  <a:lnTo>
                    <a:pt x="0" y="884"/>
                  </a:lnTo>
                  <a:lnTo>
                    <a:pt x="0" y="718"/>
                  </a:lnTo>
                  <a:lnTo>
                    <a:pt x="5" y="704"/>
                  </a:lnTo>
                  <a:lnTo>
                    <a:pt x="15" y="690"/>
                  </a:lnTo>
                  <a:lnTo>
                    <a:pt x="26" y="680"/>
                  </a:lnTo>
                  <a:lnTo>
                    <a:pt x="42" y="675"/>
                  </a:lnTo>
                  <a:lnTo>
                    <a:pt x="107" y="649"/>
                  </a:lnTo>
                  <a:lnTo>
                    <a:pt x="175" y="623"/>
                  </a:lnTo>
                  <a:lnTo>
                    <a:pt x="178" y="619"/>
                  </a:lnTo>
                  <a:lnTo>
                    <a:pt x="184" y="619"/>
                  </a:lnTo>
                  <a:lnTo>
                    <a:pt x="196" y="627"/>
                  </a:lnTo>
                  <a:lnTo>
                    <a:pt x="209" y="639"/>
                  </a:lnTo>
                  <a:lnTo>
                    <a:pt x="215" y="643"/>
                  </a:lnTo>
                  <a:lnTo>
                    <a:pt x="225" y="645"/>
                  </a:lnTo>
                  <a:lnTo>
                    <a:pt x="271" y="623"/>
                  </a:lnTo>
                  <a:lnTo>
                    <a:pt x="316" y="572"/>
                  </a:lnTo>
                  <a:lnTo>
                    <a:pt x="453" y="572"/>
                  </a:lnTo>
                  <a:lnTo>
                    <a:pt x="460" y="578"/>
                  </a:lnTo>
                  <a:lnTo>
                    <a:pt x="463" y="588"/>
                  </a:lnTo>
                  <a:lnTo>
                    <a:pt x="465" y="598"/>
                  </a:lnTo>
                  <a:lnTo>
                    <a:pt x="468" y="609"/>
                  </a:lnTo>
                  <a:lnTo>
                    <a:pt x="484" y="614"/>
                  </a:lnTo>
                  <a:lnTo>
                    <a:pt x="523" y="617"/>
                  </a:lnTo>
                  <a:lnTo>
                    <a:pt x="577" y="623"/>
                  </a:lnTo>
                  <a:lnTo>
                    <a:pt x="581" y="619"/>
                  </a:lnTo>
                  <a:lnTo>
                    <a:pt x="583" y="612"/>
                  </a:lnTo>
                  <a:lnTo>
                    <a:pt x="585" y="601"/>
                  </a:lnTo>
                  <a:lnTo>
                    <a:pt x="589" y="598"/>
                  </a:lnTo>
                  <a:lnTo>
                    <a:pt x="594" y="596"/>
                  </a:lnTo>
                  <a:lnTo>
                    <a:pt x="607" y="598"/>
                  </a:lnTo>
                  <a:lnTo>
                    <a:pt x="622" y="596"/>
                  </a:lnTo>
                  <a:lnTo>
                    <a:pt x="640" y="594"/>
                  </a:lnTo>
                  <a:lnTo>
                    <a:pt x="656" y="594"/>
                  </a:lnTo>
                  <a:lnTo>
                    <a:pt x="683" y="588"/>
                  </a:lnTo>
                  <a:lnTo>
                    <a:pt x="714" y="583"/>
                  </a:lnTo>
                  <a:lnTo>
                    <a:pt x="766" y="578"/>
                  </a:lnTo>
                  <a:lnTo>
                    <a:pt x="792" y="574"/>
                  </a:lnTo>
                  <a:lnTo>
                    <a:pt x="814" y="564"/>
                  </a:lnTo>
                  <a:lnTo>
                    <a:pt x="835" y="552"/>
                  </a:lnTo>
                  <a:lnTo>
                    <a:pt x="858" y="531"/>
                  </a:lnTo>
                  <a:lnTo>
                    <a:pt x="853" y="381"/>
                  </a:lnTo>
                  <a:lnTo>
                    <a:pt x="859" y="373"/>
                  </a:lnTo>
                  <a:lnTo>
                    <a:pt x="869" y="357"/>
                  </a:lnTo>
                  <a:lnTo>
                    <a:pt x="885" y="331"/>
                  </a:lnTo>
                  <a:lnTo>
                    <a:pt x="900" y="222"/>
                  </a:lnTo>
                  <a:lnTo>
                    <a:pt x="1007" y="71"/>
                  </a:lnTo>
                  <a:lnTo>
                    <a:pt x="1049" y="37"/>
                  </a:lnTo>
                  <a:lnTo>
                    <a:pt x="1057" y="29"/>
                  </a:lnTo>
                  <a:lnTo>
                    <a:pt x="1054" y="39"/>
                  </a:lnTo>
                  <a:lnTo>
                    <a:pt x="1057" y="47"/>
                  </a:lnTo>
                  <a:lnTo>
                    <a:pt x="1065" y="57"/>
                  </a:lnTo>
                  <a:lnTo>
                    <a:pt x="1057" y="53"/>
                  </a:lnTo>
                  <a:lnTo>
                    <a:pt x="1054" y="49"/>
                  </a:lnTo>
                  <a:lnTo>
                    <a:pt x="1057" y="45"/>
                  </a:lnTo>
                  <a:lnTo>
                    <a:pt x="1060" y="41"/>
                  </a:lnTo>
                  <a:lnTo>
                    <a:pt x="1078" y="37"/>
                  </a:lnTo>
                  <a:lnTo>
                    <a:pt x="1104" y="33"/>
                  </a:lnTo>
                  <a:lnTo>
                    <a:pt x="1153" y="29"/>
                  </a:lnTo>
                  <a:lnTo>
                    <a:pt x="1167" y="31"/>
                  </a:lnTo>
                  <a:lnTo>
                    <a:pt x="1169" y="31"/>
                  </a:lnTo>
                  <a:lnTo>
                    <a:pt x="1169" y="33"/>
                  </a:lnTo>
                  <a:lnTo>
                    <a:pt x="1173" y="0"/>
                  </a:lnTo>
                  <a:close/>
                </a:path>
              </a:pathLst>
            </a:custGeom>
            <a:blipFill rotWithShape="0">
              <a:blip r:embed="rId66"/>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1490040" y="1176480"/>
              <a:ext cx="65520" cy="75240"/>
            </a:xfrm>
            <a:custGeom>
              <a:avLst/>
              <a:gdLst/>
              <a:ahLst/>
              <a:rect l="l" t="t" r="r" b="b"/>
              <a:pathLst>
                <a:path w="516" h="655">
                  <a:moveTo>
                    <a:pt x="288" y="12"/>
                  </a:moveTo>
                  <a:lnTo>
                    <a:pt x="322" y="67"/>
                  </a:lnTo>
                  <a:lnTo>
                    <a:pt x="342" y="93"/>
                  </a:lnTo>
                  <a:lnTo>
                    <a:pt x="364" y="116"/>
                  </a:lnTo>
                  <a:lnTo>
                    <a:pt x="387" y="136"/>
                  </a:lnTo>
                  <a:lnTo>
                    <a:pt x="413" y="150"/>
                  </a:lnTo>
                  <a:lnTo>
                    <a:pt x="440" y="160"/>
                  </a:lnTo>
                  <a:lnTo>
                    <a:pt x="472" y="163"/>
                  </a:lnTo>
                  <a:lnTo>
                    <a:pt x="494" y="192"/>
                  </a:lnTo>
                  <a:lnTo>
                    <a:pt x="508" y="221"/>
                  </a:lnTo>
                  <a:lnTo>
                    <a:pt x="516" y="250"/>
                  </a:lnTo>
                  <a:lnTo>
                    <a:pt x="516" y="283"/>
                  </a:lnTo>
                  <a:lnTo>
                    <a:pt x="512" y="314"/>
                  </a:lnTo>
                  <a:lnTo>
                    <a:pt x="504" y="347"/>
                  </a:lnTo>
                  <a:lnTo>
                    <a:pt x="490" y="377"/>
                  </a:lnTo>
                  <a:lnTo>
                    <a:pt x="472" y="409"/>
                  </a:lnTo>
                  <a:lnTo>
                    <a:pt x="450" y="436"/>
                  </a:lnTo>
                  <a:lnTo>
                    <a:pt x="427" y="464"/>
                  </a:lnTo>
                  <a:lnTo>
                    <a:pt x="401" y="487"/>
                  </a:lnTo>
                  <a:lnTo>
                    <a:pt x="372" y="508"/>
                  </a:lnTo>
                  <a:lnTo>
                    <a:pt x="343" y="525"/>
                  </a:lnTo>
                  <a:lnTo>
                    <a:pt x="314" y="539"/>
                  </a:lnTo>
                  <a:lnTo>
                    <a:pt x="285" y="547"/>
                  </a:lnTo>
                  <a:lnTo>
                    <a:pt x="257" y="548"/>
                  </a:lnTo>
                  <a:lnTo>
                    <a:pt x="217" y="582"/>
                  </a:lnTo>
                  <a:lnTo>
                    <a:pt x="170" y="613"/>
                  </a:lnTo>
                  <a:lnTo>
                    <a:pt x="118" y="642"/>
                  </a:lnTo>
                  <a:lnTo>
                    <a:pt x="97" y="649"/>
                  </a:lnTo>
                  <a:lnTo>
                    <a:pt x="76" y="655"/>
                  </a:lnTo>
                  <a:lnTo>
                    <a:pt x="54" y="655"/>
                  </a:lnTo>
                  <a:lnTo>
                    <a:pt x="42" y="652"/>
                  </a:lnTo>
                  <a:lnTo>
                    <a:pt x="32" y="644"/>
                  </a:lnTo>
                  <a:lnTo>
                    <a:pt x="22" y="631"/>
                  </a:lnTo>
                  <a:lnTo>
                    <a:pt x="14" y="616"/>
                  </a:lnTo>
                  <a:lnTo>
                    <a:pt x="5" y="582"/>
                  </a:lnTo>
                  <a:lnTo>
                    <a:pt x="0" y="558"/>
                  </a:lnTo>
                  <a:lnTo>
                    <a:pt x="30" y="519"/>
                  </a:lnTo>
                  <a:lnTo>
                    <a:pt x="60" y="472"/>
                  </a:lnTo>
                  <a:lnTo>
                    <a:pt x="87" y="422"/>
                  </a:lnTo>
                  <a:lnTo>
                    <a:pt x="107" y="377"/>
                  </a:lnTo>
                  <a:lnTo>
                    <a:pt x="126" y="341"/>
                  </a:lnTo>
                  <a:lnTo>
                    <a:pt x="150" y="310"/>
                  </a:lnTo>
                  <a:lnTo>
                    <a:pt x="204" y="255"/>
                  </a:lnTo>
                  <a:lnTo>
                    <a:pt x="228" y="226"/>
                  </a:lnTo>
                  <a:lnTo>
                    <a:pt x="238" y="211"/>
                  </a:lnTo>
                  <a:lnTo>
                    <a:pt x="243" y="195"/>
                  </a:lnTo>
                  <a:lnTo>
                    <a:pt x="249" y="176"/>
                  </a:lnTo>
                  <a:lnTo>
                    <a:pt x="251" y="156"/>
                  </a:lnTo>
                  <a:lnTo>
                    <a:pt x="251" y="134"/>
                  </a:lnTo>
                  <a:lnTo>
                    <a:pt x="247" y="108"/>
                  </a:lnTo>
                  <a:lnTo>
                    <a:pt x="247" y="67"/>
                  </a:lnTo>
                  <a:lnTo>
                    <a:pt x="231" y="50"/>
                  </a:lnTo>
                  <a:lnTo>
                    <a:pt x="228" y="37"/>
                  </a:lnTo>
                  <a:lnTo>
                    <a:pt x="225" y="24"/>
                  </a:lnTo>
                  <a:lnTo>
                    <a:pt x="233" y="22"/>
                  </a:lnTo>
                  <a:lnTo>
                    <a:pt x="241" y="17"/>
                  </a:lnTo>
                  <a:lnTo>
                    <a:pt x="249" y="14"/>
                  </a:lnTo>
                  <a:lnTo>
                    <a:pt x="257" y="12"/>
                  </a:lnTo>
                  <a:lnTo>
                    <a:pt x="259" y="6"/>
                  </a:lnTo>
                  <a:lnTo>
                    <a:pt x="269" y="0"/>
                  </a:lnTo>
                  <a:lnTo>
                    <a:pt x="279" y="1"/>
                  </a:lnTo>
                  <a:lnTo>
                    <a:pt x="288" y="12"/>
                  </a:lnTo>
                  <a:close/>
                </a:path>
              </a:pathLst>
            </a:custGeom>
            <a:blipFill rotWithShape="0">
              <a:blip r:embed="rId67"/>
              <a:srcRect/>
              <a:stretch/>
            </a:blipFill>
            <a:ln w="0">
              <a:noFill/>
            </a:ln>
          </p:spPr>
          <p:style>
            <a:lnRef idx="0"/>
            <a:fillRef idx="0"/>
            <a:effectRef idx="0"/>
            <a:fontRef idx="minor"/>
          </p:style>
          <p:txBody>
            <a:bodyPr lIns="90000" rIns="90000" tIns="28440" bIns="28440" anchor="t">
              <a:noAutofit/>
            </a:bodyPr>
            <a:p>
              <a:endParaRPr b="0" lang="en-US" sz="2400" spc="-1" strike="noStrike">
                <a:solidFill>
                  <a:srgbClr val="ffffff"/>
                </a:solidFill>
                <a:latin typeface="Times New Roman"/>
              </a:endParaRPr>
            </a:p>
          </p:txBody>
        </p:sp>
        <p:sp>
          <p:nvSpPr>
            <p:cNvPr id="362" name=""/>
            <p:cNvSpPr/>
            <p:nvPr/>
          </p:nvSpPr>
          <p:spPr>
            <a:xfrm>
              <a:off x="1795680" y="1372320"/>
              <a:ext cx="36000" cy="59040"/>
            </a:xfrm>
            <a:custGeom>
              <a:avLst/>
              <a:gdLst/>
              <a:ahLst/>
              <a:rect l="l" t="t" r="r" b="b"/>
              <a:pathLst>
                <a:path w="280" h="513">
                  <a:moveTo>
                    <a:pt x="76" y="0"/>
                  </a:moveTo>
                  <a:lnTo>
                    <a:pt x="90" y="2"/>
                  </a:lnTo>
                  <a:lnTo>
                    <a:pt x="107" y="8"/>
                  </a:lnTo>
                  <a:lnTo>
                    <a:pt x="134" y="22"/>
                  </a:lnTo>
                  <a:lnTo>
                    <a:pt x="162" y="38"/>
                  </a:lnTo>
                  <a:lnTo>
                    <a:pt x="178" y="41"/>
                  </a:lnTo>
                  <a:lnTo>
                    <a:pt x="193" y="44"/>
                  </a:lnTo>
                  <a:lnTo>
                    <a:pt x="207" y="69"/>
                  </a:lnTo>
                  <a:lnTo>
                    <a:pt x="231" y="96"/>
                  </a:lnTo>
                  <a:lnTo>
                    <a:pt x="252" y="125"/>
                  </a:lnTo>
                  <a:lnTo>
                    <a:pt x="268" y="148"/>
                  </a:lnTo>
                  <a:lnTo>
                    <a:pt x="274" y="167"/>
                  </a:lnTo>
                  <a:lnTo>
                    <a:pt x="278" y="190"/>
                  </a:lnTo>
                  <a:lnTo>
                    <a:pt x="280" y="231"/>
                  </a:lnTo>
                  <a:lnTo>
                    <a:pt x="276" y="272"/>
                  </a:lnTo>
                  <a:lnTo>
                    <a:pt x="268" y="314"/>
                  </a:lnTo>
                  <a:lnTo>
                    <a:pt x="246" y="399"/>
                  </a:lnTo>
                  <a:lnTo>
                    <a:pt x="238" y="441"/>
                  </a:lnTo>
                  <a:lnTo>
                    <a:pt x="236" y="480"/>
                  </a:lnTo>
                  <a:lnTo>
                    <a:pt x="205" y="513"/>
                  </a:lnTo>
                  <a:lnTo>
                    <a:pt x="178" y="512"/>
                  </a:lnTo>
                  <a:lnTo>
                    <a:pt x="152" y="505"/>
                  </a:lnTo>
                  <a:lnTo>
                    <a:pt x="130" y="496"/>
                  </a:lnTo>
                  <a:lnTo>
                    <a:pt x="108" y="483"/>
                  </a:lnTo>
                  <a:lnTo>
                    <a:pt x="90" y="468"/>
                  </a:lnTo>
                  <a:lnTo>
                    <a:pt x="73" y="450"/>
                  </a:lnTo>
                  <a:lnTo>
                    <a:pt x="58" y="431"/>
                  </a:lnTo>
                  <a:lnTo>
                    <a:pt x="45" y="408"/>
                  </a:lnTo>
                  <a:lnTo>
                    <a:pt x="26" y="361"/>
                  </a:lnTo>
                  <a:lnTo>
                    <a:pt x="10" y="310"/>
                  </a:lnTo>
                  <a:lnTo>
                    <a:pt x="2" y="261"/>
                  </a:lnTo>
                  <a:lnTo>
                    <a:pt x="0" y="213"/>
                  </a:lnTo>
                  <a:lnTo>
                    <a:pt x="97" y="119"/>
                  </a:lnTo>
                  <a:lnTo>
                    <a:pt x="92" y="87"/>
                  </a:lnTo>
                  <a:lnTo>
                    <a:pt x="87" y="55"/>
                  </a:lnTo>
                  <a:lnTo>
                    <a:pt x="79" y="28"/>
                  </a:lnTo>
                  <a:lnTo>
                    <a:pt x="76" y="0"/>
                  </a:lnTo>
                  <a:close/>
                </a:path>
              </a:pathLst>
            </a:custGeom>
            <a:blipFill rotWithShape="0">
              <a:blip r:embed="rId68"/>
              <a:srcRect/>
              <a:stretch/>
            </a:blipFill>
            <a:ln w="0">
              <a:noFill/>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363" name=""/>
            <p:cNvSpPr/>
            <p:nvPr/>
          </p:nvSpPr>
          <p:spPr>
            <a:xfrm>
              <a:off x="1345680" y="1236600"/>
              <a:ext cx="20160" cy="31320"/>
            </a:xfrm>
            <a:custGeom>
              <a:avLst/>
              <a:gdLst/>
              <a:ahLst/>
              <a:rect l="l" t="t" r="r" b="b"/>
              <a:pathLst>
                <a:path w="160" h="271">
                  <a:moveTo>
                    <a:pt x="29" y="0"/>
                  </a:moveTo>
                  <a:lnTo>
                    <a:pt x="53" y="4"/>
                  </a:lnTo>
                  <a:lnTo>
                    <a:pt x="76" y="14"/>
                  </a:lnTo>
                  <a:lnTo>
                    <a:pt x="98" y="28"/>
                  </a:lnTo>
                  <a:lnTo>
                    <a:pt x="116" y="43"/>
                  </a:lnTo>
                  <a:lnTo>
                    <a:pt x="118" y="67"/>
                  </a:lnTo>
                  <a:lnTo>
                    <a:pt x="124" y="93"/>
                  </a:lnTo>
                  <a:lnTo>
                    <a:pt x="142" y="154"/>
                  </a:lnTo>
                  <a:lnTo>
                    <a:pt x="155" y="215"/>
                  </a:lnTo>
                  <a:lnTo>
                    <a:pt x="160" y="239"/>
                  </a:lnTo>
                  <a:lnTo>
                    <a:pt x="160" y="258"/>
                  </a:lnTo>
                  <a:lnTo>
                    <a:pt x="147" y="268"/>
                  </a:lnTo>
                  <a:lnTo>
                    <a:pt x="138" y="271"/>
                  </a:lnTo>
                  <a:lnTo>
                    <a:pt x="130" y="266"/>
                  </a:lnTo>
                  <a:lnTo>
                    <a:pt x="108" y="253"/>
                  </a:lnTo>
                  <a:lnTo>
                    <a:pt x="86" y="235"/>
                  </a:lnTo>
                  <a:lnTo>
                    <a:pt x="74" y="229"/>
                  </a:lnTo>
                  <a:lnTo>
                    <a:pt x="63" y="227"/>
                  </a:lnTo>
                  <a:lnTo>
                    <a:pt x="29" y="174"/>
                  </a:lnTo>
                  <a:lnTo>
                    <a:pt x="16" y="148"/>
                  </a:lnTo>
                  <a:lnTo>
                    <a:pt x="5" y="122"/>
                  </a:lnTo>
                  <a:lnTo>
                    <a:pt x="0" y="95"/>
                  </a:lnTo>
                  <a:lnTo>
                    <a:pt x="1" y="65"/>
                  </a:lnTo>
                  <a:lnTo>
                    <a:pt x="10" y="36"/>
                  </a:lnTo>
                  <a:lnTo>
                    <a:pt x="29" y="0"/>
                  </a:lnTo>
                  <a:close/>
                </a:path>
              </a:pathLst>
            </a:custGeom>
            <a:blipFill rotWithShape="0">
              <a:blip r:embed="rId69"/>
              <a:srcRect/>
              <a:stretch/>
            </a:blip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364" name=""/>
            <p:cNvSpPr/>
            <p:nvPr/>
          </p:nvSpPr>
          <p:spPr>
            <a:xfrm>
              <a:off x="1335240" y="1200600"/>
              <a:ext cx="23400" cy="26640"/>
            </a:xfrm>
            <a:custGeom>
              <a:avLst/>
              <a:gdLst/>
              <a:ahLst/>
              <a:rect l="l" t="t" r="r" b="b"/>
              <a:pathLst>
                <a:path w="182" h="229">
                  <a:moveTo>
                    <a:pt x="86" y="225"/>
                  </a:moveTo>
                  <a:lnTo>
                    <a:pt x="113" y="221"/>
                  </a:lnTo>
                  <a:lnTo>
                    <a:pt x="136" y="211"/>
                  </a:lnTo>
                  <a:lnTo>
                    <a:pt x="159" y="195"/>
                  </a:lnTo>
                  <a:lnTo>
                    <a:pt x="182" y="174"/>
                  </a:lnTo>
                  <a:lnTo>
                    <a:pt x="167" y="119"/>
                  </a:lnTo>
                  <a:lnTo>
                    <a:pt x="162" y="87"/>
                  </a:lnTo>
                  <a:lnTo>
                    <a:pt x="160" y="56"/>
                  </a:lnTo>
                  <a:lnTo>
                    <a:pt x="141" y="28"/>
                  </a:lnTo>
                  <a:lnTo>
                    <a:pt x="131" y="12"/>
                  </a:lnTo>
                  <a:lnTo>
                    <a:pt x="128" y="0"/>
                  </a:lnTo>
                  <a:lnTo>
                    <a:pt x="86" y="0"/>
                  </a:lnTo>
                  <a:lnTo>
                    <a:pt x="54" y="33"/>
                  </a:lnTo>
                  <a:lnTo>
                    <a:pt x="54" y="119"/>
                  </a:lnTo>
                  <a:lnTo>
                    <a:pt x="38" y="140"/>
                  </a:lnTo>
                  <a:lnTo>
                    <a:pt x="23" y="168"/>
                  </a:lnTo>
                  <a:lnTo>
                    <a:pt x="0" y="216"/>
                  </a:lnTo>
                  <a:lnTo>
                    <a:pt x="10" y="219"/>
                  </a:lnTo>
                  <a:lnTo>
                    <a:pt x="26" y="225"/>
                  </a:lnTo>
                  <a:lnTo>
                    <a:pt x="50" y="229"/>
                  </a:lnTo>
                  <a:lnTo>
                    <a:pt x="86" y="225"/>
                  </a:lnTo>
                  <a:close/>
                </a:path>
              </a:pathLst>
            </a:custGeom>
            <a:blipFill rotWithShape="0">
              <a:blip r:embed="rId70"/>
              <a:srcRect/>
              <a:stretch/>
            </a:blip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65" name=""/>
            <p:cNvSpPr/>
            <p:nvPr/>
          </p:nvSpPr>
          <p:spPr>
            <a:xfrm>
              <a:off x="1536480" y="1270080"/>
              <a:ext cx="22320" cy="23760"/>
            </a:xfrm>
            <a:custGeom>
              <a:avLst/>
              <a:gdLst/>
              <a:ahLst/>
              <a:rect l="l" t="t" r="r" b="b"/>
              <a:pathLst>
                <a:path w="180" h="203">
                  <a:moveTo>
                    <a:pt x="20" y="203"/>
                  </a:moveTo>
                  <a:lnTo>
                    <a:pt x="8" y="182"/>
                  </a:lnTo>
                  <a:lnTo>
                    <a:pt x="2" y="159"/>
                  </a:lnTo>
                  <a:lnTo>
                    <a:pt x="0" y="136"/>
                  </a:lnTo>
                  <a:lnTo>
                    <a:pt x="0" y="107"/>
                  </a:lnTo>
                  <a:lnTo>
                    <a:pt x="16" y="93"/>
                  </a:lnTo>
                  <a:lnTo>
                    <a:pt x="26" y="89"/>
                  </a:lnTo>
                  <a:lnTo>
                    <a:pt x="42" y="86"/>
                  </a:lnTo>
                  <a:lnTo>
                    <a:pt x="60" y="63"/>
                  </a:lnTo>
                  <a:lnTo>
                    <a:pt x="80" y="39"/>
                  </a:lnTo>
                  <a:lnTo>
                    <a:pt x="117" y="0"/>
                  </a:lnTo>
                  <a:lnTo>
                    <a:pt x="133" y="5"/>
                  </a:lnTo>
                  <a:lnTo>
                    <a:pt x="151" y="10"/>
                  </a:lnTo>
                  <a:lnTo>
                    <a:pt x="153" y="23"/>
                  </a:lnTo>
                  <a:lnTo>
                    <a:pt x="157" y="36"/>
                  </a:lnTo>
                  <a:lnTo>
                    <a:pt x="162" y="46"/>
                  </a:lnTo>
                  <a:lnTo>
                    <a:pt x="172" y="54"/>
                  </a:lnTo>
                  <a:lnTo>
                    <a:pt x="177" y="102"/>
                  </a:lnTo>
                  <a:lnTo>
                    <a:pt x="180" y="150"/>
                  </a:lnTo>
                  <a:lnTo>
                    <a:pt x="170" y="159"/>
                  </a:lnTo>
                  <a:lnTo>
                    <a:pt x="159" y="172"/>
                  </a:lnTo>
                  <a:lnTo>
                    <a:pt x="145" y="180"/>
                  </a:lnTo>
                  <a:lnTo>
                    <a:pt x="128" y="183"/>
                  </a:lnTo>
                  <a:lnTo>
                    <a:pt x="127" y="152"/>
                  </a:lnTo>
                  <a:lnTo>
                    <a:pt x="123" y="136"/>
                  </a:lnTo>
                  <a:lnTo>
                    <a:pt x="121" y="130"/>
                  </a:lnTo>
                  <a:lnTo>
                    <a:pt x="117" y="128"/>
                  </a:lnTo>
                  <a:lnTo>
                    <a:pt x="96" y="128"/>
                  </a:lnTo>
                  <a:lnTo>
                    <a:pt x="91" y="132"/>
                  </a:lnTo>
                  <a:lnTo>
                    <a:pt x="86" y="138"/>
                  </a:lnTo>
                  <a:lnTo>
                    <a:pt x="76" y="162"/>
                  </a:lnTo>
                  <a:lnTo>
                    <a:pt x="64" y="203"/>
                  </a:lnTo>
                  <a:lnTo>
                    <a:pt x="38" y="199"/>
                  </a:lnTo>
                  <a:lnTo>
                    <a:pt x="28" y="199"/>
                  </a:lnTo>
                  <a:lnTo>
                    <a:pt x="20" y="203"/>
                  </a:lnTo>
                  <a:close/>
                </a:path>
              </a:pathLst>
            </a:custGeom>
            <a:blipFill rotWithShape="0">
              <a:blip r:embed="rId71"/>
              <a:srcRect/>
              <a:stretch/>
            </a:blip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66" name=""/>
            <p:cNvSpPr/>
            <p:nvPr/>
          </p:nvSpPr>
          <p:spPr>
            <a:xfrm>
              <a:off x="1749600" y="1035360"/>
              <a:ext cx="36720" cy="47160"/>
            </a:xfrm>
            <a:custGeom>
              <a:avLst/>
              <a:gdLst/>
              <a:ahLst/>
              <a:rect l="l" t="t" r="r" b="b"/>
              <a:pathLst>
                <a:path w="289" h="408">
                  <a:moveTo>
                    <a:pt x="33" y="394"/>
                  </a:moveTo>
                  <a:lnTo>
                    <a:pt x="132" y="335"/>
                  </a:lnTo>
                  <a:lnTo>
                    <a:pt x="183" y="299"/>
                  </a:lnTo>
                  <a:lnTo>
                    <a:pt x="225" y="265"/>
                  </a:lnTo>
                  <a:lnTo>
                    <a:pt x="221" y="249"/>
                  </a:lnTo>
                  <a:lnTo>
                    <a:pt x="215" y="231"/>
                  </a:lnTo>
                  <a:lnTo>
                    <a:pt x="205" y="202"/>
                  </a:lnTo>
                  <a:lnTo>
                    <a:pt x="268" y="202"/>
                  </a:lnTo>
                  <a:lnTo>
                    <a:pt x="289" y="181"/>
                  </a:lnTo>
                  <a:lnTo>
                    <a:pt x="286" y="152"/>
                  </a:lnTo>
                  <a:lnTo>
                    <a:pt x="273" y="124"/>
                  </a:lnTo>
                  <a:lnTo>
                    <a:pt x="258" y="98"/>
                  </a:lnTo>
                  <a:lnTo>
                    <a:pt x="236" y="74"/>
                  </a:lnTo>
                  <a:lnTo>
                    <a:pt x="231" y="37"/>
                  </a:lnTo>
                  <a:lnTo>
                    <a:pt x="225" y="0"/>
                  </a:lnTo>
                  <a:lnTo>
                    <a:pt x="205" y="1"/>
                  </a:lnTo>
                  <a:lnTo>
                    <a:pt x="189" y="3"/>
                  </a:lnTo>
                  <a:lnTo>
                    <a:pt x="177" y="9"/>
                  </a:lnTo>
                  <a:lnTo>
                    <a:pt x="165" y="17"/>
                  </a:lnTo>
                  <a:lnTo>
                    <a:pt x="147" y="37"/>
                  </a:lnTo>
                  <a:lnTo>
                    <a:pt x="137" y="58"/>
                  </a:lnTo>
                  <a:lnTo>
                    <a:pt x="124" y="112"/>
                  </a:lnTo>
                  <a:lnTo>
                    <a:pt x="118" y="137"/>
                  </a:lnTo>
                  <a:lnTo>
                    <a:pt x="108" y="160"/>
                  </a:lnTo>
                  <a:lnTo>
                    <a:pt x="96" y="169"/>
                  </a:lnTo>
                  <a:lnTo>
                    <a:pt x="84" y="177"/>
                  </a:lnTo>
                  <a:lnTo>
                    <a:pt x="69" y="187"/>
                  </a:lnTo>
                  <a:lnTo>
                    <a:pt x="53" y="195"/>
                  </a:lnTo>
                  <a:lnTo>
                    <a:pt x="43" y="202"/>
                  </a:lnTo>
                  <a:lnTo>
                    <a:pt x="47" y="262"/>
                  </a:lnTo>
                  <a:lnTo>
                    <a:pt x="53" y="322"/>
                  </a:lnTo>
                  <a:lnTo>
                    <a:pt x="27" y="335"/>
                  </a:lnTo>
                  <a:lnTo>
                    <a:pt x="9" y="351"/>
                  </a:lnTo>
                  <a:lnTo>
                    <a:pt x="1" y="372"/>
                  </a:lnTo>
                  <a:lnTo>
                    <a:pt x="0" y="406"/>
                  </a:lnTo>
                  <a:lnTo>
                    <a:pt x="43" y="408"/>
                  </a:lnTo>
                  <a:lnTo>
                    <a:pt x="53" y="408"/>
                  </a:lnTo>
                  <a:lnTo>
                    <a:pt x="55" y="406"/>
                  </a:lnTo>
                  <a:lnTo>
                    <a:pt x="48" y="401"/>
                  </a:lnTo>
                  <a:lnTo>
                    <a:pt x="33" y="394"/>
                  </a:lnTo>
                  <a:close/>
                </a:path>
              </a:pathLst>
            </a:custGeom>
            <a:blipFill rotWithShape="0">
              <a:blip r:embed="rId72"/>
              <a:srcRect/>
              <a:stretch/>
            </a:blipFill>
            <a:ln w="0">
              <a:no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367" name=""/>
            <p:cNvSpPr/>
            <p:nvPr/>
          </p:nvSpPr>
          <p:spPr>
            <a:xfrm>
              <a:off x="1604880" y="790920"/>
              <a:ext cx="57240" cy="19440"/>
            </a:xfrm>
            <a:custGeom>
              <a:avLst/>
              <a:gdLst/>
              <a:ahLst/>
              <a:rect l="l" t="t" r="r" b="b"/>
              <a:pathLst>
                <a:path w="443" h="168">
                  <a:moveTo>
                    <a:pt x="112" y="19"/>
                  </a:moveTo>
                  <a:lnTo>
                    <a:pt x="394" y="3"/>
                  </a:lnTo>
                  <a:lnTo>
                    <a:pt x="426" y="34"/>
                  </a:lnTo>
                  <a:lnTo>
                    <a:pt x="438" y="50"/>
                  </a:lnTo>
                  <a:lnTo>
                    <a:pt x="442" y="60"/>
                  </a:lnTo>
                  <a:lnTo>
                    <a:pt x="443" y="72"/>
                  </a:lnTo>
                  <a:lnTo>
                    <a:pt x="414" y="94"/>
                  </a:lnTo>
                  <a:lnTo>
                    <a:pt x="380" y="112"/>
                  </a:lnTo>
                  <a:lnTo>
                    <a:pt x="343" y="121"/>
                  </a:lnTo>
                  <a:lnTo>
                    <a:pt x="304" y="126"/>
                  </a:lnTo>
                  <a:lnTo>
                    <a:pt x="289" y="137"/>
                  </a:lnTo>
                  <a:lnTo>
                    <a:pt x="276" y="145"/>
                  </a:lnTo>
                  <a:lnTo>
                    <a:pt x="242" y="159"/>
                  </a:lnTo>
                  <a:lnTo>
                    <a:pt x="202" y="167"/>
                  </a:lnTo>
                  <a:lnTo>
                    <a:pt x="163" y="168"/>
                  </a:lnTo>
                  <a:lnTo>
                    <a:pt x="79" y="168"/>
                  </a:lnTo>
                  <a:lnTo>
                    <a:pt x="6" y="165"/>
                  </a:lnTo>
                  <a:lnTo>
                    <a:pt x="1" y="133"/>
                  </a:lnTo>
                  <a:lnTo>
                    <a:pt x="0" y="110"/>
                  </a:lnTo>
                  <a:lnTo>
                    <a:pt x="0" y="87"/>
                  </a:lnTo>
                  <a:lnTo>
                    <a:pt x="9" y="60"/>
                  </a:lnTo>
                  <a:lnTo>
                    <a:pt x="8" y="60"/>
                  </a:lnTo>
                  <a:lnTo>
                    <a:pt x="9" y="58"/>
                  </a:lnTo>
                  <a:lnTo>
                    <a:pt x="25" y="47"/>
                  </a:lnTo>
                  <a:lnTo>
                    <a:pt x="76" y="16"/>
                  </a:lnTo>
                  <a:lnTo>
                    <a:pt x="100" y="5"/>
                  </a:lnTo>
                  <a:lnTo>
                    <a:pt x="118" y="0"/>
                  </a:lnTo>
                  <a:lnTo>
                    <a:pt x="124" y="0"/>
                  </a:lnTo>
                  <a:lnTo>
                    <a:pt x="124" y="3"/>
                  </a:lnTo>
                  <a:lnTo>
                    <a:pt x="112" y="19"/>
                  </a:lnTo>
                  <a:close/>
                </a:path>
              </a:pathLst>
            </a:custGeom>
            <a:blipFill rotWithShape="0">
              <a:blip r:embed="rId73"/>
              <a:srcRect/>
              <a:stretch/>
            </a:blip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68" name=""/>
            <p:cNvSpPr/>
            <p:nvPr/>
          </p:nvSpPr>
          <p:spPr>
            <a:xfrm>
              <a:off x="1574280" y="798480"/>
              <a:ext cx="43920" cy="31320"/>
            </a:xfrm>
            <a:custGeom>
              <a:avLst/>
              <a:gdLst/>
              <a:ahLst/>
              <a:rect l="l" t="t" r="r" b="b"/>
              <a:pathLst>
                <a:path w="347" h="264">
                  <a:moveTo>
                    <a:pt x="145" y="16"/>
                  </a:moveTo>
                  <a:lnTo>
                    <a:pt x="108" y="24"/>
                  </a:lnTo>
                  <a:lnTo>
                    <a:pt x="67" y="30"/>
                  </a:lnTo>
                  <a:lnTo>
                    <a:pt x="29" y="39"/>
                  </a:lnTo>
                  <a:lnTo>
                    <a:pt x="14" y="49"/>
                  </a:lnTo>
                  <a:lnTo>
                    <a:pt x="0" y="60"/>
                  </a:lnTo>
                  <a:lnTo>
                    <a:pt x="24" y="151"/>
                  </a:lnTo>
                  <a:lnTo>
                    <a:pt x="32" y="172"/>
                  </a:lnTo>
                  <a:lnTo>
                    <a:pt x="47" y="185"/>
                  </a:lnTo>
                  <a:lnTo>
                    <a:pt x="67" y="198"/>
                  </a:lnTo>
                  <a:lnTo>
                    <a:pt x="92" y="206"/>
                  </a:lnTo>
                  <a:lnTo>
                    <a:pt x="150" y="214"/>
                  </a:lnTo>
                  <a:lnTo>
                    <a:pt x="209" y="221"/>
                  </a:lnTo>
                  <a:lnTo>
                    <a:pt x="211" y="223"/>
                  </a:lnTo>
                  <a:lnTo>
                    <a:pt x="211" y="229"/>
                  </a:lnTo>
                  <a:lnTo>
                    <a:pt x="211" y="245"/>
                  </a:lnTo>
                  <a:lnTo>
                    <a:pt x="213" y="254"/>
                  </a:lnTo>
                  <a:lnTo>
                    <a:pt x="215" y="261"/>
                  </a:lnTo>
                  <a:lnTo>
                    <a:pt x="223" y="264"/>
                  </a:lnTo>
                  <a:lnTo>
                    <a:pt x="234" y="263"/>
                  </a:lnTo>
                  <a:lnTo>
                    <a:pt x="347" y="237"/>
                  </a:lnTo>
                  <a:lnTo>
                    <a:pt x="315" y="214"/>
                  </a:lnTo>
                  <a:lnTo>
                    <a:pt x="280" y="185"/>
                  </a:lnTo>
                  <a:lnTo>
                    <a:pt x="265" y="170"/>
                  </a:lnTo>
                  <a:lnTo>
                    <a:pt x="250" y="152"/>
                  </a:lnTo>
                  <a:lnTo>
                    <a:pt x="242" y="134"/>
                  </a:lnTo>
                  <a:lnTo>
                    <a:pt x="241" y="112"/>
                  </a:lnTo>
                  <a:lnTo>
                    <a:pt x="249" y="0"/>
                  </a:lnTo>
                  <a:lnTo>
                    <a:pt x="221" y="2"/>
                  </a:lnTo>
                  <a:lnTo>
                    <a:pt x="191" y="8"/>
                  </a:lnTo>
                  <a:lnTo>
                    <a:pt x="145" y="16"/>
                  </a:lnTo>
                  <a:close/>
                </a:path>
              </a:pathLst>
            </a:custGeom>
            <a:blipFill rotWithShape="0">
              <a:blip r:embed="rId74"/>
              <a:srcRect/>
              <a:stretch/>
            </a:blip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369" name=""/>
            <p:cNvSpPr/>
            <p:nvPr/>
          </p:nvSpPr>
          <p:spPr>
            <a:xfrm>
              <a:off x="1647000" y="867240"/>
              <a:ext cx="18360" cy="14400"/>
            </a:xfrm>
            <a:custGeom>
              <a:avLst/>
              <a:gdLst/>
              <a:ahLst/>
              <a:rect l="l" t="t" r="r" b="b"/>
              <a:pathLst>
                <a:path w="143" h="128">
                  <a:moveTo>
                    <a:pt x="77" y="0"/>
                  </a:moveTo>
                  <a:lnTo>
                    <a:pt x="87" y="18"/>
                  </a:lnTo>
                  <a:lnTo>
                    <a:pt x="104" y="36"/>
                  </a:lnTo>
                  <a:lnTo>
                    <a:pt x="143" y="70"/>
                  </a:lnTo>
                  <a:lnTo>
                    <a:pt x="117" y="128"/>
                  </a:lnTo>
                  <a:lnTo>
                    <a:pt x="73" y="125"/>
                  </a:lnTo>
                  <a:lnTo>
                    <a:pt x="51" y="115"/>
                  </a:lnTo>
                  <a:lnTo>
                    <a:pt x="38" y="99"/>
                  </a:lnTo>
                  <a:lnTo>
                    <a:pt x="10" y="65"/>
                  </a:lnTo>
                  <a:lnTo>
                    <a:pt x="2" y="38"/>
                  </a:lnTo>
                  <a:lnTo>
                    <a:pt x="0" y="22"/>
                  </a:lnTo>
                  <a:lnTo>
                    <a:pt x="2" y="16"/>
                  </a:lnTo>
                  <a:lnTo>
                    <a:pt x="6" y="10"/>
                  </a:lnTo>
                  <a:lnTo>
                    <a:pt x="10" y="6"/>
                  </a:lnTo>
                  <a:lnTo>
                    <a:pt x="20" y="4"/>
                  </a:lnTo>
                  <a:lnTo>
                    <a:pt x="39" y="4"/>
                  </a:lnTo>
                  <a:lnTo>
                    <a:pt x="62" y="4"/>
                  </a:lnTo>
                  <a:lnTo>
                    <a:pt x="77" y="0"/>
                  </a:lnTo>
                  <a:close/>
                </a:path>
              </a:pathLst>
            </a:custGeom>
            <a:blipFill rotWithShape="0">
              <a:blip r:embed="rId75"/>
              <a:srcRect/>
              <a:stretch/>
            </a:blip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370" name=""/>
            <p:cNvSpPr/>
            <p:nvPr/>
          </p:nvSpPr>
          <p:spPr>
            <a:xfrm>
              <a:off x="1631520" y="883080"/>
              <a:ext cx="12240" cy="13680"/>
            </a:xfrm>
            <a:custGeom>
              <a:avLst/>
              <a:gdLst/>
              <a:ahLst/>
              <a:rect l="l" t="t" r="r" b="b"/>
              <a:pathLst>
                <a:path w="95" h="123">
                  <a:moveTo>
                    <a:pt x="72" y="0"/>
                  </a:moveTo>
                  <a:lnTo>
                    <a:pt x="77" y="16"/>
                  </a:lnTo>
                  <a:lnTo>
                    <a:pt x="79" y="28"/>
                  </a:lnTo>
                  <a:lnTo>
                    <a:pt x="82" y="42"/>
                  </a:lnTo>
                  <a:lnTo>
                    <a:pt x="95" y="55"/>
                  </a:lnTo>
                  <a:lnTo>
                    <a:pt x="90" y="123"/>
                  </a:lnTo>
                  <a:lnTo>
                    <a:pt x="53" y="123"/>
                  </a:lnTo>
                  <a:lnTo>
                    <a:pt x="41" y="117"/>
                  </a:lnTo>
                  <a:lnTo>
                    <a:pt x="33" y="108"/>
                  </a:lnTo>
                  <a:lnTo>
                    <a:pt x="22" y="84"/>
                  </a:lnTo>
                  <a:lnTo>
                    <a:pt x="11" y="58"/>
                  </a:lnTo>
                  <a:lnTo>
                    <a:pt x="6" y="45"/>
                  </a:lnTo>
                  <a:lnTo>
                    <a:pt x="0" y="36"/>
                  </a:lnTo>
                  <a:lnTo>
                    <a:pt x="1" y="30"/>
                  </a:lnTo>
                  <a:lnTo>
                    <a:pt x="8" y="24"/>
                  </a:lnTo>
                  <a:lnTo>
                    <a:pt x="27" y="18"/>
                  </a:lnTo>
                  <a:lnTo>
                    <a:pt x="51" y="13"/>
                  </a:lnTo>
                  <a:lnTo>
                    <a:pt x="63" y="8"/>
                  </a:lnTo>
                  <a:lnTo>
                    <a:pt x="72" y="0"/>
                  </a:lnTo>
                  <a:close/>
                </a:path>
              </a:pathLst>
            </a:custGeom>
            <a:blipFill rotWithShape="0">
              <a:blip r:embed="rId76"/>
              <a:srcRect/>
              <a:stretch/>
            </a:blip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371" name=""/>
            <p:cNvSpPr/>
            <p:nvPr/>
          </p:nvSpPr>
          <p:spPr>
            <a:xfrm>
              <a:off x="1623600" y="863640"/>
              <a:ext cx="19080" cy="17640"/>
            </a:xfrm>
            <a:custGeom>
              <a:avLst/>
              <a:gdLst/>
              <a:ahLst/>
              <a:rect l="l" t="t" r="r" b="b"/>
              <a:pathLst>
                <a:path w="150" h="147">
                  <a:moveTo>
                    <a:pt x="89" y="0"/>
                  </a:moveTo>
                  <a:lnTo>
                    <a:pt x="92" y="6"/>
                  </a:lnTo>
                  <a:lnTo>
                    <a:pt x="98" y="11"/>
                  </a:lnTo>
                  <a:lnTo>
                    <a:pt x="114" y="16"/>
                  </a:lnTo>
                  <a:lnTo>
                    <a:pt x="132" y="19"/>
                  </a:lnTo>
                  <a:lnTo>
                    <a:pt x="139" y="24"/>
                  </a:lnTo>
                  <a:lnTo>
                    <a:pt x="150" y="29"/>
                  </a:lnTo>
                  <a:lnTo>
                    <a:pt x="139" y="84"/>
                  </a:lnTo>
                  <a:lnTo>
                    <a:pt x="98" y="89"/>
                  </a:lnTo>
                  <a:lnTo>
                    <a:pt x="92" y="147"/>
                  </a:lnTo>
                  <a:lnTo>
                    <a:pt x="11" y="147"/>
                  </a:lnTo>
                  <a:lnTo>
                    <a:pt x="1" y="144"/>
                  </a:lnTo>
                  <a:lnTo>
                    <a:pt x="0" y="137"/>
                  </a:lnTo>
                  <a:lnTo>
                    <a:pt x="6" y="124"/>
                  </a:lnTo>
                  <a:lnTo>
                    <a:pt x="11" y="108"/>
                  </a:lnTo>
                  <a:lnTo>
                    <a:pt x="11" y="98"/>
                  </a:lnTo>
                  <a:lnTo>
                    <a:pt x="8" y="90"/>
                  </a:lnTo>
                  <a:lnTo>
                    <a:pt x="8" y="87"/>
                  </a:lnTo>
                  <a:lnTo>
                    <a:pt x="11" y="84"/>
                  </a:lnTo>
                  <a:lnTo>
                    <a:pt x="24" y="81"/>
                  </a:lnTo>
                  <a:lnTo>
                    <a:pt x="37" y="74"/>
                  </a:lnTo>
                  <a:lnTo>
                    <a:pt x="43" y="69"/>
                  </a:lnTo>
                  <a:lnTo>
                    <a:pt x="51" y="61"/>
                  </a:lnTo>
                  <a:lnTo>
                    <a:pt x="69" y="27"/>
                  </a:lnTo>
                  <a:lnTo>
                    <a:pt x="89" y="0"/>
                  </a:lnTo>
                  <a:close/>
                </a:path>
              </a:pathLst>
            </a:custGeom>
            <a:blipFill rotWithShape="0">
              <a:blip r:embed="rId77"/>
              <a:srcRect/>
              <a:stretch/>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72" name=""/>
            <p:cNvSpPr/>
            <p:nvPr/>
          </p:nvSpPr>
          <p:spPr>
            <a:xfrm>
              <a:off x="1636920" y="771840"/>
              <a:ext cx="12960" cy="10800"/>
            </a:xfrm>
            <a:custGeom>
              <a:avLst/>
              <a:gdLst/>
              <a:ahLst/>
              <a:rect l="l" t="t" r="r" b="b"/>
              <a:pathLst>
                <a:path w="103" h="103">
                  <a:moveTo>
                    <a:pt x="54" y="0"/>
                  </a:moveTo>
                  <a:lnTo>
                    <a:pt x="72" y="18"/>
                  </a:lnTo>
                  <a:lnTo>
                    <a:pt x="81" y="34"/>
                  </a:lnTo>
                  <a:lnTo>
                    <a:pt x="87" y="50"/>
                  </a:lnTo>
                  <a:lnTo>
                    <a:pt x="89" y="61"/>
                  </a:lnTo>
                  <a:lnTo>
                    <a:pt x="89" y="81"/>
                  </a:lnTo>
                  <a:lnTo>
                    <a:pt x="93" y="85"/>
                  </a:lnTo>
                  <a:lnTo>
                    <a:pt x="103" y="87"/>
                  </a:lnTo>
                  <a:lnTo>
                    <a:pt x="77" y="97"/>
                  </a:lnTo>
                  <a:lnTo>
                    <a:pt x="51" y="103"/>
                  </a:lnTo>
                  <a:lnTo>
                    <a:pt x="38" y="103"/>
                  </a:lnTo>
                  <a:lnTo>
                    <a:pt x="23" y="99"/>
                  </a:lnTo>
                  <a:lnTo>
                    <a:pt x="12" y="93"/>
                  </a:lnTo>
                  <a:lnTo>
                    <a:pt x="0" y="84"/>
                  </a:lnTo>
                  <a:lnTo>
                    <a:pt x="20" y="36"/>
                  </a:lnTo>
                  <a:lnTo>
                    <a:pt x="38" y="8"/>
                  </a:lnTo>
                  <a:lnTo>
                    <a:pt x="46" y="0"/>
                  </a:lnTo>
                  <a:lnTo>
                    <a:pt x="54" y="0"/>
                  </a:lnTo>
                  <a:close/>
                </a:path>
              </a:pathLst>
            </a:custGeom>
            <a:blipFill rotWithShape="0">
              <a:blip r:embed="rId78"/>
              <a:srcRect/>
              <a:stretch/>
            </a:blip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373" name=""/>
            <p:cNvSpPr/>
            <p:nvPr/>
          </p:nvSpPr>
          <p:spPr>
            <a:xfrm>
              <a:off x="1656360" y="848880"/>
              <a:ext cx="258120" cy="320760"/>
            </a:xfrm>
            <a:custGeom>
              <a:avLst/>
              <a:gdLst/>
              <a:ahLst/>
              <a:rect l="l" t="t" r="r" b="b"/>
              <a:pathLst>
                <a:path w="2015" h="2763">
                  <a:moveTo>
                    <a:pt x="893" y="1365"/>
                  </a:moveTo>
                  <a:lnTo>
                    <a:pt x="880" y="1363"/>
                  </a:lnTo>
                  <a:lnTo>
                    <a:pt x="870" y="1358"/>
                  </a:lnTo>
                  <a:lnTo>
                    <a:pt x="849" y="1339"/>
                  </a:lnTo>
                  <a:lnTo>
                    <a:pt x="849" y="1309"/>
                  </a:lnTo>
                  <a:lnTo>
                    <a:pt x="847" y="1301"/>
                  </a:lnTo>
                  <a:lnTo>
                    <a:pt x="841" y="1300"/>
                  </a:lnTo>
                  <a:lnTo>
                    <a:pt x="827" y="1292"/>
                  </a:lnTo>
                  <a:lnTo>
                    <a:pt x="796" y="1262"/>
                  </a:lnTo>
                  <a:lnTo>
                    <a:pt x="781" y="1248"/>
                  </a:lnTo>
                  <a:lnTo>
                    <a:pt x="776" y="1235"/>
                  </a:lnTo>
                  <a:lnTo>
                    <a:pt x="772" y="1199"/>
                  </a:lnTo>
                  <a:lnTo>
                    <a:pt x="752" y="1181"/>
                  </a:lnTo>
                  <a:lnTo>
                    <a:pt x="734" y="1159"/>
                  </a:lnTo>
                  <a:lnTo>
                    <a:pt x="717" y="1138"/>
                  </a:lnTo>
                  <a:lnTo>
                    <a:pt x="705" y="1130"/>
                  </a:lnTo>
                  <a:lnTo>
                    <a:pt x="691" y="1122"/>
                  </a:lnTo>
                  <a:lnTo>
                    <a:pt x="663" y="1107"/>
                  </a:lnTo>
                  <a:lnTo>
                    <a:pt x="624" y="1091"/>
                  </a:lnTo>
                  <a:lnTo>
                    <a:pt x="577" y="1071"/>
                  </a:lnTo>
                  <a:lnTo>
                    <a:pt x="524" y="1045"/>
                  </a:lnTo>
                  <a:lnTo>
                    <a:pt x="466" y="1012"/>
                  </a:lnTo>
                  <a:lnTo>
                    <a:pt x="436" y="990"/>
                  </a:lnTo>
                  <a:lnTo>
                    <a:pt x="407" y="968"/>
                  </a:lnTo>
                  <a:lnTo>
                    <a:pt x="380" y="940"/>
                  </a:lnTo>
                  <a:lnTo>
                    <a:pt x="352" y="909"/>
                  </a:lnTo>
                  <a:lnTo>
                    <a:pt x="323" y="876"/>
                  </a:lnTo>
                  <a:lnTo>
                    <a:pt x="300" y="835"/>
                  </a:lnTo>
                  <a:lnTo>
                    <a:pt x="299" y="830"/>
                  </a:lnTo>
                  <a:lnTo>
                    <a:pt x="291" y="820"/>
                  </a:lnTo>
                  <a:lnTo>
                    <a:pt x="259" y="785"/>
                  </a:lnTo>
                  <a:lnTo>
                    <a:pt x="155" y="688"/>
                  </a:lnTo>
                  <a:lnTo>
                    <a:pt x="50" y="591"/>
                  </a:lnTo>
                  <a:lnTo>
                    <a:pt x="14" y="558"/>
                  </a:lnTo>
                  <a:lnTo>
                    <a:pt x="0" y="542"/>
                  </a:lnTo>
                  <a:lnTo>
                    <a:pt x="8" y="526"/>
                  </a:lnTo>
                  <a:lnTo>
                    <a:pt x="22" y="518"/>
                  </a:lnTo>
                  <a:lnTo>
                    <a:pt x="42" y="518"/>
                  </a:lnTo>
                  <a:lnTo>
                    <a:pt x="61" y="524"/>
                  </a:lnTo>
                  <a:lnTo>
                    <a:pt x="87" y="536"/>
                  </a:lnTo>
                  <a:lnTo>
                    <a:pt x="113" y="554"/>
                  </a:lnTo>
                  <a:lnTo>
                    <a:pt x="166" y="595"/>
                  </a:lnTo>
                  <a:lnTo>
                    <a:pt x="219" y="643"/>
                  </a:lnTo>
                  <a:lnTo>
                    <a:pt x="263" y="688"/>
                  </a:lnTo>
                  <a:lnTo>
                    <a:pt x="292" y="723"/>
                  </a:lnTo>
                  <a:lnTo>
                    <a:pt x="299" y="735"/>
                  </a:lnTo>
                  <a:lnTo>
                    <a:pt x="300" y="741"/>
                  </a:lnTo>
                  <a:lnTo>
                    <a:pt x="307" y="739"/>
                  </a:lnTo>
                  <a:lnTo>
                    <a:pt x="312" y="745"/>
                  </a:lnTo>
                  <a:lnTo>
                    <a:pt x="320" y="771"/>
                  </a:lnTo>
                  <a:lnTo>
                    <a:pt x="330" y="798"/>
                  </a:lnTo>
                  <a:lnTo>
                    <a:pt x="336" y="806"/>
                  </a:lnTo>
                  <a:lnTo>
                    <a:pt x="344" y="806"/>
                  </a:lnTo>
                  <a:lnTo>
                    <a:pt x="349" y="796"/>
                  </a:lnTo>
                  <a:lnTo>
                    <a:pt x="363" y="793"/>
                  </a:lnTo>
                  <a:lnTo>
                    <a:pt x="381" y="795"/>
                  </a:lnTo>
                  <a:lnTo>
                    <a:pt x="404" y="798"/>
                  </a:lnTo>
                  <a:lnTo>
                    <a:pt x="462" y="819"/>
                  </a:lnTo>
                  <a:lnTo>
                    <a:pt x="529" y="846"/>
                  </a:lnTo>
                  <a:lnTo>
                    <a:pt x="600" y="877"/>
                  </a:lnTo>
                  <a:lnTo>
                    <a:pt x="669" y="905"/>
                  </a:lnTo>
                  <a:lnTo>
                    <a:pt x="733" y="927"/>
                  </a:lnTo>
                  <a:lnTo>
                    <a:pt x="760" y="931"/>
                  </a:lnTo>
                  <a:lnTo>
                    <a:pt x="784" y="932"/>
                  </a:lnTo>
                  <a:lnTo>
                    <a:pt x="788" y="931"/>
                  </a:lnTo>
                  <a:lnTo>
                    <a:pt x="791" y="927"/>
                  </a:lnTo>
                  <a:lnTo>
                    <a:pt x="791" y="911"/>
                  </a:lnTo>
                  <a:lnTo>
                    <a:pt x="786" y="889"/>
                  </a:lnTo>
                  <a:lnTo>
                    <a:pt x="776" y="864"/>
                  </a:lnTo>
                  <a:lnTo>
                    <a:pt x="754" y="812"/>
                  </a:lnTo>
                  <a:lnTo>
                    <a:pt x="746" y="790"/>
                  </a:lnTo>
                  <a:lnTo>
                    <a:pt x="744" y="777"/>
                  </a:lnTo>
                  <a:lnTo>
                    <a:pt x="700" y="717"/>
                  </a:lnTo>
                  <a:lnTo>
                    <a:pt x="699" y="659"/>
                  </a:lnTo>
                  <a:lnTo>
                    <a:pt x="703" y="643"/>
                  </a:lnTo>
                  <a:lnTo>
                    <a:pt x="715" y="621"/>
                  </a:lnTo>
                  <a:lnTo>
                    <a:pt x="663" y="531"/>
                  </a:lnTo>
                  <a:lnTo>
                    <a:pt x="644" y="495"/>
                  </a:lnTo>
                  <a:lnTo>
                    <a:pt x="637" y="474"/>
                  </a:lnTo>
                  <a:lnTo>
                    <a:pt x="636" y="458"/>
                  </a:lnTo>
                  <a:lnTo>
                    <a:pt x="628" y="447"/>
                  </a:lnTo>
                  <a:lnTo>
                    <a:pt x="610" y="427"/>
                  </a:lnTo>
                  <a:lnTo>
                    <a:pt x="519" y="341"/>
                  </a:lnTo>
                  <a:lnTo>
                    <a:pt x="521" y="351"/>
                  </a:lnTo>
                  <a:lnTo>
                    <a:pt x="524" y="353"/>
                  </a:lnTo>
                  <a:lnTo>
                    <a:pt x="527" y="351"/>
                  </a:lnTo>
                  <a:lnTo>
                    <a:pt x="532" y="345"/>
                  </a:lnTo>
                  <a:lnTo>
                    <a:pt x="545" y="289"/>
                  </a:lnTo>
                  <a:lnTo>
                    <a:pt x="555" y="236"/>
                  </a:lnTo>
                  <a:lnTo>
                    <a:pt x="555" y="228"/>
                  </a:lnTo>
                  <a:lnTo>
                    <a:pt x="551" y="244"/>
                  </a:lnTo>
                  <a:lnTo>
                    <a:pt x="556" y="226"/>
                  </a:lnTo>
                  <a:lnTo>
                    <a:pt x="566" y="210"/>
                  </a:lnTo>
                  <a:lnTo>
                    <a:pt x="592" y="181"/>
                  </a:lnTo>
                  <a:lnTo>
                    <a:pt x="602" y="167"/>
                  </a:lnTo>
                  <a:lnTo>
                    <a:pt x="608" y="153"/>
                  </a:lnTo>
                  <a:lnTo>
                    <a:pt x="606" y="139"/>
                  </a:lnTo>
                  <a:lnTo>
                    <a:pt x="597" y="126"/>
                  </a:lnTo>
                  <a:lnTo>
                    <a:pt x="640" y="123"/>
                  </a:lnTo>
                  <a:lnTo>
                    <a:pt x="681" y="116"/>
                  </a:lnTo>
                  <a:lnTo>
                    <a:pt x="721" y="104"/>
                  </a:lnTo>
                  <a:lnTo>
                    <a:pt x="762" y="96"/>
                  </a:lnTo>
                  <a:lnTo>
                    <a:pt x="805" y="92"/>
                  </a:lnTo>
                  <a:lnTo>
                    <a:pt x="849" y="94"/>
                  </a:lnTo>
                  <a:lnTo>
                    <a:pt x="872" y="100"/>
                  </a:lnTo>
                  <a:lnTo>
                    <a:pt x="896" y="108"/>
                  </a:lnTo>
                  <a:lnTo>
                    <a:pt x="922" y="120"/>
                  </a:lnTo>
                  <a:lnTo>
                    <a:pt x="950" y="136"/>
                  </a:lnTo>
                  <a:lnTo>
                    <a:pt x="953" y="134"/>
                  </a:lnTo>
                  <a:lnTo>
                    <a:pt x="959" y="129"/>
                  </a:lnTo>
                  <a:lnTo>
                    <a:pt x="969" y="113"/>
                  </a:lnTo>
                  <a:lnTo>
                    <a:pt x="975" y="96"/>
                  </a:lnTo>
                  <a:lnTo>
                    <a:pt x="974" y="90"/>
                  </a:lnTo>
                  <a:lnTo>
                    <a:pt x="971" y="84"/>
                  </a:lnTo>
                  <a:lnTo>
                    <a:pt x="966" y="82"/>
                  </a:lnTo>
                  <a:lnTo>
                    <a:pt x="967" y="76"/>
                  </a:lnTo>
                  <a:lnTo>
                    <a:pt x="987" y="56"/>
                  </a:lnTo>
                  <a:lnTo>
                    <a:pt x="1019" y="31"/>
                  </a:lnTo>
                  <a:lnTo>
                    <a:pt x="1037" y="8"/>
                  </a:lnTo>
                  <a:lnTo>
                    <a:pt x="1046" y="1"/>
                  </a:lnTo>
                  <a:lnTo>
                    <a:pt x="1052" y="0"/>
                  </a:lnTo>
                  <a:lnTo>
                    <a:pt x="1060" y="0"/>
                  </a:lnTo>
                  <a:lnTo>
                    <a:pt x="1066" y="1"/>
                  </a:lnTo>
                  <a:lnTo>
                    <a:pt x="1078" y="15"/>
                  </a:lnTo>
                  <a:lnTo>
                    <a:pt x="1100" y="56"/>
                  </a:lnTo>
                  <a:lnTo>
                    <a:pt x="1113" y="81"/>
                  </a:lnTo>
                  <a:lnTo>
                    <a:pt x="1129" y="102"/>
                  </a:lnTo>
                  <a:lnTo>
                    <a:pt x="1131" y="233"/>
                  </a:lnTo>
                  <a:lnTo>
                    <a:pt x="1244" y="353"/>
                  </a:lnTo>
                  <a:lnTo>
                    <a:pt x="1277" y="479"/>
                  </a:lnTo>
                  <a:lnTo>
                    <a:pt x="1382" y="563"/>
                  </a:lnTo>
                  <a:lnTo>
                    <a:pt x="1380" y="586"/>
                  </a:lnTo>
                  <a:lnTo>
                    <a:pt x="1375" y="597"/>
                  </a:lnTo>
                  <a:lnTo>
                    <a:pt x="1366" y="603"/>
                  </a:lnTo>
                  <a:lnTo>
                    <a:pt x="1351" y="609"/>
                  </a:lnTo>
                  <a:lnTo>
                    <a:pt x="1366" y="684"/>
                  </a:lnTo>
                  <a:lnTo>
                    <a:pt x="1370" y="706"/>
                  </a:lnTo>
                  <a:lnTo>
                    <a:pt x="1372" y="707"/>
                  </a:lnTo>
                  <a:lnTo>
                    <a:pt x="1375" y="709"/>
                  </a:lnTo>
                  <a:lnTo>
                    <a:pt x="1383" y="714"/>
                  </a:lnTo>
                  <a:lnTo>
                    <a:pt x="1399" y="723"/>
                  </a:lnTo>
                  <a:lnTo>
                    <a:pt x="1461" y="798"/>
                  </a:lnTo>
                  <a:lnTo>
                    <a:pt x="1599" y="892"/>
                  </a:lnTo>
                  <a:lnTo>
                    <a:pt x="1610" y="929"/>
                  </a:lnTo>
                  <a:lnTo>
                    <a:pt x="1626" y="964"/>
                  </a:lnTo>
                  <a:lnTo>
                    <a:pt x="1646" y="997"/>
                  </a:lnTo>
                  <a:lnTo>
                    <a:pt x="1668" y="1028"/>
                  </a:lnTo>
                  <a:lnTo>
                    <a:pt x="1694" y="1055"/>
                  </a:lnTo>
                  <a:lnTo>
                    <a:pt x="1721" y="1078"/>
                  </a:lnTo>
                  <a:lnTo>
                    <a:pt x="1754" y="1099"/>
                  </a:lnTo>
                  <a:lnTo>
                    <a:pt x="1793" y="1114"/>
                  </a:lnTo>
                  <a:lnTo>
                    <a:pt x="1848" y="1199"/>
                  </a:lnTo>
                  <a:lnTo>
                    <a:pt x="1853" y="1238"/>
                  </a:lnTo>
                  <a:lnTo>
                    <a:pt x="1867" y="1274"/>
                  </a:lnTo>
                  <a:lnTo>
                    <a:pt x="1887" y="1306"/>
                  </a:lnTo>
                  <a:lnTo>
                    <a:pt x="1911" y="1337"/>
                  </a:lnTo>
                  <a:lnTo>
                    <a:pt x="1961" y="1397"/>
                  </a:lnTo>
                  <a:lnTo>
                    <a:pt x="1985" y="1428"/>
                  </a:lnTo>
                  <a:lnTo>
                    <a:pt x="2010" y="1460"/>
                  </a:lnTo>
                  <a:lnTo>
                    <a:pt x="2013" y="1491"/>
                  </a:lnTo>
                  <a:lnTo>
                    <a:pt x="2015" y="1523"/>
                  </a:lnTo>
                  <a:lnTo>
                    <a:pt x="2013" y="1554"/>
                  </a:lnTo>
                  <a:lnTo>
                    <a:pt x="2010" y="1586"/>
                  </a:lnTo>
                  <a:lnTo>
                    <a:pt x="2003" y="1601"/>
                  </a:lnTo>
                  <a:lnTo>
                    <a:pt x="1995" y="1609"/>
                  </a:lnTo>
                  <a:lnTo>
                    <a:pt x="1987" y="1612"/>
                  </a:lnTo>
                  <a:lnTo>
                    <a:pt x="1977" y="1612"/>
                  </a:lnTo>
                  <a:lnTo>
                    <a:pt x="1968" y="1614"/>
                  </a:lnTo>
                  <a:lnTo>
                    <a:pt x="1960" y="1617"/>
                  </a:lnTo>
                  <a:lnTo>
                    <a:pt x="1952" y="1627"/>
                  </a:lnTo>
                  <a:lnTo>
                    <a:pt x="1946" y="1646"/>
                  </a:lnTo>
                  <a:lnTo>
                    <a:pt x="1885" y="1682"/>
                  </a:lnTo>
                  <a:lnTo>
                    <a:pt x="1859" y="1700"/>
                  </a:lnTo>
                  <a:lnTo>
                    <a:pt x="1859" y="1704"/>
                  </a:lnTo>
                  <a:lnTo>
                    <a:pt x="1861" y="1706"/>
                  </a:lnTo>
                  <a:lnTo>
                    <a:pt x="1877" y="1704"/>
                  </a:lnTo>
                  <a:lnTo>
                    <a:pt x="1895" y="1706"/>
                  </a:lnTo>
                  <a:lnTo>
                    <a:pt x="1901" y="1708"/>
                  </a:lnTo>
                  <a:lnTo>
                    <a:pt x="1903" y="1712"/>
                  </a:lnTo>
                  <a:lnTo>
                    <a:pt x="1898" y="1720"/>
                  </a:lnTo>
                  <a:lnTo>
                    <a:pt x="1887" y="1730"/>
                  </a:lnTo>
                  <a:lnTo>
                    <a:pt x="1838" y="1767"/>
                  </a:lnTo>
                  <a:lnTo>
                    <a:pt x="1796" y="1775"/>
                  </a:lnTo>
                  <a:lnTo>
                    <a:pt x="1780" y="1775"/>
                  </a:lnTo>
                  <a:lnTo>
                    <a:pt x="1767" y="1771"/>
                  </a:lnTo>
                  <a:lnTo>
                    <a:pt x="1757" y="1763"/>
                  </a:lnTo>
                  <a:lnTo>
                    <a:pt x="1747" y="1753"/>
                  </a:lnTo>
                  <a:lnTo>
                    <a:pt x="1739" y="1735"/>
                  </a:lnTo>
                  <a:lnTo>
                    <a:pt x="1733" y="1716"/>
                  </a:lnTo>
                  <a:lnTo>
                    <a:pt x="1628" y="1623"/>
                  </a:lnTo>
                  <a:lnTo>
                    <a:pt x="1544" y="1507"/>
                  </a:lnTo>
                  <a:lnTo>
                    <a:pt x="1506" y="1493"/>
                  </a:lnTo>
                  <a:lnTo>
                    <a:pt x="1472" y="1475"/>
                  </a:lnTo>
                  <a:lnTo>
                    <a:pt x="1407" y="1434"/>
                  </a:lnTo>
                  <a:lnTo>
                    <a:pt x="1340" y="1392"/>
                  </a:lnTo>
                  <a:lnTo>
                    <a:pt x="1304" y="1374"/>
                  </a:lnTo>
                  <a:lnTo>
                    <a:pt x="1265" y="1361"/>
                  </a:lnTo>
                  <a:lnTo>
                    <a:pt x="1255" y="1355"/>
                  </a:lnTo>
                  <a:lnTo>
                    <a:pt x="1246" y="1345"/>
                  </a:lnTo>
                  <a:lnTo>
                    <a:pt x="1234" y="1325"/>
                  </a:lnTo>
                  <a:lnTo>
                    <a:pt x="1218" y="1282"/>
                  </a:lnTo>
                  <a:lnTo>
                    <a:pt x="1207" y="1270"/>
                  </a:lnTo>
                  <a:lnTo>
                    <a:pt x="1191" y="1264"/>
                  </a:lnTo>
                  <a:lnTo>
                    <a:pt x="1150" y="1253"/>
                  </a:lnTo>
                  <a:lnTo>
                    <a:pt x="1066" y="1172"/>
                  </a:lnTo>
                  <a:lnTo>
                    <a:pt x="1040" y="1128"/>
                  </a:lnTo>
                  <a:lnTo>
                    <a:pt x="1038" y="1122"/>
                  </a:lnTo>
                  <a:lnTo>
                    <a:pt x="1040" y="1122"/>
                  </a:lnTo>
                  <a:lnTo>
                    <a:pt x="1045" y="1122"/>
                  </a:lnTo>
                  <a:lnTo>
                    <a:pt x="1046" y="1120"/>
                  </a:lnTo>
                  <a:lnTo>
                    <a:pt x="1046" y="1110"/>
                  </a:lnTo>
                  <a:lnTo>
                    <a:pt x="1040" y="1089"/>
                  </a:lnTo>
                  <a:lnTo>
                    <a:pt x="1030" y="1089"/>
                  </a:lnTo>
                  <a:lnTo>
                    <a:pt x="1022" y="1084"/>
                  </a:lnTo>
                  <a:lnTo>
                    <a:pt x="1014" y="1073"/>
                  </a:lnTo>
                  <a:lnTo>
                    <a:pt x="1006" y="1045"/>
                  </a:lnTo>
                  <a:lnTo>
                    <a:pt x="993" y="1041"/>
                  </a:lnTo>
                  <a:lnTo>
                    <a:pt x="985" y="1033"/>
                  </a:lnTo>
                  <a:lnTo>
                    <a:pt x="979" y="1021"/>
                  </a:lnTo>
                  <a:lnTo>
                    <a:pt x="979" y="1005"/>
                  </a:lnTo>
                  <a:lnTo>
                    <a:pt x="982" y="972"/>
                  </a:lnTo>
                  <a:lnTo>
                    <a:pt x="985" y="934"/>
                  </a:lnTo>
                  <a:lnTo>
                    <a:pt x="985" y="916"/>
                  </a:lnTo>
                  <a:lnTo>
                    <a:pt x="982" y="900"/>
                  </a:lnTo>
                  <a:lnTo>
                    <a:pt x="974" y="884"/>
                  </a:lnTo>
                  <a:lnTo>
                    <a:pt x="961" y="871"/>
                  </a:lnTo>
                  <a:lnTo>
                    <a:pt x="946" y="861"/>
                  </a:lnTo>
                  <a:lnTo>
                    <a:pt x="920" y="853"/>
                  </a:lnTo>
                  <a:lnTo>
                    <a:pt x="888" y="851"/>
                  </a:lnTo>
                  <a:lnTo>
                    <a:pt x="849" y="856"/>
                  </a:lnTo>
                  <a:lnTo>
                    <a:pt x="835" y="861"/>
                  </a:lnTo>
                  <a:lnTo>
                    <a:pt x="827" y="871"/>
                  </a:lnTo>
                  <a:lnTo>
                    <a:pt x="820" y="882"/>
                  </a:lnTo>
                  <a:lnTo>
                    <a:pt x="815" y="895"/>
                  </a:lnTo>
                  <a:lnTo>
                    <a:pt x="812" y="924"/>
                  </a:lnTo>
                  <a:lnTo>
                    <a:pt x="812" y="955"/>
                  </a:lnTo>
                  <a:lnTo>
                    <a:pt x="833" y="994"/>
                  </a:lnTo>
                  <a:lnTo>
                    <a:pt x="845" y="1013"/>
                  </a:lnTo>
                  <a:lnTo>
                    <a:pt x="853" y="1041"/>
                  </a:lnTo>
                  <a:lnTo>
                    <a:pt x="865" y="1104"/>
                  </a:lnTo>
                  <a:lnTo>
                    <a:pt x="875" y="1118"/>
                  </a:lnTo>
                  <a:lnTo>
                    <a:pt x="890" y="1141"/>
                  </a:lnTo>
                  <a:lnTo>
                    <a:pt x="920" y="1204"/>
                  </a:lnTo>
                  <a:lnTo>
                    <a:pt x="956" y="1285"/>
                  </a:lnTo>
                  <a:lnTo>
                    <a:pt x="964" y="1284"/>
                  </a:lnTo>
                  <a:lnTo>
                    <a:pt x="969" y="1288"/>
                  </a:lnTo>
                  <a:lnTo>
                    <a:pt x="983" y="1301"/>
                  </a:lnTo>
                  <a:lnTo>
                    <a:pt x="995" y="1321"/>
                  </a:lnTo>
                  <a:lnTo>
                    <a:pt x="1011" y="1342"/>
                  </a:lnTo>
                  <a:lnTo>
                    <a:pt x="1011" y="1382"/>
                  </a:lnTo>
                  <a:lnTo>
                    <a:pt x="1034" y="1405"/>
                  </a:lnTo>
                  <a:lnTo>
                    <a:pt x="1042" y="1414"/>
                  </a:lnTo>
                  <a:lnTo>
                    <a:pt x="1045" y="1426"/>
                  </a:lnTo>
                  <a:lnTo>
                    <a:pt x="1119" y="1426"/>
                  </a:lnTo>
                  <a:lnTo>
                    <a:pt x="1115" y="1452"/>
                  </a:lnTo>
                  <a:lnTo>
                    <a:pt x="1108" y="1475"/>
                  </a:lnTo>
                  <a:lnTo>
                    <a:pt x="1100" y="1499"/>
                  </a:lnTo>
                  <a:lnTo>
                    <a:pt x="1097" y="1523"/>
                  </a:lnTo>
                  <a:lnTo>
                    <a:pt x="1131" y="1526"/>
                  </a:lnTo>
                  <a:lnTo>
                    <a:pt x="1165" y="1538"/>
                  </a:lnTo>
                  <a:lnTo>
                    <a:pt x="1199" y="1554"/>
                  </a:lnTo>
                  <a:lnTo>
                    <a:pt x="1226" y="1576"/>
                  </a:lnTo>
                  <a:lnTo>
                    <a:pt x="1228" y="1607"/>
                  </a:lnTo>
                  <a:lnTo>
                    <a:pt x="1234" y="1633"/>
                  </a:lnTo>
                  <a:lnTo>
                    <a:pt x="1247" y="1659"/>
                  </a:lnTo>
                  <a:lnTo>
                    <a:pt x="1270" y="1682"/>
                  </a:lnTo>
                  <a:lnTo>
                    <a:pt x="1271" y="1704"/>
                  </a:lnTo>
                  <a:lnTo>
                    <a:pt x="1275" y="1726"/>
                  </a:lnTo>
                  <a:lnTo>
                    <a:pt x="1289" y="1769"/>
                  </a:lnTo>
                  <a:lnTo>
                    <a:pt x="1303" y="1813"/>
                  </a:lnTo>
                  <a:lnTo>
                    <a:pt x="1309" y="1834"/>
                  </a:lnTo>
                  <a:lnTo>
                    <a:pt x="1311" y="1855"/>
                  </a:lnTo>
                  <a:lnTo>
                    <a:pt x="1346" y="1874"/>
                  </a:lnTo>
                  <a:lnTo>
                    <a:pt x="1383" y="1900"/>
                  </a:lnTo>
                  <a:lnTo>
                    <a:pt x="1419" y="1925"/>
                  </a:lnTo>
                  <a:lnTo>
                    <a:pt x="1451" y="1951"/>
                  </a:lnTo>
                  <a:lnTo>
                    <a:pt x="1447" y="1931"/>
                  </a:lnTo>
                  <a:lnTo>
                    <a:pt x="1441" y="1913"/>
                  </a:lnTo>
                  <a:lnTo>
                    <a:pt x="1432" y="1895"/>
                  </a:lnTo>
                  <a:lnTo>
                    <a:pt x="1417" y="1879"/>
                  </a:lnTo>
                  <a:lnTo>
                    <a:pt x="1388" y="1852"/>
                  </a:lnTo>
                  <a:lnTo>
                    <a:pt x="1354" y="1832"/>
                  </a:lnTo>
                  <a:lnTo>
                    <a:pt x="1356" y="1807"/>
                  </a:lnTo>
                  <a:lnTo>
                    <a:pt x="1360" y="1781"/>
                  </a:lnTo>
                  <a:lnTo>
                    <a:pt x="1366" y="1738"/>
                  </a:lnTo>
                  <a:lnTo>
                    <a:pt x="1380" y="1735"/>
                  </a:lnTo>
                  <a:lnTo>
                    <a:pt x="1391" y="1732"/>
                  </a:lnTo>
                  <a:lnTo>
                    <a:pt x="1403" y="1727"/>
                  </a:lnTo>
                  <a:lnTo>
                    <a:pt x="1417" y="1726"/>
                  </a:lnTo>
                  <a:lnTo>
                    <a:pt x="1445" y="1761"/>
                  </a:lnTo>
                  <a:lnTo>
                    <a:pt x="1471" y="1801"/>
                  </a:lnTo>
                  <a:lnTo>
                    <a:pt x="1496" y="1840"/>
                  </a:lnTo>
                  <a:lnTo>
                    <a:pt x="1526" y="1876"/>
                  </a:lnTo>
                  <a:lnTo>
                    <a:pt x="1528" y="1900"/>
                  </a:lnTo>
                  <a:lnTo>
                    <a:pt x="1534" y="1928"/>
                  </a:lnTo>
                  <a:lnTo>
                    <a:pt x="1555" y="1991"/>
                  </a:lnTo>
                  <a:lnTo>
                    <a:pt x="1585" y="2051"/>
                  </a:lnTo>
                  <a:lnTo>
                    <a:pt x="1599" y="2075"/>
                  </a:lnTo>
                  <a:lnTo>
                    <a:pt x="1613" y="2091"/>
                  </a:lnTo>
                  <a:lnTo>
                    <a:pt x="1608" y="2146"/>
                  </a:lnTo>
                  <a:lnTo>
                    <a:pt x="1600" y="2198"/>
                  </a:lnTo>
                  <a:lnTo>
                    <a:pt x="1592" y="2250"/>
                  </a:lnTo>
                  <a:lnTo>
                    <a:pt x="1591" y="2304"/>
                  </a:lnTo>
                  <a:lnTo>
                    <a:pt x="1642" y="2357"/>
                  </a:lnTo>
                  <a:lnTo>
                    <a:pt x="1641" y="2381"/>
                  </a:lnTo>
                  <a:lnTo>
                    <a:pt x="1636" y="2405"/>
                  </a:lnTo>
                  <a:lnTo>
                    <a:pt x="1621" y="2450"/>
                  </a:lnTo>
                  <a:lnTo>
                    <a:pt x="1599" y="2493"/>
                  </a:lnTo>
                  <a:lnTo>
                    <a:pt x="1569" y="2529"/>
                  </a:lnTo>
                  <a:lnTo>
                    <a:pt x="1569" y="2658"/>
                  </a:lnTo>
                  <a:lnTo>
                    <a:pt x="1526" y="2700"/>
                  </a:lnTo>
                  <a:lnTo>
                    <a:pt x="1472" y="2645"/>
                  </a:lnTo>
                  <a:lnTo>
                    <a:pt x="1466" y="2679"/>
                  </a:lnTo>
                  <a:lnTo>
                    <a:pt x="1459" y="2716"/>
                  </a:lnTo>
                  <a:lnTo>
                    <a:pt x="1453" y="2736"/>
                  </a:lnTo>
                  <a:lnTo>
                    <a:pt x="1443" y="2750"/>
                  </a:lnTo>
                  <a:lnTo>
                    <a:pt x="1429" y="2760"/>
                  </a:lnTo>
                  <a:lnTo>
                    <a:pt x="1409" y="2763"/>
                  </a:lnTo>
                  <a:lnTo>
                    <a:pt x="1398" y="2572"/>
                  </a:lnTo>
                  <a:lnTo>
                    <a:pt x="1383" y="2574"/>
                  </a:lnTo>
                  <a:lnTo>
                    <a:pt x="1372" y="2580"/>
                  </a:lnTo>
                  <a:lnTo>
                    <a:pt x="1344" y="2600"/>
                  </a:lnTo>
                  <a:lnTo>
                    <a:pt x="1301" y="2645"/>
                  </a:lnTo>
                  <a:lnTo>
                    <a:pt x="1257" y="2645"/>
                  </a:lnTo>
                  <a:lnTo>
                    <a:pt x="1222" y="2612"/>
                  </a:lnTo>
                  <a:lnTo>
                    <a:pt x="1208" y="2594"/>
                  </a:lnTo>
                  <a:lnTo>
                    <a:pt x="1204" y="2585"/>
                  </a:lnTo>
                  <a:lnTo>
                    <a:pt x="1204" y="2572"/>
                  </a:lnTo>
                  <a:lnTo>
                    <a:pt x="1200" y="2592"/>
                  </a:lnTo>
                  <a:lnTo>
                    <a:pt x="1204" y="2600"/>
                  </a:lnTo>
                  <a:lnTo>
                    <a:pt x="1214" y="2604"/>
                  </a:lnTo>
                  <a:lnTo>
                    <a:pt x="1236" y="2604"/>
                  </a:lnTo>
                  <a:lnTo>
                    <a:pt x="1291" y="2551"/>
                  </a:lnTo>
                  <a:lnTo>
                    <a:pt x="1307" y="2522"/>
                  </a:lnTo>
                  <a:lnTo>
                    <a:pt x="1328" y="2486"/>
                  </a:lnTo>
                  <a:lnTo>
                    <a:pt x="1382" y="2410"/>
                  </a:lnTo>
                  <a:lnTo>
                    <a:pt x="1407" y="2371"/>
                  </a:lnTo>
                  <a:lnTo>
                    <a:pt x="1429" y="2331"/>
                  </a:lnTo>
                  <a:lnTo>
                    <a:pt x="1445" y="2297"/>
                  </a:lnTo>
                  <a:lnTo>
                    <a:pt x="1448" y="2279"/>
                  </a:lnTo>
                  <a:lnTo>
                    <a:pt x="1451" y="2261"/>
                  </a:lnTo>
                  <a:lnTo>
                    <a:pt x="1390" y="2208"/>
                  </a:lnTo>
                  <a:lnTo>
                    <a:pt x="1327" y="2154"/>
                  </a:lnTo>
                  <a:lnTo>
                    <a:pt x="1263" y="2103"/>
                  </a:lnTo>
                  <a:lnTo>
                    <a:pt x="1204" y="2048"/>
                  </a:lnTo>
                  <a:lnTo>
                    <a:pt x="1166" y="2041"/>
                  </a:lnTo>
                  <a:lnTo>
                    <a:pt x="1147" y="2038"/>
                  </a:lnTo>
                  <a:lnTo>
                    <a:pt x="1129" y="2036"/>
                  </a:lnTo>
                  <a:lnTo>
                    <a:pt x="1113" y="2014"/>
                  </a:lnTo>
                  <a:lnTo>
                    <a:pt x="1110" y="2000"/>
                  </a:lnTo>
                  <a:lnTo>
                    <a:pt x="1108" y="1984"/>
                  </a:lnTo>
                  <a:lnTo>
                    <a:pt x="1257" y="1832"/>
                  </a:lnTo>
                  <a:lnTo>
                    <a:pt x="1257" y="1769"/>
                  </a:lnTo>
                  <a:lnTo>
                    <a:pt x="1230" y="1759"/>
                  </a:lnTo>
                  <a:lnTo>
                    <a:pt x="1199" y="1745"/>
                  </a:lnTo>
                  <a:lnTo>
                    <a:pt x="1166" y="1727"/>
                  </a:lnTo>
                  <a:lnTo>
                    <a:pt x="1141" y="1704"/>
                  </a:lnTo>
                  <a:lnTo>
                    <a:pt x="1135" y="1678"/>
                  </a:lnTo>
                  <a:lnTo>
                    <a:pt x="1123" y="1651"/>
                  </a:lnTo>
                  <a:lnTo>
                    <a:pt x="1108" y="1623"/>
                  </a:lnTo>
                  <a:lnTo>
                    <a:pt x="1097" y="1598"/>
                  </a:lnTo>
                  <a:lnTo>
                    <a:pt x="1045" y="1541"/>
                  </a:lnTo>
                  <a:lnTo>
                    <a:pt x="974" y="1463"/>
                  </a:lnTo>
                  <a:lnTo>
                    <a:pt x="912" y="1397"/>
                  </a:lnTo>
                  <a:lnTo>
                    <a:pt x="896" y="1374"/>
                  </a:lnTo>
                  <a:lnTo>
                    <a:pt x="893" y="1369"/>
                  </a:lnTo>
                  <a:lnTo>
                    <a:pt x="893" y="1365"/>
                  </a:lnTo>
                  <a:close/>
                </a:path>
              </a:pathLst>
            </a:custGeom>
            <a:blipFill rotWithShape="0">
              <a:blip r:embed="rId7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1290240" y="1080720"/>
              <a:ext cx="265680" cy="158400"/>
            </a:xfrm>
            <a:custGeom>
              <a:avLst/>
              <a:gdLst/>
              <a:ahLst/>
              <a:rect l="l" t="t" r="r" b="b"/>
              <a:pathLst>
                <a:path w="2070" h="1366">
                  <a:moveTo>
                    <a:pt x="2070" y="4"/>
                  </a:moveTo>
                  <a:lnTo>
                    <a:pt x="2059" y="19"/>
                  </a:lnTo>
                  <a:lnTo>
                    <a:pt x="2044" y="34"/>
                  </a:lnTo>
                  <a:lnTo>
                    <a:pt x="2020" y="58"/>
                  </a:lnTo>
                  <a:lnTo>
                    <a:pt x="2010" y="71"/>
                  </a:lnTo>
                  <a:lnTo>
                    <a:pt x="2007" y="87"/>
                  </a:lnTo>
                  <a:lnTo>
                    <a:pt x="2012" y="105"/>
                  </a:lnTo>
                  <a:lnTo>
                    <a:pt x="2025" y="126"/>
                  </a:lnTo>
                  <a:lnTo>
                    <a:pt x="2020" y="166"/>
                  </a:lnTo>
                  <a:lnTo>
                    <a:pt x="2017" y="189"/>
                  </a:lnTo>
                  <a:lnTo>
                    <a:pt x="2021" y="205"/>
                  </a:lnTo>
                  <a:lnTo>
                    <a:pt x="2015" y="212"/>
                  </a:lnTo>
                  <a:lnTo>
                    <a:pt x="2007" y="212"/>
                  </a:lnTo>
                  <a:lnTo>
                    <a:pt x="1999" y="212"/>
                  </a:lnTo>
                  <a:lnTo>
                    <a:pt x="1992" y="215"/>
                  </a:lnTo>
                  <a:lnTo>
                    <a:pt x="1978" y="325"/>
                  </a:lnTo>
                  <a:lnTo>
                    <a:pt x="2015" y="332"/>
                  </a:lnTo>
                  <a:lnTo>
                    <a:pt x="1978" y="367"/>
                  </a:lnTo>
                  <a:lnTo>
                    <a:pt x="1923" y="395"/>
                  </a:lnTo>
                  <a:lnTo>
                    <a:pt x="1868" y="424"/>
                  </a:lnTo>
                  <a:lnTo>
                    <a:pt x="1842" y="442"/>
                  </a:lnTo>
                  <a:lnTo>
                    <a:pt x="1816" y="461"/>
                  </a:lnTo>
                  <a:lnTo>
                    <a:pt x="1795" y="485"/>
                  </a:lnTo>
                  <a:lnTo>
                    <a:pt x="1774" y="511"/>
                  </a:lnTo>
                  <a:lnTo>
                    <a:pt x="1670" y="542"/>
                  </a:lnTo>
                  <a:lnTo>
                    <a:pt x="1643" y="571"/>
                  </a:lnTo>
                  <a:lnTo>
                    <a:pt x="1619" y="600"/>
                  </a:lnTo>
                  <a:lnTo>
                    <a:pt x="1619" y="628"/>
                  </a:lnTo>
                  <a:lnTo>
                    <a:pt x="1615" y="657"/>
                  </a:lnTo>
                  <a:lnTo>
                    <a:pt x="1605" y="691"/>
                  </a:lnTo>
                  <a:lnTo>
                    <a:pt x="1591" y="720"/>
                  </a:lnTo>
                  <a:lnTo>
                    <a:pt x="1593" y="743"/>
                  </a:lnTo>
                  <a:lnTo>
                    <a:pt x="1601" y="762"/>
                  </a:lnTo>
                  <a:lnTo>
                    <a:pt x="1609" y="780"/>
                  </a:lnTo>
                  <a:lnTo>
                    <a:pt x="1620" y="795"/>
                  </a:lnTo>
                  <a:lnTo>
                    <a:pt x="1646" y="827"/>
                  </a:lnTo>
                  <a:lnTo>
                    <a:pt x="1670" y="858"/>
                  </a:lnTo>
                  <a:lnTo>
                    <a:pt x="1672" y="876"/>
                  </a:lnTo>
                  <a:lnTo>
                    <a:pt x="1678" y="896"/>
                  </a:lnTo>
                  <a:lnTo>
                    <a:pt x="1668" y="884"/>
                  </a:lnTo>
                  <a:lnTo>
                    <a:pt x="1662" y="879"/>
                  </a:lnTo>
                  <a:lnTo>
                    <a:pt x="1656" y="880"/>
                  </a:lnTo>
                  <a:lnTo>
                    <a:pt x="1652" y="888"/>
                  </a:lnTo>
                  <a:lnTo>
                    <a:pt x="1648" y="914"/>
                  </a:lnTo>
                  <a:lnTo>
                    <a:pt x="1646" y="945"/>
                  </a:lnTo>
                  <a:lnTo>
                    <a:pt x="1648" y="1000"/>
                  </a:lnTo>
                  <a:lnTo>
                    <a:pt x="1648" y="977"/>
                  </a:lnTo>
                  <a:lnTo>
                    <a:pt x="1651" y="999"/>
                  </a:lnTo>
                  <a:lnTo>
                    <a:pt x="1654" y="1010"/>
                  </a:lnTo>
                  <a:lnTo>
                    <a:pt x="1660" y="1016"/>
                  </a:lnTo>
                  <a:lnTo>
                    <a:pt x="1662" y="1018"/>
                  </a:lnTo>
                  <a:lnTo>
                    <a:pt x="1654" y="1020"/>
                  </a:lnTo>
                  <a:lnTo>
                    <a:pt x="1612" y="1040"/>
                  </a:lnTo>
                  <a:lnTo>
                    <a:pt x="1597" y="1036"/>
                  </a:lnTo>
                  <a:lnTo>
                    <a:pt x="1581" y="1024"/>
                  </a:lnTo>
                  <a:lnTo>
                    <a:pt x="1567" y="1008"/>
                  </a:lnTo>
                  <a:lnTo>
                    <a:pt x="1557" y="989"/>
                  </a:lnTo>
                  <a:lnTo>
                    <a:pt x="1581" y="942"/>
                  </a:lnTo>
                  <a:lnTo>
                    <a:pt x="1578" y="934"/>
                  </a:lnTo>
                  <a:lnTo>
                    <a:pt x="1571" y="927"/>
                  </a:lnTo>
                  <a:lnTo>
                    <a:pt x="1557" y="918"/>
                  </a:lnTo>
                  <a:lnTo>
                    <a:pt x="1539" y="910"/>
                  </a:lnTo>
                  <a:lnTo>
                    <a:pt x="1524" y="896"/>
                  </a:lnTo>
                  <a:lnTo>
                    <a:pt x="1522" y="833"/>
                  </a:lnTo>
                  <a:lnTo>
                    <a:pt x="1510" y="817"/>
                  </a:lnTo>
                  <a:lnTo>
                    <a:pt x="1497" y="809"/>
                  </a:lnTo>
                  <a:lnTo>
                    <a:pt x="1479" y="803"/>
                  </a:lnTo>
                  <a:lnTo>
                    <a:pt x="1461" y="799"/>
                  </a:lnTo>
                  <a:lnTo>
                    <a:pt x="1421" y="793"/>
                  </a:lnTo>
                  <a:lnTo>
                    <a:pt x="1403" y="788"/>
                  </a:lnTo>
                  <a:lnTo>
                    <a:pt x="1387" y="777"/>
                  </a:lnTo>
                  <a:lnTo>
                    <a:pt x="1337" y="777"/>
                  </a:lnTo>
                  <a:lnTo>
                    <a:pt x="1327" y="782"/>
                  </a:lnTo>
                  <a:lnTo>
                    <a:pt x="1319" y="791"/>
                  </a:lnTo>
                  <a:lnTo>
                    <a:pt x="1306" y="819"/>
                  </a:lnTo>
                  <a:lnTo>
                    <a:pt x="1287" y="872"/>
                  </a:lnTo>
                  <a:lnTo>
                    <a:pt x="1282" y="890"/>
                  </a:lnTo>
                  <a:lnTo>
                    <a:pt x="1282" y="900"/>
                  </a:lnTo>
                  <a:lnTo>
                    <a:pt x="1285" y="906"/>
                  </a:lnTo>
                  <a:lnTo>
                    <a:pt x="1277" y="914"/>
                  </a:lnTo>
                  <a:lnTo>
                    <a:pt x="1241" y="955"/>
                  </a:lnTo>
                  <a:lnTo>
                    <a:pt x="1246" y="971"/>
                  </a:lnTo>
                  <a:lnTo>
                    <a:pt x="1258" y="981"/>
                  </a:lnTo>
                  <a:lnTo>
                    <a:pt x="1274" y="987"/>
                  </a:lnTo>
                  <a:lnTo>
                    <a:pt x="1295" y="989"/>
                  </a:lnTo>
                  <a:lnTo>
                    <a:pt x="1335" y="989"/>
                  </a:lnTo>
                  <a:lnTo>
                    <a:pt x="1364" y="989"/>
                  </a:lnTo>
                  <a:lnTo>
                    <a:pt x="1410" y="971"/>
                  </a:lnTo>
                  <a:lnTo>
                    <a:pt x="1411" y="984"/>
                  </a:lnTo>
                  <a:lnTo>
                    <a:pt x="1419" y="992"/>
                  </a:lnTo>
                  <a:lnTo>
                    <a:pt x="1429" y="1000"/>
                  </a:lnTo>
                  <a:lnTo>
                    <a:pt x="1441" y="1005"/>
                  </a:lnTo>
                  <a:lnTo>
                    <a:pt x="1458" y="1034"/>
                  </a:lnTo>
                  <a:lnTo>
                    <a:pt x="1474" y="1055"/>
                  </a:lnTo>
                  <a:lnTo>
                    <a:pt x="1484" y="1065"/>
                  </a:lnTo>
                  <a:lnTo>
                    <a:pt x="1471" y="1071"/>
                  </a:lnTo>
                  <a:lnTo>
                    <a:pt x="1461" y="1081"/>
                  </a:lnTo>
                  <a:lnTo>
                    <a:pt x="1447" y="1107"/>
                  </a:lnTo>
                  <a:lnTo>
                    <a:pt x="1435" y="1139"/>
                  </a:lnTo>
                  <a:lnTo>
                    <a:pt x="1427" y="1152"/>
                  </a:lnTo>
                  <a:lnTo>
                    <a:pt x="1418" y="1167"/>
                  </a:lnTo>
                  <a:lnTo>
                    <a:pt x="1421" y="1172"/>
                  </a:lnTo>
                  <a:lnTo>
                    <a:pt x="1431" y="1172"/>
                  </a:lnTo>
                  <a:lnTo>
                    <a:pt x="1443" y="1172"/>
                  </a:lnTo>
                  <a:lnTo>
                    <a:pt x="1455" y="1175"/>
                  </a:lnTo>
                  <a:lnTo>
                    <a:pt x="1450" y="1184"/>
                  </a:lnTo>
                  <a:lnTo>
                    <a:pt x="1445" y="1193"/>
                  </a:lnTo>
                  <a:lnTo>
                    <a:pt x="1431" y="1202"/>
                  </a:lnTo>
                  <a:lnTo>
                    <a:pt x="1416" y="1212"/>
                  </a:lnTo>
                  <a:lnTo>
                    <a:pt x="1402" y="1224"/>
                  </a:lnTo>
                  <a:lnTo>
                    <a:pt x="1387" y="1285"/>
                  </a:lnTo>
                  <a:lnTo>
                    <a:pt x="1380" y="1295"/>
                  </a:lnTo>
                  <a:lnTo>
                    <a:pt x="1371" y="1304"/>
                  </a:lnTo>
                  <a:lnTo>
                    <a:pt x="1362" y="1316"/>
                  </a:lnTo>
                  <a:lnTo>
                    <a:pt x="1364" y="1332"/>
                  </a:lnTo>
                  <a:lnTo>
                    <a:pt x="1356" y="1326"/>
                  </a:lnTo>
                  <a:lnTo>
                    <a:pt x="1356" y="1319"/>
                  </a:lnTo>
                  <a:lnTo>
                    <a:pt x="1358" y="1306"/>
                  </a:lnTo>
                  <a:lnTo>
                    <a:pt x="1356" y="1295"/>
                  </a:lnTo>
                  <a:lnTo>
                    <a:pt x="1346" y="1293"/>
                  </a:lnTo>
                  <a:lnTo>
                    <a:pt x="1340" y="1296"/>
                  </a:lnTo>
                  <a:lnTo>
                    <a:pt x="1327" y="1311"/>
                  </a:lnTo>
                  <a:lnTo>
                    <a:pt x="1313" y="1324"/>
                  </a:lnTo>
                  <a:lnTo>
                    <a:pt x="1305" y="1330"/>
                  </a:lnTo>
                  <a:lnTo>
                    <a:pt x="1295" y="1332"/>
                  </a:lnTo>
                  <a:lnTo>
                    <a:pt x="1277" y="1332"/>
                  </a:lnTo>
                  <a:lnTo>
                    <a:pt x="1261" y="1330"/>
                  </a:lnTo>
                  <a:lnTo>
                    <a:pt x="1232" y="1321"/>
                  </a:lnTo>
                  <a:lnTo>
                    <a:pt x="1218" y="1319"/>
                  </a:lnTo>
                  <a:lnTo>
                    <a:pt x="1202" y="1321"/>
                  </a:lnTo>
                  <a:lnTo>
                    <a:pt x="1186" y="1329"/>
                  </a:lnTo>
                  <a:lnTo>
                    <a:pt x="1169" y="1342"/>
                  </a:lnTo>
                  <a:lnTo>
                    <a:pt x="1133" y="1348"/>
                  </a:lnTo>
                  <a:lnTo>
                    <a:pt x="1112" y="1356"/>
                  </a:lnTo>
                  <a:lnTo>
                    <a:pt x="1104" y="1361"/>
                  </a:lnTo>
                  <a:lnTo>
                    <a:pt x="1102" y="1366"/>
                  </a:lnTo>
                  <a:lnTo>
                    <a:pt x="1086" y="1360"/>
                  </a:lnTo>
                  <a:lnTo>
                    <a:pt x="1073" y="1350"/>
                  </a:lnTo>
                  <a:lnTo>
                    <a:pt x="1064" y="1337"/>
                  </a:lnTo>
                  <a:lnTo>
                    <a:pt x="1057" y="1319"/>
                  </a:lnTo>
                  <a:lnTo>
                    <a:pt x="1049" y="1301"/>
                  </a:lnTo>
                  <a:lnTo>
                    <a:pt x="1034" y="1287"/>
                  </a:lnTo>
                  <a:lnTo>
                    <a:pt x="1017" y="1275"/>
                  </a:lnTo>
                  <a:lnTo>
                    <a:pt x="997" y="1265"/>
                  </a:lnTo>
                  <a:lnTo>
                    <a:pt x="953" y="1251"/>
                  </a:lnTo>
                  <a:lnTo>
                    <a:pt x="913" y="1235"/>
                  </a:lnTo>
                  <a:lnTo>
                    <a:pt x="908" y="1220"/>
                  </a:lnTo>
                  <a:lnTo>
                    <a:pt x="900" y="1208"/>
                  </a:lnTo>
                  <a:lnTo>
                    <a:pt x="888" y="1198"/>
                  </a:lnTo>
                  <a:lnTo>
                    <a:pt x="874" y="1193"/>
                  </a:lnTo>
                  <a:lnTo>
                    <a:pt x="843" y="1186"/>
                  </a:lnTo>
                  <a:lnTo>
                    <a:pt x="817" y="1188"/>
                  </a:lnTo>
                  <a:lnTo>
                    <a:pt x="855" y="1167"/>
                  </a:lnTo>
                  <a:lnTo>
                    <a:pt x="845" y="1160"/>
                  </a:lnTo>
                  <a:lnTo>
                    <a:pt x="835" y="1157"/>
                  </a:lnTo>
                  <a:lnTo>
                    <a:pt x="809" y="1151"/>
                  </a:lnTo>
                  <a:lnTo>
                    <a:pt x="783" y="1152"/>
                  </a:lnTo>
                  <a:lnTo>
                    <a:pt x="758" y="1157"/>
                  </a:lnTo>
                  <a:lnTo>
                    <a:pt x="756" y="1164"/>
                  </a:lnTo>
                  <a:lnTo>
                    <a:pt x="758" y="1170"/>
                  </a:lnTo>
                  <a:lnTo>
                    <a:pt x="767" y="1176"/>
                  </a:lnTo>
                  <a:lnTo>
                    <a:pt x="780" y="1180"/>
                  </a:lnTo>
                  <a:lnTo>
                    <a:pt x="785" y="1184"/>
                  </a:lnTo>
                  <a:lnTo>
                    <a:pt x="788" y="1188"/>
                  </a:lnTo>
                  <a:lnTo>
                    <a:pt x="735" y="1168"/>
                  </a:lnTo>
                  <a:lnTo>
                    <a:pt x="722" y="1157"/>
                  </a:lnTo>
                  <a:lnTo>
                    <a:pt x="709" y="1144"/>
                  </a:lnTo>
                  <a:lnTo>
                    <a:pt x="697" y="1128"/>
                  </a:lnTo>
                  <a:lnTo>
                    <a:pt x="685" y="1107"/>
                  </a:lnTo>
                  <a:lnTo>
                    <a:pt x="675" y="1101"/>
                  </a:lnTo>
                  <a:lnTo>
                    <a:pt x="665" y="1097"/>
                  </a:lnTo>
                  <a:lnTo>
                    <a:pt x="639" y="1096"/>
                  </a:lnTo>
                  <a:lnTo>
                    <a:pt x="612" y="1097"/>
                  </a:lnTo>
                  <a:lnTo>
                    <a:pt x="586" y="1096"/>
                  </a:lnTo>
                  <a:lnTo>
                    <a:pt x="584" y="1094"/>
                  </a:lnTo>
                  <a:lnTo>
                    <a:pt x="583" y="1086"/>
                  </a:lnTo>
                  <a:lnTo>
                    <a:pt x="583" y="1060"/>
                  </a:lnTo>
                  <a:lnTo>
                    <a:pt x="584" y="1024"/>
                  </a:lnTo>
                  <a:lnTo>
                    <a:pt x="565" y="896"/>
                  </a:lnTo>
                  <a:lnTo>
                    <a:pt x="573" y="888"/>
                  </a:lnTo>
                  <a:lnTo>
                    <a:pt x="586" y="880"/>
                  </a:lnTo>
                  <a:lnTo>
                    <a:pt x="549" y="777"/>
                  </a:lnTo>
                  <a:lnTo>
                    <a:pt x="545" y="774"/>
                  </a:lnTo>
                  <a:lnTo>
                    <a:pt x="537" y="770"/>
                  </a:lnTo>
                  <a:lnTo>
                    <a:pt x="519" y="762"/>
                  </a:lnTo>
                  <a:lnTo>
                    <a:pt x="510" y="748"/>
                  </a:lnTo>
                  <a:lnTo>
                    <a:pt x="495" y="736"/>
                  </a:lnTo>
                  <a:lnTo>
                    <a:pt x="460" y="710"/>
                  </a:lnTo>
                  <a:lnTo>
                    <a:pt x="439" y="725"/>
                  </a:lnTo>
                  <a:lnTo>
                    <a:pt x="414" y="743"/>
                  </a:lnTo>
                  <a:lnTo>
                    <a:pt x="389" y="760"/>
                  </a:lnTo>
                  <a:lnTo>
                    <a:pt x="369" y="770"/>
                  </a:lnTo>
                  <a:lnTo>
                    <a:pt x="366" y="777"/>
                  </a:lnTo>
                  <a:lnTo>
                    <a:pt x="367" y="783"/>
                  </a:lnTo>
                  <a:lnTo>
                    <a:pt x="377" y="795"/>
                  </a:lnTo>
                  <a:lnTo>
                    <a:pt x="389" y="807"/>
                  </a:lnTo>
                  <a:lnTo>
                    <a:pt x="395" y="813"/>
                  </a:lnTo>
                  <a:lnTo>
                    <a:pt x="397" y="821"/>
                  </a:lnTo>
                  <a:lnTo>
                    <a:pt x="395" y="833"/>
                  </a:lnTo>
                  <a:lnTo>
                    <a:pt x="389" y="840"/>
                  </a:lnTo>
                  <a:lnTo>
                    <a:pt x="383" y="848"/>
                  </a:lnTo>
                  <a:lnTo>
                    <a:pt x="377" y="858"/>
                  </a:lnTo>
                  <a:lnTo>
                    <a:pt x="379" y="874"/>
                  </a:lnTo>
                  <a:lnTo>
                    <a:pt x="387" y="884"/>
                  </a:lnTo>
                  <a:lnTo>
                    <a:pt x="397" y="888"/>
                  </a:lnTo>
                  <a:lnTo>
                    <a:pt x="413" y="892"/>
                  </a:lnTo>
                  <a:lnTo>
                    <a:pt x="401" y="903"/>
                  </a:lnTo>
                  <a:lnTo>
                    <a:pt x="389" y="919"/>
                  </a:lnTo>
                  <a:lnTo>
                    <a:pt x="340" y="957"/>
                  </a:lnTo>
                  <a:lnTo>
                    <a:pt x="308" y="999"/>
                  </a:lnTo>
                  <a:lnTo>
                    <a:pt x="288" y="1013"/>
                  </a:lnTo>
                  <a:lnTo>
                    <a:pt x="257" y="1028"/>
                  </a:lnTo>
                  <a:lnTo>
                    <a:pt x="225" y="1046"/>
                  </a:lnTo>
                  <a:lnTo>
                    <a:pt x="214" y="1055"/>
                  </a:lnTo>
                  <a:lnTo>
                    <a:pt x="209" y="1065"/>
                  </a:lnTo>
                  <a:lnTo>
                    <a:pt x="101" y="1115"/>
                  </a:lnTo>
                  <a:lnTo>
                    <a:pt x="89" y="1135"/>
                  </a:lnTo>
                  <a:lnTo>
                    <a:pt x="69" y="1178"/>
                  </a:lnTo>
                  <a:lnTo>
                    <a:pt x="45" y="1224"/>
                  </a:lnTo>
                  <a:lnTo>
                    <a:pt x="37" y="1240"/>
                  </a:lnTo>
                  <a:lnTo>
                    <a:pt x="32" y="1245"/>
                  </a:lnTo>
                  <a:lnTo>
                    <a:pt x="0" y="1232"/>
                  </a:lnTo>
                  <a:lnTo>
                    <a:pt x="5" y="1200"/>
                  </a:lnTo>
                  <a:lnTo>
                    <a:pt x="16" y="1167"/>
                  </a:lnTo>
                  <a:lnTo>
                    <a:pt x="32" y="1128"/>
                  </a:lnTo>
                  <a:lnTo>
                    <a:pt x="45" y="1086"/>
                  </a:lnTo>
                  <a:lnTo>
                    <a:pt x="58" y="1046"/>
                  </a:lnTo>
                  <a:lnTo>
                    <a:pt x="79" y="999"/>
                  </a:lnTo>
                  <a:lnTo>
                    <a:pt x="113" y="947"/>
                  </a:lnTo>
                  <a:lnTo>
                    <a:pt x="157" y="892"/>
                  </a:lnTo>
                  <a:lnTo>
                    <a:pt x="206" y="825"/>
                  </a:lnTo>
                  <a:lnTo>
                    <a:pt x="207" y="809"/>
                  </a:lnTo>
                  <a:lnTo>
                    <a:pt x="204" y="791"/>
                  </a:lnTo>
                  <a:lnTo>
                    <a:pt x="197" y="772"/>
                  </a:lnTo>
                  <a:lnTo>
                    <a:pt x="196" y="752"/>
                  </a:lnTo>
                  <a:lnTo>
                    <a:pt x="262" y="670"/>
                  </a:lnTo>
                  <a:lnTo>
                    <a:pt x="265" y="576"/>
                  </a:lnTo>
                  <a:lnTo>
                    <a:pt x="286" y="557"/>
                  </a:lnTo>
                  <a:lnTo>
                    <a:pt x="306" y="533"/>
                  </a:lnTo>
                  <a:lnTo>
                    <a:pt x="314" y="521"/>
                  </a:lnTo>
                  <a:lnTo>
                    <a:pt x="322" y="505"/>
                  </a:lnTo>
                  <a:lnTo>
                    <a:pt x="326" y="490"/>
                  </a:lnTo>
                  <a:lnTo>
                    <a:pt x="328" y="469"/>
                  </a:lnTo>
                  <a:lnTo>
                    <a:pt x="406" y="357"/>
                  </a:lnTo>
                  <a:lnTo>
                    <a:pt x="424" y="349"/>
                  </a:lnTo>
                  <a:lnTo>
                    <a:pt x="448" y="338"/>
                  </a:lnTo>
                  <a:lnTo>
                    <a:pt x="474" y="330"/>
                  </a:lnTo>
                  <a:lnTo>
                    <a:pt x="484" y="330"/>
                  </a:lnTo>
                  <a:lnTo>
                    <a:pt x="494" y="332"/>
                  </a:lnTo>
                  <a:lnTo>
                    <a:pt x="492" y="346"/>
                  </a:lnTo>
                  <a:lnTo>
                    <a:pt x="494" y="353"/>
                  </a:lnTo>
                  <a:lnTo>
                    <a:pt x="497" y="364"/>
                  </a:lnTo>
                  <a:lnTo>
                    <a:pt x="553" y="332"/>
                  </a:lnTo>
                  <a:lnTo>
                    <a:pt x="578" y="332"/>
                  </a:lnTo>
                  <a:lnTo>
                    <a:pt x="604" y="330"/>
                  </a:lnTo>
                  <a:lnTo>
                    <a:pt x="630" y="322"/>
                  </a:lnTo>
                  <a:lnTo>
                    <a:pt x="641" y="314"/>
                  </a:lnTo>
                  <a:lnTo>
                    <a:pt x="654" y="304"/>
                  </a:lnTo>
                  <a:lnTo>
                    <a:pt x="657" y="247"/>
                  </a:lnTo>
                  <a:lnTo>
                    <a:pt x="652" y="233"/>
                  </a:lnTo>
                  <a:lnTo>
                    <a:pt x="638" y="220"/>
                  </a:lnTo>
                  <a:lnTo>
                    <a:pt x="659" y="191"/>
                  </a:lnTo>
                  <a:lnTo>
                    <a:pt x="683" y="164"/>
                  </a:lnTo>
                  <a:lnTo>
                    <a:pt x="703" y="136"/>
                  </a:lnTo>
                  <a:lnTo>
                    <a:pt x="711" y="123"/>
                  </a:lnTo>
                  <a:lnTo>
                    <a:pt x="719" y="105"/>
                  </a:lnTo>
                  <a:lnTo>
                    <a:pt x="722" y="115"/>
                  </a:lnTo>
                  <a:lnTo>
                    <a:pt x="733" y="124"/>
                  </a:lnTo>
                  <a:lnTo>
                    <a:pt x="751" y="139"/>
                  </a:lnTo>
                  <a:lnTo>
                    <a:pt x="770" y="142"/>
                  </a:lnTo>
                  <a:lnTo>
                    <a:pt x="782" y="148"/>
                  </a:lnTo>
                  <a:lnTo>
                    <a:pt x="793" y="154"/>
                  </a:lnTo>
                  <a:lnTo>
                    <a:pt x="817" y="152"/>
                  </a:lnTo>
                  <a:lnTo>
                    <a:pt x="825" y="146"/>
                  </a:lnTo>
                  <a:lnTo>
                    <a:pt x="835" y="140"/>
                  </a:lnTo>
                  <a:lnTo>
                    <a:pt x="845" y="134"/>
                  </a:lnTo>
                  <a:lnTo>
                    <a:pt x="847" y="131"/>
                  </a:lnTo>
                  <a:lnTo>
                    <a:pt x="847" y="126"/>
                  </a:lnTo>
                  <a:lnTo>
                    <a:pt x="863" y="131"/>
                  </a:lnTo>
                  <a:lnTo>
                    <a:pt x="884" y="140"/>
                  </a:lnTo>
                  <a:lnTo>
                    <a:pt x="952" y="99"/>
                  </a:lnTo>
                  <a:lnTo>
                    <a:pt x="981" y="95"/>
                  </a:lnTo>
                  <a:lnTo>
                    <a:pt x="1013" y="92"/>
                  </a:lnTo>
                  <a:lnTo>
                    <a:pt x="1044" y="92"/>
                  </a:lnTo>
                  <a:lnTo>
                    <a:pt x="1078" y="97"/>
                  </a:lnTo>
                  <a:lnTo>
                    <a:pt x="1110" y="105"/>
                  </a:lnTo>
                  <a:lnTo>
                    <a:pt x="1139" y="116"/>
                  </a:lnTo>
                  <a:lnTo>
                    <a:pt x="1167" y="132"/>
                  </a:lnTo>
                  <a:lnTo>
                    <a:pt x="1191" y="154"/>
                  </a:lnTo>
                  <a:lnTo>
                    <a:pt x="1204" y="168"/>
                  </a:lnTo>
                  <a:lnTo>
                    <a:pt x="1210" y="176"/>
                  </a:lnTo>
                  <a:lnTo>
                    <a:pt x="1216" y="188"/>
                  </a:lnTo>
                  <a:lnTo>
                    <a:pt x="1216" y="204"/>
                  </a:lnTo>
                  <a:lnTo>
                    <a:pt x="1225" y="215"/>
                  </a:lnTo>
                  <a:lnTo>
                    <a:pt x="1250" y="243"/>
                  </a:lnTo>
                  <a:lnTo>
                    <a:pt x="1261" y="241"/>
                  </a:lnTo>
                  <a:lnTo>
                    <a:pt x="1269" y="239"/>
                  </a:lnTo>
                  <a:lnTo>
                    <a:pt x="1274" y="243"/>
                  </a:lnTo>
                  <a:lnTo>
                    <a:pt x="1283" y="254"/>
                  </a:lnTo>
                  <a:lnTo>
                    <a:pt x="1387" y="285"/>
                  </a:lnTo>
                  <a:lnTo>
                    <a:pt x="1394" y="278"/>
                  </a:lnTo>
                  <a:lnTo>
                    <a:pt x="1394" y="269"/>
                  </a:lnTo>
                  <a:lnTo>
                    <a:pt x="1392" y="259"/>
                  </a:lnTo>
                  <a:lnTo>
                    <a:pt x="1392" y="247"/>
                  </a:lnTo>
                  <a:lnTo>
                    <a:pt x="1408" y="249"/>
                  </a:lnTo>
                  <a:lnTo>
                    <a:pt x="1421" y="252"/>
                  </a:lnTo>
                  <a:lnTo>
                    <a:pt x="1437" y="254"/>
                  </a:lnTo>
                  <a:lnTo>
                    <a:pt x="1466" y="257"/>
                  </a:lnTo>
                  <a:lnTo>
                    <a:pt x="1468" y="278"/>
                  </a:lnTo>
                  <a:lnTo>
                    <a:pt x="1528" y="278"/>
                  </a:lnTo>
                  <a:lnTo>
                    <a:pt x="1555" y="254"/>
                  </a:lnTo>
                  <a:lnTo>
                    <a:pt x="1573" y="239"/>
                  </a:lnTo>
                  <a:lnTo>
                    <a:pt x="1587" y="221"/>
                  </a:lnTo>
                  <a:lnTo>
                    <a:pt x="1597" y="213"/>
                  </a:lnTo>
                  <a:lnTo>
                    <a:pt x="1615" y="202"/>
                  </a:lnTo>
                  <a:lnTo>
                    <a:pt x="1704" y="160"/>
                  </a:lnTo>
                  <a:lnTo>
                    <a:pt x="1711" y="154"/>
                  </a:lnTo>
                  <a:lnTo>
                    <a:pt x="1719" y="140"/>
                  </a:lnTo>
                  <a:lnTo>
                    <a:pt x="1725" y="123"/>
                  </a:lnTo>
                  <a:lnTo>
                    <a:pt x="1729" y="105"/>
                  </a:lnTo>
                  <a:lnTo>
                    <a:pt x="1763" y="55"/>
                  </a:lnTo>
                  <a:lnTo>
                    <a:pt x="1779" y="58"/>
                  </a:lnTo>
                  <a:lnTo>
                    <a:pt x="1790" y="63"/>
                  </a:lnTo>
                  <a:lnTo>
                    <a:pt x="1810" y="71"/>
                  </a:lnTo>
                  <a:lnTo>
                    <a:pt x="1842" y="77"/>
                  </a:lnTo>
                  <a:lnTo>
                    <a:pt x="1858" y="76"/>
                  </a:lnTo>
                  <a:lnTo>
                    <a:pt x="1869" y="69"/>
                  </a:lnTo>
                  <a:lnTo>
                    <a:pt x="1884" y="60"/>
                  </a:lnTo>
                  <a:lnTo>
                    <a:pt x="1900" y="47"/>
                  </a:lnTo>
                  <a:lnTo>
                    <a:pt x="1942" y="47"/>
                  </a:lnTo>
                  <a:lnTo>
                    <a:pt x="1978" y="42"/>
                  </a:lnTo>
                  <a:lnTo>
                    <a:pt x="2007" y="32"/>
                  </a:lnTo>
                  <a:lnTo>
                    <a:pt x="2031" y="19"/>
                  </a:lnTo>
                  <a:lnTo>
                    <a:pt x="2061" y="3"/>
                  </a:lnTo>
                  <a:lnTo>
                    <a:pt x="2069" y="0"/>
                  </a:lnTo>
                  <a:lnTo>
                    <a:pt x="2070" y="4"/>
                  </a:lnTo>
                  <a:close/>
                </a:path>
              </a:pathLst>
            </a:custGeom>
            <a:blipFill rotWithShape="0">
              <a:blip r:embed="rId8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a:off x="1556640" y="1082520"/>
              <a:ext cx="720" cy="720"/>
            </a:xfrm>
            <a:custGeom>
              <a:avLst/>
              <a:gdLst/>
              <a:ahLst/>
              <a:rect l="l" t="t" r="r" b="b"/>
              <a:pathLst>
                <a:path w="8" h="8">
                  <a:moveTo>
                    <a:pt x="8" y="8"/>
                  </a:moveTo>
                  <a:lnTo>
                    <a:pt x="8" y="0"/>
                  </a:lnTo>
                  <a:lnTo>
                    <a:pt x="0" y="0"/>
                  </a:lnTo>
                  <a:lnTo>
                    <a:pt x="8" y="8"/>
                  </a:lnTo>
                  <a:close/>
                </a:path>
              </a:pathLst>
            </a:custGeom>
            <a:blipFill rotWithShape="0">
              <a:blip r:embed="rId81"/>
              <a:srcRect/>
              <a:tile tx="0" ty="0" sx="100000" sy="100000" algn="ctr"/>
            </a:blip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376" name=""/>
            <p:cNvSpPr/>
            <p:nvPr/>
          </p:nvSpPr>
          <p:spPr>
            <a:xfrm>
              <a:off x="1556640" y="1114920"/>
              <a:ext cx="720" cy="720"/>
            </a:xfrm>
            <a:custGeom>
              <a:avLst/>
              <a:gdLst/>
              <a:ahLst/>
              <a:rect l="l" t="t" r="r" b="b"/>
              <a:pathLst>
                <a:path w="5" h="4">
                  <a:moveTo>
                    <a:pt x="5" y="4"/>
                  </a:moveTo>
                  <a:lnTo>
                    <a:pt x="5" y="2"/>
                  </a:lnTo>
                  <a:lnTo>
                    <a:pt x="0" y="0"/>
                  </a:lnTo>
                  <a:lnTo>
                    <a:pt x="5" y="4"/>
                  </a:lnTo>
                  <a:close/>
                </a:path>
              </a:pathLst>
            </a:custGeom>
            <a:blipFill rotWithShape="0">
              <a:blip r:embed="rId82"/>
              <a:srcRect/>
              <a:tile tx="0" ty="0" sx="100000" sy="100000" algn="ctr"/>
            </a:blip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377" name=""/>
            <p:cNvSpPr/>
            <p:nvPr/>
          </p:nvSpPr>
          <p:spPr>
            <a:xfrm>
              <a:off x="1490040" y="1330560"/>
              <a:ext cx="286200" cy="209880"/>
            </a:xfrm>
            <a:custGeom>
              <a:avLst/>
              <a:gdLst/>
              <a:ahLst/>
              <a:rect l="l" t="t" r="r" b="b"/>
              <a:pathLst>
                <a:path w="2230" h="1809">
                  <a:moveTo>
                    <a:pt x="1911" y="152"/>
                  </a:moveTo>
                  <a:lnTo>
                    <a:pt x="1925" y="158"/>
                  </a:lnTo>
                  <a:lnTo>
                    <a:pt x="1952" y="160"/>
                  </a:lnTo>
                  <a:lnTo>
                    <a:pt x="1965" y="156"/>
                  </a:lnTo>
                  <a:lnTo>
                    <a:pt x="1976" y="148"/>
                  </a:lnTo>
                  <a:lnTo>
                    <a:pt x="1982" y="136"/>
                  </a:lnTo>
                  <a:lnTo>
                    <a:pt x="1982" y="119"/>
                  </a:lnTo>
                  <a:lnTo>
                    <a:pt x="2012" y="57"/>
                  </a:lnTo>
                  <a:lnTo>
                    <a:pt x="2014" y="61"/>
                  </a:lnTo>
                  <a:lnTo>
                    <a:pt x="2020" y="67"/>
                  </a:lnTo>
                  <a:lnTo>
                    <a:pt x="2025" y="67"/>
                  </a:lnTo>
                  <a:lnTo>
                    <a:pt x="2036" y="65"/>
                  </a:lnTo>
                  <a:lnTo>
                    <a:pt x="2069" y="49"/>
                  </a:lnTo>
                  <a:lnTo>
                    <a:pt x="2101" y="65"/>
                  </a:lnTo>
                  <a:lnTo>
                    <a:pt x="2110" y="67"/>
                  </a:lnTo>
                  <a:lnTo>
                    <a:pt x="2117" y="67"/>
                  </a:lnTo>
                  <a:lnTo>
                    <a:pt x="2122" y="61"/>
                  </a:lnTo>
                  <a:lnTo>
                    <a:pt x="2124" y="57"/>
                  </a:lnTo>
                  <a:lnTo>
                    <a:pt x="2154" y="119"/>
                  </a:lnTo>
                  <a:lnTo>
                    <a:pt x="2148" y="258"/>
                  </a:lnTo>
                  <a:lnTo>
                    <a:pt x="2128" y="255"/>
                  </a:lnTo>
                  <a:lnTo>
                    <a:pt x="2118" y="258"/>
                  </a:lnTo>
                  <a:lnTo>
                    <a:pt x="2118" y="266"/>
                  </a:lnTo>
                  <a:lnTo>
                    <a:pt x="2122" y="276"/>
                  </a:lnTo>
                  <a:lnTo>
                    <a:pt x="2140" y="302"/>
                  </a:lnTo>
                  <a:lnTo>
                    <a:pt x="2154" y="318"/>
                  </a:lnTo>
                  <a:lnTo>
                    <a:pt x="2151" y="341"/>
                  </a:lnTo>
                  <a:lnTo>
                    <a:pt x="2146" y="351"/>
                  </a:lnTo>
                  <a:lnTo>
                    <a:pt x="2117" y="367"/>
                  </a:lnTo>
                  <a:lnTo>
                    <a:pt x="2073" y="448"/>
                  </a:lnTo>
                  <a:lnTo>
                    <a:pt x="2069" y="503"/>
                  </a:lnTo>
                  <a:lnTo>
                    <a:pt x="2158" y="671"/>
                  </a:lnTo>
                  <a:lnTo>
                    <a:pt x="2175" y="692"/>
                  </a:lnTo>
                  <a:lnTo>
                    <a:pt x="2193" y="708"/>
                  </a:lnTo>
                  <a:lnTo>
                    <a:pt x="2211" y="726"/>
                  </a:lnTo>
                  <a:lnTo>
                    <a:pt x="2230" y="754"/>
                  </a:lnTo>
                  <a:lnTo>
                    <a:pt x="2230" y="836"/>
                  </a:lnTo>
                  <a:lnTo>
                    <a:pt x="2217" y="859"/>
                  </a:lnTo>
                  <a:lnTo>
                    <a:pt x="2199" y="882"/>
                  </a:lnTo>
                  <a:lnTo>
                    <a:pt x="2166" y="929"/>
                  </a:lnTo>
                  <a:lnTo>
                    <a:pt x="2154" y="1174"/>
                  </a:lnTo>
                  <a:lnTo>
                    <a:pt x="2144" y="1172"/>
                  </a:lnTo>
                  <a:lnTo>
                    <a:pt x="2135" y="1174"/>
                  </a:lnTo>
                  <a:lnTo>
                    <a:pt x="2128" y="1178"/>
                  </a:lnTo>
                  <a:lnTo>
                    <a:pt x="2122" y="1186"/>
                  </a:lnTo>
                  <a:lnTo>
                    <a:pt x="2114" y="1207"/>
                  </a:lnTo>
                  <a:lnTo>
                    <a:pt x="2112" y="1231"/>
                  </a:lnTo>
                  <a:lnTo>
                    <a:pt x="2112" y="1278"/>
                  </a:lnTo>
                  <a:lnTo>
                    <a:pt x="2117" y="1291"/>
                  </a:lnTo>
                  <a:lnTo>
                    <a:pt x="2154" y="1293"/>
                  </a:lnTo>
                  <a:lnTo>
                    <a:pt x="2142" y="1302"/>
                  </a:lnTo>
                  <a:lnTo>
                    <a:pt x="2132" y="1316"/>
                  </a:lnTo>
                  <a:lnTo>
                    <a:pt x="2114" y="1341"/>
                  </a:lnTo>
                  <a:lnTo>
                    <a:pt x="2096" y="1369"/>
                  </a:lnTo>
                  <a:lnTo>
                    <a:pt x="2085" y="1379"/>
                  </a:lnTo>
                  <a:lnTo>
                    <a:pt x="2069" y="1385"/>
                  </a:lnTo>
                  <a:lnTo>
                    <a:pt x="2033" y="1430"/>
                  </a:lnTo>
                  <a:lnTo>
                    <a:pt x="2014" y="1453"/>
                  </a:lnTo>
                  <a:lnTo>
                    <a:pt x="2000" y="1466"/>
                  </a:lnTo>
                  <a:lnTo>
                    <a:pt x="1982" y="1490"/>
                  </a:lnTo>
                  <a:lnTo>
                    <a:pt x="1960" y="1519"/>
                  </a:lnTo>
                  <a:lnTo>
                    <a:pt x="1933" y="1545"/>
                  </a:lnTo>
                  <a:lnTo>
                    <a:pt x="1903" y="1566"/>
                  </a:lnTo>
                  <a:lnTo>
                    <a:pt x="1871" y="1589"/>
                  </a:lnTo>
                  <a:lnTo>
                    <a:pt x="1834" y="1610"/>
                  </a:lnTo>
                  <a:lnTo>
                    <a:pt x="1793" y="1631"/>
                  </a:lnTo>
                  <a:lnTo>
                    <a:pt x="1748" y="1652"/>
                  </a:lnTo>
                  <a:lnTo>
                    <a:pt x="1704" y="1667"/>
                  </a:lnTo>
                  <a:lnTo>
                    <a:pt x="1628" y="1691"/>
                  </a:lnTo>
                  <a:lnTo>
                    <a:pt x="1605" y="1694"/>
                  </a:lnTo>
                  <a:lnTo>
                    <a:pt x="1597" y="1694"/>
                  </a:lnTo>
                  <a:lnTo>
                    <a:pt x="1586" y="1704"/>
                  </a:lnTo>
                  <a:lnTo>
                    <a:pt x="1570" y="1720"/>
                  </a:lnTo>
                  <a:lnTo>
                    <a:pt x="1530" y="1760"/>
                  </a:lnTo>
                  <a:lnTo>
                    <a:pt x="1508" y="1782"/>
                  </a:lnTo>
                  <a:lnTo>
                    <a:pt x="1489" y="1798"/>
                  </a:lnTo>
                  <a:lnTo>
                    <a:pt x="1471" y="1807"/>
                  </a:lnTo>
                  <a:lnTo>
                    <a:pt x="1461" y="1809"/>
                  </a:lnTo>
                  <a:lnTo>
                    <a:pt x="1455" y="1807"/>
                  </a:lnTo>
                  <a:lnTo>
                    <a:pt x="1436" y="1793"/>
                  </a:lnTo>
                  <a:lnTo>
                    <a:pt x="1421" y="1772"/>
                  </a:lnTo>
                  <a:lnTo>
                    <a:pt x="1398" y="1722"/>
                  </a:lnTo>
                  <a:lnTo>
                    <a:pt x="1384" y="1699"/>
                  </a:lnTo>
                  <a:lnTo>
                    <a:pt x="1368" y="1677"/>
                  </a:lnTo>
                  <a:lnTo>
                    <a:pt x="1350" y="1662"/>
                  </a:lnTo>
                  <a:lnTo>
                    <a:pt x="1339" y="1655"/>
                  </a:lnTo>
                  <a:lnTo>
                    <a:pt x="1324" y="1654"/>
                  </a:lnTo>
                  <a:lnTo>
                    <a:pt x="1319" y="1638"/>
                  </a:lnTo>
                  <a:lnTo>
                    <a:pt x="1303" y="1622"/>
                  </a:lnTo>
                  <a:lnTo>
                    <a:pt x="1282" y="1604"/>
                  </a:lnTo>
                  <a:lnTo>
                    <a:pt x="1258" y="1586"/>
                  </a:lnTo>
                  <a:lnTo>
                    <a:pt x="1209" y="1561"/>
                  </a:lnTo>
                  <a:lnTo>
                    <a:pt x="1183" y="1547"/>
                  </a:lnTo>
                  <a:lnTo>
                    <a:pt x="1047" y="1401"/>
                  </a:lnTo>
                  <a:lnTo>
                    <a:pt x="1042" y="1348"/>
                  </a:lnTo>
                  <a:lnTo>
                    <a:pt x="1041" y="1322"/>
                  </a:lnTo>
                  <a:lnTo>
                    <a:pt x="1042" y="1314"/>
                  </a:lnTo>
                  <a:lnTo>
                    <a:pt x="1047" y="1306"/>
                  </a:lnTo>
                  <a:lnTo>
                    <a:pt x="1068" y="1283"/>
                  </a:lnTo>
                  <a:lnTo>
                    <a:pt x="979" y="1107"/>
                  </a:lnTo>
                  <a:lnTo>
                    <a:pt x="900" y="1024"/>
                  </a:lnTo>
                  <a:lnTo>
                    <a:pt x="908" y="1008"/>
                  </a:lnTo>
                  <a:lnTo>
                    <a:pt x="913" y="995"/>
                  </a:lnTo>
                  <a:lnTo>
                    <a:pt x="910" y="979"/>
                  </a:lnTo>
                  <a:lnTo>
                    <a:pt x="903" y="964"/>
                  </a:lnTo>
                  <a:lnTo>
                    <a:pt x="892" y="951"/>
                  </a:lnTo>
                  <a:lnTo>
                    <a:pt x="879" y="937"/>
                  </a:lnTo>
                  <a:lnTo>
                    <a:pt x="843" y="914"/>
                  </a:lnTo>
                  <a:lnTo>
                    <a:pt x="806" y="893"/>
                  </a:lnTo>
                  <a:lnTo>
                    <a:pt x="770" y="878"/>
                  </a:lnTo>
                  <a:lnTo>
                    <a:pt x="727" y="864"/>
                  </a:lnTo>
                  <a:lnTo>
                    <a:pt x="696" y="874"/>
                  </a:lnTo>
                  <a:lnTo>
                    <a:pt x="675" y="880"/>
                  </a:lnTo>
                  <a:lnTo>
                    <a:pt x="664" y="888"/>
                  </a:lnTo>
                  <a:lnTo>
                    <a:pt x="591" y="862"/>
                  </a:lnTo>
                  <a:lnTo>
                    <a:pt x="557" y="852"/>
                  </a:lnTo>
                  <a:lnTo>
                    <a:pt x="541" y="852"/>
                  </a:lnTo>
                  <a:lnTo>
                    <a:pt x="528" y="852"/>
                  </a:lnTo>
                  <a:lnTo>
                    <a:pt x="504" y="859"/>
                  </a:lnTo>
                  <a:lnTo>
                    <a:pt x="480" y="868"/>
                  </a:lnTo>
                  <a:lnTo>
                    <a:pt x="458" y="888"/>
                  </a:lnTo>
                  <a:lnTo>
                    <a:pt x="437" y="914"/>
                  </a:lnTo>
                  <a:lnTo>
                    <a:pt x="400" y="917"/>
                  </a:lnTo>
                  <a:lnTo>
                    <a:pt x="361" y="917"/>
                  </a:lnTo>
                  <a:lnTo>
                    <a:pt x="324" y="914"/>
                  </a:lnTo>
                  <a:lnTo>
                    <a:pt x="288" y="906"/>
                  </a:lnTo>
                  <a:lnTo>
                    <a:pt x="255" y="898"/>
                  </a:lnTo>
                  <a:lnTo>
                    <a:pt x="223" y="886"/>
                  </a:lnTo>
                  <a:lnTo>
                    <a:pt x="167" y="856"/>
                  </a:lnTo>
                  <a:lnTo>
                    <a:pt x="103" y="799"/>
                  </a:lnTo>
                  <a:lnTo>
                    <a:pt x="78" y="770"/>
                  </a:lnTo>
                  <a:lnTo>
                    <a:pt x="54" y="742"/>
                  </a:lnTo>
                  <a:lnTo>
                    <a:pt x="36" y="715"/>
                  </a:lnTo>
                  <a:lnTo>
                    <a:pt x="21" y="687"/>
                  </a:lnTo>
                  <a:lnTo>
                    <a:pt x="8" y="657"/>
                  </a:lnTo>
                  <a:lnTo>
                    <a:pt x="0" y="626"/>
                  </a:lnTo>
                  <a:lnTo>
                    <a:pt x="13" y="553"/>
                  </a:lnTo>
                  <a:lnTo>
                    <a:pt x="22" y="490"/>
                  </a:lnTo>
                  <a:lnTo>
                    <a:pt x="8" y="456"/>
                  </a:lnTo>
                  <a:lnTo>
                    <a:pt x="5" y="426"/>
                  </a:lnTo>
                  <a:lnTo>
                    <a:pt x="8" y="401"/>
                  </a:lnTo>
                  <a:lnTo>
                    <a:pt x="18" y="377"/>
                  </a:lnTo>
                  <a:lnTo>
                    <a:pt x="34" y="357"/>
                  </a:lnTo>
                  <a:lnTo>
                    <a:pt x="54" y="339"/>
                  </a:lnTo>
                  <a:lnTo>
                    <a:pt x="102" y="305"/>
                  </a:lnTo>
                  <a:lnTo>
                    <a:pt x="198" y="207"/>
                  </a:lnTo>
                  <a:lnTo>
                    <a:pt x="214" y="202"/>
                  </a:lnTo>
                  <a:lnTo>
                    <a:pt x="230" y="185"/>
                  </a:lnTo>
                  <a:lnTo>
                    <a:pt x="235" y="176"/>
                  </a:lnTo>
                  <a:lnTo>
                    <a:pt x="239" y="161"/>
                  </a:lnTo>
                  <a:lnTo>
                    <a:pt x="241" y="148"/>
                  </a:lnTo>
                  <a:lnTo>
                    <a:pt x="241" y="129"/>
                  </a:lnTo>
                  <a:lnTo>
                    <a:pt x="259" y="134"/>
                  </a:lnTo>
                  <a:lnTo>
                    <a:pt x="293" y="148"/>
                  </a:lnTo>
                  <a:lnTo>
                    <a:pt x="330" y="158"/>
                  </a:lnTo>
                  <a:lnTo>
                    <a:pt x="343" y="158"/>
                  </a:lnTo>
                  <a:lnTo>
                    <a:pt x="356" y="153"/>
                  </a:lnTo>
                  <a:lnTo>
                    <a:pt x="367" y="153"/>
                  </a:lnTo>
                  <a:lnTo>
                    <a:pt x="383" y="150"/>
                  </a:lnTo>
                  <a:lnTo>
                    <a:pt x="413" y="136"/>
                  </a:lnTo>
                  <a:lnTo>
                    <a:pt x="437" y="124"/>
                  </a:lnTo>
                  <a:lnTo>
                    <a:pt x="445" y="122"/>
                  </a:lnTo>
                  <a:lnTo>
                    <a:pt x="450" y="124"/>
                  </a:lnTo>
                  <a:lnTo>
                    <a:pt x="486" y="124"/>
                  </a:lnTo>
                  <a:lnTo>
                    <a:pt x="508" y="121"/>
                  </a:lnTo>
                  <a:lnTo>
                    <a:pt x="528" y="116"/>
                  </a:lnTo>
                  <a:lnTo>
                    <a:pt x="537" y="111"/>
                  </a:lnTo>
                  <a:lnTo>
                    <a:pt x="552" y="93"/>
                  </a:lnTo>
                  <a:lnTo>
                    <a:pt x="575" y="72"/>
                  </a:lnTo>
                  <a:lnTo>
                    <a:pt x="615" y="41"/>
                  </a:lnTo>
                  <a:lnTo>
                    <a:pt x="620" y="38"/>
                  </a:lnTo>
                  <a:lnTo>
                    <a:pt x="615" y="41"/>
                  </a:lnTo>
                  <a:lnTo>
                    <a:pt x="652" y="35"/>
                  </a:lnTo>
                  <a:lnTo>
                    <a:pt x="672" y="27"/>
                  </a:lnTo>
                  <a:lnTo>
                    <a:pt x="691" y="16"/>
                  </a:lnTo>
                  <a:lnTo>
                    <a:pt x="707" y="8"/>
                  </a:lnTo>
                  <a:lnTo>
                    <a:pt x="723" y="4"/>
                  </a:lnTo>
                  <a:lnTo>
                    <a:pt x="741" y="4"/>
                  </a:lnTo>
                  <a:lnTo>
                    <a:pt x="759" y="6"/>
                  </a:lnTo>
                  <a:lnTo>
                    <a:pt x="790" y="20"/>
                  </a:lnTo>
                  <a:lnTo>
                    <a:pt x="816" y="38"/>
                  </a:lnTo>
                  <a:lnTo>
                    <a:pt x="817" y="57"/>
                  </a:lnTo>
                  <a:lnTo>
                    <a:pt x="816" y="59"/>
                  </a:lnTo>
                  <a:lnTo>
                    <a:pt x="853" y="105"/>
                  </a:lnTo>
                  <a:lnTo>
                    <a:pt x="1026" y="85"/>
                  </a:lnTo>
                  <a:lnTo>
                    <a:pt x="1033" y="71"/>
                  </a:lnTo>
                  <a:lnTo>
                    <a:pt x="1044" y="57"/>
                  </a:lnTo>
                  <a:lnTo>
                    <a:pt x="1058" y="48"/>
                  </a:lnTo>
                  <a:lnTo>
                    <a:pt x="1076" y="38"/>
                  </a:lnTo>
                  <a:lnTo>
                    <a:pt x="1115" y="22"/>
                  </a:lnTo>
                  <a:lnTo>
                    <a:pt x="1159" y="12"/>
                  </a:lnTo>
                  <a:lnTo>
                    <a:pt x="1201" y="6"/>
                  </a:lnTo>
                  <a:lnTo>
                    <a:pt x="1238" y="2"/>
                  </a:lnTo>
                  <a:lnTo>
                    <a:pt x="1274" y="0"/>
                  </a:lnTo>
                  <a:lnTo>
                    <a:pt x="1282" y="16"/>
                  </a:lnTo>
                  <a:lnTo>
                    <a:pt x="1295" y="27"/>
                  </a:lnTo>
                  <a:lnTo>
                    <a:pt x="1311" y="43"/>
                  </a:lnTo>
                  <a:lnTo>
                    <a:pt x="1323" y="65"/>
                  </a:lnTo>
                  <a:lnTo>
                    <a:pt x="1331" y="69"/>
                  </a:lnTo>
                  <a:lnTo>
                    <a:pt x="1342" y="71"/>
                  </a:lnTo>
                  <a:lnTo>
                    <a:pt x="1376" y="69"/>
                  </a:lnTo>
                  <a:lnTo>
                    <a:pt x="1410" y="67"/>
                  </a:lnTo>
                  <a:lnTo>
                    <a:pt x="1436" y="65"/>
                  </a:lnTo>
                  <a:lnTo>
                    <a:pt x="1461" y="75"/>
                  </a:lnTo>
                  <a:lnTo>
                    <a:pt x="1489" y="83"/>
                  </a:lnTo>
                  <a:lnTo>
                    <a:pt x="1546" y="95"/>
                  </a:lnTo>
                  <a:lnTo>
                    <a:pt x="1575" y="101"/>
                  </a:lnTo>
                  <a:lnTo>
                    <a:pt x="1604" y="108"/>
                  </a:lnTo>
                  <a:lnTo>
                    <a:pt x="1631" y="121"/>
                  </a:lnTo>
                  <a:lnTo>
                    <a:pt x="1656" y="138"/>
                  </a:lnTo>
                  <a:lnTo>
                    <a:pt x="1706" y="145"/>
                  </a:lnTo>
                  <a:lnTo>
                    <a:pt x="1753" y="153"/>
                  </a:lnTo>
                  <a:lnTo>
                    <a:pt x="1797" y="158"/>
                  </a:lnTo>
                  <a:lnTo>
                    <a:pt x="1814" y="156"/>
                  </a:lnTo>
                  <a:lnTo>
                    <a:pt x="1832" y="148"/>
                  </a:lnTo>
                  <a:lnTo>
                    <a:pt x="1834" y="158"/>
                  </a:lnTo>
                  <a:lnTo>
                    <a:pt x="1838" y="161"/>
                  </a:lnTo>
                  <a:lnTo>
                    <a:pt x="1845" y="163"/>
                  </a:lnTo>
                  <a:lnTo>
                    <a:pt x="1856" y="166"/>
                  </a:lnTo>
                  <a:lnTo>
                    <a:pt x="1869" y="166"/>
                  </a:lnTo>
                  <a:lnTo>
                    <a:pt x="1887" y="160"/>
                  </a:lnTo>
                  <a:lnTo>
                    <a:pt x="1911" y="152"/>
                  </a:lnTo>
                  <a:close/>
                </a:path>
              </a:pathLst>
            </a:custGeom>
            <a:blipFill rotWithShape="0">
              <a:blip r:embed="rId8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 name=""/>
            <p:cNvSpPr/>
            <p:nvPr/>
          </p:nvSpPr>
          <p:spPr>
            <a:xfrm>
              <a:off x="1569240" y="1335240"/>
              <a:ext cx="720" cy="720"/>
            </a:xfrm>
            <a:custGeom>
              <a:avLst/>
              <a:gdLst/>
              <a:ahLst/>
              <a:rect l="l" t="t" r="r" b="b"/>
              <a:pathLst>
                <a:path w="5" h="3">
                  <a:moveTo>
                    <a:pt x="0" y="3"/>
                  </a:moveTo>
                  <a:lnTo>
                    <a:pt x="5" y="0"/>
                  </a:lnTo>
                  <a:lnTo>
                    <a:pt x="0" y="3"/>
                  </a:lnTo>
                  <a:lnTo>
                    <a:pt x="0" y="3"/>
                  </a:lnTo>
                  <a:close/>
                </a:path>
              </a:pathLst>
            </a:custGeom>
            <a:blipFill rotWithShape="0">
              <a:blip r:embed="rId84"/>
              <a:srcRect/>
              <a:tile tx="0" ty="0" sx="100000" sy="100000" algn="ctr"/>
            </a:blipFill>
            <a:ln w="0">
              <a:noFill/>
            </a:ln>
          </p:spPr>
          <p:style>
            <a:lnRef idx="0"/>
            <a:fillRef idx="0"/>
            <a:effectRef idx="0"/>
            <a:fontRef idx="minor"/>
          </p:style>
          <p:txBody>
            <a:bodyPr lIns="90000" rIns="90000" tIns="-46080" bIns="-46080" anchor="t">
              <a:noAutofit/>
            </a:bodyPr>
            <a:p>
              <a:endParaRPr b="0" lang="en-US" sz="2400" spc="-1" strike="noStrike">
                <a:solidFill>
                  <a:srgbClr val="ffffff"/>
                </a:solidFill>
                <a:latin typeface="Times New Roman"/>
              </a:endParaRPr>
            </a:p>
          </p:txBody>
        </p:sp>
        <p:sp>
          <p:nvSpPr>
            <p:cNvPr id="379" name=""/>
            <p:cNvSpPr/>
            <p:nvPr/>
          </p:nvSpPr>
          <p:spPr>
            <a:xfrm>
              <a:off x="1517760" y="1071360"/>
              <a:ext cx="297360" cy="275760"/>
            </a:xfrm>
            <a:custGeom>
              <a:avLst/>
              <a:gdLst/>
              <a:ahLst/>
              <a:rect l="l" t="t" r="r" b="b"/>
              <a:pathLst>
                <a:path w="2318" h="2383">
                  <a:moveTo>
                    <a:pt x="1352" y="144"/>
                  </a:moveTo>
                  <a:lnTo>
                    <a:pt x="1340" y="154"/>
                  </a:lnTo>
                  <a:lnTo>
                    <a:pt x="1336" y="162"/>
                  </a:lnTo>
                  <a:lnTo>
                    <a:pt x="1336" y="172"/>
                  </a:lnTo>
                  <a:lnTo>
                    <a:pt x="1340" y="182"/>
                  </a:lnTo>
                  <a:lnTo>
                    <a:pt x="1355" y="198"/>
                  </a:lnTo>
                  <a:lnTo>
                    <a:pt x="1376" y="207"/>
                  </a:lnTo>
                  <a:lnTo>
                    <a:pt x="1478" y="303"/>
                  </a:lnTo>
                  <a:lnTo>
                    <a:pt x="1525" y="199"/>
                  </a:lnTo>
                  <a:lnTo>
                    <a:pt x="1521" y="196"/>
                  </a:lnTo>
                  <a:lnTo>
                    <a:pt x="1517" y="191"/>
                  </a:lnTo>
                  <a:lnTo>
                    <a:pt x="1510" y="191"/>
                  </a:lnTo>
                  <a:lnTo>
                    <a:pt x="1497" y="193"/>
                  </a:lnTo>
                  <a:lnTo>
                    <a:pt x="1488" y="190"/>
                  </a:lnTo>
                  <a:lnTo>
                    <a:pt x="1510" y="172"/>
                  </a:lnTo>
                  <a:lnTo>
                    <a:pt x="1529" y="151"/>
                  </a:lnTo>
                  <a:lnTo>
                    <a:pt x="1552" y="130"/>
                  </a:lnTo>
                  <a:lnTo>
                    <a:pt x="1583" y="112"/>
                  </a:lnTo>
                  <a:lnTo>
                    <a:pt x="1591" y="94"/>
                  </a:lnTo>
                  <a:lnTo>
                    <a:pt x="1596" y="86"/>
                  </a:lnTo>
                  <a:lnTo>
                    <a:pt x="1606" y="79"/>
                  </a:lnTo>
                  <a:lnTo>
                    <a:pt x="1624" y="70"/>
                  </a:lnTo>
                  <a:lnTo>
                    <a:pt x="1624" y="42"/>
                  </a:lnTo>
                  <a:lnTo>
                    <a:pt x="1622" y="24"/>
                  </a:lnTo>
                  <a:lnTo>
                    <a:pt x="1622" y="2"/>
                  </a:lnTo>
                  <a:lnTo>
                    <a:pt x="1625" y="0"/>
                  </a:lnTo>
                  <a:lnTo>
                    <a:pt x="1636" y="0"/>
                  </a:lnTo>
                  <a:lnTo>
                    <a:pt x="1679" y="5"/>
                  </a:lnTo>
                  <a:lnTo>
                    <a:pt x="1683" y="10"/>
                  </a:lnTo>
                  <a:lnTo>
                    <a:pt x="1687" y="16"/>
                  </a:lnTo>
                  <a:lnTo>
                    <a:pt x="1690" y="34"/>
                  </a:lnTo>
                  <a:lnTo>
                    <a:pt x="1690" y="71"/>
                  </a:lnTo>
                  <a:lnTo>
                    <a:pt x="1898" y="188"/>
                  </a:lnTo>
                  <a:lnTo>
                    <a:pt x="1915" y="249"/>
                  </a:lnTo>
                  <a:lnTo>
                    <a:pt x="1931" y="264"/>
                  </a:lnTo>
                  <a:lnTo>
                    <a:pt x="1947" y="282"/>
                  </a:lnTo>
                  <a:lnTo>
                    <a:pt x="1981" y="318"/>
                  </a:lnTo>
                  <a:lnTo>
                    <a:pt x="2054" y="340"/>
                  </a:lnTo>
                  <a:lnTo>
                    <a:pt x="2064" y="337"/>
                  </a:lnTo>
                  <a:lnTo>
                    <a:pt x="2072" y="335"/>
                  </a:lnTo>
                  <a:lnTo>
                    <a:pt x="2083" y="324"/>
                  </a:lnTo>
                  <a:lnTo>
                    <a:pt x="2091" y="310"/>
                  </a:lnTo>
                  <a:lnTo>
                    <a:pt x="2104" y="298"/>
                  </a:lnTo>
                  <a:lnTo>
                    <a:pt x="2242" y="345"/>
                  </a:lnTo>
                  <a:lnTo>
                    <a:pt x="2200" y="448"/>
                  </a:lnTo>
                  <a:lnTo>
                    <a:pt x="2203" y="452"/>
                  </a:lnTo>
                  <a:lnTo>
                    <a:pt x="2204" y="456"/>
                  </a:lnTo>
                  <a:lnTo>
                    <a:pt x="2214" y="456"/>
                  </a:lnTo>
                  <a:lnTo>
                    <a:pt x="2226" y="454"/>
                  </a:lnTo>
                  <a:lnTo>
                    <a:pt x="2237" y="456"/>
                  </a:lnTo>
                  <a:lnTo>
                    <a:pt x="2227" y="476"/>
                  </a:lnTo>
                  <a:lnTo>
                    <a:pt x="2226" y="497"/>
                  </a:lnTo>
                  <a:lnTo>
                    <a:pt x="2226" y="517"/>
                  </a:lnTo>
                  <a:lnTo>
                    <a:pt x="2226" y="539"/>
                  </a:lnTo>
                  <a:lnTo>
                    <a:pt x="2226" y="549"/>
                  </a:lnTo>
                  <a:lnTo>
                    <a:pt x="2230" y="555"/>
                  </a:lnTo>
                  <a:lnTo>
                    <a:pt x="2242" y="559"/>
                  </a:lnTo>
                  <a:lnTo>
                    <a:pt x="2255" y="562"/>
                  </a:lnTo>
                  <a:lnTo>
                    <a:pt x="2273" y="567"/>
                  </a:lnTo>
                  <a:lnTo>
                    <a:pt x="2318" y="656"/>
                  </a:lnTo>
                  <a:lnTo>
                    <a:pt x="2174" y="705"/>
                  </a:lnTo>
                  <a:lnTo>
                    <a:pt x="2171" y="792"/>
                  </a:lnTo>
                  <a:lnTo>
                    <a:pt x="2043" y="853"/>
                  </a:lnTo>
                  <a:lnTo>
                    <a:pt x="2025" y="890"/>
                  </a:lnTo>
                  <a:lnTo>
                    <a:pt x="2009" y="923"/>
                  </a:lnTo>
                  <a:lnTo>
                    <a:pt x="2007" y="938"/>
                  </a:lnTo>
                  <a:lnTo>
                    <a:pt x="2010" y="952"/>
                  </a:lnTo>
                  <a:lnTo>
                    <a:pt x="2020" y="962"/>
                  </a:lnTo>
                  <a:lnTo>
                    <a:pt x="2041" y="971"/>
                  </a:lnTo>
                  <a:lnTo>
                    <a:pt x="2115" y="1072"/>
                  </a:lnTo>
                  <a:lnTo>
                    <a:pt x="2115" y="1156"/>
                  </a:lnTo>
                  <a:lnTo>
                    <a:pt x="2222" y="1295"/>
                  </a:lnTo>
                  <a:lnTo>
                    <a:pt x="2300" y="1368"/>
                  </a:lnTo>
                  <a:lnTo>
                    <a:pt x="2287" y="1370"/>
                  </a:lnTo>
                  <a:lnTo>
                    <a:pt x="2273" y="1376"/>
                  </a:lnTo>
                  <a:lnTo>
                    <a:pt x="2243" y="1397"/>
                  </a:lnTo>
                  <a:lnTo>
                    <a:pt x="2172" y="1460"/>
                  </a:lnTo>
                  <a:lnTo>
                    <a:pt x="2133" y="1496"/>
                  </a:lnTo>
                  <a:lnTo>
                    <a:pt x="2091" y="1525"/>
                  </a:lnTo>
                  <a:lnTo>
                    <a:pt x="2070" y="1538"/>
                  </a:lnTo>
                  <a:lnTo>
                    <a:pt x="2048" y="1546"/>
                  </a:lnTo>
                  <a:lnTo>
                    <a:pt x="2027" y="1551"/>
                  </a:lnTo>
                  <a:lnTo>
                    <a:pt x="2005" y="1553"/>
                  </a:lnTo>
                  <a:lnTo>
                    <a:pt x="1963" y="1538"/>
                  </a:lnTo>
                  <a:lnTo>
                    <a:pt x="1947" y="1528"/>
                  </a:lnTo>
                  <a:lnTo>
                    <a:pt x="1934" y="1514"/>
                  </a:lnTo>
                  <a:lnTo>
                    <a:pt x="1886" y="1538"/>
                  </a:lnTo>
                  <a:lnTo>
                    <a:pt x="1871" y="1548"/>
                  </a:lnTo>
                  <a:lnTo>
                    <a:pt x="1873" y="1551"/>
                  </a:lnTo>
                  <a:lnTo>
                    <a:pt x="1876" y="1557"/>
                  </a:lnTo>
                  <a:lnTo>
                    <a:pt x="1890" y="1579"/>
                  </a:lnTo>
                  <a:lnTo>
                    <a:pt x="1839" y="1583"/>
                  </a:lnTo>
                  <a:lnTo>
                    <a:pt x="1745" y="1745"/>
                  </a:lnTo>
                  <a:lnTo>
                    <a:pt x="1697" y="1770"/>
                  </a:lnTo>
                  <a:lnTo>
                    <a:pt x="1641" y="1800"/>
                  </a:lnTo>
                  <a:lnTo>
                    <a:pt x="1616" y="1815"/>
                  </a:lnTo>
                  <a:lnTo>
                    <a:pt x="1593" y="1836"/>
                  </a:lnTo>
                  <a:lnTo>
                    <a:pt x="1577" y="1859"/>
                  </a:lnTo>
                  <a:lnTo>
                    <a:pt x="1570" y="1871"/>
                  </a:lnTo>
                  <a:lnTo>
                    <a:pt x="1569" y="1885"/>
                  </a:lnTo>
                  <a:lnTo>
                    <a:pt x="1561" y="1899"/>
                  </a:lnTo>
                  <a:lnTo>
                    <a:pt x="1551" y="1909"/>
                  </a:lnTo>
                  <a:lnTo>
                    <a:pt x="1537" y="1914"/>
                  </a:lnTo>
                  <a:lnTo>
                    <a:pt x="1523" y="1918"/>
                  </a:lnTo>
                  <a:lnTo>
                    <a:pt x="1494" y="1926"/>
                  </a:lnTo>
                  <a:lnTo>
                    <a:pt x="1480" y="1934"/>
                  </a:lnTo>
                  <a:lnTo>
                    <a:pt x="1470" y="1944"/>
                  </a:lnTo>
                  <a:lnTo>
                    <a:pt x="1472" y="1957"/>
                  </a:lnTo>
                  <a:lnTo>
                    <a:pt x="1480" y="1967"/>
                  </a:lnTo>
                  <a:lnTo>
                    <a:pt x="1492" y="1974"/>
                  </a:lnTo>
                  <a:lnTo>
                    <a:pt x="1505" y="1975"/>
                  </a:lnTo>
                  <a:lnTo>
                    <a:pt x="1537" y="1977"/>
                  </a:lnTo>
                  <a:lnTo>
                    <a:pt x="1569" y="1980"/>
                  </a:lnTo>
                  <a:lnTo>
                    <a:pt x="1593" y="1974"/>
                  </a:lnTo>
                  <a:lnTo>
                    <a:pt x="1612" y="1964"/>
                  </a:lnTo>
                  <a:lnTo>
                    <a:pt x="1625" y="1949"/>
                  </a:lnTo>
                  <a:lnTo>
                    <a:pt x="1638" y="1934"/>
                  </a:lnTo>
                  <a:lnTo>
                    <a:pt x="1646" y="1914"/>
                  </a:lnTo>
                  <a:lnTo>
                    <a:pt x="1651" y="1894"/>
                  </a:lnTo>
                  <a:lnTo>
                    <a:pt x="1657" y="1849"/>
                  </a:lnTo>
                  <a:lnTo>
                    <a:pt x="1667" y="1836"/>
                  </a:lnTo>
                  <a:lnTo>
                    <a:pt x="1677" y="1828"/>
                  </a:lnTo>
                  <a:lnTo>
                    <a:pt x="1687" y="1828"/>
                  </a:lnTo>
                  <a:lnTo>
                    <a:pt x="1697" y="1829"/>
                  </a:lnTo>
                  <a:lnTo>
                    <a:pt x="1705" y="1837"/>
                  </a:lnTo>
                  <a:lnTo>
                    <a:pt x="1711" y="1845"/>
                  </a:lnTo>
                  <a:lnTo>
                    <a:pt x="1717" y="1862"/>
                  </a:lnTo>
                  <a:lnTo>
                    <a:pt x="1784" y="1901"/>
                  </a:lnTo>
                  <a:lnTo>
                    <a:pt x="1803" y="1917"/>
                  </a:lnTo>
                  <a:lnTo>
                    <a:pt x="1813" y="1934"/>
                  </a:lnTo>
                  <a:lnTo>
                    <a:pt x="1819" y="1959"/>
                  </a:lnTo>
                  <a:lnTo>
                    <a:pt x="1819" y="1991"/>
                  </a:lnTo>
                  <a:lnTo>
                    <a:pt x="1818" y="2098"/>
                  </a:lnTo>
                  <a:lnTo>
                    <a:pt x="1790" y="2153"/>
                  </a:lnTo>
                  <a:lnTo>
                    <a:pt x="1769" y="2205"/>
                  </a:lnTo>
                  <a:lnTo>
                    <a:pt x="1737" y="2321"/>
                  </a:lnTo>
                  <a:lnTo>
                    <a:pt x="1730" y="2335"/>
                  </a:lnTo>
                  <a:lnTo>
                    <a:pt x="1719" y="2351"/>
                  </a:lnTo>
                  <a:lnTo>
                    <a:pt x="1695" y="2383"/>
                  </a:lnTo>
                  <a:lnTo>
                    <a:pt x="1636" y="2359"/>
                  </a:lnTo>
                  <a:lnTo>
                    <a:pt x="1578" y="2336"/>
                  </a:lnTo>
                  <a:lnTo>
                    <a:pt x="1521" y="2321"/>
                  </a:lnTo>
                  <a:lnTo>
                    <a:pt x="1466" y="2309"/>
                  </a:lnTo>
                  <a:lnTo>
                    <a:pt x="1353" y="2295"/>
                  </a:lnTo>
                  <a:lnTo>
                    <a:pt x="1241" y="2281"/>
                  </a:lnTo>
                  <a:lnTo>
                    <a:pt x="1156" y="2215"/>
                  </a:lnTo>
                  <a:lnTo>
                    <a:pt x="1125" y="2190"/>
                  </a:lnTo>
                  <a:lnTo>
                    <a:pt x="1099" y="2166"/>
                  </a:lnTo>
                  <a:lnTo>
                    <a:pt x="1091" y="2161"/>
                  </a:lnTo>
                  <a:lnTo>
                    <a:pt x="1089" y="2153"/>
                  </a:lnTo>
                  <a:lnTo>
                    <a:pt x="1086" y="2135"/>
                  </a:lnTo>
                  <a:lnTo>
                    <a:pt x="1085" y="2119"/>
                  </a:lnTo>
                  <a:lnTo>
                    <a:pt x="1083" y="2114"/>
                  </a:lnTo>
                  <a:lnTo>
                    <a:pt x="1077" y="2108"/>
                  </a:lnTo>
                  <a:lnTo>
                    <a:pt x="1059" y="2100"/>
                  </a:lnTo>
                  <a:lnTo>
                    <a:pt x="1049" y="2094"/>
                  </a:lnTo>
                  <a:lnTo>
                    <a:pt x="1046" y="2085"/>
                  </a:lnTo>
                  <a:lnTo>
                    <a:pt x="1044" y="2080"/>
                  </a:lnTo>
                  <a:lnTo>
                    <a:pt x="1044" y="2066"/>
                  </a:lnTo>
                  <a:lnTo>
                    <a:pt x="1039" y="2058"/>
                  </a:lnTo>
                  <a:lnTo>
                    <a:pt x="1031" y="2053"/>
                  </a:lnTo>
                  <a:lnTo>
                    <a:pt x="1010" y="2054"/>
                  </a:lnTo>
                  <a:lnTo>
                    <a:pt x="996" y="2056"/>
                  </a:lnTo>
                  <a:lnTo>
                    <a:pt x="986" y="2062"/>
                  </a:lnTo>
                  <a:lnTo>
                    <a:pt x="983" y="2070"/>
                  </a:lnTo>
                  <a:lnTo>
                    <a:pt x="971" y="2096"/>
                  </a:lnTo>
                  <a:lnTo>
                    <a:pt x="963" y="2111"/>
                  </a:lnTo>
                  <a:lnTo>
                    <a:pt x="949" y="2129"/>
                  </a:lnTo>
                  <a:lnTo>
                    <a:pt x="937" y="2134"/>
                  </a:lnTo>
                  <a:lnTo>
                    <a:pt x="927" y="2143"/>
                  </a:lnTo>
                  <a:lnTo>
                    <a:pt x="921" y="2150"/>
                  </a:lnTo>
                  <a:lnTo>
                    <a:pt x="918" y="2151"/>
                  </a:lnTo>
                  <a:lnTo>
                    <a:pt x="918" y="2150"/>
                  </a:lnTo>
                  <a:lnTo>
                    <a:pt x="915" y="2103"/>
                  </a:lnTo>
                  <a:lnTo>
                    <a:pt x="915" y="2053"/>
                  </a:lnTo>
                  <a:lnTo>
                    <a:pt x="895" y="2045"/>
                  </a:lnTo>
                  <a:lnTo>
                    <a:pt x="887" y="2038"/>
                  </a:lnTo>
                  <a:lnTo>
                    <a:pt x="887" y="2025"/>
                  </a:lnTo>
                  <a:lnTo>
                    <a:pt x="890" y="1991"/>
                  </a:lnTo>
                  <a:lnTo>
                    <a:pt x="905" y="1980"/>
                  </a:lnTo>
                  <a:lnTo>
                    <a:pt x="921" y="1965"/>
                  </a:lnTo>
                  <a:lnTo>
                    <a:pt x="949" y="1936"/>
                  </a:lnTo>
                  <a:lnTo>
                    <a:pt x="965" y="1922"/>
                  </a:lnTo>
                  <a:lnTo>
                    <a:pt x="984" y="1910"/>
                  </a:lnTo>
                  <a:lnTo>
                    <a:pt x="1008" y="1904"/>
                  </a:lnTo>
                  <a:lnTo>
                    <a:pt x="1039" y="1902"/>
                  </a:lnTo>
                  <a:lnTo>
                    <a:pt x="1026" y="1894"/>
                  </a:lnTo>
                  <a:lnTo>
                    <a:pt x="1014" y="1885"/>
                  </a:lnTo>
                  <a:lnTo>
                    <a:pt x="992" y="1862"/>
                  </a:lnTo>
                  <a:lnTo>
                    <a:pt x="973" y="1837"/>
                  </a:lnTo>
                  <a:lnTo>
                    <a:pt x="960" y="1829"/>
                  </a:lnTo>
                  <a:lnTo>
                    <a:pt x="949" y="1821"/>
                  </a:lnTo>
                  <a:lnTo>
                    <a:pt x="882" y="1878"/>
                  </a:lnTo>
                  <a:lnTo>
                    <a:pt x="872" y="1902"/>
                  </a:lnTo>
                  <a:lnTo>
                    <a:pt x="870" y="1925"/>
                  </a:lnTo>
                  <a:lnTo>
                    <a:pt x="866" y="1941"/>
                  </a:lnTo>
                  <a:lnTo>
                    <a:pt x="860" y="1949"/>
                  </a:lnTo>
                  <a:lnTo>
                    <a:pt x="852" y="1957"/>
                  </a:lnTo>
                  <a:lnTo>
                    <a:pt x="848" y="1982"/>
                  </a:lnTo>
                  <a:lnTo>
                    <a:pt x="850" y="2006"/>
                  </a:lnTo>
                  <a:lnTo>
                    <a:pt x="850" y="2029"/>
                  </a:lnTo>
                  <a:lnTo>
                    <a:pt x="846" y="2038"/>
                  </a:lnTo>
                  <a:lnTo>
                    <a:pt x="842" y="2046"/>
                  </a:lnTo>
                  <a:lnTo>
                    <a:pt x="840" y="2053"/>
                  </a:lnTo>
                  <a:lnTo>
                    <a:pt x="834" y="2056"/>
                  </a:lnTo>
                  <a:lnTo>
                    <a:pt x="814" y="2058"/>
                  </a:lnTo>
                  <a:lnTo>
                    <a:pt x="791" y="2058"/>
                  </a:lnTo>
                  <a:lnTo>
                    <a:pt x="777" y="2061"/>
                  </a:lnTo>
                  <a:lnTo>
                    <a:pt x="777" y="2058"/>
                  </a:lnTo>
                  <a:lnTo>
                    <a:pt x="774" y="2058"/>
                  </a:lnTo>
                  <a:lnTo>
                    <a:pt x="759" y="2058"/>
                  </a:lnTo>
                  <a:lnTo>
                    <a:pt x="708" y="2064"/>
                  </a:lnTo>
                  <a:lnTo>
                    <a:pt x="643" y="2076"/>
                  </a:lnTo>
                  <a:lnTo>
                    <a:pt x="735" y="2098"/>
                  </a:lnTo>
                  <a:lnTo>
                    <a:pt x="782" y="2103"/>
                  </a:lnTo>
                  <a:lnTo>
                    <a:pt x="805" y="2106"/>
                  </a:lnTo>
                  <a:lnTo>
                    <a:pt x="819" y="2108"/>
                  </a:lnTo>
                  <a:lnTo>
                    <a:pt x="829" y="2103"/>
                  </a:lnTo>
                  <a:lnTo>
                    <a:pt x="890" y="2126"/>
                  </a:lnTo>
                  <a:lnTo>
                    <a:pt x="892" y="2132"/>
                  </a:lnTo>
                  <a:lnTo>
                    <a:pt x="890" y="2142"/>
                  </a:lnTo>
                  <a:lnTo>
                    <a:pt x="886" y="2165"/>
                  </a:lnTo>
                  <a:lnTo>
                    <a:pt x="876" y="2187"/>
                  </a:lnTo>
                  <a:lnTo>
                    <a:pt x="868" y="2200"/>
                  </a:lnTo>
                  <a:lnTo>
                    <a:pt x="860" y="2213"/>
                  </a:lnTo>
                  <a:lnTo>
                    <a:pt x="858" y="2226"/>
                  </a:lnTo>
                  <a:lnTo>
                    <a:pt x="854" y="2236"/>
                  </a:lnTo>
                  <a:lnTo>
                    <a:pt x="848" y="2240"/>
                  </a:lnTo>
                  <a:lnTo>
                    <a:pt x="842" y="2242"/>
                  </a:lnTo>
                  <a:lnTo>
                    <a:pt x="837" y="2238"/>
                  </a:lnTo>
                  <a:lnTo>
                    <a:pt x="834" y="2231"/>
                  </a:lnTo>
                  <a:lnTo>
                    <a:pt x="830" y="2210"/>
                  </a:lnTo>
                  <a:lnTo>
                    <a:pt x="830" y="2171"/>
                  </a:lnTo>
                  <a:lnTo>
                    <a:pt x="805" y="2165"/>
                  </a:lnTo>
                  <a:lnTo>
                    <a:pt x="782" y="2163"/>
                  </a:lnTo>
                  <a:lnTo>
                    <a:pt x="774" y="2165"/>
                  </a:lnTo>
                  <a:lnTo>
                    <a:pt x="767" y="2166"/>
                  </a:lnTo>
                  <a:lnTo>
                    <a:pt x="685" y="2165"/>
                  </a:lnTo>
                  <a:lnTo>
                    <a:pt x="572" y="2137"/>
                  </a:lnTo>
                  <a:lnTo>
                    <a:pt x="465" y="2159"/>
                  </a:lnTo>
                  <a:lnTo>
                    <a:pt x="445" y="2165"/>
                  </a:lnTo>
                  <a:lnTo>
                    <a:pt x="437" y="2171"/>
                  </a:lnTo>
                  <a:lnTo>
                    <a:pt x="436" y="2179"/>
                  </a:lnTo>
                  <a:lnTo>
                    <a:pt x="432" y="2190"/>
                  </a:lnTo>
                  <a:lnTo>
                    <a:pt x="416" y="2208"/>
                  </a:lnTo>
                  <a:lnTo>
                    <a:pt x="384" y="2234"/>
                  </a:lnTo>
                  <a:lnTo>
                    <a:pt x="359" y="2232"/>
                  </a:lnTo>
                  <a:lnTo>
                    <a:pt x="351" y="2231"/>
                  </a:lnTo>
                  <a:lnTo>
                    <a:pt x="343" y="2240"/>
                  </a:lnTo>
                  <a:lnTo>
                    <a:pt x="327" y="2265"/>
                  </a:lnTo>
                  <a:lnTo>
                    <a:pt x="341" y="2263"/>
                  </a:lnTo>
                  <a:lnTo>
                    <a:pt x="343" y="2265"/>
                  </a:lnTo>
                  <a:lnTo>
                    <a:pt x="341" y="2270"/>
                  </a:lnTo>
                  <a:lnTo>
                    <a:pt x="308" y="2289"/>
                  </a:lnTo>
                  <a:lnTo>
                    <a:pt x="258" y="2310"/>
                  </a:lnTo>
                  <a:lnTo>
                    <a:pt x="209" y="2325"/>
                  </a:lnTo>
                  <a:lnTo>
                    <a:pt x="173" y="2321"/>
                  </a:lnTo>
                  <a:lnTo>
                    <a:pt x="141" y="2323"/>
                  </a:lnTo>
                  <a:lnTo>
                    <a:pt x="110" y="2328"/>
                  </a:lnTo>
                  <a:lnTo>
                    <a:pt x="84" y="2339"/>
                  </a:lnTo>
                  <a:lnTo>
                    <a:pt x="42" y="2359"/>
                  </a:lnTo>
                  <a:lnTo>
                    <a:pt x="31" y="2364"/>
                  </a:lnTo>
                  <a:lnTo>
                    <a:pt x="27" y="2364"/>
                  </a:lnTo>
                  <a:lnTo>
                    <a:pt x="15" y="2352"/>
                  </a:lnTo>
                  <a:lnTo>
                    <a:pt x="8" y="2341"/>
                  </a:lnTo>
                  <a:lnTo>
                    <a:pt x="2" y="2327"/>
                  </a:lnTo>
                  <a:lnTo>
                    <a:pt x="0" y="2310"/>
                  </a:lnTo>
                  <a:lnTo>
                    <a:pt x="2" y="2279"/>
                  </a:lnTo>
                  <a:lnTo>
                    <a:pt x="13" y="2247"/>
                  </a:lnTo>
                  <a:lnTo>
                    <a:pt x="35" y="2215"/>
                  </a:lnTo>
                  <a:lnTo>
                    <a:pt x="65" y="2182"/>
                  </a:lnTo>
                  <a:lnTo>
                    <a:pt x="102" y="2155"/>
                  </a:lnTo>
                  <a:lnTo>
                    <a:pt x="147" y="2132"/>
                  </a:lnTo>
                  <a:lnTo>
                    <a:pt x="152" y="2126"/>
                  </a:lnTo>
                  <a:lnTo>
                    <a:pt x="165" y="2118"/>
                  </a:lnTo>
                  <a:lnTo>
                    <a:pt x="207" y="2098"/>
                  </a:lnTo>
                  <a:lnTo>
                    <a:pt x="251" y="2076"/>
                  </a:lnTo>
                  <a:lnTo>
                    <a:pt x="275" y="2062"/>
                  </a:lnTo>
                  <a:lnTo>
                    <a:pt x="284" y="2035"/>
                  </a:lnTo>
                  <a:lnTo>
                    <a:pt x="290" y="2017"/>
                  </a:lnTo>
                  <a:lnTo>
                    <a:pt x="292" y="2001"/>
                  </a:lnTo>
                  <a:lnTo>
                    <a:pt x="296" y="1988"/>
                  </a:lnTo>
                  <a:lnTo>
                    <a:pt x="308" y="1974"/>
                  </a:lnTo>
                  <a:lnTo>
                    <a:pt x="325" y="1956"/>
                  </a:lnTo>
                  <a:lnTo>
                    <a:pt x="333" y="1944"/>
                  </a:lnTo>
                  <a:lnTo>
                    <a:pt x="341" y="1932"/>
                  </a:lnTo>
                  <a:lnTo>
                    <a:pt x="337" y="1922"/>
                  </a:lnTo>
                  <a:lnTo>
                    <a:pt x="333" y="1920"/>
                  </a:lnTo>
                  <a:lnTo>
                    <a:pt x="325" y="1920"/>
                  </a:lnTo>
                  <a:lnTo>
                    <a:pt x="325" y="1917"/>
                  </a:lnTo>
                  <a:lnTo>
                    <a:pt x="329" y="1907"/>
                  </a:lnTo>
                  <a:lnTo>
                    <a:pt x="359" y="1855"/>
                  </a:lnTo>
                  <a:lnTo>
                    <a:pt x="387" y="1837"/>
                  </a:lnTo>
                  <a:lnTo>
                    <a:pt x="414" y="1823"/>
                  </a:lnTo>
                  <a:lnTo>
                    <a:pt x="440" y="1810"/>
                  </a:lnTo>
                  <a:lnTo>
                    <a:pt x="461" y="1794"/>
                  </a:lnTo>
                  <a:lnTo>
                    <a:pt x="573" y="1802"/>
                  </a:lnTo>
                  <a:lnTo>
                    <a:pt x="572" y="1797"/>
                  </a:lnTo>
                  <a:lnTo>
                    <a:pt x="573" y="1790"/>
                  </a:lnTo>
                  <a:lnTo>
                    <a:pt x="588" y="1768"/>
                  </a:lnTo>
                  <a:lnTo>
                    <a:pt x="617" y="1732"/>
                  </a:lnTo>
                  <a:lnTo>
                    <a:pt x="620" y="1661"/>
                  </a:lnTo>
                  <a:lnTo>
                    <a:pt x="564" y="1559"/>
                  </a:lnTo>
                  <a:lnTo>
                    <a:pt x="554" y="1561"/>
                  </a:lnTo>
                  <a:lnTo>
                    <a:pt x="549" y="1564"/>
                  </a:lnTo>
                  <a:lnTo>
                    <a:pt x="546" y="1569"/>
                  </a:lnTo>
                  <a:lnTo>
                    <a:pt x="544" y="1575"/>
                  </a:lnTo>
                  <a:lnTo>
                    <a:pt x="549" y="1614"/>
                  </a:lnTo>
                  <a:lnTo>
                    <a:pt x="554" y="1622"/>
                  </a:lnTo>
                  <a:lnTo>
                    <a:pt x="558" y="1629"/>
                  </a:lnTo>
                  <a:lnTo>
                    <a:pt x="564" y="1637"/>
                  </a:lnTo>
                  <a:lnTo>
                    <a:pt x="549" y="1629"/>
                  </a:lnTo>
                  <a:lnTo>
                    <a:pt x="536" y="1630"/>
                  </a:lnTo>
                  <a:lnTo>
                    <a:pt x="531" y="1638"/>
                  </a:lnTo>
                  <a:lnTo>
                    <a:pt x="526" y="1650"/>
                  </a:lnTo>
                  <a:lnTo>
                    <a:pt x="523" y="1679"/>
                  </a:lnTo>
                  <a:lnTo>
                    <a:pt x="521" y="1697"/>
                  </a:lnTo>
                  <a:lnTo>
                    <a:pt x="513" y="1703"/>
                  </a:lnTo>
                  <a:lnTo>
                    <a:pt x="505" y="1703"/>
                  </a:lnTo>
                  <a:lnTo>
                    <a:pt x="491" y="1700"/>
                  </a:lnTo>
                  <a:lnTo>
                    <a:pt x="477" y="1689"/>
                  </a:lnTo>
                  <a:lnTo>
                    <a:pt x="461" y="1684"/>
                  </a:lnTo>
                  <a:lnTo>
                    <a:pt x="447" y="1684"/>
                  </a:lnTo>
                  <a:lnTo>
                    <a:pt x="437" y="1689"/>
                  </a:lnTo>
                  <a:lnTo>
                    <a:pt x="429" y="1701"/>
                  </a:lnTo>
                  <a:lnTo>
                    <a:pt x="424" y="1716"/>
                  </a:lnTo>
                  <a:lnTo>
                    <a:pt x="380" y="1723"/>
                  </a:lnTo>
                  <a:lnTo>
                    <a:pt x="348" y="1684"/>
                  </a:lnTo>
                  <a:lnTo>
                    <a:pt x="348" y="1624"/>
                  </a:lnTo>
                  <a:lnTo>
                    <a:pt x="414" y="1546"/>
                  </a:lnTo>
                  <a:lnTo>
                    <a:pt x="485" y="1363"/>
                  </a:lnTo>
                  <a:lnTo>
                    <a:pt x="518" y="1346"/>
                  </a:lnTo>
                  <a:lnTo>
                    <a:pt x="552" y="1328"/>
                  </a:lnTo>
                  <a:lnTo>
                    <a:pt x="570" y="1323"/>
                  </a:lnTo>
                  <a:lnTo>
                    <a:pt x="589" y="1318"/>
                  </a:lnTo>
                  <a:lnTo>
                    <a:pt x="609" y="1321"/>
                  </a:lnTo>
                  <a:lnTo>
                    <a:pt x="631" y="1328"/>
                  </a:lnTo>
                  <a:lnTo>
                    <a:pt x="698" y="1295"/>
                  </a:lnTo>
                  <a:lnTo>
                    <a:pt x="730" y="1012"/>
                  </a:lnTo>
                  <a:lnTo>
                    <a:pt x="720" y="1001"/>
                  </a:lnTo>
                  <a:lnTo>
                    <a:pt x="714" y="985"/>
                  </a:lnTo>
                  <a:lnTo>
                    <a:pt x="710" y="970"/>
                  </a:lnTo>
                  <a:lnTo>
                    <a:pt x="702" y="955"/>
                  </a:lnTo>
                  <a:lnTo>
                    <a:pt x="665" y="923"/>
                  </a:lnTo>
                  <a:lnTo>
                    <a:pt x="641" y="904"/>
                  </a:lnTo>
                  <a:lnTo>
                    <a:pt x="621" y="894"/>
                  </a:lnTo>
                  <a:lnTo>
                    <a:pt x="633" y="890"/>
                  </a:lnTo>
                  <a:lnTo>
                    <a:pt x="645" y="884"/>
                  </a:lnTo>
                  <a:lnTo>
                    <a:pt x="662" y="873"/>
                  </a:lnTo>
                  <a:lnTo>
                    <a:pt x="657" y="803"/>
                  </a:lnTo>
                  <a:lnTo>
                    <a:pt x="665" y="762"/>
                  </a:lnTo>
                  <a:lnTo>
                    <a:pt x="662" y="729"/>
                  </a:lnTo>
                  <a:lnTo>
                    <a:pt x="654" y="701"/>
                  </a:lnTo>
                  <a:lnTo>
                    <a:pt x="639" y="677"/>
                  </a:lnTo>
                  <a:lnTo>
                    <a:pt x="597" y="632"/>
                  </a:lnTo>
                  <a:lnTo>
                    <a:pt x="576" y="606"/>
                  </a:lnTo>
                  <a:lnTo>
                    <a:pt x="558" y="575"/>
                  </a:lnTo>
                  <a:lnTo>
                    <a:pt x="544" y="578"/>
                  </a:lnTo>
                  <a:lnTo>
                    <a:pt x="536" y="573"/>
                  </a:lnTo>
                  <a:lnTo>
                    <a:pt x="533" y="560"/>
                  </a:lnTo>
                  <a:lnTo>
                    <a:pt x="531" y="544"/>
                  </a:lnTo>
                  <a:lnTo>
                    <a:pt x="526" y="531"/>
                  </a:lnTo>
                  <a:lnTo>
                    <a:pt x="521" y="523"/>
                  </a:lnTo>
                  <a:lnTo>
                    <a:pt x="517" y="520"/>
                  </a:lnTo>
                  <a:lnTo>
                    <a:pt x="513" y="521"/>
                  </a:lnTo>
                  <a:lnTo>
                    <a:pt x="497" y="529"/>
                  </a:lnTo>
                  <a:lnTo>
                    <a:pt x="479" y="521"/>
                  </a:lnTo>
                  <a:lnTo>
                    <a:pt x="455" y="505"/>
                  </a:lnTo>
                  <a:lnTo>
                    <a:pt x="396" y="460"/>
                  </a:lnTo>
                  <a:lnTo>
                    <a:pt x="339" y="413"/>
                  </a:lnTo>
                  <a:lnTo>
                    <a:pt x="308" y="381"/>
                  </a:lnTo>
                  <a:lnTo>
                    <a:pt x="316" y="387"/>
                  </a:lnTo>
                  <a:lnTo>
                    <a:pt x="347" y="352"/>
                  </a:lnTo>
                  <a:lnTo>
                    <a:pt x="351" y="335"/>
                  </a:lnTo>
                  <a:lnTo>
                    <a:pt x="356" y="306"/>
                  </a:lnTo>
                  <a:lnTo>
                    <a:pt x="359" y="292"/>
                  </a:lnTo>
                  <a:lnTo>
                    <a:pt x="356" y="279"/>
                  </a:lnTo>
                  <a:lnTo>
                    <a:pt x="351" y="269"/>
                  </a:lnTo>
                  <a:lnTo>
                    <a:pt x="341" y="263"/>
                  </a:lnTo>
                  <a:lnTo>
                    <a:pt x="348" y="182"/>
                  </a:lnTo>
                  <a:lnTo>
                    <a:pt x="308" y="105"/>
                  </a:lnTo>
                  <a:lnTo>
                    <a:pt x="308" y="97"/>
                  </a:lnTo>
                  <a:lnTo>
                    <a:pt x="348" y="97"/>
                  </a:lnTo>
                  <a:lnTo>
                    <a:pt x="361" y="99"/>
                  </a:lnTo>
                  <a:lnTo>
                    <a:pt x="371" y="102"/>
                  </a:lnTo>
                  <a:lnTo>
                    <a:pt x="379" y="105"/>
                  </a:lnTo>
                  <a:lnTo>
                    <a:pt x="387" y="99"/>
                  </a:lnTo>
                  <a:lnTo>
                    <a:pt x="531" y="130"/>
                  </a:lnTo>
                  <a:lnTo>
                    <a:pt x="536" y="141"/>
                  </a:lnTo>
                  <a:lnTo>
                    <a:pt x="546" y="152"/>
                  </a:lnTo>
                  <a:lnTo>
                    <a:pt x="581" y="178"/>
                  </a:lnTo>
                  <a:lnTo>
                    <a:pt x="617" y="199"/>
                  </a:lnTo>
                  <a:lnTo>
                    <a:pt x="643" y="209"/>
                  </a:lnTo>
                  <a:lnTo>
                    <a:pt x="638" y="225"/>
                  </a:lnTo>
                  <a:lnTo>
                    <a:pt x="638" y="235"/>
                  </a:lnTo>
                  <a:lnTo>
                    <a:pt x="641" y="243"/>
                  </a:lnTo>
                  <a:lnTo>
                    <a:pt x="651" y="249"/>
                  </a:lnTo>
                  <a:lnTo>
                    <a:pt x="680" y="259"/>
                  </a:lnTo>
                  <a:lnTo>
                    <a:pt x="714" y="269"/>
                  </a:lnTo>
                  <a:lnTo>
                    <a:pt x="728" y="267"/>
                  </a:lnTo>
                  <a:lnTo>
                    <a:pt x="740" y="263"/>
                  </a:lnTo>
                  <a:lnTo>
                    <a:pt x="748" y="255"/>
                  </a:lnTo>
                  <a:lnTo>
                    <a:pt x="753" y="241"/>
                  </a:lnTo>
                  <a:lnTo>
                    <a:pt x="868" y="249"/>
                  </a:lnTo>
                  <a:lnTo>
                    <a:pt x="874" y="172"/>
                  </a:lnTo>
                  <a:lnTo>
                    <a:pt x="882" y="190"/>
                  </a:lnTo>
                  <a:lnTo>
                    <a:pt x="886" y="190"/>
                  </a:lnTo>
                  <a:lnTo>
                    <a:pt x="887" y="186"/>
                  </a:lnTo>
                  <a:lnTo>
                    <a:pt x="892" y="166"/>
                  </a:lnTo>
                  <a:lnTo>
                    <a:pt x="894" y="138"/>
                  </a:lnTo>
                  <a:lnTo>
                    <a:pt x="892" y="87"/>
                  </a:lnTo>
                  <a:lnTo>
                    <a:pt x="890" y="75"/>
                  </a:lnTo>
                  <a:lnTo>
                    <a:pt x="886" y="86"/>
                  </a:lnTo>
                  <a:lnTo>
                    <a:pt x="879" y="86"/>
                  </a:lnTo>
                  <a:lnTo>
                    <a:pt x="876" y="83"/>
                  </a:lnTo>
                  <a:lnTo>
                    <a:pt x="876" y="75"/>
                  </a:lnTo>
                  <a:lnTo>
                    <a:pt x="879" y="62"/>
                  </a:lnTo>
                  <a:lnTo>
                    <a:pt x="890" y="50"/>
                  </a:lnTo>
                  <a:lnTo>
                    <a:pt x="903" y="42"/>
                  </a:lnTo>
                  <a:lnTo>
                    <a:pt x="918" y="42"/>
                  </a:lnTo>
                  <a:lnTo>
                    <a:pt x="923" y="44"/>
                  </a:lnTo>
                  <a:lnTo>
                    <a:pt x="929" y="50"/>
                  </a:lnTo>
                  <a:lnTo>
                    <a:pt x="941" y="73"/>
                  </a:lnTo>
                  <a:lnTo>
                    <a:pt x="950" y="89"/>
                  </a:lnTo>
                  <a:lnTo>
                    <a:pt x="960" y="101"/>
                  </a:lnTo>
                  <a:lnTo>
                    <a:pt x="976" y="112"/>
                  </a:lnTo>
                  <a:lnTo>
                    <a:pt x="999" y="120"/>
                  </a:lnTo>
                  <a:lnTo>
                    <a:pt x="1004" y="101"/>
                  </a:lnTo>
                  <a:lnTo>
                    <a:pt x="1014" y="87"/>
                  </a:lnTo>
                  <a:lnTo>
                    <a:pt x="1026" y="78"/>
                  </a:lnTo>
                  <a:lnTo>
                    <a:pt x="1039" y="70"/>
                  </a:lnTo>
                  <a:lnTo>
                    <a:pt x="1071" y="62"/>
                  </a:lnTo>
                  <a:lnTo>
                    <a:pt x="1085" y="57"/>
                  </a:lnTo>
                  <a:lnTo>
                    <a:pt x="1099" y="50"/>
                  </a:lnTo>
                  <a:lnTo>
                    <a:pt x="1093" y="60"/>
                  </a:lnTo>
                  <a:lnTo>
                    <a:pt x="1095" y="71"/>
                  </a:lnTo>
                  <a:lnTo>
                    <a:pt x="1101" y="81"/>
                  </a:lnTo>
                  <a:lnTo>
                    <a:pt x="1109" y="93"/>
                  </a:lnTo>
                  <a:lnTo>
                    <a:pt x="1128" y="112"/>
                  </a:lnTo>
                  <a:lnTo>
                    <a:pt x="1144" y="125"/>
                  </a:lnTo>
                  <a:lnTo>
                    <a:pt x="1269" y="71"/>
                  </a:lnTo>
                  <a:lnTo>
                    <a:pt x="1284" y="36"/>
                  </a:lnTo>
                  <a:lnTo>
                    <a:pt x="1290" y="30"/>
                  </a:lnTo>
                  <a:lnTo>
                    <a:pt x="1300" y="30"/>
                  </a:lnTo>
                  <a:lnTo>
                    <a:pt x="1326" y="42"/>
                  </a:lnTo>
                  <a:lnTo>
                    <a:pt x="1376" y="63"/>
                  </a:lnTo>
                  <a:lnTo>
                    <a:pt x="1387" y="86"/>
                  </a:lnTo>
                  <a:lnTo>
                    <a:pt x="1407" y="117"/>
                  </a:lnTo>
                  <a:lnTo>
                    <a:pt x="1411" y="93"/>
                  </a:lnTo>
                  <a:lnTo>
                    <a:pt x="1415" y="119"/>
                  </a:lnTo>
                  <a:lnTo>
                    <a:pt x="1413" y="120"/>
                  </a:lnTo>
                  <a:lnTo>
                    <a:pt x="1407" y="117"/>
                  </a:lnTo>
                  <a:lnTo>
                    <a:pt x="1403" y="125"/>
                  </a:lnTo>
                  <a:lnTo>
                    <a:pt x="1399" y="133"/>
                  </a:lnTo>
                  <a:lnTo>
                    <a:pt x="1385" y="136"/>
                  </a:lnTo>
                  <a:lnTo>
                    <a:pt x="1368" y="141"/>
                  </a:lnTo>
                  <a:lnTo>
                    <a:pt x="1352" y="144"/>
                  </a:lnTo>
                  <a:close/>
                </a:path>
              </a:pathLst>
            </a:custGeom>
            <a:blipFill rotWithShape="0">
              <a:blip r:embed="rId85"/>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 name=""/>
            <p:cNvSpPr/>
            <p:nvPr/>
          </p:nvSpPr>
          <p:spPr>
            <a:xfrm>
              <a:off x="507960" y="1168920"/>
              <a:ext cx="644760" cy="101160"/>
            </a:xfrm>
            <a:custGeom>
              <a:avLst/>
              <a:gdLst/>
              <a:ahLst/>
              <a:rect l="l" t="t" r="r" b="b"/>
              <a:pathLst>
                <a:path w="5036" h="866">
                  <a:moveTo>
                    <a:pt x="772" y="866"/>
                  </a:moveTo>
                  <a:lnTo>
                    <a:pt x="636" y="785"/>
                  </a:lnTo>
                  <a:lnTo>
                    <a:pt x="513" y="702"/>
                  </a:lnTo>
                  <a:lnTo>
                    <a:pt x="406" y="623"/>
                  </a:lnTo>
                  <a:lnTo>
                    <a:pt x="314" y="547"/>
                  </a:lnTo>
                  <a:lnTo>
                    <a:pt x="234" y="477"/>
                  </a:lnTo>
                  <a:lnTo>
                    <a:pt x="171" y="414"/>
                  </a:lnTo>
                  <a:lnTo>
                    <a:pt x="122" y="361"/>
                  </a:lnTo>
                  <a:lnTo>
                    <a:pt x="90" y="319"/>
                  </a:lnTo>
                  <a:lnTo>
                    <a:pt x="45" y="259"/>
                  </a:lnTo>
                  <a:lnTo>
                    <a:pt x="24" y="225"/>
                  </a:lnTo>
                  <a:lnTo>
                    <a:pt x="8" y="189"/>
                  </a:lnTo>
                  <a:lnTo>
                    <a:pt x="1" y="170"/>
                  </a:lnTo>
                  <a:lnTo>
                    <a:pt x="0" y="152"/>
                  </a:lnTo>
                  <a:lnTo>
                    <a:pt x="0" y="134"/>
                  </a:lnTo>
                  <a:lnTo>
                    <a:pt x="1" y="115"/>
                  </a:lnTo>
                  <a:lnTo>
                    <a:pt x="9" y="97"/>
                  </a:lnTo>
                  <a:lnTo>
                    <a:pt x="19" y="76"/>
                  </a:lnTo>
                  <a:lnTo>
                    <a:pt x="33" y="58"/>
                  </a:lnTo>
                  <a:lnTo>
                    <a:pt x="53" y="39"/>
                  </a:lnTo>
                  <a:lnTo>
                    <a:pt x="87" y="13"/>
                  </a:lnTo>
                  <a:lnTo>
                    <a:pt x="108" y="2"/>
                  </a:lnTo>
                  <a:lnTo>
                    <a:pt x="124" y="0"/>
                  </a:lnTo>
                  <a:lnTo>
                    <a:pt x="134" y="3"/>
                  </a:lnTo>
                  <a:lnTo>
                    <a:pt x="144" y="13"/>
                  </a:lnTo>
                  <a:lnTo>
                    <a:pt x="155" y="26"/>
                  </a:lnTo>
                  <a:lnTo>
                    <a:pt x="171" y="34"/>
                  </a:lnTo>
                  <a:lnTo>
                    <a:pt x="199" y="37"/>
                  </a:lnTo>
                  <a:lnTo>
                    <a:pt x="5036" y="37"/>
                  </a:lnTo>
                  <a:lnTo>
                    <a:pt x="4989" y="84"/>
                  </a:lnTo>
                  <a:lnTo>
                    <a:pt x="4944" y="134"/>
                  </a:lnTo>
                  <a:lnTo>
                    <a:pt x="199" y="134"/>
                  </a:lnTo>
                  <a:lnTo>
                    <a:pt x="178" y="132"/>
                  </a:lnTo>
                  <a:lnTo>
                    <a:pt x="153" y="134"/>
                  </a:lnTo>
                  <a:lnTo>
                    <a:pt x="145" y="136"/>
                  </a:lnTo>
                  <a:lnTo>
                    <a:pt x="137" y="139"/>
                  </a:lnTo>
                  <a:lnTo>
                    <a:pt x="134" y="147"/>
                  </a:lnTo>
                  <a:lnTo>
                    <a:pt x="134" y="160"/>
                  </a:lnTo>
                  <a:lnTo>
                    <a:pt x="140" y="175"/>
                  </a:lnTo>
                  <a:lnTo>
                    <a:pt x="148" y="189"/>
                  </a:lnTo>
                  <a:lnTo>
                    <a:pt x="160" y="201"/>
                  </a:lnTo>
                  <a:lnTo>
                    <a:pt x="176" y="211"/>
                  </a:lnTo>
                  <a:lnTo>
                    <a:pt x="191" y="219"/>
                  </a:lnTo>
                  <a:lnTo>
                    <a:pt x="211" y="225"/>
                  </a:lnTo>
                  <a:lnTo>
                    <a:pt x="233" y="228"/>
                  </a:lnTo>
                  <a:lnTo>
                    <a:pt x="257" y="228"/>
                  </a:lnTo>
                  <a:lnTo>
                    <a:pt x="4867" y="228"/>
                  </a:lnTo>
                  <a:lnTo>
                    <a:pt x="4815" y="301"/>
                  </a:lnTo>
                  <a:lnTo>
                    <a:pt x="4772" y="377"/>
                  </a:lnTo>
                  <a:lnTo>
                    <a:pt x="4732" y="453"/>
                  </a:lnTo>
                  <a:lnTo>
                    <a:pt x="4700" y="532"/>
                  </a:lnTo>
                  <a:lnTo>
                    <a:pt x="4669" y="613"/>
                  </a:lnTo>
                  <a:lnTo>
                    <a:pt x="4646" y="696"/>
                  </a:lnTo>
                  <a:lnTo>
                    <a:pt x="4628" y="782"/>
                  </a:lnTo>
                  <a:lnTo>
                    <a:pt x="4614" y="866"/>
                  </a:lnTo>
                  <a:lnTo>
                    <a:pt x="772" y="866"/>
                  </a:lnTo>
                  <a:close/>
                </a:path>
              </a:pathLst>
            </a:custGeom>
            <a:blipFill rotWithShape="0">
              <a:blip r:embed="rId86"/>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
            <p:cNvSpPr/>
            <p:nvPr/>
          </p:nvSpPr>
          <p:spPr>
            <a:xfrm>
              <a:off x="631800" y="1277640"/>
              <a:ext cx="929880" cy="375120"/>
            </a:xfrm>
            <a:custGeom>
              <a:avLst/>
              <a:gdLst/>
              <a:ahLst/>
              <a:rect l="l" t="t" r="r" b="b"/>
              <a:pathLst>
                <a:path w="7254" h="3231">
                  <a:moveTo>
                    <a:pt x="201" y="134"/>
                  </a:moveTo>
                  <a:lnTo>
                    <a:pt x="180" y="134"/>
                  </a:lnTo>
                  <a:lnTo>
                    <a:pt x="157" y="134"/>
                  </a:lnTo>
                  <a:lnTo>
                    <a:pt x="147" y="136"/>
                  </a:lnTo>
                  <a:lnTo>
                    <a:pt x="141" y="142"/>
                  </a:lnTo>
                  <a:lnTo>
                    <a:pt x="138" y="150"/>
                  </a:lnTo>
                  <a:lnTo>
                    <a:pt x="138" y="160"/>
                  </a:lnTo>
                  <a:lnTo>
                    <a:pt x="143" y="176"/>
                  </a:lnTo>
                  <a:lnTo>
                    <a:pt x="151" y="189"/>
                  </a:lnTo>
                  <a:lnTo>
                    <a:pt x="162" y="202"/>
                  </a:lnTo>
                  <a:lnTo>
                    <a:pt x="177" y="212"/>
                  </a:lnTo>
                  <a:lnTo>
                    <a:pt x="194" y="220"/>
                  </a:lnTo>
                  <a:lnTo>
                    <a:pt x="214" y="225"/>
                  </a:lnTo>
                  <a:lnTo>
                    <a:pt x="235" y="229"/>
                  </a:lnTo>
                  <a:lnTo>
                    <a:pt x="259" y="231"/>
                  </a:lnTo>
                  <a:lnTo>
                    <a:pt x="3631" y="231"/>
                  </a:lnTo>
                  <a:lnTo>
                    <a:pt x="3636" y="307"/>
                  </a:lnTo>
                  <a:lnTo>
                    <a:pt x="3647" y="385"/>
                  </a:lnTo>
                  <a:lnTo>
                    <a:pt x="3658" y="464"/>
                  </a:lnTo>
                  <a:lnTo>
                    <a:pt x="3674" y="543"/>
                  </a:lnTo>
                  <a:lnTo>
                    <a:pt x="3692" y="621"/>
                  </a:lnTo>
                  <a:lnTo>
                    <a:pt x="3713" y="701"/>
                  </a:lnTo>
                  <a:lnTo>
                    <a:pt x="3739" y="780"/>
                  </a:lnTo>
                  <a:lnTo>
                    <a:pt x="3767" y="859"/>
                  </a:lnTo>
                  <a:lnTo>
                    <a:pt x="3768" y="866"/>
                  </a:lnTo>
                  <a:lnTo>
                    <a:pt x="3823" y="1010"/>
                  </a:lnTo>
                  <a:lnTo>
                    <a:pt x="3887" y="1144"/>
                  </a:lnTo>
                  <a:lnTo>
                    <a:pt x="3953" y="1269"/>
                  </a:lnTo>
                  <a:lnTo>
                    <a:pt x="4023" y="1382"/>
                  </a:lnTo>
                  <a:lnTo>
                    <a:pt x="4089" y="1481"/>
                  </a:lnTo>
                  <a:lnTo>
                    <a:pt x="4160" y="1575"/>
                  </a:lnTo>
                  <a:lnTo>
                    <a:pt x="4231" y="1667"/>
                  </a:lnTo>
                  <a:lnTo>
                    <a:pt x="4306" y="1758"/>
                  </a:lnTo>
                  <a:lnTo>
                    <a:pt x="4382" y="1847"/>
                  </a:lnTo>
                  <a:lnTo>
                    <a:pt x="4463" y="1932"/>
                  </a:lnTo>
                  <a:lnTo>
                    <a:pt x="4547" y="2015"/>
                  </a:lnTo>
                  <a:lnTo>
                    <a:pt x="4631" y="2096"/>
                  </a:lnTo>
                  <a:lnTo>
                    <a:pt x="4718" y="2175"/>
                  </a:lnTo>
                  <a:lnTo>
                    <a:pt x="4807" y="2250"/>
                  </a:lnTo>
                  <a:lnTo>
                    <a:pt x="4900" y="2323"/>
                  </a:lnTo>
                  <a:lnTo>
                    <a:pt x="4994" y="2394"/>
                  </a:lnTo>
                  <a:lnTo>
                    <a:pt x="5089" y="2460"/>
                  </a:lnTo>
                  <a:lnTo>
                    <a:pt x="5188" y="2526"/>
                  </a:lnTo>
                  <a:lnTo>
                    <a:pt x="5288" y="2587"/>
                  </a:lnTo>
                  <a:lnTo>
                    <a:pt x="5390" y="2645"/>
                  </a:lnTo>
                  <a:lnTo>
                    <a:pt x="5495" y="2701"/>
                  </a:lnTo>
                  <a:lnTo>
                    <a:pt x="5602" y="2753"/>
                  </a:lnTo>
                  <a:lnTo>
                    <a:pt x="5711" y="2802"/>
                  </a:lnTo>
                  <a:lnTo>
                    <a:pt x="5819" y="2847"/>
                  </a:lnTo>
                  <a:lnTo>
                    <a:pt x="5932" y="2891"/>
                  </a:lnTo>
                  <a:lnTo>
                    <a:pt x="6044" y="2928"/>
                  </a:lnTo>
                  <a:lnTo>
                    <a:pt x="6159" y="2964"/>
                  </a:lnTo>
                  <a:lnTo>
                    <a:pt x="6275" y="2998"/>
                  </a:lnTo>
                  <a:lnTo>
                    <a:pt x="6394" y="3025"/>
                  </a:lnTo>
                  <a:lnTo>
                    <a:pt x="6512" y="3051"/>
                  </a:lnTo>
                  <a:lnTo>
                    <a:pt x="6635" y="3072"/>
                  </a:lnTo>
                  <a:lnTo>
                    <a:pt x="6755" y="3090"/>
                  </a:lnTo>
                  <a:lnTo>
                    <a:pt x="6879" y="3104"/>
                  </a:lnTo>
                  <a:lnTo>
                    <a:pt x="7004" y="3114"/>
                  </a:lnTo>
                  <a:lnTo>
                    <a:pt x="7128" y="3119"/>
                  </a:lnTo>
                  <a:lnTo>
                    <a:pt x="7254" y="3122"/>
                  </a:lnTo>
                  <a:lnTo>
                    <a:pt x="7254" y="3231"/>
                  </a:lnTo>
                  <a:lnTo>
                    <a:pt x="7124" y="3229"/>
                  </a:lnTo>
                  <a:lnTo>
                    <a:pt x="6996" y="3223"/>
                  </a:lnTo>
                  <a:lnTo>
                    <a:pt x="6868" y="3213"/>
                  </a:lnTo>
                  <a:lnTo>
                    <a:pt x="6741" y="3198"/>
                  </a:lnTo>
                  <a:lnTo>
                    <a:pt x="6617" y="3181"/>
                  </a:lnTo>
                  <a:lnTo>
                    <a:pt x="6492" y="3158"/>
                  </a:lnTo>
                  <a:lnTo>
                    <a:pt x="6369" y="3132"/>
                  </a:lnTo>
                  <a:lnTo>
                    <a:pt x="6248" y="3104"/>
                  </a:lnTo>
                  <a:lnTo>
                    <a:pt x="6128" y="3070"/>
                  </a:lnTo>
                  <a:lnTo>
                    <a:pt x="6010" y="3033"/>
                  </a:lnTo>
                  <a:lnTo>
                    <a:pt x="5894" y="2993"/>
                  </a:lnTo>
                  <a:lnTo>
                    <a:pt x="5780" y="2950"/>
                  </a:lnTo>
                  <a:lnTo>
                    <a:pt x="5665" y="2902"/>
                  </a:lnTo>
                  <a:lnTo>
                    <a:pt x="5555" y="2852"/>
                  </a:lnTo>
                  <a:lnTo>
                    <a:pt x="5446" y="2798"/>
                  </a:lnTo>
                  <a:lnTo>
                    <a:pt x="5338" y="2740"/>
                  </a:lnTo>
                  <a:lnTo>
                    <a:pt x="5233" y="2682"/>
                  </a:lnTo>
                  <a:lnTo>
                    <a:pt x="5131" y="2619"/>
                  </a:lnTo>
                  <a:lnTo>
                    <a:pt x="5028" y="2551"/>
                  </a:lnTo>
                  <a:lnTo>
                    <a:pt x="4929" y="2483"/>
                  </a:lnTo>
                  <a:lnTo>
                    <a:pt x="4832" y="2410"/>
                  </a:lnTo>
                  <a:lnTo>
                    <a:pt x="4738" y="2334"/>
                  </a:lnTo>
                  <a:lnTo>
                    <a:pt x="4645" y="2258"/>
                  </a:lnTo>
                  <a:lnTo>
                    <a:pt x="4556" y="2177"/>
                  </a:lnTo>
                  <a:lnTo>
                    <a:pt x="4469" y="2094"/>
                  </a:lnTo>
                  <a:lnTo>
                    <a:pt x="4385" y="2009"/>
                  </a:lnTo>
                  <a:lnTo>
                    <a:pt x="4301" y="1920"/>
                  </a:lnTo>
                  <a:lnTo>
                    <a:pt x="4223" y="1829"/>
                  </a:lnTo>
                  <a:lnTo>
                    <a:pt x="4145" y="1737"/>
                  </a:lnTo>
                  <a:lnTo>
                    <a:pt x="4071" y="1640"/>
                  </a:lnTo>
                  <a:lnTo>
                    <a:pt x="4000" y="1544"/>
                  </a:lnTo>
                  <a:lnTo>
                    <a:pt x="3930" y="1442"/>
                  </a:lnTo>
                  <a:lnTo>
                    <a:pt x="3891" y="1382"/>
                  </a:lnTo>
                  <a:lnTo>
                    <a:pt x="3854" y="1316"/>
                  </a:lnTo>
                  <a:lnTo>
                    <a:pt x="3815" y="1249"/>
                  </a:lnTo>
                  <a:lnTo>
                    <a:pt x="3780" y="1178"/>
                  </a:lnTo>
                  <a:lnTo>
                    <a:pt x="3744" y="1103"/>
                  </a:lnTo>
                  <a:lnTo>
                    <a:pt x="3713" y="1028"/>
                  </a:lnTo>
                  <a:lnTo>
                    <a:pt x="3681" y="950"/>
                  </a:lnTo>
                  <a:lnTo>
                    <a:pt x="3652" y="866"/>
                  </a:lnTo>
                  <a:lnTo>
                    <a:pt x="774" y="866"/>
                  </a:lnTo>
                  <a:lnTo>
                    <a:pt x="638" y="785"/>
                  </a:lnTo>
                  <a:lnTo>
                    <a:pt x="516" y="704"/>
                  </a:lnTo>
                  <a:lnTo>
                    <a:pt x="410" y="623"/>
                  </a:lnTo>
                  <a:lnTo>
                    <a:pt x="314" y="549"/>
                  </a:lnTo>
                  <a:lnTo>
                    <a:pt x="235" y="477"/>
                  </a:lnTo>
                  <a:lnTo>
                    <a:pt x="172" y="414"/>
                  </a:lnTo>
                  <a:lnTo>
                    <a:pt x="125" y="361"/>
                  </a:lnTo>
                  <a:lnTo>
                    <a:pt x="91" y="322"/>
                  </a:lnTo>
                  <a:lnTo>
                    <a:pt x="46" y="259"/>
                  </a:lnTo>
                  <a:lnTo>
                    <a:pt x="26" y="225"/>
                  </a:lnTo>
                  <a:lnTo>
                    <a:pt x="10" y="189"/>
                  </a:lnTo>
                  <a:lnTo>
                    <a:pt x="5" y="171"/>
                  </a:lnTo>
                  <a:lnTo>
                    <a:pt x="0" y="152"/>
                  </a:lnTo>
                  <a:lnTo>
                    <a:pt x="0" y="134"/>
                  </a:lnTo>
                  <a:lnTo>
                    <a:pt x="5" y="116"/>
                  </a:lnTo>
                  <a:lnTo>
                    <a:pt x="10" y="97"/>
                  </a:lnTo>
                  <a:lnTo>
                    <a:pt x="23" y="79"/>
                  </a:lnTo>
                  <a:lnTo>
                    <a:pt x="36" y="59"/>
                  </a:lnTo>
                  <a:lnTo>
                    <a:pt x="56" y="42"/>
                  </a:lnTo>
                  <a:lnTo>
                    <a:pt x="89" y="14"/>
                  </a:lnTo>
                  <a:lnTo>
                    <a:pt x="112" y="3"/>
                  </a:lnTo>
                  <a:lnTo>
                    <a:pt x="125" y="0"/>
                  </a:lnTo>
                  <a:lnTo>
                    <a:pt x="138" y="6"/>
                  </a:lnTo>
                  <a:lnTo>
                    <a:pt x="145" y="16"/>
                  </a:lnTo>
                  <a:lnTo>
                    <a:pt x="157" y="26"/>
                  </a:lnTo>
                  <a:lnTo>
                    <a:pt x="175" y="35"/>
                  </a:lnTo>
                  <a:lnTo>
                    <a:pt x="202" y="37"/>
                  </a:lnTo>
                  <a:lnTo>
                    <a:pt x="3632" y="37"/>
                  </a:lnTo>
                  <a:lnTo>
                    <a:pt x="3629" y="134"/>
                  </a:lnTo>
                  <a:lnTo>
                    <a:pt x="201" y="134"/>
                  </a:lnTo>
                  <a:close/>
                </a:path>
              </a:pathLst>
            </a:custGeom>
            <a:blipFill rotWithShape="0">
              <a:blip r:embed="rId87"/>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1562040" y="723240"/>
              <a:ext cx="1181160" cy="900360"/>
            </a:xfrm>
            <a:custGeom>
              <a:avLst/>
              <a:gdLst/>
              <a:ahLst/>
              <a:rect l="l" t="t" r="r" b="b"/>
              <a:pathLst>
                <a:path w="9213" h="7761">
                  <a:moveTo>
                    <a:pt x="0" y="7664"/>
                  </a:moveTo>
                  <a:lnTo>
                    <a:pt x="0" y="7761"/>
                  </a:lnTo>
                  <a:lnTo>
                    <a:pt x="120" y="7759"/>
                  </a:lnTo>
                  <a:lnTo>
                    <a:pt x="241" y="7753"/>
                  </a:lnTo>
                  <a:lnTo>
                    <a:pt x="361" y="7743"/>
                  </a:lnTo>
                  <a:lnTo>
                    <a:pt x="479" y="7729"/>
                  </a:lnTo>
                  <a:lnTo>
                    <a:pt x="598" y="7714"/>
                  </a:lnTo>
                  <a:lnTo>
                    <a:pt x="714" y="7691"/>
                  </a:lnTo>
                  <a:lnTo>
                    <a:pt x="829" y="7667"/>
                  </a:lnTo>
                  <a:lnTo>
                    <a:pt x="944" y="7640"/>
                  </a:lnTo>
                  <a:lnTo>
                    <a:pt x="1056" y="7609"/>
                  </a:lnTo>
                  <a:lnTo>
                    <a:pt x="1167" y="7575"/>
                  </a:lnTo>
                  <a:lnTo>
                    <a:pt x="1277" y="7536"/>
                  </a:lnTo>
                  <a:lnTo>
                    <a:pt x="1384" y="7497"/>
                  </a:lnTo>
                  <a:lnTo>
                    <a:pt x="1491" y="7450"/>
                  </a:lnTo>
                  <a:lnTo>
                    <a:pt x="1595" y="7403"/>
                  </a:lnTo>
                  <a:lnTo>
                    <a:pt x="1698" y="7353"/>
                  </a:lnTo>
                  <a:lnTo>
                    <a:pt x="1800" y="7299"/>
                  </a:lnTo>
                  <a:lnTo>
                    <a:pt x="1899" y="7241"/>
                  </a:lnTo>
                  <a:lnTo>
                    <a:pt x="1996" y="7183"/>
                  </a:lnTo>
                  <a:lnTo>
                    <a:pt x="2090" y="7121"/>
                  </a:lnTo>
                  <a:lnTo>
                    <a:pt x="2185" y="7057"/>
                  </a:lnTo>
                  <a:lnTo>
                    <a:pt x="2276" y="6987"/>
                  </a:lnTo>
                  <a:lnTo>
                    <a:pt x="2365" y="6918"/>
                  </a:lnTo>
                  <a:lnTo>
                    <a:pt x="2451" y="6843"/>
                  </a:lnTo>
                  <a:lnTo>
                    <a:pt x="2536" y="6768"/>
                  </a:lnTo>
                  <a:lnTo>
                    <a:pt x="2617" y="6689"/>
                  </a:lnTo>
                  <a:lnTo>
                    <a:pt x="2698" y="6610"/>
                  </a:lnTo>
                  <a:lnTo>
                    <a:pt x="2775" y="6527"/>
                  </a:lnTo>
                  <a:lnTo>
                    <a:pt x="2850" y="6440"/>
                  </a:lnTo>
                  <a:lnTo>
                    <a:pt x="2920" y="6354"/>
                  </a:lnTo>
                  <a:lnTo>
                    <a:pt x="2992" y="6263"/>
                  </a:lnTo>
                  <a:lnTo>
                    <a:pt x="3059" y="6173"/>
                  </a:lnTo>
                  <a:lnTo>
                    <a:pt x="3122" y="6077"/>
                  </a:lnTo>
                  <a:lnTo>
                    <a:pt x="3161" y="6019"/>
                  </a:lnTo>
                  <a:lnTo>
                    <a:pt x="3200" y="5953"/>
                  </a:lnTo>
                  <a:lnTo>
                    <a:pt x="3234" y="5886"/>
                  </a:lnTo>
                  <a:lnTo>
                    <a:pt x="3270" y="5815"/>
                  </a:lnTo>
                  <a:lnTo>
                    <a:pt x="3304" y="5742"/>
                  </a:lnTo>
                  <a:lnTo>
                    <a:pt x="3336" y="5665"/>
                  </a:lnTo>
                  <a:lnTo>
                    <a:pt x="3363" y="5587"/>
                  </a:lnTo>
                  <a:lnTo>
                    <a:pt x="3391" y="5506"/>
                  </a:lnTo>
                  <a:lnTo>
                    <a:pt x="3414" y="5422"/>
                  </a:lnTo>
                  <a:lnTo>
                    <a:pt x="3435" y="5338"/>
                  </a:lnTo>
                  <a:lnTo>
                    <a:pt x="3452" y="5253"/>
                  </a:lnTo>
                  <a:lnTo>
                    <a:pt x="3466" y="5166"/>
                  </a:lnTo>
                  <a:lnTo>
                    <a:pt x="3474" y="5079"/>
                  </a:lnTo>
                  <a:lnTo>
                    <a:pt x="3480" y="4990"/>
                  </a:lnTo>
                  <a:lnTo>
                    <a:pt x="3482" y="4902"/>
                  </a:lnTo>
                  <a:lnTo>
                    <a:pt x="3477" y="4815"/>
                  </a:lnTo>
                  <a:lnTo>
                    <a:pt x="3467" y="4726"/>
                  </a:lnTo>
                  <a:lnTo>
                    <a:pt x="3454" y="4639"/>
                  </a:lnTo>
                  <a:lnTo>
                    <a:pt x="3435" y="4554"/>
                  </a:lnTo>
                  <a:lnTo>
                    <a:pt x="3409" y="4470"/>
                  </a:lnTo>
                  <a:lnTo>
                    <a:pt x="3375" y="4384"/>
                  </a:lnTo>
                  <a:lnTo>
                    <a:pt x="3338" y="4303"/>
                  </a:lnTo>
                  <a:lnTo>
                    <a:pt x="3292" y="4222"/>
                  </a:lnTo>
                  <a:lnTo>
                    <a:pt x="3239" y="4146"/>
                  </a:lnTo>
                  <a:lnTo>
                    <a:pt x="3179" y="4070"/>
                  </a:lnTo>
                  <a:lnTo>
                    <a:pt x="3113" y="3999"/>
                  </a:lnTo>
                  <a:lnTo>
                    <a:pt x="3037" y="3931"/>
                  </a:lnTo>
                  <a:lnTo>
                    <a:pt x="2954" y="3866"/>
                  </a:lnTo>
                  <a:lnTo>
                    <a:pt x="2864" y="3803"/>
                  </a:lnTo>
                  <a:lnTo>
                    <a:pt x="2763" y="3745"/>
                  </a:lnTo>
                  <a:lnTo>
                    <a:pt x="2653" y="3692"/>
                  </a:lnTo>
                  <a:lnTo>
                    <a:pt x="2535" y="3643"/>
                  </a:lnTo>
                  <a:lnTo>
                    <a:pt x="2664" y="3434"/>
                  </a:lnTo>
                  <a:lnTo>
                    <a:pt x="2775" y="3258"/>
                  </a:lnTo>
                  <a:lnTo>
                    <a:pt x="2913" y="3045"/>
                  </a:lnTo>
                  <a:lnTo>
                    <a:pt x="9014" y="3045"/>
                  </a:lnTo>
                  <a:lnTo>
                    <a:pt x="9035" y="3042"/>
                  </a:lnTo>
                  <a:lnTo>
                    <a:pt x="9057" y="3045"/>
                  </a:lnTo>
                  <a:lnTo>
                    <a:pt x="9067" y="3047"/>
                  </a:lnTo>
                  <a:lnTo>
                    <a:pt x="9075" y="3050"/>
                  </a:lnTo>
                  <a:lnTo>
                    <a:pt x="9079" y="3058"/>
                  </a:lnTo>
                  <a:lnTo>
                    <a:pt x="9079" y="3070"/>
                  </a:lnTo>
                  <a:lnTo>
                    <a:pt x="9072" y="3086"/>
                  </a:lnTo>
                  <a:lnTo>
                    <a:pt x="9063" y="3100"/>
                  </a:lnTo>
                  <a:lnTo>
                    <a:pt x="9053" y="3112"/>
                  </a:lnTo>
                  <a:lnTo>
                    <a:pt x="9037" y="3122"/>
                  </a:lnTo>
                  <a:lnTo>
                    <a:pt x="9022" y="3130"/>
                  </a:lnTo>
                  <a:lnTo>
                    <a:pt x="9001" y="3136"/>
                  </a:lnTo>
                  <a:lnTo>
                    <a:pt x="8980" y="3139"/>
                  </a:lnTo>
                  <a:lnTo>
                    <a:pt x="8956" y="3139"/>
                  </a:lnTo>
                  <a:lnTo>
                    <a:pt x="2967" y="3139"/>
                  </a:lnTo>
                  <a:lnTo>
                    <a:pt x="2698" y="3562"/>
                  </a:lnTo>
                  <a:lnTo>
                    <a:pt x="2799" y="3611"/>
                  </a:lnTo>
                  <a:lnTo>
                    <a:pt x="2893" y="3662"/>
                  </a:lnTo>
                  <a:lnTo>
                    <a:pt x="2985" y="3717"/>
                  </a:lnTo>
                  <a:lnTo>
                    <a:pt x="3067" y="3777"/>
                  </a:lnTo>
                  <a:lnTo>
                    <a:pt x="8441" y="3777"/>
                  </a:lnTo>
                  <a:lnTo>
                    <a:pt x="8577" y="3696"/>
                  </a:lnTo>
                  <a:lnTo>
                    <a:pt x="8700" y="3613"/>
                  </a:lnTo>
                  <a:lnTo>
                    <a:pt x="8807" y="3534"/>
                  </a:lnTo>
                  <a:lnTo>
                    <a:pt x="8899" y="3457"/>
                  </a:lnTo>
                  <a:lnTo>
                    <a:pt x="8978" y="3386"/>
                  </a:lnTo>
                  <a:lnTo>
                    <a:pt x="9041" y="3325"/>
                  </a:lnTo>
                  <a:lnTo>
                    <a:pt x="9090" y="3272"/>
                  </a:lnTo>
                  <a:lnTo>
                    <a:pt x="9122" y="3230"/>
                  </a:lnTo>
                  <a:lnTo>
                    <a:pt x="9168" y="3169"/>
                  </a:lnTo>
                  <a:lnTo>
                    <a:pt x="9189" y="3133"/>
                  </a:lnTo>
                  <a:lnTo>
                    <a:pt x="9205" y="3097"/>
                  </a:lnTo>
                  <a:lnTo>
                    <a:pt x="9213" y="3063"/>
                  </a:lnTo>
                  <a:lnTo>
                    <a:pt x="9213" y="3045"/>
                  </a:lnTo>
                  <a:lnTo>
                    <a:pt x="9211" y="3025"/>
                  </a:lnTo>
                  <a:lnTo>
                    <a:pt x="9203" y="3007"/>
                  </a:lnTo>
                  <a:lnTo>
                    <a:pt x="9193" y="2987"/>
                  </a:lnTo>
                  <a:lnTo>
                    <a:pt x="9179" y="2969"/>
                  </a:lnTo>
                  <a:lnTo>
                    <a:pt x="9160" y="2950"/>
                  </a:lnTo>
                  <a:lnTo>
                    <a:pt x="9126" y="2924"/>
                  </a:lnTo>
                  <a:lnTo>
                    <a:pt x="9105" y="2911"/>
                  </a:lnTo>
                  <a:lnTo>
                    <a:pt x="9088" y="2908"/>
                  </a:lnTo>
                  <a:lnTo>
                    <a:pt x="9079" y="2914"/>
                  </a:lnTo>
                  <a:lnTo>
                    <a:pt x="9069" y="2924"/>
                  </a:lnTo>
                  <a:lnTo>
                    <a:pt x="9057" y="2937"/>
                  </a:lnTo>
                  <a:lnTo>
                    <a:pt x="9041" y="2944"/>
                  </a:lnTo>
                  <a:lnTo>
                    <a:pt x="9014" y="2948"/>
                  </a:lnTo>
                  <a:lnTo>
                    <a:pt x="3852" y="2948"/>
                  </a:lnTo>
                  <a:lnTo>
                    <a:pt x="3807" y="2790"/>
                  </a:lnTo>
                  <a:lnTo>
                    <a:pt x="3754" y="2636"/>
                  </a:lnTo>
                  <a:lnTo>
                    <a:pt x="3697" y="2484"/>
                  </a:lnTo>
                  <a:lnTo>
                    <a:pt x="3632" y="2336"/>
                  </a:lnTo>
                  <a:lnTo>
                    <a:pt x="3561" y="2191"/>
                  </a:lnTo>
                  <a:lnTo>
                    <a:pt x="3485" y="2048"/>
                  </a:lnTo>
                  <a:lnTo>
                    <a:pt x="3404" y="1908"/>
                  </a:lnTo>
                  <a:lnTo>
                    <a:pt x="3318" y="1773"/>
                  </a:lnTo>
                  <a:lnTo>
                    <a:pt x="3225" y="1642"/>
                  </a:lnTo>
                  <a:lnTo>
                    <a:pt x="3129" y="1514"/>
                  </a:lnTo>
                  <a:lnTo>
                    <a:pt x="3025" y="1391"/>
                  </a:lnTo>
                  <a:lnTo>
                    <a:pt x="2919" y="1271"/>
                  </a:lnTo>
                  <a:lnTo>
                    <a:pt x="2808" y="1156"/>
                  </a:lnTo>
                  <a:lnTo>
                    <a:pt x="2692" y="1046"/>
                  </a:lnTo>
                  <a:lnTo>
                    <a:pt x="2572" y="939"/>
                  </a:lnTo>
                  <a:lnTo>
                    <a:pt x="2447" y="839"/>
                  </a:lnTo>
                  <a:lnTo>
                    <a:pt x="2319" y="742"/>
                  </a:lnTo>
                  <a:lnTo>
                    <a:pt x="2185" y="651"/>
                  </a:lnTo>
                  <a:lnTo>
                    <a:pt x="2049" y="567"/>
                  </a:lnTo>
                  <a:lnTo>
                    <a:pt x="1908" y="486"/>
                  </a:lnTo>
                  <a:lnTo>
                    <a:pt x="1766" y="410"/>
                  </a:lnTo>
                  <a:lnTo>
                    <a:pt x="1619" y="342"/>
                  </a:lnTo>
                  <a:lnTo>
                    <a:pt x="1468" y="279"/>
                  </a:lnTo>
                  <a:lnTo>
                    <a:pt x="1316" y="221"/>
                  </a:lnTo>
                  <a:lnTo>
                    <a:pt x="1161" y="169"/>
                  </a:lnTo>
                  <a:lnTo>
                    <a:pt x="1001" y="127"/>
                  </a:lnTo>
                  <a:lnTo>
                    <a:pt x="840" y="86"/>
                  </a:lnTo>
                  <a:lnTo>
                    <a:pt x="677" y="55"/>
                  </a:lnTo>
                  <a:lnTo>
                    <a:pt x="509" y="31"/>
                  </a:lnTo>
                  <a:lnTo>
                    <a:pt x="342" y="14"/>
                  </a:lnTo>
                  <a:lnTo>
                    <a:pt x="172" y="2"/>
                  </a:lnTo>
                  <a:lnTo>
                    <a:pt x="0" y="0"/>
                  </a:lnTo>
                  <a:lnTo>
                    <a:pt x="0" y="111"/>
                  </a:lnTo>
                  <a:lnTo>
                    <a:pt x="165" y="112"/>
                  </a:lnTo>
                  <a:lnTo>
                    <a:pt x="329" y="122"/>
                  </a:lnTo>
                  <a:lnTo>
                    <a:pt x="494" y="140"/>
                  </a:lnTo>
                  <a:lnTo>
                    <a:pt x="653" y="164"/>
                  </a:lnTo>
                  <a:lnTo>
                    <a:pt x="811" y="193"/>
                  </a:lnTo>
                  <a:lnTo>
                    <a:pt x="968" y="231"/>
                  </a:lnTo>
                  <a:lnTo>
                    <a:pt x="1122" y="274"/>
                  </a:lnTo>
                  <a:lnTo>
                    <a:pt x="1273" y="321"/>
                  </a:lnTo>
                  <a:lnTo>
                    <a:pt x="1421" y="376"/>
                  </a:lnTo>
                  <a:lnTo>
                    <a:pt x="1567" y="438"/>
                  </a:lnTo>
                  <a:lnTo>
                    <a:pt x="1709" y="505"/>
                  </a:lnTo>
                  <a:lnTo>
                    <a:pt x="1847" y="577"/>
                  </a:lnTo>
                  <a:lnTo>
                    <a:pt x="1983" y="653"/>
                  </a:lnTo>
                  <a:lnTo>
                    <a:pt x="2116" y="736"/>
                  </a:lnTo>
                  <a:lnTo>
                    <a:pt x="2244" y="825"/>
                  </a:lnTo>
                  <a:lnTo>
                    <a:pt x="2368" y="915"/>
                  </a:lnTo>
                  <a:lnTo>
                    <a:pt x="2488" y="1014"/>
                  </a:lnTo>
                  <a:lnTo>
                    <a:pt x="2605" y="1114"/>
                  </a:lnTo>
                  <a:lnTo>
                    <a:pt x="2718" y="1221"/>
                  </a:lnTo>
                  <a:lnTo>
                    <a:pt x="2826" y="1331"/>
                  </a:lnTo>
                  <a:lnTo>
                    <a:pt x="2931" y="1448"/>
                  </a:lnTo>
                  <a:lnTo>
                    <a:pt x="3030" y="1567"/>
                  </a:lnTo>
                  <a:lnTo>
                    <a:pt x="3124" y="1689"/>
                  </a:lnTo>
                  <a:lnTo>
                    <a:pt x="3213" y="1815"/>
                  </a:lnTo>
                  <a:lnTo>
                    <a:pt x="3297" y="1946"/>
                  </a:lnTo>
                  <a:lnTo>
                    <a:pt x="3378" y="2079"/>
                  </a:lnTo>
                  <a:lnTo>
                    <a:pt x="3452" y="2218"/>
                  </a:lnTo>
                  <a:lnTo>
                    <a:pt x="3521" y="2358"/>
                  </a:lnTo>
                  <a:lnTo>
                    <a:pt x="3584" y="2500"/>
                  </a:lnTo>
                  <a:lnTo>
                    <a:pt x="3642" y="2649"/>
                  </a:lnTo>
                  <a:lnTo>
                    <a:pt x="3695" y="2796"/>
                  </a:lnTo>
                  <a:lnTo>
                    <a:pt x="3740" y="2948"/>
                  </a:lnTo>
                  <a:lnTo>
                    <a:pt x="2931" y="2948"/>
                  </a:lnTo>
                  <a:lnTo>
                    <a:pt x="2889" y="2835"/>
                  </a:lnTo>
                  <a:lnTo>
                    <a:pt x="2842" y="2727"/>
                  </a:lnTo>
                  <a:lnTo>
                    <a:pt x="2792" y="2618"/>
                  </a:lnTo>
                  <a:lnTo>
                    <a:pt x="2737" y="2514"/>
                  </a:lnTo>
                  <a:lnTo>
                    <a:pt x="2679" y="2411"/>
                  </a:lnTo>
                  <a:lnTo>
                    <a:pt x="2617" y="2311"/>
                  </a:lnTo>
                  <a:lnTo>
                    <a:pt x="2551" y="2214"/>
                  </a:lnTo>
                  <a:lnTo>
                    <a:pt x="2483" y="2119"/>
                  </a:lnTo>
                  <a:lnTo>
                    <a:pt x="2410" y="2027"/>
                  </a:lnTo>
                  <a:lnTo>
                    <a:pt x="2333" y="1938"/>
                  </a:lnTo>
                  <a:lnTo>
                    <a:pt x="2253" y="1851"/>
                  </a:lnTo>
                  <a:lnTo>
                    <a:pt x="2171" y="1766"/>
                  </a:lnTo>
                  <a:lnTo>
                    <a:pt x="2086" y="1687"/>
                  </a:lnTo>
                  <a:lnTo>
                    <a:pt x="1997" y="1610"/>
                  </a:lnTo>
                  <a:lnTo>
                    <a:pt x="1905" y="1535"/>
                  </a:lnTo>
                  <a:lnTo>
                    <a:pt x="1812" y="1466"/>
                  </a:lnTo>
                  <a:lnTo>
                    <a:pt x="1713" y="1399"/>
                  </a:lnTo>
                  <a:lnTo>
                    <a:pt x="1614" y="1336"/>
                  </a:lnTo>
                  <a:lnTo>
                    <a:pt x="1512" y="1276"/>
                  </a:lnTo>
                  <a:lnTo>
                    <a:pt x="1407" y="1221"/>
                  </a:lnTo>
                  <a:lnTo>
                    <a:pt x="1300" y="1168"/>
                  </a:lnTo>
                  <a:lnTo>
                    <a:pt x="1192" y="1121"/>
                  </a:lnTo>
                  <a:lnTo>
                    <a:pt x="1080" y="1077"/>
                  </a:lnTo>
                  <a:lnTo>
                    <a:pt x="967" y="1038"/>
                  </a:lnTo>
                  <a:lnTo>
                    <a:pt x="853" y="1002"/>
                  </a:lnTo>
                  <a:lnTo>
                    <a:pt x="734" y="973"/>
                  </a:lnTo>
                  <a:lnTo>
                    <a:pt x="615" y="946"/>
                  </a:lnTo>
                  <a:lnTo>
                    <a:pt x="495" y="923"/>
                  </a:lnTo>
                  <a:lnTo>
                    <a:pt x="373" y="907"/>
                  </a:lnTo>
                  <a:lnTo>
                    <a:pt x="251" y="894"/>
                  </a:lnTo>
                  <a:lnTo>
                    <a:pt x="125" y="888"/>
                  </a:lnTo>
                  <a:lnTo>
                    <a:pt x="0" y="886"/>
                  </a:lnTo>
                  <a:lnTo>
                    <a:pt x="0" y="996"/>
                  </a:lnTo>
                  <a:lnTo>
                    <a:pt x="120" y="996"/>
                  </a:lnTo>
                  <a:lnTo>
                    <a:pt x="241" y="1004"/>
                  </a:lnTo>
                  <a:lnTo>
                    <a:pt x="361" y="1016"/>
                  </a:lnTo>
                  <a:lnTo>
                    <a:pt x="479" y="1032"/>
                  </a:lnTo>
                  <a:lnTo>
                    <a:pt x="596" y="1054"/>
                  </a:lnTo>
                  <a:lnTo>
                    <a:pt x="711" y="1079"/>
                  </a:lnTo>
                  <a:lnTo>
                    <a:pt x="824" y="1109"/>
                  </a:lnTo>
                  <a:lnTo>
                    <a:pt x="936" y="1142"/>
                  </a:lnTo>
                  <a:lnTo>
                    <a:pt x="1044" y="1182"/>
                  </a:lnTo>
                  <a:lnTo>
                    <a:pt x="1153" y="1223"/>
                  </a:lnTo>
                  <a:lnTo>
                    <a:pt x="1258" y="1271"/>
                  </a:lnTo>
                  <a:lnTo>
                    <a:pt x="1362" y="1320"/>
                  </a:lnTo>
                  <a:lnTo>
                    <a:pt x="1462" y="1373"/>
                  </a:lnTo>
                  <a:lnTo>
                    <a:pt x="1561" y="1433"/>
                  </a:lnTo>
                  <a:lnTo>
                    <a:pt x="1658" y="1493"/>
                  </a:lnTo>
                  <a:lnTo>
                    <a:pt x="1750" y="1556"/>
                  </a:lnTo>
                  <a:lnTo>
                    <a:pt x="1842" y="1626"/>
                  </a:lnTo>
                  <a:lnTo>
                    <a:pt x="1930" y="1697"/>
                  </a:lnTo>
                  <a:lnTo>
                    <a:pt x="2017" y="1772"/>
                  </a:lnTo>
                  <a:lnTo>
                    <a:pt x="2100" y="1849"/>
                  </a:lnTo>
                  <a:lnTo>
                    <a:pt x="2179" y="1930"/>
                  </a:lnTo>
                  <a:lnTo>
                    <a:pt x="2256" y="2014"/>
                  </a:lnTo>
                  <a:lnTo>
                    <a:pt x="2329" y="2102"/>
                  </a:lnTo>
                  <a:lnTo>
                    <a:pt x="2398" y="2191"/>
                  </a:lnTo>
                  <a:lnTo>
                    <a:pt x="2465" y="2283"/>
                  </a:lnTo>
                  <a:lnTo>
                    <a:pt x="2528" y="2377"/>
                  </a:lnTo>
                  <a:lnTo>
                    <a:pt x="2590" y="2474"/>
                  </a:lnTo>
                  <a:lnTo>
                    <a:pt x="2645" y="2573"/>
                  </a:lnTo>
                  <a:lnTo>
                    <a:pt x="2698" y="2676"/>
                  </a:lnTo>
                  <a:lnTo>
                    <a:pt x="2745" y="2780"/>
                  </a:lnTo>
                  <a:lnTo>
                    <a:pt x="2791" y="2887"/>
                  </a:lnTo>
                  <a:lnTo>
                    <a:pt x="2832" y="2993"/>
                  </a:lnTo>
                  <a:lnTo>
                    <a:pt x="2671" y="3244"/>
                  </a:lnTo>
                  <a:lnTo>
                    <a:pt x="2551" y="3429"/>
                  </a:lnTo>
                  <a:lnTo>
                    <a:pt x="2422" y="3643"/>
                  </a:lnTo>
                  <a:lnTo>
                    <a:pt x="2392" y="3694"/>
                  </a:lnTo>
                  <a:lnTo>
                    <a:pt x="2496" y="3733"/>
                  </a:lnTo>
                  <a:lnTo>
                    <a:pt x="2595" y="3777"/>
                  </a:lnTo>
                  <a:lnTo>
                    <a:pt x="2688" y="3824"/>
                  </a:lnTo>
                  <a:lnTo>
                    <a:pt x="2775" y="3876"/>
                  </a:lnTo>
                  <a:lnTo>
                    <a:pt x="716" y="3876"/>
                  </a:lnTo>
                  <a:lnTo>
                    <a:pt x="724" y="3929"/>
                  </a:lnTo>
                  <a:lnTo>
                    <a:pt x="727" y="3984"/>
                  </a:lnTo>
                  <a:lnTo>
                    <a:pt x="2927" y="3984"/>
                  </a:lnTo>
                  <a:lnTo>
                    <a:pt x="3004" y="4051"/>
                  </a:lnTo>
                  <a:lnTo>
                    <a:pt x="2996" y="4203"/>
                  </a:lnTo>
                  <a:lnTo>
                    <a:pt x="2982" y="4355"/>
                  </a:lnTo>
                  <a:lnTo>
                    <a:pt x="2962" y="4503"/>
                  </a:lnTo>
                  <a:lnTo>
                    <a:pt x="2933" y="4648"/>
                  </a:lnTo>
                  <a:lnTo>
                    <a:pt x="2899" y="4791"/>
                  </a:lnTo>
                  <a:lnTo>
                    <a:pt x="2856" y="4933"/>
                  </a:lnTo>
                  <a:lnTo>
                    <a:pt x="2808" y="5069"/>
                  </a:lnTo>
                  <a:lnTo>
                    <a:pt x="2753" y="5203"/>
                  </a:lnTo>
                  <a:lnTo>
                    <a:pt x="2692" y="5336"/>
                  </a:lnTo>
                  <a:lnTo>
                    <a:pt x="2625" y="5462"/>
                  </a:lnTo>
                  <a:lnTo>
                    <a:pt x="2551" y="5587"/>
                  </a:lnTo>
                  <a:lnTo>
                    <a:pt x="2475" y="5707"/>
                  </a:lnTo>
                  <a:lnTo>
                    <a:pt x="2391" y="5823"/>
                  </a:lnTo>
                  <a:lnTo>
                    <a:pt x="2302" y="5933"/>
                  </a:lnTo>
                  <a:lnTo>
                    <a:pt x="2206" y="6040"/>
                  </a:lnTo>
                  <a:lnTo>
                    <a:pt x="2108" y="6142"/>
                  </a:lnTo>
                  <a:lnTo>
                    <a:pt x="2004" y="6241"/>
                  </a:lnTo>
                  <a:lnTo>
                    <a:pt x="1894" y="6333"/>
                  </a:lnTo>
                  <a:lnTo>
                    <a:pt x="1782" y="6421"/>
                  </a:lnTo>
                  <a:lnTo>
                    <a:pt x="1666" y="6503"/>
                  </a:lnTo>
                  <a:lnTo>
                    <a:pt x="1543" y="6581"/>
                  </a:lnTo>
                  <a:lnTo>
                    <a:pt x="1419" y="6652"/>
                  </a:lnTo>
                  <a:lnTo>
                    <a:pt x="1290" y="6717"/>
                  </a:lnTo>
                  <a:lnTo>
                    <a:pt x="1159" y="6776"/>
                  </a:lnTo>
                  <a:lnTo>
                    <a:pt x="1023" y="6830"/>
                  </a:lnTo>
                  <a:lnTo>
                    <a:pt x="884" y="6874"/>
                  </a:lnTo>
                  <a:lnTo>
                    <a:pt x="742" y="6914"/>
                  </a:lnTo>
                  <a:lnTo>
                    <a:pt x="598" y="6948"/>
                  </a:lnTo>
                  <a:lnTo>
                    <a:pt x="452" y="6973"/>
                  </a:lnTo>
                  <a:lnTo>
                    <a:pt x="304" y="6991"/>
                  </a:lnTo>
                  <a:lnTo>
                    <a:pt x="152" y="7003"/>
                  </a:lnTo>
                  <a:lnTo>
                    <a:pt x="0" y="7007"/>
                  </a:lnTo>
                  <a:lnTo>
                    <a:pt x="0" y="7117"/>
                  </a:lnTo>
                  <a:lnTo>
                    <a:pt x="154" y="7113"/>
                  </a:lnTo>
                  <a:lnTo>
                    <a:pt x="308" y="7102"/>
                  </a:lnTo>
                  <a:lnTo>
                    <a:pt x="458" y="7084"/>
                  </a:lnTo>
                  <a:lnTo>
                    <a:pt x="607" y="7058"/>
                  </a:lnTo>
                  <a:lnTo>
                    <a:pt x="754" y="7024"/>
                  </a:lnTo>
                  <a:lnTo>
                    <a:pt x="898" y="6985"/>
                  </a:lnTo>
                  <a:lnTo>
                    <a:pt x="1038" y="6940"/>
                  </a:lnTo>
                  <a:lnTo>
                    <a:pt x="1177" y="6887"/>
                  </a:lnTo>
                  <a:lnTo>
                    <a:pt x="1311" y="6827"/>
                  </a:lnTo>
                  <a:lnTo>
                    <a:pt x="1441" y="6764"/>
                  </a:lnTo>
                  <a:lnTo>
                    <a:pt x="1569" y="6693"/>
                  </a:lnTo>
                  <a:lnTo>
                    <a:pt x="1693" y="6616"/>
                  </a:lnTo>
                  <a:lnTo>
                    <a:pt x="1812" y="6535"/>
                  </a:lnTo>
                  <a:lnTo>
                    <a:pt x="1928" y="6448"/>
                  </a:lnTo>
                  <a:lnTo>
                    <a:pt x="2041" y="6356"/>
                  </a:lnTo>
                  <a:lnTo>
                    <a:pt x="2148" y="6257"/>
                  </a:lnTo>
                  <a:lnTo>
                    <a:pt x="2250" y="6157"/>
                  </a:lnTo>
                  <a:lnTo>
                    <a:pt x="2347" y="6048"/>
                  </a:lnTo>
                  <a:lnTo>
                    <a:pt x="2439" y="5938"/>
                  </a:lnTo>
                  <a:lnTo>
                    <a:pt x="2527" y="5821"/>
                  </a:lnTo>
                  <a:lnTo>
                    <a:pt x="2609" y="5702"/>
                  </a:lnTo>
                  <a:lnTo>
                    <a:pt x="2686" y="5579"/>
                  </a:lnTo>
                  <a:lnTo>
                    <a:pt x="2757" y="5450"/>
                  </a:lnTo>
                  <a:lnTo>
                    <a:pt x="2823" y="5320"/>
                  </a:lnTo>
                  <a:lnTo>
                    <a:pt x="2880" y="5185"/>
                  </a:lnTo>
                  <a:lnTo>
                    <a:pt x="2933" y="5048"/>
                  </a:lnTo>
                  <a:lnTo>
                    <a:pt x="2980" y="4907"/>
                  </a:lnTo>
                  <a:lnTo>
                    <a:pt x="3019" y="4763"/>
                  </a:lnTo>
                  <a:lnTo>
                    <a:pt x="3053" y="4617"/>
                  </a:lnTo>
                  <a:lnTo>
                    <a:pt x="3079" y="4470"/>
                  </a:lnTo>
                  <a:lnTo>
                    <a:pt x="3097" y="4318"/>
                  </a:lnTo>
                  <a:lnTo>
                    <a:pt x="3108" y="4166"/>
                  </a:lnTo>
                  <a:lnTo>
                    <a:pt x="3148" y="4213"/>
                  </a:lnTo>
                  <a:lnTo>
                    <a:pt x="3184" y="4264"/>
                  </a:lnTo>
                  <a:lnTo>
                    <a:pt x="3215" y="4316"/>
                  </a:lnTo>
                  <a:lnTo>
                    <a:pt x="3245" y="4366"/>
                  </a:lnTo>
                  <a:lnTo>
                    <a:pt x="3273" y="4420"/>
                  </a:lnTo>
                  <a:lnTo>
                    <a:pt x="3296" y="4475"/>
                  </a:lnTo>
                  <a:lnTo>
                    <a:pt x="3315" y="4530"/>
                  </a:lnTo>
                  <a:lnTo>
                    <a:pt x="3336" y="4586"/>
                  </a:lnTo>
                  <a:lnTo>
                    <a:pt x="3351" y="4643"/>
                  </a:lnTo>
                  <a:lnTo>
                    <a:pt x="3363" y="4700"/>
                  </a:lnTo>
                  <a:lnTo>
                    <a:pt x="3373" y="4760"/>
                  </a:lnTo>
                  <a:lnTo>
                    <a:pt x="3381" y="4818"/>
                  </a:lnTo>
                  <a:lnTo>
                    <a:pt x="3389" y="4936"/>
                  </a:lnTo>
                  <a:lnTo>
                    <a:pt x="3389" y="4998"/>
                  </a:lnTo>
                  <a:lnTo>
                    <a:pt x="3386" y="5057"/>
                  </a:lnTo>
                  <a:lnTo>
                    <a:pt x="3375" y="5179"/>
                  </a:lnTo>
                  <a:lnTo>
                    <a:pt x="3354" y="5304"/>
                  </a:lnTo>
                  <a:lnTo>
                    <a:pt x="3323" y="5426"/>
                  </a:lnTo>
                  <a:lnTo>
                    <a:pt x="3284" y="5548"/>
                  </a:lnTo>
                  <a:lnTo>
                    <a:pt x="3237" y="5671"/>
                  </a:lnTo>
                  <a:lnTo>
                    <a:pt x="3179" y="5791"/>
                  </a:lnTo>
                  <a:lnTo>
                    <a:pt x="3114" y="5909"/>
                  </a:lnTo>
                  <a:lnTo>
                    <a:pt x="3043" y="6024"/>
                  </a:lnTo>
                  <a:lnTo>
                    <a:pt x="2980" y="6116"/>
                  </a:lnTo>
                  <a:lnTo>
                    <a:pt x="2915" y="6205"/>
                  </a:lnTo>
                  <a:lnTo>
                    <a:pt x="2848" y="6294"/>
                  </a:lnTo>
                  <a:lnTo>
                    <a:pt x="2776" y="6380"/>
                  </a:lnTo>
                  <a:lnTo>
                    <a:pt x="2703" y="6462"/>
                  </a:lnTo>
                  <a:lnTo>
                    <a:pt x="2629" y="6543"/>
                  </a:lnTo>
                  <a:lnTo>
                    <a:pt x="2550" y="6623"/>
                  </a:lnTo>
                  <a:lnTo>
                    <a:pt x="2470" y="6697"/>
                  </a:lnTo>
                  <a:lnTo>
                    <a:pt x="2388" y="6772"/>
                  </a:lnTo>
                  <a:lnTo>
                    <a:pt x="2303" y="6843"/>
                  </a:lnTo>
                  <a:lnTo>
                    <a:pt x="2216" y="6912"/>
                  </a:lnTo>
                  <a:lnTo>
                    <a:pt x="2127" y="6977"/>
                  </a:lnTo>
                  <a:lnTo>
                    <a:pt x="2037" y="7040"/>
                  </a:lnTo>
                  <a:lnTo>
                    <a:pt x="1944" y="7102"/>
                  </a:lnTo>
                  <a:lnTo>
                    <a:pt x="1849" y="7160"/>
                  </a:lnTo>
                  <a:lnTo>
                    <a:pt x="1753" y="7216"/>
                  </a:lnTo>
                  <a:lnTo>
                    <a:pt x="1654" y="7267"/>
                  </a:lnTo>
                  <a:lnTo>
                    <a:pt x="1554" y="7317"/>
                  </a:lnTo>
                  <a:lnTo>
                    <a:pt x="1452" y="7364"/>
                  </a:lnTo>
                  <a:lnTo>
                    <a:pt x="1348" y="7405"/>
                  </a:lnTo>
                  <a:lnTo>
                    <a:pt x="1243" y="7447"/>
                  </a:lnTo>
                  <a:lnTo>
                    <a:pt x="1137" y="7482"/>
                  </a:lnTo>
                  <a:lnTo>
                    <a:pt x="1028" y="7518"/>
                  </a:lnTo>
                  <a:lnTo>
                    <a:pt x="920" y="7547"/>
                  </a:lnTo>
                  <a:lnTo>
                    <a:pt x="809" y="7575"/>
                  </a:lnTo>
                  <a:lnTo>
                    <a:pt x="696" y="7599"/>
                  </a:lnTo>
                  <a:lnTo>
                    <a:pt x="583" y="7618"/>
                  </a:lnTo>
                  <a:lnTo>
                    <a:pt x="468" y="7635"/>
                  </a:lnTo>
                  <a:lnTo>
                    <a:pt x="351" y="7648"/>
                  </a:lnTo>
                  <a:lnTo>
                    <a:pt x="235" y="7658"/>
                  </a:lnTo>
                  <a:lnTo>
                    <a:pt x="118" y="7662"/>
                  </a:lnTo>
                  <a:lnTo>
                    <a:pt x="0" y="7664"/>
                  </a:lnTo>
                  <a:close/>
                </a:path>
              </a:pathLst>
            </a:custGeom>
            <a:blipFill rotWithShape="0">
              <a:blip r:embed="rId88"/>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
            <p:cNvSpPr/>
            <p:nvPr/>
          </p:nvSpPr>
          <p:spPr>
            <a:xfrm>
              <a:off x="380880" y="723240"/>
              <a:ext cx="1181160" cy="900360"/>
            </a:xfrm>
            <a:custGeom>
              <a:avLst/>
              <a:gdLst/>
              <a:ahLst/>
              <a:rect l="l" t="t" r="r" b="b"/>
              <a:pathLst>
                <a:path w="9219" h="7762">
                  <a:moveTo>
                    <a:pt x="9219" y="112"/>
                  </a:moveTo>
                  <a:lnTo>
                    <a:pt x="9219" y="1"/>
                  </a:lnTo>
                  <a:lnTo>
                    <a:pt x="9217" y="0"/>
                  </a:lnTo>
                  <a:lnTo>
                    <a:pt x="9046" y="3"/>
                  </a:lnTo>
                  <a:lnTo>
                    <a:pt x="8876" y="15"/>
                  </a:lnTo>
                  <a:lnTo>
                    <a:pt x="8706" y="32"/>
                  </a:lnTo>
                  <a:lnTo>
                    <a:pt x="8540" y="56"/>
                  </a:lnTo>
                  <a:lnTo>
                    <a:pt x="8376" y="87"/>
                  </a:lnTo>
                  <a:lnTo>
                    <a:pt x="8214" y="128"/>
                  </a:lnTo>
                  <a:lnTo>
                    <a:pt x="8057" y="170"/>
                  </a:lnTo>
                  <a:lnTo>
                    <a:pt x="7900" y="222"/>
                  </a:lnTo>
                  <a:lnTo>
                    <a:pt x="7746" y="280"/>
                  </a:lnTo>
                  <a:lnTo>
                    <a:pt x="7596" y="343"/>
                  </a:lnTo>
                  <a:lnTo>
                    <a:pt x="7450" y="411"/>
                  </a:lnTo>
                  <a:lnTo>
                    <a:pt x="7306" y="487"/>
                  </a:lnTo>
                  <a:lnTo>
                    <a:pt x="7167" y="568"/>
                  </a:lnTo>
                  <a:lnTo>
                    <a:pt x="7031" y="652"/>
                  </a:lnTo>
                  <a:lnTo>
                    <a:pt x="6898" y="743"/>
                  </a:lnTo>
                  <a:lnTo>
                    <a:pt x="6770" y="840"/>
                  </a:lnTo>
                  <a:lnTo>
                    <a:pt x="6646" y="940"/>
                  </a:lnTo>
                  <a:lnTo>
                    <a:pt x="6525" y="1047"/>
                  </a:lnTo>
                  <a:lnTo>
                    <a:pt x="6408" y="1157"/>
                  </a:lnTo>
                  <a:lnTo>
                    <a:pt x="6298" y="1272"/>
                  </a:lnTo>
                  <a:lnTo>
                    <a:pt x="6189" y="1392"/>
                  </a:lnTo>
                  <a:lnTo>
                    <a:pt x="6089" y="1515"/>
                  </a:lnTo>
                  <a:lnTo>
                    <a:pt x="5990" y="1643"/>
                  </a:lnTo>
                  <a:lnTo>
                    <a:pt x="5899" y="1774"/>
                  </a:lnTo>
                  <a:lnTo>
                    <a:pt x="5812" y="1909"/>
                  </a:lnTo>
                  <a:lnTo>
                    <a:pt x="5731" y="2049"/>
                  </a:lnTo>
                  <a:lnTo>
                    <a:pt x="5655" y="2192"/>
                  </a:lnTo>
                  <a:lnTo>
                    <a:pt x="5586" y="2337"/>
                  </a:lnTo>
                  <a:lnTo>
                    <a:pt x="5521" y="2485"/>
                  </a:lnTo>
                  <a:lnTo>
                    <a:pt x="5461" y="2637"/>
                  </a:lnTo>
                  <a:lnTo>
                    <a:pt x="5409" y="2791"/>
                  </a:lnTo>
                  <a:lnTo>
                    <a:pt x="5362" y="2949"/>
                  </a:lnTo>
                  <a:lnTo>
                    <a:pt x="199" y="2949"/>
                  </a:lnTo>
                  <a:lnTo>
                    <a:pt x="173" y="2945"/>
                  </a:lnTo>
                  <a:lnTo>
                    <a:pt x="156" y="2938"/>
                  </a:lnTo>
                  <a:lnTo>
                    <a:pt x="144" y="2925"/>
                  </a:lnTo>
                  <a:lnTo>
                    <a:pt x="134" y="2915"/>
                  </a:lnTo>
                  <a:lnTo>
                    <a:pt x="125" y="2909"/>
                  </a:lnTo>
                  <a:lnTo>
                    <a:pt x="110" y="2912"/>
                  </a:lnTo>
                  <a:lnTo>
                    <a:pt x="89" y="2925"/>
                  </a:lnTo>
                  <a:lnTo>
                    <a:pt x="55" y="2951"/>
                  </a:lnTo>
                  <a:lnTo>
                    <a:pt x="36" y="2970"/>
                  </a:lnTo>
                  <a:lnTo>
                    <a:pt x="20" y="2988"/>
                  </a:lnTo>
                  <a:lnTo>
                    <a:pt x="10" y="3008"/>
                  </a:lnTo>
                  <a:lnTo>
                    <a:pt x="5" y="3026"/>
                  </a:lnTo>
                  <a:lnTo>
                    <a:pt x="0" y="3046"/>
                  </a:lnTo>
                  <a:lnTo>
                    <a:pt x="0" y="3064"/>
                  </a:lnTo>
                  <a:lnTo>
                    <a:pt x="5" y="3082"/>
                  </a:lnTo>
                  <a:lnTo>
                    <a:pt x="8" y="3098"/>
                  </a:lnTo>
                  <a:lnTo>
                    <a:pt x="24" y="3134"/>
                  </a:lnTo>
                  <a:lnTo>
                    <a:pt x="45" y="3170"/>
                  </a:lnTo>
                  <a:lnTo>
                    <a:pt x="91" y="3231"/>
                  </a:lnTo>
                  <a:lnTo>
                    <a:pt x="125" y="3273"/>
                  </a:lnTo>
                  <a:lnTo>
                    <a:pt x="172" y="3326"/>
                  </a:lnTo>
                  <a:lnTo>
                    <a:pt x="235" y="3387"/>
                  </a:lnTo>
                  <a:lnTo>
                    <a:pt x="314" y="3458"/>
                  </a:lnTo>
                  <a:lnTo>
                    <a:pt x="406" y="3535"/>
                  </a:lnTo>
                  <a:lnTo>
                    <a:pt x="515" y="3614"/>
                  </a:lnTo>
                  <a:lnTo>
                    <a:pt x="638" y="3697"/>
                  </a:lnTo>
                  <a:lnTo>
                    <a:pt x="774" y="3778"/>
                  </a:lnTo>
                  <a:lnTo>
                    <a:pt x="1340" y="3778"/>
                  </a:lnTo>
                  <a:lnTo>
                    <a:pt x="2423" y="3780"/>
                  </a:lnTo>
                  <a:lnTo>
                    <a:pt x="4028" y="3780"/>
                  </a:lnTo>
                  <a:lnTo>
                    <a:pt x="5023" y="3780"/>
                  </a:lnTo>
                  <a:lnTo>
                    <a:pt x="6150" y="3778"/>
                  </a:lnTo>
                  <a:lnTo>
                    <a:pt x="6233" y="3718"/>
                  </a:lnTo>
                  <a:lnTo>
                    <a:pt x="6322" y="3663"/>
                  </a:lnTo>
                  <a:lnTo>
                    <a:pt x="6419" y="3612"/>
                  </a:lnTo>
                  <a:lnTo>
                    <a:pt x="6519" y="3563"/>
                  </a:lnTo>
                  <a:lnTo>
                    <a:pt x="6251" y="3140"/>
                  </a:lnTo>
                  <a:lnTo>
                    <a:pt x="259" y="3140"/>
                  </a:lnTo>
                  <a:lnTo>
                    <a:pt x="235" y="3140"/>
                  </a:lnTo>
                  <a:lnTo>
                    <a:pt x="213" y="3137"/>
                  </a:lnTo>
                  <a:lnTo>
                    <a:pt x="194" y="3131"/>
                  </a:lnTo>
                  <a:lnTo>
                    <a:pt x="176" y="3123"/>
                  </a:lnTo>
                  <a:lnTo>
                    <a:pt x="162" y="3113"/>
                  </a:lnTo>
                  <a:lnTo>
                    <a:pt x="150" y="3101"/>
                  </a:lnTo>
                  <a:lnTo>
                    <a:pt x="142" y="3087"/>
                  </a:lnTo>
                  <a:lnTo>
                    <a:pt x="136" y="3071"/>
                  </a:lnTo>
                  <a:lnTo>
                    <a:pt x="136" y="3059"/>
                  </a:lnTo>
                  <a:lnTo>
                    <a:pt x="141" y="3051"/>
                  </a:lnTo>
                  <a:lnTo>
                    <a:pt x="146" y="3048"/>
                  </a:lnTo>
                  <a:lnTo>
                    <a:pt x="156" y="3046"/>
                  </a:lnTo>
                  <a:lnTo>
                    <a:pt x="180" y="3043"/>
                  </a:lnTo>
                  <a:lnTo>
                    <a:pt x="199" y="3046"/>
                  </a:lnTo>
                  <a:lnTo>
                    <a:pt x="6302" y="3046"/>
                  </a:lnTo>
                  <a:lnTo>
                    <a:pt x="6440" y="3259"/>
                  </a:lnTo>
                  <a:lnTo>
                    <a:pt x="6552" y="3435"/>
                  </a:lnTo>
                  <a:lnTo>
                    <a:pt x="6681" y="3644"/>
                  </a:lnTo>
                  <a:lnTo>
                    <a:pt x="6563" y="3693"/>
                  </a:lnTo>
                  <a:lnTo>
                    <a:pt x="6453" y="3746"/>
                  </a:lnTo>
                  <a:lnTo>
                    <a:pt x="6353" y="3804"/>
                  </a:lnTo>
                  <a:lnTo>
                    <a:pt x="6262" y="3867"/>
                  </a:lnTo>
                  <a:lnTo>
                    <a:pt x="6178" y="3932"/>
                  </a:lnTo>
                  <a:lnTo>
                    <a:pt x="6102" y="4000"/>
                  </a:lnTo>
                  <a:lnTo>
                    <a:pt x="6036" y="4071"/>
                  </a:lnTo>
                  <a:lnTo>
                    <a:pt x="5976" y="4147"/>
                  </a:lnTo>
                  <a:lnTo>
                    <a:pt x="5925" y="4223"/>
                  </a:lnTo>
                  <a:lnTo>
                    <a:pt x="5880" y="4304"/>
                  </a:lnTo>
                  <a:lnTo>
                    <a:pt x="5840" y="4385"/>
                  </a:lnTo>
                  <a:lnTo>
                    <a:pt x="5809" y="4471"/>
                  </a:lnTo>
                  <a:lnTo>
                    <a:pt x="5783" y="4555"/>
                  </a:lnTo>
                  <a:lnTo>
                    <a:pt x="5763" y="4640"/>
                  </a:lnTo>
                  <a:lnTo>
                    <a:pt x="5749" y="4727"/>
                  </a:lnTo>
                  <a:lnTo>
                    <a:pt x="5739" y="4816"/>
                  </a:lnTo>
                  <a:lnTo>
                    <a:pt x="5736" y="4903"/>
                  </a:lnTo>
                  <a:lnTo>
                    <a:pt x="5736" y="4991"/>
                  </a:lnTo>
                  <a:lnTo>
                    <a:pt x="5741" y="5080"/>
                  </a:lnTo>
                  <a:lnTo>
                    <a:pt x="5751" y="5167"/>
                  </a:lnTo>
                  <a:lnTo>
                    <a:pt x="5765" y="5254"/>
                  </a:lnTo>
                  <a:lnTo>
                    <a:pt x="5783" y="5339"/>
                  </a:lnTo>
                  <a:lnTo>
                    <a:pt x="5803" y="5423"/>
                  </a:lnTo>
                  <a:lnTo>
                    <a:pt x="5827" y="5507"/>
                  </a:lnTo>
                  <a:lnTo>
                    <a:pt x="5851" y="5588"/>
                  </a:lnTo>
                  <a:lnTo>
                    <a:pt x="5882" y="5666"/>
                  </a:lnTo>
                  <a:lnTo>
                    <a:pt x="5913" y="5743"/>
                  </a:lnTo>
                  <a:lnTo>
                    <a:pt x="5947" y="5816"/>
                  </a:lnTo>
                  <a:lnTo>
                    <a:pt x="5980" y="5887"/>
                  </a:lnTo>
                  <a:lnTo>
                    <a:pt x="6018" y="5954"/>
                  </a:lnTo>
                  <a:lnTo>
                    <a:pt x="6055" y="6020"/>
                  </a:lnTo>
                  <a:lnTo>
                    <a:pt x="6092" y="6078"/>
                  </a:lnTo>
                  <a:lnTo>
                    <a:pt x="6158" y="6174"/>
                  </a:lnTo>
                  <a:lnTo>
                    <a:pt x="6225" y="6264"/>
                  </a:lnTo>
                  <a:lnTo>
                    <a:pt x="6294" y="6355"/>
                  </a:lnTo>
                  <a:lnTo>
                    <a:pt x="6367" y="6441"/>
                  </a:lnTo>
                  <a:lnTo>
                    <a:pt x="6442" y="6528"/>
                  </a:lnTo>
                  <a:lnTo>
                    <a:pt x="6519" y="6611"/>
                  </a:lnTo>
                  <a:lnTo>
                    <a:pt x="6597" y="6690"/>
                  </a:lnTo>
                  <a:lnTo>
                    <a:pt x="6681" y="6769"/>
                  </a:lnTo>
                  <a:lnTo>
                    <a:pt x="6766" y="6844"/>
                  </a:lnTo>
                  <a:lnTo>
                    <a:pt x="6853" y="6919"/>
                  </a:lnTo>
                  <a:lnTo>
                    <a:pt x="6942" y="6988"/>
                  </a:lnTo>
                  <a:lnTo>
                    <a:pt x="7032" y="7058"/>
                  </a:lnTo>
                  <a:lnTo>
                    <a:pt x="7125" y="7122"/>
                  </a:lnTo>
                  <a:lnTo>
                    <a:pt x="7222" y="7184"/>
                  </a:lnTo>
                  <a:lnTo>
                    <a:pt x="7319" y="7242"/>
                  </a:lnTo>
                  <a:lnTo>
                    <a:pt x="7416" y="7300"/>
                  </a:lnTo>
                  <a:lnTo>
                    <a:pt x="7518" y="7354"/>
                  </a:lnTo>
                  <a:lnTo>
                    <a:pt x="7620" y="7404"/>
                  </a:lnTo>
                  <a:lnTo>
                    <a:pt x="7725" y="7451"/>
                  </a:lnTo>
                  <a:lnTo>
                    <a:pt x="7832" y="7498"/>
                  </a:lnTo>
                  <a:lnTo>
                    <a:pt x="7940" y="7537"/>
                  </a:lnTo>
                  <a:lnTo>
                    <a:pt x="8049" y="7576"/>
                  </a:lnTo>
                  <a:lnTo>
                    <a:pt x="8161" y="7610"/>
                  </a:lnTo>
                  <a:lnTo>
                    <a:pt x="8272" y="7641"/>
                  </a:lnTo>
                  <a:lnTo>
                    <a:pt x="8386" y="7668"/>
                  </a:lnTo>
                  <a:lnTo>
                    <a:pt x="8502" y="7692"/>
                  </a:lnTo>
                  <a:lnTo>
                    <a:pt x="8619" y="7715"/>
                  </a:lnTo>
                  <a:lnTo>
                    <a:pt x="8735" y="7730"/>
                  </a:lnTo>
                  <a:lnTo>
                    <a:pt x="8854" y="7744"/>
                  </a:lnTo>
                  <a:lnTo>
                    <a:pt x="8975" y="7754"/>
                  </a:lnTo>
                  <a:lnTo>
                    <a:pt x="9095" y="7760"/>
                  </a:lnTo>
                  <a:lnTo>
                    <a:pt x="9217" y="7762"/>
                  </a:lnTo>
                  <a:lnTo>
                    <a:pt x="9219" y="7762"/>
                  </a:lnTo>
                  <a:lnTo>
                    <a:pt x="9219" y="7665"/>
                  </a:lnTo>
                  <a:lnTo>
                    <a:pt x="9217" y="7665"/>
                  </a:lnTo>
                  <a:lnTo>
                    <a:pt x="9098" y="7663"/>
                  </a:lnTo>
                  <a:lnTo>
                    <a:pt x="8980" y="7659"/>
                  </a:lnTo>
                  <a:lnTo>
                    <a:pt x="8863" y="7649"/>
                  </a:lnTo>
                  <a:lnTo>
                    <a:pt x="8747" y="7636"/>
                  </a:lnTo>
                  <a:lnTo>
                    <a:pt x="8633" y="7619"/>
                  </a:lnTo>
                  <a:lnTo>
                    <a:pt x="8520" y="7600"/>
                  </a:lnTo>
                  <a:lnTo>
                    <a:pt x="8408" y="7576"/>
                  </a:lnTo>
                  <a:lnTo>
                    <a:pt x="8297" y="7548"/>
                  </a:lnTo>
                  <a:lnTo>
                    <a:pt x="8187" y="7519"/>
                  </a:lnTo>
                  <a:lnTo>
                    <a:pt x="8080" y="7483"/>
                  </a:lnTo>
                  <a:lnTo>
                    <a:pt x="7971" y="7448"/>
                  </a:lnTo>
                  <a:lnTo>
                    <a:pt x="7866" y="7406"/>
                  </a:lnTo>
                  <a:lnTo>
                    <a:pt x="7764" y="7365"/>
                  </a:lnTo>
                  <a:lnTo>
                    <a:pt x="7662" y="7318"/>
                  </a:lnTo>
                  <a:lnTo>
                    <a:pt x="7562" y="7268"/>
                  </a:lnTo>
                  <a:lnTo>
                    <a:pt x="7463" y="7217"/>
                  </a:lnTo>
                  <a:lnTo>
                    <a:pt x="7368" y="7161"/>
                  </a:lnTo>
                  <a:lnTo>
                    <a:pt x="7272" y="7103"/>
                  </a:lnTo>
                  <a:lnTo>
                    <a:pt x="7178" y="7041"/>
                  </a:lnTo>
                  <a:lnTo>
                    <a:pt x="7088" y="6978"/>
                  </a:lnTo>
                  <a:lnTo>
                    <a:pt x="6999" y="6913"/>
                  </a:lnTo>
                  <a:lnTo>
                    <a:pt x="6914" y="6844"/>
                  </a:lnTo>
                  <a:lnTo>
                    <a:pt x="6829" y="6773"/>
                  </a:lnTo>
                  <a:lnTo>
                    <a:pt x="6746" y="6698"/>
                  </a:lnTo>
                  <a:lnTo>
                    <a:pt x="6665" y="6624"/>
                  </a:lnTo>
                  <a:lnTo>
                    <a:pt x="6588" y="6544"/>
                  </a:lnTo>
                  <a:lnTo>
                    <a:pt x="6513" y="6463"/>
                  </a:lnTo>
                  <a:lnTo>
                    <a:pt x="6440" y="6381"/>
                  </a:lnTo>
                  <a:lnTo>
                    <a:pt x="6369" y="6295"/>
                  </a:lnTo>
                  <a:lnTo>
                    <a:pt x="6302" y="6206"/>
                  </a:lnTo>
                  <a:lnTo>
                    <a:pt x="6236" y="6117"/>
                  </a:lnTo>
                  <a:lnTo>
                    <a:pt x="6173" y="6025"/>
                  </a:lnTo>
                  <a:lnTo>
                    <a:pt x="6100" y="5910"/>
                  </a:lnTo>
                  <a:lnTo>
                    <a:pt x="6037" y="5792"/>
                  </a:lnTo>
                  <a:lnTo>
                    <a:pt x="5980" y="5672"/>
                  </a:lnTo>
                  <a:lnTo>
                    <a:pt x="5932" y="5549"/>
                  </a:lnTo>
                  <a:lnTo>
                    <a:pt x="5893" y="5427"/>
                  </a:lnTo>
                  <a:lnTo>
                    <a:pt x="5862" y="5303"/>
                  </a:lnTo>
                  <a:lnTo>
                    <a:pt x="5842" y="5180"/>
                  </a:lnTo>
                  <a:lnTo>
                    <a:pt x="5828" y="5058"/>
                  </a:lnTo>
                  <a:lnTo>
                    <a:pt x="5827" y="4937"/>
                  </a:lnTo>
                  <a:lnTo>
                    <a:pt x="5830" y="4879"/>
                  </a:lnTo>
                  <a:lnTo>
                    <a:pt x="5835" y="4817"/>
                  </a:lnTo>
                  <a:lnTo>
                    <a:pt x="5842" y="4761"/>
                  </a:lnTo>
                  <a:lnTo>
                    <a:pt x="5854" y="4701"/>
                  </a:lnTo>
                  <a:lnTo>
                    <a:pt x="5866" y="4644"/>
                  </a:lnTo>
                  <a:lnTo>
                    <a:pt x="5882" y="4587"/>
                  </a:lnTo>
                  <a:lnTo>
                    <a:pt x="5899" y="4529"/>
                  </a:lnTo>
                  <a:lnTo>
                    <a:pt x="5921" y="4474"/>
                  </a:lnTo>
                  <a:lnTo>
                    <a:pt x="5945" y="4421"/>
                  </a:lnTo>
                  <a:lnTo>
                    <a:pt x="5972" y="4367"/>
                  </a:lnTo>
                  <a:lnTo>
                    <a:pt x="6002" y="4314"/>
                  </a:lnTo>
                  <a:lnTo>
                    <a:pt x="6034" y="4263"/>
                  </a:lnTo>
                  <a:lnTo>
                    <a:pt x="6069" y="4214"/>
                  </a:lnTo>
                  <a:lnTo>
                    <a:pt x="6108" y="4165"/>
                  </a:lnTo>
                  <a:lnTo>
                    <a:pt x="6118" y="4319"/>
                  </a:lnTo>
                  <a:lnTo>
                    <a:pt x="6138" y="4468"/>
                  </a:lnTo>
                  <a:lnTo>
                    <a:pt x="6164" y="4618"/>
                  </a:lnTo>
                  <a:lnTo>
                    <a:pt x="6197" y="4764"/>
                  </a:lnTo>
                  <a:lnTo>
                    <a:pt x="6236" y="4908"/>
                  </a:lnTo>
                  <a:lnTo>
                    <a:pt x="6285" y="5049"/>
                  </a:lnTo>
                  <a:lnTo>
                    <a:pt x="6335" y="5186"/>
                  </a:lnTo>
                  <a:lnTo>
                    <a:pt x="6395" y="5321"/>
                  </a:lnTo>
                  <a:lnTo>
                    <a:pt x="6460" y="5451"/>
                  </a:lnTo>
                  <a:lnTo>
                    <a:pt x="6531" y="5580"/>
                  </a:lnTo>
                  <a:lnTo>
                    <a:pt x="6608" y="5701"/>
                  </a:lnTo>
                  <a:lnTo>
                    <a:pt x="6691" y="5822"/>
                  </a:lnTo>
                  <a:lnTo>
                    <a:pt x="6777" y="5939"/>
                  </a:lnTo>
                  <a:lnTo>
                    <a:pt x="6871" y="6049"/>
                  </a:lnTo>
                  <a:lnTo>
                    <a:pt x="6968" y="6156"/>
                  </a:lnTo>
                  <a:lnTo>
                    <a:pt x="7070" y="6258"/>
                  </a:lnTo>
                  <a:lnTo>
                    <a:pt x="7178" y="6357"/>
                  </a:lnTo>
                  <a:lnTo>
                    <a:pt x="7288" y="6447"/>
                  </a:lnTo>
                  <a:lnTo>
                    <a:pt x="7405" y="6536"/>
                  </a:lnTo>
                  <a:lnTo>
                    <a:pt x="7526" y="6617"/>
                  </a:lnTo>
                  <a:lnTo>
                    <a:pt x="7648" y="6694"/>
                  </a:lnTo>
                  <a:lnTo>
                    <a:pt x="7776" y="6765"/>
                  </a:lnTo>
                  <a:lnTo>
                    <a:pt x="7907" y="6828"/>
                  </a:lnTo>
                  <a:lnTo>
                    <a:pt x="8043" y="6888"/>
                  </a:lnTo>
                  <a:lnTo>
                    <a:pt x="8179" y="6941"/>
                  </a:lnTo>
                  <a:lnTo>
                    <a:pt x="8321" y="6986"/>
                  </a:lnTo>
                  <a:lnTo>
                    <a:pt x="8463" y="7025"/>
                  </a:lnTo>
                  <a:lnTo>
                    <a:pt x="8609" y="7059"/>
                  </a:lnTo>
                  <a:lnTo>
                    <a:pt x="8759" y="7085"/>
                  </a:lnTo>
                  <a:lnTo>
                    <a:pt x="8909" y="7103"/>
                  </a:lnTo>
                  <a:lnTo>
                    <a:pt x="9064" y="7114"/>
                  </a:lnTo>
                  <a:lnTo>
                    <a:pt x="9217" y="7118"/>
                  </a:lnTo>
                  <a:lnTo>
                    <a:pt x="9219" y="7118"/>
                  </a:lnTo>
                  <a:lnTo>
                    <a:pt x="9219" y="7008"/>
                  </a:lnTo>
                  <a:lnTo>
                    <a:pt x="9217" y="7008"/>
                  </a:lnTo>
                  <a:lnTo>
                    <a:pt x="9065" y="7004"/>
                  </a:lnTo>
                  <a:lnTo>
                    <a:pt x="8913" y="6992"/>
                  </a:lnTo>
                  <a:lnTo>
                    <a:pt x="8765" y="6974"/>
                  </a:lnTo>
                  <a:lnTo>
                    <a:pt x="8619" y="6949"/>
                  </a:lnTo>
                  <a:lnTo>
                    <a:pt x="8475" y="6915"/>
                  </a:lnTo>
                  <a:lnTo>
                    <a:pt x="8332" y="6875"/>
                  </a:lnTo>
                  <a:lnTo>
                    <a:pt x="8195" y="6831"/>
                  </a:lnTo>
                  <a:lnTo>
                    <a:pt x="8060" y="6777"/>
                  </a:lnTo>
                  <a:lnTo>
                    <a:pt x="7928" y="6718"/>
                  </a:lnTo>
                  <a:lnTo>
                    <a:pt x="7800" y="6653"/>
                  </a:lnTo>
                  <a:lnTo>
                    <a:pt x="7674" y="6582"/>
                  </a:lnTo>
                  <a:lnTo>
                    <a:pt x="7554" y="6504"/>
                  </a:lnTo>
                  <a:lnTo>
                    <a:pt x="7437" y="6422"/>
                  </a:lnTo>
                  <a:lnTo>
                    <a:pt x="7322" y="6334"/>
                  </a:lnTo>
                  <a:lnTo>
                    <a:pt x="7214" y="6242"/>
                  </a:lnTo>
                  <a:lnTo>
                    <a:pt x="7112" y="6143"/>
                  </a:lnTo>
                  <a:lnTo>
                    <a:pt x="7010" y="6041"/>
                  </a:lnTo>
                  <a:lnTo>
                    <a:pt x="6916" y="5934"/>
                  </a:lnTo>
                  <a:lnTo>
                    <a:pt x="6827" y="5824"/>
                  </a:lnTo>
                  <a:lnTo>
                    <a:pt x="6744" y="5708"/>
                  </a:lnTo>
                  <a:lnTo>
                    <a:pt x="6665" y="5588"/>
                  </a:lnTo>
                  <a:lnTo>
                    <a:pt x="6592" y="5463"/>
                  </a:lnTo>
                  <a:lnTo>
                    <a:pt x="6525" y="5337"/>
                  </a:lnTo>
                  <a:lnTo>
                    <a:pt x="6464" y="5204"/>
                  </a:lnTo>
                  <a:lnTo>
                    <a:pt x="6408" y="5070"/>
                  </a:lnTo>
                  <a:lnTo>
                    <a:pt x="6359" y="4934"/>
                  </a:lnTo>
                  <a:lnTo>
                    <a:pt x="6317" y="4792"/>
                  </a:lnTo>
                  <a:lnTo>
                    <a:pt x="6282" y="4649"/>
                  </a:lnTo>
                  <a:lnTo>
                    <a:pt x="6254" y="4504"/>
                  </a:lnTo>
                  <a:lnTo>
                    <a:pt x="6233" y="4356"/>
                  </a:lnTo>
                  <a:lnTo>
                    <a:pt x="6219" y="4204"/>
                  </a:lnTo>
                  <a:lnTo>
                    <a:pt x="6213" y="4052"/>
                  </a:lnTo>
                  <a:lnTo>
                    <a:pt x="6288" y="3985"/>
                  </a:lnTo>
                  <a:lnTo>
                    <a:pt x="8489" y="3985"/>
                  </a:lnTo>
                  <a:lnTo>
                    <a:pt x="8493" y="3930"/>
                  </a:lnTo>
                  <a:lnTo>
                    <a:pt x="8501" y="3877"/>
                  </a:lnTo>
                  <a:lnTo>
                    <a:pt x="6442" y="3877"/>
                  </a:lnTo>
                  <a:lnTo>
                    <a:pt x="6529" y="3825"/>
                  </a:lnTo>
                  <a:lnTo>
                    <a:pt x="6622" y="3778"/>
                  </a:lnTo>
                  <a:lnTo>
                    <a:pt x="6720" y="3734"/>
                  </a:lnTo>
                  <a:lnTo>
                    <a:pt x="6825" y="3695"/>
                  </a:lnTo>
                  <a:lnTo>
                    <a:pt x="6793" y="3644"/>
                  </a:lnTo>
                  <a:lnTo>
                    <a:pt x="6663" y="3432"/>
                  </a:lnTo>
                  <a:lnTo>
                    <a:pt x="6547" y="3247"/>
                  </a:lnTo>
                  <a:lnTo>
                    <a:pt x="6385" y="2996"/>
                  </a:lnTo>
                  <a:lnTo>
                    <a:pt x="6426" y="2888"/>
                  </a:lnTo>
                  <a:lnTo>
                    <a:pt x="6469" y="2781"/>
                  </a:lnTo>
                  <a:lnTo>
                    <a:pt x="6519" y="2679"/>
                  </a:lnTo>
                  <a:lnTo>
                    <a:pt x="6573" y="2576"/>
                  </a:lnTo>
                  <a:lnTo>
                    <a:pt x="6628" y="2475"/>
                  </a:lnTo>
                  <a:lnTo>
                    <a:pt x="6689" y="2378"/>
                  </a:lnTo>
                  <a:lnTo>
                    <a:pt x="6752" y="2284"/>
                  </a:lnTo>
                  <a:lnTo>
                    <a:pt x="6819" y="2192"/>
                  </a:lnTo>
                  <a:lnTo>
                    <a:pt x="6888" y="2103"/>
                  </a:lnTo>
                  <a:lnTo>
                    <a:pt x="6961" y="2015"/>
                  </a:lnTo>
                  <a:lnTo>
                    <a:pt x="7038" y="1933"/>
                  </a:lnTo>
                  <a:lnTo>
                    <a:pt x="7119" y="1852"/>
                  </a:lnTo>
                  <a:lnTo>
                    <a:pt x="7202" y="1773"/>
                  </a:lnTo>
                  <a:lnTo>
                    <a:pt x="7287" y="1698"/>
                  </a:lnTo>
                  <a:lnTo>
                    <a:pt x="7376" y="1627"/>
                  </a:lnTo>
                  <a:lnTo>
                    <a:pt x="7466" y="1560"/>
                  </a:lnTo>
                  <a:lnTo>
                    <a:pt x="7559" y="1494"/>
                  </a:lnTo>
                  <a:lnTo>
                    <a:pt x="7656" y="1434"/>
                  </a:lnTo>
                  <a:lnTo>
                    <a:pt x="7754" y="1376"/>
                  </a:lnTo>
                  <a:lnTo>
                    <a:pt x="7857" y="1321"/>
                  </a:lnTo>
                  <a:lnTo>
                    <a:pt x="7960" y="1272"/>
                  </a:lnTo>
                  <a:lnTo>
                    <a:pt x="8064" y="1224"/>
                  </a:lnTo>
                  <a:lnTo>
                    <a:pt x="8172" y="1183"/>
                  </a:lnTo>
                  <a:lnTo>
                    <a:pt x="8282" y="1143"/>
                  </a:lnTo>
                  <a:lnTo>
                    <a:pt x="8394" y="1110"/>
                  </a:lnTo>
                  <a:lnTo>
                    <a:pt x="8507" y="1080"/>
                  </a:lnTo>
                  <a:lnTo>
                    <a:pt x="8621" y="1055"/>
                  </a:lnTo>
                  <a:lnTo>
                    <a:pt x="8737" y="1033"/>
                  </a:lnTo>
                  <a:lnTo>
                    <a:pt x="8855" y="1017"/>
                  </a:lnTo>
                  <a:lnTo>
                    <a:pt x="8975" y="1005"/>
                  </a:lnTo>
                  <a:lnTo>
                    <a:pt x="9096" y="997"/>
                  </a:lnTo>
                  <a:lnTo>
                    <a:pt x="9217" y="995"/>
                  </a:lnTo>
                  <a:lnTo>
                    <a:pt x="9219" y="997"/>
                  </a:lnTo>
                  <a:lnTo>
                    <a:pt x="9219" y="887"/>
                  </a:lnTo>
                  <a:lnTo>
                    <a:pt x="9217" y="885"/>
                  </a:lnTo>
                  <a:lnTo>
                    <a:pt x="9091" y="889"/>
                  </a:lnTo>
                  <a:lnTo>
                    <a:pt x="8967" y="895"/>
                  </a:lnTo>
                  <a:lnTo>
                    <a:pt x="8844" y="908"/>
                  </a:lnTo>
                  <a:lnTo>
                    <a:pt x="8722" y="924"/>
                  </a:lnTo>
                  <a:lnTo>
                    <a:pt x="8601" y="947"/>
                  </a:lnTo>
                  <a:lnTo>
                    <a:pt x="8483" y="974"/>
                  </a:lnTo>
                  <a:lnTo>
                    <a:pt x="8366" y="1003"/>
                  </a:lnTo>
                  <a:lnTo>
                    <a:pt x="8250" y="1039"/>
                  </a:lnTo>
                  <a:lnTo>
                    <a:pt x="8138" y="1078"/>
                  </a:lnTo>
                  <a:lnTo>
                    <a:pt x="8027" y="1122"/>
                  </a:lnTo>
                  <a:lnTo>
                    <a:pt x="7916" y="1169"/>
                  </a:lnTo>
                  <a:lnTo>
                    <a:pt x="7810" y="1222"/>
                  </a:lnTo>
                  <a:lnTo>
                    <a:pt x="7706" y="1277"/>
                  </a:lnTo>
                  <a:lnTo>
                    <a:pt x="7602" y="1337"/>
                  </a:lnTo>
                  <a:lnTo>
                    <a:pt x="7504" y="1400"/>
                  </a:lnTo>
                  <a:lnTo>
                    <a:pt x="7407" y="1467"/>
                  </a:lnTo>
                  <a:lnTo>
                    <a:pt x="7313" y="1536"/>
                  </a:lnTo>
                  <a:lnTo>
                    <a:pt x="7222" y="1611"/>
                  </a:lnTo>
                  <a:lnTo>
                    <a:pt x="7133" y="1688"/>
                  </a:lnTo>
                  <a:lnTo>
                    <a:pt x="7046" y="1767"/>
                  </a:lnTo>
                  <a:lnTo>
                    <a:pt x="6963" y="1852"/>
                  </a:lnTo>
                  <a:lnTo>
                    <a:pt x="6884" y="1936"/>
                  </a:lnTo>
                  <a:lnTo>
                    <a:pt x="6809" y="2028"/>
                  </a:lnTo>
                  <a:lnTo>
                    <a:pt x="6736" y="2120"/>
                  </a:lnTo>
                  <a:lnTo>
                    <a:pt x="6667" y="2215"/>
                  </a:lnTo>
                  <a:lnTo>
                    <a:pt x="6600" y="2312"/>
                  </a:lnTo>
                  <a:lnTo>
                    <a:pt x="6539" y="2412"/>
                  </a:lnTo>
                  <a:lnTo>
                    <a:pt x="6479" y="2515"/>
                  </a:lnTo>
                  <a:lnTo>
                    <a:pt x="6424" y="2619"/>
                  </a:lnTo>
                  <a:lnTo>
                    <a:pt x="6375" y="2728"/>
                  </a:lnTo>
                  <a:lnTo>
                    <a:pt x="6327" y="2836"/>
                  </a:lnTo>
                  <a:lnTo>
                    <a:pt x="6285" y="2949"/>
                  </a:lnTo>
                  <a:lnTo>
                    <a:pt x="5479" y="2949"/>
                  </a:lnTo>
                  <a:lnTo>
                    <a:pt x="5524" y="2797"/>
                  </a:lnTo>
                  <a:lnTo>
                    <a:pt x="5576" y="2650"/>
                  </a:lnTo>
                  <a:lnTo>
                    <a:pt x="5633" y="2501"/>
                  </a:lnTo>
                  <a:lnTo>
                    <a:pt x="5696" y="2359"/>
                  </a:lnTo>
                  <a:lnTo>
                    <a:pt x="5765" y="2219"/>
                  </a:lnTo>
                  <a:lnTo>
                    <a:pt x="5838" y="2080"/>
                  </a:lnTo>
                  <a:lnTo>
                    <a:pt x="5919" y="1947"/>
                  </a:lnTo>
                  <a:lnTo>
                    <a:pt x="6003" y="1816"/>
                  </a:lnTo>
                  <a:lnTo>
                    <a:pt x="6092" y="1690"/>
                  </a:lnTo>
                  <a:lnTo>
                    <a:pt x="6188" y="1568"/>
                  </a:lnTo>
                  <a:lnTo>
                    <a:pt x="6286" y="1449"/>
                  </a:lnTo>
                  <a:lnTo>
                    <a:pt x="6390" y="1332"/>
                  </a:lnTo>
                  <a:lnTo>
                    <a:pt x="6497" y="1222"/>
                  </a:lnTo>
                  <a:lnTo>
                    <a:pt x="6612" y="1115"/>
                  </a:lnTo>
                  <a:lnTo>
                    <a:pt x="6728" y="1015"/>
                  </a:lnTo>
                  <a:lnTo>
                    <a:pt x="6848" y="916"/>
                  </a:lnTo>
                  <a:lnTo>
                    <a:pt x="6973" y="826"/>
                  </a:lnTo>
                  <a:lnTo>
                    <a:pt x="7101" y="737"/>
                  </a:lnTo>
                  <a:lnTo>
                    <a:pt x="7233" y="654"/>
                  </a:lnTo>
                  <a:lnTo>
                    <a:pt x="7369" y="578"/>
                  </a:lnTo>
                  <a:lnTo>
                    <a:pt x="7508" y="506"/>
                  </a:lnTo>
                  <a:lnTo>
                    <a:pt x="7649" y="439"/>
                  </a:lnTo>
                  <a:lnTo>
                    <a:pt x="7796" y="377"/>
                  </a:lnTo>
                  <a:lnTo>
                    <a:pt x="7944" y="322"/>
                  </a:lnTo>
                  <a:lnTo>
                    <a:pt x="8094" y="275"/>
                  </a:lnTo>
                  <a:lnTo>
                    <a:pt x="8248" y="232"/>
                  </a:lnTo>
                  <a:lnTo>
                    <a:pt x="8404" y="194"/>
                  </a:lnTo>
                  <a:lnTo>
                    <a:pt x="8562" y="165"/>
                  </a:lnTo>
                  <a:lnTo>
                    <a:pt x="8724" y="141"/>
                  </a:lnTo>
                  <a:lnTo>
                    <a:pt x="8886" y="123"/>
                  </a:lnTo>
                  <a:lnTo>
                    <a:pt x="9051" y="113"/>
                  </a:lnTo>
                  <a:lnTo>
                    <a:pt x="9217" y="110"/>
                  </a:lnTo>
                  <a:lnTo>
                    <a:pt x="9219" y="112"/>
                  </a:lnTo>
                  <a:close/>
                </a:path>
              </a:pathLst>
            </a:custGeom>
            <a:blipFill rotWithShape="0">
              <a:blip r:embed="rId8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 name=""/>
            <p:cNvSpPr/>
            <p:nvPr/>
          </p:nvSpPr>
          <p:spPr>
            <a:xfrm>
              <a:off x="1971000" y="1168920"/>
              <a:ext cx="645840" cy="101160"/>
            </a:xfrm>
            <a:custGeom>
              <a:avLst/>
              <a:gdLst/>
              <a:ahLst/>
              <a:rect l="l" t="t" r="r" b="b"/>
              <a:pathLst>
                <a:path w="5039" h="866">
                  <a:moveTo>
                    <a:pt x="4268" y="866"/>
                  </a:moveTo>
                  <a:lnTo>
                    <a:pt x="4401" y="785"/>
                  </a:lnTo>
                  <a:lnTo>
                    <a:pt x="4524" y="704"/>
                  </a:lnTo>
                  <a:lnTo>
                    <a:pt x="4632" y="623"/>
                  </a:lnTo>
                  <a:lnTo>
                    <a:pt x="4725" y="547"/>
                  </a:lnTo>
                  <a:lnTo>
                    <a:pt x="4804" y="477"/>
                  </a:lnTo>
                  <a:lnTo>
                    <a:pt x="4867" y="414"/>
                  </a:lnTo>
                  <a:lnTo>
                    <a:pt x="4914" y="361"/>
                  </a:lnTo>
                  <a:lnTo>
                    <a:pt x="4948" y="319"/>
                  </a:lnTo>
                  <a:lnTo>
                    <a:pt x="4994" y="259"/>
                  </a:lnTo>
                  <a:lnTo>
                    <a:pt x="5016" y="225"/>
                  </a:lnTo>
                  <a:lnTo>
                    <a:pt x="5031" y="189"/>
                  </a:lnTo>
                  <a:lnTo>
                    <a:pt x="5035" y="171"/>
                  </a:lnTo>
                  <a:lnTo>
                    <a:pt x="5039" y="152"/>
                  </a:lnTo>
                  <a:lnTo>
                    <a:pt x="5039" y="134"/>
                  </a:lnTo>
                  <a:lnTo>
                    <a:pt x="5035" y="115"/>
                  </a:lnTo>
                  <a:lnTo>
                    <a:pt x="5029" y="97"/>
                  </a:lnTo>
                  <a:lnTo>
                    <a:pt x="5019" y="76"/>
                  </a:lnTo>
                  <a:lnTo>
                    <a:pt x="5003" y="58"/>
                  </a:lnTo>
                  <a:lnTo>
                    <a:pt x="4984" y="42"/>
                  </a:lnTo>
                  <a:lnTo>
                    <a:pt x="4953" y="13"/>
                  </a:lnTo>
                  <a:lnTo>
                    <a:pt x="4929" y="2"/>
                  </a:lnTo>
                  <a:lnTo>
                    <a:pt x="4914" y="0"/>
                  </a:lnTo>
                  <a:lnTo>
                    <a:pt x="4905" y="3"/>
                  </a:lnTo>
                  <a:lnTo>
                    <a:pt x="4895" y="13"/>
                  </a:lnTo>
                  <a:lnTo>
                    <a:pt x="4883" y="26"/>
                  </a:lnTo>
                  <a:lnTo>
                    <a:pt x="4865" y="34"/>
                  </a:lnTo>
                  <a:lnTo>
                    <a:pt x="4840" y="37"/>
                  </a:lnTo>
                  <a:lnTo>
                    <a:pt x="0" y="37"/>
                  </a:lnTo>
                  <a:lnTo>
                    <a:pt x="50" y="84"/>
                  </a:lnTo>
                  <a:lnTo>
                    <a:pt x="95" y="134"/>
                  </a:lnTo>
                  <a:lnTo>
                    <a:pt x="4840" y="134"/>
                  </a:lnTo>
                  <a:lnTo>
                    <a:pt x="4862" y="132"/>
                  </a:lnTo>
                  <a:lnTo>
                    <a:pt x="4883" y="134"/>
                  </a:lnTo>
                  <a:lnTo>
                    <a:pt x="4893" y="136"/>
                  </a:lnTo>
                  <a:lnTo>
                    <a:pt x="4901" y="142"/>
                  </a:lnTo>
                  <a:lnTo>
                    <a:pt x="4905" y="147"/>
                  </a:lnTo>
                  <a:lnTo>
                    <a:pt x="4903" y="160"/>
                  </a:lnTo>
                  <a:lnTo>
                    <a:pt x="4898" y="175"/>
                  </a:lnTo>
                  <a:lnTo>
                    <a:pt x="4890" y="189"/>
                  </a:lnTo>
                  <a:lnTo>
                    <a:pt x="4877" y="201"/>
                  </a:lnTo>
                  <a:lnTo>
                    <a:pt x="4864" y="211"/>
                  </a:lnTo>
                  <a:lnTo>
                    <a:pt x="4846" y="219"/>
                  </a:lnTo>
                  <a:lnTo>
                    <a:pt x="4828" y="225"/>
                  </a:lnTo>
                  <a:lnTo>
                    <a:pt x="4806" y="228"/>
                  </a:lnTo>
                  <a:lnTo>
                    <a:pt x="4781" y="228"/>
                  </a:lnTo>
                  <a:lnTo>
                    <a:pt x="172" y="228"/>
                  </a:lnTo>
                  <a:lnTo>
                    <a:pt x="222" y="301"/>
                  </a:lnTo>
                  <a:lnTo>
                    <a:pt x="267" y="377"/>
                  </a:lnTo>
                  <a:lnTo>
                    <a:pt x="306" y="453"/>
                  </a:lnTo>
                  <a:lnTo>
                    <a:pt x="340" y="532"/>
                  </a:lnTo>
                  <a:lnTo>
                    <a:pt x="368" y="613"/>
                  </a:lnTo>
                  <a:lnTo>
                    <a:pt x="392" y="696"/>
                  </a:lnTo>
                  <a:lnTo>
                    <a:pt x="411" y="782"/>
                  </a:lnTo>
                  <a:lnTo>
                    <a:pt x="424" y="866"/>
                  </a:lnTo>
                  <a:lnTo>
                    <a:pt x="4268" y="866"/>
                  </a:lnTo>
                  <a:close/>
                </a:path>
              </a:pathLst>
            </a:custGeom>
            <a:blipFill rotWithShape="0">
              <a:blip r:embed="rId90"/>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a:off x="1562040" y="1277640"/>
              <a:ext cx="929880" cy="375120"/>
            </a:xfrm>
            <a:custGeom>
              <a:avLst/>
              <a:gdLst/>
              <a:ahLst/>
              <a:rect l="l" t="t" r="r" b="b"/>
              <a:pathLst>
                <a:path w="7253" h="3231">
                  <a:moveTo>
                    <a:pt x="6996" y="231"/>
                  </a:moveTo>
                  <a:lnTo>
                    <a:pt x="7020" y="229"/>
                  </a:lnTo>
                  <a:lnTo>
                    <a:pt x="7042" y="225"/>
                  </a:lnTo>
                  <a:lnTo>
                    <a:pt x="7062" y="220"/>
                  </a:lnTo>
                  <a:lnTo>
                    <a:pt x="7077" y="212"/>
                  </a:lnTo>
                  <a:lnTo>
                    <a:pt x="7093" y="202"/>
                  </a:lnTo>
                  <a:lnTo>
                    <a:pt x="7103" y="189"/>
                  </a:lnTo>
                  <a:lnTo>
                    <a:pt x="7113" y="176"/>
                  </a:lnTo>
                  <a:lnTo>
                    <a:pt x="7119" y="160"/>
                  </a:lnTo>
                  <a:lnTo>
                    <a:pt x="7119" y="150"/>
                  </a:lnTo>
                  <a:lnTo>
                    <a:pt x="7114" y="142"/>
                  </a:lnTo>
                  <a:lnTo>
                    <a:pt x="7107" y="136"/>
                  </a:lnTo>
                  <a:lnTo>
                    <a:pt x="7098" y="134"/>
                  </a:lnTo>
                  <a:lnTo>
                    <a:pt x="7075" y="134"/>
                  </a:lnTo>
                  <a:lnTo>
                    <a:pt x="7054" y="134"/>
                  </a:lnTo>
                  <a:lnTo>
                    <a:pt x="3628" y="134"/>
                  </a:lnTo>
                  <a:lnTo>
                    <a:pt x="3623" y="37"/>
                  </a:lnTo>
                  <a:lnTo>
                    <a:pt x="7054" y="37"/>
                  </a:lnTo>
                  <a:lnTo>
                    <a:pt x="7080" y="35"/>
                  </a:lnTo>
                  <a:lnTo>
                    <a:pt x="7098" y="26"/>
                  </a:lnTo>
                  <a:lnTo>
                    <a:pt x="7109" y="16"/>
                  </a:lnTo>
                  <a:lnTo>
                    <a:pt x="7119" y="6"/>
                  </a:lnTo>
                  <a:lnTo>
                    <a:pt x="7129" y="0"/>
                  </a:lnTo>
                  <a:lnTo>
                    <a:pt x="7145" y="3"/>
                  </a:lnTo>
                  <a:lnTo>
                    <a:pt x="7166" y="14"/>
                  </a:lnTo>
                  <a:lnTo>
                    <a:pt x="7200" y="42"/>
                  </a:lnTo>
                  <a:lnTo>
                    <a:pt x="7219" y="59"/>
                  </a:lnTo>
                  <a:lnTo>
                    <a:pt x="7234" y="79"/>
                  </a:lnTo>
                  <a:lnTo>
                    <a:pt x="7243" y="97"/>
                  </a:lnTo>
                  <a:lnTo>
                    <a:pt x="7252" y="116"/>
                  </a:lnTo>
                  <a:lnTo>
                    <a:pt x="7253" y="134"/>
                  </a:lnTo>
                  <a:lnTo>
                    <a:pt x="7253" y="152"/>
                  </a:lnTo>
                  <a:lnTo>
                    <a:pt x="7245" y="189"/>
                  </a:lnTo>
                  <a:lnTo>
                    <a:pt x="7229" y="225"/>
                  </a:lnTo>
                  <a:lnTo>
                    <a:pt x="7208" y="259"/>
                  </a:lnTo>
                  <a:lnTo>
                    <a:pt x="7163" y="322"/>
                  </a:lnTo>
                  <a:lnTo>
                    <a:pt x="7131" y="361"/>
                  </a:lnTo>
                  <a:lnTo>
                    <a:pt x="7082" y="414"/>
                  </a:lnTo>
                  <a:lnTo>
                    <a:pt x="7019" y="477"/>
                  </a:lnTo>
                  <a:lnTo>
                    <a:pt x="6939" y="549"/>
                  </a:lnTo>
                  <a:lnTo>
                    <a:pt x="6847" y="623"/>
                  </a:lnTo>
                  <a:lnTo>
                    <a:pt x="6738" y="704"/>
                  </a:lnTo>
                  <a:lnTo>
                    <a:pt x="6617" y="785"/>
                  </a:lnTo>
                  <a:lnTo>
                    <a:pt x="6551" y="827"/>
                  </a:lnTo>
                  <a:lnTo>
                    <a:pt x="6481" y="866"/>
                  </a:lnTo>
                  <a:lnTo>
                    <a:pt x="3602" y="866"/>
                  </a:lnTo>
                  <a:lnTo>
                    <a:pt x="3574" y="950"/>
                  </a:lnTo>
                  <a:lnTo>
                    <a:pt x="3542" y="1028"/>
                  </a:lnTo>
                  <a:lnTo>
                    <a:pt x="3509" y="1103"/>
                  </a:lnTo>
                  <a:lnTo>
                    <a:pt x="3476" y="1178"/>
                  </a:lnTo>
                  <a:lnTo>
                    <a:pt x="3403" y="1316"/>
                  </a:lnTo>
                  <a:lnTo>
                    <a:pt x="3324" y="1442"/>
                  </a:lnTo>
                  <a:lnTo>
                    <a:pt x="3257" y="1544"/>
                  </a:lnTo>
                  <a:lnTo>
                    <a:pt x="3184" y="1640"/>
                  </a:lnTo>
                  <a:lnTo>
                    <a:pt x="3110" y="1737"/>
                  </a:lnTo>
                  <a:lnTo>
                    <a:pt x="3034" y="1829"/>
                  </a:lnTo>
                  <a:lnTo>
                    <a:pt x="2954" y="1920"/>
                  </a:lnTo>
                  <a:lnTo>
                    <a:pt x="2872" y="2009"/>
                  </a:lnTo>
                  <a:lnTo>
                    <a:pt x="2786" y="2094"/>
                  </a:lnTo>
                  <a:lnTo>
                    <a:pt x="2700" y="2177"/>
                  </a:lnTo>
                  <a:lnTo>
                    <a:pt x="2610" y="2258"/>
                  </a:lnTo>
                  <a:lnTo>
                    <a:pt x="2516" y="2334"/>
                  </a:lnTo>
                  <a:lnTo>
                    <a:pt x="2424" y="2410"/>
                  </a:lnTo>
                  <a:lnTo>
                    <a:pt x="2325" y="2483"/>
                  </a:lnTo>
                  <a:lnTo>
                    <a:pt x="2226" y="2551"/>
                  </a:lnTo>
                  <a:lnTo>
                    <a:pt x="2126" y="2619"/>
                  </a:lnTo>
                  <a:lnTo>
                    <a:pt x="2022" y="2682"/>
                  </a:lnTo>
                  <a:lnTo>
                    <a:pt x="1917" y="2740"/>
                  </a:lnTo>
                  <a:lnTo>
                    <a:pt x="1810" y="2798"/>
                  </a:lnTo>
                  <a:lnTo>
                    <a:pt x="1700" y="2852"/>
                  </a:lnTo>
                  <a:lnTo>
                    <a:pt x="1589" y="2902"/>
                  </a:lnTo>
                  <a:lnTo>
                    <a:pt x="1477" y="2950"/>
                  </a:lnTo>
                  <a:lnTo>
                    <a:pt x="1362" y="2993"/>
                  </a:lnTo>
                  <a:lnTo>
                    <a:pt x="1245" y="3033"/>
                  </a:lnTo>
                  <a:lnTo>
                    <a:pt x="1127" y="3070"/>
                  </a:lnTo>
                  <a:lnTo>
                    <a:pt x="1006" y="3104"/>
                  </a:lnTo>
                  <a:lnTo>
                    <a:pt x="886" y="3132"/>
                  </a:lnTo>
                  <a:lnTo>
                    <a:pt x="763" y="3158"/>
                  </a:lnTo>
                  <a:lnTo>
                    <a:pt x="640" y="3181"/>
                  </a:lnTo>
                  <a:lnTo>
                    <a:pt x="513" y="3198"/>
                  </a:lnTo>
                  <a:lnTo>
                    <a:pt x="387" y="3213"/>
                  </a:lnTo>
                  <a:lnTo>
                    <a:pt x="261" y="3223"/>
                  </a:lnTo>
                  <a:lnTo>
                    <a:pt x="130" y="3229"/>
                  </a:lnTo>
                  <a:lnTo>
                    <a:pt x="0" y="3231"/>
                  </a:lnTo>
                  <a:lnTo>
                    <a:pt x="0" y="3122"/>
                  </a:lnTo>
                  <a:lnTo>
                    <a:pt x="127" y="3119"/>
                  </a:lnTo>
                  <a:lnTo>
                    <a:pt x="253" y="3114"/>
                  </a:lnTo>
                  <a:lnTo>
                    <a:pt x="376" y="3104"/>
                  </a:lnTo>
                  <a:lnTo>
                    <a:pt x="499" y="3090"/>
                  </a:lnTo>
                  <a:lnTo>
                    <a:pt x="622" y="3072"/>
                  </a:lnTo>
                  <a:lnTo>
                    <a:pt x="742" y="3051"/>
                  </a:lnTo>
                  <a:lnTo>
                    <a:pt x="862" y="3025"/>
                  </a:lnTo>
                  <a:lnTo>
                    <a:pt x="978" y="2998"/>
                  </a:lnTo>
                  <a:lnTo>
                    <a:pt x="1095" y="2964"/>
                  </a:lnTo>
                  <a:lnTo>
                    <a:pt x="1210" y="2928"/>
                  </a:lnTo>
                  <a:lnTo>
                    <a:pt x="1324" y="2891"/>
                  </a:lnTo>
                  <a:lnTo>
                    <a:pt x="1435" y="2847"/>
                  </a:lnTo>
                  <a:lnTo>
                    <a:pt x="1545" y="2802"/>
                  </a:lnTo>
                  <a:lnTo>
                    <a:pt x="1653" y="2753"/>
                  </a:lnTo>
                  <a:lnTo>
                    <a:pt x="1760" y="2701"/>
                  </a:lnTo>
                  <a:lnTo>
                    <a:pt x="1863" y="2645"/>
                  </a:lnTo>
                  <a:lnTo>
                    <a:pt x="1966" y="2587"/>
                  </a:lnTo>
                  <a:lnTo>
                    <a:pt x="2066" y="2526"/>
                  </a:lnTo>
                  <a:lnTo>
                    <a:pt x="2165" y="2460"/>
                  </a:lnTo>
                  <a:lnTo>
                    <a:pt x="2262" y="2394"/>
                  </a:lnTo>
                  <a:lnTo>
                    <a:pt x="2357" y="2323"/>
                  </a:lnTo>
                  <a:lnTo>
                    <a:pt x="2448" y="2250"/>
                  </a:lnTo>
                  <a:lnTo>
                    <a:pt x="2538" y="2175"/>
                  </a:lnTo>
                  <a:lnTo>
                    <a:pt x="2625" y="2096"/>
                  </a:lnTo>
                  <a:lnTo>
                    <a:pt x="2710" y="2015"/>
                  </a:lnTo>
                  <a:lnTo>
                    <a:pt x="2793" y="1932"/>
                  </a:lnTo>
                  <a:lnTo>
                    <a:pt x="2872" y="1847"/>
                  </a:lnTo>
                  <a:lnTo>
                    <a:pt x="2951" y="1758"/>
                  </a:lnTo>
                  <a:lnTo>
                    <a:pt x="3026" y="1667"/>
                  </a:lnTo>
                  <a:lnTo>
                    <a:pt x="3097" y="1575"/>
                  </a:lnTo>
                  <a:lnTo>
                    <a:pt x="3166" y="1481"/>
                  </a:lnTo>
                  <a:lnTo>
                    <a:pt x="3233" y="1382"/>
                  </a:lnTo>
                  <a:lnTo>
                    <a:pt x="3302" y="1269"/>
                  </a:lnTo>
                  <a:lnTo>
                    <a:pt x="3369" y="1144"/>
                  </a:lnTo>
                  <a:lnTo>
                    <a:pt x="3430" y="1010"/>
                  </a:lnTo>
                  <a:lnTo>
                    <a:pt x="3485" y="866"/>
                  </a:lnTo>
                  <a:lnTo>
                    <a:pt x="3487" y="862"/>
                  </a:lnTo>
                  <a:lnTo>
                    <a:pt x="3515" y="782"/>
                  </a:lnTo>
                  <a:lnTo>
                    <a:pt x="3541" y="702"/>
                  </a:lnTo>
                  <a:lnTo>
                    <a:pt x="3563" y="621"/>
                  </a:lnTo>
                  <a:lnTo>
                    <a:pt x="3582" y="543"/>
                  </a:lnTo>
                  <a:lnTo>
                    <a:pt x="3598" y="464"/>
                  </a:lnTo>
                  <a:lnTo>
                    <a:pt x="3610" y="385"/>
                  </a:lnTo>
                  <a:lnTo>
                    <a:pt x="3620" y="307"/>
                  </a:lnTo>
                  <a:lnTo>
                    <a:pt x="3623" y="231"/>
                  </a:lnTo>
                  <a:lnTo>
                    <a:pt x="6996" y="231"/>
                  </a:lnTo>
                  <a:close/>
                </a:path>
              </a:pathLst>
            </a:custGeom>
            <a:blipFill rotWithShape="0">
              <a:blip r:embed="rId9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
            <p:cNvSpPr/>
            <p:nvPr/>
          </p:nvSpPr>
          <p:spPr>
            <a:xfrm>
              <a:off x="748800" y="1470600"/>
              <a:ext cx="80640" cy="130680"/>
            </a:xfrm>
            <a:custGeom>
              <a:avLst/>
              <a:gdLst/>
              <a:ahLst/>
              <a:rect l="l" t="t" r="r" b="b"/>
              <a:pathLst>
                <a:path w="636" h="1132">
                  <a:moveTo>
                    <a:pt x="0" y="991"/>
                  </a:moveTo>
                  <a:lnTo>
                    <a:pt x="0" y="1132"/>
                  </a:lnTo>
                  <a:lnTo>
                    <a:pt x="636" y="818"/>
                  </a:lnTo>
                  <a:lnTo>
                    <a:pt x="238" y="0"/>
                  </a:lnTo>
                  <a:lnTo>
                    <a:pt x="0" y="115"/>
                  </a:lnTo>
                  <a:lnTo>
                    <a:pt x="0" y="240"/>
                  </a:lnTo>
                  <a:lnTo>
                    <a:pt x="177" y="151"/>
                  </a:lnTo>
                  <a:lnTo>
                    <a:pt x="482" y="747"/>
                  </a:lnTo>
                  <a:lnTo>
                    <a:pt x="0" y="991"/>
                  </a:lnTo>
                  <a:close/>
                </a:path>
              </a:pathLst>
            </a:custGeom>
            <a:blipFill rotWithShape="0">
              <a:blip r:embed="rId9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a:off x="655560" y="1483920"/>
              <a:ext cx="93240" cy="137160"/>
            </a:xfrm>
            <a:custGeom>
              <a:avLst/>
              <a:gdLst/>
              <a:ahLst/>
              <a:rect l="l" t="t" r="r" b="b"/>
              <a:pathLst>
                <a:path w="725" h="1180">
                  <a:moveTo>
                    <a:pt x="725" y="125"/>
                  </a:moveTo>
                  <a:lnTo>
                    <a:pt x="725" y="0"/>
                  </a:lnTo>
                  <a:lnTo>
                    <a:pt x="0" y="353"/>
                  </a:lnTo>
                  <a:lnTo>
                    <a:pt x="49" y="450"/>
                  </a:lnTo>
                  <a:lnTo>
                    <a:pt x="123" y="436"/>
                  </a:lnTo>
                  <a:lnTo>
                    <a:pt x="416" y="1034"/>
                  </a:lnTo>
                  <a:lnTo>
                    <a:pt x="351" y="1090"/>
                  </a:lnTo>
                  <a:lnTo>
                    <a:pt x="392" y="1180"/>
                  </a:lnTo>
                  <a:lnTo>
                    <a:pt x="725" y="1017"/>
                  </a:lnTo>
                  <a:lnTo>
                    <a:pt x="725" y="876"/>
                  </a:lnTo>
                  <a:lnTo>
                    <a:pt x="520" y="981"/>
                  </a:lnTo>
                  <a:lnTo>
                    <a:pt x="238" y="373"/>
                  </a:lnTo>
                  <a:lnTo>
                    <a:pt x="725" y="125"/>
                  </a:lnTo>
                  <a:close/>
                </a:path>
              </a:pathLst>
            </a:custGeom>
            <a:blipFill rotWithShape="0">
              <a:blip r:embed="rId9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694440" y="1499400"/>
              <a:ext cx="102240" cy="90720"/>
            </a:xfrm>
            <a:custGeom>
              <a:avLst/>
              <a:gdLst/>
              <a:ahLst/>
              <a:rect l="l" t="t" r="r" b="b"/>
              <a:pathLst>
                <a:path w="797" h="782">
                  <a:moveTo>
                    <a:pt x="0" y="247"/>
                  </a:moveTo>
                  <a:lnTo>
                    <a:pt x="76" y="193"/>
                  </a:lnTo>
                  <a:lnTo>
                    <a:pt x="196" y="421"/>
                  </a:lnTo>
                  <a:lnTo>
                    <a:pt x="348" y="351"/>
                  </a:lnTo>
                  <a:lnTo>
                    <a:pt x="264" y="168"/>
                  </a:lnTo>
                  <a:lnTo>
                    <a:pt x="358" y="123"/>
                  </a:lnTo>
                  <a:lnTo>
                    <a:pt x="450" y="280"/>
                  </a:lnTo>
                  <a:lnTo>
                    <a:pt x="554" y="251"/>
                  </a:lnTo>
                  <a:lnTo>
                    <a:pt x="450" y="44"/>
                  </a:lnTo>
                  <a:lnTo>
                    <a:pt x="550" y="0"/>
                  </a:lnTo>
                  <a:lnTo>
                    <a:pt x="797" y="488"/>
                  </a:lnTo>
                  <a:lnTo>
                    <a:pt x="714" y="544"/>
                  </a:lnTo>
                  <a:lnTo>
                    <a:pt x="605" y="371"/>
                  </a:lnTo>
                  <a:lnTo>
                    <a:pt x="502" y="405"/>
                  </a:lnTo>
                  <a:lnTo>
                    <a:pt x="586" y="570"/>
                  </a:lnTo>
                  <a:lnTo>
                    <a:pt x="515" y="624"/>
                  </a:lnTo>
                  <a:lnTo>
                    <a:pt x="394" y="476"/>
                  </a:lnTo>
                  <a:lnTo>
                    <a:pt x="272" y="517"/>
                  </a:lnTo>
                  <a:lnTo>
                    <a:pt x="351" y="711"/>
                  </a:lnTo>
                  <a:lnTo>
                    <a:pt x="337" y="768"/>
                  </a:lnTo>
                  <a:lnTo>
                    <a:pt x="267" y="782"/>
                  </a:lnTo>
                  <a:lnTo>
                    <a:pt x="0" y="247"/>
                  </a:lnTo>
                  <a:close/>
                </a:path>
              </a:pathLst>
            </a:custGeom>
            <a:blipFill rotWithShape="0">
              <a:blip r:embed="rId94"/>
              <a:srcRect/>
              <a:stretch/>
            </a:blip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89" name=""/>
            <p:cNvSpPr/>
            <p:nvPr/>
          </p:nvSpPr>
          <p:spPr>
            <a:xfrm>
              <a:off x="736560" y="1559880"/>
              <a:ext cx="15120" cy="12600"/>
            </a:xfrm>
            <a:custGeom>
              <a:avLst/>
              <a:gdLst/>
              <a:ahLst/>
              <a:rect l="l" t="t" r="r" b="b"/>
              <a:pathLst>
                <a:path w="122" h="115">
                  <a:moveTo>
                    <a:pt x="1" y="42"/>
                  </a:moveTo>
                  <a:lnTo>
                    <a:pt x="0" y="86"/>
                  </a:lnTo>
                  <a:lnTo>
                    <a:pt x="69" y="115"/>
                  </a:lnTo>
                  <a:lnTo>
                    <a:pt x="122" y="36"/>
                  </a:lnTo>
                  <a:lnTo>
                    <a:pt x="87" y="8"/>
                  </a:lnTo>
                  <a:lnTo>
                    <a:pt x="55" y="0"/>
                  </a:lnTo>
                  <a:lnTo>
                    <a:pt x="1" y="42"/>
                  </a:lnTo>
                  <a:close/>
                </a:path>
              </a:pathLst>
            </a:custGeom>
            <a:blipFill rotWithShape="0">
              <a:blip r:embed="rId95"/>
              <a:srcRect/>
              <a:stretch/>
            </a:blip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90" name=""/>
            <p:cNvSpPr/>
            <p:nvPr/>
          </p:nvSpPr>
          <p:spPr>
            <a:xfrm>
              <a:off x="731520" y="1592280"/>
              <a:ext cx="134280" cy="83520"/>
            </a:xfrm>
            <a:custGeom>
              <a:avLst/>
              <a:gdLst/>
              <a:ahLst/>
              <a:rect l="l" t="t" r="r" b="b"/>
              <a:pathLst>
                <a:path w="1047" h="718">
                  <a:moveTo>
                    <a:pt x="0" y="670"/>
                  </a:moveTo>
                  <a:lnTo>
                    <a:pt x="7" y="606"/>
                  </a:lnTo>
                  <a:lnTo>
                    <a:pt x="369" y="314"/>
                  </a:lnTo>
                  <a:lnTo>
                    <a:pt x="742" y="12"/>
                  </a:lnTo>
                  <a:lnTo>
                    <a:pt x="759" y="4"/>
                  </a:lnTo>
                  <a:lnTo>
                    <a:pt x="781" y="0"/>
                  </a:lnTo>
                  <a:lnTo>
                    <a:pt x="795" y="3"/>
                  </a:lnTo>
                  <a:lnTo>
                    <a:pt x="806" y="6"/>
                  </a:lnTo>
                  <a:lnTo>
                    <a:pt x="821" y="12"/>
                  </a:lnTo>
                  <a:lnTo>
                    <a:pt x="832" y="24"/>
                  </a:lnTo>
                  <a:lnTo>
                    <a:pt x="952" y="174"/>
                  </a:lnTo>
                  <a:lnTo>
                    <a:pt x="1047" y="296"/>
                  </a:lnTo>
                  <a:lnTo>
                    <a:pt x="717" y="406"/>
                  </a:lnTo>
                  <a:lnTo>
                    <a:pt x="690" y="419"/>
                  </a:lnTo>
                  <a:lnTo>
                    <a:pt x="670" y="437"/>
                  </a:lnTo>
                  <a:lnTo>
                    <a:pt x="657" y="456"/>
                  </a:lnTo>
                  <a:lnTo>
                    <a:pt x="645" y="484"/>
                  </a:lnTo>
                  <a:lnTo>
                    <a:pt x="631" y="518"/>
                  </a:lnTo>
                  <a:lnTo>
                    <a:pt x="607" y="558"/>
                  </a:lnTo>
                  <a:lnTo>
                    <a:pt x="591" y="582"/>
                  </a:lnTo>
                  <a:lnTo>
                    <a:pt x="570" y="606"/>
                  </a:lnTo>
                  <a:lnTo>
                    <a:pt x="546" y="630"/>
                  </a:lnTo>
                  <a:lnTo>
                    <a:pt x="515" y="654"/>
                  </a:lnTo>
                  <a:lnTo>
                    <a:pt x="460" y="693"/>
                  </a:lnTo>
                  <a:lnTo>
                    <a:pt x="436" y="707"/>
                  </a:lnTo>
                  <a:lnTo>
                    <a:pt x="416" y="715"/>
                  </a:lnTo>
                  <a:lnTo>
                    <a:pt x="398" y="718"/>
                  </a:lnTo>
                  <a:lnTo>
                    <a:pt x="382" y="718"/>
                  </a:lnTo>
                  <a:lnTo>
                    <a:pt x="364" y="712"/>
                  </a:lnTo>
                  <a:lnTo>
                    <a:pt x="345" y="702"/>
                  </a:lnTo>
                  <a:lnTo>
                    <a:pt x="309" y="678"/>
                  </a:lnTo>
                  <a:lnTo>
                    <a:pt x="284" y="655"/>
                  </a:lnTo>
                  <a:lnTo>
                    <a:pt x="264" y="634"/>
                  </a:lnTo>
                  <a:lnTo>
                    <a:pt x="321" y="531"/>
                  </a:lnTo>
                  <a:lnTo>
                    <a:pt x="327" y="541"/>
                  </a:lnTo>
                  <a:lnTo>
                    <a:pt x="345" y="563"/>
                  </a:lnTo>
                  <a:lnTo>
                    <a:pt x="369" y="584"/>
                  </a:lnTo>
                  <a:lnTo>
                    <a:pt x="382" y="594"/>
                  </a:lnTo>
                  <a:lnTo>
                    <a:pt x="398" y="598"/>
                  </a:lnTo>
                  <a:lnTo>
                    <a:pt x="428" y="598"/>
                  </a:lnTo>
                  <a:lnTo>
                    <a:pt x="455" y="592"/>
                  </a:lnTo>
                  <a:lnTo>
                    <a:pt x="481" y="581"/>
                  </a:lnTo>
                  <a:lnTo>
                    <a:pt x="499" y="565"/>
                  </a:lnTo>
                  <a:lnTo>
                    <a:pt x="510" y="543"/>
                  </a:lnTo>
                  <a:lnTo>
                    <a:pt x="518" y="513"/>
                  </a:lnTo>
                  <a:lnTo>
                    <a:pt x="526" y="482"/>
                  </a:lnTo>
                  <a:lnTo>
                    <a:pt x="536" y="450"/>
                  </a:lnTo>
                  <a:lnTo>
                    <a:pt x="544" y="421"/>
                  </a:lnTo>
                  <a:lnTo>
                    <a:pt x="554" y="391"/>
                  </a:lnTo>
                  <a:lnTo>
                    <a:pt x="562" y="377"/>
                  </a:lnTo>
                  <a:lnTo>
                    <a:pt x="573" y="364"/>
                  </a:lnTo>
                  <a:lnTo>
                    <a:pt x="591" y="351"/>
                  </a:lnTo>
                  <a:lnTo>
                    <a:pt x="617" y="341"/>
                  </a:lnTo>
                  <a:lnTo>
                    <a:pt x="774" y="283"/>
                  </a:lnTo>
                  <a:lnTo>
                    <a:pt x="871" y="243"/>
                  </a:lnTo>
                  <a:lnTo>
                    <a:pt x="783" y="126"/>
                  </a:lnTo>
                  <a:lnTo>
                    <a:pt x="73" y="710"/>
                  </a:lnTo>
                  <a:lnTo>
                    <a:pt x="0" y="670"/>
                  </a:lnTo>
                  <a:close/>
                </a:path>
              </a:pathLst>
            </a:custGeom>
            <a:blipFill rotWithShape="0">
              <a:blip r:embed="rId96"/>
              <a:srcRect/>
              <a:stretch/>
            </a:blip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391" name=""/>
            <p:cNvSpPr/>
            <p:nvPr/>
          </p:nvSpPr>
          <p:spPr>
            <a:xfrm>
              <a:off x="765360" y="1671480"/>
              <a:ext cx="52920" cy="21960"/>
            </a:xfrm>
            <a:custGeom>
              <a:avLst/>
              <a:gdLst/>
              <a:ahLst/>
              <a:rect l="l" t="t" r="r" b="b"/>
              <a:pathLst>
                <a:path w="422" h="193">
                  <a:moveTo>
                    <a:pt x="0" y="89"/>
                  </a:moveTo>
                  <a:lnTo>
                    <a:pt x="47" y="87"/>
                  </a:lnTo>
                  <a:lnTo>
                    <a:pt x="99" y="83"/>
                  </a:lnTo>
                  <a:lnTo>
                    <a:pt x="160" y="77"/>
                  </a:lnTo>
                  <a:lnTo>
                    <a:pt x="221" y="67"/>
                  </a:lnTo>
                  <a:lnTo>
                    <a:pt x="280" y="51"/>
                  </a:lnTo>
                  <a:lnTo>
                    <a:pt x="306" y="39"/>
                  </a:lnTo>
                  <a:lnTo>
                    <a:pt x="330" y="28"/>
                  </a:lnTo>
                  <a:lnTo>
                    <a:pt x="348" y="14"/>
                  </a:lnTo>
                  <a:lnTo>
                    <a:pt x="361" y="0"/>
                  </a:lnTo>
                  <a:lnTo>
                    <a:pt x="387" y="38"/>
                  </a:lnTo>
                  <a:lnTo>
                    <a:pt x="406" y="67"/>
                  </a:lnTo>
                  <a:lnTo>
                    <a:pt x="422" y="96"/>
                  </a:lnTo>
                  <a:lnTo>
                    <a:pt x="377" y="138"/>
                  </a:lnTo>
                  <a:lnTo>
                    <a:pt x="3" y="193"/>
                  </a:lnTo>
                  <a:lnTo>
                    <a:pt x="0" y="89"/>
                  </a:lnTo>
                  <a:close/>
                </a:path>
              </a:pathLst>
            </a:custGeom>
            <a:blipFill rotWithShape="0">
              <a:blip r:embed="rId97"/>
              <a:srcRect/>
              <a:stretch/>
            </a:blip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392" name=""/>
            <p:cNvSpPr/>
            <p:nvPr/>
          </p:nvSpPr>
          <p:spPr>
            <a:xfrm>
              <a:off x="769320" y="1644480"/>
              <a:ext cx="113760" cy="82440"/>
            </a:xfrm>
            <a:custGeom>
              <a:avLst/>
              <a:gdLst/>
              <a:ahLst/>
              <a:rect l="l" t="t" r="r" b="b"/>
              <a:pathLst>
                <a:path w="888" h="719">
                  <a:moveTo>
                    <a:pt x="66" y="488"/>
                  </a:moveTo>
                  <a:lnTo>
                    <a:pt x="89" y="507"/>
                  </a:lnTo>
                  <a:lnTo>
                    <a:pt x="131" y="545"/>
                  </a:lnTo>
                  <a:lnTo>
                    <a:pt x="141" y="551"/>
                  </a:lnTo>
                  <a:lnTo>
                    <a:pt x="152" y="553"/>
                  </a:lnTo>
                  <a:lnTo>
                    <a:pt x="166" y="551"/>
                  </a:lnTo>
                  <a:lnTo>
                    <a:pt x="182" y="546"/>
                  </a:lnTo>
                  <a:lnTo>
                    <a:pt x="212" y="531"/>
                  </a:lnTo>
                  <a:lnTo>
                    <a:pt x="241" y="512"/>
                  </a:lnTo>
                  <a:lnTo>
                    <a:pt x="304" y="464"/>
                  </a:lnTo>
                  <a:lnTo>
                    <a:pt x="409" y="383"/>
                  </a:lnTo>
                  <a:lnTo>
                    <a:pt x="549" y="272"/>
                  </a:lnTo>
                  <a:lnTo>
                    <a:pt x="395" y="77"/>
                  </a:lnTo>
                  <a:lnTo>
                    <a:pt x="468" y="0"/>
                  </a:lnTo>
                  <a:lnTo>
                    <a:pt x="662" y="225"/>
                  </a:lnTo>
                  <a:lnTo>
                    <a:pt x="798" y="387"/>
                  </a:lnTo>
                  <a:lnTo>
                    <a:pt x="869" y="472"/>
                  </a:lnTo>
                  <a:lnTo>
                    <a:pt x="882" y="494"/>
                  </a:lnTo>
                  <a:lnTo>
                    <a:pt x="888" y="519"/>
                  </a:lnTo>
                  <a:lnTo>
                    <a:pt x="888" y="543"/>
                  </a:lnTo>
                  <a:lnTo>
                    <a:pt x="882" y="564"/>
                  </a:lnTo>
                  <a:lnTo>
                    <a:pt x="867" y="593"/>
                  </a:lnTo>
                  <a:lnTo>
                    <a:pt x="861" y="598"/>
                  </a:lnTo>
                  <a:lnTo>
                    <a:pt x="801" y="575"/>
                  </a:lnTo>
                  <a:lnTo>
                    <a:pt x="623" y="371"/>
                  </a:lnTo>
                  <a:lnTo>
                    <a:pt x="447" y="517"/>
                  </a:lnTo>
                  <a:lnTo>
                    <a:pt x="317" y="625"/>
                  </a:lnTo>
                  <a:lnTo>
                    <a:pt x="231" y="690"/>
                  </a:lnTo>
                  <a:lnTo>
                    <a:pt x="214" y="703"/>
                  </a:lnTo>
                  <a:lnTo>
                    <a:pt x="194" y="711"/>
                  </a:lnTo>
                  <a:lnTo>
                    <a:pt x="176" y="716"/>
                  </a:lnTo>
                  <a:lnTo>
                    <a:pt x="158" y="719"/>
                  </a:lnTo>
                  <a:lnTo>
                    <a:pt x="141" y="719"/>
                  </a:lnTo>
                  <a:lnTo>
                    <a:pt x="125" y="713"/>
                  </a:lnTo>
                  <a:lnTo>
                    <a:pt x="111" y="705"/>
                  </a:lnTo>
                  <a:lnTo>
                    <a:pt x="99" y="695"/>
                  </a:lnTo>
                  <a:lnTo>
                    <a:pt x="38" y="627"/>
                  </a:lnTo>
                  <a:lnTo>
                    <a:pt x="0" y="586"/>
                  </a:lnTo>
                  <a:lnTo>
                    <a:pt x="66" y="488"/>
                  </a:lnTo>
                  <a:close/>
                </a:path>
              </a:pathLst>
            </a:custGeom>
            <a:blipFill rotWithShape="0">
              <a:blip r:embed="rId98"/>
              <a:srcRect/>
              <a:stretch/>
            </a:blip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3" name=""/>
            <p:cNvSpPr/>
            <p:nvPr/>
          </p:nvSpPr>
          <p:spPr>
            <a:xfrm>
              <a:off x="816480" y="1702800"/>
              <a:ext cx="28800" cy="46080"/>
            </a:xfrm>
            <a:custGeom>
              <a:avLst/>
              <a:gdLst/>
              <a:ahLst/>
              <a:rect l="l" t="t" r="r" b="b"/>
              <a:pathLst>
                <a:path w="229" h="399">
                  <a:moveTo>
                    <a:pt x="126" y="0"/>
                  </a:moveTo>
                  <a:lnTo>
                    <a:pt x="0" y="363"/>
                  </a:lnTo>
                  <a:lnTo>
                    <a:pt x="118" y="399"/>
                  </a:lnTo>
                  <a:lnTo>
                    <a:pt x="229" y="42"/>
                  </a:lnTo>
                  <a:lnTo>
                    <a:pt x="126" y="0"/>
                  </a:lnTo>
                  <a:close/>
                </a:path>
              </a:pathLst>
            </a:custGeom>
            <a:blipFill rotWithShape="0">
              <a:blip r:embed="rId99"/>
              <a:srcRect/>
              <a:stretch/>
            </a:blip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94" name=""/>
            <p:cNvSpPr/>
            <p:nvPr/>
          </p:nvSpPr>
          <p:spPr>
            <a:xfrm>
              <a:off x="855360" y="1632240"/>
              <a:ext cx="51120" cy="51480"/>
            </a:xfrm>
            <a:custGeom>
              <a:avLst/>
              <a:gdLst/>
              <a:ahLst/>
              <a:rect l="l" t="t" r="r" b="b"/>
              <a:pathLst>
                <a:path w="397" h="450">
                  <a:moveTo>
                    <a:pt x="0" y="81"/>
                  </a:moveTo>
                  <a:lnTo>
                    <a:pt x="57" y="0"/>
                  </a:lnTo>
                  <a:lnTo>
                    <a:pt x="85" y="0"/>
                  </a:lnTo>
                  <a:lnTo>
                    <a:pt x="397" y="374"/>
                  </a:lnTo>
                  <a:lnTo>
                    <a:pt x="394" y="419"/>
                  </a:lnTo>
                  <a:lnTo>
                    <a:pt x="334" y="450"/>
                  </a:lnTo>
                  <a:lnTo>
                    <a:pt x="277" y="427"/>
                  </a:lnTo>
                  <a:lnTo>
                    <a:pt x="0" y="81"/>
                  </a:lnTo>
                  <a:close/>
                </a:path>
              </a:pathLst>
            </a:custGeom>
            <a:blipFill rotWithShape="0">
              <a:blip r:embed="rId100"/>
              <a:srcRect/>
              <a:stretch/>
            </a:blipFill>
            <a:ln w="0">
              <a:noFill/>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sp>
          <p:nvSpPr>
            <p:cNvPr id="395" name=""/>
            <p:cNvSpPr/>
            <p:nvPr/>
          </p:nvSpPr>
          <p:spPr>
            <a:xfrm>
              <a:off x="1092240" y="1840320"/>
              <a:ext cx="14400" cy="19440"/>
            </a:xfrm>
            <a:custGeom>
              <a:avLst/>
              <a:gdLst/>
              <a:ahLst/>
              <a:rect l="l" t="t" r="r" b="b"/>
              <a:pathLst>
                <a:path w="113" h="165">
                  <a:moveTo>
                    <a:pt x="0" y="3"/>
                  </a:moveTo>
                  <a:lnTo>
                    <a:pt x="13" y="149"/>
                  </a:lnTo>
                  <a:lnTo>
                    <a:pt x="109" y="165"/>
                  </a:lnTo>
                  <a:lnTo>
                    <a:pt x="113" y="0"/>
                  </a:lnTo>
                  <a:lnTo>
                    <a:pt x="0" y="3"/>
                  </a:lnTo>
                  <a:close/>
                </a:path>
              </a:pathLst>
            </a:custGeom>
            <a:blipFill rotWithShape="0">
              <a:blip r:embed="rId101"/>
              <a:srcRect/>
              <a:stretch/>
            </a:blip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396" name=""/>
            <p:cNvSpPr/>
            <p:nvPr/>
          </p:nvSpPr>
          <p:spPr>
            <a:xfrm>
              <a:off x="1033920" y="1870920"/>
              <a:ext cx="61560" cy="92520"/>
            </a:xfrm>
            <a:custGeom>
              <a:avLst/>
              <a:gdLst/>
              <a:ahLst/>
              <a:rect l="l" t="t" r="r" b="b"/>
              <a:pathLst>
                <a:path w="484" h="797">
                  <a:moveTo>
                    <a:pt x="0" y="324"/>
                  </a:moveTo>
                  <a:lnTo>
                    <a:pt x="0" y="475"/>
                  </a:lnTo>
                  <a:lnTo>
                    <a:pt x="22" y="460"/>
                  </a:lnTo>
                  <a:lnTo>
                    <a:pt x="66" y="424"/>
                  </a:lnTo>
                  <a:lnTo>
                    <a:pt x="105" y="382"/>
                  </a:lnTo>
                  <a:lnTo>
                    <a:pt x="140" y="339"/>
                  </a:lnTo>
                  <a:lnTo>
                    <a:pt x="174" y="295"/>
                  </a:lnTo>
                  <a:lnTo>
                    <a:pt x="225" y="217"/>
                  </a:lnTo>
                  <a:lnTo>
                    <a:pt x="257" y="172"/>
                  </a:lnTo>
                  <a:lnTo>
                    <a:pt x="267" y="162"/>
                  </a:lnTo>
                  <a:lnTo>
                    <a:pt x="276" y="156"/>
                  </a:lnTo>
                  <a:lnTo>
                    <a:pt x="284" y="154"/>
                  </a:lnTo>
                  <a:lnTo>
                    <a:pt x="291" y="156"/>
                  </a:lnTo>
                  <a:lnTo>
                    <a:pt x="306" y="165"/>
                  </a:lnTo>
                  <a:lnTo>
                    <a:pt x="322" y="180"/>
                  </a:lnTo>
                  <a:lnTo>
                    <a:pt x="336" y="191"/>
                  </a:lnTo>
                  <a:lnTo>
                    <a:pt x="343" y="203"/>
                  </a:lnTo>
                  <a:lnTo>
                    <a:pt x="341" y="219"/>
                  </a:lnTo>
                  <a:lnTo>
                    <a:pt x="333" y="235"/>
                  </a:lnTo>
                  <a:lnTo>
                    <a:pt x="118" y="544"/>
                  </a:lnTo>
                  <a:lnTo>
                    <a:pt x="98" y="578"/>
                  </a:lnTo>
                  <a:lnTo>
                    <a:pt x="89" y="609"/>
                  </a:lnTo>
                  <a:lnTo>
                    <a:pt x="87" y="641"/>
                  </a:lnTo>
                  <a:lnTo>
                    <a:pt x="95" y="672"/>
                  </a:lnTo>
                  <a:lnTo>
                    <a:pt x="108" y="700"/>
                  </a:lnTo>
                  <a:lnTo>
                    <a:pt x="131" y="727"/>
                  </a:lnTo>
                  <a:lnTo>
                    <a:pt x="158" y="753"/>
                  </a:lnTo>
                  <a:lnTo>
                    <a:pt x="192" y="779"/>
                  </a:lnTo>
                  <a:lnTo>
                    <a:pt x="211" y="789"/>
                  </a:lnTo>
                  <a:lnTo>
                    <a:pt x="229" y="795"/>
                  </a:lnTo>
                  <a:lnTo>
                    <a:pt x="244" y="797"/>
                  </a:lnTo>
                  <a:lnTo>
                    <a:pt x="262" y="797"/>
                  </a:lnTo>
                  <a:lnTo>
                    <a:pt x="292" y="789"/>
                  </a:lnTo>
                  <a:lnTo>
                    <a:pt x="320" y="773"/>
                  </a:lnTo>
                  <a:lnTo>
                    <a:pt x="343" y="755"/>
                  </a:lnTo>
                  <a:lnTo>
                    <a:pt x="361" y="738"/>
                  </a:lnTo>
                  <a:lnTo>
                    <a:pt x="375" y="718"/>
                  </a:lnTo>
                  <a:lnTo>
                    <a:pt x="294" y="633"/>
                  </a:lnTo>
                  <a:lnTo>
                    <a:pt x="268" y="653"/>
                  </a:lnTo>
                  <a:lnTo>
                    <a:pt x="257" y="661"/>
                  </a:lnTo>
                  <a:lnTo>
                    <a:pt x="247" y="661"/>
                  </a:lnTo>
                  <a:lnTo>
                    <a:pt x="237" y="659"/>
                  </a:lnTo>
                  <a:lnTo>
                    <a:pt x="231" y="653"/>
                  </a:lnTo>
                  <a:lnTo>
                    <a:pt x="225" y="643"/>
                  </a:lnTo>
                  <a:lnTo>
                    <a:pt x="225" y="630"/>
                  </a:lnTo>
                  <a:lnTo>
                    <a:pt x="229" y="614"/>
                  </a:lnTo>
                  <a:lnTo>
                    <a:pt x="237" y="598"/>
                  </a:lnTo>
                  <a:lnTo>
                    <a:pt x="346" y="424"/>
                  </a:lnTo>
                  <a:lnTo>
                    <a:pt x="459" y="238"/>
                  </a:lnTo>
                  <a:lnTo>
                    <a:pt x="472" y="217"/>
                  </a:lnTo>
                  <a:lnTo>
                    <a:pt x="477" y="198"/>
                  </a:lnTo>
                  <a:lnTo>
                    <a:pt x="484" y="164"/>
                  </a:lnTo>
                  <a:lnTo>
                    <a:pt x="482" y="146"/>
                  </a:lnTo>
                  <a:lnTo>
                    <a:pt x="480" y="138"/>
                  </a:lnTo>
                  <a:lnTo>
                    <a:pt x="225" y="0"/>
                  </a:lnTo>
                  <a:lnTo>
                    <a:pt x="122" y="154"/>
                  </a:lnTo>
                  <a:lnTo>
                    <a:pt x="43" y="268"/>
                  </a:lnTo>
                  <a:lnTo>
                    <a:pt x="0" y="324"/>
                  </a:lnTo>
                  <a:close/>
                </a:path>
              </a:pathLst>
            </a:custGeom>
            <a:blipFill rotWithShape="0">
              <a:blip r:embed="rId102"/>
              <a:srcRect/>
              <a:stretch/>
            </a:blipFill>
            <a:ln w="0">
              <a:noFill/>
            </a:ln>
          </p:spPr>
          <p:style>
            <a:lnRef idx="0"/>
            <a:fillRef idx="0"/>
            <a:effectRef idx="0"/>
            <a:fontRef idx="minor"/>
          </p:style>
          <p:txBody>
            <a:bodyPr lIns="90000" rIns="90000" anchor="t">
              <a:noAutofit/>
            </a:bodyPr>
            <a:p>
              <a:endParaRPr b="0" lang="en-US" sz="2400" spc="-1" strike="noStrike">
                <a:solidFill>
                  <a:srgbClr val="ffffff"/>
                </a:solidFill>
                <a:latin typeface="Times New Roman"/>
              </a:endParaRPr>
            </a:p>
          </p:txBody>
        </p:sp>
        <p:sp>
          <p:nvSpPr>
            <p:cNvPr id="397" name=""/>
            <p:cNvSpPr/>
            <p:nvPr/>
          </p:nvSpPr>
          <p:spPr>
            <a:xfrm>
              <a:off x="1033920" y="1811520"/>
              <a:ext cx="94320" cy="77760"/>
            </a:xfrm>
            <a:custGeom>
              <a:avLst/>
              <a:gdLst/>
              <a:ahLst/>
              <a:rect l="l" t="t" r="r" b="b"/>
              <a:pathLst>
                <a:path w="738" h="676">
                  <a:moveTo>
                    <a:pt x="0" y="477"/>
                  </a:moveTo>
                  <a:lnTo>
                    <a:pt x="0" y="657"/>
                  </a:lnTo>
                  <a:lnTo>
                    <a:pt x="195" y="377"/>
                  </a:lnTo>
                  <a:lnTo>
                    <a:pt x="446" y="534"/>
                  </a:lnTo>
                  <a:lnTo>
                    <a:pt x="655" y="665"/>
                  </a:lnTo>
                  <a:lnTo>
                    <a:pt x="679" y="675"/>
                  </a:lnTo>
                  <a:lnTo>
                    <a:pt x="687" y="676"/>
                  </a:lnTo>
                  <a:lnTo>
                    <a:pt x="697" y="675"/>
                  </a:lnTo>
                  <a:lnTo>
                    <a:pt x="705" y="668"/>
                  </a:lnTo>
                  <a:lnTo>
                    <a:pt x="710" y="660"/>
                  </a:lnTo>
                  <a:lnTo>
                    <a:pt x="728" y="637"/>
                  </a:lnTo>
                  <a:lnTo>
                    <a:pt x="738" y="610"/>
                  </a:lnTo>
                  <a:lnTo>
                    <a:pt x="738" y="599"/>
                  </a:lnTo>
                  <a:lnTo>
                    <a:pt x="736" y="592"/>
                  </a:lnTo>
                  <a:lnTo>
                    <a:pt x="720" y="574"/>
                  </a:lnTo>
                  <a:lnTo>
                    <a:pt x="694" y="556"/>
                  </a:lnTo>
                  <a:lnTo>
                    <a:pt x="257" y="270"/>
                  </a:lnTo>
                  <a:lnTo>
                    <a:pt x="260" y="251"/>
                  </a:lnTo>
                  <a:lnTo>
                    <a:pt x="260" y="233"/>
                  </a:lnTo>
                  <a:lnTo>
                    <a:pt x="259" y="217"/>
                  </a:lnTo>
                  <a:lnTo>
                    <a:pt x="252" y="202"/>
                  </a:lnTo>
                  <a:lnTo>
                    <a:pt x="237" y="178"/>
                  </a:lnTo>
                  <a:lnTo>
                    <a:pt x="217" y="157"/>
                  </a:lnTo>
                  <a:lnTo>
                    <a:pt x="179" y="132"/>
                  </a:lnTo>
                  <a:lnTo>
                    <a:pt x="225" y="57"/>
                  </a:lnTo>
                  <a:lnTo>
                    <a:pt x="134" y="0"/>
                  </a:lnTo>
                  <a:lnTo>
                    <a:pt x="77" y="71"/>
                  </a:lnTo>
                  <a:lnTo>
                    <a:pt x="0" y="27"/>
                  </a:lnTo>
                  <a:lnTo>
                    <a:pt x="0" y="207"/>
                  </a:lnTo>
                  <a:lnTo>
                    <a:pt x="26" y="170"/>
                  </a:lnTo>
                  <a:lnTo>
                    <a:pt x="51" y="179"/>
                  </a:lnTo>
                  <a:lnTo>
                    <a:pt x="79" y="193"/>
                  </a:lnTo>
                  <a:lnTo>
                    <a:pt x="111" y="215"/>
                  </a:lnTo>
                  <a:lnTo>
                    <a:pt x="114" y="235"/>
                  </a:lnTo>
                  <a:lnTo>
                    <a:pt x="114" y="256"/>
                  </a:lnTo>
                  <a:lnTo>
                    <a:pt x="111" y="276"/>
                  </a:lnTo>
                  <a:lnTo>
                    <a:pt x="100" y="301"/>
                  </a:lnTo>
                  <a:lnTo>
                    <a:pt x="66" y="369"/>
                  </a:lnTo>
                  <a:lnTo>
                    <a:pt x="6" y="471"/>
                  </a:lnTo>
                  <a:lnTo>
                    <a:pt x="0" y="477"/>
                  </a:lnTo>
                  <a:close/>
                </a:path>
              </a:pathLst>
            </a:custGeom>
            <a:blipFill rotWithShape="0">
              <a:blip r:embed="rId103"/>
              <a:srcRect/>
              <a:stretch/>
            </a:blip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98" name=""/>
            <p:cNvSpPr/>
            <p:nvPr/>
          </p:nvSpPr>
          <p:spPr>
            <a:xfrm>
              <a:off x="959040" y="1812240"/>
              <a:ext cx="74520" cy="124920"/>
            </a:xfrm>
            <a:custGeom>
              <a:avLst/>
              <a:gdLst/>
              <a:ahLst/>
              <a:rect l="l" t="t" r="r" b="b"/>
              <a:pathLst>
                <a:path w="585" h="1076">
                  <a:moveTo>
                    <a:pt x="585" y="196"/>
                  </a:moveTo>
                  <a:lnTo>
                    <a:pt x="585" y="16"/>
                  </a:lnTo>
                  <a:lnTo>
                    <a:pt x="562" y="0"/>
                  </a:lnTo>
                  <a:lnTo>
                    <a:pt x="539" y="44"/>
                  </a:lnTo>
                  <a:lnTo>
                    <a:pt x="435" y="235"/>
                  </a:lnTo>
                  <a:lnTo>
                    <a:pt x="384" y="324"/>
                  </a:lnTo>
                  <a:lnTo>
                    <a:pt x="319" y="280"/>
                  </a:lnTo>
                  <a:lnTo>
                    <a:pt x="298" y="272"/>
                  </a:lnTo>
                  <a:lnTo>
                    <a:pt x="293" y="271"/>
                  </a:lnTo>
                  <a:lnTo>
                    <a:pt x="287" y="272"/>
                  </a:lnTo>
                  <a:lnTo>
                    <a:pt x="275" y="288"/>
                  </a:lnTo>
                  <a:lnTo>
                    <a:pt x="258" y="320"/>
                  </a:lnTo>
                  <a:lnTo>
                    <a:pt x="248" y="340"/>
                  </a:lnTo>
                  <a:lnTo>
                    <a:pt x="243" y="353"/>
                  </a:lnTo>
                  <a:lnTo>
                    <a:pt x="243" y="364"/>
                  </a:lnTo>
                  <a:lnTo>
                    <a:pt x="248" y="374"/>
                  </a:lnTo>
                  <a:lnTo>
                    <a:pt x="258" y="379"/>
                  </a:lnTo>
                  <a:lnTo>
                    <a:pt x="271" y="387"/>
                  </a:lnTo>
                  <a:lnTo>
                    <a:pt x="311" y="405"/>
                  </a:lnTo>
                  <a:lnTo>
                    <a:pt x="321" y="413"/>
                  </a:lnTo>
                  <a:lnTo>
                    <a:pt x="264" y="482"/>
                  </a:lnTo>
                  <a:lnTo>
                    <a:pt x="208" y="543"/>
                  </a:lnTo>
                  <a:lnTo>
                    <a:pt x="153" y="596"/>
                  </a:lnTo>
                  <a:lnTo>
                    <a:pt x="105" y="640"/>
                  </a:lnTo>
                  <a:lnTo>
                    <a:pt x="31" y="699"/>
                  </a:lnTo>
                  <a:lnTo>
                    <a:pt x="0" y="719"/>
                  </a:lnTo>
                  <a:lnTo>
                    <a:pt x="18" y="746"/>
                  </a:lnTo>
                  <a:lnTo>
                    <a:pt x="42" y="777"/>
                  </a:lnTo>
                  <a:lnTo>
                    <a:pt x="78" y="824"/>
                  </a:lnTo>
                  <a:lnTo>
                    <a:pt x="154" y="756"/>
                  </a:lnTo>
                  <a:lnTo>
                    <a:pt x="233" y="680"/>
                  </a:lnTo>
                  <a:lnTo>
                    <a:pt x="311" y="593"/>
                  </a:lnTo>
                  <a:lnTo>
                    <a:pt x="384" y="500"/>
                  </a:lnTo>
                  <a:lnTo>
                    <a:pt x="408" y="466"/>
                  </a:lnTo>
                  <a:lnTo>
                    <a:pt x="476" y="515"/>
                  </a:lnTo>
                  <a:lnTo>
                    <a:pt x="528" y="559"/>
                  </a:lnTo>
                  <a:lnTo>
                    <a:pt x="458" y="656"/>
                  </a:lnTo>
                  <a:lnTo>
                    <a:pt x="397" y="738"/>
                  </a:lnTo>
                  <a:lnTo>
                    <a:pt x="334" y="816"/>
                  </a:lnTo>
                  <a:lnTo>
                    <a:pt x="235" y="819"/>
                  </a:lnTo>
                  <a:lnTo>
                    <a:pt x="228" y="923"/>
                  </a:lnTo>
                  <a:lnTo>
                    <a:pt x="330" y="968"/>
                  </a:lnTo>
                  <a:lnTo>
                    <a:pt x="376" y="957"/>
                  </a:lnTo>
                  <a:lnTo>
                    <a:pt x="411" y="1049"/>
                  </a:lnTo>
                  <a:lnTo>
                    <a:pt x="468" y="1076"/>
                  </a:lnTo>
                  <a:lnTo>
                    <a:pt x="473" y="1070"/>
                  </a:lnTo>
                  <a:lnTo>
                    <a:pt x="492" y="1051"/>
                  </a:lnTo>
                  <a:lnTo>
                    <a:pt x="536" y="1013"/>
                  </a:lnTo>
                  <a:lnTo>
                    <a:pt x="585" y="975"/>
                  </a:lnTo>
                  <a:lnTo>
                    <a:pt x="585" y="824"/>
                  </a:lnTo>
                  <a:lnTo>
                    <a:pt x="573" y="842"/>
                  </a:lnTo>
                  <a:lnTo>
                    <a:pt x="557" y="857"/>
                  </a:lnTo>
                  <a:lnTo>
                    <a:pt x="536" y="874"/>
                  </a:lnTo>
                  <a:lnTo>
                    <a:pt x="491" y="905"/>
                  </a:lnTo>
                  <a:lnTo>
                    <a:pt x="435" y="934"/>
                  </a:lnTo>
                  <a:lnTo>
                    <a:pt x="427" y="876"/>
                  </a:lnTo>
                  <a:lnTo>
                    <a:pt x="585" y="646"/>
                  </a:lnTo>
                  <a:lnTo>
                    <a:pt x="585" y="466"/>
                  </a:lnTo>
                  <a:lnTo>
                    <a:pt x="585" y="468"/>
                  </a:lnTo>
                  <a:lnTo>
                    <a:pt x="466" y="382"/>
                  </a:lnTo>
                  <a:lnTo>
                    <a:pt x="465" y="382"/>
                  </a:lnTo>
                  <a:lnTo>
                    <a:pt x="565" y="230"/>
                  </a:lnTo>
                  <a:lnTo>
                    <a:pt x="585" y="196"/>
                  </a:lnTo>
                  <a:close/>
                </a:path>
              </a:pathLst>
            </a:custGeom>
            <a:blipFill rotWithShape="0">
              <a:blip r:embed="rId104"/>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a:off x="1025640" y="1839240"/>
              <a:ext cx="15120" cy="17640"/>
            </a:xfrm>
            <a:custGeom>
              <a:avLst/>
              <a:gdLst/>
              <a:ahLst/>
              <a:rect l="l" t="t" r="r" b="b"/>
              <a:pathLst>
                <a:path w="121" h="145">
                  <a:moveTo>
                    <a:pt x="81" y="0"/>
                  </a:moveTo>
                  <a:lnTo>
                    <a:pt x="121" y="33"/>
                  </a:lnTo>
                  <a:lnTo>
                    <a:pt x="118" y="51"/>
                  </a:lnTo>
                  <a:lnTo>
                    <a:pt x="108" y="84"/>
                  </a:lnTo>
                  <a:lnTo>
                    <a:pt x="98" y="105"/>
                  </a:lnTo>
                  <a:lnTo>
                    <a:pt x="81" y="124"/>
                  </a:lnTo>
                  <a:lnTo>
                    <a:pt x="61" y="145"/>
                  </a:lnTo>
                  <a:lnTo>
                    <a:pt x="0" y="102"/>
                  </a:lnTo>
                  <a:lnTo>
                    <a:pt x="81" y="0"/>
                  </a:lnTo>
                  <a:close/>
                </a:path>
              </a:pathLst>
            </a:custGeom>
            <a:blipFill rotWithShape="0">
              <a:blip r:embed="rId105"/>
              <a:srcRect/>
              <a:stretch/>
            </a:blip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00" name=""/>
            <p:cNvSpPr/>
            <p:nvPr/>
          </p:nvSpPr>
          <p:spPr>
            <a:xfrm>
              <a:off x="999000" y="1874520"/>
              <a:ext cx="17280" cy="19440"/>
            </a:xfrm>
            <a:custGeom>
              <a:avLst/>
              <a:gdLst/>
              <a:ahLst/>
              <a:rect l="l" t="t" r="r" b="b"/>
              <a:pathLst>
                <a:path w="139" h="163">
                  <a:moveTo>
                    <a:pt x="65" y="0"/>
                  </a:moveTo>
                  <a:lnTo>
                    <a:pt x="139" y="9"/>
                  </a:lnTo>
                  <a:lnTo>
                    <a:pt x="109" y="163"/>
                  </a:lnTo>
                  <a:lnTo>
                    <a:pt x="0" y="163"/>
                  </a:lnTo>
                  <a:lnTo>
                    <a:pt x="65" y="0"/>
                  </a:lnTo>
                  <a:close/>
                </a:path>
              </a:pathLst>
            </a:custGeom>
            <a:blipFill rotWithShape="0">
              <a:blip r:embed="rId106"/>
              <a:srcRect/>
              <a:stretch/>
            </a:blipFill>
            <a:ln w="0">
              <a:noFill/>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401" name=""/>
            <p:cNvSpPr/>
            <p:nvPr/>
          </p:nvSpPr>
          <p:spPr>
            <a:xfrm>
              <a:off x="1131120" y="1891440"/>
              <a:ext cx="77760" cy="87120"/>
            </a:xfrm>
            <a:custGeom>
              <a:avLst/>
              <a:gdLst/>
              <a:ahLst/>
              <a:rect l="l" t="t" r="r" b="b"/>
              <a:pathLst>
                <a:path w="610" h="750">
                  <a:moveTo>
                    <a:pt x="565" y="120"/>
                  </a:moveTo>
                  <a:lnTo>
                    <a:pt x="476" y="0"/>
                  </a:lnTo>
                  <a:lnTo>
                    <a:pt x="454" y="26"/>
                  </a:lnTo>
                  <a:lnTo>
                    <a:pt x="400" y="83"/>
                  </a:lnTo>
                  <a:lnTo>
                    <a:pt x="369" y="115"/>
                  </a:lnTo>
                  <a:lnTo>
                    <a:pt x="337" y="144"/>
                  </a:lnTo>
                  <a:lnTo>
                    <a:pt x="308" y="168"/>
                  </a:lnTo>
                  <a:lnTo>
                    <a:pt x="280" y="182"/>
                  </a:lnTo>
                  <a:lnTo>
                    <a:pt x="213" y="201"/>
                  </a:lnTo>
                  <a:lnTo>
                    <a:pt x="191" y="207"/>
                  </a:lnTo>
                  <a:lnTo>
                    <a:pt x="130" y="248"/>
                  </a:lnTo>
                  <a:lnTo>
                    <a:pt x="134" y="356"/>
                  </a:lnTo>
                  <a:lnTo>
                    <a:pt x="285" y="415"/>
                  </a:lnTo>
                  <a:lnTo>
                    <a:pt x="274" y="424"/>
                  </a:lnTo>
                  <a:lnTo>
                    <a:pt x="246" y="450"/>
                  </a:lnTo>
                  <a:lnTo>
                    <a:pt x="227" y="464"/>
                  </a:lnTo>
                  <a:lnTo>
                    <a:pt x="203" y="478"/>
                  </a:lnTo>
                  <a:lnTo>
                    <a:pt x="175" y="489"/>
                  </a:lnTo>
                  <a:lnTo>
                    <a:pt x="146" y="500"/>
                  </a:lnTo>
                  <a:lnTo>
                    <a:pt x="96" y="510"/>
                  </a:lnTo>
                  <a:lnTo>
                    <a:pt x="62" y="520"/>
                  </a:lnTo>
                  <a:lnTo>
                    <a:pt x="49" y="528"/>
                  </a:lnTo>
                  <a:lnTo>
                    <a:pt x="37" y="537"/>
                  </a:lnTo>
                  <a:lnTo>
                    <a:pt x="28" y="549"/>
                  </a:lnTo>
                  <a:lnTo>
                    <a:pt x="15" y="567"/>
                  </a:lnTo>
                  <a:lnTo>
                    <a:pt x="2" y="601"/>
                  </a:lnTo>
                  <a:lnTo>
                    <a:pt x="0" y="612"/>
                  </a:lnTo>
                  <a:lnTo>
                    <a:pt x="2" y="622"/>
                  </a:lnTo>
                  <a:lnTo>
                    <a:pt x="8" y="630"/>
                  </a:lnTo>
                  <a:lnTo>
                    <a:pt x="15" y="640"/>
                  </a:lnTo>
                  <a:lnTo>
                    <a:pt x="41" y="657"/>
                  </a:lnTo>
                  <a:lnTo>
                    <a:pt x="89" y="683"/>
                  </a:lnTo>
                  <a:lnTo>
                    <a:pt x="159" y="711"/>
                  </a:lnTo>
                  <a:lnTo>
                    <a:pt x="233" y="737"/>
                  </a:lnTo>
                  <a:lnTo>
                    <a:pt x="290" y="750"/>
                  </a:lnTo>
                  <a:lnTo>
                    <a:pt x="311" y="750"/>
                  </a:lnTo>
                  <a:lnTo>
                    <a:pt x="335" y="748"/>
                  </a:lnTo>
                  <a:lnTo>
                    <a:pt x="358" y="740"/>
                  </a:lnTo>
                  <a:lnTo>
                    <a:pt x="377" y="730"/>
                  </a:lnTo>
                  <a:lnTo>
                    <a:pt x="390" y="721"/>
                  </a:lnTo>
                  <a:lnTo>
                    <a:pt x="397" y="706"/>
                  </a:lnTo>
                  <a:lnTo>
                    <a:pt x="397" y="701"/>
                  </a:lnTo>
                  <a:lnTo>
                    <a:pt x="392" y="695"/>
                  </a:lnTo>
                  <a:lnTo>
                    <a:pt x="379" y="681"/>
                  </a:lnTo>
                  <a:lnTo>
                    <a:pt x="310" y="643"/>
                  </a:lnTo>
                  <a:lnTo>
                    <a:pt x="261" y="620"/>
                  </a:lnTo>
                  <a:lnTo>
                    <a:pt x="248" y="614"/>
                  </a:lnTo>
                  <a:lnTo>
                    <a:pt x="238" y="606"/>
                  </a:lnTo>
                  <a:lnTo>
                    <a:pt x="233" y="598"/>
                  </a:lnTo>
                  <a:lnTo>
                    <a:pt x="229" y="586"/>
                  </a:lnTo>
                  <a:lnTo>
                    <a:pt x="229" y="576"/>
                  </a:lnTo>
                  <a:lnTo>
                    <a:pt x="235" y="567"/>
                  </a:lnTo>
                  <a:lnTo>
                    <a:pt x="245" y="559"/>
                  </a:lnTo>
                  <a:lnTo>
                    <a:pt x="261" y="551"/>
                  </a:lnTo>
                  <a:lnTo>
                    <a:pt x="290" y="537"/>
                  </a:lnTo>
                  <a:lnTo>
                    <a:pt x="335" y="513"/>
                  </a:lnTo>
                  <a:lnTo>
                    <a:pt x="454" y="444"/>
                  </a:lnTo>
                  <a:lnTo>
                    <a:pt x="610" y="348"/>
                  </a:lnTo>
                  <a:lnTo>
                    <a:pt x="541" y="259"/>
                  </a:lnTo>
                  <a:lnTo>
                    <a:pt x="379" y="356"/>
                  </a:lnTo>
                  <a:lnTo>
                    <a:pt x="276" y="282"/>
                  </a:lnTo>
                  <a:lnTo>
                    <a:pt x="565" y="120"/>
                  </a:lnTo>
                  <a:close/>
                </a:path>
              </a:pathLst>
            </a:custGeom>
            <a:blipFill rotWithShape="0">
              <a:blip r:embed="rId107"/>
              <a:srcRect/>
              <a:stretch/>
            </a:blip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02" name=""/>
            <p:cNvSpPr/>
            <p:nvPr/>
          </p:nvSpPr>
          <p:spPr>
            <a:xfrm>
              <a:off x="1116720" y="1975680"/>
              <a:ext cx="50040" cy="23040"/>
            </a:xfrm>
            <a:custGeom>
              <a:avLst/>
              <a:gdLst/>
              <a:ahLst/>
              <a:rect l="l" t="t" r="r" b="b"/>
              <a:pathLst>
                <a:path w="388" h="199">
                  <a:moveTo>
                    <a:pt x="3" y="0"/>
                  </a:moveTo>
                  <a:lnTo>
                    <a:pt x="94" y="39"/>
                  </a:lnTo>
                  <a:lnTo>
                    <a:pt x="173" y="70"/>
                  </a:lnTo>
                  <a:lnTo>
                    <a:pt x="210" y="81"/>
                  </a:lnTo>
                  <a:lnTo>
                    <a:pt x="242" y="89"/>
                  </a:lnTo>
                  <a:lnTo>
                    <a:pt x="298" y="96"/>
                  </a:lnTo>
                  <a:lnTo>
                    <a:pt x="345" y="93"/>
                  </a:lnTo>
                  <a:lnTo>
                    <a:pt x="388" y="89"/>
                  </a:lnTo>
                  <a:lnTo>
                    <a:pt x="377" y="199"/>
                  </a:lnTo>
                  <a:lnTo>
                    <a:pt x="330" y="198"/>
                  </a:lnTo>
                  <a:lnTo>
                    <a:pt x="262" y="191"/>
                  </a:lnTo>
                  <a:lnTo>
                    <a:pt x="228" y="186"/>
                  </a:lnTo>
                  <a:lnTo>
                    <a:pt x="202" y="178"/>
                  </a:lnTo>
                  <a:lnTo>
                    <a:pt x="161" y="167"/>
                  </a:lnTo>
                  <a:lnTo>
                    <a:pt x="116" y="159"/>
                  </a:lnTo>
                  <a:lnTo>
                    <a:pt x="39" y="151"/>
                  </a:lnTo>
                  <a:lnTo>
                    <a:pt x="8" y="144"/>
                  </a:lnTo>
                  <a:lnTo>
                    <a:pt x="0" y="143"/>
                  </a:lnTo>
                  <a:lnTo>
                    <a:pt x="3" y="0"/>
                  </a:lnTo>
                  <a:close/>
                </a:path>
              </a:pathLst>
            </a:custGeom>
            <a:blipFill rotWithShape="0">
              <a:blip r:embed="rId108"/>
              <a:srcRect/>
              <a:stretch/>
            </a:blip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403" name=""/>
            <p:cNvSpPr/>
            <p:nvPr/>
          </p:nvSpPr>
          <p:spPr>
            <a:xfrm>
              <a:off x="1239840" y="2036160"/>
              <a:ext cx="1080" cy="4320"/>
            </a:xfrm>
            <a:custGeom>
              <a:avLst/>
              <a:gdLst/>
              <a:ahLst/>
              <a:rect l="l" t="t" r="r" b="b"/>
              <a:pathLst>
                <a:path w="8" h="37">
                  <a:moveTo>
                    <a:pt x="0" y="0"/>
                  </a:moveTo>
                  <a:lnTo>
                    <a:pt x="0" y="37"/>
                  </a:lnTo>
                  <a:lnTo>
                    <a:pt x="3" y="34"/>
                  </a:lnTo>
                  <a:lnTo>
                    <a:pt x="8" y="16"/>
                  </a:lnTo>
                  <a:lnTo>
                    <a:pt x="6" y="8"/>
                  </a:lnTo>
                  <a:lnTo>
                    <a:pt x="1" y="0"/>
                  </a:lnTo>
                  <a:lnTo>
                    <a:pt x="0" y="0"/>
                  </a:lnTo>
                  <a:close/>
                </a:path>
              </a:pathLst>
            </a:custGeom>
            <a:blipFill rotWithShape="0">
              <a:blip r:embed="rId109"/>
              <a:srcRect/>
              <a:tile tx="0" ty="0" sx="100000" sy="100000" algn="ctr"/>
            </a:blipFill>
            <a:ln w="0">
              <a:noFill/>
            </a:ln>
          </p:spPr>
          <p:style>
            <a:lnRef idx="0"/>
            <a:fillRef idx="0"/>
            <a:effectRef idx="0"/>
            <a:fontRef idx="minor"/>
          </p:style>
          <p:txBody>
            <a:bodyPr lIns="90000" rIns="90000" tIns="-42480" bIns="-42480" anchor="t">
              <a:noAutofit/>
            </a:bodyPr>
            <a:p>
              <a:endParaRPr b="0" lang="en-US" sz="2400" spc="-1" strike="noStrike">
                <a:solidFill>
                  <a:srgbClr val="ffffff"/>
                </a:solidFill>
                <a:latin typeface="Times New Roman"/>
              </a:endParaRPr>
            </a:p>
          </p:txBody>
        </p:sp>
        <p:sp>
          <p:nvSpPr>
            <p:cNvPr id="404" name=""/>
            <p:cNvSpPr/>
            <p:nvPr/>
          </p:nvSpPr>
          <p:spPr>
            <a:xfrm>
              <a:off x="1239840" y="1918440"/>
              <a:ext cx="39960" cy="91440"/>
            </a:xfrm>
            <a:custGeom>
              <a:avLst/>
              <a:gdLst/>
              <a:ahLst/>
              <a:rect l="l" t="t" r="r" b="b"/>
              <a:pathLst>
                <a:path w="315" h="792">
                  <a:moveTo>
                    <a:pt x="0" y="491"/>
                  </a:moveTo>
                  <a:lnTo>
                    <a:pt x="0" y="792"/>
                  </a:lnTo>
                  <a:lnTo>
                    <a:pt x="315" y="136"/>
                  </a:lnTo>
                  <a:lnTo>
                    <a:pt x="0" y="0"/>
                  </a:lnTo>
                  <a:lnTo>
                    <a:pt x="0" y="112"/>
                  </a:lnTo>
                  <a:lnTo>
                    <a:pt x="154" y="175"/>
                  </a:lnTo>
                  <a:lnTo>
                    <a:pt x="84" y="347"/>
                  </a:lnTo>
                  <a:lnTo>
                    <a:pt x="0" y="314"/>
                  </a:lnTo>
                  <a:lnTo>
                    <a:pt x="0" y="423"/>
                  </a:lnTo>
                  <a:lnTo>
                    <a:pt x="31" y="432"/>
                  </a:lnTo>
                  <a:lnTo>
                    <a:pt x="0" y="491"/>
                  </a:lnTo>
                  <a:close/>
                </a:path>
              </a:pathLst>
            </a:custGeom>
            <a:blipFill rotWithShape="0">
              <a:blip r:embed="rId110"/>
              <a:srcRect/>
              <a:stretch/>
            </a:blipFill>
            <a:ln w="0">
              <a:noFill/>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405" name=""/>
            <p:cNvSpPr/>
            <p:nvPr/>
          </p:nvSpPr>
          <p:spPr>
            <a:xfrm>
              <a:off x="1208160" y="1910880"/>
              <a:ext cx="31320" cy="58320"/>
            </a:xfrm>
            <a:custGeom>
              <a:avLst/>
              <a:gdLst/>
              <a:ahLst/>
              <a:rect l="l" t="t" r="r" b="b"/>
              <a:pathLst>
                <a:path w="245" h="503">
                  <a:moveTo>
                    <a:pt x="245" y="175"/>
                  </a:moveTo>
                  <a:lnTo>
                    <a:pt x="245" y="63"/>
                  </a:lnTo>
                  <a:lnTo>
                    <a:pt x="107" y="0"/>
                  </a:lnTo>
                  <a:lnTo>
                    <a:pt x="0" y="231"/>
                  </a:lnTo>
                  <a:lnTo>
                    <a:pt x="0" y="503"/>
                  </a:lnTo>
                  <a:lnTo>
                    <a:pt x="47" y="415"/>
                  </a:lnTo>
                  <a:lnTo>
                    <a:pt x="245" y="486"/>
                  </a:lnTo>
                  <a:lnTo>
                    <a:pt x="245" y="377"/>
                  </a:lnTo>
                  <a:lnTo>
                    <a:pt x="89" y="312"/>
                  </a:lnTo>
                  <a:lnTo>
                    <a:pt x="170" y="142"/>
                  </a:lnTo>
                  <a:lnTo>
                    <a:pt x="245" y="175"/>
                  </a:lnTo>
                  <a:close/>
                </a:path>
              </a:pathLst>
            </a:custGeom>
            <a:blipFill rotWithShape="0">
              <a:blip r:embed="rId111"/>
              <a:srcRect/>
              <a:stretch/>
            </a:blipFill>
            <a:ln w="0">
              <a:noFill/>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sp>
          <p:nvSpPr>
            <p:cNvPr id="406" name=""/>
            <p:cNvSpPr/>
            <p:nvPr/>
          </p:nvSpPr>
          <p:spPr>
            <a:xfrm>
              <a:off x="1208160" y="1974960"/>
              <a:ext cx="31320" cy="69120"/>
            </a:xfrm>
            <a:custGeom>
              <a:avLst/>
              <a:gdLst/>
              <a:ahLst/>
              <a:rect l="l" t="t" r="r" b="b"/>
              <a:pathLst>
                <a:path w="246" h="599">
                  <a:moveTo>
                    <a:pt x="245" y="301"/>
                  </a:moveTo>
                  <a:lnTo>
                    <a:pt x="245" y="0"/>
                  </a:lnTo>
                  <a:lnTo>
                    <a:pt x="182" y="125"/>
                  </a:lnTo>
                  <a:lnTo>
                    <a:pt x="0" y="45"/>
                  </a:lnTo>
                  <a:lnTo>
                    <a:pt x="0" y="170"/>
                  </a:lnTo>
                  <a:lnTo>
                    <a:pt x="149" y="233"/>
                  </a:lnTo>
                  <a:lnTo>
                    <a:pt x="65" y="399"/>
                  </a:lnTo>
                  <a:lnTo>
                    <a:pt x="29" y="399"/>
                  </a:lnTo>
                  <a:lnTo>
                    <a:pt x="0" y="395"/>
                  </a:lnTo>
                  <a:lnTo>
                    <a:pt x="0" y="524"/>
                  </a:lnTo>
                  <a:lnTo>
                    <a:pt x="36" y="539"/>
                  </a:lnTo>
                  <a:lnTo>
                    <a:pt x="146" y="591"/>
                  </a:lnTo>
                  <a:lnTo>
                    <a:pt x="177" y="599"/>
                  </a:lnTo>
                  <a:lnTo>
                    <a:pt x="203" y="597"/>
                  </a:lnTo>
                  <a:lnTo>
                    <a:pt x="225" y="589"/>
                  </a:lnTo>
                  <a:lnTo>
                    <a:pt x="238" y="575"/>
                  </a:lnTo>
                  <a:lnTo>
                    <a:pt x="245" y="563"/>
                  </a:lnTo>
                  <a:lnTo>
                    <a:pt x="246" y="526"/>
                  </a:lnTo>
                  <a:lnTo>
                    <a:pt x="238" y="518"/>
                  </a:lnTo>
                  <a:lnTo>
                    <a:pt x="227" y="510"/>
                  </a:lnTo>
                  <a:lnTo>
                    <a:pt x="162" y="476"/>
                  </a:lnTo>
                  <a:lnTo>
                    <a:pt x="245" y="301"/>
                  </a:lnTo>
                  <a:close/>
                </a:path>
              </a:pathLst>
            </a:custGeom>
            <a:blipFill rotWithShape="0">
              <a:blip r:embed="rId112"/>
              <a:srcRect/>
              <a:stretch/>
            </a:blip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407" name=""/>
            <p:cNvSpPr/>
            <p:nvPr/>
          </p:nvSpPr>
          <p:spPr>
            <a:xfrm>
              <a:off x="1151640" y="1937520"/>
              <a:ext cx="56160" cy="98280"/>
            </a:xfrm>
            <a:custGeom>
              <a:avLst/>
              <a:gdLst/>
              <a:ahLst/>
              <a:rect l="l" t="t" r="r" b="b"/>
              <a:pathLst>
                <a:path w="443" h="847">
                  <a:moveTo>
                    <a:pt x="443" y="272"/>
                  </a:moveTo>
                  <a:lnTo>
                    <a:pt x="443" y="0"/>
                  </a:lnTo>
                  <a:lnTo>
                    <a:pt x="178" y="588"/>
                  </a:lnTo>
                  <a:lnTo>
                    <a:pt x="56" y="528"/>
                  </a:lnTo>
                  <a:lnTo>
                    <a:pt x="0" y="625"/>
                  </a:lnTo>
                  <a:lnTo>
                    <a:pt x="277" y="763"/>
                  </a:lnTo>
                  <a:lnTo>
                    <a:pt x="443" y="847"/>
                  </a:lnTo>
                  <a:lnTo>
                    <a:pt x="443" y="718"/>
                  </a:lnTo>
                  <a:lnTo>
                    <a:pt x="439" y="716"/>
                  </a:lnTo>
                  <a:lnTo>
                    <a:pt x="401" y="703"/>
                  </a:lnTo>
                  <a:lnTo>
                    <a:pt x="384" y="692"/>
                  </a:lnTo>
                  <a:lnTo>
                    <a:pt x="364" y="677"/>
                  </a:lnTo>
                  <a:lnTo>
                    <a:pt x="327" y="645"/>
                  </a:lnTo>
                  <a:lnTo>
                    <a:pt x="289" y="606"/>
                  </a:lnTo>
                  <a:lnTo>
                    <a:pt x="354" y="452"/>
                  </a:lnTo>
                  <a:lnTo>
                    <a:pt x="443" y="493"/>
                  </a:lnTo>
                  <a:lnTo>
                    <a:pt x="443" y="368"/>
                  </a:lnTo>
                  <a:lnTo>
                    <a:pt x="406" y="349"/>
                  </a:lnTo>
                  <a:lnTo>
                    <a:pt x="443" y="272"/>
                  </a:lnTo>
                  <a:close/>
                </a:path>
              </a:pathLst>
            </a:custGeom>
            <a:blipFill rotWithShape="0">
              <a:blip r:embed="rId11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a:off x="1295280" y="1945080"/>
              <a:ext cx="70560" cy="87120"/>
            </a:xfrm>
            <a:custGeom>
              <a:avLst/>
              <a:gdLst/>
              <a:ahLst/>
              <a:rect l="l" t="t" r="r" b="b"/>
              <a:pathLst>
                <a:path w="550" h="756">
                  <a:moveTo>
                    <a:pt x="328" y="0"/>
                  </a:moveTo>
                  <a:lnTo>
                    <a:pt x="286" y="97"/>
                  </a:lnTo>
                  <a:lnTo>
                    <a:pt x="234" y="207"/>
                  </a:lnTo>
                  <a:lnTo>
                    <a:pt x="226" y="215"/>
                  </a:lnTo>
                  <a:lnTo>
                    <a:pt x="213" y="227"/>
                  </a:lnTo>
                  <a:lnTo>
                    <a:pt x="176" y="248"/>
                  </a:lnTo>
                  <a:lnTo>
                    <a:pt x="100" y="288"/>
                  </a:lnTo>
                  <a:lnTo>
                    <a:pt x="77" y="302"/>
                  </a:lnTo>
                  <a:lnTo>
                    <a:pt x="55" y="319"/>
                  </a:lnTo>
                  <a:lnTo>
                    <a:pt x="47" y="329"/>
                  </a:lnTo>
                  <a:lnTo>
                    <a:pt x="41" y="342"/>
                  </a:lnTo>
                  <a:lnTo>
                    <a:pt x="37" y="353"/>
                  </a:lnTo>
                  <a:lnTo>
                    <a:pt x="40" y="365"/>
                  </a:lnTo>
                  <a:lnTo>
                    <a:pt x="58" y="420"/>
                  </a:lnTo>
                  <a:lnTo>
                    <a:pt x="67" y="446"/>
                  </a:lnTo>
                  <a:lnTo>
                    <a:pt x="213" y="442"/>
                  </a:lnTo>
                  <a:lnTo>
                    <a:pt x="239" y="446"/>
                  </a:lnTo>
                  <a:lnTo>
                    <a:pt x="247" y="450"/>
                  </a:lnTo>
                  <a:lnTo>
                    <a:pt x="250" y="455"/>
                  </a:lnTo>
                  <a:lnTo>
                    <a:pt x="252" y="462"/>
                  </a:lnTo>
                  <a:lnTo>
                    <a:pt x="250" y="470"/>
                  </a:lnTo>
                  <a:lnTo>
                    <a:pt x="239" y="491"/>
                  </a:lnTo>
                  <a:lnTo>
                    <a:pt x="225" y="505"/>
                  </a:lnTo>
                  <a:lnTo>
                    <a:pt x="203" y="519"/>
                  </a:lnTo>
                  <a:lnTo>
                    <a:pt x="148" y="549"/>
                  </a:lnTo>
                  <a:lnTo>
                    <a:pt x="90" y="575"/>
                  </a:lnTo>
                  <a:lnTo>
                    <a:pt x="51" y="590"/>
                  </a:lnTo>
                  <a:lnTo>
                    <a:pt x="27" y="600"/>
                  </a:lnTo>
                  <a:lnTo>
                    <a:pt x="17" y="606"/>
                  </a:lnTo>
                  <a:lnTo>
                    <a:pt x="9" y="614"/>
                  </a:lnTo>
                  <a:lnTo>
                    <a:pt x="4" y="625"/>
                  </a:lnTo>
                  <a:lnTo>
                    <a:pt x="0" y="640"/>
                  </a:lnTo>
                  <a:lnTo>
                    <a:pt x="1" y="657"/>
                  </a:lnTo>
                  <a:lnTo>
                    <a:pt x="8" y="679"/>
                  </a:lnTo>
                  <a:lnTo>
                    <a:pt x="22" y="714"/>
                  </a:lnTo>
                  <a:lnTo>
                    <a:pt x="27" y="722"/>
                  </a:lnTo>
                  <a:lnTo>
                    <a:pt x="37" y="729"/>
                  </a:lnTo>
                  <a:lnTo>
                    <a:pt x="69" y="732"/>
                  </a:lnTo>
                  <a:lnTo>
                    <a:pt x="121" y="734"/>
                  </a:lnTo>
                  <a:lnTo>
                    <a:pt x="304" y="748"/>
                  </a:lnTo>
                  <a:lnTo>
                    <a:pt x="420" y="756"/>
                  </a:lnTo>
                  <a:lnTo>
                    <a:pt x="424" y="667"/>
                  </a:lnTo>
                  <a:lnTo>
                    <a:pt x="375" y="661"/>
                  </a:lnTo>
                  <a:lnTo>
                    <a:pt x="331" y="656"/>
                  </a:lnTo>
                  <a:lnTo>
                    <a:pt x="290" y="645"/>
                  </a:lnTo>
                  <a:lnTo>
                    <a:pt x="262" y="635"/>
                  </a:lnTo>
                  <a:lnTo>
                    <a:pt x="250" y="632"/>
                  </a:lnTo>
                  <a:lnTo>
                    <a:pt x="244" y="624"/>
                  </a:lnTo>
                  <a:lnTo>
                    <a:pt x="242" y="616"/>
                  </a:lnTo>
                  <a:lnTo>
                    <a:pt x="247" y="606"/>
                  </a:lnTo>
                  <a:lnTo>
                    <a:pt x="257" y="594"/>
                  </a:lnTo>
                  <a:lnTo>
                    <a:pt x="274" y="580"/>
                  </a:lnTo>
                  <a:lnTo>
                    <a:pt x="331" y="536"/>
                  </a:lnTo>
                  <a:lnTo>
                    <a:pt x="404" y="476"/>
                  </a:lnTo>
                  <a:lnTo>
                    <a:pt x="514" y="379"/>
                  </a:lnTo>
                  <a:lnTo>
                    <a:pt x="545" y="347"/>
                  </a:lnTo>
                  <a:lnTo>
                    <a:pt x="550" y="337"/>
                  </a:lnTo>
                  <a:lnTo>
                    <a:pt x="547" y="326"/>
                  </a:lnTo>
                  <a:lnTo>
                    <a:pt x="527" y="300"/>
                  </a:lnTo>
                  <a:lnTo>
                    <a:pt x="513" y="284"/>
                  </a:lnTo>
                  <a:lnTo>
                    <a:pt x="495" y="271"/>
                  </a:lnTo>
                  <a:lnTo>
                    <a:pt x="472" y="258"/>
                  </a:lnTo>
                  <a:lnTo>
                    <a:pt x="446" y="248"/>
                  </a:lnTo>
                  <a:lnTo>
                    <a:pt x="419" y="294"/>
                  </a:lnTo>
                  <a:lnTo>
                    <a:pt x="401" y="329"/>
                  </a:lnTo>
                  <a:lnTo>
                    <a:pt x="388" y="361"/>
                  </a:lnTo>
                  <a:lnTo>
                    <a:pt x="378" y="365"/>
                  </a:lnTo>
                  <a:lnTo>
                    <a:pt x="351" y="369"/>
                  </a:lnTo>
                  <a:lnTo>
                    <a:pt x="333" y="369"/>
                  </a:lnTo>
                  <a:lnTo>
                    <a:pt x="314" y="369"/>
                  </a:lnTo>
                  <a:lnTo>
                    <a:pt x="292" y="363"/>
                  </a:lnTo>
                  <a:lnTo>
                    <a:pt x="270" y="353"/>
                  </a:lnTo>
                  <a:lnTo>
                    <a:pt x="252" y="342"/>
                  </a:lnTo>
                  <a:lnTo>
                    <a:pt x="242" y="329"/>
                  </a:lnTo>
                  <a:lnTo>
                    <a:pt x="236" y="319"/>
                  </a:lnTo>
                  <a:lnTo>
                    <a:pt x="236" y="310"/>
                  </a:lnTo>
                  <a:lnTo>
                    <a:pt x="241" y="300"/>
                  </a:lnTo>
                  <a:lnTo>
                    <a:pt x="249" y="290"/>
                  </a:lnTo>
                  <a:lnTo>
                    <a:pt x="270" y="272"/>
                  </a:lnTo>
                  <a:lnTo>
                    <a:pt x="378" y="180"/>
                  </a:lnTo>
                  <a:lnTo>
                    <a:pt x="461" y="104"/>
                  </a:lnTo>
                  <a:lnTo>
                    <a:pt x="328" y="0"/>
                  </a:lnTo>
                  <a:close/>
                </a:path>
              </a:pathLst>
            </a:custGeom>
            <a:blipFill rotWithShape="0">
              <a:blip r:embed="rId114"/>
              <a:srcRect/>
              <a:stretch/>
            </a:blip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09" name=""/>
            <p:cNvSpPr/>
            <p:nvPr/>
          </p:nvSpPr>
          <p:spPr>
            <a:xfrm>
              <a:off x="1396800" y="1967400"/>
              <a:ext cx="39960" cy="71280"/>
            </a:xfrm>
            <a:custGeom>
              <a:avLst/>
              <a:gdLst/>
              <a:ahLst/>
              <a:rect l="l" t="t" r="r" b="b"/>
              <a:pathLst>
                <a:path w="310" h="614">
                  <a:moveTo>
                    <a:pt x="0" y="481"/>
                  </a:moveTo>
                  <a:lnTo>
                    <a:pt x="0" y="583"/>
                  </a:lnTo>
                  <a:lnTo>
                    <a:pt x="159" y="614"/>
                  </a:lnTo>
                  <a:lnTo>
                    <a:pt x="310" y="73"/>
                  </a:lnTo>
                  <a:lnTo>
                    <a:pt x="0" y="0"/>
                  </a:lnTo>
                  <a:lnTo>
                    <a:pt x="0" y="119"/>
                  </a:lnTo>
                  <a:lnTo>
                    <a:pt x="156" y="154"/>
                  </a:lnTo>
                  <a:lnTo>
                    <a:pt x="87" y="504"/>
                  </a:lnTo>
                  <a:lnTo>
                    <a:pt x="0" y="481"/>
                  </a:lnTo>
                  <a:close/>
                </a:path>
              </a:pathLst>
            </a:custGeom>
            <a:blipFill rotWithShape="0">
              <a:blip r:embed="rId115"/>
              <a:srcRect/>
              <a:stretch/>
            </a:blip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10" name=""/>
            <p:cNvSpPr/>
            <p:nvPr/>
          </p:nvSpPr>
          <p:spPr>
            <a:xfrm>
              <a:off x="1357920" y="1962720"/>
              <a:ext cx="38880" cy="72360"/>
            </a:xfrm>
            <a:custGeom>
              <a:avLst/>
              <a:gdLst/>
              <a:ahLst/>
              <a:rect l="l" t="t" r="r" b="b"/>
              <a:pathLst>
                <a:path w="307" h="624">
                  <a:moveTo>
                    <a:pt x="307" y="160"/>
                  </a:moveTo>
                  <a:lnTo>
                    <a:pt x="307" y="41"/>
                  </a:lnTo>
                  <a:lnTo>
                    <a:pt x="146" y="0"/>
                  </a:lnTo>
                  <a:lnTo>
                    <a:pt x="0" y="556"/>
                  </a:lnTo>
                  <a:lnTo>
                    <a:pt x="307" y="624"/>
                  </a:lnTo>
                  <a:lnTo>
                    <a:pt x="307" y="522"/>
                  </a:lnTo>
                  <a:lnTo>
                    <a:pt x="151" y="480"/>
                  </a:lnTo>
                  <a:lnTo>
                    <a:pt x="222" y="138"/>
                  </a:lnTo>
                  <a:lnTo>
                    <a:pt x="307" y="160"/>
                  </a:lnTo>
                  <a:close/>
                </a:path>
              </a:pathLst>
            </a:custGeom>
            <a:blipFill rotWithShape="0">
              <a:blip r:embed="rId116"/>
              <a:srcRect/>
              <a:stretch/>
            </a:blip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411" name=""/>
            <p:cNvSpPr/>
            <p:nvPr/>
          </p:nvSpPr>
          <p:spPr>
            <a:xfrm>
              <a:off x="1383480" y="2045520"/>
              <a:ext cx="31320" cy="40680"/>
            </a:xfrm>
            <a:custGeom>
              <a:avLst/>
              <a:gdLst/>
              <a:ahLst/>
              <a:rect l="l" t="t" r="r" b="b"/>
              <a:pathLst>
                <a:path w="252" h="358">
                  <a:moveTo>
                    <a:pt x="0" y="37"/>
                  </a:moveTo>
                  <a:lnTo>
                    <a:pt x="130" y="0"/>
                  </a:lnTo>
                  <a:lnTo>
                    <a:pt x="252" y="296"/>
                  </a:lnTo>
                  <a:lnTo>
                    <a:pt x="122" y="358"/>
                  </a:lnTo>
                  <a:lnTo>
                    <a:pt x="0" y="37"/>
                  </a:lnTo>
                  <a:close/>
                </a:path>
              </a:pathLst>
            </a:custGeom>
            <a:blipFill rotWithShape="0">
              <a:blip r:embed="rId117"/>
              <a:srcRect/>
              <a:stretch/>
            </a:blip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412" name=""/>
            <p:cNvSpPr/>
            <p:nvPr/>
          </p:nvSpPr>
          <p:spPr>
            <a:xfrm>
              <a:off x="1286280" y="2039760"/>
              <a:ext cx="92160" cy="36000"/>
            </a:xfrm>
            <a:custGeom>
              <a:avLst/>
              <a:gdLst/>
              <a:ahLst/>
              <a:rect l="l" t="t" r="r" b="b"/>
              <a:pathLst>
                <a:path w="722" h="316">
                  <a:moveTo>
                    <a:pt x="722" y="92"/>
                  </a:moveTo>
                  <a:lnTo>
                    <a:pt x="434" y="316"/>
                  </a:lnTo>
                  <a:lnTo>
                    <a:pt x="354" y="223"/>
                  </a:lnTo>
                  <a:lnTo>
                    <a:pt x="388" y="189"/>
                  </a:lnTo>
                  <a:lnTo>
                    <a:pt x="401" y="173"/>
                  </a:lnTo>
                  <a:lnTo>
                    <a:pt x="403" y="165"/>
                  </a:lnTo>
                  <a:lnTo>
                    <a:pt x="401" y="157"/>
                  </a:lnTo>
                  <a:lnTo>
                    <a:pt x="396" y="152"/>
                  </a:lnTo>
                  <a:lnTo>
                    <a:pt x="388" y="146"/>
                  </a:lnTo>
                  <a:lnTo>
                    <a:pt x="379" y="142"/>
                  </a:lnTo>
                  <a:lnTo>
                    <a:pt x="363" y="142"/>
                  </a:lnTo>
                  <a:lnTo>
                    <a:pt x="0" y="154"/>
                  </a:lnTo>
                  <a:lnTo>
                    <a:pt x="0" y="12"/>
                  </a:lnTo>
                  <a:lnTo>
                    <a:pt x="140" y="36"/>
                  </a:lnTo>
                  <a:lnTo>
                    <a:pt x="249" y="53"/>
                  </a:lnTo>
                  <a:lnTo>
                    <a:pt x="323" y="61"/>
                  </a:lnTo>
                  <a:lnTo>
                    <a:pt x="367" y="57"/>
                  </a:lnTo>
                  <a:lnTo>
                    <a:pt x="408" y="52"/>
                  </a:lnTo>
                  <a:lnTo>
                    <a:pt x="450" y="44"/>
                  </a:lnTo>
                  <a:lnTo>
                    <a:pt x="450" y="65"/>
                  </a:lnTo>
                  <a:lnTo>
                    <a:pt x="453" y="83"/>
                  </a:lnTo>
                  <a:lnTo>
                    <a:pt x="458" y="100"/>
                  </a:lnTo>
                  <a:lnTo>
                    <a:pt x="466" y="115"/>
                  </a:lnTo>
                  <a:lnTo>
                    <a:pt x="471" y="120"/>
                  </a:lnTo>
                  <a:lnTo>
                    <a:pt x="479" y="123"/>
                  </a:lnTo>
                  <a:lnTo>
                    <a:pt x="489" y="120"/>
                  </a:lnTo>
                  <a:lnTo>
                    <a:pt x="503" y="117"/>
                  </a:lnTo>
                  <a:lnTo>
                    <a:pt x="519" y="105"/>
                  </a:lnTo>
                  <a:lnTo>
                    <a:pt x="539" y="89"/>
                  </a:lnTo>
                  <a:lnTo>
                    <a:pt x="576" y="53"/>
                  </a:lnTo>
                  <a:lnTo>
                    <a:pt x="604" y="24"/>
                  </a:lnTo>
                  <a:lnTo>
                    <a:pt x="623" y="0"/>
                  </a:lnTo>
                  <a:lnTo>
                    <a:pt x="722" y="92"/>
                  </a:lnTo>
                  <a:close/>
                </a:path>
              </a:pathLst>
            </a:custGeom>
            <a:blipFill rotWithShape="0">
              <a:blip r:embed="rId118"/>
              <a:srcRect/>
              <a:stretch/>
            </a:blipFill>
            <a:ln w="0">
              <a:noFill/>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sp>
          <p:nvSpPr>
            <p:cNvPr id="413" name=""/>
            <p:cNvSpPr/>
            <p:nvPr/>
          </p:nvSpPr>
          <p:spPr>
            <a:xfrm>
              <a:off x="1752480" y="1635120"/>
              <a:ext cx="609840" cy="426960"/>
            </a:xfrm>
            <a:custGeom>
              <a:avLst/>
              <a:gdLst/>
              <a:ahLst/>
              <a:rect l="l" t="t" r="r" b="b"/>
              <a:pathLst>
                <a:path w="4761" h="3674">
                  <a:moveTo>
                    <a:pt x="57" y="2940"/>
                  </a:moveTo>
                  <a:lnTo>
                    <a:pt x="0" y="2871"/>
                  </a:lnTo>
                  <a:lnTo>
                    <a:pt x="166" y="2628"/>
                  </a:lnTo>
                  <a:lnTo>
                    <a:pt x="352" y="2877"/>
                  </a:lnTo>
                  <a:lnTo>
                    <a:pt x="547" y="3131"/>
                  </a:lnTo>
                  <a:lnTo>
                    <a:pt x="776" y="3428"/>
                  </a:lnTo>
                  <a:lnTo>
                    <a:pt x="971" y="3366"/>
                  </a:lnTo>
                  <a:lnTo>
                    <a:pt x="1159" y="3300"/>
                  </a:lnTo>
                  <a:lnTo>
                    <a:pt x="1346" y="3225"/>
                  </a:lnTo>
                  <a:lnTo>
                    <a:pt x="1535" y="3140"/>
                  </a:lnTo>
                  <a:lnTo>
                    <a:pt x="1734" y="3041"/>
                  </a:lnTo>
                  <a:lnTo>
                    <a:pt x="1944" y="2931"/>
                  </a:lnTo>
                  <a:lnTo>
                    <a:pt x="2171" y="2803"/>
                  </a:lnTo>
                  <a:lnTo>
                    <a:pt x="2420" y="2657"/>
                  </a:lnTo>
                  <a:lnTo>
                    <a:pt x="2550" y="2576"/>
                  </a:lnTo>
                  <a:lnTo>
                    <a:pt x="2679" y="2489"/>
                  </a:lnTo>
                  <a:lnTo>
                    <a:pt x="2805" y="2398"/>
                  </a:lnTo>
                  <a:lnTo>
                    <a:pt x="2927" y="2303"/>
                  </a:lnTo>
                  <a:lnTo>
                    <a:pt x="3048" y="2204"/>
                  </a:lnTo>
                  <a:lnTo>
                    <a:pt x="3163" y="2105"/>
                  </a:lnTo>
                  <a:lnTo>
                    <a:pt x="3275" y="2005"/>
                  </a:lnTo>
                  <a:lnTo>
                    <a:pt x="3383" y="1904"/>
                  </a:lnTo>
                  <a:lnTo>
                    <a:pt x="3485" y="1806"/>
                  </a:lnTo>
                  <a:lnTo>
                    <a:pt x="3582" y="1709"/>
                  </a:lnTo>
                  <a:lnTo>
                    <a:pt x="3758" y="1524"/>
                  </a:lnTo>
                  <a:lnTo>
                    <a:pt x="3906" y="1360"/>
                  </a:lnTo>
                  <a:lnTo>
                    <a:pt x="4024" y="1221"/>
                  </a:lnTo>
                  <a:lnTo>
                    <a:pt x="4123" y="1101"/>
                  </a:lnTo>
                  <a:lnTo>
                    <a:pt x="4218" y="973"/>
                  </a:lnTo>
                  <a:lnTo>
                    <a:pt x="4089" y="1085"/>
                  </a:lnTo>
                  <a:lnTo>
                    <a:pt x="3916" y="959"/>
                  </a:lnTo>
                  <a:lnTo>
                    <a:pt x="3306" y="1585"/>
                  </a:lnTo>
                  <a:lnTo>
                    <a:pt x="3132" y="1524"/>
                  </a:lnTo>
                  <a:lnTo>
                    <a:pt x="3163" y="1113"/>
                  </a:lnTo>
                  <a:lnTo>
                    <a:pt x="3186" y="813"/>
                  </a:lnTo>
                  <a:lnTo>
                    <a:pt x="3194" y="700"/>
                  </a:lnTo>
                  <a:lnTo>
                    <a:pt x="3195" y="637"/>
                  </a:lnTo>
                  <a:lnTo>
                    <a:pt x="3197" y="612"/>
                  </a:lnTo>
                  <a:lnTo>
                    <a:pt x="3202" y="598"/>
                  </a:lnTo>
                  <a:lnTo>
                    <a:pt x="3207" y="595"/>
                  </a:lnTo>
                  <a:lnTo>
                    <a:pt x="3215" y="596"/>
                  </a:lnTo>
                  <a:lnTo>
                    <a:pt x="3223" y="606"/>
                  </a:lnTo>
                  <a:lnTo>
                    <a:pt x="3229" y="619"/>
                  </a:lnTo>
                  <a:lnTo>
                    <a:pt x="3233" y="635"/>
                  </a:lnTo>
                  <a:lnTo>
                    <a:pt x="3237" y="655"/>
                  </a:lnTo>
                  <a:lnTo>
                    <a:pt x="3249" y="837"/>
                  </a:lnTo>
                  <a:lnTo>
                    <a:pt x="3267" y="985"/>
                  </a:lnTo>
                  <a:lnTo>
                    <a:pt x="3286" y="1098"/>
                  </a:lnTo>
                  <a:lnTo>
                    <a:pt x="3310" y="1182"/>
                  </a:lnTo>
                  <a:lnTo>
                    <a:pt x="3332" y="1242"/>
                  </a:lnTo>
                  <a:lnTo>
                    <a:pt x="3349" y="1279"/>
                  </a:lnTo>
                  <a:lnTo>
                    <a:pt x="3364" y="1299"/>
                  </a:lnTo>
                  <a:lnTo>
                    <a:pt x="3367" y="1304"/>
                  </a:lnTo>
                  <a:lnTo>
                    <a:pt x="3924" y="724"/>
                  </a:lnTo>
                  <a:lnTo>
                    <a:pt x="4222" y="965"/>
                  </a:lnTo>
                  <a:lnTo>
                    <a:pt x="4293" y="867"/>
                  </a:lnTo>
                  <a:lnTo>
                    <a:pt x="4356" y="770"/>
                  </a:lnTo>
                  <a:lnTo>
                    <a:pt x="4464" y="598"/>
                  </a:lnTo>
                  <a:lnTo>
                    <a:pt x="4565" y="431"/>
                  </a:lnTo>
                  <a:lnTo>
                    <a:pt x="4354" y="219"/>
                  </a:lnTo>
                  <a:lnTo>
                    <a:pt x="4212" y="334"/>
                  </a:lnTo>
                  <a:lnTo>
                    <a:pt x="4167" y="257"/>
                  </a:lnTo>
                  <a:lnTo>
                    <a:pt x="4370" y="0"/>
                  </a:lnTo>
                  <a:lnTo>
                    <a:pt x="4508" y="174"/>
                  </a:lnTo>
                  <a:lnTo>
                    <a:pt x="4636" y="336"/>
                  </a:lnTo>
                  <a:lnTo>
                    <a:pt x="4761" y="499"/>
                  </a:lnTo>
                  <a:lnTo>
                    <a:pt x="4605" y="740"/>
                  </a:lnTo>
                  <a:lnTo>
                    <a:pt x="4451" y="965"/>
                  </a:lnTo>
                  <a:lnTo>
                    <a:pt x="4296" y="1179"/>
                  </a:lnTo>
                  <a:lnTo>
                    <a:pt x="4139" y="1380"/>
                  </a:lnTo>
                  <a:lnTo>
                    <a:pt x="3977" y="1574"/>
                  </a:lnTo>
                  <a:lnTo>
                    <a:pt x="3806" y="1767"/>
                  </a:lnTo>
                  <a:lnTo>
                    <a:pt x="3624" y="1954"/>
                  </a:lnTo>
                  <a:lnTo>
                    <a:pt x="3428" y="2145"/>
                  </a:lnTo>
                  <a:lnTo>
                    <a:pt x="3328" y="2238"/>
                  </a:lnTo>
                  <a:lnTo>
                    <a:pt x="3228" y="2327"/>
                  </a:lnTo>
                  <a:lnTo>
                    <a:pt x="3124" y="2411"/>
                  </a:lnTo>
                  <a:lnTo>
                    <a:pt x="3024" y="2492"/>
                  </a:lnTo>
                  <a:lnTo>
                    <a:pt x="2923" y="2568"/>
                  </a:lnTo>
                  <a:lnTo>
                    <a:pt x="2823" y="2641"/>
                  </a:lnTo>
                  <a:lnTo>
                    <a:pt x="2724" y="2709"/>
                  </a:lnTo>
                  <a:lnTo>
                    <a:pt x="2623" y="2775"/>
                  </a:lnTo>
                  <a:lnTo>
                    <a:pt x="2524" y="2838"/>
                  </a:lnTo>
                  <a:lnTo>
                    <a:pt x="2425" y="2898"/>
                  </a:lnTo>
                  <a:lnTo>
                    <a:pt x="2231" y="3011"/>
                  </a:lnTo>
                  <a:lnTo>
                    <a:pt x="2037" y="3115"/>
                  </a:lnTo>
                  <a:lnTo>
                    <a:pt x="1847" y="3217"/>
                  </a:lnTo>
                  <a:lnTo>
                    <a:pt x="1753" y="3264"/>
                  </a:lnTo>
                  <a:lnTo>
                    <a:pt x="1656" y="3311"/>
                  </a:lnTo>
                  <a:lnTo>
                    <a:pt x="1460" y="3398"/>
                  </a:lnTo>
                  <a:lnTo>
                    <a:pt x="1269" y="3475"/>
                  </a:lnTo>
                  <a:lnTo>
                    <a:pt x="1091" y="3542"/>
                  </a:lnTo>
                  <a:lnTo>
                    <a:pt x="939" y="3598"/>
                  </a:lnTo>
                  <a:lnTo>
                    <a:pt x="819" y="3638"/>
                  </a:lnTo>
                  <a:lnTo>
                    <a:pt x="711" y="3674"/>
                  </a:lnTo>
                  <a:lnTo>
                    <a:pt x="122" y="2887"/>
                  </a:lnTo>
                  <a:lnTo>
                    <a:pt x="57" y="2940"/>
                  </a:lnTo>
                  <a:close/>
                </a:path>
              </a:pathLst>
            </a:custGeom>
            <a:blipFill rotWithShape="0">
              <a:blip r:embed="rId11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14" name="PlaceHolder 2"/>
          <p:cNvSpPr>
            <a:spLocks noGrp="1"/>
          </p:cNvSpPr>
          <p:nvPr>
            <p:ph type="title"/>
          </p:nvPr>
        </p:nvSpPr>
        <p:spPr>
          <a:xfrm>
            <a:off x="1828800" y="762120"/>
            <a:ext cx="68580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Session 1:  The Nature of the Problem</a:t>
            </a:r>
            <a:endParaRPr b="0" lang="en-US" sz="4400" spc="-1" strike="noStrike">
              <a:solidFill>
                <a:srgbClr val="ffff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ircraft Noise Control and Mitigation</a:t>
            </a:r>
            <a:br>
              <a:rPr sz="3600"/>
            </a:br>
            <a:endParaRPr b="0" lang="en-US" sz="3600" spc="-1" strike="noStrike">
              <a:solidFill>
                <a:srgbClr val="ffff00"/>
              </a:solidFill>
              <a:latin typeface="Times New Roman"/>
            </a:endParaRPr>
          </a:p>
        </p:txBody>
      </p:sp>
      <p:sp>
        <p:nvSpPr>
          <p:cNvPr id="13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Source reduction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Noise abatement procedures/rout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Noise mitigation at the receiver</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Land use compatibility managemen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Operating restriction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ircraft Noise Control and Mitigation</a:t>
            </a:r>
            <a:br>
              <a:rPr sz="3600"/>
            </a:br>
            <a:r>
              <a:rPr b="0" lang="en-US" sz="3600" spc="-1" strike="noStrike">
                <a:solidFill>
                  <a:srgbClr val="ffff00"/>
                </a:solidFill>
                <a:latin typeface="Times New Roman"/>
              </a:rPr>
              <a:t> </a:t>
            </a:r>
            <a:r>
              <a:rPr b="1" lang="en-US" sz="2800" spc="-1" strike="noStrike" u="sng">
                <a:solidFill>
                  <a:srgbClr val="ffffff"/>
                </a:solidFill>
                <a:uFillTx/>
                <a:latin typeface="Times New Roman"/>
              </a:rPr>
              <a:t>Source Reduction</a:t>
            </a:r>
            <a:endParaRPr b="0" lang="en-US" sz="2800" spc="-1" strike="noStrike">
              <a:solidFill>
                <a:srgbClr val="ffff00"/>
              </a:solidFill>
              <a:latin typeface="Times New Roman"/>
            </a:endParaRPr>
          </a:p>
        </p:txBody>
      </p:sp>
      <p:sp>
        <p:nvSpPr>
          <p:cNvPr id="13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dvancements in technology</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Industry/government partnership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Criteria for new noise standard:</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technologically practicabl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conomically reasonabl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ppropriate to typ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vironmentally beneficial</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aintains highest degree of safety</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ircraft Noise Control and Mitigation</a:t>
            </a:r>
            <a:br>
              <a:rPr sz="3600"/>
            </a:br>
            <a:r>
              <a:rPr b="0" lang="en-US" sz="3600" spc="-1" strike="noStrike">
                <a:solidFill>
                  <a:srgbClr val="ffff00"/>
                </a:solidFill>
                <a:latin typeface="Times New Roman"/>
              </a:rPr>
              <a:t> </a:t>
            </a:r>
            <a:r>
              <a:rPr b="1" lang="en-US" sz="2800" spc="-1" strike="noStrike" u="sng">
                <a:solidFill>
                  <a:srgbClr val="ffffff"/>
                </a:solidFill>
                <a:uFillTx/>
                <a:latin typeface="Times New Roman"/>
              </a:rPr>
              <a:t>Noise Abatement Procedures/Routes</a:t>
            </a:r>
            <a:endParaRPr b="0" lang="en-US" sz="2800" spc="-1" strike="noStrike">
              <a:solidFill>
                <a:srgbClr val="ffff00"/>
              </a:solidFill>
              <a:latin typeface="Times New Roman"/>
            </a:endParaRPr>
          </a:p>
        </p:txBody>
      </p:sp>
      <p:sp>
        <p:nvSpPr>
          <p:cNvPr id="1389" name="PlaceHolder 2"/>
          <p:cNvSpPr>
            <a:spLocks noGrp="1"/>
          </p:cNvSpPr>
          <p:nvPr>
            <p:ph/>
          </p:nvPr>
        </p:nvSpPr>
        <p:spPr>
          <a:xfrm>
            <a:off x="609480" y="25146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Departure</a:t>
            </a:r>
            <a:endParaRPr b="0" lang="en-US" sz="28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gine power cutback</a:t>
            </a:r>
            <a:endParaRPr b="0" lang="en-US" sz="24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rrival</a:t>
            </a:r>
            <a:endParaRPr b="0" lang="en-US" sz="28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ontinuous descent</a:t>
            </a:r>
            <a:endParaRPr b="0" lang="en-US" sz="24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Flight tracks</a:t>
            </a:r>
            <a:endParaRPr b="0" lang="en-US" sz="28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Geographic feature (bodies of water)</a:t>
            </a:r>
            <a:endParaRPr b="0" lang="en-US" sz="24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Other compatible ‘pathways’ (major roads, railways)</a:t>
            </a:r>
            <a:endParaRPr b="0" lang="en-US" sz="24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Preferential runway usage</a:t>
            </a:r>
            <a:endParaRPr b="0" lang="en-US" sz="2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ircraft Noise Control and Mitigation</a:t>
            </a:r>
            <a:br>
              <a:rPr sz="3600"/>
            </a:br>
            <a:r>
              <a:rPr b="0" lang="en-US" sz="3600" spc="-1" strike="noStrike">
                <a:solidFill>
                  <a:srgbClr val="ffff00"/>
                </a:solidFill>
                <a:latin typeface="Times New Roman"/>
              </a:rPr>
              <a:t> </a:t>
            </a:r>
            <a:r>
              <a:rPr b="1" lang="en-US" sz="2800" spc="-1" strike="noStrike" u="sng">
                <a:solidFill>
                  <a:srgbClr val="ffffff"/>
                </a:solidFill>
                <a:uFillTx/>
                <a:latin typeface="Times New Roman"/>
              </a:rPr>
              <a:t>Noise Abatement Procedures/Routes</a:t>
            </a:r>
            <a:endParaRPr b="0" lang="en-US" sz="2800" spc="-1" strike="noStrike">
              <a:solidFill>
                <a:srgbClr val="ffff00"/>
              </a:solidFill>
              <a:latin typeface="Times New Roman"/>
            </a:endParaRPr>
          </a:p>
        </p:txBody>
      </p:sp>
      <p:sp>
        <p:nvSpPr>
          <p:cNvPr id="1391" name="PlaceHolder 2"/>
          <p:cNvSpPr>
            <a:spLocks noGrp="1"/>
          </p:cNvSpPr>
          <p:nvPr>
            <p:ph/>
          </p:nvPr>
        </p:nvSpPr>
        <p:spPr>
          <a:xfrm>
            <a:off x="609480" y="25146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Departure</a:t>
            </a:r>
            <a:endParaRPr b="0" lang="en-US" sz="28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gine power cutback</a:t>
            </a:r>
            <a:endParaRPr b="0" lang="en-US" sz="24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rrival</a:t>
            </a:r>
            <a:endParaRPr b="0" lang="en-US" sz="28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ontinuous descent</a:t>
            </a:r>
            <a:endParaRPr b="0" lang="en-US" sz="24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Flight tracks</a:t>
            </a:r>
            <a:endParaRPr b="0" lang="en-US" sz="28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Geographic feature (bodies of water)</a:t>
            </a:r>
            <a:endParaRPr b="0" lang="en-US" sz="24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Other compatible ‘pathways’ (major roads, railways)</a:t>
            </a:r>
            <a:endParaRPr b="0" lang="en-US" sz="24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Preferential runway usage</a:t>
            </a:r>
            <a:endParaRPr b="0" lang="en-US" sz="2800" spc="-1" strike="noStrike">
              <a:solidFill>
                <a:srgbClr val="ffffff"/>
              </a:solidFill>
              <a:latin typeface="Times New Roman"/>
            </a:endParaRPr>
          </a:p>
        </p:txBody>
      </p:sp>
      <p:pic>
        <p:nvPicPr>
          <p:cNvPr id="1392" name="" descr=""/>
          <p:cNvPicPr/>
          <p:nvPr/>
        </p:nvPicPr>
        <p:blipFill>
          <a:blip r:embed="rId1"/>
          <a:stretch/>
        </p:blipFill>
        <p:spPr>
          <a:xfrm>
            <a:off x="4419720" y="1752480"/>
            <a:ext cx="4724280" cy="32324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ircraft Noise Control and Mitigation</a:t>
            </a:r>
            <a:br>
              <a:rPr sz="3600"/>
            </a:br>
            <a:r>
              <a:rPr b="0" lang="en-US" sz="3600" spc="-1" strike="noStrike">
                <a:solidFill>
                  <a:srgbClr val="ffff00"/>
                </a:solidFill>
                <a:latin typeface="Times New Roman"/>
              </a:rPr>
              <a:t> </a:t>
            </a:r>
            <a:r>
              <a:rPr b="1" lang="en-US" sz="2800" spc="-1" strike="noStrike" u="sng">
                <a:solidFill>
                  <a:srgbClr val="ffffff"/>
                </a:solidFill>
                <a:uFillTx/>
                <a:latin typeface="Times New Roman"/>
              </a:rPr>
              <a:t>Noise Abatement Procedures/Routes</a:t>
            </a:r>
            <a:endParaRPr b="0" lang="en-US" sz="2800" spc="-1" strike="noStrike">
              <a:solidFill>
                <a:srgbClr val="ffff00"/>
              </a:solidFill>
              <a:latin typeface="Times New Roman"/>
            </a:endParaRPr>
          </a:p>
        </p:txBody>
      </p:sp>
      <p:sp>
        <p:nvSpPr>
          <p:cNvPr id="1394" name="PlaceHolder 2"/>
          <p:cNvSpPr>
            <a:spLocks noGrp="1"/>
          </p:cNvSpPr>
          <p:nvPr>
            <p:ph/>
          </p:nvPr>
        </p:nvSpPr>
        <p:spPr>
          <a:xfrm>
            <a:off x="609480" y="25146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Departure</a:t>
            </a:r>
            <a:endParaRPr b="0" lang="en-US" sz="28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gine power cutback</a:t>
            </a:r>
            <a:endParaRPr b="0" lang="en-US" sz="24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rrival</a:t>
            </a:r>
            <a:endParaRPr b="0" lang="en-US" sz="28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ontinuous descent</a:t>
            </a:r>
            <a:endParaRPr b="0" lang="en-US" sz="2400" spc="-1" strike="noStrike">
              <a:solidFill>
                <a:srgbClr val="ffffff"/>
              </a:solidFill>
              <a:latin typeface="Times New Roman"/>
            </a:endParaRPr>
          </a:p>
          <a:p>
            <a:pPr marL="335880" indent="-3358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Flight tracks</a:t>
            </a:r>
            <a:endParaRPr b="0" lang="en-US" sz="28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Geographic feature (bodies of water)</a:t>
            </a:r>
            <a:endParaRPr b="0" lang="en-US" sz="24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Other compatible ‘pathways’ (major roads, railways)</a:t>
            </a:r>
            <a:endParaRPr b="0" lang="en-US" sz="24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Preferential runway usage</a:t>
            </a:r>
            <a:endParaRPr b="0" lang="en-US" sz="2800" spc="-1" strike="noStrike">
              <a:solidFill>
                <a:srgbClr val="ffffff"/>
              </a:solidFill>
              <a:latin typeface="Times New Roman"/>
            </a:endParaRPr>
          </a:p>
        </p:txBody>
      </p:sp>
      <p:pic>
        <p:nvPicPr>
          <p:cNvPr id="1395" name="adordmap610" descr="Recommended Nighttime Departure Procedures"/>
          <p:cNvPicPr/>
          <p:nvPr/>
        </p:nvPicPr>
        <p:blipFill>
          <a:blip r:embed="rId1"/>
          <a:stretch/>
        </p:blipFill>
        <p:spPr>
          <a:xfrm>
            <a:off x="4495680" y="1676520"/>
            <a:ext cx="4343400" cy="33112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ircraft Noise Control and Mitigation</a:t>
            </a:r>
            <a:br>
              <a:rPr sz="3600"/>
            </a:br>
            <a:r>
              <a:rPr b="0" lang="en-US" sz="3600" spc="-1" strike="noStrike">
                <a:solidFill>
                  <a:srgbClr val="ffff00"/>
                </a:solidFill>
                <a:latin typeface="Times New Roman"/>
              </a:rPr>
              <a:t> </a:t>
            </a:r>
            <a:r>
              <a:rPr b="1" lang="en-US" sz="2800" spc="-1" strike="noStrike" u="sng">
                <a:solidFill>
                  <a:srgbClr val="ffffff"/>
                </a:solidFill>
                <a:uFillTx/>
                <a:latin typeface="Times New Roman"/>
              </a:rPr>
              <a:t>Noise Abatement Procedures/Routes</a:t>
            </a:r>
            <a:endParaRPr b="0" lang="en-US" sz="2800" spc="-1" strike="noStrike">
              <a:solidFill>
                <a:srgbClr val="ffff00"/>
              </a:solidFill>
              <a:latin typeface="Times New Roman"/>
            </a:endParaRPr>
          </a:p>
        </p:txBody>
      </p:sp>
      <p:sp>
        <p:nvSpPr>
          <p:cNvPr id="1397" name="PlaceHolder 2"/>
          <p:cNvSpPr>
            <a:spLocks noGrp="1"/>
          </p:cNvSpPr>
          <p:nvPr>
            <p:ph/>
          </p:nvPr>
        </p:nvSpPr>
        <p:spPr>
          <a:xfrm>
            <a:off x="609480" y="251460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Departure</a:t>
            </a:r>
            <a:endParaRPr b="0" lang="en-US" sz="28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ngine power cutback</a:t>
            </a:r>
            <a:endParaRPr b="0" lang="en-US" sz="24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rrival</a:t>
            </a:r>
            <a:endParaRPr b="0" lang="en-US" sz="28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ontinuous descent</a:t>
            </a:r>
            <a:endParaRPr b="0" lang="en-US" sz="2400" spc="-1" strike="noStrike">
              <a:solidFill>
                <a:srgbClr val="ffffff"/>
              </a:solidFill>
              <a:latin typeface="Times New Roman"/>
            </a:endParaRPr>
          </a:p>
          <a:p>
            <a:pPr marL="335880" indent="-3358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Flight tracks</a:t>
            </a:r>
            <a:endParaRPr b="0" lang="en-US" sz="28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Geographic feature (bodies of water)</a:t>
            </a:r>
            <a:endParaRPr b="0" lang="en-US" sz="2400" spc="-1" strike="noStrike">
              <a:solidFill>
                <a:srgbClr val="ffffff"/>
              </a:solidFill>
              <a:latin typeface="Times New Roman"/>
            </a:endParaRPr>
          </a:p>
          <a:p>
            <a:pPr lvl="1" marL="727920" indent="-280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Other compatible ‘pathways’ (major roads, railways)</a:t>
            </a:r>
            <a:endParaRPr b="0" lang="en-US" sz="2400" spc="-1" strike="noStrike">
              <a:solidFill>
                <a:srgbClr val="ffffff"/>
              </a:solidFill>
              <a:latin typeface="Times New Roman"/>
            </a:endParaRPr>
          </a:p>
          <a:p>
            <a:pPr marL="335880" indent="-3358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Preferential runway usage</a:t>
            </a:r>
            <a:endParaRPr b="0" lang="en-US" sz="2800" spc="-1" strike="noStrike">
              <a:solidFill>
                <a:srgbClr val="ffffff"/>
              </a:solidFill>
              <a:latin typeface="Times New Roman"/>
            </a:endParaRPr>
          </a:p>
        </p:txBody>
      </p:sp>
      <p:grpSp>
        <p:nvGrpSpPr>
          <p:cNvPr id="1398" name=""/>
          <p:cNvGrpSpPr/>
          <p:nvPr/>
        </p:nvGrpSpPr>
        <p:grpSpPr>
          <a:xfrm>
            <a:off x="538200" y="2097000"/>
            <a:ext cx="8069400" cy="2606760"/>
            <a:chOff x="538200" y="2097000"/>
            <a:chExt cx="8069400" cy="2606760"/>
          </a:xfrm>
        </p:grpSpPr>
        <p:sp>
          <p:nvSpPr>
            <p:cNvPr id="1399" name=""/>
            <p:cNvSpPr/>
            <p:nvPr/>
          </p:nvSpPr>
          <p:spPr>
            <a:xfrm>
              <a:off x="538200" y="2097000"/>
              <a:ext cx="80694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1400" name=""/>
            <p:cNvSpPr/>
            <p:nvPr/>
          </p:nvSpPr>
          <p:spPr>
            <a:xfrm>
              <a:off x="538200" y="2143080"/>
              <a:ext cx="8069400" cy="2560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6200" spc="-1" strike="noStrike">
                  <a:solidFill>
                    <a:srgbClr val="000000"/>
                  </a:solidFill>
                  <a:latin typeface="Verdana"/>
                </a:rPr>
                <a:t> </a:t>
              </a:r>
              <a:r>
                <a:rPr b="0" lang="en-US" sz="1000" spc="-1" strike="noStrike">
                  <a:solidFill>
                    <a:srgbClr val="000000"/>
                  </a:solidFill>
                  <a:latin typeface="Verdana"/>
                </a:rPr>
                <a:t>                                                   </a:t>
              </a:r>
              <a:endParaRPr b="0" lang="en-US" sz="1000" spc="-1" strike="noStrike">
                <a:solidFill>
                  <a:srgbClr val="ffffff"/>
                </a:solidFill>
                <a:latin typeface="Times New Roman"/>
              </a:endParaRPr>
            </a:p>
          </p:txBody>
        </p:sp>
      </p:grpSp>
      <p:grpSp>
        <p:nvGrpSpPr>
          <p:cNvPr id="1401" name=""/>
          <p:cNvGrpSpPr/>
          <p:nvPr/>
        </p:nvGrpSpPr>
        <p:grpSpPr>
          <a:xfrm>
            <a:off x="4343400" y="2057400"/>
            <a:ext cx="4800600" cy="2571840"/>
            <a:chOff x="4343400" y="2057400"/>
            <a:chExt cx="4800600" cy="2571840"/>
          </a:xfrm>
        </p:grpSpPr>
        <p:pic>
          <p:nvPicPr>
            <p:cNvPr id="1402" name="pref_1a" descr="Preferential Runway Use 1"/>
            <p:cNvPicPr/>
            <p:nvPr/>
          </p:nvPicPr>
          <p:blipFill>
            <a:blip r:embed="rId1"/>
            <a:stretch/>
          </p:blipFill>
          <p:spPr>
            <a:xfrm>
              <a:off x="4343400" y="2057400"/>
              <a:ext cx="2286000" cy="2571840"/>
            </a:xfrm>
            <a:prstGeom prst="rect">
              <a:avLst/>
            </a:prstGeom>
            <a:ln w="0">
              <a:noFill/>
            </a:ln>
          </p:spPr>
        </p:pic>
        <p:pic>
          <p:nvPicPr>
            <p:cNvPr id="1403" name="pref_2" descr="Preferential Runway Use 2"/>
            <p:cNvPicPr/>
            <p:nvPr/>
          </p:nvPicPr>
          <p:blipFill>
            <a:blip r:embed="rId2"/>
            <a:stretch/>
          </p:blipFill>
          <p:spPr>
            <a:xfrm>
              <a:off x="6858000" y="2057400"/>
              <a:ext cx="2286000" cy="2571840"/>
            </a:xfrm>
            <a:prstGeom prst="rect">
              <a:avLst/>
            </a:prstGeom>
            <a:ln w="0">
              <a:noFill/>
            </a:ln>
          </p:spPr>
        </p:pic>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ircraft Noise Control and Mitigation</a:t>
            </a:r>
            <a:br>
              <a:rPr sz="3600"/>
            </a:br>
            <a:r>
              <a:rPr b="0" lang="en-US" sz="3600" spc="-1" strike="noStrike">
                <a:solidFill>
                  <a:srgbClr val="ffff00"/>
                </a:solidFill>
                <a:latin typeface="Times New Roman"/>
              </a:rPr>
              <a:t> </a:t>
            </a:r>
            <a:r>
              <a:rPr b="1" lang="en-US" sz="2800" spc="-1" strike="noStrike" u="sng">
                <a:solidFill>
                  <a:srgbClr val="ffffff"/>
                </a:solidFill>
                <a:uFillTx/>
                <a:latin typeface="Times New Roman"/>
              </a:rPr>
              <a:t>Mitigation at the Receiver</a:t>
            </a:r>
            <a:endParaRPr b="0" lang="en-US" sz="2800" spc="-1" strike="noStrike">
              <a:solidFill>
                <a:srgbClr val="ffff00"/>
              </a:solidFill>
              <a:latin typeface="Times New Roman"/>
            </a:endParaRPr>
          </a:p>
        </p:txBody>
      </p:sp>
      <p:sp>
        <p:nvSpPr>
          <p:cNvPr id="14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Residential noise insula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Sound barriers</a:t>
            </a:r>
            <a:endParaRPr b="0" lang="en-US" sz="2800" spc="-1" strike="noStrike">
              <a:solidFill>
                <a:srgbClr val="ffffff"/>
              </a:solidFill>
              <a:latin typeface="Times New Roman"/>
            </a:endParaRPr>
          </a:p>
        </p:txBody>
      </p:sp>
      <p:grpSp>
        <p:nvGrpSpPr>
          <p:cNvPr id="1406" name=""/>
          <p:cNvGrpSpPr/>
          <p:nvPr/>
        </p:nvGrpSpPr>
        <p:grpSpPr>
          <a:xfrm>
            <a:off x="2589120" y="2109960"/>
            <a:ext cx="8069400" cy="360"/>
            <a:chOff x="2589120" y="2109960"/>
            <a:chExt cx="8069400" cy="360"/>
          </a:xfrm>
        </p:grpSpPr>
        <p:sp>
          <p:nvSpPr>
            <p:cNvPr id="1407" name=""/>
            <p:cNvSpPr/>
            <p:nvPr/>
          </p:nvSpPr>
          <p:spPr>
            <a:xfrm>
              <a:off x="2589120" y="2109960"/>
              <a:ext cx="8069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08" name=""/>
            <p:cNvSpPr/>
            <p:nvPr/>
          </p:nvSpPr>
          <p:spPr>
            <a:xfrm>
              <a:off x="2589120" y="2109960"/>
              <a:ext cx="8069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ircraft Noise Control and Mitigation</a:t>
            </a:r>
            <a:br>
              <a:rPr sz="3600"/>
            </a:br>
            <a:r>
              <a:rPr b="0" lang="en-US" sz="3600" spc="-1" strike="noStrike">
                <a:solidFill>
                  <a:srgbClr val="ffff00"/>
                </a:solidFill>
                <a:latin typeface="Times New Roman"/>
              </a:rPr>
              <a:t> </a:t>
            </a:r>
            <a:r>
              <a:rPr b="1" lang="en-US" sz="2800" spc="-1" strike="noStrike" u="sng">
                <a:solidFill>
                  <a:srgbClr val="ffffff"/>
                </a:solidFill>
                <a:uFillTx/>
                <a:latin typeface="Times New Roman"/>
              </a:rPr>
              <a:t>Mitigation at the Receiver</a:t>
            </a:r>
            <a:endParaRPr b="0" lang="en-US" sz="2800" spc="-1" strike="noStrike">
              <a:solidFill>
                <a:srgbClr val="ffff00"/>
              </a:solidFill>
              <a:latin typeface="Times New Roman"/>
            </a:endParaRPr>
          </a:p>
        </p:txBody>
      </p:sp>
      <p:sp>
        <p:nvSpPr>
          <p:cNvPr id="14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Residential noise insula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Sound barriers</a:t>
            </a:r>
            <a:endParaRPr b="0" lang="en-US" sz="2800" spc="-1" strike="noStrike">
              <a:solidFill>
                <a:srgbClr val="ffffff"/>
              </a:solidFill>
              <a:latin typeface="Times New Roman"/>
            </a:endParaRPr>
          </a:p>
        </p:txBody>
      </p:sp>
      <p:grpSp>
        <p:nvGrpSpPr>
          <p:cNvPr id="1411" name=""/>
          <p:cNvGrpSpPr/>
          <p:nvPr/>
        </p:nvGrpSpPr>
        <p:grpSpPr>
          <a:xfrm>
            <a:off x="2589120" y="2109960"/>
            <a:ext cx="8069400" cy="360"/>
            <a:chOff x="2589120" y="2109960"/>
            <a:chExt cx="8069400" cy="360"/>
          </a:xfrm>
        </p:grpSpPr>
        <p:sp>
          <p:nvSpPr>
            <p:cNvPr id="1412" name=""/>
            <p:cNvSpPr/>
            <p:nvPr/>
          </p:nvSpPr>
          <p:spPr>
            <a:xfrm>
              <a:off x="2589120" y="2109960"/>
              <a:ext cx="8069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13" name=""/>
            <p:cNvSpPr/>
            <p:nvPr/>
          </p:nvSpPr>
          <p:spPr>
            <a:xfrm>
              <a:off x="2589120" y="2109960"/>
              <a:ext cx="8069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pic>
        <p:nvPicPr>
          <p:cNvPr id="1414" name="homes_70contour" descr=""/>
          <p:cNvPicPr/>
          <p:nvPr/>
        </p:nvPicPr>
        <p:blipFill>
          <a:blip r:embed="rId1"/>
          <a:stretch/>
        </p:blipFill>
        <p:spPr>
          <a:xfrm>
            <a:off x="3429000" y="2568600"/>
            <a:ext cx="5410080" cy="42242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ircraft Noise Control and Mitigation</a:t>
            </a:r>
            <a:br>
              <a:rPr sz="3600"/>
            </a:br>
            <a:r>
              <a:rPr b="0" lang="en-US" sz="3600" spc="-1" strike="noStrike">
                <a:solidFill>
                  <a:srgbClr val="ffff00"/>
                </a:solidFill>
                <a:latin typeface="Times New Roman"/>
              </a:rPr>
              <a:t> </a:t>
            </a:r>
            <a:r>
              <a:rPr b="1" lang="en-US" sz="2800" spc="-1" strike="noStrike" u="sng">
                <a:solidFill>
                  <a:srgbClr val="ffffff"/>
                </a:solidFill>
                <a:uFillTx/>
                <a:latin typeface="Times New Roman"/>
              </a:rPr>
              <a:t>Mitigation at the Receiver</a:t>
            </a:r>
            <a:endParaRPr b="0" lang="en-US" sz="2800" spc="-1" strike="noStrike">
              <a:solidFill>
                <a:srgbClr val="ffff00"/>
              </a:solidFill>
              <a:latin typeface="Times New Roman"/>
            </a:endParaRPr>
          </a:p>
        </p:txBody>
      </p:sp>
      <p:sp>
        <p:nvSpPr>
          <p:cNvPr id="14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Residential noise insulation</a:t>
            </a:r>
            <a:endParaRPr b="0" lang="en-US" sz="2800" spc="-1" strike="noStrike">
              <a:solidFill>
                <a:srgbClr val="ffffff"/>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ound barriers</a:t>
            </a:r>
            <a:endParaRPr b="0" lang="en-US" sz="2800" spc="-1" strike="noStrike">
              <a:solidFill>
                <a:srgbClr val="ffffff"/>
              </a:solidFill>
              <a:latin typeface="Times New Roman"/>
            </a:endParaRPr>
          </a:p>
        </p:txBody>
      </p:sp>
      <p:grpSp>
        <p:nvGrpSpPr>
          <p:cNvPr id="1417" name=""/>
          <p:cNvGrpSpPr/>
          <p:nvPr/>
        </p:nvGrpSpPr>
        <p:grpSpPr>
          <a:xfrm>
            <a:off x="2589120" y="2109960"/>
            <a:ext cx="8069400" cy="360"/>
            <a:chOff x="2589120" y="2109960"/>
            <a:chExt cx="8069400" cy="360"/>
          </a:xfrm>
        </p:grpSpPr>
        <p:sp>
          <p:nvSpPr>
            <p:cNvPr id="1418" name=""/>
            <p:cNvSpPr/>
            <p:nvPr/>
          </p:nvSpPr>
          <p:spPr>
            <a:xfrm>
              <a:off x="2589120" y="2109960"/>
              <a:ext cx="8069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419" name=""/>
            <p:cNvSpPr/>
            <p:nvPr/>
          </p:nvSpPr>
          <p:spPr>
            <a:xfrm>
              <a:off x="2589120" y="2109960"/>
              <a:ext cx="8069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grpSp>
        <p:nvGrpSpPr>
          <p:cNvPr id="1420" name=""/>
          <p:cNvGrpSpPr/>
          <p:nvPr/>
        </p:nvGrpSpPr>
        <p:grpSpPr>
          <a:xfrm>
            <a:off x="3419280" y="2819520"/>
            <a:ext cx="4917240" cy="3675240"/>
            <a:chOff x="3419280" y="2819520"/>
            <a:chExt cx="4917240" cy="3675240"/>
          </a:xfrm>
        </p:grpSpPr>
        <p:pic>
          <p:nvPicPr>
            <p:cNvPr id="1421" name="noiseberm" descr="Noise Berm"/>
            <p:cNvPicPr/>
            <p:nvPr/>
          </p:nvPicPr>
          <p:blipFill>
            <a:blip r:embed="rId1"/>
            <a:stretch/>
          </p:blipFill>
          <p:spPr>
            <a:xfrm>
              <a:off x="3505320" y="2819520"/>
              <a:ext cx="4800600" cy="3197160"/>
            </a:xfrm>
            <a:prstGeom prst="rect">
              <a:avLst/>
            </a:prstGeom>
            <a:ln w="0">
              <a:noFill/>
            </a:ln>
          </p:spPr>
        </p:pic>
        <p:sp>
          <p:nvSpPr>
            <p:cNvPr id="1422" name=""/>
            <p:cNvSpPr/>
            <p:nvPr/>
          </p:nvSpPr>
          <p:spPr>
            <a:xfrm>
              <a:off x="3419280" y="6095880"/>
              <a:ext cx="4917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oise berm at Chicago O’Hare International</a:t>
              </a:r>
              <a:endParaRPr b="0" lang="en-US" sz="2000" spc="-1" strike="noStrike">
                <a:solidFill>
                  <a:srgbClr val="ffffff"/>
                </a:solidFill>
                <a:latin typeface="Times New Roman"/>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ircraft Noise Control and Mitigation</a:t>
            </a:r>
            <a:br>
              <a:rPr sz="3600"/>
            </a:br>
            <a:r>
              <a:rPr b="0" lang="en-US" sz="3600" spc="-1" strike="noStrike">
                <a:solidFill>
                  <a:srgbClr val="ffff00"/>
                </a:solidFill>
                <a:latin typeface="Times New Roman"/>
              </a:rPr>
              <a:t> </a:t>
            </a:r>
            <a:r>
              <a:rPr b="1" lang="en-US" sz="2800" spc="-1" strike="noStrike" u="sng">
                <a:solidFill>
                  <a:srgbClr val="ffffff"/>
                </a:solidFill>
                <a:uFillTx/>
                <a:latin typeface="Times New Roman"/>
              </a:rPr>
              <a:t>Land Use Compatibility Management</a:t>
            </a:r>
            <a:endParaRPr b="0" lang="en-US" sz="2800" spc="-1" strike="noStrike">
              <a:solidFill>
                <a:srgbClr val="ffff00"/>
              </a:solidFill>
              <a:latin typeface="Times New Roman"/>
            </a:endParaRPr>
          </a:p>
        </p:txBody>
      </p:sp>
      <p:sp>
        <p:nvSpPr>
          <p:cNvPr id="14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Local zoning</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Buy-out</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Reloca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Disclosure </a:t>
            </a:r>
            <a:endParaRPr b="0" lang="en-US" sz="2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5" name=""/>
          <p:cNvSpPr/>
          <p:nvPr/>
        </p:nvSpPr>
        <p:spPr>
          <a:xfrm>
            <a:off x="304920" y="762120"/>
            <a:ext cx="82296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oise</a:t>
            </a:r>
            <a:r>
              <a:rPr b="0" lang="en-US" sz="2400" spc="-1" strike="noStrike">
                <a:solidFill>
                  <a:srgbClr val="ffff00"/>
                </a:solidFill>
                <a:latin typeface="Verdana"/>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und, especially when it is unwanted, unpleasant or loud</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sound</a:t>
            </a:r>
            <a:r>
              <a:rPr b="0" lang="en-US" sz="2400" spc="-1" strike="noStrike">
                <a:solidFill>
                  <a:srgbClr val="ffff00"/>
                </a:solidFill>
                <a:latin typeface="Verdana"/>
              </a:rPr>
              <a:t> </a:t>
            </a:r>
            <a:r>
              <a:rPr b="0" lang="en-US" sz="2400" spc="-1" strike="noStrike">
                <a:solidFill>
                  <a:srgbClr val="ffffff"/>
                </a:solidFill>
                <a:latin typeface="Verdana"/>
              </a:rPr>
              <a:t> </a:t>
            </a:r>
            <a:br>
              <a:rPr sz="2400"/>
            </a:br>
            <a:r>
              <a:rPr b="0" lang="en-US" sz="2400" spc="-1" strike="noStrike">
                <a:solidFill>
                  <a:srgbClr val="ffffff"/>
                </a:solidFill>
                <a:latin typeface="Verdana"/>
              </a:rPr>
              <a:t>sensory perception </a:t>
            </a:r>
            <a:r>
              <a:rPr b="0" lang="en-US" sz="2400" spc="-1" strike="noStrike">
                <a:solidFill>
                  <a:srgbClr val="ffffff"/>
                </a:solidFill>
                <a:latin typeface="Verdana"/>
                <a:ea typeface="Tahoma"/>
              </a:rPr>
              <a:t>as a result of periodic vibrations that are propagate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ahoma"/>
              </a:rPr>
              <a:t>through a mediu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ahoma"/>
              </a:rPr>
              <a:t>such as air, 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ahoma"/>
              </a:rPr>
              <a:t>pressure wav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ahoma"/>
              </a:rPr>
              <a:t>so that the mediu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ahoma"/>
              </a:rPr>
              <a:t>is displaced from it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ahoma"/>
              </a:rPr>
              <a:t>equilibrium state</a:t>
            </a:r>
            <a:endParaRPr b="0" lang="en-US" sz="2400" spc="-1" strike="noStrike">
              <a:solidFill>
                <a:srgbClr val="ffffff"/>
              </a:solidFill>
              <a:latin typeface="Times New Roman"/>
            </a:endParaRPr>
          </a:p>
        </p:txBody>
      </p:sp>
      <p:sp>
        <p:nvSpPr>
          <p:cNvPr id="416" name=""/>
          <p:cNvSpPr/>
          <p:nvPr/>
        </p:nvSpPr>
        <p:spPr>
          <a:xfrm>
            <a:off x="73080" y="1600200"/>
            <a:ext cx="9070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pic>
        <p:nvPicPr>
          <p:cNvPr id="417" name="" descr=""/>
          <p:cNvPicPr/>
          <p:nvPr/>
        </p:nvPicPr>
        <p:blipFill>
          <a:blip r:embed="rId1"/>
          <a:stretch/>
        </p:blipFill>
        <p:spPr>
          <a:xfrm>
            <a:off x="3505320" y="2971800"/>
            <a:ext cx="5333760" cy="35560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ircraft Noise Control and Mitigation</a:t>
            </a:r>
            <a:br>
              <a:rPr sz="3600"/>
            </a:br>
            <a:r>
              <a:rPr b="0" lang="en-US" sz="3600" spc="-1" strike="noStrike">
                <a:solidFill>
                  <a:srgbClr val="ffff00"/>
                </a:solidFill>
                <a:latin typeface="Times New Roman"/>
              </a:rPr>
              <a:t> </a:t>
            </a:r>
            <a:r>
              <a:rPr b="1" lang="en-US" sz="2800" spc="-1" strike="noStrike" u="sng">
                <a:solidFill>
                  <a:srgbClr val="ffffff"/>
                </a:solidFill>
                <a:uFillTx/>
                <a:latin typeface="Times New Roman"/>
              </a:rPr>
              <a:t>Operating Restrictions</a:t>
            </a:r>
            <a:endParaRPr b="0" lang="en-US" sz="2800" spc="-1" strike="noStrike">
              <a:solidFill>
                <a:srgbClr val="ffff00"/>
              </a:solidFill>
              <a:latin typeface="Times New Roman"/>
            </a:endParaRPr>
          </a:p>
        </p:txBody>
      </p:sp>
      <p:sp>
        <p:nvSpPr>
          <p:cNvPr id="14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Curfew</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Noise surcharge</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Quota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Noise budgets</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Phaseout </a:t>
            </a:r>
            <a:endParaRPr b="0" lang="en-US" sz="28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Implications of Unresolved Aircraft Noise Problems</a:t>
            </a:r>
            <a:endParaRPr b="0" lang="en-US" sz="3600" spc="-1" strike="noStrike">
              <a:solidFill>
                <a:srgbClr val="ffff00"/>
              </a:solidFill>
              <a:latin typeface="Times New Roman"/>
            </a:endParaRPr>
          </a:p>
        </p:txBody>
      </p:sp>
      <p:sp>
        <p:nvSpPr>
          <p:cNvPr id="14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Organized opposition to airport expans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Proliferation of local use restrictions</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119 in 1980 to 600 as of March 2001</a:t>
            </a:r>
            <a:endParaRPr b="0" lang="en-US" sz="24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Imposition of energy inefficient flight routing</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Government outlays for local noise mitigati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Pressure to execute marginally safe flight procedures, i.e., “beat the box </a:t>
            </a:r>
            <a:endParaRPr b="0" lang="en-US" sz="28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429" name="logo" descr="[HACAN logo]"/>
          <p:cNvPicPr/>
          <p:nvPr/>
        </p:nvPicPr>
        <p:blipFill>
          <a:blip r:embed="rId1"/>
          <a:srcRect l="0" t="0" r="66414" b="32217"/>
          <a:stretch/>
        </p:blipFill>
        <p:spPr>
          <a:xfrm>
            <a:off x="0" y="1068480"/>
            <a:ext cx="9144000" cy="5305320"/>
          </a:xfrm>
          <a:prstGeom prst="rect">
            <a:avLst/>
          </a:prstGeom>
          <a:ln w="0">
            <a:noFill/>
          </a:ln>
        </p:spPr>
      </p:pic>
      <p:sp>
        <p:nvSpPr>
          <p:cNvPr id="1430" name=""/>
          <p:cNvSpPr/>
          <p:nvPr/>
        </p:nvSpPr>
        <p:spPr>
          <a:xfrm>
            <a:off x="609480" y="0"/>
            <a:ext cx="8001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Organized Opposition to Airport Expansion</a:t>
            </a:r>
            <a:endParaRPr b="0" lang="en-US" sz="3200" spc="-1" strike="noStrike">
              <a:solidFill>
                <a:srgbClr val="ffffff"/>
              </a:solidFill>
              <a:latin typeface="Times New Roman"/>
            </a:endParaRPr>
          </a:p>
        </p:txBody>
      </p:sp>
      <p:sp>
        <p:nvSpPr>
          <p:cNvPr id="1431" name=""/>
          <p:cNvSpPr/>
          <p:nvPr/>
        </p:nvSpPr>
        <p:spPr>
          <a:xfrm>
            <a:off x="685800" y="1447920"/>
            <a:ext cx="7772400" cy="5105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dividual groups established locally to express concerns over airport noise and expansio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rend for these groups to coordinate their activities internationally and share information through the internet.</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pposition to new runway addition will result in traffic shifts to reliever airports where incremental growth will lead to large increases in noise contour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pposition to new runway addition in the US is contributing to airport congestion.</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432" name="logo" descr="[HACAN logo]"/>
          <p:cNvPicPr/>
          <p:nvPr/>
        </p:nvPicPr>
        <p:blipFill>
          <a:blip r:embed="rId1"/>
          <a:srcRect l="0" t="0" r="66414" b="32217"/>
          <a:stretch/>
        </p:blipFill>
        <p:spPr>
          <a:xfrm>
            <a:off x="0" y="1068480"/>
            <a:ext cx="9144000" cy="5305320"/>
          </a:xfrm>
          <a:prstGeom prst="rect">
            <a:avLst/>
          </a:prstGeom>
          <a:ln w="0">
            <a:noFill/>
          </a:ln>
        </p:spPr>
      </p:pic>
      <p:sp>
        <p:nvSpPr>
          <p:cNvPr id="1433" name=""/>
          <p:cNvSpPr/>
          <p:nvPr/>
        </p:nvSpPr>
        <p:spPr>
          <a:xfrm>
            <a:off x="533520" y="0"/>
            <a:ext cx="8001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Organized Opposition to Airport Expansion</a:t>
            </a:r>
            <a:endParaRPr b="0" lang="en-US" sz="3200" spc="-1" strike="noStrike">
              <a:solidFill>
                <a:srgbClr val="ffffff"/>
              </a:solidFill>
              <a:latin typeface="Times New Roman"/>
            </a:endParaRPr>
          </a:p>
        </p:txBody>
      </p:sp>
      <p:sp>
        <p:nvSpPr>
          <p:cNvPr id="1434" name=""/>
          <p:cNvSpPr/>
          <p:nvPr/>
        </p:nvSpPr>
        <p:spPr>
          <a:xfrm>
            <a:off x="914400" y="1676520"/>
            <a:ext cx="6934320" cy="38862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nternational Anti-Noise Group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iends of the Earth Europe (Austria, Belgium, Cyprus, Denmark, England, Finland, France, Germany, Greece, Ireland, Italy, Luxembourg, Macedonia, the Netherlands, Norway, Poland, Slovenia, Spain, Switzerland).</a:t>
            </a:r>
            <a:endParaRPr b="0" lang="en-US" sz="2400" spc="-1" strike="noStrike">
              <a:solidFill>
                <a:srgbClr val="ffffff"/>
              </a:solidFill>
              <a:latin typeface="Times New Roman"/>
            </a:endParaRPr>
          </a:p>
          <a:p>
            <a:pPr marL="343080" indent="-343080">
              <a:spcBef>
                <a:spcPts val="499"/>
              </a:spcBef>
              <a:spcAft>
                <a:spcPts val="4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uropean Union Against Aircraft Nuisances (UECNA), England (Members of the UECNA are the national umbrella organizations against aviation noise)</a:t>
            </a:r>
            <a:endParaRPr b="0" lang="en-US" sz="2400" spc="-1" strike="noStrike">
              <a:solidFill>
                <a:srgbClr val="ffffff"/>
              </a:solidFill>
              <a:latin typeface="Times New Roman"/>
            </a:endParaRPr>
          </a:p>
        </p:txBody>
      </p:sp>
      <p:sp>
        <p:nvSpPr>
          <p:cNvPr id="1435" name=""/>
          <p:cNvSpPr/>
          <p:nvPr/>
        </p:nvSpPr>
        <p:spPr>
          <a:xfrm>
            <a:off x="1066680" y="1752480"/>
            <a:ext cx="655344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urope</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t-Sky Coalition against expansion of Liege- Airport (Belgium)</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ench National Association Against Aircraft Noise and Pollution, UFCNA (Franc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deral Organization Against Airport and Aircraft Noise (Germany)</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vironmental Organization of Copenhagen (Denmark)</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throw Association for the Control of Aircraft Noise, HACAN (England)</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alition Against Runway 2, CAR2 (England)</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ileudefensie (the Netherlands)</a:t>
            </a:r>
            <a:endParaRPr b="0" lang="en-US" sz="2400" spc="-1" strike="noStrike">
              <a:solidFill>
                <a:srgbClr val="ffffff"/>
              </a:solidFill>
              <a:latin typeface="Times New Roman"/>
            </a:endParaRPr>
          </a:p>
        </p:txBody>
      </p:sp>
      <p:sp>
        <p:nvSpPr>
          <p:cNvPr id="1436" name=""/>
          <p:cNvSpPr/>
          <p:nvPr/>
        </p:nvSpPr>
        <p:spPr>
          <a:xfrm>
            <a:off x="1143000" y="2666880"/>
            <a:ext cx="5943600" cy="25909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ustralia</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nkstown &amp; Environs Airport Resistanc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alition of Airport Group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ve Our Skies</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runway Protest Page</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10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43040" indent="-285840">
              <a:lnSpc>
                <a:spcPct val="100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437" name=""/>
          <p:cNvSpPr/>
          <p:nvPr/>
        </p:nvSpPr>
        <p:spPr>
          <a:xfrm>
            <a:off x="304920" y="990720"/>
            <a:ext cx="8839080" cy="5562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United State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itizens Against Airport Pollution, CAAP (CA)</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itizens Concerned About Jet Noise, CCAJN (VA)</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CO Alliance of Residents concerning O’Hare (IL)</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ne Aviation For Everyone, SAFE (NY)</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ulder County Citizens Against Aviation Noise, BCCAAN (CO)</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port Coordinating Team, ACT (MD)</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itizens against Sea-Tac Expansion, CASE (WA)</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stside Civic Federation, WCF (LAX)</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uth Metro Airport Action Council, SMAAC (MN)</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port Neighbors Decide, AND (OH)</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orado Citizens Against Noise, COLCAN (CO)</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irport Area Residents Alliance, AARA (TN)</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aska Quiet Rights Coalition, AQRC</a:t>
            </a:r>
            <a:endParaRPr b="0" lang="en-US" sz="24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762120" y="1066320"/>
            <a:ext cx="777240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00"/>
                </a:solidFill>
                <a:uFillTx/>
                <a:latin typeface="Times New Roman"/>
              </a:rPr>
              <a:t>M</a:t>
            </a:r>
            <a:r>
              <a:rPr b="1" lang="en-US" sz="3600" spc="-1" strike="noStrike">
                <a:solidFill>
                  <a:srgbClr val="ffffff"/>
                </a:solidFill>
                <a:latin typeface="Times New Roman"/>
              </a:rPr>
              <a:t>odel</a:t>
            </a:r>
            <a:r>
              <a:rPr b="1" lang="en-US" sz="3600" spc="-1" strike="noStrike">
                <a:solidFill>
                  <a:srgbClr val="ffff00"/>
                </a:solidFill>
                <a:latin typeface="Times New Roman"/>
              </a:rPr>
              <a:t> </a:t>
            </a:r>
            <a:r>
              <a:rPr b="1" lang="en-US" sz="3600" spc="-1" strike="noStrike">
                <a:solidFill>
                  <a:srgbClr val="ffffff"/>
                </a:solidFill>
                <a:latin typeface="Times New Roman"/>
              </a:rPr>
              <a:t>for</a:t>
            </a:r>
            <a:r>
              <a:rPr b="1" lang="en-US" sz="3600" spc="-1" strike="noStrike">
                <a:solidFill>
                  <a:srgbClr val="ffff00"/>
                </a:solidFill>
                <a:latin typeface="Times New Roman"/>
              </a:rPr>
              <a:t> </a:t>
            </a:r>
            <a:r>
              <a:rPr b="1" lang="en-US" sz="3600" spc="-1" strike="noStrike" u="sng">
                <a:solidFill>
                  <a:srgbClr val="ffff00"/>
                </a:solidFill>
                <a:uFillTx/>
                <a:latin typeface="Times New Roman"/>
              </a:rPr>
              <a:t>A</a:t>
            </a:r>
            <a:r>
              <a:rPr b="1" lang="en-US" sz="3600" spc="-1" strike="noStrike">
                <a:solidFill>
                  <a:srgbClr val="ffffff"/>
                </a:solidFill>
                <a:latin typeface="Times New Roman"/>
              </a:rPr>
              <a:t>ssessing</a:t>
            </a:r>
            <a:r>
              <a:rPr b="1" lang="en-US" sz="3600" spc="-1" strike="noStrike">
                <a:solidFill>
                  <a:srgbClr val="ffff00"/>
                </a:solidFill>
                <a:latin typeface="Times New Roman"/>
              </a:rPr>
              <a:t> </a:t>
            </a:r>
            <a:r>
              <a:rPr b="1" lang="en-US" sz="3600" spc="-1" strike="noStrike" u="sng">
                <a:solidFill>
                  <a:srgbClr val="ffff00"/>
                </a:solidFill>
                <a:uFillTx/>
                <a:latin typeface="Times New Roman"/>
              </a:rPr>
              <a:t>G</a:t>
            </a:r>
            <a:r>
              <a:rPr b="1" lang="en-US" sz="3600" spc="-1" strike="noStrike">
                <a:solidFill>
                  <a:srgbClr val="ffffff"/>
                </a:solidFill>
                <a:latin typeface="Times New Roman"/>
              </a:rPr>
              <a:t>lobal</a:t>
            </a:r>
            <a:r>
              <a:rPr b="1" lang="en-US" sz="3600" spc="-1" strike="noStrike">
                <a:solidFill>
                  <a:srgbClr val="ffff00"/>
                </a:solidFill>
                <a:latin typeface="Times New Roman"/>
              </a:rPr>
              <a:t> </a:t>
            </a:r>
            <a:r>
              <a:rPr b="1" lang="en-US" sz="3600" spc="-1" strike="noStrike" u="sng">
                <a:solidFill>
                  <a:srgbClr val="ffff00"/>
                </a:solidFill>
                <a:uFillTx/>
                <a:latin typeface="Times New Roman"/>
              </a:rPr>
              <a:t>E</a:t>
            </a:r>
            <a:r>
              <a:rPr b="1" lang="en-US" sz="3600" spc="-1" strike="noStrike">
                <a:solidFill>
                  <a:srgbClr val="ffffff"/>
                </a:solidFill>
                <a:latin typeface="Times New Roman"/>
              </a:rPr>
              <a:t>xposure</a:t>
            </a:r>
            <a:r>
              <a:rPr b="1" lang="en-US" sz="3600" spc="-1" strike="noStrike">
                <a:solidFill>
                  <a:srgbClr val="ffff00"/>
                </a:solidFill>
                <a:latin typeface="Times New Roman"/>
              </a:rPr>
              <a:t> </a:t>
            </a:r>
            <a:r>
              <a:rPr b="1" lang="en-US" sz="3600" spc="-1" strike="noStrike">
                <a:solidFill>
                  <a:srgbClr val="ffffff"/>
                </a:solidFill>
                <a:latin typeface="Times New Roman"/>
              </a:rPr>
              <a:t>to</a:t>
            </a:r>
            <a:r>
              <a:rPr b="1" lang="en-US" sz="3600" spc="-1" strike="noStrike">
                <a:solidFill>
                  <a:srgbClr val="ffff00"/>
                </a:solidFill>
                <a:latin typeface="Times New Roman"/>
              </a:rPr>
              <a:t> </a:t>
            </a:r>
            <a:r>
              <a:rPr b="1" lang="en-US" sz="3600" spc="-1" strike="noStrike">
                <a:solidFill>
                  <a:srgbClr val="ffffff"/>
                </a:solidFill>
                <a:latin typeface="Times New Roman"/>
              </a:rPr>
              <a:t>the</a:t>
            </a:r>
            <a:r>
              <a:rPr b="1" lang="en-US" sz="3600" spc="-1" strike="noStrike">
                <a:solidFill>
                  <a:srgbClr val="ffff00"/>
                </a:solidFill>
                <a:latin typeface="Times New Roman"/>
              </a:rPr>
              <a:t> </a:t>
            </a:r>
            <a:r>
              <a:rPr b="1" lang="en-US" sz="3600" spc="-1" strike="noStrike" u="sng">
                <a:solidFill>
                  <a:srgbClr val="ffff00"/>
                </a:solidFill>
                <a:uFillTx/>
                <a:latin typeface="Times New Roman"/>
              </a:rPr>
              <a:t>N</a:t>
            </a:r>
            <a:r>
              <a:rPr b="1" lang="en-US" sz="3600" spc="-1" strike="noStrike">
                <a:solidFill>
                  <a:srgbClr val="ffffff"/>
                </a:solidFill>
                <a:latin typeface="Times New Roman"/>
              </a:rPr>
              <a:t>oise</a:t>
            </a:r>
            <a:r>
              <a:rPr b="1" lang="en-US" sz="3600" spc="-1" strike="noStrike">
                <a:solidFill>
                  <a:srgbClr val="ffff00"/>
                </a:solidFill>
                <a:latin typeface="Times New Roman"/>
              </a:rPr>
              <a:t> </a:t>
            </a:r>
            <a:r>
              <a:rPr b="1" lang="en-US" sz="3600" spc="-1" strike="noStrike">
                <a:solidFill>
                  <a:srgbClr val="ffffff"/>
                </a:solidFill>
                <a:latin typeface="Times New Roman"/>
              </a:rPr>
              <a:t>of</a:t>
            </a:r>
            <a:r>
              <a:rPr b="1" lang="en-US" sz="3600" spc="-1" strike="noStrike">
                <a:solidFill>
                  <a:srgbClr val="ffff00"/>
                </a:solidFill>
                <a:latin typeface="Times New Roman"/>
              </a:rPr>
              <a:t> </a:t>
            </a:r>
            <a:r>
              <a:rPr b="1" lang="en-US" sz="3600" spc="-1" strike="noStrike" u="sng">
                <a:solidFill>
                  <a:srgbClr val="ffff00"/>
                </a:solidFill>
                <a:uFillTx/>
                <a:latin typeface="Times New Roman"/>
              </a:rPr>
              <a:t>T</a:t>
            </a:r>
            <a:r>
              <a:rPr b="1" lang="en-US" sz="3600" spc="-1" strike="noStrike">
                <a:solidFill>
                  <a:srgbClr val="ffffff"/>
                </a:solidFill>
                <a:latin typeface="Times New Roman"/>
              </a:rPr>
              <a:t>ransport</a:t>
            </a:r>
            <a:r>
              <a:rPr b="1" lang="en-US" sz="3600" spc="-1" strike="noStrike">
                <a:solidFill>
                  <a:srgbClr val="ffff00"/>
                </a:solidFill>
                <a:latin typeface="Times New Roman"/>
              </a:rPr>
              <a:t> </a:t>
            </a:r>
            <a:r>
              <a:rPr b="1" lang="en-US" sz="3600" spc="-1" strike="noStrike" u="sng">
                <a:solidFill>
                  <a:srgbClr val="ffff00"/>
                </a:solidFill>
                <a:uFillTx/>
                <a:latin typeface="Times New Roman"/>
              </a:rPr>
              <a:t>A</a:t>
            </a:r>
            <a:r>
              <a:rPr b="1" lang="en-US" sz="3600" spc="-1" strike="noStrike">
                <a:solidFill>
                  <a:srgbClr val="ffffff"/>
                </a:solidFill>
                <a:latin typeface="Times New Roman"/>
              </a:rPr>
              <a:t>ircraft</a:t>
            </a:r>
            <a:br>
              <a:rPr sz="3600"/>
            </a:br>
            <a:br>
              <a:rPr sz="3600"/>
            </a:br>
            <a:r>
              <a:rPr b="1" lang="en-US" sz="3600" spc="-1" strike="noStrike">
                <a:solidFill>
                  <a:srgbClr val="ffff00"/>
                </a:solidFill>
                <a:latin typeface="Times New Roman"/>
              </a:rPr>
              <a:t>(</a:t>
            </a:r>
            <a:r>
              <a:rPr b="1" lang="en-US" sz="4400" spc="-1" strike="noStrike">
                <a:solidFill>
                  <a:srgbClr val="ffff00"/>
                </a:solidFill>
                <a:latin typeface="Times New Roman"/>
              </a:rPr>
              <a:t>MAGENTA</a:t>
            </a:r>
            <a:r>
              <a:rPr b="1" lang="en-US" sz="3600" spc="-1" strike="noStrike">
                <a:solidFill>
                  <a:srgbClr val="ffff00"/>
                </a:solidFill>
                <a:latin typeface="Times New Roman"/>
              </a:rPr>
              <a:t>)</a:t>
            </a:r>
            <a:endParaRPr b="0" lang="en-US" sz="3600" spc="-1" strike="noStrike">
              <a:solidFill>
                <a:srgbClr val="ffff00"/>
              </a:solidFill>
              <a:latin typeface="Times New Roman"/>
            </a:endParaRPr>
          </a:p>
        </p:txBody>
      </p:sp>
      <p:sp>
        <p:nvSpPr>
          <p:cNvPr id="1439" name="PlaceHolder 2"/>
          <p:cNvSpPr>
            <a:spLocks noGrp="1"/>
          </p:cNvSpPr>
          <p:nvPr>
            <p:ph type="subTitle"/>
          </p:nvPr>
        </p:nvSpPr>
        <p:spPr>
          <a:xfrm>
            <a:off x="1752480" y="4038120"/>
            <a:ext cx="6553440" cy="2057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esented by Mr. Ben Sharp</a:t>
            </a:r>
            <a:endParaRPr b="0" lang="en-US" sz="18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urpose of MAGENTA</a:t>
            </a:r>
            <a:endParaRPr b="0" lang="en-US" sz="3200" spc="-1" strike="noStrike">
              <a:solidFill>
                <a:srgbClr val="ffff00"/>
              </a:solidFill>
              <a:latin typeface="Times New Roman"/>
            </a:endParaRPr>
          </a:p>
        </p:txBody>
      </p:sp>
      <p:sp>
        <p:nvSpPr>
          <p:cNvPr id="1441" name="PlaceHolder 2"/>
          <p:cNvSpPr>
            <a:spLocks noGrp="1"/>
          </p:cNvSpPr>
          <p:nvPr>
            <p:ph/>
          </p:nvPr>
        </p:nvSpPr>
        <p:spPr>
          <a:xfrm>
            <a:off x="762120" y="1295280"/>
            <a:ext cx="7772400" cy="5181840"/>
          </a:xfrm>
          <a:prstGeom prst="rect">
            <a:avLst/>
          </a:prstGeom>
          <a:noFill/>
          <a:ln w="0">
            <a:noFill/>
          </a:ln>
        </p:spPr>
        <p:txBody>
          <a:bodyPr lIns="90000" rIns="90000" tIns="46800" bIns="46800" anchor="t">
            <a:normAutofit/>
          </a:bodyPr>
          <a:p>
            <a:pPr marL="343080" indent="-3430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termine aggregate world population impacted by aircraft noise for baseline year (1998).</a:t>
            </a:r>
            <a:endParaRPr b="0" lang="en-US" sz="2400" spc="-1" strike="noStrike">
              <a:solidFill>
                <a:srgbClr val="ffffff"/>
              </a:solidFill>
              <a:latin typeface="Times New Roman"/>
            </a:endParaRPr>
          </a:p>
          <a:p>
            <a:pPr marL="343080" indent="-3430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lude significant noise impact contribution from all world airports with jet operations.</a:t>
            </a:r>
            <a:endParaRPr b="0" lang="en-US" sz="2400" spc="-1" strike="noStrike">
              <a:solidFill>
                <a:srgbClr val="ffffff"/>
              </a:solidFill>
              <a:latin typeface="Times New Roman"/>
            </a:endParaRPr>
          </a:p>
          <a:p>
            <a:pPr marL="343080" indent="-3430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se estimates on actual aircraft operations and demographic data.</a:t>
            </a:r>
            <a:endParaRPr b="0" lang="en-US" sz="2400" spc="-1" strike="noStrike">
              <a:solidFill>
                <a:srgbClr val="ffffff"/>
              </a:solidFill>
              <a:latin typeface="Times New Roman"/>
            </a:endParaRPr>
          </a:p>
          <a:p>
            <a:pPr marL="343080" indent="-3430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stimate the change in population impacted by aircraft noise worldwide for the following noise mitigation measures:</a:t>
            </a:r>
            <a:endParaRPr b="0" lang="en-US" sz="2400" spc="-1" strike="noStrike">
              <a:solidFill>
                <a:srgbClr val="ffffff"/>
              </a:solidFill>
              <a:latin typeface="Times New Roman"/>
            </a:endParaRPr>
          </a:p>
          <a:p>
            <a:pPr lvl="2" marL="1143000" indent="-228600" algn="just">
              <a:lnSpc>
                <a:spcPct val="90000"/>
              </a:lnSpc>
              <a:spcBef>
                <a:spcPts val="10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ircraft phase-out</a:t>
            </a:r>
            <a:endParaRPr b="0" lang="en-US" sz="2000" spc="-1" strike="noStrike">
              <a:solidFill>
                <a:srgbClr val="ffffff"/>
              </a:solidFill>
              <a:latin typeface="Times New Roman"/>
            </a:endParaRPr>
          </a:p>
          <a:p>
            <a:pPr lvl="2" marL="1143000" indent="-228600">
              <a:lnSpc>
                <a:spcPct val="90000"/>
              </a:lnSpc>
              <a:spcBef>
                <a:spcPts val="10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duced aircraft noise levels</a:t>
            </a:r>
            <a:endParaRPr b="0" lang="en-US" sz="2000" spc="-1" strike="noStrike">
              <a:solidFill>
                <a:srgbClr val="ffffff"/>
              </a:solidFill>
              <a:latin typeface="Times New Roman"/>
            </a:endParaRPr>
          </a:p>
          <a:p>
            <a:pPr lvl="2" marL="1143000" indent="-228600">
              <a:lnSpc>
                <a:spcPct val="90000"/>
              </a:lnSpc>
              <a:spcBef>
                <a:spcPts val="10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ir traffic control procedures</a:t>
            </a:r>
            <a:endParaRPr b="0" lang="en-US" sz="2000" spc="-1" strike="noStrike">
              <a:solidFill>
                <a:srgbClr val="ffffff"/>
              </a:solidFill>
              <a:latin typeface="Times New Roman"/>
            </a:endParaRPr>
          </a:p>
          <a:p>
            <a:pPr lvl="2" marL="1143000" indent="-228600">
              <a:lnSpc>
                <a:spcPct val="90000"/>
              </a:lnSpc>
              <a:spcBef>
                <a:spcPts val="10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nd-use planning</a:t>
            </a:r>
            <a:endParaRPr b="0" lang="en-US" sz="20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2"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History of MAGENTA</a:t>
            </a:r>
            <a:endParaRPr b="0" lang="en-US" sz="3200" spc="-1" strike="noStrike">
              <a:solidFill>
                <a:srgbClr val="ffff00"/>
              </a:solidFill>
              <a:latin typeface="Times New Roman"/>
            </a:endParaRPr>
          </a:p>
        </p:txBody>
      </p:sp>
      <p:sp>
        <p:nvSpPr>
          <p:cNvPr id="1443" name="PlaceHolder 2"/>
          <p:cNvSpPr>
            <a:spLocks noGrp="1"/>
          </p:cNvSpPr>
          <p:nvPr>
            <p:ph/>
          </p:nvPr>
        </p:nvSpPr>
        <p:spPr>
          <a:xfrm>
            <a:off x="533160" y="1447560"/>
            <a:ext cx="8381880" cy="47242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itiated as an FAA project in late 1996</a:t>
            </a:r>
            <a:endParaRPr b="0" lang="en-US" sz="2400" spc="-1" strike="noStrike">
              <a:solidFill>
                <a:srgbClr val="ffffff"/>
              </a:solidFill>
              <a:latin typeface="Times New Roman"/>
            </a:endParaRPr>
          </a:p>
          <a:p>
            <a:pPr marL="329040" indent="-3290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riefings given to:</a:t>
            </a:r>
            <a:endParaRPr b="0" lang="en-US" sz="24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000" spc="-1" strike="noStrike">
                <a:solidFill>
                  <a:srgbClr val="ffffff"/>
                </a:solidFill>
                <a:latin typeface="Times New Roman"/>
              </a:rPr>
              <a:t>ICCAIA, Seattle, Oct 96</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CAEP FESG, Brussels, Nov 96</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ANCAT, Paris, Jan 1997</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CAEP Steering Committee, Canberra, Jan 98</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CAEP Working Group 2, Ottawa, April 1998</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Adopted by ICAO at CAEP 4, April 98</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Briefing on capabilities, CAEP Steering Group, Madrid, June 99</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Briefing on initial results, CAEP Steering Group, Singapore, May  2000</a:t>
            </a:r>
            <a:endParaRPr b="0" lang="en-US" sz="2000" spc="-1" strike="noStrike">
              <a:solidFill>
                <a:srgbClr val="ffffff"/>
              </a:solidFill>
              <a:latin typeface="Times New Roman"/>
            </a:endParaRPr>
          </a:p>
          <a:p>
            <a:pPr lvl="1" marL="713160" indent="-27432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riefing on intermediate results, CAEP Steering Group, Seattle, Sept 2000</a:t>
            </a:r>
            <a:endParaRPr b="0" lang="en-US" sz="2000" spc="-1" strike="noStrike">
              <a:solidFill>
                <a:srgbClr val="ffffff"/>
              </a:solidFill>
              <a:latin typeface="Times New Roman"/>
            </a:endParaRPr>
          </a:p>
          <a:p>
            <a:pPr marL="329040" indent="-32904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EP Magenta Task Group established in April 98</a:t>
            </a:r>
            <a:endParaRPr b="0" lang="en-US" sz="24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4" name="PlaceHolder 1"/>
          <p:cNvSpPr>
            <a:spLocks noGrp="1"/>
          </p:cNvSpPr>
          <p:nvPr>
            <p:ph type="title"/>
          </p:nvPr>
        </p:nvSpPr>
        <p:spPr>
          <a:xfrm>
            <a:off x="83808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AGENTA Task Group</a:t>
            </a:r>
            <a:endParaRPr b="0" lang="en-US" sz="3200" spc="-1" strike="noStrike">
              <a:solidFill>
                <a:srgbClr val="ffff00"/>
              </a:solidFill>
              <a:latin typeface="Times New Roman"/>
            </a:endParaRPr>
          </a:p>
        </p:txBody>
      </p:sp>
      <p:sp>
        <p:nvSpPr>
          <p:cNvPr id="1445" name="PlaceHolder 2"/>
          <p:cNvSpPr>
            <a:spLocks noGrp="1"/>
          </p:cNvSpPr>
          <p:nvPr>
            <p:ph/>
          </p:nvPr>
        </p:nvSpPr>
        <p:spPr>
          <a:xfrm>
            <a:off x="1142640" y="1218960"/>
            <a:ext cx="7340760" cy="5105160"/>
          </a:xfrm>
          <a:prstGeom prst="rect">
            <a:avLst/>
          </a:prstGeom>
          <a:noFill/>
          <a:ln w="0">
            <a:noFill/>
          </a:ln>
        </p:spPr>
        <p:txBody>
          <a:bodyPr lIns="90000" rIns="90000" tIns="46800" bIns="46800" anchor="t">
            <a:normAutofit fontScale="99000"/>
          </a:bodyPr>
          <a:p>
            <a:pPr marL="339480" indent="-339480">
              <a:lnSpc>
                <a:spcPct val="90000"/>
              </a:lnSpc>
              <a:spcBef>
                <a:spcPts val="10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hairman - Dr. John Ollerhead, UK CAA</a:t>
            </a:r>
            <a:endParaRPr b="0" lang="en-US" sz="2400" spc="-1" strike="noStrike">
              <a:solidFill>
                <a:srgbClr val="ffffff"/>
              </a:solidFill>
              <a:latin typeface="Times New Roman"/>
            </a:endParaRPr>
          </a:p>
          <a:p>
            <a:pPr marL="339480" indent="-339480">
              <a:lnSpc>
                <a:spcPct val="90000"/>
              </a:lnSpc>
              <a:spcBef>
                <a:spcPts val="10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ask Group members:</a:t>
            </a:r>
            <a:endParaRPr b="0" lang="en-US" sz="2400" spc="-1" strike="noStrike">
              <a:solidFill>
                <a:srgbClr val="ffffff"/>
              </a:solidFill>
              <a:latin typeface="Times New Roman"/>
            </a:endParaRPr>
          </a:p>
          <a:p>
            <a:pPr lvl="1" marL="735480" indent="-282960">
              <a:lnSpc>
                <a:spcPct val="9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AA</a:t>
            </a:r>
            <a:endParaRPr b="0" lang="en-US" sz="2000" spc="-1" strike="noStrike">
              <a:solidFill>
                <a:srgbClr val="ffffff"/>
              </a:solidFill>
              <a:latin typeface="Times New Roman"/>
            </a:endParaRPr>
          </a:p>
          <a:p>
            <a:pPr lvl="1" marL="735480" indent="-282960">
              <a:lnSpc>
                <a:spcPct val="9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ATA</a:t>
            </a:r>
            <a:endParaRPr b="0" lang="en-US" sz="2000" spc="-1" strike="noStrike">
              <a:solidFill>
                <a:srgbClr val="ffffff"/>
              </a:solidFill>
              <a:latin typeface="Times New Roman"/>
            </a:endParaRPr>
          </a:p>
          <a:p>
            <a:pPr lvl="1" marL="735480" indent="-282960">
              <a:lnSpc>
                <a:spcPct val="9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CCAIA </a:t>
            </a:r>
            <a:endParaRPr b="0" lang="en-US" sz="2000" spc="-1" strike="noStrike">
              <a:solidFill>
                <a:srgbClr val="ffffff"/>
              </a:solidFill>
              <a:latin typeface="Times New Roman"/>
            </a:endParaRPr>
          </a:p>
          <a:p>
            <a:pPr lvl="1" marL="735480" indent="-282960">
              <a:lnSpc>
                <a:spcPct val="9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CI Europe </a:t>
            </a:r>
            <a:endParaRPr b="0" lang="en-US" sz="2000" spc="-1" strike="noStrike">
              <a:solidFill>
                <a:srgbClr val="ffffff"/>
              </a:solidFill>
              <a:latin typeface="Times New Roman"/>
            </a:endParaRPr>
          </a:p>
          <a:p>
            <a:pPr lvl="1" marL="735480" indent="-282960">
              <a:lnSpc>
                <a:spcPct val="9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CAO/CAEP FESG/JET9</a:t>
            </a:r>
            <a:endParaRPr b="0" lang="en-US" sz="2000" spc="-1" strike="noStrike">
              <a:solidFill>
                <a:srgbClr val="ffffff"/>
              </a:solidFill>
              <a:latin typeface="Times New Roman"/>
            </a:endParaRPr>
          </a:p>
          <a:p>
            <a:pPr lvl="1" marL="735480" indent="-282960">
              <a:lnSpc>
                <a:spcPct val="90000"/>
              </a:lnSpc>
              <a:spcBef>
                <a:spcPts val="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AEP representatives from France, Netherlands, Japan</a:t>
            </a:r>
            <a:endParaRPr b="0" lang="en-US" sz="2000" spc="-1" strike="noStrike">
              <a:solidFill>
                <a:srgbClr val="ffffff"/>
              </a:solidFill>
              <a:latin typeface="Times New Roman"/>
            </a:endParaRPr>
          </a:p>
          <a:p>
            <a:pPr marL="339480" indent="-339480">
              <a:lnSpc>
                <a:spcPct val="90000"/>
              </a:lnSpc>
              <a:spcBef>
                <a:spcPts val="10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tendees:</a:t>
            </a:r>
            <a:endParaRPr b="0" lang="en-US" sz="2400" spc="-1" strike="noStrike">
              <a:solidFill>
                <a:srgbClr val="ffffff"/>
              </a:solidFill>
              <a:latin typeface="Times New Roman"/>
            </a:endParaRPr>
          </a:p>
          <a:p>
            <a:pPr lvl="1" marL="735480" indent="-282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oeing, Airbus</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W,GE</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irlines</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urocontrol</a:t>
            </a:r>
            <a:endParaRPr b="0" lang="en-US" sz="2000" spc="-1" strike="noStrike">
              <a:solidFill>
                <a:srgbClr val="ffffff"/>
              </a:solidFill>
              <a:latin typeface="Times New Roman"/>
            </a:endParaRPr>
          </a:p>
          <a:p>
            <a:pPr lvl="1" marL="735480" indent="-282960">
              <a:lnSpc>
                <a:spcPct val="9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NASA</a:t>
            </a:r>
            <a:endParaRPr b="0" lang="en-US" sz="20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Basic Components of MAGENTA</a:t>
            </a:r>
            <a:endParaRPr b="0" lang="en-US" sz="3200" spc="-1" strike="noStrike">
              <a:solidFill>
                <a:srgbClr val="ffff00"/>
              </a:solidFill>
              <a:latin typeface="Times New Roman"/>
            </a:endParaRPr>
          </a:p>
        </p:txBody>
      </p:sp>
      <p:sp>
        <p:nvSpPr>
          <p:cNvPr id="1447" name="PlaceHolder 2"/>
          <p:cNvSpPr>
            <a:spLocks noGrp="1"/>
          </p:cNvSpPr>
          <p:nvPr>
            <p:ph/>
          </p:nvPr>
        </p:nvSpPr>
        <p:spPr>
          <a:xfrm>
            <a:off x="1143000" y="2057400"/>
            <a:ext cx="7772400" cy="4114800"/>
          </a:xfrm>
          <a:prstGeom prst="rect">
            <a:avLst/>
          </a:prstGeom>
          <a:noFill/>
          <a:ln w="0">
            <a:noFill/>
          </a:ln>
        </p:spPr>
        <p:txBody>
          <a:bodyPr lIns="90000" rIns="90000" tIns="46800" bIns="46800" anchor="t">
            <a:normAutofit/>
          </a:bodyPr>
          <a:p>
            <a:pPr marL="343080" indent="-343080">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irport data</a:t>
            </a:r>
            <a:endParaRPr b="0" lang="en-US" sz="2800" spc="-1" strike="noStrike">
              <a:solidFill>
                <a:srgbClr val="ffffff"/>
              </a:solidFill>
              <a:latin typeface="Times New Roman"/>
            </a:endParaRPr>
          </a:p>
          <a:p>
            <a:pPr marL="343080" indent="-343080">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irport operations for baseline year (1998)</a:t>
            </a:r>
            <a:endParaRPr b="0" lang="en-US" sz="2800" spc="-1" strike="noStrike">
              <a:solidFill>
                <a:srgbClr val="ffffff"/>
              </a:solidFill>
              <a:latin typeface="Times New Roman"/>
            </a:endParaRPr>
          </a:p>
          <a:p>
            <a:pPr marL="343080" indent="-343080">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ecasted operations through 2020</a:t>
            </a:r>
            <a:endParaRPr b="0" lang="en-US" sz="2800" spc="-1" strike="noStrike">
              <a:solidFill>
                <a:srgbClr val="ffffff"/>
              </a:solidFill>
              <a:latin typeface="Times New Roman"/>
            </a:endParaRPr>
          </a:p>
          <a:p>
            <a:pPr marL="343080" indent="-343080">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ise engine to develop noise contours</a:t>
            </a:r>
            <a:endParaRPr b="0" lang="en-US" sz="2800" spc="-1" strike="noStrike">
              <a:solidFill>
                <a:srgbClr val="ffffff"/>
              </a:solidFill>
              <a:latin typeface="Times New Roman"/>
            </a:endParaRPr>
          </a:p>
          <a:p>
            <a:pPr marL="343080" indent="-343080">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ircraft noise data – current and future</a:t>
            </a:r>
            <a:endParaRPr b="0" lang="en-US" sz="2800" spc="-1" strike="noStrike">
              <a:solidFill>
                <a:srgbClr val="ffffff"/>
              </a:solidFill>
              <a:latin typeface="Times New Roman"/>
            </a:endParaRPr>
          </a:p>
          <a:p>
            <a:pPr marL="343080" indent="-343080">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opulation data</a:t>
            </a:r>
            <a:endParaRPr b="0" lang="en-US" sz="28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irport Data</a:t>
            </a:r>
            <a:endParaRPr b="0" lang="en-US" sz="3200" spc="-1" strike="noStrike">
              <a:solidFill>
                <a:srgbClr val="ffff00"/>
              </a:solidFill>
              <a:latin typeface="Times New Roman"/>
            </a:endParaRPr>
          </a:p>
        </p:txBody>
      </p:sp>
      <p:sp>
        <p:nvSpPr>
          <p:cNvPr id="1449" name="PlaceHolder 2"/>
          <p:cNvSpPr>
            <a:spLocks noGrp="1"/>
          </p:cNvSpPr>
          <p:nvPr>
            <p:ph/>
          </p:nvPr>
        </p:nvSpPr>
        <p:spPr>
          <a:xfrm>
            <a:off x="609480" y="1599840"/>
            <a:ext cx="7772400" cy="480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irports classified into categories:</a:t>
            </a:r>
            <a:endParaRPr b="0" lang="en-US" sz="2400" spc="-1" strike="noStrike">
              <a:solidFill>
                <a:srgbClr val="ffffff"/>
              </a:solidFill>
              <a:latin typeface="Times New Roman"/>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hell 1:</a:t>
            </a:r>
            <a:r>
              <a:rPr b="1" lang="en-US" sz="2400" spc="-1" strike="noStrike">
                <a:solidFill>
                  <a:srgbClr val="ffffff"/>
                </a:solidFill>
                <a:latin typeface="Times New Roman"/>
              </a:rPr>
              <a:t> Airports with INM data files containing runway usage and flight tracks, allowing noise contours to be developed and combined with digital population data to determine population exposed.</a:t>
            </a:r>
            <a:endParaRPr b="0"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hell 1B:</a:t>
            </a:r>
            <a:r>
              <a:rPr b="1" lang="en-US" sz="2400" spc="-1" strike="noStrike">
                <a:solidFill>
                  <a:srgbClr val="ffffff"/>
                </a:solidFill>
                <a:latin typeface="Times New Roman"/>
              </a:rPr>
              <a:t> Airports with manufactured INM files allowing noise contours to be developed.</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hell 2:</a:t>
            </a:r>
            <a:r>
              <a:rPr b="1" lang="en-US" sz="2400" spc="-1" strike="noStrike">
                <a:solidFill>
                  <a:srgbClr val="ffffff"/>
                </a:solidFill>
                <a:latin typeface="Times New Roman"/>
              </a:rPr>
              <a:t> Airports with no INM files.  Noise contour size (not shape) calculated by generalized model (GCAM) developed from Shell 1 airport data.</a:t>
            </a:r>
            <a:endParaRPr b="0" lang="en-US" sz="24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dverse Effects of Noise</a:t>
            </a:r>
            <a:endParaRPr b="0" lang="en-US" sz="3600" spc="-1" strike="noStrike">
              <a:solidFill>
                <a:srgbClr val="ffff00"/>
              </a:solidFill>
              <a:latin typeface="Times New Roman"/>
            </a:endParaRPr>
          </a:p>
        </p:txBody>
      </p:sp>
      <p:sp>
        <p:nvSpPr>
          <p:cNvPr id="419" name="PlaceHolder 2"/>
          <p:cNvSpPr>
            <a:spLocks noGrp="1"/>
          </p:cNvSpPr>
          <p:nvPr>
            <p:ph/>
          </p:nvPr>
        </p:nvSpPr>
        <p:spPr>
          <a:xfrm>
            <a:off x="685800" y="1295280"/>
            <a:ext cx="7772400" cy="5181840"/>
          </a:xfrm>
          <a:prstGeom prst="rect">
            <a:avLst/>
          </a:prstGeom>
          <a:noFill/>
          <a:ln w="0">
            <a:noFill/>
          </a:ln>
        </p:spPr>
        <p:txBody>
          <a:bodyPr lIns="90000" rIns="90000" tIns="46800" bIns="46800" anchor="t">
            <a:normAutofit/>
          </a:bodyPr>
          <a:p>
            <a:pPr marL="343080" indent="-343080">
              <a:lnSpc>
                <a:spcPct val="90000"/>
              </a:lnSpc>
              <a:spcBef>
                <a:spcPts val="700"/>
              </a:spcBef>
              <a:buClr>
                <a:srgbClr val="33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cc"/>
                </a:solidFill>
                <a:latin typeface="Times New Roman"/>
              </a:rPr>
              <a:t>Noise-induced hearing impairment</a:t>
            </a:r>
            <a:endParaRPr b="0" lang="en-US" sz="2800" spc="-1" strike="noStrike">
              <a:solidFill>
                <a:srgbClr val="ffffff"/>
              </a:solidFill>
              <a:latin typeface="Times New Roman"/>
            </a:endParaRPr>
          </a:p>
          <a:p>
            <a:pPr marL="343080" indent="-343080">
              <a:lnSpc>
                <a:spcPct val="90000"/>
              </a:lnSpc>
              <a:spcBef>
                <a:spcPts val="700"/>
              </a:spcBef>
              <a:buClr>
                <a:srgbClr val="33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cc"/>
                </a:solidFill>
                <a:latin typeface="Times New Roman"/>
              </a:rPr>
              <a:t>Cardiovascular and physiological effects</a:t>
            </a:r>
            <a:endParaRPr b="0" lang="en-US" sz="2800" spc="-1" strike="noStrike">
              <a:solidFill>
                <a:srgbClr val="ffffff"/>
              </a:solidFill>
              <a:latin typeface="Times New Roman"/>
            </a:endParaRPr>
          </a:p>
          <a:p>
            <a:pPr lvl="1" marL="743040" indent="-285840">
              <a:lnSpc>
                <a:spcPct val="90000"/>
              </a:lnSpc>
              <a:spcBef>
                <a:spcPts val="601"/>
              </a:spcBef>
              <a:buClr>
                <a:srgbClr val="33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cc"/>
                </a:solidFill>
                <a:latin typeface="Times New Roman"/>
              </a:rPr>
              <a:t>Hypertension, heart disease</a:t>
            </a:r>
            <a:endParaRPr b="0" lang="en-US" sz="2400" spc="-1" strike="noStrike">
              <a:solidFill>
                <a:srgbClr val="ffffff"/>
              </a:solidFill>
              <a:latin typeface="Times New Roman"/>
            </a:endParaRPr>
          </a:p>
          <a:p>
            <a:pPr marL="343080" indent="-343080">
              <a:lnSpc>
                <a:spcPct val="90000"/>
              </a:lnSpc>
              <a:spcBef>
                <a:spcPts val="700"/>
              </a:spcBef>
              <a:buClr>
                <a:srgbClr val="33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cc"/>
                </a:solidFill>
                <a:latin typeface="Times New Roman"/>
              </a:rPr>
              <a:t>Mental health disorders</a:t>
            </a:r>
            <a:endParaRPr b="0" lang="en-US" sz="2800" spc="-1" strike="noStrike">
              <a:solidFill>
                <a:srgbClr val="ffffff"/>
              </a:solidFill>
              <a:latin typeface="Times New Roman"/>
            </a:endParaRPr>
          </a:p>
          <a:p>
            <a:pPr lvl="1" marL="743040" indent="-285840">
              <a:lnSpc>
                <a:spcPct val="90000"/>
              </a:lnSpc>
              <a:spcBef>
                <a:spcPts val="601"/>
              </a:spcBef>
              <a:buClr>
                <a:srgbClr val="33cc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cc"/>
                </a:solidFill>
                <a:latin typeface="Times New Roman"/>
              </a:rPr>
              <a:t>Anxiety, emotional stress</a:t>
            </a:r>
            <a:endParaRPr b="0" lang="en-US" sz="24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erformance deficiency</a:t>
            </a:r>
            <a:endParaRPr b="0" lang="en-US" sz="2800" spc="-1" strike="noStrike">
              <a:solidFill>
                <a:srgbClr val="ffffff"/>
              </a:solidFill>
              <a:latin typeface="Times New Roman"/>
            </a:endParaRPr>
          </a:p>
          <a:p>
            <a:pPr lvl="1" marL="743040" indent="-28584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bility of children to learn</a:t>
            </a:r>
            <a:endParaRPr b="0" lang="en-US" sz="24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Interference with speech communications</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leep disturbance</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nnoyance</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egradation of quality of life</a:t>
            </a:r>
            <a:endParaRPr b="0" lang="en-US" sz="28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tudy Regions and Airport Samples</a:t>
            </a:r>
            <a:endParaRPr b="0" lang="en-US" sz="3200" spc="-1" strike="noStrike">
              <a:solidFill>
                <a:srgbClr val="ffff00"/>
              </a:solidFill>
              <a:latin typeface="Times New Roman"/>
            </a:endParaRPr>
          </a:p>
        </p:txBody>
      </p:sp>
      <p:graphicFrame>
        <p:nvGraphicFramePr>
          <p:cNvPr id="1451" name=""/>
          <p:cNvGraphicFramePr/>
          <p:nvPr/>
        </p:nvGraphicFramePr>
        <p:xfrm>
          <a:off x="380880" y="1852560"/>
          <a:ext cx="8458200" cy="3895920"/>
        </p:xfrm>
        <a:graphic>
          <a:graphicData uri="http://schemas.openxmlformats.org/presentationml/2006/ole">
            <p:oleObj progId="Excel.Sheet.12" r:id="rId1" spid="">
              <p:embed/>
              <p:pic>
                <p:nvPicPr>
                  <p:cNvPr id="1452" name="" descr=""/>
                  <p:cNvPicPr/>
                  <p:nvPr/>
                </p:nvPicPr>
                <p:blipFill>
                  <a:blip r:embed="rId2"/>
                  <a:stretch/>
                </p:blipFill>
                <p:spPr>
                  <a:xfrm>
                    <a:off x="380880" y="1852560"/>
                    <a:ext cx="8458200" cy="389592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irport Operations</a:t>
            </a:r>
            <a:endParaRPr b="0" lang="en-US" sz="3200" spc="-1" strike="noStrike">
              <a:solidFill>
                <a:srgbClr val="ffff00"/>
              </a:solidFill>
              <a:latin typeface="Times New Roman"/>
            </a:endParaRPr>
          </a:p>
        </p:txBody>
      </p:sp>
      <p:sp>
        <p:nvSpPr>
          <p:cNvPr id="1454"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ircraft operations classified into seat class/stage length categories for each of 21 world Route Groups, i.e. North Atlantic, TransPacific, Europe-Africa, Intra-US, etc. , at each Shell 1 airport.</a:t>
            </a:r>
            <a:endParaRPr b="0" lang="en-US" sz="2400" spc="-1" strike="noStrike">
              <a:solidFill>
                <a:srgbClr val="ffffff"/>
              </a:solidFill>
              <a:latin typeface="Times New Roman"/>
            </a:endParaRPr>
          </a:p>
          <a:p>
            <a:pPr marL="343080" indent="-3430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seline year (1998) mix of operations by seat class/stage length category at each airport determined by processing 1998 IOAG data for scheduled passenger, cargo and charter operations.</a:t>
            </a:r>
            <a:endParaRPr b="0" lang="en-US" sz="2400" spc="-1" strike="noStrike">
              <a:solidFill>
                <a:srgbClr val="ffffff"/>
              </a:solidFill>
              <a:latin typeface="Times New Roman"/>
            </a:endParaRPr>
          </a:p>
          <a:p>
            <a:pPr marL="343080" indent="-343080">
              <a:lnSpc>
                <a:spcPct val="90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seline and future year total aircraft operations by seat class/stage length category and Route Group based on traffic projections provided by CAEP/FESG.</a:t>
            </a:r>
            <a:endParaRPr b="0" lang="en-US" sz="2400" spc="-1" strike="noStrike">
              <a:solidFill>
                <a:srgbClr val="ffff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5" name="PlaceHolder 1"/>
          <p:cNvSpPr>
            <a:spLocks noGrp="1"/>
          </p:cNvSpPr>
          <p:nvPr>
            <p:ph type="title"/>
          </p:nvPr>
        </p:nvSpPr>
        <p:spPr>
          <a:xfrm>
            <a:off x="53352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ngle Route Aircraft Matrix</a:t>
            </a:r>
            <a:br>
              <a:rPr sz="3200"/>
            </a:br>
            <a:r>
              <a:rPr b="0" lang="en-US" sz="3200" spc="-1" strike="noStrike">
                <a:solidFill>
                  <a:srgbClr val="ffff00"/>
                </a:solidFill>
                <a:latin typeface="Times New Roman"/>
              </a:rPr>
              <a:t>(Single airport, 1996)</a:t>
            </a:r>
            <a:endParaRPr b="0" lang="en-US" sz="3200" spc="-1" strike="noStrike">
              <a:solidFill>
                <a:srgbClr val="ffff00"/>
              </a:solidFill>
              <a:latin typeface="Times New Roman"/>
            </a:endParaRPr>
          </a:p>
        </p:txBody>
      </p:sp>
      <p:pic>
        <p:nvPicPr>
          <p:cNvPr id="1456" name="" descr=""/>
          <p:cNvPicPr/>
          <p:nvPr/>
        </p:nvPicPr>
        <p:blipFill>
          <a:blip r:embed="rId1"/>
          <a:stretch/>
        </p:blipFill>
        <p:spPr>
          <a:xfrm>
            <a:off x="1911240" y="1219320"/>
            <a:ext cx="5175360" cy="54100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Fleet Mix Forecast Processor</a:t>
            </a:r>
            <a:endParaRPr b="0" lang="en-US" sz="3200" spc="-1" strike="noStrike">
              <a:solidFill>
                <a:srgbClr val="ffff00"/>
              </a:solidFill>
              <a:latin typeface="Times New Roman"/>
            </a:endParaRPr>
          </a:p>
        </p:txBody>
      </p:sp>
      <p:sp>
        <p:nvSpPr>
          <p:cNvPr id="1458" name="PlaceHolder 2"/>
          <p:cNvSpPr>
            <a:spLocks noGrp="1"/>
          </p:cNvSpPr>
          <p:nvPr>
            <p:ph/>
          </p:nvPr>
        </p:nvSpPr>
        <p:spPr>
          <a:xfrm>
            <a:off x="685800" y="1905120"/>
            <a:ext cx="7772400" cy="4419360"/>
          </a:xfrm>
          <a:prstGeom prst="rect">
            <a:avLst/>
          </a:prstGeom>
          <a:noFill/>
          <a:ln w="0">
            <a:noFill/>
          </a:ln>
        </p:spPr>
        <p:txBody>
          <a:bodyPr lIns="90000" rIns="90000" tIns="46800" bIns="46800" anchor="t">
            <a:normAutofit fontScale="97000"/>
          </a:bodyPr>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leet forecast processor operates on 1998 baseline fleet at each airport and takes account of:</a:t>
            </a:r>
            <a:endParaRPr b="0" lang="en-US" sz="2800" spc="-1" strike="noStrike">
              <a:solidFill>
                <a:srgbClr val="ffffff"/>
              </a:solidFill>
              <a:latin typeface="Times New Roman"/>
            </a:endParaRPr>
          </a:p>
          <a:p>
            <a:pPr lvl="1" marL="720720" indent="-277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rowth</a:t>
            </a:r>
            <a:endParaRPr b="0" lang="en-US" sz="2400" spc="-1" strike="noStrike">
              <a:solidFill>
                <a:srgbClr val="ffffff"/>
              </a:solidFill>
              <a:latin typeface="Times New Roman"/>
            </a:endParaRPr>
          </a:p>
          <a:p>
            <a:pPr lvl="1" marL="720720" indent="-277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tirement based on survivor curve</a:t>
            </a:r>
            <a:endParaRPr b="0" lang="en-US" sz="2400" spc="-1" strike="noStrike">
              <a:solidFill>
                <a:srgbClr val="ffffff"/>
              </a:solidFill>
              <a:latin typeface="Times New Roman"/>
            </a:endParaRPr>
          </a:p>
          <a:p>
            <a:pPr lvl="1" marL="720720" indent="-277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placement</a:t>
            </a:r>
            <a:endParaRPr b="0" lang="en-US" sz="2400" spc="-1" strike="noStrike">
              <a:solidFill>
                <a:srgbClr val="ffffff"/>
              </a:solidFill>
              <a:latin typeface="Times New Roman"/>
            </a:endParaRPr>
          </a:p>
          <a:p>
            <a:pPr lvl="1" marL="720720" indent="-277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hase-out</a:t>
            </a:r>
            <a:endParaRPr b="0" lang="en-US" sz="2400" spc="-1" strike="noStrike">
              <a:solidFill>
                <a:srgbClr val="ffffff"/>
              </a:solidFill>
              <a:latin typeface="Times New Roman"/>
            </a:endParaRPr>
          </a:p>
          <a:p>
            <a:pPr lvl="1" marL="720720" indent="-27720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ringency</a:t>
            </a:r>
            <a:endParaRPr b="0" lang="en-US" sz="2400" spc="-1" strike="noStrike">
              <a:solidFill>
                <a:srgbClr val="ffffff"/>
              </a:solidFill>
              <a:latin typeface="Times New Roman"/>
            </a:endParaRPr>
          </a:p>
          <a:p>
            <a:pPr marL="332640" indent="-3326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placement aircraft selected from CAEP Jet-9 Best Practice database.</a:t>
            </a:r>
            <a:endParaRPr b="0" lang="en-US" sz="2800" spc="-1" strike="noStrike">
              <a:solidFill>
                <a:srgbClr val="ffff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9"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Aircraft Operations Forecasts</a:t>
            </a:r>
            <a:endParaRPr b="0" lang="en-US" sz="3200" spc="-1" strike="noStrike">
              <a:solidFill>
                <a:srgbClr val="ffff00"/>
              </a:solidFill>
              <a:latin typeface="Times New Roman"/>
            </a:endParaRPr>
          </a:p>
        </p:txBody>
      </p:sp>
      <p:pic>
        <p:nvPicPr>
          <p:cNvPr id="1460" name="Retirement" descr=""/>
          <p:cNvPicPr/>
          <p:nvPr/>
        </p:nvPicPr>
        <p:blipFill>
          <a:blip r:embed="rId1"/>
          <a:stretch/>
        </p:blipFill>
        <p:spPr>
          <a:xfrm>
            <a:off x="1143000" y="1523880"/>
            <a:ext cx="6858000" cy="512136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1"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Noise Engine - INM </a:t>
            </a:r>
            <a:endParaRPr b="0" lang="en-US" sz="3200" spc="-1" strike="noStrike">
              <a:solidFill>
                <a:srgbClr val="ffff00"/>
              </a:solidFill>
              <a:latin typeface="Times New Roman"/>
            </a:endParaRPr>
          </a:p>
        </p:txBody>
      </p:sp>
      <p:sp>
        <p:nvSpPr>
          <p:cNvPr id="1462"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fontScale="98000"/>
          </a:bodyPr>
          <a:p>
            <a:pPr marL="335880" indent="-33588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hell 1 airports use INM to calculate contour area and shape - selected because of its comprehensive aircraft noise data base and widespread use in many countries. </a:t>
            </a:r>
            <a:endParaRPr b="0" lang="en-US" sz="2400" spc="-1" strike="noStrike">
              <a:solidFill>
                <a:srgbClr val="ffffff"/>
              </a:solidFill>
              <a:latin typeface="Times New Roman"/>
            </a:endParaRPr>
          </a:p>
          <a:p>
            <a:pPr marL="335880" indent="-335880">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M run time is determined by number of aircraft/stage lengths -  for 185 airports, run time is measured in weeks.</a:t>
            </a:r>
            <a:endParaRPr b="0" lang="en-US" sz="2400" spc="-1" strike="noStrike">
              <a:solidFill>
                <a:srgbClr val="ffffff"/>
              </a:solidFill>
              <a:latin typeface="Times New Roman"/>
            </a:endParaRPr>
          </a:p>
          <a:p>
            <a:pPr marL="335880" indent="-3358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quivalent aircraft concept developed by which aircraft are replaced by combinations of four standard aircraft. </a:t>
            </a:r>
            <a:endParaRPr b="0" lang="en-US" sz="2400" spc="-1" strike="noStrike">
              <a:solidFill>
                <a:srgbClr val="ffffff"/>
              </a:solidFill>
              <a:latin typeface="Times New Roman"/>
            </a:endParaRPr>
          </a:p>
          <a:p>
            <a:pPr marL="335880" indent="-335880">
              <a:lnSpc>
                <a:spcPct val="90000"/>
              </a:lnSpc>
              <a:spcBef>
                <a:spcPts val="11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is concept reduces run time per airport to minutes - total run time for 185 airports is about eight hours.</a:t>
            </a:r>
            <a:endParaRPr b="0" lang="en-US" sz="2400" spc="-1" strike="noStrike">
              <a:solidFill>
                <a:srgbClr val="ffff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opulation Databases</a:t>
            </a:r>
            <a:endParaRPr b="0" lang="en-US" sz="3200" spc="-1" strike="noStrike">
              <a:solidFill>
                <a:srgbClr val="ffff00"/>
              </a:solidFill>
              <a:latin typeface="Times New Roman"/>
            </a:endParaRPr>
          </a:p>
        </p:txBody>
      </p:sp>
      <p:sp>
        <p:nvSpPr>
          <p:cNvPr id="1464" name="PlaceHolder 2"/>
          <p:cNvSpPr>
            <a:spLocks noGrp="1"/>
          </p:cNvSpPr>
          <p:nvPr>
            <p:ph/>
          </p:nvPr>
        </p:nvSpPr>
        <p:spPr>
          <a:xfrm>
            <a:off x="762120" y="1828440"/>
            <a:ext cx="7772400" cy="441972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GENTA population databases include:</a:t>
            </a:r>
            <a:endParaRPr b="0" lang="en-US" sz="2400" spc="-1" strike="noStrike">
              <a:solidFill>
                <a:srgbClr val="ffffff"/>
              </a:solidFill>
              <a:latin typeface="Times New Roman"/>
            </a:endParaRPr>
          </a:p>
          <a:p>
            <a:pPr lvl="1" marL="743040" indent="-285840">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US Census Bureau 1990 population database for the US.</a:t>
            </a:r>
            <a:endParaRPr b="0" lang="en-US" sz="2000" spc="-1" strike="noStrike">
              <a:solidFill>
                <a:srgbClr val="ffffff"/>
              </a:solidFill>
              <a:latin typeface="Times New Roman"/>
            </a:endParaRPr>
          </a:p>
          <a:p>
            <a:pPr lvl="1" marL="743040" indent="-285840">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Joint Resources Assessment Database System (JRADS) - a worldwide population database that includes population estimates for all major cities in 130 countries.</a:t>
            </a:r>
            <a:endParaRPr b="0" lang="en-US" sz="2000" spc="-1" strike="noStrike">
              <a:solidFill>
                <a:srgbClr val="ffffff"/>
              </a:solidFill>
              <a:latin typeface="Times New Roman"/>
            </a:endParaRPr>
          </a:p>
          <a:p>
            <a:pPr lvl="1" marL="743040" indent="-285840">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igital files for selected airports - LHR, SYD, CDG.</a:t>
            </a:r>
            <a:endParaRPr b="0" lang="en-US" sz="2000" spc="-1" strike="noStrike">
              <a:solidFill>
                <a:srgbClr val="ffffff"/>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RADS data in the form of circles for population centers and grids for distributed population.  </a:t>
            </a:r>
            <a:endParaRPr b="0" lang="en-US" sz="2400" spc="-1" strike="noStrike">
              <a:solidFill>
                <a:srgbClr val="ffffff"/>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djustments made using local land-use maps to increase accuracy.</a:t>
            </a:r>
            <a:endParaRPr b="0" lang="en-US" sz="2400" spc="-1" strike="noStrike">
              <a:solidFill>
                <a:srgbClr val="ffff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5" name="PlaceHolder 1"/>
          <p:cNvSpPr>
            <a:spLocks noGrp="1"/>
          </p:cNvSpPr>
          <p:nvPr>
            <p:ph type="title"/>
          </p:nvPr>
        </p:nvSpPr>
        <p:spPr>
          <a:xfrm>
            <a:off x="83808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Key MAGENTA Assumptions</a:t>
            </a:r>
            <a:endParaRPr b="0" lang="en-US" sz="3200" spc="-1" strike="noStrike">
              <a:solidFill>
                <a:srgbClr val="ffff00"/>
              </a:solidFill>
              <a:latin typeface="Times New Roman"/>
            </a:endParaRPr>
          </a:p>
        </p:txBody>
      </p:sp>
      <p:sp>
        <p:nvSpPr>
          <p:cNvPr id="1466"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 change in airport configuration or routes with time.</a:t>
            </a:r>
            <a:endParaRPr b="0" lang="en-US" sz="2400" spc="-1" strike="noStrike">
              <a:solidFill>
                <a:srgbClr val="ffffff"/>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pulation distributions remain constant with time.</a:t>
            </a:r>
            <a:endParaRPr b="0" lang="en-US" sz="2400" spc="-1" strike="noStrike">
              <a:solidFill>
                <a:srgbClr val="ffffff"/>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aircraft use INM default departure procedure – ICAO B</a:t>
            </a:r>
            <a:endParaRPr b="0" lang="en-US" sz="2400" spc="-1" strike="noStrike">
              <a:solidFill>
                <a:srgbClr val="ffffff"/>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new production aircraft taken from CAEP Jet-9 database, and have unchanging noise/performance characteristics.</a:t>
            </a:r>
            <a:endParaRPr b="0" lang="en-US" sz="2400" spc="-1" strike="noStrike">
              <a:solidFill>
                <a:srgbClr val="ffffff"/>
              </a:solidFill>
              <a:latin typeface="Times New Roman"/>
            </a:endParaRPr>
          </a:p>
          <a:p>
            <a:pPr marL="343080" indent="-343080">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ithin any aircraft range/size cell all new production aircraft are distributed evenly between a) manufacturers, and then b) eligible types/versions.</a:t>
            </a:r>
            <a:endParaRPr b="0" lang="en-US" sz="2400" spc="-1" strike="noStrike">
              <a:solidFill>
                <a:srgbClr val="ffffff"/>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MAGENTA Outputs</a:t>
            </a:r>
            <a:endParaRPr b="0" lang="en-US" sz="3200" spc="-1" strike="noStrike">
              <a:solidFill>
                <a:srgbClr val="ffff00"/>
              </a:solidFill>
              <a:latin typeface="Times New Roman"/>
            </a:endParaRPr>
          </a:p>
        </p:txBody>
      </p:sp>
      <p:sp>
        <p:nvSpPr>
          <p:cNvPr id="14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MAGENTA estimates the number of people living within the DNL 55 (impacted) and DNL 65 (significantly impacted) contours by region:</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gion 1</a:t>
            </a:r>
            <a:r>
              <a:rPr b="1" lang="en-US" sz="2800" spc="-1" strike="noStrike">
                <a:solidFill>
                  <a:srgbClr val="ffffff"/>
                </a:solidFill>
                <a:latin typeface="Times New Roman"/>
              </a:rPr>
              <a:t> - North America (US, Canada)</a:t>
            </a:r>
            <a:endParaRPr b="0" lang="en-US" sz="2800" spc="-1" strike="noStrike">
              <a:solidFill>
                <a:srgbClr val="ffffff"/>
              </a:solidFill>
              <a:latin typeface="Times New Roman"/>
            </a:endParaRPr>
          </a:p>
          <a:p>
            <a:pPr lvl="1" marL="743040" indent="-2858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gion 2</a:t>
            </a:r>
            <a:r>
              <a:rPr b="1" lang="en-US" sz="2800" spc="-1" strike="noStrike">
                <a:solidFill>
                  <a:srgbClr val="ffffff"/>
                </a:solidFill>
                <a:latin typeface="Times New Roman"/>
              </a:rPr>
              <a:t> - ECAC countries</a:t>
            </a:r>
            <a:endParaRPr b="0" lang="en-US" sz="2800" spc="-1" strike="noStrike">
              <a:solidFill>
                <a:srgbClr val="ffffff"/>
              </a:solidFill>
              <a:latin typeface="Times New Roman"/>
            </a:endParaRPr>
          </a:p>
          <a:p>
            <a:pPr lvl="1" marL="743040" indent="-2858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gion 3</a:t>
            </a:r>
            <a:r>
              <a:rPr b="1" lang="en-US" sz="2800" spc="-1" strike="noStrike">
                <a:solidFill>
                  <a:srgbClr val="ffffff"/>
                </a:solidFill>
                <a:latin typeface="Times New Roman"/>
              </a:rPr>
              <a:t> – Japan, Australia, New Zealand</a:t>
            </a:r>
            <a:endParaRPr b="0" lang="en-US" sz="2800" spc="-1" strike="noStrike">
              <a:solidFill>
                <a:srgbClr val="ffffff"/>
              </a:solidFill>
              <a:latin typeface="Times New Roman"/>
            </a:endParaRPr>
          </a:p>
          <a:p>
            <a:pPr lvl="1" marL="743040" indent="-2858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Region 4</a:t>
            </a:r>
            <a:r>
              <a:rPr b="1" lang="en-US" sz="2800" spc="-1" strike="noStrike">
                <a:solidFill>
                  <a:srgbClr val="ffffff"/>
                </a:solidFill>
                <a:latin typeface="Times New Roman"/>
              </a:rPr>
              <a:t> – Rest of the world, excluding CIS countries</a:t>
            </a:r>
            <a:endParaRPr b="0" lang="en-US" sz="2800" spc="-1" strike="noStrike">
              <a:solidFill>
                <a:srgbClr val="ffffff"/>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What are the trends?</a:t>
            </a:r>
            <a:br>
              <a:rPr sz="3600"/>
            </a:br>
            <a:endParaRPr b="0" lang="en-US" sz="3600" spc="-1" strike="noStrike">
              <a:solidFill>
                <a:srgbClr val="ffff00"/>
              </a:solidFill>
              <a:latin typeface="Times New Roman"/>
            </a:endParaRPr>
          </a:p>
        </p:txBody>
      </p:sp>
      <p:sp>
        <p:nvSpPr>
          <p:cNvPr id="14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Aviation growth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Source reduction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Airport restrictions/operational control</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Number of people exposed to aircraft noise</a:t>
            </a:r>
            <a:endParaRPr b="0" lang="en-US" sz="32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0" name="PlaceHolder 1"/>
          <p:cNvSpPr>
            <a:spLocks noGrp="1"/>
          </p:cNvSpPr>
          <p:nvPr>
            <p:ph/>
          </p:nvPr>
        </p:nvSpPr>
        <p:spPr>
          <a:xfrm>
            <a:off x="228240" y="304920"/>
            <a:ext cx="8534520" cy="41148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Verdana"/>
              </a:rPr>
              <a:t> </a:t>
            </a:r>
            <a:endParaRPr b="0" lang="en-US" sz="2800" spc="-1" strike="noStrike">
              <a:solidFill>
                <a:srgbClr val="ffffff"/>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Verdana"/>
              </a:rPr>
              <a:t>   </a:t>
            </a:r>
            <a:endParaRPr b="0" lang="en-US" sz="2800" spc="-1" strike="noStrike">
              <a:solidFill>
                <a:srgbClr val="ffffff"/>
              </a:solidFill>
              <a:latin typeface="Times New Roman"/>
            </a:endParaRPr>
          </a:p>
        </p:txBody>
      </p:sp>
      <p:sp>
        <p:nvSpPr>
          <p:cNvPr id="421" name=""/>
          <p:cNvSpPr/>
          <p:nvPr/>
        </p:nvSpPr>
        <p:spPr>
          <a:xfrm>
            <a:off x="457200" y="609480"/>
            <a:ext cx="8186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annoyance</a:t>
            </a:r>
            <a:r>
              <a:rPr b="0" lang="en-US" sz="2400" spc="-1" strike="noStrike">
                <a:solidFill>
                  <a:srgbClr val="ffff00"/>
                </a:solidFill>
                <a:latin typeface="Verdana"/>
              </a:rPr>
              <a:t> </a:t>
            </a:r>
            <a:r>
              <a:rPr b="0" lang="en-US" sz="2400" spc="-1" strike="noStrike">
                <a:solidFill>
                  <a:srgbClr val="ffffff"/>
                </a:solidFill>
                <a:latin typeface="Verdana"/>
              </a:rPr>
              <a:t> </a:t>
            </a:r>
            <a:br>
              <a:rPr sz="2400"/>
            </a:br>
            <a:r>
              <a:rPr b="0" lang="en-US" sz="2400" spc="-1" strike="noStrike">
                <a:solidFill>
                  <a:srgbClr val="ffffff"/>
                </a:solidFill>
                <a:latin typeface="Verdana"/>
              </a:rPr>
              <a:t>a feeling of displeasure associated with any agent or condition, known or believed by an individual or group, to adversely affect them</a:t>
            </a:r>
            <a:endParaRPr b="0" lang="en-US" sz="2400" spc="-1" strike="noStrike">
              <a:solidFill>
                <a:srgbClr val="ffffff"/>
              </a:solidFill>
              <a:latin typeface="Times New Roman"/>
            </a:endParaRPr>
          </a:p>
        </p:txBody>
      </p:sp>
      <p:graphicFrame>
        <p:nvGraphicFramePr>
          <p:cNvPr id="422" name=""/>
          <p:cNvGraphicFramePr/>
          <p:nvPr/>
        </p:nvGraphicFramePr>
        <p:xfrm>
          <a:off x="1066680" y="2209680"/>
          <a:ext cx="6396120" cy="4373640"/>
        </p:xfrm>
        <a:graphic>
          <a:graphicData uri="http://schemas.openxmlformats.org/presentationml/2006/ole">
            <p:oleObj progId="Excel.Sheet.12" r:id="rId1" spid="">
              <p:embed/>
              <p:pic>
                <p:nvPicPr>
                  <p:cNvPr id="423" name="" descr=""/>
                  <p:cNvPicPr/>
                  <p:nvPr/>
                </p:nvPicPr>
                <p:blipFill>
                  <a:blip r:embed="rId2"/>
                  <a:stretch/>
                </p:blipFill>
                <p:spPr>
                  <a:xfrm>
                    <a:off x="1066680" y="2209680"/>
                    <a:ext cx="6396120" cy="43736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What are the trends?</a:t>
            </a:r>
            <a:br>
              <a:rPr sz="3600"/>
            </a:br>
            <a:r>
              <a:rPr b="1" lang="en-US" sz="2800" spc="-1" strike="noStrike" u="sng">
                <a:solidFill>
                  <a:srgbClr val="ffffff"/>
                </a:solidFill>
                <a:uFillTx/>
                <a:latin typeface="Times New Roman"/>
              </a:rPr>
              <a:t>Aviation Growth</a:t>
            </a:r>
            <a:endParaRPr b="0" lang="en-US" sz="2800" spc="-1" strike="noStrike">
              <a:solidFill>
                <a:srgbClr val="ffff00"/>
              </a:solidFill>
              <a:latin typeface="Times New Roman"/>
            </a:endParaRPr>
          </a:p>
        </p:txBody>
      </p:sp>
      <p:pic>
        <p:nvPicPr>
          <p:cNvPr id="1472" name="" descr=""/>
          <p:cNvPicPr/>
          <p:nvPr/>
        </p:nvPicPr>
        <p:blipFill>
          <a:blip r:embed="rId1"/>
          <a:srcRect l="3559" t="0" r="6406" b="0"/>
          <a:stretch/>
        </p:blipFill>
        <p:spPr>
          <a:xfrm>
            <a:off x="0" y="1087560"/>
            <a:ext cx="9144000" cy="568152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What are the trends?</a:t>
            </a:r>
            <a:br>
              <a:rPr sz="3600"/>
            </a:br>
            <a:r>
              <a:rPr b="1" lang="en-US" sz="2800" spc="-1" strike="noStrike" u="sng">
                <a:solidFill>
                  <a:srgbClr val="ffffff"/>
                </a:solidFill>
                <a:uFillTx/>
                <a:latin typeface="Times New Roman"/>
              </a:rPr>
              <a:t>Aviation Growth</a:t>
            </a:r>
            <a:endParaRPr b="0" lang="en-US" sz="2800" spc="-1" strike="noStrike">
              <a:solidFill>
                <a:srgbClr val="ffff00"/>
              </a:solidFill>
              <a:latin typeface="Times New Roman"/>
            </a:endParaRPr>
          </a:p>
        </p:txBody>
      </p:sp>
      <p:sp>
        <p:nvSpPr>
          <p:cNvPr id="1474" name=""/>
          <p:cNvSpPr/>
          <p:nvPr/>
        </p:nvSpPr>
        <p:spPr>
          <a:xfrm>
            <a:off x="457200" y="106668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Airports in Non-Exempt Countries Theoretically Reaching Capacity without Runway Additions</a:t>
            </a:r>
            <a:endParaRPr b="0" lang="en-US" sz="2400" spc="-1" strike="noStrike">
              <a:solidFill>
                <a:srgbClr val="ffffff"/>
              </a:solidFill>
              <a:latin typeface="Times New Roman"/>
            </a:endParaRPr>
          </a:p>
        </p:txBody>
      </p:sp>
      <p:pic>
        <p:nvPicPr>
          <p:cNvPr id="1475" name="" descr=""/>
          <p:cNvPicPr/>
          <p:nvPr/>
        </p:nvPicPr>
        <p:blipFill>
          <a:blip r:embed="rId1"/>
          <a:stretch/>
        </p:blipFill>
        <p:spPr>
          <a:xfrm>
            <a:off x="304920" y="1854360"/>
            <a:ext cx="8458200" cy="471636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6" name=""/>
          <p:cNvSpPr/>
          <p:nvPr/>
        </p:nvSpPr>
        <p:spPr>
          <a:xfrm rot="21465600">
            <a:off x="5487480" y="4417920"/>
            <a:ext cx="2895840" cy="495360"/>
          </a:xfrm>
          <a:custGeom>
            <a:avLst/>
            <a:gdLst/>
            <a:ahLst/>
            <a:rect l="l" t="t" r="r" b="b"/>
            <a:pathLst>
              <a:path w="1248" h="408">
                <a:moveTo>
                  <a:pt x="0" y="0"/>
                </a:moveTo>
                <a:cubicBezTo>
                  <a:pt x="104" y="88"/>
                  <a:pt x="208" y="176"/>
                  <a:pt x="384" y="240"/>
                </a:cubicBezTo>
                <a:cubicBezTo>
                  <a:pt x="560" y="304"/>
                  <a:pt x="912" y="360"/>
                  <a:pt x="1056" y="384"/>
                </a:cubicBezTo>
                <a:cubicBezTo>
                  <a:pt x="1200" y="408"/>
                  <a:pt x="1216" y="384"/>
                  <a:pt x="1248" y="384"/>
                </a:cubicBezTo>
              </a:path>
            </a:pathLst>
          </a:custGeom>
          <a:noFill/>
          <a:ln w="63360">
            <a:solidFill>
              <a:srgbClr val="00ffff"/>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147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What are the trends?</a:t>
            </a:r>
            <a:br>
              <a:rPr sz="3600"/>
            </a:br>
            <a:r>
              <a:rPr b="1" lang="en-US" sz="2800" spc="-1" strike="noStrike" u="sng">
                <a:solidFill>
                  <a:srgbClr val="ffffff"/>
                </a:solidFill>
                <a:uFillTx/>
                <a:latin typeface="Times New Roman"/>
              </a:rPr>
              <a:t>Source Reduction Technology</a:t>
            </a:r>
            <a:endParaRPr b="0" lang="en-US" sz="2800" spc="-1" strike="noStrike">
              <a:solidFill>
                <a:srgbClr val="ffff00"/>
              </a:solidFill>
              <a:latin typeface="Times New Roman"/>
            </a:endParaRPr>
          </a:p>
        </p:txBody>
      </p:sp>
      <p:sp>
        <p:nvSpPr>
          <p:cNvPr id="1478" name=""/>
          <p:cNvSpPr/>
          <p:nvPr/>
        </p:nvSpPr>
        <p:spPr>
          <a:xfrm>
            <a:off x="1839960" y="-516960"/>
            <a:ext cx="9889560" cy="4609080"/>
          </a:xfrm>
          <a:custGeom>
            <a:avLst/>
            <a:gdLst/>
            <a:ahLst/>
            <a:rect l="l" t="t" r="r" b="b"/>
            <a:pathLst>
              <a:path stroke="0" w="21600" h="21600">
                <a:moveTo>
                  <a:pt x="10786" y="21600"/>
                </a:moveTo>
                <a:arcTo wR="10800" hR="10800" stAng="5404417" swAng="5400318"/>
                <a:lnTo>
                  <a:pt x="10800" y="10800"/>
                </a:lnTo>
                <a:close/>
              </a:path>
              <a:path fill="none" w="21600" h="21600">
                <a:moveTo>
                  <a:pt x="10786" y="21600"/>
                </a:moveTo>
                <a:arcTo wR="10800" hR="10800" stAng="5404417" swAng="5400318"/>
              </a:path>
            </a:pathLst>
          </a:custGeom>
          <a:noFill/>
          <a:ln cap="rnd" w="507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9" name=""/>
          <p:cNvSpPr/>
          <p:nvPr/>
        </p:nvSpPr>
        <p:spPr>
          <a:xfrm>
            <a:off x="1035000" y="-1333080"/>
            <a:ext cx="11655000" cy="6479280"/>
          </a:xfrm>
          <a:custGeom>
            <a:avLst/>
            <a:gdLst/>
            <a:ahLst/>
            <a:rect l="l" t="t" r="r" b="b"/>
            <a:pathLst>
              <a:path stroke="0" w="21600" h="21600">
                <a:moveTo>
                  <a:pt x="10785" y="21600"/>
                </a:moveTo>
                <a:arcTo wR="10800" hR="10800" stAng="5404685" swAng="5400368"/>
                <a:lnTo>
                  <a:pt x="10800" y="10800"/>
                </a:lnTo>
                <a:close/>
              </a:path>
              <a:path fill="none" w="21600" h="21600">
                <a:moveTo>
                  <a:pt x="10785" y="21600"/>
                </a:moveTo>
                <a:arcTo wR="10800" hR="10800" stAng="5404685" swAng="5400368"/>
              </a:path>
            </a:pathLst>
          </a:custGeom>
          <a:noFill/>
          <a:ln cap="rnd"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0" name=""/>
          <p:cNvSpPr/>
          <p:nvPr/>
        </p:nvSpPr>
        <p:spPr>
          <a:xfrm>
            <a:off x="954000" y="5661000"/>
            <a:ext cx="7346880" cy="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1" name=""/>
          <p:cNvSpPr/>
          <p:nvPr/>
        </p:nvSpPr>
        <p:spPr>
          <a:xfrm flipV="1">
            <a:off x="939960" y="5575320"/>
            <a:ext cx="0" cy="171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2" name=""/>
          <p:cNvSpPr/>
          <p:nvPr/>
        </p:nvSpPr>
        <p:spPr>
          <a:xfrm flipV="1">
            <a:off x="1677960" y="5575320"/>
            <a:ext cx="0" cy="17136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3" name=""/>
          <p:cNvSpPr/>
          <p:nvPr/>
        </p:nvSpPr>
        <p:spPr>
          <a:xfrm flipV="1">
            <a:off x="2414520" y="5575320"/>
            <a:ext cx="0" cy="17136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4" name=""/>
          <p:cNvSpPr/>
          <p:nvPr/>
        </p:nvSpPr>
        <p:spPr>
          <a:xfrm flipV="1">
            <a:off x="3152880" y="5575320"/>
            <a:ext cx="0" cy="17136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5" name=""/>
          <p:cNvSpPr/>
          <p:nvPr/>
        </p:nvSpPr>
        <p:spPr>
          <a:xfrm flipV="1">
            <a:off x="3889440" y="5575320"/>
            <a:ext cx="0" cy="17136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6" name=""/>
          <p:cNvSpPr/>
          <p:nvPr/>
        </p:nvSpPr>
        <p:spPr>
          <a:xfrm flipV="1">
            <a:off x="4627440" y="5575320"/>
            <a:ext cx="0" cy="17136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7" name=""/>
          <p:cNvSpPr/>
          <p:nvPr/>
        </p:nvSpPr>
        <p:spPr>
          <a:xfrm flipV="1">
            <a:off x="5367240" y="5575320"/>
            <a:ext cx="0" cy="17136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8" name=""/>
          <p:cNvSpPr/>
          <p:nvPr/>
        </p:nvSpPr>
        <p:spPr>
          <a:xfrm flipV="1">
            <a:off x="6103800" y="5575320"/>
            <a:ext cx="0" cy="17136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9" name=""/>
          <p:cNvSpPr/>
          <p:nvPr/>
        </p:nvSpPr>
        <p:spPr>
          <a:xfrm flipV="1">
            <a:off x="6840360" y="5575320"/>
            <a:ext cx="0" cy="17136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flipV="1">
            <a:off x="7577280" y="5575320"/>
            <a:ext cx="0" cy="17136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1" name=""/>
          <p:cNvSpPr/>
          <p:nvPr/>
        </p:nvSpPr>
        <p:spPr>
          <a:xfrm flipV="1">
            <a:off x="8313840" y="5575320"/>
            <a:ext cx="0" cy="17136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2" name=""/>
          <p:cNvSpPr/>
          <p:nvPr/>
        </p:nvSpPr>
        <p:spPr>
          <a:xfrm>
            <a:off x="1036800" y="1596960"/>
            <a:ext cx="390240" cy="444600"/>
          </a:xfrm>
          <a:custGeom>
            <a:avLst/>
            <a:gdLst/>
            <a:ahLst/>
            <a:rect l="l" t="t" r="r" b="b"/>
            <a:pathLst>
              <a:path w="246" h="280">
                <a:moveTo>
                  <a:pt x="123" y="270"/>
                </a:moveTo>
                <a:lnTo>
                  <a:pt x="121" y="267"/>
                </a:lnTo>
                <a:lnTo>
                  <a:pt x="87" y="279"/>
                </a:lnTo>
                <a:lnTo>
                  <a:pt x="85" y="277"/>
                </a:lnTo>
                <a:lnTo>
                  <a:pt x="84" y="276"/>
                </a:lnTo>
                <a:lnTo>
                  <a:pt x="84" y="268"/>
                </a:lnTo>
                <a:lnTo>
                  <a:pt x="86" y="264"/>
                </a:lnTo>
                <a:lnTo>
                  <a:pt x="115" y="234"/>
                </a:lnTo>
                <a:lnTo>
                  <a:pt x="113" y="214"/>
                </a:lnTo>
                <a:lnTo>
                  <a:pt x="111" y="193"/>
                </a:lnTo>
                <a:lnTo>
                  <a:pt x="111" y="158"/>
                </a:lnTo>
                <a:lnTo>
                  <a:pt x="99" y="159"/>
                </a:lnTo>
                <a:lnTo>
                  <a:pt x="5" y="188"/>
                </a:lnTo>
                <a:lnTo>
                  <a:pt x="1" y="188"/>
                </a:lnTo>
                <a:lnTo>
                  <a:pt x="0" y="185"/>
                </a:lnTo>
                <a:lnTo>
                  <a:pt x="0" y="176"/>
                </a:lnTo>
                <a:lnTo>
                  <a:pt x="1" y="173"/>
                </a:lnTo>
                <a:lnTo>
                  <a:pt x="2" y="171"/>
                </a:lnTo>
                <a:lnTo>
                  <a:pt x="52" y="136"/>
                </a:lnTo>
                <a:lnTo>
                  <a:pt x="53" y="121"/>
                </a:lnTo>
                <a:lnTo>
                  <a:pt x="53" y="114"/>
                </a:lnTo>
                <a:lnTo>
                  <a:pt x="59" y="114"/>
                </a:lnTo>
                <a:lnTo>
                  <a:pt x="60" y="121"/>
                </a:lnTo>
                <a:lnTo>
                  <a:pt x="60" y="132"/>
                </a:lnTo>
                <a:lnTo>
                  <a:pt x="82" y="117"/>
                </a:lnTo>
                <a:lnTo>
                  <a:pt x="82" y="100"/>
                </a:lnTo>
                <a:lnTo>
                  <a:pt x="84" y="92"/>
                </a:lnTo>
                <a:lnTo>
                  <a:pt x="89" y="92"/>
                </a:lnTo>
                <a:lnTo>
                  <a:pt x="89" y="100"/>
                </a:lnTo>
                <a:lnTo>
                  <a:pt x="91" y="111"/>
                </a:lnTo>
                <a:lnTo>
                  <a:pt x="111" y="88"/>
                </a:lnTo>
                <a:lnTo>
                  <a:pt x="111" y="61"/>
                </a:lnTo>
                <a:lnTo>
                  <a:pt x="113" y="32"/>
                </a:lnTo>
                <a:lnTo>
                  <a:pt x="115" y="18"/>
                </a:lnTo>
                <a:lnTo>
                  <a:pt x="118" y="6"/>
                </a:lnTo>
                <a:lnTo>
                  <a:pt x="120" y="0"/>
                </a:lnTo>
                <a:lnTo>
                  <a:pt x="123" y="0"/>
                </a:lnTo>
                <a:lnTo>
                  <a:pt x="125" y="0"/>
                </a:lnTo>
                <a:lnTo>
                  <a:pt x="128" y="6"/>
                </a:lnTo>
                <a:lnTo>
                  <a:pt x="130" y="18"/>
                </a:lnTo>
                <a:lnTo>
                  <a:pt x="132" y="32"/>
                </a:lnTo>
                <a:lnTo>
                  <a:pt x="134" y="61"/>
                </a:lnTo>
                <a:lnTo>
                  <a:pt x="134" y="88"/>
                </a:lnTo>
                <a:lnTo>
                  <a:pt x="156" y="111"/>
                </a:lnTo>
                <a:lnTo>
                  <a:pt x="156" y="100"/>
                </a:lnTo>
                <a:lnTo>
                  <a:pt x="157" y="92"/>
                </a:lnTo>
                <a:lnTo>
                  <a:pt x="161" y="92"/>
                </a:lnTo>
                <a:lnTo>
                  <a:pt x="163" y="100"/>
                </a:lnTo>
                <a:lnTo>
                  <a:pt x="164" y="117"/>
                </a:lnTo>
                <a:lnTo>
                  <a:pt x="185" y="132"/>
                </a:lnTo>
                <a:lnTo>
                  <a:pt x="185" y="121"/>
                </a:lnTo>
                <a:lnTo>
                  <a:pt x="186" y="114"/>
                </a:lnTo>
                <a:lnTo>
                  <a:pt x="192" y="114"/>
                </a:lnTo>
                <a:lnTo>
                  <a:pt x="193" y="121"/>
                </a:lnTo>
                <a:lnTo>
                  <a:pt x="193" y="136"/>
                </a:lnTo>
                <a:lnTo>
                  <a:pt x="243" y="171"/>
                </a:lnTo>
                <a:lnTo>
                  <a:pt x="245" y="173"/>
                </a:lnTo>
                <a:lnTo>
                  <a:pt x="245" y="176"/>
                </a:lnTo>
                <a:lnTo>
                  <a:pt x="245" y="185"/>
                </a:lnTo>
                <a:lnTo>
                  <a:pt x="244" y="188"/>
                </a:lnTo>
                <a:lnTo>
                  <a:pt x="242" y="188"/>
                </a:lnTo>
                <a:lnTo>
                  <a:pt x="147" y="159"/>
                </a:lnTo>
                <a:lnTo>
                  <a:pt x="134" y="158"/>
                </a:lnTo>
                <a:lnTo>
                  <a:pt x="134" y="193"/>
                </a:lnTo>
                <a:lnTo>
                  <a:pt x="134" y="214"/>
                </a:lnTo>
                <a:lnTo>
                  <a:pt x="130" y="234"/>
                </a:lnTo>
                <a:lnTo>
                  <a:pt x="160" y="264"/>
                </a:lnTo>
                <a:lnTo>
                  <a:pt x="161" y="268"/>
                </a:lnTo>
                <a:lnTo>
                  <a:pt x="161" y="276"/>
                </a:lnTo>
                <a:lnTo>
                  <a:pt x="161" y="277"/>
                </a:lnTo>
                <a:lnTo>
                  <a:pt x="159" y="279"/>
                </a:lnTo>
                <a:lnTo>
                  <a:pt x="124" y="267"/>
                </a:lnTo>
                <a:lnTo>
                  <a:pt x="123" y="27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a:off x="1036800" y="1596960"/>
            <a:ext cx="401400" cy="460440"/>
          </a:xfrm>
          <a:custGeom>
            <a:avLst/>
            <a:gdLst/>
            <a:ahLst/>
            <a:rect l="l" t="t" r="r" b="b"/>
            <a:pathLst>
              <a:path w="253" h="290">
                <a:moveTo>
                  <a:pt x="127" y="280"/>
                </a:moveTo>
                <a:lnTo>
                  <a:pt x="124" y="276"/>
                </a:lnTo>
                <a:lnTo>
                  <a:pt x="90" y="289"/>
                </a:lnTo>
                <a:lnTo>
                  <a:pt x="87" y="287"/>
                </a:lnTo>
                <a:lnTo>
                  <a:pt x="86" y="286"/>
                </a:lnTo>
                <a:lnTo>
                  <a:pt x="86" y="278"/>
                </a:lnTo>
                <a:lnTo>
                  <a:pt x="88" y="273"/>
                </a:lnTo>
                <a:lnTo>
                  <a:pt x="118" y="242"/>
                </a:lnTo>
                <a:lnTo>
                  <a:pt x="116" y="221"/>
                </a:lnTo>
                <a:lnTo>
                  <a:pt x="115" y="199"/>
                </a:lnTo>
                <a:lnTo>
                  <a:pt x="115" y="163"/>
                </a:lnTo>
                <a:lnTo>
                  <a:pt x="102" y="165"/>
                </a:lnTo>
                <a:lnTo>
                  <a:pt x="5" y="195"/>
                </a:lnTo>
                <a:lnTo>
                  <a:pt x="1" y="195"/>
                </a:lnTo>
                <a:lnTo>
                  <a:pt x="0" y="192"/>
                </a:lnTo>
                <a:lnTo>
                  <a:pt x="0" y="182"/>
                </a:lnTo>
                <a:lnTo>
                  <a:pt x="1" y="179"/>
                </a:lnTo>
                <a:lnTo>
                  <a:pt x="2" y="177"/>
                </a:lnTo>
                <a:lnTo>
                  <a:pt x="54" y="141"/>
                </a:lnTo>
                <a:lnTo>
                  <a:pt x="55" y="126"/>
                </a:lnTo>
                <a:lnTo>
                  <a:pt x="55" y="118"/>
                </a:lnTo>
                <a:lnTo>
                  <a:pt x="61" y="118"/>
                </a:lnTo>
                <a:lnTo>
                  <a:pt x="62" y="126"/>
                </a:lnTo>
                <a:lnTo>
                  <a:pt x="62" y="137"/>
                </a:lnTo>
                <a:lnTo>
                  <a:pt x="85" y="121"/>
                </a:lnTo>
                <a:lnTo>
                  <a:pt x="85" y="104"/>
                </a:lnTo>
                <a:lnTo>
                  <a:pt x="86" y="96"/>
                </a:lnTo>
                <a:lnTo>
                  <a:pt x="92" y="96"/>
                </a:lnTo>
                <a:lnTo>
                  <a:pt x="92" y="104"/>
                </a:lnTo>
                <a:lnTo>
                  <a:pt x="93" y="115"/>
                </a:lnTo>
                <a:lnTo>
                  <a:pt x="115" y="91"/>
                </a:lnTo>
                <a:lnTo>
                  <a:pt x="115" y="63"/>
                </a:lnTo>
                <a:lnTo>
                  <a:pt x="116" y="33"/>
                </a:lnTo>
                <a:lnTo>
                  <a:pt x="118" y="19"/>
                </a:lnTo>
                <a:lnTo>
                  <a:pt x="122" y="6"/>
                </a:lnTo>
                <a:lnTo>
                  <a:pt x="123" y="0"/>
                </a:lnTo>
                <a:lnTo>
                  <a:pt x="127" y="0"/>
                </a:lnTo>
                <a:lnTo>
                  <a:pt x="129" y="0"/>
                </a:lnTo>
                <a:lnTo>
                  <a:pt x="131" y="6"/>
                </a:lnTo>
                <a:lnTo>
                  <a:pt x="134" y="19"/>
                </a:lnTo>
                <a:lnTo>
                  <a:pt x="136" y="33"/>
                </a:lnTo>
                <a:lnTo>
                  <a:pt x="137" y="63"/>
                </a:lnTo>
                <a:lnTo>
                  <a:pt x="137" y="91"/>
                </a:lnTo>
                <a:lnTo>
                  <a:pt x="160" y="115"/>
                </a:lnTo>
                <a:lnTo>
                  <a:pt x="160" y="104"/>
                </a:lnTo>
                <a:lnTo>
                  <a:pt x="161" y="96"/>
                </a:lnTo>
                <a:lnTo>
                  <a:pt x="166" y="96"/>
                </a:lnTo>
                <a:lnTo>
                  <a:pt x="167" y="104"/>
                </a:lnTo>
                <a:lnTo>
                  <a:pt x="168" y="121"/>
                </a:lnTo>
                <a:lnTo>
                  <a:pt x="190" y="137"/>
                </a:lnTo>
                <a:lnTo>
                  <a:pt x="190" y="126"/>
                </a:lnTo>
                <a:lnTo>
                  <a:pt x="191" y="118"/>
                </a:lnTo>
                <a:lnTo>
                  <a:pt x="197" y="118"/>
                </a:lnTo>
                <a:lnTo>
                  <a:pt x="198" y="126"/>
                </a:lnTo>
                <a:lnTo>
                  <a:pt x="198" y="141"/>
                </a:lnTo>
                <a:lnTo>
                  <a:pt x="250" y="177"/>
                </a:lnTo>
                <a:lnTo>
                  <a:pt x="252" y="179"/>
                </a:lnTo>
                <a:lnTo>
                  <a:pt x="252" y="182"/>
                </a:lnTo>
                <a:lnTo>
                  <a:pt x="252" y="192"/>
                </a:lnTo>
                <a:lnTo>
                  <a:pt x="251" y="195"/>
                </a:lnTo>
                <a:lnTo>
                  <a:pt x="248" y="195"/>
                </a:lnTo>
                <a:lnTo>
                  <a:pt x="152" y="165"/>
                </a:lnTo>
                <a:lnTo>
                  <a:pt x="137" y="163"/>
                </a:lnTo>
                <a:lnTo>
                  <a:pt x="137" y="199"/>
                </a:lnTo>
                <a:lnTo>
                  <a:pt x="137" y="221"/>
                </a:lnTo>
                <a:lnTo>
                  <a:pt x="134" y="242"/>
                </a:lnTo>
                <a:lnTo>
                  <a:pt x="165" y="273"/>
                </a:lnTo>
                <a:lnTo>
                  <a:pt x="166" y="278"/>
                </a:lnTo>
                <a:lnTo>
                  <a:pt x="166" y="286"/>
                </a:lnTo>
                <a:lnTo>
                  <a:pt x="166" y="287"/>
                </a:lnTo>
                <a:lnTo>
                  <a:pt x="164" y="289"/>
                </a:lnTo>
                <a:lnTo>
                  <a:pt x="128" y="276"/>
                </a:lnTo>
                <a:lnTo>
                  <a:pt x="127" y="2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a:off x="1184400" y="1724040"/>
            <a:ext cx="390240" cy="444600"/>
          </a:xfrm>
          <a:custGeom>
            <a:avLst/>
            <a:gdLst/>
            <a:ahLst/>
            <a:rect l="l" t="t" r="r" b="b"/>
            <a:pathLst>
              <a:path w="246" h="280">
                <a:moveTo>
                  <a:pt x="123" y="270"/>
                </a:moveTo>
                <a:lnTo>
                  <a:pt x="122" y="265"/>
                </a:lnTo>
                <a:lnTo>
                  <a:pt x="87" y="279"/>
                </a:lnTo>
                <a:lnTo>
                  <a:pt x="85" y="277"/>
                </a:lnTo>
                <a:lnTo>
                  <a:pt x="84" y="276"/>
                </a:lnTo>
                <a:lnTo>
                  <a:pt x="84" y="268"/>
                </a:lnTo>
                <a:lnTo>
                  <a:pt x="86" y="264"/>
                </a:lnTo>
                <a:lnTo>
                  <a:pt x="115" y="234"/>
                </a:lnTo>
                <a:lnTo>
                  <a:pt x="113" y="212"/>
                </a:lnTo>
                <a:lnTo>
                  <a:pt x="111" y="193"/>
                </a:lnTo>
                <a:lnTo>
                  <a:pt x="111" y="158"/>
                </a:lnTo>
                <a:lnTo>
                  <a:pt x="99" y="159"/>
                </a:lnTo>
                <a:lnTo>
                  <a:pt x="5" y="188"/>
                </a:lnTo>
                <a:lnTo>
                  <a:pt x="1" y="188"/>
                </a:lnTo>
                <a:lnTo>
                  <a:pt x="0" y="185"/>
                </a:lnTo>
                <a:lnTo>
                  <a:pt x="0" y="176"/>
                </a:lnTo>
                <a:lnTo>
                  <a:pt x="1" y="173"/>
                </a:lnTo>
                <a:lnTo>
                  <a:pt x="3" y="171"/>
                </a:lnTo>
                <a:lnTo>
                  <a:pt x="52" y="136"/>
                </a:lnTo>
                <a:lnTo>
                  <a:pt x="53" y="121"/>
                </a:lnTo>
                <a:lnTo>
                  <a:pt x="53" y="114"/>
                </a:lnTo>
                <a:lnTo>
                  <a:pt x="59" y="114"/>
                </a:lnTo>
                <a:lnTo>
                  <a:pt x="60" y="121"/>
                </a:lnTo>
                <a:lnTo>
                  <a:pt x="60" y="132"/>
                </a:lnTo>
                <a:lnTo>
                  <a:pt x="82" y="117"/>
                </a:lnTo>
                <a:lnTo>
                  <a:pt x="82" y="100"/>
                </a:lnTo>
                <a:lnTo>
                  <a:pt x="84" y="92"/>
                </a:lnTo>
                <a:lnTo>
                  <a:pt x="89" y="92"/>
                </a:lnTo>
                <a:lnTo>
                  <a:pt x="89" y="100"/>
                </a:lnTo>
                <a:lnTo>
                  <a:pt x="91" y="111"/>
                </a:lnTo>
                <a:lnTo>
                  <a:pt x="111" y="88"/>
                </a:lnTo>
                <a:lnTo>
                  <a:pt x="111" y="61"/>
                </a:lnTo>
                <a:lnTo>
                  <a:pt x="113" y="32"/>
                </a:lnTo>
                <a:lnTo>
                  <a:pt x="115" y="18"/>
                </a:lnTo>
                <a:lnTo>
                  <a:pt x="118" y="5"/>
                </a:lnTo>
                <a:lnTo>
                  <a:pt x="121" y="0"/>
                </a:lnTo>
                <a:lnTo>
                  <a:pt x="123" y="0"/>
                </a:lnTo>
                <a:lnTo>
                  <a:pt x="125" y="0"/>
                </a:lnTo>
                <a:lnTo>
                  <a:pt x="128" y="5"/>
                </a:lnTo>
                <a:lnTo>
                  <a:pt x="131" y="18"/>
                </a:lnTo>
                <a:lnTo>
                  <a:pt x="132" y="32"/>
                </a:lnTo>
                <a:lnTo>
                  <a:pt x="135" y="61"/>
                </a:lnTo>
                <a:lnTo>
                  <a:pt x="135" y="88"/>
                </a:lnTo>
                <a:lnTo>
                  <a:pt x="156" y="111"/>
                </a:lnTo>
                <a:lnTo>
                  <a:pt x="156" y="100"/>
                </a:lnTo>
                <a:lnTo>
                  <a:pt x="157" y="92"/>
                </a:lnTo>
                <a:lnTo>
                  <a:pt x="163" y="92"/>
                </a:lnTo>
                <a:lnTo>
                  <a:pt x="163" y="100"/>
                </a:lnTo>
                <a:lnTo>
                  <a:pt x="164" y="117"/>
                </a:lnTo>
                <a:lnTo>
                  <a:pt x="185" y="132"/>
                </a:lnTo>
                <a:lnTo>
                  <a:pt x="185" y="121"/>
                </a:lnTo>
                <a:lnTo>
                  <a:pt x="186" y="114"/>
                </a:lnTo>
                <a:lnTo>
                  <a:pt x="192" y="114"/>
                </a:lnTo>
                <a:lnTo>
                  <a:pt x="193" y="121"/>
                </a:lnTo>
                <a:lnTo>
                  <a:pt x="193" y="136"/>
                </a:lnTo>
                <a:lnTo>
                  <a:pt x="243" y="171"/>
                </a:lnTo>
                <a:lnTo>
                  <a:pt x="245" y="173"/>
                </a:lnTo>
                <a:lnTo>
                  <a:pt x="245" y="176"/>
                </a:lnTo>
                <a:lnTo>
                  <a:pt x="245" y="185"/>
                </a:lnTo>
                <a:lnTo>
                  <a:pt x="244" y="188"/>
                </a:lnTo>
                <a:lnTo>
                  <a:pt x="242" y="188"/>
                </a:lnTo>
                <a:lnTo>
                  <a:pt x="147" y="159"/>
                </a:lnTo>
                <a:lnTo>
                  <a:pt x="135" y="158"/>
                </a:lnTo>
                <a:lnTo>
                  <a:pt x="135" y="193"/>
                </a:lnTo>
                <a:lnTo>
                  <a:pt x="134" y="212"/>
                </a:lnTo>
                <a:lnTo>
                  <a:pt x="131" y="234"/>
                </a:lnTo>
                <a:lnTo>
                  <a:pt x="160" y="264"/>
                </a:lnTo>
                <a:lnTo>
                  <a:pt x="161" y="268"/>
                </a:lnTo>
                <a:lnTo>
                  <a:pt x="161" y="276"/>
                </a:lnTo>
                <a:lnTo>
                  <a:pt x="161" y="277"/>
                </a:lnTo>
                <a:lnTo>
                  <a:pt x="159" y="279"/>
                </a:lnTo>
                <a:lnTo>
                  <a:pt x="124" y="265"/>
                </a:lnTo>
                <a:lnTo>
                  <a:pt x="123" y="27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5" name=""/>
          <p:cNvSpPr/>
          <p:nvPr/>
        </p:nvSpPr>
        <p:spPr>
          <a:xfrm>
            <a:off x="1184400" y="1724040"/>
            <a:ext cx="401400" cy="460440"/>
          </a:xfrm>
          <a:custGeom>
            <a:avLst/>
            <a:gdLst/>
            <a:ahLst/>
            <a:rect l="l" t="t" r="r" b="b"/>
            <a:pathLst>
              <a:path w="253" h="290">
                <a:moveTo>
                  <a:pt x="127" y="280"/>
                </a:moveTo>
                <a:lnTo>
                  <a:pt x="125" y="275"/>
                </a:lnTo>
                <a:lnTo>
                  <a:pt x="90" y="289"/>
                </a:lnTo>
                <a:lnTo>
                  <a:pt x="87" y="287"/>
                </a:lnTo>
                <a:lnTo>
                  <a:pt x="86" y="286"/>
                </a:lnTo>
                <a:lnTo>
                  <a:pt x="86" y="278"/>
                </a:lnTo>
                <a:lnTo>
                  <a:pt x="88" y="273"/>
                </a:lnTo>
                <a:lnTo>
                  <a:pt x="118" y="242"/>
                </a:lnTo>
                <a:lnTo>
                  <a:pt x="116" y="220"/>
                </a:lnTo>
                <a:lnTo>
                  <a:pt x="115" y="199"/>
                </a:lnTo>
                <a:lnTo>
                  <a:pt x="115" y="163"/>
                </a:lnTo>
                <a:lnTo>
                  <a:pt x="102" y="165"/>
                </a:lnTo>
                <a:lnTo>
                  <a:pt x="5" y="195"/>
                </a:lnTo>
                <a:lnTo>
                  <a:pt x="1" y="195"/>
                </a:lnTo>
                <a:lnTo>
                  <a:pt x="0" y="192"/>
                </a:lnTo>
                <a:lnTo>
                  <a:pt x="0" y="182"/>
                </a:lnTo>
                <a:lnTo>
                  <a:pt x="1" y="179"/>
                </a:lnTo>
                <a:lnTo>
                  <a:pt x="4" y="177"/>
                </a:lnTo>
                <a:lnTo>
                  <a:pt x="54" y="141"/>
                </a:lnTo>
                <a:lnTo>
                  <a:pt x="55" y="126"/>
                </a:lnTo>
                <a:lnTo>
                  <a:pt x="55" y="118"/>
                </a:lnTo>
                <a:lnTo>
                  <a:pt x="61" y="118"/>
                </a:lnTo>
                <a:lnTo>
                  <a:pt x="62" y="126"/>
                </a:lnTo>
                <a:lnTo>
                  <a:pt x="62" y="137"/>
                </a:lnTo>
                <a:lnTo>
                  <a:pt x="85" y="121"/>
                </a:lnTo>
                <a:lnTo>
                  <a:pt x="85" y="104"/>
                </a:lnTo>
                <a:lnTo>
                  <a:pt x="86" y="96"/>
                </a:lnTo>
                <a:lnTo>
                  <a:pt x="92" y="96"/>
                </a:lnTo>
                <a:lnTo>
                  <a:pt x="92" y="104"/>
                </a:lnTo>
                <a:lnTo>
                  <a:pt x="93" y="115"/>
                </a:lnTo>
                <a:lnTo>
                  <a:pt x="115" y="91"/>
                </a:lnTo>
                <a:lnTo>
                  <a:pt x="115" y="63"/>
                </a:lnTo>
                <a:lnTo>
                  <a:pt x="116" y="33"/>
                </a:lnTo>
                <a:lnTo>
                  <a:pt x="118" y="19"/>
                </a:lnTo>
                <a:lnTo>
                  <a:pt x="122" y="5"/>
                </a:lnTo>
                <a:lnTo>
                  <a:pt x="124" y="0"/>
                </a:lnTo>
                <a:lnTo>
                  <a:pt x="127" y="0"/>
                </a:lnTo>
                <a:lnTo>
                  <a:pt x="129" y="0"/>
                </a:lnTo>
                <a:lnTo>
                  <a:pt x="131" y="5"/>
                </a:lnTo>
                <a:lnTo>
                  <a:pt x="135" y="19"/>
                </a:lnTo>
                <a:lnTo>
                  <a:pt x="136" y="33"/>
                </a:lnTo>
                <a:lnTo>
                  <a:pt x="139" y="63"/>
                </a:lnTo>
                <a:lnTo>
                  <a:pt x="139" y="91"/>
                </a:lnTo>
                <a:lnTo>
                  <a:pt x="160" y="115"/>
                </a:lnTo>
                <a:lnTo>
                  <a:pt x="160" y="104"/>
                </a:lnTo>
                <a:lnTo>
                  <a:pt x="161" y="96"/>
                </a:lnTo>
                <a:lnTo>
                  <a:pt x="167" y="96"/>
                </a:lnTo>
                <a:lnTo>
                  <a:pt x="167" y="104"/>
                </a:lnTo>
                <a:lnTo>
                  <a:pt x="168" y="121"/>
                </a:lnTo>
                <a:lnTo>
                  <a:pt x="190" y="137"/>
                </a:lnTo>
                <a:lnTo>
                  <a:pt x="190" y="126"/>
                </a:lnTo>
                <a:lnTo>
                  <a:pt x="191" y="118"/>
                </a:lnTo>
                <a:lnTo>
                  <a:pt x="197" y="118"/>
                </a:lnTo>
                <a:lnTo>
                  <a:pt x="198" y="126"/>
                </a:lnTo>
                <a:lnTo>
                  <a:pt x="198" y="141"/>
                </a:lnTo>
                <a:lnTo>
                  <a:pt x="250" y="177"/>
                </a:lnTo>
                <a:lnTo>
                  <a:pt x="252" y="179"/>
                </a:lnTo>
                <a:lnTo>
                  <a:pt x="252" y="182"/>
                </a:lnTo>
                <a:lnTo>
                  <a:pt x="252" y="192"/>
                </a:lnTo>
                <a:lnTo>
                  <a:pt x="251" y="195"/>
                </a:lnTo>
                <a:lnTo>
                  <a:pt x="248" y="195"/>
                </a:lnTo>
                <a:lnTo>
                  <a:pt x="152" y="165"/>
                </a:lnTo>
                <a:lnTo>
                  <a:pt x="139" y="163"/>
                </a:lnTo>
                <a:lnTo>
                  <a:pt x="139" y="199"/>
                </a:lnTo>
                <a:lnTo>
                  <a:pt x="137" y="220"/>
                </a:lnTo>
                <a:lnTo>
                  <a:pt x="135" y="242"/>
                </a:lnTo>
                <a:lnTo>
                  <a:pt x="165" y="273"/>
                </a:lnTo>
                <a:lnTo>
                  <a:pt x="166" y="278"/>
                </a:lnTo>
                <a:lnTo>
                  <a:pt x="166" y="286"/>
                </a:lnTo>
                <a:lnTo>
                  <a:pt x="166" y="287"/>
                </a:lnTo>
                <a:lnTo>
                  <a:pt x="164" y="289"/>
                </a:lnTo>
                <a:lnTo>
                  <a:pt x="128" y="275"/>
                </a:lnTo>
                <a:lnTo>
                  <a:pt x="127" y="2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6" name=""/>
          <p:cNvSpPr/>
          <p:nvPr/>
        </p:nvSpPr>
        <p:spPr>
          <a:xfrm>
            <a:off x="1330200" y="1596960"/>
            <a:ext cx="390600" cy="444600"/>
          </a:xfrm>
          <a:custGeom>
            <a:avLst/>
            <a:gdLst/>
            <a:ahLst/>
            <a:rect l="l" t="t" r="r" b="b"/>
            <a:pathLst>
              <a:path w="246" h="280">
                <a:moveTo>
                  <a:pt x="122" y="270"/>
                </a:moveTo>
                <a:lnTo>
                  <a:pt x="121" y="267"/>
                </a:lnTo>
                <a:lnTo>
                  <a:pt x="86" y="279"/>
                </a:lnTo>
                <a:lnTo>
                  <a:pt x="85" y="277"/>
                </a:lnTo>
                <a:lnTo>
                  <a:pt x="84" y="276"/>
                </a:lnTo>
                <a:lnTo>
                  <a:pt x="84" y="268"/>
                </a:lnTo>
                <a:lnTo>
                  <a:pt x="85" y="264"/>
                </a:lnTo>
                <a:lnTo>
                  <a:pt x="115" y="234"/>
                </a:lnTo>
                <a:lnTo>
                  <a:pt x="113" y="214"/>
                </a:lnTo>
                <a:lnTo>
                  <a:pt x="111" y="193"/>
                </a:lnTo>
                <a:lnTo>
                  <a:pt x="111" y="158"/>
                </a:lnTo>
                <a:lnTo>
                  <a:pt x="99" y="159"/>
                </a:lnTo>
                <a:lnTo>
                  <a:pt x="5" y="188"/>
                </a:lnTo>
                <a:lnTo>
                  <a:pt x="1" y="188"/>
                </a:lnTo>
                <a:lnTo>
                  <a:pt x="0" y="185"/>
                </a:lnTo>
                <a:lnTo>
                  <a:pt x="0" y="176"/>
                </a:lnTo>
                <a:lnTo>
                  <a:pt x="0" y="173"/>
                </a:lnTo>
                <a:lnTo>
                  <a:pt x="2" y="171"/>
                </a:lnTo>
                <a:lnTo>
                  <a:pt x="52" y="136"/>
                </a:lnTo>
                <a:lnTo>
                  <a:pt x="52" y="121"/>
                </a:lnTo>
                <a:lnTo>
                  <a:pt x="53" y="114"/>
                </a:lnTo>
                <a:lnTo>
                  <a:pt x="59" y="114"/>
                </a:lnTo>
                <a:lnTo>
                  <a:pt x="60" y="121"/>
                </a:lnTo>
                <a:lnTo>
                  <a:pt x="60" y="132"/>
                </a:lnTo>
                <a:lnTo>
                  <a:pt x="81" y="117"/>
                </a:lnTo>
                <a:lnTo>
                  <a:pt x="82" y="100"/>
                </a:lnTo>
                <a:lnTo>
                  <a:pt x="84" y="92"/>
                </a:lnTo>
                <a:lnTo>
                  <a:pt x="89" y="92"/>
                </a:lnTo>
                <a:lnTo>
                  <a:pt x="89" y="100"/>
                </a:lnTo>
                <a:lnTo>
                  <a:pt x="89" y="111"/>
                </a:lnTo>
                <a:lnTo>
                  <a:pt x="111" y="88"/>
                </a:lnTo>
                <a:lnTo>
                  <a:pt x="111" y="61"/>
                </a:lnTo>
                <a:lnTo>
                  <a:pt x="113" y="32"/>
                </a:lnTo>
                <a:lnTo>
                  <a:pt x="115" y="18"/>
                </a:lnTo>
                <a:lnTo>
                  <a:pt x="117" y="6"/>
                </a:lnTo>
                <a:lnTo>
                  <a:pt x="120" y="0"/>
                </a:lnTo>
                <a:lnTo>
                  <a:pt x="122" y="0"/>
                </a:lnTo>
                <a:lnTo>
                  <a:pt x="125" y="0"/>
                </a:lnTo>
                <a:lnTo>
                  <a:pt x="127" y="6"/>
                </a:lnTo>
                <a:lnTo>
                  <a:pt x="130" y="18"/>
                </a:lnTo>
                <a:lnTo>
                  <a:pt x="132" y="32"/>
                </a:lnTo>
                <a:lnTo>
                  <a:pt x="134" y="61"/>
                </a:lnTo>
                <a:lnTo>
                  <a:pt x="134" y="88"/>
                </a:lnTo>
                <a:lnTo>
                  <a:pt x="156" y="111"/>
                </a:lnTo>
                <a:lnTo>
                  <a:pt x="156" y="100"/>
                </a:lnTo>
                <a:lnTo>
                  <a:pt x="156" y="92"/>
                </a:lnTo>
                <a:lnTo>
                  <a:pt x="161" y="92"/>
                </a:lnTo>
                <a:lnTo>
                  <a:pt x="163" y="100"/>
                </a:lnTo>
                <a:lnTo>
                  <a:pt x="164" y="117"/>
                </a:lnTo>
                <a:lnTo>
                  <a:pt x="185" y="132"/>
                </a:lnTo>
                <a:lnTo>
                  <a:pt x="185" y="121"/>
                </a:lnTo>
                <a:lnTo>
                  <a:pt x="186" y="114"/>
                </a:lnTo>
                <a:lnTo>
                  <a:pt x="192" y="114"/>
                </a:lnTo>
                <a:lnTo>
                  <a:pt x="193" y="121"/>
                </a:lnTo>
                <a:lnTo>
                  <a:pt x="193" y="136"/>
                </a:lnTo>
                <a:lnTo>
                  <a:pt x="243" y="171"/>
                </a:lnTo>
                <a:lnTo>
                  <a:pt x="244" y="173"/>
                </a:lnTo>
                <a:lnTo>
                  <a:pt x="245" y="176"/>
                </a:lnTo>
                <a:lnTo>
                  <a:pt x="245" y="185"/>
                </a:lnTo>
                <a:lnTo>
                  <a:pt x="244" y="188"/>
                </a:lnTo>
                <a:lnTo>
                  <a:pt x="240" y="188"/>
                </a:lnTo>
                <a:lnTo>
                  <a:pt x="146" y="159"/>
                </a:lnTo>
                <a:lnTo>
                  <a:pt x="134" y="158"/>
                </a:lnTo>
                <a:lnTo>
                  <a:pt x="134" y="193"/>
                </a:lnTo>
                <a:lnTo>
                  <a:pt x="132" y="214"/>
                </a:lnTo>
                <a:lnTo>
                  <a:pt x="130" y="234"/>
                </a:lnTo>
                <a:lnTo>
                  <a:pt x="160" y="264"/>
                </a:lnTo>
                <a:lnTo>
                  <a:pt x="161" y="268"/>
                </a:lnTo>
                <a:lnTo>
                  <a:pt x="161" y="276"/>
                </a:lnTo>
                <a:lnTo>
                  <a:pt x="160" y="277"/>
                </a:lnTo>
                <a:lnTo>
                  <a:pt x="159" y="279"/>
                </a:lnTo>
                <a:lnTo>
                  <a:pt x="124" y="267"/>
                </a:lnTo>
                <a:lnTo>
                  <a:pt x="122" y="27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7" name=""/>
          <p:cNvSpPr/>
          <p:nvPr/>
        </p:nvSpPr>
        <p:spPr>
          <a:xfrm>
            <a:off x="1330200" y="1596960"/>
            <a:ext cx="400320" cy="460440"/>
          </a:xfrm>
          <a:custGeom>
            <a:avLst/>
            <a:gdLst/>
            <a:ahLst/>
            <a:rect l="l" t="t" r="r" b="b"/>
            <a:pathLst>
              <a:path w="252" h="290">
                <a:moveTo>
                  <a:pt x="125" y="280"/>
                </a:moveTo>
                <a:lnTo>
                  <a:pt x="124" y="276"/>
                </a:lnTo>
                <a:lnTo>
                  <a:pt x="88" y="289"/>
                </a:lnTo>
                <a:lnTo>
                  <a:pt x="87" y="287"/>
                </a:lnTo>
                <a:lnTo>
                  <a:pt x="86" y="286"/>
                </a:lnTo>
                <a:lnTo>
                  <a:pt x="86" y="278"/>
                </a:lnTo>
                <a:lnTo>
                  <a:pt x="87" y="273"/>
                </a:lnTo>
                <a:lnTo>
                  <a:pt x="118" y="242"/>
                </a:lnTo>
                <a:lnTo>
                  <a:pt x="115" y="221"/>
                </a:lnTo>
                <a:lnTo>
                  <a:pt x="114" y="199"/>
                </a:lnTo>
                <a:lnTo>
                  <a:pt x="114" y="163"/>
                </a:lnTo>
                <a:lnTo>
                  <a:pt x="101" y="165"/>
                </a:lnTo>
                <a:lnTo>
                  <a:pt x="5" y="195"/>
                </a:lnTo>
                <a:lnTo>
                  <a:pt x="1" y="195"/>
                </a:lnTo>
                <a:lnTo>
                  <a:pt x="0" y="192"/>
                </a:lnTo>
                <a:lnTo>
                  <a:pt x="0" y="182"/>
                </a:lnTo>
                <a:lnTo>
                  <a:pt x="0" y="179"/>
                </a:lnTo>
                <a:lnTo>
                  <a:pt x="2" y="177"/>
                </a:lnTo>
                <a:lnTo>
                  <a:pt x="54" y="141"/>
                </a:lnTo>
                <a:lnTo>
                  <a:pt x="54" y="126"/>
                </a:lnTo>
                <a:lnTo>
                  <a:pt x="55" y="118"/>
                </a:lnTo>
                <a:lnTo>
                  <a:pt x="61" y="118"/>
                </a:lnTo>
                <a:lnTo>
                  <a:pt x="62" y="126"/>
                </a:lnTo>
                <a:lnTo>
                  <a:pt x="62" y="137"/>
                </a:lnTo>
                <a:lnTo>
                  <a:pt x="83" y="121"/>
                </a:lnTo>
                <a:lnTo>
                  <a:pt x="84" y="104"/>
                </a:lnTo>
                <a:lnTo>
                  <a:pt x="86" y="96"/>
                </a:lnTo>
                <a:lnTo>
                  <a:pt x="92" y="96"/>
                </a:lnTo>
                <a:lnTo>
                  <a:pt x="92" y="104"/>
                </a:lnTo>
                <a:lnTo>
                  <a:pt x="92" y="115"/>
                </a:lnTo>
                <a:lnTo>
                  <a:pt x="114" y="91"/>
                </a:lnTo>
                <a:lnTo>
                  <a:pt x="114" y="63"/>
                </a:lnTo>
                <a:lnTo>
                  <a:pt x="115" y="33"/>
                </a:lnTo>
                <a:lnTo>
                  <a:pt x="118" y="19"/>
                </a:lnTo>
                <a:lnTo>
                  <a:pt x="120" y="6"/>
                </a:lnTo>
                <a:lnTo>
                  <a:pt x="123" y="0"/>
                </a:lnTo>
                <a:lnTo>
                  <a:pt x="125" y="0"/>
                </a:lnTo>
                <a:lnTo>
                  <a:pt x="128" y="0"/>
                </a:lnTo>
                <a:lnTo>
                  <a:pt x="130" y="6"/>
                </a:lnTo>
                <a:lnTo>
                  <a:pt x="133" y="19"/>
                </a:lnTo>
                <a:lnTo>
                  <a:pt x="136" y="33"/>
                </a:lnTo>
                <a:lnTo>
                  <a:pt x="137" y="63"/>
                </a:lnTo>
                <a:lnTo>
                  <a:pt x="137" y="91"/>
                </a:lnTo>
                <a:lnTo>
                  <a:pt x="159" y="115"/>
                </a:lnTo>
                <a:lnTo>
                  <a:pt x="159" y="104"/>
                </a:lnTo>
                <a:lnTo>
                  <a:pt x="159" y="96"/>
                </a:lnTo>
                <a:lnTo>
                  <a:pt x="165" y="96"/>
                </a:lnTo>
                <a:lnTo>
                  <a:pt x="167" y="104"/>
                </a:lnTo>
                <a:lnTo>
                  <a:pt x="168" y="121"/>
                </a:lnTo>
                <a:lnTo>
                  <a:pt x="189" y="137"/>
                </a:lnTo>
                <a:lnTo>
                  <a:pt x="189" y="126"/>
                </a:lnTo>
                <a:lnTo>
                  <a:pt x="190" y="118"/>
                </a:lnTo>
                <a:lnTo>
                  <a:pt x="196" y="118"/>
                </a:lnTo>
                <a:lnTo>
                  <a:pt x="197" y="126"/>
                </a:lnTo>
                <a:lnTo>
                  <a:pt x="197" y="141"/>
                </a:lnTo>
                <a:lnTo>
                  <a:pt x="249" y="177"/>
                </a:lnTo>
                <a:lnTo>
                  <a:pt x="250" y="179"/>
                </a:lnTo>
                <a:lnTo>
                  <a:pt x="251" y="182"/>
                </a:lnTo>
                <a:lnTo>
                  <a:pt x="251" y="192"/>
                </a:lnTo>
                <a:lnTo>
                  <a:pt x="250" y="195"/>
                </a:lnTo>
                <a:lnTo>
                  <a:pt x="246" y="195"/>
                </a:lnTo>
                <a:lnTo>
                  <a:pt x="150" y="165"/>
                </a:lnTo>
                <a:lnTo>
                  <a:pt x="137" y="163"/>
                </a:lnTo>
                <a:lnTo>
                  <a:pt x="137" y="199"/>
                </a:lnTo>
                <a:lnTo>
                  <a:pt x="136" y="221"/>
                </a:lnTo>
                <a:lnTo>
                  <a:pt x="133" y="242"/>
                </a:lnTo>
                <a:lnTo>
                  <a:pt x="164" y="273"/>
                </a:lnTo>
                <a:lnTo>
                  <a:pt x="165" y="278"/>
                </a:lnTo>
                <a:lnTo>
                  <a:pt x="165" y="286"/>
                </a:lnTo>
                <a:lnTo>
                  <a:pt x="164" y="287"/>
                </a:lnTo>
                <a:lnTo>
                  <a:pt x="163" y="289"/>
                </a:lnTo>
                <a:lnTo>
                  <a:pt x="127" y="276"/>
                </a:lnTo>
                <a:lnTo>
                  <a:pt x="125" y="2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8" name=""/>
          <p:cNvSpPr/>
          <p:nvPr/>
        </p:nvSpPr>
        <p:spPr>
          <a:xfrm>
            <a:off x="1184400" y="1981080"/>
            <a:ext cx="390240" cy="443160"/>
          </a:xfrm>
          <a:custGeom>
            <a:avLst/>
            <a:gdLst/>
            <a:ahLst/>
            <a:rect l="l" t="t" r="r" b="b"/>
            <a:pathLst>
              <a:path w="246" h="279">
                <a:moveTo>
                  <a:pt x="123" y="270"/>
                </a:moveTo>
                <a:lnTo>
                  <a:pt x="122" y="266"/>
                </a:lnTo>
                <a:lnTo>
                  <a:pt x="87" y="278"/>
                </a:lnTo>
                <a:lnTo>
                  <a:pt x="85" y="278"/>
                </a:lnTo>
                <a:lnTo>
                  <a:pt x="84" y="275"/>
                </a:lnTo>
                <a:lnTo>
                  <a:pt x="84" y="269"/>
                </a:lnTo>
                <a:lnTo>
                  <a:pt x="86" y="264"/>
                </a:lnTo>
                <a:lnTo>
                  <a:pt x="115" y="233"/>
                </a:lnTo>
                <a:lnTo>
                  <a:pt x="113" y="213"/>
                </a:lnTo>
                <a:lnTo>
                  <a:pt x="111" y="192"/>
                </a:lnTo>
                <a:lnTo>
                  <a:pt x="111" y="157"/>
                </a:lnTo>
                <a:lnTo>
                  <a:pt x="99" y="160"/>
                </a:lnTo>
                <a:lnTo>
                  <a:pt x="5" y="189"/>
                </a:lnTo>
                <a:lnTo>
                  <a:pt x="1" y="187"/>
                </a:lnTo>
                <a:lnTo>
                  <a:pt x="0" y="184"/>
                </a:lnTo>
                <a:lnTo>
                  <a:pt x="0" y="177"/>
                </a:lnTo>
                <a:lnTo>
                  <a:pt x="1" y="174"/>
                </a:lnTo>
                <a:lnTo>
                  <a:pt x="3" y="171"/>
                </a:lnTo>
                <a:lnTo>
                  <a:pt x="52" y="137"/>
                </a:lnTo>
                <a:lnTo>
                  <a:pt x="53" y="121"/>
                </a:lnTo>
                <a:lnTo>
                  <a:pt x="53" y="113"/>
                </a:lnTo>
                <a:lnTo>
                  <a:pt x="59" y="113"/>
                </a:lnTo>
                <a:lnTo>
                  <a:pt x="60" y="121"/>
                </a:lnTo>
                <a:lnTo>
                  <a:pt x="60" y="131"/>
                </a:lnTo>
                <a:lnTo>
                  <a:pt x="82" y="116"/>
                </a:lnTo>
                <a:lnTo>
                  <a:pt x="82" y="101"/>
                </a:lnTo>
                <a:lnTo>
                  <a:pt x="84" y="94"/>
                </a:lnTo>
                <a:lnTo>
                  <a:pt x="89" y="94"/>
                </a:lnTo>
                <a:lnTo>
                  <a:pt x="89" y="101"/>
                </a:lnTo>
                <a:lnTo>
                  <a:pt x="91" y="112"/>
                </a:lnTo>
                <a:lnTo>
                  <a:pt x="111" y="89"/>
                </a:lnTo>
                <a:lnTo>
                  <a:pt x="111" y="60"/>
                </a:lnTo>
                <a:lnTo>
                  <a:pt x="113" y="33"/>
                </a:lnTo>
                <a:lnTo>
                  <a:pt x="115" y="20"/>
                </a:lnTo>
                <a:lnTo>
                  <a:pt x="118" y="6"/>
                </a:lnTo>
                <a:lnTo>
                  <a:pt x="121" y="2"/>
                </a:lnTo>
                <a:lnTo>
                  <a:pt x="123" y="0"/>
                </a:lnTo>
                <a:lnTo>
                  <a:pt x="125" y="2"/>
                </a:lnTo>
                <a:lnTo>
                  <a:pt x="128" y="6"/>
                </a:lnTo>
                <a:lnTo>
                  <a:pt x="131" y="20"/>
                </a:lnTo>
                <a:lnTo>
                  <a:pt x="132" y="33"/>
                </a:lnTo>
                <a:lnTo>
                  <a:pt x="135" y="60"/>
                </a:lnTo>
                <a:lnTo>
                  <a:pt x="135" y="89"/>
                </a:lnTo>
                <a:lnTo>
                  <a:pt x="156" y="112"/>
                </a:lnTo>
                <a:lnTo>
                  <a:pt x="156" y="101"/>
                </a:lnTo>
                <a:lnTo>
                  <a:pt x="157" y="94"/>
                </a:lnTo>
                <a:lnTo>
                  <a:pt x="163" y="94"/>
                </a:lnTo>
                <a:lnTo>
                  <a:pt x="163" y="101"/>
                </a:lnTo>
                <a:lnTo>
                  <a:pt x="164" y="116"/>
                </a:lnTo>
                <a:lnTo>
                  <a:pt x="185" y="131"/>
                </a:lnTo>
                <a:lnTo>
                  <a:pt x="185" y="121"/>
                </a:lnTo>
                <a:lnTo>
                  <a:pt x="186" y="113"/>
                </a:lnTo>
                <a:lnTo>
                  <a:pt x="192" y="113"/>
                </a:lnTo>
                <a:lnTo>
                  <a:pt x="193" y="121"/>
                </a:lnTo>
                <a:lnTo>
                  <a:pt x="193" y="137"/>
                </a:lnTo>
                <a:lnTo>
                  <a:pt x="243" y="171"/>
                </a:lnTo>
                <a:lnTo>
                  <a:pt x="245" y="174"/>
                </a:lnTo>
                <a:lnTo>
                  <a:pt x="245" y="177"/>
                </a:lnTo>
                <a:lnTo>
                  <a:pt x="245" y="184"/>
                </a:lnTo>
                <a:lnTo>
                  <a:pt x="244" y="187"/>
                </a:lnTo>
                <a:lnTo>
                  <a:pt x="242" y="189"/>
                </a:lnTo>
                <a:lnTo>
                  <a:pt x="147" y="160"/>
                </a:lnTo>
                <a:lnTo>
                  <a:pt x="135" y="157"/>
                </a:lnTo>
                <a:lnTo>
                  <a:pt x="135" y="192"/>
                </a:lnTo>
                <a:lnTo>
                  <a:pt x="134" y="213"/>
                </a:lnTo>
                <a:lnTo>
                  <a:pt x="131" y="233"/>
                </a:lnTo>
                <a:lnTo>
                  <a:pt x="160" y="264"/>
                </a:lnTo>
                <a:lnTo>
                  <a:pt x="161" y="269"/>
                </a:lnTo>
                <a:lnTo>
                  <a:pt x="161" y="275"/>
                </a:lnTo>
                <a:lnTo>
                  <a:pt x="161" y="278"/>
                </a:lnTo>
                <a:lnTo>
                  <a:pt x="159" y="278"/>
                </a:lnTo>
                <a:lnTo>
                  <a:pt x="124" y="266"/>
                </a:lnTo>
                <a:lnTo>
                  <a:pt x="123" y="27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9" name=""/>
          <p:cNvSpPr/>
          <p:nvPr/>
        </p:nvSpPr>
        <p:spPr>
          <a:xfrm>
            <a:off x="1184400" y="1981080"/>
            <a:ext cx="401400" cy="459000"/>
          </a:xfrm>
          <a:custGeom>
            <a:avLst/>
            <a:gdLst/>
            <a:ahLst/>
            <a:rect l="l" t="t" r="r" b="b"/>
            <a:pathLst>
              <a:path w="253" h="289">
                <a:moveTo>
                  <a:pt x="127" y="280"/>
                </a:moveTo>
                <a:lnTo>
                  <a:pt x="125" y="275"/>
                </a:lnTo>
                <a:lnTo>
                  <a:pt x="90" y="288"/>
                </a:lnTo>
                <a:lnTo>
                  <a:pt x="87" y="288"/>
                </a:lnTo>
                <a:lnTo>
                  <a:pt x="86" y="285"/>
                </a:lnTo>
                <a:lnTo>
                  <a:pt x="86" y="279"/>
                </a:lnTo>
                <a:lnTo>
                  <a:pt x="88" y="274"/>
                </a:lnTo>
                <a:lnTo>
                  <a:pt x="118" y="241"/>
                </a:lnTo>
                <a:lnTo>
                  <a:pt x="116" y="221"/>
                </a:lnTo>
                <a:lnTo>
                  <a:pt x="115" y="199"/>
                </a:lnTo>
                <a:lnTo>
                  <a:pt x="115" y="163"/>
                </a:lnTo>
                <a:lnTo>
                  <a:pt x="102" y="166"/>
                </a:lnTo>
                <a:lnTo>
                  <a:pt x="5" y="196"/>
                </a:lnTo>
                <a:lnTo>
                  <a:pt x="1" y="194"/>
                </a:lnTo>
                <a:lnTo>
                  <a:pt x="0" y="191"/>
                </a:lnTo>
                <a:lnTo>
                  <a:pt x="0" y="183"/>
                </a:lnTo>
                <a:lnTo>
                  <a:pt x="1" y="180"/>
                </a:lnTo>
                <a:lnTo>
                  <a:pt x="4" y="177"/>
                </a:lnTo>
                <a:lnTo>
                  <a:pt x="54" y="142"/>
                </a:lnTo>
                <a:lnTo>
                  <a:pt x="55" y="125"/>
                </a:lnTo>
                <a:lnTo>
                  <a:pt x="55" y="117"/>
                </a:lnTo>
                <a:lnTo>
                  <a:pt x="61" y="117"/>
                </a:lnTo>
                <a:lnTo>
                  <a:pt x="62" y="125"/>
                </a:lnTo>
                <a:lnTo>
                  <a:pt x="62" y="136"/>
                </a:lnTo>
                <a:lnTo>
                  <a:pt x="85" y="121"/>
                </a:lnTo>
                <a:lnTo>
                  <a:pt x="85" y="105"/>
                </a:lnTo>
                <a:lnTo>
                  <a:pt x="86" y="97"/>
                </a:lnTo>
                <a:lnTo>
                  <a:pt x="92" y="97"/>
                </a:lnTo>
                <a:lnTo>
                  <a:pt x="92" y="105"/>
                </a:lnTo>
                <a:lnTo>
                  <a:pt x="93" y="116"/>
                </a:lnTo>
                <a:lnTo>
                  <a:pt x="115" y="92"/>
                </a:lnTo>
                <a:lnTo>
                  <a:pt x="115" y="63"/>
                </a:lnTo>
                <a:lnTo>
                  <a:pt x="116" y="34"/>
                </a:lnTo>
                <a:lnTo>
                  <a:pt x="118" y="20"/>
                </a:lnTo>
                <a:lnTo>
                  <a:pt x="122" y="6"/>
                </a:lnTo>
                <a:lnTo>
                  <a:pt x="124" y="2"/>
                </a:lnTo>
                <a:lnTo>
                  <a:pt x="127" y="0"/>
                </a:lnTo>
                <a:lnTo>
                  <a:pt x="129" y="2"/>
                </a:lnTo>
                <a:lnTo>
                  <a:pt x="131" y="6"/>
                </a:lnTo>
                <a:lnTo>
                  <a:pt x="135" y="20"/>
                </a:lnTo>
                <a:lnTo>
                  <a:pt x="136" y="34"/>
                </a:lnTo>
                <a:lnTo>
                  <a:pt x="139" y="63"/>
                </a:lnTo>
                <a:lnTo>
                  <a:pt x="139" y="92"/>
                </a:lnTo>
                <a:lnTo>
                  <a:pt x="160" y="116"/>
                </a:lnTo>
                <a:lnTo>
                  <a:pt x="160" y="105"/>
                </a:lnTo>
                <a:lnTo>
                  <a:pt x="161" y="97"/>
                </a:lnTo>
                <a:lnTo>
                  <a:pt x="167" y="97"/>
                </a:lnTo>
                <a:lnTo>
                  <a:pt x="167" y="105"/>
                </a:lnTo>
                <a:lnTo>
                  <a:pt x="168" y="121"/>
                </a:lnTo>
                <a:lnTo>
                  <a:pt x="190" y="136"/>
                </a:lnTo>
                <a:lnTo>
                  <a:pt x="190" y="125"/>
                </a:lnTo>
                <a:lnTo>
                  <a:pt x="191" y="117"/>
                </a:lnTo>
                <a:lnTo>
                  <a:pt x="197" y="117"/>
                </a:lnTo>
                <a:lnTo>
                  <a:pt x="198" y="125"/>
                </a:lnTo>
                <a:lnTo>
                  <a:pt x="198" y="142"/>
                </a:lnTo>
                <a:lnTo>
                  <a:pt x="250" y="177"/>
                </a:lnTo>
                <a:lnTo>
                  <a:pt x="252" y="180"/>
                </a:lnTo>
                <a:lnTo>
                  <a:pt x="252" y="183"/>
                </a:lnTo>
                <a:lnTo>
                  <a:pt x="252" y="191"/>
                </a:lnTo>
                <a:lnTo>
                  <a:pt x="251" y="194"/>
                </a:lnTo>
                <a:lnTo>
                  <a:pt x="248" y="196"/>
                </a:lnTo>
                <a:lnTo>
                  <a:pt x="152" y="166"/>
                </a:lnTo>
                <a:lnTo>
                  <a:pt x="139" y="163"/>
                </a:lnTo>
                <a:lnTo>
                  <a:pt x="139" y="199"/>
                </a:lnTo>
                <a:lnTo>
                  <a:pt x="137" y="221"/>
                </a:lnTo>
                <a:lnTo>
                  <a:pt x="135" y="241"/>
                </a:lnTo>
                <a:lnTo>
                  <a:pt x="165" y="274"/>
                </a:lnTo>
                <a:lnTo>
                  <a:pt x="166" y="279"/>
                </a:lnTo>
                <a:lnTo>
                  <a:pt x="166" y="285"/>
                </a:lnTo>
                <a:lnTo>
                  <a:pt x="166" y="288"/>
                </a:lnTo>
                <a:lnTo>
                  <a:pt x="164" y="288"/>
                </a:lnTo>
                <a:lnTo>
                  <a:pt x="128" y="275"/>
                </a:lnTo>
                <a:lnTo>
                  <a:pt x="127" y="2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1771560" y="3257640"/>
            <a:ext cx="392040" cy="444240"/>
          </a:xfrm>
          <a:custGeom>
            <a:avLst/>
            <a:gdLst/>
            <a:ahLst/>
            <a:rect l="l" t="t" r="r" b="b"/>
            <a:pathLst>
              <a:path w="247" h="280">
                <a:moveTo>
                  <a:pt x="123" y="271"/>
                </a:moveTo>
                <a:lnTo>
                  <a:pt x="122" y="267"/>
                </a:lnTo>
                <a:lnTo>
                  <a:pt x="87" y="279"/>
                </a:lnTo>
                <a:lnTo>
                  <a:pt x="85" y="279"/>
                </a:lnTo>
                <a:lnTo>
                  <a:pt x="85" y="276"/>
                </a:lnTo>
                <a:lnTo>
                  <a:pt x="85" y="268"/>
                </a:lnTo>
                <a:lnTo>
                  <a:pt x="86" y="265"/>
                </a:lnTo>
                <a:lnTo>
                  <a:pt x="115" y="234"/>
                </a:lnTo>
                <a:lnTo>
                  <a:pt x="113" y="214"/>
                </a:lnTo>
                <a:lnTo>
                  <a:pt x="111" y="193"/>
                </a:lnTo>
                <a:lnTo>
                  <a:pt x="111" y="158"/>
                </a:lnTo>
                <a:lnTo>
                  <a:pt x="99" y="161"/>
                </a:lnTo>
                <a:lnTo>
                  <a:pt x="5" y="190"/>
                </a:lnTo>
                <a:lnTo>
                  <a:pt x="2" y="188"/>
                </a:lnTo>
                <a:lnTo>
                  <a:pt x="0" y="185"/>
                </a:lnTo>
                <a:lnTo>
                  <a:pt x="0" y="176"/>
                </a:lnTo>
                <a:lnTo>
                  <a:pt x="1" y="173"/>
                </a:lnTo>
                <a:lnTo>
                  <a:pt x="3" y="171"/>
                </a:lnTo>
                <a:lnTo>
                  <a:pt x="53" y="136"/>
                </a:lnTo>
                <a:lnTo>
                  <a:pt x="53" y="121"/>
                </a:lnTo>
                <a:lnTo>
                  <a:pt x="55" y="114"/>
                </a:lnTo>
                <a:lnTo>
                  <a:pt x="60" y="114"/>
                </a:lnTo>
                <a:lnTo>
                  <a:pt x="62" y="121"/>
                </a:lnTo>
                <a:lnTo>
                  <a:pt x="62" y="132"/>
                </a:lnTo>
                <a:lnTo>
                  <a:pt x="82" y="117"/>
                </a:lnTo>
                <a:lnTo>
                  <a:pt x="84" y="100"/>
                </a:lnTo>
                <a:lnTo>
                  <a:pt x="84" y="94"/>
                </a:lnTo>
                <a:lnTo>
                  <a:pt x="89" y="94"/>
                </a:lnTo>
                <a:lnTo>
                  <a:pt x="91" y="100"/>
                </a:lnTo>
                <a:lnTo>
                  <a:pt x="91" y="111"/>
                </a:lnTo>
                <a:lnTo>
                  <a:pt x="111" y="89"/>
                </a:lnTo>
                <a:lnTo>
                  <a:pt x="111" y="61"/>
                </a:lnTo>
                <a:lnTo>
                  <a:pt x="113" y="33"/>
                </a:lnTo>
                <a:lnTo>
                  <a:pt x="115" y="20"/>
                </a:lnTo>
                <a:lnTo>
                  <a:pt x="118" y="6"/>
                </a:lnTo>
                <a:lnTo>
                  <a:pt x="121" y="2"/>
                </a:lnTo>
                <a:lnTo>
                  <a:pt x="123" y="0"/>
                </a:lnTo>
                <a:lnTo>
                  <a:pt x="125" y="2"/>
                </a:lnTo>
                <a:lnTo>
                  <a:pt x="128" y="6"/>
                </a:lnTo>
                <a:lnTo>
                  <a:pt x="131" y="20"/>
                </a:lnTo>
                <a:lnTo>
                  <a:pt x="133" y="33"/>
                </a:lnTo>
                <a:lnTo>
                  <a:pt x="135" y="61"/>
                </a:lnTo>
                <a:lnTo>
                  <a:pt x="135" y="89"/>
                </a:lnTo>
                <a:lnTo>
                  <a:pt x="155" y="111"/>
                </a:lnTo>
                <a:lnTo>
                  <a:pt x="155" y="100"/>
                </a:lnTo>
                <a:lnTo>
                  <a:pt x="157" y="94"/>
                </a:lnTo>
                <a:lnTo>
                  <a:pt x="162" y="94"/>
                </a:lnTo>
                <a:lnTo>
                  <a:pt x="164" y="100"/>
                </a:lnTo>
                <a:lnTo>
                  <a:pt x="164" y="117"/>
                </a:lnTo>
                <a:lnTo>
                  <a:pt x="186" y="132"/>
                </a:lnTo>
                <a:lnTo>
                  <a:pt x="186" y="121"/>
                </a:lnTo>
                <a:lnTo>
                  <a:pt x="187" y="114"/>
                </a:lnTo>
                <a:lnTo>
                  <a:pt x="193" y="114"/>
                </a:lnTo>
                <a:lnTo>
                  <a:pt x="193" y="121"/>
                </a:lnTo>
                <a:lnTo>
                  <a:pt x="193" y="136"/>
                </a:lnTo>
                <a:lnTo>
                  <a:pt x="243" y="171"/>
                </a:lnTo>
                <a:lnTo>
                  <a:pt x="245" y="173"/>
                </a:lnTo>
                <a:lnTo>
                  <a:pt x="246" y="176"/>
                </a:lnTo>
                <a:lnTo>
                  <a:pt x="246" y="185"/>
                </a:lnTo>
                <a:lnTo>
                  <a:pt x="244" y="188"/>
                </a:lnTo>
                <a:lnTo>
                  <a:pt x="241" y="190"/>
                </a:lnTo>
                <a:lnTo>
                  <a:pt x="147" y="161"/>
                </a:lnTo>
                <a:lnTo>
                  <a:pt x="135" y="158"/>
                </a:lnTo>
                <a:lnTo>
                  <a:pt x="135" y="193"/>
                </a:lnTo>
                <a:lnTo>
                  <a:pt x="133" y="214"/>
                </a:lnTo>
                <a:lnTo>
                  <a:pt x="131" y="234"/>
                </a:lnTo>
                <a:lnTo>
                  <a:pt x="160" y="265"/>
                </a:lnTo>
                <a:lnTo>
                  <a:pt x="162" y="268"/>
                </a:lnTo>
                <a:lnTo>
                  <a:pt x="162" y="276"/>
                </a:lnTo>
                <a:lnTo>
                  <a:pt x="161" y="279"/>
                </a:lnTo>
                <a:lnTo>
                  <a:pt x="159" y="279"/>
                </a:lnTo>
                <a:lnTo>
                  <a:pt x="124" y="267"/>
                </a:lnTo>
                <a:lnTo>
                  <a:pt x="123" y="271"/>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1" name=""/>
          <p:cNvSpPr/>
          <p:nvPr/>
        </p:nvSpPr>
        <p:spPr>
          <a:xfrm>
            <a:off x="1771560" y="3257640"/>
            <a:ext cx="403200" cy="458640"/>
          </a:xfrm>
          <a:custGeom>
            <a:avLst/>
            <a:gdLst/>
            <a:ahLst/>
            <a:rect l="l" t="t" r="r" b="b"/>
            <a:pathLst>
              <a:path w="254" h="289">
                <a:moveTo>
                  <a:pt x="127" y="280"/>
                </a:moveTo>
                <a:lnTo>
                  <a:pt x="125" y="275"/>
                </a:lnTo>
                <a:lnTo>
                  <a:pt x="90" y="288"/>
                </a:lnTo>
                <a:lnTo>
                  <a:pt x="87" y="288"/>
                </a:lnTo>
                <a:lnTo>
                  <a:pt x="87" y="285"/>
                </a:lnTo>
                <a:lnTo>
                  <a:pt x="87" y="277"/>
                </a:lnTo>
                <a:lnTo>
                  <a:pt x="88" y="274"/>
                </a:lnTo>
                <a:lnTo>
                  <a:pt x="118" y="241"/>
                </a:lnTo>
                <a:lnTo>
                  <a:pt x="116" y="221"/>
                </a:lnTo>
                <a:lnTo>
                  <a:pt x="115" y="199"/>
                </a:lnTo>
                <a:lnTo>
                  <a:pt x="115" y="163"/>
                </a:lnTo>
                <a:lnTo>
                  <a:pt x="101" y="166"/>
                </a:lnTo>
                <a:lnTo>
                  <a:pt x="5" y="196"/>
                </a:lnTo>
                <a:lnTo>
                  <a:pt x="2" y="194"/>
                </a:lnTo>
                <a:lnTo>
                  <a:pt x="0" y="191"/>
                </a:lnTo>
                <a:lnTo>
                  <a:pt x="0" y="182"/>
                </a:lnTo>
                <a:lnTo>
                  <a:pt x="1" y="178"/>
                </a:lnTo>
                <a:lnTo>
                  <a:pt x="4" y="177"/>
                </a:lnTo>
                <a:lnTo>
                  <a:pt x="55" y="141"/>
                </a:lnTo>
                <a:lnTo>
                  <a:pt x="55" y="125"/>
                </a:lnTo>
                <a:lnTo>
                  <a:pt x="56" y="117"/>
                </a:lnTo>
                <a:lnTo>
                  <a:pt x="62" y="117"/>
                </a:lnTo>
                <a:lnTo>
                  <a:pt x="63" y="125"/>
                </a:lnTo>
                <a:lnTo>
                  <a:pt x="63" y="136"/>
                </a:lnTo>
                <a:lnTo>
                  <a:pt x="85" y="121"/>
                </a:lnTo>
                <a:lnTo>
                  <a:pt x="86" y="103"/>
                </a:lnTo>
                <a:lnTo>
                  <a:pt x="86" y="97"/>
                </a:lnTo>
                <a:lnTo>
                  <a:pt x="92" y="97"/>
                </a:lnTo>
                <a:lnTo>
                  <a:pt x="93" y="103"/>
                </a:lnTo>
                <a:lnTo>
                  <a:pt x="93" y="114"/>
                </a:lnTo>
                <a:lnTo>
                  <a:pt x="115" y="92"/>
                </a:lnTo>
                <a:lnTo>
                  <a:pt x="115" y="63"/>
                </a:lnTo>
                <a:lnTo>
                  <a:pt x="116" y="34"/>
                </a:lnTo>
                <a:lnTo>
                  <a:pt x="118" y="20"/>
                </a:lnTo>
                <a:lnTo>
                  <a:pt x="122" y="6"/>
                </a:lnTo>
                <a:lnTo>
                  <a:pt x="124" y="2"/>
                </a:lnTo>
                <a:lnTo>
                  <a:pt x="127" y="0"/>
                </a:lnTo>
                <a:lnTo>
                  <a:pt x="129" y="2"/>
                </a:lnTo>
                <a:lnTo>
                  <a:pt x="131" y="6"/>
                </a:lnTo>
                <a:lnTo>
                  <a:pt x="135" y="20"/>
                </a:lnTo>
                <a:lnTo>
                  <a:pt x="137" y="34"/>
                </a:lnTo>
                <a:lnTo>
                  <a:pt x="138" y="63"/>
                </a:lnTo>
                <a:lnTo>
                  <a:pt x="138" y="92"/>
                </a:lnTo>
                <a:lnTo>
                  <a:pt x="160" y="114"/>
                </a:lnTo>
                <a:lnTo>
                  <a:pt x="160" y="103"/>
                </a:lnTo>
                <a:lnTo>
                  <a:pt x="161" y="97"/>
                </a:lnTo>
                <a:lnTo>
                  <a:pt x="167" y="97"/>
                </a:lnTo>
                <a:lnTo>
                  <a:pt x="168" y="103"/>
                </a:lnTo>
                <a:lnTo>
                  <a:pt x="168" y="121"/>
                </a:lnTo>
                <a:lnTo>
                  <a:pt x="191" y="136"/>
                </a:lnTo>
                <a:lnTo>
                  <a:pt x="191" y="125"/>
                </a:lnTo>
                <a:lnTo>
                  <a:pt x="192" y="117"/>
                </a:lnTo>
                <a:lnTo>
                  <a:pt x="198" y="117"/>
                </a:lnTo>
                <a:lnTo>
                  <a:pt x="198" y="125"/>
                </a:lnTo>
                <a:lnTo>
                  <a:pt x="198" y="141"/>
                </a:lnTo>
                <a:lnTo>
                  <a:pt x="249" y="177"/>
                </a:lnTo>
                <a:lnTo>
                  <a:pt x="252" y="178"/>
                </a:lnTo>
                <a:lnTo>
                  <a:pt x="253" y="182"/>
                </a:lnTo>
                <a:lnTo>
                  <a:pt x="253" y="191"/>
                </a:lnTo>
                <a:lnTo>
                  <a:pt x="251" y="194"/>
                </a:lnTo>
                <a:lnTo>
                  <a:pt x="248" y="196"/>
                </a:lnTo>
                <a:lnTo>
                  <a:pt x="152" y="166"/>
                </a:lnTo>
                <a:lnTo>
                  <a:pt x="138" y="163"/>
                </a:lnTo>
                <a:lnTo>
                  <a:pt x="138" y="199"/>
                </a:lnTo>
                <a:lnTo>
                  <a:pt x="137" y="221"/>
                </a:lnTo>
                <a:lnTo>
                  <a:pt x="135" y="241"/>
                </a:lnTo>
                <a:lnTo>
                  <a:pt x="165" y="274"/>
                </a:lnTo>
                <a:lnTo>
                  <a:pt x="167" y="277"/>
                </a:lnTo>
                <a:lnTo>
                  <a:pt x="167" y="285"/>
                </a:lnTo>
                <a:lnTo>
                  <a:pt x="166" y="288"/>
                </a:lnTo>
                <a:lnTo>
                  <a:pt x="163" y="288"/>
                </a:lnTo>
                <a:lnTo>
                  <a:pt x="128" y="275"/>
                </a:lnTo>
                <a:lnTo>
                  <a:pt x="127" y="2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2" name=""/>
          <p:cNvSpPr/>
          <p:nvPr/>
        </p:nvSpPr>
        <p:spPr>
          <a:xfrm>
            <a:off x="1922400" y="3130560"/>
            <a:ext cx="389160" cy="444600"/>
          </a:xfrm>
          <a:custGeom>
            <a:avLst/>
            <a:gdLst/>
            <a:ahLst/>
            <a:rect l="l" t="t" r="r" b="b"/>
            <a:pathLst>
              <a:path w="245" h="280">
                <a:moveTo>
                  <a:pt x="121" y="271"/>
                </a:moveTo>
                <a:lnTo>
                  <a:pt x="120" y="267"/>
                </a:lnTo>
                <a:lnTo>
                  <a:pt x="86" y="279"/>
                </a:lnTo>
                <a:lnTo>
                  <a:pt x="84" y="279"/>
                </a:lnTo>
                <a:lnTo>
                  <a:pt x="83" y="276"/>
                </a:lnTo>
                <a:lnTo>
                  <a:pt x="83" y="268"/>
                </a:lnTo>
                <a:lnTo>
                  <a:pt x="84" y="265"/>
                </a:lnTo>
                <a:lnTo>
                  <a:pt x="114" y="234"/>
                </a:lnTo>
                <a:lnTo>
                  <a:pt x="111" y="214"/>
                </a:lnTo>
                <a:lnTo>
                  <a:pt x="110" y="193"/>
                </a:lnTo>
                <a:lnTo>
                  <a:pt x="110" y="158"/>
                </a:lnTo>
                <a:lnTo>
                  <a:pt x="97" y="161"/>
                </a:lnTo>
                <a:lnTo>
                  <a:pt x="3" y="190"/>
                </a:lnTo>
                <a:lnTo>
                  <a:pt x="1" y="188"/>
                </a:lnTo>
                <a:lnTo>
                  <a:pt x="0" y="185"/>
                </a:lnTo>
                <a:lnTo>
                  <a:pt x="0" y="177"/>
                </a:lnTo>
                <a:lnTo>
                  <a:pt x="0" y="174"/>
                </a:lnTo>
                <a:lnTo>
                  <a:pt x="2" y="171"/>
                </a:lnTo>
                <a:lnTo>
                  <a:pt x="52" y="138"/>
                </a:lnTo>
                <a:lnTo>
                  <a:pt x="52" y="121"/>
                </a:lnTo>
                <a:lnTo>
                  <a:pt x="53" y="114"/>
                </a:lnTo>
                <a:lnTo>
                  <a:pt x="59" y="114"/>
                </a:lnTo>
                <a:lnTo>
                  <a:pt x="60" y="121"/>
                </a:lnTo>
                <a:lnTo>
                  <a:pt x="60" y="132"/>
                </a:lnTo>
                <a:lnTo>
                  <a:pt x="81" y="117"/>
                </a:lnTo>
                <a:lnTo>
                  <a:pt x="82" y="100"/>
                </a:lnTo>
                <a:lnTo>
                  <a:pt x="82" y="94"/>
                </a:lnTo>
                <a:lnTo>
                  <a:pt x="88" y="94"/>
                </a:lnTo>
                <a:lnTo>
                  <a:pt x="89" y="100"/>
                </a:lnTo>
                <a:lnTo>
                  <a:pt x="89" y="111"/>
                </a:lnTo>
                <a:lnTo>
                  <a:pt x="110" y="89"/>
                </a:lnTo>
                <a:lnTo>
                  <a:pt x="110" y="61"/>
                </a:lnTo>
                <a:lnTo>
                  <a:pt x="112" y="33"/>
                </a:lnTo>
                <a:lnTo>
                  <a:pt x="114" y="20"/>
                </a:lnTo>
                <a:lnTo>
                  <a:pt x="117" y="6"/>
                </a:lnTo>
                <a:lnTo>
                  <a:pt x="119" y="2"/>
                </a:lnTo>
                <a:lnTo>
                  <a:pt x="121" y="0"/>
                </a:lnTo>
                <a:lnTo>
                  <a:pt x="124" y="2"/>
                </a:lnTo>
                <a:lnTo>
                  <a:pt x="126" y="6"/>
                </a:lnTo>
                <a:lnTo>
                  <a:pt x="130" y="20"/>
                </a:lnTo>
                <a:lnTo>
                  <a:pt x="132" y="33"/>
                </a:lnTo>
                <a:lnTo>
                  <a:pt x="133" y="61"/>
                </a:lnTo>
                <a:lnTo>
                  <a:pt x="133" y="89"/>
                </a:lnTo>
                <a:lnTo>
                  <a:pt x="154" y="111"/>
                </a:lnTo>
                <a:lnTo>
                  <a:pt x="155" y="100"/>
                </a:lnTo>
                <a:lnTo>
                  <a:pt x="155" y="94"/>
                </a:lnTo>
                <a:lnTo>
                  <a:pt x="161" y="94"/>
                </a:lnTo>
                <a:lnTo>
                  <a:pt x="162" y="100"/>
                </a:lnTo>
                <a:lnTo>
                  <a:pt x="162" y="117"/>
                </a:lnTo>
                <a:lnTo>
                  <a:pt x="184" y="132"/>
                </a:lnTo>
                <a:lnTo>
                  <a:pt x="184" y="121"/>
                </a:lnTo>
                <a:lnTo>
                  <a:pt x="185" y="114"/>
                </a:lnTo>
                <a:lnTo>
                  <a:pt x="191" y="114"/>
                </a:lnTo>
                <a:lnTo>
                  <a:pt x="191" y="121"/>
                </a:lnTo>
                <a:lnTo>
                  <a:pt x="192" y="138"/>
                </a:lnTo>
                <a:lnTo>
                  <a:pt x="241" y="171"/>
                </a:lnTo>
                <a:lnTo>
                  <a:pt x="243" y="174"/>
                </a:lnTo>
                <a:lnTo>
                  <a:pt x="244" y="177"/>
                </a:lnTo>
                <a:lnTo>
                  <a:pt x="244" y="185"/>
                </a:lnTo>
                <a:lnTo>
                  <a:pt x="243" y="188"/>
                </a:lnTo>
                <a:lnTo>
                  <a:pt x="239" y="190"/>
                </a:lnTo>
                <a:lnTo>
                  <a:pt x="146" y="161"/>
                </a:lnTo>
                <a:lnTo>
                  <a:pt x="133" y="158"/>
                </a:lnTo>
                <a:lnTo>
                  <a:pt x="133" y="193"/>
                </a:lnTo>
                <a:lnTo>
                  <a:pt x="132" y="214"/>
                </a:lnTo>
                <a:lnTo>
                  <a:pt x="130" y="234"/>
                </a:lnTo>
                <a:lnTo>
                  <a:pt x="158" y="265"/>
                </a:lnTo>
                <a:lnTo>
                  <a:pt x="161" y="268"/>
                </a:lnTo>
                <a:lnTo>
                  <a:pt x="161" y="276"/>
                </a:lnTo>
                <a:lnTo>
                  <a:pt x="160" y="279"/>
                </a:lnTo>
                <a:lnTo>
                  <a:pt x="157" y="279"/>
                </a:lnTo>
                <a:lnTo>
                  <a:pt x="124" y="267"/>
                </a:lnTo>
                <a:lnTo>
                  <a:pt x="121" y="271"/>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3" name=""/>
          <p:cNvSpPr/>
          <p:nvPr/>
        </p:nvSpPr>
        <p:spPr>
          <a:xfrm>
            <a:off x="1922400" y="3130560"/>
            <a:ext cx="399960" cy="458640"/>
          </a:xfrm>
          <a:custGeom>
            <a:avLst/>
            <a:gdLst/>
            <a:ahLst/>
            <a:rect l="l" t="t" r="r" b="b"/>
            <a:pathLst>
              <a:path w="252" h="289">
                <a:moveTo>
                  <a:pt x="125" y="280"/>
                </a:moveTo>
                <a:lnTo>
                  <a:pt x="124" y="275"/>
                </a:lnTo>
                <a:lnTo>
                  <a:pt x="88" y="288"/>
                </a:lnTo>
                <a:lnTo>
                  <a:pt x="87" y="288"/>
                </a:lnTo>
                <a:lnTo>
                  <a:pt x="86" y="285"/>
                </a:lnTo>
                <a:lnTo>
                  <a:pt x="86" y="277"/>
                </a:lnTo>
                <a:lnTo>
                  <a:pt x="87" y="274"/>
                </a:lnTo>
                <a:lnTo>
                  <a:pt x="118" y="241"/>
                </a:lnTo>
                <a:lnTo>
                  <a:pt x="114" y="221"/>
                </a:lnTo>
                <a:lnTo>
                  <a:pt x="113" y="199"/>
                </a:lnTo>
                <a:lnTo>
                  <a:pt x="113" y="163"/>
                </a:lnTo>
                <a:lnTo>
                  <a:pt x="100" y="166"/>
                </a:lnTo>
                <a:lnTo>
                  <a:pt x="4" y="196"/>
                </a:lnTo>
                <a:lnTo>
                  <a:pt x="1" y="194"/>
                </a:lnTo>
                <a:lnTo>
                  <a:pt x="0" y="191"/>
                </a:lnTo>
                <a:lnTo>
                  <a:pt x="0" y="183"/>
                </a:lnTo>
                <a:lnTo>
                  <a:pt x="0" y="180"/>
                </a:lnTo>
                <a:lnTo>
                  <a:pt x="2" y="177"/>
                </a:lnTo>
                <a:lnTo>
                  <a:pt x="54" y="142"/>
                </a:lnTo>
                <a:lnTo>
                  <a:pt x="54" y="125"/>
                </a:lnTo>
                <a:lnTo>
                  <a:pt x="55" y="117"/>
                </a:lnTo>
                <a:lnTo>
                  <a:pt x="61" y="117"/>
                </a:lnTo>
                <a:lnTo>
                  <a:pt x="62" y="125"/>
                </a:lnTo>
                <a:lnTo>
                  <a:pt x="62" y="136"/>
                </a:lnTo>
                <a:lnTo>
                  <a:pt x="83" y="121"/>
                </a:lnTo>
                <a:lnTo>
                  <a:pt x="84" y="103"/>
                </a:lnTo>
                <a:lnTo>
                  <a:pt x="84" y="97"/>
                </a:lnTo>
                <a:lnTo>
                  <a:pt x="90" y="97"/>
                </a:lnTo>
                <a:lnTo>
                  <a:pt x="92" y="103"/>
                </a:lnTo>
                <a:lnTo>
                  <a:pt x="92" y="114"/>
                </a:lnTo>
                <a:lnTo>
                  <a:pt x="113" y="92"/>
                </a:lnTo>
                <a:lnTo>
                  <a:pt x="113" y="63"/>
                </a:lnTo>
                <a:lnTo>
                  <a:pt x="115" y="34"/>
                </a:lnTo>
                <a:lnTo>
                  <a:pt x="118" y="20"/>
                </a:lnTo>
                <a:lnTo>
                  <a:pt x="120" y="6"/>
                </a:lnTo>
                <a:lnTo>
                  <a:pt x="123" y="2"/>
                </a:lnTo>
                <a:lnTo>
                  <a:pt x="125" y="0"/>
                </a:lnTo>
                <a:lnTo>
                  <a:pt x="127" y="2"/>
                </a:lnTo>
                <a:lnTo>
                  <a:pt x="130" y="6"/>
                </a:lnTo>
                <a:lnTo>
                  <a:pt x="133" y="20"/>
                </a:lnTo>
                <a:lnTo>
                  <a:pt x="136" y="34"/>
                </a:lnTo>
                <a:lnTo>
                  <a:pt x="137" y="63"/>
                </a:lnTo>
                <a:lnTo>
                  <a:pt x="137" y="92"/>
                </a:lnTo>
                <a:lnTo>
                  <a:pt x="158" y="114"/>
                </a:lnTo>
                <a:lnTo>
                  <a:pt x="159" y="103"/>
                </a:lnTo>
                <a:lnTo>
                  <a:pt x="159" y="97"/>
                </a:lnTo>
                <a:lnTo>
                  <a:pt x="165" y="97"/>
                </a:lnTo>
                <a:lnTo>
                  <a:pt x="167" y="103"/>
                </a:lnTo>
                <a:lnTo>
                  <a:pt x="167" y="121"/>
                </a:lnTo>
                <a:lnTo>
                  <a:pt x="189" y="136"/>
                </a:lnTo>
                <a:lnTo>
                  <a:pt x="189" y="125"/>
                </a:lnTo>
                <a:lnTo>
                  <a:pt x="190" y="117"/>
                </a:lnTo>
                <a:lnTo>
                  <a:pt x="196" y="117"/>
                </a:lnTo>
                <a:lnTo>
                  <a:pt x="196" y="125"/>
                </a:lnTo>
                <a:lnTo>
                  <a:pt x="197" y="142"/>
                </a:lnTo>
                <a:lnTo>
                  <a:pt x="247" y="177"/>
                </a:lnTo>
                <a:lnTo>
                  <a:pt x="250" y="180"/>
                </a:lnTo>
                <a:lnTo>
                  <a:pt x="251" y="183"/>
                </a:lnTo>
                <a:lnTo>
                  <a:pt x="251" y="191"/>
                </a:lnTo>
                <a:lnTo>
                  <a:pt x="250" y="194"/>
                </a:lnTo>
                <a:lnTo>
                  <a:pt x="246" y="196"/>
                </a:lnTo>
                <a:lnTo>
                  <a:pt x="150" y="166"/>
                </a:lnTo>
                <a:lnTo>
                  <a:pt x="137" y="163"/>
                </a:lnTo>
                <a:lnTo>
                  <a:pt x="137" y="199"/>
                </a:lnTo>
                <a:lnTo>
                  <a:pt x="136" y="221"/>
                </a:lnTo>
                <a:lnTo>
                  <a:pt x="133" y="241"/>
                </a:lnTo>
                <a:lnTo>
                  <a:pt x="163" y="274"/>
                </a:lnTo>
                <a:lnTo>
                  <a:pt x="165" y="277"/>
                </a:lnTo>
                <a:lnTo>
                  <a:pt x="165" y="285"/>
                </a:lnTo>
                <a:lnTo>
                  <a:pt x="164" y="288"/>
                </a:lnTo>
                <a:lnTo>
                  <a:pt x="162" y="288"/>
                </a:lnTo>
                <a:lnTo>
                  <a:pt x="127" y="275"/>
                </a:lnTo>
                <a:lnTo>
                  <a:pt x="125" y="2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4" name=""/>
          <p:cNvSpPr/>
          <p:nvPr/>
        </p:nvSpPr>
        <p:spPr>
          <a:xfrm>
            <a:off x="2070000" y="3257640"/>
            <a:ext cx="389160" cy="444240"/>
          </a:xfrm>
          <a:custGeom>
            <a:avLst/>
            <a:gdLst/>
            <a:ahLst/>
            <a:rect l="l" t="t" r="r" b="b"/>
            <a:pathLst>
              <a:path w="245" h="280">
                <a:moveTo>
                  <a:pt x="123" y="271"/>
                </a:moveTo>
                <a:lnTo>
                  <a:pt x="120" y="267"/>
                </a:lnTo>
                <a:lnTo>
                  <a:pt x="86" y="279"/>
                </a:lnTo>
                <a:lnTo>
                  <a:pt x="84" y="279"/>
                </a:lnTo>
                <a:lnTo>
                  <a:pt x="83" y="276"/>
                </a:lnTo>
                <a:lnTo>
                  <a:pt x="83" y="268"/>
                </a:lnTo>
                <a:lnTo>
                  <a:pt x="84" y="265"/>
                </a:lnTo>
                <a:lnTo>
                  <a:pt x="114" y="234"/>
                </a:lnTo>
                <a:lnTo>
                  <a:pt x="112" y="214"/>
                </a:lnTo>
                <a:lnTo>
                  <a:pt x="111" y="193"/>
                </a:lnTo>
                <a:lnTo>
                  <a:pt x="111" y="158"/>
                </a:lnTo>
                <a:lnTo>
                  <a:pt x="98" y="161"/>
                </a:lnTo>
                <a:lnTo>
                  <a:pt x="5" y="190"/>
                </a:lnTo>
                <a:lnTo>
                  <a:pt x="1" y="188"/>
                </a:lnTo>
                <a:lnTo>
                  <a:pt x="0" y="185"/>
                </a:lnTo>
                <a:lnTo>
                  <a:pt x="0" y="176"/>
                </a:lnTo>
                <a:lnTo>
                  <a:pt x="1" y="173"/>
                </a:lnTo>
                <a:lnTo>
                  <a:pt x="2" y="171"/>
                </a:lnTo>
                <a:lnTo>
                  <a:pt x="52" y="136"/>
                </a:lnTo>
                <a:lnTo>
                  <a:pt x="52" y="121"/>
                </a:lnTo>
                <a:lnTo>
                  <a:pt x="53" y="114"/>
                </a:lnTo>
                <a:lnTo>
                  <a:pt x="59" y="114"/>
                </a:lnTo>
                <a:lnTo>
                  <a:pt x="60" y="121"/>
                </a:lnTo>
                <a:lnTo>
                  <a:pt x="60" y="132"/>
                </a:lnTo>
                <a:lnTo>
                  <a:pt x="81" y="117"/>
                </a:lnTo>
                <a:lnTo>
                  <a:pt x="82" y="100"/>
                </a:lnTo>
                <a:lnTo>
                  <a:pt x="83" y="94"/>
                </a:lnTo>
                <a:lnTo>
                  <a:pt x="89" y="94"/>
                </a:lnTo>
                <a:lnTo>
                  <a:pt x="89" y="100"/>
                </a:lnTo>
                <a:lnTo>
                  <a:pt x="89" y="111"/>
                </a:lnTo>
                <a:lnTo>
                  <a:pt x="111" y="89"/>
                </a:lnTo>
                <a:lnTo>
                  <a:pt x="111" y="61"/>
                </a:lnTo>
                <a:lnTo>
                  <a:pt x="112" y="33"/>
                </a:lnTo>
                <a:lnTo>
                  <a:pt x="114" y="20"/>
                </a:lnTo>
                <a:lnTo>
                  <a:pt x="117" y="6"/>
                </a:lnTo>
                <a:lnTo>
                  <a:pt x="119" y="2"/>
                </a:lnTo>
                <a:lnTo>
                  <a:pt x="123" y="0"/>
                </a:lnTo>
                <a:lnTo>
                  <a:pt x="125" y="2"/>
                </a:lnTo>
                <a:lnTo>
                  <a:pt x="127" y="6"/>
                </a:lnTo>
                <a:lnTo>
                  <a:pt x="130" y="20"/>
                </a:lnTo>
                <a:lnTo>
                  <a:pt x="132" y="33"/>
                </a:lnTo>
                <a:lnTo>
                  <a:pt x="133" y="61"/>
                </a:lnTo>
                <a:lnTo>
                  <a:pt x="133" y="89"/>
                </a:lnTo>
                <a:lnTo>
                  <a:pt x="155" y="111"/>
                </a:lnTo>
                <a:lnTo>
                  <a:pt x="155" y="100"/>
                </a:lnTo>
                <a:lnTo>
                  <a:pt x="155" y="94"/>
                </a:lnTo>
                <a:lnTo>
                  <a:pt x="161" y="94"/>
                </a:lnTo>
                <a:lnTo>
                  <a:pt x="162" y="100"/>
                </a:lnTo>
                <a:lnTo>
                  <a:pt x="163" y="117"/>
                </a:lnTo>
                <a:lnTo>
                  <a:pt x="184" y="132"/>
                </a:lnTo>
                <a:lnTo>
                  <a:pt x="184" y="121"/>
                </a:lnTo>
                <a:lnTo>
                  <a:pt x="185" y="114"/>
                </a:lnTo>
                <a:lnTo>
                  <a:pt x="191" y="114"/>
                </a:lnTo>
                <a:lnTo>
                  <a:pt x="192" y="121"/>
                </a:lnTo>
                <a:lnTo>
                  <a:pt x="192" y="136"/>
                </a:lnTo>
                <a:lnTo>
                  <a:pt x="242" y="171"/>
                </a:lnTo>
                <a:lnTo>
                  <a:pt x="243" y="173"/>
                </a:lnTo>
                <a:lnTo>
                  <a:pt x="244" y="176"/>
                </a:lnTo>
                <a:lnTo>
                  <a:pt x="244" y="185"/>
                </a:lnTo>
                <a:lnTo>
                  <a:pt x="243" y="188"/>
                </a:lnTo>
                <a:lnTo>
                  <a:pt x="239" y="190"/>
                </a:lnTo>
                <a:lnTo>
                  <a:pt x="146" y="161"/>
                </a:lnTo>
                <a:lnTo>
                  <a:pt x="133" y="158"/>
                </a:lnTo>
                <a:lnTo>
                  <a:pt x="133" y="193"/>
                </a:lnTo>
                <a:lnTo>
                  <a:pt x="132" y="214"/>
                </a:lnTo>
                <a:lnTo>
                  <a:pt x="130" y="234"/>
                </a:lnTo>
                <a:lnTo>
                  <a:pt x="160" y="265"/>
                </a:lnTo>
                <a:lnTo>
                  <a:pt x="161" y="268"/>
                </a:lnTo>
                <a:lnTo>
                  <a:pt x="161" y="276"/>
                </a:lnTo>
                <a:lnTo>
                  <a:pt x="160" y="279"/>
                </a:lnTo>
                <a:lnTo>
                  <a:pt x="158" y="279"/>
                </a:lnTo>
                <a:lnTo>
                  <a:pt x="124" y="267"/>
                </a:lnTo>
                <a:lnTo>
                  <a:pt x="123" y="271"/>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5" name=""/>
          <p:cNvSpPr/>
          <p:nvPr/>
        </p:nvSpPr>
        <p:spPr>
          <a:xfrm>
            <a:off x="2070000" y="3257640"/>
            <a:ext cx="400320" cy="458640"/>
          </a:xfrm>
          <a:custGeom>
            <a:avLst/>
            <a:gdLst/>
            <a:ahLst/>
            <a:rect l="l" t="t" r="r" b="b"/>
            <a:pathLst>
              <a:path w="252" h="289">
                <a:moveTo>
                  <a:pt x="126" y="280"/>
                </a:moveTo>
                <a:lnTo>
                  <a:pt x="124" y="275"/>
                </a:lnTo>
                <a:lnTo>
                  <a:pt x="88" y="288"/>
                </a:lnTo>
                <a:lnTo>
                  <a:pt x="87" y="288"/>
                </a:lnTo>
                <a:lnTo>
                  <a:pt x="86" y="285"/>
                </a:lnTo>
                <a:lnTo>
                  <a:pt x="86" y="277"/>
                </a:lnTo>
                <a:lnTo>
                  <a:pt x="87" y="274"/>
                </a:lnTo>
                <a:lnTo>
                  <a:pt x="118" y="241"/>
                </a:lnTo>
                <a:lnTo>
                  <a:pt x="115" y="221"/>
                </a:lnTo>
                <a:lnTo>
                  <a:pt x="114" y="199"/>
                </a:lnTo>
                <a:lnTo>
                  <a:pt x="114" y="163"/>
                </a:lnTo>
                <a:lnTo>
                  <a:pt x="101" y="166"/>
                </a:lnTo>
                <a:lnTo>
                  <a:pt x="5" y="196"/>
                </a:lnTo>
                <a:lnTo>
                  <a:pt x="1" y="194"/>
                </a:lnTo>
                <a:lnTo>
                  <a:pt x="0" y="191"/>
                </a:lnTo>
                <a:lnTo>
                  <a:pt x="0" y="182"/>
                </a:lnTo>
                <a:lnTo>
                  <a:pt x="1" y="178"/>
                </a:lnTo>
                <a:lnTo>
                  <a:pt x="2" y="177"/>
                </a:lnTo>
                <a:lnTo>
                  <a:pt x="54" y="141"/>
                </a:lnTo>
                <a:lnTo>
                  <a:pt x="54" y="125"/>
                </a:lnTo>
                <a:lnTo>
                  <a:pt x="55" y="117"/>
                </a:lnTo>
                <a:lnTo>
                  <a:pt x="61" y="117"/>
                </a:lnTo>
                <a:lnTo>
                  <a:pt x="62" y="125"/>
                </a:lnTo>
                <a:lnTo>
                  <a:pt x="62" y="136"/>
                </a:lnTo>
                <a:lnTo>
                  <a:pt x="83" y="121"/>
                </a:lnTo>
                <a:lnTo>
                  <a:pt x="84" y="103"/>
                </a:lnTo>
                <a:lnTo>
                  <a:pt x="86" y="97"/>
                </a:lnTo>
                <a:lnTo>
                  <a:pt x="92" y="97"/>
                </a:lnTo>
                <a:lnTo>
                  <a:pt x="92" y="103"/>
                </a:lnTo>
                <a:lnTo>
                  <a:pt x="92" y="114"/>
                </a:lnTo>
                <a:lnTo>
                  <a:pt x="114" y="92"/>
                </a:lnTo>
                <a:lnTo>
                  <a:pt x="114" y="63"/>
                </a:lnTo>
                <a:lnTo>
                  <a:pt x="115" y="34"/>
                </a:lnTo>
                <a:lnTo>
                  <a:pt x="118" y="20"/>
                </a:lnTo>
                <a:lnTo>
                  <a:pt x="120" y="6"/>
                </a:lnTo>
                <a:lnTo>
                  <a:pt x="123" y="2"/>
                </a:lnTo>
                <a:lnTo>
                  <a:pt x="126" y="0"/>
                </a:lnTo>
                <a:lnTo>
                  <a:pt x="128" y="2"/>
                </a:lnTo>
                <a:lnTo>
                  <a:pt x="131" y="6"/>
                </a:lnTo>
                <a:lnTo>
                  <a:pt x="133" y="20"/>
                </a:lnTo>
                <a:lnTo>
                  <a:pt x="136" y="34"/>
                </a:lnTo>
                <a:lnTo>
                  <a:pt x="137" y="63"/>
                </a:lnTo>
                <a:lnTo>
                  <a:pt x="137" y="92"/>
                </a:lnTo>
                <a:lnTo>
                  <a:pt x="159" y="114"/>
                </a:lnTo>
                <a:lnTo>
                  <a:pt x="159" y="103"/>
                </a:lnTo>
                <a:lnTo>
                  <a:pt x="159" y="97"/>
                </a:lnTo>
                <a:lnTo>
                  <a:pt x="165" y="97"/>
                </a:lnTo>
                <a:lnTo>
                  <a:pt x="167" y="103"/>
                </a:lnTo>
                <a:lnTo>
                  <a:pt x="168" y="121"/>
                </a:lnTo>
                <a:lnTo>
                  <a:pt x="189" y="136"/>
                </a:lnTo>
                <a:lnTo>
                  <a:pt x="189" y="125"/>
                </a:lnTo>
                <a:lnTo>
                  <a:pt x="190" y="117"/>
                </a:lnTo>
                <a:lnTo>
                  <a:pt x="196" y="117"/>
                </a:lnTo>
                <a:lnTo>
                  <a:pt x="197" y="125"/>
                </a:lnTo>
                <a:lnTo>
                  <a:pt x="197" y="141"/>
                </a:lnTo>
                <a:lnTo>
                  <a:pt x="249" y="177"/>
                </a:lnTo>
                <a:lnTo>
                  <a:pt x="250" y="178"/>
                </a:lnTo>
                <a:lnTo>
                  <a:pt x="251" y="182"/>
                </a:lnTo>
                <a:lnTo>
                  <a:pt x="251" y="191"/>
                </a:lnTo>
                <a:lnTo>
                  <a:pt x="250" y="194"/>
                </a:lnTo>
                <a:lnTo>
                  <a:pt x="246" y="196"/>
                </a:lnTo>
                <a:lnTo>
                  <a:pt x="150" y="166"/>
                </a:lnTo>
                <a:lnTo>
                  <a:pt x="137" y="163"/>
                </a:lnTo>
                <a:lnTo>
                  <a:pt x="137" y="199"/>
                </a:lnTo>
                <a:lnTo>
                  <a:pt x="136" y="221"/>
                </a:lnTo>
                <a:lnTo>
                  <a:pt x="133" y="241"/>
                </a:lnTo>
                <a:lnTo>
                  <a:pt x="164" y="274"/>
                </a:lnTo>
                <a:lnTo>
                  <a:pt x="165" y="277"/>
                </a:lnTo>
                <a:lnTo>
                  <a:pt x="165" y="285"/>
                </a:lnTo>
                <a:lnTo>
                  <a:pt x="164" y="288"/>
                </a:lnTo>
                <a:lnTo>
                  <a:pt x="163" y="288"/>
                </a:lnTo>
                <a:lnTo>
                  <a:pt x="127" y="275"/>
                </a:lnTo>
                <a:lnTo>
                  <a:pt x="126" y="2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6" name=""/>
          <p:cNvSpPr/>
          <p:nvPr/>
        </p:nvSpPr>
        <p:spPr>
          <a:xfrm>
            <a:off x="2514600" y="3384720"/>
            <a:ext cx="388800" cy="444240"/>
          </a:xfrm>
          <a:custGeom>
            <a:avLst/>
            <a:gdLst/>
            <a:ahLst/>
            <a:rect l="l" t="t" r="r" b="b"/>
            <a:pathLst>
              <a:path w="245" h="280">
                <a:moveTo>
                  <a:pt x="121" y="271"/>
                </a:moveTo>
                <a:lnTo>
                  <a:pt x="120" y="267"/>
                </a:lnTo>
                <a:lnTo>
                  <a:pt x="86" y="279"/>
                </a:lnTo>
                <a:lnTo>
                  <a:pt x="83" y="279"/>
                </a:lnTo>
                <a:lnTo>
                  <a:pt x="83" y="276"/>
                </a:lnTo>
                <a:lnTo>
                  <a:pt x="83" y="270"/>
                </a:lnTo>
                <a:lnTo>
                  <a:pt x="84" y="265"/>
                </a:lnTo>
                <a:lnTo>
                  <a:pt x="113" y="234"/>
                </a:lnTo>
                <a:lnTo>
                  <a:pt x="111" y="214"/>
                </a:lnTo>
                <a:lnTo>
                  <a:pt x="110" y="193"/>
                </a:lnTo>
                <a:lnTo>
                  <a:pt x="110" y="158"/>
                </a:lnTo>
                <a:lnTo>
                  <a:pt x="97" y="161"/>
                </a:lnTo>
                <a:lnTo>
                  <a:pt x="3" y="190"/>
                </a:lnTo>
                <a:lnTo>
                  <a:pt x="1" y="188"/>
                </a:lnTo>
                <a:lnTo>
                  <a:pt x="0" y="185"/>
                </a:lnTo>
                <a:lnTo>
                  <a:pt x="0" y="177"/>
                </a:lnTo>
                <a:lnTo>
                  <a:pt x="0" y="174"/>
                </a:lnTo>
                <a:lnTo>
                  <a:pt x="2" y="171"/>
                </a:lnTo>
                <a:lnTo>
                  <a:pt x="52" y="138"/>
                </a:lnTo>
                <a:lnTo>
                  <a:pt x="52" y="121"/>
                </a:lnTo>
                <a:lnTo>
                  <a:pt x="53" y="114"/>
                </a:lnTo>
                <a:lnTo>
                  <a:pt x="59" y="114"/>
                </a:lnTo>
                <a:lnTo>
                  <a:pt x="60" y="121"/>
                </a:lnTo>
                <a:lnTo>
                  <a:pt x="60" y="132"/>
                </a:lnTo>
                <a:lnTo>
                  <a:pt x="81" y="117"/>
                </a:lnTo>
                <a:lnTo>
                  <a:pt x="82" y="102"/>
                </a:lnTo>
                <a:lnTo>
                  <a:pt x="82" y="94"/>
                </a:lnTo>
                <a:lnTo>
                  <a:pt x="88" y="94"/>
                </a:lnTo>
                <a:lnTo>
                  <a:pt x="89" y="102"/>
                </a:lnTo>
                <a:lnTo>
                  <a:pt x="89" y="112"/>
                </a:lnTo>
                <a:lnTo>
                  <a:pt x="110" y="89"/>
                </a:lnTo>
                <a:lnTo>
                  <a:pt x="110" y="61"/>
                </a:lnTo>
                <a:lnTo>
                  <a:pt x="111" y="33"/>
                </a:lnTo>
                <a:lnTo>
                  <a:pt x="113" y="20"/>
                </a:lnTo>
                <a:lnTo>
                  <a:pt x="117" y="6"/>
                </a:lnTo>
                <a:lnTo>
                  <a:pt x="119" y="2"/>
                </a:lnTo>
                <a:lnTo>
                  <a:pt x="121" y="0"/>
                </a:lnTo>
                <a:lnTo>
                  <a:pt x="124" y="2"/>
                </a:lnTo>
                <a:lnTo>
                  <a:pt x="126" y="6"/>
                </a:lnTo>
                <a:lnTo>
                  <a:pt x="130" y="20"/>
                </a:lnTo>
                <a:lnTo>
                  <a:pt x="132" y="33"/>
                </a:lnTo>
                <a:lnTo>
                  <a:pt x="133" y="61"/>
                </a:lnTo>
                <a:lnTo>
                  <a:pt x="133" y="89"/>
                </a:lnTo>
                <a:lnTo>
                  <a:pt x="154" y="112"/>
                </a:lnTo>
                <a:lnTo>
                  <a:pt x="154" y="102"/>
                </a:lnTo>
                <a:lnTo>
                  <a:pt x="155" y="94"/>
                </a:lnTo>
                <a:lnTo>
                  <a:pt x="161" y="94"/>
                </a:lnTo>
                <a:lnTo>
                  <a:pt x="162" y="102"/>
                </a:lnTo>
                <a:lnTo>
                  <a:pt x="162" y="117"/>
                </a:lnTo>
                <a:lnTo>
                  <a:pt x="184" y="132"/>
                </a:lnTo>
                <a:lnTo>
                  <a:pt x="184" y="121"/>
                </a:lnTo>
                <a:lnTo>
                  <a:pt x="185" y="114"/>
                </a:lnTo>
                <a:lnTo>
                  <a:pt x="191" y="114"/>
                </a:lnTo>
                <a:lnTo>
                  <a:pt x="191" y="121"/>
                </a:lnTo>
                <a:lnTo>
                  <a:pt x="191" y="138"/>
                </a:lnTo>
                <a:lnTo>
                  <a:pt x="241" y="171"/>
                </a:lnTo>
                <a:lnTo>
                  <a:pt x="243" y="174"/>
                </a:lnTo>
                <a:lnTo>
                  <a:pt x="244" y="177"/>
                </a:lnTo>
                <a:lnTo>
                  <a:pt x="244" y="185"/>
                </a:lnTo>
                <a:lnTo>
                  <a:pt x="242" y="188"/>
                </a:lnTo>
                <a:lnTo>
                  <a:pt x="239" y="190"/>
                </a:lnTo>
                <a:lnTo>
                  <a:pt x="146" y="161"/>
                </a:lnTo>
                <a:lnTo>
                  <a:pt x="133" y="158"/>
                </a:lnTo>
                <a:lnTo>
                  <a:pt x="133" y="193"/>
                </a:lnTo>
                <a:lnTo>
                  <a:pt x="132" y="214"/>
                </a:lnTo>
                <a:lnTo>
                  <a:pt x="130" y="234"/>
                </a:lnTo>
                <a:lnTo>
                  <a:pt x="158" y="265"/>
                </a:lnTo>
                <a:lnTo>
                  <a:pt x="161" y="270"/>
                </a:lnTo>
                <a:lnTo>
                  <a:pt x="161" y="276"/>
                </a:lnTo>
                <a:lnTo>
                  <a:pt x="160" y="279"/>
                </a:lnTo>
                <a:lnTo>
                  <a:pt x="157" y="279"/>
                </a:lnTo>
                <a:lnTo>
                  <a:pt x="123" y="267"/>
                </a:lnTo>
                <a:lnTo>
                  <a:pt x="121" y="271"/>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a:off x="2514600" y="3384720"/>
            <a:ext cx="398520" cy="458640"/>
          </a:xfrm>
          <a:custGeom>
            <a:avLst/>
            <a:gdLst/>
            <a:ahLst/>
            <a:rect l="l" t="t" r="r" b="b"/>
            <a:pathLst>
              <a:path w="251" h="289">
                <a:moveTo>
                  <a:pt x="124" y="280"/>
                </a:moveTo>
                <a:lnTo>
                  <a:pt x="123" y="275"/>
                </a:lnTo>
                <a:lnTo>
                  <a:pt x="88" y="288"/>
                </a:lnTo>
                <a:lnTo>
                  <a:pt x="85" y="288"/>
                </a:lnTo>
                <a:lnTo>
                  <a:pt x="85" y="285"/>
                </a:lnTo>
                <a:lnTo>
                  <a:pt x="85" y="279"/>
                </a:lnTo>
                <a:lnTo>
                  <a:pt x="86" y="274"/>
                </a:lnTo>
                <a:lnTo>
                  <a:pt x="116" y="241"/>
                </a:lnTo>
                <a:lnTo>
                  <a:pt x="114" y="221"/>
                </a:lnTo>
                <a:lnTo>
                  <a:pt x="113" y="199"/>
                </a:lnTo>
                <a:lnTo>
                  <a:pt x="113" y="163"/>
                </a:lnTo>
                <a:lnTo>
                  <a:pt x="100" y="166"/>
                </a:lnTo>
                <a:lnTo>
                  <a:pt x="4" y="196"/>
                </a:lnTo>
                <a:lnTo>
                  <a:pt x="1" y="194"/>
                </a:lnTo>
                <a:lnTo>
                  <a:pt x="0" y="191"/>
                </a:lnTo>
                <a:lnTo>
                  <a:pt x="0" y="183"/>
                </a:lnTo>
                <a:lnTo>
                  <a:pt x="0" y="180"/>
                </a:lnTo>
                <a:lnTo>
                  <a:pt x="2" y="177"/>
                </a:lnTo>
                <a:lnTo>
                  <a:pt x="53" y="142"/>
                </a:lnTo>
                <a:lnTo>
                  <a:pt x="53" y="125"/>
                </a:lnTo>
                <a:lnTo>
                  <a:pt x="55" y="117"/>
                </a:lnTo>
                <a:lnTo>
                  <a:pt x="60" y="117"/>
                </a:lnTo>
                <a:lnTo>
                  <a:pt x="62" y="125"/>
                </a:lnTo>
                <a:lnTo>
                  <a:pt x="62" y="136"/>
                </a:lnTo>
                <a:lnTo>
                  <a:pt x="83" y="121"/>
                </a:lnTo>
                <a:lnTo>
                  <a:pt x="84" y="105"/>
                </a:lnTo>
                <a:lnTo>
                  <a:pt x="84" y="97"/>
                </a:lnTo>
                <a:lnTo>
                  <a:pt x="90" y="97"/>
                </a:lnTo>
                <a:lnTo>
                  <a:pt x="91" y="105"/>
                </a:lnTo>
                <a:lnTo>
                  <a:pt x="91" y="116"/>
                </a:lnTo>
                <a:lnTo>
                  <a:pt x="113" y="92"/>
                </a:lnTo>
                <a:lnTo>
                  <a:pt x="113" y="63"/>
                </a:lnTo>
                <a:lnTo>
                  <a:pt x="114" y="34"/>
                </a:lnTo>
                <a:lnTo>
                  <a:pt x="116" y="20"/>
                </a:lnTo>
                <a:lnTo>
                  <a:pt x="120" y="6"/>
                </a:lnTo>
                <a:lnTo>
                  <a:pt x="122" y="2"/>
                </a:lnTo>
                <a:lnTo>
                  <a:pt x="124" y="0"/>
                </a:lnTo>
                <a:lnTo>
                  <a:pt x="127" y="2"/>
                </a:lnTo>
                <a:lnTo>
                  <a:pt x="129" y="6"/>
                </a:lnTo>
                <a:lnTo>
                  <a:pt x="133" y="20"/>
                </a:lnTo>
                <a:lnTo>
                  <a:pt x="135" y="34"/>
                </a:lnTo>
                <a:lnTo>
                  <a:pt x="136" y="63"/>
                </a:lnTo>
                <a:lnTo>
                  <a:pt x="136" y="92"/>
                </a:lnTo>
                <a:lnTo>
                  <a:pt x="158" y="116"/>
                </a:lnTo>
                <a:lnTo>
                  <a:pt x="158" y="105"/>
                </a:lnTo>
                <a:lnTo>
                  <a:pt x="159" y="97"/>
                </a:lnTo>
                <a:lnTo>
                  <a:pt x="165" y="97"/>
                </a:lnTo>
                <a:lnTo>
                  <a:pt x="166" y="105"/>
                </a:lnTo>
                <a:lnTo>
                  <a:pt x="166" y="121"/>
                </a:lnTo>
                <a:lnTo>
                  <a:pt x="188" y="136"/>
                </a:lnTo>
                <a:lnTo>
                  <a:pt x="188" y="125"/>
                </a:lnTo>
                <a:lnTo>
                  <a:pt x="190" y="117"/>
                </a:lnTo>
                <a:lnTo>
                  <a:pt x="195" y="117"/>
                </a:lnTo>
                <a:lnTo>
                  <a:pt x="195" y="125"/>
                </a:lnTo>
                <a:lnTo>
                  <a:pt x="195" y="142"/>
                </a:lnTo>
                <a:lnTo>
                  <a:pt x="246" y="177"/>
                </a:lnTo>
                <a:lnTo>
                  <a:pt x="249" y="180"/>
                </a:lnTo>
                <a:lnTo>
                  <a:pt x="250" y="183"/>
                </a:lnTo>
                <a:lnTo>
                  <a:pt x="250" y="191"/>
                </a:lnTo>
                <a:lnTo>
                  <a:pt x="248" y="194"/>
                </a:lnTo>
                <a:lnTo>
                  <a:pt x="245" y="196"/>
                </a:lnTo>
                <a:lnTo>
                  <a:pt x="149" y="166"/>
                </a:lnTo>
                <a:lnTo>
                  <a:pt x="136" y="163"/>
                </a:lnTo>
                <a:lnTo>
                  <a:pt x="136" y="199"/>
                </a:lnTo>
                <a:lnTo>
                  <a:pt x="135" y="221"/>
                </a:lnTo>
                <a:lnTo>
                  <a:pt x="133" y="241"/>
                </a:lnTo>
                <a:lnTo>
                  <a:pt x="162" y="274"/>
                </a:lnTo>
                <a:lnTo>
                  <a:pt x="165" y="279"/>
                </a:lnTo>
                <a:lnTo>
                  <a:pt x="165" y="285"/>
                </a:lnTo>
                <a:lnTo>
                  <a:pt x="164" y="288"/>
                </a:lnTo>
                <a:lnTo>
                  <a:pt x="161" y="288"/>
                </a:lnTo>
                <a:lnTo>
                  <a:pt x="126" y="275"/>
                </a:lnTo>
                <a:lnTo>
                  <a:pt x="124" y="2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a:off x="2657520" y="3511440"/>
            <a:ext cx="390600" cy="443160"/>
          </a:xfrm>
          <a:custGeom>
            <a:avLst/>
            <a:gdLst/>
            <a:ahLst/>
            <a:rect l="l" t="t" r="r" b="b"/>
            <a:pathLst>
              <a:path w="246" h="279">
                <a:moveTo>
                  <a:pt x="123" y="270"/>
                </a:moveTo>
                <a:lnTo>
                  <a:pt x="121" y="266"/>
                </a:lnTo>
                <a:lnTo>
                  <a:pt x="87" y="278"/>
                </a:lnTo>
                <a:lnTo>
                  <a:pt x="84" y="278"/>
                </a:lnTo>
                <a:lnTo>
                  <a:pt x="84" y="275"/>
                </a:lnTo>
                <a:lnTo>
                  <a:pt x="84" y="267"/>
                </a:lnTo>
                <a:lnTo>
                  <a:pt x="86" y="264"/>
                </a:lnTo>
                <a:lnTo>
                  <a:pt x="114" y="233"/>
                </a:lnTo>
                <a:lnTo>
                  <a:pt x="112" y="213"/>
                </a:lnTo>
                <a:lnTo>
                  <a:pt x="111" y="192"/>
                </a:lnTo>
                <a:lnTo>
                  <a:pt x="111" y="157"/>
                </a:lnTo>
                <a:lnTo>
                  <a:pt x="98" y="160"/>
                </a:lnTo>
                <a:lnTo>
                  <a:pt x="5" y="189"/>
                </a:lnTo>
                <a:lnTo>
                  <a:pt x="2" y="187"/>
                </a:lnTo>
                <a:lnTo>
                  <a:pt x="0" y="184"/>
                </a:lnTo>
                <a:lnTo>
                  <a:pt x="0" y="177"/>
                </a:lnTo>
                <a:lnTo>
                  <a:pt x="1" y="174"/>
                </a:lnTo>
                <a:lnTo>
                  <a:pt x="3" y="171"/>
                </a:lnTo>
                <a:lnTo>
                  <a:pt x="53" y="136"/>
                </a:lnTo>
                <a:lnTo>
                  <a:pt x="53" y="121"/>
                </a:lnTo>
                <a:lnTo>
                  <a:pt x="54" y="113"/>
                </a:lnTo>
                <a:lnTo>
                  <a:pt x="60" y="113"/>
                </a:lnTo>
                <a:lnTo>
                  <a:pt x="61" y="121"/>
                </a:lnTo>
                <a:lnTo>
                  <a:pt x="61" y="131"/>
                </a:lnTo>
                <a:lnTo>
                  <a:pt x="82" y="116"/>
                </a:lnTo>
                <a:lnTo>
                  <a:pt x="83" y="100"/>
                </a:lnTo>
                <a:lnTo>
                  <a:pt x="83" y="94"/>
                </a:lnTo>
                <a:lnTo>
                  <a:pt x="89" y="94"/>
                </a:lnTo>
                <a:lnTo>
                  <a:pt x="90" y="100"/>
                </a:lnTo>
                <a:lnTo>
                  <a:pt x="90" y="110"/>
                </a:lnTo>
                <a:lnTo>
                  <a:pt x="111" y="89"/>
                </a:lnTo>
                <a:lnTo>
                  <a:pt x="111" y="60"/>
                </a:lnTo>
                <a:lnTo>
                  <a:pt x="112" y="33"/>
                </a:lnTo>
                <a:lnTo>
                  <a:pt x="114" y="20"/>
                </a:lnTo>
                <a:lnTo>
                  <a:pt x="118" y="6"/>
                </a:lnTo>
                <a:lnTo>
                  <a:pt x="120" y="2"/>
                </a:lnTo>
                <a:lnTo>
                  <a:pt x="123" y="0"/>
                </a:lnTo>
                <a:lnTo>
                  <a:pt x="125" y="2"/>
                </a:lnTo>
                <a:lnTo>
                  <a:pt x="127" y="6"/>
                </a:lnTo>
                <a:lnTo>
                  <a:pt x="131" y="20"/>
                </a:lnTo>
                <a:lnTo>
                  <a:pt x="133" y="33"/>
                </a:lnTo>
                <a:lnTo>
                  <a:pt x="134" y="60"/>
                </a:lnTo>
                <a:lnTo>
                  <a:pt x="134" y="89"/>
                </a:lnTo>
                <a:lnTo>
                  <a:pt x="155" y="110"/>
                </a:lnTo>
                <a:lnTo>
                  <a:pt x="155" y="100"/>
                </a:lnTo>
                <a:lnTo>
                  <a:pt x="156" y="94"/>
                </a:lnTo>
                <a:lnTo>
                  <a:pt x="162" y="94"/>
                </a:lnTo>
                <a:lnTo>
                  <a:pt x="163" y="100"/>
                </a:lnTo>
                <a:lnTo>
                  <a:pt x="163" y="116"/>
                </a:lnTo>
                <a:lnTo>
                  <a:pt x="185" y="131"/>
                </a:lnTo>
                <a:lnTo>
                  <a:pt x="185" y="121"/>
                </a:lnTo>
                <a:lnTo>
                  <a:pt x="186" y="113"/>
                </a:lnTo>
                <a:lnTo>
                  <a:pt x="192" y="113"/>
                </a:lnTo>
                <a:lnTo>
                  <a:pt x="192" y="121"/>
                </a:lnTo>
                <a:lnTo>
                  <a:pt x="192" y="136"/>
                </a:lnTo>
                <a:lnTo>
                  <a:pt x="242" y="171"/>
                </a:lnTo>
                <a:lnTo>
                  <a:pt x="244" y="174"/>
                </a:lnTo>
                <a:lnTo>
                  <a:pt x="245" y="177"/>
                </a:lnTo>
                <a:lnTo>
                  <a:pt x="245" y="184"/>
                </a:lnTo>
                <a:lnTo>
                  <a:pt x="243" y="187"/>
                </a:lnTo>
                <a:lnTo>
                  <a:pt x="240" y="189"/>
                </a:lnTo>
                <a:lnTo>
                  <a:pt x="147" y="160"/>
                </a:lnTo>
                <a:lnTo>
                  <a:pt x="134" y="157"/>
                </a:lnTo>
                <a:lnTo>
                  <a:pt x="134" y="192"/>
                </a:lnTo>
                <a:lnTo>
                  <a:pt x="133" y="213"/>
                </a:lnTo>
                <a:lnTo>
                  <a:pt x="131" y="233"/>
                </a:lnTo>
                <a:lnTo>
                  <a:pt x="159" y="264"/>
                </a:lnTo>
                <a:lnTo>
                  <a:pt x="162" y="267"/>
                </a:lnTo>
                <a:lnTo>
                  <a:pt x="162" y="275"/>
                </a:lnTo>
                <a:lnTo>
                  <a:pt x="161" y="278"/>
                </a:lnTo>
                <a:lnTo>
                  <a:pt x="158" y="278"/>
                </a:lnTo>
                <a:lnTo>
                  <a:pt x="124" y="266"/>
                </a:lnTo>
                <a:lnTo>
                  <a:pt x="123" y="27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9" name=""/>
          <p:cNvSpPr/>
          <p:nvPr/>
        </p:nvSpPr>
        <p:spPr>
          <a:xfrm>
            <a:off x="2657520" y="3511440"/>
            <a:ext cx="401760" cy="457200"/>
          </a:xfrm>
          <a:custGeom>
            <a:avLst/>
            <a:gdLst/>
            <a:ahLst/>
            <a:rect l="l" t="t" r="r" b="b"/>
            <a:pathLst>
              <a:path w="253" h="288">
                <a:moveTo>
                  <a:pt x="126" y="279"/>
                </a:moveTo>
                <a:lnTo>
                  <a:pt x="125" y="275"/>
                </a:lnTo>
                <a:lnTo>
                  <a:pt x="89" y="287"/>
                </a:lnTo>
                <a:lnTo>
                  <a:pt x="87" y="287"/>
                </a:lnTo>
                <a:lnTo>
                  <a:pt x="87" y="284"/>
                </a:lnTo>
                <a:lnTo>
                  <a:pt x="87" y="276"/>
                </a:lnTo>
                <a:lnTo>
                  <a:pt x="88" y="273"/>
                </a:lnTo>
                <a:lnTo>
                  <a:pt x="118" y="240"/>
                </a:lnTo>
                <a:lnTo>
                  <a:pt x="115" y="220"/>
                </a:lnTo>
                <a:lnTo>
                  <a:pt x="114" y="198"/>
                </a:lnTo>
                <a:lnTo>
                  <a:pt x="114" y="162"/>
                </a:lnTo>
                <a:lnTo>
                  <a:pt x="101" y="165"/>
                </a:lnTo>
                <a:lnTo>
                  <a:pt x="5" y="195"/>
                </a:lnTo>
                <a:lnTo>
                  <a:pt x="2" y="193"/>
                </a:lnTo>
                <a:lnTo>
                  <a:pt x="0" y="190"/>
                </a:lnTo>
                <a:lnTo>
                  <a:pt x="0" y="182"/>
                </a:lnTo>
                <a:lnTo>
                  <a:pt x="1" y="179"/>
                </a:lnTo>
                <a:lnTo>
                  <a:pt x="4" y="176"/>
                </a:lnTo>
                <a:lnTo>
                  <a:pt x="55" y="140"/>
                </a:lnTo>
                <a:lnTo>
                  <a:pt x="55" y="125"/>
                </a:lnTo>
                <a:lnTo>
                  <a:pt x="56" y="117"/>
                </a:lnTo>
                <a:lnTo>
                  <a:pt x="62" y="117"/>
                </a:lnTo>
                <a:lnTo>
                  <a:pt x="63" y="125"/>
                </a:lnTo>
                <a:lnTo>
                  <a:pt x="63" y="136"/>
                </a:lnTo>
                <a:lnTo>
                  <a:pt x="84" y="120"/>
                </a:lnTo>
                <a:lnTo>
                  <a:pt x="86" y="103"/>
                </a:lnTo>
                <a:lnTo>
                  <a:pt x="86" y="97"/>
                </a:lnTo>
                <a:lnTo>
                  <a:pt x="92" y="97"/>
                </a:lnTo>
                <a:lnTo>
                  <a:pt x="93" y="103"/>
                </a:lnTo>
                <a:lnTo>
                  <a:pt x="93" y="114"/>
                </a:lnTo>
                <a:lnTo>
                  <a:pt x="114" y="92"/>
                </a:lnTo>
                <a:lnTo>
                  <a:pt x="114" y="62"/>
                </a:lnTo>
                <a:lnTo>
                  <a:pt x="115" y="34"/>
                </a:lnTo>
                <a:lnTo>
                  <a:pt x="118" y="20"/>
                </a:lnTo>
                <a:lnTo>
                  <a:pt x="121" y="6"/>
                </a:lnTo>
                <a:lnTo>
                  <a:pt x="124" y="2"/>
                </a:lnTo>
                <a:lnTo>
                  <a:pt x="126" y="0"/>
                </a:lnTo>
                <a:lnTo>
                  <a:pt x="128" y="2"/>
                </a:lnTo>
                <a:lnTo>
                  <a:pt x="131" y="6"/>
                </a:lnTo>
                <a:lnTo>
                  <a:pt x="134" y="20"/>
                </a:lnTo>
                <a:lnTo>
                  <a:pt x="137" y="34"/>
                </a:lnTo>
                <a:lnTo>
                  <a:pt x="138" y="62"/>
                </a:lnTo>
                <a:lnTo>
                  <a:pt x="138" y="92"/>
                </a:lnTo>
                <a:lnTo>
                  <a:pt x="159" y="114"/>
                </a:lnTo>
                <a:lnTo>
                  <a:pt x="159" y="103"/>
                </a:lnTo>
                <a:lnTo>
                  <a:pt x="160" y="97"/>
                </a:lnTo>
                <a:lnTo>
                  <a:pt x="166" y="97"/>
                </a:lnTo>
                <a:lnTo>
                  <a:pt x="168" y="103"/>
                </a:lnTo>
                <a:lnTo>
                  <a:pt x="168" y="120"/>
                </a:lnTo>
                <a:lnTo>
                  <a:pt x="190" y="136"/>
                </a:lnTo>
                <a:lnTo>
                  <a:pt x="190" y="125"/>
                </a:lnTo>
                <a:lnTo>
                  <a:pt x="191" y="117"/>
                </a:lnTo>
                <a:lnTo>
                  <a:pt x="197" y="117"/>
                </a:lnTo>
                <a:lnTo>
                  <a:pt x="197" y="125"/>
                </a:lnTo>
                <a:lnTo>
                  <a:pt x="197" y="140"/>
                </a:lnTo>
                <a:lnTo>
                  <a:pt x="248" y="176"/>
                </a:lnTo>
                <a:lnTo>
                  <a:pt x="251" y="179"/>
                </a:lnTo>
                <a:lnTo>
                  <a:pt x="252" y="182"/>
                </a:lnTo>
                <a:lnTo>
                  <a:pt x="252" y="190"/>
                </a:lnTo>
                <a:lnTo>
                  <a:pt x="250" y="193"/>
                </a:lnTo>
                <a:lnTo>
                  <a:pt x="247" y="195"/>
                </a:lnTo>
                <a:lnTo>
                  <a:pt x="151" y="165"/>
                </a:lnTo>
                <a:lnTo>
                  <a:pt x="138" y="162"/>
                </a:lnTo>
                <a:lnTo>
                  <a:pt x="138" y="198"/>
                </a:lnTo>
                <a:lnTo>
                  <a:pt x="137" y="220"/>
                </a:lnTo>
                <a:lnTo>
                  <a:pt x="134" y="240"/>
                </a:lnTo>
                <a:lnTo>
                  <a:pt x="164" y="273"/>
                </a:lnTo>
                <a:lnTo>
                  <a:pt x="166" y="276"/>
                </a:lnTo>
                <a:lnTo>
                  <a:pt x="166" y="284"/>
                </a:lnTo>
                <a:lnTo>
                  <a:pt x="165" y="287"/>
                </a:lnTo>
                <a:lnTo>
                  <a:pt x="163" y="287"/>
                </a:lnTo>
                <a:lnTo>
                  <a:pt x="127" y="275"/>
                </a:lnTo>
                <a:lnTo>
                  <a:pt x="126" y="27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0" name=""/>
          <p:cNvSpPr/>
          <p:nvPr/>
        </p:nvSpPr>
        <p:spPr>
          <a:xfrm>
            <a:off x="2806560" y="3130560"/>
            <a:ext cx="389160" cy="444600"/>
          </a:xfrm>
          <a:custGeom>
            <a:avLst/>
            <a:gdLst/>
            <a:ahLst/>
            <a:rect l="l" t="t" r="r" b="b"/>
            <a:pathLst>
              <a:path w="245" h="280">
                <a:moveTo>
                  <a:pt x="121" y="271"/>
                </a:moveTo>
                <a:lnTo>
                  <a:pt x="120" y="267"/>
                </a:lnTo>
                <a:lnTo>
                  <a:pt x="86" y="279"/>
                </a:lnTo>
                <a:lnTo>
                  <a:pt x="84" y="279"/>
                </a:lnTo>
                <a:lnTo>
                  <a:pt x="83" y="276"/>
                </a:lnTo>
                <a:lnTo>
                  <a:pt x="83" y="268"/>
                </a:lnTo>
                <a:lnTo>
                  <a:pt x="84" y="265"/>
                </a:lnTo>
                <a:lnTo>
                  <a:pt x="114" y="234"/>
                </a:lnTo>
                <a:lnTo>
                  <a:pt x="111" y="214"/>
                </a:lnTo>
                <a:lnTo>
                  <a:pt x="110" y="193"/>
                </a:lnTo>
                <a:lnTo>
                  <a:pt x="110" y="158"/>
                </a:lnTo>
                <a:lnTo>
                  <a:pt x="97" y="161"/>
                </a:lnTo>
                <a:lnTo>
                  <a:pt x="3" y="190"/>
                </a:lnTo>
                <a:lnTo>
                  <a:pt x="1" y="188"/>
                </a:lnTo>
                <a:lnTo>
                  <a:pt x="0" y="185"/>
                </a:lnTo>
                <a:lnTo>
                  <a:pt x="0" y="177"/>
                </a:lnTo>
                <a:lnTo>
                  <a:pt x="0" y="174"/>
                </a:lnTo>
                <a:lnTo>
                  <a:pt x="2" y="171"/>
                </a:lnTo>
                <a:lnTo>
                  <a:pt x="52" y="138"/>
                </a:lnTo>
                <a:lnTo>
                  <a:pt x="52" y="121"/>
                </a:lnTo>
                <a:lnTo>
                  <a:pt x="53" y="114"/>
                </a:lnTo>
                <a:lnTo>
                  <a:pt x="59" y="114"/>
                </a:lnTo>
                <a:lnTo>
                  <a:pt x="60" y="121"/>
                </a:lnTo>
                <a:lnTo>
                  <a:pt x="60" y="132"/>
                </a:lnTo>
                <a:lnTo>
                  <a:pt x="81" y="117"/>
                </a:lnTo>
                <a:lnTo>
                  <a:pt x="82" y="100"/>
                </a:lnTo>
                <a:lnTo>
                  <a:pt x="82" y="94"/>
                </a:lnTo>
                <a:lnTo>
                  <a:pt x="88" y="94"/>
                </a:lnTo>
                <a:lnTo>
                  <a:pt x="89" y="100"/>
                </a:lnTo>
                <a:lnTo>
                  <a:pt x="89" y="111"/>
                </a:lnTo>
                <a:lnTo>
                  <a:pt x="110" y="89"/>
                </a:lnTo>
                <a:lnTo>
                  <a:pt x="110" y="61"/>
                </a:lnTo>
                <a:lnTo>
                  <a:pt x="112" y="33"/>
                </a:lnTo>
                <a:lnTo>
                  <a:pt x="114" y="20"/>
                </a:lnTo>
                <a:lnTo>
                  <a:pt x="117" y="6"/>
                </a:lnTo>
                <a:lnTo>
                  <a:pt x="119" y="2"/>
                </a:lnTo>
                <a:lnTo>
                  <a:pt x="121" y="0"/>
                </a:lnTo>
                <a:lnTo>
                  <a:pt x="124" y="2"/>
                </a:lnTo>
                <a:lnTo>
                  <a:pt x="126" y="6"/>
                </a:lnTo>
                <a:lnTo>
                  <a:pt x="130" y="20"/>
                </a:lnTo>
                <a:lnTo>
                  <a:pt x="132" y="33"/>
                </a:lnTo>
                <a:lnTo>
                  <a:pt x="133" y="61"/>
                </a:lnTo>
                <a:lnTo>
                  <a:pt x="133" y="89"/>
                </a:lnTo>
                <a:lnTo>
                  <a:pt x="154" y="111"/>
                </a:lnTo>
                <a:lnTo>
                  <a:pt x="155" y="100"/>
                </a:lnTo>
                <a:lnTo>
                  <a:pt x="155" y="94"/>
                </a:lnTo>
                <a:lnTo>
                  <a:pt x="161" y="94"/>
                </a:lnTo>
                <a:lnTo>
                  <a:pt x="162" y="100"/>
                </a:lnTo>
                <a:lnTo>
                  <a:pt x="162" y="117"/>
                </a:lnTo>
                <a:lnTo>
                  <a:pt x="184" y="132"/>
                </a:lnTo>
                <a:lnTo>
                  <a:pt x="184" y="121"/>
                </a:lnTo>
                <a:lnTo>
                  <a:pt x="185" y="114"/>
                </a:lnTo>
                <a:lnTo>
                  <a:pt x="191" y="114"/>
                </a:lnTo>
                <a:lnTo>
                  <a:pt x="191" y="121"/>
                </a:lnTo>
                <a:lnTo>
                  <a:pt x="192" y="138"/>
                </a:lnTo>
                <a:lnTo>
                  <a:pt x="241" y="171"/>
                </a:lnTo>
                <a:lnTo>
                  <a:pt x="243" y="174"/>
                </a:lnTo>
                <a:lnTo>
                  <a:pt x="244" y="177"/>
                </a:lnTo>
                <a:lnTo>
                  <a:pt x="244" y="185"/>
                </a:lnTo>
                <a:lnTo>
                  <a:pt x="243" y="188"/>
                </a:lnTo>
                <a:lnTo>
                  <a:pt x="239" y="190"/>
                </a:lnTo>
                <a:lnTo>
                  <a:pt x="146" y="161"/>
                </a:lnTo>
                <a:lnTo>
                  <a:pt x="133" y="158"/>
                </a:lnTo>
                <a:lnTo>
                  <a:pt x="133" y="193"/>
                </a:lnTo>
                <a:lnTo>
                  <a:pt x="132" y="214"/>
                </a:lnTo>
                <a:lnTo>
                  <a:pt x="130" y="234"/>
                </a:lnTo>
                <a:lnTo>
                  <a:pt x="158" y="265"/>
                </a:lnTo>
                <a:lnTo>
                  <a:pt x="161" y="268"/>
                </a:lnTo>
                <a:lnTo>
                  <a:pt x="161" y="276"/>
                </a:lnTo>
                <a:lnTo>
                  <a:pt x="160" y="279"/>
                </a:lnTo>
                <a:lnTo>
                  <a:pt x="157" y="279"/>
                </a:lnTo>
                <a:lnTo>
                  <a:pt x="124" y="267"/>
                </a:lnTo>
                <a:lnTo>
                  <a:pt x="121" y="271"/>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2806560" y="3130560"/>
            <a:ext cx="401760" cy="458640"/>
          </a:xfrm>
          <a:custGeom>
            <a:avLst/>
            <a:gdLst/>
            <a:ahLst/>
            <a:rect l="l" t="t" r="r" b="b"/>
            <a:pathLst>
              <a:path w="253" h="289">
                <a:moveTo>
                  <a:pt x="125" y="280"/>
                </a:moveTo>
                <a:lnTo>
                  <a:pt x="124" y="275"/>
                </a:lnTo>
                <a:lnTo>
                  <a:pt x="88" y="288"/>
                </a:lnTo>
                <a:lnTo>
                  <a:pt x="87" y="288"/>
                </a:lnTo>
                <a:lnTo>
                  <a:pt x="86" y="285"/>
                </a:lnTo>
                <a:lnTo>
                  <a:pt x="86" y="277"/>
                </a:lnTo>
                <a:lnTo>
                  <a:pt x="87" y="274"/>
                </a:lnTo>
                <a:lnTo>
                  <a:pt x="118" y="241"/>
                </a:lnTo>
                <a:lnTo>
                  <a:pt x="115" y="221"/>
                </a:lnTo>
                <a:lnTo>
                  <a:pt x="113" y="199"/>
                </a:lnTo>
                <a:lnTo>
                  <a:pt x="113" y="163"/>
                </a:lnTo>
                <a:lnTo>
                  <a:pt x="100" y="166"/>
                </a:lnTo>
                <a:lnTo>
                  <a:pt x="4" y="196"/>
                </a:lnTo>
                <a:lnTo>
                  <a:pt x="1" y="194"/>
                </a:lnTo>
                <a:lnTo>
                  <a:pt x="0" y="191"/>
                </a:lnTo>
                <a:lnTo>
                  <a:pt x="0" y="183"/>
                </a:lnTo>
                <a:lnTo>
                  <a:pt x="0" y="180"/>
                </a:lnTo>
                <a:lnTo>
                  <a:pt x="2" y="177"/>
                </a:lnTo>
                <a:lnTo>
                  <a:pt x="54" y="142"/>
                </a:lnTo>
                <a:lnTo>
                  <a:pt x="54" y="125"/>
                </a:lnTo>
                <a:lnTo>
                  <a:pt x="55" y="117"/>
                </a:lnTo>
                <a:lnTo>
                  <a:pt x="61" y="117"/>
                </a:lnTo>
                <a:lnTo>
                  <a:pt x="62" y="125"/>
                </a:lnTo>
                <a:lnTo>
                  <a:pt x="62" y="136"/>
                </a:lnTo>
                <a:lnTo>
                  <a:pt x="84" y="121"/>
                </a:lnTo>
                <a:lnTo>
                  <a:pt x="85" y="103"/>
                </a:lnTo>
                <a:lnTo>
                  <a:pt x="85" y="97"/>
                </a:lnTo>
                <a:lnTo>
                  <a:pt x="91" y="97"/>
                </a:lnTo>
                <a:lnTo>
                  <a:pt x="92" y="103"/>
                </a:lnTo>
                <a:lnTo>
                  <a:pt x="92" y="114"/>
                </a:lnTo>
                <a:lnTo>
                  <a:pt x="113" y="92"/>
                </a:lnTo>
                <a:lnTo>
                  <a:pt x="113" y="63"/>
                </a:lnTo>
                <a:lnTo>
                  <a:pt x="116" y="34"/>
                </a:lnTo>
                <a:lnTo>
                  <a:pt x="118" y="20"/>
                </a:lnTo>
                <a:lnTo>
                  <a:pt x="121" y="6"/>
                </a:lnTo>
                <a:lnTo>
                  <a:pt x="123" y="2"/>
                </a:lnTo>
                <a:lnTo>
                  <a:pt x="125" y="0"/>
                </a:lnTo>
                <a:lnTo>
                  <a:pt x="128" y="2"/>
                </a:lnTo>
                <a:lnTo>
                  <a:pt x="130" y="6"/>
                </a:lnTo>
                <a:lnTo>
                  <a:pt x="134" y="20"/>
                </a:lnTo>
                <a:lnTo>
                  <a:pt x="136" y="34"/>
                </a:lnTo>
                <a:lnTo>
                  <a:pt x="137" y="63"/>
                </a:lnTo>
                <a:lnTo>
                  <a:pt x="137" y="92"/>
                </a:lnTo>
                <a:lnTo>
                  <a:pt x="159" y="114"/>
                </a:lnTo>
                <a:lnTo>
                  <a:pt x="160" y="103"/>
                </a:lnTo>
                <a:lnTo>
                  <a:pt x="160" y="97"/>
                </a:lnTo>
                <a:lnTo>
                  <a:pt x="166" y="97"/>
                </a:lnTo>
                <a:lnTo>
                  <a:pt x="167" y="103"/>
                </a:lnTo>
                <a:lnTo>
                  <a:pt x="167" y="121"/>
                </a:lnTo>
                <a:lnTo>
                  <a:pt x="190" y="136"/>
                </a:lnTo>
                <a:lnTo>
                  <a:pt x="190" y="125"/>
                </a:lnTo>
                <a:lnTo>
                  <a:pt x="191" y="117"/>
                </a:lnTo>
                <a:lnTo>
                  <a:pt x="197" y="117"/>
                </a:lnTo>
                <a:lnTo>
                  <a:pt x="197" y="125"/>
                </a:lnTo>
                <a:lnTo>
                  <a:pt x="198" y="142"/>
                </a:lnTo>
                <a:lnTo>
                  <a:pt x="248" y="177"/>
                </a:lnTo>
                <a:lnTo>
                  <a:pt x="251" y="180"/>
                </a:lnTo>
                <a:lnTo>
                  <a:pt x="252" y="183"/>
                </a:lnTo>
                <a:lnTo>
                  <a:pt x="252" y="191"/>
                </a:lnTo>
                <a:lnTo>
                  <a:pt x="251" y="194"/>
                </a:lnTo>
                <a:lnTo>
                  <a:pt x="247" y="196"/>
                </a:lnTo>
                <a:lnTo>
                  <a:pt x="150" y="166"/>
                </a:lnTo>
                <a:lnTo>
                  <a:pt x="137" y="163"/>
                </a:lnTo>
                <a:lnTo>
                  <a:pt x="137" y="199"/>
                </a:lnTo>
                <a:lnTo>
                  <a:pt x="136" y="221"/>
                </a:lnTo>
                <a:lnTo>
                  <a:pt x="134" y="241"/>
                </a:lnTo>
                <a:lnTo>
                  <a:pt x="164" y="274"/>
                </a:lnTo>
                <a:lnTo>
                  <a:pt x="166" y="277"/>
                </a:lnTo>
                <a:lnTo>
                  <a:pt x="166" y="285"/>
                </a:lnTo>
                <a:lnTo>
                  <a:pt x="165" y="288"/>
                </a:lnTo>
                <a:lnTo>
                  <a:pt x="162" y="288"/>
                </a:lnTo>
                <a:lnTo>
                  <a:pt x="128" y="275"/>
                </a:lnTo>
                <a:lnTo>
                  <a:pt x="125" y="2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2" name=""/>
          <p:cNvSpPr/>
          <p:nvPr/>
        </p:nvSpPr>
        <p:spPr>
          <a:xfrm>
            <a:off x="2954160" y="3894120"/>
            <a:ext cx="389160" cy="442800"/>
          </a:xfrm>
          <a:custGeom>
            <a:avLst/>
            <a:gdLst/>
            <a:ahLst/>
            <a:rect l="l" t="t" r="r" b="b"/>
            <a:pathLst>
              <a:path w="245" h="279">
                <a:moveTo>
                  <a:pt x="121" y="270"/>
                </a:moveTo>
                <a:lnTo>
                  <a:pt x="120" y="266"/>
                </a:lnTo>
                <a:lnTo>
                  <a:pt x="86" y="278"/>
                </a:lnTo>
                <a:lnTo>
                  <a:pt x="84" y="278"/>
                </a:lnTo>
                <a:lnTo>
                  <a:pt x="83" y="276"/>
                </a:lnTo>
                <a:lnTo>
                  <a:pt x="83" y="269"/>
                </a:lnTo>
                <a:lnTo>
                  <a:pt x="84" y="264"/>
                </a:lnTo>
                <a:lnTo>
                  <a:pt x="114" y="234"/>
                </a:lnTo>
                <a:lnTo>
                  <a:pt x="112" y="213"/>
                </a:lnTo>
                <a:lnTo>
                  <a:pt x="111" y="193"/>
                </a:lnTo>
                <a:lnTo>
                  <a:pt x="111" y="159"/>
                </a:lnTo>
                <a:lnTo>
                  <a:pt x="98" y="160"/>
                </a:lnTo>
                <a:lnTo>
                  <a:pt x="5" y="189"/>
                </a:lnTo>
                <a:lnTo>
                  <a:pt x="1" y="189"/>
                </a:lnTo>
                <a:lnTo>
                  <a:pt x="0" y="184"/>
                </a:lnTo>
                <a:lnTo>
                  <a:pt x="0" y="177"/>
                </a:lnTo>
                <a:lnTo>
                  <a:pt x="1" y="174"/>
                </a:lnTo>
                <a:lnTo>
                  <a:pt x="2" y="171"/>
                </a:lnTo>
                <a:lnTo>
                  <a:pt x="52" y="137"/>
                </a:lnTo>
                <a:lnTo>
                  <a:pt x="52" y="121"/>
                </a:lnTo>
                <a:lnTo>
                  <a:pt x="53" y="113"/>
                </a:lnTo>
                <a:lnTo>
                  <a:pt x="59" y="113"/>
                </a:lnTo>
                <a:lnTo>
                  <a:pt x="60" y="121"/>
                </a:lnTo>
                <a:lnTo>
                  <a:pt x="60" y="131"/>
                </a:lnTo>
                <a:lnTo>
                  <a:pt x="81" y="116"/>
                </a:lnTo>
                <a:lnTo>
                  <a:pt x="82" y="101"/>
                </a:lnTo>
                <a:lnTo>
                  <a:pt x="83" y="94"/>
                </a:lnTo>
                <a:lnTo>
                  <a:pt x="89" y="94"/>
                </a:lnTo>
                <a:lnTo>
                  <a:pt x="89" y="101"/>
                </a:lnTo>
                <a:lnTo>
                  <a:pt x="89" y="112"/>
                </a:lnTo>
                <a:lnTo>
                  <a:pt x="111" y="89"/>
                </a:lnTo>
                <a:lnTo>
                  <a:pt x="111" y="62"/>
                </a:lnTo>
                <a:lnTo>
                  <a:pt x="112" y="33"/>
                </a:lnTo>
                <a:lnTo>
                  <a:pt x="114" y="20"/>
                </a:lnTo>
                <a:lnTo>
                  <a:pt x="117" y="6"/>
                </a:lnTo>
                <a:lnTo>
                  <a:pt x="119" y="2"/>
                </a:lnTo>
                <a:lnTo>
                  <a:pt x="121" y="0"/>
                </a:lnTo>
                <a:lnTo>
                  <a:pt x="125" y="2"/>
                </a:lnTo>
                <a:lnTo>
                  <a:pt x="126" y="6"/>
                </a:lnTo>
                <a:lnTo>
                  <a:pt x="130" y="20"/>
                </a:lnTo>
                <a:lnTo>
                  <a:pt x="132" y="33"/>
                </a:lnTo>
                <a:lnTo>
                  <a:pt x="133" y="62"/>
                </a:lnTo>
                <a:lnTo>
                  <a:pt x="133" y="89"/>
                </a:lnTo>
                <a:lnTo>
                  <a:pt x="155" y="112"/>
                </a:lnTo>
                <a:lnTo>
                  <a:pt x="155" y="101"/>
                </a:lnTo>
                <a:lnTo>
                  <a:pt x="155" y="94"/>
                </a:lnTo>
                <a:lnTo>
                  <a:pt x="161" y="94"/>
                </a:lnTo>
                <a:lnTo>
                  <a:pt x="162" y="101"/>
                </a:lnTo>
                <a:lnTo>
                  <a:pt x="163" y="116"/>
                </a:lnTo>
                <a:lnTo>
                  <a:pt x="184" y="131"/>
                </a:lnTo>
                <a:lnTo>
                  <a:pt x="184" y="121"/>
                </a:lnTo>
                <a:lnTo>
                  <a:pt x="185" y="113"/>
                </a:lnTo>
                <a:lnTo>
                  <a:pt x="191" y="113"/>
                </a:lnTo>
                <a:lnTo>
                  <a:pt x="192" y="121"/>
                </a:lnTo>
                <a:lnTo>
                  <a:pt x="192" y="137"/>
                </a:lnTo>
                <a:lnTo>
                  <a:pt x="242" y="171"/>
                </a:lnTo>
                <a:lnTo>
                  <a:pt x="243" y="174"/>
                </a:lnTo>
                <a:lnTo>
                  <a:pt x="244" y="177"/>
                </a:lnTo>
                <a:lnTo>
                  <a:pt x="244" y="184"/>
                </a:lnTo>
                <a:lnTo>
                  <a:pt x="243" y="189"/>
                </a:lnTo>
                <a:lnTo>
                  <a:pt x="239" y="189"/>
                </a:lnTo>
                <a:lnTo>
                  <a:pt x="146" y="160"/>
                </a:lnTo>
                <a:lnTo>
                  <a:pt x="133" y="159"/>
                </a:lnTo>
                <a:lnTo>
                  <a:pt x="133" y="193"/>
                </a:lnTo>
                <a:lnTo>
                  <a:pt x="132" y="213"/>
                </a:lnTo>
                <a:lnTo>
                  <a:pt x="130" y="234"/>
                </a:lnTo>
                <a:lnTo>
                  <a:pt x="160" y="264"/>
                </a:lnTo>
                <a:lnTo>
                  <a:pt x="161" y="269"/>
                </a:lnTo>
                <a:lnTo>
                  <a:pt x="161" y="276"/>
                </a:lnTo>
                <a:lnTo>
                  <a:pt x="160" y="278"/>
                </a:lnTo>
                <a:lnTo>
                  <a:pt x="158" y="278"/>
                </a:lnTo>
                <a:lnTo>
                  <a:pt x="124" y="266"/>
                </a:lnTo>
                <a:lnTo>
                  <a:pt x="121" y="27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3" name=""/>
          <p:cNvSpPr/>
          <p:nvPr/>
        </p:nvSpPr>
        <p:spPr>
          <a:xfrm>
            <a:off x="2954160" y="3894120"/>
            <a:ext cx="401760" cy="457200"/>
          </a:xfrm>
          <a:custGeom>
            <a:avLst/>
            <a:gdLst/>
            <a:ahLst/>
            <a:rect l="l" t="t" r="r" b="b"/>
            <a:pathLst>
              <a:path w="253" h="288">
                <a:moveTo>
                  <a:pt x="125" y="279"/>
                </a:moveTo>
                <a:lnTo>
                  <a:pt x="124" y="275"/>
                </a:lnTo>
                <a:lnTo>
                  <a:pt x="88" y="287"/>
                </a:lnTo>
                <a:lnTo>
                  <a:pt x="87" y="287"/>
                </a:lnTo>
                <a:lnTo>
                  <a:pt x="86" y="285"/>
                </a:lnTo>
                <a:lnTo>
                  <a:pt x="86" y="278"/>
                </a:lnTo>
                <a:lnTo>
                  <a:pt x="87" y="273"/>
                </a:lnTo>
                <a:lnTo>
                  <a:pt x="118" y="242"/>
                </a:lnTo>
                <a:lnTo>
                  <a:pt x="116" y="220"/>
                </a:lnTo>
                <a:lnTo>
                  <a:pt x="115" y="200"/>
                </a:lnTo>
                <a:lnTo>
                  <a:pt x="115" y="164"/>
                </a:lnTo>
                <a:lnTo>
                  <a:pt x="102" y="165"/>
                </a:lnTo>
                <a:lnTo>
                  <a:pt x="5" y="195"/>
                </a:lnTo>
                <a:lnTo>
                  <a:pt x="1" y="195"/>
                </a:lnTo>
                <a:lnTo>
                  <a:pt x="0" y="190"/>
                </a:lnTo>
                <a:lnTo>
                  <a:pt x="0" y="182"/>
                </a:lnTo>
                <a:lnTo>
                  <a:pt x="1" y="179"/>
                </a:lnTo>
                <a:lnTo>
                  <a:pt x="2" y="176"/>
                </a:lnTo>
                <a:lnTo>
                  <a:pt x="54" y="142"/>
                </a:lnTo>
                <a:lnTo>
                  <a:pt x="54" y="125"/>
                </a:lnTo>
                <a:lnTo>
                  <a:pt x="55" y="117"/>
                </a:lnTo>
                <a:lnTo>
                  <a:pt x="61" y="117"/>
                </a:lnTo>
                <a:lnTo>
                  <a:pt x="62" y="125"/>
                </a:lnTo>
                <a:lnTo>
                  <a:pt x="62" y="136"/>
                </a:lnTo>
                <a:lnTo>
                  <a:pt x="84" y="120"/>
                </a:lnTo>
                <a:lnTo>
                  <a:pt x="85" y="105"/>
                </a:lnTo>
                <a:lnTo>
                  <a:pt x="86" y="97"/>
                </a:lnTo>
                <a:lnTo>
                  <a:pt x="92" y="97"/>
                </a:lnTo>
                <a:lnTo>
                  <a:pt x="92" y="105"/>
                </a:lnTo>
                <a:lnTo>
                  <a:pt x="92" y="115"/>
                </a:lnTo>
                <a:lnTo>
                  <a:pt x="115" y="92"/>
                </a:lnTo>
                <a:lnTo>
                  <a:pt x="115" y="64"/>
                </a:lnTo>
                <a:lnTo>
                  <a:pt x="116" y="34"/>
                </a:lnTo>
                <a:lnTo>
                  <a:pt x="118" y="20"/>
                </a:lnTo>
                <a:lnTo>
                  <a:pt x="121" y="6"/>
                </a:lnTo>
                <a:lnTo>
                  <a:pt x="123" y="2"/>
                </a:lnTo>
                <a:lnTo>
                  <a:pt x="125" y="0"/>
                </a:lnTo>
                <a:lnTo>
                  <a:pt x="129" y="2"/>
                </a:lnTo>
                <a:lnTo>
                  <a:pt x="130" y="6"/>
                </a:lnTo>
                <a:lnTo>
                  <a:pt x="134" y="20"/>
                </a:lnTo>
                <a:lnTo>
                  <a:pt x="136" y="34"/>
                </a:lnTo>
                <a:lnTo>
                  <a:pt x="137" y="64"/>
                </a:lnTo>
                <a:lnTo>
                  <a:pt x="137" y="92"/>
                </a:lnTo>
                <a:lnTo>
                  <a:pt x="160" y="115"/>
                </a:lnTo>
                <a:lnTo>
                  <a:pt x="160" y="105"/>
                </a:lnTo>
                <a:lnTo>
                  <a:pt x="160" y="97"/>
                </a:lnTo>
                <a:lnTo>
                  <a:pt x="166" y="97"/>
                </a:lnTo>
                <a:lnTo>
                  <a:pt x="167" y="105"/>
                </a:lnTo>
                <a:lnTo>
                  <a:pt x="168" y="120"/>
                </a:lnTo>
                <a:lnTo>
                  <a:pt x="190" y="136"/>
                </a:lnTo>
                <a:lnTo>
                  <a:pt x="190" y="125"/>
                </a:lnTo>
                <a:lnTo>
                  <a:pt x="191" y="117"/>
                </a:lnTo>
                <a:lnTo>
                  <a:pt x="197" y="117"/>
                </a:lnTo>
                <a:lnTo>
                  <a:pt x="198" y="125"/>
                </a:lnTo>
                <a:lnTo>
                  <a:pt x="198" y="142"/>
                </a:lnTo>
                <a:lnTo>
                  <a:pt x="250" y="176"/>
                </a:lnTo>
                <a:lnTo>
                  <a:pt x="251" y="179"/>
                </a:lnTo>
                <a:lnTo>
                  <a:pt x="252" y="182"/>
                </a:lnTo>
                <a:lnTo>
                  <a:pt x="252" y="190"/>
                </a:lnTo>
                <a:lnTo>
                  <a:pt x="251" y="195"/>
                </a:lnTo>
                <a:lnTo>
                  <a:pt x="247" y="195"/>
                </a:lnTo>
                <a:lnTo>
                  <a:pt x="150" y="165"/>
                </a:lnTo>
                <a:lnTo>
                  <a:pt x="137" y="164"/>
                </a:lnTo>
                <a:lnTo>
                  <a:pt x="137" y="200"/>
                </a:lnTo>
                <a:lnTo>
                  <a:pt x="136" y="220"/>
                </a:lnTo>
                <a:lnTo>
                  <a:pt x="134" y="242"/>
                </a:lnTo>
                <a:lnTo>
                  <a:pt x="165" y="273"/>
                </a:lnTo>
                <a:lnTo>
                  <a:pt x="166" y="278"/>
                </a:lnTo>
                <a:lnTo>
                  <a:pt x="166" y="285"/>
                </a:lnTo>
                <a:lnTo>
                  <a:pt x="165" y="287"/>
                </a:lnTo>
                <a:lnTo>
                  <a:pt x="164" y="287"/>
                </a:lnTo>
                <a:lnTo>
                  <a:pt x="128" y="275"/>
                </a:lnTo>
                <a:lnTo>
                  <a:pt x="125" y="27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4" name=""/>
          <p:cNvSpPr/>
          <p:nvPr/>
        </p:nvSpPr>
        <p:spPr>
          <a:xfrm>
            <a:off x="3249720" y="4151160"/>
            <a:ext cx="390240" cy="443160"/>
          </a:xfrm>
          <a:custGeom>
            <a:avLst/>
            <a:gdLst/>
            <a:ahLst/>
            <a:rect l="l" t="t" r="r" b="b"/>
            <a:pathLst>
              <a:path w="246" h="279">
                <a:moveTo>
                  <a:pt x="123" y="270"/>
                </a:moveTo>
                <a:lnTo>
                  <a:pt x="121" y="266"/>
                </a:lnTo>
                <a:lnTo>
                  <a:pt x="87" y="278"/>
                </a:lnTo>
                <a:lnTo>
                  <a:pt x="84" y="278"/>
                </a:lnTo>
                <a:lnTo>
                  <a:pt x="83" y="276"/>
                </a:lnTo>
                <a:lnTo>
                  <a:pt x="83" y="269"/>
                </a:lnTo>
                <a:lnTo>
                  <a:pt x="86" y="264"/>
                </a:lnTo>
                <a:lnTo>
                  <a:pt x="114" y="234"/>
                </a:lnTo>
                <a:lnTo>
                  <a:pt x="112" y="213"/>
                </a:lnTo>
                <a:lnTo>
                  <a:pt x="111" y="193"/>
                </a:lnTo>
                <a:lnTo>
                  <a:pt x="111" y="159"/>
                </a:lnTo>
                <a:lnTo>
                  <a:pt x="98" y="160"/>
                </a:lnTo>
                <a:lnTo>
                  <a:pt x="5" y="189"/>
                </a:lnTo>
                <a:lnTo>
                  <a:pt x="2" y="189"/>
                </a:lnTo>
                <a:lnTo>
                  <a:pt x="0" y="186"/>
                </a:lnTo>
                <a:lnTo>
                  <a:pt x="0" y="177"/>
                </a:lnTo>
                <a:lnTo>
                  <a:pt x="1" y="174"/>
                </a:lnTo>
                <a:lnTo>
                  <a:pt x="3" y="171"/>
                </a:lnTo>
                <a:lnTo>
                  <a:pt x="53" y="137"/>
                </a:lnTo>
                <a:lnTo>
                  <a:pt x="53" y="121"/>
                </a:lnTo>
                <a:lnTo>
                  <a:pt x="53" y="115"/>
                </a:lnTo>
                <a:lnTo>
                  <a:pt x="59" y="115"/>
                </a:lnTo>
                <a:lnTo>
                  <a:pt x="60" y="121"/>
                </a:lnTo>
                <a:lnTo>
                  <a:pt x="60" y="131"/>
                </a:lnTo>
                <a:lnTo>
                  <a:pt x="82" y="118"/>
                </a:lnTo>
                <a:lnTo>
                  <a:pt x="82" y="101"/>
                </a:lnTo>
                <a:lnTo>
                  <a:pt x="83" y="94"/>
                </a:lnTo>
                <a:lnTo>
                  <a:pt x="89" y="94"/>
                </a:lnTo>
                <a:lnTo>
                  <a:pt x="90" y="101"/>
                </a:lnTo>
                <a:lnTo>
                  <a:pt x="90" y="112"/>
                </a:lnTo>
                <a:lnTo>
                  <a:pt x="111" y="89"/>
                </a:lnTo>
                <a:lnTo>
                  <a:pt x="111" y="62"/>
                </a:lnTo>
                <a:lnTo>
                  <a:pt x="112" y="33"/>
                </a:lnTo>
                <a:lnTo>
                  <a:pt x="114" y="20"/>
                </a:lnTo>
                <a:lnTo>
                  <a:pt x="118" y="6"/>
                </a:lnTo>
                <a:lnTo>
                  <a:pt x="120" y="2"/>
                </a:lnTo>
                <a:lnTo>
                  <a:pt x="123" y="0"/>
                </a:lnTo>
                <a:lnTo>
                  <a:pt x="125" y="2"/>
                </a:lnTo>
                <a:lnTo>
                  <a:pt x="127" y="6"/>
                </a:lnTo>
                <a:lnTo>
                  <a:pt x="131" y="20"/>
                </a:lnTo>
                <a:lnTo>
                  <a:pt x="133" y="33"/>
                </a:lnTo>
                <a:lnTo>
                  <a:pt x="134" y="62"/>
                </a:lnTo>
                <a:lnTo>
                  <a:pt x="134" y="89"/>
                </a:lnTo>
                <a:lnTo>
                  <a:pt x="155" y="112"/>
                </a:lnTo>
                <a:lnTo>
                  <a:pt x="155" y="101"/>
                </a:lnTo>
                <a:lnTo>
                  <a:pt x="156" y="94"/>
                </a:lnTo>
                <a:lnTo>
                  <a:pt x="162" y="94"/>
                </a:lnTo>
                <a:lnTo>
                  <a:pt x="162" y="101"/>
                </a:lnTo>
                <a:lnTo>
                  <a:pt x="163" y="118"/>
                </a:lnTo>
                <a:lnTo>
                  <a:pt x="184" y="131"/>
                </a:lnTo>
                <a:lnTo>
                  <a:pt x="184" y="121"/>
                </a:lnTo>
                <a:lnTo>
                  <a:pt x="185" y="115"/>
                </a:lnTo>
                <a:lnTo>
                  <a:pt x="191" y="115"/>
                </a:lnTo>
                <a:lnTo>
                  <a:pt x="192" y="121"/>
                </a:lnTo>
                <a:lnTo>
                  <a:pt x="192" y="137"/>
                </a:lnTo>
                <a:lnTo>
                  <a:pt x="242" y="171"/>
                </a:lnTo>
                <a:lnTo>
                  <a:pt x="244" y="174"/>
                </a:lnTo>
                <a:lnTo>
                  <a:pt x="245" y="177"/>
                </a:lnTo>
                <a:lnTo>
                  <a:pt x="245" y="186"/>
                </a:lnTo>
                <a:lnTo>
                  <a:pt x="243" y="189"/>
                </a:lnTo>
                <a:lnTo>
                  <a:pt x="240" y="189"/>
                </a:lnTo>
                <a:lnTo>
                  <a:pt x="147" y="160"/>
                </a:lnTo>
                <a:lnTo>
                  <a:pt x="134" y="159"/>
                </a:lnTo>
                <a:lnTo>
                  <a:pt x="134" y="193"/>
                </a:lnTo>
                <a:lnTo>
                  <a:pt x="133" y="213"/>
                </a:lnTo>
                <a:lnTo>
                  <a:pt x="131" y="234"/>
                </a:lnTo>
                <a:lnTo>
                  <a:pt x="159" y="264"/>
                </a:lnTo>
                <a:lnTo>
                  <a:pt x="161" y="269"/>
                </a:lnTo>
                <a:lnTo>
                  <a:pt x="161" y="276"/>
                </a:lnTo>
                <a:lnTo>
                  <a:pt x="161" y="278"/>
                </a:lnTo>
                <a:lnTo>
                  <a:pt x="158" y="278"/>
                </a:lnTo>
                <a:lnTo>
                  <a:pt x="124" y="266"/>
                </a:lnTo>
                <a:lnTo>
                  <a:pt x="123" y="27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5" name=""/>
          <p:cNvSpPr/>
          <p:nvPr/>
        </p:nvSpPr>
        <p:spPr>
          <a:xfrm>
            <a:off x="3249720" y="4151160"/>
            <a:ext cx="401400" cy="459000"/>
          </a:xfrm>
          <a:custGeom>
            <a:avLst/>
            <a:gdLst/>
            <a:ahLst/>
            <a:rect l="l" t="t" r="r" b="b"/>
            <a:pathLst>
              <a:path w="253" h="289">
                <a:moveTo>
                  <a:pt x="126" y="280"/>
                </a:moveTo>
                <a:lnTo>
                  <a:pt x="125" y="275"/>
                </a:lnTo>
                <a:lnTo>
                  <a:pt x="89" y="288"/>
                </a:lnTo>
                <a:lnTo>
                  <a:pt x="87" y="288"/>
                </a:lnTo>
                <a:lnTo>
                  <a:pt x="86" y="286"/>
                </a:lnTo>
                <a:lnTo>
                  <a:pt x="86" y="279"/>
                </a:lnTo>
                <a:lnTo>
                  <a:pt x="88" y="274"/>
                </a:lnTo>
                <a:lnTo>
                  <a:pt x="118" y="243"/>
                </a:lnTo>
                <a:lnTo>
                  <a:pt x="115" y="221"/>
                </a:lnTo>
                <a:lnTo>
                  <a:pt x="114" y="200"/>
                </a:lnTo>
                <a:lnTo>
                  <a:pt x="114" y="164"/>
                </a:lnTo>
                <a:lnTo>
                  <a:pt x="101" y="166"/>
                </a:lnTo>
                <a:lnTo>
                  <a:pt x="5" y="196"/>
                </a:lnTo>
                <a:lnTo>
                  <a:pt x="2" y="196"/>
                </a:lnTo>
                <a:lnTo>
                  <a:pt x="0" y="193"/>
                </a:lnTo>
                <a:lnTo>
                  <a:pt x="0" y="183"/>
                </a:lnTo>
                <a:lnTo>
                  <a:pt x="1" y="180"/>
                </a:lnTo>
                <a:lnTo>
                  <a:pt x="4" y="177"/>
                </a:lnTo>
                <a:lnTo>
                  <a:pt x="55" y="142"/>
                </a:lnTo>
                <a:lnTo>
                  <a:pt x="55" y="125"/>
                </a:lnTo>
                <a:lnTo>
                  <a:pt x="55" y="119"/>
                </a:lnTo>
                <a:lnTo>
                  <a:pt x="61" y="119"/>
                </a:lnTo>
                <a:lnTo>
                  <a:pt x="62" y="125"/>
                </a:lnTo>
                <a:lnTo>
                  <a:pt x="62" y="136"/>
                </a:lnTo>
                <a:lnTo>
                  <a:pt x="84" y="122"/>
                </a:lnTo>
                <a:lnTo>
                  <a:pt x="84" y="105"/>
                </a:lnTo>
                <a:lnTo>
                  <a:pt x="86" y="97"/>
                </a:lnTo>
                <a:lnTo>
                  <a:pt x="92" y="97"/>
                </a:lnTo>
                <a:lnTo>
                  <a:pt x="93" y="105"/>
                </a:lnTo>
                <a:lnTo>
                  <a:pt x="93" y="116"/>
                </a:lnTo>
                <a:lnTo>
                  <a:pt x="114" y="92"/>
                </a:lnTo>
                <a:lnTo>
                  <a:pt x="114" y="64"/>
                </a:lnTo>
                <a:lnTo>
                  <a:pt x="115" y="34"/>
                </a:lnTo>
                <a:lnTo>
                  <a:pt x="118" y="20"/>
                </a:lnTo>
                <a:lnTo>
                  <a:pt x="121" y="6"/>
                </a:lnTo>
                <a:lnTo>
                  <a:pt x="124" y="2"/>
                </a:lnTo>
                <a:lnTo>
                  <a:pt x="126" y="0"/>
                </a:lnTo>
                <a:lnTo>
                  <a:pt x="128" y="2"/>
                </a:lnTo>
                <a:lnTo>
                  <a:pt x="131" y="6"/>
                </a:lnTo>
                <a:lnTo>
                  <a:pt x="134" y="20"/>
                </a:lnTo>
                <a:lnTo>
                  <a:pt x="137" y="34"/>
                </a:lnTo>
                <a:lnTo>
                  <a:pt x="138" y="64"/>
                </a:lnTo>
                <a:lnTo>
                  <a:pt x="138" y="92"/>
                </a:lnTo>
                <a:lnTo>
                  <a:pt x="159" y="116"/>
                </a:lnTo>
                <a:lnTo>
                  <a:pt x="159" y="105"/>
                </a:lnTo>
                <a:lnTo>
                  <a:pt x="160" y="97"/>
                </a:lnTo>
                <a:lnTo>
                  <a:pt x="166" y="97"/>
                </a:lnTo>
                <a:lnTo>
                  <a:pt x="166" y="105"/>
                </a:lnTo>
                <a:lnTo>
                  <a:pt x="168" y="122"/>
                </a:lnTo>
                <a:lnTo>
                  <a:pt x="189" y="136"/>
                </a:lnTo>
                <a:lnTo>
                  <a:pt x="189" y="125"/>
                </a:lnTo>
                <a:lnTo>
                  <a:pt x="190" y="119"/>
                </a:lnTo>
                <a:lnTo>
                  <a:pt x="196" y="119"/>
                </a:lnTo>
                <a:lnTo>
                  <a:pt x="197" y="125"/>
                </a:lnTo>
                <a:lnTo>
                  <a:pt x="197" y="142"/>
                </a:lnTo>
                <a:lnTo>
                  <a:pt x="248" y="177"/>
                </a:lnTo>
                <a:lnTo>
                  <a:pt x="251" y="180"/>
                </a:lnTo>
                <a:lnTo>
                  <a:pt x="252" y="183"/>
                </a:lnTo>
                <a:lnTo>
                  <a:pt x="252" y="193"/>
                </a:lnTo>
                <a:lnTo>
                  <a:pt x="250" y="196"/>
                </a:lnTo>
                <a:lnTo>
                  <a:pt x="247" y="196"/>
                </a:lnTo>
                <a:lnTo>
                  <a:pt x="151" y="166"/>
                </a:lnTo>
                <a:lnTo>
                  <a:pt x="138" y="164"/>
                </a:lnTo>
                <a:lnTo>
                  <a:pt x="138" y="200"/>
                </a:lnTo>
                <a:lnTo>
                  <a:pt x="137" y="221"/>
                </a:lnTo>
                <a:lnTo>
                  <a:pt x="134" y="243"/>
                </a:lnTo>
                <a:lnTo>
                  <a:pt x="164" y="274"/>
                </a:lnTo>
                <a:lnTo>
                  <a:pt x="165" y="279"/>
                </a:lnTo>
                <a:lnTo>
                  <a:pt x="165" y="286"/>
                </a:lnTo>
                <a:lnTo>
                  <a:pt x="165" y="288"/>
                </a:lnTo>
                <a:lnTo>
                  <a:pt x="163" y="288"/>
                </a:lnTo>
                <a:lnTo>
                  <a:pt x="127" y="275"/>
                </a:lnTo>
                <a:lnTo>
                  <a:pt x="126" y="2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3102120" y="3257640"/>
            <a:ext cx="388800" cy="444240"/>
          </a:xfrm>
          <a:custGeom>
            <a:avLst/>
            <a:gdLst/>
            <a:ahLst/>
            <a:rect l="l" t="t" r="r" b="b"/>
            <a:pathLst>
              <a:path w="245" h="280">
                <a:moveTo>
                  <a:pt x="123" y="271"/>
                </a:moveTo>
                <a:lnTo>
                  <a:pt x="120" y="267"/>
                </a:lnTo>
                <a:lnTo>
                  <a:pt x="87" y="279"/>
                </a:lnTo>
                <a:lnTo>
                  <a:pt x="84" y="279"/>
                </a:lnTo>
                <a:lnTo>
                  <a:pt x="83" y="276"/>
                </a:lnTo>
                <a:lnTo>
                  <a:pt x="83" y="268"/>
                </a:lnTo>
                <a:lnTo>
                  <a:pt x="86" y="265"/>
                </a:lnTo>
                <a:lnTo>
                  <a:pt x="114" y="234"/>
                </a:lnTo>
                <a:lnTo>
                  <a:pt x="112" y="214"/>
                </a:lnTo>
                <a:lnTo>
                  <a:pt x="111" y="193"/>
                </a:lnTo>
                <a:lnTo>
                  <a:pt x="111" y="158"/>
                </a:lnTo>
                <a:lnTo>
                  <a:pt x="98" y="161"/>
                </a:lnTo>
                <a:lnTo>
                  <a:pt x="5" y="190"/>
                </a:lnTo>
                <a:lnTo>
                  <a:pt x="1" y="188"/>
                </a:lnTo>
                <a:lnTo>
                  <a:pt x="0" y="185"/>
                </a:lnTo>
                <a:lnTo>
                  <a:pt x="0" y="176"/>
                </a:lnTo>
                <a:lnTo>
                  <a:pt x="1" y="173"/>
                </a:lnTo>
                <a:lnTo>
                  <a:pt x="3" y="171"/>
                </a:lnTo>
                <a:lnTo>
                  <a:pt x="52" y="136"/>
                </a:lnTo>
                <a:lnTo>
                  <a:pt x="53" y="121"/>
                </a:lnTo>
                <a:lnTo>
                  <a:pt x="53" y="114"/>
                </a:lnTo>
                <a:lnTo>
                  <a:pt x="59" y="114"/>
                </a:lnTo>
                <a:lnTo>
                  <a:pt x="60" y="121"/>
                </a:lnTo>
                <a:lnTo>
                  <a:pt x="60" y="132"/>
                </a:lnTo>
                <a:lnTo>
                  <a:pt x="82" y="117"/>
                </a:lnTo>
                <a:lnTo>
                  <a:pt x="82" y="100"/>
                </a:lnTo>
                <a:lnTo>
                  <a:pt x="83" y="94"/>
                </a:lnTo>
                <a:lnTo>
                  <a:pt x="89" y="94"/>
                </a:lnTo>
                <a:lnTo>
                  <a:pt x="89" y="100"/>
                </a:lnTo>
                <a:lnTo>
                  <a:pt x="90" y="111"/>
                </a:lnTo>
                <a:lnTo>
                  <a:pt x="111" y="89"/>
                </a:lnTo>
                <a:lnTo>
                  <a:pt x="111" y="61"/>
                </a:lnTo>
                <a:lnTo>
                  <a:pt x="112" y="33"/>
                </a:lnTo>
                <a:lnTo>
                  <a:pt x="114" y="20"/>
                </a:lnTo>
                <a:lnTo>
                  <a:pt x="118" y="6"/>
                </a:lnTo>
                <a:lnTo>
                  <a:pt x="120" y="2"/>
                </a:lnTo>
                <a:lnTo>
                  <a:pt x="123" y="0"/>
                </a:lnTo>
                <a:lnTo>
                  <a:pt x="125" y="2"/>
                </a:lnTo>
                <a:lnTo>
                  <a:pt x="127" y="6"/>
                </a:lnTo>
                <a:lnTo>
                  <a:pt x="130" y="20"/>
                </a:lnTo>
                <a:lnTo>
                  <a:pt x="132" y="33"/>
                </a:lnTo>
                <a:lnTo>
                  <a:pt x="134" y="61"/>
                </a:lnTo>
                <a:lnTo>
                  <a:pt x="134" y="89"/>
                </a:lnTo>
                <a:lnTo>
                  <a:pt x="155" y="111"/>
                </a:lnTo>
                <a:lnTo>
                  <a:pt x="155" y="100"/>
                </a:lnTo>
                <a:lnTo>
                  <a:pt x="156" y="94"/>
                </a:lnTo>
                <a:lnTo>
                  <a:pt x="162" y="94"/>
                </a:lnTo>
                <a:lnTo>
                  <a:pt x="162" y="100"/>
                </a:lnTo>
                <a:lnTo>
                  <a:pt x="163" y="117"/>
                </a:lnTo>
                <a:lnTo>
                  <a:pt x="184" y="132"/>
                </a:lnTo>
                <a:lnTo>
                  <a:pt x="184" y="121"/>
                </a:lnTo>
                <a:lnTo>
                  <a:pt x="185" y="114"/>
                </a:lnTo>
                <a:lnTo>
                  <a:pt x="191" y="114"/>
                </a:lnTo>
                <a:lnTo>
                  <a:pt x="192" y="121"/>
                </a:lnTo>
                <a:lnTo>
                  <a:pt x="192" y="136"/>
                </a:lnTo>
                <a:lnTo>
                  <a:pt x="242" y="171"/>
                </a:lnTo>
                <a:lnTo>
                  <a:pt x="244" y="173"/>
                </a:lnTo>
                <a:lnTo>
                  <a:pt x="244" y="176"/>
                </a:lnTo>
                <a:lnTo>
                  <a:pt x="244" y="185"/>
                </a:lnTo>
                <a:lnTo>
                  <a:pt x="243" y="188"/>
                </a:lnTo>
                <a:lnTo>
                  <a:pt x="241" y="190"/>
                </a:lnTo>
                <a:lnTo>
                  <a:pt x="147" y="161"/>
                </a:lnTo>
                <a:lnTo>
                  <a:pt x="134" y="158"/>
                </a:lnTo>
                <a:lnTo>
                  <a:pt x="134" y="193"/>
                </a:lnTo>
                <a:lnTo>
                  <a:pt x="133" y="214"/>
                </a:lnTo>
                <a:lnTo>
                  <a:pt x="130" y="234"/>
                </a:lnTo>
                <a:lnTo>
                  <a:pt x="160" y="265"/>
                </a:lnTo>
                <a:lnTo>
                  <a:pt x="161" y="268"/>
                </a:lnTo>
                <a:lnTo>
                  <a:pt x="161" y="276"/>
                </a:lnTo>
                <a:lnTo>
                  <a:pt x="161" y="279"/>
                </a:lnTo>
                <a:lnTo>
                  <a:pt x="158" y="279"/>
                </a:lnTo>
                <a:lnTo>
                  <a:pt x="124" y="267"/>
                </a:lnTo>
                <a:lnTo>
                  <a:pt x="123" y="271"/>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7" name=""/>
          <p:cNvSpPr/>
          <p:nvPr/>
        </p:nvSpPr>
        <p:spPr>
          <a:xfrm>
            <a:off x="3102120" y="3257640"/>
            <a:ext cx="399960" cy="458640"/>
          </a:xfrm>
          <a:custGeom>
            <a:avLst/>
            <a:gdLst/>
            <a:ahLst/>
            <a:rect l="l" t="t" r="r" b="b"/>
            <a:pathLst>
              <a:path w="252" h="289">
                <a:moveTo>
                  <a:pt x="126" y="280"/>
                </a:moveTo>
                <a:lnTo>
                  <a:pt x="124" y="275"/>
                </a:lnTo>
                <a:lnTo>
                  <a:pt x="89" y="288"/>
                </a:lnTo>
                <a:lnTo>
                  <a:pt x="87" y="288"/>
                </a:lnTo>
                <a:lnTo>
                  <a:pt x="86" y="285"/>
                </a:lnTo>
                <a:lnTo>
                  <a:pt x="86" y="277"/>
                </a:lnTo>
                <a:lnTo>
                  <a:pt x="88" y="274"/>
                </a:lnTo>
                <a:lnTo>
                  <a:pt x="118" y="241"/>
                </a:lnTo>
                <a:lnTo>
                  <a:pt x="115" y="221"/>
                </a:lnTo>
                <a:lnTo>
                  <a:pt x="114" y="199"/>
                </a:lnTo>
                <a:lnTo>
                  <a:pt x="114" y="163"/>
                </a:lnTo>
                <a:lnTo>
                  <a:pt x="101" y="166"/>
                </a:lnTo>
                <a:lnTo>
                  <a:pt x="5" y="196"/>
                </a:lnTo>
                <a:lnTo>
                  <a:pt x="1" y="194"/>
                </a:lnTo>
                <a:lnTo>
                  <a:pt x="0" y="191"/>
                </a:lnTo>
                <a:lnTo>
                  <a:pt x="0" y="182"/>
                </a:lnTo>
                <a:lnTo>
                  <a:pt x="1" y="178"/>
                </a:lnTo>
                <a:lnTo>
                  <a:pt x="4" y="177"/>
                </a:lnTo>
                <a:lnTo>
                  <a:pt x="54" y="141"/>
                </a:lnTo>
                <a:lnTo>
                  <a:pt x="55" y="125"/>
                </a:lnTo>
                <a:lnTo>
                  <a:pt x="55" y="117"/>
                </a:lnTo>
                <a:lnTo>
                  <a:pt x="61" y="117"/>
                </a:lnTo>
                <a:lnTo>
                  <a:pt x="62" y="125"/>
                </a:lnTo>
                <a:lnTo>
                  <a:pt x="62" y="136"/>
                </a:lnTo>
                <a:lnTo>
                  <a:pt x="84" y="121"/>
                </a:lnTo>
                <a:lnTo>
                  <a:pt x="84" y="103"/>
                </a:lnTo>
                <a:lnTo>
                  <a:pt x="86" y="97"/>
                </a:lnTo>
                <a:lnTo>
                  <a:pt x="92" y="97"/>
                </a:lnTo>
                <a:lnTo>
                  <a:pt x="92" y="103"/>
                </a:lnTo>
                <a:lnTo>
                  <a:pt x="93" y="114"/>
                </a:lnTo>
                <a:lnTo>
                  <a:pt x="114" y="92"/>
                </a:lnTo>
                <a:lnTo>
                  <a:pt x="114" y="63"/>
                </a:lnTo>
                <a:lnTo>
                  <a:pt x="115" y="34"/>
                </a:lnTo>
                <a:lnTo>
                  <a:pt x="118" y="20"/>
                </a:lnTo>
                <a:lnTo>
                  <a:pt x="121" y="6"/>
                </a:lnTo>
                <a:lnTo>
                  <a:pt x="124" y="2"/>
                </a:lnTo>
                <a:lnTo>
                  <a:pt x="126" y="0"/>
                </a:lnTo>
                <a:lnTo>
                  <a:pt x="128" y="2"/>
                </a:lnTo>
                <a:lnTo>
                  <a:pt x="131" y="6"/>
                </a:lnTo>
                <a:lnTo>
                  <a:pt x="133" y="20"/>
                </a:lnTo>
                <a:lnTo>
                  <a:pt x="136" y="34"/>
                </a:lnTo>
                <a:lnTo>
                  <a:pt x="138" y="63"/>
                </a:lnTo>
                <a:lnTo>
                  <a:pt x="138" y="92"/>
                </a:lnTo>
                <a:lnTo>
                  <a:pt x="159" y="114"/>
                </a:lnTo>
                <a:lnTo>
                  <a:pt x="159" y="103"/>
                </a:lnTo>
                <a:lnTo>
                  <a:pt x="161" y="97"/>
                </a:lnTo>
                <a:lnTo>
                  <a:pt x="167" y="97"/>
                </a:lnTo>
                <a:lnTo>
                  <a:pt x="167" y="103"/>
                </a:lnTo>
                <a:lnTo>
                  <a:pt x="168" y="121"/>
                </a:lnTo>
                <a:lnTo>
                  <a:pt x="189" y="136"/>
                </a:lnTo>
                <a:lnTo>
                  <a:pt x="189" y="125"/>
                </a:lnTo>
                <a:lnTo>
                  <a:pt x="190" y="117"/>
                </a:lnTo>
                <a:lnTo>
                  <a:pt x="196" y="117"/>
                </a:lnTo>
                <a:lnTo>
                  <a:pt x="197" y="125"/>
                </a:lnTo>
                <a:lnTo>
                  <a:pt x="197" y="141"/>
                </a:lnTo>
                <a:lnTo>
                  <a:pt x="249" y="177"/>
                </a:lnTo>
                <a:lnTo>
                  <a:pt x="251" y="178"/>
                </a:lnTo>
                <a:lnTo>
                  <a:pt x="251" y="182"/>
                </a:lnTo>
                <a:lnTo>
                  <a:pt x="251" y="191"/>
                </a:lnTo>
                <a:lnTo>
                  <a:pt x="250" y="194"/>
                </a:lnTo>
                <a:lnTo>
                  <a:pt x="247" y="196"/>
                </a:lnTo>
                <a:lnTo>
                  <a:pt x="151" y="166"/>
                </a:lnTo>
                <a:lnTo>
                  <a:pt x="138" y="163"/>
                </a:lnTo>
                <a:lnTo>
                  <a:pt x="138" y="199"/>
                </a:lnTo>
                <a:lnTo>
                  <a:pt x="137" y="221"/>
                </a:lnTo>
                <a:lnTo>
                  <a:pt x="133" y="241"/>
                </a:lnTo>
                <a:lnTo>
                  <a:pt x="164" y="274"/>
                </a:lnTo>
                <a:lnTo>
                  <a:pt x="165" y="277"/>
                </a:lnTo>
                <a:lnTo>
                  <a:pt x="165" y="285"/>
                </a:lnTo>
                <a:lnTo>
                  <a:pt x="165" y="288"/>
                </a:lnTo>
                <a:lnTo>
                  <a:pt x="163" y="288"/>
                </a:lnTo>
                <a:lnTo>
                  <a:pt x="127" y="275"/>
                </a:lnTo>
                <a:lnTo>
                  <a:pt x="126" y="2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8" name=""/>
          <p:cNvSpPr/>
          <p:nvPr/>
        </p:nvSpPr>
        <p:spPr>
          <a:xfrm>
            <a:off x="3470400" y="3767040"/>
            <a:ext cx="388800" cy="444600"/>
          </a:xfrm>
          <a:custGeom>
            <a:avLst/>
            <a:gdLst/>
            <a:ahLst/>
            <a:rect l="l" t="t" r="r" b="b"/>
            <a:pathLst>
              <a:path w="245" h="280">
                <a:moveTo>
                  <a:pt x="121" y="271"/>
                </a:moveTo>
                <a:lnTo>
                  <a:pt x="120" y="267"/>
                </a:lnTo>
                <a:lnTo>
                  <a:pt x="86" y="279"/>
                </a:lnTo>
                <a:lnTo>
                  <a:pt x="84" y="279"/>
                </a:lnTo>
                <a:lnTo>
                  <a:pt x="83" y="276"/>
                </a:lnTo>
                <a:lnTo>
                  <a:pt x="83" y="270"/>
                </a:lnTo>
                <a:lnTo>
                  <a:pt x="84" y="265"/>
                </a:lnTo>
                <a:lnTo>
                  <a:pt x="114" y="234"/>
                </a:lnTo>
                <a:lnTo>
                  <a:pt x="111" y="214"/>
                </a:lnTo>
                <a:lnTo>
                  <a:pt x="110" y="193"/>
                </a:lnTo>
                <a:lnTo>
                  <a:pt x="110" y="158"/>
                </a:lnTo>
                <a:lnTo>
                  <a:pt x="97" y="161"/>
                </a:lnTo>
                <a:lnTo>
                  <a:pt x="3" y="190"/>
                </a:lnTo>
                <a:lnTo>
                  <a:pt x="1" y="190"/>
                </a:lnTo>
                <a:lnTo>
                  <a:pt x="0" y="185"/>
                </a:lnTo>
                <a:lnTo>
                  <a:pt x="0" y="177"/>
                </a:lnTo>
                <a:lnTo>
                  <a:pt x="0" y="174"/>
                </a:lnTo>
                <a:lnTo>
                  <a:pt x="2" y="171"/>
                </a:lnTo>
                <a:lnTo>
                  <a:pt x="52" y="138"/>
                </a:lnTo>
                <a:lnTo>
                  <a:pt x="52" y="121"/>
                </a:lnTo>
                <a:lnTo>
                  <a:pt x="53" y="114"/>
                </a:lnTo>
                <a:lnTo>
                  <a:pt x="59" y="114"/>
                </a:lnTo>
                <a:lnTo>
                  <a:pt x="60" y="121"/>
                </a:lnTo>
                <a:lnTo>
                  <a:pt x="60" y="132"/>
                </a:lnTo>
                <a:lnTo>
                  <a:pt x="81" y="117"/>
                </a:lnTo>
                <a:lnTo>
                  <a:pt x="82" y="102"/>
                </a:lnTo>
                <a:lnTo>
                  <a:pt x="82" y="94"/>
                </a:lnTo>
                <a:lnTo>
                  <a:pt x="88" y="94"/>
                </a:lnTo>
                <a:lnTo>
                  <a:pt x="89" y="102"/>
                </a:lnTo>
                <a:lnTo>
                  <a:pt x="89" y="112"/>
                </a:lnTo>
                <a:lnTo>
                  <a:pt x="110" y="89"/>
                </a:lnTo>
                <a:lnTo>
                  <a:pt x="110" y="61"/>
                </a:lnTo>
                <a:lnTo>
                  <a:pt x="112" y="33"/>
                </a:lnTo>
                <a:lnTo>
                  <a:pt x="114" y="20"/>
                </a:lnTo>
                <a:lnTo>
                  <a:pt x="117" y="6"/>
                </a:lnTo>
                <a:lnTo>
                  <a:pt x="119" y="2"/>
                </a:lnTo>
                <a:lnTo>
                  <a:pt x="121" y="0"/>
                </a:lnTo>
                <a:lnTo>
                  <a:pt x="124" y="2"/>
                </a:lnTo>
                <a:lnTo>
                  <a:pt x="126" y="6"/>
                </a:lnTo>
                <a:lnTo>
                  <a:pt x="130" y="20"/>
                </a:lnTo>
                <a:lnTo>
                  <a:pt x="132" y="33"/>
                </a:lnTo>
                <a:lnTo>
                  <a:pt x="133" y="61"/>
                </a:lnTo>
                <a:lnTo>
                  <a:pt x="133" y="89"/>
                </a:lnTo>
                <a:lnTo>
                  <a:pt x="154" y="112"/>
                </a:lnTo>
                <a:lnTo>
                  <a:pt x="155" y="102"/>
                </a:lnTo>
                <a:lnTo>
                  <a:pt x="155" y="94"/>
                </a:lnTo>
                <a:lnTo>
                  <a:pt x="161" y="94"/>
                </a:lnTo>
                <a:lnTo>
                  <a:pt x="162" y="102"/>
                </a:lnTo>
                <a:lnTo>
                  <a:pt x="162" y="117"/>
                </a:lnTo>
                <a:lnTo>
                  <a:pt x="184" y="132"/>
                </a:lnTo>
                <a:lnTo>
                  <a:pt x="184" y="121"/>
                </a:lnTo>
                <a:lnTo>
                  <a:pt x="185" y="114"/>
                </a:lnTo>
                <a:lnTo>
                  <a:pt x="191" y="114"/>
                </a:lnTo>
                <a:lnTo>
                  <a:pt x="191" y="121"/>
                </a:lnTo>
                <a:lnTo>
                  <a:pt x="192" y="138"/>
                </a:lnTo>
                <a:lnTo>
                  <a:pt x="241" y="171"/>
                </a:lnTo>
                <a:lnTo>
                  <a:pt x="243" y="174"/>
                </a:lnTo>
                <a:lnTo>
                  <a:pt x="244" y="177"/>
                </a:lnTo>
                <a:lnTo>
                  <a:pt x="244" y="185"/>
                </a:lnTo>
                <a:lnTo>
                  <a:pt x="243" y="190"/>
                </a:lnTo>
                <a:lnTo>
                  <a:pt x="239" y="190"/>
                </a:lnTo>
                <a:lnTo>
                  <a:pt x="146" y="161"/>
                </a:lnTo>
                <a:lnTo>
                  <a:pt x="133" y="158"/>
                </a:lnTo>
                <a:lnTo>
                  <a:pt x="133" y="193"/>
                </a:lnTo>
                <a:lnTo>
                  <a:pt x="132" y="214"/>
                </a:lnTo>
                <a:lnTo>
                  <a:pt x="130" y="234"/>
                </a:lnTo>
                <a:lnTo>
                  <a:pt x="158" y="265"/>
                </a:lnTo>
                <a:lnTo>
                  <a:pt x="161" y="270"/>
                </a:lnTo>
                <a:lnTo>
                  <a:pt x="161" y="276"/>
                </a:lnTo>
                <a:lnTo>
                  <a:pt x="160" y="279"/>
                </a:lnTo>
                <a:lnTo>
                  <a:pt x="157" y="279"/>
                </a:lnTo>
                <a:lnTo>
                  <a:pt x="124" y="267"/>
                </a:lnTo>
                <a:lnTo>
                  <a:pt x="121" y="271"/>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9" name=""/>
          <p:cNvSpPr/>
          <p:nvPr/>
        </p:nvSpPr>
        <p:spPr>
          <a:xfrm>
            <a:off x="3470400" y="3767040"/>
            <a:ext cx="399960" cy="460440"/>
          </a:xfrm>
          <a:custGeom>
            <a:avLst/>
            <a:gdLst/>
            <a:ahLst/>
            <a:rect l="l" t="t" r="r" b="b"/>
            <a:pathLst>
              <a:path w="252" h="290">
                <a:moveTo>
                  <a:pt x="125" y="281"/>
                </a:moveTo>
                <a:lnTo>
                  <a:pt x="124" y="276"/>
                </a:lnTo>
                <a:lnTo>
                  <a:pt x="88" y="289"/>
                </a:lnTo>
                <a:lnTo>
                  <a:pt x="87" y="289"/>
                </a:lnTo>
                <a:lnTo>
                  <a:pt x="86" y="286"/>
                </a:lnTo>
                <a:lnTo>
                  <a:pt x="86" y="280"/>
                </a:lnTo>
                <a:lnTo>
                  <a:pt x="87" y="275"/>
                </a:lnTo>
                <a:lnTo>
                  <a:pt x="118" y="242"/>
                </a:lnTo>
                <a:lnTo>
                  <a:pt x="114" y="221"/>
                </a:lnTo>
                <a:lnTo>
                  <a:pt x="113" y="199"/>
                </a:lnTo>
                <a:lnTo>
                  <a:pt x="113" y="163"/>
                </a:lnTo>
                <a:lnTo>
                  <a:pt x="100" y="166"/>
                </a:lnTo>
                <a:lnTo>
                  <a:pt x="4" y="196"/>
                </a:lnTo>
                <a:lnTo>
                  <a:pt x="1" y="196"/>
                </a:lnTo>
                <a:lnTo>
                  <a:pt x="0" y="192"/>
                </a:lnTo>
                <a:lnTo>
                  <a:pt x="0" y="184"/>
                </a:lnTo>
                <a:lnTo>
                  <a:pt x="0" y="181"/>
                </a:lnTo>
                <a:lnTo>
                  <a:pt x="2" y="177"/>
                </a:lnTo>
                <a:lnTo>
                  <a:pt x="54" y="143"/>
                </a:lnTo>
                <a:lnTo>
                  <a:pt x="54" y="126"/>
                </a:lnTo>
                <a:lnTo>
                  <a:pt x="55" y="118"/>
                </a:lnTo>
                <a:lnTo>
                  <a:pt x="61" y="118"/>
                </a:lnTo>
                <a:lnTo>
                  <a:pt x="62" y="126"/>
                </a:lnTo>
                <a:lnTo>
                  <a:pt x="62" y="137"/>
                </a:lnTo>
                <a:lnTo>
                  <a:pt x="83" y="121"/>
                </a:lnTo>
                <a:lnTo>
                  <a:pt x="84" y="105"/>
                </a:lnTo>
                <a:lnTo>
                  <a:pt x="84" y="97"/>
                </a:lnTo>
                <a:lnTo>
                  <a:pt x="90" y="97"/>
                </a:lnTo>
                <a:lnTo>
                  <a:pt x="92" y="105"/>
                </a:lnTo>
                <a:lnTo>
                  <a:pt x="92" y="116"/>
                </a:lnTo>
                <a:lnTo>
                  <a:pt x="113" y="93"/>
                </a:lnTo>
                <a:lnTo>
                  <a:pt x="113" y="63"/>
                </a:lnTo>
                <a:lnTo>
                  <a:pt x="115" y="35"/>
                </a:lnTo>
                <a:lnTo>
                  <a:pt x="118" y="20"/>
                </a:lnTo>
                <a:lnTo>
                  <a:pt x="120" y="6"/>
                </a:lnTo>
                <a:lnTo>
                  <a:pt x="123" y="2"/>
                </a:lnTo>
                <a:lnTo>
                  <a:pt x="125" y="0"/>
                </a:lnTo>
                <a:lnTo>
                  <a:pt x="127" y="2"/>
                </a:lnTo>
                <a:lnTo>
                  <a:pt x="130" y="6"/>
                </a:lnTo>
                <a:lnTo>
                  <a:pt x="133" y="20"/>
                </a:lnTo>
                <a:lnTo>
                  <a:pt x="136" y="35"/>
                </a:lnTo>
                <a:lnTo>
                  <a:pt x="137" y="63"/>
                </a:lnTo>
                <a:lnTo>
                  <a:pt x="137" y="93"/>
                </a:lnTo>
                <a:lnTo>
                  <a:pt x="158" y="116"/>
                </a:lnTo>
                <a:lnTo>
                  <a:pt x="159" y="105"/>
                </a:lnTo>
                <a:lnTo>
                  <a:pt x="159" y="97"/>
                </a:lnTo>
                <a:lnTo>
                  <a:pt x="165" y="97"/>
                </a:lnTo>
                <a:lnTo>
                  <a:pt x="167" y="105"/>
                </a:lnTo>
                <a:lnTo>
                  <a:pt x="167" y="121"/>
                </a:lnTo>
                <a:lnTo>
                  <a:pt x="189" y="137"/>
                </a:lnTo>
                <a:lnTo>
                  <a:pt x="189" y="126"/>
                </a:lnTo>
                <a:lnTo>
                  <a:pt x="190" y="118"/>
                </a:lnTo>
                <a:lnTo>
                  <a:pt x="196" y="118"/>
                </a:lnTo>
                <a:lnTo>
                  <a:pt x="196" y="126"/>
                </a:lnTo>
                <a:lnTo>
                  <a:pt x="197" y="143"/>
                </a:lnTo>
                <a:lnTo>
                  <a:pt x="247" y="177"/>
                </a:lnTo>
                <a:lnTo>
                  <a:pt x="250" y="181"/>
                </a:lnTo>
                <a:lnTo>
                  <a:pt x="251" y="184"/>
                </a:lnTo>
                <a:lnTo>
                  <a:pt x="251" y="192"/>
                </a:lnTo>
                <a:lnTo>
                  <a:pt x="250" y="196"/>
                </a:lnTo>
                <a:lnTo>
                  <a:pt x="246" y="196"/>
                </a:lnTo>
                <a:lnTo>
                  <a:pt x="150" y="166"/>
                </a:lnTo>
                <a:lnTo>
                  <a:pt x="137" y="163"/>
                </a:lnTo>
                <a:lnTo>
                  <a:pt x="137" y="199"/>
                </a:lnTo>
                <a:lnTo>
                  <a:pt x="136" y="221"/>
                </a:lnTo>
                <a:lnTo>
                  <a:pt x="133" y="242"/>
                </a:lnTo>
                <a:lnTo>
                  <a:pt x="163" y="275"/>
                </a:lnTo>
                <a:lnTo>
                  <a:pt x="165" y="280"/>
                </a:lnTo>
                <a:lnTo>
                  <a:pt x="165" y="286"/>
                </a:lnTo>
                <a:lnTo>
                  <a:pt x="164" y="289"/>
                </a:lnTo>
                <a:lnTo>
                  <a:pt x="162" y="289"/>
                </a:lnTo>
                <a:lnTo>
                  <a:pt x="127" y="276"/>
                </a:lnTo>
                <a:lnTo>
                  <a:pt x="125" y="2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0" name=""/>
          <p:cNvSpPr/>
          <p:nvPr/>
        </p:nvSpPr>
        <p:spPr>
          <a:xfrm>
            <a:off x="3546360" y="3767040"/>
            <a:ext cx="387360" cy="444600"/>
          </a:xfrm>
          <a:custGeom>
            <a:avLst/>
            <a:gdLst/>
            <a:ahLst/>
            <a:rect l="l" t="t" r="r" b="b"/>
            <a:pathLst>
              <a:path w="244" h="280">
                <a:moveTo>
                  <a:pt x="121" y="271"/>
                </a:moveTo>
                <a:lnTo>
                  <a:pt x="120" y="267"/>
                </a:lnTo>
                <a:lnTo>
                  <a:pt x="85" y="279"/>
                </a:lnTo>
                <a:lnTo>
                  <a:pt x="84" y="279"/>
                </a:lnTo>
                <a:lnTo>
                  <a:pt x="83" y="276"/>
                </a:lnTo>
                <a:lnTo>
                  <a:pt x="83" y="270"/>
                </a:lnTo>
                <a:lnTo>
                  <a:pt x="84" y="265"/>
                </a:lnTo>
                <a:lnTo>
                  <a:pt x="114" y="234"/>
                </a:lnTo>
                <a:lnTo>
                  <a:pt x="111" y="214"/>
                </a:lnTo>
                <a:lnTo>
                  <a:pt x="109" y="193"/>
                </a:lnTo>
                <a:lnTo>
                  <a:pt x="109" y="158"/>
                </a:lnTo>
                <a:lnTo>
                  <a:pt x="97" y="161"/>
                </a:lnTo>
                <a:lnTo>
                  <a:pt x="3" y="190"/>
                </a:lnTo>
                <a:lnTo>
                  <a:pt x="1" y="190"/>
                </a:lnTo>
                <a:lnTo>
                  <a:pt x="0" y="185"/>
                </a:lnTo>
                <a:lnTo>
                  <a:pt x="0" y="177"/>
                </a:lnTo>
                <a:lnTo>
                  <a:pt x="0" y="174"/>
                </a:lnTo>
                <a:lnTo>
                  <a:pt x="2" y="171"/>
                </a:lnTo>
                <a:lnTo>
                  <a:pt x="52" y="138"/>
                </a:lnTo>
                <a:lnTo>
                  <a:pt x="52" y="121"/>
                </a:lnTo>
                <a:lnTo>
                  <a:pt x="53" y="114"/>
                </a:lnTo>
                <a:lnTo>
                  <a:pt x="59" y="114"/>
                </a:lnTo>
                <a:lnTo>
                  <a:pt x="60" y="121"/>
                </a:lnTo>
                <a:lnTo>
                  <a:pt x="60" y="132"/>
                </a:lnTo>
                <a:lnTo>
                  <a:pt x="81" y="117"/>
                </a:lnTo>
                <a:lnTo>
                  <a:pt x="82" y="102"/>
                </a:lnTo>
                <a:lnTo>
                  <a:pt x="82" y="94"/>
                </a:lnTo>
                <a:lnTo>
                  <a:pt x="88" y="94"/>
                </a:lnTo>
                <a:lnTo>
                  <a:pt x="89" y="102"/>
                </a:lnTo>
                <a:lnTo>
                  <a:pt x="89" y="112"/>
                </a:lnTo>
                <a:lnTo>
                  <a:pt x="109" y="89"/>
                </a:lnTo>
                <a:lnTo>
                  <a:pt x="109" y="61"/>
                </a:lnTo>
                <a:lnTo>
                  <a:pt x="112" y="33"/>
                </a:lnTo>
                <a:lnTo>
                  <a:pt x="114" y="20"/>
                </a:lnTo>
                <a:lnTo>
                  <a:pt x="116" y="6"/>
                </a:lnTo>
                <a:lnTo>
                  <a:pt x="119" y="2"/>
                </a:lnTo>
                <a:lnTo>
                  <a:pt x="121" y="0"/>
                </a:lnTo>
                <a:lnTo>
                  <a:pt x="123" y="2"/>
                </a:lnTo>
                <a:lnTo>
                  <a:pt x="126" y="6"/>
                </a:lnTo>
                <a:lnTo>
                  <a:pt x="129" y="20"/>
                </a:lnTo>
                <a:lnTo>
                  <a:pt x="131" y="33"/>
                </a:lnTo>
                <a:lnTo>
                  <a:pt x="132" y="61"/>
                </a:lnTo>
                <a:lnTo>
                  <a:pt x="132" y="89"/>
                </a:lnTo>
                <a:lnTo>
                  <a:pt x="153" y="112"/>
                </a:lnTo>
                <a:lnTo>
                  <a:pt x="154" y="102"/>
                </a:lnTo>
                <a:lnTo>
                  <a:pt x="154" y="94"/>
                </a:lnTo>
                <a:lnTo>
                  <a:pt x="160" y="94"/>
                </a:lnTo>
                <a:lnTo>
                  <a:pt x="161" y="102"/>
                </a:lnTo>
                <a:lnTo>
                  <a:pt x="161" y="117"/>
                </a:lnTo>
                <a:lnTo>
                  <a:pt x="183" y="132"/>
                </a:lnTo>
                <a:lnTo>
                  <a:pt x="183" y="121"/>
                </a:lnTo>
                <a:lnTo>
                  <a:pt x="184" y="114"/>
                </a:lnTo>
                <a:lnTo>
                  <a:pt x="190" y="114"/>
                </a:lnTo>
                <a:lnTo>
                  <a:pt x="190" y="121"/>
                </a:lnTo>
                <a:lnTo>
                  <a:pt x="191" y="138"/>
                </a:lnTo>
                <a:lnTo>
                  <a:pt x="240" y="171"/>
                </a:lnTo>
                <a:lnTo>
                  <a:pt x="242" y="174"/>
                </a:lnTo>
                <a:lnTo>
                  <a:pt x="243" y="177"/>
                </a:lnTo>
                <a:lnTo>
                  <a:pt x="243" y="185"/>
                </a:lnTo>
                <a:lnTo>
                  <a:pt x="242" y="190"/>
                </a:lnTo>
                <a:lnTo>
                  <a:pt x="238" y="190"/>
                </a:lnTo>
                <a:lnTo>
                  <a:pt x="145" y="161"/>
                </a:lnTo>
                <a:lnTo>
                  <a:pt x="132" y="158"/>
                </a:lnTo>
                <a:lnTo>
                  <a:pt x="132" y="193"/>
                </a:lnTo>
                <a:lnTo>
                  <a:pt x="131" y="214"/>
                </a:lnTo>
                <a:lnTo>
                  <a:pt x="129" y="234"/>
                </a:lnTo>
                <a:lnTo>
                  <a:pt x="158" y="265"/>
                </a:lnTo>
                <a:lnTo>
                  <a:pt x="160" y="270"/>
                </a:lnTo>
                <a:lnTo>
                  <a:pt x="160" y="276"/>
                </a:lnTo>
                <a:lnTo>
                  <a:pt x="159" y="279"/>
                </a:lnTo>
                <a:lnTo>
                  <a:pt x="157" y="279"/>
                </a:lnTo>
                <a:lnTo>
                  <a:pt x="123" y="267"/>
                </a:lnTo>
                <a:lnTo>
                  <a:pt x="121" y="271"/>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1" name=""/>
          <p:cNvSpPr/>
          <p:nvPr/>
        </p:nvSpPr>
        <p:spPr>
          <a:xfrm>
            <a:off x="3546360" y="3767040"/>
            <a:ext cx="400320" cy="460440"/>
          </a:xfrm>
          <a:custGeom>
            <a:avLst/>
            <a:gdLst/>
            <a:ahLst/>
            <a:rect l="l" t="t" r="r" b="b"/>
            <a:pathLst>
              <a:path w="252" h="290">
                <a:moveTo>
                  <a:pt x="125" y="281"/>
                </a:moveTo>
                <a:lnTo>
                  <a:pt x="124" y="276"/>
                </a:lnTo>
                <a:lnTo>
                  <a:pt x="88" y="289"/>
                </a:lnTo>
                <a:lnTo>
                  <a:pt x="87" y="289"/>
                </a:lnTo>
                <a:lnTo>
                  <a:pt x="86" y="286"/>
                </a:lnTo>
                <a:lnTo>
                  <a:pt x="86" y="280"/>
                </a:lnTo>
                <a:lnTo>
                  <a:pt x="87" y="275"/>
                </a:lnTo>
                <a:lnTo>
                  <a:pt x="118" y="242"/>
                </a:lnTo>
                <a:lnTo>
                  <a:pt x="114" y="221"/>
                </a:lnTo>
                <a:lnTo>
                  <a:pt x="113" y="199"/>
                </a:lnTo>
                <a:lnTo>
                  <a:pt x="113" y="163"/>
                </a:lnTo>
                <a:lnTo>
                  <a:pt x="100" y="166"/>
                </a:lnTo>
                <a:lnTo>
                  <a:pt x="4" y="196"/>
                </a:lnTo>
                <a:lnTo>
                  <a:pt x="1" y="196"/>
                </a:lnTo>
                <a:lnTo>
                  <a:pt x="0" y="192"/>
                </a:lnTo>
                <a:lnTo>
                  <a:pt x="0" y="184"/>
                </a:lnTo>
                <a:lnTo>
                  <a:pt x="0" y="181"/>
                </a:lnTo>
                <a:lnTo>
                  <a:pt x="2" y="177"/>
                </a:lnTo>
                <a:lnTo>
                  <a:pt x="54" y="143"/>
                </a:lnTo>
                <a:lnTo>
                  <a:pt x="54" y="126"/>
                </a:lnTo>
                <a:lnTo>
                  <a:pt x="55" y="118"/>
                </a:lnTo>
                <a:lnTo>
                  <a:pt x="61" y="118"/>
                </a:lnTo>
                <a:lnTo>
                  <a:pt x="62" y="126"/>
                </a:lnTo>
                <a:lnTo>
                  <a:pt x="62" y="137"/>
                </a:lnTo>
                <a:lnTo>
                  <a:pt x="83" y="121"/>
                </a:lnTo>
                <a:lnTo>
                  <a:pt x="84" y="105"/>
                </a:lnTo>
                <a:lnTo>
                  <a:pt x="84" y="97"/>
                </a:lnTo>
                <a:lnTo>
                  <a:pt x="90" y="97"/>
                </a:lnTo>
                <a:lnTo>
                  <a:pt x="92" y="105"/>
                </a:lnTo>
                <a:lnTo>
                  <a:pt x="92" y="116"/>
                </a:lnTo>
                <a:lnTo>
                  <a:pt x="113" y="93"/>
                </a:lnTo>
                <a:lnTo>
                  <a:pt x="113" y="63"/>
                </a:lnTo>
                <a:lnTo>
                  <a:pt x="115" y="35"/>
                </a:lnTo>
                <a:lnTo>
                  <a:pt x="118" y="20"/>
                </a:lnTo>
                <a:lnTo>
                  <a:pt x="120" y="6"/>
                </a:lnTo>
                <a:lnTo>
                  <a:pt x="123" y="2"/>
                </a:lnTo>
                <a:lnTo>
                  <a:pt x="125" y="0"/>
                </a:lnTo>
                <a:lnTo>
                  <a:pt x="127" y="2"/>
                </a:lnTo>
                <a:lnTo>
                  <a:pt x="130" y="6"/>
                </a:lnTo>
                <a:lnTo>
                  <a:pt x="133" y="20"/>
                </a:lnTo>
                <a:lnTo>
                  <a:pt x="136" y="35"/>
                </a:lnTo>
                <a:lnTo>
                  <a:pt x="137" y="63"/>
                </a:lnTo>
                <a:lnTo>
                  <a:pt x="137" y="93"/>
                </a:lnTo>
                <a:lnTo>
                  <a:pt x="158" y="116"/>
                </a:lnTo>
                <a:lnTo>
                  <a:pt x="159" y="105"/>
                </a:lnTo>
                <a:lnTo>
                  <a:pt x="159" y="97"/>
                </a:lnTo>
                <a:lnTo>
                  <a:pt x="165" y="97"/>
                </a:lnTo>
                <a:lnTo>
                  <a:pt x="167" y="105"/>
                </a:lnTo>
                <a:lnTo>
                  <a:pt x="167" y="121"/>
                </a:lnTo>
                <a:lnTo>
                  <a:pt x="189" y="137"/>
                </a:lnTo>
                <a:lnTo>
                  <a:pt x="189" y="126"/>
                </a:lnTo>
                <a:lnTo>
                  <a:pt x="190" y="118"/>
                </a:lnTo>
                <a:lnTo>
                  <a:pt x="196" y="118"/>
                </a:lnTo>
                <a:lnTo>
                  <a:pt x="196" y="126"/>
                </a:lnTo>
                <a:lnTo>
                  <a:pt x="197" y="143"/>
                </a:lnTo>
                <a:lnTo>
                  <a:pt x="247" y="177"/>
                </a:lnTo>
                <a:lnTo>
                  <a:pt x="250" y="181"/>
                </a:lnTo>
                <a:lnTo>
                  <a:pt x="251" y="184"/>
                </a:lnTo>
                <a:lnTo>
                  <a:pt x="251" y="192"/>
                </a:lnTo>
                <a:lnTo>
                  <a:pt x="250" y="196"/>
                </a:lnTo>
                <a:lnTo>
                  <a:pt x="246" y="196"/>
                </a:lnTo>
                <a:lnTo>
                  <a:pt x="150" y="166"/>
                </a:lnTo>
                <a:lnTo>
                  <a:pt x="137" y="163"/>
                </a:lnTo>
                <a:lnTo>
                  <a:pt x="137" y="199"/>
                </a:lnTo>
                <a:lnTo>
                  <a:pt x="136" y="221"/>
                </a:lnTo>
                <a:lnTo>
                  <a:pt x="133" y="242"/>
                </a:lnTo>
                <a:lnTo>
                  <a:pt x="163" y="275"/>
                </a:lnTo>
                <a:lnTo>
                  <a:pt x="165" y="280"/>
                </a:lnTo>
                <a:lnTo>
                  <a:pt x="165" y="286"/>
                </a:lnTo>
                <a:lnTo>
                  <a:pt x="164" y="289"/>
                </a:lnTo>
                <a:lnTo>
                  <a:pt x="162" y="289"/>
                </a:lnTo>
                <a:lnTo>
                  <a:pt x="127" y="276"/>
                </a:lnTo>
                <a:lnTo>
                  <a:pt x="125" y="2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2" name=""/>
          <p:cNvSpPr/>
          <p:nvPr/>
        </p:nvSpPr>
        <p:spPr>
          <a:xfrm>
            <a:off x="4060800" y="3767040"/>
            <a:ext cx="390600" cy="444600"/>
          </a:xfrm>
          <a:custGeom>
            <a:avLst/>
            <a:gdLst/>
            <a:ahLst/>
            <a:rect l="l" t="t" r="r" b="b"/>
            <a:pathLst>
              <a:path w="246" h="280">
                <a:moveTo>
                  <a:pt x="123" y="271"/>
                </a:moveTo>
                <a:lnTo>
                  <a:pt x="121" y="267"/>
                </a:lnTo>
                <a:lnTo>
                  <a:pt x="87" y="279"/>
                </a:lnTo>
                <a:lnTo>
                  <a:pt x="84" y="279"/>
                </a:lnTo>
                <a:lnTo>
                  <a:pt x="84" y="276"/>
                </a:lnTo>
                <a:lnTo>
                  <a:pt x="84" y="270"/>
                </a:lnTo>
                <a:lnTo>
                  <a:pt x="86" y="265"/>
                </a:lnTo>
                <a:lnTo>
                  <a:pt x="114" y="234"/>
                </a:lnTo>
                <a:lnTo>
                  <a:pt x="112" y="214"/>
                </a:lnTo>
                <a:lnTo>
                  <a:pt x="111" y="193"/>
                </a:lnTo>
                <a:lnTo>
                  <a:pt x="111" y="158"/>
                </a:lnTo>
                <a:lnTo>
                  <a:pt x="98" y="161"/>
                </a:lnTo>
                <a:lnTo>
                  <a:pt x="5" y="190"/>
                </a:lnTo>
                <a:lnTo>
                  <a:pt x="2" y="190"/>
                </a:lnTo>
                <a:lnTo>
                  <a:pt x="0" y="185"/>
                </a:lnTo>
                <a:lnTo>
                  <a:pt x="0" y="177"/>
                </a:lnTo>
                <a:lnTo>
                  <a:pt x="1" y="174"/>
                </a:lnTo>
                <a:lnTo>
                  <a:pt x="3" y="171"/>
                </a:lnTo>
                <a:lnTo>
                  <a:pt x="53" y="138"/>
                </a:lnTo>
                <a:lnTo>
                  <a:pt x="53" y="121"/>
                </a:lnTo>
                <a:lnTo>
                  <a:pt x="54" y="114"/>
                </a:lnTo>
                <a:lnTo>
                  <a:pt x="60" y="114"/>
                </a:lnTo>
                <a:lnTo>
                  <a:pt x="61" y="121"/>
                </a:lnTo>
                <a:lnTo>
                  <a:pt x="61" y="132"/>
                </a:lnTo>
                <a:lnTo>
                  <a:pt x="82" y="117"/>
                </a:lnTo>
                <a:lnTo>
                  <a:pt x="83" y="102"/>
                </a:lnTo>
                <a:lnTo>
                  <a:pt x="83" y="94"/>
                </a:lnTo>
                <a:lnTo>
                  <a:pt x="89" y="94"/>
                </a:lnTo>
                <a:lnTo>
                  <a:pt x="90" y="102"/>
                </a:lnTo>
                <a:lnTo>
                  <a:pt x="90" y="112"/>
                </a:lnTo>
                <a:lnTo>
                  <a:pt x="111" y="89"/>
                </a:lnTo>
                <a:lnTo>
                  <a:pt x="111" y="61"/>
                </a:lnTo>
                <a:lnTo>
                  <a:pt x="112" y="33"/>
                </a:lnTo>
                <a:lnTo>
                  <a:pt x="114" y="20"/>
                </a:lnTo>
                <a:lnTo>
                  <a:pt x="118" y="6"/>
                </a:lnTo>
                <a:lnTo>
                  <a:pt x="120" y="2"/>
                </a:lnTo>
                <a:lnTo>
                  <a:pt x="123" y="0"/>
                </a:lnTo>
                <a:lnTo>
                  <a:pt x="125" y="2"/>
                </a:lnTo>
                <a:lnTo>
                  <a:pt x="127" y="6"/>
                </a:lnTo>
                <a:lnTo>
                  <a:pt x="131" y="20"/>
                </a:lnTo>
                <a:lnTo>
                  <a:pt x="133" y="33"/>
                </a:lnTo>
                <a:lnTo>
                  <a:pt x="134" y="61"/>
                </a:lnTo>
                <a:lnTo>
                  <a:pt x="134" y="89"/>
                </a:lnTo>
                <a:lnTo>
                  <a:pt x="155" y="112"/>
                </a:lnTo>
                <a:lnTo>
                  <a:pt x="155" y="102"/>
                </a:lnTo>
                <a:lnTo>
                  <a:pt x="156" y="94"/>
                </a:lnTo>
                <a:lnTo>
                  <a:pt x="162" y="94"/>
                </a:lnTo>
                <a:lnTo>
                  <a:pt x="163" y="102"/>
                </a:lnTo>
                <a:lnTo>
                  <a:pt x="163" y="117"/>
                </a:lnTo>
                <a:lnTo>
                  <a:pt x="185" y="132"/>
                </a:lnTo>
                <a:lnTo>
                  <a:pt x="185" y="121"/>
                </a:lnTo>
                <a:lnTo>
                  <a:pt x="186" y="114"/>
                </a:lnTo>
                <a:lnTo>
                  <a:pt x="192" y="114"/>
                </a:lnTo>
                <a:lnTo>
                  <a:pt x="192" y="121"/>
                </a:lnTo>
                <a:lnTo>
                  <a:pt x="192" y="138"/>
                </a:lnTo>
                <a:lnTo>
                  <a:pt x="242" y="171"/>
                </a:lnTo>
                <a:lnTo>
                  <a:pt x="244" y="174"/>
                </a:lnTo>
                <a:lnTo>
                  <a:pt x="245" y="177"/>
                </a:lnTo>
                <a:lnTo>
                  <a:pt x="245" y="185"/>
                </a:lnTo>
                <a:lnTo>
                  <a:pt x="243" y="190"/>
                </a:lnTo>
                <a:lnTo>
                  <a:pt x="240" y="190"/>
                </a:lnTo>
                <a:lnTo>
                  <a:pt x="147" y="161"/>
                </a:lnTo>
                <a:lnTo>
                  <a:pt x="134" y="158"/>
                </a:lnTo>
                <a:lnTo>
                  <a:pt x="134" y="193"/>
                </a:lnTo>
                <a:lnTo>
                  <a:pt x="133" y="214"/>
                </a:lnTo>
                <a:lnTo>
                  <a:pt x="131" y="234"/>
                </a:lnTo>
                <a:lnTo>
                  <a:pt x="159" y="265"/>
                </a:lnTo>
                <a:lnTo>
                  <a:pt x="162" y="270"/>
                </a:lnTo>
                <a:lnTo>
                  <a:pt x="162" y="276"/>
                </a:lnTo>
                <a:lnTo>
                  <a:pt x="161" y="279"/>
                </a:lnTo>
                <a:lnTo>
                  <a:pt x="158" y="279"/>
                </a:lnTo>
                <a:lnTo>
                  <a:pt x="124" y="267"/>
                </a:lnTo>
                <a:lnTo>
                  <a:pt x="123" y="271"/>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3" name=""/>
          <p:cNvSpPr/>
          <p:nvPr/>
        </p:nvSpPr>
        <p:spPr>
          <a:xfrm>
            <a:off x="4060800" y="3767040"/>
            <a:ext cx="403200" cy="460440"/>
          </a:xfrm>
          <a:custGeom>
            <a:avLst/>
            <a:gdLst/>
            <a:ahLst/>
            <a:rect l="l" t="t" r="r" b="b"/>
            <a:pathLst>
              <a:path w="254" h="290">
                <a:moveTo>
                  <a:pt x="127" y="281"/>
                </a:moveTo>
                <a:lnTo>
                  <a:pt x="125" y="276"/>
                </a:lnTo>
                <a:lnTo>
                  <a:pt x="90" y="289"/>
                </a:lnTo>
                <a:lnTo>
                  <a:pt x="87" y="289"/>
                </a:lnTo>
                <a:lnTo>
                  <a:pt x="87" y="286"/>
                </a:lnTo>
                <a:lnTo>
                  <a:pt x="87" y="280"/>
                </a:lnTo>
                <a:lnTo>
                  <a:pt x="88" y="275"/>
                </a:lnTo>
                <a:lnTo>
                  <a:pt x="118" y="242"/>
                </a:lnTo>
                <a:lnTo>
                  <a:pt x="116" y="221"/>
                </a:lnTo>
                <a:lnTo>
                  <a:pt x="115" y="199"/>
                </a:lnTo>
                <a:lnTo>
                  <a:pt x="115" y="163"/>
                </a:lnTo>
                <a:lnTo>
                  <a:pt x="101" y="166"/>
                </a:lnTo>
                <a:lnTo>
                  <a:pt x="5" y="196"/>
                </a:lnTo>
                <a:lnTo>
                  <a:pt x="2" y="196"/>
                </a:lnTo>
                <a:lnTo>
                  <a:pt x="0" y="192"/>
                </a:lnTo>
                <a:lnTo>
                  <a:pt x="0" y="184"/>
                </a:lnTo>
                <a:lnTo>
                  <a:pt x="1" y="181"/>
                </a:lnTo>
                <a:lnTo>
                  <a:pt x="4" y="177"/>
                </a:lnTo>
                <a:lnTo>
                  <a:pt x="55" y="143"/>
                </a:lnTo>
                <a:lnTo>
                  <a:pt x="55" y="126"/>
                </a:lnTo>
                <a:lnTo>
                  <a:pt x="56" y="118"/>
                </a:lnTo>
                <a:lnTo>
                  <a:pt x="62" y="118"/>
                </a:lnTo>
                <a:lnTo>
                  <a:pt x="63" y="126"/>
                </a:lnTo>
                <a:lnTo>
                  <a:pt x="63" y="137"/>
                </a:lnTo>
                <a:lnTo>
                  <a:pt x="85" y="121"/>
                </a:lnTo>
                <a:lnTo>
                  <a:pt x="86" y="105"/>
                </a:lnTo>
                <a:lnTo>
                  <a:pt x="86" y="97"/>
                </a:lnTo>
                <a:lnTo>
                  <a:pt x="92" y="97"/>
                </a:lnTo>
                <a:lnTo>
                  <a:pt x="93" y="105"/>
                </a:lnTo>
                <a:lnTo>
                  <a:pt x="93" y="116"/>
                </a:lnTo>
                <a:lnTo>
                  <a:pt x="115" y="93"/>
                </a:lnTo>
                <a:lnTo>
                  <a:pt x="115" y="63"/>
                </a:lnTo>
                <a:lnTo>
                  <a:pt x="116" y="35"/>
                </a:lnTo>
                <a:lnTo>
                  <a:pt x="118" y="20"/>
                </a:lnTo>
                <a:lnTo>
                  <a:pt x="122" y="6"/>
                </a:lnTo>
                <a:lnTo>
                  <a:pt x="124" y="2"/>
                </a:lnTo>
                <a:lnTo>
                  <a:pt x="127" y="0"/>
                </a:lnTo>
                <a:lnTo>
                  <a:pt x="129" y="2"/>
                </a:lnTo>
                <a:lnTo>
                  <a:pt x="131" y="6"/>
                </a:lnTo>
                <a:lnTo>
                  <a:pt x="135" y="20"/>
                </a:lnTo>
                <a:lnTo>
                  <a:pt x="137" y="35"/>
                </a:lnTo>
                <a:lnTo>
                  <a:pt x="138" y="63"/>
                </a:lnTo>
                <a:lnTo>
                  <a:pt x="138" y="93"/>
                </a:lnTo>
                <a:lnTo>
                  <a:pt x="160" y="116"/>
                </a:lnTo>
                <a:lnTo>
                  <a:pt x="160" y="105"/>
                </a:lnTo>
                <a:lnTo>
                  <a:pt x="161" y="97"/>
                </a:lnTo>
                <a:lnTo>
                  <a:pt x="167" y="97"/>
                </a:lnTo>
                <a:lnTo>
                  <a:pt x="168" y="105"/>
                </a:lnTo>
                <a:lnTo>
                  <a:pt x="168" y="121"/>
                </a:lnTo>
                <a:lnTo>
                  <a:pt x="191" y="137"/>
                </a:lnTo>
                <a:lnTo>
                  <a:pt x="191" y="126"/>
                </a:lnTo>
                <a:lnTo>
                  <a:pt x="192" y="118"/>
                </a:lnTo>
                <a:lnTo>
                  <a:pt x="198" y="118"/>
                </a:lnTo>
                <a:lnTo>
                  <a:pt x="198" y="126"/>
                </a:lnTo>
                <a:lnTo>
                  <a:pt x="198" y="143"/>
                </a:lnTo>
                <a:lnTo>
                  <a:pt x="249" y="177"/>
                </a:lnTo>
                <a:lnTo>
                  <a:pt x="252" y="181"/>
                </a:lnTo>
                <a:lnTo>
                  <a:pt x="253" y="184"/>
                </a:lnTo>
                <a:lnTo>
                  <a:pt x="253" y="192"/>
                </a:lnTo>
                <a:lnTo>
                  <a:pt x="251" y="196"/>
                </a:lnTo>
                <a:lnTo>
                  <a:pt x="248" y="196"/>
                </a:lnTo>
                <a:lnTo>
                  <a:pt x="152" y="166"/>
                </a:lnTo>
                <a:lnTo>
                  <a:pt x="138" y="163"/>
                </a:lnTo>
                <a:lnTo>
                  <a:pt x="138" y="199"/>
                </a:lnTo>
                <a:lnTo>
                  <a:pt x="137" y="221"/>
                </a:lnTo>
                <a:lnTo>
                  <a:pt x="135" y="242"/>
                </a:lnTo>
                <a:lnTo>
                  <a:pt x="165" y="275"/>
                </a:lnTo>
                <a:lnTo>
                  <a:pt x="167" y="280"/>
                </a:lnTo>
                <a:lnTo>
                  <a:pt x="167" y="286"/>
                </a:lnTo>
                <a:lnTo>
                  <a:pt x="166" y="289"/>
                </a:lnTo>
                <a:lnTo>
                  <a:pt x="163" y="289"/>
                </a:lnTo>
                <a:lnTo>
                  <a:pt x="128" y="276"/>
                </a:lnTo>
                <a:lnTo>
                  <a:pt x="127" y="2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4" name=""/>
          <p:cNvSpPr/>
          <p:nvPr/>
        </p:nvSpPr>
        <p:spPr>
          <a:xfrm>
            <a:off x="4427640" y="4151160"/>
            <a:ext cx="392040" cy="443160"/>
          </a:xfrm>
          <a:custGeom>
            <a:avLst/>
            <a:gdLst/>
            <a:ahLst/>
            <a:rect l="l" t="t" r="r" b="b"/>
            <a:pathLst>
              <a:path w="247" h="279">
                <a:moveTo>
                  <a:pt x="123" y="270"/>
                </a:moveTo>
                <a:lnTo>
                  <a:pt x="122" y="266"/>
                </a:lnTo>
                <a:lnTo>
                  <a:pt x="87" y="278"/>
                </a:lnTo>
                <a:lnTo>
                  <a:pt x="85" y="278"/>
                </a:lnTo>
                <a:lnTo>
                  <a:pt x="84" y="276"/>
                </a:lnTo>
                <a:lnTo>
                  <a:pt x="84" y="269"/>
                </a:lnTo>
                <a:lnTo>
                  <a:pt x="86" y="264"/>
                </a:lnTo>
                <a:lnTo>
                  <a:pt x="115" y="234"/>
                </a:lnTo>
                <a:lnTo>
                  <a:pt x="113" y="213"/>
                </a:lnTo>
                <a:lnTo>
                  <a:pt x="111" y="193"/>
                </a:lnTo>
                <a:lnTo>
                  <a:pt x="111" y="159"/>
                </a:lnTo>
                <a:lnTo>
                  <a:pt x="99" y="160"/>
                </a:lnTo>
                <a:lnTo>
                  <a:pt x="5" y="189"/>
                </a:lnTo>
                <a:lnTo>
                  <a:pt x="2" y="189"/>
                </a:lnTo>
                <a:lnTo>
                  <a:pt x="0" y="186"/>
                </a:lnTo>
                <a:lnTo>
                  <a:pt x="0" y="177"/>
                </a:lnTo>
                <a:lnTo>
                  <a:pt x="1" y="174"/>
                </a:lnTo>
                <a:lnTo>
                  <a:pt x="3" y="171"/>
                </a:lnTo>
                <a:lnTo>
                  <a:pt x="53" y="137"/>
                </a:lnTo>
                <a:lnTo>
                  <a:pt x="53" y="121"/>
                </a:lnTo>
                <a:lnTo>
                  <a:pt x="55" y="115"/>
                </a:lnTo>
                <a:lnTo>
                  <a:pt x="59" y="115"/>
                </a:lnTo>
                <a:lnTo>
                  <a:pt x="60" y="121"/>
                </a:lnTo>
                <a:lnTo>
                  <a:pt x="60" y="131"/>
                </a:lnTo>
                <a:lnTo>
                  <a:pt x="82" y="118"/>
                </a:lnTo>
                <a:lnTo>
                  <a:pt x="84" y="101"/>
                </a:lnTo>
                <a:lnTo>
                  <a:pt x="84" y="94"/>
                </a:lnTo>
                <a:lnTo>
                  <a:pt x="89" y="94"/>
                </a:lnTo>
                <a:lnTo>
                  <a:pt x="91" y="101"/>
                </a:lnTo>
                <a:lnTo>
                  <a:pt x="91" y="112"/>
                </a:lnTo>
                <a:lnTo>
                  <a:pt x="111" y="89"/>
                </a:lnTo>
                <a:lnTo>
                  <a:pt x="111" y="62"/>
                </a:lnTo>
                <a:lnTo>
                  <a:pt x="113" y="33"/>
                </a:lnTo>
                <a:lnTo>
                  <a:pt x="115" y="20"/>
                </a:lnTo>
                <a:lnTo>
                  <a:pt x="118" y="6"/>
                </a:lnTo>
                <a:lnTo>
                  <a:pt x="121" y="2"/>
                </a:lnTo>
                <a:lnTo>
                  <a:pt x="123" y="0"/>
                </a:lnTo>
                <a:lnTo>
                  <a:pt x="125" y="2"/>
                </a:lnTo>
                <a:lnTo>
                  <a:pt x="128" y="6"/>
                </a:lnTo>
                <a:lnTo>
                  <a:pt x="131" y="20"/>
                </a:lnTo>
                <a:lnTo>
                  <a:pt x="133" y="33"/>
                </a:lnTo>
                <a:lnTo>
                  <a:pt x="135" y="62"/>
                </a:lnTo>
                <a:lnTo>
                  <a:pt x="135" y="89"/>
                </a:lnTo>
                <a:lnTo>
                  <a:pt x="155" y="112"/>
                </a:lnTo>
                <a:lnTo>
                  <a:pt x="155" y="101"/>
                </a:lnTo>
                <a:lnTo>
                  <a:pt x="157" y="94"/>
                </a:lnTo>
                <a:lnTo>
                  <a:pt x="162" y="94"/>
                </a:lnTo>
                <a:lnTo>
                  <a:pt x="162" y="101"/>
                </a:lnTo>
                <a:lnTo>
                  <a:pt x="164" y="118"/>
                </a:lnTo>
                <a:lnTo>
                  <a:pt x="186" y="131"/>
                </a:lnTo>
                <a:lnTo>
                  <a:pt x="186" y="121"/>
                </a:lnTo>
                <a:lnTo>
                  <a:pt x="186" y="115"/>
                </a:lnTo>
                <a:lnTo>
                  <a:pt x="191" y="115"/>
                </a:lnTo>
                <a:lnTo>
                  <a:pt x="193" y="121"/>
                </a:lnTo>
                <a:lnTo>
                  <a:pt x="193" y="137"/>
                </a:lnTo>
                <a:lnTo>
                  <a:pt x="243" y="171"/>
                </a:lnTo>
                <a:lnTo>
                  <a:pt x="245" y="174"/>
                </a:lnTo>
                <a:lnTo>
                  <a:pt x="246" y="177"/>
                </a:lnTo>
                <a:lnTo>
                  <a:pt x="246" y="186"/>
                </a:lnTo>
                <a:lnTo>
                  <a:pt x="244" y="189"/>
                </a:lnTo>
                <a:lnTo>
                  <a:pt x="241" y="189"/>
                </a:lnTo>
                <a:lnTo>
                  <a:pt x="147" y="160"/>
                </a:lnTo>
                <a:lnTo>
                  <a:pt x="135" y="159"/>
                </a:lnTo>
                <a:lnTo>
                  <a:pt x="135" y="193"/>
                </a:lnTo>
                <a:lnTo>
                  <a:pt x="133" y="213"/>
                </a:lnTo>
                <a:lnTo>
                  <a:pt x="131" y="234"/>
                </a:lnTo>
                <a:lnTo>
                  <a:pt x="160" y="264"/>
                </a:lnTo>
                <a:lnTo>
                  <a:pt x="162" y="269"/>
                </a:lnTo>
                <a:lnTo>
                  <a:pt x="162" y="276"/>
                </a:lnTo>
                <a:lnTo>
                  <a:pt x="161" y="278"/>
                </a:lnTo>
                <a:lnTo>
                  <a:pt x="159" y="278"/>
                </a:lnTo>
                <a:lnTo>
                  <a:pt x="124" y="266"/>
                </a:lnTo>
                <a:lnTo>
                  <a:pt x="123" y="27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a:off x="4427640" y="4151160"/>
            <a:ext cx="403200" cy="459000"/>
          </a:xfrm>
          <a:custGeom>
            <a:avLst/>
            <a:gdLst/>
            <a:ahLst/>
            <a:rect l="l" t="t" r="r" b="b"/>
            <a:pathLst>
              <a:path w="254" h="289">
                <a:moveTo>
                  <a:pt x="127" y="280"/>
                </a:moveTo>
                <a:lnTo>
                  <a:pt x="125" y="275"/>
                </a:lnTo>
                <a:lnTo>
                  <a:pt x="90" y="288"/>
                </a:lnTo>
                <a:lnTo>
                  <a:pt x="87" y="288"/>
                </a:lnTo>
                <a:lnTo>
                  <a:pt x="86" y="286"/>
                </a:lnTo>
                <a:lnTo>
                  <a:pt x="86" y="279"/>
                </a:lnTo>
                <a:lnTo>
                  <a:pt x="88" y="274"/>
                </a:lnTo>
                <a:lnTo>
                  <a:pt x="118" y="243"/>
                </a:lnTo>
                <a:lnTo>
                  <a:pt x="116" y="221"/>
                </a:lnTo>
                <a:lnTo>
                  <a:pt x="115" y="200"/>
                </a:lnTo>
                <a:lnTo>
                  <a:pt x="115" y="164"/>
                </a:lnTo>
                <a:lnTo>
                  <a:pt x="101" y="166"/>
                </a:lnTo>
                <a:lnTo>
                  <a:pt x="5" y="196"/>
                </a:lnTo>
                <a:lnTo>
                  <a:pt x="2" y="196"/>
                </a:lnTo>
                <a:lnTo>
                  <a:pt x="0" y="193"/>
                </a:lnTo>
                <a:lnTo>
                  <a:pt x="0" y="183"/>
                </a:lnTo>
                <a:lnTo>
                  <a:pt x="1" y="180"/>
                </a:lnTo>
                <a:lnTo>
                  <a:pt x="4" y="177"/>
                </a:lnTo>
                <a:lnTo>
                  <a:pt x="55" y="142"/>
                </a:lnTo>
                <a:lnTo>
                  <a:pt x="55" y="125"/>
                </a:lnTo>
                <a:lnTo>
                  <a:pt x="56" y="119"/>
                </a:lnTo>
                <a:lnTo>
                  <a:pt x="61" y="119"/>
                </a:lnTo>
                <a:lnTo>
                  <a:pt x="62" y="125"/>
                </a:lnTo>
                <a:lnTo>
                  <a:pt x="62" y="136"/>
                </a:lnTo>
                <a:lnTo>
                  <a:pt x="85" y="122"/>
                </a:lnTo>
                <a:lnTo>
                  <a:pt x="86" y="105"/>
                </a:lnTo>
                <a:lnTo>
                  <a:pt x="86" y="97"/>
                </a:lnTo>
                <a:lnTo>
                  <a:pt x="92" y="97"/>
                </a:lnTo>
                <a:lnTo>
                  <a:pt x="93" y="105"/>
                </a:lnTo>
                <a:lnTo>
                  <a:pt x="93" y="116"/>
                </a:lnTo>
                <a:lnTo>
                  <a:pt x="115" y="92"/>
                </a:lnTo>
                <a:lnTo>
                  <a:pt x="115" y="64"/>
                </a:lnTo>
                <a:lnTo>
                  <a:pt x="116" y="34"/>
                </a:lnTo>
                <a:lnTo>
                  <a:pt x="118" y="20"/>
                </a:lnTo>
                <a:lnTo>
                  <a:pt x="122" y="6"/>
                </a:lnTo>
                <a:lnTo>
                  <a:pt x="124" y="2"/>
                </a:lnTo>
                <a:lnTo>
                  <a:pt x="127" y="0"/>
                </a:lnTo>
                <a:lnTo>
                  <a:pt x="129" y="2"/>
                </a:lnTo>
                <a:lnTo>
                  <a:pt x="131" y="6"/>
                </a:lnTo>
                <a:lnTo>
                  <a:pt x="135" y="20"/>
                </a:lnTo>
                <a:lnTo>
                  <a:pt x="137" y="34"/>
                </a:lnTo>
                <a:lnTo>
                  <a:pt x="138" y="64"/>
                </a:lnTo>
                <a:lnTo>
                  <a:pt x="138" y="92"/>
                </a:lnTo>
                <a:lnTo>
                  <a:pt x="160" y="116"/>
                </a:lnTo>
                <a:lnTo>
                  <a:pt x="160" y="105"/>
                </a:lnTo>
                <a:lnTo>
                  <a:pt x="161" y="97"/>
                </a:lnTo>
                <a:lnTo>
                  <a:pt x="167" y="97"/>
                </a:lnTo>
                <a:lnTo>
                  <a:pt x="167" y="105"/>
                </a:lnTo>
                <a:lnTo>
                  <a:pt x="168" y="122"/>
                </a:lnTo>
                <a:lnTo>
                  <a:pt x="191" y="136"/>
                </a:lnTo>
                <a:lnTo>
                  <a:pt x="191" y="125"/>
                </a:lnTo>
                <a:lnTo>
                  <a:pt x="191" y="119"/>
                </a:lnTo>
                <a:lnTo>
                  <a:pt x="197" y="119"/>
                </a:lnTo>
                <a:lnTo>
                  <a:pt x="198" y="125"/>
                </a:lnTo>
                <a:lnTo>
                  <a:pt x="198" y="142"/>
                </a:lnTo>
                <a:lnTo>
                  <a:pt x="249" y="177"/>
                </a:lnTo>
                <a:lnTo>
                  <a:pt x="252" y="180"/>
                </a:lnTo>
                <a:lnTo>
                  <a:pt x="253" y="183"/>
                </a:lnTo>
                <a:lnTo>
                  <a:pt x="253" y="193"/>
                </a:lnTo>
                <a:lnTo>
                  <a:pt x="251" y="196"/>
                </a:lnTo>
                <a:lnTo>
                  <a:pt x="248" y="196"/>
                </a:lnTo>
                <a:lnTo>
                  <a:pt x="152" y="166"/>
                </a:lnTo>
                <a:lnTo>
                  <a:pt x="138" y="164"/>
                </a:lnTo>
                <a:lnTo>
                  <a:pt x="138" y="200"/>
                </a:lnTo>
                <a:lnTo>
                  <a:pt x="137" y="221"/>
                </a:lnTo>
                <a:lnTo>
                  <a:pt x="135" y="243"/>
                </a:lnTo>
                <a:lnTo>
                  <a:pt x="165" y="274"/>
                </a:lnTo>
                <a:lnTo>
                  <a:pt x="167" y="279"/>
                </a:lnTo>
                <a:lnTo>
                  <a:pt x="167" y="286"/>
                </a:lnTo>
                <a:lnTo>
                  <a:pt x="166" y="288"/>
                </a:lnTo>
                <a:lnTo>
                  <a:pt x="163" y="288"/>
                </a:lnTo>
                <a:lnTo>
                  <a:pt x="128" y="275"/>
                </a:lnTo>
                <a:lnTo>
                  <a:pt x="127" y="2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
          <p:cNvSpPr/>
          <p:nvPr/>
        </p:nvSpPr>
        <p:spPr>
          <a:xfrm>
            <a:off x="4649760" y="4025880"/>
            <a:ext cx="388800" cy="444600"/>
          </a:xfrm>
          <a:custGeom>
            <a:avLst/>
            <a:gdLst/>
            <a:ahLst/>
            <a:rect l="l" t="t" r="r" b="b"/>
            <a:pathLst>
              <a:path w="245" h="280">
                <a:moveTo>
                  <a:pt x="123" y="270"/>
                </a:moveTo>
                <a:lnTo>
                  <a:pt x="120" y="265"/>
                </a:lnTo>
                <a:lnTo>
                  <a:pt x="87" y="279"/>
                </a:lnTo>
                <a:lnTo>
                  <a:pt x="84" y="277"/>
                </a:lnTo>
                <a:lnTo>
                  <a:pt x="83" y="276"/>
                </a:lnTo>
                <a:lnTo>
                  <a:pt x="83" y="268"/>
                </a:lnTo>
                <a:lnTo>
                  <a:pt x="86" y="264"/>
                </a:lnTo>
                <a:lnTo>
                  <a:pt x="114" y="234"/>
                </a:lnTo>
                <a:lnTo>
                  <a:pt x="112" y="214"/>
                </a:lnTo>
                <a:lnTo>
                  <a:pt x="111" y="193"/>
                </a:lnTo>
                <a:lnTo>
                  <a:pt x="111" y="158"/>
                </a:lnTo>
                <a:lnTo>
                  <a:pt x="98" y="159"/>
                </a:lnTo>
                <a:lnTo>
                  <a:pt x="5" y="188"/>
                </a:lnTo>
                <a:lnTo>
                  <a:pt x="1" y="188"/>
                </a:lnTo>
                <a:lnTo>
                  <a:pt x="0" y="185"/>
                </a:lnTo>
                <a:lnTo>
                  <a:pt x="0" y="176"/>
                </a:lnTo>
                <a:lnTo>
                  <a:pt x="1" y="173"/>
                </a:lnTo>
                <a:lnTo>
                  <a:pt x="3" y="171"/>
                </a:lnTo>
                <a:lnTo>
                  <a:pt x="52" y="136"/>
                </a:lnTo>
                <a:lnTo>
                  <a:pt x="53" y="121"/>
                </a:lnTo>
                <a:lnTo>
                  <a:pt x="53" y="114"/>
                </a:lnTo>
                <a:lnTo>
                  <a:pt x="59" y="114"/>
                </a:lnTo>
                <a:lnTo>
                  <a:pt x="60" y="121"/>
                </a:lnTo>
                <a:lnTo>
                  <a:pt x="60" y="132"/>
                </a:lnTo>
                <a:lnTo>
                  <a:pt x="82" y="117"/>
                </a:lnTo>
                <a:lnTo>
                  <a:pt x="82" y="100"/>
                </a:lnTo>
                <a:lnTo>
                  <a:pt x="83" y="92"/>
                </a:lnTo>
                <a:lnTo>
                  <a:pt x="89" y="92"/>
                </a:lnTo>
                <a:lnTo>
                  <a:pt x="89" y="100"/>
                </a:lnTo>
                <a:lnTo>
                  <a:pt x="90" y="111"/>
                </a:lnTo>
                <a:lnTo>
                  <a:pt x="111" y="88"/>
                </a:lnTo>
                <a:lnTo>
                  <a:pt x="111" y="61"/>
                </a:lnTo>
                <a:lnTo>
                  <a:pt x="112" y="32"/>
                </a:lnTo>
                <a:lnTo>
                  <a:pt x="114" y="18"/>
                </a:lnTo>
                <a:lnTo>
                  <a:pt x="118" y="5"/>
                </a:lnTo>
                <a:lnTo>
                  <a:pt x="120" y="0"/>
                </a:lnTo>
                <a:lnTo>
                  <a:pt x="123" y="0"/>
                </a:lnTo>
                <a:lnTo>
                  <a:pt x="125" y="0"/>
                </a:lnTo>
                <a:lnTo>
                  <a:pt x="127" y="5"/>
                </a:lnTo>
                <a:lnTo>
                  <a:pt x="130" y="18"/>
                </a:lnTo>
                <a:lnTo>
                  <a:pt x="132" y="32"/>
                </a:lnTo>
                <a:lnTo>
                  <a:pt x="134" y="61"/>
                </a:lnTo>
                <a:lnTo>
                  <a:pt x="134" y="88"/>
                </a:lnTo>
                <a:lnTo>
                  <a:pt x="155" y="111"/>
                </a:lnTo>
                <a:lnTo>
                  <a:pt x="155" y="100"/>
                </a:lnTo>
                <a:lnTo>
                  <a:pt x="156" y="92"/>
                </a:lnTo>
                <a:lnTo>
                  <a:pt x="162" y="92"/>
                </a:lnTo>
                <a:lnTo>
                  <a:pt x="162" y="100"/>
                </a:lnTo>
                <a:lnTo>
                  <a:pt x="163" y="117"/>
                </a:lnTo>
                <a:lnTo>
                  <a:pt x="184" y="132"/>
                </a:lnTo>
                <a:lnTo>
                  <a:pt x="184" y="121"/>
                </a:lnTo>
                <a:lnTo>
                  <a:pt x="185" y="114"/>
                </a:lnTo>
                <a:lnTo>
                  <a:pt x="191" y="114"/>
                </a:lnTo>
                <a:lnTo>
                  <a:pt x="192" y="121"/>
                </a:lnTo>
                <a:lnTo>
                  <a:pt x="192" y="136"/>
                </a:lnTo>
                <a:lnTo>
                  <a:pt x="242" y="171"/>
                </a:lnTo>
                <a:lnTo>
                  <a:pt x="244" y="173"/>
                </a:lnTo>
                <a:lnTo>
                  <a:pt x="244" y="176"/>
                </a:lnTo>
                <a:lnTo>
                  <a:pt x="244" y="185"/>
                </a:lnTo>
                <a:lnTo>
                  <a:pt x="243" y="188"/>
                </a:lnTo>
                <a:lnTo>
                  <a:pt x="241" y="188"/>
                </a:lnTo>
                <a:lnTo>
                  <a:pt x="147" y="159"/>
                </a:lnTo>
                <a:lnTo>
                  <a:pt x="134" y="158"/>
                </a:lnTo>
                <a:lnTo>
                  <a:pt x="134" y="193"/>
                </a:lnTo>
                <a:lnTo>
                  <a:pt x="133" y="214"/>
                </a:lnTo>
                <a:lnTo>
                  <a:pt x="130" y="234"/>
                </a:lnTo>
                <a:lnTo>
                  <a:pt x="160" y="264"/>
                </a:lnTo>
                <a:lnTo>
                  <a:pt x="161" y="268"/>
                </a:lnTo>
                <a:lnTo>
                  <a:pt x="161" y="276"/>
                </a:lnTo>
                <a:lnTo>
                  <a:pt x="161" y="277"/>
                </a:lnTo>
                <a:lnTo>
                  <a:pt x="158" y="279"/>
                </a:lnTo>
                <a:lnTo>
                  <a:pt x="124" y="265"/>
                </a:lnTo>
                <a:lnTo>
                  <a:pt x="123" y="27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a:off x="4649760" y="4025880"/>
            <a:ext cx="401760" cy="458640"/>
          </a:xfrm>
          <a:custGeom>
            <a:avLst/>
            <a:gdLst/>
            <a:ahLst/>
            <a:rect l="l" t="t" r="r" b="b"/>
            <a:pathLst>
              <a:path w="253" h="289">
                <a:moveTo>
                  <a:pt x="127" y="279"/>
                </a:moveTo>
                <a:lnTo>
                  <a:pt x="124" y="274"/>
                </a:lnTo>
                <a:lnTo>
                  <a:pt x="90" y="288"/>
                </a:lnTo>
                <a:lnTo>
                  <a:pt x="87" y="286"/>
                </a:lnTo>
                <a:lnTo>
                  <a:pt x="86" y="285"/>
                </a:lnTo>
                <a:lnTo>
                  <a:pt x="86" y="277"/>
                </a:lnTo>
                <a:lnTo>
                  <a:pt x="88" y="272"/>
                </a:lnTo>
                <a:lnTo>
                  <a:pt x="118" y="241"/>
                </a:lnTo>
                <a:lnTo>
                  <a:pt x="116" y="221"/>
                </a:lnTo>
                <a:lnTo>
                  <a:pt x="115" y="199"/>
                </a:lnTo>
                <a:lnTo>
                  <a:pt x="115" y="163"/>
                </a:lnTo>
                <a:lnTo>
                  <a:pt x="102" y="164"/>
                </a:lnTo>
                <a:lnTo>
                  <a:pt x="5" y="194"/>
                </a:lnTo>
                <a:lnTo>
                  <a:pt x="1" y="194"/>
                </a:lnTo>
                <a:lnTo>
                  <a:pt x="0" y="191"/>
                </a:lnTo>
                <a:lnTo>
                  <a:pt x="0" y="182"/>
                </a:lnTo>
                <a:lnTo>
                  <a:pt x="1" y="178"/>
                </a:lnTo>
                <a:lnTo>
                  <a:pt x="4" y="177"/>
                </a:lnTo>
                <a:lnTo>
                  <a:pt x="54" y="141"/>
                </a:lnTo>
                <a:lnTo>
                  <a:pt x="55" y="125"/>
                </a:lnTo>
                <a:lnTo>
                  <a:pt x="55" y="117"/>
                </a:lnTo>
                <a:lnTo>
                  <a:pt x="61" y="117"/>
                </a:lnTo>
                <a:lnTo>
                  <a:pt x="62" y="125"/>
                </a:lnTo>
                <a:lnTo>
                  <a:pt x="62" y="136"/>
                </a:lnTo>
                <a:lnTo>
                  <a:pt x="85" y="121"/>
                </a:lnTo>
                <a:lnTo>
                  <a:pt x="85" y="103"/>
                </a:lnTo>
                <a:lnTo>
                  <a:pt x="86" y="95"/>
                </a:lnTo>
                <a:lnTo>
                  <a:pt x="92" y="95"/>
                </a:lnTo>
                <a:lnTo>
                  <a:pt x="92" y="103"/>
                </a:lnTo>
                <a:lnTo>
                  <a:pt x="93" y="114"/>
                </a:lnTo>
                <a:lnTo>
                  <a:pt x="115" y="91"/>
                </a:lnTo>
                <a:lnTo>
                  <a:pt x="115" y="63"/>
                </a:lnTo>
                <a:lnTo>
                  <a:pt x="116" y="33"/>
                </a:lnTo>
                <a:lnTo>
                  <a:pt x="118" y="19"/>
                </a:lnTo>
                <a:lnTo>
                  <a:pt x="122" y="5"/>
                </a:lnTo>
                <a:lnTo>
                  <a:pt x="124" y="0"/>
                </a:lnTo>
                <a:lnTo>
                  <a:pt x="127" y="0"/>
                </a:lnTo>
                <a:lnTo>
                  <a:pt x="129" y="0"/>
                </a:lnTo>
                <a:lnTo>
                  <a:pt x="131" y="5"/>
                </a:lnTo>
                <a:lnTo>
                  <a:pt x="134" y="19"/>
                </a:lnTo>
                <a:lnTo>
                  <a:pt x="136" y="33"/>
                </a:lnTo>
                <a:lnTo>
                  <a:pt x="139" y="63"/>
                </a:lnTo>
                <a:lnTo>
                  <a:pt x="139" y="91"/>
                </a:lnTo>
                <a:lnTo>
                  <a:pt x="160" y="114"/>
                </a:lnTo>
                <a:lnTo>
                  <a:pt x="160" y="103"/>
                </a:lnTo>
                <a:lnTo>
                  <a:pt x="161" y="95"/>
                </a:lnTo>
                <a:lnTo>
                  <a:pt x="167" y="95"/>
                </a:lnTo>
                <a:lnTo>
                  <a:pt x="167" y="103"/>
                </a:lnTo>
                <a:lnTo>
                  <a:pt x="168" y="121"/>
                </a:lnTo>
                <a:lnTo>
                  <a:pt x="190" y="136"/>
                </a:lnTo>
                <a:lnTo>
                  <a:pt x="190" y="125"/>
                </a:lnTo>
                <a:lnTo>
                  <a:pt x="191" y="117"/>
                </a:lnTo>
                <a:lnTo>
                  <a:pt x="197" y="117"/>
                </a:lnTo>
                <a:lnTo>
                  <a:pt x="198" y="125"/>
                </a:lnTo>
                <a:lnTo>
                  <a:pt x="198" y="141"/>
                </a:lnTo>
                <a:lnTo>
                  <a:pt x="250" y="177"/>
                </a:lnTo>
                <a:lnTo>
                  <a:pt x="252" y="178"/>
                </a:lnTo>
                <a:lnTo>
                  <a:pt x="252" y="182"/>
                </a:lnTo>
                <a:lnTo>
                  <a:pt x="252" y="191"/>
                </a:lnTo>
                <a:lnTo>
                  <a:pt x="251" y="194"/>
                </a:lnTo>
                <a:lnTo>
                  <a:pt x="248" y="194"/>
                </a:lnTo>
                <a:lnTo>
                  <a:pt x="152" y="164"/>
                </a:lnTo>
                <a:lnTo>
                  <a:pt x="139" y="163"/>
                </a:lnTo>
                <a:lnTo>
                  <a:pt x="139" y="199"/>
                </a:lnTo>
                <a:lnTo>
                  <a:pt x="137" y="221"/>
                </a:lnTo>
                <a:lnTo>
                  <a:pt x="134" y="241"/>
                </a:lnTo>
                <a:lnTo>
                  <a:pt x="165" y="272"/>
                </a:lnTo>
                <a:lnTo>
                  <a:pt x="166" y="277"/>
                </a:lnTo>
                <a:lnTo>
                  <a:pt x="166" y="285"/>
                </a:lnTo>
                <a:lnTo>
                  <a:pt x="166" y="286"/>
                </a:lnTo>
                <a:lnTo>
                  <a:pt x="164" y="288"/>
                </a:lnTo>
                <a:lnTo>
                  <a:pt x="128" y="274"/>
                </a:lnTo>
                <a:lnTo>
                  <a:pt x="127" y="27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8" name=""/>
          <p:cNvSpPr/>
          <p:nvPr/>
        </p:nvSpPr>
        <p:spPr>
          <a:xfrm>
            <a:off x="4797360" y="4151160"/>
            <a:ext cx="389160" cy="443160"/>
          </a:xfrm>
          <a:custGeom>
            <a:avLst/>
            <a:gdLst/>
            <a:ahLst/>
            <a:rect l="l" t="t" r="r" b="b"/>
            <a:pathLst>
              <a:path w="245" h="279">
                <a:moveTo>
                  <a:pt x="123" y="270"/>
                </a:moveTo>
                <a:lnTo>
                  <a:pt x="121" y="266"/>
                </a:lnTo>
                <a:lnTo>
                  <a:pt x="87" y="278"/>
                </a:lnTo>
                <a:lnTo>
                  <a:pt x="84" y="278"/>
                </a:lnTo>
                <a:lnTo>
                  <a:pt x="83" y="276"/>
                </a:lnTo>
                <a:lnTo>
                  <a:pt x="83" y="269"/>
                </a:lnTo>
                <a:lnTo>
                  <a:pt x="86" y="264"/>
                </a:lnTo>
                <a:lnTo>
                  <a:pt x="114" y="234"/>
                </a:lnTo>
                <a:lnTo>
                  <a:pt x="112" y="213"/>
                </a:lnTo>
                <a:lnTo>
                  <a:pt x="111" y="193"/>
                </a:lnTo>
                <a:lnTo>
                  <a:pt x="111" y="159"/>
                </a:lnTo>
                <a:lnTo>
                  <a:pt x="98" y="160"/>
                </a:lnTo>
                <a:lnTo>
                  <a:pt x="5" y="189"/>
                </a:lnTo>
                <a:lnTo>
                  <a:pt x="2" y="189"/>
                </a:lnTo>
                <a:lnTo>
                  <a:pt x="0" y="186"/>
                </a:lnTo>
                <a:lnTo>
                  <a:pt x="0" y="177"/>
                </a:lnTo>
                <a:lnTo>
                  <a:pt x="1" y="174"/>
                </a:lnTo>
                <a:lnTo>
                  <a:pt x="3" y="171"/>
                </a:lnTo>
                <a:lnTo>
                  <a:pt x="53" y="137"/>
                </a:lnTo>
                <a:lnTo>
                  <a:pt x="53" y="121"/>
                </a:lnTo>
                <a:lnTo>
                  <a:pt x="53" y="115"/>
                </a:lnTo>
                <a:lnTo>
                  <a:pt x="59" y="115"/>
                </a:lnTo>
                <a:lnTo>
                  <a:pt x="60" y="121"/>
                </a:lnTo>
                <a:lnTo>
                  <a:pt x="60" y="131"/>
                </a:lnTo>
                <a:lnTo>
                  <a:pt x="82" y="118"/>
                </a:lnTo>
                <a:lnTo>
                  <a:pt x="82" y="101"/>
                </a:lnTo>
                <a:lnTo>
                  <a:pt x="83" y="94"/>
                </a:lnTo>
                <a:lnTo>
                  <a:pt x="89" y="94"/>
                </a:lnTo>
                <a:lnTo>
                  <a:pt x="90" y="101"/>
                </a:lnTo>
                <a:lnTo>
                  <a:pt x="90" y="112"/>
                </a:lnTo>
                <a:lnTo>
                  <a:pt x="111" y="89"/>
                </a:lnTo>
                <a:lnTo>
                  <a:pt x="111" y="62"/>
                </a:lnTo>
                <a:lnTo>
                  <a:pt x="112" y="33"/>
                </a:lnTo>
                <a:lnTo>
                  <a:pt x="114" y="20"/>
                </a:lnTo>
                <a:lnTo>
                  <a:pt x="118" y="6"/>
                </a:lnTo>
                <a:lnTo>
                  <a:pt x="120" y="2"/>
                </a:lnTo>
                <a:lnTo>
                  <a:pt x="123" y="0"/>
                </a:lnTo>
                <a:lnTo>
                  <a:pt x="125" y="2"/>
                </a:lnTo>
                <a:lnTo>
                  <a:pt x="127" y="6"/>
                </a:lnTo>
                <a:lnTo>
                  <a:pt x="131" y="20"/>
                </a:lnTo>
                <a:lnTo>
                  <a:pt x="133" y="33"/>
                </a:lnTo>
                <a:lnTo>
                  <a:pt x="134" y="62"/>
                </a:lnTo>
                <a:lnTo>
                  <a:pt x="134" y="89"/>
                </a:lnTo>
                <a:lnTo>
                  <a:pt x="155" y="112"/>
                </a:lnTo>
                <a:lnTo>
                  <a:pt x="155" y="101"/>
                </a:lnTo>
                <a:lnTo>
                  <a:pt x="156" y="94"/>
                </a:lnTo>
                <a:lnTo>
                  <a:pt x="162" y="94"/>
                </a:lnTo>
                <a:lnTo>
                  <a:pt x="162" y="101"/>
                </a:lnTo>
                <a:lnTo>
                  <a:pt x="163" y="118"/>
                </a:lnTo>
                <a:lnTo>
                  <a:pt x="184" y="131"/>
                </a:lnTo>
                <a:lnTo>
                  <a:pt x="184" y="121"/>
                </a:lnTo>
                <a:lnTo>
                  <a:pt x="185" y="115"/>
                </a:lnTo>
                <a:lnTo>
                  <a:pt x="191" y="115"/>
                </a:lnTo>
                <a:lnTo>
                  <a:pt x="192" y="121"/>
                </a:lnTo>
                <a:lnTo>
                  <a:pt x="192" y="137"/>
                </a:lnTo>
                <a:lnTo>
                  <a:pt x="242" y="171"/>
                </a:lnTo>
                <a:lnTo>
                  <a:pt x="244" y="174"/>
                </a:lnTo>
                <a:lnTo>
                  <a:pt x="244" y="177"/>
                </a:lnTo>
                <a:lnTo>
                  <a:pt x="244" y="186"/>
                </a:lnTo>
                <a:lnTo>
                  <a:pt x="243" y="189"/>
                </a:lnTo>
                <a:lnTo>
                  <a:pt x="241" y="189"/>
                </a:lnTo>
                <a:lnTo>
                  <a:pt x="147" y="160"/>
                </a:lnTo>
                <a:lnTo>
                  <a:pt x="134" y="159"/>
                </a:lnTo>
                <a:lnTo>
                  <a:pt x="134" y="193"/>
                </a:lnTo>
                <a:lnTo>
                  <a:pt x="133" y="213"/>
                </a:lnTo>
                <a:lnTo>
                  <a:pt x="131" y="234"/>
                </a:lnTo>
                <a:lnTo>
                  <a:pt x="160" y="264"/>
                </a:lnTo>
                <a:lnTo>
                  <a:pt x="161" y="269"/>
                </a:lnTo>
                <a:lnTo>
                  <a:pt x="161" y="276"/>
                </a:lnTo>
                <a:lnTo>
                  <a:pt x="161" y="278"/>
                </a:lnTo>
                <a:lnTo>
                  <a:pt x="158" y="278"/>
                </a:lnTo>
                <a:lnTo>
                  <a:pt x="124" y="266"/>
                </a:lnTo>
                <a:lnTo>
                  <a:pt x="123" y="27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9" name=""/>
          <p:cNvSpPr/>
          <p:nvPr/>
        </p:nvSpPr>
        <p:spPr>
          <a:xfrm>
            <a:off x="4797360" y="4151160"/>
            <a:ext cx="401760" cy="459000"/>
          </a:xfrm>
          <a:custGeom>
            <a:avLst/>
            <a:gdLst/>
            <a:ahLst/>
            <a:rect l="l" t="t" r="r" b="b"/>
            <a:pathLst>
              <a:path w="253" h="289">
                <a:moveTo>
                  <a:pt x="127" y="280"/>
                </a:moveTo>
                <a:lnTo>
                  <a:pt x="125" y="275"/>
                </a:lnTo>
                <a:lnTo>
                  <a:pt x="90" y="288"/>
                </a:lnTo>
                <a:lnTo>
                  <a:pt x="87" y="288"/>
                </a:lnTo>
                <a:lnTo>
                  <a:pt x="86" y="286"/>
                </a:lnTo>
                <a:lnTo>
                  <a:pt x="86" y="279"/>
                </a:lnTo>
                <a:lnTo>
                  <a:pt x="88" y="274"/>
                </a:lnTo>
                <a:lnTo>
                  <a:pt x="118" y="243"/>
                </a:lnTo>
                <a:lnTo>
                  <a:pt x="116" y="221"/>
                </a:lnTo>
                <a:lnTo>
                  <a:pt x="115" y="200"/>
                </a:lnTo>
                <a:lnTo>
                  <a:pt x="115" y="164"/>
                </a:lnTo>
                <a:lnTo>
                  <a:pt x="102" y="166"/>
                </a:lnTo>
                <a:lnTo>
                  <a:pt x="5" y="196"/>
                </a:lnTo>
                <a:lnTo>
                  <a:pt x="2" y="196"/>
                </a:lnTo>
                <a:lnTo>
                  <a:pt x="0" y="193"/>
                </a:lnTo>
                <a:lnTo>
                  <a:pt x="0" y="183"/>
                </a:lnTo>
                <a:lnTo>
                  <a:pt x="1" y="180"/>
                </a:lnTo>
                <a:lnTo>
                  <a:pt x="4" y="177"/>
                </a:lnTo>
                <a:lnTo>
                  <a:pt x="55" y="142"/>
                </a:lnTo>
                <a:lnTo>
                  <a:pt x="55" y="125"/>
                </a:lnTo>
                <a:lnTo>
                  <a:pt x="55" y="119"/>
                </a:lnTo>
                <a:lnTo>
                  <a:pt x="61" y="119"/>
                </a:lnTo>
                <a:lnTo>
                  <a:pt x="62" y="125"/>
                </a:lnTo>
                <a:lnTo>
                  <a:pt x="62" y="136"/>
                </a:lnTo>
                <a:lnTo>
                  <a:pt x="85" y="122"/>
                </a:lnTo>
                <a:lnTo>
                  <a:pt x="85" y="105"/>
                </a:lnTo>
                <a:lnTo>
                  <a:pt x="86" y="97"/>
                </a:lnTo>
                <a:lnTo>
                  <a:pt x="92" y="97"/>
                </a:lnTo>
                <a:lnTo>
                  <a:pt x="93" y="105"/>
                </a:lnTo>
                <a:lnTo>
                  <a:pt x="93" y="116"/>
                </a:lnTo>
                <a:lnTo>
                  <a:pt x="115" y="92"/>
                </a:lnTo>
                <a:lnTo>
                  <a:pt x="115" y="64"/>
                </a:lnTo>
                <a:lnTo>
                  <a:pt x="116" y="34"/>
                </a:lnTo>
                <a:lnTo>
                  <a:pt x="118" y="20"/>
                </a:lnTo>
                <a:lnTo>
                  <a:pt x="122" y="6"/>
                </a:lnTo>
                <a:lnTo>
                  <a:pt x="124" y="2"/>
                </a:lnTo>
                <a:lnTo>
                  <a:pt x="127" y="0"/>
                </a:lnTo>
                <a:lnTo>
                  <a:pt x="129" y="2"/>
                </a:lnTo>
                <a:lnTo>
                  <a:pt x="131" y="6"/>
                </a:lnTo>
                <a:lnTo>
                  <a:pt x="135" y="20"/>
                </a:lnTo>
                <a:lnTo>
                  <a:pt x="137" y="34"/>
                </a:lnTo>
                <a:lnTo>
                  <a:pt x="139" y="64"/>
                </a:lnTo>
                <a:lnTo>
                  <a:pt x="139" y="92"/>
                </a:lnTo>
                <a:lnTo>
                  <a:pt x="160" y="116"/>
                </a:lnTo>
                <a:lnTo>
                  <a:pt x="160" y="105"/>
                </a:lnTo>
                <a:lnTo>
                  <a:pt x="161" y="97"/>
                </a:lnTo>
                <a:lnTo>
                  <a:pt x="167" y="97"/>
                </a:lnTo>
                <a:lnTo>
                  <a:pt x="167" y="105"/>
                </a:lnTo>
                <a:lnTo>
                  <a:pt x="168" y="122"/>
                </a:lnTo>
                <a:lnTo>
                  <a:pt x="190" y="136"/>
                </a:lnTo>
                <a:lnTo>
                  <a:pt x="190" y="125"/>
                </a:lnTo>
                <a:lnTo>
                  <a:pt x="191" y="119"/>
                </a:lnTo>
                <a:lnTo>
                  <a:pt x="197" y="119"/>
                </a:lnTo>
                <a:lnTo>
                  <a:pt x="198" y="125"/>
                </a:lnTo>
                <a:lnTo>
                  <a:pt x="198" y="142"/>
                </a:lnTo>
                <a:lnTo>
                  <a:pt x="250" y="177"/>
                </a:lnTo>
                <a:lnTo>
                  <a:pt x="252" y="180"/>
                </a:lnTo>
                <a:lnTo>
                  <a:pt x="252" y="183"/>
                </a:lnTo>
                <a:lnTo>
                  <a:pt x="252" y="193"/>
                </a:lnTo>
                <a:lnTo>
                  <a:pt x="251" y="196"/>
                </a:lnTo>
                <a:lnTo>
                  <a:pt x="248" y="196"/>
                </a:lnTo>
                <a:lnTo>
                  <a:pt x="152" y="166"/>
                </a:lnTo>
                <a:lnTo>
                  <a:pt x="139" y="164"/>
                </a:lnTo>
                <a:lnTo>
                  <a:pt x="139" y="200"/>
                </a:lnTo>
                <a:lnTo>
                  <a:pt x="137" y="221"/>
                </a:lnTo>
                <a:lnTo>
                  <a:pt x="135" y="243"/>
                </a:lnTo>
                <a:lnTo>
                  <a:pt x="165" y="274"/>
                </a:lnTo>
                <a:lnTo>
                  <a:pt x="166" y="279"/>
                </a:lnTo>
                <a:lnTo>
                  <a:pt x="166" y="286"/>
                </a:lnTo>
                <a:lnTo>
                  <a:pt x="166" y="288"/>
                </a:lnTo>
                <a:lnTo>
                  <a:pt x="164" y="288"/>
                </a:lnTo>
                <a:lnTo>
                  <a:pt x="128" y="275"/>
                </a:lnTo>
                <a:lnTo>
                  <a:pt x="127" y="2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0" name=""/>
          <p:cNvSpPr/>
          <p:nvPr/>
        </p:nvSpPr>
        <p:spPr>
          <a:xfrm>
            <a:off x="4873680" y="4025880"/>
            <a:ext cx="388800" cy="444600"/>
          </a:xfrm>
          <a:custGeom>
            <a:avLst/>
            <a:gdLst/>
            <a:ahLst/>
            <a:rect l="l" t="t" r="r" b="b"/>
            <a:pathLst>
              <a:path w="245" h="280">
                <a:moveTo>
                  <a:pt x="123" y="270"/>
                </a:moveTo>
                <a:lnTo>
                  <a:pt x="120" y="265"/>
                </a:lnTo>
                <a:lnTo>
                  <a:pt x="87" y="279"/>
                </a:lnTo>
                <a:lnTo>
                  <a:pt x="84" y="277"/>
                </a:lnTo>
                <a:lnTo>
                  <a:pt x="83" y="276"/>
                </a:lnTo>
                <a:lnTo>
                  <a:pt x="83" y="268"/>
                </a:lnTo>
                <a:lnTo>
                  <a:pt x="86" y="264"/>
                </a:lnTo>
                <a:lnTo>
                  <a:pt x="114" y="234"/>
                </a:lnTo>
                <a:lnTo>
                  <a:pt x="112" y="214"/>
                </a:lnTo>
                <a:lnTo>
                  <a:pt x="111" y="193"/>
                </a:lnTo>
                <a:lnTo>
                  <a:pt x="111" y="158"/>
                </a:lnTo>
                <a:lnTo>
                  <a:pt x="98" y="159"/>
                </a:lnTo>
                <a:lnTo>
                  <a:pt x="5" y="188"/>
                </a:lnTo>
                <a:lnTo>
                  <a:pt x="1" y="188"/>
                </a:lnTo>
                <a:lnTo>
                  <a:pt x="0" y="185"/>
                </a:lnTo>
                <a:lnTo>
                  <a:pt x="0" y="176"/>
                </a:lnTo>
                <a:lnTo>
                  <a:pt x="1" y="173"/>
                </a:lnTo>
                <a:lnTo>
                  <a:pt x="2" y="171"/>
                </a:lnTo>
                <a:lnTo>
                  <a:pt x="52" y="136"/>
                </a:lnTo>
                <a:lnTo>
                  <a:pt x="53" y="121"/>
                </a:lnTo>
                <a:lnTo>
                  <a:pt x="53" y="114"/>
                </a:lnTo>
                <a:lnTo>
                  <a:pt x="59" y="114"/>
                </a:lnTo>
                <a:lnTo>
                  <a:pt x="60" y="121"/>
                </a:lnTo>
                <a:lnTo>
                  <a:pt x="60" y="132"/>
                </a:lnTo>
                <a:lnTo>
                  <a:pt x="81" y="117"/>
                </a:lnTo>
                <a:lnTo>
                  <a:pt x="82" y="100"/>
                </a:lnTo>
                <a:lnTo>
                  <a:pt x="83" y="92"/>
                </a:lnTo>
                <a:lnTo>
                  <a:pt x="89" y="92"/>
                </a:lnTo>
                <a:lnTo>
                  <a:pt x="89" y="100"/>
                </a:lnTo>
                <a:lnTo>
                  <a:pt x="90" y="111"/>
                </a:lnTo>
                <a:lnTo>
                  <a:pt x="111" y="88"/>
                </a:lnTo>
                <a:lnTo>
                  <a:pt x="111" y="61"/>
                </a:lnTo>
                <a:lnTo>
                  <a:pt x="112" y="32"/>
                </a:lnTo>
                <a:lnTo>
                  <a:pt x="114" y="18"/>
                </a:lnTo>
                <a:lnTo>
                  <a:pt x="118" y="5"/>
                </a:lnTo>
                <a:lnTo>
                  <a:pt x="119" y="0"/>
                </a:lnTo>
                <a:lnTo>
                  <a:pt x="123" y="0"/>
                </a:lnTo>
                <a:lnTo>
                  <a:pt x="125" y="0"/>
                </a:lnTo>
                <a:lnTo>
                  <a:pt x="127" y="5"/>
                </a:lnTo>
                <a:lnTo>
                  <a:pt x="130" y="18"/>
                </a:lnTo>
                <a:lnTo>
                  <a:pt x="132" y="32"/>
                </a:lnTo>
                <a:lnTo>
                  <a:pt x="133" y="61"/>
                </a:lnTo>
                <a:lnTo>
                  <a:pt x="133" y="88"/>
                </a:lnTo>
                <a:lnTo>
                  <a:pt x="155" y="111"/>
                </a:lnTo>
                <a:lnTo>
                  <a:pt x="155" y="100"/>
                </a:lnTo>
                <a:lnTo>
                  <a:pt x="156" y="92"/>
                </a:lnTo>
                <a:lnTo>
                  <a:pt x="161" y="92"/>
                </a:lnTo>
                <a:lnTo>
                  <a:pt x="162" y="100"/>
                </a:lnTo>
                <a:lnTo>
                  <a:pt x="163" y="117"/>
                </a:lnTo>
                <a:lnTo>
                  <a:pt x="184" y="132"/>
                </a:lnTo>
                <a:lnTo>
                  <a:pt x="184" y="121"/>
                </a:lnTo>
                <a:lnTo>
                  <a:pt x="185" y="114"/>
                </a:lnTo>
                <a:lnTo>
                  <a:pt x="191" y="114"/>
                </a:lnTo>
                <a:lnTo>
                  <a:pt x="192" y="121"/>
                </a:lnTo>
                <a:lnTo>
                  <a:pt x="192" y="136"/>
                </a:lnTo>
                <a:lnTo>
                  <a:pt x="242" y="171"/>
                </a:lnTo>
                <a:lnTo>
                  <a:pt x="244" y="173"/>
                </a:lnTo>
                <a:lnTo>
                  <a:pt x="244" y="176"/>
                </a:lnTo>
                <a:lnTo>
                  <a:pt x="244" y="185"/>
                </a:lnTo>
                <a:lnTo>
                  <a:pt x="243" y="188"/>
                </a:lnTo>
                <a:lnTo>
                  <a:pt x="241" y="188"/>
                </a:lnTo>
                <a:lnTo>
                  <a:pt x="147" y="159"/>
                </a:lnTo>
                <a:lnTo>
                  <a:pt x="133" y="158"/>
                </a:lnTo>
                <a:lnTo>
                  <a:pt x="133" y="193"/>
                </a:lnTo>
                <a:lnTo>
                  <a:pt x="133" y="214"/>
                </a:lnTo>
                <a:lnTo>
                  <a:pt x="130" y="234"/>
                </a:lnTo>
                <a:lnTo>
                  <a:pt x="160" y="264"/>
                </a:lnTo>
                <a:lnTo>
                  <a:pt x="161" y="268"/>
                </a:lnTo>
                <a:lnTo>
                  <a:pt x="161" y="276"/>
                </a:lnTo>
                <a:lnTo>
                  <a:pt x="161" y="277"/>
                </a:lnTo>
                <a:lnTo>
                  <a:pt x="158" y="279"/>
                </a:lnTo>
                <a:lnTo>
                  <a:pt x="124" y="265"/>
                </a:lnTo>
                <a:lnTo>
                  <a:pt x="123" y="27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1" name=""/>
          <p:cNvSpPr/>
          <p:nvPr/>
        </p:nvSpPr>
        <p:spPr>
          <a:xfrm>
            <a:off x="4873680" y="4025880"/>
            <a:ext cx="399960" cy="458640"/>
          </a:xfrm>
          <a:custGeom>
            <a:avLst/>
            <a:gdLst/>
            <a:ahLst/>
            <a:rect l="l" t="t" r="r" b="b"/>
            <a:pathLst>
              <a:path w="252" h="289">
                <a:moveTo>
                  <a:pt x="126" y="279"/>
                </a:moveTo>
                <a:lnTo>
                  <a:pt x="124" y="274"/>
                </a:lnTo>
                <a:lnTo>
                  <a:pt x="89" y="288"/>
                </a:lnTo>
                <a:lnTo>
                  <a:pt x="87" y="286"/>
                </a:lnTo>
                <a:lnTo>
                  <a:pt x="86" y="285"/>
                </a:lnTo>
                <a:lnTo>
                  <a:pt x="86" y="277"/>
                </a:lnTo>
                <a:lnTo>
                  <a:pt x="88" y="272"/>
                </a:lnTo>
                <a:lnTo>
                  <a:pt x="118" y="241"/>
                </a:lnTo>
                <a:lnTo>
                  <a:pt x="115" y="221"/>
                </a:lnTo>
                <a:lnTo>
                  <a:pt x="114" y="199"/>
                </a:lnTo>
                <a:lnTo>
                  <a:pt x="114" y="163"/>
                </a:lnTo>
                <a:lnTo>
                  <a:pt x="101" y="164"/>
                </a:lnTo>
                <a:lnTo>
                  <a:pt x="5" y="194"/>
                </a:lnTo>
                <a:lnTo>
                  <a:pt x="1" y="194"/>
                </a:lnTo>
                <a:lnTo>
                  <a:pt x="0" y="191"/>
                </a:lnTo>
                <a:lnTo>
                  <a:pt x="0" y="182"/>
                </a:lnTo>
                <a:lnTo>
                  <a:pt x="1" y="178"/>
                </a:lnTo>
                <a:lnTo>
                  <a:pt x="2" y="177"/>
                </a:lnTo>
                <a:lnTo>
                  <a:pt x="54" y="141"/>
                </a:lnTo>
                <a:lnTo>
                  <a:pt x="55" y="125"/>
                </a:lnTo>
                <a:lnTo>
                  <a:pt x="55" y="117"/>
                </a:lnTo>
                <a:lnTo>
                  <a:pt x="61" y="117"/>
                </a:lnTo>
                <a:lnTo>
                  <a:pt x="62" y="125"/>
                </a:lnTo>
                <a:lnTo>
                  <a:pt x="62" y="136"/>
                </a:lnTo>
                <a:lnTo>
                  <a:pt x="83" y="121"/>
                </a:lnTo>
                <a:lnTo>
                  <a:pt x="84" y="103"/>
                </a:lnTo>
                <a:lnTo>
                  <a:pt x="86" y="95"/>
                </a:lnTo>
                <a:lnTo>
                  <a:pt x="92" y="95"/>
                </a:lnTo>
                <a:lnTo>
                  <a:pt x="92" y="103"/>
                </a:lnTo>
                <a:lnTo>
                  <a:pt x="93" y="114"/>
                </a:lnTo>
                <a:lnTo>
                  <a:pt x="114" y="91"/>
                </a:lnTo>
                <a:lnTo>
                  <a:pt x="114" y="63"/>
                </a:lnTo>
                <a:lnTo>
                  <a:pt x="115" y="33"/>
                </a:lnTo>
                <a:lnTo>
                  <a:pt x="118" y="19"/>
                </a:lnTo>
                <a:lnTo>
                  <a:pt x="121" y="5"/>
                </a:lnTo>
                <a:lnTo>
                  <a:pt x="123" y="0"/>
                </a:lnTo>
                <a:lnTo>
                  <a:pt x="126" y="0"/>
                </a:lnTo>
                <a:lnTo>
                  <a:pt x="128" y="0"/>
                </a:lnTo>
                <a:lnTo>
                  <a:pt x="131" y="5"/>
                </a:lnTo>
                <a:lnTo>
                  <a:pt x="133" y="19"/>
                </a:lnTo>
                <a:lnTo>
                  <a:pt x="136" y="33"/>
                </a:lnTo>
                <a:lnTo>
                  <a:pt x="137" y="63"/>
                </a:lnTo>
                <a:lnTo>
                  <a:pt x="137" y="91"/>
                </a:lnTo>
                <a:lnTo>
                  <a:pt x="159" y="114"/>
                </a:lnTo>
                <a:lnTo>
                  <a:pt x="159" y="103"/>
                </a:lnTo>
                <a:lnTo>
                  <a:pt x="161" y="95"/>
                </a:lnTo>
                <a:lnTo>
                  <a:pt x="165" y="95"/>
                </a:lnTo>
                <a:lnTo>
                  <a:pt x="167" y="103"/>
                </a:lnTo>
                <a:lnTo>
                  <a:pt x="168" y="121"/>
                </a:lnTo>
                <a:lnTo>
                  <a:pt x="189" y="136"/>
                </a:lnTo>
                <a:lnTo>
                  <a:pt x="189" y="125"/>
                </a:lnTo>
                <a:lnTo>
                  <a:pt x="190" y="117"/>
                </a:lnTo>
                <a:lnTo>
                  <a:pt x="196" y="117"/>
                </a:lnTo>
                <a:lnTo>
                  <a:pt x="197" y="125"/>
                </a:lnTo>
                <a:lnTo>
                  <a:pt x="197" y="141"/>
                </a:lnTo>
                <a:lnTo>
                  <a:pt x="249" y="177"/>
                </a:lnTo>
                <a:lnTo>
                  <a:pt x="251" y="178"/>
                </a:lnTo>
                <a:lnTo>
                  <a:pt x="251" y="182"/>
                </a:lnTo>
                <a:lnTo>
                  <a:pt x="251" y="191"/>
                </a:lnTo>
                <a:lnTo>
                  <a:pt x="250" y="194"/>
                </a:lnTo>
                <a:lnTo>
                  <a:pt x="247" y="194"/>
                </a:lnTo>
                <a:lnTo>
                  <a:pt x="151" y="164"/>
                </a:lnTo>
                <a:lnTo>
                  <a:pt x="137" y="163"/>
                </a:lnTo>
                <a:lnTo>
                  <a:pt x="137" y="199"/>
                </a:lnTo>
                <a:lnTo>
                  <a:pt x="137" y="221"/>
                </a:lnTo>
                <a:lnTo>
                  <a:pt x="133" y="241"/>
                </a:lnTo>
                <a:lnTo>
                  <a:pt x="164" y="272"/>
                </a:lnTo>
                <a:lnTo>
                  <a:pt x="165" y="277"/>
                </a:lnTo>
                <a:lnTo>
                  <a:pt x="165" y="285"/>
                </a:lnTo>
                <a:lnTo>
                  <a:pt x="165" y="286"/>
                </a:lnTo>
                <a:lnTo>
                  <a:pt x="163" y="288"/>
                </a:lnTo>
                <a:lnTo>
                  <a:pt x="127" y="274"/>
                </a:lnTo>
                <a:lnTo>
                  <a:pt x="126" y="27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2" name=""/>
          <p:cNvSpPr/>
          <p:nvPr/>
        </p:nvSpPr>
        <p:spPr>
          <a:xfrm>
            <a:off x="5021280" y="4535640"/>
            <a:ext cx="388800" cy="444240"/>
          </a:xfrm>
          <a:custGeom>
            <a:avLst/>
            <a:gdLst/>
            <a:ahLst/>
            <a:rect l="l" t="t" r="r" b="b"/>
            <a:pathLst>
              <a:path w="245" h="280">
                <a:moveTo>
                  <a:pt x="123" y="271"/>
                </a:moveTo>
                <a:lnTo>
                  <a:pt x="121" y="267"/>
                </a:lnTo>
                <a:lnTo>
                  <a:pt x="87" y="279"/>
                </a:lnTo>
                <a:lnTo>
                  <a:pt x="84" y="279"/>
                </a:lnTo>
                <a:lnTo>
                  <a:pt x="83" y="276"/>
                </a:lnTo>
                <a:lnTo>
                  <a:pt x="83" y="268"/>
                </a:lnTo>
                <a:lnTo>
                  <a:pt x="86" y="265"/>
                </a:lnTo>
                <a:lnTo>
                  <a:pt x="114" y="234"/>
                </a:lnTo>
                <a:lnTo>
                  <a:pt x="112" y="214"/>
                </a:lnTo>
                <a:lnTo>
                  <a:pt x="111" y="193"/>
                </a:lnTo>
                <a:lnTo>
                  <a:pt x="111" y="158"/>
                </a:lnTo>
                <a:lnTo>
                  <a:pt x="98" y="161"/>
                </a:lnTo>
                <a:lnTo>
                  <a:pt x="5" y="190"/>
                </a:lnTo>
                <a:lnTo>
                  <a:pt x="1" y="188"/>
                </a:lnTo>
                <a:lnTo>
                  <a:pt x="0" y="185"/>
                </a:lnTo>
                <a:lnTo>
                  <a:pt x="0" y="176"/>
                </a:lnTo>
                <a:lnTo>
                  <a:pt x="1" y="174"/>
                </a:lnTo>
                <a:lnTo>
                  <a:pt x="3" y="171"/>
                </a:lnTo>
                <a:lnTo>
                  <a:pt x="52" y="136"/>
                </a:lnTo>
                <a:lnTo>
                  <a:pt x="53" y="121"/>
                </a:lnTo>
                <a:lnTo>
                  <a:pt x="53" y="114"/>
                </a:lnTo>
                <a:lnTo>
                  <a:pt x="59" y="114"/>
                </a:lnTo>
                <a:lnTo>
                  <a:pt x="60" y="121"/>
                </a:lnTo>
                <a:lnTo>
                  <a:pt x="60" y="132"/>
                </a:lnTo>
                <a:lnTo>
                  <a:pt x="82" y="117"/>
                </a:lnTo>
                <a:lnTo>
                  <a:pt x="82" y="100"/>
                </a:lnTo>
                <a:lnTo>
                  <a:pt x="83" y="94"/>
                </a:lnTo>
                <a:lnTo>
                  <a:pt x="89" y="94"/>
                </a:lnTo>
                <a:lnTo>
                  <a:pt x="89" y="100"/>
                </a:lnTo>
                <a:lnTo>
                  <a:pt x="90" y="111"/>
                </a:lnTo>
                <a:lnTo>
                  <a:pt x="111" y="89"/>
                </a:lnTo>
                <a:lnTo>
                  <a:pt x="111" y="61"/>
                </a:lnTo>
                <a:lnTo>
                  <a:pt x="112" y="33"/>
                </a:lnTo>
                <a:lnTo>
                  <a:pt x="114" y="20"/>
                </a:lnTo>
                <a:lnTo>
                  <a:pt x="118" y="6"/>
                </a:lnTo>
                <a:lnTo>
                  <a:pt x="120" y="2"/>
                </a:lnTo>
                <a:lnTo>
                  <a:pt x="123" y="0"/>
                </a:lnTo>
                <a:lnTo>
                  <a:pt x="125" y="2"/>
                </a:lnTo>
                <a:lnTo>
                  <a:pt x="127" y="6"/>
                </a:lnTo>
                <a:lnTo>
                  <a:pt x="131" y="20"/>
                </a:lnTo>
                <a:lnTo>
                  <a:pt x="132" y="33"/>
                </a:lnTo>
                <a:lnTo>
                  <a:pt x="134" y="61"/>
                </a:lnTo>
                <a:lnTo>
                  <a:pt x="134" y="89"/>
                </a:lnTo>
                <a:lnTo>
                  <a:pt x="155" y="111"/>
                </a:lnTo>
                <a:lnTo>
                  <a:pt x="155" y="100"/>
                </a:lnTo>
                <a:lnTo>
                  <a:pt x="156" y="94"/>
                </a:lnTo>
                <a:lnTo>
                  <a:pt x="162" y="94"/>
                </a:lnTo>
                <a:lnTo>
                  <a:pt x="162" y="100"/>
                </a:lnTo>
                <a:lnTo>
                  <a:pt x="163" y="117"/>
                </a:lnTo>
                <a:lnTo>
                  <a:pt x="184" y="132"/>
                </a:lnTo>
                <a:lnTo>
                  <a:pt x="184" y="121"/>
                </a:lnTo>
                <a:lnTo>
                  <a:pt x="185" y="114"/>
                </a:lnTo>
                <a:lnTo>
                  <a:pt x="191" y="114"/>
                </a:lnTo>
                <a:lnTo>
                  <a:pt x="192" y="121"/>
                </a:lnTo>
                <a:lnTo>
                  <a:pt x="192" y="136"/>
                </a:lnTo>
                <a:lnTo>
                  <a:pt x="242" y="171"/>
                </a:lnTo>
                <a:lnTo>
                  <a:pt x="244" y="174"/>
                </a:lnTo>
                <a:lnTo>
                  <a:pt x="244" y="176"/>
                </a:lnTo>
                <a:lnTo>
                  <a:pt x="244" y="185"/>
                </a:lnTo>
                <a:lnTo>
                  <a:pt x="243" y="188"/>
                </a:lnTo>
                <a:lnTo>
                  <a:pt x="241" y="190"/>
                </a:lnTo>
                <a:lnTo>
                  <a:pt x="147" y="161"/>
                </a:lnTo>
                <a:lnTo>
                  <a:pt x="134" y="158"/>
                </a:lnTo>
                <a:lnTo>
                  <a:pt x="134" y="193"/>
                </a:lnTo>
                <a:lnTo>
                  <a:pt x="133" y="214"/>
                </a:lnTo>
                <a:lnTo>
                  <a:pt x="131" y="234"/>
                </a:lnTo>
                <a:lnTo>
                  <a:pt x="160" y="265"/>
                </a:lnTo>
                <a:lnTo>
                  <a:pt x="161" y="268"/>
                </a:lnTo>
                <a:lnTo>
                  <a:pt x="161" y="276"/>
                </a:lnTo>
                <a:lnTo>
                  <a:pt x="161" y="279"/>
                </a:lnTo>
                <a:lnTo>
                  <a:pt x="158" y="279"/>
                </a:lnTo>
                <a:lnTo>
                  <a:pt x="124" y="267"/>
                </a:lnTo>
                <a:lnTo>
                  <a:pt x="123" y="271"/>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3" name=""/>
          <p:cNvSpPr/>
          <p:nvPr/>
        </p:nvSpPr>
        <p:spPr>
          <a:xfrm>
            <a:off x="5021280" y="4535640"/>
            <a:ext cx="398520" cy="458640"/>
          </a:xfrm>
          <a:custGeom>
            <a:avLst/>
            <a:gdLst/>
            <a:ahLst/>
            <a:rect l="l" t="t" r="r" b="b"/>
            <a:pathLst>
              <a:path w="251" h="289">
                <a:moveTo>
                  <a:pt x="126" y="280"/>
                </a:moveTo>
                <a:lnTo>
                  <a:pt x="124" y="275"/>
                </a:lnTo>
                <a:lnTo>
                  <a:pt x="89" y="288"/>
                </a:lnTo>
                <a:lnTo>
                  <a:pt x="86" y="288"/>
                </a:lnTo>
                <a:lnTo>
                  <a:pt x="85" y="285"/>
                </a:lnTo>
                <a:lnTo>
                  <a:pt x="85" y="277"/>
                </a:lnTo>
                <a:lnTo>
                  <a:pt x="88" y="274"/>
                </a:lnTo>
                <a:lnTo>
                  <a:pt x="117" y="241"/>
                </a:lnTo>
                <a:lnTo>
                  <a:pt x="115" y="221"/>
                </a:lnTo>
                <a:lnTo>
                  <a:pt x="114" y="199"/>
                </a:lnTo>
                <a:lnTo>
                  <a:pt x="114" y="163"/>
                </a:lnTo>
                <a:lnTo>
                  <a:pt x="101" y="166"/>
                </a:lnTo>
                <a:lnTo>
                  <a:pt x="5" y="196"/>
                </a:lnTo>
                <a:lnTo>
                  <a:pt x="1" y="194"/>
                </a:lnTo>
                <a:lnTo>
                  <a:pt x="0" y="191"/>
                </a:lnTo>
                <a:lnTo>
                  <a:pt x="0" y="182"/>
                </a:lnTo>
                <a:lnTo>
                  <a:pt x="1" y="180"/>
                </a:lnTo>
                <a:lnTo>
                  <a:pt x="4" y="177"/>
                </a:lnTo>
                <a:lnTo>
                  <a:pt x="53" y="141"/>
                </a:lnTo>
                <a:lnTo>
                  <a:pt x="55" y="125"/>
                </a:lnTo>
                <a:lnTo>
                  <a:pt x="55" y="117"/>
                </a:lnTo>
                <a:lnTo>
                  <a:pt x="60" y="117"/>
                </a:lnTo>
                <a:lnTo>
                  <a:pt x="62" y="125"/>
                </a:lnTo>
                <a:lnTo>
                  <a:pt x="62" y="136"/>
                </a:lnTo>
                <a:lnTo>
                  <a:pt x="84" y="121"/>
                </a:lnTo>
                <a:lnTo>
                  <a:pt x="84" y="103"/>
                </a:lnTo>
                <a:lnTo>
                  <a:pt x="85" y="97"/>
                </a:lnTo>
                <a:lnTo>
                  <a:pt x="91" y="97"/>
                </a:lnTo>
                <a:lnTo>
                  <a:pt x="91" y="103"/>
                </a:lnTo>
                <a:lnTo>
                  <a:pt x="92" y="114"/>
                </a:lnTo>
                <a:lnTo>
                  <a:pt x="114" y="92"/>
                </a:lnTo>
                <a:lnTo>
                  <a:pt x="114" y="63"/>
                </a:lnTo>
                <a:lnTo>
                  <a:pt x="115" y="34"/>
                </a:lnTo>
                <a:lnTo>
                  <a:pt x="117" y="20"/>
                </a:lnTo>
                <a:lnTo>
                  <a:pt x="121" y="6"/>
                </a:lnTo>
                <a:lnTo>
                  <a:pt x="123" y="2"/>
                </a:lnTo>
                <a:lnTo>
                  <a:pt x="126" y="0"/>
                </a:lnTo>
                <a:lnTo>
                  <a:pt x="128" y="2"/>
                </a:lnTo>
                <a:lnTo>
                  <a:pt x="130" y="6"/>
                </a:lnTo>
                <a:lnTo>
                  <a:pt x="134" y="20"/>
                </a:lnTo>
                <a:lnTo>
                  <a:pt x="135" y="34"/>
                </a:lnTo>
                <a:lnTo>
                  <a:pt x="137" y="63"/>
                </a:lnTo>
                <a:lnTo>
                  <a:pt x="137" y="92"/>
                </a:lnTo>
                <a:lnTo>
                  <a:pt x="159" y="114"/>
                </a:lnTo>
                <a:lnTo>
                  <a:pt x="159" y="103"/>
                </a:lnTo>
                <a:lnTo>
                  <a:pt x="160" y="97"/>
                </a:lnTo>
                <a:lnTo>
                  <a:pt x="166" y="97"/>
                </a:lnTo>
                <a:lnTo>
                  <a:pt x="166" y="103"/>
                </a:lnTo>
                <a:lnTo>
                  <a:pt x="167" y="121"/>
                </a:lnTo>
                <a:lnTo>
                  <a:pt x="188" y="136"/>
                </a:lnTo>
                <a:lnTo>
                  <a:pt x="188" y="125"/>
                </a:lnTo>
                <a:lnTo>
                  <a:pt x="190" y="117"/>
                </a:lnTo>
                <a:lnTo>
                  <a:pt x="195" y="117"/>
                </a:lnTo>
                <a:lnTo>
                  <a:pt x="197" y="125"/>
                </a:lnTo>
                <a:lnTo>
                  <a:pt x="197" y="141"/>
                </a:lnTo>
                <a:lnTo>
                  <a:pt x="248" y="177"/>
                </a:lnTo>
                <a:lnTo>
                  <a:pt x="250" y="180"/>
                </a:lnTo>
                <a:lnTo>
                  <a:pt x="250" y="182"/>
                </a:lnTo>
                <a:lnTo>
                  <a:pt x="250" y="191"/>
                </a:lnTo>
                <a:lnTo>
                  <a:pt x="249" y="194"/>
                </a:lnTo>
                <a:lnTo>
                  <a:pt x="246" y="196"/>
                </a:lnTo>
                <a:lnTo>
                  <a:pt x="150" y="166"/>
                </a:lnTo>
                <a:lnTo>
                  <a:pt x="137" y="163"/>
                </a:lnTo>
                <a:lnTo>
                  <a:pt x="137" y="199"/>
                </a:lnTo>
                <a:lnTo>
                  <a:pt x="136" y="221"/>
                </a:lnTo>
                <a:lnTo>
                  <a:pt x="134" y="241"/>
                </a:lnTo>
                <a:lnTo>
                  <a:pt x="164" y="274"/>
                </a:lnTo>
                <a:lnTo>
                  <a:pt x="165" y="277"/>
                </a:lnTo>
                <a:lnTo>
                  <a:pt x="165" y="285"/>
                </a:lnTo>
                <a:lnTo>
                  <a:pt x="165" y="288"/>
                </a:lnTo>
                <a:lnTo>
                  <a:pt x="162" y="288"/>
                </a:lnTo>
                <a:lnTo>
                  <a:pt x="127" y="275"/>
                </a:lnTo>
                <a:lnTo>
                  <a:pt x="126" y="2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4" name=""/>
          <p:cNvSpPr/>
          <p:nvPr/>
        </p:nvSpPr>
        <p:spPr>
          <a:xfrm>
            <a:off x="5167440" y="4406760"/>
            <a:ext cx="387360" cy="443160"/>
          </a:xfrm>
          <a:custGeom>
            <a:avLst/>
            <a:gdLst/>
            <a:ahLst/>
            <a:rect l="l" t="t" r="r" b="b"/>
            <a:pathLst>
              <a:path w="244" h="279">
                <a:moveTo>
                  <a:pt x="121" y="269"/>
                </a:moveTo>
                <a:lnTo>
                  <a:pt x="120" y="264"/>
                </a:lnTo>
                <a:lnTo>
                  <a:pt x="85" y="278"/>
                </a:lnTo>
                <a:lnTo>
                  <a:pt x="84" y="276"/>
                </a:lnTo>
                <a:lnTo>
                  <a:pt x="83" y="275"/>
                </a:lnTo>
                <a:lnTo>
                  <a:pt x="83" y="267"/>
                </a:lnTo>
                <a:lnTo>
                  <a:pt x="84" y="263"/>
                </a:lnTo>
                <a:lnTo>
                  <a:pt x="114" y="233"/>
                </a:lnTo>
                <a:lnTo>
                  <a:pt x="112" y="213"/>
                </a:lnTo>
                <a:lnTo>
                  <a:pt x="111" y="192"/>
                </a:lnTo>
                <a:lnTo>
                  <a:pt x="111" y="157"/>
                </a:lnTo>
                <a:lnTo>
                  <a:pt x="98" y="159"/>
                </a:lnTo>
                <a:lnTo>
                  <a:pt x="5" y="187"/>
                </a:lnTo>
                <a:lnTo>
                  <a:pt x="1" y="187"/>
                </a:lnTo>
                <a:lnTo>
                  <a:pt x="0" y="184"/>
                </a:lnTo>
                <a:lnTo>
                  <a:pt x="0" y="175"/>
                </a:lnTo>
                <a:lnTo>
                  <a:pt x="0" y="172"/>
                </a:lnTo>
                <a:lnTo>
                  <a:pt x="2" y="171"/>
                </a:lnTo>
                <a:lnTo>
                  <a:pt x="52" y="136"/>
                </a:lnTo>
                <a:lnTo>
                  <a:pt x="52" y="121"/>
                </a:lnTo>
                <a:lnTo>
                  <a:pt x="53" y="113"/>
                </a:lnTo>
                <a:lnTo>
                  <a:pt x="59" y="113"/>
                </a:lnTo>
                <a:lnTo>
                  <a:pt x="60" y="121"/>
                </a:lnTo>
                <a:lnTo>
                  <a:pt x="60" y="131"/>
                </a:lnTo>
                <a:lnTo>
                  <a:pt x="81" y="116"/>
                </a:lnTo>
                <a:lnTo>
                  <a:pt x="82" y="100"/>
                </a:lnTo>
                <a:lnTo>
                  <a:pt x="83" y="92"/>
                </a:lnTo>
                <a:lnTo>
                  <a:pt x="89" y="92"/>
                </a:lnTo>
                <a:lnTo>
                  <a:pt x="89" y="100"/>
                </a:lnTo>
                <a:lnTo>
                  <a:pt x="89" y="110"/>
                </a:lnTo>
                <a:lnTo>
                  <a:pt x="111" y="88"/>
                </a:lnTo>
                <a:lnTo>
                  <a:pt x="111" y="60"/>
                </a:lnTo>
                <a:lnTo>
                  <a:pt x="112" y="32"/>
                </a:lnTo>
                <a:lnTo>
                  <a:pt x="114" y="18"/>
                </a:lnTo>
                <a:lnTo>
                  <a:pt x="116" y="5"/>
                </a:lnTo>
                <a:lnTo>
                  <a:pt x="119" y="0"/>
                </a:lnTo>
                <a:lnTo>
                  <a:pt x="121" y="0"/>
                </a:lnTo>
                <a:lnTo>
                  <a:pt x="124" y="0"/>
                </a:lnTo>
                <a:lnTo>
                  <a:pt x="126" y="5"/>
                </a:lnTo>
                <a:lnTo>
                  <a:pt x="129" y="18"/>
                </a:lnTo>
                <a:lnTo>
                  <a:pt x="131" y="32"/>
                </a:lnTo>
                <a:lnTo>
                  <a:pt x="132" y="60"/>
                </a:lnTo>
                <a:lnTo>
                  <a:pt x="132" y="88"/>
                </a:lnTo>
                <a:lnTo>
                  <a:pt x="153" y="110"/>
                </a:lnTo>
                <a:lnTo>
                  <a:pt x="154" y="100"/>
                </a:lnTo>
                <a:lnTo>
                  <a:pt x="154" y="92"/>
                </a:lnTo>
                <a:lnTo>
                  <a:pt x="160" y="92"/>
                </a:lnTo>
                <a:lnTo>
                  <a:pt x="161" y="100"/>
                </a:lnTo>
                <a:lnTo>
                  <a:pt x="162" y="116"/>
                </a:lnTo>
                <a:lnTo>
                  <a:pt x="183" y="131"/>
                </a:lnTo>
                <a:lnTo>
                  <a:pt x="183" y="121"/>
                </a:lnTo>
                <a:lnTo>
                  <a:pt x="184" y="113"/>
                </a:lnTo>
                <a:lnTo>
                  <a:pt x="190" y="113"/>
                </a:lnTo>
                <a:lnTo>
                  <a:pt x="191" y="121"/>
                </a:lnTo>
                <a:lnTo>
                  <a:pt x="191" y="136"/>
                </a:lnTo>
                <a:lnTo>
                  <a:pt x="241" y="171"/>
                </a:lnTo>
                <a:lnTo>
                  <a:pt x="242" y="172"/>
                </a:lnTo>
                <a:lnTo>
                  <a:pt x="243" y="175"/>
                </a:lnTo>
                <a:lnTo>
                  <a:pt x="243" y="184"/>
                </a:lnTo>
                <a:lnTo>
                  <a:pt x="242" y="187"/>
                </a:lnTo>
                <a:lnTo>
                  <a:pt x="238" y="187"/>
                </a:lnTo>
                <a:lnTo>
                  <a:pt x="145" y="159"/>
                </a:lnTo>
                <a:lnTo>
                  <a:pt x="132" y="157"/>
                </a:lnTo>
                <a:lnTo>
                  <a:pt x="132" y="192"/>
                </a:lnTo>
                <a:lnTo>
                  <a:pt x="131" y="213"/>
                </a:lnTo>
                <a:lnTo>
                  <a:pt x="129" y="233"/>
                </a:lnTo>
                <a:lnTo>
                  <a:pt x="158" y="263"/>
                </a:lnTo>
                <a:lnTo>
                  <a:pt x="160" y="267"/>
                </a:lnTo>
                <a:lnTo>
                  <a:pt x="160" y="275"/>
                </a:lnTo>
                <a:lnTo>
                  <a:pt x="159" y="276"/>
                </a:lnTo>
                <a:lnTo>
                  <a:pt x="158" y="278"/>
                </a:lnTo>
                <a:lnTo>
                  <a:pt x="123" y="264"/>
                </a:lnTo>
                <a:lnTo>
                  <a:pt x="121" y="269"/>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5" name=""/>
          <p:cNvSpPr/>
          <p:nvPr/>
        </p:nvSpPr>
        <p:spPr>
          <a:xfrm>
            <a:off x="5167440" y="4406760"/>
            <a:ext cx="398160" cy="459000"/>
          </a:xfrm>
          <a:custGeom>
            <a:avLst/>
            <a:gdLst/>
            <a:ahLst/>
            <a:rect l="l" t="t" r="r" b="b"/>
            <a:pathLst>
              <a:path w="251" h="289">
                <a:moveTo>
                  <a:pt x="124" y="279"/>
                </a:moveTo>
                <a:lnTo>
                  <a:pt x="123" y="274"/>
                </a:lnTo>
                <a:lnTo>
                  <a:pt x="88" y="288"/>
                </a:lnTo>
                <a:lnTo>
                  <a:pt x="86" y="286"/>
                </a:lnTo>
                <a:lnTo>
                  <a:pt x="85" y="285"/>
                </a:lnTo>
                <a:lnTo>
                  <a:pt x="85" y="277"/>
                </a:lnTo>
                <a:lnTo>
                  <a:pt x="86" y="272"/>
                </a:lnTo>
                <a:lnTo>
                  <a:pt x="117" y="241"/>
                </a:lnTo>
                <a:lnTo>
                  <a:pt x="115" y="221"/>
                </a:lnTo>
                <a:lnTo>
                  <a:pt x="114" y="199"/>
                </a:lnTo>
                <a:lnTo>
                  <a:pt x="114" y="163"/>
                </a:lnTo>
                <a:lnTo>
                  <a:pt x="101" y="164"/>
                </a:lnTo>
                <a:lnTo>
                  <a:pt x="5" y="194"/>
                </a:lnTo>
                <a:lnTo>
                  <a:pt x="1" y="194"/>
                </a:lnTo>
                <a:lnTo>
                  <a:pt x="0" y="191"/>
                </a:lnTo>
                <a:lnTo>
                  <a:pt x="0" y="182"/>
                </a:lnTo>
                <a:lnTo>
                  <a:pt x="0" y="178"/>
                </a:lnTo>
                <a:lnTo>
                  <a:pt x="2" y="177"/>
                </a:lnTo>
                <a:lnTo>
                  <a:pt x="53" y="141"/>
                </a:lnTo>
                <a:lnTo>
                  <a:pt x="53" y="125"/>
                </a:lnTo>
                <a:lnTo>
                  <a:pt x="55" y="117"/>
                </a:lnTo>
                <a:lnTo>
                  <a:pt x="60" y="117"/>
                </a:lnTo>
                <a:lnTo>
                  <a:pt x="62" y="125"/>
                </a:lnTo>
                <a:lnTo>
                  <a:pt x="62" y="136"/>
                </a:lnTo>
                <a:lnTo>
                  <a:pt x="83" y="121"/>
                </a:lnTo>
                <a:lnTo>
                  <a:pt x="84" y="103"/>
                </a:lnTo>
                <a:lnTo>
                  <a:pt x="85" y="95"/>
                </a:lnTo>
                <a:lnTo>
                  <a:pt x="91" y="95"/>
                </a:lnTo>
                <a:lnTo>
                  <a:pt x="91" y="103"/>
                </a:lnTo>
                <a:lnTo>
                  <a:pt x="91" y="114"/>
                </a:lnTo>
                <a:lnTo>
                  <a:pt x="114" y="91"/>
                </a:lnTo>
                <a:lnTo>
                  <a:pt x="114" y="63"/>
                </a:lnTo>
                <a:lnTo>
                  <a:pt x="115" y="33"/>
                </a:lnTo>
                <a:lnTo>
                  <a:pt x="117" y="19"/>
                </a:lnTo>
                <a:lnTo>
                  <a:pt x="120" y="5"/>
                </a:lnTo>
                <a:lnTo>
                  <a:pt x="122" y="0"/>
                </a:lnTo>
                <a:lnTo>
                  <a:pt x="124" y="0"/>
                </a:lnTo>
                <a:lnTo>
                  <a:pt x="128" y="0"/>
                </a:lnTo>
                <a:lnTo>
                  <a:pt x="129" y="5"/>
                </a:lnTo>
                <a:lnTo>
                  <a:pt x="133" y="19"/>
                </a:lnTo>
                <a:lnTo>
                  <a:pt x="135" y="33"/>
                </a:lnTo>
                <a:lnTo>
                  <a:pt x="136" y="63"/>
                </a:lnTo>
                <a:lnTo>
                  <a:pt x="136" y="91"/>
                </a:lnTo>
                <a:lnTo>
                  <a:pt x="158" y="114"/>
                </a:lnTo>
                <a:lnTo>
                  <a:pt x="159" y="103"/>
                </a:lnTo>
                <a:lnTo>
                  <a:pt x="159" y="95"/>
                </a:lnTo>
                <a:lnTo>
                  <a:pt x="165" y="95"/>
                </a:lnTo>
                <a:lnTo>
                  <a:pt x="166" y="103"/>
                </a:lnTo>
                <a:lnTo>
                  <a:pt x="167" y="121"/>
                </a:lnTo>
                <a:lnTo>
                  <a:pt x="188" y="136"/>
                </a:lnTo>
                <a:lnTo>
                  <a:pt x="188" y="125"/>
                </a:lnTo>
                <a:lnTo>
                  <a:pt x="190" y="117"/>
                </a:lnTo>
                <a:lnTo>
                  <a:pt x="195" y="117"/>
                </a:lnTo>
                <a:lnTo>
                  <a:pt x="197" y="125"/>
                </a:lnTo>
                <a:lnTo>
                  <a:pt x="197" y="141"/>
                </a:lnTo>
                <a:lnTo>
                  <a:pt x="248" y="177"/>
                </a:lnTo>
                <a:lnTo>
                  <a:pt x="249" y="178"/>
                </a:lnTo>
                <a:lnTo>
                  <a:pt x="250" y="182"/>
                </a:lnTo>
                <a:lnTo>
                  <a:pt x="250" y="191"/>
                </a:lnTo>
                <a:lnTo>
                  <a:pt x="249" y="194"/>
                </a:lnTo>
                <a:lnTo>
                  <a:pt x="245" y="194"/>
                </a:lnTo>
                <a:lnTo>
                  <a:pt x="149" y="164"/>
                </a:lnTo>
                <a:lnTo>
                  <a:pt x="136" y="163"/>
                </a:lnTo>
                <a:lnTo>
                  <a:pt x="136" y="199"/>
                </a:lnTo>
                <a:lnTo>
                  <a:pt x="135" y="221"/>
                </a:lnTo>
                <a:lnTo>
                  <a:pt x="133" y="241"/>
                </a:lnTo>
                <a:lnTo>
                  <a:pt x="162" y="272"/>
                </a:lnTo>
                <a:lnTo>
                  <a:pt x="165" y="277"/>
                </a:lnTo>
                <a:lnTo>
                  <a:pt x="165" y="285"/>
                </a:lnTo>
                <a:lnTo>
                  <a:pt x="164" y="286"/>
                </a:lnTo>
                <a:lnTo>
                  <a:pt x="162" y="288"/>
                </a:lnTo>
                <a:lnTo>
                  <a:pt x="127" y="274"/>
                </a:lnTo>
                <a:lnTo>
                  <a:pt x="124" y="27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6" name=""/>
          <p:cNvSpPr/>
          <p:nvPr/>
        </p:nvSpPr>
        <p:spPr>
          <a:xfrm>
            <a:off x="5460840" y="4025880"/>
            <a:ext cx="389160" cy="444600"/>
          </a:xfrm>
          <a:custGeom>
            <a:avLst/>
            <a:gdLst/>
            <a:ahLst/>
            <a:rect l="l" t="t" r="r" b="b"/>
            <a:pathLst>
              <a:path w="245" h="280">
                <a:moveTo>
                  <a:pt x="123" y="270"/>
                </a:moveTo>
                <a:lnTo>
                  <a:pt x="121" y="265"/>
                </a:lnTo>
                <a:lnTo>
                  <a:pt x="87" y="279"/>
                </a:lnTo>
                <a:lnTo>
                  <a:pt x="84" y="277"/>
                </a:lnTo>
                <a:lnTo>
                  <a:pt x="83" y="276"/>
                </a:lnTo>
                <a:lnTo>
                  <a:pt x="83" y="268"/>
                </a:lnTo>
                <a:lnTo>
                  <a:pt x="86" y="264"/>
                </a:lnTo>
                <a:lnTo>
                  <a:pt x="114" y="234"/>
                </a:lnTo>
                <a:lnTo>
                  <a:pt x="112" y="214"/>
                </a:lnTo>
                <a:lnTo>
                  <a:pt x="111" y="193"/>
                </a:lnTo>
                <a:lnTo>
                  <a:pt x="111" y="158"/>
                </a:lnTo>
                <a:lnTo>
                  <a:pt x="98" y="159"/>
                </a:lnTo>
                <a:lnTo>
                  <a:pt x="5" y="188"/>
                </a:lnTo>
                <a:lnTo>
                  <a:pt x="1" y="188"/>
                </a:lnTo>
                <a:lnTo>
                  <a:pt x="0" y="185"/>
                </a:lnTo>
                <a:lnTo>
                  <a:pt x="0" y="176"/>
                </a:lnTo>
                <a:lnTo>
                  <a:pt x="1" y="173"/>
                </a:lnTo>
                <a:lnTo>
                  <a:pt x="3" y="171"/>
                </a:lnTo>
                <a:lnTo>
                  <a:pt x="53" y="136"/>
                </a:lnTo>
                <a:lnTo>
                  <a:pt x="53" y="121"/>
                </a:lnTo>
                <a:lnTo>
                  <a:pt x="53" y="114"/>
                </a:lnTo>
                <a:lnTo>
                  <a:pt x="59" y="114"/>
                </a:lnTo>
                <a:lnTo>
                  <a:pt x="60" y="121"/>
                </a:lnTo>
                <a:lnTo>
                  <a:pt x="60" y="132"/>
                </a:lnTo>
                <a:lnTo>
                  <a:pt x="82" y="117"/>
                </a:lnTo>
                <a:lnTo>
                  <a:pt x="82" y="100"/>
                </a:lnTo>
                <a:lnTo>
                  <a:pt x="83" y="92"/>
                </a:lnTo>
                <a:lnTo>
                  <a:pt x="89" y="92"/>
                </a:lnTo>
                <a:lnTo>
                  <a:pt x="90" y="100"/>
                </a:lnTo>
                <a:lnTo>
                  <a:pt x="90" y="111"/>
                </a:lnTo>
                <a:lnTo>
                  <a:pt x="111" y="88"/>
                </a:lnTo>
                <a:lnTo>
                  <a:pt x="111" y="61"/>
                </a:lnTo>
                <a:lnTo>
                  <a:pt x="112" y="32"/>
                </a:lnTo>
                <a:lnTo>
                  <a:pt x="114" y="18"/>
                </a:lnTo>
                <a:lnTo>
                  <a:pt x="118" y="5"/>
                </a:lnTo>
                <a:lnTo>
                  <a:pt x="120" y="0"/>
                </a:lnTo>
                <a:lnTo>
                  <a:pt x="123" y="0"/>
                </a:lnTo>
                <a:lnTo>
                  <a:pt x="125" y="0"/>
                </a:lnTo>
                <a:lnTo>
                  <a:pt x="127" y="5"/>
                </a:lnTo>
                <a:lnTo>
                  <a:pt x="131" y="18"/>
                </a:lnTo>
                <a:lnTo>
                  <a:pt x="132" y="32"/>
                </a:lnTo>
                <a:lnTo>
                  <a:pt x="134" y="61"/>
                </a:lnTo>
                <a:lnTo>
                  <a:pt x="134" y="88"/>
                </a:lnTo>
                <a:lnTo>
                  <a:pt x="155" y="111"/>
                </a:lnTo>
                <a:lnTo>
                  <a:pt x="155" y="100"/>
                </a:lnTo>
                <a:lnTo>
                  <a:pt x="156" y="92"/>
                </a:lnTo>
                <a:lnTo>
                  <a:pt x="162" y="92"/>
                </a:lnTo>
                <a:lnTo>
                  <a:pt x="162" y="100"/>
                </a:lnTo>
                <a:lnTo>
                  <a:pt x="163" y="117"/>
                </a:lnTo>
                <a:lnTo>
                  <a:pt x="184" y="132"/>
                </a:lnTo>
                <a:lnTo>
                  <a:pt x="184" y="121"/>
                </a:lnTo>
                <a:lnTo>
                  <a:pt x="185" y="114"/>
                </a:lnTo>
                <a:lnTo>
                  <a:pt x="191" y="114"/>
                </a:lnTo>
                <a:lnTo>
                  <a:pt x="192" y="121"/>
                </a:lnTo>
                <a:lnTo>
                  <a:pt x="192" y="136"/>
                </a:lnTo>
                <a:lnTo>
                  <a:pt x="242" y="171"/>
                </a:lnTo>
                <a:lnTo>
                  <a:pt x="244" y="173"/>
                </a:lnTo>
                <a:lnTo>
                  <a:pt x="244" y="176"/>
                </a:lnTo>
                <a:lnTo>
                  <a:pt x="244" y="185"/>
                </a:lnTo>
                <a:lnTo>
                  <a:pt x="243" y="188"/>
                </a:lnTo>
                <a:lnTo>
                  <a:pt x="241" y="188"/>
                </a:lnTo>
                <a:lnTo>
                  <a:pt x="147" y="159"/>
                </a:lnTo>
                <a:lnTo>
                  <a:pt x="134" y="158"/>
                </a:lnTo>
                <a:lnTo>
                  <a:pt x="134" y="193"/>
                </a:lnTo>
                <a:lnTo>
                  <a:pt x="133" y="214"/>
                </a:lnTo>
                <a:lnTo>
                  <a:pt x="131" y="234"/>
                </a:lnTo>
                <a:lnTo>
                  <a:pt x="160" y="264"/>
                </a:lnTo>
                <a:lnTo>
                  <a:pt x="161" y="268"/>
                </a:lnTo>
                <a:lnTo>
                  <a:pt x="161" y="276"/>
                </a:lnTo>
                <a:lnTo>
                  <a:pt x="161" y="277"/>
                </a:lnTo>
                <a:lnTo>
                  <a:pt x="158" y="279"/>
                </a:lnTo>
                <a:lnTo>
                  <a:pt x="124" y="265"/>
                </a:lnTo>
                <a:lnTo>
                  <a:pt x="123" y="27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7" name=""/>
          <p:cNvSpPr/>
          <p:nvPr/>
        </p:nvSpPr>
        <p:spPr>
          <a:xfrm>
            <a:off x="5460840" y="4025880"/>
            <a:ext cx="400320" cy="458640"/>
          </a:xfrm>
          <a:custGeom>
            <a:avLst/>
            <a:gdLst/>
            <a:ahLst/>
            <a:rect l="l" t="t" r="r" b="b"/>
            <a:pathLst>
              <a:path w="252" h="289">
                <a:moveTo>
                  <a:pt x="126" y="279"/>
                </a:moveTo>
                <a:lnTo>
                  <a:pt x="125" y="274"/>
                </a:lnTo>
                <a:lnTo>
                  <a:pt x="89" y="288"/>
                </a:lnTo>
                <a:lnTo>
                  <a:pt x="87" y="286"/>
                </a:lnTo>
                <a:lnTo>
                  <a:pt x="86" y="285"/>
                </a:lnTo>
                <a:lnTo>
                  <a:pt x="86" y="277"/>
                </a:lnTo>
                <a:lnTo>
                  <a:pt x="88" y="272"/>
                </a:lnTo>
                <a:lnTo>
                  <a:pt x="118" y="241"/>
                </a:lnTo>
                <a:lnTo>
                  <a:pt x="115" y="221"/>
                </a:lnTo>
                <a:lnTo>
                  <a:pt x="114" y="199"/>
                </a:lnTo>
                <a:lnTo>
                  <a:pt x="114" y="163"/>
                </a:lnTo>
                <a:lnTo>
                  <a:pt x="101" y="164"/>
                </a:lnTo>
                <a:lnTo>
                  <a:pt x="5" y="194"/>
                </a:lnTo>
                <a:lnTo>
                  <a:pt x="1" y="194"/>
                </a:lnTo>
                <a:lnTo>
                  <a:pt x="0" y="191"/>
                </a:lnTo>
                <a:lnTo>
                  <a:pt x="0" y="182"/>
                </a:lnTo>
                <a:lnTo>
                  <a:pt x="1" y="178"/>
                </a:lnTo>
                <a:lnTo>
                  <a:pt x="4" y="177"/>
                </a:lnTo>
                <a:lnTo>
                  <a:pt x="55" y="141"/>
                </a:lnTo>
                <a:lnTo>
                  <a:pt x="55" y="125"/>
                </a:lnTo>
                <a:lnTo>
                  <a:pt x="55" y="117"/>
                </a:lnTo>
                <a:lnTo>
                  <a:pt x="61" y="117"/>
                </a:lnTo>
                <a:lnTo>
                  <a:pt x="62" y="125"/>
                </a:lnTo>
                <a:lnTo>
                  <a:pt x="62" y="136"/>
                </a:lnTo>
                <a:lnTo>
                  <a:pt x="84" y="121"/>
                </a:lnTo>
                <a:lnTo>
                  <a:pt x="84" y="103"/>
                </a:lnTo>
                <a:lnTo>
                  <a:pt x="86" y="95"/>
                </a:lnTo>
                <a:lnTo>
                  <a:pt x="92" y="95"/>
                </a:lnTo>
                <a:lnTo>
                  <a:pt x="93" y="103"/>
                </a:lnTo>
                <a:lnTo>
                  <a:pt x="93" y="114"/>
                </a:lnTo>
                <a:lnTo>
                  <a:pt x="114" y="91"/>
                </a:lnTo>
                <a:lnTo>
                  <a:pt x="114" y="63"/>
                </a:lnTo>
                <a:lnTo>
                  <a:pt x="115" y="33"/>
                </a:lnTo>
                <a:lnTo>
                  <a:pt x="118" y="19"/>
                </a:lnTo>
                <a:lnTo>
                  <a:pt x="121" y="5"/>
                </a:lnTo>
                <a:lnTo>
                  <a:pt x="124" y="0"/>
                </a:lnTo>
                <a:lnTo>
                  <a:pt x="126" y="0"/>
                </a:lnTo>
                <a:lnTo>
                  <a:pt x="128" y="0"/>
                </a:lnTo>
                <a:lnTo>
                  <a:pt x="131" y="5"/>
                </a:lnTo>
                <a:lnTo>
                  <a:pt x="134" y="19"/>
                </a:lnTo>
                <a:lnTo>
                  <a:pt x="136" y="33"/>
                </a:lnTo>
                <a:lnTo>
                  <a:pt x="138" y="63"/>
                </a:lnTo>
                <a:lnTo>
                  <a:pt x="138" y="91"/>
                </a:lnTo>
                <a:lnTo>
                  <a:pt x="159" y="114"/>
                </a:lnTo>
                <a:lnTo>
                  <a:pt x="159" y="103"/>
                </a:lnTo>
                <a:lnTo>
                  <a:pt x="161" y="95"/>
                </a:lnTo>
                <a:lnTo>
                  <a:pt x="167" y="95"/>
                </a:lnTo>
                <a:lnTo>
                  <a:pt x="167" y="103"/>
                </a:lnTo>
                <a:lnTo>
                  <a:pt x="168" y="121"/>
                </a:lnTo>
                <a:lnTo>
                  <a:pt x="189" y="136"/>
                </a:lnTo>
                <a:lnTo>
                  <a:pt x="189" y="125"/>
                </a:lnTo>
                <a:lnTo>
                  <a:pt x="190" y="117"/>
                </a:lnTo>
                <a:lnTo>
                  <a:pt x="196" y="117"/>
                </a:lnTo>
                <a:lnTo>
                  <a:pt x="197" y="125"/>
                </a:lnTo>
                <a:lnTo>
                  <a:pt x="197" y="141"/>
                </a:lnTo>
                <a:lnTo>
                  <a:pt x="249" y="177"/>
                </a:lnTo>
                <a:lnTo>
                  <a:pt x="251" y="178"/>
                </a:lnTo>
                <a:lnTo>
                  <a:pt x="251" y="182"/>
                </a:lnTo>
                <a:lnTo>
                  <a:pt x="251" y="191"/>
                </a:lnTo>
                <a:lnTo>
                  <a:pt x="250" y="194"/>
                </a:lnTo>
                <a:lnTo>
                  <a:pt x="247" y="194"/>
                </a:lnTo>
                <a:lnTo>
                  <a:pt x="151" y="164"/>
                </a:lnTo>
                <a:lnTo>
                  <a:pt x="138" y="163"/>
                </a:lnTo>
                <a:lnTo>
                  <a:pt x="138" y="199"/>
                </a:lnTo>
                <a:lnTo>
                  <a:pt x="137" y="221"/>
                </a:lnTo>
                <a:lnTo>
                  <a:pt x="134" y="241"/>
                </a:lnTo>
                <a:lnTo>
                  <a:pt x="164" y="272"/>
                </a:lnTo>
                <a:lnTo>
                  <a:pt x="165" y="277"/>
                </a:lnTo>
                <a:lnTo>
                  <a:pt x="165" y="285"/>
                </a:lnTo>
                <a:lnTo>
                  <a:pt x="165" y="286"/>
                </a:lnTo>
                <a:lnTo>
                  <a:pt x="163" y="288"/>
                </a:lnTo>
                <a:lnTo>
                  <a:pt x="127" y="274"/>
                </a:lnTo>
                <a:lnTo>
                  <a:pt x="126" y="27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8" name=""/>
          <p:cNvSpPr/>
          <p:nvPr/>
        </p:nvSpPr>
        <p:spPr>
          <a:xfrm>
            <a:off x="5608800" y="4278240"/>
            <a:ext cx="390240" cy="441360"/>
          </a:xfrm>
          <a:custGeom>
            <a:avLst/>
            <a:gdLst/>
            <a:ahLst/>
            <a:rect l="l" t="t" r="r" b="b"/>
            <a:pathLst>
              <a:path w="246" h="278">
                <a:moveTo>
                  <a:pt x="123" y="269"/>
                </a:moveTo>
                <a:lnTo>
                  <a:pt x="121" y="265"/>
                </a:lnTo>
                <a:lnTo>
                  <a:pt x="87" y="277"/>
                </a:lnTo>
                <a:lnTo>
                  <a:pt x="84" y="277"/>
                </a:lnTo>
                <a:lnTo>
                  <a:pt x="84" y="275"/>
                </a:lnTo>
                <a:lnTo>
                  <a:pt x="84" y="268"/>
                </a:lnTo>
                <a:lnTo>
                  <a:pt x="86" y="263"/>
                </a:lnTo>
                <a:lnTo>
                  <a:pt x="114" y="233"/>
                </a:lnTo>
                <a:lnTo>
                  <a:pt x="112" y="212"/>
                </a:lnTo>
                <a:lnTo>
                  <a:pt x="111" y="193"/>
                </a:lnTo>
                <a:lnTo>
                  <a:pt x="111" y="158"/>
                </a:lnTo>
                <a:lnTo>
                  <a:pt x="98" y="160"/>
                </a:lnTo>
                <a:lnTo>
                  <a:pt x="5" y="188"/>
                </a:lnTo>
                <a:lnTo>
                  <a:pt x="2" y="188"/>
                </a:lnTo>
                <a:lnTo>
                  <a:pt x="0" y="185"/>
                </a:lnTo>
                <a:lnTo>
                  <a:pt x="0" y="176"/>
                </a:lnTo>
                <a:lnTo>
                  <a:pt x="1" y="173"/>
                </a:lnTo>
                <a:lnTo>
                  <a:pt x="3" y="170"/>
                </a:lnTo>
                <a:lnTo>
                  <a:pt x="53" y="137"/>
                </a:lnTo>
                <a:lnTo>
                  <a:pt x="53" y="120"/>
                </a:lnTo>
                <a:lnTo>
                  <a:pt x="54" y="114"/>
                </a:lnTo>
                <a:lnTo>
                  <a:pt x="60" y="114"/>
                </a:lnTo>
                <a:lnTo>
                  <a:pt x="61" y="120"/>
                </a:lnTo>
                <a:lnTo>
                  <a:pt x="61" y="131"/>
                </a:lnTo>
                <a:lnTo>
                  <a:pt x="82" y="117"/>
                </a:lnTo>
                <a:lnTo>
                  <a:pt x="83" y="101"/>
                </a:lnTo>
                <a:lnTo>
                  <a:pt x="83" y="93"/>
                </a:lnTo>
                <a:lnTo>
                  <a:pt x="89" y="93"/>
                </a:lnTo>
                <a:lnTo>
                  <a:pt x="90" y="101"/>
                </a:lnTo>
                <a:lnTo>
                  <a:pt x="90" y="111"/>
                </a:lnTo>
                <a:lnTo>
                  <a:pt x="111" y="89"/>
                </a:lnTo>
                <a:lnTo>
                  <a:pt x="111" y="62"/>
                </a:lnTo>
                <a:lnTo>
                  <a:pt x="112" y="33"/>
                </a:lnTo>
                <a:lnTo>
                  <a:pt x="114" y="20"/>
                </a:lnTo>
                <a:lnTo>
                  <a:pt x="118" y="6"/>
                </a:lnTo>
                <a:lnTo>
                  <a:pt x="120" y="2"/>
                </a:lnTo>
                <a:lnTo>
                  <a:pt x="123" y="0"/>
                </a:lnTo>
                <a:lnTo>
                  <a:pt x="125" y="2"/>
                </a:lnTo>
                <a:lnTo>
                  <a:pt x="127" y="6"/>
                </a:lnTo>
                <a:lnTo>
                  <a:pt x="131" y="20"/>
                </a:lnTo>
                <a:lnTo>
                  <a:pt x="133" y="33"/>
                </a:lnTo>
                <a:lnTo>
                  <a:pt x="134" y="62"/>
                </a:lnTo>
                <a:lnTo>
                  <a:pt x="134" y="89"/>
                </a:lnTo>
                <a:lnTo>
                  <a:pt x="155" y="111"/>
                </a:lnTo>
                <a:lnTo>
                  <a:pt x="155" y="101"/>
                </a:lnTo>
                <a:lnTo>
                  <a:pt x="156" y="93"/>
                </a:lnTo>
                <a:lnTo>
                  <a:pt x="162" y="93"/>
                </a:lnTo>
                <a:lnTo>
                  <a:pt x="163" y="101"/>
                </a:lnTo>
                <a:lnTo>
                  <a:pt x="163" y="117"/>
                </a:lnTo>
                <a:lnTo>
                  <a:pt x="185" y="131"/>
                </a:lnTo>
                <a:lnTo>
                  <a:pt x="185" y="120"/>
                </a:lnTo>
                <a:lnTo>
                  <a:pt x="186" y="114"/>
                </a:lnTo>
                <a:lnTo>
                  <a:pt x="191" y="114"/>
                </a:lnTo>
                <a:lnTo>
                  <a:pt x="192" y="120"/>
                </a:lnTo>
                <a:lnTo>
                  <a:pt x="192" y="137"/>
                </a:lnTo>
                <a:lnTo>
                  <a:pt x="242" y="170"/>
                </a:lnTo>
                <a:lnTo>
                  <a:pt x="244" y="173"/>
                </a:lnTo>
                <a:lnTo>
                  <a:pt x="245" y="176"/>
                </a:lnTo>
                <a:lnTo>
                  <a:pt x="245" y="185"/>
                </a:lnTo>
                <a:lnTo>
                  <a:pt x="243" y="188"/>
                </a:lnTo>
                <a:lnTo>
                  <a:pt x="240" y="188"/>
                </a:lnTo>
                <a:lnTo>
                  <a:pt x="147" y="160"/>
                </a:lnTo>
                <a:lnTo>
                  <a:pt x="134" y="158"/>
                </a:lnTo>
                <a:lnTo>
                  <a:pt x="134" y="193"/>
                </a:lnTo>
                <a:lnTo>
                  <a:pt x="133" y="212"/>
                </a:lnTo>
                <a:lnTo>
                  <a:pt x="131" y="233"/>
                </a:lnTo>
                <a:lnTo>
                  <a:pt x="159" y="263"/>
                </a:lnTo>
                <a:lnTo>
                  <a:pt x="162" y="268"/>
                </a:lnTo>
                <a:lnTo>
                  <a:pt x="162" y="275"/>
                </a:lnTo>
                <a:lnTo>
                  <a:pt x="161" y="277"/>
                </a:lnTo>
                <a:lnTo>
                  <a:pt x="158" y="277"/>
                </a:lnTo>
                <a:lnTo>
                  <a:pt x="124" y="265"/>
                </a:lnTo>
                <a:lnTo>
                  <a:pt x="123" y="269"/>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9" name=""/>
          <p:cNvSpPr/>
          <p:nvPr/>
        </p:nvSpPr>
        <p:spPr>
          <a:xfrm>
            <a:off x="5608800" y="4278240"/>
            <a:ext cx="403200" cy="457200"/>
          </a:xfrm>
          <a:custGeom>
            <a:avLst/>
            <a:gdLst/>
            <a:ahLst/>
            <a:rect l="l" t="t" r="r" b="b"/>
            <a:pathLst>
              <a:path w="254" h="288">
                <a:moveTo>
                  <a:pt x="127" y="279"/>
                </a:moveTo>
                <a:lnTo>
                  <a:pt x="125" y="275"/>
                </a:lnTo>
                <a:lnTo>
                  <a:pt x="90" y="287"/>
                </a:lnTo>
                <a:lnTo>
                  <a:pt x="87" y="287"/>
                </a:lnTo>
                <a:lnTo>
                  <a:pt x="87" y="285"/>
                </a:lnTo>
                <a:lnTo>
                  <a:pt x="87" y="278"/>
                </a:lnTo>
                <a:lnTo>
                  <a:pt x="88" y="273"/>
                </a:lnTo>
                <a:lnTo>
                  <a:pt x="118" y="242"/>
                </a:lnTo>
                <a:lnTo>
                  <a:pt x="116" y="220"/>
                </a:lnTo>
                <a:lnTo>
                  <a:pt x="115" y="200"/>
                </a:lnTo>
                <a:lnTo>
                  <a:pt x="115" y="164"/>
                </a:lnTo>
                <a:lnTo>
                  <a:pt x="101" y="165"/>
                </a:lnTo>
                <a:lnTo>
                  <a:pt x="5" y="195"/>
                </a:lnTo>
                <a:lnTo>
                  <a:pt x="2" y="195"/>
                </a:lnTo>
                <a:lnTo>
                  <a:pt x="0" y="192"/>
                </a:lnTo>
                <a:lnTo>
                  <a:pt x="0" y="182"/>
                </a:lnTo>
                <a:lnTo>
                  <a:pt x="1" y="179"/>
                </a:lnTo>
                <a:lnTo>
                  <a:pt x="4" y="176"/>
                </a:lnTo>
                <a:lnTo>
                  <a:pt x="55" y="142"/>
                </a:lnTo>
                <a:lnTo>
                  <a:pt x="55" y="125"/>
                </a:lnTo>
                <a:lnTo>
                  <a:pt x="56" y="119"/>
                </a:lnTo>
                <a:lnTo>
                  <a:pt x="62" y="119"/>
                </a:lnTo>
                <a:lnTo>
                  <a:pt x="63" y="125"/>
                </a:lnTo>
                <a:lnTo>
                  <a:pt x="63" y="136"/>
                </a:lnTo>
                <a:lnTo>
                  <a:pt x="85" y="122"/>
                </a:lnTo>
                <a:lnTo>
                  <a:pt x="86" y="105"/>
                </a:lnTo>
                <a:lnTo>
                  <a:pt x="86" y="97"/>
                </a:lnTo>
                <a:lnTo>
                  <a:pt x="92" y="97"/>
                </a:lnTo>
                <a:lnTo>
                  <a:pt x="93" y="105"/>
                </a:lnTo>
                <a:lnTo>
                  <a:pt x="93" y="115"/>
                </a:lnTo>
                <a:lnTo>
                  <a:pt x="115" y="92"/>
                </a:lnTo>
                <a:lnTo>
                  <a:pt x="115" y="64"/>
                </a:lnTo>
                <a:lnTo>
                  <a:pt x="116" y="34"/>
                </a:lnTo>
                <a:lnTo>
                  <a:pt x="118" y="20"/>
                </a:lnTo>
                <a:lnTo>
                  <a:pt x="122" y="6"/>
                </a:lnTo>
                <a:lnTo>
                  <a:pt x="124" y="2"/>
                </a:lnTo>
                <a:lnTo>
                  <a:pt x="127" y="0"/>
                </a:lnTo>
                <a:lnTo>
                  <a:pt x="129" y="2"/>
                </a:lnTo>
                <a:lnTo>
                  <a:pt x="131" y="6"/>
                </a:lnTo>
                <a:lnTo>
                  <a:pt x="135" y="20"/>
                </a:lnTo>
                <a:lnTo>
                  <a:pt x="137" y="34"/>
                </a:lnTo>
                <a:lnTo>
                  <a:pt x="138" y="64"/>
                </a:lnTo>
                <a:lnTo>
                  <a:pt x="138" y="92"/>
                </a:lnTo>
                <a:lnTo>
                  <a:pt x="160" y="115"/>
                </a:lnTo>
                <a:lnTo>
                  <a:pt x="160" y="105"/>
                </a:lnTo>
                <a:lnTo>
                  <a:pt x="161" y="97"/>
                </a:lnTo>
                <a:lnTo>
                  <a:pt x="167" y="97"/>
                </a:lnTo>
                <a:lnTo>
                  <a:pt x="168" y="105"/>
                </a:lnTo>
                <a:lnTo>
                  <a:pt x="168" y="122"/>
                </a:lnTo>
                <a:lnTo>
                  <a:pt x="191" y="136"/>
                </a:lnTo>
                <a:lnTo>
                  <a:pt x="191" y="125"/>
                </a:lnTo>
                <a:lnTo>
                  <a:pt x="192" y="119"/>
                </a:lnTo>
                <a:lnTo>
                  <a:pt x="197" y="119"/>
                </a:lnTo>
                <a:lnTo>
                  <a:pt x="198" y="125"/>
                </a:lnTo>
                <a:lnTo>
                  <a:pt x="198" y="142"/>
                </a:lnTo>
                <a:lnTo>
                  <a:pt x="249" y="176"/>
                </a:lnTo>
                <a:lnTo>
                  <a:pt x="252" y="179"/>
                </a:lnTo>
                <a:lnTo>
                  <a:pt x="253" y="182"/>
                </a:lnTo>
                <a:lnTo>
                  <a:pt x="253" y="192"/>
                </a:lnTo>
                <a:lnTo>
                  <a:pt x="251" y="195"/>
                </a:lnTo>
                <a:lnTo>
                  <a:pt x="248" y="195"/>
                </a:lnTo>
                <a:lnTo>
                  <a:pt x="152" y="165"/>
                </a:lnTo>
                <a:lnTo>
                  <a:pt x="138" y="164"/>
                </a:lnTo>
                <a:lnTo>
                  <a:pt x="138" y="200"/>
                </a:lnTo>
                <a:lnTo>
                  <a:pt x="137" y="220"/>
                </a:lnTo>
                <a:lnTo>
                  <a:pt x="135" y="242"/>
                </a:lnTo>
                <a:lnTo>
                  <a:pt x="165" y="273"/>
                </a:lnTo>
                <a:lnTo>
                  <a:pt x="167" y="278"/>
                </a:lnTo>
                <a:lnTo>
                  <a:pt x="167" y="285"/>
                </a:lnTo>
                <a:lnTo>
                  <a:pt x="166" y="287"/>
                </a:lnTo>
                <a:lnTo>
                  <a:pt x="163" y="287"/>
                </a:lnTo>
                <a:lnTo>
                  <a:pt x="128" y="275"/>
                </a:lnTo>
                <a:lnTo>
                  <a:pt x="127" y="27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0" name=""/>
          <p:cNvSpPr/>
          <p:nvPr/>
        </p:nvSpPr>
        <p:spPr>
          <a:xfrm>
            <a:off x="5608800" y="4535640"/>
            <a:ext cx="390240" cy="444240"/>
          </a:xfrm>
          <a:custGeom>
            <a:avLst/>
            <a:gdLst/>
            <a:ahLst/>
            <a:rect l="l" t="t" r="r" b="b"/>
            <a:pathLst>
              <a:path w="246" h="280">
                <a:moveTo>
                  <a:pt x="123" y="271"/>
                </a:moveTo>
                <a:lnTo>
                  <a:pt x="121" y="267"/>
                </a:lnTo>
                <a:lnTo>
                  <a:pt x="87" y="279"/>
                </a:lnTo>
                <a:lnTo>
                  <a:pt x="84" y="279"/>
                </a:lnTo>
                <a:lnTo>
                  <a:pt x="84" y="276"/>
                </a:lnTo>
                <a:lnTo>
                  <a:pt x="84" y="268"/>
                </a:lnTo>
                <a:lnTo>
                  <a:pt x="86" y="265"/>
                </a:lnTo>
                <a:lnTo>
                  <a:pt x="114" y="234"/>
                </a:lnTo>
                <a:lnTo>
                  <a:pt x="112" y="214"/>
                </a:lnTo>
                <a:lnTo>
                  <a:pt x="111" y="193"/>
                </a:lnTo>
                <a:lnTo>
                  <a:pt x="111" y="158"/>
                </a:lnTo>
                <a:lnTo>
                  <a:pt x="98" y="161"/>
                </a:lnTo>
                <a:lnTo>
                  <a:pt x="5" y="190"/>
                </a:lnTo>
                <a:lnTo>
                  <a:pt x="2" y="188"/>
                </a:lnTo>
                <a:lnTo>
                  <a:pt x="0" y="185"/>
                </a:lnTo>
                <a:lnTo>
                  <a:pt x="0" y="176"/>
                </a:lnTo>
                <a:lnTo>
                  <a:pt x="1" y="174"/>
                </a:lnTo>
                <a:lnTo>
                  <a:pt x="3" y="171"/>
                </a:lnTo>
                <a:lnTo>
                  <a:pt x="53" y="136"/>
                </a:lnTo>
                <a:lnTo>
                  <a:pt x="53" y="121"/>
                </a:lnTo>
                <a:lnTo>
                  <a:pt x="54" y="114"/>
                </a:lnTo>
                <a:lnTo>
                  <a:pt x="60" y="114"/>
                </a:lnTo>
                <a:lnTo>
                  <a:pt x="61" y="121"/>
                </a:lnTo>
                <a:lnTo>
                  <a:pt x="61" y="132"/>
                </a:lnTo>
                <a:lnTo>
                  <a:pt x="82" y="117"/>
                </a:lnTo>
                <a:lnTo>
                  <a:pt x="83" y="100"/>
                </a:lnTo>
                <a:lnTo>
                  <a:pt x="83" y="94"/>
                </a:lnTo>
                <a:lnTo>
                  <a:pt x="89" y="94"/>
                </a:lnTo>
                <a:lnTo>
                  <a:pt x="90" y="100"/>
                </a:lnTo>
                <a:lnTo>
                  <a:pt x="90" y="111"/>
                </a:lnTo>
                <a:lnTo>
                  <a:pt x="111" y="89"/>
                </a:lnTo>
                <a:lnTo>
                  <a:pt x="111" y="61"/>
                </a:lnTo>
                <a:lnTo>
                  <a:pt x="112" y="33"/>
                </a:lnTo>
                <a:lnTo>
                  <a:pt x="114" y="20"/>
                </a:lnTo>
                <a:lnTo>
                  <a:pt x="118" y="6"/>
                </a:lnTo>
                <a:lnTo>
                  <a:pt x="120" y="2"/>
                </a:lnTo>
                <a:lnTo>
                  <a:pt x="123" y="0"/>
                </a:lnTo>
                <a:lnTo>
                  <a:pt x="125" y="2"/>
                </a:lnTo>
                <a:lnTo>
                  <a:pt x="127" y="6"/>
                </a:lnTo>
                <a:lnTo>
                  <a:pt x="131" y="20"/>
                </a:lnTo>
                <a:lnTo>
                  <a:pt x="133" y="33"/>
                </a:lnTo>
                <a:lnTo>
                  <a:pt x="134" y="61"/>
                </a:lnTo>
                <a:lnTo>
                  <a:pt x="134" y="89"/>
                </a:lnTo>
                <a:lnTo>
                  <a:pt x="155" y="111"/>
                </a:lnTo>
                <a:lnTo>
                  <a:pt x="155" y="100"/>
                </a:lnTo>
                <a:lnTo>
                  <a:pt x="156" y="94"/>
                </a:lnTo>
                <a:lnTo>
                  <a:pt x="162" y="94"/>
                </a:lnTo>
                <a:lnTo>
                  <a:pt x="163" y="100"/>
                </a:lnTo>
                <a:lnTo>
                  <a:pt x="163" y="117"/>
                </a:lnTo>
                <a:lnTo>
                  <a:pt x="185" y="132"/>
                </a:lnTo>
                <a:lnTo>
                  <a:pt x="185" y="121"/>
                </a:lnTo>
                <a:lnTo>
                  <a:pt x="186" y="114"/>
                </a:lnTo>
                <a:lnTo>
                  <a:pt x="191" y="114"/>
                </a:lnTo>
                <a:lnTo>
                  <a:pt x="192" y="121"/>
                </a:lnTo>
                <a:lnTo>
                  <a:pt x="192" y="136"/>
                </a:lnTo>
                <a:lnTo>
                  <a:pt x="242" y="171"/>
                </a:lnTo>
                <a:lnTo>
                  <a:pt x="244" y="174"/>
                </a:lnTo>
                <a:lnTo>
                  <a:pt x="245" y="176"/>
                </a:lnTo>
                <a:lnTo>
                  <a:pt x="245" y="185"/>
                </a:lnTo>
                <a:lnTo>
                  <a:pt x="243" y="188"/>
                </a:lnTo>
                <a:lnTo>
                  <a:pt x="240" y="190"/>
                </a:lnTo>
                <a:lnTo>
                  <a:pt x="147" y="161"/>
                </a:lnTo>
                <a:lnTo>
                  <a:pt x="134" y="158"/>
                </a:lnTo>
                <a:lnTo>
                  <a:pt x="134" y="193"/>
                </a:lnTo>
                <a:lnTo>
                  <a:pt x="133" y="214"/>
                </a:lnTo>
                <a:lnTo>
                  <a:pt x="131" y="234"/>
                </a:lnTo>
                <a:lnTo>
                  <a:pt x="159" y="265"/>
                </a:lnTo>
                <a:lnTo>
                  <a:pt x="162" y="268"/>
                </a:lnTo>
                <a:lnTo>
                  <a:pt x="162" y="276"/>
                </a:lnTo>
                <a:lnTo>
                  <a:pt x="161" y="279"/>
                </a:lnTo>
                <a:lnTo>
                  <a:pt x="158" y="279"/>
                </a:lnTo>
                <a:lnTo>
                  <a:pt x="124" y="267"/>
                </a:lnTo>
                <a:lnTo>
                  <a:pt x="123" y="271"/>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1" name=""/>
          <p:cNvSpPr/>
          <p:nvPr/>
        </p:nvSpPr>
        <p:spPr>
          <a:xfrm>
            <a:off x="5608800" y="4535640"/>
            <a:ext cx="403200" cy="458640"/>
          </a:xfrm>
          <a:custGeom>
            <a:avLst/>
            <a:gdLst/>
            <a:ahLst/>
            <a:rect l="l" t="t" r="r" b="b"/>
            <a:pathLst>
              <a:path w="254" h="289">
                <a:moveTo>
                  <a:pt x="127" y="280"/>
                </a:moveTo>
                <a:lnTo>
                  <a:pt x="125" y="275"/>
                </a:lnTo>
                <a:lnTo>
                  <a:pt x="90" y="288"/>
                </a:lnTo>
                <a:lnTo>
                  <a:pt x="87" y="288"/>
                </a:lnTo>
                <a:lnTo>
                  <a:pt x="87" y="285"/>
                </a:lnTo>
                <a:lnTo>
                  <a:pt x="87" y="277"/>
                </a:lnTo>
                <a:lnTo>
                  <a:pt x="88" y="274"/>
                </a:lnTo>
                <a:lnTo>
                  <a:pt x="118" y="241"/>
                </a:lnTo>
                <a:lnTo>
                  <a:pt x="116" y="221"/>
                </a:lnTo>
                <a:lnTo>
                  <a:pt x="115" y="199"/>
                </a:lnTo>
                <a:lnTo>
                  <a:pt x="115" y="163"/>
                </a:lnTo>
                <a:lnTo>
                  <a:pt x="101" y="166"/>
                </a:lnTo>
                <a:lnTo>
                  <a:pt x="5" y="196"/>
                </a:lnTo>
                <a:lnTo>
                  <a:pt x="2" y="194"/>
                </a:lnTo>
                <a:lnTo>
                  <a:pt x="0" y="191"/>
                </a:lnTo>
                <a:lnTo>
                  <a:pt x="0" y="182"/>
                </a:lnTo>
                <a:lnTo>
                  <a:pt x="1" y="180"/>
                </a:lnTo>
                <a:lnTo>
                  <a:pt x="4" y="177"/>
                </a:lnTo>
                <a:lnTo>
                  <a:pt x="55" y="141"/>
                </a:lnTo>
                <a:lnTo>
                  <a:pt x="55" y="125"/>
                </a:lnTo>
                <a:lnTo>
                  <a:pt x="56" y="117"/>
                </a:lnTo>
                <a:lnTo>
                  <a:pt x="62" y="117"/>
                </a:lnTo>
                <a:lnTo>
                  <a:pt x="63" y="125"/>
                </a:lnTo>
                <a:lnTo>
                  <a:pt x="63" y="136"/>
                </a:lnTo>
                <a:lnTo>
                  <a:pt x="85" y="121"/>
                </a:lnTo>
                <a:lnTo>
                  <a:pt x="86" y="103"/>
                </a:lnTo>
                <a:lnTo>
                  <a:pt x="86" y="97"/>
                </a:lnTo>
                <a:lnTo>
                  <a:pt x="92" y="97"/>
                </a:lnTo>
                <a:lnTo>
                  <a:pt x="93" y="103"/>
                </a:lnTo>
                <a:lnTo>
                  <a:pt x="93" y="114"/>
                </a:lnTo>
                <a:lnTo>
                  <a:pt x="115" y="92"/>
                </a:lnTo>
                <a:lnTo>
                  <a:pt x="115" y="63"/>
                </a:lnTo>
                <a:lnTo>
                  <a:pt x="116" y="34"/>
                </a:lnTo>
                <a:lnTo>
                  <a:pt x="118" y="20"/>
                </a:lnTo>
                <a:lnTo>
                  <a:pt x="122" y="6"/>
                </a:lnTo>
                <a:lnTo>
                  <a:pt x="124" y="2"/>
                </a:lnTo>
                <a:lnTo>
                  <a:pt x="127" y="0"/>
                </a:lnTo>
                <a:lnTo>
                  <a:pt x="129" y="2"/>
                </a:lnTo>
                <a:lnTo>
                  <a:pt x="131" y="6"/>
                </a:lnTo>
                <a:lnTo>
                  <a:pt x="135" y="20"/>
                </a:lnTo>
                <a:lnTo>
                  <a:pt x="137" y="34"/>
                </a:lnTo>
                <a:lnTo>
                  <a:pt x="138" y="63"/>
                </a:lnTo>
                <a:lnTo>
                  <a:pt x="138" y="92"/>
                </a:lnTo>
                <a:lnTo>
                  <a:pt x="160" y="114"/>
                </a:lnTo>
                <a:lnTo>
                  <a:pt x="160" y="103"/>
                </a:lnTo>
                <a:lnTo>
                  <a:pt x="161" y="97"/>
                </a:lnTo>
                <a:lnTo>
                  <a:pt x="167" y="97"/>
                </a:lnTo>
                <a:lnTo>
                  <a:pt x="168" y="103"/>
                </a:lnTo>
                <a:lnTo>
                  <a:pt x="168" y="121"/>
                </a:lnTo>
                <a:lnTo>
                  <a:pt x="191" y="136"/>
                </a:lnTo>
                <a:lnTo>
                  <a:pt x="191" y="125"/>
                </a:lnTo>
                <a:lnTo>
                  <a:pt x="192" y="117"/>
                </a:lnTo>
                <a:lnTo>
                  <a:pt x="197" y="117"/>
                </a:lnTo>
                <a:lnTo>
                  <a:pt x="198" y="125"/>
                </a:lnTo>
                <a:lnTo>
                  <a:pt x="198" y="141"/>
                </a:lnTo>
                <a:lnTo>
                  <a:pt x="249" y="177"/>
                </a:lnTo>
                <a:lnTo>
                  <a:pt x="252" y="180"/>
                </a:lnTo>
                <a:lnTo>
                  <a:pt x="253" y="182"/>
                </a:lnTo>
                <a:lnTo>
                  <a:pt x="253" y="191"/>
                </a:lnTo>
                <a:lnTo>
                  <a:pt x="251" y="194"/>
                </a:lnTo>
                <a:lnTo>
                  <a:pt x="248" y="196"/>
                </a:lnTo>
                <a:lnTo>
                  <a:pt x="152" y="166"/>
                </a:lnTo>
                <a:lnTo>
                  <a:pt x="138" y="163"/>
                </a:lnTo>
                <a:lnTo>
                  <a:pt x="138" y="199"/>
                </a:lnTo>
                <a:lnTo>
                  <a:pt x="137" y="221"/>
                </a:lnTo>
                <a:lnTo>
                  <a:pt x="135" y="241"/>
                </a:lnTo>
                <a:lnTo>
                  <a:pt x="165" y="274"/>
                </a:lnTo>
                <a:lnTo>
                  <a:pt x="167" y="277"/>
                </a:lnTo>
                <a:lnTo>
                  <a:pt x="167" y="285"/>
                </a:lnTo>
                <a:lnTo>
                  <a:pt x="166" y="288"/>
                </a:lnTo>
                <a:lnTo>
                  <a:pt x="163" y="288"/>
                </a:lnTo>
                <a:lnTo>
                  <a:pt x="128" y="275"/>
                </a:lnTo>
                <a:lnTo>
                  <a:pt x="127" y="2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2" name=""/>
          <p:cNvSpPr/>
          <p:nvPr/>
        </p:nvSpPr>
        <p:spPr>
          <a:xfrm>
            <a:off x="5905440" y="4025880"/>
            <a:ext cx="389160" cy="444600"/>
          </a:xfrm>
          <a:custGeom>
            <a:avLst/>
            <a:gdLst/>
            <a:ahLst/>
            <a:rect l="l" t="t" r="r" b="b"/>
            <a:pathLst>
              <a:path w="245" h="280">
                <a:moveTo>
                  <a:pt x="121" y="270"/>
                </a:moveTo>
                <a:lnTo>
                  <a:pt x="120" y="265"/>
                </a:lnTo>
                <a:lnTo>
                  <a:pt x="86" y="279"/>
                </a:lnTo>
                <a:lnTo>
                  <a:pt x="84" y="277"/>
                </a:lnTo>
                <a:lnTo>
                  <a:pt x="83" y="276"/>
                </a:lnTo>
                <a:lnTo>
                  <a:pt x="83" y="268"/>
                </a:lnTo>
                <a:lnTo>
                  <a:pt x="84" y="264"/>
                </a:lnTo>
                <a:lnTo>
                  <a:pt x="114" y="234"/>
                </a:lnTo>
                <a:lnTo>
                  <a:pt x="112" y="214"/>
                </a:lnTo>
                <a:lnTo>
                  <a:pt x="111" y="193"/>
                </a:lnTo>
                <a:lnTo>
                  <a:pt x="111" y="158"/>
                </a:lnTo>
                <a:lnTo>
                  <a:pt x="98" y="159"/>
                </a:lnTo>
                <a:lnTo>
                  <a:pt x="5" y="188"/>
                </a:lnTo>
                <a:lnTo>
                  <a:pt x="1" y="188"/>
                </a:lnTo>
                <a:lnTo>
                  <a:pt x="0" y="185"/>
                </a:lnTo>
                <a:lnTo>
                  <a:pt x="0" y="176"/>
                </a:lnTo>
                <a:lnTo>
                  <a:pt x="0" y="173"/>
                </a:lnTo>
                <a:lnTo>
                  <a:pt x="2" y="171"/>
                </a:lnTo>
                <a:lnTo>
                  <a:pt x="52" y="136"/>
                </a:lnTo>
                <a:lnTo>
                  <a:pt x="52" y="121"/>
                </a:lnTo>
                <a:lnTo>
                  <a:pt x="53" y="114"/>
                </a:lnTo>
                <a:lnTo>
                  <a:pt x="59" y="114"/>
                </a:lnTo>
                <a:lnTo>
                  <a:pt x="60" y="121"/>
                </a:lnTo>
                <a:lnTo>
                  <a:pt x="60" y="132"/>
                </a:lnTo>
                <a:lnTo>
                  <a:pt x="81" y="117"/>
                </a:lnTo>
                <a:lnTo>
                  <a:pt x="82" y="100"/>
                </a:lnTo>
                <a:lnTo>
                  <a:pt x="83" y="92"/>
                </a:lnTo>
                <a:lnTo>
                  <a:pt x="89" y="92"/>
                </a:lnTo>
                <a:lnTo>
                  <a:pt x="89" y="100"/>
                </a:lnTo>
                <a:lnTo>
                  <a:pt x="89" y="111"/>
                </a:lnTo>
                <a:lnTo>
                  <a:pt x="111" y="88"/>
                </a:lnTo>
                <a:lnTo>
                  <a:pt x="111" y="61"/>
                </a:lnTo>
                <a:lnTo>
                  <a:pt x="112" y="32"/>
                </a:lnTo>
                <a:lnTo>
                  <a:pt x="114" y="18"/>
                </a:lnTo>
                <a:lnTo>
                  <a:pt x="117" y="5"/>
                </a:lnTo>
                <a:lnTo>
                  <a:pt x="119" y="0"/>
                </a:lnTo>
                <a:lnTo>
                  <a:pt x="121" y="0"/>
                </a:lnTo>
                <a:lnTo>
                  <a:pt x="125" y="0"/>
                </a:lnTo>
                <a:lnTo>
                  <a:pt x="126" y="5"/>
                </a:lnTo>
                <a:lnTo>
                  <a:pt x="130" y="18"/>
                </a:lnTo>
                <a:lnTo>
                  <a:pt x="132" y="32"/>
                </a:lnTo>
                <a:lnTo>
                  <a:pt x="133" y="61"/>
                </a:lnTo>
                <a:lnTo>
                  <a:pt x="133" y="88"/>
                </a:lnTo>
                <a:lnTo>
                  <a:pt x="155" y="111"/>
                </a:lnTo>
                <a:lnTo>
                  <a:pt x="155" y="100"/>
                </a:lnTo>
                <a:lnTo>
                  <a:pt x="155" y="92"/>
                </a:lnTo>
                <a:lnTo>
                  <a:pt x="161" y="92"/>
                </a:lnTo>
                <a:lnTo>
                  <a:pt x="162" y="100"/>
                </a:lnTo>
                <a:lnTo>
                  <a:pt x="163" y="117"/>
                </a:lnTo>
                <a:lnTo>
                  <a:pt x="184" y="132"/>
                </a:lnTo>
                <a:lnTo>
                  <a:pt x="184" y="121"/>
                </a:lnTo>
                <a:lnTo>
                  <a:pt x="185" y="114"/>
                </a:lnTo>
                <a:lnTo>
                  <a:pt x="191" y="114"/>
                </a:lnTo>
                <a:lnTo>
                  <a:pt x="192" y="121"/>
                </a:lnTo>
                <a:lnTo>
                  <a:pt x="192" y="136"/>
                </a:lnTo>
                <a:lnTo>
                  <a:pt x="242" y="171"/>
                </a:lnTo>
                <a:lnTo>
                  <a:pt x="243" y="173"/>
                </a:lnTo>
                <a:lnTo>
                  <a:pt x="244" y="176"/>
                </a:lnTo>
                <a:lnTo>
                  <a:pt x="244" y="185"/>
                </a:lnTo>
                <a:lnTo>
                  <a:pt x="243" y="188"/>
                </a:lnTo>
                <a:lnTo>
                  <a:pt x="239" y="188"/>
                </a:lnTo>
                <a:lnTo>
                  <a:pt x="146" y="159"/>
                </a:lnTo>
                <a:lnTo>
                  <a:pt x="133" y="158"/>
                </a:lnTo>
                <a:lnTo>
                  <a:pt x="133" y="193"/>
                </a:lnTo>
                <a:lnTo>
                  <a:pt x="132" y="214"/>
                </a:lnTo>
                <a:lnTo>
                  <a:pt x="130" y="234"/>
                </a:lnTo>
                <a:lnTo>
                  <a:pt x="160" y="264"/>
                </a:lnTo>
                <a:lnTo>
                  <a:pt x="161" y="268"/>
                </a:lnTo>
                <a:lnTo>
                  <a:pt x="161" y="276"/>
                </a:lnTo>
                <a:lnTo>
                  <a:pt x="160" y="277"/>
                </a:lnTo>
                <a:lnTo>
                  <a:pt x="158" y="279"/>
                </a:lnTo>
                <a:lnTo>
                  <a:pt x="124" y="265"/>
                </a:lnTo>
                <a:lnTo>
                  <a:pt x="121" y="27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a:off x="5905440" y="4025880"/>
            <a:ext cx="399960" cy="458640"/>
          </a:xfrm>
          <a:custGeom>
            <a:avLst/>
            <a:gdLst/>
            <a:ahLst/>
            <a:rect l="l" t="t" r="r" b="b"/>
            <a:pathLst>
              <a:path w="252" h="289">
                <a:moveTo>
                  <a:pt x="125" y="279"/>
                </a:moveTo>
                <a:lnTo>
                  <a:pt x="124" y="274"/>
                </a:lnTo>
                <a:lnTo>
                  <a:pt x="88" y="288"/>
                </a:lnTo>
                <a:lnTo>
                  <a:pt x="87" y="286"/>
                </a:lnTo>
                <a:lnTo>
                  <a:pt x="86" y="285"/>
                </a:lnTo>
                <a:lnTo>
                  <a:pt x="86" y="277"/>
                </a:lnTo>
                <a:lnTo>
                  <a:pt x="87" y="272"/>
                </a:lnTo>
                <a:lnTo>
                  <a:pt x="118" y="241"/>
                </a:lnTo>
                <a:lnTo>
                  <a:pt x="115" y="221"/>
                </a:lnTo>
                <a:lnTo>
                  <a:pt x="114" y="199"/>
                </a:lnTo>
                <a:lnTo>
                  <a:pt x="114" y="163"/>
                </a:lnTo>
                <a:lnTo>
                  <a:pt x="101" y="164"/>
                </a:lnTo>
                <a:lnTo>
                  <a:pt x="5" y="194"/>
                </a:lnTo>
                <a:lnTo>
                  <a:pt x="1" y="194"/>
                </a:lnTo>
                <a:lnTo>
                  <a:pt x="0" y="191"/>
                </a:lnTo>
                <a:lnTo>
                  <a:pt x="0" y="182"/>
                </a:lnTo>
                <a:lnTo>
                  <a:pt x="0" y="178"/>
                </a:lnTo>
                <a:lnTo>
                  <a:pt x="2" y="177"/>
                </a:lnTo>
                <a:lnTo>
                  <a:pt x="54" y="141"/>
                </a:lnTo>
                <a:lnTo>
                  <a:pt x="54" y="125"/>
                </a:lnTo>
                <a:lnTo>
                  <a:pt x="55" y="117"/>
                </a:lnTo>
                <a:lnTo>
                  <a:pt x="61" y="117"/>
                </a:lnTo>
                <a:lnTo>
                  <a:pt x="62" y="125"/>
                </a:lnTo>
                <a:lnTo>
                  <a:pt x="62" y="136"/>
                </a:lnTo>
                <a:lnTo>
                  <a:pt x="83" y="121"/>
                </a:lnTo>
                <a:lnTo>
                  <a:pt x="84" y="103"/>
                </a:lnTo>
                <a:lnTo>
                  <a:pt x="86" y="95"/>
                </a:lnTo>
                <a:lnTo>
                  <a:pt x="92" y="95"/>
                </a:lnTo>
                <a:lnTo>
                  <a:pt x="92" y="103"/>
                </a:lnTo>
                <a:lnTo>
                  <a:pt x="92" y="114"/>
                </a:lnTo>
                <a:lnTo>
                  <a:pt x="114" y="91"/>
                </a:lnTo>
                <a:lnTo>
                  <a:pt x="114" y="63"/>
                </a:lnTo>
                <a:lnTo>
                  <a:pt x="115" y="33"/>
                </a:lnTo>
                <a:lnTo>
                  <a:pt x="118" y="19"/>
                </a:lnTo>
                <a:lnTo>
                  <a:pt x="120" y="5"/>
                </a:lnTo>
                <a:lnTo>
                  <a:pt x="123" y="0"/>
                </a:lnTo>
                <a:lnTo>
                  <a:pt x="125" y="0"/>
                </a:lnTo>
                <a:lnTo>
                  <a:pt x="128" y="0"/>
                </a:lnTo>
                <a:lnTo>
                  <a:pt x="130" y="5"/>
                </a:lnTo>
                <a:lnTo>
                  <a:pt x="133" y="19"/>
                </a:lnTo>
                <a:lnTo>
                  <a:pt x="136" y="33"/>
                </a:lnTo>
                <a:lnTo>
                  <a:pt x="137" y="63"/>
                </a:lnTo>
                <a:lnTo>
                  <a:pt x="137" y="91"/>
                </a:lnTo>
                <a:lnTo>
                  <a:pt x="159" y="114"/>
                </a:lnTo>
                <a:lnTo>
                  <a:pt x="159" y="103"/>
                </a:lnTo>
                <a:lnTo>
                  <a:pt x="159" y="95"/>
                </a:lnTo>
                <a:lnTo>
                  <a:pt x="165" y="95"/>
                </a:lnTo>
                <a:lnTo>
                  <a:pt x="167" y="103"/>
                </a:lnTo>
                <a:lnTo>
                  <a:pt x="168" y="121"/>
                </a:lnTo>
                <a:lnTo>
                  <a:pt x="189" y="136"/>
                </a:lnTo>
                <a:lnTo>
                  <a:pt x="189" y="125"/>
                </a:lnTo>
                <a:lnTo>
                  <a:pt x="190" y="117"/>
                </a:lnTo>
                <a:lnTo>
                  <a:pt x="196" y="117"/>
                </a:lnTo>
                <a:lnTo>
                  <a:pt x="197" y="125"/>
                </a:lnTo>
                <a:lnTo>
                  <a:pt x="197" y="141"/>
                </a:lnTo>
                <a:lnTo>
                  <a:pt x="249" y="177"/>
                </a:lnTo>
                <a:lnTo>
                  <a:pt x="250" y="178"/>
                </a:lnTo>
                <a:lnTo>
                  <a:pt x="251" y="182"/>
                </a:lnTo>
                <a:lnTo>
                  <a:pt x="251" y="191"/>
                </a:lnTo>
                <a:lnTo>
                  <a:pt x="250" y="194"/>
                </a:lnTo>
                <a:lnTo>
                  <a:pt x="246" y="194"/>
                </a:lnTo>
                <a:lnTo>
                  <a:pt x="150" y="164"/>
                </a:lnTo>
                <a:lnTo>
                  <a:pt x="137" y="163"/>
                </a:lnTo>
                <a:lnTo>
                  <a:pt x="137" y="199"/>
                </a:lnTo>
                <a:lnTo>
                  <a:pt x="136" y="221"/>
                </a:lnTo>
                <a:lnTo>
                  <a:pt x="133" y="241"/>
                </a:lnTo>
                <a:lnTo>
                  <a:pt x="164" y="272"/>
                </a:lnTo>
                <a:lnTo>
                  <a:pt x="165" y="277"/>
                </a:lnTo>
                <a:lnTo>
                  <a:pt x="165" y="285"/>
                </a:lnTo>
                <a:lnTo>
                  <a:pt x="164" y="286"/>
                </a:lnTo>
                <a:lnTo>
                  <a:pt x="163" y="288"/>
                </a:lnTo>
                <a:lnTo>
                  <a:pt x="127" y="274"/>
                </a:lnTo>
                <a:lnTo>
                  <a:pt x="125" y="27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4" name=""/>
          <p:cNvSpPr/>
          <p:nvPr/>
        </p:nvSpPr>
        <p:spPr>
          <a:xfrm>
            <a:off x="3746520" y="1073160"/>
            <a:ext cx="245880" cy="466560"/>
          </a:xfrm>
          <a:custGeom>
            <a:avLst/>
            <a:gdLst/>
            <a:ahLst/>
            <a:rect l="l" t="t" r="r" b="b"/>
            <a:pathLst>
              <a:path w="155" h="294">
                <a:moveTo>
                  <a:pt x="60" y="269"/>
                </a:moveTo>
                <a:lnTo>
                  <a:pt x="58" y="287"/>
                </a:lnTo>
                <a:lnTo>
                  <a:pt x="50" y="287"/>
                </a:lnTo>
                <a:lnTo>
                  <a:pt x="36" y="293"/>
                </a:lnTo>
                <a:lnTo>
                  <a:pt x="33" y="287"/>
                </a:lnTo>
                <a:lnTo>
                  <a:pt x="32" y="282"/>
                </a:lnTo>
                <a:lnTo>
                  <a:pt x="32" y="278"/>
                </a:lnTo>
                <a:lnTo>
                  <a:pt x="35" y="272"/>
                </a:lnTo>
                <a:lnTo>
                  <a:pt x="51" y="238"/>
                </a:lnTo>
                <a:lnTo>
                  <a:pt x="51" y="231"/>
                </a:lnTo>
                <a:lnTo>
                  <a:pt x="31" y="231"/>
                </a:lnTo>
                <a:lnTo>
                  <a:pt x="0" y="238"/>
                </a:lnTo>
                <a:lnTo>
                  <a:pt x="0" y="217"/>
                </a:lnTo>
                <a:lnTo>
                  <a:pt x="54" y="135"/>
                </a:lnTo>
                <a:lnTo>
                  <a:pt x="54" y="121"/>
                </a:lnTo>
                <a:lnTo>
                  <a:pt x="60" y="109"/>
                </a:lnTo>
                <a:lnTo>
                  <a:pt x="60" y="93"/>
                </a:lnTo>
                <a:lnTo>
                  <a:pt x="62" y="88"/>
                </a:lnTo>
                <a:lnTo>
                  <a:pt x="66" y="87"/>
                </a:lnTo>
                <a:lnTo>
                  <a:pt x="69" y="87"/>
                </a:lnTo>
                <a:lnTo>
                  <a:pt x="69" y="52"/>
                </a:lnTo>
                <a:lnTo>
                  <a:pt x="69" y="36"/>
                </a:lnTo>
                <a:lnTo>
                  <a:pt x="71" y="24"/>
                </a:lnTo>
                <a:lnTo>
                  <a:pt x="77" y="0"/>
                </a:lnTo>
                <a:lnTo>
                  <a:pt x="83" y="24"/>
                </a:lnTo>
                <a:lnTo>
                  <a:pt x="85" y="36"/>
                </a:lnTo>
                <a:lnTo>
                  <a:pt x="86" y="52"/>
                </a:lnTo>
                <a:lnTo>
                  <a:pt x="86" y="87"/>
                </a:lnTo>
                <a:lnTo>
                  <a:pt x="88" y="87"/>
                </a:lnTo>
                <a:lnTo>
                  <a:pt x="92" y="88"/>
                </a:lnTo>
                <a:lnTo>
                  <a:pt x="94" y="93"/>
                </a:lnTo>
                <a:lnTo>
                  <a:pt x="94" y="109"/>
                </a:lnTo>
                <a:lnTo>
                  <a:pt x="100" y="121"/>
                </a:lnTo>
                <a:lnTo>
                  <a:pt x="100" y="135"/>
                </a:lnTo>
                <a:lnTo>
                  <a:pt x="154" y="217"/>
                </a:lnTo>
                <a:lnTo>
                  <a:pt x="154" y="238"/>
                </a:lnTo>
                <a:lnTo>
                  <a:pt x="123" y="231"/>
                </a:lnTo>
                <a:lnTo>
                  <a:pt x="103" y="231"/>
                </a:lnTo>
                <a:lnTo>
                  <a:pt x="103" y="238"/>
                </a:lnTo>
                <a:lnTo>
                  <a:pt x="119" y="272"/>
                </a:lnTo>
                <a:lnTo>
                  <a:pt x="122" y="278"/>
                </a:lnTo>
                <a:lnTo>
                  <a:pt x="122" y="282"/>
                </a:lnTo>
                <a:lnTo>
                  <a:pt x="121" y="287"/>
                </a:lnTo>
                <a:lnTo>
                  <a:pt x="118" y="293"/>
                </a:lnTo>
                <a:lnTo>
                  <a:pt x="105" y="287"/>
                </a:lnTo>
                <a:lnTo>
                  <a:pt x="96" y="287"/>
                </a:lnTo>
                <a:lnTo>
                  <a:pt x="94" y="269"/>
                </a:lnTo>
                <a:lnTo>
                  <a:pt x="86" y="275"/>
                </a:lnTo>
                <a:lnTo>
                  <a:pt x="69" y="275"/>
                </a:lnTo>
                <a:lnTo>
                  <a:pt x="60" y="269"/>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5" name=""/>
          <p:cNvSpPr/>
          <p:nvPr/>
        </p:nvSpPr>
        <p:spPr>
          <a:xfrm>
            <a:off x="3746520" y="1073160"/>
            <a:ext cx="258840" cy="480960"/>
          </a:xfrm>
          <a:custGeom>
            <a:avLst/>
            <a:gdLst/>
            <a:ahLst/>
            <a:rect l="l" t="t" r="r" b="b"/>
            <a:pathLst>
              <a:path w="163" h="303">
                <a:moveTo>
                  <a:pt x="63" y="277"/>
                </a:moveTo>
                <a:lnTo>
                  <a:pt x="61" y="296"/>
                </a:lnTo>
                <a:lnTo>
                  <a:pt x="52" y="296"/>
                </a:lnTo>
                <a:lnTo>
                  <a:pt x="38" y="302"/>
                </a:lnTo>
                <a:lnTo>
                  <a:pt x="35" y="296"/>
                </a:lnTo>
                <a:lnTo>
                  <a:pt x="33" y="291"/>
                </a:lnTo>
                <a:lnTo>
                  <a:pt x="33" y="286"/>
                </a:lnTo>
                <a:lnTo>
                  <a:pt x="37" y="280"/>
                </a:lnTo>
                <a:lnTo>
                  <a:pt x="54" y="246"/>
                </a:lnTo>
                <a:lnTo>
                  <a:pt x="54" y="238"/>
                </a:lnTo>
                <a:lnTo>
                  <a:pt x="32" y="238"/>
                </a:lnTo>
                <a:lnTo>
                  <a:pt x="0" y="246"/>
                </a:lnTo>
                <a:lnTo>
                  <a:pt x="0" y="224"/>
                </a:lnTo>
                <a:lnTo>
                  <a:pt x="57" y="139"/>
                </a:lnTo>
                <a:lnTo>
                  <a:pt x="57" y="125"/>
                </a:lnTo>
                <a:lnTo>
                  <a:pt x="63" y="113"/>
                </a:lnTo>
                <a:lnTo>
                  <a:pt x="63" y="95"/>
                </a:lnTo>
                <a:lnTo>
                  <a:pt x="66" y="91"/>
                </a:lnTo>
                <a:lnTo>
                  <a:pt x="69" y="89"/>
                </a:lnTo>
                <a:lnTo>
                  <a:pt x="73" y="89"/>
                </a:lnTo>
                <a:lnTo>
                  <a:pt x="73" y="53"/>
                </a:lnTo>
                <a:lnTo>
                  <a:pt x="73" y="38"/>
                </a:lnTo>
                <a:lnTo>
                  <a:pt x="75" y="25"/>
                </a:lnTo>
                <a:lnTo>
                  <a:pt x="81" y="0"/>
                </a:lnTo>
                <a:lnTo>
                  <a:pt x="87" y="25"/>
                </a:lnTo>
                <a:lnTo>
                  <a:pt x="89" y="38"/>
                </a:lnTo>
                <a:lnTo>
                  <a:pt x="91" y="53"/>
                </a:lnTo>
                <a:lnTo>
                  <a:pt x="91" y="89"/>
                </a:lnTo>
                <a:lnTo>
                  <a:pt x="93" y="89"/>
                </a:lnTo>
                <a:lnTo>
                  <a:pt x="96" y="91"/>
                </a:lnTo>
                <a:lnTo>
                  <a:pt x="99" y="95"/>
                </a:lnTo>
                <a:lnTo>
                  <a:pt x="99" y="113"/>
                </a:lnTo>
                <a:lnTo>
                  <a:pt x="105" y="125"/>
                </a:lnTo>
                <a:lnTo>
                  <a:pt x="105" y="139"/>
                </a:lnTo>
                <a:lnTo>
                  <a:pt x="162" y="224"/>
                </a:lnTo>
                <a:lnTo>
                  <a:pt x="162" y="246"/>
                </a:lnTo>
                <a:lnTo>
                  <a:pt x="130" y="238"/>
                </a:lnTo>
                <a:lnTo>
                  <a:pt x="108" y="238"/>
                </a:lnTo>
                <a:lnTo>
                  <a:pt x="108" y="246"/>
                </a:lnTo>
                <a:lnTo>
                  <a:pt x="125" y="280"/>
                </a:lnTo>
                <a:lnTo>
                  <a:pt x="129" y="286"/>
                </a:lnTo>
                <a:lnTo>
                  <a:pt x="129" y="291"/>
                </a:lnTo>
                <a:lnTo>
                  <a:pt x="127" y="296"/>
                </a:lnTo>
                <a:lnTo>
                  <a:pt x="124" y="302"/>
                </a:lnTo>
                <a:lnTo>
                  <a:pt x="111" y="296"/>
                </a:lnTo>
                <a:lnTo>
                  <a:pt x="101" y="296"/>
                </a:lnTo>
                <a:lnTo>
                  <a:pt x="99" y="277"/>
                </a:lnTo>
                <a:lnTo>
                  <a:pt x="91" y="283"/>
                </a:lnTo>
                <a:lnTo>
                  <a:pt x="73" y="283"/>
                </a:lnTo>
                <a:lnTo>
                  <a:pt x="63" y="27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6" name=""/>
          <p:cNvSpPr/>
          <p:nvPr/>
        </p:nvSpPr>
        <p:spPr>
          <a:xfrm>
            <a:off x="6789600" y="4459320"/>
            <a:ext cx="390600" cy="442800"/>
          </a:xfrm>
          <a:custGeom>
            <a:avLst/>
            <a:gdLst/>
            <a:ahLst/>
            <a:rect l="l" t="t" r="r" b="b"/>
            <a:pathLst>
              <a:path w="246" h="279">
                <a:moveTo>
                  <a:pt x="122" y="270"/>
                </a:moveTo>
                <a:lnTo>
                  <a:pt x="121" y="266"/>
                </a:lnTo>
                <a:lnTo>
                  <a:pt x="86" y="278"/>
                </a:lnTo>
                <a:lnTo>
                  <a:pt x="85" y="278"/>
                </a:lnTo>
                <a:lnTo>
                  <a:pt x="84" y="275"/>
                </a:lnTo>
                <a:lnTo>
                  <a:pt x="84" y="267"/>
                </a:lnTo>
                <a:lnTo>
                  <a:pt x="85" y="264"/>
                </a:lnTo>
                <a:lnTo>
                  <a:pt x="115" y="233"/>
                </a:lnTo>
                <a:lnTo>
                  <a:pt x="113" y="213"/>
                </a:lnTo>
                <a:lnTo>
                  <a:pt x="111" y="192"/>
                </a:lnTo>
                <a:lnTo>
                  <a:pt x="111" y="157"/>
                </a:lnTo>
                <a:lnTo>
                  <a:pt x="99" y="160"/>
                </a:lnTo>
                <a:lnTo>
                  <a:pt x="5" y="189"/>
                </a:lnTo>
                <a:lnTo>
                  <a:pt x="1" y="187"/>
                </a:lnTo>
                <a:lnTo>
                  <a:pt x="0" y="184"/>
                </a:lnTo>
                <a:lnTo>
                  <a:pt x="0" y="175"/>
                </a:lnTo>
                <a:lnTo>
                  <a:pt x="0" y="172"/>
                </a:lnTo>
                <a:lnTo>
                  <a:pt x="2" y="171"/>
                </a:lnTo>
                <a:lnTo>
                  <a:pt x="52" y="136"/>
                </a:lnTo>
                <a:lnTo>
                  <a:pt x="52" y="121"/>
                </a:lnTo>
                <a:lnTo>
                  <a:pt x="53" y="113"/>
                </a:lnTo>
                <a:lnTo>
                  <a:pt x="59" y="113"/>
                </a:lnTo>
                <a:lnTo>
                  <a:pt x="60" y="121"/>
                </a:lnTo>
                <a:lnTo>
                  <a:pt x="60" y="131"/>
                </a:lnTo>
                <a:lnTo>
                  <a:pt x="81" y="116"/>
                </a:lnTo>
                <a:lnTo>
                  <a:pt x="82" y="100"/>
                </a:lnTo>
                <a:lnTo>
                  <a:pt x="84" y="94"/>
                </a:lnTo>
                <a:lnTo>
                  <a:pt x="89" y="94"/>
                </a:lnTo>
                <a:lnTo>
                  <a:pt x="89" y="100"/>
                </a:lnTo>
                <a:lnTo>
                  <a:pt x="89" y="110"/>
                </a:lnTo>
                <a:lnTo>
                  <a:pt x="111" y="89"/>
                </a:lnTo>
                <a:lnTo>
                  <a:pt x="111" y="60"/>
                </a:lnTo>
                <a:lnTo>
                  <a:pt x="113" y="33"/>
                </a:lnTo>
                <a:lnTo>
                  <a:pt x="115" y="20"/>
                </a:lnTo>
                <a:lnTo>
                  <a:pt x="117" y="6"/>
                </a:lnTo>
                <a:lnTo>
                  <a:pt x="120" y="2"/>
                </a:lnTo>
                <a:lnTo>
                  <a:pt x="122" y="0"/>
                </a:lnTo>
                <a:lnTo>
                  <a:pt x="125" y="2"/>
                </a:lnTo>
                <a:lnTo>
                  <a:pt x="127" y="6"/>
                </a:lnTo>
                <a:lnTo>
                  <a:pt x="130" y="20"/>
                </a:lnTo>
                <a:lnTo>
                  <a:pt x="132" y="33"/>
                </a:lnTo>
                <a:lnTo>
                  <a:pt x="134" y="60"/>
                </a:lnTo>
                <a:lnTo>
                  <a:pt x="134" y="89"/>
                </a:lnTo>
                <a:lnTo>
                  <a:pt x="154" y="110"/>
                </a:lnTo>
                <a:lnTo>
                  <a:pt x="156" y="100"/>
                </a:lnTo>
                <a:lnTo>
                  <a:pt x="156" y="94"/>
                </a:lnTo>
                <a:lnTo>
                  <a:pt x="161" y="94"/>
                </a:lnTo>
                <a:lnTo>
                  <a:pt x="163" y="100"/>
                </a:lnTo>
                <a:lnTo>
                  <a:pt x="164" y="116"/>
                </a:lnTo>
                <a:lnTo>
                  <a:pt x="185" y="131"/>
                </a:lnTo>
                <a:lnTo>
                  <a:pt x="185" y="121"/>
                </a:lnTo>
                <a:lnTo>
                  <a:pt x="186" y="113"/>
                </a:lnTo>
                <a:lnTo>
                  <a:pt x="192" y="113"/>
                </a:lnTo>
                <a:lnTo>
                  <a:pt x="193" y="121"/>
                </a:lnTo>
                <a:lnTo>
                  <a:pt x="193" y="136"/>
                </a:lnTo>
                <a:lnTo>
                  <a:pt x="243" y="171"/>
                </a:lnTo>
                <a:lnTo>
                  <a:pt x="244" y="172"/>
                </a:lnTo>
                <a:lnTo>
                  <a:pt x="245" y="175"/>
                </a:lnTo>
                <a:lnTo>
                  <a:pt x="245" y="184"/>
                </a:lnTo>
                <a:lnTo>
                  <a:pt x="244" y="187"/>
                </a:lnTo>
                <a:lnTo>
                  <a:pt x="240" y="189"/>
                </a:lnTo>
                <a:lnTo>
                  <a:pt x="146" y="160"/>
                </a:lnTo>
                <a:lnTo>
                  <a:pt x="134" y="157"/>
                </a:lnTo>
                <a:lnTo>
                  <a:pt x="134" y="192"/>
                </a:lnTo>
                <a:lnTo>
                  <a:pt x="132" y="213"/>
                </a:lnTo>
                <a:lnTo>
                  <a:pt x="130" y="233"/>
                </a:lnTo>
                <a:lnTo>
                  <a:pt x="159" y="264"/>
                </a:lnTo>
                <a:lnTo>
                  <a:pt x="161" y="267"/>
                </a:lnTo>
                <a:lnTo>
                  <a:pt x="161" y="275"/>
                </a:lnTo>
                <a:lnTo>
                  <a:pt x="160" y="278"/>
                </a:lnTo>
                <a:lnTo>
                  <a:pt x="159" y="278"/>
                </a:lnTo>
                <a:lnTo>
                  <a:pt x="124" y="266"/>
                </a:lnTo>
                <a:lnTo>
                  <a:pt x="122" y="27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7" name=""/>
          <p:cNvSpPr/>
          <p:nvPr/>
        </p:nvSpPr>
        <p:spPr>
          <a:xfrm>
            <a:off x="6789600" y="4459320"/>
            <a:ext cx="400320" cy="458640"/>
          </a:xfrm>
          <a:custGeom>
            <a:avLst/>
            <a:gdLst/>
            <a:ahLst/>
            <a:rect l="l" t="t" r="r" b="b"/>
            <a:pathLst>
              <a:path w="252" h="289">
                <a:moveTo>
                  <a:pt x="125" y="280"/>
                </a:moveTo>
                <a:lnTo>
                  <a:pt x="124" y="275"/>
                </a:lnTo>
                <a:lnTo>
                  <a:pt x="88" y="288"/>
                </a:lnTo>
                <a:lnTo>
                  <a:pt x="87" y="288"/>
                </a:lnTo>
                <a:lnTo>
                  <a:pt x="86" y="285"/>
                </a:lnTo>
                <a:lnTo>
                  <a:pt x="86" y="277"/>
                </a:lnTo>
                <a:lnTo>
                  <a:pt x="87" y="274"/>
                </a:lnTo>
                <a:lnTo>
                  <a:pt x="118" y="241"/>
                </a:lnTo>
                <a:lnTo>
                  <a:pt x="115" y="221"/>
                </a:lnTo>
                <a:lnTo>
                  <a:pt x="114" y="199"/>
                </a:lnTo>
                <a:lnTo>
                  <a:pt x="114" y="163"/>
                </a:lnTo>
                <a:lnTo>
                  <a:pt x="101" y="166"/>
                </a:lnTo>
                <a:lnTo>
                  <a:pt x="5" y="196"/>
                </a:lnTo>
                <a:lnTo>
                  <a:pt x="1" y="194"/>
                </a:lnTo>
                <a:lnTo>
                  <a:pt x="0" y="191"/>
                </a:lnTo>
                <a:lnTo>
                  <a:pt x="0" y="182"/>
                </a:lnTo>
                <a:lnTo>
                  <a:pt x="0" y="178"/>
                </a:lnTo>
                <a:lnTo>
                  <a:pt x="2" y="177"/>
                </a:lnTo>
                <a:lnTo>
                  <a:pt x="54" y="141"/>
                </a:lnTo>
                <a:lnTo>
                  <a:pt x="54" y="125"/>
                </a:lnTo>
                <a:lnTo>
                  <a:pt x="55" y="117"/>
                </a:lnTo>
                <a:lnTo>
                  <a:pt x="61" y="117"/>
                </a:lnTo>
                <a:lnTo>
                  <a:pt x="62" y="125"/>
                </a:lnTo>
                <a:lnTo>
                  <a:pt x="62" y="136"/>
                </a:lnTo>
                <a:lnTo>
                  <a:pt x="83" y="121"/>
                </a:lnTo>
                <a:lnTo>
                  <a:pt x="84" y="103"/>
                </a:lnTo>
                <a:lnTo>
                  <a:pt x="86" y="97"/>
                </a:lnTo>
                <a:lnTo>
                  <a:pt x="92" y="97"/>
                </a:lnTo>
                <a:lnTo>
                  <a:pt x="92" y="103"/>
                </a:lnTo>
                <a:lnTo>
                  <a:pt x="92" y="114"/>
                </a:lnTo>
                <a:lnTo>
                  <a:pt x="114" y="92"/>
                </a:lnTo>
                <a:lnTo>
                  <a:pt x="114" y="63"/>
                </a:lnTo>
                <a:lnTo>
                  <a:pt x="115" y="34"/>
                </a:lnTo>
                <a:lnTo>
                  <a:pt x="118" y="20"/>
                </a:lnTo>
                <a:lnTo>
                  <a:pt x="120" y="6"/>
                </a:lnTo>
                <a:lnTo>
                  <a:pt x="123" y="2"/>
                </a:lnTo>
                <a:lnTo>
                  <a:pt x="125" y="0"/>
                </a:lnTo>
                <a:lnTo>
                  <a:pt x="128" y="2"/>
                </a:lnTo>
                <a:lnTo>
                  <a:pt x="130" y="6"/>
                </a:lnTo>
                <a:lnTo>
                  <a:pt x="133" y="20"/>
                </a:lnTo>
                <a:lnTo>
                  <a:pt x="136" y="34"/>
                </a:lnTo>
                <a:lnTo>
                  <a:pt x="137" y="63"/>
                </a:lnTo>
                <a:lnTo>
                  <a:pt x="137" y="92"/>
                </a:lnTo>
                <a:lnTo>
                  <a:pt x="158" y="114"/>
                </a:lnTo>
                <a:lnTo>
                  <a:pt x="159" y="103"/>
                </a:lnTo>
                <a:lnTo>
                  <a:pt x="159" y="97"/>
                </a:lnTo>
                <a:lnTo>
                  <a:pt x="165" y="97"/>
                </a:lnTo>
                <a:lnTo>
                  <a:pt x="167" y="103"/>
                </a:lnTo>
                <a:lnTo>
                  <a:pt x="168" y="121"/>
                </a:lnTo>
                <a:lnTo>
                  <a:pt x="189" y="136"/>
                </a:lnTo>
                <a:lnTo>
                  <a:pt x="189" y="125"/>
                </a:lnTo>
                <a:lnTo>
                  <a:pt x="190" y="117"/>
                </a:lnTo>
                <a:lnTo>
                  <a:pt x="196" y="117"/>
                </a:lnTo>
                <a:lnTo>
                  <a:pt x="197" y="125"/>
                </a:lnTo>
                <a:lnTo>
                  <a:pt x="197" y="141"/>
                </a:lnTo>
                <a:lnTo>
                  <a:pt x="249" y="177"/>
                </a:lnTo>
                <a:lnTo>
                  <a:pt x="250" y="178"/>
                </a:lnTo>
                <a:lnTo>
                  <a:pt x="251" y="182"/>
                </a:lnTo>
                <a:lnTo>
                  <a:pt x="251" y="191"/>
                </a:lnTo>
                <a:lnTo>
                  <a:pt x="250" y="194"/>
                </a:lnTo>
                <a:lnTo>
                  <a:pt x="246" y="196"/>
                </a:lnTo>
                <a:lnTo>
                  <a:pt x="150" y="166"/>
                </a:lnTo>
                <a:lnTo>
                  <a:pt x="137" y="163"/>
                </a:lnTo>
                <a:lnTo>
                  <a:pt x="137" y="199"/>
                </a:lnTo>
                <a:lnTo>
                  <a:pt x="136" y="221"/>
                </a:lnTo>
                <a:lnTo>
                  <a:pt x="133" y="241"/>
                </a:lnTo>
                <a:lnTo>
                  <a:pt x="163" y="274"/>
                </a:lnTo>
                <a:lnTo>
                  <a:pt x="165" y="277"/>
                </a:lnTo>
                <a:lnTo>
                  <a:pt x="165" y="285"/>
                </a:lnTo>
                <a:lnTo>
                  <a:pt x="164" y="288"/>
                </a:lnTo>
                <a:lnTo>
                  <a:pt x="163" y="288"/>
                </a:lnTo>
                <a:lnTo>
                  <a:pt x="127" y="275"/>
                </a:lnTo>
                <a:lnTo>
                  <a:pt x="125" y="2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8" name=""/>
          <p:cNvSpPr/>
          <p:nvPr/>
        </p:nvSpPr>
        <p:spPr>
          <a:xfrm>
            <a:off x="6642000" y="4151160"/>
            <a:ext cx="389160" cy="443160"/>
          </a:xfrm>
          <a:custGeom>
            <a:avLst/>
            <a:gdLst/>
            <a:ahLst/>
            <a:rect l="l" t="t" r="r" b="b"/>
            <a:pathLst>
              <a:path w="245" h="279">
                <a:moveTo>
                  <a:pt x="121" y="270"/>
                </a:moveTo>
                <a:lnTo>
                  <a:pt x="120" y="266"/>
                </a:lnTo>
                <a:lnTo>
                  <a:pt x="86" y="278"/>
                </a:lnTo>
                <a:lnTo>
                  <a:pt x="84" y="278"/>
                </a:lnTo>
                <a:lnTo>
                  <a:pt x="83" y="276"/>
                </a:lnTo>
                <a:lnTo>
                  <a:pt x="83" y="269"/>
                </a:lnTo>
                <a:lnTo>
                  <a:pt x="84" y="264"/>
                </a:lnTo>
                <a:lnTo>
                  <a:pt x="113" y="234"/>
                </a:lnTo>
                <a:lnTo>
                  <a:pt x="111" y="213"/>
                </a:lnTo>
                <a:lnTo>
                  <a:pt x="110" y="193"/>
                </a:lnTo>
                <a:lnTo>
                  <a:pt x="110" y="159"/>
                </a:lnTo>
                <a:lnTo>
                  <a:pt x="97" y="160"/>
                </a:lnTo>
                <a:lnTo>
                  <a:pt x="3" y="189"/>
                </a:lnTo>
                <a:lnTo>
                  <a:pt x="1" y="189"/>
                </a:lnTo>
                <a:lnTo>
                  <a:pt x="0" y="186"/>
                </a:lnTo>
                <a:lnTo>
                  <a:pt x="0" y="177"/>
                </a:lnTo>
                <a:lnTo>
                  <a:pt x="0" y="174"/>
                </a:lnTo>
                <a:lnTo>
                  <a:pt x="2" y="171"/>
                </a:lnTo>
                <a:lnTo>
                  <a:pt x="52" y="137"/>
                </a:lnTo>
                <a:lnTo>
                  <a:pt x="52" y="121"/>
                </a:lnTo>
                <a:lnTo>
                  <a:pt x="53" y="115"/>
                </a:lnTo>
                <a:lnTo>
                  <a:pt x="59" y="115"/>
                </a:lnTo>
                <a:lnTo>
                  <a:pt x="60" y="121"/>
                </a:lnTo>
                <a:lnTo>
                  <a:pt x="60" y="131"/>
                </a:lnTo>
                <a:lnTo>
                  <a:pt x="81" y="118"/>
                </a:lnTo>
                <a:lnTo>
                  <a:pt x="82" y="101"/>
                </a:lnTo>
                <a:lnTo>
                  <a:pt x="82" y="94"/>
                </a:lnTo>
                <a:lnTo>
                  <a:pt x="88" y="94"/>
                </a:lnTo>
                <a:lnTo>
                  <a:pt x="89" y="101"/>
                </a:lnTo>
                <a:lnTo>
                  <a:pt x="89" y="112"/>
                </a:lnTo>
                <a:lnTo>
                  <a:pt x="110" y="89"/>
                </a:lnTo>
                <a:lnTo>
                  <a:pt x="110" y="62"/>
                </a:lnTo>
                <a:lnTo>
                  <a:pt x="112" y="33"/>
                </a:lnTo>
                <a:lnTo>
                  <a:pt x="113" y="20"/>
                </a:lnTo>
                <a:lnTo>
                  <a:pt x="117" y="6"/>
                </a:lnTo>
                <a:lnTo>
                  <a:pt x="119" y="2"/>
                </a:lnTo>
                <a:lnTo>
                  <a:pt x="121" y="0"/>
                </a:lnTo>
                <a:lnTo>
                  <a:pt x="124" y="2"/>
                </a:lnTo>
                <a:lnTo>
                  <a:pt x="126" y="6"/>
                </a:lnTo>
                <a:lnTo>
                  <a:pt x="130" y="20"/>
                </a:lnTo>
                <a:lnTo>
                  <a:pt x="132" y="33"/>
                </a:lnTo>
                <a:lnTo>
                  <a:pt x="133" y="62"/>
                </a:lnTo>
                <a:lnTo>
                  <a:pt x="133" y="89"/>
                </a:lnTo>
                <a:lnTo>
                  <a:pt x="154" y="112"/>
                </a:lnTo>
                <a:lnTo>
                  <a:pt x="155" y="101"/>
                </a:lnTo>
                <a:lnTo>
                  <a:pt x="155" y="94"/>
                </a:lnTo>
                <a:lnTo>
                  <a:pt x="161" y="94"/>
                </a:lnTo>
                <a:lnTo>
                  <a:pt x="162" y="101"/>
                </a:lnTo>
                <a:lnTo>
                  <a:pt x="162" y="118"/>
                </a:lnTo>
                <a:lnTo>
                  <a:pt x="184" y="131"/>
                </a:lnTo>
                <a:lnTo>
                  <a:pt x="184" y="121"/>
                </a:lnTo>
                <a:lnTo>
                  <a:pt x="185" y="115"/>
                </a:lnTo>
                <a:lnTo>
                  <a:pt x="191" y="115"/>
                </a:lnTo>
                <a:lnTo>
                  <a:pt x="191" y="121"/>
                </a:lnTo>
                <a:lnTo>
                  <a:pt x="192" y="137"/>
                </a:lnTo>
                <a:lnTo>
                  <a:pt x="241" y="171"/>
                </a:lnTo>
                <a:lnTo>
                  <a:pt x="243" y="174"/>
                </a:lnTo>
                <a:lnTo>
                  <a:pt x="244" y="177"/>
                </a:lnTo>
                <a:lnTo>
                  <a:pt x="244" y="186"/>
                </a:lnTo>
                <a:lnTo>
                  <a:pt x="243" y="189"/>
                </a:lnTo>
                <a:lnTo>
                  <a:pt x="239" y="189"/>
                </a:lnTo>
                <a:lnTo>
                  <a:pt x="146" y="160"/>
                </a:lnTo>
                <a:lnTo>
                  <a:pt x="133" y="159"/>
                </a:lnTo>
                <a:lnTo>
                  <a:pt x="133" y="193"/>
                </a:lnTo>
                <a:lnTo>
                  <a:pt x="132" y="213"/>
                </a:lnTo>
                <a:lnTo>
                  <a:pt x="130" y="234"/>
                </a:lnTo>
                <a:lnTo>
                  <a:pt x="158" y="264"/>
                </a:lnTo>
                <a:lnTo>
                  <a:pt x="161" y="269"/>
                </a:lnTo>
                <a:lnTo>
                  <a:pt x="161" y="276"/>
                </a:lnTo>
                <a:lnTo>
                  <a:pt x="160" y="278"/>
                </a:lnTo>
                <a:lnTo>
                  <a:pt x="157" y="278"/>
                </a:lnTo>
                <a:lnTo>
                  <a:pt x="124" y="266"/>
                </a:lnTo>
                <a:lnTo>
                  <a:pt x="121" y="270"/>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9" name=""/>
          <p:cNvSpPr/>
          <p:nvPr/>
        </p:nvSpPr>
        <p:spPr>
          <a:xfrm>
            <a:off x="6642000" y="4151160"/>
            <a:ext cx="401760" cy="459000"/>
          </a:xfrm>
          <a:custGeom>
            <a:avLst/>
            <a:gdLst/>
            <a:ahLst/>
            <a:rect l="l" t="t" r="r" b="b"/>
            <a:pathLst>
              <a:path w="253" h="289">
                <a:moveTo>
                  <a:pt x="125" y="280"/>
                </a:moveTo>
                <a:lnTo>
                  <a:pt x="124" y="275"/>
                </a:lnTo>
                <a:lnTo>
                  <a:pt x="88" y="288"/>
                </a:lnTo>
                <a:lnTo>
                  <a:pt x="87" y="288"/>
                </a:lnTo>
                <a:lnTo>
                  <a:pt x="86" y="286"/>
                </a:lnTo>
                <a:lnTo>
                  <a:pt x="86" y="279"/>
                </a:lnTo>
                <a:lnTo>
                  <a:pt x="87" y="274"/>
                </a:lnTo>
                <a:lnTo>
                  <a:pt x="117" y="243"/>
                </a:lnTo>
                <a:lnTo>
                  <a:pt x="115" y="221"/>
                </a:lnTo>
                <a:lnTo>
                  <a:pt x="113" y="200"/>
                </a:lnTo>
                <a:lnTo>
                  <a:pt x="113" y="164"/>
                </a:lnTo>
                <a:lnTo>
                  <a:pt x="100" y="166"/>
                </a:lnTo>
                <a:lnTo>
                  <a:pt x="4" y="196"/>
                </a:lnTo>
                <a:lnTo>
                  <a:pt x="1" y="196"/>
                </a:lnTo>
                <a:lnTo>
                  <a:pt x="0" y="193"/>
                </a:lnTo>
                <a:lnTo>
                  <a:pt x="0" y="183"/>
                </a:lnTo>
                <a:lnTo>
                  <a:pt x="0" y="180"/>
                </a:lnTo>
                <a:lnTo>
                  <a:pt x="2" y="177"/>
                </a:lnTo>
                <a:lnTo>
                  <a:pt x="54" y="142"/>
                </a:lnTo>
                <a:lnTo>
                  <a:pt x="54" y="125"/>
                </a:lnTo>
                <a:lnTo>
                  <a:pt x="55" y="119"/>
                </a:lnTo>
                <a:lnTo>
                  <a:pt x="61" y="119"/>
                </a:lnTo>
                <a:lnTo>
                  <a:pt x="62" y="125"/>
                </a:lnTo>
                <a:lnTo>
                  <a:pt x="62" y="136"/>
                </a:lnTo>
                <a:lnTo>
                  <a:pt x="84" y="122"/>
                </a:lnTo>
                <a:lnTo>
                  <a:pt x="85" y="105"/>
                </a:lnTo>
                <a:lnTo>
                  <a:pt x="85" y="97"/>
                </a:lnTo>
                <a:lnTo>
                  <a:pt x="91" y="97"/>
                </a:lnTo>
                <a:lnTo>
                  <a:pt x="92" y="105"/>
                </a:lnTo>
                <a:lnTo>
                  <a:pt x="92" y="116"/>
                </a:lnTo>
                <a:lnTo>
                  <a:pt x="113" y="92"/>
                </a:lnTo>
                <a:lnTo>
                  <a:pt x="113" y="64"/>
                </a:lnTo>
                <a:lnTo>
                  <a:pt x="116" y="34"/>
                </a:lnTo>
                <a:lnTo>
                  <a:pt x="117" y="20"/>
                </a:lnTo>
                <a:lnTo>
                  <a:pt x="121" y="6"/>
                </a:lnTo>
                <a:lnTo>
                  <a:pt x="123" y="2"/>
                </a:lnTo>
                <a:lnTo>
                  <a:pt x="125" y="0"/>
                </a:lnTo>
                <a:lnTo>
                  <a:pt x="128" y="2"/>
                </a:lnTo>
                <a:lnTo>
                  <a:pt x="130" y="6"/>
                </a:lnTo>
                <a:lnTo>
                  <a:pt x="134" y="20"/>
                </a:lnTo>
                <a:lnTo>
                  <a:pt x="136" y="34"/>
                </a:lnTo>
                <a:lnTo>
                  <a:pt x="137" y="64"/>
                </a:lnTo>
                <a:lnTo>
                  <a:pt x="137" y="92"/>
                </a:lnTo>
                <a:lnTo>
                  <a:pt x="159" y="116"/>
                </a:lnTo>
                <a:lnTo>
                  <a:pt x="160" y="105"/>
                </a:lnTo>
                <a:lnTo>
                  <a:pt x="160" y="97"/>
                </a:lnTo>
                <a:lnTo>
                  <a:pt x="166" y="97"/>
                </a:lnTo>
                <a:lnTo>
                  <a:pt x="167" y="105"/>
                </a:lnTo>
                <a:lnTo>
                  <a:pt x="167" y="122"/>
                </a:lnTo>
                <a:lnTo>
                  <a:pt x="190" y="136"/>
                </a:lnTo>
                <a:lnTo>
                  <a:pt x="190" y="125"/>
                </a:lnTo>
                <a:lnTo>
                  <a:pt x="191" y="119"/>
                </a:lnTo>
                <a:lnTo>
                  <a:pt x="197" y="119"/>
                </a:lnTo>
                <a:lnTo>
                  <a:pt x="197" y="125"/>
                </a:lnTo>
                <a:lnTo>
                  <a:pt x="198" y="142"/>
                </a:lnTo>
                <a:lnTo>
                  <a:pt x="248" y="177"/>
                </a:lnTo>
                <a:lnTo>
                  <a:pt x="251" y="180"/>
                </a:lnTo>
                <a:lnTo>
                  <a:pt x="252" y="183"/>
                </a:lnTo>
                <a:lnTo>
                  <a:pt x="252" y="193"/>
                </a:lnTo>
                <a:lnTo>
                  <a:pt x="251" y="196"/>
                </a:lnTo>
                <a:lnTo>
                  <a:pt x="247" y="196"/>
                </a:lnTo>
                <a:lnTo>
                  <a:pt x="150" y="166"/>
                </a:lnTo>
                <a:lnTo>
                  <a:pt x="137" y="164"/>
                </a:lnTo>
                <a:lnTo>
                  <a:pt x="137" y="200"/>
                </a:lnTo>
                <a:lnTo>
                  <a:pt x="136" y="221"/>
                </a:lnTo>
                <a:lnTo>
                  <a:pt x="134" y="243"/>
                </a:lnTo>
                <a:lnTo>
                  <a:pt x="164" y="274"/>
                </a:lnTo>
                <a:lnTo>
                  <a:pt x="166" y="279"/>
                </a:lnTo>
                <a:lnTo>
                  <a:pt x="166" y="286"/>
                </a:lnTo>
                <a:lnTo>
                  <a:pt x="165" y="288"/>
                </a:lnTo>
                <a:lnTo>
                  <a:pt x="162" y="288"/>
                </a:lnTo>
                <a:lnTo>
                  <a:pt x="128" y="275"/>
                </a:lnTo>
                <a:lnTo>
                  <a:pt x="125" y="2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0" name=""/>
          <p:cNvSpPr/>
          <p:nvPr/>
        </p:nvSpPr>
        <p:spPr>
          <a:xfrm>
            <a:off x="6937200" y="4278240"/>
            <a:ext cx="389160" cy="441360"/>
          </a:xfrm>
          <a:custGeom>
            <a:avLst/>
            <a:gdLst/>
            <a:ahLst/>
            <a:rect l="l" t="t" r="r" b="b"/>
            <a:pathLst>
              <a:path w="245" h="278">
                <a:moveTo>
                  <a:pt x="123" y="269"/>
                </a:moveTo>
                <a:lnTo>
                  <a:pt x="120" y="265"/>
                </a:lnTo>
                <a:lnTo>
                  <a:pt x="87" y="277"/>
                </a:lnTo>
                <a:lnTo>
                  <a:pt x="84" y="277"/>
                </a:lnTo>
                <a:lnTo>
                  <a:pt x="83" y="275"/>
                </a:lnTo>
                <a:lnTo>
                  <a:pt x="83" y="268"/>
                </a:lnTo>
                <a:lnTo>
                  <a:pt x="86" y="263"/>
                </a:lnTo>
                <a:lnTo>
                  <a:pt x="114" y="233"/>
                </a:lnTo>
                <a:lnTo>
                  <a:pt x="112" y="212"/>
                </a:lnTo>
                <a:lnTo>
                  <a:pt x="111" y="193"/>
                </a:lnTo>
                <a:lnTo>
                  <a:pt x="111" y="158"/>
                </a:lnTo>
                <a:lnTo>
                  <a:pt x="98" y="160"/>
                </a:lnTo>
                <a:lnTo>
                  <a:pt x="5" y="188"/>
                </a:lnTo>
                <a:lnTo>
                  <a:pt x="1" y="188"/>
                </a:lnTo>
                <a:lnTo>
                  <a:pt x="0" y="185"/>
                </a:lnTo>
                <a:lnTo>
                  <a:pt x="0" y="176"/>
                </a:lnTo>
                <a:lnTo>
                  <a:pt x="1" y="173"/>
                </a:lnTo>
                <a:lnTo>
                  <a:pt x="3" y="170"/>
                </a:lnTo>
                <a:lnTo>
                  <a:pt x="52" y="137"/>
                </a:lnTo>
                <a:lnTo>
                  <a:pt x="53" y="120"/>
                </a:lnTo>
                <a:lnTo>
                  <a:pt x="53" y="114"/>
                </a:lnTo>
                <a:lnTo>
                  <a:pt x="59" y="114"/>
                </a:lnTo>
                <a:lnTo>
                  <a:pt x="60" y="120"/>
                </a:lnTo>
                <a:lnTo>
                  <a:pt x="60" y="131"/>
                </a:lnTo>
                <a:lnTo>
                  <a:pt x="82" y="117"/>
                </a:lnTo>
                <a:lnTo>
                  <a:pt x="82" y="101"/>
                </a:lnTo>
                <a:lnTo>
                  <a:pt x="83" y="93"/>
                </a:lnTo>
                <a:lnTo>
                  <a:pt x="89" y="93"/>
                </a:lnTo>
                <a:lnTo>
                  <a:pt x="89" y="101"/>
                </a:lnTo>
                <a:lnTo>
                  <a:pt x="90" y="111"/>
                </a:lnTo>
                <a:lnTo>
                  <a:pt x="111" y="89"/>
                </a:lnTo>
                <a:lnTo>
                  <a:pt x="111" y="62"/>
                </a:lnTo>
                <a:lnTo>
                  <a:pt x="112" y="33"/>
                </a:lnTo>
                <a:lnTo>
                  <a:pt x="114" y="20"/>
                </a:lnTo>
                <a:lnTo>
                  <a:pt x="118" y="6"/>
                </a:lnTo>
                <a:lnTo>
                  <a:pt x="120" y="2"/>
                </a:lnTo>
                <a:lnTo>
                  <a:pt x="123" y="0"/>
                </a:lnTo>
                <a:lnTo>
                  <a:pt x="125" y="2"/>
                </a:lnTo>
                <a:lnTo>
                  <a:pt x="127" y="6"/>
                </a:lnTo>
                <a:lnTo>
                  <a:pt x="130" y="20"/>
                </a:lnTo>
                <a:lnTo>
                  <a:pt x="132" y="33"/>
                </a:lnTo>
                <a:lnTo>
                  <a:pt x="134" y="62"/>
                </a:lnTo>
                <a:lnTo>
                  <a:pt x="134" y="89"/>
                </a:lnTo>
                <a:lnTo>
                  <a:pt x="155" y="111"/>
                </a:lnTo>
                <a:lnTo>
                  <a:pt x="155" y="101"/>
                </a:lnTo>
                <a:lnTo>
                  <a:pt x="156" y="93"/>
                </a:lnTo>
                <a:lnTo>
                  <a:pt x="162" y="93"/>
                </a:lnTo>
                <a:lnTo>
                  <a:pt x="162" y="101"/>
                </a:lnTo>
                <a:lnTo>
                  <a:pt x="163" y="117"/>
                </a:lnTo>
                <a:lnTo>
                  <a:pt x="184" y="131"/>
                </a:lnTo>
                <a:lnTo>
                  <a:pt x="184" y="120"/>
                </a:lnTo>
                <a:lnTo>
                  <a:pt x="185" y="114"/>
                </a:lnTo>
                <a:lnTo>
                  <a:pt x="191" y="114"/>
                </a:lnTo>
                <a:lnTo>
                  <a:pt x="192" y="120"/>
                </a:lnTo>
                <a:lnTo>
                  <a:pt x="192" y="137"/>
                </a:lnTo>
                <a:lnTo>
                  <a:pt x="242" y="170"/>
                </a:lnTo>
                <a:lnTo>
                  <a:pt x="244" y="173"/>
                </a:lnTo>
                <a:lnTo>
                  <a:pt x="244" y="176"/>
                </a:lnTo>
                <a:lnTo>
                  <a:pt x="244" y="185"/>
                </a:lnTo>
                <a:lnTo>
                  <a:pt x="243" y="188"/>
                </a:lnTo>
                <a:lnTo>
                  <a:pt x="241" y="188"/>
                </a:lnTo>
                <a:lnTo>
                  <a:pt x="147" y="160"/>
                </a:lnTo>
                <a:lnTo>
                  <a:pt x="134" y="158"/>
                </a:lnTo>
                <a:lnTo>
                  <a:pt x="134" y="193"/>
                </a:lnTo>
                <a:lnTo>
                  <a:pt x="133" y="212"/>
                </a:lnTo>
                <a:lnTo>
                  <a:pt x="130" y="233"/>
                </a:lnTo>
                <a:lnTo>
                  <a:pt x="160" y="263"/>
                </a:lnTo>
                <a:lnTo>
                  <a:pt x="161" y="268"/>
                </a:lnTo>
                <a:lnTo>
                  <a:pt x="161" y="275"/>
                </a:lnTo>
                <a:lnTo>
                  <a:pt x="161" y="277"/>
                </a:lnTo>
                <a:lnTo>
                  <a:pt x="158" y="277"/>
                </a:lnTo>
                <a:lnTo>
                  <a:pt x="124" y="265"/>
                </a:lnTo>
                <a:lnTo>
                  <a:pt x="123" y="269"/>
                </a:lnTo>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1" name=""/>
          <p:cNvSpPr/>
          <p:nvPr/>
        </p:nvSpPr>
        <p:spPr>
          <a:xfrm>
            <a:off x="6937200" y="4278240"/>
            <a:ext cx="400320" cy="457200"/>
          </a:xfrm>
          <a:custGeom>
            <a:avLst/>
            <a:gdLst/>
            <a:ahLst/>
            <a:rect l="l" t="t" r="r" b="b"/>
            <a:pathLst>
              <a:path w="252" h="288">
                <a:moveTo>
                  <a:pt x="126" y="279"/>
                </a:moveTo>
                <a:lnTo>
                  <a:pt x="124" y="275"/>
                </a:lnTo>
                <a:lnTo>
                  <a:pt x="89" y="287"/>
                </a:lnTo>
                <a:lnTo>
                  <a:pt x="87" y="287"/>
                </a:lnTo>
                <a:lnTo>
                  <a:pt x="86" y="285"/>
                </a:lnTo>
                <a:lnTo>
                  <a:pt x="86" y="278"/>
                </a:lnTo>
                <a:lnTo>
                  <a:pt x="88" y="273"/>
                </a:lnTo>
                <a:lnTo>
                  <a:pt x="118" y="242"/>
                </a:lnTo>
                <a:lnTo>
                  <a:pt x="115" y="220"/>
                </a:lnTo>
                <a:lnTo>
                  <a:pt x="114" y="200"/>
                </a:lnTo>
                <a:lnTo>
                  <a:pt x="114" y="164"/>
                </a:lnTo>
                <a:lnTo>
                  <a:pt x="101" y="165"/>
                </a:lnTo>
                <a:lnTo>
                  <a:pt x="5" y="195"/>
                </a:lnTo>
                <a:lnTo>
                  <a:pt x="1" y="195"/>
                </a:lnTo>
                <a:lnTo>
                  <a:pt x="0" y="192"/>
                </a:lnTo>
                <a:lnTo>
                  <a:pt x="0" y="182"/>
                </a:lnTo>
                <a:lnTo>
                  <a:pt x="1" y="179"/>
                </a:lnTo>
                <a:lnTo>
                  <a:pt x="4" y="176"/>
                </a:lnTo>
                <a:lnTo>
                  <a:pt x="54" y="142"/>
                </a:lnTo>
                <a:lnTo>
                  <a:pt x="55" y="125"/>
                </a:lnTo>
                <a:lnTo>
                  <a:pt x="55" y="119"/>
                </a:lnTo>
                <a:lnTo>
                  <a:pt x="61" y="119"/>
                </a:lnTo>
                <a:lnTo>
                  <a:pt x="62" y="125"/>
                </a:lnTo>
                <a:lnTo>
                  <a:pt x="62" y="136"/>
                </a:lnTo>
                <a:lnTo>
                  <a:pt x="84" y="122"/>
                </a:lnTo>
                <a:lnTo>
                  <a:pt x="84" y="105"/>
                </a:lnTo>
                <a:lnTo>
                  <a:pt x="86" y="97"/>
                </a:lnTo>
                <a:lnTo>
                  <a:pt x="92" y="97"/>
                </a:lnTo>
                <a:lnTo>
                  <a:pt x="92" y="105"/>
                </a:lnTo>
                <a:lnTo>
                  <a:pt x="93" y="115"/>
                </a:lnTo>
                <a:lnTo>
                  <a:pt x="114" y="92"/>
                </a:lnTo>
                <a:lnTo>
                  <a:pt x="114" y="64"/>
                </a:lnTo>
                <a:lnTo>
                  <a:pt x="115" y="34"/>
                </a:lnTo>
                <a:lnTo>
                  <a:pt x="118" y="20"/>
                </a:lnTo>
                <a:lnTo>
                  <a:pt x="121" y="6"/>
                </a:lnTo>
                <a:lnTo>
                  <a:pt x="124" y="2"/>
                </a:lnTo>
                <a:lnTo>
                  <a:pt x="126" y="0"/>
                </a:lnTo>
                <a:lnTo>
                  <a:pt x="128" y="2"/>
                </a:lnTo>
                <a:lnTo>
                  <a:pt x="131" y="6"/>
                </a:lnTo>
                <a:lnTo>
                  <a:pt x="133" y="20"/>
                </a:lnTo>
                <a:lnTo>
                  <a:pt x="136" y="34"/>
                </a:lnTo>
                <a:lnTo>
                  <a:pt x="138" y="64"/>
                </a:lnTo>
                <a:lnTo>
                  <a:pt x="138" y="92"/>
                </a:lnTo>
                <a:lnTo>
                  <a:pt x="159" y="115"/>
                </a:lnTo>
                <a:lnTo>
                  <a:pt x="159" y="105"/>
                </a:lnTo>
                <a:lnTo>
                  <a:pt x="161" y="97"/>
                </a:lnTo>
                <a:lnTo>
                  <a:pt x="167" y="97"/>
                </a:lnTo>
                <a:lnTo>
                  <a:pt x="167" y="105"/>
                </a:lnTo>
                <a:lnTo>
                  <a:pt x="168" y="122"/>
                </a:lnTo>
                <a:lnTo>
                  <a:pt x="189" y="136"/>
                </a:lnTo>
                <a:lnTo>
                  <a:pt x="189" y="125"/>
                </a:lnTo>
                <a:lnTo>
                  <a:pt x="190" y="119"/>
                </a:lnTo>
                <a:lnTo>
                  <a:pt x="196" y="119"/>
                </a:lnTo>
                <a:lnTo>
                  <a:pt x="197" y="125"/>
                </a:lnTo>
                <a:lnTo>
                  <a:pt x="197" y="142"/>
                </a:lnTo>
                <a:lnTo>
                  <a:pt x="249" y="176"/>
                </a:lnTo>
                <a:lnTo>
                  <a:pt x="251" y="179"/>
                </a:lnTo>
                <a:lnTo>
                  <a:pt x="251" y="182"/>
                </a:lnTo>
                <a:lnTo>
                  <a:pt x="251" y="192"/>
                </a:lnTo>
                <a:lnTo>
                  <a:pt x="250" y="195"/>
                </a:lnTo>
                <a:lnTo>
                  <a:pt x="247" y="195"/>
                </a:lnTo>
                <a:lnTo>
                  <a:pt x="151" y="165"/>
                </a:lnTo>
                <a:lnTo>
                  <a:pt x="138" y="164"/>
                </a:lnTo>
                <a:lnTo>
                  <a:pt x="138" y="200"/>
                </a:lnTo>
                <a:lnTo>
                  <a:pt x="137" y="220"/>
                </a:lnTo>
                <a:lnTo>
                  <a:pt x="133" y="242"/>
                </a:lnTo>
                <a:lnTo>
                  <a:pt x="164" y="273"/>
                </a:lnTo>
                <a:lnTo>
                  <a:pt x="165" y="278"/>
                </a:lnTo>
                <a:lnTo>
                  <a:pt x="165" y="285"/>
                </a:lnTo>
                <a:lnTo>
                  <a:pt x="165" y="287"/>
                </a:lnTo>
                <a:lnTo>
                  <a:pt x="163" y="287"/>
                </a:lnTo>
                <a:lnTo>
                  <a:pt x="127" y="275"/>
                </a:lnTo>
                <a:lnTo>
                  <a:pt x="126" y="27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2" name=""/>
          <p:cNvSpPr/>
          <p:nvPr/>
        </p:nvSpPr>
        <p:spPr>
          <a:xfrm>
            <a:off x="3269520" y="6172200"/>
            <a:ext cx="3014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ate of Entry into Service</a:t>
            </a:r>
            <a:endParaRPr b="0" lang="en-US" sz="2000" spc="-1" strike="noStrike">
              <a:solidFill>
                <a:srgbClr val="ffffff"/>
              </a:solidFill>
              <a:latin typeface="Times New Roman"/>
            </a:endParaRPr>
          </a:p>
        </p:txBody>
      </p:sp>
      <p:sp>
        <p:nvSpPr>
          <p:cNvPr id="1553" name=""/>
          <p:cNvSpPr/>
          <p:nvPr/>
        </p:nvSpPr>
        <p:spPr>
          <a:xfrm>
            <a:off x="709920" y="5780160"/>
            <a:ext cx="590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55</a:t>
            </a:r>
            <a:endParaRPr b="0" lang="en-US" sz="1600" spc="-1" strike="noStrike">
              <a:solidFill>
                <a:srgbClr val="ffffff"/>
              </a:solidFill>
              <a:latin typeface="Times New Roman"/>
            </a:endParaRPr>
          </a:p>
        </p:txBody>
      </p:sp>
      <p:sp>
        <p:nvSpPr>
          <p:cNvPr id="1554" name=""/>
          <p:cNvSpPr/>
          <p:nvPr/>
        </p:nvSpPr>
        <p:spPr>
          <a:xfrm>
            <a:off x="1446480" y="5780160"/>
            <a:ext cx="590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60</a:t>
            </a:r>
            <a:endParaRPr b="0" lang="en-US" sz="1600" spc="-1" strike="noStrike">
              <a:solidFill>
                <a:srgbClr val="ffffff"/>
              </a:solidFill>
              <a:latin typeface="Times New Roman"/>
            </a:endParaRPr>
          </a:p>
        </p:txBody>
      </p:sp>
      <p:sp>
        <p:nvSpPr>
          <p:cNvPr id="1555" name=""/>
          <p:cNvSpPr/>
          <p:nvPr/>
        </p:nvSpPr>
        <p:spPr>
          <a:xfrm>
            <a:off x="2184840" y="5780160"/>
            <a:ext cx="590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65</a:t>
            </a:r>
            <a:endParaRPr b="0" lang="en-US" sz="1600" spc="-1" strike="noStrike">
              <a:solidFill>
                <a:srgbClr val="ffffff"/>
              </a:solidFill>
              <a:latin typeface="Times New Roman"/>
            </a:endParaRPr>
          </a:p>
        </p:txBody>
      </p:sp>
      <p:sp>
        <p:nvSpPr>
          <p:cNvPr id="1556" name=""/>
          <p:cNvSpPr/>
          <p:nvPr/>
        </p:nvSpPr>
        <p:spPr>
          <a:xfrm>
            <a:off x="2921400" y="5780160"/>
            <a:ext cx="590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70</a:t>
            </a:r>
            <a:endParaRPr b="0" lang="en-US" sz="1600" spc="-1" strike="noStrike">
              <a:solidFill>
                <a:srgbClr val="ffffff"/>
              </a:solidFill>
              <a:latin typeface="Times New Roman"/>
            </a:endParaRPr>
          </a:p>
        </p:txBody>
      </p:sp>
      <p:sp>
        <p:nvSpPr>
          <p:cNvPr id="1557" name=""/>
          <p:cNvSpPr/>
          <p:nvPr/>
        </p:nvSpPr>
        <p:spPr>
          <a:xfrm>
            <a:off x="3657960" y="5780160"/>
            <a:ext cx="590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75</a:t>
            </a:r>
            <a:endParaRPr b="0" lang="en-US" sz="1600" spc="-1" strike="noStrike">
              <a:solidFill>
                <a:srgbClr val="ffffff"/>
              </a:solidFill>
              <a:latin typeface="Times New Roman"/>
            </a:endParaRPr>
          </a:p>
        </p:txBody>
      </p:sp>
      <p:sp>
        <p:nvSpPr>
          <p:cNvPr id="1558" name=""/>
          <p:cNvSpPr/>
          <p:nvPr/>
        </p:nvSpPr>
        <p:spPr>
          <a:xfrm>
            <a:off x="4396320" y="5780160"/>
            <a:ext cx="590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80</a:t>
            </a:r>
            <a:endParaRPr b="0" lang="en-US" sz="1600" spc="-1" strike="noStrike">
              <a:solidFill>
                <a:srgbClr val="ffffff"/>
              </a:solidFill>
              <a:latin typeface="Times New Roman"/>
            </a:endParaRPr>
          </a:p>
        </p:txBody>
      </p:sp>
      <p:sp>
        <p:nvSpPr>
          <p:cNvPr id="1559" name=""/>
          <p:cNvSpPr/>
          <p:nvPr/>
        </p:nvSpPr>
        <p:spPr>
          <a:xfrm>
            <a:off x="5135760" y="5780160"/>
            <a:ext cx="590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85</a:t>
            </a:r>
            <a:endParaRPr b="0" lang="en-US" sz="1600" spc="-1" strike="noStrike">
              <a:solidFill>
                <a:srgbClr val="ffffff"/>
              </a:solidFill>
              <a:latin typeface="Times New Roman"/>
            </a:endParaRPr>
          </a:p>
        </p:txBody>
      </p:sp>
      <p:sp>
        <p:nvSpPr>
          <p:cNvPr id="1560" name=""/>
          <p:cNvSpPr/>
          <p:nvPr/>
        </p:nvSpPr>
        <p:spPr>
          <a:xfrm>
            <a:off x="5872680" y="5780160"/>
            <a:ext cx="590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90</a:t>
            </a:r>
            <a:endParaRPr b="0" lang="en-US" sz="1600" spc="-1" strike="noStrike">
              <a:solidFill>
                <a:srgbClr val="ffffff"/>
              </a:solidFill>
              <a:latin typeface="Times New Roman"/>
            </a:endParaRPr>
          </a:p>
        </p:txBody>
      </p:sp>
      <p:sp>
        <p:nvSpPr>
          <p:cNvPr id="1561" name=""/>
          <p:cNvSpPr/>
          <p:nvPr/>
        </p:nvSpPr>
        <p:spPr>
          <a:xfrm>
            <a:off x="6609240" y="5780160"/>
            <a:ext cx="590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995</a:t>
            </a:r>
            <a:endParaRPr b="0" lang="en-US" sz="1600" spc="-1" strike="noStrike">
              <a:solidFill>
                <a:srgbClr val="ffffff"/>
              </a:solidFill>
              <a:latin typeface="Times New Roman"/>
            </a:endParaRPr>
          </a:p>
        </p:txBody>
      </p:sp>
      <p:sp>
        <p:nvSpPr>
          <p:cNvPr id="1562" name=""/>
          <p:cNvSpPr/>
          <p:nvPr/>
        </p:nvSpPr>
        <p:spPr>
          <a:xfrm>
            <a:off x="7345800" y="5780160"/>
            <a:ext cx="590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000</a:t>
            </a:r>
            <a:endParaRPr b="0" lang="en-US" sz="1600" spc="-1" strike="noStrike">
              <a:solidFill>
                <a:srgbClr val="ffffff"/>
              </a:solidFill>
              <a:latin typeface="Times New Roman"/>
            </a:endParaRPr>
          </a:p>
        </p:txBody>
      </p:sp>
      <p:sp>
        <p:nvSpPr>
          <p:cNvPr id="1563" name=""/>
          <p:cNvSpPr/>
          <p:nvPr/>
        </p:nvSpPr>
        <p:spPr>
          <a:xfrm>
            <a:off x="8085600" y="5780160"/>
            <a:ext cx="590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005</a:t>
            </a:r>
            <a:endParaRPr b="0" lang="en-US" sz="1600" spc="-1" strike="noStrike">
              <a:solidFill>
                <a:srgbClr val="ffffff"/>
              </a:solidFill>
              <a:latin typeface="Times New Roman"/>
            </a:endParaRPr>
          </a:p>
        </p:txBody>
      </p:sp>
      <p:sp>
        <p:nvSpPr>
          <p:cNvPr id="1564" name=""/>
          <p:cNvSpPr/>
          <p:nvPr/>
        </p:nvSpPr>
        <p:spPr>
          <a:xfrm>
            <a:off x="1133640" y="3227400"/>
            <a:ext cx="0" cy="108432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5" name=""/>
          <p:cNvSpPr/>
          <p:nvPr/>
        </p:nvSpPr>
        <p:spPr>
          <a:xfrm>
            <a:off x="1073160" y="4254480"/>
            <a:ext cx="120600" cy="139680"/>
          </a:xfrm>
          <a:custGeom>
            <a:avLst/>
            <a:gdLst/>
            <a:ahLst/>
            <a:rect l="l" t="t" r="r" b="b"/>
            <a:pathLst>
              <a:path w="76" h="88">
                <a:moveTo>
                  <a:pt x="0" y="0"/>
                </a:moveTo>
                <a:lnTo>
                  <a:pt x="38" y="87"/>
                </a:lnTo>
                <a:lnTo>
                  <a:pt x="75" y="0"/>
                </a:lnTo>
                <a:lnTo>
                  <a:pt x="0" y="0"/>
                </a:lnTo>
              </a:path>
            </a:pathLst>
          </a:cu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6" name=""/>
          <p:cNvSpPr/>
          <p:nvPr/>
        </p:nvSpPr>
        <p:spPr>
          <a:xfrm flipV="1">
            <a:off x="1133640" y="3173040"/>
            <a:ext cx="0" cy="2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7" name=""/>
          <p:cNvSpPr/>
          <p:nvPr/>
        </p:nvSpPr>
        <p:spPr>
          <a:xfrm>
            <a:off x="1073160" y="3116160"/>
            <a:ext cx="120600" cy="141480"/>
          </a:xfrm>
          <a:custGeom>
            <a:avLst/>
            <a:gdLst/>
            <a:ahLst/>
            <a:rect l="l" t="t" r="r" b="b"/>
            <a:pathLst>
              <a:path w="76" h="89">
                <a:moveTo>
                  <a:pt x="75" y="88"/>
                </a:moveTo>
                <a:lnTo>
                  <a:pt x="38" y="0"/>
                </a:lnTo>
                <a:lnTo>
                  <a:pt x="0" y="88"/>
                </a:lnTo>
                <a:lnTo>
                  <a:pt x="75" y="88"/>
                </a:lnTo>
              </a:path>
            </a:pathLst>
          </a:custGeom>
          <a:solidFill>
            <a:srgbClr val="000000"/>
          </a:soli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8" name=""/>
          <p:cNvSpPr/>
          <p:nvPr/>
        </p:nvSpPr>
        <p:spPr>
          <a:xfrm>
            <a:off x="1120320" y="3838680"/>
            <a:ext cx="747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0 dB</a:t>
            </a:r>
            <a:endParaRPr b="0" lang="en-US" sz="1800" spc="-1" strike="noStrike">
              <a:solidFill>
                <a:srgbClr val="ffffff"/>
              </a:solidFill>
              <a:latin typeface="Times New Roman"/>
            </a:endParaRPr>
          </a:p>
        </p:txBody>
      </p:sp>
      <p:sp>
        <p:nvSpPr>
          <p:cNvPr id="1569" name=""/>
          <p:cNvSpPr/>
          <p:nvPr/>
        </p:nvSpPr>
        <p:spPr>
          <a:xfrm>
            <a:off x="3048120" y="5180040"/>
            <a:ext cx="0" cy="39384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0" name=""/>
          <p:cNvSpPr/>
          <p:nvPr/>
        </p:nvSpPr>
        <p:spPr>
          <a:xfrm>
            <a:off x="4348080" y="5189400"/>
            <a:ext cx="0" cy="374760"/>
          </a:xfrm>
          <a:prstGeom prst="line">
            <a:avLst/>
          </a:prstGeom>
          <a:ln w="255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1" name=""/>
          <p:cNvSpPr/>
          <p:nvPr/>
        </p:nvSpPr>
        <p:spPr>
          <a:xfrm>
            <a:off x="2536560" y="4876920"/>
            <a:ext cx="1166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hapter 2</a:t>
            </a:r>
            <a:endParaRPr b="0" lang="en-US" sz="1800" spc="-1" strike="noStrike">
              <a:solidFill>
                <a:srgbClr val="ffffff"/>
              </a:solidFill>
              <a:latin typeface="Times New Roman"/>
            </a:endParaRPr>
          </a:p>
        </p:txBody>
      </p:sp>
      <p:sp>
        <p:nvSpPr>
          <p:cNvPr id="1572" name=""/>
          <p:cNvSpPr/>
          <p:nvPr/>
        </p:nvSpPr>
        <p:spPr>
          <a:xfrm>
            <a:off x="3755520" y="4883040"/>
            <a:ext cx="11660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hapter 3</a:t>
            </a:r>
            <a:endParaRPr b="0" lang="en-US" sz="1800" spc="-1" strike="noStrike">
              <a:solidFill>
                <a:srgbClr val="ffffff"/>
              </a:solidFill>
              <a:latin typeface="Times New Roman"/>
            </a:endParaRPr>
          </a:p>
        </p:txBody>
      </p:sp>
      <p:sp>
        <p:nvSpPr>
          <p:cNvPr id="1573" name=""/>
          <p:cNvSpPr/>
          <p:nvPr/>
        </p:nvSpPr>
        <p:spPr>
          <a:xfrm>
            <a:off x="5963400" y="5121360"/>
            <a:ext cx="1255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crease</a:t>
            </a:r>
            <a:r>
              <a:rPr b="1" lang="en-US" sz="1800" spc="-1" strike="noStrike">
                <a:solidFill>
                  <a:srgbClr val="000000"/>
                </a:solidFill>
                <a:latin typeface="Times New Roman"/>
              </a:rPr>
              <a:t> </a:t>
            </a:r>
            <a:r>
              <a:rPr b="1" lang="en-US" sz="1800" spc="-1" strike="noStrike">
                <a:solidFill>
                  <a:srgbClr val="ffffff"/>
                </a:solidFill>
                <a:latin typeface="Times New Roman"/>
              </a:rPr>
              <a:t>in</a:t>
            </a:r>
            <a:endParaRPr b="0" lang="en-US" sz="1800" spc="-1" strike="noStrike">
              <a:solidFill>
                <a:srgbClr val="ffffff"/>
              </a:solidFill>
              <a:latin typeface="Times New Roman"/>
            </a:endParaRPr>
          </a:p>
        </p:txBody>
      </p:sp>
      <p:sp>
        <p:nvSpPr>
          <p:cNvPr id="1574" name=""/>
          <p:cNvSpPr/>
          <p:nvPr/>
        </p:nvSpPr>
        <p:spPr>
          <a:xfrm>
            <a:off x="5842080" y="5289480"/>
            <a:ext cx="1720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ight or range</a:t>
            </a:r>
            <a:endParaRPr b="0" lang="en-US" sz="1800" spc="-1" strike="noStrike">
              <a:solidFill>
                <a:srgbClr val="ffffff"/>
              </a:solidFill>
              <a:latin typeface="Times New Roman"/>
            </a:endParaRPr>
          </a:p>
        </p:txBody>
      </p:sp>
      <p:sp>
        <p:nvSpPr>
          <p:cNvPr id="1575" name=""/>
          <p:cNvSpPr/>
          <p:nvPr/>
        </p:nvSpPr>
        <p:spPr>
          <a:xfrm flipV="1">
            <a:off x="6494400" y="4846680"/>
            <a:ext cx="0" cy="349200"/>
          </a:xfrm>
          <a:prstGeom prst="line">
            <a:avLst/>
          </a:prstGeom>
          <a:ln w="1260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6" name=""/>
          <p:cNvSpPr/>
          <p:nvPr/>
        </p:nvSpPr>
        <p:spPr>
          <a:xfrm>
            <a:off x="6435720" y="4707000"/>
            <a:ext cx="117360" cy="139680"/>
          </a:xfrm>
          <a:custGeom>
            <a:avLst/>
            <a:gdLst/>
            <a:ahLst/>
            <a:rect l="l" t="t" r="r" b="b"/>
            <a:pathLst>
              <a:path w="74" h="88">
                <a:moveTo>
                  <a:pt x="73" y="87"/>
                </a:moveTo>
                <a:lnTo>
                  <a:pt x="37" y="0"/>
                </a:lnTo>
                <a:lnTo>
                  <a:pt x="0" y="87"/>
                </a:lnTo>
                <a:lnTo>
                  <a:pt x="73" y="87"/>
                </a:lnTo>
              </a:path>
            </a:pathLst>
          </a:custGeom>
          <a:solidFill>
            <a:srgbClr val="000000"/>
          </a:solidFill>
          <a:ln cap="rnd" w="12600">
            <a:solidFill>
              <a:srgbClr val="ffcc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7" name=""/>
          <p:cNvSpPr/>
          <p:nvPr/>
        </p:nvSpPr>
        <p:spPr>
          <a:xfrm>
            <a:off x="2094480" y="2077920"/>
            <a:ext cx="1894320" cy="637560"/>
          </a:xfrm>
          <a:prstGeom prst="rect">
            <a:avLst/>
          </a:prstGeom>
          <a:solidFill>
            <a:srgbClr val="f76681"/>
          </a:solidFill>
          <a:ln w="12600">
            <a:solidFill>
              <a:srgbClr val="ffffff"/>
            </a:solidFill>
            <a:miter/>
          </a:ln>
          <a:effectLst>
            <a:outerShdw dist="107932" dir="2700000" blurRad="0" rotWithShape="0">
              <a:srgbClr val="000066"/>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w-bypass-ratio</a:t>
            </a:r>
            <a:br>
              <a:rPr sz="1800"/>
            </a:br>
            <a:r>
              <a:rPr b="1" lang="en-US" sz="1800" spc="-1" strike="noStrike">
                <a:solidFill>
                  <a:srgbClr val="000000"/>
                </a:solidFill>
                <a:latin typeface="Times New Roman"/>
              </a:rPr>
              <a:t>Turbofans</a:t>
            </a:r>
            <a:endParaRPr b="0" lang="en-US" sz="1800" spc="-1" strike="noStrike">
              <a:solidFill>
                <a:srgbClr val="ffffff"/>
              </a:solidFill>
              <a:latin typeface="Times New Roman"/>
            </a:endParaRPr>
          </a:p>
        </p:txBody>
      </p:sp>
      <p:sp>
        <p:nvSpPr>
          <p:cNvPr id="1578" name=""/>
          <p:cNvSpPr/>
          <p:nvPr/>
        </p:nvSpPr>
        <p:spPr>
          <a:xfrm>
            <a:off x="3926520" y="2771640"/>
            <a:ext cx="1894320" cy="911880"/>
          </a:xfrm>
          <a:prstGeom prst="rect">
            <a:avLst/>
          </a:prstGeom>
          <a:solidFill>
            <a:srgbClr val="a3f25f"/>
          </a:solidFill>
          <a:ln w="12600">
            <a:solidFill>
              <a:srgbClr val="ffffff"/>
            </a:solidFill>
            <a:miter/>
          </a:ln>
          <a:effectLst>
            <a:outerShdw dist="107932" dir="2700000" blurRad="0" rotWithShape="0">
              <a:srgbClr val="000066"/>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rst-generation</a:t>
            </a:r>
            <a:br>
              <a:rPr sz="1800"/>
            </a:br>
            <a:r>
              <a:rPr b="1" lang="en-US" sz="1800" spc="-1" strike="noStrike">
                <a:solidFill>
                  <a:srgbClr val="000000"/>
                </a:solidFill>
                <a:latin typeface="Times New Roman"/>
              </a:rPr>
              <a:t>high-bypass-ratio</a:t>
            </a:r>
            <a:br>
              <a:rPr sz="1800"/>
            </a:br>
            <a:r>
              <a:rPr b="1" lang="en-US" sz="1800" spc="-1" strike="noStrike">
                <a:solidFill>
                  <a:srgbClr val="000000"/>
                </a:solidFill>
                <a:latin typeface="Times New Roman"/>
              </a:rPr>
              <a:t>Turbofans</a:t>
            </a:r>
            <a:endParaRPr b="0" lang="en-US" sz="1800" spc="-1" strike="noStrike">
              <a:solidFill>
                <a:srgbClr val="ffffff"/>
              </a:solidFill>
              <a:latin typeface="Times New Roman"/>
            </a:endParaRPr>
          </a:p>
        </p:txBody>
      </p:sp>
      <p:sp>
        <p:nvSpPr>
          <p:cNvPr id="1579" name=""/>
          <p:cNvSpPr/>
          <p:nvPr/>
        </p:nvSpPr>
        <p:spPr>
          <a:xfrm>
            <a:off x="5824080" y="3171960"/>
            <a:ext cx="1998000" cy="911880"/>
          </a:xfrm>
          <a:prstGeom prst="rect">
            <a:avLst/>
          </a:prstGeom>
          <a:solidFill>
            <a:srgbClr val="00ff00"/>
          </a:solidFill>
          <a:ln w="12600">
            <a:solidFill>
              <a:srgbClr val="ffff00"/>
            </a:solidFill>
            <a:miter/>
          </a:ln>
          <a:effectLst>
            <a:outerShdw dist="107932" dir="2700000" blurRad="0" rotWithShape="0">
              <a:srgbClr val="000066"/>
            </a:outerShdw>
          </a:effectLst>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ond-generation</a:t>
            </a:r>
            <a:br>
              <a:rPr sz="1800"/>
            </a:br>
            <a:r>
              <a:rPr b="1" lang="en-US" sz="1800" spc="-1" strike="noStrike">
                <a:solidFill>
                  <a:srgbClr val="000000"/>
                </a:solidFill>
                <a:latin typeface="Times New Roman"/>
              </a:rPr>
              <a:t>high-bypass-ratio</a:t>
            </a:r>
            <a:br>
              <a:rPr sz="1800"/>
            </a:br>
            <a:r>
              <a:rPr b="1" lang="en-US" sz="1800" spc="-1" strike="noStrike">
                <a:solidFill>
                  <a:srgbClr val="000000"/>
                </a:solidFill>
                <a:latin typeface="Times New Roman"/>
              </a:rPr>
              <a:t>Turbofans</a:t>
            </a:r>
            <a:endParaRPr b="0" lang="en-US" sz="1800" spc="-1" strike="noStrike">
              <a:solidFill>
                <a:srgbClr val="ffffff"/>
              </a:solidFill>
              <a:latin typeface="Times New Roman"/>
            </a:endParaRPr>
          </a:p>
        </p:txBody>
      </p:sp>
      <p:sp>
        <p:nvSpPr>
          <p:cNvPr id="1580" name=""/>
          <p:cNvSpPr/>
          <p:nvPr/>
        </p:nvSpPr>
        <p:spPr>
          <a:xfrm>
            <a:off x="1315800" y="1230480"/>
            <a:ext cx="1146240" cy="363240"/>
          </a:xfrm>
          <a:prstGeom prst="rect">
            <a:avLst/>
          </a:prstGeom>
          <a:solidFill>
            <a:srgbClr val="ff0000"/>
          </a:solidFill>
          <a:ln w="12600">
            <a:solidFill>
              <a:srgbClr val="ffffff"/>
            </a:solidFill>
            <a:miter/>
          </a:ln>
          <a:effectLst>
            <a:outerShdw dist="107932" dir="2700000" blurRad="0" rotWithShape="0">
              <a:srgbClr val="000066"/>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urbojets</a:t>
            </a:r>
            <a:endParaRPr b="0" lang="en-US" sz="1800" spc="-1" strike="noStrike">
              <a:solidFill>
                <a:srgbClr val="ffffff"/>
              </a:solidFill>
              <a:latin typeface="Times New Roman"/>
            </a:endParaRPr>
          </a:p>
        </p:txBody>
      </p:sp>
      <p:sp>
        <p:nvSpPr>
          <p:cNvPr id="1581" name=""/>
          <p:cNvSpPr/>
          <p:nvPr/>
        </p:nvSpPr>
        <p:spPr>
          <a:xfrm>
            <a:off x="3368880" y="1636560"/>
            <a:ext cx="15134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CORDE</a:t>
            </a:r>
            <a:endParaRPr b="0" lang="en-US" sz="1800" spc="-1" strike="noStrike">
              <a:solidFill>
                <a:srgbClr val="ffffff"/>
              </a:solidFill>
              <a:latin typeface="Times New Roman"/>
            </a:endParaRPr>
          </a:p>
        </p:txBody>
      </p:sp>
      <p:sp>
        <p:nvSpPr>
          <p:cNvPr id="1582" name=""/>
          <p:cNvSpPr/>
          <p:nvPr/>
        </p:nvSpPr>
        <p:spPr>
          <a:xfrm>
            <a:off x="2978280" y="5578560"/>
            <a:ext cx="115920" cy="129960"/>
          </a:xfrm>
          <a:prstGeom prst="ellipse">
            <a:avLst/>
          </a:prstGeom>
          <a:solidFill>
            <a:srgbClr val="000066"/>
          </a:solidFill>
          <a:ln w="12600">
            <a:solidFill>
              <a:srgbClr val="ffffff"/>
            </a:solidFill>
            <a:miter/>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1583" name=""/>
          <p:cNvSpPr/>
          <p:nvPr/>
        </p:nvSpPr>
        <p:spPr>
          <a:xfrm>
            <a:off x="4273560" y="5587920"/>
            <a:ext cx="115920" cy="130320"/>
          </a:xfrm>
          <a:prstGeom prst="ellipse">
            <a:avLst/>
          </a:prstGeom>
          <a:solidFill>
            <a:srgbClr val="00ffff"/>
          </a:solidFill>
          <a:ln w="12600">
            <a:solidFill>
              <a:srgbClr val="ffffff"/>
            </a:solidFill>
            <a:miter/>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What are the trends?</a:t>
            </a:r>
            <a:br>
              <a:rPr sz="3600"/>
            </a:br>
            <a:r>
              <a:rPr b="1" lang="en-US" sz="2800" spc="-1" strike="noStrike" u="sng">
                <a:solidFill>
                  <a:srgbClr val="ffffff"/>
                </a:solidFill>
                <a:uFillTx/>
                <a:latin typeface="Times New Roman"/>
              </a:rPr>
              <a:t>Airport Restrictions</a:t>
            </a:r>
            <a:endParaRPr b="0" lang="en-US" sz="2800" spc="-1" strike="noStrike">
              <a:solidFill>
                <a:srgbClr val="ffff00"/>
              </a:solidFill>
              <a:latin typeface="Times New Roman"/>
            </a:endParaRPr>
          </a:p>
        </p:txBody>
      </p:sp>
      <p:pic>
        <p:nvPicPr>
          <p:cNvPr id="1585" name="" descr=""/>
          <p:cNvPicPr/>
          <p:nvPr/>
        </p:nvPicPr>
        <p:blipFill>
          <a:blip r:embed="rId1"/>
          <a:stretch/>
        </p:blipFill>
        <p:spPr>
          <a:xfrm>
            <a:off x="304920" y="1152360"/>
            <a:ext cx="8454960" cy="570564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What are the trends?</a:t>
            </a:r>
            <a:br>
              <a:rPr sz="3600"/>
            </a:br>
            <a:r>
              <a:rPr b="1" lang="en-US" sz="2800" spc="-1" strike="noStrike" u="sng">
                <a:solidFill>
                  <a:srgbClr val="ffffff"/>
                </a:solidFill>
                <a:uFillTx/>
                <a:latin typeface="Times New Roman"/>
              </a:rPr>
              <a:t>Number of People Exposed to Aircraft Noise</a:t>
            </a:r>
            <a:endParaRPr b="0" lang="en-US" sz="2800" spc="-1" strike="noStrike">
              <a:solidFill>
                <a:srgbClr val="ffff00"/>
              </a:solidFill>
              <a:latin typeface="Times New Roman"/>
            </a:endParaRPr>
          </a:p>
        </p:txBody>
      </p:sp>
      <p:pic>
        <p:nvPicPr>
          <p:cNvPr id="1587" name="" descr=""/>
          <p:cNvPicPr/>
          <p:nvPr/>
        </p:nvPicPr>
        <p:blipFill>
          <a:blip r:embed="rId1"/>
          <a:stretch/>
        </p:blipFill>
        <p:spPr>
          <a:xfrm>
            <a:off x="380880" y="1184400"/>
            <a:ext cx="8296560" cy="5673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ise (Sound) Properties</a:t>
            </a:r>
            <a:endParaRPr b="0" lang="en-US" sz="3600" spc="-1" strike="noStrike">
              <a:solidFill>
                <a:srgbClr val="ffff00"/>
              </a:solidFill>
              <a:latin typeface="Times New Roman"/>
            </a:endParaRPr>
          </a:p>
        </p:txBody>
      </p:sp>
      <p:sp>
        <p:nvSpPr>
          <p:cNvPr id="425" name=""/>
          <p:cNvSpPr/>
          <p:nvPr/>
        </p:nvSpPr>
        <p:spPr>
          <a:xfrm>
            <a:off x="304920" y="1447920"/>
            <a:ext cx="42670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ressure: </a:t>
            </a:r>
            <a:r>
              <a:rPr b="1" lang="en-US" sz="2400" spc="-1" strike="noStrike">
                <a:solidFill>
                  <a:srgbClr val="ffffff"/>
                </a:solidFill>
                <a:latin typeface="Times New Roman"/>
              </a:rPr>
              <a:t>Source vibration causes compressions and rarefactions of the air particles; pressure wav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requency: </a:t>
            </a:r>
            <a:r>
              <a:rPr b="1" lang="en-US" sz="2400" spc="-1" strike="noStrike">
                <a:solidFill>
                  <a:srgbClr val="ffffff"/>
                </a:solidFill>
                <a:latin typeface="Times New Roman"/>
              </a:rPr>
              <a:t>Number of compressions/rarefactions per secon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mplitude: </a:t>
            </a:r>
            <a:r>
              <a:rPr b="1" lang="en-US" sz="2400" spc="-1" strike="noStrike">
                <a:solidFill>
                  <a:srgbClr val="ffffff"/>
                </a:solidFill>
                <a:latin typeface="Times New Roman"/>
              </a:rPr>
              <a:t>Height of the pressure (sound) wave</a:t>
            </a:r>
            <a:endParaRPr b="0" lang="en-US" sz="2400" spc="-1" strike="noStrike">
              <a:solidFill>
                <a:srgbClr val="ffffff"/>
              </a:solidFill>
              <a:latin typeface="Times New Roman"/>
            </a:endParaRPr>
          </a:p>
        </p:txBody>
      </p:sp>
      <p:pic>
        <p:nvPicPr>
          <p:cNvPr id="426" name="" descr=""/>
          <p:cNvPicPr/>
          <p:nvPr/>
        </p:nvPicPr>
        <p:blipFill>
          <a:blip r:embed="rId1"/>
          <a:stretch/>
        </p:blipFill>
        <p:spPr>
          <a:xfrm>
            <a:off x="5791320" y="1447920"/>
            <a:ext cx="1752480" cy="1295280"/>
          </a:xfrm>
          <a:prstGeom prst="rect">
            <a:avLst/>
          </a:prstGeom>
          <a:ln w="0">
            <a:noFill/>
          </a:ln>
        </p:spPr>
      </p:pic>
      <p:pic>
        <p:nvPicPr>
          <p:cNvPr id="427" name="" descr=""/>
          <p:cNvPicPr/>
          <p:nvPr/>
        </p:nvPicPr>
        <p:blipFill>
          <a:blip r:embed="rId2"/>
          <a:stretch/>
        </p:blipFill>
        <p:spPr>
          <a:xfrm>
            <a:off x="5791320" y="3352680"/>
            <a:ext cx="1752480" cy="1295640"/>
          </a:xfrm>
          <a:prstGeom prst="rect">
            <a:avLst/>
          </a:prstGeom>
          <a:ln w="0">
            <a:noFill/>
          </a:ln>
        </p:spPr>
      </p:pic>
      <p:pic>
        <p:nvPicPr>
          <p:cNvPr id="428" name="" descr=""/>
          <p:cNvPicPr/>
          <p:nvPr/>
        </p:nvPicPr>
        <p:blipFill>
          <a:blip r:embed="rId3"/>
          <a:stretch/>
        </p:blipFill>
        <p:spPr>
          <a:xfrm>
            <a:off x="5791320" y="5181480"/>
            <a:ext cx="1752480" cy="1295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ise (Sound) Properties</a:t>
            </a:r>
            <a:endParaRPr b="0" lang="en-US" sz="3600" spc="-1" strike="noStrike">
              <a:solidFill>
                <a:srgbClr val="ffff00"/>
              </a:solidFill>
              <a:latin typeface="Times New Roman"/>
            </a:endParaRPr>
          </a:p>
        </p:txBody>
      </p:sp>
      <p:sp>
        <p:nvSpPr>
          <p:cNvPr id="430" name=""/>
          <p:cNvSpPr/>
          <p:nvPr/>
        </p:nvSpPr>
        <p:spPr>
          <a:xfrm>
            <a:off x="304920" y="1447920"/>
            <a:ext cx="42670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ressure: </a:t>
            </a:r>
            <a:r>
              <a:rPr b="1" lang="en-US" sz="2400" spc="-1" strike="noStrike">
                <a:solidFill>
                  <a:srgbClr val="ffffff"/>
                </a:solidFill>
                <a:latin typeface="Times New Roman"/>
              </a:rPr>
              <a:t>Source vibration causes compressions and rarefactions of the air particles; pressure wav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requency: </a:t>
            </a:r>
            <a:r>
              <a:rPr b="1" lang="en-US" sz="2400" spc="-1" strike="noStrike">
                <a:solidFill>
                  <a:srgbClr val="ffffff"/>
                </a:solidFill>
                <a:latin typeface="Times New Roman"/>
              </a:rPr>
              <a:t>Number of compressions/rarefactions per secon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mplitude: </a:t>
            </a:r>
            <a:r>
              <a:rPr b="1" lang="en-US" sz="2400" spc="-1" strike="noStrike">
                <a:solidFill>
                  <a:srgbClr val="ffffff"/>
                </a:solidFill>
                <a:latin typeface="Times New Roman"/>
              </a:rPr>
              <a:t>Height of the pressure (sound) wave</a:t>
            </a:r>
            <a:endParaRPr b="0" lang="en-US" sz="2400" spc="-1" strike="noStrike">
              <a:solidFill>
                <a:srgbClr val="ffffff"/>
              </a:solidFill>
              <a:latin typeface="Times New Roman"/>
            </a:endParaRPr>
          </a:p>
        </p:txBody>
      </p:sp>
      <p:pic>
        <p:nvPicPr>
          <p:cNvPr id="431" name="" descr=""/>
          <p:cNvPicPr/>
          <p:nvPr/>
        </p:nvPicPr>
        <p:blipFill>
          <a:blip r:embed="rId1"/>
          <a:stretch/>
        </p:blipFill>
        <p:spPr>
          <a:xfrm>
            <a:off x="4191120" y="2921040"/>
            <a:ext cx="4591080" cy="1917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282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Frequency and Audibility</a:t>
            </a:r>
            <a:endParaRPr b="0" lang="en-US" sz="3600" spc="-1" strike="noStrike">
              <a:solidFill>
                <a:srgbClr val="ffff00"/>
              </a:solidFill>
              <a:latin typeface="Times New Roman"/>
            </a:endParaRPr>
          </a:p>
        </p:txBody>
      </p:sp>
      <p:pic>
        <p:nvPicPr>
          <p:cNvPr id="433" name="" descr=""/>
          <p:cNvPicPr/>
          <p:nvPr/>
        </p:nvPicPr>
        <p:blipFill>
          <a:blip r:embed="rId1"/>
          <a:stretch/>
        </p:blipFill>
        <p:spPr>
          <a:xfrm>
            <a:off x="2057400" y="1143000"/>
            <a:ext cx="5143680" cy="5715000"/>
          </a:xfrm>
          <a:prstGeom prst="rect">
            <a:avLst/>
          </a:prstGeom>
          <a:ln w="0">
            <a:noFill/>
          </a:ln>
        </p:spPr>
      </p:pic>
      <p:grpSp>
        <p:nvGrpSpPr>
          <p:cNvPr id="434" name=""/>
          <p:cNvGrpSpPr/>
          <p:nvPr/>
        </p:nvGrpSpPr>
        <p:grpSpPr>
          <a:xfrm>
            <a:off x="609480" y="1143000"/>
            <a:ext cx="1295640" cy="1247760"/>
            <a:chOff x="609480" y="1143000"/>
            <a:chExt cx="1295640" cy="1247760"/>
          </a:xfrm>
        </p:grpSpPr>
        <p:sp>
          <p:nvSpPr>
            <p:cNvPr id="435" name=""/>
            <p:cNvSpPr/>
            <p:nvPr/>
          </p:nvSpPr>
          <p:spPr>
            <a:xfrm>
              <a:off x="609480" y="1143000"/>
              <a:ext cx="1295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oun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pectra</a:t>
              </a:r>
              <a:endParaRPr b="0" lang="en-US" sz="2400" spc="-1" strike="noStrike">
                <a:solidFill>
                  <a:srgbClr val="ffffff"/>
                </a:solidFill>
                <a:latin typeface="Times New Roman"/>
              </a:endParaRPr>
            </a:p>
          </p:txBody>
        </p:sp>
        <p:sp>
          <p:nvSpPr>
            <p:cNvPr id="436" name=""/>
            <p:cNvSpPr/>
            <p:nvPr/>
          </p:nvSpPr>
          <p:spPr>
            <a:xfrm>
              <a:off x="762120" y="1905120"/>
              <a:ext cx="976320" cy="485640"/>
            </a:xfrm>
            <a:prstGeom prst="rightArrow">
              <a:avLst>
                <a:gd name="adj1" fmla="val 50000"/>
                <a:gd name="adj2" fmla="val 50259"/>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C0314 ICAO</cp:lastModifiedBy>
  <dcterms:modified xsi:type="dcterms:W3CDTF">2002-09-03T15:51:55Z</dcterms:modified>
  <cp:revision>45</cp:revision>
  <dc:subject/>
  <dc:title>Colloquium on Environmental Aspects of Avi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ly">
    <vt:lpwstr>Documentation</vt:lpwstr>
  </property>
  <property fmtid="{D5CDD505-2E9C-101B-9397-08002B2CF9AE}" pid="3" name="Language">
    <vt:lpwstr>en</vt:lpwstr>
  </property>
  <property fmtid="{D5CDD505-2E9C-101B-9397-08002B2CF9AE}" pid="4" name="Order">
    <vt:lpwstr>2490100.00000000</vt:lpwstr>
  </property>
  <property fmtid="{D5CDD505-2E9C-101B-9397-08002B2CF9AE}" pid="5" name="Year">
    <vt:lpwstr>2001</vt:lpwstr>
  </property>
</Properties>
</file>