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C36F-A727-4C0C-95CB-EB4748C97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iation has made substantial progress in reducing emissions over time.  For example, as the IPCC report noted, CO2 levels are down 70% from 40 years ag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ever, not unlike noise we still face a challenge.  This stems both from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iations strong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ing expectations of communities around 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veloping, though not precise, science on climate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technology li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.S. believes, as w/ noise, it is critical for ICAO to take leadership in this are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;d on the record of achieve in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538-1245-4748-BD1F-EE8AFA9B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9237-0419-461A-B713-1282B4E0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B20-1FB2-4FF7-A44D-AA93BE78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91C-60D3-4622-A3AC-4DF7295A2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964-033B-4D43-AB57-8E2E00FA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76D6-7BA4-4506-B1D3-DF2184F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BC1-2AA4-4834-A4CD-E530986F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3C7-FC83-46B7-9BD6-9620F86C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306-01BA-408E-8CDC-CAC6B0DC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0E6-4C8B-4467-807E-BFA6E07C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DEC1-6359-456A-BB8C-02E75BE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3F3E-E497-43DD-B1A7-A47332FF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90A1-F991-4870-9BF8-08754A563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y Forward -- US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65530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l Burleson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or, Office of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Energy, F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 CAEP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Air Qualit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examine the effectiveness of existing LTO certification regime and revise as appropr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a production cut-off for the CAEP 4 NOx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der more stringent standards for emissions, especially N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Assembly Resolution on market-based meas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o direct future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term focus on developing voluntary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er-term effort to further develop open emissions tr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further study issues related to lev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e WG 3 work program related to local air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ation sector has reduced emissions rates substantially over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cted strong future growth of aviation sector must  be achieved consistent with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ed concerns about aviation’s contribution to local air quality and climate chang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cal progress outpaced by growth in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ical that ICAO maintain leadership role in addressing these iss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ure to act could lea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nsistent actions by national or local gov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licting actions by other bodies materially affecting a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ltimately, constraints on growth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be effective, any market-based policy sh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 reductions cost effective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lexibility how/where to reduce emissions;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 in significant environmental benef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’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s trading with other sectors meets thes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use of cost-effective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lexibility for industry to achieve the lowest cost re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aviation to grow while meeting its responsibilities to reduce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 times less expensive than lev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issions Tr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s trading new tool, but use is grow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cessfully used to reduce SO2 and NOx in the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uy and sell sulfur emissions on C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ission trading programs for CO2 planned or underway in UK, EU, Canada (several provinces), Australia, Poland 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chanisms could be developed to allow developing countries to benefit from participa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Response -- Lev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ssion levies -- charges and tax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certain environmental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le to achieve only modest reduction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icated by what to do with revenue rais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Response -- Voluntary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Initiatives could be an important first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s govt and industry to work a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s capacity and learning by doing (inventorying emissions and reduction opportun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lexibility in setting goals (total emissions, efficiency improvements, actions) beyond “business as usu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luntary Initi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untary programs widely used to reduce CO2 e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stralia, Netherlands, EU,  and 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s confrontation and use of sa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provide protection to avoid penalizing early a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0T15:34:49Z</dcterms:created>
  <dc:creator>EPA</dc:creator>
  <dc:description/>
  <dc:language>en-US</dc:language>
  <cp:lastModifiedBy>Susan Joseph</cp:lastModifiedBy>
  <cp:lastPrinted>2001-04-11T13:01:14Z</cp:lastPrinted>
  <dcterms:modified xsi:type="dcterms:W3CDTF">2001-04-11T13:02:19Z</dcterms:modified>
  <cp:revision>9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9600.00000000</vt:lpwstr>
  </property>
  <property fmtid="{D5CDD505-2E9C-101B-9397-08002B2CF9AE}" pid="5" name="Year">
    <vt:lpwstr>2001</vt:lpwstr>
  </property>
</Properties>
</file>