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6684-30D2-42E3-86E4-D6456A3EA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iation has made substantial progress in reducing emissions over time.  For example, as the IPCC report noted, CO2 levels are down 70% from 40 years a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ever, not unlike noise we still face a challenge.  This stems both fr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iations strong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expectations of communities around 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ing, though not precise, science on climat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echnology li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.S. believes, as w/ noise, it is critical for ICAO to take leadership in this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;d on the record of achieve in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5C8-26C8-45BE-ADEC-C53AE82E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430-E504-4F8F-BFC3-D23FA304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1A7-15E6-41E6-8392-7AF56350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E86-2711-4520-9265-A5DB5D98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339-637E-45F2-B4CE-3E8531E9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62E-E9BE-484F-A653-AA532BCB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AED-449C-4938-994A-948058D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F65-66BB-40B8-B82F-CA4AA4D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7E1-5FCD-41B2-9723-D66C1B65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4EC-062F-464D-A696-E4E877A2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45C-2999-4B04-ABF5-CEBA675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2FF-6CD3-4F38-8931-C6A4DC9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7910-95E5-4370-944E-FC13842C5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y Forward -- US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6553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l Burles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, Office of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Energy, F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CAEP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ir Qual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amine the effectiveness of existing LTO certification regime and revise as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production cut-off for the CAEP 4 NOx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more stringent standards for emissions, especially N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Assembly Resolution on market-based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o direct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term focus on developing voluntary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-term effort to further develop open emissions tr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further study issues related to lev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 WG 3 work program related to local ai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ation sector has reduced emissions rates substantially over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strong future growth of aviation sector must  be achieved consistent with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concerns about aviation’s contribution to local air quality and climate chang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cal progress outpaced by growth in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that ICAO maintain leadership role in addressing these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to act could lea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actions by national or local gov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ing actions by other bodies materially affecting a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mately, constraints on grow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effective, any market-based policy 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e reductions cost effective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lexibility how/where to reduce emission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significant environmental bene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s trading with other sectors meets thes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use of cost-effective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lexibility for industry to achieve the lowest cost re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aviation to grow while meeting its responsibilities to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 times less expensive than lev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s T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s trading new tool, but use is gr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ly used to reduce SO2 and NOx in the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uy and sell sulfur emissions on C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 trading programs for CO2 planned or underway in UK, EU, Canada (several provinces), Australia, Poland 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 could be developed to allow developing countries to benefit from particip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 Response -- Lev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 levies -- charges and ta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ertain environmental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achieve only modest reduction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cated by what to do with revenue rai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 Response -- Voluntary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Initiatives could be an important first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govt and industry to work as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capacity and learning by doing (inventorying emissions and reduction opportun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lexibility in setting goals (total emissions, efficiency improvements, actions) beyond “business as usu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ntary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programs widely used to reduce CO2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, Netherlands, EU,  and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s confrontation and use of sa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provide protection to avoid penalizing early a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15:34:49Z</dcterms:created>
  <dc:creator>EPA</dc:creator>
  <dc:description/>
  <dc:language>en-US</dc:language>
  <cp:lastModifiedBy>Susan Joseph</cp:lastModifiedBy>
  <cp:lastPrinted>2001-04-11T13:01:14Z</cp:lastPrinted>
  <dcterms:modified xsi:type="dcterms:W3CDTF">2001-04-11T13:02:19Z</dcterms:modified>
  <cp:revision>9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9600.00000000</vt:lpwstr>
  </property>
  <property fmtid="{D5CDD505-2E9C-101B-9397-08002B2CF9AE}" pid="5" name="Year">
    <vt:lpwstr>2001</vt:lpwstr>
  </property>
</Properties>
</file>