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6F4-C0B4-4293-AB67-C490723B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C02C-FBAD-480E-9B94-798C7B2C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794-3363-41FC-8C58-3F126072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86A7-032F-4528-B198-A45D214D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062F-5EFE-4481-B202-44319516C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0591-F8B1-4FFC-8F18-6D83FB3B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3702-F82A-467A-8449-2336BEDF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6D64-7A85-4281-96E6-5C46F563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C7A3-EADF-44DD-9979-5D3BFB29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5505-94B8-4F46-999B-393BD643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D41-2796-4ED6-B5A2-F1EF87AB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B35-655B-45D5-BACE-A7ADC13F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54B0-1571-4769-8FE0-6D35C7B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1B19-C3C6-45FF-86E3-CC729BE3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6599-90F6-41FD-A7CF-ADE062CC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65C7-5C66-409E-BA50-E31CECFF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2E89-5900-434A-A7B8-5E5A544DE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F31-E2B5-4918-AC66-11906F8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2A0B-E684-49CA-8C3A-7CC8A6FE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EEB-3578-4F06-AF5A-2718B5C7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755-AD35-4BE3-B6EB-ACC9254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37F-03D8-4228-8E66-3B3C9979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9E1-419F-46E9-98DE-2BBC194E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9A25-8EB8-42B4-A6EF-AC99772A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84172-1C57-49EF-B1DD-A73260180B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F55-8D1A-4789-BBB6-C55C3BC348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IRCRAFT ENGINE EMISS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ults of CAEP/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ard Bekebr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ittee on Aviation Environmental Protection (CAE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 is a Committee of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/5 was the fifth meeting of CAEP and was held in Montreal from 8 to 17 January 2001. (The 4th meeting was held in 1998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CAEP/5 the activities of CAEP in the period 1998 - 2000 were discu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s were made to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Terms of Refere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EP undertakes studies approved by the Council, relat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aircraft noise and gaseous emissions. CAEP sh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into accou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ification schemes: technical feasibility, economic reasonableness and environmental benefit to be achiev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s in other associated fields, e.g. land use planning, noise abatement operating procedures, emission control through operational practices, etc.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in international and national programmes of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Aircraft Engine Emissions (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2000"/>
          </a:bodyPr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advances in engine and aircraft design technology and the degree to which these could influence emission levels and fuel consump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of existing emissions certification methodology with the view to adapting them to take into account cruise emissions parame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tion of the potential environmental benefits of the introduction of an improved Air Traffic Management system (CNS/AT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-24696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e best operational practices to achieve reductions in aircraft emissions (including ground support equipment, use of auxiliary power uni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Aircraft Engine Emissions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the best operational practices to achieve reductions in aircraft emissions (including ground support equipment, use of auxiliary power uni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and evaluation of the potential role of market based options, including emissions charges, voluntary agreements and emission trading regimes, to limit or to reduce greenhouse gases of avi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vise on long term technology go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1998 - 2000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on noise were carried out in working group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3: Emissions technical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4: Emissions operational iss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5: Market based op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SG: Cost-benefit analy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ering Group meetings in 1999 and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CAEP meeting in January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engine emi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209680"/>
            <a:ext cx="7772400" cy="464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ations of CAEP/5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urther development of the elements necessary for an emissions trading programme for international aviation emissions, consistent with the Kyoto protoc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 work on voluntary mechanisms and the possible use of charges to address e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engine emissions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ing in the Global Air Navigation Plan a methodology for analysing the environmental benefits of CNS/A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ation of an ICAO Circular on Operational Opportunities to Minimize Fuel Use and Reduce Emi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 adopted an action plan on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engine emissions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xt presentations session 8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tion of emissions at the source by Bob Shu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improvements to reduce emissions by Alfredo Igles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t based options by Michael Rossell and Stephen Sei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enefit analyses by Hans Pul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GBEKEBRE</dc:creator>
  <dc:description/>
  <dc:language>en-US</dc:language>
  <cp:lastModifiedBy>Susan Joseph</cp:lastModifiedBy>
  <cp:lastPrinted>2001-04-04T17:03:08Z</cp:lastPrinted>
  <dcterms:modified xsi:type="dcterms:W3CDTF">2001-04-04T17:03:10Z</dcterms:modified>
  <cp:revision>10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5600.00000000</vt:lpwstr>
  </property>
  <property fmtid="{D5CDD505-2E9C-101B-9397-08002B2CF9AE}" pid="5" name="Year">
    <vt:lpwstr>2001</vt:lpwstr>
  </property>
</Properties>
</file>