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DAB-DD21-4E55-89D1-EA9F9BA2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F9D-9907-4BE0-8430-721DDCF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EC3-4486-4108-B7AB-47FB1FD4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89C-ECBC-485F-86FA-EDD4D359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B0E9-D350-41F0-9059-C550BD2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FC62-3346-4AC4-BEBF-22F2738B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F0A-AA5E-4881-AC62-1217269D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8CA7-6B9A-462C-B174-7589F8D1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AC1-09EE-4A4C-8E51-FB6E694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B7B-1002-4AAA-A5B2-2B2EAB1C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547-0448-4BEF-B7A4-A9FF62A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508-D51C-4CBA-8FBB-BFACDEC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160-51F3-4DDB-A016-F5D740E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2BA-1B72-4859-9BC1-B6BD630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7C19-3119-42FF-A8E1-DE0085CD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8B92-1234-40F2-BEFA-BDB40255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6FFB-0ADD-423A-B6B9-ED26D994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A2B-289E-48C1-98F7-C653D0F9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9A7-587D-491A-BAF4-BAA003A5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5D5-2C7A-47BD-B123-0D6223C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B7F-9DC1-49D5-8A4D-81A64C47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696-9941-4476-A465-74C8D44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3E6-F1D3-4BA8-B7BB-C88FEA56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FC3-1456-48ED-A25F-3287F00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DEC-4EEE-4966-BD81-00258F964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92A-84A3-4499-B97F-7A1E244DA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IRCRAFT ENGINE EMIS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ults of CAEP/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ard Bekeb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ittee on Aviation Environmental Protection (CAE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is a Committee of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/5 was the fifth meeting of CAEP and was held in Montreal from 8 to 17 January 2001. (The 4th meeting was held in 1998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AEP/5 the activities of CAEP in the period 1998 - 2000 were discu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s were made to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Terms of Refere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EP undertakes studies approved by the Council, relat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aircraft noise and gaseous emissions. CAEP sh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into accou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ification schemes: technical feasibility, economic reasonableness and environmental benefit to be achiev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s in other associated fields, e.g. land use planning, noise abatement operating procedures, emission control through operational practices, etc.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in international and national programmes of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Aircraft Engine Emissions (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advances in engine and aircraft design technology and the degree to which these could influence emission levels and fuel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of existing emissions certification methodology with the view to adapting them to take into account cruise emissions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potential environmental benefits of the introduction of an improved Air Traffic Management system (CNS/AT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e best operational practices to achieve reductions in aircraft emissions (including ground support equipment, use of auxiliary power un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Aircraft Engine Emissions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e best operational practices to achieve reductions in aircraft emissions (including ground support equipment, use of auxiliary power un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and evaluation of the potential role of market based options, including emissions charges, voluntary agreements and emission trading regimes, to limit or to reduce greenhouse gases of av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ise on long term technology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1998 - 200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on noise were carried out in working grou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3: Emissions technical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4: Emissions operational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5: Market bas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SG: Cost-benefit analy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ering Group meetings in 1999 and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AEP meeting in January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s of CAEP/5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development of the elements necessary for an emissions trading programme for international aviation emissions, consistent with the Kyoto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work on voluntary mechanisms and the possible use of charges to address e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in the Global Air Navigation Plan a methodology for analysing the environmental benefits of CNS/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ation of an ICAO Circular on Operational Opportunities to Minimize Fuel Use and Reduce E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adopted an action plan on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xt presentations session 8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of emissions at the source by Bob Shu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improvements to reduce emissions by Alfredo Igl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based options by Michael Rossell and Stephen Se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by Hans Pu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BEKEBRE</dc:creator>
  <dc:description/>
  <dc:language>en-US</dc:language>
  <cp:lastModifiedBy>Susan Joseph</cp:lastModifiedBy>
  <cp:lastPrinted>2001-04-04T17:03:08Z</cp:lastPrinted>
  <dcterms:modified xsi:type="dcterms:W3CDTF">2001-04-04T17:03:10Z</dcterms:modified>
  <cp:revision>10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600.00000000</vt:lpwstr>
  </property>
  <property fmtid="{D5CDD505-2E9C-101B-9397-08002B2CF9AE}" pid="5" name="Year">
    <vt:lpwstr>2001</vt:lpwstr>
  </property>
</Properties>
</file>