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C848-E44B-46B5-A701-960D1E4F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09D-CE00-497B-919A-30EA99DA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AAF2-A16A-4A26-BB13-B8487707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F8AA-26E9-4233-B273-46303659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6DFF-95B8-453C-93BA-9B0AD85F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96B8-B16A-46F8-BD04-58A7F52E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210DC-FA16-4AAD-8B63-83C8C38A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6E6A-98B1-4998-867B-0F851531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FCB3-58B8-45E2-9D03-7C5D6E88C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84C8-F1C1-401D-B58B-13B92A57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5EBB-5577-40DA-A9C2-0A36B24B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DCF-D93E-45CB-8D64-258F7F29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D92C-9A64-4EDB-B3EB-D2FCC4D1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DDE5-61DD-4835-9CA5-CCD3B0F1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BFD7-836E-4E70-A825-9E96A638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69E2-EEC6-4A02-82AA-940E95D13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710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986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43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710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3986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DDCA-C2EC-4617-8AC2-91AA9190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52A4-EACC-4368-9C4C-DA2DC1B3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365-F210-4E06-8BE0-D916F3A8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9080-8761-4E9F-A9BA-488A9285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491-E225-44D2-9E0E-32A0FA735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B3C4-6BD6-4EA3-A569-34BD048E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25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8978-9373-4066-967E-26A7CCF3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5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D2C-7F0B-4B7E-8C4C-139ECDA5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body"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D7D4-FA7A-4789-B13A-FBA30D8581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5CB1-FFFA-4B66-AF70-A090701CB0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ffff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IRCRAFT NOIS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results of CAEP/5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rard Bekebre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/5: Results on aircraft noise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xt presentations session 3: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king group 1 issues / -10 decibel stringence by Tom Conn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ce of balanced approach by Elizabeth Andr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-benefit analyses by Upali Wickra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mittee on Aviation Environmental Protection (CAEP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2856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EP is a Committee of ICAO’s Cou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EP/5 was the fifth meeting of CAEP and was held in Montreal from 8 to 17 January 2001. (The 4th meeting was held in 1998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uring CAEP/5 the activities of CAEP in the period 1998 - 2000 were discu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s were made to ICAO’s Cou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: Terms of Referenc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EP undertakes studies approved by the Council, related 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 of aircraft noise and gaseous emissions. CAEP sha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into accou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rtification schemes: technical feasibility, economic reasonableness and environmental benefit to be achieve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ments in other associated fields, e.g. land use planning, noise abatement operating procedures, emission control through operational practices, etc.;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in international and national programmes of rese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: Workprogramme Noise (1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ssment of the prospects for further reduction of aeroplane noise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ew of existing noise certification procedures with a view to adapting them to better representing the operational procedures used by modern aeropla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al activities related to noise certification (update manuals, simplifying procedures/reducing costs, procedures for tilt rotor aircraft, etc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: Workprogramme Noise (2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sessment of noise abatement procedures to reduce aircraft noise on the 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llect information of aircraft noise monitoring around airports and update advisory documents on methodologies and applications of noise monit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: 1998 - 2000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tivities on noise were carried out in working group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G1: Noi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G2: Airports and Oper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SG: Cost-benefit analy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ering Group meetings in 1999 and 200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 CAEP meeting in January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/5: Results on aircraft nois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mendations of CAEP/5 includ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w noise standard which is 10 decibels lower on a cumulative basis than the current Chapter 3 standards  (for new aircraft design , effective 1 January 2006)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cedures for re-certification of existing aircraft meeting the new stand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stringent noise standards for helicop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ditional/technical amendments of Annex 1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/5: Results on aircraft noise (2)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lvl="1" marL="668520" indent="-2570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al for new take-off noise abatement proced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66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ation of guidance material on noise abatement procedures, land use planning and Noise and Flight Path Monito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reement that noise management should be considered in the context of a balanced programme consisting of: reduction of noise at the source, land use planning and control, noise abatement procedures and operating restric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AEP/5: Phase-out or operating restrict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noise standard is intended for certification purposes 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-benefit analyses do not support general phase-out of CH-3 aircraft in non-exempt reg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ffff"/>
              </a:buClr>
              <a:buSzPct val="75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al members believed that regional phase-out is not supported by cost-benefit analy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GBEKEBRE</dc:creator>
  <dc:description/>
  <dc:language>en-US</dc:language>
  <cp:lastModifiedBy>Susan Joseph</cp:lastModifiedBy>
  <cp:lastPrinted>2001-04-04T17:02:01Z</cp:lastPrinted>
  <dcterms:modified xsi:type="dcterms:W3CDTF">2001-04-04T17:02:05Z</dcterms:modified>
  <cp:revision>10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85500.00000000</vt:lpwstr>
  </property>
  <property fmtid="{D5CDD505-2E9C-101B-9397-08002B2CF9AE}" pid="5" name="Year">
    <vt:lpwstr>2001</vt:lpwstr>
  </property>
</Properties>
</file>