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3FC-703F-46E7-A05B-46548DF3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2FF-EE51-49D9-90DB-938F4196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57F-E0B5-4565-AECB-2CD259C7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D6B-1C8D-4B21-AD16-39C83245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9D5-285D-43AB-B24D-DE047A90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0D0-F2CF-478E-81D2-4D590F49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D952-BFE7-496B-B326-8E3CD92E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8B00-CEF4-41A2-BB47-40C54FA3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F752-4F0C-4551-999E-DC57F338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3BC9-3B9D-4276-8A6B-2843395F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15BB-B998-4156-8544-665555F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572-1BB2-4EDE-A1FE-A2D1DE0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666A-8DE5-4030-93DE-C141FC8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D85-6AFD-44AE-8D98-C4FEDB6B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FDE-4A93-452C-8243-74F17832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CA9A-43F0-4736-AD03-835A04E1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D7B4-A44E-4116-B301-99C78600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2BD-72F9-4A4B-A8E0-0FF43D85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348-0D67-4F19-B0AC-01D1CC5A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49F-199D-4E58-9493-2E5F369E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8AF-8A7C-4DBB-BA24-4F8C74BF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EE8-8A95-4C3B-A3C3-DA78F051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668-2AC1-47AE-9D49-D11EB50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DFC-980A-4189-9A65-06CF961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1817-A798-4F92-B3B5-CB5A14736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2E35-295F-4032-BF31-8D425C641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IRCRAFT NOIS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sults of CAEP/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ard Bekebr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nois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xt presentations session 3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group 1 issues / -10 decibel stringence by Tom Conn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 of balanced approach by Elizabeth And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-benefit analyses by Upali Wick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ittee on Aviation Environmental Protection (CAEP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 is a Committee of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/5 was the fifth meeting of CAEP and was held in Montreal from 8 to 17 January 2001. (The 4th meeting was held in 1998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CAEP/5 the activities of CAEP in the period 1998 - 2000 were discu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s were made to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Terms of Refere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EP undertakes studies approved by the Council, relat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aircraft noise and gaseous emissions. CAEP sh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into accou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ification schemes: technical feasibility, economic reasonableness and environmental benefit to be achieve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s in other associated fields, e.g. land use planning, noise abatement operating procedures, emission control through operational practices, etc.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in international and national programmes of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Noise (1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 of the prospects for further reduction of aeroplane nois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of existing noise certification procedures with a view to adapting them to better representing the operational procedures used by modern aeropla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activities related to noise certification (update manuals, simplifying procedures/reducing costs, procedures for tilt rotor aircraft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Noise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 of noise abatement procedures to reduce aircraft noise on the 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 information of aircraft noise monitoring around airports and update advisory documents on methodologies and applications of noise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1998 - 2000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on noise were carried out in working group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1: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2: Airports and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SG: Cost-benefit analy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ering Group meetings in 1999 and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CAEP meeting in January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noi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ations of CAEP/5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 noise standard which is 10 decibels lower on a cumulative basis than the current Chapter 3 standards  (for new aircraft design , effective 1 January 2006)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s for re-certification of existing aircraft meeting the new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stringent noise standards for helicop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/technical amendments of Annex 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noise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new take-off noise abatement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ation of guidance material on noise abatement procedures, land use planning and Noise and Flight Path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eement that noise management should be considered in the context of a balanced programme consisting of: reduction of noise at the source, land use planning and control, noise abatement procedures and operating restric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Phase-out or operating restri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noise standard is intended for certification purpose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-benefit analyses do not support general phase-out of CH-3 aircraft in non-exempt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members believed that regional phase-out is not supported by cost-benefit analy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GBEKEBRE</dc:creator>
  <dc:description/>
  <dc:language>en-US</dc:language>
  <cp:lastModifiedBy>Susan Joseph</cp:lastModifiedBy>
  <cp:lastPrinted>2001-04-04T17:02:01Z</cp:lastPrinted>
  <dcterms:modified xsi:type="dcterms:W3CDTF">2001-04-04T17:02:05Z</dcterms:modified>
  <cp:revision>10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5500.00000000</vt:lpwstr>
  </property>
  <property fmtid="{D5CDD505-2E9C-101B-9397-08002B2CF9AE}" pid="5" name="Year">
    <vt:lpwstr>2001</vt:lpwstr>
  </property>
</Properties>
</file>