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D566-2552-4A64-9E71-7248CE73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3FE-FF38-4382-A3C3-714BD6F0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D48-F7B7-494B-8DB0-C6944AA4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D6D-2DB4-4EF9-99F7-F8362F7C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816-0C4F-4BC4-A8B0-9D1324DF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36E-A708-41DD-BFCC-6E3C1F31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32D-BD87-49E5-B898-AD1F7228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76E5-30ED-465D-8FC2-0FE1BB71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320-5531-4FD1-87D3-4A16CD93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A97-038C-4CFF-9DA3-F9F0ED38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63A-C19A-46A1-BBB7-D282AD77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5AC0-C22D-403A-BD59-B39D9616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657E-BF72-4020-8166-809CD655CABE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65530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Balanced Approach to Noise Miti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4191120"/>
            <a:ext cx="38098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Elizabeth And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CAO/CAEP Working Grou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irports and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410080" y="4191120"/>
            <a:ext cx="33530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Presented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olloquium on Environmental Aspects of A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ntreal, Can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April 9-11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3000" y="1866960"/>
          <a:ext cx="1738080" cy="139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1866960"/>
                    <a:ext cx="173808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7253280" y="1943280"/>
          <a:ext cx="1738440" cy="1396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3280" y="1943280"/>
                    <a:ext cx="173844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- Noise Abatemen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Revision of PANS-OPS, Doc 8168 - Volume 1, Part V (Noise Abatement Procedures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The new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noise abatement departure procedures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llow for benefits in areas either close-in or at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distances farther from the airpor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uch procedures enable to better utilize the improved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performance of modern Chapter 3 aircraf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AEP/5 recommended that PANS-OPS should be amended as soon as possib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- Noise Abatemen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Noise abatement approach procedures: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studies to be continu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AEP/5 recommended that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guidance material for evaluating noise abatement operating measures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be published as an ICAO Circula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- Noise Abatemen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Support Task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.•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Noise and Flight Path Monitoring Install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Objective of the task: to develop guidelines on the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installation and operation of airport noise monitoring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Guidance material should be issued as an ICAO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ircular, pending its inclusion in the full revision of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ICAO Circular 205 - Recommended Method for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omputing Noise Contours around Airport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- Noise Abatemen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Support Task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.•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Airports with Noise Monitoring Syste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Objective of the task: to report the characteristics of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irports equipped with noise and flight path monitoring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ystems, and the features of those syste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The report on the results of the survey would be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incorporated into the guidelines on noise and flight path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monitoring installation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Noise concerns have led some States to consider banning the operation of certain noisy aircraft at their airport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1980s: focus on NNC aircraf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1990s: focus on Chapter 2 aircraf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2000s: focus on Chapter 3 aircraf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uch measure may inflict significant costs on airlines, with reflections on international commercial air servic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Operating restrictions are now considered in a much broader sense than used in Resolution A32-8. They encompass any measure which could limit or control the access of an aircraft to an airpor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4 - Operating Restrictions on Aircra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2133720"/>
            <a:ext cx="8610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ouncil mandate was given to CAEP to explore technical options for possible operating restrictions on Chapter 3 aircraf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Many possible options had been developed and analysed in terms of cost and benefit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AEP had not reached consensus on a specific recommendation to Counci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Review by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2286000"/>
            <a:ext cx="8610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Further explore the task (operating restrictions) under the concept of a balanced approach for noise mitig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ll the elements of the balanced approach are important and equal consideration should be given to all of the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Noise management should be considered only in the context of a balanced programme, aiming to achieve maximum environmental benefit most cost effectively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8600" y="205740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conclusions on a balanced programme could be used by the Secretariat in preparing drafts of possible Assembly Resolu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n attempt was made to develop guidelines for an ICAO framework for a national or individual airport approach to operating restrictions, which was not successfu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It was then agreed that it be further discussed in CAEP’s future work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8600" y="2362320"/>
            <a:ext cx="8686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AEP’s work programme: to include noise management under WG/2 – noise, airports and operations activities and under the analytical groups MAGENTA and FESG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WG/2: prepare guidance on the process to be used by States in implementing and managing the balanced programme with the objective of developing an ICAO framewor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nalytical groups: assess the cost and benefit of any additional proposal or assumption, as necessary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8088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Reduction of Noise at Sourc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it is essential that aircraft noise standards be reviewed to ensure that they reflect the current state of aircraft technology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Land-use Planning: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land-use policy initiatives should be implemented to discourage incompatible land use and encroachment into defined noise impact areas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further work should consider guidance and exchange of information on best practices by comparing different national system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0"/>
            <a:ext cx="7467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Balanced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objective of the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“Balanced Approach”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is to reduce the impact of aircraft noise, through a programme which takes into account the balance of the following four element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1- Reduction of noise at sourc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2- Land-use planning and management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3- Noise abatement operational procedures; and,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4- Operating restrictions on aircraf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38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goal should be to achieve maximum environmental benefit most cost-effectively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process for implementation of such a programme and decisions between its elements would be for Contracting Stat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Land-use Planning: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the Airport Planning Manual should be kept updated and more readily availabl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the possibility of developing environmental material for Annex 14 and Annex 16 should be explored; 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guidance should be prepared on the processes to be used by States in implementing and managing the balanced programme with the objective of providing an ICAO framewor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0880" y="182880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Noise Abatement Operational Procedures: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these procedures should be implemented as much as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practicable, consistent with safety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uch measures aim to minimize impact on communities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nd include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pecific procedures for approach and departure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ircraft routings; and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runway preferential us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213372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514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Operating Restrictions on Aircraft: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uch restrictions include, but are not limited to, the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phase-out of Chapter 3 aircraf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uch restrictions should not be used as a first option to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reduce nois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uch restrictions should only be used after full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onsideration of the benefits from the other elements of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balanced programm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0880" y="167652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514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Operating Restrictions on Aircraft: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tates making use of operating restrictions should take into account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general guidelines of such programm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ooperation among States to alleviate economic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hardship on aircraft operator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problems of operators of developing countrie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need to maintain predictability and stability within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 the international aviation system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onsultation with all stakeholder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need of applying such restrictions in an uniform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manner and without discrimin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514080">
              <a:spcBef>
                <a:spcPts val="624"/>
              </a:spcBef>
              <a:tabLst>
                <a:tab algn="l" pos="0"/>
                <a:tab algn="l" pos="19044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220968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762120" indent="-19044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new noise stringency Standard developed for Annex 16, Volume I was intended for certification purpose only and was not intended to be used as a basis for operating restriction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19044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 results of the cost/benefit analyses conducted do not support general phase-out of Chapter 3 aircraft in the non-exempt region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19044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ll members could support the four elements of the balanced programm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General 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04920" y="220968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762120" indent="-19044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ome members believed that the balanced programme could be used in achieving the flexibility concerning operating restrictions which they wished to have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19044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everal members believed that the results of the cost/benefit analyses do not support any regional phase-out; an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19044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there is a need for further work on an ICAO framework for the conditions relating to operating restrictions as part of the balanced programm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19044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190440"/>
                <a:tab algn="l" pos="57168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57200"/>
            <a:ext cx="7467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The Balanced Program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General Conclusions of CAEP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26665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1- Reduction of noise at source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WG/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2- Land-use planning and management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WG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3- Noise abatement operational procedures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WG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4- Operating restrictions on aircraft </a:t>
            </a:r>
            <a:r>
              <a:rPr b="0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Assembly/CAEP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753920" y="30456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285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ircraft technologies have achieved significant noise reduc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AEP/5 proposed new noise limits to be included in a new “Chapter 4” of Annex 16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No important alteration in this status is expected in the near futur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Need for alternatives to ease the noise problem beyond reducing noise at source only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599840" y="533160"/>
            <a:ext cx="7389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br>
              <a:rPr sz="3600"/>
            </a:b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1- Reduction of Noise at Source</a:t>
            </a:r>
            <a:r>
              <a:rPr b="0" lang="en-C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(Noise Certification/Technolog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2 - Land Use Planning an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Important to ensure that noise reduction gains are not offset by inappropriate noise sensitive developments around airport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Planning Instruments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such a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zon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easemen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Mitigating Instruments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such a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building cod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noise insulation progra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2 - Land Use Planning an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Financial Instruments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such as: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tax incentives programm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noise-related airport charg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Revision of ICAO Doc 9184-AN/902, Airport Planning Manual, Part 2 - Land Use and Environmental Control provide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recommended land use planning guidelines, and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environmental protection practices applied  to airpor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examples of land use planning techniques from various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Sta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AEP/5 recommended that it should be published as soon as possib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2 - Land Use Planning an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Support Task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Airport Noise Modell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need to develop common basis for comparing future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irport noise exposures under different noise abatement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trategy assumption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studies to be continued: collect information on models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in use, to assess their performance and to determine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where improvements might be achiev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2 - Land Use Planning and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Support Task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.• </a:t>
            </a: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Changes in Noise Exposure with Ti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examine changes in measured noise exposure around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airports over a representative period of time, as it was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considered to be of value for further policy decisions on 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land-use planning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ALANCED PROGRAMME ELEMENTS</a:t>
            </a: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3 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Abatement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500" spc="-1" strike="noStrike">
                <a:solidFill>
                  <a:srgbClr val="000000"/>
                </a:solidFill>
                <a:latin typeface="Times New Roman"/>
              </a:rPr>
              <a:t>Noise Abatement Operational Procedures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  aim to reduce impact on airport surrounding areas by redistributing nois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uch procedures enable reduction of noise during aircraft operations to be achieved at comparatively low cos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3333cc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Several measures, including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use of preferential runways and ro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use of noise abatement procedures for take-off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- use of noise abatement procedures for approac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66680" y="190440"/>
          <a:ext cx="1738440" cy="13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" y="190440"/>
                    <a:ext cx="173844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20:01:04Z</dcterms:created>
  <dc:creator>Transport Canada</dc:creator>
  <dc:description/>
  <dc:language>en-US</dc:language>
  <cp:lastModifiedBy>PC0314 ICAO</cp:lastModifiedBy>
  <cp:lastPrinted>2001-04-09T13:01:04Z</cp:lastPrinted>
  <dcterms:modified xsi:type="dcterms:W3CDTF">2001-04-09T16:47:23Z</dcterms:modified>
  <cp:revision>17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85400.00000000</vt:lpwstr>
  </property>
  <property fmtid="{D5CDD505-2E9C-101B-9397-08002B2CF9AE}" pid="5" name="Year">
    <vt:lpwstr>2001</vt:lpwstr>
  </property>
</Properties>
</file>