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213-E592-4A9B-BEC6-9B3E6E58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E55-A809-4B56-A278-B70D4E34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448-B898-46A6-9B51-8346B62C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E1E-40DD-4580-985A-21B52154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69D-2EFC-480E-8F6E-29AB015C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BBF-AB7E-43C5-9529-421CEE2F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458-E166-4877-8799-23886964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4D1-AA79-42E7-8FDB-3F72EDB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73A-CB91-48F5-8548-1E23286D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5EB-DC5C-4E9A-B2DF-B4BFF70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A75-8054-472C-AC41-86FA67E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749-D311-47AD-A42C-8103E28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36A-03A1-42A0-8369-71EC593AE3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lanced Approach to Noise M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41911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lizabeth And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CAO/CAEP Working Grou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irports an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10080" y="419112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esent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lloquium on Environmental Aspects of A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ntreal,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pril 9-1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3000" y="1866960"/>
          <a:ext cx="1738080" cy="139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866960"/>
                    <a:ext cx="1738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253280" y="1943280"/>
          <a:ext cx="1738440" cy="1396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3280" y="1943280"/>
                    <a:ext cx="17384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vision of PANS-OPS, Doc 8168 - Volume 1, Part V (Noise Abatement Procedure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new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departure proced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ow for benefits in areas either close-in or at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distances farther from the airpor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procedures enable to better utilize the improve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erformance of modern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PANS-OPS should be amended as soon as possi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approach procedures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tudies to be continu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guidance material for evaluating noise abatement operating meas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be published as an ICAO Circula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nd Flight Path Monitoring Install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Objective of the task: to develop guidelines on th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stallation and operation of airport noise monitoring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Guidance material should be issued as an ICAO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ircular, pending its inclusion in the full revision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CAO Circular 205 - Recommended Method for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mputing Noise Contours around Airport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Airports with Noise Monitoring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Objective of the task: to report the characteristics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s equipped with noise and flight path monitoring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ystems, and the features of those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report on the results of the survey would b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corporated into the guidelines on noise and flight path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monitoring installation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ise concerns have led some States to consider banning the operation of certain noisy aircraft at their airpor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1980s: focus on NNC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1990s: focus on Chapter 2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2000s: focus on Chapter 3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uch measure may inflict significant costs on airlines, with reflections on international commercial air ser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Operating restrictions are now considered in a much broader sense than used in Resolution A32-8. They encompass any measure which could limit or control the access of an aircraft to an airpor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4 - Operating Restrictions on Airc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1337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uncil mandate was given to CAEP to explore technical options for possible operating restrictions on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Many possible options had been developed and analysed in terms of cost and benefi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 had not reached consensus on a specific recommendation to Counci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view by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28600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Further explore the task (operating restrictions) under the concept of a balanced approach for noise mitig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 the elements of the balanced approach are important and equal consideration should be given to all of th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ise management should be considered only in the context of a balanced programme, aiming to achieve maximum environmental benefit most cost effectivel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057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conclusions on a balanced programme could be used by the Secretariat in preparing drafts of possible Assembly Resolu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 attempt was made to develop guidelines for an ICAO framework for a national or individual airport approach to operating restrictions, which was not successfu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t was then agreed that it be further discussed in CAEP’s future work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3623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’s work programme: to include noise management under WG/2 – noise, airports and operations activities and under the analytical groups MAGENTA and FES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WG/2: prepare guidance on the process to be used by States in implementing and managing the balanced programme with the objective of developing an ICAO framewor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alytical groups: assess the cost and benefit of any additional proposal or assumption, as necessar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Reduction of Noise at Sourc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it is essential that aircraft noise standards be reviewed to ensure that they reflect the current state of aircraft technolog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Land-use Planning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land-use policy initiatives should be implemented to discourage incompatible land use and encroachment into defined noise impact area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further work should consider guidance and exchange of information on best practices by comparing different national system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alanced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objective of the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“Balanced Approach”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is to reduce the impact of aircraft noise, through a programme which takes into account the balance of the following four ele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1- Reduction of noise at sourc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2- Land-use planning and managemen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3- Noise abatement operational procedures; and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4- Operating restrictions on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goal should be to achieve maximum environmental benefit most cost-effectively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process for implementation of such a programme and decisions between its elements would be for Contracting St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Land-use Planning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Airport Planning Manual should be kept updated and more readily availabl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possibility of developing environmental material for Annex 14 and Annex 16 should be explored; 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guidance should be prepared on the processes to be used by States in implementing and managing the balanced programme with the objective of providing an ICAO framewor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Operational Procedures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se procedures should be implemented as much a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racticable, consistent with safety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measures aim to minimize impact on communitie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d inclu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pecific procedures for approach and departure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craft routings; an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unway preferential u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1337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514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Operating Restrictions on Aircraft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include, but are not limited to, th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hase-out of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should not be used as a first option to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duce noi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should only be used after full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ideration of the benefits from the other elements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balanced programm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6765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514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Operating Restrictions on Aircraft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tates making use of operating restrictions should take into accoun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general guidelines of such programm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operation among States to alleviate econom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hardship on aircraft operator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problems of operators of developing countrie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ed to maintain predictability and stability within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the international aviation system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ultation with all stakeholder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ed of applying such restrictions in an uniform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manner and without discrimin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w noise stringency Standard developed for Annex 16, Volume I was intended for certification purpose only and was not intended to be used as a basis for operating restrict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results of the cost/benefit analyses conducted do not support general phase-out of Chapter 3 aircraft in the non-exempt reg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 members could support the four elements of the balanced programm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neral 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ome members believed that the balanced programme could be used in achieving the flexibility concerning operating restrictions which they wished to hav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everal members believed that the results of the cost/benefit analyses do not support any regional phase-out; 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re is a need for further work on an ICAO framework for the conditions relating to operating restrictions as part of the balanced programm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neral 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- Reduction of noise at sourc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- Land-use planning and managemen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3- Noise abatement operational procedure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4- Operating restrictions on aircraf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Assembly/CAEP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53920" y="3045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craft technologies have achieved significant noise reduc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proposed new noise limits to be included in a new “Chapter 4” of Annex 16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 important alteration in this status is expected in the near futu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eed for alternatives to ease the noise problem beyond reducing noise at source onl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br>
              <a:rPr sz="36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1- Reduction of Noise at Source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(Noise Certification/Technolog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mportant to ensure that noise reduction gains are not offset by inappropriate noise sensitive developments around airpor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Planning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zon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as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Mitigating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building co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oise insulation progra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ax incentives program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oise-related airport charg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vision of ICAO Doc 9184-AN/902, Airport Planning Manual, Part 2 - Land Use and Environmental Control provid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recommended land use planning guidelines, an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environmental protection practices applied  to airpor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xamples of land use planning techniques from variou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St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it should be published as soon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Airport Noise Modell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eed to develop common basis for comparing futur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 noise exposures under different noise abatement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trategy assump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tudies to be continued: collect information on model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 use, to assess their performance and to determin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where improvements might be achiev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Changes in Noise Exposure with Ti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xamine changes in measured noise exposure aroun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s over a representative period of time, as it wa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idered to be of value for further policy decisions on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land-use plann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Operational Proced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aim to reduce impact on airport surrounding areas by redistributing noi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uch procedures enable reduction of noise during aircraft operations to be achieved at comparatively low co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everal measures, includ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preferential runways and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noise abatement procedures for take-of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noise abatement procedures for approa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20:01:04Z</dcterms:created>
  <dc:creator>Transport Canada</dc:creator>
  <dc:description/>
  <dc:language>en-US</dc:language>
  <cp:lastModifiedBy>PC0314 ICAO</cp:lastModifiedBy>
  <cp:lastPrinted>2001-04-09T13:01:04Z</cp:lastPrinted>
  <dcterms:modified xsi:type="dcterms:W3CDTF">2001-04-09T16:47:23Z</dcterms:modified>
  <cp:revision>17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400.00000000</vt:lpwstr>
  </property>
  <property fmtid="{D5CDD505-2E9C-101B-9397-08002B2CF9AE}" pid="5" name="Year">
    <vt:lpwstr>2001</vt:lpwstr>
  </property>
</Properties>
</file>