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9802813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BDF-4B35-4D7A-9944-415069D4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632-232B-46A4-81BC-5DD5849B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4DC-E42E-4C97-B93E-D0329FDF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94F-2014-4F34-BE6B-6D404FFE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F236-C3E7-4DC4-8D84-A0732BE5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0C69-5630-4658-AFDF-F180AAD3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6A54-868B-4000-95E3-D1512B8B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736E-31B9-4CBA-B7BB-594D4032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9B9B-98F3-42BB-90A3-5DC84D41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C44F-B142-4B2D-A823-F846B014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0048-513A-4FB2-9F1B-CBB8839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5B0-917E-4817-A686-F8C81A90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5422-3F76-47E4-B506-2B8EE112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7A45-C3B3-49C0-892C-79EC731A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D23C-B24A-418D-BE9D-CEA9AEC5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DEE4-89BC-4235-B2F6-F47C4222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F208-7571-447C-8BA4-3B83857D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33D-7615-4D68-996A-CD8B3C55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A02-0380-4010-AC1C-05DB6130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B74-1515-4587-B175-344D203B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0C8-F183-47D5-AEB5-AA912B6C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A40-D46B-44E9-91F6-5712ACA4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BF1-E460-4ADA-9DC8-C8D7C5C2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0EF-A103-4A79-BD46-032827E5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10160" y="1440"/>
            <a:ext cx="19002600" cy="13690440"/>
            <a:chOff x="-9110160" y="1440"/>
            <a:chExt cx="19002600" cy="136904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1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79cb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10160" y="1440"/>
              <a:ext cx="1822032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F5B1-0079-4D2E-A5D1-04AC4BF61C6E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8407080" y="1461240"/>
            <a:ext cx="18312840" cy="10793520"/>
            <a:chOff x="-8407080" y="1461240"/>
            <a:chExt cx="18312840" cy="10793520"/>
          </a:xfrm>
        </p:grpSpPr>
        <p:sp>
          <p:nvSpPr>
            <p:cNvPr id="45" name=""/>
            <p:cNvSpPr/>
            <p:nvPr/>
          </p:nvSpPr>
          <p:spPr>
            <a:xfrm>
              <a:off x="3544560" y="2709720"/>
              <a:ext cx="636120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79cb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8407080" y="1461240"/>
              <a:ext cx="1457244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06E7-3204-49A6-8BA4-2BD55D27F76C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Глобус2_Дем_анг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40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5400000">
            <a:off x="9092880" y="615600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1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оток_ВД_99_copy_анг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5400000">
            <a:off x="9092880" y="609552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2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ект_eng_поток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400000">
            <a:off x="9131040" y="610848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ект_анг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81000"/>
            <a:ext cx="769608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ussian sovereign and delegated airspace- 25 mln.sq.km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ain ACCs – 71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ux. ACCs - 50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ir Traffic Control Towers - 371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6095880"/>
            <a:ext cx="5791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Russian ATM system Airspace</a:t>
            </a:r>
            <a:endParaRPr b="0" lang="en-US" sz="3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9105480" y="608292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4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001_анг" descr=""/>
          <p:cNvPicPr/>
          <p:nvPr/>
        </p:nvPicPr>
        <p:blipFill>
          <a:blip r:embed="rId1"/>
          <a:stretch/>
        </p:blipFill>
        <p:spPr>
          <a:xfrm>
            <a:off x="0" y="-165240"/>
            <a:ext cx="9906120" cy="7023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5400000">
            <a:off x="9092880" y="605736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5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in Results of Demo Flight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981080"/>
          <a:ext cx="8953560" cy="4537080"/>
        </p:xfrm>
        <a:graphic>
          <a:graphicData uri="http://schemas.openxmlformats.org/drawingml/2006/table">
            <a:tbl>
              <a:tblPr/>
              <a:tblGrid>
                <a:gridCol w="2514600"/>
                <a:gridCol w="1387440"/>
                <a:gridCol w="1682640"/>
                <a:gridCol w="1684440"/>
                <a:gridCol w="1684440"/>
              </a:tblGrid>
              <a:tr h="60948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No. Flights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YEAR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998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99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POLAR 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POLAR 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3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7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POLAR 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8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9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POLAR 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10346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ON 01.01.200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42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47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9220320" y="6583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1540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9092880" y="613368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6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67752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Main Results of Demo Flights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They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PROVED efficiency of long-haul non-stop flights via the Arctic by 4-engine aircraft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DEMONSTRATED possibility of flights by 2-engine aircraf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SAVED flying time by 1.5 – 2 hours as compared to traditional rout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PROVIDED for air traffic safety in existing ATC environm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DETERMINED capacity of the existing ATS system – 8 hours a day, not more than 2 aircraft per hou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HIGHLIGHTED necessity to modernize communication/surveillance means, and ATCO's working positi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PROVED that after ATC system modernization capacity may be increased to 30-40 aircraft per hour, 24 hours a day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9092880" y="609552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2AD-C7E0-4107-A49F-CA87B82E49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15000" y="685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CHICAG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1430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urrent Distan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78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lar Route distanc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75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lying Saving per Movement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3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4.8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ute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151560"/>
            <a:ext cx="9677160" cy="6242760"/>
            <a:chOff x="76320" y="151560"/>
            <a:chExt cx="9677160" cy="6242760"/>
          </a:xfrm>
        </p:grpSpPr>
        <p:sp>
          <p:nvSpPr>
            <p:cNvPr id="109" name=""/>
            <p:cNvSpPr/>
            <p:nvPr/>
          </p:nvSpPr>
          <p:spPr>
            <a:xfrm>
              <a:off x="76320" y="151560"/>
              <a:ext cx="9677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1904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Flights </a:t>
              </a:r>
              <a:r>
                <a:rPr b="0" lang="en-US" sz="28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hicago – Hong Kong and back</a:t>
              </a:r>
              <a:r>
                <a:rPr b="0" lang="en-US" sz="2800" spc="-1" strike="noStrike">
                  <a:solidFill>
                    <a:srgbClr val="ffcc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pic>
          <p:nvPicPr>
            <p:cNvPr id="110" name="hong%20kong-chicago" descr=""/>
            <p:cNvPicPr/>
            <p:nvPr/>
          </p:nvPicPr>
          <p:blipFill>
            <a:blip r:embed="rId1"/>
            <a:stretch/>
          </p:blipFill>
          <p:spPr>
            <a:xfrm>
              <a:off x="2209680" y="838080"/>
              <a:ext cx="4767480" cy="555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2590920" y="914400"/>
            <a:ext cx="5508720" cy="5382720"/>
            <a:chOff x="2590920" y="914400"/>
            <a:chExt cx="5508720" cy="5382720"/>
          </a:xfrm>
        </p:grpSpPr>
        <p:sp>
          <p:nvSpPr>
            <p:cNvPr id="112" name=""/>
            <p:cNvSpPr/>
            <p:nvPr/>
          </p:nvSpPr>
          <p:spPr>
            <a:xfrm>
              <a:off x="2895480" y="3429000"/>
              <a:ext cx="76320" cy="763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90920" y="3505320"/>
              <a:ext cx="63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Moscow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7080" y="3657600"/>
              <a:ext cx="887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33cc"/>
                  </a:solidFill>
                  <a:latin typeface="Arial"/>
                </a:rPr>
                <a:t>Polar Routes</a:t>
              </a:r>
              <a:endParaRPr b="0" lang="en-US" sz="9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5840" y="304812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6666ff"/>
                  </a:solidFill>
                  <a:latin typeface="Times New Roman"/>
                </a:rPr>
                <a:t>Polar</a:t>
              </a:r>
              <a:r>
                <a:rPr b="1" i="1" lang="ru-RU" sz="800" spc="-1" strike="noStrike">
                  <a:solidFill>
                    <a:srgbClr val="6666ff"/>
                  </a:solidFill>
                  <a:latin typeface="Times New Roman"/>
                </a:rPr>
                <a:t>-1</a:t>
              </a:r>
              <a:endParaRPr b="0" lang="en-US" sz="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05000" y="274320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6666ff"/>
                  </a:solidFill>
                  <a:latin typeface="Times New Roman"/>
                </a:rPr>
                <a:t>Polar</a:t>
              </a:r>
              <a:r>
                <a:rPr b="0" i="1" lang="ru-RU" sz="800" spc="-1" strike="noStrike">
                  <a:solidFill>
                    <a:srgbClr val="6666ff"/>
                  </a:solidFill>
                  <a:latin typeface="Times New Roman"/>
                </a:rPr>
                <a:t>-</a:t>
              </a:r>
              <a:r>
                <a:rPr b="1" i="1" lang="ru-RU" sz="800" spc="-1" strike="noStrike">
                  <a:solidFill>
                    <a:srgbClr val="6666ff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05000" y="363852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6666ff"/>
                  </a:solidFill>
                  <a:latin typeface="Times New Roman"/>
                </a:rPr>
                <a:t>Polar</a:t>
              </a:r>
              <a:r>
                <a:rPr b="0" i="1" lang="ru-RU" sz="800" spc="-1" strike="noStrike">
                  <a:solidFill>
                    <a:srgbClr val="6666ff"/>
                  </a:solidFill>
                  <a:latin typeface="Times New Roman"/>
                </a:rPr>
                <a:t>-4</a:t>
              </a:r>
              <a:endParaRPr b="0" lang="en-US" sz="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81080" y="442908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6666ff"/>
                  </a:solidFill>
                  <a:latin typeface="Times New Roman"/>
                </a:rPr>
                <a:t>Polar</a:t>
              </a:r>
              <a:r>
                <a:rPr b="0" i="1" lang="ru-RU" sz="800" spc="-1" strike="noStrike">
                  <a:solidFill>
                    <a:srgbClr val="6666ff"/>
                  </a:solidFill>
                  <a:latin typeface="Times New Roman"/>
                </a:rPr>
                <a:t>-2</a:t>
              </a:r>
              <a:endParaRPr b="0" lang="en-US" sz="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17560" y="3354480"/>
              <a:ext cx="829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RFE Routes</a:t>
              </a:r>
              <a:endParaRPr b="0" lang="en-US" sz="9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27760" y="3962520"/>
              <a:ext cx="12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3300"/>
                  </a:solidFill>
                  <a:latin typeface="Times New Roman"/>
                </a:rPr>
                <a:t>Hong Kong-Chicago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440" y="914400"/>
              <a:ext cx="130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3300"/>
                  </a:solidFill>
                  <a:latin typeface="Times New Roman"/>
                </a:rPr>
                <a:t>Chicago- Hong Kong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7080" y="1143000"/>
              <a:ext cx="4572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NOV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DEC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AN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FEB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MAR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APR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MAY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UN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UL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AUG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SEP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OCT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58000" y="4191120"/>
              <a:ext cx="457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MAY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UN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UL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AUG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SEP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OCT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5289480"/>
              <a:ext cx="457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NOV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DEC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AN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FEB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MAR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APR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723200" y="6248520"/>
            <a:ext cx="129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Times New Roman"/>
              </a:rPr>
              <a:t>HONG KONG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9092880" y="608292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1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Глобус_анг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371160" y="624852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9105480" y="605736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1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59720" y="3323160"/>
            <a:ext cx="669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– </a:t>
            </a: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END  –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07:09:10Z</dcterms:created>
  <dc:creator>NNN</dc:creator>
  <dc:description/>
  <dc:language>en-US</dc:language>
  <cp:lastModifiedBy>PC0227</cp:lastModifiedBy>
  <cp:lastPrinted>2000-09-15T08:06:54Z</cp:lastPrinted>
  <dcterms:modified xsi:type="dcterms:W3CDTF">2001-02-02T19:24:41Z</dcterms:modified>
  <cp:revision>170</cp:revision>
  <dc:subject/>
  <dc:title>Fourth Meeting of the ALLPIRG/Advirosy Group (ALLPIRG/4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68400.00000000</vt:lpwstr>
  </property>
  <property fmtid="{D5CDD505-2E9C-101B-9397-08002B2CF9AE}" pid="5" name="Year">
    <vt:lpwstr>2001</vt:lpwstr>
  </property>
</Properties>
</file>