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9802813" cy="6664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526C-639E-4179-9A0E-BC8700DC3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535-9EE9-4C8C-8DC0-780E242E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B76-8F02-41D4-9221-8B484B60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5DA8-AB2C-4849-A5BF-0A2B7AC69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2A6F-60F3-4851-B477-E50AD871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8FE8-73E8-4971-8FFF-B0062714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A60C-DC19-4939-BDBB-A3D55A0A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F142-2B74-4303-93C1-61D3AD39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3B18-645D-4D09-89EB-A045D27D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A48A1-0BBB-4888-A8E9-6E11D9BF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B85-75AF-443E-8268-1FF0B9A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C260-394E-47EB-919B-467ADF14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380F-8A87-4ED1-85ED-AE4EDC1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8E8D-354D-45B9-9DB2-F1AD994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1458-F801-4312-BD8D-F183B956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4D19-D1CB-42AF-82EB-83797E457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2E92-9CE0-46F8-AEF3-286D258E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ED9-7D41-4A27-A85C-11994CED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E7C-4FA3-43D2-A5DA-7AA9FE0CE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441B-65A8-4A52-AB15-AAC9A61A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90D-1D8F-4EAC-9829-215D0C7B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0845-256F-48F5-8C2C-0EC6703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AAD9-F4E8-4054-9A1E-B4ECA3CE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561B-F9A1-46A5-808D-E45F388C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110160" y="1440"/>
            <a:ext cx="19002600" cy="13690440"/>
            <a:chOff x="-9110160" y="1440"/>
            <a:chExt cx="19002600" cy="13690440"/>
          </a:xfrm>
        </p:grpSpPr>
        <p:sp>
          <p:nvSpPr>
            <p:cNvPr id="1" name=""/>
            <p:cNvSpPr/>
            <p:nvPr/>
          </p:nvSpPr>
          <p:spPr>
            <a:xfrm>
              <a:off x="5836320" y="1585800"/>
              <a:ext cx="40561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79cb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110160" y="1440"/>
              <a:ext cx="1822032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0830-C5AA-4662-B9D5-5010E3C1C750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8407080" y="1461240"/>
            <a:ext cx="18312840" cy="10793520"/>
            <a:chOff x="-8407080" y="1461240"/>
            <a:chExt cx="18312840" cy="10793520"/>
          </a:xfrm>
        </p:grpSpPr>
        <p:sp>
          <p:nvSpPr>
            <p:cNvPr id="45" name=""/>
            <p:cNvSpPr/>
            <p:nvPr/>
          </p:nvSpPr>
          <p:spPr>
            <a:xfrm>
              <a:off x="3544560" y="2709720"/>
              <a:ext cx="636120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79cba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8407080" y="1461240"/>
              <a:ext cx="1457244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99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1480" y="761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E389-471F-448A-A0E3-A8C52BAA52C8}" type="slidenum">
              <a:rPr b="0" lang="ru-RU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Глобус2_Дем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940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rot="5400000">
            <a:off x="9092880" y="615600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оток_ВД_99_copy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5400000">
            <a:off x="9092880" y="60955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2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Cект_eng_поток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400000">
            <a:off x="9131040" y="610848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Cект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81000"/>
            <a:ext cx="7696080" cy="19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Russian sovereign and delegated airspace- 25 mln.sq.km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Main ACCs – 71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ux. ACCs - 50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Air Traffic Control Towers - 371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6095880"/>
            <a:ext cx="5791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Times New Roman"/>
              </a:rPr>
              <a:t>Russian ATM system Airspace</a:t>
            </a:r>
            <a:endParaRPr b="0" lang="en-US" sz="3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9105480" y="60829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4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001_анг" descr=""/>
          <p:cNvPicPr/>
          <p:nvPr/>
        </p:nvPicPr>
        <p:blipFill>
          <a:blip r:embed="rId1"/>
          <a:stretch/>
        </p:blipFill>
        <p:spPr>
          <a:xfrm>
            <a:off x="0" y="-165240"/>
            <a:ext cx="9906120" cy="7023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5400000">
            <a:off x="9092880" y="605736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5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in Results of Demo Flight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981080"/>
          <a:ext cx="8953560" cy="4537080"/>
        </p:xfrm>
        <a:graphic>
          <a:graphicData uri="http://schemas.openxmlformats.org/drawingml/2006/table">
            <a:tbl>
              <a:tblPr/>
              <a:tblGrid>
                <a:gridCol w="2514600"/>
                <a:gridCol w="1387440"/>
                <a:gridCol w="1682640"/>
                <a:gridCol w="1684440"/>
                <a:gridCol w="1684440"/>
              </a:tblGrid>
              <a:tr h="60948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No. Flights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gridSpan="4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YEAR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1368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98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9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3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77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3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8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9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POLAR 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7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84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  <a:tr h="1034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ON 01.01.200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1368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2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26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576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d4d4d"/>
                          </a:solidFill>
                          <a:latin typeface="Times New Roman"/>
                        </a:rPr>
                        <a:t>479</a:t>
                      </a:r>
                      <a:endParaRPr b="0" lang="en-US" sz="2800" spc="-1" strike="noStrike">
                        <a:solidFill>
                          <a:srgbClr val="4d4d4d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4d4d4d"/>
                      </a:solidFill>
                    </a:lnL>
                    <a:lnR w="13680">
                      <a:solidFill>
                        <a:srgbClr val="4d4d4d"/>
                      </a:solidFill>
                    </a:lnR>
                    <a:lnT w="5760">
                      <a:solidFill>
                        <a:srgbClr val="4d4d4d"/>
                      </a:solidFill>
                    </a:lnT>
                    <a:lnB w="5760">
                      <a:solidFill>
                        <a:srgbClr val="4d4d4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9220320" y="658332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91540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9092880" y="613368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6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67752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99"/>
                </a:solidFill>
                <a:latin typeface="Arial"/>
                <a:ea typeface="Times New Roman"/>
              </a:rPr>
              <a:t>Main Results of Demo Flights</a:t>
            </a:r>
            <a:r>
              <a:rPr b="0" lang="en-US" sz="30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They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ED efficiency of long-haul non-stop flights via the Arctic by 4-engine aircraft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DEMONSTRATED possibility of flights by 2-engine aircraf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SAVED flying time by 1.5 – 2 hours as compared to traditional rout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IDED for air traffic safety in existing ATC environm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DETERMINED capacity of the existing ATS system – 8 hours a day, not more than 2 aircraft per hou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HIGHLIGHTED necessity to modernize communication/surveillance means, and ATCO's working positi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PROVED that after ATC system modernization capacity may be increased to 30-40 aircraft per hour, 24 hours a day</a:t>
            </a:r>
            <a:endParaRPr b="0" lang="en-US" sz="2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9092880" y="60955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7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A15-2F90-4E95-8242-295C59AFAD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15000" y="685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CHICAGO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143000"/>
            <a:ext cx="4114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urrent Distanc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78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lar Route distan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75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lying Saving per Movement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34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4.8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utes</a:t>
            </a:r>
            <a:endParaRPr b="0" lang="en-US" sz="1200" spc="-1" strike="noStrike">
              <a:solidFill>
                <a:srgbClr val="4d4d4d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76320" y="151560"/>
            <a:ext cx="9677160" cy="6242760"/>
            <a:chOff x="76320" y="151560"/>
            <a:chExt cx="9677160" cy="6242760"/>
          </a:xfrm>
        </p:grpSpPr>
        <p:sp>
          <p:nvSpPr>
            <p:cNvPr id="109" name=""/>
            <p:cNvSpPr/>
            <p:nvPr/>
          </p:nvSpPr>
          <p:spPr>
            <a:xfrm>
              <a:off x="76320" y="151560"/>
              <a:ext cx="9677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lvl="1" marL="190440"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Flights </a:t>
              </a:r>
              <a:r>
                <a:rPr b="0" lang="en-US" sz="2800" spc="-1" strike="noStrike">
                  <a:solidFill>
                    <a:srgbClr val="003399"/>
                  </a:solidFill>
                  <a:latin typeface="Arial"/>
                  <a:ea typeface="Times New Roman"/>
                </a:rPr>
                <a:t>Chicago – Hong Kong and back</a:t>
              </a:r>
              <a:r>
                <a:rPr b="0" lang="en-US" sz="2800" spc="-1" strike="noStrike">
                  <a:solidFill>
                    <a:srgbClr val="ffcc66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pic>
          <p:nvPicPr>
            <p:cNvPr id="110" name="hong%20kong-chicago" descr=""/>
            <p:cNvPicPr/>
            <p:nvPr/>
          </p:nvPicPr>
          <p:blipFill>
            <a:blip r:embed="rId1"/>
            <a:stretch/>
          </p:blipFill>
          <p:spPr>
            <a:xfrm>
              <a:off x="2209680" y="838080"/>
              <a:ext cx="4767480" cy="5556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"/>
          <p:cNvGrpSpPr/>
          <p:nvPr/>
        </p:nvGrpSpPr>
        <p:grpSpPr>
          <a:xfrm>
            <a:off x="2590920" y="914400"/>
            <a:ext cx="5508720" cy="5382720"/>
            <a:chOff x="2590920" y="914400"/>
            <a:chExt cx="5508720" cy="5382720"/>
          </a:xfrm>
        </p:grpSpPr>
        <p:sp>
          <p:nvSpPr>
            <p:cNvPr id="112" name=""/>
            <p:cNvSpPr/>
            <p:nvPr/>
          </p:nvSpPr>
          <p:spPr>
            <a:xfrm>
              <a:off x="2895480" y="3429000"/>
              <a:ext cx="76320" cy="7632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90920" y="3505320"/>
              <a:ext cx="63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3300"/>
                  </a:solidFill>
                  <a:latin typeface="Times New Roman"/>
                </a:rPr>
                <a:t>Moscow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77080" y="3657600"/>
              <a:ext cx="887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33cc"/>
                  </a:solidFill>
                  <a:latin typeface="Arial"/>
                </a:rPr>
                <a:t>Polar Routes</a:t>
              </a:r>
              <a:endParaRPr b="0" lang="en-US" sz="9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5840" y="304812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1" i="1" lang="ru-RU" sz="800" spc="-1" strike="noStrike">
                  <a:solidFill>
                    <a:srgbClr val="6666ff"/>
                  </a:solidFill>
                  <a:latin typeface="Times New Roman"/>
                </a:rPr>
                <a:t>-1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5000" y="274320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</a:t>
              </a:r>
              <a:r>
                <a:rPr b="1" i="1" lang="ru-RU" sz="800" spc="-1" strike="noStrike">
                  <a:solidFill>
                    <a:srgbClr val="6666ff"/>
                  </a:solidFill>
                  <a:latin typeface="Times New Roman"/>
                </a:rPr>
                <a:t>3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05000" y="363852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4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81080" y="4429080"/>
              <a:ext cx="50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6666ff"/>
                  </a:solidFill>
                  <a:latin typeface="Times New Roman"/>
                </a:rPr>
                <a:t>Polar</a:t>
              </a:r>
              <a:r>
                <a:rPr b="0" i="1" lang="ru-RU" sz="800" spc="-1" strike="noStrike">
                  <a:solidFill>
                    <a:srgbClr val="6666ff"/>
                  </a:solidFill>
                  <a:latin typeface="Times New Roman"/>
                </a:rPr>
                <a:t>-2</a:t>
              </a:r>
              <a:endParaRPr b="0" lang="en-US" sz="8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17560" y="3354480"/>
              <a:ext cx="829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8000"/>
                  </a:solidFill>
                  <a:latin typeface="Arial"/>
                </a:rPr>
                <a:t>RFE Routes</a:t>
              </a:r>
              <a:endParaRPr b="0" lang="en-US" sz="9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27760" y="3962520"/>
              <a:ext cx="1271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3300"/>
                  </a:solidFill>
                  <a:latin typeface="Times New Roman"/>
                </a:rPr>
                <a:t>Hong Kong-Chicago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440" y="91440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3300"/>
                  </a:solidFill>
                  <a:latin typeface="Times New Roman"/>
                </a:rPr>
                <a:t>Chicago- Hong Kon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1143000"/>
              <a:ext cx="45720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NOV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DEC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A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FEB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P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Y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L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U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SEP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OCT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58000" y="4191120"/>
              <a:ext cx="457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Y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UL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UG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SEP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OCT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943600" y="5289480"/>
              <a:ext cx="4572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NOV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DEC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JAN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FEB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MA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baseline="3000">
                  <a:solidFill>
                    <a:srgbClr val="ff3300"/>
                  </a:solidFill>
                  <a:latin typeface="Times New Roman"/>
                </a:rPr>
                <a:t>APR</a:t>
              </a:r>
              <a:endParaRPr b="0" lang="en-US" sz="1000" spc="-1" strike="noStrike">
                <a:solidFill>
                  <a:srgbClr val="4d4d4d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723200" y="6248520"/>
            <a:ext cx="1293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  <a:ea typeface="Times New Roman"/>
              </a:rPr>
              <a:t>HONG KONG</a:t>
            </a:r>
            <a:endParaRPr b="0" lang="en-US" sz="1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9092880" y="608292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af4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Глобус_анг" descr=""/>
          <p:cNvPicPr/>
          <p:nvPr/>
        </p:nvPicPr>
        <p:blipFill>
          <a:blip r:embed="rId1"/>
          <a:stretch/>
        </p:blipFill>
        <p:spPr>
          <a:xfrm>
            <a:off x="0" y="0"/>
            <a:ext cx="99820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9371160" y="6248520"/>
            <a:ext cx="5331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9105480" y="6057360"/>
            <a:ext cx="1203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ALLPIRG/4 WP/33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ppendix 1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459720" y="3323160"/>
            <a:ext cx="669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0" lang="en-US" sz="1000" spc="-1" strike="noStrike">
                <a:solidFill>
                  <a:srgbClr val="003399"/>
                </a:solidFill>
                <a:latin typeface="Times New Roman"/>
              </a:rPr>
              <a:t>END  –</a:t>
            </a:r>
            <a:endParaRPr b="0" lang="en-US" sz="1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3T07:09:10Z</dcterms:created>
  <dc:creator>NNN</dc:creator>
  <dc:description/>
  <dc:language>en-US</dc:language>
  <cp:lastModifiedBy>PC0227</cp:lastModifiedBy>
  <cp:lastPrinted>2000-09-15T08:06:54Z</cp:lastPrinted>
  <dcterms:modified xsi:type="dcterms:W3CDTF">2001-02-02T19:24:41Z</dcterms:modified>
  <cp:revision>170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8400.00000000</vt:lpwstr>
  </property>
  <property fmtid="{D5CDD505-2E9C-101B-9397-08002B2CF9AE}" pid="5" name="Year">
    <vt:lpwstr>2001</vt:lpwstr>
  </property>
</Properties>
</file>