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933-4BB5-4F8F-AA91-68029DBF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D228-E128-48DF-A0FA-F89E38C1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BE54-86A5-447E-A457-265B5EE7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6D6B-03BE-4C69-93E4-62E175F3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4E9-5A2D-4988-B4AA-232D5845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680-7553-4BF0-BDC7-62CED9F8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658-0461-42CB-919E-6DB802E4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3AB0-135F-48AF-8CCB-785FC102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027-B2B1-48A4-A3CB-46113810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454-FCA4-4DC6-913C-F92D9D3D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72C-D262-4330-B193-9666063E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735-314C-4760-926E-BB042052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4C1E-9C6F-449D-98C9-E5AB34119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24240" y="26208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Structure of CBA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59040" y="1243080"/>
            <a:ext cx="1509840" cy="7714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8280" y="5153040"/>
            <a:ext cx="136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F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Calculate NP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3280" y="1311120"/>
            <a:ext cx="155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F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Define scen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Select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52680" y="5084640"/>
            <a:ext cx="2167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F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Data input/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Table mainte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Maintain data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Validat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30520" y="4398840"/>
            <a:ext cx="1508040" cy="7714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59040" y="2597040"/>
            <a:ext cx="1509840" cy="7732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27960" y="1393920"/>
            <a:ext cx="97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6200" y="2711520"/>
            <a:ext cx="124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enar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-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25800" y="4398840"/>
            <a:ext cx="1508040" cy="7714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99360" y="4535640"/>
            <a:ext cx="11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st/Bene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64840" y="4549680"/>
            <a:ext cx="97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nsi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9040" y="5153040"/>
            <a:ext cx="1784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F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Evaluate sensitivity of different design/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67280" y="1585800"/>
            <a:ext cx="824040" cy="549360"/>
          </a:xfrm>
          <a:prstGeom prst="flowChartOnlineStora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D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46800" y="1928880"/>
            <a:ext cx="823680" cy="549360"/>
          </a:xfrm>
          <a:prstGeom prst="flowChartOnlineStora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27760" y="2271600"/>
            <a:ext cx="824040" cy="549360"/>
          </a:xfrm>
          <a:prstGeom prst="flowChartOnlineStora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7280" y="2684520"/>
            <a:ext cx="823680" cy="547560"/>
          </a:xfrm>
          <a:prstGeom prst="flowChartOnlineStora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56280" y="3095640"/>
            <a:ext cx="824040" cy="549360"/>
          </a:xfrm>
          <a:prstGeom prst="flowChartOnlineStora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37600" y="3438360"/>
            <a:ext cx="822240" cy="549360"/>
          </a:xfrm>
          <a:prstGeom prst="flowChartOnlineStora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33840" y="20304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v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14440" y="237348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rv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94320" y="285444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43680" y="3265560"/>
            <a:ext cx="7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10480" y="3849840"/>
            <a:ext cx="824040" cy="549000"/>
          </a:xfrm>
          <a:prstGeom prst="flowChartOnlineStora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57560" y="4019400"/>
            <a:ext cx="83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ther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26440" y="360828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ff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2920" y="2271600"/>
            <a:ext cx="2017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F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Select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Perform cost explo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Summarizes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Interface with the C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interface with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different 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83200" y="4260960"/>
            <a:ext cx="1509840" cy="7714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44840" y="1996920"/>
            <a:ext cx="136440" cy="617760"/>
          </a:xfrm>
          <a:prstGeom prst="upDownArrow">
            <a:avLst>
              <a:gd name="adj1" fmla="val 50000"/>
              <a:gd name="adj2" fmla="val 9013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38560" y="4741920"/>
            <a:ext cx="687240" cy="136440"/>
          </a:xfrm>
          <a:prstGeom prst="rightArrow">
            <a:avLst>
              <a:gd name="adj1" fmla="val 50000"/>
              <a:gd name="adj2" fmla="val 1259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2240" y="3370320"/>
            <a:ext cx="136800" cy="1028520"/>
          </a:xfrm>
          <a:prstGeom prst="upArrow">
            <a:avLst>
              <a:gd name="adj1" fmla="val 50000"/>
              <a:gd name="adj2" fmla="val 1879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3370320"/>
            <a:ext cx="138240" cy="1028520"/>
          </a:xfrm>
          <a:prstGeom prst="downArrow">
            <a:avLst>
              <a:gd name="adj1" fmla="val 50000"/>
              <a:gd name="adj2" fmla="val 1860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0040" y="5359320"/>
            <a:ext cx="955440" cy="68112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r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268880" y="1996920"/>
            <a:ext cx="753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268880" y="2271600"/>
            <a:ext cx="1164960" cy="4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8520" y="2682720"/>
            <a:ext cx="1646280" cy="1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268520" y="3300480"/>
            <a:ext cx="3429000" cy="89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268880" y="3027240"/>
            <a:ext cx="2674800" cy="4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268880" y="2889000"/>
            <a:ext cx="2125440" cy="13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268880" y="3163680"/>
            <a:ext cx="3155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97200" y="4430880"/>
            <a:ext cx="77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29360" y="2135160"/>
            <a:ext cx="960480" cy="21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424280" y="4124160"/>
            <a:ext cx="273240" cy="1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69000" y="32320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875640" y="3643200"/>
            <a:ext cx="204480" cy="61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149600" y="3917880"/>
            <a:ext cx="3430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76920" y="2478240"/>
            <a:ext cx="549360" cy="17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57880" y="2820960"/>
            <a:ext cx="2746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317240" y="4946760"/>
            <a:ext cx="41292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625960" y="5407560"/>
            <a:ext cx="515160" cy="12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LLPIRG/4-WP/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7560" y="3074400"/>
            <a:ext cx="362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18:48:24Z</dcterms:created>
  <dc:creator>Normand Ostiguy</dc:creator>
  <dc:description/>
  <dc:language>en-US</dc:language>
  <cp:lastModifiedBy>PC0227</cp:lastModifiedBy>
  <cp:lastPrinted>2001-01-19T20:39:06Z</cp:lastPrinted>
  <dcterms:modified xsi:type="dcterms:W3CDTF">2001-01-19T20:43:56Z</dcterms:modified>
  <cp:revision>36</cp:revision>
  <dc:subject/>
  <dc:title>Fourth Meeting of the ALLPIRG/Advirosy Group (ALLPIRG/4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63900.00000000</vt:lpwstr>
  </property>
  <property fmtid="{D5CDD505-2E9C-101B-9397-08002B2CF9AE}" pid="5" name="Year">
    <vt:lpwstr>2001</vt:lpwstr>
  </property>
</Properties>
</file>