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3AE1-CC39-4704-A633-3F7CF773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4391-03B4-4E8D-B534-21ED3C4D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B52-2478-4B7B-BD22-014FD792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F742-4ED5-4D8F-9604-22D74696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1DAA-5CCB-4F58-8608-F0DB00B5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DB55-77DC-461A-90B7-C7887400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377-BE6B-448A-9EC8-B7A56F75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CB3-8CA5-444E-BB43-678B8E36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E90C-8AC7-432D-9852-0E463BA1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D9C6-892A-40CE-9735-FDA8313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FA33-E8A5-469C-B946-08084125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D8F7-8D17-4165-AD89-48F683CF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3C7D-AC24-4C56-B8B1-3E3B19874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24240" y="262080"/>
            <a:ext cx="43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Structure of CBA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59040" y="1243080"/>
            <a:ext cx="15098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8280" y="5153040"/>
            <a:ext cx="136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Calculate NP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73280" y="1311120"/>
            <a:ext cx="155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Define scen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elect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52680" y="5084640"/>
            <a:ext cx="2167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Data input/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Table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Maintain data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Validate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30520" y="4398840"/>
            <a:ext cx="15080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59040" y="2597040"/>
            <a:ext cx="1509840" cy="7732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27960" y="139392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en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6200" y="2711520"/>
            <a:ext cx="124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ce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e-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25800" y="4398840"/>
            <a:ext cx="15080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99360" y="4535640"/>
            <a:ext cx="11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st/Bene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64840" y="4549680"/>
            <a:ext cx="97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nsi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99040" y="5153040"/>
            <a:ext cx="17841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Evaluate sensitivity of different design/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67280" y="158580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D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446800" y="1928880"/>
            <a:ext cx="82368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27760" y="227160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7280" y="2684520"/>
            <a:ext cx="823680" cy="5475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56280" y="3095640"/>
            <a:ext cx="8240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37600" y="3438360"/>
            <a:ext cx="822240" cy="54936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840" y="2030400"/>
            <a:ext cx="70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v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14440" y="237348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rv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94320" y="2854440"/>
            <a:ext cx="74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L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43680" y="3265560"/>
            <a:ext cx="7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710480" y="3849840"/>
            <a:ext cx="824040" cy="549000"/>
          </a:xfrm>
          <a:prstGeom prst="flowChartOnlineStora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57560" y="4019400"/>
            <a:ext cx="83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26440" y="360828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ff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2920" y="2271600"/>
            <a:ext cx="2017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elect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Perform cost explo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Summarizes 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Interface with the C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- interface with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different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83200" y="4260960"/>
            <a:ext cx="1509840" cy="7714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44840" y="1996920"/>
            <a:ext cx="136440" cy="617760"/>
          </a:xfrm>
          <a:prstGeom prst="upDownArrow">
            <a:avLst>
              <a:gd name="adj1" fmla="val 50000"/>
              <a:gd name="adj2" fmla="val 9013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38560" y="4741920"/>
            <a:ext cx="687240" cy="136440"/>
          </a:xfrm>
          <a:prstGeom prst="rightArrow">
            <a:avLst>
              <a:gd name="adj1" fmla="val 50000"/>
              <a:gd name="adj2" fmla="val 1259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2240" y="3370320"/>
            <a:ext cx="136800" cy="1028520"/>
          </a:xfrm>
          <a:prstGeom prst="upArrow">
            <a:avLst>
              <a:gd name="adj1" fmla="val 50000"/>
              <a:gd name="adj2" fmla="val 1879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5480" y="3370320"/>
            <a:ext cx="138240" cy="1028520"/>
          </a:xfrm>
          <a:prstGeom prst="downArrow">
            <a:avLst>
              <a:gd name="adj1" fmla="val 50000"/>
              <a:gd name="adj2" fmla="val 18600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0040" y="5359320"/>
            <a:ext cx="955440" cy="68112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s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268880" y="1996920"/>
            <a:ext cx="7538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268880" y="2271600"/>
            <a:ext cx="1164960" cy="48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268520" y="2682720"/>
            <a:ext cx="1646280" cy="13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268520" y="3300480"/>
            <a:ext cx="3429000" cy="89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268880" y="3027240"/>
            <a:ext cx="267480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4268880" y="2889000"/>
            <a:ext cx="2125440" cy="13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268880" y="3163680"/>
            <a:ext cx="31557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7200" y="4430880"/>
            <a:ext cx="772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29360" y="2135160"/>
            <a:ext cx="960480" cy="21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424280" y="4124160"/>
            <a:ext cx="273240" cy="1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69000" y="3232080"/>
            <a:ext cx="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875640" y="3643200"/>
            <a:ext cx="204480" cy="61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7149600" y="3917880"/>
            <a:ext cx="34308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76920" y="2478240"/>
            <a:ext cx="54936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257880" y="2820960"/>
            <a:ext cx="2746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317240" y="4946760"/>
            <a:ext cx="41292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25960" y="5407560"/>
            <a:ext cx="515160" cy="12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LLPIRG/4-WP/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7560" y="3074400"/>
            <a:ext cx="36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1T18:48:24Z</dcterms:created>
  <dc:creator>Normand Ostiguy</dc:creator>
  <dc:description/>
  <dc:language>en-US</dc:language>
  <cp:lastModifiedBy>PC0227</cp:lastModifiedBy>
  <cp:lastPrinted>2001-01-19T20:39:06Z</cp:lastPrinted>
  <dcterms:modified xsi:type="dcterms:W3CDTF">2001-01-19T20:43:56Z</dcterms:modified>
  <cp:revision>36</cp:revision>
  <dc:subject/>
  <dc:title>Fourth Meeting of the ALLPIRG/Advirosy Group (ALLPIRG/4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63900.00000000</vt:lpwstr>
  </property>
  <property fmtid="{D5CDD505-2E9C-101B-9397-08002B2CF9AE}" pid="5" name="Year">
    <vt:lpwstr>2001</vt:lpwstr>
  </property>
</Properties>
</file>